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4A39E-EEC7-49E0-A775-1B57BB3228A4}"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27B2E-B368-4896-BFFD-DD8D8452281D}" type="slidenum">
              <a:rPr b="0" lang="es-CL"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811D6-5E00-4891-ABEF-C5A88814F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01137-AA27-48F9-BE36-5322E81F4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3134C-D8D0-444B-85D1-E5DA8FFAB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CA4E6-E4E6-41D7-913F-18F519F96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EE390A-B66A-4C8A-923C-1AB5BB2E29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1F80A-DE19-4DF5-86CF-EF88B832C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FC6673-A302-445B-8E5C-C9DE7100C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C3AC7-E7BA-466E-B20C-0F0370894A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33F39-F794-4E73-A3A5-B0018F12F6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F43A1-BFA6-4DE9-899A-B4997CB2F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3AEB1-22A7-421E-8DEB-901D77EE1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CBB92-1D64-4B30-A8AD-E79D39D27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B37AB-224D-4C70-A5BF-52088FF7F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085F2-D1E3-43D9-B9EB-6F8ACB7D7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3562D-7BE3-431E-BAC8-2D487A6206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17B913-C3C2-411A-9A6B-8FD9DB2B92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AB4104-F250-47FF-B522-8D3F2CA6E1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CD6CCD-78D0-4B71-8379-07382746AB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8D11C5-3173-4EF9-B37C-8ACAAC4A66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D03EEE-1416-4341-BC8A-BA8C3B78C0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D0230F-E26B-4E72-8820-452F6BB7A6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B1C99F-94E5-42BB-BFBB-C82B638E99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D0BCC-EFE4-4E85-9FB9-75AD19978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141879-BB1A-48CD-8D94-7801A560D9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1C6FCA-AE22-47A5-A641-1EB7577CED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7AA46D-640D-4F09-92EE-0C27F19B6A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44E681-3772-46BE-91BE-946C004483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96A6FA-769F-422E-BA9F-3BE17F6510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FCBB3F-DDB3-46B8-AC12-E28B96A007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046332-61E5-4BC4-B35F-E50E9155F5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EED82C-C6F7-4375-AD91-1E5030C227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8BFBB7-C912-46B5-A788-43800FA74A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4B5BC2-7002-4836-83A2-7B748400C3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32695-17E6-4317-8E87-172029F19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FBAD94-A2F3-4C4D-BCA8-E9291E5542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45CC05-BE20-4116-827B-3751EE0BF3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BDB59F-7444-4ACC-8123-240A1E152C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7A3407-A9D0-4424-A6CA-82FB4236C1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20A173-F256-44C7-B908-A329B61AA8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528050-3AE6-41F9-86AA-C988B0B0FF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EC2934-49C9-4DE4-8441-4D603B98A3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FD0FF9-0945-4B35-8654-E1B210794B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7C7067-1AEA-4EFD-8D6C-6C53A86B9D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E6DFF9-766D-4E66-A554-FEBD370B8F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4382A-D4C9-4945-AB26-7AB235CD8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A2C1C3-84BE-4807-ADE0-1B675DDCFF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FF7E81-5352-4BD9-9186-2DC5344577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6D9EAE-C830-4F03-B243-F1ED7E0AAD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ADFA3D-7974-4A24-B305-4E0D61EA04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95E90A-3A17-463B-B246-BA344C042F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57E48C-7F88-4000-968E-37B3222B7E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C6FA1D-BB70-4238-AF81-C699C99B60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75BEAD-B7D1-4BE8-99F1-D86690B220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F7C6ED-7AA9-44E5-B7DB-77F364348E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9864B6-28E3-479D-A608-244B6AF1E2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E9D7F-0B44-49B1-A97A-EC1FD5848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2B9916-F141-4927-A5AF-99DD414A2F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76C58C-33C7-4A6D-BCE4-67C48C4A00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DE7815-058D-4A96-A0DA-A40227853C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97751A-4E25-4563-AFF7-813A646C77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8AAD4C-9277-4172-9FCA-2745876E3D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78A128-848F-470F-A4F5-EA7360757D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530C34-1567-4842-8C65-DA75C31315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8F61ED-7A8D-4F2C-B3A0-61E42D9C24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449A96-D12F-4916-AE33-B1609DFF58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108F2F-82D9-4E8F-9A31-3B371E8D28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20049-F340-41F1-9F52-E6A69BF5C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CDCC97-6345-47AE-9292-822EB4367B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FA2AE2-BF37-4BD7-A286-C6F38291DC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504008-19A1-47E7-BE90-AACDB1085A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D06A43-904D-439E-A8E4-33C1E5C197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259F25-460F-4573-8B3F-9B5E284B44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60264E-6FD6-4D49-8F7E-2C24145CC8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400EBA-0010-4E83-BF01-D1E9C2C5EC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FEF548-EDD0-4FAD-A62E-51B974F6BA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75D860-5037-47CE-A3D2-448A5190D8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9F9AA9-E127-4551-8842-E01A9FA27C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28F78-D4A6-46D2-91DB-52D30F45B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66BE93-9265-415C-ACCD-65C47C55A9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9DDC00-654C-404E-9681-77903042EA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7FB0D3-14C6-4F2D-AB1C-C1EBB538B4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C2B2E9-2A8D-4A80-ABF0-1AB77E690A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4D2F05-61A6-4E24-BE1E-FA664BF1AC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54364-A96E-4035-B4AB-60375FDB4B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10 Anillo"/>
          <p:cNvGrpSpPr/>
          <p:nvPr/>
        </p:nvGrpSpPr>
        <p:grpSpPr>
          <a:xfrm>
            <a:off x="171360" y="1042920"/>
            <a:ext cx="1157400" cy="1150920"/>
            <a:chOff x="171360" y="1042920"/>
            <a:chExt cx="1157400" cy="1150920"/>
          </a:xfrm>
        </p:grpSpPr>
        <p:pic>
          <p:nvPicPr>
            <p:cNvPr id="3" name="10 Anillo"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EFCD0-16F3-42CF-8134-1CE1B7D44633}"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10 Anillo"/>
          <p:cNvGrpSpPr/>
          <p:nvPr/>
        </p:nvGrpSpPr>
        <p:grpSpPr>
          <a:xfrm>
            <a:off x="171360" y="1042920"/>
            <a:ext cx="1157400" cy="1150920"/>
            <a:chOff x="171360" y="1042920"/>
            <a:chExt cx="1157400" cy="1150920"/>
          </a:xfrm>
        </p:grpSpPr>
        <p:pic>
          <p:nvPicPr>
            <p:cNvPr id="51" name="10 Anillo"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12 Elipse"/>
          <p:cNvGrpSpPr/>
          <p:nvPr/>
        </p:nvGrpSpPr>
        <p:grpSpPr>
          <a:xfrm>
            <a:off x="920880" y="1414440"/>
            <a:ext cx="218880" cy="212760"/>
            <a:chOff x="920880" y="1414440"/>
            <a:chExt cx="218880" cy="212760"/>
          </a:xfrm>
        </p:grpSpPr>
        <p:pic>
          <p:nvPicPr>
            <p:cNvPr id="56" name="12 Elipse"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E9F75-2BBB-4A21-9C44-D58F1E37FA68}"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15 Elipse"/>
          <p:cNvGrpSpPr/>
          <p:nvPr/>
        </p:nvGrpSpPr>
        <p:grpSpPr>
          <a:xfrm>
            <a:off x="2170080" y="2816280"/>
            <a:ext cx="219240" cy="212760"/>
            <a:chOff x="2170080" y="2816280"/>
            <a:chExt cx="219240" cy="212760"/>
          </a:xfrm>
        </p:grpSpPr>
        <p:pic>
          <p:nvPicPr>
            <p:cNvPr id="103" name="15 Elipse"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937D6-D03B-49C5-AC83-25FBA621F1F4}"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DC850-E006-4576-B8A5-F7603466C7F6}"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2EF0B-0693-42A7-B8FA-DBE715C12F28}"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25A6B-70DF-43F3-B353-130DCEB4C04E}"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52320" y="974880"/>
            <a:ext cx="4797720" cy="4797360"/>
            <a:chOff x="652320" y="974880"/>
            <a:chExt cx="4797720" cy="4797360"/>
          </a:xfrm>
        </p:grpSpPr>
        <p:pic>
          <p:nvPicPr>
            <p:cNvPr id="273" name="12 Rectángulo"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5937-82DE-4229-A215-1DC81A455B16}"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ubTitle"/>
          </p:nvPr>
        </p:nvSpPr>
        <p:spPr>
          <a:xfrm>
            <a:off x="1763640" y="1196640"/>
            <a:ext cx="6400800" cy="863640"/>
          </a:xfrm>
          <a:prstGeom prst="rect">
            <a:avLst/>
          </a:prstGeom>
          <a:noFill/>
          <a:ln w="0">
            <a:noFill/>
          </a:ln>
        </p:spPr>
        <p:txBody>
          <a:bodyPr tIns="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Gill Sans MT"/>
              </a:rPr>
              <a:t>PERFIL DE HERRMANN</a:t>
            </a:r>
            <a:endParaRPr b="0" lang="en-US" sz="4400" spc="-1" strike="noStrike">
              <a:solidFill>
                <a:srgbClr val="000000"/>
              </a:solidFill>
              <a:latin typeface="Gill Sans MT"/>
            </a:endParaRPr>
          </a:p>
        </p:txBody>
      </p:sp>
      <p:pic>
        <p:nvPicPr>
          <p:cNvPr id="326" name="Picture 2" descr=""/>
          <p:cNvPicPr/>
          <p:nvPr/>
        </p:nvPicPr>
        <p:blipFill>
          <a:blip r:embed="rId1"/>
          <a:stretch/>
        </p:blipFill>
        <p:spPr>
          <a:xfrm>
            <a:off x="4284720" y="2424240"/>
            <a:ext cx="1714320" cy="200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Resultados del TEST</a:t>
            </a:r>
            <a:endParaRPr b="0" lang="en-US" sz="4300" spc="-1" strike="noStrike">
              <a:solidFill>
                <a:srgbClr val="572314"/>
              </a:solidFill>
              <a:latin typeface="Gill Sans MT"/>
            </a:endParaRPr>
          </a:p>
        </p:txBody>
      </p:sp>
      <p:pic>
        <p:nvPicPr>
          <p:cNvPr id="356" name="1 Gráfico" descr=""/>
          <p:cNvPicPr/>
          <p:nvPr/>
        </p:nvPicPr>
        <p:blipFill>
          <a:blip r:embed="rId1"/>
          <a:stretch/>
        </p:blipFill>
        <p:spPr>
          <a:xfrm>
            <a:off x="2556000" y="1773360"/>
            <a:ext cx="6365880" cy="4659120"/>
          </a:xfrm>
          <a:prstGeom prst="rect">
            <a:avLst/>
          </a:prstGeom>
          <a:ln w="0">
            <a:noFill/>
          </a:ln>
        </p:spPr>
      </p:pic>
      <p:graphicFrame>
        <p:nvGraphicFramePr>
          <p:cNvPr id="357" name=""/>
          <p:cNvGraphicFramePr/>
          <p:nvPr/>
        </p:nvGraphicFramePr>
        <p:xfrm>
          <a:off x="1138320" y="1989000"/>
          <a:ext cx="1417680" cy="1997280"/>
        </p:xfrm>
        <a:graphic>
          <a:graphicData uri="http://schemas.openxmlformats.org/drawingml/2006/table">
            <a:tbl>
              <a:tblPr/>
              <a:tblGrid>
                <a:gridCol w="482400"/>
                <a:gridCol w="427320"/>
                <a:gridCol w="507960"/>
              </a:tblGrid>
              <a:tr h="435960">
                <a:tc gridSpan="2">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Frecuencias</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A</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7</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20%</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AB</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2</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6%</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B</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9</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26%</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CD</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2</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6%</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C</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8</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23%</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D</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7</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20%</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Total</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35</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100%</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Algunos antecedentes…</a:t>
            </a:r>
            <a:endParaRPr b="0" lang="en-US" sz="4300" spc="-1" strike="noStrike">
              <a:solidFill>
                <a:srgbClr val="572314"/>
              </a:solidFill>
              <a:latin typeface="Gill Sans MT"/>
            </a:endParaRPr>
          </a:p>
        </p:txBody>
      </p:sp>
      <p:sp>
        <p:nvSpPr>
          <p:cNvPr id="328" name=""/>
          <p:cNvSpPr txBox="1"/>
          <p:nvPr/>
        </p:nvSpPr>
        <p:spPr>
          <a:xfrm>
            <a:off x="1116000" y="2035080"/>
            <a:ext cx="6912000" cy="3841920"/>
          </a:xfrm>
          <a:prstGeom prst="rect">
            <a:avLst/>
          </a:prstGeom>
          <a:noFill/>
          <a:ln w="0">
            <a:noFill/>
          </a:ln>
        </p:spPr>
        <p:txBody>
          <a:bodyPr anchor="t">
            <a:normAutofit fontScale="97000"/>
          </a:bodyPr>
          <a:p>
            <a:pPr marL="784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Ned Herrmann (1922-1999). Master en desarrollo de recursos humanos. Fue gerente de gestión de la educación en General Electric. Fue también presidente de la Asociación Americana de Creatividad. Trabajo los temas de gestión de la creatividad y dominancia cerebral. Fue uno de los primeros en integrar los conceptos de hemisferio derecho e izquierdo del cerebro</a:t>
            </a:r>
            <a:endParaRPr b="0" lang="en-US" sz="2800" spc="-1" strike="noStrike">
              <a:solidFill>
                <a:srgbClr val="000000"/>
              </a:solidFill>
              <a:latin typeface="Gill Sans MT"/>
            </a:endParaRPr>
          </a:p>
          <a:p>
            <a:pPr marL="78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78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10840" y="115920"/>
            <a:ext cx="7497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72314"/>
                </a:solidFill>
                <a:latin typeface="Gill Sans MT"/>
              </a:rPr>
              <a:t>ELCEREBROTRIUNO(PAULMCLEAN)</a:t>
            </a:r>
            <a:endParaRPr b="0" lang="en-US" sz="3200" spc="-1" strike="noStrike">
              <a:solidFill>
                <a:srgbClr val="572314"/>
              </a:solidFill>
              <a:latin typeface="Gill Sans MT"/>
            </a:endParaRPr>
          </a:p>
        </p:txBody>
      </p:sp>
      <p:pic>
        <p:nvPicPr>
          <p:cNvPr id="330" name="Picture 2" descr=""/>
          <p:cNvPicPr/>
          <p:nvPr/>
        </p:nvPicPr>
        <p:blipFill>
          <a:blip r:embed="rId1"/>
          <a:stretch/>
        </p:blipFill>
        <p:spPr>
          <a:xfrm>
            <a:off x="2843280" y="1579680"/>
            <a:ext cx="2857320" cy="2657520"/>
          </a:xfrm>
          <a:prstGeom prst="rect">
            <a:avLst/>
          </a:prstGeom>
          <a:ln w="0">
            <a:noFill/>
          </a:ln>
        </p:spPr>
      </p:pic>
      <p:pic>
        <p:nvPicPr>
          <p:cNvPr id="331" name="3 CuadroTexto" descr=""/>
          <p:cNvPicPr/>
          <p:nvPr/>
        </p:nvPicPr>
        <p:blipFill>
          <a:blip r:embed="rId2"/>
          <a:stretch/>
        </p:blipFill>
        <p:spPr>
          <a:xfrm>
            <a:off x="5651640" y="914400"/>
            <a:ext cx="3333600" cy="3992400"/>
          </a:xfrm>
          <a:prstGeom prst="rect">
            <a:avLst/>
          </a:prstGeom>
          <a:ln w="0">
            <a:noFill/>
          </a:ln>
        </p:spPr>
      </p:pic>
      <p:sp>
        <p:nvSpPr>
          <p:cNvPr id="332" name="4 CuadroTexto"/>
          <p:cNvSpPr/>
          <p:nvPr/>
        </p:nvSpPr>
        <p:spPr>
          <a:xfrm>
            <a:off x="198360" y="765000"/>
            <a:ext cx="2573280" cy="398772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Maneja la supervivencia desde un sistema binario: huir o pelear, sin involucrar sentimientos. Juega un rol clave en el control de la vida instintiva. Se encarga de autorregular el organismo. En consecuencia, este cerebro no está en capacidad de pensar, ni de sentir; sus funciones la de </a:t>
            </a:r>
            <a:r>
              <a:rPr b="1" lang="es-CL" sz="1600" spc="-1" strike="noStrike">
                <a:solidFill>
                  <a:srgbClr val="ffffff"/>
                </a:solidFill>
                <a:latin typeface="Gill Sans MT"/>
              </a:rPr>
              <a:t>actuar</a:t>
            </a:r>
            <a:r>
              <a:rPr b="0" lang="es-CL" sz="1600" spc="-1" strike="noStrike">
                <a:solidFill>
                  <a:srgbClr val="ffffff"/>
                </a:solidFill>
                <a:latin typeface="Gill Sans MT"/>
              </a:rPr>
              <a:t>, cuando el estado del organismo así lo demanda.</a:t>
            </a:r>
            <a:endParaRPr b="0" lang="en-US" sz="1600" spc="-1" strike="noStrike">
              <a:solidFill>
                <a:srgbClr val="000000"/>
              </a:solidFill>
              <a:latin typeface="Gill Sans MT"/>
            </a:endParaRPr>
          </a:p>
        </p:txBody>
      </p:sp>
      <p:grpSp>
        <p:nvGrpSpPr>
          <p:cNvPr id="333" name="6 CuadroTexto"/>
          <p:cNvGrpSpPr/>
          <p:nvPr/>
        </p:nvGrpSpPr>
        <p:grpSpPr>
          <a:xfrm>
            <a:off x="146160" y="4797360"/>
            <a:ext cx="8832600" cy="2096640"/>
            <a:chOff x="146160" y="4797360"/>
            <a:chExt cx="8832600" cy="2096640"/>
          </a:xfrm>
        </p:grpSpPr>
        <p:pic>
          <p:nvPicPr>
            <p:cNvPr id="334" name="6 CuadroTexto" descr=""/>
            <p:cNvPicPr/>
            <p:nvPr/>
          </p:nvPicPr>
          <p:blipFill>
            <a:blip r:embed="rId3"/>
            <a:stretch/>
          </p:blipFill>
          <p:spPr>
            <a:xfrm>
              <a:off x="146160" y="4797360"/>
              <a:ext cx="8832600" cy="2024280"/>
            </a:xfrm>
            <a:prstGeom prst="rect">
              <a:avLst/>
            </a:prstGeom>
            <a:ln w="0">
              <a:noFill/>
            </a:ln>
          </p:spPr>
        </p:pic>
        <p:sp>
          <p:nvSpPr>
            <p:cNvPr id="335" name=""/>
            <p:cNvSpPr/>
            <p:nvPr/>
          </p:nvSpPr>
          <p:spPr>
            <a:xfrm>
              <a:off x="243000" y="4853160"/>
              <a:ext cx="8640720" cy="204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Está asociado a la capacidad de </a:t>
              </a:r>
              <a:r>
                <a:rPr b="1" lang="es-CL" sz="1600" spc="-1" strike="noStrike">
                  <a:solidFill>
                    <a:srgbClr val="000000"/>
                  </a:solidFill>
                  <a:latin typeface="Gill Sans MT"/>
                </a:rPr>
                <a:t>sentir y desear</a:t>
              </a:r>
              <a:r>
                <a:rPr b="0" lang="es-CL" sz="1600" spc="-1" strike="noStrike">
                  <a:solidFill>
                    <a:srgbClr val="000000"/>
                  </a:solidFill>
                  <a:latin typeface="Gill Sans MT"/>
                </a:rPr>
                <a:t>. Está constituido por seis estructuras: el tálamo (placer-dolor), la amígdala (nutrición, oralidad, protección, hostilidad), el hipotálamo (cuidado de los otros, características de los mamíferos), los bulbos olfatorios, la región septal (sexualidad) y el hipocampo (memoria de largo plazo). En estas zonas están las glándulas endocrinas más importantes para el ser humano: pineal y pituitaria. En este sistema se dan procesos emocionales y estados de calidez, amor, gozo, depresión, odio, etc., y procesos que tienen que ver con nuestras </a:t>
              </a:r>
              <a:r>
                <a:rPr b="1" lang="es-CL" sz="1600" spc="-1" strike="noStrike">
                  <a:solidFill>
                    <a:srgbClr val="000000"/>
                  </a:solidFill>
                  <a:latin typeface="Gill Sans MT"/>
                </a:rPr>
                <a:t>motivaciones básicas.</a:t>
              </a:r>
              <a:endParaRPr b="0" lang="en-US" sz="1600" spc="-1" strike="noStrike">
                <a:solidFill>
                  <a:srgbClr val="000000"/>
                </a:solidFill>
                <a:latin typeface="Gill Sans MT"/>
              </a:endParaRPr>
            </a:p>
          </p:txBody>
        </p:sp>
      </p:grpSp>
      <p:sp>
        <p:nvSpPr>
          <p:cNvPr id="336" name="7 CuadroTexto"/>
          <p:cNvSpPr/>
          <p:nvPr/>
        </p:nvSpPr>
        <p:spPr>
          <a:xfrm>
            <a:off x="4302000" y="981000"/>
            <a:ext cx="1411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ill Sans MT"/>
              </a:rPr>
              <a:t>Telencéfalo</a:t>
            </a:r>
            <a:endParaRPr b="0" lang="en-US" sz="1800" spc="-1" strike="noStrike">
              <a:solidFill>
                <a:srgbClr val="000000"/>
              </a:solidFill>
              <a:latin typeface="Gill Sans MT"/>
            </a:endParaRPr>
          </a:p>
        </p:txBody>
      </p:sp>
      <p:sp>
        <p:nvSpPr>
          <p:cNvPr id="337" name="8 CuadroTexto"/>
          <p:cNvSpPr/>
          <p:nvPr/>
        </p:nvSpPr>
        <p:spPr>
          <a:xfrm>
            <a:off x="1521000" y="4057560"/>
            <a:ext cx="172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ill Sans MT"/>
              </a:rPr>
              <a:t>Paleoencéfalo</a:t>
            </a:r>
            <a:endParaRPr b="0" lang="en-US" sz="1800" spc="-1" strike="noStrike">
              <a:solidFill>
                <a:srgbClr val="000000"/>
              </a:solidFill>
              <a:latin typeface="Gill Sans MT"/>
            </a:endParaRPr>
          </a:p>
        </p:txBody>
      </p:sp>
      <p:sp>
        <p:nvSpPr>
          <p:cNvPr id="338" name="9 CuadroTexto"/>
          <p:cNvSpPr/>
          <p:nvPr/>
        </p:nvSpPr>
        <p:spPr>
          <a:xfrm>
            <a:off x="3780000" y="4484520"/>
            <a:ext cx="1750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ill Sans MT"/>
              </a:rPr>
              <a:t>Mesoencéfalo</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02920" y="115920"/>
            <a:ext cx="7497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572314"/>
                </a:solidFill>
                <a:latin typeface="Gill Sans MT"/>
              </a:rPr>
              <a:t>Los tres sistemas</a:t>
            </a:r>
            <a:endParaRPr b="0" lang="en-US" sz="4400" spc="-1" strike="noStrike">
              <a:solidFill>
                <a:srgbClr val="572314"/>
              </a:solidFill>
              <a:latin typeface="Gill Sans MT"/>
            </a:endParaRPr>
          </a:p>
        </p:txBody>
      </p:sp>
      <p:graphicFrame>
        <p:nvGraphicFramePr>
          <p:cNvPr id="340" name=""/>
          <p:cNvGraphicFramePr/>
          <p:nvPr/>
        </p:nvGraphicFramePr>
        <p:xfrm>
          <a:off x="324000" y="866880"/>
          <a:ext cx="8569080" cy="5730840"/>
        </p:xfrm>
        <a:graphic>
          <a:graphicData uri="http://schemas.openxmlformats.org/drawingml/2006/table">
            <a:tbl>
              <a:tblPr/>
              <a:tblGrid>
                <a:gridCol w="1182600"/>
                <a:gridCol w="1403280"/>
                <a:gridCol w="5983200"/>
              </a:tblGrid>
              <a:tr h="578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Sistemas</a:t>
                      </a: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7130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Foco </a:t>
                      </a: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7130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Características Principales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7130e"/>
                    </a:solidFill>
                  </a:tcPr>
                </a:tc>
              </a:tr>
              <a:tr h="1795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Reptílico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7130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Asiento de la inteligencia básica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7130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Es la inteligencia de las rutinas, parámetros y rituales. Sus conductas, en la mayoría de los casos son inconscientes y automáticas. Recibe mensajes del sistema límbico y del nercotex. Se hace cargo de la conducta cuando esta se ve amenazada por la sanción, generando una respuesta reactiva. Las personas actúan desde esta estructura respondiendo a sus necesidades vitales. </a:t>
                      </a: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7130e"/>
                    </a:solidFill>
                  </a:tcPr>
                </a:tc>
              </a:tr>
              <a:tr h="1308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Límbico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7130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Asiento de las emociones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7130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Aquí reside la inteligencia afectiva y motivacional. Trabaja en sintonía con el reptil. Toda información sensorial es filtrada por este sistema antes de pasar al nercotex. Promueve la productividad, la satisfacción en el trabajo y en el aprendizaje. </a:t>
                      </a: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7130e"/>
                    </a:solidFill>
                  </a:tcPr>
                </a:tc>
              </a:tr>
              <a:tr h="2768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Neocortex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7130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Asiento del aprendizaje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7130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Forma parte del sistema frontal y se ha considerado su división en dos hemisferios: izquierdo y derecho, con funciones específicas. Su contribución es vital en la práctica educativa. El hemisferio izquierdo, es el asiento de la inteligencia “racional”, es secuencial, lineal, paso a paso. Permite razonar y relacionar los pensamientos en forma secuencial y lógica. El hemisferio derecho, es el asiento de la inteligencia creativa, asociativa e intuitiva. Es holístico, libre de expresar los sentimientos, se relaciona con el mundo de las emociones y sentimientos, más que con los códigos verbalmente lógicos. </a:t>
                      </a: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7130e"/>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8" descr=""/>
          <p:cNvPicPr/>
          <p:nvPr/>
        </p:nvPicPr>
        <p:blipFill>
          <a:blip r:embed="rId1"/>
          <a:stretch/>
        </p:blipFill>
        <p:spPr>
          <a:xfrm>
            <a:off x="1717560" y="1700280"/>
            <a:ext cx="6962760" cy="4241880"/>
          </a:xfrm>
          <a:prstGeom prst="rect">
            <a:avLst/>
          </a:prstGeom>
          <a:ln w="0">
            <a:noFill/>
          </a:ln>
        </p:spPr>
      </p:pic>
      <p:sp>
        <p:nvSpPr>
          <p:cNvPr id="342" name="PlaceHolder 1"/>
          <p:cNvSpPr>
            <a:spLocks noGrp="1"/>
          </p:cNvSpPr>
          <p:nvPr>
            <p:ph type="title"/>
          </p:nvPr>
        </p:nvSpPr>
        <p:spPr>
          <a:xfrm>
            <a:off x="1402920" y="115920"/>
            <a:ext cx="749772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Modelo de los cuadrantes</a:t>
            </a:r>
            <a:endParaRPr b="0" lang="en-US" sz="4300" spc="-1" strike="noStrike">
              <a:solidFill>
                <a:srgbClr val="572314"/>
              </a:solidFill>
              <a:latin typeface="Gill Sans MT"/>
            </a:endParaRPr>
          </a:p>
        </p:txBody>
      </p:sp>
      <p:pic>
        <p:nvPicPr>
          <p:cNvPr id="343" name="3 Rectángulo redondeado" descr=""/>
          <p:cNvPicPr/>
          <p:nvPr/>
        </p:nvPicPr>
        <p:blipFill>
          <a:blip r:embed="rId2"/>
          <a:stretch/>
        </p:blipFill>
        <p:spPr>
          <a:xfrm>
            <a:off x="987480" y="1042920"/>
            <a:ext cx="1768320" cy="1193760"/>
          </a:xfrm>
          <a:prstGeom prst="rect">
            <a:avLst/>
          </a:prstGeom>
          <a:ln w="0">
            <a:noFill/>
          </a:ln>
        </p:spPr>
      </p:pic>
      <p:pic>
        <p:nvPicPr>
          <p:cNvPr id="344" name="5 Rectángulo redondeado" descr=""/>
          <p:cNvPicPr/>
          <p:nvPr/>
        </p:nvPicPr>
        <p:blipFill>
          <a:blip r:embed="rId3"/>
          <a:stretch/>
        </p:blipFill>
        <p:spPr>
          <a:xfrm>
            <a:off x="7113600" y="5450040"/>
            <a:ext cx="1792440" cy="1188720"/>
          </a:xfrm>
          <a:prstGeom prst="rect">
            <a:avLst/>
          </a:prstGeom>
          <a:ln w="0">
            <a:noFill/>
          </a:ln>
        </p:spPr>
      </p:pic>
      <p:pic>
        <p:nvPicPr>
          <p:cNvPr id="345" name="6 Rectángulo redondeado" descr=""/>
          <p:cNvPicPr/>
          <p:nvPr/>
        </p:nvPicPr>
        <p:blipFill>
          <a:blip r:embed="rId4"/>
          <a:stretch/>
        </p:blipFill>
        <p:spPr>
          <a:xfrm>
            <a:off x="7113600" y="1042920"/>
            <a:ext cx="1682640" cy="1187640"/>
          </a:xfrm>
          <a:prstGeom prst="rect">
            <a:avLst/>
          </a:prstGeom>
          <a:ln w="0">
            <a:noFill/>
          </a:ln>
        </p:spPr>
      </p:pic>
      <p:pic>
        <p:nvPicPr>
          <p:cNvPr id="346" name="7 Rectángulo redondeado" descr=""/>
          <p:cNvPicPr/>
          <p:nvPr/>
        </p:nvPicPr>
        <p:blipFill>
          <a:blip r:embed="rId5"/>
          <a:stretch/>
        </p:blipFill>
        <p:spPr>
          <a:xfrm>
            <a:off x="987480" y="5437080"/>
            <a:ext cx="1768320" cy="119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002060"/>
                </a:solidFill>
                <a:latin typeface="Gill Sans MT"/>
              </a:rPr>
              <a:t>Cuadrante A </a:t>
            </a:r>
            <a:endParaRPr b="0" lang="en-US" sz="4300" spc="-1" strike="noStrike">
              <a:solidFill>
                <a:srgbClr val="572314"/>
              </a:solidFill>
              <a:latin typeface="Gill Sans MT"/>
            </a:endParaRPr>
          </a:p>
        </p:txBody>
      </p:sp>
      <p:sp>
        <p:nvSpPr>
          <p:cNvPr id="348" name=""/>
          <p:cNvSpPr txBox="1"/>
          <p:nvPr/>
        </p:nvSpPr>
        <p:spPr>
          <a:xfrm>
            <a:off x="1434960" y="1447560"/>
            <a:ext cx="7313760" cy="4800600"/>
          </a:xfrm>
          <a:prstGeom prst="rect">
            <a:avLst/>
          </a:prstGeom>
          <a:noFill/>
          <a:ln w="38160">
            <a:solidFill>
              <a:srgbClr val="002060"/>
            </a:solidFill>
            <a:miter/>
          </a:ln>
        </p:spPr>
        <p:txBody>
          <a:bodyPr anchor="t">
            <a:normAutofit fontScale="94000"/>
          </a:bodyPr>
          <a:p>
            <a:pPr marL="759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ill Sans MT"/>
              </a:rPr>
              <a:t>Las estrategias de procesamiento de información que conforman este cuadrante constituyen la referencia básica de la enseñanza escolar, la formación científica y la capacitación profesional en numerosas especialidades. </a:t>
            </a:r>
            <a:endParaRPr b="0" lang="en-US" sz="2500" spc="-1" strike="noStrike">
              <a:solidFill>
                <a:srgbClr val="000000"/>
              </a:solidFill>
              <a:latin typeface="Gill Sans MT"/>
            </a:endParaRPr>
          </a:p>
          <a:p>
            <a:pPr marL="759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ill Sans MT"/>
              </a:rPr>
              <a:t>Asociadas con el rigor de pensamiento analítico y cuantitativo (uso generalizado en el aprendizaje y trabajo científico y técnico), la reflexión crítica (examen de fortalezas y debilidades de ideas y propuestas), formulación teórica (base para fundamental del avance incesante del conocimiento humano), las relaciones lógicas (que impregnan y permiten explicar gran parte de la realidad) y la visión realista (apoyada en datos de la experiencia y la intervención controlada del quehacer humano.</a:t>
            </a:r>
            <a:endParaRPr b="0" lang="en-US" sz="2500" spc="-1" strike="noStrike">
              <a:solidFill>
                <a:srgbClr val="000000"/>
              </a:solidFill>
              <a:latin typeface="Gill Sans MT"/>
            </a:endParaRPr>
          </a:p>
          <a:p>
            <a:pPr marL="75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006600"/>
                </a:solidFill>
                <a:latin typeface="Gill Sans MT"/>
              </a:rPr>
              <a:t>Cuadrante B</a:t>
            </a:r>
            <a:endParaRPr b="0" lang="en-US" sz="4300" spc="-1" strike="noStrike">
              <a:solidFill>
                <a:srgbClr val="572314"/>
              </a:solidFill>
              <a:latin typeface="Gill Sans MT"/>
            </a:endParaRPr>
          </a:p>
        </p:txBody>
      </p:sp>
      <p:sp>
        <p:nvSpPr>
          <p:cNvPr id="350" name=""/>
          <p:cNvSpPr txBox="1"/>
          <p:nvPr/>
        </p:nvSpPr>
        <p:spPr>
          <a:xfrm>
            <a:off x="1434960" y="1447560"/>
            <a:ext cx="7313760" cy="4800600"/>
          </a:xfrm>
          <a:prstGeom prst="rect">
            <a:avLst/>
          </a:prstGeom>
          <a:noFill/>
          <a:ln w="38160">
            <a:solidFill>
              <a:srgbClr val="006600"/>
            </a:solidFill>
            <a:miter/>
          </a:ln>
        </p:spPr>
        <p:txBody>
          <a:bodyPr anchor="t">
            <a:normAutofit fontScale="89000"/>
          </a:bodyPr>
          <a:p>
            <a:pPr marL="720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ill Sans MT"/>
              </a:rPr>
              <a:t>Por su naturaleza, las estrategias que conforman el cuadrante B pueden ser definidas como operacionales: ellas están dirigidas fundamentalmente a la ejecución de acciones, previamente diseñadas para el manejo de múltiples situaciones relacionadas con el funcionamiento de individuos y organizaciones. </a:t>
            </a:r>
            <a:endParaRPr b="0" lang="en-US" sz="2500" spc="-1" strike="noStrike">
              <a:solidFill>
                <a:srgbClr val="000000"/>
              </a:solidFill>
              <a:latin typeface="Gill Sans MT"/>
            </a:endParaRPr>
          </a:p>
          <a:p>
            <a:pPr marL="720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ill Sans MT"/>
              </a:rPr>
              <a:t>En él no hay espacio para la reflexión crítica ni para la búsqueda de alternativas distintas de las pautadas por la tradición o la planificación normativa. Más que procesar pensamientos o ideas con visión estratégica, lo importante es administrar recursos, establecer prioridades, hacer seguimiento de los procedimientos en marcha, supervisar desempeños y evaluar resultados, con la mira puesta en el cumplimiento de metas, con la mayor eficacia y calidad.</a:t>
            </a:r>
            <a:endParaRPr b="0" lang="en-US" sz="2500" spc="-1" strike="noStrike">
              <a:solidFill>
                <a:srgbClr val="000000"/>
              </a:solidFill>
              <a:latin typeface="Gill Sans MT"/>
            </a:endParaRPr>
          </a:p>
          <a:p>
            <a:pPr marL="720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c00000"/>
                </a:solidFill>
                <a:latin typeface="Gill Sans MT"/>
              </a:rPr>
              <a:t>Cuadrante C</a:t>
            </a:r>
            <a:endParaRPr b="0" lang="en-US" sz="4300" spc="-1" strike="noStrike">
              <a:solidFill>
                <a:srgbClr val="572314"/>
              </a:solidFill>
              <a:latin typeface="Gill Sans MT"/>
            </a:endParaRPr>
          </a:p>
        </p:txBody>
      </p:sp>
      <p:sp>
        <p:nvSpPr>
          <p:cNvPr id="352" name=""/>
          <p:cNvSpPr txBox="1"/>
          <p:nvPr/>
        </p:nvSpPr>
        <p:spPr>
          <a:xfrm>
            <a:off x="1434600" y="1447560"/>
            <a:ext cx="7240680" cy="4800600"/>
          </a:xfrm>
          <a:prstGeom prst="rect">
            <a:avLst/>
          </a:prstGeom>
          <a:noFill/>
          <a:ln w="38160">
            <a:solidFill>
              <a:srgbClr val="c00000"/>
            </a:solidFill>
            <a:miter/>
          </a:ln>
        </p:spPr>
        <p:txBody>
          <a:bodyPr anchor="t">
            <a:normAutofit fontScale="90000"/>
          </a:bodyPr>
          <a:p>
            <a:pPr marL="328320" indent="-254160" algn="just">
              <a:spcBef>
                <a:spcPts val="601"/>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Es eminentemente comunicativo y expresivo, representa una visión dirigida más hacia fuera que hacia adentro del individuo, con clara tendencia a involucrarse en relaciones interpersonales de cooperación y amistad y en proyectos comunitarios de asistencia y orientación social.</a:t>
            </a:r>
            <a:endParaRPr b="0" lang="en-US" sz="2800" spc="-1" strike="noStrike">
              <a:solidFill>
                <a:srgbClr val="000000"/>
              </a:solidFill>
              <a:latin typeface="Gill Sans MT"/>
            </a:endParaRPr>
          </a:p>
          <a:p>
            <a:pPr marL="328320" indent="-254160" algn="just">
              <a:spcBef>
                <a:spcPts val="601"/>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Presenta una gran capacidad como articulador de posiciones distintas. Necesita las relaciones y tiene facilidad para ser empático.</a:t>
            </a:r>
            <a:endParaRPr b="0"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ffc000"/>
                </a:solidFill>
                <a:latin typeface="Gill Sans MT"/>
              </a:rPr>
              <a:t>Cuadrante D</a:t>
            </a:r>
            <a:endParaRPr b="0" lang="en-US" sz="4300" spc="-1" strike="noStrike">
              <a:solidFill>
                <a:srgbClr val="572314"/>
              </a:solidFill>
              <a:latin typeface="Gill Sans MT"/>
            </a:endParaRPr>
          </a:p>
        </p:txBody>
      </p:sp>
      <p:sp>
        <p:nvSpPr>
          <p:cNvPr id="354" name=""/>
          <p:cNvSpPr txBox="1"/>
          <p:nvPr/>
        </p:nvSpPr>
        <p:spPr>
          <a:xfrm>
            <a:off x="1434960" y="1447560"/>
            <a:ext cx="7499520" cy="4800600"/>
          </a:xfrm>
          <a:prstGeom prst="rect">
            <a:avLst/>
          </a:prstGeom>
          <a:noFill/>
          <a:ln w="38160">
            <a:solidFill>
              <a:srgbClr val="ffc000"/>
            </a:solidFill>
            <a:miter/>
          </a:ln>
        </p:spPr>
        <p:txBody>
          <a:bodyPr anchor="t">
            <a:normAutofit fontScale="96000"/>
          </a:bodyPr>
          <a:p>
            <a:pPr marL="777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ill Sans MT"/>
              </a:rPr>
              <a:t>Presenta dos características : En Primer lugar, debido a que las estrategias o procesamientos de información que lleva a cabo han sido tradicionalmente sub valoradas, en parte por el tratamiento privilegiado que se ha dado al cerebro izquierdo en detrimento del derecho, algunos lo consideran “el cuadrante de la creatividad” de igual manera que otros les asignan el mismo rol al hemisferio derecho, exagerando realmente el rol de ambos en el proceso creativo, del cual son ellos elementos indispensables. </a:t>
            </a:r>
            <a:endParaRPr b="0" lang="en-US" sz="2100" spc="-1" strike="noStrike">
              <a:solidFill>
                <a:srgbClr val="000000"/>
              </a:solidFill>
              <a:latin typeface="Gill Sans MT"/>
            </a:endParaRPr>
          </a:p>
          <a:p>
            <a:pPr marL="777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ill Sans MT"/>
              </a:rPr>
              <a:t>El cuadrante D es el disparador de situaciones novedosas, no convencionales, originadas conscientemente por medio de la imaginación, o de manera no consciente mediante el brote de chispazos de inspiración intuitiva. La producción de ideas, el diseño de una visión gerencial estratégica, el manejo simultaneo e integrador de escenarios de acción, la concepción de proyectos visionarios: he aquí lo esencial del modo de procesamiento de información que es activado de preferencia por el cuadrante C.</a:t>
            </a:r>
            <a:endParaRPr b="0" lang="en-US" sz="2100" spc="-1" strike="noStrike">
              <a:solidFill>
                <a:srgbClr val="000000"/>
              </a:solidFill>
              <a:latin typeface="Gill Sans MT"/>
            </a:endParaRPr>
          </a:p>
          <a:p>
            <a:pPr marL="777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9T23:16:01Z</dcterms:created>
  <dc:creator>Barbara</dc:creator>
  <dc:description/>
  <dc:language>en-US</dc:language>
  <cp:lastModifiedBy>Barbara</cp:lastModifiedBy>
  <dcterms:modified xsi:type="dcterms:W3CDTF">2011-07-30T17:34:05Z</dcterms:modified>
  <cp:revision>18</cp:revision>
  <dc:subject/>
  <dc:title>Presentación de PowerPoint</dc:title>
</cp:coreProperties>
</file>