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40FF-C5C8-4F26-8474-B21D92F2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ADE2-18E0-4273-BA02-2D96EAB6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59AC-6C79-4F94-A9B0-6C5C79D5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58DF-9770-4516-93B1-3EB0FAFF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1087-A058-4D3C-8FFD-C4E0CE0A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9BEA-45D2-43C6-B488-50FAEC02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8373-FE8C-4A09-A0C1-A141FB9E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D4F0-B88A-4796-A798-9E764342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12B6-9413-4632-B4D6-CC0D3C93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EA70-1099-4BE8-9F1B-3D294F13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2BCC-236B-4EA6-A962-C55C39D6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1E05-7317-465A-BB41-BB10EE78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463B-8711-4070-9F66-83AFB8CD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03BB-87F2-4692-A046-1A963C24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2846-0A98-461F-A03C-FB355091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8CF5-6A97-46EC-9ACD-512768D1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5381-113B-43A4-AFE0-E537802F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253B-6D4D-4F50-B02E-D416A2C0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C756-E52F-498A-9B03-22511BE8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2290-F4E7-439D-A66C-855908C8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AB40-1F3A-4A9A-8CD8-7128B392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A3C0-8447-4D23-A876-054F569B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0425-558E-4BE2-9B67-8DCE5F66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0A4F-1425-445D-B0E1-6FE569AF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F626-1292-4A66-B758-A1300F246A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39C-D59C-4D33-894B-F42001B4B5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fdef6"/>
                </a:solidFill>
                <a:latin typeface="Arial"/>
              </a:rPr>
              <a:t>CASO 1 A DESARROLLAR EN CLAS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fesora titular de 56 años, sufre accidente dentro de sala de clases, golpea su cabeza al caerse de una silla, por lo que fue atendida por la ACHS y dada de alta después de 6 meses de licencia médica. De vuelta en su trabajo, no puede asumir como docente porque se da cuenta que tiene falta de estabilidad física y emocional. Durante el tiempo de su ausencia, la reemplazó un profesor plazo fijo quien se destacó en su trabaj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OS DOCENT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érdida sobreviniente de alguno de los requisitos de incorporación a una dotación docente. ( art. 65 D.S 453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r supresión de h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LEY 20.248 / LEY SEP/1º DE FEBRERO DE 2008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ÍCULO 38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IFICA EL ARTÍCULO 72 DEL ESTATUTO DOC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) Incumplimiento Grave de las Obligaciones que impone su función, tales co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No concurrencia del docente a sus labores en forma reiter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Impuntualidades reiteradas del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Incumplimiento de las obligaciones docentes  conforme a los planes y programas de estudio  (artículo 20 Nº 1 D.S. 453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ncumplimiento Grave de las Obligaciones que impone la labor docen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andono injustificado del aula de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gación del trabajo docente en otras pers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 u="sng">
                <a:solidFill>
                  <a:srgbClr val="dfdef6"/>
                </a:solidFill>
                <a:uFillTx/>
                <a:latin typeface="Arial"/>
              </a:rPr>
              <a:t>ORDEN DE PRELACIÓN PARA SUPRESIÓN DE HORAS</a:t>
            </a:r>
            <a:r>
              <a:rPr b="0" lang="es-C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- Los contratas o Plazo fijo. (antigüedad, evaluación, licencias médic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- Titulares más nue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- Inferior Evaluación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SOS (ART. 40 EST. DOC.), TRASLADOS  (ART. 42 EST. DOC.)Y PERMUTAS( ART.44 EST. DO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mnización de 11 meses. Ley 20.159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perdería al profesor supl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locaría a la Docente frente a curs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Qué sugeriría al sostenedor con respecto a ell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DENTIFICACIÓN DEL CONFLICTO LABORA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1484280"/>
            <a:ext cx="7993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.  Conflicto entre el individuo y su trabaj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I. Conflicto entre los objetivos de la organización y los objetivos individuales de sus miembros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II. Conflictos entre personas de un mismo carg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DENTIFICACIÓN DEL CONFLICTO LABORA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V. Conflictos entre el superior jerárquico y sus subordinados (viceversa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.  Conflictos entre direcciones de establecimientos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. Conflictos entre la administración central y un establecimiento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I. Conflictos entre un trabajador y un externo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r>
              <a:rPr b="0" lang="es-C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MIS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RT. 40, 41 Y 42  EST. DO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 GOCE DE SUEL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IN GOCE DE SUEL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SLAD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RT. 42 EST. DO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ADECUACIÓN DE LA DOT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MUTA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T.44 EST. DOC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ALISIS DE CASOS PARA TRABAJAR DURANTE LA CL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RTICULO 130 DECRETO SUPREMO 4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docentes que realicen docencia de aula efectiva, podrán reducirla aun máximo de 24 horas cronológicas semanales, debiendo destinar el resto de su horario a actividades curriculares no lec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ducción de docencia de aula efectiva deberá ser solicitada expresamente por el docente y surtirá efecto a partir  del año escolar  siguiente o, en el año respectivo cuando no se produjere menoscabo en la atención docent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TÍCULO 69 INC. 6º ESTATUTO DOCENTE, AÑO 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docencia de aula efectiva que realicen los docentes con 30 o más años de servicios, se reducirá a petición del interesado a un máximo de hasta 24 horas, debiendo asignarse el resto de su horario a actividades curriculares no lectivas, lo que regirá a partir del año escolar siguiente, o en el año respectivo si no se produjere menoscabo a la atención docent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A EDUCACION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004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T. 72: Los profesionales de la educación que forman parte de la dotación docente del sector municipal, dejarán de pertenecer a ella solamente por las siguientes caus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nuncia volun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alta de probidad, conducta inmoral o (</a:t>
            </a: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incumplimiento grave de las obligaciones que impone su función), establecidas fehacientemente en un sumario, de acuerdo l procedimiento establecido en la Ley 18.8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OS DOCENT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érmino del plazo por el cual se efectuó el contra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tención de jubilación, pensión o renta vitalicia de un régimen previsional, en relación a las labores doc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e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rcera evaluación insatisfac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alud Irrecuperable o Incompatible con el desempeño de sus fun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6:34:55Z</dcterms:created>
  <dc:creator>Corporación de Desarrollo Social de Buin</dc:creator>
  <dc:description/>
  <dc:language>en-US</dc:language>
  <cp:lastModifiedBy>mdrago</cp:lastModifiedBy>
  <dcterms:modified xsi:type="dcterms:W3CDTF">2011-11-11T14:59:12Z</dcterms:modified>
  <cp:revision>24</cp:revision>
  <dc:subject/>
  <dc:title>MANTENCION UN COMPROMISO DE GESTION</dc:title>
</cp:coreProperties>
</file>