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6C00BC8-F7EC-4807-9B93-9184CF266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5FA2F23-E0CD-47D2-B621-1A90F6F32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10A03EA-DDD2-42A0-80F8-D2E26FE575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847A897-A23B-4AB1-B541-2C92CBB553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E6C78-E7DA-4667-9148-63FAB0E9B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AAAF6-90AE-4D79-8A15-E8CB88A7C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83B69-2A7E-4799-B252-F57A2509A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73B78-9B72-48A3-9937-2A38E7696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5875B-28F7-44AA-A08C-6628CD748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AD0D0-AA86-47AC-AAC5-B0BF84BCC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4194F-2643-417F-A6DE-740FB59EA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98C6546-1C34-463B-A104-79AA8253A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A765E-4AC2-4F59-AC92-83A4B201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6FEC-6E82-4D2A-B813-24CBAAFD7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F1759-D76C-4260-8F2F-CBF9D0B32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A780A-B52A-4F9E-8F2D-54DF0B8EA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22F99-A9E8-4DBD-A8FA-3CD5368C7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3AFE932-1DD5-4C9C-808F-219C74AE6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E49AED2-4B37-4C2B-B38A-587B9FED3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5F6C2C6-2787-4B54-9411-A6424A192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0211CFD-6570-48A3-83BE-731F11264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DD97EBB-9B30-4340-B216-E37901BA8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0CDE2E-B481-4E69-84DC-A20343ECE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ECA54F-1F09-4307-BCD2-7F32EB95DA9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447D-2631-48E6-88FA-2B5BE30BF3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grpSp>
        <p:nvGrpSpPr>
          <p:cNvPr id="221" name="Group 4"/>
          <p:cNvGrpSpPr/>
          <p:nvPr/>
        </p:nvGrpSpPr>
        <p:grpSpPr>
          <a:xfrm>
            <a:off x="-5076720" y="6381720"/>
            <a:ext cx="10606680" cy="674640"/>
            <a:chOff x="-5076720" y="6381720"/>
            <a:chExt cx="10606680" cy="674640"/>
          </a:xfrm>
        </p:grpSpPr>
        <p:grpSp>
          <p:nvGrpSpPr>
            <p:cNvPr id="222" name="Group 5"/>
            <p:cNvGrpSpPr/>
            <p:nvPr/>
          </p:nvGrpSpPr>
          <p:grpSpPr>
            <a:xfrm>
              <a:off x="-3539520" y="6552720"/>
              <a:ext cx="6870240" cy="393840"/>
              <a:chOff x="-3539520" y="6552720"/>
              <a:chExt cx="6870240" cy="393840"/>
            </a:xfrm>
          </p:grpSpPr>
          <p:sp>
            <p:nvSpPr>
              <p:cNvPr id="223" name="Freeform 6"/>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3485" y="493"/>
                    </a:moveTo>
                    <a:lnTo>
                      <a:pt x="3484" y="492"/>
                    </a:lnTo>
                    <a:lnTo>
                      <a:pt x="3487" y="494"/>
                    </a:lnTo>
                    <a:lnTo>
                      <a:pt x="3485" y="493"/>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7"/>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2065" y="962"/>
                    </a:moveTo>
                    <a:lnTo>
                      <a:pt x="2123" y="959"/>
                    </a:lnTo>
                    <a:lnTo>
                      <a:pt x="2178" y="952"/>
                    </a:lnTo>
                    <a:lnTo>
                      <a:pt x="2230" y="942"/>
                    </a:lnTo>
                    <a:lnTo>
                      <a:pt x="2280" y="928"/>
                    </a:lnTo>
                    <a:lnTo>
                      <a:pt x="2329" y="911"/>
                    </a:lnTo>
                    <a:lnTo>
                      <a:pt x="2378" y="891"/>
                    </a:lnTo>
                    <a:lnTo>
                      <a:pt x="2428" y="866"/>
                    </a:lnTo>
                    <a:lnTo>
                      <a:pt x="2479" y="838"/>
                    </a:lnTo>
                    <a:lnTo>
                      <a:pt x="2532" y="806"/>
                    </a:lnTo>
                    <a:lnTo>
                      <a:pt x="2588" y="770"/>
                    </a:lnTo>
                    <a:lnTo>
                      <a:pt x="2647" y="730"/>
                    </a:lnTo>
                    <a:lnTo>
                      <a:pt x="2711" y="685"/>
                    </a:lnTo>
                    <a:lnTo>
                      <a:pt x="2781" y="637"/>
                    </a:lnTo>
                    <a:lnTo>
                      <a:pt x="2850" y="589"/>
                    </a:lnTo>
                    <a:lnTo>
                      <a:pt x="2912" y="546"/>
                    </a:lnTo>
                    <a:lnTo>
                      <a:pt x="2968" y="508"/>
                    </a:lnTo>
                    <a:lnTo>
                      <a:pt x="3018" y="475"/>
                    </a:lnTo>
                    <a:lnTo>
                      <a:pt x="3019" y="475"/>
                    </a:lnTo>
                    <a:lnTo>
                      <a:pt x="3018" y="475"/>
                    </a:lnTo>
                    <a:lnTo>
                      <a:pt x="2954" y="500"/>
                    </a:lnTo>
                    <a:lnTo>
                      <a:pt x="2886" y="531"/>
                    </a:lnTo>
                    <a:lnTo>
                      <a:pt x="2814" y="569"/>
                    </a:lnTo>
                    <a:lnTo>
                      <a:pt x="2737" y="616"/>
                    </a:lnTo>
                    <a:lnTo>
                      <a:pt x="2661" y="663"/>
                    </a:lnTo>
                    <a:lnTo>
                      <a:pt x="2593" y="706"/>
                    </a:lnTo>
                    <a:lnTo>
                      <a:pt x="2531" y="743"/>
                    </a:lnTo>
                    <a:lnTo>
                      <a:pt x="2474" y="775"/>
                    </a:lnTo>
                    <a:lnTo>
                      <a:pt x="2422" y="802"/>
                    </a:lnTo>
                    <a:lnTo>
                      <a:pt x="2374" y="824"/>
                    </a:lnTo>
                    <a:lnTo>
                      <a:pt x="2328" y="841"/>
                    </a:lnTo>
                    <a:lnTo>
                      <a:pt x="2285" y="852"/>
                    </a:lnTo>
                    <a:lnTo>
                      <a:pt x="2243" y="858"/>
                    </a:lnTo>
                    <a:lnTo>
                      <a:pt x="2201" y="858"/>
                    </a:lnTo>
                    <a:lnTo>
                      <a:pt x="2159" y="853"/>
                    </a:lnTo>
                    <a:lnTo>
                      <a:pt x="2116" y="842"/>
                    </a:lnTo>
                    <a:lnTo>
                      <a:pt x="2070" y="826"/>
                    </a:lnTo>
                    <a:lnTo>
                      <a:pt x="2022" y="804"/>
                    </a:lnTo>
                    <a:lnTo>
                      <a:pt x="1970" y="777"/>
                    </a:lnTo>
                    <a:lnTo>
                      <a:pt x="1913" y="744"/>
                    </a:lnTo>
                    <a:lnTo>
                      <a:pt x="1851" y="705"/>
                    </a:lnTo>
                    <a:lnTo>
                      <a:pt x="1783" y="660"/>
                    </a:lnTo>
                    <a:lnTo>
                      <a:pt x="1781" y="659"/>
                    </a:lnTo>
                    <a:lnTo>
                      <a:pt x="1781" y="944"/>
                    </a:lnTo>
                    <a:lnTo>
                      <a:pt x="1783" y="944"/>
                    </a:lnTo>
                    <a:lnTo>
                      <a:pt x="1863" y="954"/>
                    </a:lnTo>
                    <a:lnTo>
                      <a:pt x="1936" y="960"/>
                    </a:lnTo>
                    <a:lnTo>
                      <a:pt x="2003" y="963"/>
                    </a:lnTo>
                    <a:lnTo>
                      <a:pt x="2065" y="962"/>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8"/>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2316" y="628"/>
                    </a:moveTo>
                    <a:lnTo>
                      <a:pt x="2342" y="622"/>
                    </a:lnTo>
                    <a:lnTo>
                      <a:pt x="2367" y="613"/>
                    </a:lnTo>
                    <a:lnTo>
                      <a:pt x="2393" y="599"/>
                    </a:lnTo>
                    <a:lnTo>
                      <a:pt x="2421" y="582"/>
                    </a:lnTo>
                    <a:lnTo>
                      <a:pt x="2450" y="561"/>
                    </a:lnTo>
                    <a:lnTo>
                      <a:pt x="2481" y="537"/>
                    </a:lnTo>
                    <a:lnTo>
                      <a:pt x="2515" y="508"/>
                    </a:lnTo>
                    <a:lnTo>
                      <a:pt x="2552" y="477"/>
                    </a:lnTo>
                    <a:lnTo>
                      <a:pt x="2550" y="478"/>
                    </a:lnTo>
                    <a:lnTo>
                      <a:pt x="2544" y="481"/>
                    </a:lnTo>
                    <a:lnTo>
                      <a:pt x="2534" y="486"/>
                    </a:lnTo>
                    <a:lnTo>
                      <a:pt x="2520" y="492"/>
                    </a:lnTo>
                    <a:lnTo>
                      <a:pt x="2502" y="498"/>
                    </a:lnTo>
                    <a:lnTo>
                      <a:pt x="2481" y="503"/>
                    </a:lnTo>
                    <a:lnTo>
                      <a:pt x="2456" y="508"/>
                    </a:lnTo>
                    <a:lnTo>
                      <a:pt x="2428" y="511"/>
                    </a:lnTo>
                    <a:lnTo>
                      <a:pt x="2397" y="513"/>
                    </a:lnTo>
                    <a:lnTo>
                      <a:pt x="2363" y="511"/>
                    </a:lnTo>
                    <a:lnTo>
                      <a:pt x="2325" y="506"/>
                    </a:lnTo>
                    <a:lnTo>
                      <a:pt x="2285" y="498"/>
                    </a:lnTo>
                    <a:lnTo>
                      <a:pt x="2242" y="485"/>
                    </a:lnTo>
                    <a:lnTo>
                      <a:pt x="2196" y="467"/>
                    </a:lnTo>
                    <a:lnTo>
                      <a:pt x="2148" y="444"/>
                    </a:lnTo>
                    <a:lnTo>
                      <a:pt x="2097" y="414"/>
                    </a:lnTo>
                    <a:lnTo>
                      <a:pt x="2044" y="378"/>
                    </a:lnTo>
                    <a:lnTo>
                      <a:pt x="1989" y="334"/>
                    </a:lnTo>
                    <a:lnTo>
                      <a:pt x="1932" y="282"/>
                    </a:lnTo>
                    <a:lnTo>
                      <a:pt x="1872" y="222"/>
                    </a:lnTo>
                    <a:lnTo>
                      <a:pt x="1839" y="189"/>
                    </a:lnTo>
                    <a:lnTo>
                      <a:pt x="1802" y="158"/>
                    </a:lnTo>
                    <a:lnTo>
                      <a:pt x="1781" y="143"/>
                    </a:lnTo>
                    <a:lnTo>
                      <a:pt x="1781" y="322"/>
                    </a:lnTo>
                    <a:lnTo>
                      <a:pt x="1808" y="337"/>
                    </a:lnTo>
                    <a:lnTo>
                      <a:pt x="1877" y="389"/>
                    </a:lnTo>
                    <a:lnTo>
                      <a:pt x="1939" y="435"/>
                    </a:lnTo>
                    <a:lnTo>
                      <a:pt x="1995" y="476"/>
                    </a:lnTo>
                    <a:lnTo>
                      <a:pt x="2046" y="512"/>
                    </a:lnTo>
                    <a:lnTo>
                      <a:pt x="2091" y="543"/>
                    </a:lnTo>
                    <a:lnTo>
                      <a:pt x="2132" y="569"/>
                    </a:lnTo>
                    <a:lnTo>
                      <a:pt x="2169" y="590"/>
                    </a:lnTo>
                    <a:lnTo>
                      <a:pt x="2203" y="606"/>
                    </a:lnTo>
                    <a:lnTo>
                      <a:pt x="2234" y="618"/>
                    </a:lnTo>
                    <a:lnTo>
                      <a:pt x="2263" y="626"/>
                    </a:lnTo>
                    <a:lnTo>
                      <a:pt x="2290" y="629"/>
                    </a:lnTo>
                    <a:lnTo>
                      <a:pt x="2316" y="628"/>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9"/>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3455" y="467"/>
                    </a:moveTo>
                    <a:lnTo>
                      <a:pt x="3426" y="442"/>
                    </a:lnTo>
                    <a:lnTo>
                      <a:pt x="3399" y="421"/>
                    </a:lnTo>
                    <a:lnTo>
                      <a:pt x="3374" y="403"/>
                    </a:lnTo>
                    <a:lnTo>
                      <a:pt x="3350" y="388"/>
                    </a:lnTo>
                    <a:lnTo>
                      <a:pt x="3327" y="377"/>
                    </a:lnTo>
                    <a:lnTo>
                      <a:pt x="3304" y="369"/>
                    </a:lnTo>
                    <a:lnTo>
                      <a:pt x="3281" y="365"/>
                    </a:lnTo>
                    <a:lnTo>
                      <a:pt x="3256" y="364"/>
                    </a:lnTo>
                    <a:lnTo>
                      <a:pt x="3231" y="368"/>
                    </a:lnTo>
                    <a:lnTo>
                      <a:pt x="3203" y="375"/>
                    </a:lnTo>
                    <a:lnTo>
                      <a:pt x="3173" y="386"/>
                    </a:lnTo>
                    <a:lnTo>
                      <a:pt x="3140" y="402"/>
                    </a:lnTo>
                    <a:lnTo>
                      <a:pt x="3104" y="422"/>
                    </a:lnTo>
                    <a:lnTo>
                      <a:pt x="3063" y="446"/>
                    </a:lnTo>
                    <a:lnTo>
                      <a:pt x="3019" y="475"/>
                    </a:lnTo>
                    <a:lnTo>
                      <a:pt x="3077" y="456"/>
                    </a:lnTo>
                    <a:lnTo>
                      <a:pt x="3132" y="442"/>
                    </a:lnTo>
                    <a:lnTo>
                      <a:pt x="3183" y="433"/>
                    </a:lnTo>
                    <a:lnTo>
                      <a:pt x="3229" y="429"/>
                    </a:lnTo>
                    <a:lnTo>
                      <a:pt x="3271" y="428"/>
                    </a:lnTo>
                    <a:lnTo>
                      <a:pt x="3310" y="430"/>
                    </a:lnTo>
                    <a:lnTo>
                      <a:pt x="3344" y="434"/>
                    </a:lnTo>
                    <a:lnTo>
                      <a:pt x="3375" y="441"/>
                    </a:lnTo>
                    <a:lnTo>
                      <a:pt x="3402" y="449"/>
                    </a:lnTo>
                    <a:lnTo>
                      <a:pt x="3425" y="457"/>
                    </a:lnTo>
                    <a:lnTo>
                      <a:pt x="3444" y="466"/>
                    </a:lnTo>
                    <a:lnTo>
                      <a:pt x="3459" y="475"/>
                    </a:lnTo>
                    <a:lnTo>
                      <a:pt x="3471" y="483"/>
                    </a:lnTo>
                    <a:lnTo>
                      <a:pt x="3480" y="489"/>
                    </a:lnTo>
                    <a:lnTo>
                      <a:pt x="3484" y="492"/>
                    </a:lnTo>
                    <a:lnTo>
                      <a:pt x="3455" y="467"/>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Group 10"/>
            <p:cNvGrpSpPr/>
            <p:nvPr/>
          </p:nvGrpSpPr>
          <p:grpSpPr>
            <a:xfrm>
              <a:off x="-3212280" y="6381720"/>
              <a:ext cx="7027560" cy="365760"/>
              <a:chOff x="-3212280" y="6381720"/>
              <a:chExt cx="7027560" cy="365760"/>
            </a:xfrm>
          </p:grpSpPr>
          <p:sp>
            <p:nvSpPr>
              <p:cNvPr id="228" name="Freeform 11"/>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2942" y="773"/>
                    </a:moveTo>
                    <a:lnTo>
                      <a:pt x="2880" y="731"/>
                    </a:lnTo>
                    <a:lnTo>
                      <a:pt x="2812" y="683"/>
                    </a:lnTo>
                    <a:lnTo>
                      <a:pt x="2735" y="628"/>
                    </a:lnTo>
                    <a:lnTo>
                      <a:pt x="2651" y="566"/>
                    </a:lnTo>
                    <a:lnTo>
                      <a:pt x="2557" y="498"/>
                    </a:lnTo>
                    <a:lnTo>
                      <a:pt x="2449" y="423"/>
                    </a:lnTo>
                    <a:lnTo>
                      <a:pt x="2349" y="355"/>
                    </a:lnTo>
                    <a:lnTo>
                      <a:pt x="2254" y="293"/>
                    </a:lnTo>
                    <a:lnTo>
                      <a:pt x="2164" y="238"/>
                    </a:lnTo>
                    <a:lnTo>
                      <a:pt x="2078" y="189"/>
                    </a:lnTo>
                    <a:lnTo>
                      <a:pt x="1995" y="146"/>
                    </a:lnTo>
                    <a:lnTo>
                      <a:pt x="1913" y="108"/>
                    </a:lnTo>
                    <a:lnTo>
                      <a:pt x="1832" y="76"/>
                    </a:lnTo>
                    <a:lnTo>
                      <a:pt x="1750" y="50"/>
                    </a:lnTo>
                    <a:lnTo>
                      <a:pt x="1667" y="30"/>
                    </a:lnTo>
                    <a:lnTo>
                      <a:pt x="1615" y="20"/>
                    </a:lnTo>
                    <a:lnTo>
                      <a:pt x="1615" y="163"/>
                    </a:lnTo>
                    <a:lnTo>
                      <a:pt x="1646" y="163"/>
                    </a:lnTo>
                    <a:lnTo>
                      <a:pt x="1711" y="172"/>
                    </a:lnTo>
                    <a:lnTo>
                      <a:pt x="1778" y="189"/>
                    </a:lnTo>
                    <a:lnTo>
                      <a:pt x="1848" y="215"/>
                    </a:lnTo>
                    <a:lnTo>
                      <a:pt x="1923" y="249"/>
                    </a:lnTo>
                    <a:lnTo>
                      <a:pt x="2003" y="290"/>
                    </a:lnTo>
                    <a:lnTo>
                      <a:pt x="2091" y="340"/>
                    </a:lnTo>
                    <a:lnTo>
                      <a:pt x="2187" y="398"/>
                    </a:lnTo>
                    <a:lnTo>
                      <a:pt x="2292" y="463"/>
                    </a:lnTo>
                    <a:lnTo>
                      <a:pt x="2409" y="537"/>
                    </a:lnTo>
                    <a:lnTo>
                      <a:pt x="2528" y="608"/>
                    </a:lnTo>
                    <a:lnTo>
                      <a:pt x="2640" y="667"/>
                    </a:lnTo>
                    <a:lnTo>
                      <a:pt x="2745" y="715"/>
                    </a:lnTo>
                    <a:lnTo>
                      <a:pt x="2843" y="754"/>
                    </a:lnTo>
                    <a:lnTo>
                      <a:pt x="2934" y="783"/>
                    </a:lnTo>
                    <a:lnTo>
                      <a:pt x="2974" y="793"/>
                    </a:lnTo>
                    <a:lnTo>
                      <a:pt x="2942" y="773"/>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12"/>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3543" y="742"/>
                    </a:moveTo>
                    <a:lnTo>
                      <a:pt x="3556" y="732"/>
                    </a:lnTo>
                    <a:lnTo>
                      <a:pt x="3564" y="726"/>
                    </a:lnTo>
                    <a:lnTo>
                      <a:pt x="3566" y="724"/>
                    </a:lnTo>
                    <a:lnTo>
                      <a:pt x="3530" y="750"/>
                    </a:lnTo>
                    <a:lnTo>
                      <a:pt x="3543" y="742"/>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13"/>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3282" y="889"/>
                    </a:moveTo>
                    <a:lnTo>
                      <a:pt x="3317" y="880"/>
                    </a:lnTo>
                    <a:lnTo>
                      <a:pt x="3352" y="865"/>
                    </a:lnTo>
                    <a:lnTo>
                      <a:pt x="3389" y="845"/>
                    </a:lnTo>
                    <a:lnTo>
                      <a:pt x="3428" y="821"/>
                    </a:lnTo>
                    <a:lnTo>
                      <a:pt x="3470" y="793"/>
                    </a:lnTo>
                    <a:lnTo>
                      <a:pt x="3516" y="760"/>
                    </a:lnTo>
                    <a:lnTo>
                      <a:pt x="3530" y="750"/>
                    </a:lnTo>
                    <a:lnTo>
                      <a:pt x="3524" y="754"/>
                    </a:lnTo>
                    <a:lnTo>
                      <a:pt x="3500" y="767"/>
                    </a:lnTo>
                    <a:lnTo>
                      <a:pt x="3471" y="781"/>
                    </a:lnTo>
                    <a:lnTo>
                      <a:pt x="3435" y="794"/>
                    </a:lnTo>
                    <a:lnTo>
                      <a:pt x="3394" y="806"/>
                    </a:lnTo>
                    <a:lnTo>
                      <a:pt x="3347" y="816"/>
                    </a:lnTo>
                    <a:lnTo>
                      <a:pt x="3294" y="823"/>
                    </a:lnTo>
                    <a:lnTo>
                      <a:pt x="3234" y="827"/>
                    </a:lnTo>
                    <a:lnTo>
                      <a:pt x="3169" y="825"/>
                    </a:lnTo>
                    <a:lnTo>
                      <a:pt x="3097" y="818"/>
                    </a:lnTo>
                    <a:lnTo>
                      <a:pt x="3019" y="804"/>
                    </a:lnTo>
                    <a:lnTo>
                      <a:pt x="2974" y="793"/>
                    </a:lnTo>
                    <a:lnTo>
                      <a:pt x="2998" y="808"/>
                    </a:lnTo>
                    <a:lnTo>
                      <a:pt x="3048" y="837"/>
                    </a:lnTo>
                    <a:lnTo>
                      <a:pt x="3094" y="860"/>
                    </a:lnTo>
                    <a:lnTo>
                      <a:pt x="3136" y="877"/>
                    </a:lnTo>
                    <a:lnTo>
                      <a:pt x="3175" y="888"/>
                    </a:lnTo>
                    <a:lnTo>
                      <a:pt x="3212" y="894"/>
                    </a:lnTo>
                    <a:lnTo>
                      <a:pt x="3248" y="894"/>
                    </a:lnTo>
                    <a:lnTo>
                      <a:pt x="3282" y="889"/>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Group 14"/>
            <p:cNvGrpSpPr/>
            <p:nvPr/>
          </p:nvGrpSpPr>
          <p:grpSpPr>
            <a:xfrm>
              <a:off x="-5076720" y="6447960"/>
              <a:ext cx="10606680" cy="608400"/>
              <a:chOff x="-5076720" y="6447960"/>
              <a:chExt cx="10606680" cy="608400"/>
            </a:xfrm>
          </p:grpSpPr>
          <p:sp>
            <p:nvSpPr>
              <p:cNvPr id="232" name="Freeform 15"/>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5065" y="923"/>
                    </a:moveTo>
                    <a:lnTo>
                      <a:pt x="5101" y="916"/>
                    </a:lnTo>
                    <a:lnTo>
                      <a:pt x="5136" y="904"/>
                    </a:lnTo>
                    <a:lnTo>
                      <a:pt x="5172" y="887"/>
                    </a:lnTo>
                    <a:lnTo>
                      <a:pt x="5209" y="864"/>
                    </a:lnTo>
                    <a:lnTo>
                      <a:pt x="5247" y="836"/>
                    </a:lnTo>
                    <a:lnTo>
                      <a:pt x="5289" y="803"/>
                    </a:lnTo>
                    <a:lnTo>
                      <a:pt x="5333" y="765"/>
                    </a:lnTo>
                    <a:lnTo>
                      <a:pt x="5378" y="726"/>
                    </a:lnTo>
                    <a:lnTo>
                      <a:pt x="5372" y="731"/>
                    </a:lnTo>
                    <a:lnTo>
                      <a:pt x="5359" y="741"/>
                    </a:lnTo>
                    <a:lnTo>
                      <a:pt x="5341" y="752"/>
                    </a:lnTo>
                    <a:lnTo>
                      <a:pt x="5317" y="766"/>
                    </a:lnTo>
                    <a:lnTo>
                      <a:pt x="5287" y="779"/>
                    </a:lnTo>
                    <a:lnTo>
                      <a:pt x="5252" y="793"/>
                    </a:lnTo>
                    <a:lnTo>
                      <a:pt x="5210" y="805"/>
                    </a:lnTo>
                    <a:lnTo>
                      <a:pt x="5163" y="815"/>
                    </a:lnTo>
                    <a:lnTo>
                      <a:pt x="5110" y="822"/>
                    </a:lnTo>
                    <a:lnTo>
                      <a:pt x="5051" y="825"/>
                    </a:lnTo>
                    <a:lnTo>
                      <a:pt x="4985" y="824"/>
                    </a:lnTo>
                    <a:lnTo>
                      <a:pt x="4913" y="817"/>
                    </a:lnTo>
                    <a:lnTo>
                      <a:pt x="4835" y="803"/>
                    </a:lnTo>
                    <a:lnTo>
                      <a:pt x="4750" y="782"/>
                    </a:lnTo>
                    <a:lnTo>
                      <a:pt x="4660" y="753"/>
                    </a:lnTo>
                    <a:lnTo>
                      <a:pt x="4729" y="797"/>
                    </a:lnTo>
                    <a:lnTo>
                      <a:pt x="4792" y="834"/>
                    </a:lnTo>
                    <a:lnTo>
                      <a:pt x="4848" y="865"/>
                    </a:lnTo>
                    <a:lnTo>
                      <a:pt x="4899" y="889"/>
                    </a:lnTo>
                    <a:lnTo>
                      <a:pt x="4946" y="907"/>
                    </a:lnTo>
                    <a:lnTo>
                      <a:pt x="4988" y="918"/>
                    </a:lnTo>
                    <a:lnTo>
                      <a:pt x="5028" y="923"/>
                    </a:lnTo>
                    <a:lnTo>
                      <a:pt x="5065" y="923"/>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16"/>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2587" y="1358"/>
                    </a:moveTo>
                    <a:lnTo>
                      <a:pt x="2657" y="1323"/>
                    </a:lnTo>
                    <a:lnTo>
                      <a:pt x="2722" y="1284"/>
                    </a:lnTo>
                    <a:lnTo>
                      <a:pt x="2783" y="1241"/>
                    </a:lnTo>
                    <a:lnTo>
                      <a:pt x="2839" y="1194"/>
                    </a:lnTo>
                    <a:lnTo>
                      <a:pt x="2890" y="1143"/>
                    </a:lnTo>
                    <a:lnTo>
                      <a:pt x="2982" y="1050"/>
                    </a:lnTo>
                    <a:lnTo>
                      <a:pt x="3071" y="970"/>
                    </a:lnTo>
                    <a:lnTo>
                      <a:pt x="3156" y="903"/>
                    </a:lnTo>
                    <a:lnTo>
                      <a:pt x="3238" y="846"/>
                    </a:lnTo>
                    <a:lnTo>
                      <a:pt x="3316" y="801"/>
                    </a:lnTo>
                    <a:lnTo>
                      <a:pt x="3391" y="764"/>
                    </a:lnTo>
                    <a:lnTo>
                      <a:pt x="3462" y="737"/>
                    </a:lnTo>
                    <a:lnTo>
                      <a:pt x="3528" y="717"/>
                    </a:lnTo>
                    <a:lnTo>
                      <a:pt x="3590" y="704"/>
                    </a:lnTo>
                    <a:lnTo>
                      <a:pt x="3648" y="697"/>
                    </a:lnTo>
                    <a:lnTo>
                      <a:pt x="3701" y="694"/>
                    </a:lnTo>
                    <a:lnTo>
                      <a:pt x="3749" y="696"/>
                    </a:lnTo>
                    <a:lnTo>
                      <a:pt x="3793" y="701"/>
                    </a:lnTo>
                    <a:lnTo>
                      <a:pt x="3831" y="709"/>
                    </a:lnTo>
                    <a:lnTo>
                      <a:pt x="3863" y="717"/>
                    </a:lnTo>
                    <a:lnTo>
                      <a:pt x="3890" y="726"/>
                    </a:lnTo>
                    <a:lnTo>
                      <a:pt x="3912" y="735"/>
                    </a:lnTo>
                    <a:lnTo>
                      <a:pt x="3927" y="742"/>
                    </a:lnTo>
                    <a:lnTo>
                      <a:pt x="3937" y="748"/>
                    </a:lnTo>
                    <a:lnTo>
                      <a:pt x="3940" y="749"/>
                    </a:lnTo>
                    <a:lnTo>
                      <a:pt x="3882" y="701"/>
                    </a:lnTo>
                    <a:lnTo>
                      <a:pt x="3830" y="657"/>
                    </a:lnTo>
                    <a:lnTo>
                      <a:pt x="3782" y="619"/>
                    </a:lnTo>
                    <a:lnTo>
                      <a:pt x="3737" y="587"/>
                    </a:lnTo>
                    <a:lnTo>
                      <a:pt x="3695" y="560"/>
                    </a:lnTo>
                    <a:lnTo>
                      <a:pt x="3655" y="540"/>
                    </a:lnTo>
                    <a:lnTo>
                      <a:pt x="3616" y="525"/>
                    </a:lnTo>
                    <a:lnTo>
                      <a:pt x="3576" y="517"/>
                    </a:lnTo>
                    <a:lnTo>
                      <a:pt x="3536" y="515"/>
                    </a:lnTo>
                    <a:lnTo>
                      <a:pt x="3494" y="520"/>
                    </a:lnTo>
                    <a:lnTo>
                      <a:pt x="3449" y="531"/>
                    </a:lnTo>
                    <a:lnTo>
                      <a:pt x="3402" y="550"/>
                    </a:lnTo>
                    <a:lnTo>
                      <a:pt x="3349" y="575"/>
                    </a:lnTo>
                    <a:lnTo>
                      <a:pt x="3292" y="608"/>
                    </a:lnTo>
                    <a:lnTo>
                      <a:pt x="3229" y="648"/>
                    </a:lnTo>
                    <a:lnTo>
                      <a:pt x="3158" y="696"/>
                    </a:lnTo>
                    <a:lnTo>
                      <a:pt x="3080" y="751"/>
                    </a:lnTo>
                    <a:lnTo>
                      <a:pt x="2994" y="814"/>
                    </a:lnTo>
                    <a:lnTo>
                      <a:pt x="2898" y="886"/>
                    </a:lnTo>
                    <a:lnTo>
                      <a:pt x="2791" y="965"/>
                    </a:lnTo>
                    <a:lnTo>
                      <a:pt x="2668" y="1034"/>
                    </a:lnTo>
                    <a:lnTo>
                      <a:pt x="2561" y="1080"/>
                    </a:lnTo>
                    <a:lnTo>
                      <a:pt x="2561" y="1369"/>
                    </a:lnTo>
                    <a:lnTo>
                      <a:pt x="2587" y="1358"/>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17"/>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5380" y="725"/>
                    </a:moveTo>
                    <a:lnTo>
                      <a:pt x="5383" y="722"/>
                    </a:lnTo>
                    <a:lnTo>
                      <a:pt x="5378" y="726"/>
                    </a:lnTo>
                    <a:lnTo>
                      <a:pt x="5380" y="725"/>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8"/>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4660" y="753"/>
                    </a:moveTo>
                    <a:lnTo>
                      <a:pt x="4582" y="701"/>
                    </a:lnTo>
                    <a:lnTo>
                      <a:pt x="4496" y="642"/>
                    </a:lnTo>
                    <a:lnTo>
                      <a:pt x="4400" y="576"/>
                    </a:lnTo>
                    <a:lnTo>
                      <a:pt x="4293" y="502"/>
                    </a:lnTo>
                    <a:lnTo>
                      <a:pt x="4186" y="427"/>
                    </a:lnTo>
                    <a:lnTo>
                      <a:pt x="4087" y="359"/>
                    </a:lnTo>
                    <a:lnTo>
                      <a:pt x="3995" y="298"/>
                    </a:lnTo>
                    <a:lnTo>
                      <a:pt x="3909" y="242"/>
                    </a:lnTo>
                    <a:lnTo>
                      <a:pt x="3827" y="192"/>
                    </a:lnTo>
                    <a:lnTo>
                      <a:pt x="3748" y="149"/>
                    </a:lnTo>
                    <a:lnTo>
                      <a:pt x="3672" y="111"/>
                    </a:lnTo>
                    <a:lnTo>
                      <a:pt x="3596" y="79"/>
                    </a:lnTo>
                    <a:lnTo>
                      <a:pt x="3521" y="52"/>
                    </a:lnTo>
                    <a:lnTo>
                      <a:pt x="3443" y="31"/>
                    </a:lnTo>
                    <a:lnTo>
                      <a:pt x="3363" y="16"/>
                    </a:lnTo>
                    <a:lnTo>
                      <a:pt x="3278" y="5"/>
                    </a:lnTo>
                    <a:lnTo>
                      <a:pt x="3189" y="0"/>
                    </a:lnTo>
                    <a:lnTo>
                      <a:pt x="3093" y="0"/>
                    </a:lnTo>
                    <a:lnTo>
                      <a:pt x="2989" y="4"/>
                    </a:lnTo>
                    <a:lnTo>
                      <a:pt x="2876" y="13"/>
                    </a:lnTo>
                    <a:lnTo>
                      <a:pt x="2753" y="28"/>
                    </a:lnTo>
                    <a:lnTo>
                      <a:pt x="2619" y="46"/>
                    </a:lnTo>
                    <a:lnTo>
                      <a:pt x="2561" y="55"/>
                    </a:lnTo>
                    <a:lnTo>
                      <a:pt x="2561" y="596"/>
                    </a:lnTo>
                    <a:lnTo>
                      <a:pt x="2637" y="544"/>
                    </a:lnTo>
                    <a:lnTo>
                      <a:pt x="2753" y="466"/>
                    </a:lnTo>
                    <a:lnTo>
                      <a:pt x="2858" y="397"/>
                    </a:lnTo>
                    <a:lnTo>
                      <a:pt x="2954" y="337"/>
                    </a:lnTo>
                    <a:lnTo>
                      <a:pt x="3042" y="286"/>
                    </a:lnTo>
                    <a:lnTo>
                      <a:pt x="3122" y="244"/>
                    </a:lnTo>
                    <a:lnTo>
                      <a:pt x="3196" y="210"/>
                    </a:lnTo>
                    <a:lnTo>
                      <a:pt x="3267" y="185"/>
                    </a:lnTo>
                    <a:lnTo>
                      <a:pt x="3333" y="169"/>
                    </a:lnTo>
                    <a:lnTo>
                      <a:pt x="3398" y="161"/>
                    </a:lnTo>
                    <a:lnTo>
                      <a:pt x="3463" y="162"/>
                    </a:lnTo>
                    <a:lnTo>
                      <a:pt x="3528" y="171"/>
                    </a:lnTo>
                    <a:lnTo>
                      <a:pt x="3594" y="188"/>
                    </a:lnTo>
                    <a:lnTo>
                      <a:pt x="3664" y="214"/>
                    </a:lnTo>
                    <a:lnTo>
                      <a:pt x="3739" y="247"/>
                    </a:lnTo>
                    <a:lnTo>
                      <a:pt x="3820" y="289"/>
                    </a:lnTo>
                    <a:lnTo>
                      <a:pt x="3907" y="339"/>
                    </a:lnTo>
                    <a:lnTo>
                      <a:pt x="4003" y="396"/>
                    </a:lnTo>
                    <a:lnTo>
                      <a:pt x="4109" y="462"/>
                    </a:lnTo>
                    <a:lnTo>
                      <a:pt x="4225" y="535"/>
                    </a:lnTo>
                    <a:lnTo>
                      <a:pt x="4344" y="606"/>
                    </a:lnTo>
                    <a:lnTo>
                      <a:pt x="4456" y="666"/>
                    </a:lnTo>
                    <a:lnTo>
                      <a:pt x="4561" y="714"/>
                    </a:lnTo>
                    <a:lnTo>
                      <a:pt x="4659" y="753"/>
                    </a:lnTo>
                    <a:lnTo>
                      <a:pt x="4660" y="753"/>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72" name="Group 2"/>
          <p:cNvGrpSpPr/>
          <p:nvPr/>
        </p:nvGrpSpPr>
        <p:grpSpPr>
          <a:xfrm>
            <a:off x="-105120" y="1311120"/>
            <a:ext cx="9350640" cy="5632560"/>
            <a:chOff x="-105120" y="1311120"/>
            <a:chExt cx="9350640" cy="5632560"/>
          </a:xfrm>
        </p:grpSpPr>
        <p:sp>
          <p:nvSpPr>
            <p:cNvPr id="27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8"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90"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F480-732A-4897-B2BD-7AF36D878750}"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dfdef6"/>
                </a:solidFill>
                <a:uFillTx/>
                <a:latin typeface="Arial"/>
              </a:rPr>
              <a:t>GESTION DE PERSONAL DE EDUCACION</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22 del Estatuto Docente: Adecuaciones de Dotación Docent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 Variación en el N° de alumno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2.- Modificaciones Curricular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 Cambio en el tipo de educación que se impart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4.- Fusión.</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5.- Reorganización de la entidad de administración educ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ecreto 453, que reglamenta el Estatuto Docente, nos señala que las destinaciones docentes pueden ser_</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Voluntaria, a petición suya, que la autoridad puede o no aceptar discrecionalmente.</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Resolución Fundada del Alcalde, previa consulta al docente y siempre que no signifique menoscabo en su situación laboral y profes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rtículo 69 del Estatuto Docente: La docencia de aula efectiva que realicen los docentes con 30 o más años de servicios, se reducirá a petición del interesado a un máximo de hasta 24 horas (cronológicas), debiendo asignarse el resto de su horario a actividades curriculares no lectivas, lo que regirá a partir del año escolar siguiente, o en el año respectivo si no se produjere menoscabo a la atención doc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CONCEPTO</a:t>
            </a:r>
            <a:r>
              <a:rPr b="0" lang="es-ES_tradnl"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 una conducta consciente y sistemática, repetitiva, de hostigamiento contra un trabaja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SCENDENTE</a:t>
            </a:r>
            <a:r>
              <a:rPr b="0" lang="es-ES_tradnl" sz="3200" spc="-1" strike="noStrike">
                <a:solidFill>
                  <a:srgbClr val="ffffff"/>
                </a:solidFill>
                <a:latin typeface="Arial"/>
              </a:rPr>
              <a:t>: De un jefe a un emple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ORIZONTAL    </a:t>
            </a:r>
            <a:r>
              <a:rPr b="0" lang="es-ES_tradnl" sz="3200" spc="-1" strike="noStrike">
                <a:solidFill>
                  <a:srgbClr val="ffffff"/>
                </a:solidFill>
                <a:latin typeface="Arial"/>
              </a:rPr>
              <a:t>: Entre pa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CENDENTE   </a:t>
            </a:r>
            <a:r>
              <a:rPr b="0" lang="es-ES_tradnl" sz="3200" spc="-1" strike="noStrike">
                <a:solidFill>
                  <a:srgbClr val="ffffff"/>
                </a:solidFill>
                <a:latin typeface="Arial"/>
              </a:rPr>
              <a:t>: De subordinados a sus jef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Una mala resolución del conflicto es lo que lleva al acoso laboral. Algunas veces, es tan corto el espacio de tiempo que separa “ el conflicto” del “ acoso” que se solapan</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Arial"/>
              </a:rPr>
              <a:t>Características</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a o más conductas de hostigamiento.</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a duración del hostigamiento, debe ser a lo largo de un período para diferenciarlo de una acción puntual ( más de 6 meses)</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recuencia de los comportamientos de hostigamiento por lo menos sema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OBJETO DEL MOBBING:</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tentar someter o eliminar a una persona de su puesto de trabajo.</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estabilizar emocionalmente a una persona mediante todo tipo de estrategias buscando que esta renuncie o se ausente.</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tacar sistemáticamente a una persona, criticando destructivamente cuánto, cómo o la forma en que realiza en su trabaj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ucir intencionalmente a una persona a cometer errore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truir la reputación personal o profesional de una persona mediante calumnia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orzar a una persona a un abandono prematuro o ilícito de su puesto de trabajo mediante coacciones o amenaza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islar a una persona y reducir sus posibilidades de expresarse o de comunicarse con jefes o compañeros de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brecargar de trabajo a una persona de manera sistemática o reducir los plazos de ejecución de las tareas para forzarla al fracaso en los objetivos.</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jar a una persona sin nada que hacer, a pesar de haber trabajo para ella, para desestabilizarla.</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lterar el entorno laboral de la persona, indisponiéndola con sus compañeros de trabajo, para que estos reaccionen en contra de 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ÁNDO RECONOCEMOS QUE ESTAMOS FRENTE A UN ACOSO LABORAL?</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xiste un rechazo a la comunicación directa con la víctima.</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 busca su aislamiento y/o estigmatización.</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guir el objetivo, que es la destrucción de la vícti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COMETER UNA INJUSTICIA ES PEOR QUE SUFRIRL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                                               </a:t>
            </a:r>
            <a:r>
              <a:rPr b="1" i="1" lang="es-CL" sz="3200" spc="-1" strike="noStrike">
                <a:solidFill>
                  <a:srgbClr val="ffffff"/>
                </a:solidFill>
                <a:latin typeface="Arial"/>
              </a:rPr>
              <a:t>Aristóte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FILES DEL ACOSADOR Y DEL ACOS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TRABAJO A DESARROLLAR EN CL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n la docencia, dentro de un establecimiento educacional, cómo se puede manifestar el mobbing. Señale a lo menos tres ejemplos y discútalos en cl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Se produce acoso sexual cuando un hombre o una mujer realiza en forma indebida, por cualquier medio, requerimientos de carácter sexual no consentidos, que amenacen o perjudiquen la situación laboral o las oportunidades en el empleo de la persona acos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fecta la Dignidad de los trabajadores (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judica el clima laboral de la organización o empresa.</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medida de resguardo, es necesario incorporar en el reglamento Interno, un procedimiento para tramitar las denun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Qué hacer?</a:t>
            </a:r>
            <a:endParaRPr b="0" lang="en-US" sz="2800" spc="-1" strike="noStrike">
              <a:solidFill>
                <a:srgbClr val="ffffff"/>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icitarle a la víctima hacer un reclamo por escrito en la empresa, establecimiento o servicio en donde trabaja o directamente ante la Inspección del Trabajo.</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empleador que recibe la denuncia puede optar entre hacer directamente una investigación interna o, dentro de los 5 días siguientes, derivarla a la Inspección del trabajo, la que tendrá 30 días para efectuar la investig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investigación interna efectuada por el empleador, debe realizarse en un plazo de 30 días, de manera reservada, garantizando el derecho a que ambas partes sean escuchadas. Una vez concluida la investigación, los resultados deben enviarse a la Inspección del Trabajo.</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inalizada la investigación, la Inspección del Trabajo, comunicará el resultado al empleador y, de haber comprobado la existencia del Acoso Sexual, debe sugerir adoptar medidas concret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9" name="PlaceHolder 2"/>
          <p:cNvSpPr>
            <a:spLocks noGrp="1"/>
          </p:cNvSpPr>
          <p:nvPr>
            <p:ph/>
          </p:nvPr>
        </p:nvSpPr>
        <p:spPr>
          <a:xfrm>
            <a:off x="324000" y="1268280"/>
            <a:ext cx="8362800" cy="486576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nciones</a:t>
            </a:r>
            <a:r>
              <a:rPr b="0" lang="es-CL"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 se comprueba el acoso sexual, el empleador tiene un plazo de 15 días, a partir de la recepción del informe de la dirección del Trabajo, para aplicar las sanciones que correspond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n el caso de los </a:t>
            </a:r>
            <a:r>
              <a:rPr b="1" lang="es-CL" sz="2400" spc="-1" strike="noStrike">
                <a:solidFill>
                  <a:srgbClr val="ffffff"/>
                </a:solidFill>
                <a:latin typeface="Arial"/>
              </a:rPr>
              <a:t>docentes</a:t>
            </a:r>
            <a:r>
              <a:rPr b="0" lang="es-CL" sz="2400" spc="-1" strike="noStrike">
                <a:solidFill>
                  <a:srgbClr val="ffffff"/>
                </a:solidFill>
                <a:latin typeface="Arial"/>
              </a:rPr>
              <a:t>, la causal de despido que se verifica es </a:t>
            </a:r>
            <a:r>
              <a:rPr b="1" lang="es-CL" sz="2400" spc="-1" strike="noStrike">
                <a:solidFill>
                  <a:srgbClr val="ffffff"/>
                </a:solidFill>
                <a:latin typeface="Arial"/>
              </a:rPr>
              <a:t>conducta inmoral, art. 72, letra b), Estatuto Doce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a:t>
            </a:r>
            <a:r>
              <a:rPr b="0" lang="es-CL" sz="2400" spc="-1" strike="noStrike">
                <a:solidFill>
                  <a:srgbClr val="ffffff"/>
                </a:solidFill>
                <a:latin typeface="Arial"/>
              </a:rPr>
              <a:t>En el caso de los funcionarios contratados</a:t>
            </a:r>
            <a:r>
              <a:rPr b="1" lang="es-CL" sz="2400" spc="-1" strike="noStrike">
                <a:solidFill>
                  <a:srgbClr val="ffffff"/>
                </a:solidFill>
                <a:latin typeface="Arial"/>
              </a:rPr>
              <a:t> </a:t>
            </a:r>
            <a:r>
              <a:rPr b="0" lang="es-CL" sz="2400" spc="-1" strike="noStrike">
                <a:solidFill>
                  <a:srgbClr val="ffffff"/>
                </a:solidFill>
                <a:latin typeface="Arial"/>
              </a:rPr>
              <a:t>por</a:t>
            </a:r>
            <a:r>
              <a:rPr b="1" lang="es-CL" sz="2400" spc="-1" strike="noStrike">
                <a:solidFill>
                  <a:srgbClr val="ffffff"/>
                </a:solidFill>
                <a:latin typeface="Arial"/>
              </a:rPr>
              <a:t> Código del Trabajo, art. 160 N° 1, ya que se ha incorporado el Acoso Sexual como causal de despi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n ambos casos, </a:t>
            </a:r>
            <a:r>
              <a:rPr b="1" lang="es-CL" sz="2400" spc="-1" strike="noStrike">
                <a:solidFill>
                  <a:srgbClr val="ffffff"/>
                </a:solidFill>
                <a:latin typeface="Arial"/>
              </a:rPr>
              <a:t>no dará derecho a indemnización</a:t>
            </a:r>
            <a:r>
              <a:rPr b="0" lang="es-CL" sz="2400" spc="-1" strike="noStrike">
                <a:solidFill>
                  <a:srgbClr val="ffffff"/>
                </a:solidFill>
                <a:latin typeface="Arial"/>
              </a:rPr>
              <a:t> algun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8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trabajador afectado por Acoso Sexual puede:</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cudir a Tribunal del Trabajo respectivo, poniendo término al contrato de trabajo y demandando el pago de las indemnizaciones.    ( Auto-despido)</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olicitar el incremento del 80% en sus indemnizaciones legales si el empleador no dio cumplimiento al procedimiento por Acoso sexual.</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 el trabajador invocó falsamente la causal de Acoso sexual como fundamento del auto-despido, debe indemnizar los perjuicios que cause al afectado (a) y podrá ser objeto de las acciones legales que procedan ( responsabilidad civil y criminal)</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dfdef6"/>
              </a:solidFill>
              <a:latin typeface="Arial"/>
            </a:endParaRPr>
          </a:p>
        </p:txBody>
      </p:sp>
      <p:sp>
        <p:nvSpPr>
          <p:cNvPr id="58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 TRABAJO EVALUADO A DESARROLLA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ECHA DE ENTREGA: SÁBADO 10 DE DICIEMBRE. 12:00 H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fdef6"/>
                </a:solidFill>
                <a:uFillTx/>
                <a:latin typeface="Arial"/>
              </a:rPr>
              <a:t>MALAS PRÁCTICAS LABORALES</a:t>
            </a:r>
            <a:br>
              <a:rPr sz="4000"/>
            </a:br>
            <a:r>
              <a:rPr b="1" lang="es-ES_tradnl" sz="3200" spc="-1" strike="noStrike" u="sng">
                <a:solidFill>
                  <a:srgbClr val="dfdef6"/>
                </a:solidFill>
                <a:uFillTx/>
                <a:latin typeface="Arial"/>
              </a:rPr>
              <a:t>MENOSCABO LABORAL</a:t>
            </a:r>
            <a:endParaRPr b="0" lang="en-US" sz="32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CEPTO</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fecto que se produce al ejecutar el empleador, algún cambio en el contrato de trabajo del funcionar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US VARIANDI</a:t>
            </a:r>
            <a:r>
              <a:rPr b="0" lang="es-ES_tradnl" sz="2800" spc="-1" strike="noStrike">
                <a:solidFill>
                  <a:srgbClr val="ffffff"/>
                </a:solidFill>
                <a:latin typeface="Arial"/>
              </a:rPr>
              <a:t>: Es el derecho que el ordenamiento jurídico concede al empleador para que éste, dentro de ciertos límites, pueda alterar no sustancialmente, los límites de la prestación de trabajo que han sido fijados en el contr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jercicio del IUS VARIANDI, consiste en que su aplicación no cause menoscabo al trabajador.</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menoscabo no es sólo económico, sino que también está referido a cuestiones morales y sociale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 12 Código del Trabajo: “El empleador podrá alterar la naturaleza de los servicios o el sitio o el recinto en que ellos deben prestarse, a condición de que se trate de labores similares, que el nuevo sitio o recinto quede dentro del mismo lugar o ciudad, sin que ello signifique menoscabo para el trabajad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NOSCABO MORAL VERT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alquier disminución negativa en la jerarquía dentro de la empresa, que significa una degradación del poder del trabajador, restándole importancia y dignidad profesion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NOSCABO MORAL HORIZON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siste en que el empleador, producto de alteraciones a las condiciones iniciales del contrato, a saber, función, lugar, le genera al trabajador un cuadro de condiciones ambientales adversas o lo hace vivir en un clima laboral host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lo concerniente a los Docentes, tenemos 2 artículos del Estatuto Docente, que hacen mención al menoscab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42: Traslados de un Docent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69: Reducción Horaria de un Docente con más de 30 años de servic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 </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rtículo 42 : Menoscabo Laboral y Profesional: Todo hecho o circunstancia que determine una disminución del nivel socioeconómico del trabajador en la empres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i bien es cierto, los docentes pueden ser objeto de destinaciones a otros establecimientos educacionales, ésta figura jurídica no puede tener otro efecto que el cambio físico de establecimiento, atendida las limitaciones que el legislador ha impuesto para su operativid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lo tanto, es preciso sostener que la destinación que pudiera disponerse, no puede significar una modificación unilateral de la distribución de su jornada de trabajo convencionalmente pactada y desempeñada en el establecimiento educacional de orig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cp:lastModifiedBy>
  <dcterms:modified xsi:type="dcterms:W3CDTF">2011-11-25T21:22:56Z</dcterms:modified>
  <cp:revision>34</cp:revision>
  <dc:subject/>
  <dc:title>MANTENCION UN COMPROMISO DE GESTION</dc:title>
</cp:coreProperties>
</file>