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D16-79BA-4A5F-9DB6-44034762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F65-39B6-4003-8785-40C26C7D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CB1-0D64-4FB1-ACDA-E6912922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C31-497C-4B18-9B64-0ED4B0C8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73F-20C6-40A6-8947-5D22251B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DA0-998B-408F-9123-8DBEB3D6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47C-B818-4348-B9B4-80C8CE5C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28B-2A9B-45BC-BA20-6D28A8AE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A81E-181F-4C7E-B64E-5CA074D6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732-B3AB-42E5-8103-7D48E7F7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62C-4673-42B0-B2D1-3831CD58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657-A055-4E48-81BA-F123043A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2B04-59C0-4993-905E-30EF79C731B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38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Arial"/>
              </a:rPr>
              <a:t>LEY 20.545</a:t>
            </a:r>
            <a:br>
              <a:rPr sz="4400"/>
            </a:br>
            <a:r>
              <a:rPr b="1" lang="es-CL" sz="2800" spc="-1" strike="noStrike">
                <a:solidFill>
                  <a:srgbClr val="c00000"/>
                </a:solidFill>
                <a:latin typeface="Arial"/>
              </a:rPr>
              <a:t>17 DE OCTUBRE DE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637000"/>
            <a:ext cx="6440400" cy="30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IFICA NORMAS SOBRE PROTECCION A LA MATERNIDAD E INCORPORA PERMISO POSTNATAL PAR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5300640"/>
            <a:ext cx="5580000" cy="1557000"/>
            <a:chOff x="0" y="5300640"/>
            <a:chExt cx="5580000" cy="1557000"/>
          </a:xfrm>
        </p:grpSpPr>
        <p:grpSp>
          <p:nvGrpSpPr>
            <p:cNvPr id="44" name="Group 5"/>
            <p:cNvGrpSpPr/>
            <p:nvPr/>
          </p:nvGrpSpPr>
          <p:grpSpPr>
            <a:xfrm>
              <a:off x="808560" y="5695200"/>
              <a:ext cx="3614400" cy="909360"/>
              <a:chOff x="808560" y="5695200"/>
              <a:chExt cx="3614400" cy="90936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808560" y="5695200"/>
                <a:ext cx="3614400" cy="9093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909360"/>
                  <a:gd name="textAreaBottom" fmla="*/ 909720 h 9093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85" y="493"/>
                    </a:moveTo>
                    <a:lnTo>
                      <a:pt x="3484" y="492"/>
                    </a:lnTo>
                    <a:lnTo>
                      <a:pt x="3487" y="494"/>
                    </a:lnTo>
                    <a:lnTo>
                      <a:pt x="3485" y="493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808560" y="5695200"/>
                <a:ext cx="3614400" cy="9093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909360"/>
                  <a:gd name="textAreaBottom" fmla="*/ 909720 h 9093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065" y="962"/>
                    </a:moveTo>
                    <a:lnTo>
                      <a:pt x="2123" y="959"/>
                    </a:lnTo>
                    <a:lnTo>
                      <a:pt x="2178" y="952"/>
                    </a:lnTo>
                    <a:lnTo>
                      <a:pt x="2230" y="942"/>
                    </a:lnTo>
                    <a:lnTo>
                      <a:pt x="2280" y="928"/>
                    </a:lnTo>
                    <a:lnTo>
                      <a:pt x="2329" y="911"/>
                    </a:lnTo>
                    <a:lnTo>
                      <a:pt x="2378" y="891"/>
                    </a:lnTo>
                    <a:lnTo>
                      <a:pt x="2428" y="866"/>
                    </a:lnTo>
                    <a:lnTo>
                      <a:pt x="2479" y="838"/>
                    </a:lnTo>
                    <a:lnTo>
                      <a:pt x="2532" y="806"/>
                    </a:lnTo>
                    <a:lnTo>
                      <a:pt x="2588" y="770"/>
                    </a:lnTo>
                    <a:lnTo>
                      <a:pt x="2647" y="730"/>
                    </a:lnTo>
                    <a:lnTo>
                      <a:pt x="2711" y="685"/>
                    </a:lnTo>
                    <a:lnTo>
                      <a:pt x="2781" y="637"/>
                    </a:lnTo>
                    <a:lnTo>
                      <a:pt x="2850" y="589"/>
                    </a:lnTo>
                    <a:lnTo>
                      <a:pt x="2912" y="546"/>
                    </a:lnTo>
                    <a:lnTo>
                      <a:pt x="2968" y="508"/>
                    </a:lnTo>
                    <a:lnTo>
                      <a:pt x="3018" y="475"/>
                    </a:lnTo>
                    <a:lnTo>
                      <a:pt x="3019" y="475"/>
                    </a:lnTo>
                    <a:lnTo>
                      <a:pt x="3018" y="475"/>
                    </a:lnTo>
                    <a:lnTo>
                      <a:pt x="2954" y="500"/>
                    </a:lnTo>
                    <a:lnTo>
                      <a:pt x="2886" y="531"/>
                    </a:lnTo>
                    <a:lnTo>
                      <a:pt x="2814" y="569"/>
                    </a:lnTo>
                    <a:lnTo>
                      <a:pt x="2737" y="616"/>
                    </a:lnTo>
                    <a:lnTo>
                      <a:pt x="2661" y="663"/>
                    </a:lnTo>
                    <a:lnTo>
                      <a:pt x="2593" y="706"/>
                    </a:lnTo>
                    <a:lnTo>
                      <a:pt x="2531" y="743"/>
                    </a:lnTo>
                    <a:lnTo>
                      <a:pt x="2474" y="775"/>
                    </a:lnTo>
                    <a:lnTo>
                      <a:pt x="2422" y="802"/>
                    </a:lnTo>
                    <a:lnTo>
                      <a:pt x="2374" y="824"/>
                    </a:lnTo>
                    <a:lnTo>
                      <a:pt x="2328" y="841"/>
                    </a:lnTo>
                    <a:lnTo>
                      <a:pt x="2285" y="852"/>
                    </a:lnTo>
                    <a:lnTo>
                      <a:pt x="2243" y="858"/>
                    </a:lnTo>
                    <a:lnTo>
                      <a:pt x="2201" y="858"/>
                    </a:lnTo>
                    <a:lnTo>
                      <a:pt x="2159" y="853"/>
                    </a:lnTo>
                    <a:lnTo>
                      <a:pt x="2116" y="842"/>
                    </a:lnTo>
                    <a:lnTo>
                      <a:pt x="2070" y="826"/>
                    </a:lnTo>
                    <a:lnTo>
                      <a:pt x="2022" y="804"/>
                    </a:lnTo>
                    <a:lnTo>
                      <a:pt x="1970" y="777"/>
                    </a:lnTo>
                    <a:lnTo>
                      <a:pt x="1913" y="744"/>
                    </a:lnTo>
                    <a:lnTo>
                      <a:pt x="1851" y="705"/>
                    </a:lnTo>
                    <a:lnTo>
                      <a:pt x="1783" y="660"/>
                    </a:lnTo>
                    <a:lnTo>
                      <a:pt x="1781" y="659"/>
                    </a:lnTo>
                    <a:lnTo>
                      <a:pt x="1781" y="944"/>
                    </a:lnTo>
                    <a:lnTo>
                      <a:pt x="1783" y="944"/>
                    </a:lnTo>
                    <a:lnTo>
                      <a:pt x="1863" y="954"/>
                    </a:lnTo>
                    <a:lnTo>
                      <a:pt x="1936" y="960"/>
                    </a:lnTo>
                    <a:lnTo>
                      <a:pt x="2003" y="963"/>
                    </a:lnTo>
                    <a:lnTo>
                      <a:pt x="2065" y="962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808560" y="5695200"/>
                <a:ext cx="3614400" cy="9093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909360"/>
                  <a:gd name="textAreaBottom" fmla="*/ 909720 h 9093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316" y="628"/>
                    </a:moveTo>
                    <a:lnTo>
                      <a:pt x="2342" y="622"/>
                    </a:lnTo>
                    <a:lnTo>
                      <a:pt x="2367" y="613"/>
                    </a:lnTo>
                    <a:lnTo>
                      <a:pt x="2393" y="599"/>
                    </a:lnTo>
                    <a:lnTo>
                      <a:pt x="2421" y="582"/>
                    </a:lnTo>
                    <a:lnTo>
                      <a:pt x="2450" y="561"/>
                    </a:lnTo>
                    <a:lnTo>
                      <a:pt x="2481" y="537"/>
                    </a:lnTo>
                    <a:lnTo>
                      <a:pt x="2515" y="508"/>
                    </a:lnTo>
                    <a:lnTo>
                      <a:pt x="2552" y="477"/>
                    </a:lnTo>
                    <a:lnTo>
                      <a:pt x="2550" y="478"/>
                    </a:lnTo>
                    <a:lnTo>
                      <a:pt x="2544" y="481"/>
                    </a:lnTo>
                    <a:lnTo>
                      <a:pt x="2534" y="486"/>
                    </a:lnTo>
                    <a:lnTo>
                      <a:pt x="2520" y="492"/>
                    </a:lnTo>
                    <a:lnTo>
                      <a:pt x="2502" y="498"/>
                    </a:lnTo>
                    <a:lnTo>
                      <a:pt x="2481" y="503"/>
                    </a:lnTo>
                    <a:lnTo>
                      <a:pt x="2456" y="508"/>
                    </a:lnTo>
                    <a:lnTo>
                      <a:pt x="2428" y="511"/>
                    </a:lnTo>
                    <a:lnTo>
                      <a:pt x="2397" y="513"/>
                    </a:lnTo>
                    <a:lnTo>
                      <a:pt x="2363" y="511"/>
                    </a:lnTo>
                    <a:lnTo>
                      <a:pt x="2325" y="506"/>
                    </a:lnTo>
                    <a:lnTo>
                      <a:pt x="2285" y="498"/>
                    </a:lnTo>
                    <a:lnTo>
                      <a:pt x="2242" y="485"/>
                    </a:lnTo>
                    <a:lnTo>
                      <a:pt x="2196" y="467"/>
                    </a:lnTo>
                    <a:lnTo>
                      <a:pt x="2148" y="444"/>
                    </a:lnTo>
                    <a:lnTo>
                      <a:pt x="2097" y="414"/>
                    </a:lnTo>
                    <a:lnTo>
                      <a:pt x="2044" y="378"/>
                    </a:lnTo>
                    <a:lnTo>
                      <a:pt x="1989" y="334"/>
                    </a:lnTo>
                    <a:lnTo>
                      <a:pt x="1932" y="282"/>
                    </a:lnTo>
                    <a:lnTo>
                      <a:pt x="1872" y="222"/>
                    </a:lnTo>
                    <a:lnTo>
                      <a:pt x="1839" y="189"/>
                    </a:lnTo>
                    <a:lnTo>
                      <a:pt x="1802" y="158"/>
                    </a:lnTo>
                    <a:lnTo>
                      <a:pt x="1781" y="143"/>
                    </a:lnTo>
                    <a:lnTo>
                      <a:pt x="1781" y="322"/>
                    </a:lnTo>
                    <a:lnTo>
                      <a:pt x="1808" y="337"/>
                    </a:lnTo>
                    <a:lnTo>
                      <a:pt x="1877" y="389"/>
                    </a:lnTo>
                    <a:lnTo>
                      <a:pt x="1939" y="435"/>
                    </a:lnTo>
                    <a:lnTo>
                      <a:pt x="1995" y="476"/>
                    </a:lnTo>
                    <a:lnTo>
                      <a:pt x="2046" y="512"/>
                    </a:lnTo>
                    <a:lnTo>
                      <a:pt x="2091" y="543"/>
                    </a:lnTo>
                    <a:lnTo>
                      <a:pt x="2132" y="569"/>
                    </a:lnTo>
                    <a:lnTo>
                      <a:pt x="2169" y="590"/>
                    </a:lnTo>
                    <a:lnTo>
                      <a:pt x="2203" y="606"/>
                    </a:lnTo>
                    <a:lnTo>
                      <a:pt x="2234" y="618"/>
                    </a:lnTo>
                    <a:lnTo>
                      <a:pt x="2263" y="626"/>
                    </a:lnTo>
                    <a:lnTo>
                      <a:pt x="2290" y="629"/>
                    </a:lnTo>
                    <a:lnTo>
                      <a:pt x="2316" y="628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08560" y="5695200"/>
                <a:ext cx="3614400" cy="9093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909360"/>
                  <a:gd name="textAreaBottom" fmla="*/ 909720 h 9093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55" y="467"/>
                    </a:moveTo>
                    <a:lnTo>
                      <a:pt x="3426" y="442"/>
                    </a:lnTo>
                    <a:lnTo>
                      <a:pt x="3399" y="421"/>
                    </a:lnTo>
                    <a:lnTo>
                      <a:pt x="3374" y="403"/>
                    </a:lnTo>
                    <a:lnTo>
                      <a:pt x="3350" y="388"/>
                    </a:lnTo>
                    <a:lnTo>
                      <a:pt x="3327" y="377"/>
                    </a:lnTo>
                    <a:lnTo>
                      <a:pt x="3304" y="369"/>
                    </a:lnTo>
                    <a:lnTo>
                      <a:pt x="3281" y="365"/>
                    </a:lnTo>
                    <a:lnTo>
                      <a:pt x="3256" y="364"/>
                    </a:lnTo>
                    <a:lnTo>
                      <a:pt x="3231" y="368"/>
                    </a:lnTo>
                    <a:lnTo>
                      <a:pt x="3203" y="375"/>
                    </a:lnTo>
                    <a:lnTo>
                      <a:pt x="3173" y="386"/>
                    </a:lnTo>
                    <a:lnTo>
                      <a:pt x="3140" y="402"/>
                    </a:lnTo>
                    <a:lnTo>
                      <a:pt x="3104" y="422"/>
                    </a:lnTo>
                    <a:lnTo>
                      <a:pt x="3063" y="446"/>
                    </a:lnTo>
                    <a:lnTo>
                      <a:pt x="3019" y="475"/>
                    </a:lnTo>
                    <a:lnTo>
                      <a:pt x="3077" y="456"/>
                    </a:lnTo>
                    <a:lnTo>
                      <a:pt x="3132" y="442"/>
                    </a:lnTo>
                    <a:lnTo>
                      <a:pt x="3183" y="433"/>
                    </a:lnTo>
                    <a:lnTo>
                      <a:pt x="3229" y="429"/>
                    </a:lnTo>
                    <a:lnTo>
                      <a:pt x="3271" y="428"/>
                    </a:lnTo>
                    <a:lnTo>
                      <a:pt x="3310" y="430"/>
                    </a:lnTo>
                    <a:lnTo>
                      <a:pt x="3344" y="434"/>
                    </a:lnTo>
                    <a:lnTo>
                      <a:pt x="3375" y="441"/>
                    </a:lnTo>
                    <a:lnTo>
                      <a:pt x="3402" y="449"/>
                    </a:lnTo>
                    <a:lnTo>
                      <a:pt x="3425" y="457"/>
                    </a:lnTo>
                    <a:lnTo>
                      <a:pt x="3444" y="466"/>
                    </a:lnTo>
                    <a:lnTo>
                      <a:pt x="3459" y="475"/>
                    </a:lnTo>
                    <a:lnTo>
                      <a:pt x="3471" y="483"/>
                    </a:lnTo>
                    <a:lnTo>
                      <a:pt x="3480" y="489"/>
                    </a:lnTo>
                    <a:lnTo>
                      <a:pt x="3484" y="492"/>
                    </a:lnTo>
                    <a:lnTo>
                      <a:pt x="3455" y="467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10"/>
            <p:cNvGrpSpPr/>
            <p:nvPr/>
          </p:nvGrpSpPr>
          <p:grpSpPr>
            <a:xfrm>
              <a:off x="980640" y="5300640"/>
              <a:ext cx="3697200" cy="844200"/>
              <a:chOff x="980640" y="5300640"/>
              <a:chExt cx="3697200" cy="844200"/>
            </a:xfrm>
          </p:grpSpPr>
          <p:sp>
            <p:nvSpPr>
              <p:cNvPr id="50" name="Freeform 11"/>
              <p:cNvSpPr/>
              <p:nvPr/>
            </p:nvSpPr>
            <p:spPr>
              <a:xfrm>
                <a:off x="980640" y="5300640"/>
                <a:ext cx="3697200" cy="84420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844200"/>
                  <a:gd name="textAreaBottom" fmla="*/ 844560 h 84420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2942" y="773"/>
                    </a:moveTo>
                    <a:lnTo>
                      <a:pt x="2880" y="731"/>
                    </a:lnTo>
                    <a:lnTo>
                      <a:pt x="2812" y="683"/>
                    </a:lnTo>
                    <a:lnTo>
                      <a:pt x="2735" y="628"/>
                    </a:lnTo>
                    <a:lnTo>
                      <a:pt x="2651" y="566"/>
                    </a:lnTo>
                    <a:lnTo>
                      <a:pt x="2557" y="498"/>
                    </a:lnTo>
                    <a:lnTo>
                      <a:pt x="2449" y="423"/>
                    </a:lnTo>
                    <a:lnTo>
                      <a:pt x="2349" y="355"/>
                    </a:lnTo>
                    <a:lnTo>
                      <a:pt x="2254" y="293"/>
                    </a:lnTo>
                    <a:lnTo>
                      <a:pt x="2164" y="238"/>
                    </a:lnTo>
                    <a:lnTo>
                      <a:pt x="2078" y="189"/>
                    </a:lnTo>
                    <a:lnTo>
                      <a:pt x="1995" y="146"/>
                    </a:lnTo>
                    <a:lnTo>
                      <a:pt x="1913" y="108"/>
                    </a:lnTo>
                    <a:lnTo>
                      <a:pt x="1832" y="76"/>
                    </a:lnTo>
                    <a:lnTo>
                      <a:pt x="1750" y="50"/>
                    </a:lnTo>
                    <a:lnTo>
                      <a:pt x="1667" y="30"/>
                    </a:lnTo>
                    <a:lnTo>
                      <a:pt x="1615" y="20"/>
                    </a:lnTo>
                    <a:lnTo>
                      <a:pt x="1615" y="163"/>
                    </a:lnTo>
                    <a:lnTo>
                      <a:pt x="1646" y="163"/>
                    </a:lnTo>
                    <a:lnTo>
                      <a:pt x="1711" y="172"/>
                    </a:lnTo>
                    <a:lnTo>
                      <a:pt x="1778" y="189"/>
                    </a:lnTo>
                    <a:lnTo>
                      <a:pt x="1848" y="215"/>
                    </a:lnTo>
                    <a:lnTo>
                      <a:pt x="1923" y="249"/>
                    </a:lnTo>
                    <a:lnTo>
                      <a:pt x="2003" y="290"/>
                    </a:lnTo>
                    <a:lnTo>
                      <a:pt x="2091" y="340"/>
                    </a:lnTo>
                    <a:lnTo>
                      <a:pt x="2187" y="398"/>
                    </a:lnTo>
                    <a:lnTo>
                      <a:pt x="2292" y="463"/>
                    </a:lnTo>
                    <a:lnTo>
                      <a:pt x="2409" y="537"/>
                    </a:lnTo>
                    <a:lnTo>
                      <a:pt x="2528" y="608"/>
                    </a:lnTo>
                    <a:lnTo>
                      <a:pt x="2640" y="667"/>
                    </a:lnTo>
                    <a:lnTo>
                      <a:pt x="2745" y="715"/>
                    </a:lnTo>
                    <a:lnTo>
                      <a:pt x="2843" y="754"/>
                    </a:lnTo>
                    <a:lnTo>
                      <a:pt x="2934" y="783"/>
                    </a:lnTo>
                    <a:lnTo>
                      <a:pt x="2974" y="793"/>
                    </a:lnTo>
                    <a:lnTo>
                      <a:pt x="2942" y="773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980640" y="5300640"/>
                <a:ext cx="3697200" cy="84420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844200"/>
                  <a:gd name="textAreaBottom" fmla="*/ 844560 h 84420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543" y="742"/>
                    </a:moveTo>
                    <a:lnTo>
                      <a:pt x="3556" y="732"/>
                    </a:lnTo>
                    <a:lnTo>
                      <a:pt x="3564" y="726"/>
                    </a:lnTo>
                    <a:lnTo>
                      <a:pt x="3566" y="724"/>
                    </a:lnTo>
                    <a:lnTo>
                      <a:pt x="3530" y="750"/>
                    </a:lnTo>
                    <a:lnTo>
                      <a:pt x="3543" y="742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980640" y="5300640"/>
                <a:ext cx="3697200" cy="84420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844200"/>
                  <a:gd name="textAreaBottom" fmla="*/ 844560 h 84420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282" y="889"/>
                    </a:moveTo>
                    <a:lnTo>
                      <a:pt x="3317" y="880"/>
                    </a:lnTo>
                    <a:lnTo>
                      <a:pt x="3352" y="865"/>
                    </a:lnTo>
                    <a:lnTo>
                      <a:pt x="3389" y="845"/>
                    </a:lnTo>
                    <a:lnTo>
                      <a:pt x="3428" y="821"/>
                    </a:lnTo>
                    <a:lnTo>
                      <a:pt x="3470" y="793"/>
                    </a:lnTo>
                    <a:lnTo>
                      <a:pt x="3516" y="760"/>
                    </a:lnTo>
                    <a:lnTo>
                      <a:pt x="3530" y="750"/>
                    </a:lnTo>
                    <a:lnTo>
                      <a:pt x="3524" y="754"/>
                    </a:lnTo>
                    <a:lnTo>
                      <a:pt x="3500" y="767"/>
                    </a:lnTo>
                    <a:lnTo>
                      <a:pt x="3471" y="781"/>
                    </a:lnTo>
                    <a:lnTo>
                      <a:pt x="3435" y="794"/>
                    </a:lnTo>
                    <a:lnTo>
                      <a:pt x="3394" y="806"/>
                    </a:lnTo>
                    <a:lnTo>
                      <a:pt x="3347" y="816"/>
                    </a:lnTo>
                    <a:lnTo>
                      <a:pt x="3294" y="823"/>
                    </a:lnTo>
                    <a:lnTo>
                      <a:pt x="3234" y="827"/>
                    </a:lnTo>
                    <a:lnTo>
                      <a:pt x="3169" y="825"/>
                    </a:lnTo>
                    <a:lnTo>
                      <a:pt x="3097" y="818"/>
                    </a:lnTo>
                    <a:lnTo>
                      <a:pt x="3019" y="804"/>
                    </a:lnTo>
                    <a:lnTo>
                      <a:pt x="2974" y="793"/>
                    </a:lnTo>
                    <a:lnTo>
                      <a:pt x="2998" y="808"/>
                    </a:lnTo>
                    <a:lnTo>
                      <a:pt x="3048" y="837"/>
                    </a:lnTo>
                    <a:lnTo>
                      <a:pt x="3094" y="860"/>
                    </a:lnTo>
                    <a:lnTo>
                      <a:pt x="3136" y="877"/>
                    </a:lnTo>
                    <a:lnTo>
                      <a:pt x="3175" y="888"/>
                    </a:lnTo>
                    <a:lnTo>
                      <a:pt x="3212" y="894"/>
                    </a:lnTo>
                    <a:lnTo>
                      <a:pt x="3248" y="894"/>
                    </a:lnTo>
                    <a:lnTo>
                      <a:pt x="3282" y="889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14"/>
            <p:cNvGrpSpPr/>
            <p:nvPr/>
          </p:nvGrpSpPr>
          <p:grpSpPr>
            <a:xfrm>
              <a:off x="0" y="5453280"/>
              <a:ext cx="5580000" cy="1404360"/>
              <a:chOff x="0" y="5453280"/>
              <a:chExt cx="5580000" cy="1404360"/>
            </a:xfrm>
          </p:grpSpPr>
          <p:sp>
            <p:nvSpPr>
              <p:cNvPr id="54" name="Freeform 15"/>
              <p:cNvSpPr/>
              <p:nvPr/>
            </p:nvSpPr>
            <p:spPr>
              <a:xfrm>
                <a:off x="0" y="5453280"/>
                <a:ext cx="5580000" cy="140436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1404360"/>
                  <a:gd name="textAreaBottom" fmla="*/ 1404360 h 140436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065" y="923"/>
                    </a:moveTo>
                    <a:lnTo>
                      <a:pt x="5101" y="916"/>
                    </a:lnTo>
                    <a:lnTo>
                      <a:pt x="5136" y="904"/>
                    </a:lnTo>
                    <a:lnTo>
                      <a:pt x="5172" y="887"/>
                    </a:lnTo>
                    <a:lnTo>
                      <a:pt x="5209" y="864"/>
                    </a:lnTo>
                    <a:lnTo>
                      <a:pt x="5247" y="836"/>
                    </a:lnTo>
                    <a:lnTo>
                      <a:pt x="5289" y="803"/>
                    </a:lnTo>
                    <a:lnTo>
                      <a:pt x="5333" y="765"/>
                    </a:lnTo>
                    <a:lnTo>
                      <a:pt x="5378" y="726"/>
                    </a:lnTo>
                    <a:lnTo>
                      <a:pt x="5372" y="731"/>
                    </a:lnTo>
                    <a:lnTo>
                      <a:pt x="5359" y="741"/>
                    </a:lnTo>
                    <a:lnTo>
                      <a:pt x="5341" y="752"/>
                    </a:lnTo>
                    <a:lnTo>
                      <a:pt x="5317" y="766"/>
                    </a:lnTo>
                    <a:lnTo>
                      <a:pt x="5287" y="779"/>
                    </a:lnTo>
                    <a:lnTo>
                      <a:pt x="5252" y="793"/>
                    </a:lnTo>
                    <a:lnTo>
                      <a:pt x="5210" y="805"/>
                    </a:lnTo>
                    <a:lnTo>
                      <a:pt x="5163" y="815"/>
                    </a:lnTo>
                    <a:lnTo>
                      <a:pt x="5110" y="822"/>
                    </a:lnTo>
                    <a:lnTo>
                      <a:pt x="5051" y="825"/>
                    </a:lnTo>
                    <a:lnTo>
                      <a:pt x="4985" y="824"/>
                    </a:lnTo>
                    <a:lnTo>
                      <a:pt x="4913" y="817"/>
                    </a:lnTo>
                    <a:lnTo>
                      <a:pt x="4835" y="803"/>
                    </a:lnTo>
                    <a:lnTo>
                      <a:pt x="4750" y="782"/>
                    </a:lnTo>
                    <a:lnTo>
                      <a:pt x="4660" y="753"/>
                    </a:lnTo>
                    <a:lnTo>
                      <a:pt x="4729" y="797"/>
                    </a:lnTo>
                    <a:lnTo>
                      <a:pt x="4792" y="834"/>
                    </a:lnTo>
                    <a:lnTo>
                      <a:pt x="4848" y="865"/>
                    </a:lnTo>
                    <a:lnTo>
                      <a:pt x="4899" y="889"/>
                    </a:lnTo>
                    <a:lnTo>
                      <a:pt x="4946" y="907"/>
                    </a:lnTo>
                    <a:lnTo>
                      <a:pt x="4988" y="918"/>
                    </a:lnTo>
                    <a:lnTo>
                      <a:pt x="5028" y="923"/>
                    </a:lnTo>
                    <a:lnTo>
                      <a:pt x="5065" y="92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0" y="5453280"/>
                <a:ext cx="5580000" cy="140436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1404360"/>
                  <a:gd name="textAreaBottom" fmla="*/ 1404360 h 140436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2587" y="1358"/>
                    </a:moveTo>
                    <a:lnTo>
                      <a:pt x="2657" y="1323"/>
                    </a:lnTo>
                    <a:lnTo>
                      <a:pt x="2722" y="1284"/>
                    </a:lnTo>
                    <a:lnTo>
                      <a:pt x="2783" y="1241"/>
                    </a:lnTo>
                    <a:lnTo>
                      <a:pt x="2839" y="1194"/>
                    </a:lnTo>
                    <a:lnTo>
                      <a:pt x="2890" y="1143"/>
                    </a:lnTo>
                    <a:lnTo>
                      <a:pt x="2982" y="1050"/>
                    </a:lnTo>
                    <a:lnTo>
                      <a:pt x="3071" y="970"/>
                    </a:lnTo>
                    <a:lnTo>
                      <a:pt x="3156" y="903"/>
                    </a:lnTo>
                    <a:lnTo>
                      <a:pt x="3238" y="846"/>
                    </a:lnTo>
                    <a:lnTo>
                      <a:pt x="3316" y="801"/>
                    </a:lnTo>
                    <a:lnTo>
                      <a:pt x="3391" y="764"/>
                    </a:lnTo>
                    <a:lnTo>
                      <a:pt x="3462" y="737"/>
                    </a:lnTo>
                    <a:lnTo>
                      <a:pt x="3528" y="717"/>
                    </a:lnTo>
                    <a:lnTo>
                      <a:pt x="3590" y="704"/>
                    </a:lnTo>
                    <a:lnTo>
                      <a:pt x="3648" y="697"/>
                    </a:lnTo>
                    <a:lnTo>
                      <a:pt x="3701" y="694"/>
                    </a:lnTo>
                    <a:lnTo>
                      <a:pt x="3749" y="696"/>
                    </a:lnTo>
                    <a:lnTo>
                      <a:pt x="3793" y="701"/>
                    </a:lnTo>
                    <a:lnTo>
                      <a:pt x="3831" y="709"/>
                    </a:lnTo>
                    <a:lnTo>
                      <a:pt x="3863" y="717"/>
                    </a:lnTo>
                    <a:lnTo>
                      <a:pt x="3890" y="726"/>
                    </a:lnTo>
                    <a:lnTo>
                      <a:pt x="3912" y="735"/>
                    </a:lnTo>
                    <a:lnTo>
                      <a:pt x="3927" y="742"/>
                    </a:lnTo>
                    <a:lnTo>
                      <a:pt x="3937" y="748"/>
                    </a:lnTo>
                    <a:lnTo>
                      <a:pt x="3940" y="749"/>
                    </a:lnTo>
                    <a:lnTo>
                      <a:pt x="3882" y="701"/>
                    </a:lnTo>
                    <a:lnTo>
                      <a:pt x="3830" y="657"/>
                    </a:lnTo>
                    <a:lnTo>
                      <a:pt x="3782" y="619"/>
                    </a:lnTo>
                    <a:lnTo>
                      <a:pt x="3737" y="587"/>
                    </a:lnTo>
                    <a:lnTo>
                      <a:pt x="3695" y="560"/>
                    </a:lnTo>
                    <a:lnTo>
                      <a:pt x="3655" y="540"/>
                    </a:lnTo>
                    <a:lnTo>
                      <a:pt x="3616" y="525"/>
                    </a:lnTo>
                    <a:lnTo>
                      <a:pt x="3576" y="517"/>
                    </a:lnTo>
                    <a:lnTo>
                      <a:pt x="3536" y="515"/>
                    </a:lnTo>
                    <a:lnTo>
                      <a:pt x="3494" y="520"/>
                    </a:lnTo>
                    <a:lnTo>
                      <a:pt x="3449" y="531"/>
                    </a:lnTo>
                    <a:lnTo>
                      <a:pt x="3402" y="550"/>
                    </a:lnTo>
                    <a:lnTo>
                      <a:pt x="3349" y="575"/>
                    </a:lnTo>
                    <a:lnTo>
                      <a:pt x="3292" y="608"/>
                    </a:lnTo>
                    <a:lnTo>
                      <a:pt x="3229" y="648"/>
                    </a:lnTo>
                    <a:lnTo>
                      <a:pt x="3158" y="696"/>
                    </a:lnTo>
                    <a:lnTo>
                      <a:pt x="3080" y="751"/>
                    </a:lnTo>
                    <a:lnTo>
                      <a:pt x="2994" y="814"/>
                    </a:lnTo>
                    <a:lnTo>
                      <a:pt x="2898" y="886"/>
                    </a:lnTo>
                    <a:lnTo>
                      <a:pt x="2791" y="965"/>
                    </a:lnTo>
                    <a:lnTo>
                      <a:pt x="2668" y="1034"/>
                    </a:lnTo>
                    <a:lnTo>
                      <a:pt x="2561" y="1080"/>
                    </a:lnTo>
                    <a:lnTo>
                      <a:pt x="2561" y="1369"/>
                    </a:lnTo>
                    <a:lnTo>
                      <a:pt x="2587" y="1358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0" y="5453280"/>
                <a:ext cx="5580000" cy="140436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1404360"/>
                  <a:gd name="textAreaBottom" fmla="*/ 1404360 h 140436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380" y="725"/>
                    </a:moveTo>
                    <a:lnTo>
                      <a:pt x="5383" y="722"/>
                    </a:lnTo>
                    <a:lnTo>
                      <a:pt x="5378" y="726"/>
                    </a:lnTo>
                    <a:lnTo>
                      <a:pt x="5380" y="725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0" y="5453280"/>
                <a:ext cx="5580000" cy="140436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1404360"/>
                  <a:gd name="textAreaBottom" fmla="*/ 1404360 h 140436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4660" y="753"/>
                    </a:moveTo>
                    <a:lnTo>
                      <a:pt x="4582" y="701"/>
                    </a:lnTo>
                    <a:lnTo>
                      <a:pt x="4496" y="642"/>
                    </a:lnTo>
                    <a:lnTo>
                      <a:pt x="4400" y="576"/>
                    </a:lnTo>
                    <a:lnTo>
                      <a:pt x="4293" y="502"/>
                    </a:lnTo>
                    <a:lnTo>
                      <a:pt x="4186" y="427"/>
                    </a:lnTo>
                    <a:lnTo>
                      <a:pt x="4087" y="359"/>
                    </a:lnTo>
                    <a:lnTo>
                      <a:pt x="3995" y="298"/>
                    </a:lnTo>
                    <a:lnTo>
                      <a:pt x="3909" y="242"/>
                    </a:lnTo>
                    <a:lnTo>
                      <a:pt x="3827" y="192"/>
                    </a:lnTo>
                    <a:lnTo>
                      <a:pt x="3748" y="149"/>
                    </a:lnTo>
                    <a:lnTo>
                      <a:pt x="3672" y="111"/>
                    </a:lnTo>
                    <a:lnTo>
                      <a:pt x="3596" y="79"/>
                    </a:lnTo>
                    <a:lnTo>
                      <a:pt x="3521" y="52"/>
                    </a:lnTo>
                    <a:lnTo>
                      <a:pt x="3443" y="31"/>
                    </a:lnTo>
                    <a:lnTo>
                      <a:pt x="3363" y="16"/>
                    </a:lnTo>
                    <a:lnTo>
                      <a:pt x="3278" y="5"/>
                    </a:lnTo>
                    <a:lnTo>
                      <a:pt x="3189" y="0"/>
                    </a:lnTo>
                    <a:lnTo>
                      <a:pt x="3093" y="0"/>
                    </a:lnTo>
                    <a:lnTo>
                      <a:pt x="2989" y="4"/>
                    </a:lnTo>
                    <a:lnTo>
                      <a:pt x="2876" y="13"/>
                    </a:lnTo>
                    <a:lnTo>
                      <a:pt x="2753" y="28"/>
                    </a:lnTo>
                    <a:lnTo>
                      <a:pt x="2619" y="46"/>
                    </a:lnTo>
                    <a:lnTo>
                      <a:pt x="2561" y="55"/>
                    </a:lnTo>
                    <a:lnTo>
                      <a:pt x="2561" y="596"/>
                    </a:lnTo>
                    <a:lnTo>
                      <a:pt x="2637" y="544"/>
                    </a:lnTo>
                    <a:lnTo>
                      <a:pt x="2753" y="466"/>
                    </a:lnTo>
                    <a:lnTo>
                      <a:pt x="2858" y="397"/>
                    </a:lnTo>
                    <a:lnTo>
                      <a:pt x="2954" y="337"/>
                    </a:lnTo>
                    <a:lnTo>
                      <a:pt x="3042" y="286"/>
                    </a:lnTo>
                    <a:lnTo>
                      <a:pt x="3122" y="244"/>
                    </a:lnTo>
                    <a:lnTo>
                      <a:pt x="3196" y="210"/>
                    </a:lnTo>
                    <a:lnTo>
                      <a:pt x="3267" y="185"/>
                    </a:lnTo>
                    <a:lnTo>
                      <a:pt x="3333" y="169"/>
                    </a:lnTo>
                    <a:lnTo>
                      <a:pt x="3398" y="161"/>
                    </a:lnTo>
                    <a:lnTo>
                      <a:pt x="3463" y="162"/>
                    </a:lnTo>
                    <a:lnTo>
                      <a:pt x="3528" y="171"/>
                    </a:lnTo>
                    <a:lnTo>
                      <a:pt x="3594" y="188"/>
                    </a:lnTo>
                    <a:lnTo>
                      <a:pt x="3664" y="214"/>
                    </a:lnTo>
                    <a:lnTo>
                      <a:pt x="3739" y="247"/>
                    </a:lnTo>
                    <a:lnTo>
                      <a:pt x="3820" y="289"/>
                    </a:lnTo>
                    <a:lnTo>
                      <a:pt x="3907" y="339"/>
                    </a:lnTo>
                    <a:lnTo>
                      <a:pt x="4003" y="396"/>
                    </a:lnTo>
                    <a:lnTo>
                      <a:pt x="4109" y="462"/>
                    </a:lnTo>
                    <a:lnTo>
                      <a:pt x="4225" y="535"/>
                    </a:lnTo>
                    <a:lnTo>
                      <a:pt x="4344" y="606"/>
                    </a:lnTo>
                    <a:lnTo>
                      <a:pt x="4456" y="666"/>
                    </a:lnTo>
                    <a:lnTo>
                      <a:pt x="4561" y="714"/>
                    </a:lnTo>
                    <a:lnTo>
                      <a:pt x="4659" y="753"/>
                    </a:lnTo>
                    <a:lnTo>
                      <a:pt x="4660" y="75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6280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Arial"/>
              </a:rPr>
              <a:t>LEY 20.545</a:t>
            </a:r>
            <a:br>
              <a:rPr sz="4400"/>
            </a:br>
            <a:r>
              <a:rPr b="1" lang="es-CL" sz="3600" spc="-1" strike="noStrike" u="sng">
                <a:solidFill>
                  <a:srgbClr val="000000"/>
                </a:solidFill>
                <a:uFillTx/>
                <a:latin typeface="Arial"/>
              </a:rPr>
              <a:t>Padres de hijos adoptivos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- Menores de 6 meses: 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Gozarán de período postnatal y del nuevo período de postnatal parental, de acuerdo a las normas generales.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- Mayores de 6 meses y menores de 18 años: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e concede al adoptante el período de permiso postnatal parental, con el correspondiente subsidi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187280" y="980640"/>
            <a:ext cx="6616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0" y="6453360"/>
            <a:ext cx="5580000" cy="404640"/>
            <a:chOff x="0" y="6453360"/>
            <a:chExt cx="5580000" cy="404640"/>
          </a:xfrm>
        </p:grpSpPr>
        <p:grpSp>
          <p:nvGrpSpPr>
            <p:cNvPr id="197" name="Group 5"/>
            <p:cNvGrpSpPr/>
            <p:nvPr/>
          </p:nvGrpSpPr>
          <p:grpSpPr>
            <a:xfrm>
              <a:off x="808560" y="6555960"/>
              <a:ext cx="3614400" cy="236160"/>
              <a:chOff x="808560" y="6555960"/>
              <a:chExt cx="3614400" cy="23616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808560" y="6555960"/>
                <a:ext cx="3614400" cy="2361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85" y="493"/>
                    </a:moveTo>
                    <a:lnTo>
                      <a:pt x="3484" y="492"/>
                    </a:lnTo>
                    <a:lnTo>
                      <a:pt x="3487" y="494"/>
                    </a:lnTo>
                    <a:lnTo>
                      <a:pt x="3485" y="493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808560" y="6555960"/>
                <a:ext cx="3614400" cy="2361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065" y="962"/>
                    </a:moveTo>
                    <a:lnTo>
                      <a:pt x="2123" y="959"/>
                    </a:lnTo>
                    <a:lnTo>
                      <a:pt x="2178" y="952"/>
                    </a:lnTo>
                    <a:lnTo>
                      <a:pt x="2230" y="942"/>
                    </a:lnTo>
                    <a:lnTo>
                      <a:pt x="2280" y="928"/>
                    </a:lnTo>
                    <a:lnTo>
                      <a:pt x="2329" y="911"/>
                    </a:lnTo>
                    <a:lnTo>
                      <a:pt x="2378" y="891"/>
                    </a:lnTo>
                    <a:lnTo>
                      <a:pt x="2428" y="866"/>
                    </a:lnTo>
                    <a:lnTo>
                      <a:pt x="2479" y="838"/>
                    </a:lnTo>
                    <a:lnTo>
                      <a:pt x="2532" y="806"/>
                    </a:lnTo>
                    <a:lnTo>
                      <a:pt x="2588" y="770"/>
                    </a:lnTo>
                    <a:lnTo>
                      <a:pt x="2647" y="730"/>
                    </a:lnTo>
                    <a:lnTo>
                      <a:pt x="2711" y="685"/>
                    </a:lnTo>
                    <a:lnTo>
                      <a:pt x="2781" y="637"/>
                    </a:lnTo>
                    <a:lnTo>
                      <a:pt x="2850" y="589"/>
                    </a:lnTo>
                    <a:lnTo>
                      <a:pt x="2912" y="546"/>
                    </a:lnTo>
                    <a:lnTo>
                      <a:pt x="2968" y="508"/>
                    </a:lnTo>
                    <a:lnTo>
                      <a:pt x="3018" y="475"/>
                    </a:lnTo>
                    <a:lnTo>
                      <a:pt x="3019" y="475"/>
                    </a:lnTo>
                    <a:lnTo>
                      <a:pt x="3018" y="475"/>
                    </a:lnTo>
                    <a:lnTo>
                      <a:pt x="2954" y="500"/>
                    </a:lnTo>
                    <a:lnTo>
                      <a:pt x="2886" y="531"/>
                    </a:lnTo>
                    <a:lnTo>
                      <a:pt x="2814" y="569"/>
                    </a:lnTo>
                    <a:lnTo>
                      <a:pt x="2737" y="616"/>
                    </a:lnTo>
                    <a:lnTo>
                      <a:pt x="2661" y="663"/>
                    </a:lnTo>
                    <a:lnTo>
                      <a:pt x="2593" y="706"/>
                    </a:lnTo>
                    <a:lnTo>
                      <a:pt x="2531" y="743"/>
                    </a:lnTo>
                    <a:lnTo>
                      <a:pt x="2474" y="775"/>
                    </a:lnTo>
                    <a:lnTo>
                      <a:pt x="2422" y="802"/>
                    </a:lnTo>
                    <a:lnTo>
                      <a:pt x="2374" y="824"/>
                    </a:lnTo>
                    <a:lnTo>
                      <a:pt x="2328" y="841"/>
                    </a:lnTo>
                    <a:lnTo>
                      <a:pt x="2285" y="852"/>
                    </a:lnTo>
                    <a:lnTo>
                      <a:pt x="2243" y="858"/>
                    </a:lnTo>
                    <a:lnTo>
                      <a:pt x="2201" y="858"/>
                    </a:lnTo>
                    <a:lnTo>
                      <a:pt x="2159" y="853"/>
                    </a:lnTo>
                    <a:lnTo>
                      <a:pt x="2116" y="842"/>
                    </a:lnTo>
                    <a:lnTo>
                      <a:pt x="2070" y="826"/>
                    </a:lnTo>
                    <a:lnTo>
                      <a:pt x="2022" y="804"/>
                    </a:lnTo>
                    <a:lnTo>
                      <a:pt x="1970" y="777"/>
                    </a:lnTo>
                    <a:lnTo>
                      <a:pt x="1913" y="744"/>
                    </a:lnTo>
                    <a:lnTo>
                      <a:pt x="1851" y="705"/>
                    </a:lnTo>
                    <a:lnTo>
                      <a:pt x="1783" y="660"/>
                    </a:lnTo>
                    <a:lnTo>
                      <a:pt x="1781" y="659"/>
                    </a:lnTo>
                    <a:lnTo>
                      <a:pt x="1781" y="944"/>
                    </a:lnTo>
                    <a:lnTo>
                      <a:pt x="1783" y="944"/>
                    </a:lnTo>
                    <a:lnTo>
                      <a:pt x="1863" y="954"/>
                    </a:lnTo>
                    <a:lnTo>
                      <a:pt x="1936" y="960"/>
                    </a:lnTo>
                    <a:lnTo>
                      <a:pt x="2003" y="963"/>
                    </a:lnTo>
                    <a:lnTo>
                      <a:pt x="2065" y="962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808560" y="6555960"/>
                <a:ext cx="3614400" cy="2361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316" y="628"/>
                    </a:moveTo>
                    <a:lnTo>
                      <a:pt x="2342" y="622"/>
                    </a:lnTo>
                    <a:lnTo>
                      <a:pt x="2367" y="613"/>
                    </a:lnTo>
                    <a:lnTo>
                      <a:pt x="2393" y="599"/>
                    </a:lnTo>
                    <a:lnTo>
                      <a:pt x="2421" y="582"/>
                    </a:lnTo>
                    <a:lnTo>
                      <a:pt x="2450" y="561"/>
                    </a:lnTo>
                    <a:lnTo>
                      <a:pt x="2481" y="537"/>
                    </a:lnTo>
                    <a:lnTo>
                      <a:pt x="2515" y="508"/>
                    </a:lnTo>
                    <a:lnTo>
                      <a:pt x="2552" y="477"/>
                    </a:lnTo>
                    <a:lnTo>
                      <a:pt x="2550" y="478"/>
                    </a:lnTo>
                    <a:lnTo>
                      <a:pt x="2544" y="481"/>
                    </a:lnTo>
                    <a:lnTo>
                      <a:pt x="2534" y="486"/>
                    </a:lnTo>
                    <a:lnTo>
                      <a:pt x="2520" y="492"/>
                    </a:lnTo>
                    <a:lnTo>
                      <a:pt x="2502" y="498"/>
                    </a:lnTo>
                    <a:lnTo>
                      <a:pt x="2481" y="503"/>
                    </a:lnTo>
                    <a:lnTo>
                      <a:pt x="2456" y="508"/>
                    </a:lnTo>
                    <a:lnTo>
                      <a:pt x="2428" y="511"/>
                    </a:lnTo>
                    <a:lnTo>
                      <a:pt x="2397" y="513"/>
                    </a:lnTo>
                    <a:lnTo>
                      <a:pt x="2363" y="511"/>
                    </a:lnTo>
                    <a:lnTo>
                      <a:pt x="2325" y="506"/>
                    </a:lnTo>
                    <a:lnTo>
                      <a:pt x="2285" y="498"/>
                    </a:lnTo>
                    <a:lnTo>
                      <a:pt x="2242" y="485"/>
                    </a:lnTo>
                    <a:lnTo>
                      <a:pt x="2196" y="467"/>
                    </a:lnTo>
                    <a:lnTo>
                      <a:pt x="2148" y="444"/>
                    </a:lnTo>
                    <a:lnTo>
                      <a:pt x="2097" y="414"/>
                    </a:lnTo>
                    <a:lnTo>
                      <a:pt x="2044" y="378"/>
                    </a:lnTo>
                    <a:lnTo>
                      <a:pt x="1989" y="334"/>
                    </a:lnTo>
                    <a:lnTo>
                      <a:pt x="1932" y="282"/>
                    </a:lnTo>
                    <a:lnTo>
                      <a:pt x="1872" y="222"/>
                    </a:lnTo>
                    <a:lnTo>
                      <a:pt x="1839" y="189"/>
                    </a:lnTo>
                    <a:lnTo>
                      <a:pt x="1802" y="158"/>
                    </a:lnTo>
                    <a:lnTo>
                      <a:pt x="1781" y="143"/>
                    </a:lnTo>
                    <a:lnTo>
                      <a:pt x="1781" y="322"/>
                    </a:lnTo>
                    <a:lnTo>
                      <a:pt x="1808" y="337"/>
                    </a:lnTo>
                    <a:lnTo>
                      <a:pt x="1877" y="389"/>
                    </a:lnTo>
                    <a:lnTo>
                      <a:pt x="1939" y="435"/>
                    </a:lnTo>
                    <a:lnTo>
                      <a:pt x="1995" y="476"/>
                    </a:lnTo>
                    <a:lnTo>
                      <a:pt x="2046" y="512"/>
                    </a:lnTo>
                    <a:lnTo>
                      <a:pt x="2091" y="543"/>
                    </a:lnTo>
                    <a:lnTo>
                      <a:pt x="2132" y="569"/>
                    </a:lnTo>
                    <a:lnTo>
                      <a:pt x="2169" y="590"/>
                    </a:lnTo>
                    <a:lnTo>
                      <a:pt x="2203" y="606"/>
                    </a:lnTo>
                    <a:lnTo>
                      <a:pt x="2234" y="618"/>
                    </a:lnTo>
                    <a:lnTo>
                      <a:pt x="2263" y="626"/>
                    </a:lnTo>
                    <a:lnTo>
                      <a:pt x="2290" y="629"/>
                    </a:lnTo>
                    <a:lnTo>
                      <a:pt x="2316" y="628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808560" y="6555960"/>
                <a:ext cx="3614400" cy="2361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55" y="467"/>
                    </a:moveTo>
                    <a:lnTo>
                      <a:pt x="3426" y="442"/>
                    </a:lnTo>
                    <a:lnTo>
                      <a:pt x="3399" y="421"/>
                    </a:lnTo>
                    <a:lnTo>
                      <a:pt x="3374" y="403"/>
                    </a:lnTo>
                    <a:lnTo>
                      <a:pt x="3350" y="388"/>
                    </a:lnTo>
                    <a:lnTo>
                      <a:pt x="3327" y="377"/>
                    </a:lnTo>
                    <a:lnTo>
                      <a:pt x="3304" y="369"/>
                    </a:lnTo>
                    <a:lnTo>
                      <a:pt x="3281" y="365"/>
                    </a:lnTo>
                    <a:lnTo>
                      <a:pt x="3256" y="364"/>
                    </a:lnTo>
                    <a:lnTo>
                      <a:pt x="3231" y="368"/>
                    </a:lnTo>
                    <a:lnTo>
                      <a:pt x="3203" y="375"/>
                    </a:lnTo>
                    <a:lnTo>
                      <a:pt x="3173" y="386"/>
                    </a:lnTo>
                    <a:lnTo>
                      <a:pt x="3140" y="402"/>
                    </a:lnTo>
                    <a:lnTo>
                      <a:pt x="3104" y="422"/>
                    </a:lnTo>
                    <a:lnTo>
                      <a:pt x="3063" y="446"/>
                    </a:lnTo>
                    <a:lnTo>
                      <a:pt x="3019" y="475"/>
                    </a:lnTo>
                    <a:lnTo>
                      <a:pt x="3077" y="456"/>
                    </a:lnTo>
                    <a:lnTo>
                      <a:pt x="3132" y="442"/>
                    </a:lnTo>
                    <a:lnTo>
                      <a:pt x="3183" y="433"/>
                    </a:lnTo>
                    <a:lnTo>
                      <a:pt x="3229" y="429"/>
                    </a:lnTo>
                    <a:lnTo>
                      <a:pt x="3271" y="428"/>
                    </a:lnTo>
                    <a:lnTo>
                      <a:pt x="3310" y="430"/>
                    </a:lnTo>
                    <a:lnTo>
                      <a:pt x="3344" y="434"/>
                    </a:lnTo>
                    <a:lnTo>
                      <a:pt x="3375" y="441"/>
                    </a:lnTo>
                    <a:lnTo>
                      <a:pt x="3402" y="449"/>
                    </a:lnTo>
                    <a:lnTo>
                      <a:pt x="3425" y="457"/>
                    </a:lnTo>
                    <a:lnTo>
                      <a:pt x="3444" y="466"/>
                    </a:lnTo>
                    <a:lnTo>
                      <a:pt x="3459" y="475"/>
                    </a:lnTo>
                    <a:lnTo>
                      <a:pt x="3471" y="483"/>
                    </a:lnTo>
                    <a:lnTo>
                      <a:pt x="3480" y="489"/>
                    </a:lnTo>
                    <a:lnTo>
                      <a:pt x="3484" y="492"/>
                    </a:lnTo>
                    <a:lnTo>
                      <a:pt x="3455" y="467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0"/>
            <p:cNvGrpSpPr/>
            <p:nvPr/>
          </p:nvGrpSpPr>
          <p:grpSpPr>
            <a:xfrm>
              <a:off x="980640" y="6453360"/>
              <a:ext cx="3697200" cy="219240"/>
              <a:chOff x="980640" y="6453360"/>
              <a:chExt cx="3697200" cy="219240"/>
            </a:xfrm>
          </p:grpSpPr>
          <p:sp>
            <p:nvSpPr>
              <p:cNvPr id="203" name="Freeform 11"/>
              <p:cNvSpPr/>
              <p:nvPr/>
            </p:nvSpPr>
            <p:spPr>
              <a:xfrm>
                <a:off x="980640" y="6453360"/>
                <a:ext cx="3697200" cy="21924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2942" y="773"/>
                    </a:moveTo>
                    <a:lnTo>
                      <a:pt x="2880" y="731"/>
                    </a:lnTo>
                    <a:lnTo>
                      <a:pt x="2812" y="683"/>
                    </a:lnTo>
                    <a:lnTo>
                      <a:pt x="2735" y="628"/>
                    </a:lnTo>
                    <a:lnTo>
                      <a:pt x="2651" y="566"/>
                    </a:lnTo>
                    <a:lnTo>
                      <a:pt x="2557" y="498"/>
                    </a:lnTo>
                    <a:lnTo>
                      <a:pt x="2449" y="423"/>
                    </a:lnTo>
                    <a:lnTo>
                      <a:pt x="2349" y="355"/>
                    </a:lnTo>
                    <a:lnTo>
                      <a:pt x="2254" y="293"/>
                    </a:lnTo>
                    <a:lnTo>
                      <a:pt x="2164" y="238"/>
                    </a:lnTo>
                    <a:lnTo>
                      <a:pt x="2078" y="189"/>
                    </a:lnTo>
                    <a:lnTo>
                      <a:pt x="1995" y="146"/>
                    </a:lnTo>
                    <a:lnTo>
                      <a:pt x="1913" y="108"/>
                    </a:lnTo>
                    <a:lnTo>
                      <a:pt x="1832" y="76"/>
                    </a:lnTo>
                    <a:lnTo>
                      <a:pt x="1750" y="50"/>
                    </a:lnTo>
                    <a:lnTo>
                      <a:pt x="1667" y="30"/>
                    </a:lnTo>
                    <a:lnTo>
                      <a:pt x="1615" y="20"/>
                    </a:lnTo>
                    <a:lnTo>
                      <a:pt x="1615" y="163"/>
                    </a:lnTo>
                    <a:lnTo>
                      <a:pt x="1646" y="163"/>
                    </a:lnTo>
                    <a:lnTo>
                      <a:pt x="1711" y="172"/>
                    </a:lnTo>
                    <a:lnTo>
                      <a:pt x="1778" y="189"/>
                    </a:lnTo>
                    <a:lnTo>
                      <a:pt x="1848" y="215"/>
                    </a:lnTo>
                    <a:lnTo>
                      <a:pt x="1923" y="249"/>
                    </a:lnTo>
                    <a:lnTo>
                      <a:pt x="2003" y="290"/>
                    </a:lnTo>
                    <a:lnTo>
                      <a:pt x="2091" y="340"/>
                    </a:lnTo>
                    <a:lnTo>
                      <a:pt x="2187" y="398"/>
                    </a:lnTo>
                    <a:lnTo>
                      <a:pt x="2292" y="463"/>
                    </a:lnTo>
                    <a:lnTo>
                      <a:pt x="2409" y="537"/>
                    </a:lnTo>
                    <a:lnTo>
                      <a:pt x="2528" y="608"/>
                    </a:lnTo>
                    <a:lnTo>
                      <a:pt x="2640" y="667"/>
                    </a:lnTo>
                    <a:lnTo>
                      <a:pt x="2745" y="715"/>
                    </a:lnTo>
                    <a:lnTo>
                      <a:pt x="2843" y="754"/>
                    </a:lnTo>
                    <a:lnTo>
                      <a:pt x="2934" y="783"/>
                    </a:lnTo>
                    <a:lnTo>
                      <a:pt x="2974" y="793"/>
                    </a:lnTo>
                    <a:lnTo>
                      <a:pt x="2942" y="773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2"/>
              <p:cNvSpPr/>
              <p:nvPr/>
            </p:nvSpPr>
            <p:spPr>
              <a:xfrm>
                <a:off x="980640" y="6453360"/>
                <a:ext cx="3697200" cy="21924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543" y="742"/>
                    </a:moveTo>
                    <a:lnTo>
                      <a:pt x="3556" y="732"/>
                    </a:lnTo>
                    <a:lnTo>
                      <a:pt x="3564" y="726"/>
                    </a:lnTo>
                    <a:lnTo>
                      <a:pt x="3566" y="724"/>
                    </a:lnTo>
                    <a:lnTo>
                      <a:pt x="3530" y="750"/>
                    </a:lnTo>
                    <a:lnTo>
                      <a:pt x="3543" y="742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3"/>
              <p:cNvSpPr/>
              <p:nvPr/>
            </p:nvSpPr>
            <p:spPr>
              <a:xfrm>
                <a:off x="980640" y="6453360"/>
                <a:ext cx="3697200" cy="21924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282" y="889"/>
                    </a:moveTo>
                    <a:lnTo>
                      <a:pt x="3317" y="880"/>
                    </a:lnTo>
                    <a:lnTo>
                      <a:pt x="3352" y="865"/>
                    </a:lnTo>
                    <a:lnTo>
                      <a:pt x="3389" y="845"/>
                    </a:lnTo>
                    <a:lnTo>
                      <a:pt x="3428" y="821"/>
                    </a:lnTo>
                    <a:lnTo>
                      <a:pt x="3470" y="793"/>
                    </a:lnTo>
                    <a:lnTo>
                      <a:pt x="3516" y="760"/>
                    </a:lnTo>
                    <a:lnTo>
                      <a:pt x="3530" y="750"/>
                    </a:lnTo>
                    <a:lnTo>
                      <a:pt x="3524" y="754"/>
                    </a:lnTo>
                    <a:lnTo>
                      <a:pt x="3500" y="767"/>
                    </a:lnTo>
                    <a:lnTo>
                      <a:pt x="3471" y="781"/>
                    </a:lnTo>
                    <a:lnTo>
                      <a:pt x="3435" y="794"/>
                    </a:lnTo>
                    <a:lnTo>
                      <a:pt x="3394" y="806"/>
                    </a:lnTo>
                    <a:lnTo>
                      <a:pt x="3347" y="816"/>
                    </a:lnTo>
                    <a:lnTo>
                      <a:pt x="3294" y="823"/>
                    </a:lnTo>
                    <a:lnTo>
                      <a:pt x="3234" y="827"/>
                    </a:lnTo>
                    <a:lnTo>
                      <a:pt x="3169" y="825"/>
                    </a:lnTo>
                    <a:lnTo>
                      <a:pt x="3097" y="818"/>
                    </a:lnTo>
                    <a:lnTo>
                      <a:pt x="3019" y="804"/>
                    </a:lnTo>
                    <a:lnTo>
                      <a:pt x="2974" y="793"/>
                    </a:lnTo>
                    <a:lnTo>
                      <a:pt x="2998" y="808"/>
                    </a:lnTo>
                    <a:lnTo>
                      <a:pt x="3048" y="837"/>
                    </a:lnTo>
                    <a:lnTo>
                      <a:pt x="3094" y="860"/>
                    </a:lnTo>
                    <a:lnTo>
                      <a:pt x="3136" y="877"/>
                    </a:lnTo>
                    <a:lnTo>
                      <a:pt x="3175" y="888"/>
                    </a:lnTo>
                    <a:lnTo>
                      <a:pt x="3212" y="894"/>
                    </a:lnTo>
                    <a:lnTo>
                      <a:pt x="3248" y="894"/>
                    </a:lnTo>
                    <a:lnTo>
                      <a:pt x="3282" y="889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4"/>
            <p:cNvGrpSpPr/>
            <p:nvPr/>
          </p:nvGrpSpPr>
          <p:grpSpPr>
            <a:xfrm>
              <a:off x="0" y="6492960"/>
              <a:ext cx="5580000" cy="365040"/>
              <a:chOff x="0" y="6492960"/>
              <a:chExt cx="5580000" cy="365040"/>
            </a:xfrm>
          </p:grpSpPr>
          <p:sp>
            <p:nvSpPr>
              <p:cNvPr id="207" name="Freeform 15"/>
              <p:cNvSpPr/>
              <p:nvPr/>
            </p:nvSpPr>
            <p:spPr>
              <a:xfrm>
                <a:off x="0" y="6492960"/>
                <a:ext cx="5580000" cy="3650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065" y="923"/>
                    </a:moveTo>
                    <a:lnTo>
                      <a:pt x="5101" y="916"/>
                    </a:lnTo>
                    <a:lnTo>
                      <a:pt x="5136" y="904"/>
                    </a:lnTo>
                    <a:lnTo>
                      <a:pt x="5172" y="887"/>
                    </a:lnTo>
                    <a:lnTo>
                      <a:pt x="5209" y="864"/>
                    </a:lnTo>
                    <a:lnTo>
                      <a:pt x="5247" y="836"/>
                    </a:lnTo>
                    <a:lnTo>
                      <a:pt x="5289" y="803"/>
                    </a:lnTo>
                    <a:lnTo>
                      <a:pt x="5333" y="765"/>
                    </a:lnTo>
                    <a:lnTo>
                      <a:pt x="5378" y="726"/>
                    </a:lnTo>
                    <a:lnTo>
                      <a:pt x="5372" y="731"/>
                    </a:lnTo>
                    <a:lnTo>
                      <a:pt x="5359" y="741"/>
                    </a:lnTo>
                    <a:lnTo>
                      <a:pt x="5341" y="752"/>
                    </a:lnTo>
                    <a:lnTo>
                      <a:pt x="5317" y="766"/>
                    </a:lnTo>
                    <a:lnTo>
                      <a:pt x="5287" y="779"/>
                    </a:lnTo>
                    <a:lnTo>
                      <a:pt x="5252" y="793"/>
                    </a:lnTo>
                    <a:lnTo>
                      <a:pt x="5210" y="805"/>
                    </a:lnTo>
                    <a:lnTo>
                      <a:pt x="5163" y="815"/>
                    </a:lnTo>
                    <a:lnTo>
                      <a:pt x="5110" y="822"/>
                    </a:lnTo>
                    <a:lnTo>
                      <a:pt x="5051" y="825"/>
                    </a:lnTo>
                    <a:lnTo>
                      <a:pt x="4985" y="824"/>
                    </a:lnTo>
                    <a:lnTo>
                      <a:pt x="4913" y="817"/>
                    </a:lnTo>
                    <a:lnTo>
                      <a:pt x="4835" y="803"/>
                    </a:lnTo>
                    <a:lnTo>
                      <a:pt x="4750" y="782"/>
                    </a:lnTo>
                    <a:lnTo>
                      <a:pt x="4660" y="753"/>
                    </a:lnTo>
                    <a:lnTo>
                      <a:pt x="4729" y="797"/>
                    </a:lnTo>
                    <a:lnTo>
                      <a:pt x="4792" y="834"/>
                    </a:lnTo>
                    <a:lnTo>
                      <a:pt x="4848" y="865"/>
                    </a:lnTo>
                    <a:lnTo>
                      <a:pt x="4899" y="889"/>
                    </a:lnTo>
                    <a:lnTo>
                      <a:pt x="4946" y="907"/>
                    </a:lnTo>
                    <a:lnTo>
                      <a:pt x="4988" y="918"/>
                    </a:lnTo>
                    <a:lnTo>
                      <a:pt x="5028" y="923"/>
                    </a:lnTo>
                    <a:lnTo>
                      <a:pt x="5065" y="92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6"/>
              <p:cNvSpPr/>
              <p:nvPr/>
            </p:nvSpPr>
            <p:spPr>
              <a:xfrm>
                <a:off x="0" y="6492960"/>
                <a:ext cx="5580000" cy="3650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2587" y="1358"/>
                    </a:moveTo>
                    <a:lnTo>
                      <a:pt x="2657" y="1323"/>
                    </a:lnTo>
                    <a:lnTo>
                      <a:pt x="2722" y="1284"/>
                    </a:lnTo>
                    <a:lnTo>
                      <a:pt x="2783" y="1241"/>
                    </a:lnTo>
                    <a:lnTo>
                      <a:pt x="2839" y="1194"/>
                    </a:lnTo>
                    <a:lnTo>
                      <a:pt x="2890" y="1143"/>
                    </a:lnTo>
                    <a:lnTo>
                      <a:pt x="2982" y="1050"/>
                    </a:lnTo>
                    <a:lnTo>
                      <a:pt x="3071" y="970"/>
                    </a:lnTo>
                    <a:lnTo>
                      <a:pt x="3156" y="903"/>
                    </a:lnTo>
                    <a:lnTo>
                      <a:pt x="3238" y="846"/>
                    </a:lnTo>
                    <a:lnTo>
                      <a:pt x="3316" y="801"/>
                    </a:lnTo>
                    <a:lnTo>
                      <a:pt x="3391" y="764"/>
                    </a:lnTo>
                    <a:lnTo>
                      <a:pt x="3462" y="737"/>
                    </a:lnTo>
                    <a:lnTo>
                      <a:pt x="3528" y="717"/>
                    </a:lnTo>
                    <a:lnTo>
                      <a:pt x="3590" y="704"/>
                    </a:lnTo>
                    <a:lnTo>
                      <a:pt x="3648" y="697"/>
                    </a:lnTo>
                    <a:lnTo>
                      <a:pt x="3701" y="694"/>
                    </a:lnTo>
                    <a:lnTo>
                      <a:pt x="3749" y="696"/>
                    </a:lnTo>
                    <a:lnTo>
                      <a:pt x="3793" y="701"/>
                    </a:lnTo>
                    <a:lnTo>
                      <a:pt x="3831" y="709"/>
                    </a:lnTo>
                    <a:lnTo>
                      <a:pt x="3863" y="717"/>
                    </a:lnTo>
                    <a:lnTo>
                      <a:pt x="3890" y="726"/>
                    </a:lnTo>
                    <a:lnTo>
                      <a:pt x="3912" y="735"/>
                    </a:lnTo>
                    <a:lnTo>
                      <a:pt x="3927" y="742"/>
                    </a:lnTo>
                    <a:lnTo>
                      <a:pt x="3937" y="748"/>
                    </a:lnTo>
                    <a:lnTo>
                      <a:pt x="3940" y="749"/>
                    </a:lnTo>
                    <a:lnTo>
                      <a:pt x="3882" y="701"/>
                    </a:lnTo>
                    <a:lnTo>
                      <a:pt x="3830" y="657"/>
                    </a:lnTo>
                    <a:lnTo>
                      <a:pt x="3782" y="619"/>
                    </a:lnTo>
                    <a:lnTo>
                      <a:pt x="3737" y="587"/>
                    </a:lnTo>
                    <a:lnTo>
                      <a:pt x="3695" y="560"/>
                    </a:lnTo>
                    <a:lnTo>
                      <a:pt x="3655" y="540"/>
                    </a:lnTo>
                    <a:lnTo>
                      <a:pt x="3616" y="525"/>
                    </a:lnTo>
                    <a:lnTo>
                      <a:pt x="3576" y="517"/>
                    </a:lnTo>
                    <a:lnTo>
                      <a:pt x="3536" y="515"/>
                    </a:lnTo>
                    <a:lnTo>
                      <a:pt x="3494" y="520"/>
                    </a:lnTo>
                    <a:lnTo>
                      <a:pt x="3449" y="531"/>
                    </a:lnTo>
                    <a:lnTo>
                      <a:pt x="3402" y="550"/>
                    </a:lnTo>
                    <a:lnTo>
                      <a:pt x="3349" y="575"/>
                    </a:lnTo>
                    <a:lnTo>
                      <a:pt x="3292" y="608"/>
                    </a:lnTo>
                    <a:lnTo>
                      <a:pt x="3229" y="648"/>
                    </a:lnTo>
                    <a:lnTo>
                      <a:pt x="3158" y="696"/>
                    </a:lnTo>
                    <a:lnTo>
                      <a:pt x="3080" y="751"/>
                    </a:lnTo>
                    <a:lnTo>
                      <a:pt x="2994" y="814"/>
                    </a:lnTo>
                    <a:lnTo>
                      <a:pt x="2898" y="886"/>
                    </a:lnTo>
                    <a:lnTo>
                      <a:pt x="2791" y="965"/>
                    </a:lnTo>
                    <a:lnTo>
                      <a:pt x="2668" y="1034"/>
                    </a:lnTo>
                    <a:lnTo>
                      <a:pt x="2561" y="1080"/>
                    </a:lnTo>
                    <a:lnTo>
                      <a:pt x="2561" y="1369"/>
                    </a:lnTo>
                    <a:lnTo>
                      <a:pt x="2587" y="1358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7"/>
              <p:cNvSpPr/>
              <p:nvPr/>
            </p:nvSpPr>
            <p:spPr>
              <a:xfrm>
                <a:off x="0" y="6492960"/>
                <a:ext cx="5580000" cy="3650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380" y="725"/>
                    </a:moveTo>
                    <a:lnTo>
                      <a:pt x="5383" y="722"/>
                    </a:lnTo>
                    <a:lnTo>
                      <a:pt x="5378" y="726"/>
                    </a:lnTo>
                    <a:lnTo>
                      <a:pt x="5380" y="725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8"/>
              <p:cNvSpPr/>
              <p:nvPr/>
            </p:nvSpPr>
            <p:spPr>
              <a:xfrm>
                <a:off x="0" y="6492960"/>
                <a:ext cx="5580000" cy="3650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4660" y="753"/>
                    </a:moveTo>
                    <a:lnTo>
                      <a:pt x="4582" y="701"/>
                    </a:lnTo>
                    <a:lnTo>
                      <a:pt x="4496" y="642"/>
                    </a:lnTo>
                    <a:lnTo>
                      <a:pt x="4400" y="576"/>
                    </a:lnTo>
                    <a:lnTo>
                      <a:pt x="4293" y="502"/>
                    </a:lnTo>
                    <a:lnTo>
                      <a:pt x="4186" y="427"/>
                    </a:lnTo>
                    <a:lnTo>
                      <a:pt x="4087" y="359"/>
                    </a:lnTo>
                    <a:lnTo>
                      <a:pt x="3995" y="298"/>
                    </a:lnTo>
                    <a:lnTo>
                      <a:pt x="3909" y="242"/>
                    </a:lnTo>
                    <a:lnTo>
                      <a:pt x="3827" y="192"/>
                    </a:lnTo>
                    <a:lnTo>
                      <a:pt x="3748" y="149"/>
                    </a:lnTo>
                    <a:lnTo>
                      <a:pt x="3672" y="111"/>
                    </a:lnTo>
                    <a:lnTo>
                      <a:pt x="3596" y="79"/>
                    </a:lnTo>
                    <a:lnTo>
                      <a:pt x="3521" y="52"/>
                    </a:lnTo>
                    <a:lnTo>
                      <a:pt x="3443" y="31"/>
                    </a:lnTo>
                    <a:lnTo>
                      <a:pt x="3363" y="16"/>
                    </a:lnTo>
                    <a:lnTo>
                      <a:pt x="3278" y="5"/>
                    </a:lnTo>
                    <a:lnTo>
                      <a:pt x="3189" y="0"/>
                    </a:lnTo>
                    <a:lnTo>
                      <a:pt x="3093" y="0"/>
                    </a:lnTo>
                    <a:lnTo>
                      <a:pt x="2989" y="4"/>
                    </a:lnTo>
                    <a:lnTo>
                      <a:pt x="2876" y="13"/>
                    </a:lnTo>
                    <a:lnTo>
                      <a:pt x="2753" y="28"/>
                    </a:lnTo>
                    <a:lnTo>
                      <a:pt x="2619" y="46"/>
                    </a:lnTo>
                    <a:lnTo>
                      <a:pt x="2561" y="55"/>
                    </a:lnTo>
                    <a:lnTo>
                      <a:pt x="2561" y="596"/>
                    </a:lnTo>
                    <a:lnTo>
                      <a:pt x="2637" y="544"/>
                    </a:lnTo>
                    <a:lnTo>
                      <a:pt x="2753" y="466"/>
                    </a:lnTo>
                    <a:lnTo>
                      <a:pt x="2858" y="397"/>
                    </a:lnTo>
                    <a:lnTo>
                      <a:pt x="2954" y="337"/>
                    </a:lnTo>
                    <a:lnTo>
                      <a:pt x="3042" y="286"/>
                    </a:lnTo>
                    <a:lnTo>
                      <a:pt x="3122" y="244"/>
                    </a:lnTo>
                    <a:lnTo>
                      <a:pt x="3196" y="210"/>
                    </a:lnTo>
                    <a:lnTo>
                      <a:pt x="3267" y="185"/>
                    </a:lnTo>
                    <a:lnTo>
                      <a:pt x="3333" y="169"/>
                    </a:lnTo>
                    <a:lnTo>
                      <a:pt x="3398" y="161"/>
                    </a:lnTo>
                    <a:lnTo>
                      <a:pt x="3463" y="162"/>
                    </a:lnTo>
                    <a:lnTo>
                      <a:pt x="3528" y="171"/>
                    </a:lnTo>
                    <a:lnTo>
                      <a:pt x="3594" y="188"/>
                    </a:lnTo>
                    <a:lnTo>
                      <a:pt x="3664" y="214"/>
                    </a:lnTo>
                    <a:lnTo>
                      <a:pt x="3739" y="247"/>
                    </a:lnTo>
                    <a:lnTo>
                      <a:pt x="3820" y="289"/>
                    </a:lnTo>
                    <a:lnTo>
                      <a:pt x="3907" y="339"/>
                    </a:lnTo>
                    <a:lnTo>
                      <a:pt x="4003" y="396"/>
                    </a:lnTo>
                    <a:lnTo>
                      <a:pt x="4109" y="462"/>
                    </a:lnTo>
                    <a:lnTo>
                      <a:pt x="4225" y="535"/>
                    </a:lnTo>
                    <a:lnTo>
                      <a:pt x="4344" y="606"/>
                    </a:lnTo>
                    <a:lnTo>
                      <a:pt x="4456" y="666"/>
                    </a:lnTo>
                    <a:lnTo>
                      <a:pt x="4561" y="714"/>
                    </a:lnTo>
                    <a:lnTo>
                      <a:pt x="4659" y="753"/>
                    </a:lnTo>
                    <a:lnTo>
                      <a:pt x="4660" y="75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Arial"/>
              </a:rPr>
              <a:t>LEY 20.5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87280" y="980640"/>
            <a:ext cx="6616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NORMA TRANS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Quienes se encontraran haciendo uso de su permiso pre o postnatal a la fecha de entrada en vigencia de la Ley ( 17 de octubre de 2011),podrán hacer uso del permiso postnatal parental ( 12 o 18 seman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Quienes hayan terminado su descanso postnatal antes de la entrada de vigencia de le Ley y su hijo tenga menos de 24 semanas, podrán hacer uso del permiso postnatal parental hasta que su hijo cumpla 24 semanas de edad o bien las 30 semanas ( media jorna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0" y="6524640"/>
            <a:ext cx="5580000" cy="333360"/>
            <a:chOff x="0" y="6524640"/>
            <a:chExt cx="5580000" cy="333360"/>
          </a:xfrm>
        </p:grpSpPr>
        <p:grpSp>
          <p:nvGrpSpPr>
            <p:cNvPr id="214" name="Group 5"/>
            <p:cNvGrpSpPr/>
            <p:nvPr/>
          </p:nvGrpSpPr>
          <p:grpSpPr>
            <a:xfrm>
              <a:off x="808560" y="6608880"/>
              <a:ext cx="3614400" cy="194760"/>
              <a:chOff x="808560" y="6608880"/>
              <a:chExt cx="3614400" cy="194760"/>
            </a:xfrm>
          </p:grpSpPr>
          <p:sp>
            <p:nvSpPr>
              <p:cNvPr id="215" name="Freeform 6"/>
              <p:cNvSpPr/>
              <p:nvPr/>
            </p:nvSpPr>
            <p:spPr>
              <a:xfrm>
                <a:off x="808560" y="6608880"/>
                <a:ext cx="3614400" cy="1947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85" y="493"/>
                    </a:moveTo>
                    <a:lnTo>
                      <a:pt x="3484" y="492"/>
                    </a:lnTo>
                    <a:lnTo>
                      <a:pt x="3487" y="494"/>
                    </a:lnTo>
                    <a:lnTo>
                      <a:pt x="3485" y="493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7"/>
              <p:cNvSpPr/>
              <p:nvPr/>
            </p:nvSpPr>
            <p:spPr>
              <a:xfrm>
                <a:off x="808560" y="6608880"/>
                <a:ext cx="3614400" cy="1947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065" y="962"/>
                    </a:moveTo>
                    <a:lnTo>
                      <a:pt x="2123" y="959"/>
                    </a:lnTo>
                    <a:lnTo>
                      <a:pt x="2178" y="952"/>
                    </a:lnTo>
                    <a:lnTo>
                      <a:pt x="2230" y="942"/>
                    </a:lnTo>
                    <a:lnTo>
                      <a:pt x="2280" y="928"/>
                    </a:lnTo>
                    <a:lnTo>
                      <a:pt x="2329" y="911"/>
                    </a:lnTo>
                    <a:lnTo>
                      <a:pt x="2378" y="891"/>
                    </a:lnTo>
                    <a:lnTo>
                      <a:pt x="2428" y="866"/>
                    </a:lnTo>
                    <a:lnTo>
                      <a:pt x="2479" y="838"/>
                    </a:lnTo>
                    <a:lnTo>
                      <a:pt x="2532" y="806"/>
                    </a:lnTo>
                    <a:lnTo>
                      <a:pt x="2588" y="770"/>
                    </a:lnTo>
                    <a:lnTo>
                      <a:pt x="2647" y="730"/>
                    </a:lnTo>
                    <a:lnTo>
                      <a:pt x="2711" y="685"/>
                    </a:lnTo>
                    <a:lnTo>
                      <a:pt x="2781" y="637"/>
                    </a:lnTo>
                    <a:lnTo>
                      <a:pt x="2850" y="589"/>
                    </a:lnTo>
                    <a:lnTo>
                      <a:pt x="2912" y="546"/>
                    </a:lnTo>
                    <a:lnTo>
                      <a:pt x="2968" y="508"/>
                    </a:lnTo>
                    <a:lnTo>
                      <a:pt x="3018" y="475"/>
                    </a:lnTo>
                    <a:lnTo>
                      <a:pt x="3019" y="475"/>
                    </a:lnTo>
                    <a:lnTo>
                      <a:pt x="3018" y="475"/>
                    </a:lnTo>
                    <a:lnTo>
                      <a:pt x="2954" y="500"/>
                    </a:lnTo>
                    <a:lnTo>
                      <a:pt x="2886" y="531"/>
                    </a:lnTo>
                    <a:lnTo>
                      <a:pt x="2814" y="569"/>
                    </a:lnTo>
                    <a:lnTo>
                      <a:pt x="2737" y="616"/>
                    </a:lnTo>
                    <a:lnTo>
                      <a:pt x="2661" y="663"/>
                    </a:lnTo>
                    <a:lnTo>
                      <a:pt x="2593" y="706"/>
                    </a:lnTo>
                    <a:lnTo>
                      <a:pt x="2531" y="743"/>
                    </a:lnTo>
                    <a:lnTo>
                      <a:pt x="2474" y="775"/>
                    </a:lnTo>
                    <a:lnTo>
                      <a:pt x="2422" y="802"/>
                    </a:lnTo>
                    <a:lnTo>
                      <a:pt x="2374" y="824"/>
                    </a:lnTo>
                    <a:lnTo>
                      <a:pt x="2328" y="841"/>
                    </a:lnTo>
                    <a:lnTo>
                      <a:pt x="2285" y="852"/>
                    </a:lnTo>
                    <a:lnTo>
                      <a:pt x="2243" y="858"/>
                    </a:lnTo>
                    <a:lnTo>
                      <a:pt x="2201" y="858"/>
                    </a:lnTo>
                    <a:lnTo>
                      <a:pt x="2159" y="853"/>
                    </a:lnTo>
                    <a:lnTo>
                      <a:pt x="2116" y="842"/>
                    </a:lnTo>
                    <a:lnTo>
                      <a:pt x="2070" y="826"/>
                    </a:lnTo>
                    <a:lnTo>
                      <a:pt x="2022" y="804"/>
                    </a:lnTo>
                    <a:lnTo>
                      <a:pt x="1970" y="777"/>
                    </a:lnTo>
                    <a:lnTo>
                      <a:pt x="1913" y="744"/>
                    </a:lnTo>
                    <a:lnTo>
                      <a:pt x="1851" y="705"/>
                    </a:lnTo>
                    <a:lnTo>
                      <a:pt x="1783" y="660"/>
                    </a:lnTo>
                    <a:lnTo>
                      <a:pt x="1781" y="659"/>
                    </a:lnTo>
                    <a:lnTo>
                      <a:pt x="1781" y="944"/>
                    </a:lnTo>
                    <a:lnTo>
                      <a:pt x="1783" y="944"/>
                    </a:lnTo>
                    <a:lnTo>
                      <a:pt x="1863" y="954"/>
                    </a:lnTo>
                    <a:lnTo>
                      <a:pt x="1936" y="960"/>
                    </a:lnTo>
                    <a:lnTo>
                      <a:pt x="2003" y="963"/>
                    </a:lnTo>
                    <a:lnTo>
                      <a:pt x="2065" y="962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8"/>
              <p:cNvSpPr/>
              <p:nvPr/>
            </p:nvSpPr>
            <p:spPr>
              <a:xfrm>
                <a:off x="808560" y="6608880"/>
                <a:ext cx="3614400" cy="1947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316" y="628"/>
                    </a:moveTo>
                    <a:lnTo>
                      <a:pt x="2342" y="622"/>
                    </a:lnTo>
                    <a:lnTo>
                      <a:pt x="2367" y="613"/>
                    </a:lnTo>
                    <a:lnTo>
                      <a:pt x="2393" y="599"/>
                    </a:lnTo>
                    <a:lnTo>
                      <a:pt x="2421" y="582"/>
                    </a:lnTo>
                    <a:lnTo>
                      <a:pt x="2450" y="561"/>
                    </a:lnTo>
                    <a:lnTo>
                      <a:pt x="2481" y="537"/>
                    </a:lnTo>
                    <a:lnTo>
                      <a:pt x="2515" y="508"/>
                    </a:lnTo>
                    <a:lnTo>
                      <a:pt x="2552" y="477"/>
                    </a:lnTo>
                    <a:lnTo>
                      <a:pt x="2550" y="478"/>
                    </a:lnTo>
                    <a:lnTo>
                      <a:pt x="2544" y="481"/>
                    </a:lnTo>
                    <a:lnTo>
                      <a:pt x="2534" y="486"/>
                    </a:lnTo>
                    <a:lnTo>
                      <a:pt x="2520" y="492"/>
                    </a:lnTo>
                    <a:lnTo>
                      <a:pt x="2502" y="498"/>
                    </a:lnTo>
                    <a:lnTo>
                      <a:pt x="2481" y="503"/>
                    </a:lnTo>
                    <a:lnTo>
                      <a:pt x="2456" y="508"/>
                    </a:lnTo>
                    <a:lnTo>
                      <a:pt x="2428" y="511"/>
                    </a:lnTo>
                    <a:lnTo>
                      <a:pt x="2397" y="513"/>
                    </a:lnTo>
                    <a:lnTo>
                      <a:pt x="2363" y="511"/>
                    </a:lnTo>
                    <a:lnTo>
                      <a:pt x="2325" y="506"/>
                    </a:lnTo>
                    <a:lnTo>
                      <a:pt x="2285" y="498"/>
                    </a:lnTo>
                    <a:lnTo>
                      <a:pt x="2242" y="485"/>
                    </a:lnTo>
                    <a:lnTo>
                      <a:pt x="2196" y="467"/>
                    </a:lnTo>
                    <a:lnTo>
                      <a:pt x="2148" y="444"/>
                    </a:lnTo>
                    <a:lnTo>
                      <a:pt x="2097" y="414"/>
                    </a:lnTo>
                    <a:lnTo>
                      <a:pt x="2044" y="378"/>
                    </a:lnTo>
                    <a:lnTo>
                      <a:pt x="1989" y="334"/>
                    </a:lnTo>
                    <a:lnTo>
                      <a:pt x="1932" y="282"/>
                    </a:lnTo>
                    <a:lnTo>
                      <a:pt x="1872" y="222"/>
                    </a:lnTo>
                    <a:lnTo>
                      <a:pt x="1839" y="189"/>
                    </a:lnTo>
                    <a:lnTo>
                      <a:pt x="1802" y="158"/>
                    </a:lnTo>
                    <a:lnTo>
                      <a:pt x="1781" y="143"/>
                    </a:lnTo>
                    <a:lnTo>
                      <a:pt x="1781" y="322"/>
                    </a:lnTo>
                    <a:lnTo>
                      <a:pt x="1808" y="337"/>
                    </a:lnTo>
                    <a:lnTo>
                      <a:pt x="1877" y="389"/>
                    </a:lnTo>
                    <a:lnTo>
                      <a:pt x="1939" y="435"/>
                    </a:lnTo>
                    <a:lnTo>
                      <a:pt x="1995" y="476"/>
                    </a:lnTo>
                    <a:lnTo>
                      <a:pt x="2046" y="512"/>
                    </a:lnTo>
                    <a:lnTo>
                      <a:pt x="2091" y="543"/>
                    </a:lnTo>
                    <a:lnTo>
                      <a:pt x="2132" y="569"/>
                    </a:lnTo>
                    <a:lnTo>
                      <a:pt x="2169" y="590"/>
                    </a:lnTo>
                    <a:lnTo>
                      <a:pt x="2203" y="606"/>
                    </a:lnTo>
                    <a:lnTo>
                      <a:pt x="2234" y="618"/>
                    </a:lnTo>
                    <a:lnTo>
                      <a:pt x="2263" y="626"/>
                    </a:lnTo>
                    <a:lnTo>
                      <a:pt x="2290" y="629"/>
                    </a:lnTo>
                    <a:lnTo>
                      <a:pt x="2316" y="628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9"/>
              <p:cNvSpPr/>
              <p:nvPr/>
            </p:nvSpPr>
            <p:spPr>
              <a:xfrm>
                <a:off x="808560" y="6608880"/>
                <a:ext cx="3614400" cy="1947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55" y="467"/>
                    </a:moveTo>
                    <a:lnTo>
                      <a:pt x="3426" y="442"/>
                    </a:lnTo>
                    <a:lnTo>
                      <a:pt x="3399" y="421"/>
                    </a:lnTo>
                    <a:lnTo>
                      <a:pt x="3374" y="403"/>
                    </a:lnTo>
                    <a:lnTo>
                      <a:pt x="3350" y="388"/>
                    </a:lnTo>
                    <a:lnTo>
                      <a:pt x="3327" y="377"/>
                    </a:lnTo>
                    <a:lnTo>
                      <a:pt x="3304" y="369"/>
                    </a:lnTo>
                    <a:lnTo>
                      <a:pt x="3281" y="365"/>
                    </a:lnTo>
                    <a:lnTo>
                      <a:pt x="3256" y="364"/>
                    </a:lnTo>
                    <a:lnTo>
                      <a:pt x="3231" y="368"/>
                    </a:lnTo>
                    <a:lnTo>
                      <a:pt x="3203" y="375"/>
                    </a:lnTo>
                    <a:lnTo>
                      <a:pt x="3173" y="386"/>
                    </a:lnTo>
                    <a:lnTo>
                      <a:pt x="3140" y="402"/>
                    </a:lnTo>
                    <a:lnTo>
                      <a:pt x="3104" y="422"/>
                    </a:lnTo>
                    <a:lnTo>
                      <a:pt x="3063" y="446"/>
                    </a:lnTo>
                    <a:lnTo>
                      <a:pt x="3019" y="475"/>
                    </a:lnTo>
                    <a:lnTo>
                      <a:pt x="3077" y="456"/>
                    </a:lnTo>
                    <a:lnTo>
                      <a:pt x="3132" y="442"/>
                    </a:lnTo>
                    <a:lnTo>
                      <a:pt x="3183" y="433"/>
                    </a:lnTo>
                    <a:lnTo>
                      <a:pt x="3229" y="429"/>
                    </a:lnTo>
                    <a:lnTo>
                      <a:pt x="3271" y="428"/>
                    </a:lnTo>
                    <a:lnTo>
                      <a:pt x="3310" y="430"/>
                    </a:lnTo>
                    <a:lnTo>
                      <a:pt x="3344" y="434"/>
                    </a:lnTo>
                    <a:lnTo>
                      <a:pt x="3375" y="441"/>
                    </a:lnTo>
                    <a:lnTo>
                      <a:pt x="3402" y="449"/>
                    </a:lnTo>
                    <a:lnTo>
                      <a:pt x="3425" y="457"/>
                    </a:lnTo>
                    <a:lnTo>
                      <a:pt x="3444" y="466"/>
                    </a:lnTo>
                    <a:lnTo>
                      <a:pt x="3459" y="475"/>
                    </a:lnTo>
                    <a:lnTo>
                      <a:pt x="3471" y="483"/>
                    </a:lnTo>
                    <a:lnTo>
                      <a:pt x="3480" y="489"/>
                    </a:lnTo>
                    <a:lnTo>
                      <a:pt x="3484" y="492"/>
                    </a:lnTo>
                    <a:lnTo>
                      <a:pt x="3455" y="467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0"/>
            <p:cNvGrpSpPr/>
            <p:nvPr/>
          </p:nvGrpSpPr>
          <p:grpSpPr>
            <a:xfrm>
              <a:off x="980640" y="6524640"/>
              <a:ext cx="3697200" cy="180720"/>
              <a:chOff x="980640" y="6524640"/>
              <a:chExt cx="3697200" cy="180720"/>
            </a:xfrm>
          </p:grpSpPr>
          <p:sp>
            <p:nvSpPr>
              <p:cNvPr id="220" name="Freeform 11"/>
              <p:cNvSpPr/>
              <p:nvPr/>
            </p:nvSpPr>
            <p:spPr>
              <a:xfrm>
                <a:off x="980640" y="6524640"/>
                <a:ext cx="3697200" cy="1807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180720"/>
                  <a:gd name="textAreaBottom" fmla="*/ 180720 h 1807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2942" y="773"/>
                    </a:moveTo>
                    <a:lnTo>
                      <a:pt x="2880" y="731"/>
                    </a:lnTo>
                    <a:lnTo>
                      <a:pt x="2812" y="683"/>
                    </a:lnTo>
                    <a:lnTo>
                      <a:pt x="2735" y="628"/>
                    </a:lnTo>
                    <a:lnTo>
                      <a:pt x="2651" y="566"/>
                    </a:lnTo>
                    <a:lnTo>
                      <a:pt x="2557" y="498"/>
                    </a:lnTo>
                    <a:lnTo>
                      <a:pt x="2449" y="423"/>
                    </a:lnTo>
                    <a:lnTo>
                      <a:pt x="2349" y="355"/>
                    </a:lnTo>
                    <a:lnTo>
                      <a:pt x="2254" y="293"/>
                    </a:lnTo>
                    <a:lnTo>
                      <a:pt x="2164" y="238"/>
                    </a:lnTo>
                    <a:lnTo>
                      <a:pt x="2078" y="189"/>
                    </a:lnTo>
                    <a:lnTo>
                      <a:pt x="1995" y="146"/>
                    </a:lnTo>
                    <a:lnTo>
                      <a:pt x="1913" y="108"/>
                    </a:lnTo>
                    <a:lnTo>
                      <a:pt x="1832" y="76"/>
                    </a:lnTo>
                    <a:lnTo>
                      <a:pt x="1750" y="50"/>
                    </a:lnTo>
                    <a:lnTo>
                      <a:pt x="1667" y="30"/>
                    </a:lnTo>
                    <a:lnTo>
                      <a:pt x="1615" y="20"/>
                    </a:lnTo>
                    <a:lnTo>
                      <a:pt x="1615" y="163"/>
                    </a:lnTo>
                    <a:lnTo>
                      <a:pt x="1646" y="163"/>
                    </a:lnTo>
                    <a:lnTo>
                      <a:pt x="1711" y="172"/>
                    </a:lnTo>
                    <a:lnTo>
                      <a:pt x="1778" y="189"/>
                    </a:lnTo>
                    <a:lnTo>
                      <a:pt x="1848" y="215"/>
                    </a:lnTo>
                    <a:lnTo>
                      <a:pt x="1923" y="249"/>
                    </a:lnTo>
                    <a:lnTo>
                      <a:pt x="2003" y="290"/>
                    </a:lnTo>
                    <a:lnTo>
                      <a:pt x="2091" y="340"/>
                    </a:lnTo>
                    <a:lnTo>
                      <a:pt x="2187" y="398"/>
                    </a:lnTo>
                    <a:lnTo>
                      <a:pt x="2292" y="463"/>
                    </a:lnTo>
                    <a:lnTo>
                      <a:pt x="2409" y="537"/>
                    </a:lnTo>
                    <a:lnTo>
                      <a:pt x="2528" y="608"/>
                    </a:lnTo>
                    <a:lnTo>
                      <a:pt x="2640" y="667"/>
                    </a:lnTo>
                    <a:lnTo>
                      <a:pt x="2745" y="715"/>
                    </a:lnTo>
                    <a:lnTo>
                      <a:pt x="2843" y="754"/>
                    </a:lnTo>
                    <a:lnTo>
                      <a:pt x="2934" y="783"/>
                    </a:lnTo>
                    <a:lnTo>
                      <a:pt x="2974" y="793"/>
                    </a:lnTo>
                    <a:lnTo>
                      <a:pt x="2942" y="773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980640" y="6524640"/>
                <a:ext cx="3697200" cy="1807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180720"/>
                  <a:gd name="textAreaBottom" fmla="*/ 180720 h 1807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543" y="742"/>
                    </a:moveTo>
                    <a:lnTo>
                      <a:pt x="3556" y="732"/>
                    </a:lnTo>
                    <a:lnTo>
                      <a:pt x="3564" y="726"/>
                    </a:lnTo>
                    <a:lnTo>
                      <a:pt x="3566" y="724"/>
                    </a:lnTo>
                    <a:lnTo>
                      <a:pt x="3530" y="750"/>
                    </a:lnTo>
                    <a:lnTo>
                      <a:pt x="3543" y="742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980640" y="6524640"/>
                <a:ext cx="3697200" cy="1807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180720"/>
                  <a:gd name="textAreaBottom" fmla="*/ 180720 h 1807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282" y="889"/>
                    </a:moveTo>
                    <a:lnTo>
                      <a:pt x="3317" y="880"/>
                    </a:lnTo>
                    <a:lnTo>
                      <a:pt x="3352" y="865"/>
                    </a:lnTo>
                    <a:lnTo>
                      <a:pt x="3389" y="845"/>
                    </a:lnTo>
                    <a:lnTo>
                      <a:pt x="3428" y="821"/>
                    </a:lnTo>
                    <a:lnTo>
                      <a:pt x="3470" y="793"/>
                    </a:lnTo>
                    <a:lnTo>
                      <a:pt x="3516" y="760"/>
                    </a:lnTo>
                    <a:lnTo>
                      <a:pt x="3530" y="750"/>
                    </a:lnTo>
                    <a:lnTo>
                      <a:pt x="3524" y="754"/>
                    </a:lnTo>
                    <a:lnTo>
                      <a:pt x="3500" y="767"/>
                    </a:lnTo>
                    <a:lnTo>
                      <a:pt x="3471" y="781"/>
                    </a:lnTo>
                    <a:lnTo>
                      <a:pt x="3435" y="794"/>
                    </a:lnTo>
                    <a:lnTo>
                      <a:pt x="3394" y="806"/>
                    </a:lnTo>
                    <a:lnTo>
                      <a:pt x="3347" y="816"/>
                    </a:lnTo>
                    <a:lnTo>
                      <a:pt x="3294" y="823"/>
                    </a:lnTo>
                    <a:lnTo>
                      <a:pt x="3234" y="827"/>
                    </a:lnTo>
                    <a:lnTo>
                      <a:pt x="3169" y="825"/>
                    </a:lnTo>
                    <a:lnTo>
                      <a:pt x="3097" y="818"/>
                    </a:lnTo>
                    <a:lnTo>
                      <a:pt x="3019" y="804"/>
                    </a:lnTo>
                    <a:lnTo>
                      <a:pt x="2974" y="793"/>
                    </a:lnTo>
                    <a:lnTo>
                      <a:pt x="2998" y="808"/>
                    </a:lnTo>
                    <a:lnTo>
                      <a:pt x="3048" y="837"/>
                    </a:lnTo>
                    <a:lnTo>
                      <a:pt x="3094" y="860"/>
                    </a:lnTo>
                    <a:lnTo>
                      <a:pt x="3136" y="877"/>
                    </a:lnTo>
                    <a:lnTo>
                      <a:pt x="3175" y="888"/>
                    </a:lnTo>
                    <a:lnTo>
                      <a:pt x="3212" y="894"/>
                    </a:lnTo>
                    <a:lnTo>
                      <a:pt x="3248" y="894"/>
                    </a:lnTo>
                    <a:lnTo>
                      <a:pt x="3282" y="889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4"/>
            <p:cNvGrpSpPr/>
            <p:nvPr/>
          </p:nvGrpSpPr>
          <p:grpSpPr>
            <a:xfrm>
              <a:off x="0" y="6557400"/>
              <a:ext cx="5580000" cy="300600"/>
              <a:chOff x="0" y="6557400"/>
              <a:chExt cx="5580000" cy="300600"/>
            </a:xfrm>
          </p:grpSpPr>
          <p:sp>
            <p:nvSpPr>
              <p:cNvPr id="224" name="Freeform 15"/>
              <p:cNvSpPr/>
              <p:nvPr/>
            </p:nvSpPr>
            <p:spPr>
              <a:xfrm>
                <a:off x="0" y="6557400"/>
                <a:ext cx="5580000" cy="30060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065" y="923"/>
                    </a:moveTo>
                    <a:lnTo>
                      <a:pt x="5101" y="916"/>
                    </a:lnTo>
                    <a:lnTo>
                      <a:pt x="5136" y="904"/>
                    </a:lnTo>
                    <a:lnTo>
                      <a:pt x="5172" y="887"/>
                    </a:lnTo>
                    <a:lnTo>
                      <a:pt x="5209" y="864"/>
                    </a:lnTo>
                    <a:lnTo>
                      <a:pt x="5247" y="836"/>
                    </a:lnTo>
                    <a:lnTo>
                      <a:pt x="5289" y="803"/>
                    </a:lnTo>
                    <a:lnTo>
                      <a:pt x="5333" y="765"/>
                    </a:lnTo>
                    <a:lnTo>
                      <a:pt x="5378" y="726"/>
                    </a:lnTo>
                    <a:lnTo>
                      <a:pt x="5372" y="731"/>
                    </a:lnTo>
                    <a:lnTo>
                      <a:pt x="5359" y="741"/>
                    </a:lnTo>
                    <a:lnTo>
                      <a:pt x="5341" y="752"/>
                    </a:lnTo>
                    <a:lnTo>
                      <a:pt x="5317" y="766"/>
                    </a:lnTo>
                    <a:lnTo>
                      <a:pt x="5287" y="779"/>
                    </a:lnTo>
                    <a:lnTo>
                      <a:pt x="5252" y="793"/>
                    </a:lnTo>
                    <a:lnTo>
                      <a:pt x="5210" y="805"/>
                    </a:lnTo>
                    <a:lnTo>
                      <a:pt x="5163" y="815"/>
                    </a:lnTo>
                    <a:lnTo>
                      <a:pt x="5110" y="822"/>
                    </a:lnTo>
                    <a:lnTo>
                      <a:pt x="5051" y="825"/>
                    </a:lnTo>
                    <a:lnTo>
                      <a:pt x="4985" y="824"/>
                    </a:lnTo>
                    <a:lnTo>
                      <a:pt x="4913" y="817"/>
                    </a:lnTo>
                    <a:lnTo>
                      <a:pt x="4835" y="803"/>
                    </a:lnTo>
                    <a:lnTo>
                      <a:pt x="4750" y="782"/>
                    </a:lnTo>
                    <a:lnTo>
                      <a:pt x="4660" y="753"/>
                    </a:lnTo>
                    <a:lnTo>
                      <a:pt x="4729" y="797"/>
                    </a:lnTo>
                    <a:lnTo>
                      <a:pt x="4792" y="834"/>
                    </a:lnTo>
                    <a:lnTo>
                      <a:pt x="4848" y="865"/>
                    </a:lnTo>
                    <a:lnTo>
                      <a:pt x="4899" y="889"/>
                    </a:lnTo>
                    <a:lnTo>
                      <a:pt x="4946" y="907"/>
                    </a:lnTo>
                    <a:lnTo>
                      <a:pt x="4988" y="918"/>
                    </a:lnTo>
                    <a:lnTo>
                      <a:pt x="5028" y="923"/>
                    </a:lnTo>
                    <a:lnTo>
                      <a:pt x="5065" y="92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6"/>
              <p:cNvSpPr/>
              <p:nvPr/>
            </p:nvSpPr>
            <p:spPr>
              <a:xfrm>
                <a:off x="0" y="6557400"/>
                <a:ext cx="5580000" cy="30060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2587" y="1358"/>
                    </a:moveTo>
                    <a:lnTo>
                      <a:pt x="2657" y="1323"/>
                    </a:lnTo>
                    <a:lnTo>
                      <a:pt x="2722" y="1284"/>
                    </a:lnTo>
                    <a:lnTo>
                      <a:pt x="2783" y="1241"/>
                    </a:lnTo>
                    <a:lnTo>
                      <a:pt x="2839" y="1194"/>
                    </a:lnTo>
                    <a:lnTo>
                      <a:pt x="2890" y="1143"/>
                    </a:lnTo>
                    <a:lnTo>
                      <a:pt x="2982" y="1050"/>
                    </a:lnTo>
                    <a:lnTo>
                      <a:pt x="3071" y="970"/>
                    </a:lnTo>
                    <a:lnTo>
                      <a:pt x="3156" y="903"/>
                    </a:lnTo>
                    <a:lnTo>
                      <a:pt x="3238" y="846"/>
                    </a:lnTo>
                    <a:lnTo>
                      <a:pt x="3316" y="801"/>
                    </a:lnTo>
                    <a:lnTo>
                      <a:pt x="3391" y="764"/>
                    </a:lnTo>
                    <a:lnTo>
                      <a:pt x="3462" y="737"/>
                    </a:lnTo>
                    <a:lnTo>
                      <a:pt x="3528" y="717"/>
                    </a:lnTo>
                    <a:lnTo>
                      <a:pt x="3590" y="704"/>
                    </a:lnTo>
                    <a:lnTo>
                      <a:pt x="3648" y="697"/>
                    </a:lnTo>
                    <a:lnTo>
                      <a:pt x="3701" y="694"/>
                    </a:lnTo>
                    <a:lnTo>
                      <a:pt x="3749" y="696"/>
                    </a:lnTo>
                    <a:lnTo>
                      <a:pt x="3793" y="701"/>
                    </a:lnTo>
                    <a:lnTo>
                      <a:pt x="3831" y="709"/>
                    </a:lnTo>
                    <a:lnTo>
                      <a:pt x="3863" y="717"/>
                    </a:lnTo>
                    <a:lnTo>
                      <a:pt x="3890" y="726"/>
                    </a:lnTo>
                    <a:lnTo>
                      <a:pt x="3912" y="735"/>
                    </a:lnTo>
                    <a:lnTo>
                      <a:pt x="3927" y="742"/>
                    </a:lnTo>
                    <a:lnTo>
                      <a:pt x="3937" y="748"/>
                    </a:lnTo>
                    <a:lnTo>
                      <a:pt x="3940" y="749"/>
                    </a:lnTo>
                    <a:lnTo>
                      <a:pt x="3882" y="701"/>
                    </a:lnTo>
                    <a:lnTo>
                      <a:pt x="3830" y="657"/>
                    </a:lnTo>
                    <a:lnTo>
                      <a:pt x="3782" y="619"/>
                    </a:lnTo>
                    <a:lnTo>
                      <a:pt x="3737" y="587"/>
                    </a:lnTo>
                    <a:lnTo>
                      <a:pt x="3695" y="560"/>
                    </a:lnTo>
                    <a:lnTo>
                      <a:pt x="3655" y="540"/>
                    </a:lnTo>
                    <a:lnTo>
                      <a:pt x="3616" y="525"/>
                    </a:lnTo>
                    <a:lnTo>
                      <a:pt x="3576" y="517"/>
                    </a:lnTo>
                    <a:lnTo>
                      <a:pt x="3536" y="515"/>
                    </a:lnTo>
                    <a:lnTo>
                      <a:pt x="3494" y="520"/>
                    </a:lnTo>
                    <a:lnTo>
                      <a:pt x="3449" y="531"/>
                    </a:lnTo>
                    <a:lnTo>
                      <a:pt x="3402" y="550"/>
                    </a:lnTo>
                    <a:lnTo>
                      <a:pt x="3349" y="575"/>
                    </a:lnTo>
                    <a:lnTo>
                      <a:pt x="3292" y="608"/>
                    </a:lnTo>
                    <a:lnTo>
                      <a:pt x="3229" y="648"/>
                    </a:lnTo>
                    <a:lnTo>
                      <a:pt x="3158" y="696"/>
                    </a:lnTo>
                    <a:lnTo>
                      <a:pt x="3080" y="751"/>
                    </a:lnTo>
                    <a:lnTo>
                      <a:pt x="2994" y="814"/>
                    </a:lnTo>
                    <a:lnTo>
                      <a:pt x="2898" y="886"/>
                    </a:lnTo>
                    <a:lnTo>
                      <a:pt x="2791" y="965"/>
                    </a:lnTo>
                    <a:lnTo>
                      <a:pt x="2668" y="1034"/>
                    </a:lnTo>
                    <a:lnTo>
                      <a:pt x="2561" y="1080"/>
                    </a:lnTo>
                    <a:lnTo>
                      <a:pt x="2561" y="1369"/>
                    </a:lnTo>
                    <a:lnTo>
                      <a:pt x="2587" y="1358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7"/>
              <p:cNvSpPr/>
              <p:nvPr/>
            </p:nvSpPr>
            <p:spPr>
              <a:xfrm>
                <a:off x="0" y="6557400"/>
                <a:ext cx="5580000" cy="30060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380" y="725"/>
                    </a:moveTo>
                    <a:lnTo>
                      <a:pt x="5383" y="722"/>
                    </a:lnTo>
                    <a:lnTo>
                      <a:pt x="5378" y="726"/>
                    </a:lnTo>
                    <a:lnTo>
                      <a:pt x="5380" y="725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8"/>
              <p:cNvSpPr/>
              <p:nvPr/>
            </p:nvSpPr>
            <p:spPr>
              <a:xfrm>
                <a:off x="0" y="6557400"/>
                <a:ext cx="5580000" cy="30060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4660" y="753"/>
                    </a:moveTo>
                    <a:lnTo>
                      <a:pt x="4582" y="701"/>
                    </a:lnTo>
                    <a:lnTo>
                      <a:pt x="4496" y="642"/>
                    </a:lnTo>
                    <a:lnTo>
                      <a:pt x="4400" y="576"/>
                    </a:lnTo>
                    <a:lnTo>
                      <a:pt x="4293" y="502"/>
                    </a:lnTo>
                    <a:lnTo>
                      <a:pt x="4186" y="427"/>
                    </a:lnTo>
                    <a:lnTo>
                      <a:pt x="4087" y="359"/>
                    </a:lnTo>
                    <a:lnTo>
                      <a:pt x="3995" y="298"/>
                    </a:lnTo>
                    <a:lnTo>
                      <a:pt x="3909" y="242"/>
                    </a:lnTo>
                    <a:lnTo>
                      <a:pt x="3827" y="192"/>
                    </a:lnTo>
                    <a:lnTo>
                      <a:pt x="3748" y="149"/>
                    </a:lnTo>
                    <a:lnTo>
                      <a:pt x="3672" y="111"/>
                    </a:lnTo>
                    <a:lnTo>
                      <a:pt x="3596" y="79"/>
                    </a:lnTo>
                    <a:lnTo>
                      <a:pt x="3521" y="52"/>
                    </a:lnTo>
                    <a:lnTo>
                      <a:pt x="3443" y="31"/>
                    </a:lnTo>
                    <a:lnTo>
                      <a:pt x="3363" y="16"/>
                    </a:lnTo>
                    <a:lnTo>
                      <a:pt x="3278" y="5"/>
                    </a:lnTo>
                    <a:lnTo>
                      <a:pt x="3189" y="0"/>
                    </a:lnTo>
                    <a:lnTo>
                      <a:pt x="3093" y="0"/>
                    </a:lnTo>
                    <a:lnTo>
                      <a:pt x="2989" y="4"/>
                    </a:lnTo>
                    <a:lnTo>
                      <a:pt x="2876" y="13"/>
                    </a:lnTo>
                    <a:lnTo>
                      <a:pt x="2753" y="28"/>
                    </a:lnTo>
                    <a:lnTo>
                      <a:pt x="2619" y="46"/>
                    </a:lnTo>
                    <a:lnTo>
                      <a:pt x="2561" y="55"/>
                    </a:lnTo>
                    <a:lnTo>
                      <a:pt x="2561" y="596"/>
                    </a:lnTo>
                    <a:lnTo>
                      <a:pt x="2637" y="544"/>
                    </a:lnTo>
                    <a:lnTo>
                      <a:pt x="2753" y="466"/>
                    </a:lnTo>
                    <a:lnTo>
                      <a:pt x="2858" y="397"/>
                    </a:lnTo>
                    <a:lnTo>
                      <a:pt x="2954" y="337"/>
                    </a:lnTo>
                    <a:lnTo>
                      <a:pt x="3042" y="286"/>
                    </a:lnTo>
                    <a:lnTo>
                      <a:pt x="3122" y="244"/>
                    </a:lnTo>
                    <a:lnTo>
                      <a:pt x="3196" y="210"/>
                    </a:lnTo>
                    <a:lnTo>
                      <a:pt x="3267" y="185"/>
                    </a:lnTo>
                    <a:lnTo>
                      <a:pt x="3333" y="169"/>
                    </a:lnTo>
                    <a:lnTo>
                      <a:pt x="3398" y="161"/>
                    </a:lnTo>
                    <a:lnTo>
                      <a:pt x="3463" y="162"/>
                    </a:lnTo>
                    <a:lnTo>
                      <a:pt x="3528" y="171"/>
                    </a:lnTo>
                    <a:lnTo>
                      <a:pt x="3594" y="188"/>
                    </a:lnTo>
                    <a:lnTo>
                      <a:pt x="3664" y="214"/>
                    </a:lnTo>
                    <a:lnTo>
                      <a:pt x="3739" y="247"/>
                    </a:lnTo>
                    <a:lnTo>
                      <a:pt x="3820" y="289"/>
                    </a:lnTo>
                    <a:lnTo>
                      <a:pt x="3907" y="339"/>
                    </a:lnTo>
                    <a:lnTo>
                      <a:pt x="4003" y="396"/>
                    </a:lnTo>
                    <a:lnTo>
                      <a:pt x="4109" y="462"/>
                    </a:lnTo>
                    <a:lnTo>
                      <a:pt x="4225" y="535"/>
                    </a:lnTo>
                    <a:lnTo>
                      <a:pt x="4344" y="606"/>
                    </a:lnTo>
                    <a:lnTo>
                      <a:pt x="4456" y="666"/>
                    </a:lnTo>
                    <a:lnTo>
                      <a:pt x="4561" y="714"/>
                    </a:lnTo>
                    <a:lnTo>
                      <a:pt x="4659" y="753"/>
                    </a:lnTo>
                    <a:lnTo>
                      <a:pt x="4660" y="75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6993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Arial"/>
              </a:rPr>
              <a:t>LEY 20.545</a:t>
            </a:r>
            <a:br>
              <a:rPr sz="44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viso al empleador: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-Personalmente, dejando constancia escrita o mediante carta certificada.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- Al menos con 5 días de anticipación a la fecha en que hará uso del permiso.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- Debe indicar la modalidad cómo hará uso del derecho.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 es trabajadora del sector privado, copia a la Inspección del Trabaj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187280" y="980640"/>
            <a:ext cx="6616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0" y="6524640"/>
            <a:ext cx="5580000" cy="333360"/>
            <a:chOff x="0" y="6524640"/>
            <a:chExt cx="5580000" cy="333360"/>
          </a:xfrm>
        </p:grpSpPr>
        <p:grpSp>
          <p:nvGrpSpPr>
            <p:cNvPr id="231" name="Group 5"/>
            <p:cNvGrpSpPr/>
            <p:nvPr/>
          </p:nvGrpSpPr>
          <p:grpSpPr>
            <a:xfrm>
              <a:off x="808560" y="6608880"/>
              <a:ext cx="3614400" cy="194760"/>
              <a:chOff x="808560" y="6608880"/>
              <a:chExt cx="3614400" cy="194760"/>
            </a:xfrm>
          </p:grpSpPr>
          <p:sp>
            <p:nvSpPr>
              <p:cNvPr id="232" name="Freeform 6"/>
              <p:cNvSpPr/>
              <p:nvPr/>
            </p:nvSpPr>
            <p:spPr>
              <a:xfrm>
                <a:off x="808560" y="6608880"/>
                <a:ext cx="3614400" cy="1947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85" y="493"/>
                    </a:moveTo>
                    <a:lnTo>
                      <a:pt x="3484" y="492"/>
                    </a:lnTo>
                    <a:lnTo>
                      <a:pt x="3487" y="494"/>
                    </a:lnTo>
                    <a:lnTo>
                      <a:pt x="3485" y="493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7"/>
              <p:cNvSpPr/>
              <p:nvPr/>
            </p:nvSpPr>
            <p:spPr>
              <a:xfrm>
                <a:off x="808560" y="6608880"/>
                <a:ext cx="3614400" cy="1947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065" y="962"/>
                    </a:moveTo>
                    <a:lnTo>
                      <a:pt x="2123" y="959"/>
                    </a:lnTo>
                    <a:lnTo>
                      <a:pt x="2178" y="952"/>
                    </a:lnTo>
                    <a:lnTo>
                      <a:pt x="2230" y="942"/>
                    </a:lnTo>
                    <a:lnTo>
                      <a:pt x="2280" y="928"/>
                    </a:lnTo>
                    <a:lnTo>
                      <a:pt x="2329" y="911"/>
                    </a:lnTo>
                    <a:lnTo>
                      <a:pt x="2378" y="891"/>
                    </a:lnTo>
                    <a:lnTo>
                      <a:pt x="2428" y="866"/>
                    </a:lnTo>
                    <a:lnTo>
                      <a:pt x="2479" y="838"/>
                    </a:lnTo>
                    <a:lnTo>
                      <a:pt x="2532" y="806"/>
                    </a:lnTo>
                    <a:lnTo>
                      <a:pt x="2588" y="770"/>
                    </a:lnTo>
                    <a:lnTo>
                      <a:pt x="2647" y="730"/>
                    </a:lnTo>
                    <a:lnTo>
                      <a:pt x="2711" y="685"/>
                    </a:lnTo>
                    <a:lnTo>
                      <a:pt x="2781" y="637"/>
                    </a:lnTo>
                    <a:lnTo>
                      <a:pt x="2850" y="589"/>
                    </a:lnTo>
                    <a:lnTo>
                      <a:pt x="2912" y="546"/>
                    </a:lnTo>
                    <a:lnTo>
                      <a:pt x="2968" y="508"/>
                    </a:lnTo>
                    <a:lnTo>
                      <a:pt x="3018" y="475"/>
                    </a:lnTo>
                    <a:lnTo>
                      <a:pt x="3019" y="475"/>
                    </a:lnTo>
                    <a:lnTo>
                      <a:pt x="3018" y="475"/>
                    </a:lnTo>
                    <a:lnTo>
                      <a:pt x="2954" y="500"/>
                    </a:lnTo>
                    <a:lnTo>
                      <a:pt x="2886" y="531"/>
                    </a:lnTo>
                    <a:lnTo>
                      <a:pt x="2814" y="569"/>
                    </a:lnTo>
                    <a:lnTo>
                      <a:pt x="2737" y="616"/>
                    </a:lnTo>
                    <a:lnTo>
                      <a:pt x="2661" y="663"/>
                    </a:lnTo>
                    <a:lnTo>
                      <a:pt x="2593" y="706"/>
                    </a:lnTo>
                    <a:lnTo>
                      <a:pt x="2531" y="743"/>
                    </a:lnTo>
                    <a:lnTo>
                      <a:pt x="2474" y="775"/>
                    </a:lnTo>
                    <a:lnTo>
                      <a:pt x="2422" y="802"/>
                    </a:lnTo>
                    <a:lnTo>
                      <a:pt x="2374" y="824"/>
                    </a:lnTo>
                    <a:lnTo>
                      <a:pt x="2328" y="841"/>
                    </a:lnTo>
                    <a:lnTo>
                      <a:pt x="2285" y="852"/>
                    </a:lnTo>
                    <a:lnTo>
                      <a:pt x="2243" y="858"/>
                    </a:lnTo>
                    <a:lnTo>
                      <a:pt x="2201" y="858"/>
                    </a:lnTo>
                    <a:lnTo>
                      <a:pt x="2159" y="853"/>
                    </a:lnTo>
                    <a:lnTo>
                      <a:pt x="2116" y="842"/>
                    </a:lnTo>
                    <a:lnTo>
                      <a:pt x="2070" y="826"/>
                    </a:lnTo>
                    <a:lnTo>
                      <a:pt x="2022" y="804"/>
                    </a:lnTo>
                    <a:lnTo>
                      <a:pt x="1970" y="777"/>
                    </a:lnTo>
                    <a:lnTo>
                      <a:pt x="1913" y="744"/>
                    </a:lnTo>
                    <a:lnTo>
                      <a:pt x="1851" y="705"/>
                    </a:lnTo>
                    <a:lnTo>
                      <a:pt x="1783" y="660"/>
                    </a:lnTo>
                    <a:lnTo>
                      <a:pt x="1781" y="659"/>
                    </a:lnTo>
                    <a:lnTo>
                      <a:pt x="1781" y="944"/>
                    </a:lnTo>
                    <a:lnTo>
                      <a:pt x="1783" y="944"/>
                    </a:lnTo>
                    <a:lnTo>
                      <a:pt x="1863" y="954"/>
                    </a:lnTo>
                    <a:lnTo>
                      <a:pt x="1936" y="960"/>
                    </a:lnTo>
                    <a:lnTo>
                      <a:pt x="2003" y="963"/>
                    </a:lnTo>
                    <a:lnTo>
                      <a:pt x="2065" y="962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8"/>
              <p:cNvSpPr/>
              <p:nvPr/>
            </p:nvSpPr>
            <p:spPr>
              <a:xfrm>
                <a:off x="808560" y="6608880"/>
                <a:ext cx="3614400" cy="1947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316" y="628"/>
                    </a:moveTo>
                    <a:lnTo>
                      <a:pt x="2342" y="622"/>
                    </a:lnTo>
                    <a:lnTo>
                      <a:pt x="2367" y="613"/>
                    </a:lnTo>
                    <a:lnTo>
                      <a:pt x="2393" y="599"/>
                    </a:lnTo>
                    <a:lnTo>
                      <a:pt x="2421" y="582"/>
                    </a:lnTo>
                    <a:lnTo>
                      <a:pt x="2450" y="561"/>
                    </a:lnTo>
                    <a:lnTo>
                      <a:pt x="2481" y="537"/>
                    </a:lnTo>
                    <a:lnTo>
                      <a:pt x="2515" y="508"/>
                    </a:lnTo>
                    <a:lnTo>
                      <a:pt x="2552" y="477"/>
                    </a:lnTo>
                    <a:lnTo>
                      <a:pt x="2550" y="478"/>
                    </a:lnTo>
                    <a:lnTo>
                      <a:pt x="2544" y="481"/>
                    </a:lnTo>
                    <a:lnTo>
                      <a:pt x="2534" y="486"/>
                    </a:lnTo>
                    <a:lnTo>
                      <a:pt x="2520" y="492"/>
                    </a:lnTo>
                    <a:lnTo>
                      <a:pt x="2502" y="498"/>
                    </a:lnTo>
                    <a:lnTo>
                      <a:pt x="2481" y="503"/>
                    </a:lnTo>
                    <a:lnTo>
                      <a:pt x="2456" y="508"/>
                    </a:lnTo>
                    <a:lnTo>
                      <a:pt x="2428" y="511"/>
                    </a:lnTo>
                    <a:lnTo>
                      <a:pt x="2397" y="513"/>
                    </a:lnTo>
                    <a:lnTo>
                      <a:pt x="2363" y="511"/>
                    </a:lnTo>
                    <a:lnTo>
                      <a:pt x="2325" y="506"/>
                    </a:lnTo>
                    <a:lnTo>
                      <a:pt x="2285" y="498"/>
                    </a:lnTo>
                    <a:lnTo>
                      <a:pt x="2242" y="485"/>
                    </a:lnTo>
                    <a:lnTo>
                      <a:pt x="2196" y="467"/>
                    </a:lnTo>
                    <a:lnTo>
                      <a:pt x="2148" y="444"/>
                    </a:lnTo>
                    <a:lnTo>
                      <a:pt x="2097" y="414"/>
                    </a:lnTo>
                    <a:lnTo>
                      <a:pt x="2044" y="378"/>
                    </a:lnTo>
                    <a:lnTo>
                      <a:pt x="1989" y="334"/>
                    </a:lnTo>
                    <a:lnTo>
                      <a:pt x="1932" y="282"/>
                    </a:lnTo>
                    <a:lnTo>
                      <a:pt x="1872" y="222"/>
                    </a:lnTo>
                    <a:lnTo>
                      <a:pt x="1839" y="189"/>
                    </a:lnTo>
                    <a:lnTo>
                      <a:pt x="1802" y="158"/>
                    </a:lnTo>
                    <a:lnTo>
                      <a:pt x="1781" y="143"/>
                    </a:lnTo>
                    <a:lnTo>
                      <a:pt x="1781" y="322"/>
                    </a:lnTo>
                    <a:lnTo>
                      <a:pt x="1808" y="337"/>
                    </a:lnTo>
                    <a:lnTo>
                      <a:pt x="1877" y="389"/>
                    </a:lnTo>
                    <a:lnTo>
                      <a:pt x="1939" y="435"/>
                    </a:lnTo>
                    <a:lnTo>
                      <a:pt x="1995" y="476"/>
                    </a:lnTo>
                    <a:lnTo>
                      <a:pt x="2046" y="512"/>
                    </a:lnTo>
                    <a:lnTo>
                      <a:pt x="2091" y="543"/>
                    </a:lnTo>
                    <a:lnTo>
                      <a:pt x="2132" y="569"/>
                    </a:lnTo>
                    <a:lnTo>
                      <a:pt x="2169" y="590"/>
                    </a:lnTo>
                    <a:lnTo>
                      <a:pt x="2203" y="606"/>
                    </a:lnTo>
                    <a:lnTo>
                      <a:pt x="2234" y="618"/>
                    </a:lnTo>
                    <a:lnTo>
                      <a:pt x="2263" y="626"/>
                    </a:lnTo>
                    <a:lnTo>
                      <a:pt x="2290" y="629"/>
                    </a:lnTo>
                    <a:lnTo>
                      <a:pt x="2316" y="628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9"/>
              <p:cNvSpPr/>
              <p:nvPr/>
            </p:nvSpPr>
            <p:spPr>
              <a:xfrm>
                <a:off x="808560" y="6608880"/>
                <a:ext cx="3614400" cy="1947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55" y="467"/>
                    </a:moveTo>
                    <a:lnTo>
                      <a:pt x="3426" y="442"/>
                    </a:lnTo>
                    <a:lnTo>
                      <a:pt x="3399" y="421"/>
                    </a:lnTo>
                    <a:lnTo>
                      <a:pt x="3374" y="403"/>
                    </a:lnTo>
                    <a:lnTo>
                      <a:pt x="3350" y="388"/>
                    </a:lnTo>
                    <a:lnTo>
                      <a:pt x="3327" y="377"/>
                    </a:lnTo>
                    <a:lnTo>
                      <a:pt x="3304" y="369"/>
                    </a:lnTo>
                    <a:lnTo>
                      <a:pt x="3281" y="365"/>
                    </a:lnTo>
                    <a:lnTo>
                      <a:pt x="3256" y="364"/>
                    </a:lnTo>
                    <a:lnTo>
                      <a:pt x="3231" y="368"/>
                    </a:lnTo>
                    <a:lnTo>
                      <a:pt x="3203" y="375"/>
                    </a:lnTo>
                    <a:lnTo>
                      <a:pt x="3173" y="386"/>
                    </a:lnTo>
                    <a:lnTo>
                      <a:pt x="3140" y="402"/>
                    </a:lnTo>
                    <a:lnTo>
                      <a:pt x="3104" y="422"/>
                    </a:lnTo>
                    <a:lnTo>
                      <a:pt x="3063" y="446"/>
                    </a:lnTo>
                    <a:lnTo>
                      <a:pt x="3019" y="475"/>
                    </a:lnTo>
                    <a:lnTo>
                      <a:pt x="3077" y="456"/>
                    </a:lnTo>
                    <a:lnTo>
                      <a:pt x="3132" y="442"/>
                    </a:lnTo>
                    <a:lnTo>
                      <a:pt x="3183" y="433"/>
                    </a:lnTo>
                    <a:lnTo>
                      <a:pt x="3229" y="429"/>
                    </a:lnTo>
                    <a:lnTo>
                      <a:pt x="3271" y="428"/>
                    </a:lnTo>
                    <a:lnTo>
                      <a:pt x="3310" y="430"/>
                    </a:lnTo>
                    <a:lnTo>
                      <a:pt x="3344" y="434"/>
                    </a:lnTo>
                    <a:lnTo>
                      <a:pt x="3375" y="441"/>
                    </a:lnTo>
                    <a:lnTo>
                      <a:pt x="3402" y="449"/>
                    </a:lnTo>
                    <a:lnTo>
                      <a:pt x="3425" y="457"/>
                    </a:lnTo>
                    <a:lnTo>
                      <a:pt x="3444" y="466"/>
                    </a:lnTo>
                    <a:lnTo>
                      <a:pt x="3459" y="475"/>
                    </a:lnTo>
                    <a:lnTo>
                      <a:pt x="3471" y="483"/>
                    </a:lnTo>
                    <a:lnTo>
                      <a:pt x="3480" y="489"/>
                    </a:lnTo>
                    <a:lnTo>
                      <a:pt x="3484" y="492"/>
                    </a:lnTo>
                    <a:lnTo>
                      <a:pt x="3455" y="467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0"/>
            <p:cNvGrpSpPr/>
            <p:nvPr/>
          </p:nvGrpSpPr>
          <p:grpSpPr>
            <a:xfrm>
              <a:off x="980640" y="6524640"/>
              <a:ext cx="3697200" cy="180720"/>
              <a:chOff x="980640" y="6524640"/>
              <a:chExt cx="3697200" cy="180720"/>
            </a:xfrm>
          </p:grpSpPr>
          <p:sp>
            <p:nvSpPr>
              <p:cNvPr id="237" name="Freeform 11"/>
              <p:cNvSpPr/>
              <p:nvPr/>
            </p:nvSpPr>
            <p:spPr>
              <a:xfrm>
                <a:off x="980640" y="6524640"/>
                <a:ext cx="3697200" cy="1807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180720"/>
                  <a:gd name="textAreaBottom" fmla="*/ 180720 h 1807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2942" y="773"/>
                    </a:moveTo>
                    <a:lnTo>
                      <a:pt x="2880" y="731"/>
                    </a:lnTo>
                    <a:lnTo>
                      <a:pt x="2812" y="683"/>
                    </a:lnTo>
                    <a:lnTo>
                      <a:pt x="2735" y="628"/>
                    </a:lnTo>
                    <a:lnTo>
                      <a:pt x="2651" y="566"/>
                    </a:lnTo>
                    <a:lnTo>
                      <a:pt x="2557" y="498"/>
                    </a:lnTo>
                    <a:lnTo>
                      <a:pt x="2449" y="423"/>
                    </a:lnTo>
                    <a:lnTo>
                      <a:pt x="2349" y="355"/>
                    </a:lnTo>
                    <a:lnTo>
                      <a:pt x="2254" y="293"/>
                    </a:lnTo>
                    <a:lnTo>
                      <a:pt x="2164" y="238"/>
                    </a:lnTo>
                    <a:lnTo>
                      <a:pt x="2078" y="189"/>
                    </a:lnTo>
                    <a:lnTo>
                      <a:pt x="1995" y="146"/>
                    </a:lnTo>
                    <a:lnTo>
                      <a:pt x="1913" y="108"/>
                    </a:lnTo>
                    <a:lnTo>
                      <a:pt x="1832" y="76"/>
                    </a:lnTo>
                    <a:lnTo>
                      <a:pt x="1750" y="50"/>
                    </a:lnTo>
                    <a:lnTo>
                      <a:pt x="1667" y="30"/>
                    </a:lnTo>
                    <a:lnTo>
                      <a:pt x="1615" y="20"/>
                    </a:lnTo>
                    <a:lnTo>
                      <a:pt x="1615" y="163"/>
                    </a:lnTo>
                    <a:lnTo>
                      <a:pt x="1646" y="163"/>
                    </a:lnTo>
                    <a:lnTo>
                      <a:pt x="1711" y="172"/>
                    </a:lnTo>
                    <a:lnTo>
                      <a:pt x="1778" y="189"/>
                    </a:lnTo>
                    <a:lnTo>
                      <a:pt x="1848" y="215"/>
                    </a:lnTo>
                    <a:lnTo>
                      <a:pt x="1923" y="249"/>
                    </a:lnTo>
                    <a:lnTo>
                      <a:pt x="2003" y="290"/>
                    </a:lnTo>
                    <a:lnTo>
                      <a:pt x="2091" y="340"/>
                    </a:lnTo>
                    <a:lnTo>
                      <a:pt x="2187" y="398"/>
                    </a:lnTo>
                    <a:lnTo>
                      <a:pt x="2292" y="463"/>
                    </a:lnTo>
                    <a:lnTo>
                      <a:pt x="2409" y="537"/>
                    </a:lnTo>
                    <a:lnTo>
                      <a:pt x="2528" y="608"/>
                    </a:lnTo>
                    <a:lnTo>
                      <a:pt x="2640" y="667"/>
                    </a:lnTo>
                    <a:lnTo>
                      <a:pt x="2745" y="715"/>
                    </a:lnTo>
                    <a:lnTo>
                      <a:pt x="2843" y="754"/>
                    </a:lnTo>
                    <a:lnTo>
                      <a:pt x="2934" y="783"/>
                    </a:lnTo>
                    <a:lnTo>
                      <a:pt x="2974" y="793"/>
                    </a:lnTo>
                    <a:lnTo>
                      <a:pt x="2942" y="773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2"/>
              <p:cNvSpPr/>
              <p:nvPr/>
            </p:nvSpPr>
            <p:spPr>
              <a:xfrm>
                <a:off x="980640" y="6524640"/>
                <a:ext cx="3697200" cy="1807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180720"/>
                  <a:gd name="textAreaBottom" fmla="*/ 180720 h 1807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543" y="742"/>
                    </a:moveTo>
                    <a:lnTo>
                      <a:pt x="3556" y="732"/>
                    </a:lnTo>
                    <a:lnTo>
                      <a:pt x="3564" y="726"/>
                    </a:lnTo>
                    <a:lnTo>
                      <a:pt x="3566" y="724"/>
                    </a:lnTo>
                    <a:lnTo>
                      <a:pt x="3530" y="750"/>
                    </a:lnTo>
                    <a:lnTo>
                      <a:pt x="3543" y="742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3"/>
              <p:cNvSpPr/>
              <p:nvPr/>
            </p:nvSpPr>
            <p:spPr>
              <a:xfrm>
                <a:off x="980640" y="6524640"/>
                <a:ext cx="3697200" cy="1807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180720"/>
                  <a:gd name="textAreaBottom" fmla="*/ 180720 h 1807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282" y="889"/>
                    </a:moveTo>
                    <a:lnTo>
                      <a:pt x="3317" y="880"/>
                    </a:lnTo>
                    <a:lnTo>
                      <a:pt x="3352" y="865"/>
                    </a:lnTo>
                    <a:lnTo>
                      <a:pt x="3389" y="845"/>
                    </a:lnTo>
                    <a:lnTo>
                      <a:pt x="3428" y="821"/>
                    </a:lnTo>
                    <a:lnTo>
                      <a:pt x="3470" y="793"/>
                    </a:lnTo>
                    <a:lnTo>
                      <a:pt x="3516" y="760"/>
                    </a:lnTo>
                    <a:lnTo>
                      <a:pt x="3530" y="750"/>
                    </a:lnTo>
                    <a:lnTo>
                      <a:pt x="3524" y="754"/>
                    </a:lnTo>
                    <a:lnTo>
                      <a:pt x="3500" y="767"/>
                    </a:lnTo>
                    <a:lnTo>
                      <a:pt x="3471" y="781"/>
                    </a:lnTo>
                    <a:lnTo>
                      <a:pt x="3435" y="794"/>
                    </a:lnTo>
                    <a:lnTo>
                      <a:pt x="3394" y="806"/>
                    </a:lnTo>
                    <a:lnTo>
                      <a:pt x="3347" y="816"/>
                    </a:lnTo>
                    <a:lnTo>
                      <a:pt x="3294" y="823"/>
                    </a:lnTo>
                    <a:lnTo>
                      <a:pt x="3234" y="827"/>
                    </a:lnTo>
                    <a:lnTo>
                      <a:pt x="3169" y="825"/>
                    </a:lnTo>
                    <a:lnTo>
                      <a:pt x="3097" y="818"/>
                    </a:lnTo>
                    <a:lnTo>
                      <a:pt x="3019" y="804"/>
                    </a:lnTo>
                    <a:lnTo>
                      <a:pt x="2974" y="793"/>
                    </a:lnTo>
                    <a:lnTo>
                      <a:pt x="2998" y="808"/>
                    </a:lnTo>
                    <a:lnTo>
                      <a:pt x="3048" y="837"/>
                    </a:lnTo>
                    <a:lnTo>
                      <a:pt x="3094" y="860"/>
                    </a:lnTo>
                    <a:lnTo>
                      <a:pt x="3136" y="877"/>
                    </a:lnTo>
                    <a:lnTo>
                      <a:pt x="3175" y="888"/>
                    </a:lnTo>
                    <a:lnTo>
                      <a:pt x="3212" y="894"/>
                    </a:lnTo>
                    <a:lnTo>
                      <a:pt x="3248" y="894"/>
                    </a:lnTo>
                    <a:lnTo>
                      <a:pt x="3282" y="889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4"/>
            <p:cNvGrpSpPr/>
            <p:nvPr/>
          </p:nvGrpSpPr>
          <p:grpSpPr>
            <a:xfrm>
              <a:off x="0" y="6557400"/>
              <a:ext cx="5580000" cy="300600"/>
              <a:chOff x="0" y="6557400"/>
              <a:chExt cx="5580000" cy="300600"/>
            </a:xfrm>
          </p:grpSpPr>
          <p:sp>
            <p:nvSpPr>
              <p:cNvPr id="241" name="Freeform 15"/>
              <p:cNvSpPr/>
              <p:nvPr/>
            </p:nvSpPr>
            <p:spPr>
              <a:xfrm>
                <a:off x="0" y="6557400"/>
                <a:ext cx="5580000" cy="30060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065" y="923"/>
                    </a:moveTo>
                    <a:lnTo>
                      <a:pt x="5101" y="916"/>
                    </a:lnTo>
                    <a:lnTo>
                      <a:pt x="5136" y="904"/>
                    </a:lnTo>
                    <a:lnTo>
                      <a:pt x="5172" y="887"/>
                    </a:lnTo>
                    <a:lnTo>
                      <a:pt x="5209" y="864"/>
                    </a:lnTo>
                    <a:lnTo>
                      <a:pt x="5247" y="836"/>
                    </a:lnTo>
                    <a:lnTo>
                      <a:pt x="5289" y="803"/>
                    </a:lnTo>
                    <a:lnTo>
                      <a:pt x="5333" y="765"/>
                    </a:lnTo>
                    <a:lnTo>
                      <a:pt x="5378" y="726"/>
                    </a:lnTo>
                    <a:lnTo>
                      <a:pt x="5372" y="731"/>
                    </a:lnTo>
                    <a:lnTo>
                      <a:pt x="5359" y="741"/>
                    </a:lnTo>
                    <a:lnTo>
                      <a:pt x="5341" y="752"/>
                    </a:lnTo>
                    <a:lnTo>
                      <a:pt x="5317" y="766"/>
                    </a:lnTo>
                    <a:lnTo>
                      <a:pt x="5287" y="779"/>
                    </a:lnTo>
                    <a:lnTo>
                      <a:pt x="5252" y="793"/>
                    </a:lnTo>
                    <a:lnTo>
                      <a:pt x="5210" y="805"/>
                    </a:lnTo>
                    <a:lnTo>
                      <a:pt x="5163" y="815"/>
                    </a:lnTo>
                    <a:lnTo>
                      <a:pt x="5110" y="822"/>
                    </a:lnTo>
                    <a:lnTo>
                      <a:pt x="5051" y="825"/>
                    </a:lnTo>
                    <a:lnTo>
                      <a:pt x="4985" y="824"/>
                    </a:lnTo>
                    <a:lnTo>
                      <a:pt x="4913" y="817"/>
                    </a:lnTo>
                    <a:lnTo>
                      <a:pt x="4835" y="803"/>
                    </a:lnTo>
                    <a:lnTo>
                      <a:pt x="4750" y="782"/>
                    </a:lnTo>
                    <a:lnTo>
                      <a:pt x="4660" y="753"/>
                    </a:lnTo>
                    <a:lnTo>
                      <a:pt x="4729" y="797"/>
                    </a:lnTo>
                    <a:lnTo>
                      <a:pt x="4792" y="834"/>
                    </a:lnTo>
                    <a:lnTo>
                      <a:pt x="4848" y="865"/>
                    </a:lnTo>
                    <a:lnTo>
                      <a:pt x="4899" y="889"/>
                    </a:lnTo>
                    <a:lnTo>
                      <a:pt x="4946" y="907"/>
                    </a:lnTo>
                    <a:lnTo>
                      <a:pt x="4988" y="918"/>
                    </a:lnTo>
                    <a:lnTo>
                      <a:pt x="5028" y="923"/>
                    </a:lnTo>
                    <a:lnTo>
                      <a:pt x="5065" y="92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6"/>
              <p:cNvSpPr/>
              <p:nvPr/>
            </p:nvSpPr>
            <p:spPr>
              <a:xfrm>
                <a:off x="0" y="6557400"/>
                <a:ext cx="5580000" cy="30060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2587" y="1358"/>
                    </a:moveTo>
                    <a:lnTo>
                      <a:pt x="2657" y="1323"/>
                    </a:lnTo>
                    <a:lnTo>
                      <a:pt x="2722" y="1284"/>
                    </a:lnTo>
                    <a:lnTo>
                      <a:pt x="2783" y="1241"/>
                    </a:lnTo>
                    <a:lnTo>
                      <a:pt x="2839" y="1194"/>
                    </a:lnTo>
                    <a:lnTo>
                      <a:pt x="2890" y="1143"/>
                    </a:lnTo>
                    <a:lnTo>
                      <a:pt x="2982" y="1050"/>
                    </a:lnTo>
                    <a:lnTo>
                      <a:pt x="3071" y="970"/>
                    </a:lnTo>
                    <a:lnTo>
                      <a:pt x="3156" y="903"/>
                    </a:lnTo>
                    <a:lnTo>
                      <a:pt x="3238" y="846"/>
                    </a:lnTo>
                    <a:lnTo>
                      <a:pt x="3316" y="801"/>
                    </a:lnTo>
                    <a:lnTo>
                      <a:pt x="3391" y="764"/>
                    </a:lnTo>
                    <a:lnTo>
                      <a:pt x="3462" y="737"/>
                    </a:lnTo>
                    <a:lnTo>
                      <a:pt x="3528" y="717"/>
                    </a:lnTo>
                    <a:lnTo>
                      <a:pt x="3590" y="704"/>
                    </a:lnTo>
                    <a:lnTo>
                      <a:pt x="3648" y="697"/>
                    </a:lnTo>
                    <a:lnTo>
                      <a:pt x="3701" y="694"/>
                    </a:lnTo>
                    <a:lnTo>
                      <a:pt x="3749" y="696"/>
                    </a:lnTo>
                    <a:lnTo>
                      <a:pt x="3793" y="701"/>
                    </a:lnTo>
                    <a:lnTo>
                      <a:pt x="3831" y="709"/>
                    </a:lnTo>
                    <a:lnTo>
                      <a:pt x="3863" y="717"/>
                    </a:lnTo>
                    <a:lnTo>
                      <a:pt x="3890" y="726"/>
                    </a:lnTo>
                    <a:lnTo>
                      <a:pt x="3912" y="735"/>
                    </a:lnTo>
                    <a:lnTo>
                      <a:pt x="3927" y="742"/>
                    </a:lnTo>
                    <a:lnTo>
                      <a:pt x="3937" y="748"/>
                    </a:lnTo>
                    <a:lnTo>
                      <a:pt x="3940" y="749"/>
                    </a:lnTo>
                    <a:lnTo>
                      <a:pt x="3882" y="701"/>
                    </a:lnTo>
                    <a:lnTo>
                      <a:pt x="3830" y="657"/>
                    </a:lnTo>
                    <a:lnTo>
                      <a:pt x="3782" y="619"/>
                    </a:lnTo>
                    <a:lnTo>
                      <a:pt x="3737" y="587"/>
                    </a:lnTo>
                    <a:lnTo>
                      <a:pt x="3695" y="560"/>
                    </a:lnTo>
                    <a:lnTo>
                      <a:pt x="3655" y="540"/>
                    </a:lnTo>
                    <a:lnTo>
                      <a:pt x="3616" y="525"/>
                    </a:lnTo>
                    <a:lnTo>
                      <a:pt x="3576" y="517"/>
                    </a:lnTo>
                    <a:lnTo>
                      <a:pt x="3536" y="515"/>
                    </a:lnTo>
                    <a:lnTo>
                      <a:pt x="3494" y="520"/>
                    </a:lnTo>
                    <a:lnTo>
                      <a:pt x="3449" y="531"/>
                    </a:lnTo>
                    <a:lnTo>
                      <a:pt x="3402" y="550"/>
                    </a:lnTo>
                    <a:lnTo>
                      <a:pt x="3349" y="575"/>
                    </a:lnTo>
                    <a:lnTo>
                      <a:pt x="3292" y="608"/>
                    </a:lnTo>
                    <a:lnTo>
                      <a:pt x="3229" y="648"/>
                    </a:lnTo>
                    <a:lnTo>
                      <a:pt x="3158" y="696"/>
                    </a:lnTo>
                    <a:lnTo>
                      <a:pt x="3080" y="751"/>
                    </a:lnTo>
                    <a:lnTo>
                      <a:pt x="2994" y="814"/>
                    </a:lnTo>
                    <a:lnTo>
                      <a:pt x="2898" y="886"/>
                    </a:lnTo>
                    <a:lnTo>
                      <a:pt x="2791" y="965"/>
                    </a:lnTo>
                    <a:lnTo>
                      <a:pt x="2668" y="1034"/>
                    </a:lnTo>
                    <a:lnTo>
                      <a:pt x="2561" y="1080"/>
                    </a:lnTo>
                    <a:lnTo>
                      <a:pt x="2561" y="1369"/>
                    </a:lnTo>
                    <a:lnTo>
                      <a:pt x="2587" y="1358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7"/>
              <p:cNvSpPr/>
              <p:nvPr/>
            </p:nvSpPr>
            <p:spPr>
              <a:xfrm>
                <a:off x="0" y="6557400"/>
                <a:ext cx="5580000" cy="30060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380" y="725"/>
                    </a:moveTo>
                    <a:lnTo>
                      <a:pt x="5383" y="722"/>
                    </a:lnTo>
                    <a:lnTo>
                      <a:pt x="5378" y="726"/>
                    </a:lnTo>
                    <a:lnTo>
                      <a:pt x="5380" y="725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8"/>
              <p:cNvSpPr/>
              <p:nvPr/>
            </p:nvSpPr>
            <p:spPr>
              <a:xfrm>
                <a:off x="0" y="6557400"/>
                <a:ext cx="5580000" cy="30060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4660" y="753"/>
                    </a:moveTo>
                    <a:lnTo>
                      <a:pt x="4582" y="701"/>
                    </a:lnTo>
                    <a:lnTo>
                      <a:pt x="4496" y="642"/>
                    </a:lnTo>
                    <a:lnTo>
                      <a:pt x="4400" y="576"/>
                    </a:lnTo>
                    <a:lnTo>
                      <a:pt x="4293" y="502"/>
                    </a:lnTo>
                    <a:lnTo>
                      <a:pt x="4186" y="427"/>
                    </a:lnTo>
                    <a:lnTo>
                      <a:pt x="4087" y="359"/>
                    </a:lnTo>
                    <a:lnTo>
                      <a:pt x="3995" y="298"/>
                    </a:lnTo>
                    <a:lnTo>
                      <a:pt x="3909" y="242"/>
                    </a:lnTo>
                    <a:lnTo>
                      <a:pt x="3827" y="192"/>
                    </a:lnTo>
                    <a:lnTo>
                      <a:pt x="3748" y="149"/>
                    </a:lnTo>
                    <a:lnTo>
                      <a:pt x="3672" y="111"/>
                    </a:lnTo>
                    <a:lnTo>
                      <a:pt x="3596" y="79"/>
                    </a:lnTo>
                    <a:lnTo>
                      <a:pt x="3521" y="52"/>
                    </a:lnTo>
                    <a:lnTo>
                      <a:pt x="3443" y="31"/>
                    </a:lnTo>
                    <a:lnTo>
                      <a:pt x="3363" y="16"/>
                    </a:lnTo>
                    <a:lnTo>
                      <a:pt x="3278" y="5"/>
                    </a:lnTo>
                    <a:lnTo>
                      <a:pt x="3189" y="0"/>
                    </a:lnTo>
                    <a:lnTo>
                      <a:pt x="3093" y="0"/>
                    </a:lnTo>
                    <a:lnTo>
                      <a:pt x="2989" y="4"/>
                    </a:lnTo>
                    <a:lnTo>
                      <a:pt x="2876" y="13"/>
                    </a:lnTo>
                    <a:lnTo>
                      <a:pt x="2753" y="28"/>
                    </a:lnTo>
                    <a:lnTo>
                      <a:pt x="2619" y="46"/>
                    </a:lnTo>
                    <a:lnTo>
                      <a:pt x="2561" y="55"/>
                    </a:lnTo>
                    <a:lnTo>
                      <a:pt x="2561" y="596"/>
                    </a:lnTo>
                    <a:lnTo>
                      <a:pt x="2637" y="544"/>
                    </a:lnTo>
                    <a:lnTo>
                      <a:pt x="2753" y="466"/>
                    </a:lnTo>
                    <a:lnTo>
                      <a:pt x="2858" y="397"/>
                    </a:lnTo>
                    <a:lnTo>
                      <a:pt x="2954" y="337"/>
                    </a:lnTo>
                    <a:lnTo>
                      <a:pt x="3042" y="286"/>
                    </a:lnTo>
                    <a:lnTo>
                      <a:pt x="3122" y="244"/>
                    </a:lnTo>
                    <a:lnTo>
                      <a:pt x="3196" y="210"/>
                    </a:lnTo>
                    <a:lnTo>
                      <a:pt x="3267" y="185"/>
                    </a:lnTo>
                    <a:lnTo>
                      <a:pt x="3333" y="169"/>
                    </a:lnTo>
                    <a:lnTo>
                      <a:pt x="3398" y="161"/>
                    </a:lnTo>
                    <a:lnTo>
                      <a:pt x="3463" y="162"/>
                    </a:lnTo>
                    <a:lnTo>
                      <a:pt x="3528" y="171"/>
                    </a:lnTo>
                    <a:lnTo>
                      <a:pt x="3594" y="188"/>
                    </a:lnTo>
                    <a:lnTo>
                      <a:pt x="3664" y="214"/>
                    </a:lnTo>
                    <a:lnTo>
                      <a:pt x="3739" y="247"/>
                    </a:lnTo>
                    <a:lnTo>
                      <a:pt x="3820" y="289"/>
                    </a:lnTo>
                    <a:lnTo>
                      <a:pt x="3907" y="339"/>
                    </a:lnTo>
                    <a:lnTo>
                      <a:pt x="4003" y="396"/>
                    </a:lnTo>
                    <a:lnTo>
                      <a:pt x="4109" y="462"/>
                    </a:lnTo>
                    <a:lnTo>
                      <a:pt x="4225" y="535"/>
                    </a:lnTo>
                    <a:lnTo>
                      <a:pt x="4344" y="606"/>
                    </a:lnTo>
                    <a:lnTo>
                      <a:pt x="4456" y="666"/>
                    </a:lnTo>
                    <a:lnTo>
                      <a:pt x="4561" y="714"/>
                    </a:lnTo>
                    <a:lnTo>
                      <a:pt x="4659" y="753"/>
                    </a:lnTo>
                    <a:lnTo>
                      <a:pt x="4660" y="75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8440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Arial"/>
              </a:rPr>
              <a:t>LEY 20.545</a:t>
            </a:r>
            <a:br>
              <a:rPr sz="4400"/>
            </a:b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Licencia por enfermedad grave del hijo menor de 1 año.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Quienes estén haciendo uso de esta licencia y el hijo tiene menos de 24 semanas, podrán seguir haciendo uso de ella y una vez terminada podrán ejercer el beneficio del postnatal parental, hasta que el hijo cumpla 24 semanas de edad o si la funcionaria opta por media jornada, el permiso se extiende hasta que el menor cumpla 30 sem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187280" y="980640"/>
            <a:ext cx="6616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0" y="6381720"/>
            <a:ext cx="5580000" cy="475920"/>
            <a:chOff x="0" y="6381720"/>
            <a:chExt cx="5580000" cy="475920"/>
          </a:xfrm>
        </p:grpSpPr>
        <p:grpSp>
          <p:nvGrpSpPr>
            <p:cNvPr id="248" name="Group 5"/>
            <p:cNvGrpSpPr/>
            <p:nvPr/>
          </p:nvGrpSpPr>
          <p:grpSpPr>
            <a:xfrm>
              <a:off x="808560" y="6502320"/>
              <a:ext cx="3614400" cy="278280"/>
              <a:chOff x="808560" y="6502320"/>
              <a:chExt cx="3614400" cy="278280"/>
            </a:xfrm>
          </p:grpSpPr>
          <p:sp>
            <p:nvSpPr>
              <p:cNvPr id="249" name="Freeform 6"/>
              <p:cNvSpPr/>
              <p:nvPr/>
            </p:nvSpPr>
            <p:spPr>
              <a:xfrm>
                <a:off x="808560" y="6502320"/>
                <a:ext cx="3614400" cy="278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85" y="493"/>
                    </a:moveTo>
                    <a:lnTo>
                      <a:pt x="3484" y="492"/>
                    </a:lnTo>
                    <a:lnTo>
                      <a:pt x="3487" y="494"/>
                    </a:lnTo>
                    <a:lnTo>
                      <a:pt x="3485" y="493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7"/>
              <p:cNvSpPr/>
              <p:nvPr/>
            </p:nvSpPr>
            <p:spPr>
              <a:xfrm>
                <a:off x="808560" y="6502320"/>
                <a:ext cx="3614400" cy="278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065" y="962"/>
                    </a:moveTo>
                    <a:lnTo>
                      <a:pt x="2123" y="959"/>
                    </a:lnTo>
                    <a:lnTo>
                      <a:pt x="2178" y="952"/>
                    </a:lnTo>
                    <a:lnTo>
                      <a:pt x="2230" y="942"/>
                    </a:lnTo>
                    <a:lnTo>
                      <a:pt x="2280" y="928"/>
                    </a:lnTo>
                    <a:lnTo>
                      <a:pt x="2329" y="911"/>
                    </a:lnTo>
                    <a:lnTo>
                      <a:pt x="2378" y="891"/>
                    </a:lnTo>
                    <a:lnTo>
                      <a:pt x="2428" y="866"/>
                    </a:lnTo>
                    <a:lnTo>
                      <a:pt x="2479" y="838"/>
                    </a:lnTo>
                    <a:lnTo>
                      <a:pt x="2532" y="806"/>
                    </a:lnTo>
                    <a:lnTo>
                      <a:pt x="2588" y="770"/>
                    </a:lnTo>
                    <a:lnTo>
                      <a:pt x="2647" y="730"/>
                    </a:lnTo>
                    <a:lnTo>
                      <a:pt x="2711" y="685"/>
                    </a:lnTo>
                    <a:lnTo>
                      <a:pt x="2781" y="637"/>
                    </a:lnTo>
                    <a:lnTo>
                      <a:pt x="2850" y="589"/>
                    </a:lnTo>
                    <a:lnTo>
                      <a:pt x="2912" y="546"/>
                    </a:lnTo>
                    <a:lnTo>
                      <a:pt x="2968" y="508"/>
                    </a:lnTo>
                    <a:lnTo>
                      <a:pt x="3018" y="475"/>
                    </a:lnTo>
                    <a:lnTo>
                      <a:pt x="3019" y="475"/>
                    </a:lnTo>
                    <a:lnTo>
                      <a:pt x="3018" y="475"/>
                    </a:lnTo>
                    <a:lnTo>
                      <a:pt x="2954" y="500"/>
                    </a:lnTo>
                    <a:lnTo>
                      <a:pt x="2886" y="531"/>
                    </a:lnTo>
                    <a:lnTo>
                      <a:pt x="2814" y="569"/>
                    </a:lnTo>
                    <a:lnTo>
                      <a:pt x="2737" y="616"/>
                    </a:lnTo>
                    <a:lnTo>
                      <a:pt x="2661" y="663"/>
                    </a:lnTo>
                    <a:lnTo>
                      <a:pt x="2593" y="706"/>
                    </a:lnTo>
                    <a:lnTo>
                      <a:pt x="2531" y="743"/>
                    </a:lnTo>
                    <a:lnTo>
                      <a:pt x="2474" y="775"/>
                    </a:lnTo>
                    <a:lnTo>
                      <a:pt x="2422" y="802"/>
                    </a:lnTo>
                    <a:lnTo>
                      <a:pt x="2374" y="824"/>
                    </a:lnTo>
                    <a:lnTo>
                      <a:pt x="2328" y="841"/>
                    </a:lnTo>
                    <a:lnTo>
                      <a:pt x="2285" y="852"/>
                    </a:lnTo>
                    <a:lnTo>
                      <a:pt x="2243" y="858"/>
                    </a:lnTo>
                    <a:lnTo>
                      <a:pt x="2201" y="858"/>
                    </a:lnTo>
                    <a:lnTo>
                      <a:pt x="2159" y="853"/>
                    </a:lnTo>
                    <a:lnTo>
                      <a:pt x="2116" y="842"/>
                    </a:lnTo>
                    <a:lnTo>
                      <a:pt x="2070" y="826"/>
                    </a:lnTo>
                    <a:lnTo>
                      <a:pt x="2022" y="804"/>
                    </a:lnTo>
                    <a:lnTo>
                      <a:pt x="1970" y="777"/>
                    </a:lnTo>
                    <a:lnTo>
                      <a:pt x="1913" y="744"/>
                    </a:lnTo>
                    <a:lnTo>
                      <a:pt x="1851" y="705"/>
                    </a:lnTo>
                    <a:lnTo>
                      <a:pt x="1783" y="660"/>
                    </a:lnTo>
                    <a:lnTo>
                      <a:pt x="1781" y="659"/>
                    </a:lnTo>
                    <a:lnTo>
                      <a:pt x="1781" y="944"/>
                    </a:lnTo>
                    <a:lnTo>
                      <a:pt x="1783" y="944"/>
                    </a:lnTo>
                    <a:lnTo>
                      <a:pt x="1863" y="954"/>
                    </a:lnTo>
                    <a:lnTo>
                      <a:pt x="1936" y="960"/>
                    </a:lnTo>
                    <a:lnTo>
                      <a:pt x="2003" y="963"/>
                    </a:lnTo>
                    <a:lnTo>
                      <a:pt x="2065" y="962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8"/>
              <p:cNvSpPr/>
              <p:nvPr/>
            </p:nvSpPr>
            <p:spPr>
              <a:xfrm>
                <a:off x="808560" y="6502320"/>
                <a:ext cx="3614400" cy="278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316" y="628"/>
                    </a:moveTo>
                    <a:lnTo>
                      <a:pt x="2342" y="622"/>
                    </a:lnTo>
                    <a:lnTo>
                      <a:pt x="2367" y="613"/>
                    </a:lnTo>
                    <a:lnTo>
                      <a:pt x="2393" y="599"/>
                    </a:lnTo>
                    <a:lnTo>
                      <a:pt x="2421" y="582"/>
                    </a:lnTo>
                    <a:lnTo>
                      <a:pt x="2450" y="561"/>
                    </a:lnTo>
                    <a:lnTo>
                      <a:pt x="2481" y="537"/>
                    </a:lnTo>
                    <a:lnTo>
                      <a:pt x="2515" y="508"/>
                    </a:lnTo>
                    <a:lnTo>
                      <a:pt x="2552" y="477"/>
                    </a:lnTo>
                    <a:lnTo>
                      <a:pt x="2550" y="478"/>
                    </a:lnTo>
                    <a:lnTo>
                      <a:pt x="2544" y="481"/>
                    </a:lnTo>
                    <a:lnTo>
                      <a:pt x="2534" y="486"/>
                    </a:lnTo>
                    <a:lnTo>
                      <a:pt x="2520" y="492"/>
                    </a:lnTo>
                    <a:lnTo>
                      <a:pt x="2502" y="498"/>
                    </a:lnTo>
                    <a:lnTo>
                      <a:pt x="2481" y="503"/>
                    </a:lnTo>
                    <a:lnTo>
                      <a:pt x="2456" y="508"/>
                    </a:lnTo>
                    <a:lnTo>
                      <a:pt x="2428" y="511"/>
                    </a:lnTo>
                    <a:lnTo>
                      <a:pt x="2397" y="513"/>
                    </a:lnTo>
                    <a:lnTo>
                      <a:pt x="2363" y="511"/>
                    </a:lnTo>
                    <a:lnTo>
                      <a:pt x="2325" y="506"/>
                    </a:lnTo>
                    <a:lnTo>
                      <a:pt x="2285" y="498"/>
                    </a:lnTo>
                    <a:lnTo>
                      <a:pt x="2242" y="485"/>
                    </a:lnTo>
                    <a:lnTo>
                      <a:pt x="2196" y="467"/>
                    </a:lnTo>
                    <a:lnTo>
                      <a:pt x="2148" y="444"/>
                    </a:lnTo>
                    <a:lnTo>
                      <a:pt x="2097" y="414"/>
                    </a:lnTo>
                    <a:lnTo>
                      <a:pt x="2044" y="378"/>
                    </a:lnTo>
                    <a:lnTo>
                      <a:pt x="1989" y="334"/>
                    </a:lnTo>
                    <a:lnTo>
                      <a:pt x="1932" y="282"/>
                    </a:lnTo>
                    <a:lnTo>
                      <a:pt x="1872" y="222"/>
                    </a:lnTo>
                    <a:lnTo>
                      <a:pt x="1839" y="189"/>
                    </a:lnTo>
                    <a:lnTo>
                      <a:pt x="1802" y="158"/>
                    </a:lnTo>
                    <a:lnTo>
                      <a:pt x="1781" y="143"/>
                    </a:lnTo>
                    <a:lnTo>
                      <a:pt x="1781" y="322"/>
                    </a:lnTo>
                    <a:lnTo>
                      <a:pt x="1808" y="337"/>
                    </a:lnTo>
                    <a:lnTo>
                      <a:pt x="1877" y="389"/>
                    </a:lnTo>
                    <a:lnTo>
                      <a:pt x="1939" y="435"/>
                    </a:lnTo>
                    <a:lnTo>
                      <a:pt x="1995" y="476"/>
                    </a:lnTo>
                    <a:lnTo>
                      <a:pt x="2046" y="512"/>
                    </a:lnTo>
                    <a:lnTo>
                      <a:pt x="2091" y="543"/>
                    </a:lnTo>
                    <a:lnTo>
                      <a:pt x="2132" y="569"/>
                    </a:lnTo>
                    <a:lnTo>
                      <a:pt x="2169" y="590"/>
                    </a:lnTo>
                    <a:lnTo>
                      <a:pt x="2203" y="606"/>
                    </a:lnTo>
                    <a:lnTo>
                      <a:pt x="2234" y="618"/>
                    </a:lnTo>
                    <a:lnTo>
                      <a:pt x="2263" y="626"/>
                    </a:lnTo>
                    <a:lnTo>
                      <a:pt x="2290" y="629"/>
                    </a:lnTo>
                    <a:lnTo>
                      <a:pt x="2316" y="628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9"/>
              <p:cNvSpPr/>
              <p:nvPr/>
            </p:nvSpPr>
            <p:spPr>
              <a:xfrm>
                <a:off x="808560" y="6502320"/>
                <a:ext cx="3614400" cy="278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55" y="467"/>
                    </a:moveTo>
                    <a:lnTo>
                      <a:pt x="3426" y="442"/>
                    </a:lnTo>
                    <a:lnTo>
                      <a:pt x="3399" y="421"/>
                    </a:lnTo>
                    <a:lnTo>
                      <a:pt x="3374" y="403"/>
                    </a:lnTo>
                    <a:lnTo>
                      <a:pt x="3350" y="388"/>
                    </a:lnTo>
                    <a:lnTo>
                      <a:pt x="3327" y="377"/>
                    </a:lnTo>
                    <a:lnTo>
                      <a:pt x="3304" y="369"/>
                    </a:lnTo>
                    <a:lnTo>
                      <a:pt x="3281" y="365"/>
                    </a:lnTo>
                    <a:lnTo>
                      <a:pt x="3256" y="364"/>
                    </a:lnTo>
                    <a:lnTo>
                      <a:pt x="3231" y="368"/>
                    </a:lnTo>
                    <a:lnTo>
                      <a:pt x="3203" y="375"/>
                    </a:lnTo>
                    <a:lnTo>
                      <a:pt x="3173" y="386"/>
                    </a:lnTo>
                    <a:lnTo>
                      <a:pt x="3140" y="402"/>
                    </a:lnTo>
                    <a:lnTo>
                      <a:pt x="3104" y="422"/>
                    </a:lnTo>
                    <a:lnTo>
                      <a:pt x="3063" y="446"/>
                    </a:lnTo>
                    <a:lnTo>
                      <a:pt x="3019" y="475"/>
                    </a:lnTo>
                    <a:lnTo>
                      <a:pt x="3077" y="456"/>
                    </a:lnTo>
                    <a:lnTo>
                      <a:pt x="3132" y="442"/>
                    </a:lnTo>
                    <a:lnTo>
                      <a:pt x="3183" y="433"/>
                    </a:lnTo>
                    <a:lnTo>
                      <a:pt x="3229" y="429"/>
                    </a:lnTo>
                    <a:lnTo>
                      <a:pt x="3271" y="428"/>
                    </a:lnTo>
                    <a:lnTo>
                      <a:pt x="3310" y="430"/>
                    </a:lnTo>
                    <a:lnTo>
                      <a:pt x="3344" y="434"/>
                    </a:lnTo>
                    <a:lnTo>
                      <a:pt x="3375" y="441"/>
                    </a:lnTo>
                    <a:lnTo>
                      <a:pt x="3402" y="449"/>
                    </a:lnTo>
                    <a:lnTo>
                      <a:pt x="3425" y="457"/>
                    </a:lnTo>
                    <a:lnTo>
                      <a:pt x="3444" y="466"/>
                    </a:lnTo>
                    <a:lnTo>
                      <a:pt x="3459" y="475"/>
                    </a:lnTo>
                    <a:lnTo>
                      <a:pt x="3471" y="483"/>
                    </a:lnTo>
                    <a:lnTo>
                      <a:pt x="3480" y="489"/>
                    </a:lnTo>
                    <a:lnTo>
                      <a:pt x="3484" y="492"/>
                    </a:lnTo>
                    <a:lnTo>
                      <a:pt x="3455" y="467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10"/>
            <p:cNvGrpSpPr/>
            <p:nvPr/>
          </p:nvGrpSpPr>
          <p:grpSpPr>
            <a:xfrm>
              <a:off x="980640" y="6381720"/>
              <a:ext cx="3697200" cy="258120"/>
              <a:chOff x="980640" y="6381720"/>
              <a:chExt cx="3697200" cy="258120"/>
            </a:xfrm>
          </p:grpSpPr>
          <p:sp>
            <p:nvSpPr>
              <p:cNvPr id="254" name="Freeform 11"/>
              <p:cNvSpPr/>
              <p:nvPr/>
            </p:nvSpPr>
            <p:spPr>
              <a:xfrm>
                <a:off x="980640" y="6381720"/>
                <a:ext cx="3697200" cy="258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258120"/>
                  <a:gd name="textAreaBottom" fmla="*/ 258480 h 258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2942" y="773"/>
                    </a:moveTo>
                    <a:lnTo>
                      <a:pt x="2880" y="731"/>
                    </a:lnTo>
                    <a:lnTo>
                      <a:pt x="2812" y="683"/>
                    </a:lnTo>
                    <a:lnTo>
                      <a:pt x="2735" y="628"/>
                    </a:lnTo>
                    <a:lnTo>
                      <a:pt x="2651" y="566"/>
                    </a:lnTo>
                    <a:lnTo>
                      <a:pt x="2557" y="498"/>
                    </a:lnTo>
                    <a:lnTo>
                      <a:pt x="2449" y="423"/>
                    </a:lnTo>
                    <a:lnTo>
                      <a:pt x="2349" y="355"/>
                    </a:lnTo>
                    <a:lnTo>
                      <a:pt x="2254" y="293"/>
                    </a:lnTo>
                    <a:lnTo>
                      <a:pt x="2164" y="238"/>
                    </a:lnTo>
                    <a:lnTo>
                      <a:pt x="2078" y="189"/>
                    </a:lnTo>
                    <a:lnTo>
                      <a:pt x="1995" y="146"/>
                    </a:lnTo>
                    <a:lnTo>
                      <a:pt x="1913" y="108"/>
                    </a:lnTo>
                    <a:lnTo>
                      <a:pt x="1832" y="76"/>
                    </a:lnTo>
                    <a:lnTo>
                      <a:pt x="1750" y="50"/>
                    </a:lnTo>
                    <a:lnTo>
                      <a:pt x="1667" y="30"/>
                    </a:lnTo>
                    <a:lnTo>
                      <a:pt x="1615" y="20"/>
                    </a:lnTo>
                    <a:lnTo>
                      <a:pt x="1615" y="163"/>
                    </a:lnTo>
                    <a:lnTo>
                      <a:pt x="1646" y="163"/>
                    </a:lnTo>
                    <a:lnTo>
                      <a:pt x="1711" y="172"/>
                    </a:lnTo>
                    <a:lnTo>
                      <a:pt x="1778" y="189"/>
                    </a:lnTo>
                    <a:lnTo>
                      <a:pt x="1848" y="215"/>
                    </a:lnTo>
                    <a:lnTo>
                      <a:pt x="1923" y="249"/>
                    </a:lnTo>
                    <a:lnTo>
                      <a:pt x="2003" y="290"/>
                    </a:lnTo>
                    <a:lnTo>
                      <a:pt x="2091" y="340"/>
                    </a:lnTo>
                    <a:lnTo>
                      <a:pt x="2187" y="398"/>
                    </a:lnTo>
                    <a:lnTo>
                      <a:pt x="2292" y="463"/>
                    </a:lnTo>
                    <a:lnTo>
                      <a:pt x="2409" y="537"/>
                    </a:lnTo>
                    <a:lnTo>
                      <a:pt x="2528" y="608"/>
                    </a:lnTo>
                    <a:lnTo>
                      <a:pt x="2640" y="667"/>
                    </a:lnTo>
                    <a:lnTo>
                      <a:pt x="2745" y="715"/>
                    </a:lnTo>
                    <a:lnTo>
                      <a:pt x="2843" y="754"/>
                    </a:lnTo>
                    <a:lnTo>
                      <a:pt x="2934" y="783"/>
                    </a:lnTo>
                    <a:lnTo>
                      <a:pt x="2974" y="793"/>
                    </a:lnTo>
                    <a:lnTo>
                      <a:pt x="2942" y="773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2"/>
              <p:cNvSpPr/>
              <p:nvPr/>
            </p:nvSpPr>
            <p:spPr>
              <a:xfrm>
                <a:off x="980640" y="6381720"/>
                <a:ext cx="3697200" cy="258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258120"/>
                  <a:gd name="textAreaBottom" fmla="*/ 258480 h 258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543" y="742"/>
                    </a:moveTo>
                    <a:lnTo>
                      <a:pt x="3556" y="732"/>
                    </a:lnTo>
                    <a:lnTo>
                      <a:pt x="3564" y="726"/>
                    </a:lnTo>
                    <a:lnTo>
                      <a:pt x="3566" y="724"/>
                    </a:lnTo>
                    <a:lnTo>
                      <a:pt x="3530" y="750"/>
                    </a:lnTo>
                    <a:lnTo>
                      <a:pt x="3543" y="742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3"/>
              <p:cNvSpPr/>
              <p:nvPr/>
            </p:nvSpPr>
            <p:spPr>
              <a:xfrm>
                <a:off x="980640" y="6381720"/>
                <a:ext cx="3697200" cy="258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258120"/>
                  <a:gd name="textAreaBottom" fmla="*/ 258480 h 258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282" y="889"/>
                    </a:moveTo>
                    <a:lnTo>
                      <a:pt x="3317" y="880"/>
                    </a:lnTo>
                    <a:lnTo>
                      <a:pt x="3352" y="865"/>
                    </a:lnTo>
                    <a:lnTo>
                      <a:pt x="3389" y="845"/>
                    </a:lnTo>
                    <a:lnTo>
                      <a:pt x="3428" y="821"/>
                    </a:lnTo>
                    <a:lnTo>
                      <a:pt x="3470" y="793"/>
                    </a:lnTo>
                    <a:lnTo>
                      <a:pt x="3516" y="760"/>
                    </a:lnTo>
                    <a:lnTo>
                      <a:pt x="3530" y="750"/>
                    </a:lnTo>
                    <a:lnTo>
                      <a:pt x="3524" y="754"/>
                    </a:lnTo>
                    <a:lnTo>
                      <a:pt x="3500" y="767"/>
                    </a:lnTo>
                    <a:lnTo>
                      <a:pt x="3471" y="781"/>
                    </a:lnTo>
                    <a:lnTo>
                      <a:pt x="3435" y="794"/>
                    </a:lnTo>
                    <a:lnTo>
                      <a:pt x="3394" y="806"/>
                    </a:lnTo>
                    <a:lnTo>
                      <a:pt x="3347" y="816"/>
                    </a:lnTo>
                    <a:lnTo>
                      <a:pt x="3294" y="823"/>
                    </a:lnTo>
                    <a:lnTo>
                      <a:pt x="3234" y="827"/>
                    </a:lnTo>
                    <a:lnTo>
                      <a:pt x="3169" y="825"/>
                    </a:lnTo>
                    <a:lnTo>
                      <a:pt x="3097" y="818"/>
                    </a:lnTo>
                    <a:lnTo>
                      <a:pt x="3019" y="804"/>
                    </a:lnTo>
                    <a:lnTo>
                      <a:pt x="2974" y="793"/>
                    </a:lnTo>
                    <a:lnTo>
                      <a:pt x="2998" y="808"/>
                    </a:lnTo>
                    <a:lnTo>
                      <a:pt x="3048" y="837"/>
                    </a:lnTo>
                    <a:lnTo>
                      <a:pt x="3094" y="860"/>
                    </a:lnTo>
                    <a:lnTo>
                      <a:pt x="3136" y="877"/>
                    </a:lnTo>
                    <a:lnTo>
                      <a:pt x="3175" y="888"/>
                    </a:lnTo>
                    <a:lnTo>
                      <a:pt x="3212" y="894"/>
                    </a:lnTo>
                    <a:lnTo>
                      <a:pt x="3248" y="894"/>
                    </a:lnTo>
                    <a:lnTo>
                      <a:pt x="3282" y="889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14"/>
            <p:cNvGrpSpPr/>
            <p:nvPr/>
          </p:nvGrpSpPr>
          <p:grpSpPr>
            <a:xfrm>
              <a:off x="0" y="6428160"/>
              <a:ext cx="5580000" cy="429480"/>
              <a:chOff x="0" y="6428160"/>
              <a:chExt cx="5580000" cy="429480"/>
            </a:xfrm>
          </p:grpSpPr>
          <p:sp>
            <p:nvSpPr>
              <p:cNvPr id="258" name="Freeform 15"/>
              <p:cNvSpPr/>
              <p:nvPr/>
            </p:nvSpPr>
            <p:spPr>
              <a:xfrm>
                <a:off x="0" y="6428160"/>
                <a:ext cx="5580000" cy="42948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065" y="923"/>
                    </a:moveTo>
                    <a:lnTo>
                      <a:pt x="5101" y="916"/>
                    </a:lnTo>
                    <a:lnTo>
                      <a:pt x="5136" y="904"/>
                    </a:lnTo>
                    <a:lnTo>
                      <a:pt x="5172" y="887"/>
                    </a:lnTo>
                    <a:lnTo>
                      <a:pt x="5209" y="864"/>
                    </a:lnTo>
                    <a:lnTo>
                      <a:pt x="5247" y="836"/>
                    </a:lnTo>
                    <a:lnTo>
                      <a:pt x="5289" y="803"/>
                    </a:lnTo>
                    <a:lnTo>
                      <a:pt x="5333" y="765"/>
                    </a:lnTo>
                    <a:lnTo>
                      <a:pt x="5378" y="726"/>
                    </a:lnTo>
                    <a:lnTo>
                      <a:pt x="5372" y="731"/>
                    </a:lnTo>
                    <a:lnTo>
                      <a:pt x="5359" y="741"/>
                    </a:lnTo>
                    <a:lnTo>
                      <a:pt x="5341" y="752"/>
                    </a:lnTo>
                    <a:lnTo>
                      <a:pt x="5317" y="766"/>
                    </a:lnTo>
                    <a:lnTo>
                      <a:pt x="5287" y="779"/>
                    </a:lnTo>
                    <a:lnTo>
                      <a:pt x="5252" y="793"/>
                    </a:lnTo>
                    <a:lnTo>
                      <a:pt x="5210" y="805"/>
                    </a:lnTo>
                    <a:lnTo>
                      <a:pt x="5163" y="815"/>
                    </a:lnTo>
                    <a:lnTo>
                      <a:pt x="5110" y="822"/>
                    </a:lnTo>
                    <a:lnTo>
                      <a:pt x="5051" y="825"/>
                    </a:lnTo>
                    <a:lnTo>
                      <a:pt x="4985" y="824"/>
                    </a:lnTo>
                    <a:lnTo>
                      <a:pt x="4913" y="817"/>
                    </a:lnTo>
                    <a:lnTo>
                      <a:pt x="4835" y="803"/>
                    </a:lnTo>
                    <a:lnTo>
                      <a:pt x="4750" y="782"/>
                    </a:lnTo>
                    <a:lnTo>
                      <a:pt x="4660" y="753"/>
                    </a:lnTo>
                    <a:lnTo>
                      <a:pt x="4729" y="797"/>
                    </a:lnTo>
                    <a:lnTo>
                      <a:pt x="4792" y="834"/>
                    </a:lnTo>
                    <a:lnTo>
                      <a:pt x="4848" y="865"/>
                    </a:lnTo>
                    <a:lnTo>
                      <a:pt x="4899" y="889"/>
                    </a:lnTo>
                    <a:lnTo>
                      <a:pt x="4946" y="907"/>
                    </a:lnTo>
                    <a:lnTo>
                      <a:pt x="4988" y="918"/>
                    </a:lnTo>
                    <a:lnTo>
                      <a:pt x="5028" y="923"/>
                    </a:lnTo>
                    <a:lnTo>
                      <a:pt x="5065" y="92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6"/>
              <p:cNvSpPr/>
              <p:nvPr/>
            </p:nvSpPr>
            <p:spPr>
              <a:xfrm>
                <a:off x="0" y="6428160"/>
                <a:ext cx="5580000" cy="42948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2587" y="1358"/>
                    </a:moveTo>
                    <a:lnTo>
                      <a:pt x="2657" y="1323"/>
                    </a:lnTo>
                    <a:lnTo>
                      <a:pt x="2722" y="1284"/>
                    </a:lnTo>
                    <a:lnTo>
                      <a:pt x="2783" y="1241"/>
                    </a:lnTo>
                    <a:lnTo>
                      <a:pt x="2839" y="1194"/>
                    </a:lnTo>
                    <a:lnTo>
                      <a:pt x="2890" y="1143"/>
                    </a:lnTo>
                    <a:lnTo>
                      <a:pt x="2982" y="1050"/>
                    </a:lnTo>
                    <a:lnTo>
                      <a:pt x="3071" y="970"/>
                    </a:lnTo>
                    <a:lnTo>
                      <a:pt x="3156" y="903"/>
                    </a:lnTo>
                    <a:lnTo>
                      <a:pt x="3238" y="846"/>
                    </a:lnTo>
                    <a:lnTo>
                      <a:pt x="3316" y="801"/>
                    </a:lnTo>
                    <a:lnTo>
                      <a:pt x="3391" y="764"/>
                    </a:lnTo>
                    <a:lnTo>
                      <a:pt x="3462" y="737"/>
                    </a:lnTo>
                    <a:lnTo>
                      <a:pt x="3528" y="717"/>
                    </a:lnTo>
                    <a:lnTo>
                      <a:pt x="3590" y="704"/>
                    </a:lnTo>
                    <a:lnTo>
                      <a:pt x="3648" y="697"/>
                    </a:lnTo>
                    <a:lnTo>
                      <a:pt x="3701" y="694"/>
                    </a:lnTo>
                    <a:lnTo>
                      <a:pt x="3749" y="696"/>
                    </a:lnTo>
                    <a:lnTo>
                      <a:pt x="3793" y="701"/>
                    </a:lnTo>
                    <a:lnTo>
                      <a:pt x="3831" y="709"/>
                    </a:lnTo>
                    <a:lnTo>
                      <a:pt x="3863" y="717"/>
                    </a:lnTo>
                    <a:lnTo>
                      <a:pt x="3890" y="726"/>
                    </a:lnTo>
                    <a:lnTo>
                      <a:pt x="3912" y="735"/>
                    </a:lnTo>
                    <a:lnTo>
                      <a:pt x="3927" y="742"/>
                    </a:lnTo>
                    <a:lnTo>
                      <a:pt x="3937" y="748"/>
                    </a:lnTo>
                    <a:lnTo>
                      <a:pt x="3940" y="749"/>
                    </a:lnTo>
                    <a:lnTo>
                      <a:pt x="3882" y="701"/>
                    </a:lnTo>
                    <a:lnTo>
                      <a:pt x="3830" y="657"/>
                    </a:lnTo>
                    <a:lnTo>
                      <a:pt x="3782" y="619"/>
                    </a:lnTo>
                    <a:lnTo>
                      <a:pt x="3737" y="587"/>
                    </a:lnTo>
                    <a:lnTo>
                      <a:pt x="3695" y="560"/>
                    </a:lnTo>
                    <a:lnTo>
                      <a:pt x="3655" y="540"/>
                    </a:lnTo>
                    <a:lnTo>
                      <a:pt x="3616" y="525"/>
                    </a:lnTo>
                    <a:lnTo>
                      <a:pt x="3576" y="517"/>
                    </a:lnTo>
                    <a:lnTo>
                      <a:pt x="3536" y="515"/>
                    </a:lnTo>
                    <a:lnTo>
                      <a:pt x="3494" y="520"/>
                    </a:lnTo>
                    <a:lnTo>
                      <a:pt x="3449" y="531"/>
                    </a:lnTo>
                    <a:lnTo>
                      <a:pt x="3402" y="550"/>
                    </a:lnTo>
                    <a:lnTo>
                      <a:pt x="3349" y="575"/>
                    </a:lnTo>
                    <a:lnTo>
                      <a:pt x="3292" y="608"/>
                    </a:lnTo>
                    <a:lnTo>
                      <a:pt x="3229" y="648"/>
                    </a:lnTo>
                    <a:lnTo>
                      <a:pt x="3158" y="696"/>
                    </a:lnTo>
                    <a:lnTo>
                      <a:pt x="3080" y="751"/>
                    </a:lnTo>
                    <a:lnTo>
                      <a:pt x="2994" y="814"/>
                    </a:lnTo>
                    <a:lnTo>
                      <a:pt x="2898" y="886"/>
                    </a:lnTo>
                    <a:lnTo>
                      <a:pt x="2791" y="965"/>
                    </a:lnTo>
                    <a:lnTo>
                      <a:pt x="2668" y="1034"/>
                    </a:lnTo>
                    <a:lnTo>
                      <a:pt x="2561" y="1080"/>
                    </a:lnTo>
                    <a:lnTo>
                      <a:pt x="2561" y="1369"/>
                    </a:lnTo>
                    <a:lnTo>
                      <a:pt x="2587" y="1358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7"/>
              <p:cNvSpPr/>
              <p:nvPr/>
            </p:nvSpPr>
            <p:spPr>
              <a:xfrm>
                <a:off x="0" y="6428160"/>
                <a:ext cx="5580000" cy="42948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380" y="725"/>
                    </a:moveTo>
                    <a:lnTo>
                      <a:pt x="5383" y="722"/>
                    </a:lnTo>
                    <a:lnTo>
                      <a:pt x="5378" y="726"/>
                    </a:lnTo>
                    <a:lnTo>
                      <a:pt x="5380" y="725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8"/>
              <p:cNvSpPr/>
              <p:nvPr/>
            </p:nvSpPr>
            <p:spPr>
              <a:xfrm>
                <a:off x="0" y="6428160"/>
                <a:ext cx="5580000" cy="42948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4660" y="753"/>
                    </a:moveTo>
                    <a:lnTo>
                      <a:pt x="4582" y="701"/>
                    </a:lnTo>
                    <a:lnTo>
                      <a:pt x="4496" y="642"/>
                    </a:lnTo>
                    <a:lnTo>
                      <a:pt x="4400" y="576"/>
                    </a:lnTo>
                    <a:lnTo>
                      <a:pt x="4293" y="502"/>
                    </a:lnTo>
                    <a:lnTo>
                      <a:pt x="4186" y="427"/>
                    </a:lnTo>
                    <a:lnTo>
                      <a:pt x="4087" y="359"/>
                    </a:lnTo>
                    <a:lnTo>
                      <a:pt x="3995" y="298"/>
                    </a:lnTo>
                    <a:lnTo>
                      <a:pt x="3909" y="242"/>
                    </a:lnTo>
                    <a:lnTo>
                      <a:pt x="3827" y="192"/>
                    </a:lnTo>
                    <a:lnTo>
                      <a:pt x="3748" y="149"/>
                    </a:lnTo>
                    <a:lnTo>
                      <a:pt x="3672" y="111"/>
                    </a:lnTo>
                    <a:lnTo>
                      <a:pt x="3596" y="79"/>
                    </a:lnTo>
                    <a:lnTo>
                      <a:pt x="3521" y="52"/>
                    </a:lnTo>
                    <a:lnTo>
                      <a:pt x="3443" y="31"/>
                    </a:lnTo>
                    <a:lnTo>
                      <a:pt x="3363" y="16"/>
                    </a:lnTo>
                    <a:lnTo>
                      <a:pt x="3278" y="5"/>
                    </a:lnTo>
                    <a:lnTo>
                      <a:pt x="3189" y="0"/>
                    </a:lnTo>
                    <a:lnTo>
                      <a:pt x="3093" y="0"/>
                    </a:lnTo>
                    <a:lnTo>
                      <a:pt x="2989" y="4"/>
                    </a:lnTo>
                    <a:lnTo>
                      <a:pt x="2876" y="13"/>
                    </a:lnTo>
                    <a:lnTo>
                      <a:pt x="2753" y="28"/>
                    </a:lnTo>
                    <a:lnTo>
                      <a:pt x="2619" y="46"/>
                    </a:lnTo>
                    <a:lnTo>
                      <a:pt x="2561" y="55"/>
                    </a:lnTo>
                    <a:lnTo>
                      <a:pt x="2561" y="596"/>
                    </a:lnTo>
                    <a:lnTo>
                      <a:pt x="2637" y="544"/>
                    </a:lnTo>
                    <a:lnTo>
                      <a:pt x="2753" y="466"/>
                    </a:lnTo>
                    <a:lnTo>
                      <a:pt x="2858" y="397"/>
                    </a:lnTo>
                    <a:lnTo>
                      <a:pt x="2954" y="337"/>
                    </a:lnTo>
                    <a:lnTo>
                      <a:pt x="3042" y="286"/>
                    </a:lnTo>
                    <a:lnTo>
                      <a:pt x="3122" y="244"/>
                    </a:lnTo>
                    <a:lnTo>
                      <a:pt x="3196" y="210"/>
                    </a:lnTo>
                    <a:lnTo>
                      <a:pt x="3267" y="185"/>
                    </a:lnTo>
                    <a:lnTo>
                      <a:pt x="3333" y="169"/>
                    </a:lnTo>
                    <a:lnTo>
                      <a:pt x="3398" y="161"/>
                    </a:lnTo>
                    <a:lnTo>
                      <a:pt x="3463" y="162"/>
                    </a:lnTo>
                    <a:lnTo>
                      <a:pt x="3528" y="171"/>
                    </a:lnTo>
                    <a:lnTo>
                      <a:pt x="3594" y="188"/>
                    </a:lnTo>
                    <a:lnTo>
                      <a:pt x="3664" y="214"/>
                    </a:lnTo>
                    <a:lnTo>
                      <a:pt x="3739" y="247"/>
                    </a:lnTo>
                    <a:lnTo>
                      <a:pt x="3820" y="289"/>
                    </a:lnTo>
                    <a:lnTo>
                      <a:pt x="3907" y="339"/>
                    </a:lnTo>
                    <a:lnTo>
                      <a:pt x="4003" y="396"/>
                    </a:lnTo>
                    <a:lnTo>
                      <a:pt x="4109" y="462"/>
                    </a:lnTo>
                    <a:lnTo>
                      <a:pt x="4225" y="535"/>
                    </a:lnTo>
                    <a:lnTo>
                      <a:pt x="4344" y="606"/>
                    </a:lnTo>
                    <a:lnTo>
                      <a:pt x="4456" y="666"/>
                    </a:lnTo>
                    <a:lnTo>
                      <a:pt x="4561" y="714"/>
                    </a:lnTo>
                    <a:lnTo>
                      <a:pt x="4659" y="753"/>
                    </a:lnTo>
                    <a:lnTo>
                      <a:pt x="4660" y="75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8440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00000"/>
                </a:solidFill>
                <a:latin typeface="Arial"/>
              </a:rPr>
              <a:t>LEY 20.545</a:t>
            </a:r>
            <a:br>
              <a:rPr sz="4000"/>
            </a:br>
            <a:br>
              <a:rPr sz="4000"/>
            </a:br>
            <a:r>
              <a:rPr b="1" lang="es-CL" sz="3600" spc="-1" strike="noStrike" u="sng">
                <a:solidFill>
                  <a:srgbClr val="000000"/>
                </a:solidFill>
                <a:uFillTx/>
                <a:latin typeface="Arial"/>
              </a:rPr>
              <a:t>DE LA PROTECCIÓN A LA MATERNIDAD:</a:t>
            </a:r>
            <a:br>
              <a:rPr sz="3600"/>
            </a:b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dos los derechos anteriormente señalados son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RRENUNCIAB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la ley los entrega a todas las mujeres que se encuentran vinculadas a una relación laboral por el hecho de estar embarazadas.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 lo tanto, no se puede negociar la entrada anticipada de la trabajadora, ofreciéndole alguna compensación econó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187280" y="980640"/>
            <a:ext cx="6616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0" y="6453360"/>
            <a:ext cx="5580000" cy="404640"/>
            <a:chOff x="0" y="6453360"/>
            <a:chExt cx="5580000" cy="404640"/>
          </a:xfrm>
        </p:grpSpPr>
        <p:grpSp>
          <p:nvGrpSpPr>
            <p:cNvPr id="265" name="Group 5"/>
            <p:cNvGrpSpPr/>
            <p:nvPr/>
          </p:nvGrpSpPr>
          <p:grpSpPr>
            <a:xfrm>
              <a:off x="808560" y="6555960"/>
              <a:ext cx="3614400" cy="236160"/>
              <a:chOff x="808560" y="6555960"/>
              <a:chExt cx="3614400" cy="236160"/>
            </a:xfrm>
          </p:grpSpPr>
          <p:sp>
            <p:nvSpPr>
              <p:cNvPr id="266" name="Freeform 6"/>
              <p:cNvSpPr/>
              <p:nvPr/>
            </p:nvSpPr>
            <p:spPr>
              <a:xfrm>
                <a:off x="808560" y="6555960"/>
                <a:ext cx="3614400" cy="2361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85" y="493"/>
                    </a:moveTo>
                    <a:lnTo>
                      <a:pt x="3484" y="492"/>
                    </a:lnTo>
                    <a:lnTo>
                      <a:pt x="3487" y="494"/>
                    </a:lnTo>
                    <a:lnTo>
                      <a:pt x="3485" y="493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808560" y="6555960"/>
                <a:ext cx="3614400" cy="2361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065" y="962"/>
                    </a:moveTo>
                    <a:lnTo>
                      <a:pt x="2123" y="959"/>
                    </a:lnTo>
                    <a:lnTo>
                      <a:pt x="2178" y="952"/>
                    </a:lnTo>
                    <a:lnTo>
                      <a:pt x="2230" y="942"/>
                    </a:lnTo>
                    <a:lnTo>
                      <a:pt x="2280" y="928"/>
                    </a:lnTo>
                    <a:lnTo>
                      <a:pt x="2329" y="911"/>
                    </a:lnTo>
                    <a:lnTo>
                      <a:pt x="2378" y="891"/>
                    </a:lnTo>
                    <a:lnTo>
                      <a:pt x="2428" y="866"/>
                    </a:lnTo>
                    <a:lnTo>
                      <a:pt x="2479" y="838"/>
                    </a:lnTo>
                    <a:lnTo>
                      <a:pt x="2532" y="806"/>
                    </a:lnTo>
                    <a:lnTo>
                      <a:pt x="2588" y="770"/>
                    </a:lnTo>
                    <a:lnTo>
                      <a:pt x="2647" y="730"/>
                    </a:lnTo>
                    <a:lnTo>
                      <a:pt x="2711" y="685"/>
                    </a:lnTo>
                    <a:lnTo>
                      <a:pt x="2781" y="637"/>
                    </a:lnTo>
                    <a:lnTo>
                      <a:pt x="2850" y="589"/>
                    </a:lnTo>
                    <a:lnTo>
                      <a:pt x="2912" y="546"/>
                    </a:lnTo>
                    <a:lnTo>
                      <a:pt x="2968" y="508"/>
                    </a:lnTo>
                    <a:lnTo>
                      <a:pt x="3018" y="475"/>
                    </a:lnTo>
                    <a:lnTo>
                      <a:pt x="3019" y="475"/>
                    </a:lnTo>
                    <a:lnTo>
                      <a:pt x="3018" y="475"/>
                    </a:lnTo>
                    <a:lnTo>
                      <a:pt x="2954" y="500"/>
                    </a:lnTo>
                    <a:lnTo>
                      <a:pt x="2886" y="531"/>
                    </a:lnTo>
                    <a:lnTo>
                      <a:pt x="2814" y="569"/>
                    </a:lnTo>
                    <a:lnTo>
                      <a:pt x="2737" y="616"/>
                    </a:lnTo>
                    <a:lnTo>
                      <a:pt x="2661" y="663"/>
                    </a:lnTo>
                    <a:lnTo>
                      <a:pt x="2593" y="706"/>
                    </a:lnTo>
                    <a:lnTo>
                      <a:pt x="2531" y="743"/>
                    </a:lnTo>
                    <a:lnTo>
                      <a:pt x="2474" y="775"/>
                    </a:lnTo>
                    <a:lnTo>
                      <a:pt x="2422" y="802"/>
                    </a:lnTo>
                    <a:lnTo>
                      <a:pt x="2374" y="824"/>
                    </a:lnTo>
                    <a:lnTo>
                      <a:pt x="2328" y="841"/>
                    </a:lnTo>
                    <a:lnTo>
                      <a:pt x="2285" y="852"/>
                    </a:lnTo>
                    <a:lnTo>
                      <a:pt x="2243" y="858"/>
                    </a:lnTo>
                    <a:lnTo>
                      <a:pt x="2201" y="858"/>
                    </a:lnTo>
                    <a:lnTo>
                      <a:pt x="2159" y="853"/>
                    </a:lnTo>
                    <a:lnTo>
                      <a:pt x="2116" y="842"/>
                    </a:lnTo>
                    <a:lnTo>
                      <a:pt x="2070" y="826"/>
                    </a:lnTo>
                    <a:lnTo>
                      <a:pt x="2022" y="804"/>
                    </a:lnTo>
                    <a:lnTo>
                      <a:pt x="1970" y="777"/>
                    </a:lnTo>
                    <a:lnTo>
                      <a:pt x="1913" y="744"/>
                    </a:lnTo>
                    <a:lnTo>
                      <a:pt x="1851" y="705"/>
                    </a:lnTo>
                    <a:lnTo>
                      <a:pt x="1783" y="660"/>
                    </a:lnTo>
                    <a:lnTo>
                      <a:pt x="1781" y="659"/>
                    </a:lnTo>
                    <a:lnTo>
                      <a:pt x="1781" y="944"/>
                    </a:lnTo>
                    <a:lnTo>
                      <a:pt x="1783" y="944"/>
                    </a:lnTo>
                    <a:lnTo>
                      <a:pt x="1863" y="954"/>
                    </a:lnTo>
                    <a:lnTo>
                      <a:pt x="1936" y="960"/>
                    </a:lnTo>
                    <a:lnTo>
                      <a:pt x="2003" y="963"/>
                    </a:lnTo>
                    <a:lnTo>
                      <a:pt x="2065" y="962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808560" y="6555960"/>
                <a:ext cx="3614400" cy="2361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316" y="628"/>
                    </a:moveTo>
                    <a:lnTo>
                      <a:pt x="2342" y="622"/>
                    </a:lnTo>
                    <a:lnTo>
                      <a:pt x="2367" y="613"/>
                    </a:lnTo>
                    <a:lnTo>
                      <a:pt x="2393" y="599"/>
                    </a:lnTo>
                    <a:lnTo>
                      <a:pt x="2421" y="582"/>
                    </a:lnTo>
                    <a:lnTo>
                      <a:pt x="2450" y="561"/>
                    </a:lnTo>
                    <a:lnTo>
                      <a:pt x="2481" y="537"/>
                    </a:lnTo>
                    <a:lnTo>
                      <a:pt x="2515" y="508"/>
                    </a:lnTo>
                    <a:lnTo>
                      <a:pt x="2552" y="477"/>
                    </a:lnTo>
                    <a:lnTo>
                      <a:pt x="2550" y="478"/>
                    </a:lnTo>
                    <a:lnTo>
                      <a:pt x="2544" y="481"/>
                    </a:lnTo>
                    <a:lnTo>
                      <a:pt x="2534" y="486"/>
                    </a:lnTo>
                    <a:lnTo>
                      <a:pt x="2520" y="492"/>
                    </a:lnTo>
                    <a:lnTo>
                      <a:pt x="2502" y="498"/>
                    </a:lnTo>
                    <a:lnTo>
                      <a:pt x="2481" y="503"/>
                    </a:lnTo>
                    <a:lnTo>
                      <a:pt x="2456" y="508"/>
                    </a:lnTo>
                    <a:lnTo>
                      <a:pt x="2428" y="511"/>
                    </a:lnTo>
                    <a:lnTo>
                      <a:pt x="2397" y="513"/>
                    </a:lnTo>
                    <a:lnTo>
                      <a:pt x="2363" y="511"/>
                    </a:lnTo>
                    <a:lnTo>
                      <a:pt x="2325" y="506"/>
                    </a:lnTo>
                    <a:lnTo>
                      <a:pt x="2285" y="498"/>
                    </a:lnTo>
                    <a:lnTo>
                      <a:pt x="2242" y="485"/>
                    </a:lnTo>
                    <a:lnTo>
                      <a:pt x="2196" y="467"/>
                    </a:lnTo>
                    <a:lnTo>
                      <a:pt x="2148" y="444"/>
                    </a:lnTo>
                    <a:lnTo>
                      <a:pt x="2097" y="414"/>
                    </a:lnTo>
                    <a:lnTo>
                      <a:pt x="2044" y="378"/>
                    </a:lnTo>
                    <a:lnTo>
                      <a:pt x="1989" y="334"/>
                    </a:lnTo>
                    <a:lnTo>
                      <a:pt x="1932" y="282"/>
                    </a:lnTo>
                    <a:lnTo>
                      <a:pt x="1872" y="222"/>
                    </a:lnTo>
                    <a:lnTo>
                      <a:pt x="1839" y="189"/>
                    </a:lnTo>
                    <a:lnTo>
                      <a:pt x="1802" y="158"/>
                    </a:lnTo>
                    <a:lnTo>
                      <a:pt x="1781" y="143"/>
                    </a:lnTo>
                    <a:lnTo>
                      <a:pt x="1781" y="322"/>
                    </a:lnTo>
                    <a:lnTo>
                      <a:pt x="1808" y="337"/>
                    </a:lnTo>
                    <a:lnTo>
                      <a:pt x="1877" y="389"/>
                    </a:lnTo>
                    <a:lnTo>
                      <a:pt x="1939" y="435"/>
                    </a:lnTo>
                    <a:lnTo>
                      <a:pt x="1995" y="476"/>
                    </a:lnTo>
                    <a:lnTo>
                      <a:pt x="2046" y="512"/>
                    </a:lnTo>
                    <a:lnTo>
                      <a:pt x="2091" y="543"/>
                    </a:lnTo>
                    <a:lnTo>
                      <a:pt x="2132" y="569"/>
                    </a:lnTo>
                    <a:lnTo>
                      <a:pt x="2169" y="590"/>
                    </a:lnTo>
                    <a:lnTo>
                      <a:pt x="2203" y="606"/>
                    </a:lnTo>
                    <a:lnTo>
                      <a:pt x="2234" y="618"/>
                    </a:lnTo>
                    <a:lnTo>
                      <a:pt x="2263" y="626"/>
                    </a:lnTo>
                    <a:lnTo>
                      <a:pt x="2290" y="629"/>
                    </a:lnTo>
                    <a:lnTo>
                      <a:pt x="2316" y="628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808560" y="6555960"/>
                <a:ext cx="3614400" cy="23616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55" y="467"/>
                    </a:moveTo>
                    <a:lnTo>
                      <a:pt x="3426" y="442"/>
                    </a:lnTo>
                    <a:lnTo>
                      <a:pt x="3399" y="421"/>
                    </a:lnTo>
                    <a:lnTo>
                      <a:pt x="3374" y="403"/>
                    </a:lnTo>
                    <a:lnTo>
                      <a:pt x="3350" y="388"/>
                    </a:lnTo>
                    <a:lnTo>
                      <a:pt x="3327" y="377"/>
                    </a:lnTo>
                    <a:lnTo>
                      <a:pt x="3304" y="369"/>
                    </a:lnTo>
                    <a:lnTo>
                      <a:pt x="3281" y="365"/>
                    </a:lnTo>
                    <a:lnTo>
                      <a:pt x="3256" y="364"/>
                    </a:lnTo>
                    <a:lnTo>
                      <a:pt x="3231" y="368"/>
                    </a:lnTo>
                    <a:lnTo>
                      <a:pt x="3203" y="375"/>
                    </a:lnTo>
                    <a:lnTo>
                      <a:pt x="3173" y="386"/>
                    </a:lnTo>
                    <a:lnTo>
                      <a:pt x="3140" y="402"/>
                    </a:lnTo>
                    <a:lnTo>
                      <a:pt x="3104" y="422"/>
                    </a:lnTo>
                    <a:lnTo>
                      <a:pt x="3063" y="446"/>
                    </a:lnTo>
                    <a:lnTo>
                      <a:pt x="3019" y="475"/>
                    </a:lnTo>
                    <a:lnTo>
                      <a:pt x="3077" y="456"/>
                    </a:lnTo>
                    <a:lnTo>
                      <a:pt x="3132" y="442"/>
                    </a:lnTo>
                    <a:lnTo>
                      <a:pt x="3183" y="433"/>
                    </a:lnTo>
                    <a:lnTo>
                      <a:pt x="3229" y="429"/>
                    </a:lnTo>
                    <a:lnTo>
                      <a:pt x="3271" y="428"/>
                    </a:lnTo>
                    <a:lnTo>
                      <a:pt x="3310" y="430"/>
                    </a:lnTo>
                    <a:lnTo>
                      <a:pt x="3344" y="434"/>
                    </a:lnTo>
                    <a:lnTo>
                      <a:pt x="3375" y="441"/>
                    </a:lnTo>
                    <a:lnTo>
                      <a:pt x="3402" y="449"/>
                    </a:lnTo>
                    <a:lnTo>
                      <a:pt x="3425" y="457"/>
                    </a:lnTo>
                    <a:lnTo>
                      <a:pt x="3444" y="466"/>
                    </a:lnTo>
                    <a:lnTo>
                      <a:pt x="3459" y="475"/>
                    </a:lnTo>
                    <a:lnTo>
                      <a:pt x="3471" y="483"/>
                    </a:lnTo>
                    <a:lnTo>
                      <a:pt x="3480" y="489"/>
                    </a:lnTo>
                    <a:lnTo>
                      <a:pt x="3484" y="492"/>
                    </a:lnTo>
                    <a:lnTo>
                      <a:pt x="3455" y="467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0"/>
            <p:cNvGrpSpPr/>
            <p:nvPr/>
          </p:nvGrpSpPr>
          <p:grpSpPr>
            <a:xfrm>
              <a:off x="980640" y="6453360"/>
              <a:ext cx="3697200" cy="219240"/>
              <a:chOff x="980640" y="6453360"/>
              <a:chExt cx="3697200" cy="219240"/>
            </a:xfrm>
          </p:grpSpPr>
          <p:sp>
            <p:nvSpPr>
              <p:cNvPr id="271" name="Freeform 11"/>
              <p:cNvSpPr/>
              <p:nvPr/>
            </p:nvSpPr>
            <p:spPr>
              <a:xfrm>
                <a:off x="980640" y="6453360"/>
                <a:ext cx="3697200" cy="21924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2942" y="773"/>
                    </a:moveTo>
                    <a:lnTo>
                      <a:pt x="2880" y="731"/>
                    </a:lnTo>
                    <a:lnTo>
                      <a:pt x="2812" y="683"/>
                    </a:lnTo>
                    <a:lnTo>
                      <a:pt x="2735" y="628"/>
                    </a:lnTo>
                    <a:lnTo>
                      <a:pt x="2651" y="566"/>
                    </a:lnTo>
                    <a:lnTo>
                      <a:pt x="2557" y="498"/>
                    </a:lnTo>
                    <a:lnTo>
                      <a:pt x="2449" y="423"/>
                    </a:lnTo>
                    <a:lnTo>
                      <a:pt x="2349" y="355"/>
                    </a:lnTo>
                    <a:lnTo>
                      <a:pt x="2254" y="293"/>
                    </a:lnTo>
                    <a:lnTo>
                      <a:pt x="2164" y="238"/>
                    </a:lnTo>
                    <a:lnTo>
                      <a:pt x="2078" y="189"/>
                    </a:lnTo>
                    <a:lnTo>
                      <a:pt x="1995" y="146"/>
                    </a:lnTo>
                    <a:lnTo>
                      <a:pt x="1913" y="108"/>
                    </a:lnTo>
                    <a:lnTo>
                      <a:pt x="1832" y="76"/>
                    </a:lnTo>
                    <a:lnTo>
                      <a:pt x="1750" y="50"/>
                    </a:lnTo>
                    <a:lnTo>
                      <a:pt x="1667" y="30"/>
                    </a:lnTo>
                    <a:lnTo>
                      <a:pt x="1615" y="20"/>
                    </a:lnTo>
                    <a:lnTo>
                      <a:pt x="1615" y="163"/>
                    </a:lnTo>
                    <a:lnTo>
                      <a:pt x="1646" y="163"/>
                    </a:lnTo>
                    <a:lnTo>
                      <a:pt x="1711" y="172"/>
                    </a:lnTo>
                    <a:lnTo>
                      <a:pt x="1778" y="189"/>
                    </a:lnTo>
                    <a:lnTo>
                      <a:pt x="1848" y="215"/>
                    </a:lnTo>
                    <a:lnTo>
                      <a:pt x="1923" y="249"/>
                    </a:lnTo>
                    <a:lnTo>
                      <a:pt x="2003" y="290"/>
                    </a:lnTo>
                    <a:lnTo>
                      <a:pt x="2091" y="340"/>
                    </a:lnTo>
                    <a:lnTo>
                      <a:pt x="2187" y="398"/>
                    </a:lnTo>
                    <a:lnTo>
                      <a:pt x="2292" y="463"/>
                    </a:lnTo>
                    <a:lnTo>
                      <a:pt x="2409" y="537"/>
                    </a:lnTo>
                    <a:lnTo>
                      <a:pt x="2528" y="608"/>
                    </a:lnTo>
                    <a:lnTo>
                      <a:pt x="2640" y="667"/>
                    </a:lnTo>
                    <a:lnTo>
                      <a:pt x="2745" y="715"/>
                    </a:lnTo>
                    <a:lnTo>
                      <a:pt x="2843" y="754"/>
                    </a:lnTo>
                    <a:lnTo>
                      <a:pt x="2934" y="783"/>
                    </a:lnTo>
                    <a:lnTo>
                      <a:pt x="2974" y="793"/>
                    </a:lnTo>
                    <a:lnTo>
                      <a:pt x="2942" y="773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980640" y="6453360"/>
                <a:ext cx="3697200" cy="21924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543" y="742"/>
                    </a:moveTo>
                    <a:lnTo>
                      <a:pt x="3556" y="732"/>
                    </a:lnTo>
                    <a:lnTo>
                      <a:pt x="3564" y="726"/>
                    </a:lnTo>
                    <a:lnTo>
                      <a:pt x="3566" y="724"/>
                    </a:lnTo>
                    <a:lnTo>
                      <a:pt x="3530" y="750"/>
                    </a:lnTo>
                    <a:lnTo>
                      <a:pt x="3543" y="742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980640" y="6453360"/>
                <a:ext cx="3697200" cy="21924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282" y="889"/>
                    </a:moveTo>
                    <a:lnTo>
                      <a:pt x="3317" y="880"/>
                    </a:lnTo>
                    <a:lnTo>
                      <a:pt x="3352" y="865"/>
                    </a:lnTo>
                    <a:lnTo>
                      <a:pt x="3389" y="845"/>
                    </a:lnTo>
                    <a:lnTo>
                      <a:pt x="3428" y="821"/>
                    </a:lnTo>
                    <a:lnTo>
                      <a:pt x="3470" y="793"/>
                    </a:lnTo>
                    <a:lnTo>
                      <a:pt x="3516" y="760"/>
                    </a:lnTo>
                    <a:lnTo>
                      <a:pt x="3530" y="750"/>
                    </a:lnTo>
                    <a:lnTo>
                      <a:pt x="3524" y="754"/>
                    </a:lnTo>
                    <a:lnTo>
                      <a:pt x="3500" y="767"/>
                    </a:lnTo>
                    <a:lnTo>
                      <a:pt x="3471" y="781"/>
                    </a:lnTo>
                    <a:lnTo>
                      <a:pt x="3435" y="794"/>
                    </a:lnTo>
                    <a:lnTo>
                      <a:pt x="3394" y="806"/>
                    </a:lnTo>
                    <a:lnTo>
                      <a:pt x="3347" y="816"/>
                    </a:lnTo>
                    <a:lnTo>
                      <a:pt x="3294" y="823"/>
                    </a:lnTo>
                    <a:lnTo>
                      <a:pt x="3234" y="827"/>
                    </a:lnTo>
                    <a:lnTo>
                      <a:pt x="3169" y="825"/>
                    </a:lnTo>
                    <a:lnTo>
                      <a:pt x="3097" y="818"/>
                    </a:lnTo>
                    <a:lnTo>
                      <a:pt x="3019" y="804"/>
                    </a:lnTo>
                    <a:lnTo>
                      <a:pt x="2974" y="793"/>
                    </a:lnTo>
                    <a:lnTo>
                      <a:pt x="2998" y="808"/>
                    </a:lnTo>
                    <a:lnTo>
                      <a:pt x="3048" y="837"/>
                    </a:lnTo>
                    <a:lnTo>
                      <a:pt x="3094" y="860"/>
                    </a:lnTo>
                    <a:lnTo>
                      <a:pt x="3136" y="877"/>
                    </a:lnTo>
                    <a:lnTo>
                      <a:pt x="3175" y="888"/>
                    </a:lnTo>
                    <a:lnTo>
                      <a:pt x="3212" y="894"/>
                    </a:lnTo>
                    <a:lnTo>
                      <a:pt x="3248" y="894"/>
                    </a:lnTo>
                    <a:lnTo>
                      <a:pt x="3282" y="889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14"/>
            <p:cNvGrpSpPr/>
            <p:nvPr/>
          </p:nvGrpSpPr>
          <p:grpSpPr>
            <a:xfrm>
              <a:off x="0" y="6492960"/>
              <a:ext cx="5580000" cy="365040"/>
              <a:chOff x="0" y="6492960"/>
              <a:chExt cx="5580000" cy="365040"/>
            </a:xfrm>
          </p:grpSpPr>
          <p:sp>
            <p:nvSpPr>
              <p:cNvPr id="275" name="Freeform 15"/>
              <p:cNvSpPr/>
              <p:nvPr/>
            </p:nvSpPr>
            <p:spPr>
              <a:xfrm>
                <a:off x="0" y="6492960"/>
                <a:ext cx="5580000" cy="3650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065" y="923"/>
                    </a:moveTo>
                    <a:lnTo>
                      <a:pt x="5101" y="916"/>
                    </a:lnTo>
                    <a:lnTo>
                      <a:pt x="5136" y="904"/>
                    </a:lnTo>
                    <a:lnTo>
                      <a:pt x="5172" y="887"/>
                    </a:lnTo>
                    <a:lnTo>
                      <a:pt x="5209" y="864"/>
                    </a:lnTo>
                    <a:lnTo>
                      <a:pt x="5247" y="836"/>
                    </a:lnTo>
                    <a:lnTo>
                      <a:pt x="5289" y="803"/>
                    </a:lnTo>
                    <a:lnTo>
                      <a:pt x="5333" y="765"/>
                    </a:lnTo>
                    <a:lnTo>
                      <a:pt x="5378" y="726"/>
                    </a:lnTo>
                    <a:lnTo>
                      <a:pt x="5372" y="731"/>
                    </a:lnTo>
                    <a:lnTo>
                      <a:pt x="5359" y="741"/>
                    </a:lnTo>
                    <a:lnTo>
                      <a:pt x="5341" y="752"/>
                    </a:lnTo>
                    <a:lnTo>
                      <a:pt x="5317" y="766"/>
                    </a:lnTo>
                    <a:lnTo>
                      <a:pt x="5287" y="779"/>
                    </a:lnTo>
                    <a:lnTo>
                      <a:pt x="5252" y="793"/>
                    </a:lnTo>
                    <a:lnTo>
                      <a:pt x="5210" y="805"/>
                    </a:lnTo>
                    <a:lnTo>
                      <a:pt x="5163" y="815"/>
                    </a:lnTo>
                    <a:lnTo>
                      <a:pt x="5110" y="822"/>
                    </a:lnTo>
                    <a:lnTo>
                      <a:pt x="5051" y="825"/>
                    </a:lnTo>
                    <a:lnTo>
                      <a:pt x="4985" y="824"/>
                    </a:lnTo>
                    <a:lnTo>
                      <a:pt x="4913" y="817"/>
                    </a:lnTo>
                    <a:lnTo>
                      <a:pt x="4835" y="803"/>
                    </a:lnTo>
                    <a:lnTo>
                      <a:pt x="4750" y="782"/>
                    </a:lnTo>
                    <a:lnTo>
                      <a:pt x="4660" y="753"/>
                    </a:lnTo>
                    <a:lnTo>
                      <a:pt x="4729" y="797"/>
                    </a:lnTo>
                    <a:lnTo>
                      <a:pt x="4792" y="834"/>
                    </a:lnTo>
                    <a:lnTo>
                      <a:pt x="4848" y="865"/>
                    </a:lnTo>
                    <a:lnTo>
                      <a:pt x="4899" y="889"/>
                    </a:lnTo>
                    <a:lnTo>
                      <a:pt x="4946" y="907"/>
                    </a:lnTo>
                    <a:lnTo>
                      <a:pt x="4988" y="918"/>
                    </a:lnTo>
                    <a:lnTo>
                      <a:pt x="5028" y="923"/>
                    </a:lnTo>
                    <a:lnTo>
                      <a:pt x="5065" y="92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0" y="6492960"/>
                <a:ext cx="5580000" cy="3650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2587" y="1358"/>
                    </a:moveTo>
                    <a:lnTo>
                      <a:pt x="2657" y="1323"/>
                    </a:lnTo>
                    <a:lnTo>
                      <a:pt x="2722" y="1284"/>
                    </a:lnTo>
                    <a:lnTo>
                      <a:pt x="2783" y="1241"/>
                    </a:lnTo>
                    <a:lnTo>
                      <a:pt x="2839" y="1194"/>
                    </a:lnTo>
                    <a:lnTo>
                      <a:pt x="2890" y="1143"/>
                    </a:lnTo>
                    <a:lnTo>
                      <a:pt x="2982" y="1050"/>
                    </a:lnTo>
                    <a:lnTo>
                      <a:pt x="3071" y="970"/>
                    </a:lnTo>
                    <a:lnTo>
                      <a:pt x="3156" y="903"/>
                    </a:lnTo>
                    <a:lnTo>
                      <a:pt x="3238" y="846"/>
                    </a:lnTo>
                    <a:lnTo>
                      <a:pt x="3316" y="801"/>
                    </a:lnTo>
                    <a:lnTo>
                      <a:pt x="3391" y="764"/>
                    </a:lnTo>
                    <a:lnTo>
                      <a:pt x="3462" y="737"/>
                    </a:lnTo>
                    <a:lnTo>
                      <a:pt x="3528" y="717"/>
                    </a:lnTo>
                    <a:lnTo>
                      <a:pt x="3590" y="704"/>
                    </a:lnTo>
                    <a:lnTo>
                      <a:pt x="3648" y="697"/>
                    </a:lnTo>
                    <a:lnTo>
                      <a:pt x="3701" y="694"/>
                    </a:lnTo>
                    <a:lnTo>
                      <a:pt x="3749" y="696"/>
                    </a:lnTo>
                    <a:lnTo>
                      <a:pt x="3793" y="701"/>
                    </a:lnTo>
                    <a:lnTo>
                      <a:pt x="3831" y="709"/>
                    </a:lnTo>
                    <a:lnTo>
                      <a:pt x="3863" y="717"/>
                    </a:lnTo>
                    <a:lnTo>
                      <a:pt x="3890" y="726"/>
                    </a:lnTo>
                    <a:lnTo>
                      <a:pt x="3912" y="735"/>
                    </a:lnTo>
                    <a:lnTo>
                      <a:pt x="3927" y="742"/>
                    </a:lnTo>
                    <a:lnTo>
                      <a:pt x="3937" y="748"/>
                    </a:lnTo>
                    <a:lnTo>
                      <a:pt x="3940" y="749"/>
                    </a:lnTo>
                    <a:lnTo>
                      <a:pt x="3882" y="701"/>
                    </a:lnTo>
                    <a:lnTo>
                      <a:pt x="3830" y="657"/>
                    </a:lnTo>
                    <a:lnTo>
                      <a:pt x="3782" y="619"/>
                    </a:lnTo>
                    <a:lnTo>
                      <a:pt x="3737" y="587"/>
                    </a:lnTo>
                    <a:lnTo>
                      <a:pt x="3695" y="560"/>
                    </a:lnTo>
                    <a:lnTo>
                      <a:pt x="3655" y="540"/>
                    </a:lnTo>
                    <a:lnTo>
                      <a:pt x="3616" y="525"/>
                    </a:lnTo>
                    <a:lnTo>
                      <a:pt x="3576" y="517"/>
                    </a:lnTo>
                    <a:lnTo>
                      <a:pt x="3536" y="515"/>
                    </a:lnTo>
                    <a:lnTo>
                      <a:pt x="3494" y="520"/>
                    </a:lnTo>
                    <a:lnTo>
                      <a:pt x="3449" y="531"/>
                    </a:lnTo>
                    <a:lnTo>
                      <a:pt x="3402" y="550"/>
                    </a:lnTo>
                    <a:lnTo>
                      <a:pt x="3349" y="575"/>
                    </a:lnTo>
                    <a:lnTo>
                      <a:pt x="3292" y="608"/>
                    </a:lnTo>
                    <a:lnTo>
                      <a:pt x="3229" y="648"/>
                    </a:lnTo>
                    <a:lnTo>
                      <a:pt x="3158" y="696"/>
                    </a:lnTo>
                    <a:lnTo>
                      <a:pt x="3080" y="751"/>
                    </a:lnTo>
                    <a:lnTo>
                      <a:pt x="2994" y="814"/>
                    </a:lnTo>
                    <a:lnTo>
                      <a:pt x="2898" y="886"/>
                    </a:lnTo>
                    <a:lnTo>
                      <a:pt x="2791" y="965"/>
                    </a:lnTo>
                    <a:lnTo>
                      <a:pt x="2668" y="1034"/>
                    </a:lnTo>
                    <a:lnTo>
                      <a:pt x="2561" y="1080"/>
                    </a:lnTo>
                    <a:lnTo>
                      <a:pt x="2561" y="1369"/>
                    </a:lnTo>
                    <a:lnTo>
                      <a:pt x="2587" y="1358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0" y="6492960"/>
                <a:ext cx="5580000" cy="3650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380" y="725"/>
                    </a:moveTo>
                    <a:lnTo>
                      <a:pt x="5383" y="722"/>
                    </a:lnTo>
                    <a:lnTo>
                      <a:pt x="5378" y="726"/>
                    </a:lnTo>
                    <a:lnTo>
                      <a:pt x="5380" y="725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0" y="6492960"/>
                <a:ext cx="5580000" cy="3650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4660" y="753"/>
                    </a:moveTo>
                    <a:lnTo>
                      <a:pt x="4582" y="701"/>
                    </a:lnTo>
                    <a:lnTo>
                      <a:pt x="4496" y="642"/>
                    </a:lnTo>
                    <a:lnTo>
                      <a:pt x="4400" y="576"/>
                    </a:lnTo>
                    <a:lnTo>
                      <a:pt x="4293" y="502"/>
                    </a:lnTo>
                    <a:lnTo>
                      <a:pt x="4186" y="427"/>
                    </a:lnTo>
                    <a:lnTo>
                      <a:pt x="4087" y="359"/>
                    </a:lnTo>
                    <a:lnTo>
                      <a:pt x="3995" y="298"/>
                    </a:lnTo>
                    <a:lnTo>
                      <a:pt x="3909" y="242"/>
                    </a:lnTo>
                    <a:lnTo>
                      <a:pt x="3827" y="192"/>
                    </a:lnTo>
                    <a:lnTo>
                      <a:pt x="3748" y="149"/>
                    </a:lnTo>
                    <a:lnTo>
                      <a:pt x="3672" y="111"/>
                    </a:lnTo>
                    <a:lnTo>
                      <a:pt x="3596" y="79"/>
                    </a:lnTo>
                    <a:lnTo>
                      <a:pt x="3521" y="52"/>
                    </a:lnTo>
                    <a:lnTo>
                      <a:pt x="3443" y="31"/>
                    </a:lnTo>
                    <a:lnTo>
                      <a:pt x="3363" y="16"/>
                    </a:lnTo>
                    <a:lnTo>
                      <a:pt x="3278" y="5"/>
                    </a:lnTo>
                    <a:lnTo>
                      <a:pt x="3189" y="0"/>
                    </a:lnTo>
                    <a:lnTo>
                      <a:pt x="3093" y="0"/>
                    </a:lnTo>
                    <a:lnTo>
                      <a:pt x="2989" y="4"/>
                    </a:lnTo>
                    <a:lnTo>
                      <a:pt x="2876" y="13"/>
                    </a:lnTo>
                    <a:lnTo>
                      <a:pt x="2753" y="28"/>
                    </a:lnTo>
                    <a:lnTo>
                      <a:pt x="2619" y="46"/>
                    </a:lnTo>
                    <a:lnTo>
                      <a:pt x="2561" y="55"/>
                    </a:lnTo>
                    <a:lnTo>
                      <a:pt x="2561" y="596"/>
                    </a:lnTo>
                    <a:lnTo>
                      <a:pt x="2637" y="544"/>
                    </a:lnTo>
                    <a:lnTo>
                      <a:pt x="2753" y="466"/>
                    </a:lnTo>
                    <a:lnTo>
                      <a:pt x="2858" y="397"/>
                    </a:lnTo>
                    <a:lnTo>
                      <a:pt x="2954" y="337"/>
                    </a:lnTo>
                    <a:lnTo>
                      <a:pt x="3042" y="286"/>
                    </a:lnTo>
                    <a:lnTo>
                      <a:pt x="3122" y="244"/>
                    </a:lnTo>
                    <a:lnTo>
                      <a:pt x="3196" y="210"/>
                    </a:lnTo>
                    <a:lnTo>
                      <a:pt x="3267" y="185"/>
                    </a:lnTo>
                    <a:lnTo>
                      <a:pt x="3333" y="169"/>
                    </a:lnTo>
                    <a:lnTo>
                      <a:pt x="3398" y="161"/>
                    </a:lnTo>
                    <a:lnTo>
                      <a:pt x="3463" y="162"/>
                    </a:lnTo>
                    <a:lnTo>
                      <a:pt x="3528" y="171"/>
                    </a:lnTo>
                    <a:lnTo>
                      <a:pt x="3594" y="188"/>
                    </a:lnTo>
                    <a:lnTo>
                      <a:pt x="3664" y="214"/>
                    </a:lnTo>
                    <a:lnTo>
                      <a:pt x="3739" y="247"/>
                    </a:lnTo>
                    <a:lnTo>
                      <a:pt x="3820" y="289"/>
                    </a:lnTo>
                    <a:lnTo>
                      <a:pt x="3907" y="339"/>
                    </a:lnTo>
                    <a:lnTo>
                      <a:pt x="4003" y="396"/>
                    </a:lnTo>
                    <a:lnTo>
                      <a:pt x="4109" y="462"/>
                    </a:lnTo>
                    <a:lnTo>
                      <a:pt x="4225" y="535"/>
                    </a:lnTo>
                    <a:lnTo>
                      <a:pt x="4344" y="606"/>
                    </a:lnTo>
                    <a:lnTo>
                      <a:pt x="4456" y="666"/>
                    </a:lnTo>
                    <a:lnTo>
                      <a:pt x="4561" y="714"/>
                    </a:lnTo>
                    <a:lnTo>
                      <a:pt x="4659" y="753"/>
                    </a:lnTo>
                    <a:lnTo>
                      <a:pt x="4660" y="75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00000"/>
                </a:solidFill>
                <a:latin typeface="Arial"/>
              </a:rPr>
              <a:t>DERECHO DE AMAMANT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Y 20.16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ínimo una hora dentro de la jornada laboral, hasta que el hijo cumpla 2 años, excluyendo la hora de transporte hacia y desde el lugar en donde se encuentra el hi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permiso se puede dividir en 2 etapas a solicitud de la madre, postergando o adelantando en media hora, o en una hora, el inicio o el término de la jornada labo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4"/>
          <p:cNvGrpSpPr/>
          <p:nvPr/>
        </p:nvGrpSpPr>
        <p:grpSpPr>
          <a:xfrm>
            <a:off x="0" y="6165720"/>
            <a:ext cx="5580000" cy="691920"/>
            <a:chOff x="0" y="6165720"/>
            <a:chExt cx="5580000" cy="691920"/>
          </a:xfrm>
        </p:grpSpPr>
        <p:grpSp>
          <p:nvGrpSpPr>
            <p:cNvPr id="282" name="Group 5"/>
            <p:cNvGrpSpPr/>
            <p:nvPr/>
          </p:nvGrpSpPr>
          <p:grpSpPr>
            <a:xfrm>
              <a:off x="808560" y="6341040"/>
              <a:ext cx="3614400" cy="404280"/>
              <a:chOff x="808560" y="6341040"/>
              <a:chExt cx="3614400" cy="404280"/>
            </a:xfrm>
          </p:grpSpPr>
          <p:sp>
            <p:nvSpPr>
              <p:cNvPr id="283" name="Freeform 6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85" y="493"/>
                    </a:moveTo>
                    <a:lnTo>
                      <a:pt x="3484" y="492"/>
                    </a:lnTo>
                    <a:lnTo>
                      <a:pt x="3487" y="494"/>
                    </a:lnTo>
                    <a:lnTo>
                      <a:pt x="3485" y="493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065" y="962"/>
                    </a:moveTo>
                    <a:lnTo>
                      <a:pt x="2123" y="959"/>
                    </a:lnTo>
                    <a:lnTo>
                      <a:pt x="2178" y="952"/>
                    </a:lnTo>
                    <a:lnTo>
                      <a:pt x="2230" y="942"/>
                    </a:lnTo>
                    <a:lnTo>
                      <a:pt x="2280" y="928"/>
                    </a:lnTo>
                    <a:lnTo>
                      <a:pt x="2329" y="911"/>
                    </a:lnTo>
                    <a:lnTo>
                      <a:pt x="2378" y="891"/>
                    </a:lnTo>
                    <a:lnTo>
                      <a:pt x="2428" y="866"/>
                    </a:lnTo>
                    <a:lnTo>
                      <a:pt x="2479" y="838"/>
                    </a:lnTo>
                    <a:lnTo>
                      <a:pt x="2532" y="806"/>
                    </a:lnTo>
                    <a:lnTo>
                      <a:pt x="2588" y="770"/>
                    </a:lnTo>
                    <a:lnTo>
                      <a:pt x="2647" y="730"/>
                    </a:lnTo>
                    <a:lnTo>
                      <a:pt x="2711" y="685"/>
                    </a:lnTo>
                    <a:lnTo>
                      <a:pt x="2781" y="637"/>
                    </a:lnTo>
                    <a:lnTo>
                      <a:pt x="2850" y="589"/>
                    </a:lnTo>
                    <a:lnTo>
                      <a:pt x="2912" y="546"/>
                    </a:lnTo>
                    <a:lnTo>
                      <a:pt x="2968" y="508"/>
                    </a:lnTo>
                    <a:lnTo>
                      <a:pt x="3018" y="475"/>
                    </a:lnTo>
                    <a:lnTo>
                      <a:pt x="3019" y="475"/>
                    </a:lnTo>
                    <a:lnTo>
                      <a:pt x="3018" y="475"/>
                    </a:lnTo>
                    <a:lnTo>
                      <a:pt x="2954" y="500"/>
                    </a:lnTo>
                    <a:lnTo>
                      <a:pt x="2886" y="531"/>
                    </a:lnTo>
                    <a:lnTo>
                      <a:pt x="2814" y="569"/>
                    </a:lnTo>
                    <a:lnTo>
                      <a:pt x="2737" y="616"/>
                    </a:lnTo>
                    <a:lnTo>
                      <a:pt x="2661" y="663"/>
                    </a:lnTo>
                    <a:lnTo>
                      <a:pt x="2593" y="706"/>
                    </a:lnTo>
                    <a:lnTo>
                      <a:pt x="2531" y="743"/>
                    </a:lnTo>
                    <a:lnTo>
                      <a:pt x="2474" y="775"/>
                    </a:lnTo>
                    <a:lnTo>
                      <a:pt x="2422" y="802"/>
                    </a:lnTo>
                    <a:lnTo>
                      <a:pt x="2374" y="824"/>
                    </a:lnTo>
                    <a:lnTo>
                      <a:pt x="2328" y="841"/>
                    </a:lnTo>
                    <a:lnTo>
                      <a:pt x="2285" y="852"/>
                    </a:lnTo>
                    <a:lnTo>
                      <a:pt x="2243" y="858"/>
                    </a:lnTo>
                    <a:lnTo>
                      <a:pt x="2201" y="858"/>
                    </a:lnTo>
                    <a:lnTo>
                      <a:pt x="2159" y="853"/>
                    </a:lnTo>
                    <a:lnTo>
                      <a:pt x="2116" y="842"/>
                    </a:lnTo>
                    <a:lnTo>
                      <a:pt x="2070" y="826"/>
                    </a:lnTo>
                    <a:lnTo>
                      <a:pt x="2022" y="804"/>
                    </a:lnTo>
                    <a:lnTo>
                      <a:pt x="1970" y="777"/>
                    </a:lnTo>
                    <a:lnTo>
                      <a:pt x="1913" y="744"/>
                    </a:lnTo>
                    <a:lnTo>
                      <a:pt x="1851" y="705"/>
                    </a:lnTo>
                    <a:lnTo>
                      <a:pt x="1783" y="660"/>
                    </a:lnTo>
                    <a:lnTo>
                      <a:pt x="1781" y="659"/>
                    </a:lnTo>
                    <a:lnTo>
                      <a:pt x="1781" y="944"/>
                    </a:lnTo>
                    <a:lnTo>
                      <a:pt x="1783" y="944"/>
                    </a:lnTo>
                    <a:lnTo>
                      <a:pt x="1863" y="954"/>
                    </a:lnTo>
                    <a:lnTo>
                      <a:pt x="1936" y="960"/>
                    </a:lnTo>
                    <a:lnTo>
                      <a:pt x="2003" y="963"/>
                    </a:lnTo>
                    <a:lnTo>
                      <a:pt x="2065" y="962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8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316" y="628"/>
                    </a:moveTo>
                    <a:lnTo>
                      <a:pt x="2342" y="622"/>
                    </a:lnTo>
                    <a:lnTo>
                      <a:pt x="2367" y="613"/>
                    </a:lnTo>
                    <a:lnTo>
                      <a:pt x="2393" y="599"/>
                    </a:lnTo>
                    <a:lnTo>
                      <a:pt x="2421" y="582"/>
                    </a:lnTo>
                    <a:lnTo>
                      <a:pt x="2450" y="561"/>
                    </a:lnTo>
                    <a:lnTo>
                      <a:pt x="2481" y="537"/>
                    </a:lnTo>
                    <a:lnTo>
                      <a:pt x="2515" y="508"/>
                    </a:lnTo>
                    <a:lnTo>
                      <a:pt x="2552" y="477"/>
                    </a:lnTo>
                    <a:lnTo>
                      <a:pt x="2550" y="478"/>
                    </a:lnTo>
                    <a:lnTo>
                      <a:pt x="2544" y="481"/>
                    </a:lnTo>
                    <a:lnTo>
                      <a:pt x="2534" y="486"/>
                    </a:lnTo>
                    <a:lnTo>
                      <a:pt x="2520" y="492"/>
                    </a:lnTo>
                    <a:lnTo>
                      <a:pt x="2502" y="498"/>
                    </a:lnTo>
                    <a:lnTo>
                      <a:pt x="2481" y="503"/>
                    </a:lnTo>
                    <a:lnTo>
                      <a:pt x="2456" y="508"/>
                    </a:lnTo>
                    <a:lnTo>
                      <a:pt x="2428" y="511"/>
                    </a:lnTo>
                    <a:lnTo>
                      <a:pt x="2397" y="513"/>
                    </a:lnTo>
                    <a:lnTo>
                      <a:pt x="2363" y="511"/>
                    </a:lnTo>
                    <a:lnTo>
                      <a:pt x="2325" y="506"/>
                    </a:lnTo>
                    <a:lnTo>
                      <a:pt x="2285" y="498"/>
                    </a:lnTo>
                    <a:lnTo>
                      <a:pt x="2242" y="485"/>
                    </a:lnTo>
                    <a:lnTo>
                      <a:pt x="2196" y="467"/>
                    </a:lnTo>
                    <a:lnTo>
                      <a:pt x="2148" y="444"/>
                    </a:lnTo>
                    <a:lnTo>
                      <a:pt x="2097" y="414"/>
                    </a:lnTo>
                    <a:lnTo>
                      <a:pt x="2044" y="378"/>
                    </a:lnTo>
                    <a:lnTo>
                      <a:pt x="1989" y="334"/>
                    </a:lnTo>
                    <a:lnTo>
                      <a:pt x="1932" y="282"/>
                    </a:lnTo>
                    <a:lnTo>
                      <a:pt x="1872" y="222"/>
                    </a:lnTo>
                    <a:lnTo>
                      <a:pt x="1839" y="189"/>
                    </a:lnTo>
                    <a:lnTo>
                      <a:pt x="1802" y="158"/>
                    </a:lnTo>
                    <a:lnTo>
                      <a:pt x="1781" y="143"/>
                    </a:lnTo>
                    <a:lnTo>
                      <a:pt x="1781" y="322"/>
                    </a:lnTo>
                    <a:lnTo>
                      <a:pt x="1808" y="337"/>
                    </a:lnTo>
                    <a:lnTo>
                      <a:pt x="1877" y="389"/>
                    </a:lnTo>
                    <a:lnTo>
                      <a:pt x="1939" y="435"/>
                    </a:lnTo>
                    <a:lnTo>
                      <a:pt x="1995" y="476"/>
                    </a:lnTo>
                    <a:lnTo>
                      <a:pt x="2046" y="512"/>
                    </a:lnTo>
                    <a:lnTo>
                      <a:pt x="2091" y="543"/>
                    </a:lnTo>
                    <a:lnTo>
                      <a:pt x="2132" y="569"/>
                    </a:lnTo>
                    <a:lnTo>
                      <a:pt x="2169" y="590"/>
                    </a:lnTo>
                    <a:lnTo>
                      <a:pt x="2203" y="606"/>
                    </a:lnTo>
                    <a:lnTo>
                      <a:pt x="2234" y="618"/>
                    </a:lnTo>
                    <a:lnTo>
                      <a:pt x="2263" y="626"/>
                    </a:lnTo>
                    <a:lnTo>
                      <a:pt x="2290" y="629"/>
                    </a:lnTo>
                    <a:lnTo>
                      <a:pt x="2316" y="628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9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55" y="467"/>
                    </a:moveTo>
                    <a:lnTo>
                      <a:pt x="3426" y="442"/>
                    </a:lnTo>
                    <a:lnTo>
                      <a:pt x="3399" y="421"/>
                    </a:lnTo>
                    <a:lnTo>
                      <a:pt x="3374" y="403"/>
                    </a:lnTo>
                    <a:lnTo>
                      <a:pt x="3350" y="388"/>
                    </a:lnTo>
                    <a:lnTo>
                      <a:pt x="3327" y="377"/>
                    </a:lnTo>
                    <a:lnTo>
                      <a:pt x="3304" y="369"/>
                    </a:lnTo>
                    <a:lnTo>
                      <a:pt x="3281" y="365"/>
                    </a:lnTo>
                    <a:lnTo>
                      <a:pt x="3256" y="364"/>
                    </a:lnTo>
                    <a:lnTo>
                      <a:pt x="3231" y="368"/>
                    </a:lnTo>
                    <a:lnTo>
                      <a:pt x="3203" y="375"/>
                    </a:lnTo>
                    <a:lnTo>
                      <a:pt x="3173" y="386"/>
                    </a:lnTo>
                    <a:lnTo>
                      <a:pt x="3140" y="402"/>
                    </a:lnTo>
                    <a:lnTo>
                      <a:pt x="3104" y="422"/>
                    </a:lnTo>
                    <a:lnTo>
                      <a:pt x="3063" y="446"/>
                    </a:lnTo>
                    <a:lnTo>
                      <a:pt x="3019" y="475"/>
                    </a:lnTo>
                    <a:lnTo>
                      <a:pt x="3077" y="456"/>
                    </a:lnTo>
                    <a:lnTo>
                      <a:pt x="3132" y="442"/>
                    </a:lnTo>
                    <a:lnTo>
                      <a:pt x="3183" y="433"/>
                    </a:lnTo>
                    <a:lnTo>
                      <a:pt x="3229" y="429"/>
                    </a:lnTo>
                    <a:lnTo>
                      <a:pt x="3271" y="428"/>
                    </a:lnTo>
                    <a:lnTo>
                      <a:pt x="3310" y="430"/>
                    </a:lnTo>
                    <a:lnTo>
                      <a:pt x="3344" y="434"/>
                    </a:lnTo>
                    <a:lnTo>
                      <a:pt x="3375" y="441"/>
                    </a:lnTo>
                    <a:lnTo>
                      <a:pt x="3402" y="449"/>
                    </a:lnTo>
                    <a:lnTo>
                      <a:pt x="3425" y="457"/>
                    </a:lnTo>
                    <a:lnTo>
                      <a:pt x="3444" y="466"/>
                    </a:lnTo>
                    <a:lnTo>
                      <a:pt x="3459" y="475"/>
                    </a:lnTo>
                    <a:lnTo>
                      <a:pt x="3471" y="483"/>
                    </a:lnTo>
                    <a:lnTo>
                      <a:pt x="3480" y="489"/>
                    </a:lnTo>
                    <a:lnTo>
                      <a:pt x="3484" y="492"/>
                    </a:lnTo>
                    <a:lnTo>
                      <a:pt x="3455" y="467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10"/>
            <p:cNvGrpSpPr/>
            <p:nvPr/>
          </p:nvGrpSpPr>
          <p:grpSpPr>
            <a:xfrm>
              <a:off x="980640" y="6165720"/>
              <a:ext cx="3697200" cy="375120"/>
              <a:chOff x="980640" y="6165720"/>
              <a:chExt cx="3697200" cy="375120"/>
            </a:xfrm>
          </p:grpSpPr>
          <p:sp>
            <p:nvSpPr>
              <p:cNvPr id="288" name="Freeform 11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2942" y="773"/>
                    </a:moveTo>
                    <a:lnTo>
                      <a:pt x="2880" y="731"/>
                    </a:lnTo>
                    <a:lnTo>
                      <a:pt x="2812" y="683"/>
                    </a:lnTo>
                    <a:lnTo>
                      <a:pt x="2735" y="628"/>
                    </a:lnTo>
                    <a:lnTo>
                      <a:pt x="2651" y="566"/>
                    </a:lnTo>
                    <a:lnTo>
                      <a:pt x="2557" y="498"/>
                    </a:lnTo>
                    <a:lnTo>
                      <a:pt x="2449" y="423"/>
                    </a:lnTo>
                    <a:lnTo>
                      <a:pt x="2349" y="355"/>
                    </a:lnTo>
                    <a:lnTo>
                      <a:pt x="2254" y="293"/>
                    </a:lnTo>
                    <a:lnTo>
                      <a:pt x="2164" y="238"/>
                    </a:lnTo>
                    <a:lnTo>
                      <a:pt x="2078" y="189"/>
                    </a:lnTo>
                    <a:lnTo>
                      <a:pt x="1995" y="146"/>
                    </a:lnTo>
                    <a:lnTo>
                      <a:pt x="1913" y="108"/>
                    </a:lnTo>
                    <a:lnTo>
                      <a:pt x="1832" y="76"/>
                    </a:lnTo>
                    <a:lnTo>
                      <a:pt x="1750" y="50"/>
                    </a:lnTo>
                    <a:lnTo>
                      <a:pt x="1667" y="30"/>
                    </a:lnTo>
                    <a:lnTo>
                      <a:pt x="1615" y="20"/>
                    </a:lnTo>
                    <a:lnTo>
                      <a:pt x="1615" y="163"/>
                    </a:lnTo>
                    <a:lnTo>
                      <a:pt x="1646" y="163"/>
                    </a:lnTo>
                    <a:lnTo>
                      <a:pt x="1711" y="172"/>
                    </a:lnTo>
                    <a:lnTo>
                      <a:pt x="1778" y="189"/>
                    </a:lnTo>
                    <a:lnTo>
                      <a:pt x="1848" y="215"/>
                    </a:lnTo>
                    <a:lnTo>
                      <a:pt x="1923" y="249"/>
                    </a:lnTo>
                    <a:lnTo>
                      <a:pt x="2003" y="290"/>
                    </a:lnTo>
                    <a:lnTo>
                      <a:pt x="2091" y="340"/>
                    </a:lnTo>
                    <a:lnTo>
                      <a:pt x="2187" y="398"/>
                    </a:lnTo>
                    <a:lnTo>
                      <a:pt x="2292" y="463"/>
                    </a:lnTo>
                    <a:lnTo>
                      <a:pt x="2409" y="537"/>
                    </a:lnTo>
                    <a:lnTo>
                      <a:pt x="2528" y="608"/>
                    </a:lnTo>
                    <a:lnTo>
                      <a:pt x="2640" y="667"/>
                    </a:lnTo>
                    <a:lnTo>
                      <a:pt x="2745" y="715"/>
                    </a:lnTo>
                    <a:lnTo>
                      <a:pt x="2843" y="754"/>
                    </a:lnTo>
                    <a:lnTo>
                      <a:pt x="2934" y="783"/>
                    </a:lnTo>
                    <a:lnTo>
                      <a:pt x="2974" y="793"/>
                    </a:lnTo>
                    <a:lnTo>
                      <a:pt x="2942" y="773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2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543" y="742"/>
                    </a:moveTo>
                    <a:lnTo>
                      <a:pt x="3556" y="732"/>
                    </a:lnTo>
                    <a:lnTo>
                      <a:pt x="3564" y="726"/>
                    </a:lnTo>
                    <a:lnTo>
                      <a:pt x="3566" y="724"/>
                    </a:lnTo>
                    <a:lnTo>
                      <a:pt x="3530" y="750"/>
                    </a:lnTo>
                    <a:lnTo>
                      <a:pt x="3543" y="742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3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282" y="889"/>
                    </a:moveTo>
                    <a:lnTo>
                      <a:pt x="3317" y="880"/>
                    </a:lnTo>
                    <a:lnTo>
                      <a:pt x="3352" y="865"/>
                    </a:lnTo>
                    <a:lnTo>
                      <a:pt x="3389" y="845"/>
                    </a:lnTo>
                    <a:lnTo>
                      <a:pt x="3428" y="821"/>
                    </a:lnTo>
                    <a:lnTo>
                      <a:pt x="3470" y="793"/>
                    </a:lnTo>
                    <a:lnTo>
                      <a:pt x="3516" y="760"/>
                    </a:lnTo>
                    <a:lnTo>
                      <a:pt x="3530" y="750"/>
                    </a:lnTo>
                    <a:lnTo>
                      <a:pt x="3524" y="754"/>
                    </a:lnTo>
                    <a:lnTo>
                      <a:pt x="3500" y="767"/>
                    </a:lnTo>
                    <a:lnTo>
                      <a:pt x="3471" y="781"/>
                    </a:lnTo>
                    <a:lnTo>
                      <a:pt x="3435" y="794"/>
                    </a:lnTo>
                    <a:lnTo>
                      <a:pt x="3394" y="806"/>
                    </a:lnTo>
                    <a:lnTo>
                      <a:pt x="3347" y="816"/>
                    </a:lnTo>
                    <a:lnTo>
                      <a:pt x="3294" y="823"/>
                    </a:lnTo>
                    <a:lnTo>
                      <a:pt x="3234" y="827"/>
                    </a:lnTo>
                    <a:lnTo>
                      <a:pt x="3169" y="825"/>
                    </a:lnTo>
                    <a:lnTo>
                      <a:pt x="3097" y="818"/>
                    </a:lnTo>
                    <a:lnTo>
                      <a:pt x="3019" y="804"/>
                    </a:lnTo>
                    <a:lnTo>
                      <a:pt x="2974" y="793"/>
                    </a:lnTo>
                    <a:lnTo>
                      <a:pt x="2998" y="808"/>
                    </a:lnTo>
                    <a:lnTo>
                      <a:pt x="3048" y="837"/>
                    </a:lnTo>
                    <a:lnTo>
                      <a:pt x="3094" y="860"/>
                    </a:lnTo>
                    <a:lnTo>
                      <a:pt x="3136" y="877"/>
                    </a:lnTo>
                    <a:lnTo>
                      <a:pt x="3175" y="888"/>
                    </a:lnTo>
                    <a:lnTo>
                      <a:pt x="3212" y="894"/>
                    </a:lnTo>
                    <a:lnTo>
                      <a:pt x="3248" y="894"/>
                    </a:lnTo>
                    <a:lnTo>
                      <a:pt x="3282" y="889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14"/>
            <p:cNvGrpSpPr/>
            <p:nvPr/>
          </p:nvGrpSpPr>
          <p:grpSpPr>
            <a:xfrm>
              <a:off x="0" y="6233400"/>
              <a:ext cx="5580000" cy="624240"/>
              <a:chOff x="0" y="6233400"/>
              <a:chExt cx="5580000" cy="624240"/>
            </a:xfrm>
          </p:grpSpPr>
          <p:sp>
            <p:nvSpPr>
              <p:cNvPr id="292" name="Freeform 15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065" y="923"/>
                    </a:moveTo>
                    <a:lnTo>
                      <a:pt x="5101" y="916"/>
                    </a:lnTo>
                    <a:lnTo>
                      <a:pt x="5136" y="904"/>
                    </a:lnTo>
                    <a:lnTo>
                      <a:pt x="5172" y="887"/>
                    </a:lnTo>
                    <a:lnTo>
                      <a:pt x="5209" y="864"/>
                    </a:lnTo>
                    <a:lnTo>
                      <a:pt x="5247" y="836"/>
                    </a:lnTo>
                    <a:lnTo>
                      <a:pt x="5289" y="803"/>
                    </a:lnTo>
                    <a:lnTo>
                      <a:pt x="5333" y="765"/>
                    </a:lnTo>
                    <a:lnTo>
                      <a:pt x="5378" y="726"/>
                    </a:lnTo>
                    <a:lnTo>
                      <a:pt x="5372" y="731"/>
                    </a:lnTo>
                    <a:lnTo>
                      <a:pt x="5359" y="741"/>
                    </a:lnTo>
                    <a:lnTo>
                      <a:pt x="5341" y="752"/>
                    </a:lnTo>
                    <a:lnTo>
                      <a:pt x="5317" y="766"/>
                    </a:lnTo>
                    <a:lnTo>
                      <a:pt x="5287" y="779"/>
                    </a:lnTo>
                    <a:lnTo>
                      <a:pt x="5252" y="793"/>
                    </a:lnTo>
                    <a:lnTo>
                      <a:pt x="5210" y="805"/>
                    </a:lnTo>
                    <a:lnTo>
                      <a:pt x="5163" y="815"/>
                    </a:lnTo>
                    <a:lnTo>
                      <a:pt x="5110" y="822"/>
                    </a:lnTo>
                    <a:lnTo>
                      <a:pt x="5051" y="825"/>
                    </a:lnTo>
                    <a:lnTo>
                      <a:pt x="4985" y="824"/>
                    </a:lnTo>
                    <a:lnTo>
                      <a:pt x="4913" y="817"/>
                    </a:lnTo>
                    <a:lnTo>
                      <a:pt x="4835" y="803"/>
                    </a:lnTo>
                    <a:lnTo>
                      <a:pt x="4750" y="782"/>
                    </a:lnTo>
                    <a:lnTo>
                      <a:pt x="4660" y="753"/>
                    </a:lnTo>
                    <a:lnTo>
                      <a:pt x="4729" y="797"/>
                    </a:lnTo>
                    <a:lnTo>
                      <a:pt x="4792" y="834"/>
                    </a:lnTo>
                    <a:lnTo>
                      <a:pt x="4848" y="865"/>
                    </a:lnTo>
                    <a:lnTo>
                      <a:pt x="4899" y="889"/>
                    </a:lnTo>
                    <a:lnTo>
                      <a:pt x="4946" y="907"/>
                    </a:lnTo>
                    <a:lnTo>
                      <a:pt x="4988" y="918"/>
                    </a:lnTo>
                    <a:lnTo>
                      <a:pt x="5028" y="923"/>
                    </a:lnTo>
                    <a:lnTo>
                      <a:pt x="5065" y="92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6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2587" y="1358"/>
                    </a:moveTo>
                    <a:lnTo>
                      <a:pt x="2657" y="1323"/>
                    </a:lnTo>
                    <a:lnTo>
                      <a:pt x="2722" y="1284"/>
                    </a:lnTo>
                    <a:lnTo>
                      <a:pt x="2783" y="1241"/>
                    </a:lnTo>
                    <a:lnTo>
                      <a:pt x="2839" y="1194"/>
                    </a:lnTo>
                    <a:lnTo>
                      <a:pt x="2890" y="1143"/>
                    </a:lnTo>
                    <a:lnTo>
                      <a:pt x="2982" y="1050"/>
                    </a:lnTo>
                    <a:lnTo>
                      <a:pt x="3071" y="970"/>
                    </a:lnTo>
                    <a:lnTo>
                      <a:pt x="3156" y="903"/>
                    </a:lnTo>
                    <a:lnTo>
                      <a:pt x="3238" y="846"/>
                    </a:lnTo>
                    <a:lnTo>
                      <a:pt x="3316" y="801"/>
                    </a:lnTo>
                    <a:lnTo>
                      <a:pt x="3391" y="764"/>
                    </a:lnTo>
                    <a:lnTo>
                      <a:pt x="3462" y="737"/>
                    </a:lnTo>
                    <a:lnTo>
                      <a:pt x="3528" y="717"/>
                    </a:lnTo>
                    <a:lnTo>
                      <a:pt x="3590" y="704"/>
                    </a:lnTo>
                    <a:lnTo>
                      <a:pt x="3648" y="697"/>
                    </a:lnTo>
                    <a:lnTo>
                      <a:pt x="3701" y="694"/>
                    </a:lnTo>
                    <a:lnTo>
                      <a:pt x="3749" y="696"/>
                    </a:lnTo>
                    <a:lnTo>
                      <a:pt x="3793" y="701"/>
                    </a:lnTo>
                    <a:lnTo>
                      <a:pt x="3831" y="709"/>
                    </a:lnTo>
                    <a:lnTo>
                      <a:pt x="3863" y="717"/>
                    </a:lnTo>
                    <a:lnTo>
                      <a:pt x="3890" y="726"/>
                    </a:lnTo>
                    <a:lnTo>
                      <a:pt x="3912" y="735"/>
                    </a:lnTo>
                    <a:lnTo>
                      <a:pt x="3927" y="742"/>
                    </a:lnTo>
                    <a:lnTo>
                      <a:pt x="3937" y="748"/>
                    </a:lnTo>
                    <a:lnTo>
                      <a:pt x="3940" y="749"/>
                    </a:lnTo>
                    <a:lnTo>
                      <a:pt x="3882" y="701"/>
                    </a:lnTo>
                    <a:lnTo>
                      <a:pt x="3830" y="657"/>
                    </a:lnTo>
                    <a:lnTo>
                      <a:pt x="3782" y="619"/>
                    </a:lnTo>
                    <a:lnTo>
                      <a:pt x="3737" y="587"/>
                    </a:lnTo>
                    <a:lnTo>
                      <a:pt x="3695" y="560"/>
                    </a:lnTo>
                    <a:lnTo>
                      <a:pt x="3655" y="540"/>
                    </a:lnTo>
                    <a:lnTo>
                      <a:pt x="3616" y="525"/>
                    </a:lnTo>
                    <a:lnTo>
                      <a:pt x="3576" y="517"/>
                    </a:lnTo>
                    <a:lnTo>
                      <a:pt x="3536" y="515"/>
                    </a:lnTo>
                    <a:lnTo>
                      <a:pt x="3494" y="520"/>
                    </a:lnTo>
                    <a:lnTo>
                      <a:pt x="3449" y="531"/>
                    </a:lnTo>
                    <a:lnTo>
                      <a:pt x="3402" y="550"/>
                    </a:lnTo>
                    <a:lnTo>
                      <a:pt x="3349" y="575"/>
                    </a:lnTo>
                    <a:lnTo>
                      <a:pt x="3292" y="608"/>
                    </a:lnTo>
                    <a:lnTo>
                      <a:pt x="3229" y="648"/>
                    </a:lnTo>
                    <a:lnTo>
                      <a:pt x="3158" y="696"/>
                    </a:lnTo>
                    <a:lnTo>
                      <a:pt x="3080" y="751"/>
                    </a:lnTo>
                    <a:lnTo>
                      <a:pt x="2994" y="814"/>
                    </a:lnTo>
                    <a:lnTo>
                      <a:pt x="2898" y="886"/>
                    </a:lnTo>
                    <a:lnTo>
                      <a:pt x="2791" y="965"/>
                    </a:lnTo>
                    <a:lnTo>
                      <a:pt x="2668" y="1034"/>
                    </a:lnTo>
                    <a:lnTo>
                      <a:pt x="2561" y="1080"/>
                    </a:lnTo>
                    <a:lnTo>
                      <a:pt x="2561" y="1369"/>
                    </a:lnTo>
                    <a:lnTo>
                      <a:pt x="2587" y="1358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7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380" y="725"/>
                    </a:moveTo>
                    <a:lnTo>
                      <a:pt x="5383" y="722"/>
                    </a:lnTo>
                    <a:lnTo>
                      <a:pt x="5378" y="726"/>
                    </a:lnTo>
                    <a:lnTo>
                      <a:pt x="5380" y="725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8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4660" y="753"/>
                    </a:moveTo>
                    <a:lnTo>
                      <a:pt x="4582" y="701"/>
                    </a:lnTo>
                    <a:lnTo>
                      <a:pt x="4496" y="642"/>
                    </a:lnTo>
                    <a:lnTo>
                      <a:pt x="4400" y="576"/>
                    </a:lnTo>
                    <a:lnTo>
                      <a:pt x="4293" y="502"/>
                    </a:lnTo>
                    <a:lnTo>
                      <a:pt x="4186" y="427"/>
                    </a:lnTo>
                    <a:lnTo>
                      <a:pt x="4087" y="359"/>
                    </a:lnTo>
                    <a:lnTo>
                      <a:pt x="3995" y="298"/>
                    </a:lnTo>
                    <a:lnTo>
                      <a:pt x="3909" y="242"/>
                    </a:lnTo>
                    <a:lnTo>
                      <a:pt x="3827" y="192"/>
                    </a:lnTo>
                    <a:lnTo>
                      <a:pt x="3748" y="149"/>
                    </a:lnTo>
                    <a:lnTo>
                      <a:pt x="3672" y="111"/>
                    </a:lnTo>
                    <a:lnTo>
                      <a:pt x="3596" y="79"/>
                    </a:lnTo>
                    <a:lnTo>
                      <a:pt x="3521" y="52"/>
                    </a:lnTo>
                    <a:lnTo>
                      <a:pt x="3443" y="31"/>
                    </a:lnTo>
                    <a:lnTo>
                      <a:pt x="3363" y="16"/>
                    </a:lnTo>
                    <a:lnTo>
                      <a:pt x="3278" y="5"/>
                    </a:lnTo>
                    <a:lnTo>
                      <a:pt x="3189" y="0"/>
                    </a:lnTo>
                    <a:lnTo>
                      <a:pt x="3093" y="0"/>
                    </a:lnTo>
                    <a:lnTo>
                      <a:pt x="2989" y="4"/>
                    </a:lnTo>
                    <a:lnTo>
                      <a:pt x="2876" y="13"/>
                    </a:lnTo>
                    <a:lnTo>
                      <a:pt x="2753" y="28"/>
                    </a:lnTo>
                    <a:lnTo>
                      <a:pt x="2619" y="46"/>
                    </a:lnTo>
                    <a:lnTo>
                      <a:pt x="2561" y="55"/>
                    </a:lnTo>
                    <a:lnTo>
                      <a:pt x="2561" y="596"/>
                    </a:lnTo>
                    <a:lnTo>
                      <a:pt x="2637" y="544"/>
                    </a:lnTo>
                    <a:lnTo>
                      <a:pt x="2753" y="466"/>
                    </a:lnTo>
                    <a:lnTo>
                      <a:pt x="2858" y="397"/>
                    </a:lnTo>
                    <a:lnTo>
                      <a:pt x="2954" y="337"/>
                    </a:lnTo>
                    <a:lnTo>
                      <a:pt x="3042" y="286"/>
                    </a:lnTo>
                    <a:lnTo>
                      <a:pt x="3122" y="244"/>
                    </a:lnTo>
                    <a:lnTo>
                      <a:pt x="3196" y="210"/>
                    </a:lnTo>
                    <a:lnTo>
                      <a:pt x="3267" y="185"/>
                    </a:lnTo>
                    <a:lnTo>
                      <a:pt x="3333" y="169"/>
                    </a:lnTo>
                    <a:lnTo>
                      <a:pt x="3398" y="161"/>
                    </a:lnTo>
                    <a:lnTo>
                      <a:pt x="3463" y="162"/>
                    </a:lnTo>
                    <a:lnTo>
                      <a:pt x="3528" y="171"/>
                    </a:lnTo>
                    <a:lnTo>
                      <a:pt x="3594" y="188"/>
                    </a:lnTo>
                    <a:lnTo>
                      <a:pt x="3664" y="214"/>
                    </a:lnTo>
                    <a:lnTo>
                      <a:pt x="3739" y="247"/>
                    </a:lnTo>
                    <a:lnTo>
                      <a:pt x="3820" y="289"/>
                    </a:lnTo>
                    <a:lnTo>
                      <a:pt x="3907" y="339"/>
                    </a:lnTo>
                    <a:lnTo>
                      <a:pt x="4003" y="396"/>
                    </a:lnTo>
                    <a:lnTo>
                      <a:pt x="4109" y="462"/>
                    </a:lnTo>
                    <a:lnTo>
                      <a:pt x="4225" y="535"/>
                    </a:lnTo>
                    <a:lnTo>
                      <a:pt x="4344" y="606"/>
                    </a:lnTo>
                    <a:lnTo>
                      <a:pt x="4456" y="666"/>
                    </a:lnTo>
                    <a:lnTo>
                      <a:pt x="4561" y="714"/>
                    </a:lnTo>
                    <a:lnTo>
                      <a:pt x="4659" y="753"/>
                    </a:lnTo>
                    <a:lnTo>
                      <a:pt x="4660" y="75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00000"/>
                </a:solidFill>
                <a:latin typeface="Arial"/>
              </a:rPr>
              <a:t>INTERRUPCION DEL FUERO MATER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FU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RUPCION DEL EMBAR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"/>
          <p:cNvGrpSpPr/>
          <p:nvPr/>
        </p:nvGrpSpPr>
        <p:grpSpPr>
          <a:xfrm>
            <a:off x="0" y="6165720"/>
            <a:ext cx="5580000" cy="691920"/>
            <a:chOff x="0" y="6165720"/>
            <a:chExt cx="5580000" cy="691920"/>
          </a:xfrm>
        </p:grpSpPr>
        <p:grpSp>
          <p:nvGrpSpPr>
            <p:cNvPr id="299" name="Group 5"/>
            <p:cNvGrpSpPr/>
            <p:nvPr/>
          </p:nvGrpSpPr>
          <p:grpSpPr>
            <a:xfrm>
              <a:off x="808560" y="6341040"/>
              <a:ext cx="3614400" cy="404280"/>
              <a:chOff x="808560" y="6341040"/>
              <a:chExt cx="3614400" cy="404280"/>
            </a:xfrm>
          </p:grpSpPr>
          <p:sp>
            <p:nvSpPr>
              <p:cNvPr id="300" name="Freeform 6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85" y="493"/>
                    </a:moveTo>
                    <a:lnTo>
                      <a:pt x="3484" y="492"/>
                    </a:lnTo>
                    <a:lnTo>
                      <a:pt x="3487" y="494"/>
                    </a:lnTo>
                    <a:lnTo>
                      <a:pt x="3485" y="493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7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065" y="962"/>
                    </a:moveTo>
                    <a:lnTo>
                      <a:pt x="2123" y="959"/>
                    </a:lnTo>
                    <a:lnTo>
                      <a:pt x="2178" y="952"/>
                    </a:lnTo>
                    <a:lnTo>
                      <a:pt x="2230" y="942"/>
                    </a:lnTo>
                    <a:lnTo>
                      <a:pt x="2280" y="928"/>
                    </a:lnTo>
                    <a:lnTo>
                      <a:pt x="2329" y="911"/>
                    </a:lnTo>
                    <a:lnTo>
                      <a:pt x="2378" y="891"/>
                    </a:lnTo>
                    <a:lnTo>
                      <a:pt x="2428" y="866"/>
                    </a:lnTo>
                    <a:lnTo>
                      <a:pt x="2479" y="838"/>
                    </a:lnTo>
                    <a:lnTo>
                      <a:pt x="2532" y="806"/>
                    </a:lnTo>
                    <a:lnTo>
                      <a:pt x="2588" y="770"/>
                    </a:lnTo>
                    <a:lnTo>
                      <a:pt x="2647" y="730"/>
                    </a:lnTo>
                    <a:lnTo>
                      <a:pt x="2711" y="685"/>
                    </a:lnTo>
                    <a:lnTo>
                      <a:pt x="2781" y="637"/>
                    </a:lnTo>
                    <a:lnTo>
                      <a:pt x="2850" y="589"/>
                    </a:lnTo>
                    <a:lnTo>
                      <a:pt x="2912" y="546"/>
                    </a:lnTo>
                    <a:lnTo>
                      <a:pt x="2968" y="508"/>
                    </a:lnTo>
                    <a:lnTo>
                      <a:pt x="3018" y="475"/>
                    </a:lnTo>
                    <a:lnTo>
                      <a:pt x="3019" y="475"/>
                    </a:lnTo>
                    <a:lnTo>
                      <a:pt x="3018" y="475"/>
                    </a:lnTo>
                    <a:lnTo>
                      <a:pt x="2954" y="500"/>
                    </a:lnTo>
                    <a:lnTo>
                      <a:pt x="2886" y="531"/>
                    </a:lnTo>
                    <a:lnTo>
                      <a:pt x="2814" y="569"/>
                    </a:lnTo>
                    <a:lnTo>
                      <a:pt x="2737" y="616"/>
                    </a:lnTo>
                    <a:lnTo>
                      <a:pt x="2661" y="663"/>
                    </a:lnTo>
                    <a:lnTo>
                      <a:pt x="2593" y="706"/>
                    </a:lnTo>
                    <a:lnTo>
                      <a:pt x="2531" y="743"/>
                    </a:lnTo>
                    <a:lnTo>
                      <a:pt x="2474" y="775"/>
                    </a:lnTo>
                    <a:lnTo>
                      <a:pt x="2422" y="802"/>
                    </a:lnTo>
                    <a:lnTo>
                      <a:pt x="2374" y="824"/>
                    </a:lnTo>
                    <a:lnTo>
                      <a:pt x="2328" y="841"/>
                    </a:lnTo>
                    <a:lnTo>
                      <a:pt x="2285" y="852"/>
                    </a:lnTo>
                    <a:lnTo>
                      <a:pt x="2243" y="858"/>
                    </a:lnTo>
                    <a:lnTo>
                      <a:pt x="2201" y="858"/>
                    </a:lnTo>
                    <a:lnTo>
                      <a:pt x="2159" y="853"/>
                    </a:lnTo>
                    <a:lnTo>
                      <a:pt x="2116" y="842"/>
                    </a:lnTo>
                    <a:lnTo>
                      <a:pt x="2070" y="826"/>
                    </a:lnTo>
                    <a:lnTo>
                      <a:pt x="2022" y="804"/>
                    </a:lnTo>
                    <a:lnTo>
                      <a:pt x="1970" y="777"/>
                    </a:lnTo>
                    <a:lnTo>
                      <a:pt x="1913" y="744"/>
                    </a:lnTo>
                    <a:lnTo>
                      <a:pt x="1851" y="705"/>
                    </a:lnTo>
                    <a:lnTo>
                      <a:pt x="1783" y="660"/>
                    </a:lnTo>
                    <a:lnTo>
                      <a:pt x="1781" y="659"/>
                    </a:lnTo>
                    <a:lnTo>
                      <a:pt x="1781" y="944"/>
                    </a:lnTo>
                    <a:lnTo>
                      <a:pt x="1783" y="944"/>
                    </a:lnTo>
                    <a:lnTo>
                      <a:pt x="1863" y="954"/>
                    </a:lnTo>
                    <a:lnTo>
                      <a:pt x="1936" y="960"/>
                    </a:lnTo>
                    <a:lnTo>
                      <a:pt x="2003" y="963"/>
                    </a:lnTo>
                    <a:lnTo>
                      <a:pt x="2065" y="962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8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316" y="628"/>
                    </a:moveTo>
                    <a:lnTo>
                      <a:pt x="2342" y="622"/>
                    </a:lnTo>
                    <a:lnTo>
                      <a:pt x="2367" y="613"/>
                    </a:lnTo>
                    <a:lnTo>
                      <a:pt x="2393" y="599"/>
                    </a:lnTo>
                    <a:lnTo>
                      <a:pt x="2421" y="582"/>
                    </a:lnTo>
                    <a:lnTo>
                      <a:pt x="2450" y="561"/>
                    </a:lnTo>
                    <a:lnTo>
                      <a:pt x="2481" y="537"/>
                    </a:lnTo>
                    <a:lnTo>
                      <a:pt x="2515" y="508"/>
                    </a:lnTo>
                    <a:lnTo>
                      <a:pt x="2552" y="477"/>
                    </a:lnTo>
                    <a:lnTo>
                      <a:pt x="2550" y="478"/>
                    </a:lnTo>
                    <a:lnTo>
                      <a:pt x="2544" y="481"/>
                    </a:lnTo>
                    <a:lnTo>
                      <a:pt x="2534" y="486"/>
                    </a:lnTo>
                    <a:lnTo>
                      <a:pt x="2520" y="492"/>
                    </a:lnTo>
                    <a:lnTo>
                      <a:pt x="2502" y="498"/>
                    </a:lnTo>
                    <a:lnTo>
                      <a:pt x="2481" y="503"/>
                    </a:lnTo>
                    <a:lnTo>
                      <a:pt x="2456" y="508"/>
                    </a:lnTo>
                    <a:lnTo>
                      <a:pt x="2428" y="511"/>
                    </a:lnTo>
                    <a:lnTo>
                      <a:pt x="2397" y="513"/>
                    </a:lnTo>
                    <a:lnTo>
                      <a:pt x="2363" y="511"/>
                    </a:lnTo>
                    <a:lnTo>
                      <a:pt x="2325" y="506"/>
                    </a:lnTo>
                    <a:lnTo>
                      <a:pt x="2285" y="498"/>
                    </a:lnTo>
                    <a:lnTo>
                      <a:pt x="2242" y="485"/>
                    </a:lnTo>
                    <a:lnTo>
                      <a:pt x="2196" y="467"/>
                    </a:lnTo>
                    <a:lnTo>
                      <a:pt x="2148" y="444"/>
                    </a:lnTo>
                    <a:lnTo>
                      <a:pt x="2097" y="414"/>
                    </a:lnTo>
                    <a:lnTo>
                      <a:pt x="2044" y="378"/>
                    </a:lnTo>
                    <a:lnTo>
                      <a:pt x="1989" y="334"/>
                    </a:lnTo>
                    <a:lnTo>
                      <a:pt x="1932" y="282"/>
                    </a:lnTo>
                    <a:lnTo>
                      <a:pt x="1872" y="222"/>
                    </a:lnTo>
                    <a:lnTo>
                      <a:pt x="1839" y="189"/>
                    </a:lnTo>
                    <a:lnTo>
                      <a:pt x="1802" y="158"/>
                    </a:lnTo>
                    <a:lnTo>
                      <a:pt x="1781" y="143"/>
                    </a:lnTo>
                    <a:lnTo>
                      <a:pt x="1781" y="322"/>
                    </a:lnTo>
                    <a:lnTo>
                      <a:pt x="1808" y="337"/>
                    </a:lnTo>
                    <a:lnTo>
                      <a:pt x="1877" y="389"/>
                    </a:lnTo>
                    <a:lnTo>
                      <a:pt x="1939" y="435"/>
                    </a:lnTo>
                    <a:lnTo>
                      <a:pt x="1995" y="476"/>
                    </a:lnTo>
                    <a:lnTo>
                      <a:pt x="2046" y="512"/>
                    </a:lnTo>
                    <a:lnTo>
                      <a:pt x="2091" y="543"/>
                    </a:lnTo>
                    <a:lnTo>
                      <a:pt x="2132" y="569"/>
                    </a:lnTo>
                    <a:lnTo>
                      <a:pt x="2169" y="590"/>
                    </a:lnTo>
                    <a:lnTo>
                      <a:pt x="2203" y="606"/>
                    </a:lnTo>
                    <a:lnTo>
                      <a:pt x="2234" y="618"/>
                    </a:lnTo>
                    <a:lnTo>
                      <a:pt x="2263" y="626"/>
                    </a:lnTo>
                    <a:lnTo>
                      <a:pt x="2290" y="629"/>
                    </a:lnTo>
                    <a:lnTo>
                      <a:pt x="2316" y="628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9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55" y="467"/>
                    </a:moveTo>
                    <a:lnTo>
                      <a:pt x="3426" y="442"/>
                    </a:lnTo>
                    <a:lnTo>
                      <a:pt x="3399" y="421"/>
                    </a:lnTo>
                    <a:lnTo>
                      <a:pt x="3374" y="403"/>
                    </a:lnTo>
                    <a:lnTo>
                      <a:pt x="3350" y="388"/>
                    </a:lnTo>
                    <a:lnTo>
                      <a:pt x="3327" y="377"/>
                    </a:lnTo>
                    <a:lnTo>
                      <a:pt x="3304" y="369"/>
                    </a:lnTo>
                    <a:lnTo>
                      <a:pt x="3281" y="365"/>
                    </a:lnTo>
                    <a:lnTo>
                      <a:pt x="3256" y="364"/>
                    </a:lnTo>
                    <a:lnTo>
                      <a:pt x="3231" y="368"/>
                    </a:lnTo>
                    <a:lnTo>
                      <a:pt x="3203" y="375"/>
                    </a:lnTo>
                    <a:lnTo>
                      <a:pt x="3173" y="386"/>
                    </a:lnTo>
                    <a:lnTo>
                      <a:pt x="3140" y="402"/>
                    </a:lnTo>
                    <a:lnTo>
                      <a:pt x="3104" y="422"/>
                    </a:lnTo>
                    <a:lnTo>
                      <a:pt x="3063" y="446"/>
                    </a:lnTo>
                    <a:lnTo>
                      <a:pt x="3019" y="475"/>
                    </a:lnTo>
                    <a:lnTo>
                      <a:pt x="3077" y="456"/>
                    </a:lnTo>
                    <a:lnTo>
                      <a:pt x="3132" y="442"/>
                    </a:lnTo>
                    <a:lnTo>
                      <a:pt x="3183" y="433"/>
                    </a:lnTo>
                    <a:lnTo>
                      <a:pt x="3229" y="429"/>
                    </a:lnTo>
                    <a:lnTo>
                      <a:pt x="3271" y="428"/>
                    </a:lnTo>
                    <a:lnTo>
                      <a:pt x="3310" y="430"/>
                    </a:lnTo>
                    <a:lnTo>
                      <a:pt x="3344" y="434"/>
                    </a:lnTo>
                    <a:lnTo>
                      <a:pt x="3375" y="441"/>
                    </a:lnTo>
                    <a:lnTo>
                      <a:pt x="3402" y="449"/>
                    </a:lnTo>
                    <a:lnTo>
                      <a:pt x="3425" y="457"/>
                    </a:lnTo>
                    <a:lnTo>
                      <a:pt x="3444" y="466"/>
                    </a:lnTo>
                    <a:lnTo>
                      <a:pt x="3459" y="475"/>
                    </a:lnTo>
                    <a:lnTo>
                      <a:pt x="3471" y="483"/>
                    </a:lnTo>
                    <a:lnTo>
                      <a:pt x="3480" y="489"/>
                    </a:lnTo>
                    <a:lnTo>
                      <a:pt x="3484" y="492"/>
                    </a:lnTo>
                    <a:lnTo>
                      <a:pt x="3455" y="467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10"/>
            <p:cNvGrpSpPr/>
            <p:nvPr/>
          </p:nvGrpSpPr>
          <p:grpSpPr>
            <a:xfrm>
              <a:off x="980640" y="6165720"/>
              <a:ext cx="3697200" cy="375120"/>
              <a:chOff x="980640" y="6165720"/>
              <a:chExt cx="3697200" cy="375120"/>
            </a:xfrm>
          </p:grpSpPr>
          <p:sp>
            <p:nvSpPr>
              <p:cNvPr id="305" name="Freeform 11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2942" y="773"/>
                    </a:moveTo>
                    <a:lnTo>
                      <a:pt x="2880" y="731"/>
                    </a:lnTo>
                    <a:lnTo>
                      <a:pt x="2812" y="683"/>
                    </a:lnTo>
                    <a:lnTo>
                      <a:pt x="2735" y="628"/>
                    </a:lnTo>
                    <a:lnTo>
                      <a:pt x="2651" y="566"/>
                    </a:lnTo>
                    <a:lnTo>
                      <a:pt x="2557" y="498"/>
                    </a:lnTo>
                    <a:lnTo>
                      <a:pt x="2449" y="423"/>
                    </a:lnTo>
                    <a:lnTo>
                      <a:pt x="2349" y="355"/>
                    </a:lnTo>
                    <a:lnTo>
                      <a:pt x="2254" y="293"/>
                    </a:lnTo>
                    <a:lnTo>
                      <a:pt x="2164" y="238"/>
                    </a:lnTo>
                    <a:lnTo>
                      <a:pt x="2078" y="189"/>
                    </a:lnTo>
                    <a:lnTo>
                      <a:pt x="1995" y="146"/>
                    </a:lnTo>
                    <a:lnTo>
                      <a:pt x="1913" y="108"/>
                    </a:lnTo>
                    <a:lnTo>
                      <a:pt x="1832" y="76"/>
                    </a:lnTo>
                    <a:lnTo>
                      <a:pt x="1750" y="50"/>
                    </a:lnTo>
                    <a:lnTo>
                      <a:pt x="1667" y="30"/>
                    </a:lnTo>
                    <a:lnTo>
                      <a:pt x="1615" y="20"/>
                    </a:lnTo>
                    <a:lnTo>
                      <a:pt x="1615" y="163"/>
                    </a:lnTo>
                    <a:lnTo>
                      <a:pt x="1646" y="163"/>
                    </a:lnTo>
                    <a:lnTo>
                      <a:pt x="1711" y="172"/>
                    </a:lnTo>
                    <a:lnTo>
                      <a:pt x="1778" y="189"/>
                    </a:lnTo>
                    <a:lnTo>
                      <a:pt x="1848" y="215"/>
                    </a:lnTo>
                    <a:lnTo>
                      <a:pt x="1923" y="249"/>
                    </a:lnTo>
                    <a:lnTo>
                      <a:pt x="2003" y="290"/>
                    </a:lnTo>
                    <a:lnTo>
                      <a:pt x="2091" y="340"/>
                    </a:lnTo>
                    <a:lnTo>
                      <a:pt x="2187" y="398"/>
                    </a:lnTo>
                    <a:lnTo>
                      <a:pt x="2292" y="463"/>
                    </a:lnTo>
                    <a:lnTo>
                      <a:pt x="2409" y="537"/>
                    </a:lnTo>
                    <a:lnTo>
                      <a:pt x="2528" y="608"/>
                    </a:lnTo>
                    <a:lnTo>
                      <a:pt x="2640" y="667"/>
                    </a:lnTo>
                    <a:lnTo>
                      <a:pt x="2745" y="715"/>
                    </a:lnTo>
                    <a:lnTo>
                      <a:pt x="2843" y="754"/>
                    </a:lnTo>
                    <a:lnTo>
                      <a:pt x="2934" y="783"/>
                    </a:lnTo>
                    <a:lnTo>
                      <a:pt x="2974" y="793"/>
                    </a:lnTo>
                    <a:lnTo>
                      <a:pt x="2942" y="773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2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543" y="742"/>
                    </a:moveTo>
                    <a:lnTo>
                      <a:pt x="3556" y="732"/>
                    </a:lnTo>
                    <a:lnTo>
                      <a:pt x="3564" y="726"/>
                    </a:lnTo>
                    <a:lnTo>
                      <a:pt x="3566" y="724"/>
                    </a:lnTo>
                    <a:lnTo>
                      <a:pt x="3530" y="750"/>
                    </a:lnTo>
                    <a:lnTo>
                      <a:pt x="3543" y="742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3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282" y="889"/>
                    </a:moveTo>
                    <a:lnTo>
                      <a:pt x="3317" y="880"/>
                    </a:lnTo>
                    <a:lnTo>
                      <a:pt x="3352" y="865"/>
                    </a:lnTo>
                    <a:lnTo>
                      <a:pt x="3389" y="845"/>
                    </a:lnTo>
                    <a:lnTo>
                      <a:pt x="3428" y="821"/>
                    </a:lnTo>
                    <a:lnTo>
                      <a:pt x="3470" y="793"/>
                    </a:lnTo>
                    <a:lnTo>
                      <a:pt x="3516" y="760"/>
                    </a:lnTo>
                    <a:lnTo>
                      <a:pt x="3530" y="750"/>
                    </a:lnTo>
                    <a:lnTo>
                      <a:pt x="3524" y="754"/>
                    </a:lnTo>
                    <a:lnTo>
                      <a:pt x="3500" y="767"/>
                    </a:lnTo>
                    <a:lnTo>
                      <a:pt x="3471" y="781"/>
                    </a:lnTo>
                    <a:lnTo>
                      <a:pt x="3435" y="794"/>
                    </a:lnTo>
                    <a:lnTo>
                      <a:pt x="3394" y="806"/>
                    </a:lnTo>
                    <a:lnTo>
                      <a:pt x="3347" y="816"/>
                    </a:lnTo>
                    <a:lnTo>
                      <a:pt x="3294" y="823"/>
                    </a:lnTo>
                    <a:lnTo>
                      <a:pt x="3234" y="827"/>
                    </a:lnTo>
                    <a:lnTo>
                      <a:pt x="3169" y="825"/>
                    </a:lnTo>
                    <a:lnTo>
                      <a:pt x="3097" y="818"/>
                    </a:lnTo>
                    <a:lnTo>
                      <a:pt x="3019" y="804"/>
                    </a:lnTo>
                    <a:lnTo>
                      <a:pt x="2974" y="793"/>
                    </a:lnTo>
                    <a:lnTo>
                      <a:pt x="2998" y="808"/>
                    </a:lnTo>
                    <a:lnTo>
                      <a:pt x="3048" y="837"/>
                    </a:lnTo>
                    <a:lnTo>
                      <a:pt x="3094" y="860"/>
                    </a:lnTo>
                    <a:lnTo>
                      <a:pt x="3136" y="877"/>
                    </a:lnTo>
                    <a:lnTo>
                      <a:pt x="3175" y="888"/>
                    </a:lnTo>
                    <a:lnTo>
                      <a:pt x="3212" y="894"/>
                    </a:lnTo>
                    <a:lnTo>
                      <a:pt x="3248" y="894"/>
                    </a:lnTo>
                    <a:lnTo>
                      <a:pt x="3282" y="889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4"/>
            <p:cNvGrpSpPr/>
            <p:nvPr/>
          </p:nvGrpSpPr>
          <p:grpSpPr>
            <a:xfrm>
              <a:off x="0" y="6233400"/>
              <a:ext cx="5580000" cy="624240"/>
              <a:chOff x="0" y="6233400"/>
              <a:chExt cx="5580000" cy="624240"/>
            </a:xfrm>
          </p:grpSpPr>
          <p:sp>
            <p:nvSpPr>
              <p:cNvPr id="309" name="Freeform 15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065" y="923"/>
                    </a:moveTo>
                    <a:lnTo>
                      <a:pt x="5101" y="916"/>
                    </a:lnTo>
                    <a:lnTo>
                      <a:pt x="5136" y="904"/>
                    </a:lnTo>
                    <a:lnTo>
                      <a:pt x="5172" y="887"/>
                    </a:lnTo>
                    <a:lnTo>
                      <a:pt x="5209" y="864"/>
                    </a:lnTo>
                    <a:lnTo>
                      <a:pt x="5247" y="836"/>
                    </a:lnTo>
                    <a:lnTo>
                      <a:pt x="5289" y="803"/>
                    </a:lnTo>
                    <a:lnTo>
                      <a:pt x="5333" y="765"/>
                    </a:lnTo>
                    <a:lnTo>
                      <a:pt x="5378" y="726"/>
                    </a:lnTo>
                    <a:lnTo>
                      <a:pt x="5372" y="731"/>
                    </a:lnTo>
                    <a:lnTo>
                      <a:pt x="5359" y="741"/>
                    </a:lnTo>
                    <a:lnTo>
                      <a:pt x="5341" y="752"/>
                    </a:lnTo>
                    <a:lnTo>
                      <a:pt x="5317" y="766"/>
                    </a:lnTo>
                    <a:lnTo>
                      <a:pt x="5287" y="779"/>
                    </a:lnTo>
                    <a:lnTo>
                      <a:pt x="5252" y="793"/>
                    </a:lnTo>
                    <a:lnTo>
                      <a:pt x="5210" y="805"/>
                    </a:lnTo>
                    <a:lnTo>
                      <a:pt x="5163" y="815"/>
                    </a:lnTo>
                    <a:lnTo>
                      <a:pt x="5110" y="822"/>
                    </a:lnTo>
                    <a:lnTo>
                      <a:pt x="5051" y="825"/>
                    </a:lnTo>
                    <a:lnTo>
                      <a:pt x="4985" y="824"/>
                    </a:lnTo>
                    <a:lnTo>
                      <a:pt x="4913" y="817"/>
                    </a:lnTo>
                    <a:lnTo>
                      <a:pt x="4835" y="803"/>
                    </a:lnTo>
                    <a:lnTo>
                      <a:pt x="4750" y="782"/>
                    </a:lnTo>
                    <a:lnTo>
                      <a:pt x="4660" y="753"/>
                    </a:lnTo>
                    <a:lnTo>
                      <a:pt x="4729" y="797"/>
                    </a:lnTo>
                    <a:lnTo>
                      <a:pt x="4792" y="834"/>
                    </a:lnTo>
                    <a:lnTo>
                      <a:pt x="4848" y="865"/>
                    </a:lnTo>
                    <a:lnTo>
                      <a:pt x="4899" y="889"/>
                    </a:lnTo>
                    <a:lnTo>
                      <a:pt x="4946" y="907"/>
                    </a:lnTo>
                    <a:lnTo>
                      <a:pt x="4988" y="918"/>
                    </a:lnTo>
                    <a:lnTo>
                      <a:pt x="5028" y="923"/>
                    </a:lnTo>
                    <a:lnTo>
                      <a:pt x="5065" y="92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6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2587" y="1358"/>
                    </a:moveTo>
                    <a:lnTo>
                      <a:pt x="2657" y="1323"/>
                    </a:lnTo>
                    <a:lnTo>
                      <a:pt x="2722" y="1284"/>
                    </a:lnTo>
                    <a:lnTo>
                      <a:pt x="2783" y="1241"/>
                    </a:lnTo>
                    <a:lnTo>
                      <a:pt x="2839" y="1194"/>
                    </a:lnTo>
                    <a:lnTo>
                      <a:pt x="2890" y="1143"/>
                    </a:lnTo>
                    <a:lnTo>
                      <a:pt x="2982" y="1050"/>
                    </a:lnTo>
                    <a:lnTo>
                      <a:pt x="3071" y="970"/>
                    </a:lnTo>
                    <a:lnTo>
                      <a:pt x="3156" y="903"/>
                    </a:lnTo>
                    <a:lnTo>
                      <a:pt x="3238" y="846"/>
                    </a:lnTo>
                    <a:lnTo>
                      <a:pt x="3316" y="801"/>
                    </a:lnTo>
                    <a:lnTo>
                      <a:pt x="3391" y="764"/>
                    </a:lnTo>
                    <a:lnTo>
                      <a:pt x="3462" y="737"/>
                    </a:lnTo>
                    <a:lnTo>
                      <a:pt x="3528" y="717"/>
                    </a:lnTo>
                    <a:lnTo>
                      <a:pt x="3590" y="704"/>
                    </a:lnTo>
                    <a:lnTo>
                      <a:pt x="3648" y="697"/>
                    </a:lnTo>
                    <a:lnTo>
                      <a:pt x="3701" y="694"/>
                    </a:lnTo>
                    <a:lnTo>
                      <a:pt x="3749" y="696"/>
                    </a:lnTo>
                    <a:lnTo>
                      <a:pt x="3793" y="701"/>
                    </a:lnTo>
                    <a:lnTo>
                      <a:pt x="3831" y="709"/>
                    </a:lnTo>
                    <a:lnTo>
                      <a:pt x="3863" y="717"/>
                    </a:lnTo>
                    <a:lnTo>
                      <a:pt x="3890" y="726"/>
                    </a:lnTo>
                    <a:lnTo>
                      <a:pt x="3912" y="735"/>
                    </a:lnTo>
                    <a:lnTo>
                      <a:pt x="3927" y="742"/>
                    </a:lnTo>
                    <a:lnTo>
                      <a:pt x="3937" y="748"/>
                    </a:lnTo>
                    <a:lnTo>
                      <a:pt x="3940" y="749"/>
                    </a:lnTo>
                    <a:lnTo>
                      <a:pt x="3882" y="701"/>
                    </a:lnTo>
                    <a:lnTo>
                      <a:pt x="3830" y="657"/>
                    </a:lnTo>
                    <a:lnTo>
                      <a:pt x="3782" y="619"/>
                    </a:lnTo>
                    <a:lnTo>
                      <a:pt x="3737" y="587"/>
                    </a:lnTo>
                    <a:lnTo>
                      <a:pt x="3695" y="560"/>
                    </a:lnTo>
                    <a:lnTo>
                      <a:pt x="3655" y="540"/>
                    </a:lnTo>
                    <a:lnTo>
                      <a:pt x="3616" y="525"/>
                    </a:lnTo>
                    <a:lnTo>
                      <a:pt x="3576" y="517"/>
                    </a:lnTo>
                    <a:lnTo>
                      <a:pt x="3536" y="515"/>
                    </a:lnTo>
                    <a:lnTo>
                      <a:pt x="3494" y="520"/>
                    </a:lnTo>
                    <a:lnTo>
                      <a:pt x="3449" y="531"/>
                    </a:lnTo>
                    <a:lnTo>
                      <a:pt x="3402" y="550"/>
                    </a:lnTo>
                    <a:lnTo>
                      <a:pt x="3349" y="575"/>
                    </a:lnTo>
                    <a:lnTo>
                      <a:pt x="3292" y="608"/>
                    </a:lnTo>
                    <a:lnTo>
                      <a:pt x="3229" y="648"/>
                    </a:lnTo>
                    <a:lnTo>
                      <a:pt x="3158" y="696"/>
                    </a:lnTo>
                    <a:lnTo>
                      <a:pt x="3080" y="751"/>
                    </a:lnTo>
                    <a:lnTo>
                      <a:pt x="2994" y="814"/>
                    </a:lnTo>
                    <a:lnTo>
                      <a:pt x="2898" y="886"/>
                    </a:lnTo>
                    <a:lnTo>
                      <a:pt x="2791" y="965"/>
                    </a:lnTo>
                    <a:lnTo>
                      <a:pt x="2668" y="1034"/>
                    </a:lnTo>
                    <a:lnTo>
                      <a:pt x="2561" y="1080"/>
                    </a:lnTo>
                    <a:lnTo>
                      <a:pt x="2561" y="1369"/>
                    </a:lnTo>
                    <a:lnTo>
                      <a:pt x="2587" y="1358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7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380" y="725"/>
                    </a:moveTo>
                    <a:lnTo>
                      <a:pt x="5383" y="722"/>
                    </a:lnTo>
                    <a:lnTo>
                      <a:pt x="5378" y="726"/>
                    </a:lnTo>
                    <a:lnTo>
                      <a:pt x="5380" y="725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8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4660" y="753"/>
                    </a:moveTo>
                    <a:lnTo>
                      <a:pt x="4582" y="701"/>
                    </a:lnTo>
                    <a:lnTo>
                      <a:pt x="4496" y="642"/>
                    </a:lnTo>
                    <a:lnTo>
                      <a:pt x="4400" y="576"/>
                    </a:lnTo>
                    <a:lnTo>
                      <a:pt x="4293" y="502"/>
                    </a:lnTo>
                    <a:lnTo>
                      <a:pt x="4186" y="427"/>
                    </a:lnTo>
                    <a:lnTo>
                      <a:pt x="4087" y="359"/>
                    </a:lnTo>
                    <a:lnTo>
                      <a:pt x="3995" y="298"/>
                    </a:lnTo>
                    <a:lnTo>
                      <a:pt x="3909" y="242"/>
                    </a:lnTo>
                    <a:lnTo>
                      <a:pt x="3827" y="192"/>
                    </a:lnTo>
                    <a:lnTo>
                      <a:pt x="3748" y="149"/>
                    </a:lnTo>
                    <a:lnTo>
                      <a:pt x="3672" y="111"/>
                    </a:lnTo>
                    <a:lnTo>
                      <a:pt x="3596" y="79"/>
                    </a:lnTo>
                    <a:lnTo>
                      <a:pt x="3521" y="52"/>
                    </a:lnTo>
                    <a:lnTo>
                      <a:pt x="3443" y="31"/>
                    </a:lnTo>
                    <a:lnTo>
                      <a:pt x="3363" y="16"/>
                    </a:lnTo>
                    <a:lnTo>
                      <a:pt x="3278" y="5"/>
                    </a:lnTo>
                    <a:lnTo>
                      <a:pt x="3189" y="0"/>
                    </a:lnTo>
                    <a:lnTo>
                      <a:pt x="3093" y="0"/>
                    </a:lnTo>
                    <a:lnTo>
                      <a:pt x="2989" y="4"/>
                    </a:lnTo>
                    <a:lnTo>
                      <a:pt x="2876" y="13"/>
                    </a:lnTo>
                    <a:lnTo>
                      <a:pt x="2753" y="28"/>
                    </a:lnTo>
                    <a:lnTo>
                      <a:pt x="2619" y="46"/>
                    </a:lnTo>
                    <a:lnTo>
                      <a:pt x="2561" y="55"/>
                    </a:lnTo>
                    <a:lnTo>
                      <a:pt x="2561" y="596"/>
                    </a:lnTo>
                    <a:lnTo>
                      <a:pt x="2637" y="544"/>
                    </a:lnTo>
                    <a:lnTo>
                      <a:pt x="2753" y="466"/>
                    </a:lnTo>
                    <a:lnTo>
                      <a:pt x="2858" y="397"/>
                    </a:lnTo>
                    <a:lnTo>
                      <a:pt x="2954" y="337"/>
                    </a:lnTo>
                    <a:lnTo>
                      <a:pt x="3042" y="286"/>
                    </a:lnTo>
                    <a:lnTo>
                      <a:pt x="3122" y="244"/>
                    </a:lnTo>
                    <a:lnTo>
                      <a:pt x="3196" y="210"/>
                    </a:lnTo>
                    <a:lnTo>
                      <a:pt x="3267" y="185"/>
                    </a:lnTo>
                    <a:lnTo>
                      <a:pt x="3333" y="169"/>
                    </a:lnTo>
                    <a:lnTo>
                      <a:pt x="3398" y="161"/>
                    </a:lnTo>
                    <a:lnTo>
                      <a:pt x="3463" y="162"/>
                    </a:lnTo>
                    <a:lnTo>
                      <a:pt x="3528" y="171"/>
                    </a:lnTo>
                    <a:lnTo>
                      <a:pt x="3594" y="188"/>
                    </a:lnTo>
                    <a:lnTo>
                      <a:pt x="3664" y="214"/>
                    </a:lnTo>
                    <a:lnTo>
                      <a:pt x="3739" y="247"/>
                    </a:lnTo>
                    <a:lnTo>
                      <a:pt x="3820" y="289"/>
                    </a:lnTo>
                    <a:lnTo>
                      <a:pt x="3907" y="339"/>
                    </a:lnTo>
                    <a:lnTo>
                      <a:pt x="4003" y="396"/>
                    </a:lnTo>
                    <a:lnTo>
                      <a:pt x="4109" y="462"/>
                    </a:lnTo>
                    <a:lnTo>
                      <a:pt x="4225" y="535"/>
                    </a:lnTo>
                    <a:lnTo>
                      <a:pt x="4344" y="606"/>
                    </a:lnTo>
                    <a:lnTo>
                      <a:pt x="4456" y="666"/>
                    </a:lnTo>
                    <a:lnTo>
                      <a:pt x="4561" y="714"/>
                    </a:lnTo>
                    <a:lnTo>
                      <a:pt x="4659" y="753"/>
                    </a:lnTo>
                    <a:lnTo>
                      <a:pt x="4660" y="75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8469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00000"/>
                </a:solidFill>
                <a:latin typeface="Arial"/>
              </a:rPr>
              <a:t>LEY 20.54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58920" y="1196640"/>
            <a:ext cx="6472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c00000"/>
                </a:solidFill>
                <a:uFillTx/>
                <a:latin typeface="Arial"/>
              </a:rPr>
              <a:t>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.- Extiende descanso postnatal para mujeres trabajadoras a seis me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.- Permite traspasar al padre parte del tiempo de descan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4"/>
          <p:cNvGrpSpPr/>
          <p:nvPr/>
        </p:nvGrpSpPr>
        <p:grpSpPr>
          <a:xfrm>
            <a:off x="0" y="6165720"/>
            <a:ext cx="5580000" cy="691920"/>
            <a:chOff x="0" y="6165720"/>
            <a:chExt cx="5580000" cy="691920"/>
          </a:xfrm>
        </p:grpSpPr>
        <p:grpSp>
          <p:nvGrpSpPr>
            <p:cNvPr id="61" name="Group 5"/>
            <p:cNvGrpSpPr/>
            <p:nvPr/>
          </p:nvGrpSpPr>
          <p:grpSpPr>
            <a:xfrm>
              <a:off x="808560" y="6341040"/>
              <a:ext cx="3614400" cy="404280"/>
              <a:chOff x="808560" y="6341040"/>
              <a:chExt cx="3614400" cy="404280"/>
            </a:xfrm>
          </p:grpSpPr>
          <p:sp>
            <p:nvSpPr>
              <p:cNvPr id="62" name="Freeform 6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85" y="493"/>
                    </a:moveTo>
                    <a:lnTo>
                      <a:pt x="3484" y="492"/>
                    </a:lnTo>
                    <a:lnTo>
                      <a:pt x="3487" y="494"/>
                    </a:lnTo>
                    <a:lnTo>
                      <a:pt x="3485" y="493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7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065" y="962"/>
                    </a:moveTo>
                    <a:lnTo>
                      <a:pt x="2123" y="959"/>
                    </a:lnTo>
                    <a:lnTo>
                      <a:pt x="2178" y="952"/>
                    </a:lnTo>
                    <a:lnTo>
                      <a:pt x="2230" y="942"/>
                    </a:lnTo>
                    <a:lnTo>
                      <a:pt x="2280" y="928"/>
                    </a:lnTo>
                    <a:lnTo>
                      <a:pt x="2329" y="911"/>
                    </a:lnTo>
                    <a:lnTo>
                      <a:pt x="2378" y="891"/>
                    </a:lnTo>
                    <a:lnTo>
                      <a:pt x="2428" y="866"/>
                    </a:lnTo>
                    <a:lnTo>
                      <a:pt x="2479" y="838"/>
                    </a:lnTo>
                    <a:lnTo>
                      <a:pt x="2532" y="806"/>
                    </a:lnTo>
                    <a:lnTo>
                      <a:pt x="2588" y="770"/>
                    </a:lnTo>
                    <a:lnTo>
                      <a:pt x="2647" y="730"/>
                    </a:lnTo>
                    <a:lnTo>
                      <a:pt x="2711" y="685"/>
                    </a:lnTo>
                    <a:lnTo>
                      <a:pt x="2781" y="637"/>
                    </a:lnTo>
                    <a:lnTo>
                      <a:pt x="2850" y="589"/>
                    </a:lnTo>
                    <a:lnTo>
                      <a:pt x="2912" y="546"/>
                    </a:lnTo>
                    <a:lnTo>
                      <a:pt x="2968" y="508"/>
                    </a:lnTo>
                    <a:lnTo>
                      <a:pt x="3018" y="475"/>
                    </a:lnTo>
                    <a:lnTo>
                      <a:pt x="3019" y="475"/>
                    </a:lnTo>
                    <a:lnTo>
                      <a:pt x="3018" y="475"/>
                    </a:lnTo>
                    <a:lnTo>
                      <a:pt x="2954" y="500"/>
                    </a:lnTo>
                    <a:lnTo>
                      <a:pt x="2886" y="531"/>
                    </a:lnTo>
                    <a:lnTo>
                      <a:pt x="2814" y="569"/>
                    </a:lnTo>
                    <a:lnTo>
                      <a:pt x="2737" y="616"/>
                    </a:lnTo>
                    <a:lnTo>
                      <a:pt x="2661" y="663"/>
                    </a:lnTo>
                    <a:lnTo>
                      <a:pt x="2593" y="706"/>
                    </a:lnTo>
                    <a:lnTo>
                      <a:pt x="2531" y="743"/>
                    </a:lnTo>
                    <a:lnTo>
                      <a:pt x="2474" y="775"/>
                    </a:lnTo>
                    <a:lnTo>
                      <a:pt x="2422" y="802"/>
                    </a:lnTo>
                    <a:lnTo>
                      <a:pt x="2374" y="824"/>
                    </a:lnTo>
                    <a:lnTo>
                      <a:pt x="2328" y="841"/>
                    </a:lnTo>
                    <a:lnTo>
                      <a:pt x="2285" y="852"/>
                    </a:lnTo>
                    <a:lnTo>
                      <a:pt x="2243" y="858"/>
                    </a:lnTo>
                    <a:lnTo>
                      <a:pt x="2201" y="858"/>
                    </a:lnTo>
                    <a:lnTo>
                      <a:pt x="2159" y="853"/>
                    </a:lnTo>
                    <a:lnTo>
                      <a:pt x="2116" y="842"/>
                    </a:lnTo>
                    <a:lnTo>
                      <a:pt x="2070" y="826"/>
                    </a:lnTo>
                    <a:lnTo>
                      <a:pt x="2022" y="804"/>
                    </a:lnTo>
                    <a:lnTo>
                      <a:pt x="1970" y="777"/>
                    </a:lnTo>
                    <a:lnTo>
                      <a:pt x="1913" y="744"/>
                    </a:lnTo>
                    <a:lnTo>
                      <a:pt x="1851" y="705"/>
                    </a:lnTo>
                    <a:lnTo>
                      <a:pt x="1783" y="660"/>
                    </a:lnTo>
                    <a:lnTo>
                      <a:pt x="1781" y="659"/>
                    </a:lnTo>
                    <a:lnTo>
                      <a:pt x="1781" y="944"/>
                    </a:lnTo>
                    <a:lnTo>
                      <a:pt x="1783" y="944"/>
                    </a:lnTo>
                    <a:lnTo>
                      <a:pt x="1863" y="954"/>
                    </a:lnTo>
                    <a:lnTo>
                      <a:pt x="1936" y="960"/>
                    </a:lnTo>
                    <a:lnTo>
                      <a:pt x="2003" y="963"/>
                    </a:lnTo>
                    <a:lnTo>
                      <a:pt x="2065" y="962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8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316" y="628"/>
                    </a:moveTo>
                    <a:lnTo>
                      <a:pt x="2342" y="622"/>
                    </a:lnTo>
                    <a:lnTo>
                      <a:pt x="2367" y="613"/>
                    </a:lnTo>
                    <a:lnTo>
                      <a:pt x="2393" y="599"/>
                    </a:lnTo>
                    <a:lnTo>
                      <a:pt x="2421" y="582"/>
                    </a:lnTo>
                    <a:lnTo>
                      <a:pt x="2450" y="561"/>
                    </a:lnTo>
                    <a:lnTo>
                      <a:pt x="2481" y="537"/>
                    </a:lnTo>
                    <a:lnTo>
                      <a:pt x="2515" y="508"/>
                    </a:lnTo>
                    <a:lnTo>
                      <a:pt x="2552" y="477"/>
                    </a:lnTo>
                    <a:lnTo>
                      <a:pt x="2550" y="478"/>
                    </a:lnTo>
                    <a:lnTo>
                      <a:pt x="2544" y="481"/>
                    </a:lnTo>
                    <a:lnTo>
                      <a:pt x="2534" y="486"/>
                    </a:lnTo>
                    <a:lnTo>
                      <a:pt x="2520" y="492"/>
                    </a:lnTo>
                    <a:lnTo>
                      <a:pt x="2502" y="498"/>
                    </a:lnTo>
                    <a:lnTo>
                      <a:pt x="2481" y="503"/>
                    </a:lnTo>
                    <a:lnTo>
                      <a:pt x="2456" y="508"/>
                    </a:lnTo>
                    <a:lnTo>
                      <a:pt x="2428" y="511"/>
                    </a:lnTo>
                    <a:lnTo>
                      <a:pt x="2397" y="513"/>
                    </a:lnTo>
                    <a:lnTo>
                      <a:pt x="2363" y="511"/>
                    </a:lnTo>
                    <a:lnTo>
                      <a:pt x="2325" y="506"/>
                    </a:lnTo>
                    <a:lnTo>
                      <a:pt x="2285" y="498"/>
                    </a:lnTo>
                    <a:lnTo>
                      <a:pt x="2242" y="485"/>
                    </a:lnTo>
                    <a:lnTo>
                      <a:pt x="2196" y="467"/>
                    </a:lnTo>
                    <a:lnTo>
                      <a:pt x="2148" y="444"/>
                    </a:lnTo>
                    <a:lnTo>
                      <a:pt x="2097" y="414"/>
                    </a:lnTo>
                    <a:lnTo>
                      <a:pt x="2044" y="378"/>
                    </a:lnTo>
                    <a:lnTo>
                      <a:pt x="1989" y="334"/>
                    </a:lnTo>
                    <a:lnTo>
                      <a:pt x="1932" y="282"/>
                    </a:lnTo>
                    <a:lnTo>
                      <a:pt x="1872" y="222"/>
                    </a:lnTo>
                    <a:lnTo>
                      <a:pt x="1839" y="189"/>
                    </a:lnTo>
                    <a:lnTo>
                      <a:pt x="1802" y="158"/>
                    </a:lnTo>
                    <a:lnTo>
                      <a:pt x="1781" y="143"/>
                    </a:lnTo>
                    <a:lnTo>
                      <a:pt x="1781" y="322"/>
                    </a:lnTo>
                    <a:lnTo>
                      <a:pt x="1808" y="337"/>
                    </a:lnTo>
                    <a:lnTo>
                      <a:pt x="1877" y="389"/>
                    </a:lnTo>
                    <a:lnTo>
                      <a:pt x="1939" y="435"/>
                    </a:lnTo>
                    <a:lnTo>
                      <a:pt x="1995" y="476"/>
                    </a:lnTo>
                    <a:lnTo>
                      <a:pt x="2046" y="512"/>
                    </a:lnTo>
                    <a:lnTo>
                      <a:pt x="2091" y="543"/>
                    </a:lnTo>
                    <a:lnTo>
                      <a:pt x="2132" y="569"/>
                    </a:lnTo>
                    <a:lnTo>
                      <a:pt x="2169" y="590"/>
                    </a:lnTo>
                    <a:lnTo>
                      <a:pt x="2203" y="606"/>
                    </a:lnTo>
                    <a:lnTo>
                      <a:pt x="2234" y="618"/>
                    </a:lnTo>
                    <a:lnTo>
                      <a:pt x="2263" y="626"/>
                    </a:lnTo>
                    <a:lnTo>
                      <a:pt x="2290" y="629"/>
                    </a:lnTo>
                    <a:lnTo>
                      <a:pt x="2316" y="628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9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55" y="467"/>
                    </a:moveTo>
                    <a:lnTo>
                      <a:pt x="3426" y="442"/>
                    </a:lnTo>
                    <a:lnTo>
                      <a:pt x="3399" y="421"/>
                    </a:lnTo>
                    <a:lnTo>
                      <a:pt x="3374" y="403"/>
                    </a:lnTo>
                    <a:lnTo>
                      <a:pt x="3350" y="388"/>
                    </a:lnTo>
                    <a:lnTo>
                      <a:pt x="3327" y="377"/>
                    </a:lnTo>
                    <a:lnTo>
                      <a:pt x="3304" y="369"/>
                    </a:lnTo>
                    <a:lnTo>
                      <a:pt x="3281" y="365"/>
                    </a:lnTo>
                    <a:lnTo>
                      <a:pt x="3256" y="364"/>
                    </a:lnTo>
                    <a:lnTo>
                      <a:pt x="3231" y="368"/>
                    </a:lnTo>
                    <a:lnTo>
                      <a:pt x="3203" y="375"/>
                    </a:lnTo>
                    <a:lnTo>
                      <a:pt x="3173" y="386"/>
                    </a:lnTo>
                    <a:lnTo>
                      <a:pt x="3140" y="402"/>
                    </a:lnTo>
                    <a:lnTo>
                      <a:pt x="3104" y="422"/>
                    </a:lnTo>
                    <a:lnTo>
                      <a:pt x="3063" y="446"/>
                    </a:lnTo>
                    <a:lnTo>
                      <a:pt x="3019" y="475"/>
                    </a:lnTo>
                    <a:lnTo>
                      <a:pt x="3077" y="456"/>
                    </a:lnTo>
                    <a:lnTo>
                      <a:pt x="3132" y="442"/>
                    </a:lnTo>
                    <a:lnTo>
                      <a:pt x="3183" y="433"/>
                    </a:lnTo>
                    <a:lnTo>
                      <a:pt x="3229" y="429"/>
                    </a:lnTo>
                    <a:lnTo>
                      <a:pt x="3271" y="428"/>
                    </a:lnTo>
                    <a:lnTo>
                      <a:pt x="3310" y="430"/>
                    </a:lnTo>
                    <a:lnTo>
                      <a:pt x="3344" y="434"/>
                    </a:lnTo>
                    <a:lnTo>
                      <a:pt x="3375" y="441"/>
                    </a:lnTo>
                    <a:lnTo>
                      <a:pt x="3402" y="449"/>
                    </a:lnTo>
                    <a:lnTo>
                      <a:pt x="3425" y="457"/>
                    </a:lnTo>
                    <a:lnTo>
                      <a:pt x="3444" y="466"/>
                    </a:lnTo>
                    <a:lnTo>
                      <a:pt x="3459" y="475"/>
                    </a:lnTo>
                    <a:lnTo>
                      <a:pt x="3471" y="483"/>
                    </a:lnTo>
                    <a:lnTo>
                      <a:pt x="3480" y="489"/>
                    </a:lnTo>
                    <a:lnTo>
                      <a:pt x="3484" y="492"/>
                    </a:lnTo>
                    <a:lnTo>
                      <a:pt x="3455" y="467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10"/>
            <p:cNvGrpSpPr/>
            <p:nvPr/>
          </p:nvGrpSpPr>
          <p:grpSpPr>
            <a:xfrm>
              <a:off x="980640" y="6165720"/>
              <a:ext cx="3697200" cy="375120"/>
              <a:chOff x="980640" y="6165720"/>
              <a:chExt cx="3697200" cy="375120"/>
            </a:xfrm>
          </p:grpSpPr>
          <p:sp>
            <p:nvSpPr>
              <p:cNvPr id="67" name="Freeform 11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2942" y="773"/>
                    </a:moveTo>
                    <a:lnTo>
                      <a:pt x="2880" y="731"/>
                    </a:lnTo>
                    <a:lnTo>
                      <a:pt x="2812" y="683"/>
                    </a:lnTo>
                    <a:lnTo>
                      <a:pt x="2735" y="628"/>
                    </a:lnTo>
                    <a:lnTo>
                      <a:pt x="2651" y="566"/>
                    </a:lnTo>
                    <a:lnTo>
                      <a:pt x="2557" y="498"/>
                    </a:lnTo>
                    <a:lnTo>
                      <a:pt x="2449" y="423"/>
                    </a:lnTo>
                    <a:lnTo>
                      <a:pt x="2349" y="355"/>
                    </a:lnTo>
                    <a:lnTo>
                      <a:pt x="2254" y="293"/>
                    </a:lnTo>
                    <a:lnTo>
                      <a:pt x="2164" y="238"/>
                    </a:lnTo>
                    <a:lnTo>
                      <a:pt x="2078" y="189"/>
                    </a:lnTo>
                    <a:lnTo>
                      <a:pt x="1995" y="146"/>
                    </a:lnTo>
                    <a:lnTo>
                      <a:pt x="1913" y="108"/>
                    </a:lnTo>
                    <a:lnTo>
                      <a:pt x="1832" y="76"/>
                    </a:lnTo>
                    <a:lnTo>
                      <a:pt x="1750" y="50"/>
                    </a:lnTo>
                    <a:lnTo>
                      <a:pt x="1667" y="30"/>
                    </a:lnTo>
                    <a:lnTo>
                      <a:pt x="1615" y="20"/>
                    </a:lnTo>
                    <a:lnTo>
                      <a:pt x="1615" y="163"/>
                    </a:lnTo>
                    <a:lnTo>
                      <a:pt x="1646" y="163"/>
                    </a:lnTo>
                    <a:lnTo>
                      <a:pt x="1711" y="172"/>
                    </a:lnTo>
                    <a:lnTo>
                      <a:pt x="1778" y="189"/>
                    </a:lnTo>
                    <a:lnTo>
                      <a:pt x="1848" y="215"/>
                    </a:lnTo>
                    <a:lnTo>
                      <a:pt x="1923" y="249"/>
                    </a:lnTo>
                    <a:lnTo>
                      <a:pt x="2003" y="290"/>
                    </a:lnTo>
                    <a:lnTo>
                      <a:pt x="2091" y="340"/>
                    </a:lnTo>
                    <a:lnTo>
                      <a:pt x="2187" y="398"/>
                    </a:lnTo>
                    <a:lnTo>
                      <a:pt x="2292" y="463"/>
                    </a:lnTo>
                    <a:lnTo>
                      <a:pt x="2409" y="537"/>
                    </a:lnTo>
                    <a:lnTo>
                      <a:pt x="2528" y="608"/>
                    </a:lnTo>
                    <a:lnTo>
                      <a:pt x="2640" y="667"/>
                    </a:lnTo>
                    <a:lnTo>
                      <a:pt x="2745" y="715"/>
                    </a:lnTo>
                    <a:lnTo>
                      <a:pt x="2843" y="754"/>
                    </a:lnTo>
                    <a:lnTo>
                      <a:pt x="2934" y="783"/>
                    </a:lnTo>
                    <a:lnTo>
                      <a:pt x="2974" y="793"/>
                    </a:lnTo>
                    <a:lnTo>
                      <a:pt x="2942" y="773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2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543" y="742"/>
                    </a:moveTo>
                    <a:lnTo>
                      <a:pt x="3556" y="732"/>
                    </a:lnTo>
                    <a:lnTo>
                      <a:pt x="3564" y="726"/>
                    </a:lnTo>
                    <a:lnTo>
                      <a:pt x="3566" y="724"/>
                    </a:lnTo>
                    <a:lnTo>
                      <a:pt x="3530" y="750"/>
                    </a:lnTo>
                    <a:lnTo>
                      <a:pt x="3543" y="742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3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282" y="889"/>
                    </a:moveTo>
                    <a:lnTo>
                      <a:pt x="3317" y="880"/>
                    </a:lnTo>
                    <a:lnTo>
                      <a:pt x="3352" y="865"/>
                    </a:lnTo>
                    <a:lnTo>
                      <a:pt x="3389" y="845"/>
                    </a:lnTo>
                    <a:lnTo>
                      <a:pt x="3428" y="821"/>
                    </a:lnTo>
                    <a:lnTo>
                      <a:pt x="3470" y="793"/>
                    </a:lnTo>
                    <a:lnTo>
                      <a:pt x="3516" y="760"/>
                    </a:lnTo>
                    <a:lnTo>
                      <a:pt x="3530" y="750"/>
                    </a:lnTo>
                    <a:lnTo>
                      <a:pt x="3524" y="754"/>
                    </a:lnTo>
                    <a:lnTo>
                      <a:pt x="3500" y="767"/>
                    </a:lnTo>
                    <a:lnTo>
                      <a:pt x="3471" y="781"/>
                    </a:lnTo>
                    <a:lnTo>
                      <a:pt x="3435" y="794"/>
                    </a:lnTo>
                    <a:lnTo>
                      <a:pt x="3394" y="806"/>
                    </a:lnTo>
                    <a:lnTo>
                      <a:pt x="3347" y="816"/>
                    </a:lnTo>
                    <a:lnTo>
                      <a:pt x="3294" y="823"/>
                    </a:lnTo>
                    <a:lnTo>
                      <a:pt x="3234" y="827"/>
                    </a:lnTo>
                    <a:lnTo>
                      <a:pt x="3169" y="825"/>
                    </a:lnTo>
                    <a:lnTo>
                      <a:pt x="3097" y="818"/>
                    </a:lnTo>
                    <a:lnTo>
                      <a:pt x="3019" y="804"/>
                    </a:lnTo>
                    <a:lnTo>
                      <a:pt x="2974" y="793"/>
                    </a:lnTo>
                    <a:lnTo>
                      <a:pt x="2998" y="808"/>
                    </a:lnTo>
                    <a:lnTo>
                      <a:pt x="3048" y="837"/>
                    </a:lnTo>
                    <a:lnTo>
                      <a:pt x="3094" y="860"/>
                    </a:lnTo>
                    <a:lnTo>
                      <a:pt x="3136" y="877"/>
                    </a:lnTo>
                    <a:lnTo>
                      <a:pt x="3175" y="888"/>
                    </a:lnTo>
                    <a:lnTo>
                      <a:pt x="3212" y="894"/>
                    </a:lnTo>
                    <a:lnTo>
                      <a:pt x="3248" y="894"/>
                    </a:lnTo>
                    <a:lnTo>
                      <a:pt x="3282" y="889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14"/>
            <p:cNvGrpSpPr/>
            <p:nvPr/>
          </p:nvGrpSpPr>
          <p:grpSpPr>
            <a:xfrm>
              <a:off x="0" y="6233400"/>
              <a:ext cx="5580000" cy="624240"/>
              <a:chOff x="0" y="6233400"/>
              <a:chExt cx="5580000" cy="624240"/>
            </a:xfrm>
          </p:grpSpPr>
          <p:sp>
            <p:nvSpPr>
              <p:cNvPr id="71" name="Freeform 15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065" y="923"/>
                    </a:moveTo>
                    <a:lnTo>
                      <a:pt x="5101" y="916"/>
                    </a:lnTo>
                    <a:lnTo>
                      <a:pt x="5136" y="904"/>
                    </a:lnTo>
                    <a:lnTo>
                      <a:pt x="5172" y="887"/>
                    </a:lnTo>
                    <a:lnTo>
                      <a:pt x="5209" y="864"/>
                    </a:lnTo>
                    <a:lnTo>
                      <a:pt x="5247" y="836"/>
                    </a:lnTo>
                    <a:lnTo>
                      <a:pt x="5289" y="803"/>
                    </a:lnTo>
                    <a:lnTo>
                      <a:pt x="5333" y="765"/>
                    </a:lnTo>
                    <a:lnTo>
                      <a:pt x="5378" y="726"/>
                    </a:lnTo>
                    <a:lnTo>
                      <a:pt x="5372" y="731"/>
                    </a:lnTo>
                    <a:lnTo>
                      <a:pt x="5359" y="741"/>
                    </a:lnTo>
                    <a:lnTo>
                      <a:pt x="5341" y="752"/>
                    </a:lnTo>
                    <a:lnTo>
                      <a:pt x="5317" y="766"/>
                    </a:lnTo>
                    <a:lnTo>
                      <a:pt x="5287" y="779"/>
                    </a:lnTo>
                    <a:lnTo>
                      <a:pt x="5252" y="793"/>
                    </a:lnTo>
                    <a:lnTo>
                      <a:pt x="5210" y="805"/>
                    </a:lnTo>
                    <a:lnTo>
                      <a:pt x="5163" y="815"/>
                    </a:lnTo>
                    <a:lnTo>
                      <a:pt x="5110" y="822"/>
                    </a:lnTo>
                    <a:lnTo>
                      <a:pt x="5051" y="825"/>
                    </a:lnTo>
                    <a:lnTo>
                      <a:pt x="4985" y="824"/>
                    </a:lnTo>
                    <a:lnTo>
                      <a:pt x="4913" y="817"/>
                    </a:lnTo>
                    <a:lnTo>
                      <a:pt x="4835" y="803"/>
                    </a:lnTo>
                    <a:lnTo>
                      <a:pt x="4750" y="782"/>
                    </a:lnTo>
                    <a:lnTo>
                      <a:pt x="4660" y="753"/>
                    </a:lnTo>
                    <a:lnTo>
                      <a:pt x="4729" y="797"/>
                    </a:lnTo>
                    <a:lnTo>
                      <a:pt x="4792" y="834"/>
                    </a:lnTo>
                    <a:lnTo>
                      <a:pt x="4848" y="865"/>
                    </a:lnTo>
                    <a:lnTo>
                      <a:pt x="4899" y="889"/>
                    </a:lnTo>
                    <a:lnTo>
                      <a:pt x="4946" y="907"/>
                    </a:lnTo>
                    <a:lnTo>
                      <a:pt x="4988" y="918"/>
                    </a:lnTo>
                    <a:lnTo>
                      <a:pt x="5028" y="923"/>
                    </a:lnTo>
                    <a:lnTo>
                      <a:pt x="5065" y="92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6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2587" y="1358"/>
                    </a:moveTo>
                    <a:lnTo>
                      <a:pt x="2657" y="1323"/>
                    </a:lnTo>
                    <a:lnTo>
                      <a:pt x="2722" y="1284"/>
                    </a:lnTo>
                    <a:lnTo>
                      <a:pt x="2783" y="1241"/>
                    </a:lnTo>
                    <a:lnTo>
                      <a:pt x="2839" y="1194"/>
                    </a:lnTo>
                    <a:lnTo>
                      <a:pt x="2890" y="1143"/>
                    </a:lnTo>
                    <a:lnTo>
                      <a:pt x="2982" y="1050"/>
                    </a:lnTo>
                    <a:lnTo>
                      <a:pt x="3071" y="970"/>
                    </a:lnTo>
                    <a:lnTo>
                      <a:pt x="3156" y="903"/>
                    </a:lnTo>
                    <a:lnTo>
                      <a:pt x="3238" y="846"/>
                    </a:lnTo>
                    <a:lnTo>
                      <a:pt x="3316" y="801"/>
                    </a:lnTo>
                    <a:lnTo>
                      <a:pt x="3391" y="764"/>
                    </a:lnTo>
                    <a:lnTo>
                      <a:pt x="3462" y="737"/>
                    </a:lnTo>
                    <a:lnTo>
                      <a:pt x="3528" y="717"/>
                    </a:lnTo>
                    <a:lnTo>
                      <a:pt x="3590" y="704"/>
                    </a:lnTo>
                    <a:lnTo>
                      <a:pt x="3648" y="697"/>
                    </a:lnTo>
                    <a:lnTo>
                      <a:pt x="3701" y="694"/>
                    </a:lnTo>
                    <a:lnTo>
                      <a:pt x="3749" y="696"/>
                    </a:lnTo>
                    <a:lnTo>
                      <a:pt x="3793" y="701"/>
                    </a:lnTo>
                    <a:lnTo>
                      <a:pt x="3831" y="709"/>
                    </a:lnTo>
                    <a:lnTo>
                      <a:pt x="3863" y="717"/>
                    </a:lnTo>
                    <a:lnTo>
                      <a:pt x="3890" y="726"/>
                    </a:lnTo>
                    <a:lnTo>
                      <a:pt x="3912" y="735"/>
                    </a:lnTo>
                    <a:lnTo>
                      <a:pt x="3927" y="742"/>
                    </a:lnTo>
                    <a:lnTo>
                      <a:pt x="3937" y="748"/>
                    </a:lnTo>
                    <a:lnTo>
                      <a:pt x="3940" y="749"/>
                    </a:lnTo>
                    <a:lnTo>
                      <a:pt x="3882" y="701"/>
                    </a:lnTo>
                    <a:lnTo>
                      <a:pt x="3830" y="657"/>
                    </a:lnTo>
                    <a:lnTo>
                      <a:pt x="3782" y="619"/>
                    </a:lnTo>
                    <a:lnTo>
                      <a:pt x="3737" y="587"/>
                    </a:lnTo>
                    <a:lnTo>
                      <a:pt x="3695" y="560"/>
                    </a:lnTo>
                    <a:lnTo>
                      <a:pt x="3655" y="540"/>
                    </a:lnTo>
                    <a:lnTo>
                      <a:pt x="3616" y="525"/>
                    </a:lnTo>
                    <a:lnTo>
                      <a:pt x="3576" y="517"/>
                    </a:lnTo>
                    <a:lnTo>
                      <a:pt x="3536" y="515"/>
                    </a:lnTo>
                    <a:lnTo>
                      <a:pt x="3494" y="520"/>
                    </a:lnTo>
                    <a:lnTo>
                      <a:pt x="3449" y="531"/>
                    </a:lnTo>
                    <a:lnTo>
                      <a:pt x="3402" y="550"/>
                    </a:lnTo>
                    <a:lnTo>
                      <a:pt x="3349" y="575"/>
                    </a:lnTo>
                    <a:lnTo>
                      <a:pt x="3292" y="608"/>
                    </a:lnTo>
                    <a:lnTo>
                      <a:pt x="3229" y="648"/>
                    </a:lnTo>
                    <a:lnTo>
                      <a:pt x="3158" y="696"/>
                    </a:lnTo>
                    <a:lnTo>
                      <a:pt x="3080" y="751"/>
                    </a:lnTo>
                    <a:lnTo>
                      <a:pt x="2994" y="814"/>
                    </a:lnTo>
                    <a:lnTo>
                      <a:pt x="2898" y="886"/>
                    </a:lnTo>
                    <a:lnTo>
                      <a:pt x="2791" y="965"/>
                    </a:lnTo>
                    <a:lnTo>
                      <a:pt x="2668" y="1034"/>
                    </a:lnTo>
                    <a:lnTo>
                      <a:pt x="2561" y="1080"/>
                    </a:lnTo>
                    <a:lnTo>
                      <a:pt x="2561" y="1369"/>
                    </a:lnTo>
                    <a:lnTo>
                      <a:pt x="2587" y="1358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7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380" y="725"/>
                    </a:moveTo>
                    <a:lnTo>
                      <a:pt x="5383" y="722"/>
                    </a:lnTo>
                    <a:lnTo>
                      <a:pt x="5378" y="726"/>
                    </a:lnTo>
                    <a:lnTo>
                      <a:pt x="5380" y="725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8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4660" y="753"/>
                    </a:moveTo>
                    <a:lnTo>
                      <a:pt x="4582" y="701"/>
                    </a:lnTo>
                    <a:lnTo>
                      <a:pt x="4496" y="642"/>
                    </a:lnTo>
                    <a:lnTo>
                      <a:pt x="4400" y="576"/>
                    </a:lnTo>
                    <a:lnTo>
                      <a:pt x="4293" y="502"/>
                    </a:lnTo>
                    <a:lnTo>
                      <a:pt x="4186" y="427"/>
                    </a:lnTo>
                    <a:lnTo>
                      <a:pt x="4087" y="359"/>
                    </a:lnTo>
                    <a:lnTo>
                      <a:pt x="3995" y="298"/>
                    </a:lnTo>
                    <a:lnTo>
                      <a:pt x="3909" y="242"/>
                    </a:lnTo>
                    <a:lnTo>
                      <a:pt x="3827" y="192"/>
                    </a:lnTo>
                    <a:lnTo>
                      <a:pt x="3748" y="149"/>
                    </a:lnTo>
                    <a:lnTo>
                      <a:pt x="3672" y="111"/>
                    </a:lnTo>
                    <a:lnTo>
                      <a:pt x="3596" y="79"/>
                    </a:lnTo>
                    <a:lnTo>
                      <a:pt x="3521" y="52"/>
                    </a:lnTo>
                    <a:lnTo>
                      <a:pt x="3443" y="31"/>
                    </a:lnTo>
                    <a:lnTo>
                      <a:pt x="3363" y="16"/>
                    </a:lnTo>
                    <a:lnTo>
                      <a:pt x="3278" y="5"/>
                    </a:lnTo>
                    <a:lnTo>
                      <a:pt x="3189" y="0"/>
                    </a:lnTo>
                    <a:lnTo>
                      <a:pt x="3093" y="0"/>
                    </a:lnTo>
                    <a:lnTo>
                      <a:pt x="2989" y="4"/>
                    </a:lnTo>
                    <a:lnTo>
                      <a:pt x="2876" y="13"/>
                    </a:lnTo>
                    <a:lnTo>
                      <a:pt x="2753" y="28"/>
                    </a:lnTo>
                    <a:lnTo>
                      <a:pt x="2619" y="46"/>
                    </a:lnTo>
                    <a:lnTo>
                      <a:pt x="2561" y="55"/>
                    </a:lnTo>
                    <a:lnTo>
                      <a:pt x="2561" y="596"/>
                    </a:lnTo>
                    <a:lnTo>
                      <a:pt x="2637" y="544"/>
                    </a:lnTo>
                    <a:lnTo>
                      <a:pt x="2753" y="466"/>
                    </a:lnTo>
                    <a:lnTo>
                      <a:pt x="2858" y="397"/>
                    </a:lnTo>
                    <a:lnTo>
                      <a:pt x="2954" y="337"/>
                    </a:lnTo>
                    <a:lnTo>
                      <a:pt x="3042" y="286"/>
                    </a:lnTo>
                    <a:lnTo>
                      <a:pt x="3122" y="244"/>
                    </a:lnTo>
                    <a:lnTo>
                      <a:pt x="3196" y="210"/>
                    </a:lnTo>
                    <a:lnTo>
                      <a:pt x="3267" y="185"/>
                    </a:lnTo>
                    <a:lnTo>
                      <a:pt x="3333" y="169"/>
                    </a:lnTo>
                    <a:lnTo>
                      <a:pt x="3398" y="161"/>
                    </a:lnTo>
                    <a:lnTo>
                      <a:pt x="3463" y="162"/>
                    </a:lnTo>
                    <a:lnTo>
                      <a:pt x="3528" y="171"/>
                    </a:lnTo>
                    <a:lnTo>
                      <a:pt x="3594" y="188"/>
                    </a:lnTo>
                    <a:lnTo>
                      <a:pt x="3664" y="214"/>
                    </a:lnTo>
                    <a:lnTo>
                      <a:pt x="3739" y="247"/>
                    </a:lnTo>
                    <a:lnTo>
                      <a:pt x="3820" y="289"/>
                    </a:lnTo>
                    <a:lnTo>
                      <a:pt x="3907" y="339"/>
                    </a:lnTo>
                    <a:lnTo>
                      <a:pt x="4003" y="396"/>
                    </a:lnTo>
                    <a:lnTo>
                      <a:pt x="4109" y="462"/>
                    </a:lnTo>
                    <a:lnTo>
                      <a:pt x="4225" y="535"/>
                    </a:lnTo>
                    <a:lnTo>
                      <a:pt x="4344" y="606"/>
                    </a:lnTo>
                    <a:lnTo>
                      <a:pt x="4456" y="666"/>
                    </a:lnTo>
                    <a:lnTo>
                      <a:pt x="4561" y="714"/>
                    </a:lnTo>
                    <a:lnTo>
                      <a:pt x="4659" y="753"/>
                    </a:lnTo>
                    <a:lnTo>
                      <a:pt x="4660" y="75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9185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Arial"/>
              </a:rPr>
              <a:t>LEY 20.545</a:t>
            </a:r>
            <a:br>
              <a:rPr sz="4400"/>
            </a:br>
            <a:r>
              <a:rPr b="1" lang="es-CL" sz="2800" spc="-1" strike="noStrike">
                <a:solidFill>
                  <a:srgbClr val="c00000"/>
                </a:solidFill>
                <a:latin typeface="Arial"/>
              </a:rPr>
              <a:t>17 DE OCTUBRE DE 201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7280" y="1628640"/>
            <a:ext cx="658512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.- Una vez cumplidas las 12 semanas después del parto, existe un período de 12 semanas más, que se llama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recho Postnatal Par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madre podrá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optar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p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marse las ultimas 12 semanas jornada compl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Tomarse 18 semanas a media jor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4"/>
          <p:cNvGrpSpPr/>
          <p:nvPr/>
        </p:nvGrpSpPr>
        <p:grpSpPr>
          <a:xfrm>
            <a:off x="0" y="6165720"/>
            <a:ext cx="5580000" cy="691920"/>
            <a:chOff x="0" y="6165720"/>
            <a:chExt cx="5580000" cy="691920"/>
          </a:xfrm>
        </p:grpSpPr>
        <p:grpSp>
          <p:nvGrpSpPr>
            <p:cNvPr id="78" name="Group 5"/>
            <p:cNvGrpSpPr/>
            <p:nvPr/>
          </p:nvGrpSpPr>
          <p:grpSpPr>
            <a:xfrm>
              <a:off x="808560" y="6341040"/>
              <a:ext cx="3614400" cy="404280"/>
              <a:chOff x="808560" y="6341040"/>
              <a:chExt cx="3614400" cy="404280"/>
            </a:xfrm>
          </p:grpSpPr>
          <p:sp>
            <p:nvSpPr>
              <p:cNvPr id="79" name="Freeform 6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85" y="493"/>
                    </a:moveTo>
                    <a:lnTo>
                      <a:pt x="3484" y="492"/>
                    </a:lnTo>
                    <a:lnTo>
                      <a:pt x="3487" y="494"/>
                    </a:lnTo>
                    <a:lnTo>
                      <a:pt x="3485" y="493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7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065" y="962"/>
                    </a:moveTo>
                    <a:lnTo>
                      <a:pt x="2123" y="959"/>
                    </a:lnTo>
                    <a:lnTo>
                      <a:pt x="2178" y="952"/>
                    </a:lnTo>
                    <a:lnTo>
                      <a:pt x="2230" y="942"/>
                    </a:lnTo>
                    <a:lnTo>
                      <a:pt x="2280" y="928"/>
                    </a:lnTo>
                    <a:lnTo>
                      <a:pt x="2329" y="911"/>
                    </a:lnTo>
                    <a:lnTo>
                      <a:pt x="2378" y="891"/>
                    </a:lnTo>
                    <a:lnTo>
                      <a:pt x="2428" y="866"/>
                    </a:lnTo>
                    <a:lnTo>
                      <a:pt x="2479" y="838"/>
                    </a:lnTo>
                    <a:lnTo>
                      <a:pt x="2532" y="806"/>
                    </a:lnTo>
                    <a:lnTo>
                      <a:pt x="2588" y="770"/>
                    </a:lnTo>
                    <a:lnTo>
                      <a:pt x="2647" y="730"/>
                    </a:lnTo>
                    <a:lnTo>
                      <a:pt x="2711" y="685"/>
                    </a:lnTo>
                    <a:lnTo>
                      <a:pt x="2781" y="637"/>
                    </a:lnTo>
                    <a:lnTo>
                      <a:pt x="2850" y="589"/>
                    </a:lnTo>
                    <a:lnTo>
                      <a:pt x="2912" y="546"/>
                    </a:lnTo>
                    <a:lnTo>
                      <a:pt x="2968" y="508"/>
                    </a:lnTo>
                    <a:lnTo>
                      <a:pt x="3018" y="475"/>
                    </a:lnTo>
                    <a:lnTo>
                      <a:pt x="3019" y="475"/>
                    </a:lnTo>
                    <a:lnTo>
                      <a:pt x="3018" y="475"/>
                    </a:lnTo>
                    <a:lnTo>
                      <a:pt x="2954" y="500"/>
                    </a:lnTo>
                    <a:lnTo>
                      <a:pt x="2886" y="531"/>
                    </a:lnTo>
                    <a:lnTo>
                      <a:pt x="2814" y="569"/>
                    </a:lnTo>
                    <a:lnTo>
                      <a:pt x="2737" y="616"/>
                    </a:lnTo>
                    <a:lnTo>
                      <a:pt x="2661" y="663"/>
                    </a:lnTo>
                    <a:lnTo>
                      <a:pt x="2593" y="706"/>
                    </a:lnTo>
                    <a:lnTo>
                      <a:pt x="2531" y="743"/>
                    </a:lnTo>
                    <a:lnTo>
                      <a:pt x="2474" y="775"/>
                    </a:lnTo>
                    <a:lnTo>
                      <a:pt x="2422" y="802"/>
                    </a:lnTo>
                    <a:lnTo>
                      <a:pt x="2374" y="824"/>
                    </a:lnTo>
                    <a:lnTo>
                      <a:pt x="2328" y="841"/>
                    </a:lnTo>
                    <a:lnTo>
                      <a:pt x="2285" y="852"/>
                    </a:lnTo>
                    <a:lnTo>
                      <a:pt x="2243" y="858"/>
                    </a:lnTo>
                    <a:lnTo>
                      <a:pt x="2201" y="858"/>
                    </a:lnTo>
                    <a:lnTo>
                      <a:pt x="2159" y="853"/>
                    </a:lnTo>
                    <a:lnTo>
                      <a:pt x="2116" y="842"/>
                    </a:lnTo>
                    <a:lnTo>
                      <a:pt x="2070" y="826"/>
                    </a:lnTo>
                    <a:lnTo>
                      <a:pt x="2022" y="804"/>
                    </a:lnTo>
                    <a:lnTo>
                      <a:pt x="1970" y="777"/>
                    </a:lnTo>
                    <a:lnTo>
                      <a:pt x="1913" y="744"/>
                    </a:lnTo>
                    <a:lnTo>
                      <a:pt x="1851" y="705"/>
                    </a:lnTo>
                    <a:lnTo>
                      <a:pt x="1783" y="660"/>
                    </a:lnTo>
                    <a:lnTo>
                      <a:pt x="1781" y="659"/>
                    </a:lnTo>
                    <a:lnTo>
                      <a:pt x="1781" y="944"/>
                    </a:lnTo>
                    <a:lnTo>
                      <a:pt x="1783" y="944"/>
                    </a:lnTo>
                    <a:lnTo>
                      <a:pt x="1863" y="954"/>
                    </a:lnTo>
                    <a:lnTo>
                      <a:pt x="1936" y="960"/>
                    </a:lnTo>
                    <a:lnTo>
                      <a:pt x="2003" y="963"/>
                    </a:lnTo>
                    <a:lnTo>
                      <a:pt x="2065" y="962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8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316" y="628"/>
                    </a:moveTo>
                    <a:lnTo>
                      <a:pt x="2342" y="622"/>
                    </a:lnTo>
                    <a:lnTo>
                      <a:pt x="2367" y="613"/>
                    </a:lnTo>
                    <a:lnTo>
                      <a:pt x="2393" y="599"/>
                    </a:lnTo>
                    <a:lnTo>
                      <a:pt x="2421" y="582"/>
                    </a:lnTo>
                    <a:lnTo>
                      <a:pt x="2450" y="561"/>
                    </a:lnTo>
                    <a:lnTo>
                      <a:pt x="2481" y="537"/>
                    </a:lnTo>
                    <a:lnTo>
                      <a:pt x="2515" y="508"/>
                    </a:lnTo>
                    <a:lnTo>
                      <a:pt x="2552" y="477"/>
                    </a:lnTo>
                    <a:lnTo>
                      <a:pt x="2550" y="478"/>
                    </a:lnTo>
                    <a:lnTo>
                      <a:pt x="2544" y="481"/>
                    </a:lnTo>
                    <a:lnTo>
                      <a:pt x="2534" y="486"/>
                    </a:lnTo>
                    <a:lnTo>
                      <a:pt x="2520" y="492"/>
                    </a:lnTo>
                    <a:lnTo>
                      <a:pt x="2502" y="498"/>
                    </a:lnTo>
                    <a:lnTo>
                      <a:pt x="2481" y="503"/>
                    </a:lnTo>
                    <a:lnTo>
                      <a:pt x="2456" y="508"/>
                    </a:lnTo>
                    <a:lnTo>
                      <a:pt x="2428" y="511"/>
                    </a:lnTo>
                    <a:lnTo>
                      <a:pt x="2397" y="513"/>
                    </a:lnTo>
                    <a:lnTo>
                      <a:pt x="2363" y="511"/>
                    </a:lnTo>
                    <a:lnTo>
                      <a:pt x="2325" y="506"/>
                    </a:lnTo>
                    <a:lnTo>
                      <a:pt x="2285" y="498"/>
                    </a:lnTo>
                    <a:lnTo>
                      <a:pt x="2242" y="485"/>
                    </a:lnTo>
                    <a:lnTo>
                      <a:pt x="2196" y="467"/>
                    </a:lnTo>
                    <a:lnTo>
                      <a:pt x="2148" y="444"/>
                    </a:lnTo>
                    <a:lnTo>
                      <a:pt x="2097" y="414"/>
                    </a:lnTo>
                    <a:lnTo>
                      <a:pt x="2044" y="378"/>
                    </a:lnTo>
                    <a:lnTo>
                      <a:pt x="1989" y="334"/>
                    </a:lnTo>
                    <a:lnTo>
                      <a:pt x="1932" y="282"/>
                    </a:lnTo>
                    <a:lnTo>
                      <a:pt x="1872" y="222"/>
                    </a:lnTo>
                    <a:lnTo>
                      <a:pt x="1839" y="189"/>
                    </a:lnTo>
                    <a:lnTo>
                      <a:pt x="1802" y="158"/>
                    </a:lnTo>
                    <a:lnTo>
                      <a:pt x="1781" y="143"/>
                    </a:lnTo>
                    <a:lnTo>
                      <a:pt x="1781" y="322"/>
                    </a:lnTo>
                    <a:lnTo>
                      <a:pt x="1808" y="337"/>
                    </a:lnTo>
                    <a:lnTo>
                      <a:pt x="1877" y="389"/>
                    </a:lnTo>
                    <a:lnTo>
                      <a:pt x="1939" y="435"/>
                    </a:lnTo>
                    <a:lnTo>
                      <a:pt x="1995" y="476"/>
                    </a:lnTo>
                    <a:lnTo>
                      <a:pt x="2046" y="512"/>
                    </a:lnTo>
                    <a:lnTo>
                      <a:pt x="2091" y="543"/>
                    </a:lnTo>
                    <a:lnTo>
                      <a:pt x="2132" y="569"/>
                    </a:lnTo>
                    <a:lnTo>
                      <a:pt x="2169" y="590"/>
                    </a:lnTo>
                    <a:lnTo>
                      <a:pt x="2203" y="606"/>
                    </a:lnTo>
                    <a:lnTo>
                      <a:pt x="2234" y="618"/>
                    </a:lnTo>
                    <a:lnTo>
                      <a:pt x="2263" y="626"/>
                    </a:lnTo>
                    <a:lnTo>
                      <a:pt x="2290" y="629"/>
                    </a:lnTo>
                    <a:lnTo>
                      <a:pt x="2316" y="628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9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55" y="467"/>
                    </a:moveTo>
                    <a:lnTo>
                      <a:pt x="3426" y="442"/>
                    </a:lnTo>
                    <a:lnTo>
                      <a:pt x="3399" y="421"/>
                    </a:lnTo>
                    <a:lnTo>
                      <a:pt x="3374" y="403"/>
                    </a:lnTo>
                    <a:lnTo>
                      <a:pt x="3350" y="388"/>
                    </a:lnTo>
                    <a:lnTo>
                      <a:pt x="3327" y="377"/>
                    </a:lnTo>
                    <a:lnTo>
                      <a:pt x="3304" y="369"/>
                    </a:lnTo>
                    <a:lnTo>
                      <a:pt x="3281" y="365"/>
                    </a:lnTo>
                    <a:lnTo>
                      <a:pt x="3256" y="364"/>
                    </a:lnTo>
                    <a:lnTo>
                      <a:pt x="3231" y="368"/>
                    </a:lnTo>
                    <a:lnTo>
                      <a:pt x="3203" y="375"/>
                    </a:lnTo>
                    <a:lnTo>
                      <a:pt x="3173" y="386"/>
                    </a:lnTo>
                    <a:lnTo>
                      <a:pt x="3140" y="402"/>
                    </a:lnTo>
                    <a:lnTo>
                      <a:pt x="3104" y="422"/>
                    </a:lnTo>
                    <a:lnTo>
                      <a:pt x="3063" y="446"/>
                    </a:lnTo>
                    <a:lnTo>
                      <a:pt x="3019" y="475"/>
                    </a:lnTo>
                    <a:lnTo>
                      <a:pt x="3077" y="456"/>
                    </a:lnTo>
                    <a:lnTo>
                      <a:pt x="3132" y="442"/>
                    </a:lnTo>
                    <a:lnTo>
                      <a:pt x="3183" y="433"/>
                    </a:lnTo>
                    <a:lnTo>
                      <a:pt x="3229" y="429"/>
                    </a:lnTo>
                    <a:lnTo>
                      <a:pt x="3271" y="428"/>
                    </a:lnTo>
                    <a:lnTo>
                      <a:pt x="3310" y="430"/>
                    </a:lnTo>
                    <a:lnTo>
                      <a:pt x="3344" y="434"/>
                    </a:lnTo>
                    <a:lnTo>
                      <a:pt x="3375" y="441"/>
                    </a:lnTo>
                    <a:lnTo>
                      <a:pt x="3402" y="449"/>
                    </a:lnTo>
                    <a:lnTo>
                      <a:pt x="3425" y="457"/>
                    </a:lnTo>
                    <a:lnTo>
                      <a:pt x="3444" y="466"/>
                    </a:lnTo>
                    <a:lnTo>
                      <a:pt x="3459" y="475"/>
                    </a:lnTo>
                    <a:lnTo>
                      <a:pt x="3471" y="483"/>
                    </a:lnTo>
                    <a:lnTo>
                      <a:pt x="3480" y="489"/>
                    </a:lnTo>
                    <a:lnTo>
                      <a:pt x="3484" y="492"/>
                    </a:lnTo>
                    <a:lnTo>
                      <a:pt x="3455" y="467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10"/>
            <p:cNvGrpSpPr/>
            <p:nvPr/>
          </p:nvGrpSpPr>
          <p:grpSpPr>
            <a:xfrm>
              <a:off x="980640" y="6165720"/>
              <a:ext cx="3697200" cy="375120"/>
              <a:chOff x="980640" y="6165720"/>
              <a:chExt cx="3697200" cy="375120"/>
            </a:xfrm>
          </p:grpSpPr>
          <p:sp>
            <p:nvSpPr>
              <p:cNvPr id="84" name="Freeform 11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2942" y="773"/>
                    </a:moveTo>
                    <a:lnTo>
                      <a:pt x="2880" y="731"/>
                    </a:lnTo>
                    <a:lnTo>
                      <a:pt x="2812" y="683"/>
                    </a:lnTo>
                    <a:lnTo>
                      <a:pt x="2735" y="628"/>
                    </a:lnTo>
                    <a:lnTo>
                      <a:pt x="2651" y="566"/>
                    </a:lnTo>
                    <a:lnTo>
                      <a:pt x="2557" y="498"/>
                    </a:lnTo>
                    <a:lnTo>
                      <a:pt x="2449" y="423"/>
                    </a:lnTo>
                    <a:lnTo>
                      <a:pt x="2349" y="355"/>
                    </a:lnTo>
                    <a:lnTo>
                      <a:pt x="2254" y="293"/>
                    </a:lnTo>
                    <a:lnTo>
                      <a:pt x="2164" y="238"/>
                    </a:lnTo>
                    <a:lnTo>
                      <a:pt x="2078" y="189"/>
                    </a:lnTo>
                    <a:lnTo>
                      <a:pt x="1995" y="146"/>
                    </a:lnTo>
                    <a:lnTo>
                      <a:pt x="1913" y="108"/>
                    </a:lnTo>
                    <a:lnTo>
                      <a:pt x="1832" y="76"/>
                    </a:lnTo>
                    <a:lnTo>
                      <a:pt x="1750" y="50"/>
                    </a:lnTo>
                    <a:lnTo>
                      <a:pt x="1667" y="30"/>
                    </a:lnTo>
                    <a:lnTo>
                      <a:pt x="1615" y="20"/>
                    </a:lnTo>
                    <a:lnTo>
                      <a:pt x="1615" y="163"/>
                    </a:lnTo>
                    <a:lnTo>
                      <a:pt x="1646" y="163"/>
                    </a:lnTo>
                    <a:lnTo>
                      <a:pt x="1711" y="172"/>
                    </a:lnTo>
                    <a:lnTo>
                      <a:pt x="1778" y="189"/>
                    </a:lnTo>
                    <a:lnTo>
                      <a:pt x="1848" y="215"/>
                    </a:lnTo>
                    <a:lnTo>
                      <a:pt x="1923" y="249"/>
                    </a:lnTo>
                    <a:lnTo>
                      <a:pt x="2003" y="290"/>
                    </a:lnTo>
                    <a:lnTo>
                      <a:pt x="2091" y="340"/>
                    </a:lnTo>
                    <a:lnTo>
                      <a:pt x="2187" y="398"/>
                    </a:lnTo>
                    <a:lnTo>
                      <a:pt x="2292" y="463"/>
                    </a:lnTo>
                    <a:lnTo>
                      <a:pt x="2409" y="537"/>
                    </a:lnTo>
                    <a:lnTo>
                      <a:pt x="2528" y="608"/>
                    </a:lnTo>
                    <a:lnTo>
                      <a:pt x="2640" y="667"/>
                    </a:lnTo>
                    <a:lnTo>
                      <a:pt x="2745" y="715"/>
                    </a:lnTo>
                    <a:lnTo>
                      <a:pt x="2843" y="754"/>
                    </a:lnTo>
                    <a:lnTo>
                      <a:pt x="2934" y="783"/>
                    </a:lnTo>
                    <a:lnTo>
                      <a:pt x="2974" y="793"/>
                    </a:lnTo>
                    <a:lnTo>
                      <a:pt x="2942" y="773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2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543" y="742"/>
                    </a:moveTo>
                    <a:lnTo>
                      <a:pt x="3556" y="732"/>
                    </a:lnTo>
                    <a:lnTo>
                      <a:pt x="3564" y="726"/>
                    </a:lnTo>
                    <a:lnTo>
                      <a:pt x="3566" y="724"/>
                    </a:lnTo>
                    <a:lnTo>
                      <a:pt x="3530" y="750"/>
                    </a:lnTo>
                    <a:lnTo>
                      <a:pt x="3543" y="742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3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282" y="889"/>
                    </a:moveTo>
                    <a:lnTo>
                      <a:pt x="3317" y="880"/>
                    </a:lnTo>
                    <a:lnTo>
                      <a:pt x="3352" y="865"/>
                    </a:lnTo>
                    <a:lnTo>
                      <a:pt x="3389" y="845"/>
                    </a:lnTo>
                    <a:lnTo>
                      <a:pt x="3428" y="821"/>
                    </a:lnTo>
                    <a:lnTo>
                      <a:pt x="3470" y="793"/>
                    </a:lnTo>
                    <a:lnTo>
                      <a:pt x="3516" y="760"/>
                    </a:lnTo>
                    <a:lnTo>
                      <a:pt x="3530" y="750"/>
                    </a:lnTo>
                    <a:lnTo>
                      <a:pt x="3524" y="754"/>
                    </a:lnTo>
                    <a:lnTo>
                      <a:pt x="3500" y="767"/>
                    </a:lnTo>
                    <a:lnTo>
                      <a:pt x="3471" y="781"/>
                    </a:lnTo>
                    <a:lnTo>
                      <a:pt x="3435" y="794"/>
                    </a:lnTo>
                    <a:lnTo>
                      <a:pt x="3394" y="806"/>
                    </a:lnTo>
                    <a:lnTo>
                      <a:pt x="3347" y="816"/>
                    </a:lnTo>
                    <a:lnTo>
                      <a:pt x="3294" y="823"/>
                    </a:lnTo>
                    <a:lnTo>
                      <a:pt x="3234" y="827"/>
                    </a:lnTo>
                    <a:lnTo>
                      <a:pt x="3169" y="825"/>
                    </a:lnTo>
                    <a:lnTo>
                      <a:pt x="3097" y="818"/>
                    </a:lnTo>
                    <a:lnTo>
                      <a:pt x="3019" y="804"/>
                    </a:lnTo>
                    <a:lnTo>
                      <a:pt x="2974" y="793"/>
                    </a:lnTo>
                    <a:lnTo>
                      <a:pt x="2998" y="808"/>
                    </a:lnTo>
                    <a:lnTo>
                      <a:pt x="3048" y="837"/>
                    </a:lnTo>
                    <a:lnTo>
                      <a:pt x="3094" y="860"/>
                    </a:lnTo>
                    <a:lnTo>
                      <a:pt x="3136" y="877"/>
                    </a:lnTo>
                    <a:lnTo>
                      <a:pt x="3175" y="888"/>
                    </a:lnTo>
                    <a:lnTo>
                      <a:pt x="3212" y="894"/>
                    </a:lnTo>
                    <a:lnTo>
                      <a:pt x="3248" y="894"/>
                    </a:lnTo>
                    <a:lnTo>
                      <a:pt x="3282" y="889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4"/>
            <p:cNvGrpSpPr/>
            <p:nvPr/>
          </p:nvGrpSpPr>
          <p:grpSpPr>
            <a:xfrm>
              <a:off x="0" y="6233400"/>
              <a:ext cx="5580000" cy="624240"/>
              <a:chOff x="0" y="6233400"/>
              <a:chExt cx="5580000" cy="624240"/>
            </a:xfrm>
          </p:grpSpPr>
          <p:sp>
            <p:nvSpPr>
              <p:cNvPr id="88" name="Freeform 15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065" y="923"/>
                    </a:moveTo>
                    <a:lnTo>
                      <a:pt x="5101" y="916"/>
                    </a:lnTo>
                    <a:lnTo>
                      <a:pt x="5136" y="904"/>
                    </a:lnTo>
                    <a:lnTo>
                      <a:pt x="5172" y="887"/>
                    </a:lnTo>
                    <a:lnTo>
                      <a:pt x="5209" y="864"/>
                    </a:lnTo>
                    <a:lnTo>
                      <a:pt x="5247" y="836"/>
                    </a:lnTo>
                    <a:lnTo>
                      <a:pt x="5289" y="803"/>
                    </a:lnTo>
                    <a:lnTo>
                      <a:pt x="5333" y="765"/>
                    </a:lnTo>
                    <a:lnTo>
                      <a:pt x="5378" y="726"/>
                    </a:lnTo>
                    <a:lnTo>
                      <a:pt x="5372" y="731"/>
                    </a:lnTo>
                    <a:lnTo>
                      <a:pt x="5359" y="741"/>
                    </a:lnTo>
                    <a:lnTo>
                      <a:pt x="5341" y="752"/>
                    </a:lnTo>
                    <a:lnTo>
                      <a:pt x="5317" y="766"/>
                    </a:lnTo>
                    <a:lnTo>
                      <a:pt x="5287" y="779"/>
                    </a:lnTo>
                    <a:lnTo>
                      <a:pt x="5252" y="793"/>
                    </a:lnTo>
                    <a:lnTo>
                      <a:pt x="5210" y="805"/>
                    </a:lnTo>
                    <a:lnTo>
                      <a:pt x="5163" y="815"/>
                    </a:lnTo>
                    <a:lnTo>
                      <a:pt x="5110" y="822"/>
                    </a:lnTo>
                    <a:lnTo>
                      <a:pt x="5051" y="825"/>
                    </a:lnTo>
                    <a:lnTo>
                      <a:pt x="4985" y="824"/>
                    </a:lnTo>
                    <a:lnTo>
                      <a:pt x="4913" y="817"/>
                    </a:lnTo>
                    <a:lnTo>
                      <a:pt x="4835" y="803"/>
                    </a:lnTo>
                    <a:lnTo>
                      <a:pt x="4750" y="782"/>
                    </a:lnTo>
                    <a:lnTo>
                      <a:pt x="4660" y="753"/>
                    </a:lnTo>
                    <a:lnTo>
                      <a:pt x="4729" y="797"/>
                    </a:lnTo>
                    <a:lnTo>
                      <a:pt x="4792" y="834"/>
                    </a:lnTo>
                    <a:lnTo>
                      <a:pt x="4848" y="865"/>
                    </a:lnTo>
                    <a:lnTo>
                      <a:pt x="4899" y="889"/>
                    </a:lnTo>
                    <a:lnTo>
                      <a:pt x="4946" y="907"/>
                    </a:lnTo>
                    <a:lnTo>
                      <a:pt x="4988" y="918"/>
                    </a:lnTo>
                    <a:lnTo>
                      <a:pt x="5028" y="923"/>
                    </a:lnTo>
                    <a:lnTo>
                      <a:pt x="5065" y="92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6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2587" y="1358"/>
                    </a:moveTo>
                    <a:lnTo>
                      <a:pt x="2657" y="1323"/>
                    </a:lnTo>
                    <a:lnTo>
                      <a:pt x="2722" y="1284"/>
                    </a:lnTo>
                    <a:lnTo>
                      <a:pt x="2783" y="1241"/>
                    </a:lnTo>
                    <a:lnTo>
                      <a:pt x="2839" y="1194"/>
                    </a:lnTo>
                    <a:lnTo>
                      <a:pt x="2890" y="1143"/>
                    </a:lnTo>
                    <a:lnTo>
                      <a:pt x="2982" y="1050"/>
                    </a:lnTo>
                    <a:lnTo>
                      <a:pt x="3071" y="970"/>
                    </a:lnTo>
                    <a:lnTo>
                      <a:pt x="3156" y="903"/>
                    </a:lnTo>
                    <a:lnTo>
                      <a:pt x="3238" y="846"/>
                    </a:lnTo>
                    <a:lnTo>
                      <a:pt x="3316" y="801"/>
                    </a:lnTo>
                    <a:lnTo>
                      <a:pt x="3391" y="764"/>
                    </a:lnTo>
                    <a:lnTo>
                      <a:pt x="3462" y="737"/>
                    </a:lnTo>
                    <a:lnTo>
                      <a:pt x="3528" y="717"/>
                    </a:lnTo>
                    <a:lnTo>
                      <a:pt x="3590" y="704"/>
                    </a:lnTo>
                    <a:lnTo>
                      <a:pt x="3648" y="697"/>
                    </a:lnTo>
                    <a:lnTo>
                      <a:pt x="3701" y="694"/>
                    </a:lnTo>
                    <a:lnTo>
                      <a:pt x="3749" y="696"/>
                    </a:lnTo>
                    <a:lnTo>
                      <a:pt x="3793" y="701"/>
                    </a:lnTo>
                    <a:lnTo>
                      <a:pt x="3831" y="709"/>
                    </a:lnTo>
                    <a:lnTo>
                      <a:pt x="3863" y="717"/>
                    </a:lnTo>
                    <a:lnTo>
                      <a:pt x="3890" y="726"/>
                    </a:lnTo>
                    <a:lnTo>
                      <a:pt x="3912" y="735"/>
                    </a:lnTo>
                    <a:lnTo>
                      <a:pt x="3927" y="742"/>
                    </a:lnTo>
                    <a:lnTo>
                      <a:pt x="3937" y="748"/>
                    </a:lnTo>
                    <a:lnTo>
                      <a:pt x="3940" y="749"/>
                    </a:lnTo>
                    <a:lnTo>
                      <a:pt x="3882" y="701"/>
                    </a:lnTo>
                    <a:lnTo>
                      <a:pt x="3830" y="657"/>
                    </a:lnTo>
                    <a:lnTo>
                      <a:pt x="3782" y="619"/>
                    </a:lnTo>
                    <a:lnTo>
                      <a:pt x="3737" y="587"/>
                    </a:lnTo>
                    <a:lnTo>
                      <a:pt x="3695" y="560"/>
                    </a:lnTo>
                    <a:lnTo>
                      <a:pt x="3655" y="540"/>
                    </a:lnTo>
                    <a:lnTo>
                      <a:pt x="3616" y="525"/>
                    </a:lnTo>
                    <a:lnTo>
                      <a:pt x="3576" y="517"/>
                    </a:lnTo>
                    <a:lnTo>
                      <a:pt x="3536" y="515"/>
                    </a:lnTo>
                    <a:lnTo>
                      <a:pt x="3494" y="520"/>
                    </a:lnTo>
                    <a:lnTo>
                      <a:pt x="3449" y="531"/>
                    </a:lnTo>
                    <a:lnTo>
                      <a:pt x="3402" y="550"/>
                    </a:lnTo>
                    <a:lnTo>
                      <a:pt x="3349" y="575"/>
                    </a:lnTo>
                    <a:lnTo>
                      <a:pt x="3292" y="608"/>
                    </a:lnTo>
                    <a:lnTo>
                      <a:pt x="3229" y="648"/>
                    </a:lnTo>
                    <a:lnTo>
                      <a:pt x="3158" y="696"/>
                    </a:lnTo>
                    <a:lnTo>
                      <a:pt x="3080" y="751"/>
                    </a:lnTo>
                    <a:lnTo>
                      <a:pt x="2994" y="814"/>
                    </a:lnTo>
                    <a:lnTo>
                      <a:pt x="2898" y="886"/>
                    </a:lnTo>
                    <a:lnTo>
                      <a:pt x="2791" y="965"/>
                    </a:lnTo>
                    <a:lnTo>
                      <a:pt x="2668" y="1034"/>
                    </a:lnTo>
                    <a:lnTo>
                      <a:pt x="2561" y="1080"/>
                    </a:lnTo>
                    <a:lnTo>
                      <a:pt x="2561" y="1369"/>
                    </a:lnTo>
                    <a:lnTo>
                      <a:pt x="2587" y="1358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7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380" y="725"/>
                    </a:moveTo>
                    <a:lnTo>
                      <a:pt x="5383" y="722"/>
                    </a:lnTo>
                    <a:lnTo>
                      <a:pt x="5378" y="726"/>
                    </a:lnTo>
                    <a:lnTo>
                      <a:pt x="5380" y="725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8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4660" y="753"/>
                    </a:moveTo>
                    <a:lnTo>
                      <a:pt x="4582" y="701"/>
                    </a:lnTo>
                    <a:lnTo>
                      <a:pt x="4496" y="642"/>
                    </a:lnTo>
                    <a:lnTo>
                      <a:pt x="4400" y="576"/>
                    </a:lnTo>
                    <a:lnTo>
                      <a:pt x="4293" y="502"/>
                    </a:lnTo>
                    <a:lnTo>
                      <a:pt x="4186" y="427"/>
                    </a:lnTo>
                    <a:lnTo>
                      <a:pt x="4087" y="359"/>
                    </a:lnTo>
                    <a:lnTo>
                      <a:pt x="3995" y="298"/>
                    </a:lnTo>
                    <a:lnTo>
                      <a:pt x="3909" y="242"/>
                    </a:lnTo>
                    <a:lnTo>
                      <a:pt x="3827" y="192"/>
                    </a:lnTo>
                    <a:lnTo>
                      <a:pt x="3748" y="149"/>
                    </a:lnTo>
                    <a:lnTo>
                      <a:pt x="3672" y="111"/>
                    </a:lnTo>
                    <a:lnTo>
                      <a:pt x="3596" y="79"/>
                    </a:lnTo>
                    <a:lnTo>
                      <a:pt x="3521" y="52"/>
                    </a:lnTo>
                    <a:lnTo>
                      <a:pt x="3443" y="31"/>
                    </a:lnTo>
                    <a:lnTo>
                      <a:pt x="3363" y="16"/>
                    </a:lnTo>
                    <a:lnTo>
                      <a:pt x="3278" y="5"/>
                    </a:lnTo>
                    <a:lnTo>
                      <a:pt x="3189" y="0"/>
                    </a:lnTo>
                    <a:lnTo>
                      <a:pt x="3093" y="0"/>
                    </a:lnTo>
                    <a:lnTo>
                      <a:pt x="2989" y="4"/>
                    </a:lnTo>
                    <a:lnTo>
                      <a:pt x="2876" y="13"/>
                    </a:lnTo>
                    <a:lnTo>
                      <a:pt x="2753" y="28"/>
                    </a:lnTo>
                    <a:lnTo>
                      <a:pt x="2619" y="46"/>
                    </a:lnTo>
                    <a:lnTo>
                      <a:pt x="2561" y="55"/>
                    </a:lnTo>
                    <a:lnTo>
                      <a:pt x="2561" y="596"/>
                    </a:lnTo>
                    <a:lnTo>
                      <a:pt x="2637" y="544"/>
                    </a:lnTo>
                    <a:lnTo>
                      <a:pt x="2753" y="466"/>
                    </a:lnTo>
                    <a:lnTo>
                      <a:pt x="2858" y="397"/>
                    </a:lnTo>
                    <a:lnTo>
                      <a:pt x="2954" y="337"/>
                    </a:lnTo>
                    <a:lnTo>
                      <a:pt x="3042" y="286"/>
                    </a:lnTo>
                    <a:lnTo>
                      <a:pt x="3122" y="244"/>
                    </a:lnTo>
                    <a:lnTo>
                      <a:pt x="3196" y="210"/>
                    </a:lnTo>
                    <a:lnTo>
                      <a:pt x="3267" y="185"/>
                    </a:lnTo>
                    <a:lnTo>
                      <a:pt x="3333" y="169"/>
                    </a:lnTo>
                    <a:lnTo>
                      <a:pt x="3398" y="161"/>
                    </a:lnTo>
                    <a:lnTo>
                      <a:pt x="3463" y="162"/>
                    </a:lnTo>
                    <a:lnTo>
                      <a:pt x="3528" y="171"/>
                    </a:lnTo>
                    <a:lnTo>
                      <a:pt x="3594" y="188"/>
                    </a:lnTo>
                    <a:lnTo>
                      <a:pt x="3664" y="214"/>
                    </a:lnTo>
                    <a:lnTo>
                      <a:pt x="3739" y="247"/>
                    </a:lnTo>
                    <a:lnTo>
                      <a:pt x="3820" y="289"/>
                    </a:lnTo>
                    <a:lnTo>
                      <a:pt x="3907" y="339"/>
                    </a:lnTo>
                    <a:lnTo>
                      <a:pt x="4003" y="396"/>
                    </a:lnTo>
                    <a:lnTo>
                      <a:pt x="4109" y="462"/>
                    </a:lnTo>
                    <a:lnTo>
                      <a:pt x="4225" y="535"/>
                    </a:lnTo>
                    <a:lnTo>
                      <a:pt x="4344" y="606"/>
                    </a:lnTo>
                    <a:lnTo>
                      <a:pt x="4456" y="666"/>
                    </a:lnTo>
                    <a:lnTo>
                      <a:pt x="4561" y="714"/>
                    </a:lnTo>
                    <a:lnTo>
                      <a:pt x="4659" y="753"/>
                    </a:lnTo>
                    <a:lnTo>
                      <a:pt x="4660" y="75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9185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Arial"/>
              </a:rPr>
              <a:t>LEY 20.545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5640" y="1196640"/>
            <a:ext cx="6543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SUBSI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2 SEMANAS JORNADA COMPLETA, CON 100% DE SUBSIDIO, TOPE DE 66 UF BRU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8 SEMANAS MEDIA JORNADA, CON UN 50% DE SUBSIDIO CORRESPO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.- Traspaso del Derecho Postnatal Parental al Pad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Si la madre decide tomarse las 12 semanas con jornada completa, podrá traspasar al padre hasta un máximo de 6 semanas compl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Si la madre decide tomarse las 18 semanas con media jornada, podrá traspasar al padre hasta un máximo de de 12 semanas en media jor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0" y="6165720"/>
            <a:ext cx="5580000" cy="691920"/>
            <a:chOff x="0" y="6165720"/>
            <a:chExt cx="5580000" cy="691920"/>
          </a:xfrm>
        </p:grpSpPr>
        <p:grpSp>
          <p:nvGrpSpPr>
            <p:cNvPr id="95" name="Group 5"/>
            <p:cNvGrpSpPr/>
            <p:nvPr/>
          </p:nvGrpSpPr>
          <p:grpSpPr>
            <a:xfrm>
              <a:off x="808560" y="6341040"/>
              <a:ext cx="3614400" cy="404280"/>
              <a:chOff x="808560" y="6341040"/>
              <a:chExt cx="3614400" cy="404280"/>
            </a:xfrm>
          </p:grpSpPr>
          <p:sp>
            <p:nvSpPr>
              <p:cNvPr id="96" name="Freeform 6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85" y="493"/>
                    </a:moveTo>
                    <a:lnTo>
                      <a:pt x="3484" y="492"/>
                    </a:lnTo>
                    <a:lnTo>
                      <a:pt x="3487" y="494"/>
                    </a:lnTo>
                    <a:lnTo>
                      <a:pt x="3485" y="493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7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065" y="962"/>
                    </a:moveTo>
                    <a:lnTo>
                      <a:pt x="2123" y="959"/>
                    </a:lnTo>
                    <a:lnTo>
                      <a:pt x="2178" y="952"/>
                    </a:lnTo>
                    <a:lnTo>
                      <a:pt x="2230" y="942"/>
                    </a:lnTo>
                    <a:lnTo>
                      <a:pt x="2280" y="928"/>
                    </a:lnTo>
                    <a:lnTo>
                      <a:pt x="2329" y="911"/>
                    </a:lnTo>
                    <a:lnTo>
                      <a:pt x="2378" y="891"/>
                    </a:lnTo>
                    <a:lnTo>
                      <a:pt x="2428" y="866"/>
                    </a:lnTo>
                    <a:lnTo>
                      <a:pt x="2479" y="838"/>
                    </a:lnTo>
                    <a:lnTo>
                      <a:pt x="2532" y="806"/>
                    </a:lnTo>
                    <a:lnTo>
                      <a:pt x="2588" y="770"/>
                    </a:lnTo>
                    <a:lnTo>
                      <a:pt x="2647" y="730"/>
                    </a:lnTo>
                    <a:lnTo>
                      <a:pt x="2711" y="685"/>
                    </a:lnTo>
                    <a:lnTo>
                      <a:pt x="2781" y="637"/>
                    </a:lnTo>
                    <a:lnTo>
                      <a:pt x="2850" y="589"/>
                    </a:lnTo>
                    <a:lnTo>
                      <a:pt x="2912" y="546"/>
                    </a:lnTo>
                    <a:lnTo>
                      <a:pt x="2968" y="508"/>
                    </a:lnTo>
                    <a:lnTo>
                      <a:pt x="3018" y="475"/>
                    </a:lnTo>
                    <a:lnTo>
                      <a:pt x="3019" y="475"/>
                    </a:lnTo>
                    <a:lnTo>
                      <a:pt x="3018" y="475"/>
                    </a:lnTo>
                    <a:lnTo>
                      <a:pt x="2954" y="500"/>
                    </a:lnTo>
                    <a:lnTo>
                      <a:pt x="2886" y="531"/>
                    </a:lnTo>
                    <a:lnTo>
                      <a:pt x="2814" y="569"/>
                    </a:lnTo>
                    <a:lnTo>
                      <a:pt x="2737" y="616"/>
                    </a:lnTo>
                    <a:lnTo>
                      <a:pt x="2661" y="663"/>
                    </a:lnTo>
                    <a:lnTo>
                      <a:pt x="2593" y="706"/>
                    </a:lnTo>
                    <a:lnTo>
                      <a:pt x="2531" y="743"/>
                    </a:lnTo>
                    <a:lnTo>
                      <a:pt x="2474" y="775"/>
                    </a:lnTo>
                    <a:lnTo>
                      <a:pt x="2422" y="802"/>
                    </a:lnTo>
                    <a:lnTo>
                      <a:pt x="2374" y="824"/>
                    </a:lnTo>
                    <a:lnTo>
                      <a:pt x="2328" y="841"/>
                    </a:lnTo>
                    <a:lnTo>
                      <a:pt x="2285" y="852"/>
                    </a:lnTo>
                    <a:lnTo>
                      <a:pt x="2243" y="858"/>
                    </a:lnTo>
                    <a:lnTo>
                      <a:pt x="2201" y="858"/>
                    </a:lnTo>
                    <a:lnTo>
                      <a:pt x="2159" y="853"/>
                    </a:lnTo>
                    <a:lnTo>
                      <a:pt x="2116" y="842"/>
                    </a:lnTo>
                    <a:lnTo>
                      <a:pt x="2070" y="826"/>
                    </a:lnTo>
                    <a:lnTo>
                      <a:pt x="2022" y="804"/>
                    </a:lnTo>
                    <a:lnTo>
                      <a:pt x="1970" y="777"/>
                    </a:lnTo>
                    <a:lnTo>
                      <a:pt x="1913" y="744"/>
                    </a:lnTo>
                    <a:lnTo>
                      <a:pt x="1851" y="705"/>
                    </a:lnTo>
                    <a:lnTo>
                      <a:pt x="1783" y="660"/>
                    </a:lnTo>
                    <a:lnTo>
                      <a:pt x="1781" y="659"/>
                    </a:lnTo>
                    <a:lnTo>
                      <a:pt x="1781" y="944"/>
                    </a:lnTo>
                    <a:lnTo>
                      <a:pt x="1783" y="944"/>
                    </a:lnTo>
                    <a:lnTo>
                      <a:pt x="1863" y="954"/>
                    </a:lnTo>
                    <a:lnTo>
                      <a:pt x="1936" y="960"/>
                    </a:lnTo>
                    <a:lnTo>
                      <a:pt x="2003" y="963"/>
                    </a:lnTo>
                    <a:lnTo>
                      <a:pt x="2065" y="962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316" y="628"/>
                    </a:moveTo>
                    <a:lnTo>
                      <a:pt x="2342" y="622"/>
                    </a:lnTo>
                    <a:lnTo>
                      <a:pt x="2367" y="613"/>
                    </a:lnTo>
                    <a:lnTo>
                      <a:pt x="2393" y="599"/>
                    </a:lnTo>
                    <a:lnTo>
                      <a:pt x="2421" y="582"/>
                    </a:lnTo>
                    <a:lnTo>
                      <a:pt x="2450" y="561"/>
                    </a:lnTo>
                    <a:lnTo>
                      <a:pt x="2481" y="537"/>
                    </a:lnTo>
                    <a:lnTo>
                      <a:pt x="2515" y="508"/>
                    </a:lnTo>
                    <a:lnTo>
                      <a:pt x="2552" y="477"/>
                    </a:lnTo>
                    <a:lnTo>
                      <a:pt x="2550" y="478"/>
                    </a:lnTo>
                    <a:lnTo>
                      <a:pt x="2544" y="481"/>
                    </a:lnTo>
                    <a:lnTo>
                      <a:pt x="2534" y="486"/>
                    </a:lnTo>
                    <a:lnTo>
                      <a:pt x="2520" y="492"/>
                    </a:lnTo>
                    <a:lnTo>
                      <a:pt x="2502" y="498"/>
                    </a:lnTo>
                    <a:lnTo>
                      <a:pt x="2481" y="503"/>
                    </a:lnTo>
                    <a:lnTo>
                      <a:pt x="2456" y="508"/>
                    </a:lnTo>
                    <a:lnTo>
                      <a:pt x="2428" y="511"/>
                    </a:lnTo>
                    <a:lnTo>
                      <a:pt x="2397" y="513"/>
                    </a:lnTo>
                    <a:lnTo>
                      <a:pt x="2363" y="511"/>
                    </a:lnTo>
                    <a:lnTo>
                      <a:pt x="2325" y="506"/>
                    </a:lnTo>
                    <a:lnTo>
                      <a:pt x="2285" y="498"/>
                    </a:lnTo>
                    <a:lnTo>
                      <a:pt x="2242" y="485"/>
                    </a:lnTo>
                    <a:lnTo>
                      <a:pt x="2196" y="467"/>
                    </a:lnTo>
                    <a:lnTo>
                      <a:pt x="2148" y="444"/>
                    </a:lnTo>
                    <a:lnTo>
                      <a:pt x="2097" y="414"/>
                    </a:lnTo>
                    <a:lnTo>
                      <a:pt x="2044" y="378"/>
                    </a:lnTo>
                    <a:lnTo>
                      <a:pt x="1989" y="334"/>
                    </a:lnTo>
                    <a:lnTo>
                      <a:pt x="1932" y="282"/>
                    </a:lnTo>
                    <a:lnTo>
                      <a:pt x="1872" y="222"/>
                    </a:lnTo>
                    <a:lnTo>
                      <a:pt x="1839" y="189"/>
                    </a:lnTo>
                    <a:lnTo>
                      <a:pt x="1802" y="158"/>
                    </a:lnTo>
                    <a:lnTo>
                      <a:pt x="1781" y="143"/>
                    </a:lnTo>
                    <a:lnTo>
                      <a:pt x="1781" y="322"/>
                    </a:lnTo>
                    <a:lnTo>
                      <a:pt x="1808" y="337"/>
                    </a:lnTo>
                    <a:lnTo>
                      <a:pt x="1877" y="389"/>
                    </a:lnTo>
                    <a:lnTo>
                      <a:pt x="1939" y="435"/>
                    </a:lnTo>
                    <a:lnTo>
                      <a:pt x="1995" y="476"/>
                    </a:lnTo>
                    <a:lnTo>
                      <a:pt x="2046" y="512"/>
                    </a:lnTo>
                    <a:lnTo>
                      <a:pt x="2091" y="543"/>
                    </a:lnTo>
                    <a:lnTo>
                      <a:pt x="2132" y="569"/>
                    </a:lnTo>
                    <a:lnTo>
                      <a:pt x="2169" y="590"/>
                    </a:lnTo>
                    <a:lnTo>
                      <a:pt x="2203" y="606"/>
                    </a:lnTo>
                    <a:lnTo>
                      <a:pt x="2234" y="618"/>
                    </a:lnTo>
                    <a:lnTo>
                      <a:pt x="2263" y="626"/>
                    </a:lnTo>
                    <a:lnTo>
                      <a:pt x="2290" y="629"/>
                    </a:lnTo>
                    <a:lnTo>
                      <a:pt x="2316" y="628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55" y="467"/>
                    </a:moveTo>
                    <a:lnTo>
                      <a:pt x="3426" y="442"/>
                    </a:lnTo>
                    <a:lnTo>
                      <a:pt x="3399" y="421"/>
                    </a:lnTo>
                    <a:lnTo>
                      <a:pt x="3374" y="403"/>
                    </a:lnTo>
                    <a:lnTo>
                      <a:pt x="3350" y="388"/>
                    </a:lnTo>
                    <a:lnTo>
                      <a:pt x="3327" y="377"/>
                    </a:lnTo>
                    <a:lnTo>
                      <a:pt x="3304" y="369"/>
                    </a:lnTo>
                    <a:lnTo>
                      <a:pt x="3281" y="365"/>
                    </a:lnTo>
                    <a:lnTo>
                      <a:pt x="3256" y="364"/>
                    </a:lnTo>
                    <a:lnTo>
                      <a:pt x="3231" y="368"/>
                    </a:lnTo>
                    <a:lnTo>
                      <a:pt x="3203" y="375"/>
                    </a:lnTo>
                    <a:lnTo>
                      <a:pt x="3173" y="386"/>
                    </a:lnTo>
                    <a:lnTo>
                      <a:pt x="3140" y="402"/>
                    </a:lnTo>
                    <a:lnTo>
                      <a:pt x="3104" y="422"/>
                    </a:lnTo>
                    <a:lnTo>
                      <a:pt x="3063" y="446"/>
                    </a:lnTo>
                    <a:lnTo>
                      <a:pt x="3019" y="475"/>
                    </a:lnTo>
                    <a:lnTo>
                      <a:pt x="3077" y="456"/>
                    </a:lnTo>
                    <a:lnTo>
                      <a:pt x="3132" y="442"/>
                    </a:lnTo>
                    <a:lnTo>
                      <a:pt x="3183" y="433"/>
                    </a:lnTo>
                    <a:lnTo>
                      <a:pt x="3229" y="429"/>
                    </a:lnTo>
                    <a:lnTo>
                      <a:pt x="3271" y="428"/>
                    </a:lnTo>
                    <a:lnTo>
                      <a:pt x="3310" y="430"/>
                    </a:lnTo>
                    <a:lnTo>
                      <a:pt x="3344" y="434"/>
                    </a:lnTo>
                    <a:lnTo>
                      <a:pt x="3375" y="441"/>
                    </a:lnTo>
                    <a:lnTo>
                      <a:pt x="3402" y="449"/>
                    </a:lnTo>
                    <a:lnTo>
                      <a:pt x="3425" y="457"/>
                    </a:lnTo>
                    <a:lnTo>
                      <a:pt x="3444" y="466"/>
                    </a:lnTo>
                    <a:lnTo>
                      <a:pt x="3459" y="475"/>
                    </a:lnTo>
                    <a:lnTo>
                      <a:pt x="3471" y="483"/>
                    </a:lnTo>
                    <a:lnTo>
                      <a:pt x="3480" y="489"/>
                    </a:lnTo>
                    <a:lnTo>
                      <a:pt x="3484" y="492"/>
                    </a:lnTo>
                    <a:lnTo>
                      <a:pt x="3455" y="467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0"/>
            <p:cNvGrpSpPr/>
            <p:nvPr/>
          </p:nvGrpSpPr>
          <p:grpSpPr>
            <a:xfrm>
              <a:off x="980640" y="6165720"/>
              <a:ext cx="3697200" cy="375120"/>
              <a:chOff x="980640" y="6165720"/>
              <a:chExt cx="3697200" cy="375120"/>
            </a:xfrm>
          </p:grpSpPr>
          <p:sp>
            <p:nvSpPr>
              <p:cNvPr id="101" name="Freeform 11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2942" y="773"/>
                    </a:moveTo>
                    <a:lnTo>
                      <a:pt x="2880" y="731"/>
                    </a:lnTo>
                    <a:lnTo>
                      <a:pt x="2812" y="683"/>
                    </a:lnTo>
                    <a:lnTo>
                      <a:pt x="2735" y="628"/>
                    </a:lnTo>
                    <a:lnTo>
                      <a:pt x="2651" y="566"/>
                    </a:lnTo>
                    <a:lnTo>
                      <a:pt x="2557" y="498"/>
                    </a:lnTo>
                    <a:lnTo>
                      <a:pt x="2449" y="423"/>
                    </a:lnTo>
                    <a:lnTo>
                      <a:pt x="2349" y="355"/>
                    </a:lnTo>
                    <a:lnTo>
                      <a:pt x="2254" y="293"/>
                    </a:lnTo>
                    <a:lnTo>
                      <a:pt x="2164" y="238"/>
                    </a:lnTo>
                    <a:lnTo>
                      <a:pt x="2078" y="189"/>
                    </a:lnTo>
                    <a:lnTo>
                      <a:pt x="1995" y="146"/>
                    </a:lnTo>
                    <a:lnTo>
                      <a:pt x="1913" y="108"/>
                    </a:lnTo>
                    <a:lnTo>
                      <a:pt x="1832" y="76"/>
                    </a:lnTo>
                    <a:lnTo>
                      <a:pt x="1750" y="50"/>
                    </a:lnTo>
                    <a:lnTo>
                      <a:pt x="1667" y="30"/>
                    </a:lnTo>
                    <a:lnTo>
                      <a:pt x="1615" y="20"/>
                    </a:lnTo>
                    <a:lnTo>
                      <a:pt x="1615" y="163"/>
                    </a:lnTo>
                    <a:lnTo>
                      <a:pt x="1646" y="163"/>
                    </a:lnTo>
                    <a:lnTo>
                      <a:pt x="1711" y="172"/>
                    </a:lnTo>
                    <a:lnTo>
                      <a:pt x="1778" y="189"/>
                    </a:lnTo>
                    <a:lnTo>
                      <a:pt x="1848" y="215"/>
                    </a:lnTo>
                    <a:lnTo>
                      <a:pt x="1923" y="249"/>
                    </a:lnTo>
                    <a:lnTo>
                      <a:pt x="2003" y="290"/>
                    </a:lnTo>
                    <a:lnTo>
                      <a:pt x="2091" y="340"/>
                    </a:lnTo>
                    <a:lnTo>
                      <a:pt x="2187" y="398"/>
                    </a:lnTo>
                    <a:lnTo>
                      <a:pt x="2292" y="463"/>
                    </a:lnTo>
                    <a:lnTo>
                      <a:pt x="2409" y="537"/>
                    </a:lnTo>
                    <a:lnTo>
                      <a:pt x="2528" y="608"/>
                    </a:lnTo>
                    <a:lnTo>
                      <a:pt x="2640" y="667"/>
                    </a:lnTo>
                    <a:lnTo>
                      <a:pt x="2745" y="715"/>
                    </a:lnTo>
                    <a:lnTo>
                      <a:pt x="2843" y="754"/>
                    </a:lnTo>
                    <a:lnTo>
                      <a:pt x="2934" y="783"/>
                    </a:lnTo>
                    <a:lnTo>
                      <a:pt x="2974" y="793"/>
                    </a:lnTo>
                    <a:lnTo>
                      <a:pt x="2942" y="773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2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543" y="742"/>
                    </a:moveTo>
                    <a:lnTo>
                      <a:pt x="3556" y="732"/>
                    </a:lnTo>
                    <a:lnTo>
                      <a:pt x="3564" y="726"/>
                    </a:lnTo>
                    <a:lnTo>
                      <a:pt x="3566" y="724"/>
                    </a:lnTo>
                    <a:lnTo>
                      <a:pt x="3530" y="750"/>
                    </a:lnTo>
                    <a:lnTo>
                      <a:pt x="3543" y="742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3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282" y="889"/>
                    </a:moveTo>
                    <a:lnTo>
                      <a:pt x="3317" y="880"/>
                    </a:lnTo>
                    <a:lnTo>
                      <a:pt x="3352" y="865"/>
                    </a:lnTo>
                    <a:lnTo>
                      <a:pt x="3389" y="845"/>
                    </a:lnTo>
                    <a:lnTo>
                      <a:pt x="3428" y="821"/>
                    </a:lnTo>
                    <a:lnTo>
                      <a:pt x="3470" y="793"/>
                    </a:lnTo>
                    <a:lnTo>
                      <a:pt x="3516" y="760"/>
                    </a:lnTo>
                    <a:lnTo>
                      <a:pt x="3530" y="750"/>
                    </a:lnTo>
                    <a:lnTo>
                      <a:pt x="3524" y="754"/>
                    </a:lnTo>
                    <a:lnTo>
                      <a:pt x="3500" y="767"/>
                    </a:lnTo>
                    <a:lnTo>
                      <a:pt x="3471" y="781"/>
                    </a:lnTo>
                    <a:lnTo>
                      <a:pt x="3435" y="794"/>
                    </a:lnTo>
                    <a:lnTo>
                      <a:pt x="3394" y="806"/>
                    </a:lnTo>
                    <a:lnTo>
                      <a:pt x="3347" y="816"/>
                    </a:lnTo>
                    <a:lnTo>
                      <a:pt x="3294" y="823"/>
                    </a:lnTo>
                    <a:lnTo>
                      <a:pt x="3234" y="827"/>
                    </a:lnTo>
                    <a:lnTo>
                      <a:pt x="3169" y="825"/>
                    </a:lnTo>
                    <a:lnTo>
                      <a:pt x="3097" y="818"/>
                    </a:lnTo>
                    <a:lnTo>
                      <a:pt x="3019" y="804"/>
                    </a:lnTo>
                    <a:lnTo>
                      <a:pt x="2974" y="793"/>
                    </a:lnTo>
                    <a:lnTo>
                      <a:pt x="2998" y="808"/>
                    </a:lnTo>
                    <a:lnTo>
                      <a:pt x="3048" y="837"/>
                    </a:lnTo>
                    <a:lnTo>
                      <a:pt x="3094" y="860"/>
                    </a:lnTo>
                    <a:lnTo>
                      <a:pt x="3136" y="877"/>
                    </a:lnTo>
                    <a:lnTo>
                      <a:pt x="3175" y="888"/>
                    </a:lnTo>
                    <a:lnTo>
                      <a:pt x="3212" y="894"/>
                    </a:lnTo>
                    <a:lnTo>
                      <a:pt x="3248" y="894"/>
                    </a:lnTo>
                    <a:lnTo>
                      <a:pt x="3282" y="889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14"/>
            <p:cNvGrpSpPr/>
            <p:nvPr/>
          </p:nvGrpSpPr>
          <p:grpSpPr>
            <a:xfrm>
              <a:off x="0" y="6233400"/>
              <a:ext cx="5580000" cy="624240"/>
              <a:chOff x="0" y="6233400"/>
              <a:chExt cx="5580000" cy="624240"/>
            </a:xfrm>
          </p:grpSpPr>
          <p:sp>
            <p:nvSpPr>
              <p:cNvPr id="105" name="Freeform 15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065" y="923"/>
                    </a:moveTo>
                    <a:lnTo>
                      <a:pt x="5101" y="916"/>
                    </a:lnTo>
                    <a:lnTo>
                      <a:pt x="5136" y="904"/>
                    </a:lnTo>
                    <a:lnTo>
                      <a:pt x="5172" y="887"/>
                    </a:lnTo>
                    <a:lnTo>
                      <a:pt x="5209" y="864"/>
                    </a:lnTo>
                    <a:lnTo>
                      <a:pt x="5247" y="836"/>
                    </a:lnTo>
                    <a:lnTo>
                      <a:pt x="5289" y="803"/>
                    </a:lnTo>
                    <a:lnTo>
                      <a:pt x="5333" y="765"/>
                    </a:lnTo>
                    <a:lnTo>
                      <a:pt x="5378" y="726"/>
                    </a:lnTo>
                    <a:lnTo>
                      <a:pt x="5372" y="731"/>
                    </a:lnTo>
                    <a:lnTo>
                      <a:pt x="5359" y="741"/>
                    </a:lnTo>
                    <a:lnTo>
                      <a:pt x="5341" y="752"/>
                    </a:lnTo>
                    <a:lnTo>
                      <a:pt x="5317" y="766"/>
                    </a:lnTo>
                    <a:lnTo>
                      <a:pt x="5287" y="779"/>
                    </a:lnTo>
                    <a:lnTo>
                      <a:pt x="5252" y="793"/>
                    </a:lnTo>
                    <a:lnTo>
                      <a:pt x="5210" y="805"/>
                    </a:lnTo>
                    <a:lnTo>
                      <a:pt x="5163" y="815"/>
                    </a:lnTo>
                    <a:lnTo>
                      <a:pt x="5110" y="822"/>
                    </a:lnTo>
                    <a:lnTo>
                      <a:pt x="5051" y="825"/>
                    </a:lnTo>
                    <a:lnTo>
                      <a:pt x="4985" y="824"/>
                    </a:lnTo>
                    <a:lnTo>
                      <a:pt x="4913" y="817"/>
                    </a:lnTo>
                    <a:lnTo>
                      <a:pt x="4835" y="803"/>
                    </a:lnTo>
                    <a:lnTo>
                      <a:pt x="4750" y="782"/>
                    </a:lnTo>
                    <a:lnTo>
                      <a:pt x="4660" y="753"/>
                    </a:lnTo>
                    <a:lnTo>
                      <a:pt x="4729" y="797"/>
                    </a:lnTo>
                    <a:lnTo>
                      <a:pt x="4792" y="834"/>
                    </a:lnTo>
                    <a:lnTo>
                      <a:pt x="4848" y="865"/>
                    </a:lnTo>
                    <a:lnTo>
                      <a:pt x="4899" y="889"/>
                    </a:lnTo>
                    <a:lnTo>
                      <a:pt x="4946" y="907"/>
                    </a:lnTo>
                    <a:lnTo>
                      <a:pt x="4988" y="918"/>
                    </a:lnTo>
                    <a:lnTo>
                      <a:pt x="5028" y="923"/>
                    </a:lnTo>
                    <a:lnTo>
                      <a:pt x="5065" y="92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6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2587" y="1358"/>
                    </a:moveTo>
                    <a:lnTo>
                      <a:pt x="2657" y="1323"/>
                    </a:lnTo>
                    <a:lnTo>
                      <a:pt x="2722" y="1284"/>
                    </a:lnTo>
                    <a:lnTo>
                      <a:pt x="2783" y="1241"/>
                    </a:lnTo>
                    <a:lnTo>
                      <a:pt x="2839" y="1194"/>
                    </a:lnTo>
                    <a:lnTo>
                      <a:pt x="2890" y="1143"/>
                    </a:lnTo>
                    <a:lnTo>
                      <a:pt x="2982" y="1050"/>
                    </a:lnTo>
                    <a:lnTo>
                      <a:pt x="3071" y="970"/>
                    </a:lnTo>
                    <a:lnTo>
                      <a:pt x="3156" y="903"/>
                    </a:lnTo>
                    <a:lnTo>
                      <a:pt x="3238" y="846"/>
                    </a:lnTo>
                    <a:lnTo>
                      <a:pt x="3316" y="801"/>
                    </a:lnTo>
                    <a:lnTo>
                      <a:pt x="3391" y="764"/>
                    </a:lnTo>
                    <a:lnTo>
                      <a:pt x="3462" y="737"/>
                    </a:lnTo>
                    <a:lnTo>
                      <a:pt x="3528" y="717"/>
                    </a:lnTo>
                    <a:lnTo>
                      <a:pt x="3590" y="704"/>
                    </a:lnTo>
                    <a:lnTo>
                      <a:pt x="3648" y="697"/>
                    </a:lnTo>
                    <a:lnTo>
                      <a:pt x="3701" y="694"/>
                    </a:lnTo>
                    <a:lnTo>
                      <a:pt x="3749" y="696"/>
                    </a:lnTo>
                    <a:lnTo>
                      <a:pt x="3793" y="701"/>
                    </a:lnTo>
                    <a:lnTo>
                      <a:pt x="3831" y="709"/>
                    </a:lnTo>
                    <a:lnTo>
                      <a:pt x="3863" y="717"/>
                    </a:lnTo>
                    <a:lnTo>
                      <a:pt x="3890" y="726"/>
                    </a:lnTo>
                    <a:lnTo>
                      <a:pt x="3912" y="735"/>
                    </a:lnTo>
                    <a:lnTo>
                      <a:pt x="3927" y="742"/>
                    </a:lnTo>
                    <a:lnTo>
                      <a:pt x="3937" y="748"/>
                    </a:lnTo>
                    <a:lnTo>
                      <a:pt x="3940" y="749"/>
                    </a:lnTo>
                    <a:lnTo>
                      <a:pt x="3882" y="701"/>
                    </a:lnTo>
                    <a:lnTo>
                      <a:pt x="3830" y="657"/>
                    </a:lnTo>
                    <a:lnTo>
                      <a:pt x="3782" y="619"/>
                    </a:lnTo>
                    <a:lnTo>
                      <a:pt x="3737" y="587"/>
                    </a:lnTo>
                    <a:lnTo>
                      <a:pt x="3695" y="560"/>
                    </a:lnTo>
                    <a:lnTo>
                      <a:pt x="3655" y="540"/>
                    </a:lnTo>
                    <a:lnTo>
                      <a:pt x="3616" y="525"/>
                    </a:lnTo>
                    <a:lnTo>
                      <a:pt x="3576" y="517"/>
                    </a:lnTo>
                    <a:lnTo>
                      <a:pt x="3536" y="515"/>
                    </a:lnTo>
                    <a:lnTo>
                      <a:pt x="3494" y="520"/>
                    </a:lnTo>
                    <a:lnTo>
                      <a:pt x="3449" y="531"/>
                    </a:lnTo>
                    <a:lnTo>
                      <a:pt x="3402" y="550"/>
                    </a:lnTo>
                    <a:lnTo>
                      <a:pt x="3349" y="575"/>
                    </a:lnTo>
                    <a:lnTo>
                      <a:pt x="3292" y="608"/>
                    </a:lnTo>
                    <a:lnTo>
                      <a:pt x="3229" y="648"/>
                    </a:lnTo>
                    <a:lnTo>
                      <a:pt x="3158" y="696"/>
                    </a:lnTo>
                    <a:lnTo>
                      <a:pt x="3080" y="751"/>
                    </a:lnTo>
                    <a:lnTo>
                      <a:pt x="2994" y="814"/>
                    </a:lnTo>
                    <a:lnTo>
                      <a:pt x="2898" y="886"/>
                    </a:lnTo>
                    <a:lnTo>
                      <a:pt x="2791" y="965"/>
                    </a:lnTo>
                    <a:lnTo>
                      <a:pt x="2668" y="1034"/>
                    </a:lnTo>
                    <a:lnTo>
                      <a:pt x="2561" y="1080"/>
                    </a:lnTo>
                    <a:lnTo>
                      <a:pt x="2561" y="1369"/>
                    </a:lnTo>
                    <a:lnTo>
                      <a:pt x="2587" y="1358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7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380" y="725"/>
                    </a:moveTo>
                    <a:lnTo>
                      <a:pt x="5383" y="722"/>
                    </a:lnTo>
                    <a:lnTo>
                      <a:pt x="5378" y="726"/>
                    </a:lnTo>
                    <a:lnTo>
                      <a:pt x="5380" y="725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8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4660" y="753"/>
                    </a:moveTo>
                    <a:lnTo>
                      <a:pt x="4582" y="701"/>
                    </a:lnTo>
                    <a:lnTo>
                      <a:pt x="4496" y="642"/>
                    </a:lnTo>
                    <a:lnTo>
                      <a:pt x="4400" y="576"/>
                    </a:lnTo>
                    <a:lnTo>
                      <a:pt x="4293" y="502"/>
                    </a:lnTo>
                    <a:lnTo>
                      <a:pt x="4186" y="427"/>
                    </a:lnTo>
                    <a:lnTo>
                      <a:pt x="4087" y="359"/>
                    </a:lnTo>
                    <a:lnTo>
                      <a:pt x="3995" y="298"/>
                    </a:lnTo>
                    <a:lnTo>
                      <a:pt x="3909" y="242"/>
                    </a:lnTo>
                    <a:lnTo>
                      <a:pt x="3827" y="192"/>
                    </a:lnTo>
                    <a:lnTo>
                      <a:pt x="3748" y="149"/>
                    </a:lnTo>
                    <a:lnTo>
                      <a:pt x="3672" y="111"/>
                    </a:lnTo>
                    <a:lnTo>
                      <a:pt x="3596" y="79"/>
                    </a:lnTo>
                    <a:lnTo>
                      <a:pt x="3521" y="52"/>
                    </a:lnTo>
                    <a:lnTo>
                      <a:pt x="3443" y="31"/>
                    </a:lnTo>
                    <a:lnTo>
                      <a:pt x="3363" y="16"/>
                    </a:lnTo>
                    <a:lnTo>
                      <a:pt x="3278" y="5"/>
                    </a:lnTo>
                    <a:lnTo>
                      <a:pt x="3189" y="0"/>
                    </a:lnTo>
                    <a:lnTo>
                      <a:pt x="3093" y="0"/>
                    </a:lnTo>
                    <a:lnTo>
                      <a:pt x="2989" y="4"/>
                    </a:lnTo>
                    <a:lnTo>
                      <a:pt x="2876" y="13"/>
                    </a:lnTo>
                    <a:lnTo>
                      <a:pt x="2753" y="28"/>
                    </a:lnTo>
                    <a:lnTo>
                      <a:pt x="2619" y="46"/>
                    </a:lnTo>
                    <a:lnTo>
                      <a:pt x="2561" y="55"/>
                    </a:lnTo>
                    <a:lnTo>
                      <a:pt x="2561" y="596"/>
                    </a:lnTo>
                    <a:lnTo>
                      <a:pt x="2637" y="544"/>
                    </a:lnTo>
                    <a:lnTo>
                      <a:pt x="2753" y="466"/>
                    </a:lnTo>
                    <a:lnTo>
                      <a:pt x="2858" y="397"/>
                    </a:lnTo>
                    <a:lnTo>
                      <a:pt x="2954" y="337"/>
                    </a:lnTo>
                    <a:lnTo>
                      <a:pt x="3042" y="286"/>
                    </a:lnTo>
                    <a:lnTo>
                      <a:pt x="3122" y="244"/>
                    </a:lnTo>
                    <a:lnTo>
                      <a:pt x="3196" y="210"/>
                    </a:lnTo>
                    <a:lnTo>
                      <a:pt x="3267" y="185"/>
                    </a:lnTo>
                    <a:lnTo>
                      <a:pt x="3333" y="169"/>
                    </a:lnTo>
                    <a:lnTo>
                      <a:pt x="3398" y="161"/>
                    </a:lnTo>
                    <a:lnTo>
                      <a:pt x="3463" y="162"/>
                    </a:lnTo>
                    <a:lnTo>
                      <a:pt x="3528" y="171"/>
                    </a:lnTo>
                    <a:lnTo>
                      <a:pt x="3594" y="188"/>
                    </a:lnTo>
                    <a:lnTo>
                      <a:pt x="3664" y="214"/>
                    </a:lnTo>
                    <a:lnTo>
                      <a:pt x="3739" y="247"/>
                    </a:lnTo>
                    <a:lnTo>
                      <a:pt x="3820" y="289"/>
                    </a:lnTo>
                    <a:lnTo>
                      <a:pt x="3907" y="339"/>
                    </a:lnTo>
                    <a:lnTo>
                      <a:pt x="4003" y="396"/>
                    </a:lnTo>
                    <a:lnTo>
                      <a:pt x="4109" y="462"/>
                    </a:lnTo>
                    <a:lnTo>
                      <a:pt x="4225" y="535"/>
                    </a:lnTo>
                    <a:lnTo>
                      <a:pt x="4344" y="606"/>
                    </a:lnTo>
                    <a:lnTo>
                      <a:pt x="4456" y="666"/>
                    </a:lnTo>
                    <a:lnTo>
                      <a:pt x="4561" y="714"/>
                    </a:lnTo>
                    <a:lnTo>
                      <a:pt x="4659" y="753"/>
                    </a:lnTo>
                    <a:lnTo>
                      <a:pt x="4660" y="75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Arial"/>
              </a:rPr>
              <a:t>LEY 20.545</a:t>
            </a:r>
            <a:br>
              <a:rPr sz="4400"/>
            </a:b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7 de octubre de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1844280"/>
            <a:ext cx="625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UBSIDIO DEL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calcula en base al sueldo del padre y se paga en igual porcentaje que a la ma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FUERO DEL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iene fuero, por el doble del período que se tome a jornada completa o aun máximo de tres meses si lo utiliza a jornada par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0" y="6165720"/>
            <a:ext cx="5580000" cy="691920"/>
            <a:chOff x="0" y="6165720"/>
            <a:chExt cx="5580000" cy="691920"/>
          </a:xfrm>
        </p:grpSpPr>
        <p:grpSp>
          <p:nvGrpSpPr>
            <p:cNvPr id="112" name="Group 5"/>
            <p:cNvGrpSpPr/>
            <p:nvPr/>
          </p:nvGrpSpPr>
          <p:grpSpPr>
            <a:xfrm>
              <a:off x="808560" y="6341040"/>
              <a:ext cx="3614400" cy="404280"/>
              <a:chOff x="808560" y="6341040"/>
              <a:chExt cx="3614400" cy="404280"/>
            </a:xfrm>
          </p:grpSpPr>
          <p:sp>
            <p:nvSpPr>
              <p:cNvPr id="113" name="Freeform 6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85" y="493"/>
                    </a:moveTo>
                    <a:lnTo>
                      <a:pt x="3484" y="492"/>
                    </a:lnTo>
                    <a:lnTo>
                      <a:pt x="3487" y="494"/>
                    </a:lnTo>
                    <a:lnTo>
                      <a:pt x="3485" y="493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7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065" y="962"/>
                    </a:moveTo>
                    <a:lnTo>
                      <a:pt x="2123" y="959"/>
                    </a:lnTo>
                    <a:lnTo>
                      <a:pt x="2178" y="952"/>
                    </a:lnTo>
                    <a:lnTo>
                      <a:pt x="2230" y="942"/>
                    </a:lnTo>
                    <a:lnTo>
                      <a:pt x="2280" y="928"/>
                    </a:lnTo>
                    <a:lnTo>
                      <a:pt x="2329" y="911"/>
                    </a:lnTo>
                    <a:lnTo>
                      <a:pt x="2378" y="891"/>
                    </a:lnTo>
                    <a:lnTo>
                      <a:pt x="2428" y="866"/>
                    </a:lnTo>
                    <a:lnTo>
                      <a:pt x="2479" y="838"/>
                    </a:lnTo>
                    <a:lnTo>
                      <a:pt x="2532" y="806"/>
                    </a:lnTo>
                    <a:lnTo>
                      <a:pt x="2588" y="770"/>
                    </a:lnTo>
                    <a:lnTo>
                      <a:pt x="2647" y="730"/>
                    </a:lnTo>
                    <a:lnTo>
                      <a:pt x="2711" y="685"/>
                    </a:lnTo>
                    <a:lnTo>
                      <a:pt x="2781" y="637"/>
                    </a:lnTo>
                    <a:lnTo>
                      <a:pt x="2850" y="589"/>
                    </a:lnTo>
                    <a:lnTo>
                      <a:pt x="2912" y="546"/>
                    </a:lnTo>
                    <a:lnTo>
                      <a:pt x="2968" y="508"/>
                    </a:lnTo>
                    <a:lnTo>
                      <a:pt x="3018" y="475"/>
                    </a:lnTo>
                    <a:lnTo>
                      <a:pt x="3019" y="475"/>
                    </a:lnTo>
                    <a:lnTo>
                      <a:pt x="3018" y="475"/>
                    </a:lnTo>
                    <a:lnTo>
                      <a:pt x="2954" y="500"/>
                    </a:lnTo>
                    <a:lnTo>
                      <a:pt x="2886" y="531"/>
                    </a:lnTo>
                    <a:lnTo>
                      <a:pt x="2814" y="569"/>
                    </a:lnTo>
                    <a:lnTo>
                      <a:pt x="2737" y="616"/>
                    </a:lnTo>
                    <a:lnTo>
                      <a:pt x="2661" y="663"/>
                    </a:lnTo>
                    <a:lnTo>
                      <a:pt x="2593" y="706"/>
                    </a:lnTo>
                    <a:lnTo>
                      <a:pt x="2531" y="743"/>
                    </a:lnTo>
                    <a:lnTo>
                      <a:pt x="2474" y="775"/>
                    </a:lnTo>
                    <a:lnTo>
                      <a:pt x="2422" y="802"/>
                    </a:lnTo>
                    <a:lnTo>
                      <a:pt x="2374" y="824"/>
                    </a:lnTo>
                    <a:lnTo>
                      <a:pt x="2328" y="841"/>
                    </a:lnTo>
                    <a:lnTo>
                      <a:pt x="2285" y="852"/>
                    </a:lnTo>
                    <a:lnTo>
                      <a:pt x="2243" y="858"/>
                    </a:lnTo>
                    <a:lnTo>
                      <a:pt x="2201" y="858"/>
                    </a:lnTo>
                    <a:lnTo>
                      <a:pt x="2159" y="853"/>
                    </a:lnTo>
                    <a:lnTo>
                      <a:pt x="2116" y="842"/>
                    </a:lnTo>
                    <a:lnTo>
                      <a:pt x="2070" y="826"/>
                    </a:lnTo>
                    <a:lnTo>
                      <a:pt x="2022" y="804"/>
                    </a:lnTo>
                    <a:lnTo>
                      <a:pt x="1970" y="777"/>
                    </a:lnTo>
                    <a:lnTo>
                      <a:pt x="1913" y="744"/>
                    </a:lnTo>
                    <a:lnTo>
                      <a:pt x="1851" y="705"/>
                    </a:lnTo>
                    <a:lnTo>
                      <a:pt x="1783" y="660"/>
                    </a:lnTo>
                    <a:lnTo>
                      <a:pt x="1781" y="659"/>
                    </a:lnTo>
                    <a:lnTo>
                      <a:pt x="1781" y="944"/>
                    </a:lnTo>
                    <a:lnTo>
                      <a:pt x="1783" y="944"/>
                    </a:lnTo>
                    <a:lnTo>
                      <a:pt x="1863" y="954"/>
                    </a:lnTo>
                    <a:lnTo>
                      <a:pt x="1936" y="960"/>
                    </a:lnTo>
                    <a:lnTo>
                      <a:pt x="2003" y="963"/>
                    </a:lnTo>
                    <a:lnTo>
                      <a:pt x="2065" y="962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8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316" y="628"/>
                    </a:moveTo>
                    <a:lnTo>
                      <a:pt x="2342" y="622"/>
                    </a:lnTo>
                    <a:lnTo>
                      <a:pt x="2367" y="613"/>
                    </a:lnTo>
                    <a:lnTo>
                      <a:pt x="2393" y="599"/>
                    </a:lnTo>
                    <a:lnTo>
                      <a:pt x="2421" y="582"/>
                    </a:lnTo>
                    <a:lnTo>
                      <a:pt x="2450" y="561"/>
                    </a:lnTo>
                    <a:lnTo>
                      <a:pt x="2481" y="537"/>
                    </a:lnTo>
                    <a:lnTo>
                      <a:pt x="2515" y="508"/>
                    </a:lnTo>
                    <a:lnTo>
                      <a:pt x="2552" y="477"/>
                    </a:lnTo>
                    <a:lnTo>
                      <a:pt x="2550" y="478"/>
                    </a:lnTo>
                    <a:lnTo>
                      <a:pt x="2544" y="481"/>
                    </a:lnTo>
                    <a:lnTo>
                      <a:pt x="2534" y="486"/>
                    </a:lnTo>
                    <a:lnTo>
                      <a:pt x="2520" y="492"/>
                    </a:lnTo>
                    <a:lnTo>
                      <a:pt x="2502" y="498"/>
                    </a:lnTo>
                    <a:lnTo>
                      <a:pt x="2481" y="503"/>
                    </a:lnTo>
                    <a:lnTo>
                      <a:pt x="2456" y="508"/>
                    </a:lnTo>
                    <a:lnTo>
                      <a:pt x="2428" y="511"/>
                    </a:lnTo>
                    <a:lnTo>
                      <a:pt x="2397" y="513"/>
                    </a:lnTo>
                    <a:lnTo>
                      <a:pt x="2363" y="511"/>
                    </a:lnTo>
                    <a:lnTo>
                      <a:pt x="2325" y="506"/>
                    </a:lnTo>
                    <a:lnTo>
                      <a:pt x="2285" y="498"/>
                    </a:lnTo>
                    <a:lnTo>
                      <a:pt x="2242" y="485"/>
                    </a:lnTo>
                    <a:lnTo>
                      <a:pt x="2196" y="467"/>
                    </a:lnTo>
                    <a:lnTo>
                      <a:pt x="2148" y="444"/>
                    </a:lnTo>
                    <a:lnTo>
                      <a:pt x="2097" y="414"/>
                    </a:lnTo>
                    <a:lnTo>
                      <a:pt x="2044" y="378"/>
                    </a:lnTo>
                    <a:lnTo>
                      <a:pt x="1989" y="334"/>
                    </a:lnTo>
                    <a:lnTo>
                      <a:pt x="1932" y="282"/>
                    </a:lnTo>
                    <a:lnTo>
                      <a:pt x="1872" y="222"/>
                    </a:lnTo>
                    <a:lnTo>
                      <a:pt x="1839" y="189"/>
                    </a:lnTo>
                    <a:lnTo>
                      <a:pt x="1802" y="158"/>
                    </a:lnTo>
                    <a:lnTo>
                      <a:pt x="1781" y="143"/>
                    </a:lnTo>
                    <a:lnTo>
                      <a:pt x="1781" y="322"/>
                    </a:lnTo>
                    <a:lnTo>
                      <a:pt x="1808" y="337"/>
                    </a:lnTo>
                    <a:lnTo>
                      <a:pt x="1877" y="389"/>
                    </a:lnTo>
                    <a:lnTo>
                      <a:pt x="1939" y="435"/>
                    </a:lnTo>
                    <a:lnTo>
                      <a:pt x="1995" y="476"/>
                    </a:lnTo>
                    <a:lnTo>
                      <a:pt x="2046" y="512"/>
                    </a:lnTo>
                    <a:lnTo>
                      <a:pt x="2091" y="543"/>
                    </a:lnTo>
                    <a:lnTo>
                      <a:pt x="2132" y="569"/>
                    </a:lnTo>
                    <a:lnTo>
                      <a:pt x="2169" y="590"/>
                    </a:lnTo>
                    <a:lnTo>
                      <a:pt x="2203" y="606"/>
                    </a:lnTo>
                    <a:lnTo>
                      <a:pt x="2234" y="618"/>
                    </a:lnTo>
                    <a:lnTo>
                      <a:pt x="2263" y="626"/>
                    </a:lnTo>
                    <a:lnTo>
                      <a:pt x="2290" y="629"/>
                    </a:lnTo>
                    <a:lnTo>
                      <a:pt x="2316" y="628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9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55" y="467"/>
                    </a:moveTo>
                    <a:lnTo>
                      <a:pt x="3426" y="442"/>
                    </a:lnTo>
                    <a:lnTo>
                      <a:pt x="3399" y="421"/>
                    </a:lnTo>
                    <a:lnTo>
                      <a:pt x="3374" y="403"/>
                    </a:lnTo>
                    <a:lnTo>
                      <a:pt x="3350" y="388"/>
                    </a:lnTo>
                    <a:lnTo>
                      <a:pt x="3327" y="377"/>
                    </a:lnTo>
                    <a:lnTo>
                      <a:pt x="3304" y="369"/>
                    </a:lnTo>
                    <a:lnTo>
                      <a:pt x="3281" y="365"/>
                    </a:lnTo>
                    <a:lnTo>
                      <a:pt x="3256" y="364"/>
                    </a:lnTo>
                    <a:lnTo>
                      <a:pt x="3231" y="368"/>
                    </a:lnTo>
                    <a:lnTo>
                      <a:pt x="3203" y="375"/>
                    </a:lnTo>
                    <a:lnTo>
                      <a:pt x="3173" y="386"/>
                    </a:lnTo>
                    <a:lnTo>
                      <a:pt x="3140" y="402"/>
                    </a:lnTo>
                    <a:lnTo>
                      <a:pt x="3104" y="422"/>
                    </a:lnTo>
                    <a:lnTo>
                      <a:pt x="3063" y="446"/>
                    </a:lnTo>
                    <a:lnTo>
                      <a:pt x="3019" y="475"/>
                    </a:lnTo>
                    <a:lnTo>
                      <a:pt x="3077" y="456"/>
                    </a:lnTo>
                    <a:lnTo>
                      <a:pt x="3132" y="442"/>
                    </a:lnTo>
                    <a:lnTo>
                      <a:pt x="3183" y="433"/>
                    </a:lnTo>
                    <a:lnTo>
                      <a:pt x="3229" y="429"/>
                    </a:lnTo>
                    <a:lnTo>
                      <a:pt x="3271" y="428"/>
                    </a:lnTo>
                    <a:lnTo>
                      <a:pt x="3310" y="430"/>
                    </a:lnTo>
                    <a:lnTo>
                      <a:pt x="3344" y="434"/>
                    </a:lnTo>
                    <a:lnTo>
                      <a:pt x="3375" y="441"/>
                    </a:lnTo>
                    <a:lnTo>
                      <a:pt x="3402" y="449"/>
                    </a:lnTo>
                    <a:lnTo>
                      <a:pt x="3425" y="457"/>
                    </a:lnTo>
                    <a:lnTo>
                      <a:pt x="3444" y="466"/>
                    </a:lnTo>
                    <a:lnTo>
                      <a:pt x="3459" y="475"/>
                    </a:lnTo>
                    <a:lnTo>
                      <a:pt x="3471" y="483"/>
                    </a:lnTo>
                    <a:lnTo>
                      <a:pt x="3480" y="489"/>
                    </a:lnTo>
                    <a:lnTo>
                      <a:pt x="3484" y="492"/>
                    </a:lnTo>
                    <a:lnTo>
                      <a:pt x="3455" y="467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10"/>
            <p:cNvGrpSpPr/>
            <p:nvPr/>
          </p:nvGrpSpPr>
          <p:grpSpPr>
            <a:xfrm>
              <a:off x="980640" y="6165720"/>
              <a:ext cx="3697200" cy="375120"/>
              <a:chOff x="980640" y="6165720"/>
              <a:chExt cx="3697200" cy="375120"/>
            </a:xfrm>
          </p:grpSpPr>
          <p:sp>
            <p:nvSpPr>
              <p:cNvPr id="118" name="Freeform 11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2942" y="773"/>
                    </a:moveTo>
                    <a:lnTo>
                      <a:pt x="2880" y="731"/>
                    </a:lnTo>
                    <a:lnTo>
                      <a:pt x="2812" y="683"/>
                    </a:lnTo>
                    <a:lnTo>
                      <a:pt x="2735" y="628"/>
                    </a:lnTo>
                    <a:lnTo>
                      <a:pt x="2651" y="566"/>
                    </a:lnTo>
                    <a:lnTo>
                      <a:pt x="2557" y="498"/>
                    </a:lnTo>
                    <a:lnTo>
                      <a:pt x="2449" y="423"/>
                    </a:lnTo>
                    <a:lnTo>
                      <a:pt x="2349" y="355"/>
                    </a:lnTo>
                    <a:lnTo>
                      <a:pt x="2254" y="293"/>
                    </a:lnTo>
                    <a:lnTo>
                      <a:pt x="2164" y="238"/>
                    </a:lnTo>
                    <a:lnTo>
                      <a:pt x="2078" y="189"/>
                    </a:lnTo>
                    <a:lnTo>
                      <a:pt x="1995" y="146"/>
                    </a:lnTo>
                    <a:lnTo>
                      <a:pt x="1913" y="108"/>
                    </a:lnTo>
                    <a:lnTo>
                      <a:pt x="1832" y="76"/>
                    </a:lnTo>
                    <a:lnTo>
                      <a:pt x="1750" y="50"/>
                    </a:lnTo>
                    <a:lnTo>
                      <a:pt x="1667" y="30"/>
                    </a:lnTo>
                    <a:lnTo>
                      <a:pt x="1615" y="20"/>
                    </a:lnTo>
                    <a:lnTo>
                      <a:pt x="1615" y="163"/>
                    </a:lnTo>
                    <a:lnTo>
                      <a:pt x="1646" y="163"/>
                    </a:lnTo>
                    <a:lnTo>
                      <a:pt x="1711" y="172"/>
                    </a:lnTo>
                    <a:lnTo>
                      <a:pt x="1778" y="189"/>
                    </a:lnTo>
                    <a:lnTo>
                      <a:pt x="1848" y="215"/>
                    </a:lnTo>
                    <a:lnTo>
                      <a:pt x="1923" y="249"/>
                    </a:lnTo>
                    <a:lnTo>
                      <a:pt x="2003" y="290"/>
                    </a:lnTo>
                    <a:lnTo>
                      <a:pt x="2091" y="340"/>
                    </a:lnTo>
                    <a:lnTo>
                      <a:pt x="2187" y="398"/>
                    </a:lnTo>
                    <a:lnTo>
                      <a:pt x="2292" y="463"/>
                    </a:lnTo>
                    <a:lnTo>
                      <a:pt x="2409" y="537"/>
                    </a:lnTo>
                    <a:lnTo>
                      <a:pt x="2528" y="608"/>
                    </a:lnTo>
                    <a:lnTo>
                      <a:pt x="2640" y="667"/>
                    </a:lnTo>
                    <a:lnTo>
                      <a:pt x="2745" y="715"/>
                    </a:lnTo>
                    <a:lnTo>
                      <a:pt x="2843" y="754"/>
                    </a:lnTo>
                    <a:lnTo>
                      <a:pt x="2934" y="783"/>
                    </a:lnTo>
                    <a:lnTo>
                      <a:pt x="2974" y="793"/>
                    </a:lnTo>
                    <a:lnTo>
                      <a:pt x="2942" y="773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543" y="742"/>
                    </a:moveTo>
                    <a:lnTo>
                      <a:pt x="3556" y="732"/>
                    </a:lnTo>
                    <a:lnTo>
                      <a:pt x="3564" y="726"/>
                    </a:lnTo>
                    <a:lnTo>
                      <a:pt x="3566" y="724"/>
                    </a:lnTo>
                    <a:lnTo>
                      <a:pt x="3530" y="750"/>
                    </a:lnTo>
                    <a:lnTo>
                      <a:pt x="3543" y="742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3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282" y="889"/>
                    </a:moveTo>
                    <a:lnTo>
                      <a:pt x="3317" y="880"/>
                    </a:lnTo>
                    <a:lnTo>
                      <a:pt x="3352" y="865"/>
                    </a:lnTo>
                    <a:lnTo>
                      <a:pt x="3389" y="845"/>
                    </a:lnTo>
                    <a:lnTo>
                      <a:pt x="3428" y="821"/>
                    </a:lnTo>
                    <a:lnTo>
                      <a:pt x="3470" y="793"/>
                    </a:lnTo>
                    <a:lnTo>
                      <a:pt x="3516" y="760"/>
                    </a:lnTo>
                    <a:lnTo>
                      <a:pt x="3530" y="750"/>
                    </a:lnTo>
                    <a:lnTo>
                      <a:pt x="3524" y="754"/>
                    </a:lnTo>
                    <a:lnTo>
                      <a:pt x="3500" y="767"/>
                    </a:lnTo>
                    <a:lnTo>
                      <a:pt x="3471" y="781"/>
                    </a:lnTo>
                    <a:lnTo>
                      <a:pt x="3435" y="794"/>
                    </a:lnTo>
                    <a:lnTo>
                      <a:pt x="3394" y="806"/>
                    </a:lnTo>
                    <a:lnTo>
                      <a:pt x="3347" y="816"/>
                    </a:lnTo>
                    <a:lnTo>
                      <a:pt x="3294" y="823"/>
                    </a:lnTo>
                    <a:lnTo>
                      <a:pt x="3234" y="827"/>
                    </a:lnTo>
                    <a:lnTo>
                      <a:pt x="3169" y="825"/>
                    </a:lnTo>
                    <a:lnTo>
                      <a:pt x="3097" y="818"/>
                    </a:lnTo>
                    <a:lnTo>
                      <a:pt x="3019" y="804"/>
                    </a:lnTo>
                    <a:lnTo>
                      <a:pt x="2974" y="793"/>
                    </a:lnTo>
                    <a:lnTo>
                      <a:pt x="2998" y="808"/>
                    </a:lnTo>
                    <a:lnTo>
                      <a:pt x="3048" y="837"/>
                    </a:lnTo>
                    <a:lnTo>
                      <a:pt x="3094" y="860"/>
                    </a:lnTo>
                    <a:lnTo>
                      <a:pt x="3136" y="877"/>
                    </a:lnTo>
                    <a:lnTo>
                      <a:pt x="3175" y="888"/>
                    </a:lnTo>
                    <a:lnTo>
                      <a:pt x="3212" y="894"/>
                    </a:lnTo>
                    <a:lnTo>
                      <a:pt x="3248" y="894"/>
                    </a:lnTo>
                    <a:lnTo>
                      <a:pt x="3282" y="889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14"/>
            <p:cNvGrpSpPr/>
            <p:nvPr/>
          </p:nvGrpSpPr>
          <p:grpSpPr>
            <a:xfrm>
              <a:off x="0" y="6233400"/>
              <a:ext cx="5580000" cy="624240"/>
              <a:chOff x="0" y="6233400"/>
              <a:chExt cx="5580000" cy="624240"/>
            </a:xfrm>
          </p:grpSpPr>
          <p:sp>
            <p:nvSpPr>
              <p:cNvPr id="122" name="Freeform 15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065" y="923"/>
                    </a:moveTo>
                    <a:lnTo>
                      <a:pt x="5101" y="916"/>
                    </a:lnTo>
                    <a:lnTo>
                      <a:pt x="5136" y="904"/>
                    </a:lnTo>
                    <a:lnTo>
                      <a:pt x="5172" y="887"/>
                    </a:lnTo>
                    <a:lnTo>
                      <a:pt x="5209" y="864"/>
                    </a:lnTo>
                    <a:lnTo>
                      <a:pt x="5247" y="836"/>
                    </a:lnTo>
                    <a:lnTo>
                      <a:pt x="5289" y="803"/>
                    </a:lnTo>
                    <a:lnTo>
                      <a:pt x="5333" y="765"/>
                    </a:lnTo>
                    <a:lnTo>
                      <a:pt x="5378" y="726"/>
                    </a:lnTo>
                    <a:lnTo>
                      <a:pt x="5372" y="731"/>
                    </a:lnTo>
                    <a:lnTo>
                      <a:pt x="5359" y="741"/>
                    </a:lnTo>
                    <a:lnTo>
                      <a:pt x="5341" y="752"/>
                    </a:lnTo>
                    <a:lnTo>
                      <a:pt x="5317" y="766"/>
                    </a:lnTo>
                    <a:lnTo>
                      <a:pt x="5287" y="779"/>
                    </a:lnTo>
                    <a:lnTo>
                      <a:pt x="5252" y="793"/>
                    </a:lnTo>
                    <a:lnTo>
                      <a:pt x="5210" y="805"/>
                    </a:lnTo>
                    <a:lnTo>
                      <a:pt x="5163" y="815"/>
                    </a:lnTo>
                    <a:lnTo>
                      <a:pt x="5110" y="822"/>
                    </a:lnTo>
                    <a:lnTo>
                      <a:pt x="5051" y="825"/>
                    </a:lnTo>
                    <a:lnTo>
                      <a:pt x="4985" y="824"/>
                    </a:lnTo>
                    <a:lnTo>
                      <a:pt x="4913" y="817"/>
                    </a:lnTo>
                    <a:lnTo>
                      <a:pt x="4835" y="803"/>
                    </a:lnTo>
                    <a:lnTo>
                      <a:pt x="4750" y="782"/>
                    </a:lnTo>
                    <a:lnTo>
                      <a:pt x="4660" y="753"/>
                    </a:lnTo>
                    <a:lnTo>
                      <a:pt x="4729" y="797"/>
                    </a:lnTo>
                    <a:lnTo>
                      <a:pt x="4792" y="834"/>
                    </a:lnTo>
                    <a:lnTo>
                      <a:pt x="4848" y="865"/>
                    </a:lnTo>
                    <a:lnTo>
                      <a:pt x="4899" y="889"/>
                    </a:lnTo>
                    <a:lnTo>
                      <a:pt x="4946" y="907"/>
                    </a:lnTo>
                    <a:lnTo>
                      <a:pt x="4988" y="918"/>
                    </a:lnTo>
                    <a:lnTo>
                      <a:pt x="5028" y="923"/>
                    </a:lnTo>
                    <a:lnTo>
                      <a:pt x="5065" y="92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2587" y="1358"/>
                    </a:moveTo>
                    <a:lnTo>
                      <a:pt x="2657" y="1323"/>
                    </a:lnTo>
                    <a:lnTo>
                      <a:pt x="2722" y="1284"/>
                    </a:lnTo>
                    <a:lnTo>
                      <a:pt x="2783" y="1241"/>
                    </a:lnTo>
                    <a:lnTo>
                      <a:pt x="2839" y="1194"/>
                    </a:lnTo>
                    <a:lnTo>
                      <a:pt x="2890" y="1143"/>
                    </a:lnTo>
                    <a:lnTo>
                      <a:pt x="2982" y="1050"/>
                    </a:lnTo>
                    <a:lnTo>
                      <a:pt x="3071" y="970"/>
                    </a:lnTo>
                    <a:lnTo>
                      <a:pt x="3156" y="903"/>
                    </a:lnTo>
                    <a:lnTo>
                      <a:pt x="3238" y="846"/>
                    </a:lnTo>
                    <a:lnTo>
                      <a:pt x="3316" y="801"/>
                    </a:lnTo>
                    <a:lnTo>
                      <a:pt x="3391" y="764"/>
                    </a:lnTo>
                    <a:lnTo>
                      <a:pt x="3462" y="737"/>
                    </a:lnTo>
                    <a:lnTo>
                      <a:pt x="3528" y="717"/>
                    </a:lnTo>
                    <a:lnTo>
                      <a:pt x="3590" y="704"/>
                    </a:lnTo>
                    <a:lnTo>
                      <a:pt x="3648" y="697"/>
                    </a:lnTo>
                    <a:lnTo>
                      <a:pt x="3701" y="694"/>
                    </a:lnTo>
                    <a:lnTo>
                      <a:pt x="3749" y="696"/>
                    </a:lnTo>
                    <a:lnTo>
                      <a:pt x="3793" y="701"/>
                    </a:lnTo>
                    <a:lnTo>
                      <a:pt x="3831" y="709"/>
                    </a:lnTo>
                    <a:lnTo>
                      <a:pt x="3863" y="717"/>
                    </a:lnTo>
                    <a:lnTo>
                      <a:pt x="3890" y="726"/>
                    </a:lnTo>
                    <a:lnTo>
                      <a:pt x="3912" y="735"/>
                    </a:lnTo>
                    <a:lnTo>
                      <a:pt x="3927" y="742"/>
                    </a:lnTo>
                    <a:lnTo>
                      <a:pt x="3937" y="748"/>
                    </a:lnTo>
                    <a:lnTo>
                      <a:pt x="3940" y="749"/>
                    </a:lnTo>
                    <a:lnTo>
                      <a:pt x="3882" y="701"/>
                    </a:lnTo>
                    <a:lnTo>
                      <a:pt x="3830" y="657"/>
                    </a:lnTo>
                    <a:lnTo>
                      <a:pt x="3782" y="619"/>
                    </a:lnTo>
                    <a:lnTo>
                      <a:pt x="3737" y="587"/>
                    </a:lnTo>
                    <a:lnTo>
                      <a:pt x="3695" y="560"/>
                    </a:lnTo>
                    <a:lnTo>
                      <a:pt x="3655" y="540"/>
                    </a:lnTo>
                    <a:lnTo>
                      <a:pt x="3616" y="525"/>
                    </a:lnTo>
                    <a:lnTo>
                      <a:pt x="3576" y="517"/>
                    </a:lnTo>
                    <a:lnTo>
                      <a:pt x="3536" y="515"/>
                    </a:lnTo>
                    <a:lnTo>
                      <a:pt x="3494" y="520"/>
                    </a:lnTo>
                    <a:lnTo>
                      <a:pt x="3449" y="531"/>
                    </a:lnTo>
                    <a:lnTo>
                      <a:pt x="3402" y="550"/>
                    </a:lnTo>
                    <a:lnTo>
                      <a:pt x="3349" y="575"/>
                    </a:lnTo>
                    <a:lnTo>
                      <a:pt x="3292" y="608"/>
                    </a:lnTo>
                    <a:lnTo>
                      <a:pt x="3229" y="648"/>
                    </a:lnTo>
                    <a:lnTo>
                      <a:pt x="3158" y="696"/>
                    </a:lnTo>
                    <a:lnTo>
                      <a:pt x="3080" y="751"/>
                    </a:lnTo>
                    <a:lnTo>
                      <a:pt x="2994" y="814"/>
                    </a:lnTo>
                    <a:lnTo>
                      <a:pt x="2898" y="886"/>
                    </a:lnTo>
                    <a:lnTo>
                      <a:pt x="2791" y="965"/>
                    </a:lnTo>
                    <a:lnTo>
                      <a:pt x="2668" y="1034"/>
                    </a:lnTo>
                    <a:lnTo>
                      <a:pt x="2561" y="1080"/>
                    </a:lnTo>
                    <a:lnTo>
                      <a:pt x="2561" y="1369"/>
                    </a:lnTo>
                    <a:lnTo>
                      <a:pt x="2587" y="1358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7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380" y="725"/>
                    </a:moveTo>
                    <a:lnTo>
                      <a:pt x="5383" y="722"/>
                    </a:lnTo>
                    <a:lnTo>
                      <a:pt x="5378" y="726"/>
                    </a:lnTo>
                    <a:lnTo>
                      <a:pt x="5380" y="725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8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4660" y="753"/>
                    </a:moveTo>
                    <a:lnTo>
                      <a:pt x="4582" y="701"/>
                    </a:lnTo>
                    <a:lnTo>
                      <a:pt x="4496" y="642"/>
                    </a:lnTo>
                    <a:lnTo>
                      <a:pt x="4400" y="576"/>
                    </a:lnTo>
                    <a:lnTo>
                      <a:pt x="4293" y="502"/>
                    </a:lnTo>
                    <a:lnTo>
                      <a:pt x="4186" y="427"/>
                    </a:lnTo>
                    <a:lnTo>
                      <a:pt x="4087" y="359"/>
                    </a:lnTo>
                    <a:lnTo>
                      <a:pt x="3995" y="298"/>
                    </a:lnTo>
                    <a:lnTo>
                      <a:pt x="3909" y="242"/>
                    </a:lnTo>
                    <a:lnTo>
                      <a:pt x="3827" y="192"/>
                    </a:lnTo>
                    <a:lnTo>
                      <a:pt x="3748" y="149"/>
                    </a:lnTo>
                    <a:lnTo>
                      <a:pt x="3672" y="111"/>
                    </a:lnTo>
                    <a:lnTo>
                      <a:pt x="3596" y="79"/>
                    </a:lnTo>
                    <a:lnTo>
                      <a:pt x="3521" y="52"/>
                    </a:lnTo>
                    <a:lnTo>
                      <a:pt x="3443" y="31"/>
                    </a:lnTo>
                    <a:lnTo>
                      <a:pt x="3363" y="16"/>
                    </a:lnTo>
                    <a:lnTo>
                      <a:pt x="3278" y="5"/>
                    </a:lnTo>
                    <a:lnTo>
                      <a:pt x="3189" y="0"/>
                    </a:lnTo>
                    <a:lnTo>
                      <a:pt x="3093" y="0"/>
                    </a:lnTo>
                    <a:lnTo>
                      <a:pt x="2989" y="4"/>
                    </a:lnTo>
                    <a:lnTo>
                      <a:pt x="2876" y="13"/>
                    </a:lnTo>
                    <a:lnTo>
                      <a:pt x="2753" y="28"/>
                    </a:lnTo>
                    <a:lnTo>
                      <a:pt x="2619" y="46"/>
                    </a:lnTo>
                    <a:lnTo>
                      <a:pt x="2561" y="55"/>
                    </a:lnTo>
                    <a:lnTo>
                      <a:pt x="2561" y="596"/>
                    </a:lnTo>
                    <a:lnTo>
                      <a:pt x="2637" y="544"/>
                    </a:lnTo>
                    <a:lnTo>
                      <a:pt x="2753" y="466"/>
                    </a:lnTo>
                    <a:lnTo>
                      <a:pt x="2858" y="397"/>
                    </a:lnTo>
                    <a:lnTo>
                      <a:pt x="2954" y="337"/>
                    </a:lnTo>
                    <a:lnTo>
                      <a:pt x="3042" y="286"/>
                    </a:lnTo>
                    <a:lnTo>
                      <a:pt x="3122" y="244"/>
                    </a:lnTo>
                    <a:lnTo>
                      <a:pt x="3196" y="210"/>
                    </a:lnTo>
                    <a:lnTo>
                      <a:pt x="3267" y="185"/>
                    </a:lnTo>
                    <a:lnTo>
                      <a:pt x="3333" y="169"/>
                    </a:lnTo>
                    <a:lnTo>
                      <a:pt x="3398" y="161"/>
                    </a:lnTo>
                    <a:lnTo>
                      <a:pt x="3463" y="162"/>
                    </a:lnTo>
                    <a:lnTo>
                      <a:pt x="3528" y="171"/>
                    </a:lnTo>
                    <a:lnTo>
                      <a:pt x="3594" y="188"/>
                    </a:lnTo>
                    <a:lnTo>
                      <a:pt x="3664" y="214"/>
                    </a:lnTo>
                    <a:lnTo>
                      <a:pt x="3739" y="247"/>
                    </a:lnTo>
                    <a:lnTo>
                      <a:pt x="3820" y="289"/>
                    </a:lnTo>
                    <a:lnTo>
                      <a:pt x="3907" y="339"/>
                    </a:lnTo>
                    <a:lnTo>
                      <a:pt x="4003" y="396"/>
                    </a:lnTo>
                    <a:lnTo>
                      <a:pt x="4109" y="462"/>
                    </a:lnTo>
                    <a:lnTo>
                      <a:pt x="4225" y="535"/>
                    </a:lnTo>
                    <a:lnTo>
                      <a:pt x="4344" y="606"/>
                    </a:lnTo>
                    <a:lnTo>
                      <a:pt x="4456" y="666"/>
                    </a:lnTo>
                    <a:lnTo>
                      <a:pt x="4561" y="714"/>
                    </a:lnTo>
                    <a:lnTo>
                      <a:pt x="4659" y="753"/>
                    </a:lnTo>
                    <a:lnTo>
                      <a:pt x="4660" y="75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Arial"/>
              </a:rPr>
              <a:t>LEY 20.5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87280" y="907560"/>
            <a:ext cx="658512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AVISO AL EMPL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azo: 30 días antes de comenzar el postnatal par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orma: Mediante carta certificada en los siguientes ca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natal parental por 18 semanas a media jor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paso del postnatal parental al pad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e no informar nada, se entenderá que la trabajadora hará uso de su derecho a utilizar postnatal parental por 12 semanas comp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0" y="6165720"/>
            <a:ext cx="5580000" cy="691920"/>
            <a:chOff x="0" y="6165720"/>
            <a:chExt cx="5580000" cy="691920"/>
          </a:xfrm>
        </p:grpSpPr>
        <p:grpSp>
          <p:nvGrpSpPr>
            <p:cNvPr id="129" name="Group 5"/>
            <p:cNvGrpSpPr/>
            <p:nvPr/>
          </p:nvGrpSpPr>
          <p:grpSpPr>
            <a:xfrm>
              <a:off x="808560" y="6341040"/>
              <a:ext cx="3614400" cy="404280"/>
              <a:chOff x="808560" y="6341040"/>
              <a:chExt cx="3614400" cy="404280"/>
            </a:xfrm>
          </p:grpSpPr>
          <p:sp>
            <p:nvSpPr>
              <p:cNvPr id="130" name="Freeform 6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85" y="493"/>
                    </a:moveTo>
                    <a:lnTo>
                      <a:pt x="3484" y="492"/>
                    </a:lnTo>
                    <a:lnTo>
                      <a:pt x="3487" y="494"/>
                    </a:lnTo>
                    <a:lnTo>
                      <a:pt x="3485" y="493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065" y="962"/>
                    </a:moveTo>
                    <a:lnTo>
                      <a:pt x="2123" y="959"/>
                    </a:lnTo>
                    <a:lnTo>
                      <a:pt x="2178" y="952"/>
                    </a:lnTo>
                    <a:lnTo>
                      <a:pt x="2230" y="942"/>
                    </a:lnTo>
                    <a:lnTo>
                      <a:pt x="2280" y="928"/>
                    </a:lnTo>
                    <a:lnTo>
                      <a:pt x="2329" y="911"/>
                    </a:lnTo>
                    <a:lnTo>
                      <a:pt x="2378" y="891"/>
                    </a:lnTo>
                    <a:lnTo>
                      <a:pt x="2428" y="866"/>
                    </a:lnTo>
                    <a:lnTo>
                      <a:pt x="2479" y="838"/>
                    </a:lnTo>
                    <a:lnTo>
                      <a:pt x="2532" y="806"/>
                    </a:lnTo>
                    <a:lnTo>
                      <a:pt x="2588" y="770"/>
                    </a:lnTo>
                    <a:lnTo>
                      <a:pt x="2647" y="730"/>
                    </a:lnTo>
                    <a:lnTo>
                      <a:pt x="2711" y="685"/>
                    </a:lnTo>
                    <a:lnTo>
                      <a:pt x="2781" y="637"/>
                    </a:lnTo>
                    <a:lnTo>
                      <a:pt x="2850" y="589"/>
                    </a:lnTo>
                    <a:lnTo>
                      <a:pt x="2912" y="546"/>
                    </a:lnTo>
                    <a:lnTo>
                      <a:pt x="2968" y="508"/>
                    </a:lnTo>
                    <a:lnTo>
                      <a:pt x="3018" y="475"/>
                    </a:lnTo>
                    <a:lnTo>
                      <a:pt x="3019" y="475"/>
                    </a:lnTo>
                    <a:lnTo>
                      <a:pt x="3018" y="475"/>
                    </a:lnTo>
                    <a:lnTo>
                      <a:pt x="2954" y="500"/>
                    </a:lnTo>
                    <a:lnTo>
                      <a:pt x="2886" y="531"/>
                    </a:lnTo>
                    <a:lnTo>
                      <a:pt x="2814" y="569"/>
                    </a:lnTo>
                    <a:lnTo>
                      <a:pt x="2737" y="616"/>
                    </a:lnTo>
                    <a:lnTo>
                      <a:pt x="2661" y="663"/>
                    </a:lnTo>
                    <a:lnTo>
                      <a:pt x="2593" y="706"/>
                    </a:lnTo>
                    <a:lnTo>
                      <a:pt x="2531" y="743"/>
                    </a:lnTo>
                    <a:lnTo>
                      <a:pt x="2474" y="775"/>
                    </a:lnTo>
                    <a:lnTo>
                      <a:pt x="2422" y="802"/>
                    </a:lnTo>
                    <a:lnTo>
                      <a:pt x="2374" y="824"/>
                    </a:lnTo>
                    <a:lnTo>
                      <a:pt x="2328" y="841"/>
                    </a:lnTo>
                    <a:lnTo>
                      <a:pt x="2285" y="852"/>
                    </a:lnTo>
                    <a:lnTo>
                      <a:pt x="2243" y="858"/>
                    </a:lnTo>
                    <a:lnTo>
                      <a:pt x="2201" y="858"/>
                    </a:lnTo>
                    <a:lnTo>
                      <a:pt x="2159" y="853"/>
                    </a:lnTo>
                    <a:lnTo>
                      <a:pt x="2116" y="842"/>
                    </a:lnTo>
                    <a:lnTo>
                      <a:pt x="2070" y="826"/>
                    </a:lnTo>
                    <a:lnTo>
                      <a:pt x="2022" y="804"/>
                    </a:lnTo>
                    <a:lnTo>
                      <a:pt x="1970" y="777"/>
                    </a:lnTo>
                    <a:lnTo>
                      <a:pt x="1913" y="744"/>
                    </a:lnTo>
                    <a:lnTo>
                      <a:pt x="1851" y="705"/>
                    </a:lnTo>
                    <a:lnTo>
                      <a:pt x="1783" y="660"/>
                    </a:lnTo>
                    <a:lnTo>
                      <a:pt x="1781" y="659"/>
                    </a:lnTo>
                    <a:lnTo>
                      <a:pt x="1781" y="944"/>
                    </a:lnTo>
                    <a:lnTo>
                      <a:pt x="1783" y="944"/>
                    </a:lnTo>
                    <a:lnTo>
                      <a:pt x="1863" y="954"/>
                    </a:lnTo>
                    <a:lnTo>
                      <a:pt x="1936" y="960"/>
                    </a:lnTo>
                    <a:lnTo>
                      <a:pt x="2003" y="963"/>
                    </a:lnTo>
                    <a:lnTo>
                      <a:pt x="2065" y="962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316" y="628"/>
                    </a:moveTo>
                    <a:lnTo>
                      <a:pt x="2342" y="622"/>
                    </a:lnTo>
                    <a:lnTo>
                      <a:pt x="2367" y="613"/>
                    </a:lnTo>
                    <a:lnTo>
                      <a:pt x="2393" y="599"/>
                    </a:lnTo>
                    <a:lnTo>
                      <a:pt x="2421" y="582"/>
                    </a:lnTo>
                    <a:lnTo>
                      <a:pt x="2450" y="561"/>
                    </a:lnTo>
                    <a:lnTo>
                      <a:pt x="2481" y="537"/>
                    </a:lnTo>
                    <a:lnTo>
                      <a:pt x="2515" y="508"/>
                    </a:lnTo>
                    <a:lnTo>
                      <a:pt x="2552" y="477"/>
                    </a:lnTo>
                    <a:lnTo>
                      <a:pt x="2550" y="478"/>
                    </a:lnTo>
                    <a:lnTo>
                      <a:pt x="2544" y="481"/>
                    </a:lnTo>
                    <a:lnTo>
                      <a:pt x="2534" y="486"/>
                    </a:lnTo>
                    <a:lnTo>
                      <a:pt x="2520" y="492"/>
                    </a:lnTo>
                    <a:lnTo>
                      <a:pt x="2502" y="498"/>
                    </a:lnTo>
                    <a:lnTo>
                      <a:pt x="2481" y="503"/>
                    </a:lnTo>
                    <a:lnTo>
                      <a:pt x="2456" y="508"/>
                    </a:lnTo>
                    <a:lnTo>
                      <a:pt x="2428" y="511"/>
                    </a:lnTo>
                    <a:lnTo>
                      <a:pt x="2397" y="513"/>
                    </a:lnTo>
                    <a:lnTo>
                      <a:pt x="2363" y="511"/>
                    </a:lnTo>
                    <a:lnTo>
                      <a:pt x="2325" y="506"/>
                    </a:lnTo>
                    <a:lnTo>
                      <a:pt x="2285" y="498"/>
                    </a:lnTo>
                    <a:lnTo>
                      <a:pt x="2242" y="485"/>
                    </a:lnTo>
                    <a:lnTo>
                      <a:pt x="2196" y="467"/>
                    </a:lnTo>
                    <a:lnTo>
                      <a:pt x="2148" y="444"/>
                    </a:lnTo>
                    <a:lnTo>
                      <a:pt x="2097" y="414"/>
                    </a:lnTo>
                    <a:lnTo>
                      <a:pt x="2044" y="378"/>
                    </a:lnTo>
                    <a:lnTo>
                      <a:pt x="1989" y="334"/>
                    </a:lnTo>
                    <a:lnTo>
                      <a:pt x="1932" y="282"/>
                    </a:lnTo>
                    <a:lnTo>
                      <a:pt x="1872" y="222"/>
                    </a:lnTo>
                    <a:lnTo>
                      <a:pt x="1839" y="189"/>
                    </a:lnTo>
                    <a:lnTo>
                      <a:pt x="1802" y="158"/>
                    </a:lnTo>
                    <a:lnTo>
                      <a:pt x="1781" y="143"/>
                    </a:lnTo>
                    <a:lnTo>
                      <a:pt x="1781" y="322"/>
                    </a:lnTo>
                    <a:lnTo>
                      <a:pt x="1808" y="337"/>
                    </a:lnTo>
                    <a:lnTo>
                      <a:pt x="1877" y="389"/>
                    </a:lnTo>
                    <a:lnTo>
                      <a:pt x="1939" y="435"/>
                    </a:lnTo>
                    <a:lnTo>
                      <a:pt x="1995" y="476"/>
                    </a:lnTo>
                    <a:lnTo>
                      <a:pt x="2046" y="512"/>
                    </a:lnTo>
                    <a:lnTo>
                      <a:pt x="2091" y="543"/>
                    </a:lnTo>
                    <a:lnTo>
                      <a:pt x="2132" y="569"/>
                    </a:lnTo>
                    <a:lnTo>
                      <a:pt x="2169" y="590"/>
                    </a:lnTo>
                    <a:lnTo>
                      <a:pt x="2203" y="606"/>
                    </a:lnTo>
                    <a:lnTo>
                      <a:pt x="2234" y="618"/>
                    </a:lnTo>
                    <a:lnTo>
                      <a:pt x="2263" y="626"/>
                    </a:lnTo>
                    <a:lnTo>
                      <a:pt x="2290" y="629"/>
                    </a:lnTo>
                    <a:lnTo>
                      <a:pt x="2316" y="628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9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55" y="467"/>
                    </a:moveTo>
                    <a:lnTo>
                      <a:pt x="3426" y="442"/>
                    </a:lnTo>
                    <a:lnTo>
                      <a:pt x="3399" y="421"/>
                    </a:lnTo>
                    <a:lnTo>
                      <a:pt x="3374" y="403"/>
                    </a:lnTo>
                    <a:lnTo>
                      <a:pt x="3350" y="388"/>
                    </a:lnTo>
                    <a:lnTo>
                      <a:pt x="3327" y="377"/>
                    </a:lnTo>
                    <a:lnTo>
                      <a:pt x="3304" y="369"/>
                    </a:lnTo>
                    <a:lnTo>
                      <a:pt x="3281" y="365"/>
                    </a:lnTo>
                    <a:lnTo>
                      <a:pt x="3256" y="364"/>
                    </a:lnTo>
                    <a:lnTo>
                      <a:pt x="3231" y="368"/>
                    </a:lnTo>
                    <a:lnTo>
                      <a:pt x="3203" y="375"/>
                    </a:lnTo>
                    <a:lnTo>
                      <a:pt x="3173" y="386"/>
                    </a:lnTo>
                    <a:lnTo>
                      <a:pt x="3140" y="402"/>
                    </a:lnTo>
                    <a:lnTo>
                      <a:pt x="3104" y="422"/>
                    </a:lnTo>
                    <a:lnTo>
                      <a:pt x="3063" y="446"/>
                    </a:lnTo>
                    <a:lnTo>
                      <a:pt x="3019" y="475"/>
                    </a:lnTo>
                    <a:lnTo>
                      <a:pt x="3077" y="456"/>
                    </a:lnTo>
                    <a:lnTo>
                      <a:pt x="3132" y="442"/>
                    </a:lnTo>
                    <a:lnTo>
                      <a:pt x="3183" y="433"/>
                    </a:lnTo>
                    <a:lnTo>
                      <a:pt x="3229" y="429"/>
                    </a:lnTo>
                    <a:lnTo>
                      <a:pt x="3271" y="428"/>
                    </a:lnTo>
                    <a:lnTo>
                      <a:pt x="3310" y="430"/>
                    </a:lnTo>
                    <a:lnTo>
                      <a:pt x="3344" y="434"/>
                    </a:lnTo>
                    <a:lnTo>
                      <a:pt x="3375" y="441"/>
                    </a:lnTo>
                    <a:lnTo>
                      <a:pt x="3402" y="449"/>
                    </a:lnTo>
                    <a:lnTo>
                      <a:pt x="3425" y="457"/>
                    </a:lnTo>
                    <a:lnTo>
                      <a:pt x="3444" y="466"/>
                    </a:lnTo>
                    <a:lnTo>
                      <a:pt x="3459" y="475"/>
                    </a:lnTo>
                    <a:lnTo>
                      <a:pt x="3471" y="483"/>
                    </a:lnTo>
                    <a:lnTo>
                      <a:pt x="3480" y="489"/>
                    </a:lnTo>
                    <a:lnTo>
                      <a:pt x="3484" y="492"/>
                    </a:lnTo>
                    <a:lnTo>
                      <a:pt x="3455" y="467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10"/>
            <p:cNvGrpSpPr/>
            <p:nvPr/>
          </p:nvGrpSpPr>
          <p:grpSpPr>
            <a:xfrm>
              <a:off x="980640" y="6165720"/>
              <a:ext cx="3697200" cy="375120"/>
              <a:chOff x="980640" y="6165720"/>
              <a:chExt cx="3697200" cy="375120"/>
            </a:xfrm>
          </p:grpSpPr>
          <p:sp>
            <p:nvSpPr>
              <p:cNvPr id="135" name="Freeform 11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2942" y="773"/>
                    </a:moveTo>
                    <a:lnTo>
                      <a:pt x="2880" y="731"/>
                    </a:lnTo>
                    <a:lnTo>
                      <a:pt x="2812" y="683"/>
                    </a:lnTo>
                    <a:lnTo>
                      <a:pt x="2735" y="628"/>
                    </a:lnTo>
                    <a:lnTo>
                      <a:pt x="2651" y="566"/>
                    </a:lnTo>
                    <a:lnTo>
                      <a:pt x="2557" y="498"/>
                    </a:lnTo>
                    <a:lnTo>
                      <a:pt x="2449" y="423"/>
                    </a:lnTo>
                    <a:lnTo>
                      <a:pt x="2349" y="355"/>
                    </a:lnTo>
                    <a:lnTo>
                      <a:pt x="2254" y="293"/>
                    </a:lnTo>
                    <a:lnTo>
                      <a:pt x="2164" y="238"/>
                    </a:lnTo>
                    <a:lnTo>
                      <a:pt x="2078" y="189"/>
                    </a:lnTo>
                    <a:lnTo>
                      <a:pt x="1995" y="146"/>
                    </a:lnTo>
                    <a:lnTo>
                      <a:pt x="1913" y="108"/>
                    </a:lnTo>
                    <a:lnTo>
                      <a:pt x="1832" y="76"/>
                    </a:lnTo>
                    <a:lnTo>
                      <a:pt x="1750" y="50"/>
                    </a:lnTo>
                    <a:lnTo>
                      <a:pt x="1667" y="30"/>
                    </a:lnTo>
                    <a:lnTo>
                      <a:pt x="1615" y="20"/>
                    </a:lnTo>
                    <a:lnTo>
                      <a:pt x="1615" y="163"/>
                    </a:lnTo>
                    <a:lnTo>
                      <a:pt x="1646" y="163"/>
                    </a:lnTo>
                    <a:lnTo>
                      <a:pt x="1711" y="172"/>
                    </a:lnTo>
                    <a:lnTo>
                      <a:pt x="1778" y="189"/>
                    </a:lnTo>
                    <a:lnTo>
                      <a:pt x="1848" y="215"/>
                    </a:lnTo>
                    <a:lnTo>
                      <a:pt x="1923" y="249"/>
                    </a:lnTo>
                    <a:lnTo>
                      <a:pt x="2003" y="290"/>
                    </a:lnTo>
                    <a:lnTo>
                      <a:pt x="2091" y="340"/>
                    </a:lnTo>
                    <a:lnTo>
                      <a:pt x="2187" y="398"/>
                    </a:lnTo>
                    <a:lnTo>
                      <a:pt x="2292" y="463"/>
                    </a:lnTo>
                    <a:lnTo>
                      <a:pt x="2409" y="537"/>
                    </a:lnTo>
                    <a:lnTo>
                      <a:pt x="2528" y="608"/>
                    </a:lnTo>
                    <a:lnTo>
                      <a:pt x="2640" y="667"/>
                    </a:lnTo>
                    <a:lnTo>
                      <a:pt x="2745" y="715"/>
                    </a:lnTo>
                    <a:lnTo>
                      <a:pt x="2843" y="754"/>
                    </a:lnTo>
                    <a:lnTo>
                      <a:pt x="2934" y="783"/>
                    </a:lnTo>
                    <a:lnTo>
                      <a:pt x="2974" y="793"/>
                    </a:lnTo>
                    <a:lnTo>
                      <a:pt x="2942" y="773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2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543" y="742"/>
                    </a:moveTo>
                    <a:lnTo>
                      <a:pt x="3556" y="732"/>
                    </a:lnTo>
                    <a:lnTo>
                      <a:pt x="3564" y="726"/>
                    </a:lnTo>
                    <a:lnTo>
                      <a:pt x="3566" y="724"/>
                    </a:lnTo>
                    <a:lnTo>
                      <a:pt x="3530" y="750"/>
                    </a:lnTo>
                    <a:lnTo>
                      <a:pt x="3543" y="742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3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282" y="889"/>
                    </a:moveTo>
                    <a:lnTo>
                      <a:pt x="3317" y="880"/>
                    </a:lnTo>
                    <a:lnTo>
                      <a:pt x="3352" y="865"/>
                    </a:lnTo>
                    <a:lnTo>
                      <a:pt x="3389" y="845"/>
                    </a:lnTo>
                    <a:lnTo>
                      <a:pt x="3428" y="821"/>
                    </a:lnTo>
                    <a:lnTo>
                      <a:pt x="3470" y="793"/>
                    </a:lnTo>
                    <a:lnTo>
                      <a:pt x="3516" y="760"/>
                    </a:lnTo>
                    <a:lnTo>
                      <a:pt x="3530" y="750"/>
                    </a:lnTo>
                    <a:lnTo>
                      <a:pt x="3524" y="754"/>
                    </a:lnTo>
                    <a:lnTo>
                      <a:pt x="3500" y="767"/>
                    </a:lnTo>
                    <a:lnTo>
                      <a:pt x="3471" y="781"/>
                    </a:lnTo>
                    <a:lnTo>
                      <a:pt x="3435" y="794"/>
                    </a:lnTo>
                    <a:lnTo>
                      <a:pt x="3394" y="806"/>
                    </a:lnTo>
                    <a:lnTo>
                      <a:pt x="3347" y="816"/>
                    </a:lnTo>
                    <a:lnTo>
                      <a:pt x="3294" y="823"/>
                    </a:lnTo>
                    <a:lnTo>
                      <a:pt x="3234" y="827"/>
                    </a:lnTo>
                    <a:lnTo>
                      <a:pt x="3169" y="825"/>
                    </a:lnTo>
                    <a:lnTo>
                      <a:pt x="3097" y="818"/>
                    </a:lnTo>
                    <a:lnTo>
                      <a:pt x="3019" y="804"/>
                    </a:lnTo>
                    <a:lnTo>
                      <a:pt x="2974" y="793"/>
                    </a:lnTo>
                    <a:lnTo>
                      <a:pt x="2998" y="808"/>
                    </a:lnTo>
                    <a:lnTo>
                      <a:pt x="3048" y="837"/>
                    </a:lnTo>
                    <a:lnTo>
                      <a:pt x="3094" y="860"/>
                    </a:lnTo>
                    <a:lnTo>
                      <a:pt x="3136" y="877"/>
                    </a:lnTo>
                    <a:lnTo>
                      <a:pt x="3175" y="888"/>
                    </a:lnTo>
                    <a:lnTo>
                      <a:pt x="3212" y="894"/>
                    </a:lnTo>
                    <a:lnTo>
                      <a:pt x="3248" y="894"/>
                    </a:lnTo>
                    <a:lnTo>
                      <a:pt x="3282" y="889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14"/>
            <p:cNvGrpSpPr/>
            <p:nvPr/>
          </p:nvGrpSpPr>
          <p:grpSpPr>
            <a:xfrm>
              <a:off x="0" y="6233400"/>
              <a:ext cx="5580000" cy="624240"/>
              <a:chOff x="0" y="6233400"/>
              <a:chExt cx="5580000" cy="624240"/>
            </a:xfrm>
          </p:grpSpPr>
          <p:sp>
            <p:nvSpPr>
              <p:cNvPr id="139" name="Freeform 15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065" y="923"/>
                    </a:moveTo>
                    <a:lnTo>
                      <a:pt x="5101" y="916"/>
                    </a:lnTo>
                    <a:lnTo>
                      <a:pt x="5136" y="904"/>
                    </a:lnTo>
                    <a:lnTo>
                      <a:pt x="5172" y="887"/>
                    </a:lnTo>
                    <a:lnTo>
                      <a:pt x="5209" y="864"/>
                    </a:lnTo>
                    <a:lnTo>
                      <a:pt x="5247" y="836"/>
                    </a:lnTo>
                    <a:lnTo>
                      <a:pt x="5289" y="803"/>
                    </a:lnTo>
                    <a:lnTo>
                      <a:pt x="5333" y="765"/>
                    </a:lnTo>
                    <a:lnTo>
                      <a:pt x="5378" y="726"/>
                    </a:lnTo>
                    <a:lnTo>
                      <a:pt x="5372" y="731"/>
                    </a:lnTo>
                    <a:lnTo>
                      <a:pt x="5359" y="741"/>
                    </a:lnTo>
                    <a:lnTo>
                      <a:pt x="5341" y="752"/>
                    </a:lnTo>
                    <a:lnTo>
                      <a:pt x="5317" y="766"/>
                    </a:lnTo>
                    <a:lnTo>
                      <a:pt x="5287" y="779"/>
                    </a:lnTo>
                    <a:lnTo>
                      <a:pt x="5252" y="793"/>
                    </a:lnTo>
                    <a:lnTo>
                      <a:pt x="5210" y="805"/>
                    </a:lnTo>
                    <a:lnTo>
                      <a:pt x="5163" y="815"/>
                    </a:lnTo>
                    <a:lnTo>
                      <a:pt x="5110" y="822"/>
                    </a:lnTo>
                    <a:lnTo>
                      <a:pt x="5051" y="825"/>
                    </a:lnTo>
                    <a:lnTo>
                      <a:pt x="4985" y="824"/>
                    </a:lnTo>
                    <a:lnTo>
                      <a:pt x="4913" y="817"/>
                    </a:lnTo>
                    <a:lnTo>
                      <a:pt x="4835" y="803"/>
                    </a:lnTo>
                    <a:lnTo>
                      <a:pt x="4750" y="782"/>
                    </a:lnTo>
                    <a:lnTo>
                      <a:pt x="4660" y="753"/>
                    </a:lnTo>
                    <a:lnTo>
                      <a:pt x="4729" y="797"/>
                    </a:lnTo>
                    <a:lnTo>
                      <a:pt x="4792" y="834"/>
                    </a:lnTo>
                    <a:lnTo>
                      <a:pt x="4848" y="865"/>
                    </a:lnTo>
                    <a:lnTo>
                      <a:pt x="4899" y="889"/>
                    </a:lnTo>
                    <a:lnTo>
                      <a:pt x="4946" y="907"/>
                    </a:lnTo>
                    <a:lnTo>
                      <a:pt x="4988" y="918"/>
                    </a:lnTo>
                    <a:lnTo>
                      <a:pt x="5028" y="923"/>
                    </a:lnTo>
                    <a:lnTo>
                      <a:pt x="5065" y="92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6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2587" y="1358"/>
                    </a:moveTo>
                    <a:lnTo>
                      <a:pt x="2657" y="1323"/>
                    </a:lnTo>
                    <a:lnTo>
                      <a:pt x="2722" y="1284"/>
                    </a:lnTo>
                    <a:lnTo>
                      <a:pt x="2783" y="1241"/>
                    </a:lnTo>
                    <a:lnTo>
                      <a:pt x="2839" y="1194"/>
                    </a:lnTo>
                    <a:lnTo>
                      <a:pt x="2890" y="1143"/>
                    </a:lnTo>
                    <a:lnTo>
                      <a:pt x="2982" y="1050"/>
                    </a:lnTo>
                    <a:lnTo>
                      <a:pt x="3071" y="970"/>
                    </a:lnTo>
                    <a:lnTo>
                      <a:pt x="3156" y="903"/>
                    </a:lnTo>
                    <a:lnTo>
                      <a:pt x="3238" y="846"/>
                    </a:lnTo>
                    <a:lnTo>
                      <a:pt x="3316" y="801"/>
                    </a:lnTo>
                    <a:lnTo>
                      <a:pt x="3391" y="764"/>
                    </a:lnTo>
                    <a:lnTo>
                      <a:pt x="3462" y="737"/>
                    </a:lnTo>
                    <a:lnTo>
                      <a:pt x="3528" y="717"/>
                    </a:lnTo>
                    <a:lnTo>
                      <a:pt x="3590" y="704"/>
                    </a:lnTo>
                    <a:lnTo>
                      <a:pt x="3648" y="697"/>
                    </a:lnTo>
                    <a:lnTo>
                      <a:pt x="3701" y="694"/>
                    </a:lnTo>
                    <a:lnTo>
                      <a:pt x="3749" y="696"/>
                    </a:lnTo>
                    <a:lnTo>
                      <a:pt x="3793" y="701"/>
                    </a:lnTo>
                    <a:lnTo>
                      <a:pt x="3831" y="709"/>
                    </a:lnTo>
                    <a:lnTo>
                      <a:pt x="3863" y="717"/>
                    </a:lnTo>
                    <a:lnTo>
                      <a:pt x="3890" y="726"/>
                    </a:lnTo>
                    <a:lnTo>
                      <a:pt x="3912" y="735"/>
                    </a:lnTo>
                    <a:lnTo>
                      <a:pt x="3927" y="742"/>
                    </a:lnTo>
                    <a:lnTo>
                      <a:pt x="3937" y="748"/>
                    </a:lnTo>
                    <a:lnTo>
                      <a:pt x="3940" y="749"/>
                    </a:lnTo>
                    <a:lnTo>
                      <a:pt x="3882" y="701"/>
                    </a:lnTo>
                    <a:lnTo>
                      <a:pt x="3830" y="657"/>
                    </a:lnTo>
                    <a:lnTo>
                      <a:pt x="3782" y="619"/>
                    </a:lnTo>
                    <a:lnTo>
                      <a:pt x="3737" y="587"/>
                    </a:lnTo>
                    <a:lnTo>
                      <a:pt x="3695" y="560"/>
                    </a:lnTo>
                    <a:lnTo>
                      <a:pt x="3655" y="540"/>
                    </a:lnTo>
                    <a:lnTo>
                      <a:pt x="3616" y="525"/>
                    </a:lnTo>
                    <a:lnTo>
                      <a:pt x="3576" y="517"/>
                    </a:lnTo>
                    <a:lnTo>
                      <a:pt x="3536" y="515"/>
                    </a:lnTo>
                    <a:lnTo>
                      <a:pt x="3494" y="520"/>
                    </a:lnTo>
                    <a:lnTo>
                      <a:pt x="3449" y="531"/>
                    </a:lnTo>
                    <a:lnTo>
                      <a:pt x="3402" y="550"/>
                    </a:lnTo>
                    <a:lnTo>
                      <a:pt x="3349" y="575"/>
                    </a:lnTo>
                    <a:lnTo>
                      <a:pt x="3292" y="608"/>
                    </a:lnTo>
                    <a:lnTo>
                      <a:pt x="3229" y="648"/>
                    </a:lnTo>
                    <a:lnTo>
                      <a:pt x="3158" y="696"/>
                    </a:lnTo>
                    <a:lnTo>
                      <a:pt x="3080" y="751"/>
                    </a:lnTo>
                    <a:lnTo>
                      <a:pt x="2994" y="814"/>
                    </a:lnTo>
                    <a:lnTo>
                      <a:pt x="2898" y="886"/>
                    </a:lnTo>
                    <a:lnTo>
                      <a:pt x="2791" y="965"/>
                    </a:lnTo>
                    <a:lnTo>
                      <a:pt x="2668" y="1034"/>
                    </a:lnTo>
                    <a:lnTo>
                      <a:pt x="2561" y="1080"/>
                    </a:lnTo>
                    <a:lnTo>
                      <a:pt x="2561" y="1369"/>
                    </a:lnTo>
                    <a:lnTo>
                      <a:pt x="2587" y="1358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7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380" y="725"/>
                    </a:moveTo>
                    <a:lnTo>
                      <a:pt x="5383" y="722"/>
                    </a:lnTo>
                    <a:lnTo>
                      <a:pt x="5378" y="726"/>
                    </a:lnTo>
                    <a:lnTo>
                      <a:pt x="5380" y="725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8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4660" y="753"/>
                    </a:moveTo>
                    <a:lnTo>
                      <a:pt x="4582" y="701"/>
                    </a:lnTo>
                    <a:lnTo>
                      <a:pt x="4496" y="642"/>
                    </a:lnTo>
                    <a:lnTo>
                      <a:pt x="4400" y="576"/>
                    </a:lnTo>
                    <a:lnTo>
                      <a:pt x="4293" y="502"/>
                    </a:lnTo>
                    <a:lnTo>
                      <a:pt x="4186" y="427"/>
                    </a:lnTo>
                    <a:lnTo>
                      <a:pt x="4087" y="359"/>
                    </a:lnTo>
                    <a:lnTo>
                      <a:pt x="3995" y="298"/>
                    </a:lnTo>
                    <a:lnTo>
                      <a:pt x="3909" y="242"/>
                    </a:lnTo>
                    <a:lnTo>
                      <a:pt x="3827" y="192"/>
                    </a:lnTo>
                    <a:lnTo>
                      <a:pt x="3748" y="149"/>
                    </a:lnTo>
                    <a:lnTo>
                      <a:pt x="3672" y="111"/>
                    </a:lnTo>
                    <a:lnTo>
                      <a:pt x="3596" y="79"/>
                    </a:lnTo>
                    <a:lnTo>
                      <a:pt x="3521" y="52"/>
                    </a:lnTo>
                    <a:lnTo>
                      <a:pt x="3443" y="31"/>
                    </a:lnTo>
                    <a:lnTo>
                      <a:pt x="3363" y="16"/>
                    </a:lnTo>
                    <a:lnTo>
                      <a:pt x="3278" y="5"/>
                    </a:lnTo>
                    <a:lnTo>
                      <a:pt x="3189" y="0"/>
                    </a:lnTo>
                    <a:lnTo>
                      <a:pt x="3093" y="0"/>
                    </a:lnTo>
                    <a:lnTo>
                      <a:pt x="2989" y="4"/>
                    </a:lnTo>
                    <a:lnTo>
                      <a:pt x="2876" y="13"/>
                    </a:lnTo>
                    <a:lnTo>
                      <a:pt x="2753" y="28"/>
                    </a:lnTo>
                    <a:lnTo>
                      <a:pt x="2619" y="46"/>
                    </a:lnTo>
                    <a:lnTo>
                      <a:pt x="2561" y="55"/>
                    </a:lnTo>
                    <a:lnTo>
                      <a:pt x="2561" y="596"/>
                    </a:lnTo>
                    <a:lnTo>
                      <a:pt x="2637" y="544"/>
                    </a:lnTo>
                    <a:lnTo>
                      <a:pt x="2753" y="466"/>
                    </a:lnTo>
                    <a:lnTo>
                      <a:pt x="2858" y="397"/>
                    </a:lnTo>
                    <a:lnTo>
                      <a:pt x="2954" y="337"/>
                    </a:lnTo>
                    <a:lnTo>
                      <a:pt x="3042" y="286"/>
                    </a:lnTo>
                    <a:lnTo>
                      <a:pt x="3122" y="244"/>
                    </a:lnTo>
                    <a:lnTo>
                      <a:pt x="3196" y="210"/>
                    </a:lnTo>
                    <a:lnTo>
                      <a:pt x="3267" y="185"/>
                    </a:lnTo>
                    <a:lnTo>
                      <a:pt x="3333" y="169"/>
                    </a:lnTo>
                    <a:lnTo>
                      <a:pt x="3398" y="161"/>
                    </a:lnTo>
                    <a:lnTo>
                      <a:pt x="3463" y="162"/>
                    </a:lnTo>
                    <a:lnTo>
                      <a:pt x="3528" y="171"/>
                    </a:lnTo>
                    <a:lnTo>
                      <a:pt x="3594" y="188"/>
                    </a:lnTo>
                    <a:lnTo>
                      <a:pt x="3664" y="214"/>
                    </a:lnTo>
                    <a:lnTo>
                      <a:pt x="3739" y="247"/>
                    </a:lnTo>
                    <a:lnTo>
                      <a:pt x="3820" y="289"/>
                    </a:lnTo>
                    <a:lnTo>
                      <a:pt x="3907" y="339"/>
                    </a:lnTo>
                    <a:lnTo>
                      <a:pt x="4003" y="396"/>
                    </a:lnTo>
                    <a:lnTo>
                      <a:pt x="4109" y="462"/>
                    </a:lnTo>
                    <a:lnTo>
                      <a:pt x="4225" y="535"/>
                    </a:lnTo>
                    <a:lnTo>
                      <a:pt x="4344" y="606"/>
                    </a:lnTo>
                    <a:lnTo>
                      <a:pt x="4456" y="666"/>
                    </a:lnTo>
                    <a:lnTo>
                      <a:pt x="4561" y="714"/>
                    </a:lnTo>
                    <a:lnTo>
                      <a:pt x="4659" y="753"/>
                    </a:lnTo>
                    <a:lnTo>
                      <a:pt x="4660" y="75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EY 20.5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187280" y="980640"/>
            <a:ext cx="6616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CTITUD DEL EMPLEAD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ente a modalidad 18 semanas media jorna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Obligación de reincorporar a la trabajad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anción que arriesg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impide el uso del permiso postnatal parental o realice cualquier práctica arbitraria o abusiva para dificultar o hacer imposible el uso del permiso: Denuncia a la Inspección del Trabajo y Multa de 14 a 150 U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0" y="6381720"/>
            <a:ext cx="5580000" cy="475920"/>
            <a:chOff x="0" y="6381720"/>
            <a:chExt cx="5580000" cy="475920"/>
          </a:xfrm>
        </p:grpSpPr>
        <p:grpSp>
          <p:nvGrpSpPr>
            <p:cNvPr id="146" name="Group 5"/>
            <p:cNvGrpSpPr/>
            <p:nvPr/>
          </p:nvGrpSpPr>
          <p:grpSpPr>
            <a:xfrm>
              <a:off x="808560" y="6502320"/>
              <a:ext cx="3614400" cy="278280"/>
              <a:chOff x="808560" y="6502320"/>
              <a:chExt cx="3614400" cy="278280"/>
            </a:xfrm>
          </p:grpSpPr>
          <p:sp>
            <p:nvSpPr>
              <p:cNvPr id="147" name="Freeform 6"/>
              <p:cNvSpPr/>
              <p:nvPr/>
            </p:nvSpPr>
            <p:spPr>
              <a:xfrm>
                <a:off x="808560" y="6502320"/>
                <a:ext cx="3614400" cy="278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85" y="493"/>
                    </a:moveTo>
                    <a:lnTo>
                      <a:pt x="3484" y="492"/>
                    </a:lnTo>
                    <a:lnTo>
                      <a:pt x="3487" y="494"/>
                    </a:lnTo>
                    <a:lnTo>
                      <a:pt x="3485" y="493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7"/>
              <p:cNvSpPr/>
              <p:nvPr/>
            </p:nvSpPr>
            <p:spPr>
              <a:xfrm>
                <a:off x="808560" y="6502320"/>
                <a:ext cx="3614400" cy="278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065" y="962"/>
                    </a:moveTo>
                    <a:lnTo>
                      <a:pt x="2123" y="959"/>
                    </a:lnTo>
                    <a:lnTo>
                      <a:pt x="2178" y="952"/>
                    </a:lnTo>
                    <a:lnTo>
                      <a:pt x="2230" y="942"/>
                    </a:lnTo>
                    <a:lnTo>
                      <a:pt x="2280" y="928"/>
                    </a:lnTo>
                    <a:lnTo>
                      <a:pt x="2329" y="911"/>
                    </a:lnTo>
                    <a:lnTo>
                      <a:pt x="2378" y="891"/>
                    </a:lnTo>
                    <a:lnTo>
                      <a:pt x="2428" y="866"/>
                    </a:lnTo>
                    <a:lnTo>
                      <a:pt x="2479" y="838"/>
                    </a:lnTo>
                    <a:lnTo>
                      <a:pt x="2532" y="806"/>
                    </a:lnTo>
                    <a:lnTo>
                      <a:pt x="2588" y="770"/>
                    </a:lnTo>
                    <a:lnTo>
                      <a:pt x="2647" y="730"/>
                    </a:lnTo>
                    <a:lnTo>
                      <a:pt x="2711" y="685"/>
                    </a:lnTo>
                    <a:lnTo>
                      <a:pt x="2781" y="637"/>
                    </a:lnTo>
                    <a:lnTo>
                      <a:pt x="2850" y="589"/>
                    </a:lnTo>
                    <a:lnTo>
                      <a:pt x="2912" y="546"/>
                    </a:lnTo>
                    <a:lnTo>
                      <a:pt x="2968" y="508"/>
                    </a:lnTo>
                    <a:lnTo>
                      <a:pt x="3018" y="475"/>
                    </a:lnTo>
                    <a:lnTo>
                      <a:pt x="3019" y="475"/>
                    </a:lnTo>
                    <a:lnTo>
                      <a:pt x="3018" y="475"/>
                    </a:lnTo>
                    <a:lnTo>
                      <a:pt x="2954" y="500"/>
                    </a:lnTo>
                    <a:lnTo>
                      <a:pt x="2886" y="531"/>
                    </a:lnTo>
                    <a:lnTo>
                      <a:pt x="2814" y="569"/>
                    </a:lnTo>
                    <a:lnTo>
                      <a:pt x="2737" y="616"/>
                    </a:lnTo>
                    <a:lnTo>
                      <a:pt x="2661" y="663"/>
                    </a:lnTo>
                    <a:lnTo>
                      <a:pt x="2593" y="706"/>
                    </a:lnTo>
                    <a:lnTo>
                      <a:pt x="2531" y="743"/>
                    </a:lnTo>
                    <a:lnTo>
                      <a:pt x="2474" y="775"/>
                    </a:lnTo>
                    <a:lnTo>
                      <a:pt x="2422" y="802"/>
                    </a:lnTo>
                    <a:lnTo>
                      <a:pt x="2374" y="824"/>
                    </a:lnTo>
                    <a:lnTo>
                      <a:pt x="2328" y="841"/>
                    </a:lnTo>
                    <a:lnTo>
                      <a:pt x="2285" y="852"/>
                    </a:lnTo>
                    <a:lnTo>
                      <a:pt x="2243" y="858"/>
                    </a:lnTo>
                    <a:lnTo>
                      <a:pt x="2201" y="858"/>
                    </a:lnTo>
                    <a:lnTo>
                      <a:pt x="2159" y="853"/>
                    </a:lnTo>
                    <a:lnTo>
                      <a:pt x="2116" y="842"/>
                    </a:lnTo>
                    <a:lnTo>
                      <a:pt x="2070" y="826"/>
                    </a:lnTo>
                    <a:lnTo>
                      <a:pt x="2022" y="804"/>
                    </a:lnTo>
                    <a:lnTo>
                      <a:pt x="1970" y="777"/>
                    </a:lnTo>
                    <a:lnTo>
                      <a:pt x="1913" y="744"/>
                    </a:lnTo>
                    <a:lnTo>
                      <a:pt x="1851" y="705"/>
                    </a:lnTo>
                    <a:lnTo>
                      <a:pt x="1783" y="660"/>
                    </a:lnTo>
                    <a:lnTo>
                      <a:pt x="1781" y="659"/>
                    </a:lnTo>
                    <a:lnTo>
                      <a:pt x="1781" y="944"/>
                    </a:lnTo>
                    <a:lnTo>
                      <a:pt x="1783" y="944"/>
                    </a:lnTo>
                    <a:lnTo>
                      <a:pt x="1863" y="954"/>
                    </a:lnTo>
                    <a:lnTo>
                      <a:pt x="1936" y="960"/>
                    </a:lnTo>
                    <a:lnTo>
                      <a:pt x="2003" y="963"/>
                    </a:lnTo>
                    <a:lnTo>
                      <a:pt x="2065" y="962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8"/>
              <p:cNvSpPr/>
              <p:nvPr/>
            </p:nvSpPr>
            <p:spPr>
              <a:xfrm>
                <a:off x="808560" y="6502320"/>
                <a:ext cx="3614400" cy="278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316" y="628"/>
                    </a:moveTo>
                    <a:lnTo>
                      <a:pt x="2342" y="622"/>
                    </a:lnTo>
                    <a:lnTo>
                      <a:pt x="2367" y="613"/>
                    </a:lnTo>
                    <a:lnTo>
                      <a:pt x="2393" y="599"/>
                    </a:lnTo>
                    <a:lnTo>
                      <a:pt x="2421" y="582"/>
                    </a:lnTo>
                    <a:lnTo>
                      <a:pt x="2450" y="561"/>
                    </a:lnTo>
                    <a:lnTo>
                      <a:pt x="2481" y="537"/>
                    </a:lnTo>
                    <a:lnTo>
                      <a:pt x="2515" y="508"/>
                    </a:lnTo>
                    <a:lnTo>
                      <a:pt x="2552" y="477"/>
                    </a:lnTo>
                    <a:lnTo>
                      <a:pt x="2550" y="478"/>
                    </a:lnTo>
                    <a:lnTo>
                      <a:pt x="2544" y="481"/>
                    </a:lnTo>
                    <a:lnTo>
                      <a:pt x="2534" y="486"/>
                    </a:lnTo>
                    <a:lnTo>
                      <a:pt x="2520" y="492"/>
                    </a:lnTo>
                    <a:lnTo>
                      <a:pt x="2502" y="498"/>
                    </a:lnTo>
                    <a:lnTo>
                      <a:pt x="2481" y="503"/>
                    </a:lnTo>
                    <a:lnTo>
                      <a:pt x="2456" y="508"/>
                    </a:lnTo>
                    <a:lnTo>
                      <a:pt x="2428" y="511"/>
                    </a:lnTo>
                    <a:lnTo>
                      <a:pt x="2397" y="513"/>
                    </a:lnTo>
                    <a:lnTo>
                      <a:pt x="2363" y="511"/>
                    </a:lnTo>
                    <a:lnTo>
                      <a:pt x="2325" y="506"/>
                    </a:lnTo>
                    <a:lnTo>
                      <a:pt x="2285" y="498"/>
                    </a:lnTo>
                    <a:lnTo>
                      <a:pt x="2242" y="485"/>
                    </a:lnTo>
                    <a:lnTo>
                      <a:pt x="2196" y="467"/>
                    </a:lnTo>
                    <a:lnTo>
                      <a:pt x="2148" y="444"/>
                    </a:lnTo>
                    <a:lnTo>
                      <a:pt x="2097" y="414"/>
                    </a:lnTo>
                    <a:lnTo>
                      <a:pt x="2044" y="378"/>
                    </a:lnTo>
                    <a:lnTo>
                      <a:pt x="1989" y="334"/>
                    </a:lnTo>
                    <a:lnTo>
                      <a:pt x="1932" y="282"/>
                    </a:lnTo>
                    <a:lnTo>
                      <a:pt x="1872" y="222"/>
                    </a:lnTo>
                    <a:lnTo>
                      <a:pt x="1839" y="189"/>
                    </a:lnTo>
                    <a:lnTo>
                      <a:pt x="1802" y="158"/>
                    </a:lnTo>
                    <a:lnTo>
                      <a:pt x="1781" y="143"/>
                    </a:lnTo>
                    <a:lnTo>
                      <a:pt x="1781" y="322"/>
                    </a:lnTo>
                    <a:lnTo>
                      <a:pt x="1808" y="337"/>
                    </a:lnTo>
                    <a:lnTo>
                      <a:pt x="1877" y="389"/>
                    </a:lnTo>
                    <a:lnTo>
                      <a:pt x="1939" y="435"/>
                    </a:lnTo>
                    <a:lnTo>
                      <a:pt x="1995" y="476"/>
                    </a:lnTo>
                    <a:lnTo>
                      <a:pt x="2046" y="512"/>
                    </a:lnTo>
                    <a:lnTo>
                      <a:pt x="2091" y="543"/>
                    </a:lnTo>
                    <a:lnTo>
                      <a:pt x="2132" y="569"/>
                    </a:lnTo>
                    <a:lnTo>
                      <a:pt x="2169" y="590"/>
                    </a:lnTo>
                    <a:lnTo>
                      <a:pt x="2203" y="606"/>
                    </a:lnTo>
                    <a:lnTo>
                      <a:pt x="2234" y="618"/>
                    </a:lnTo>
                    <a:lnTo>
                      <a:pt x="2263" y="626"/>
                    </a:lnTo>
                    <a:lnTo>
                      <a:pt x="2290" y="629"/>
                    </a:lnTo>
                    <a:lnTo>
                      <a:pt x="2316" y="628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9"/>
              <p:cNvSpPr/>
              <p:nvPr/>
            </p:nvSpPr>
            <p:spPr>
              <a:xfrm>
                <a:off x="808560" y="6502320"/>
                <a:ext cx="3614400" cy="278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55" y="467"/>
                    </a:moveTo>
                    <a:lnTo>
                      <a:pt x="3426" y="442"/>
                    </a:lnTo>
                    <a:lnTo>
                      <a:pt x="3399" y="421"/>
                    </a:lnTo>
                    <a:lnTo>
                      <a:pt x="3374" y="403"/>
                    </a:lnTo>
                    <a:lnTo>
                      <a:pt x="3350" y="388"/>
                    </a:lnTo>
                    <a:lnTo>
                      <a:pt x="3327" y="377"/>
                    </a:lnTo>
                    <a:lnTo>
                      <a:pt x="3304" y="369"/>
                    </a:lnTo>
                    <a:lnTo>
                      <a:pt x="3281" y="365"/>
                    </a:lnTo>
                    <a:lnTo>
                      <a:pt x="3256" y="364"/>
                    </a:lnTo>
                    <a:lnTo>
                      <a:pt x="3231" y="368"/>
                    </a:lnTo>
                    <a:lnTo>
                      <a:pt x="3203" y="375"/>
                    </a:lnTo>
                    <a:lnTo>
                      <a:pt x="3173" y="386"/>
                    </a:lnTo>
                    <a:lnTo>
                      <a:pt x="3140" y="402"/>
                    </a:lnTo>
                    <a:lnTo>
                      <a:pt x="3104" y="422"/>
                    </a:lnTo>
                    <a:lnTo>
                      <a:pt x="3063" y="446"/>
                    </a:lnTo>
                    <a:lnTo>
                      <a:pt x="3019" y="475"/>
                    </a:lnTo>
                    <a:lnTo>
                      <a:pt x="3077" y="456"/>
                    </a:lnTo>
                    <a:lnTo>
                      <a:pt x="3132" y="442"/>
                    </a:lnTo>
                    <a:lnTo>
                      <a:pt x="3183" y="433"/>
                    </a:lnTo>
                    <a:lnTo>
                      <a:pt x="3229" y="429"/>
                    </a:lnTo>
                    <a:lnTo>
                      <a:pt x="3271" y="428"/>
                    </a:lnTo>
                    <a:lnTo>
                      <a:pt x="3310" y="430"/>
                    </a:lnTo>
                    <a:lnTo>
                      <a:pt x="3344" y="434"/>
                    </a:lnTo>
                    <a:lnTo>
                      <a:pt x="3375" y="441"/>
                    </a:lnTo>
                    <a:lnTo>
                      <a:pt x="3402" y="449"/>
                    </a:lnTo>
                    <a:lnTo>
                      <a:pt x="3425" y="457"/>
                    </a:lnTo>
                    <a:lnTo>
                      <a:pt x="3444" y="466"/>
                    </a:lnTo>
                    <a:lnTo>
                      <a:pt x="3459" y="475"/>
                    </a:lnTo>
                    <a:lnTo>
                      <a:pt x="3471" y="483"/>
                    </a:lnTo>
                    <a:lnTo>
                      <a:pt x="3480" y="489"/>
                    </a:lnTo>
                    <a:lnTo>
                      <a:pt x="3484" y="492"/>
                    </a:lnTo>
                    <a:lnTo>
                      <a:pt x="3455" y="467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0"/>
            <p:cNvGrpSpPr/>
            <p:nvPr/>
          </p:nvGrpSpPr>
          <p:grpSpPr>
            <a:xfrm>
              <a:off x="980640" y="6381720"/>
              <a:ext cx="3697200" cy="258120"/>
              <a:chOff x="980640" y="6381720"/>
              <a:chExt cx="3697200" cy="258120"/>
            </a:xfrm>
          </p:grpSpPr>
          <p:sp>
            <p:nvSpPr>
              <p:cNvPr id="152" name="Freeform 11"/>
              <p:cNvSpPr/>
              <p:nvPr/>
            </p:nvSpPr>
            <p:spPr>
              <a:xfrm>
                <a:off x="980640" y="6381720"/>
                <a:ext cx="3697200" cy="258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258120"/>
                  <a:gd name="textAreaBottom" fmla="*/ 258480 h 258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2942" y="773"/>
                    </a:moveTo>
                    <a:lnTo>
                      <a:pt x="2880" y="731"/>
                    </a:lnTo>
                    <a:lnTo>
                      <a:pt x="2812" y="683"/>
                    </a:lnTo>
                    <a:lnTo>
                      <a:pt x="2735" y="628"/>
                    </a:lnTo>
                    <a:lnTo>
                      <a:pt x="2651" y="566"/>
                    </a:lnTo>
                    <a:lnTo>
                      <a:pt x="2557" y="498"/>
                    </a:lnTo>
                    <a:lnTo>
                      <a:pt x="2449" y="423"/>
                    </a:lnTo>
                    <a:lnTo>
                      <a:pt x="2349" y="355"/>
                    </a:lnTo>
                    <a:lnTo>
                      <a:pt x="2254" y="293"/>
                    </a:lnTo>
                    <a:lnTo>
                      <a:pt x="2164" y="238"/>
                    </a:lnTo>
                    <a:lnTo>
                      <a:pt x="2078" y="189"/>
                    </a:lnTo>
                    <a:lnTo>
                      <a:pt x="1995" y="146"/>
                    </a:lnTo>
                    <a:lnTo>
                      <a:pt x="1913" y="108"/>
                    </a:lnTo>
                    <a:lnTo>
                      <a:pt x="1832" y="76"/>
                    </a:lnTo>
                    <a:lnTo>
                      <a:pt x="1750" y="50"/>
                    </a:lnTo>
                    <a:lnTo>
                      <a:pt x="1667" y="30"/>
                    </a:lnTo>
                    <a:lnTo>
                      <a:pt x="1615" y="20"/>
                    </a:lnTo>
                    <a:lnTo>
                      <a:pt x="1615" y="163"/>
                    </a:lnTo>
                    <a:lnTo>
                      <a:pt x="1646" y="163"/>
                    </a:lnTo>
                    <a:lnTo>
                      <a:pt x="1711" y="172"/>
                    </a:lnTo>
                    <a:lnTo>
                      <a:pt x="1778" y="189"/>
                    </a:lnTo>
                    <a:lnTo>
                      <a:pt x="1848" y="215"/>
                    </a:lnTo>
                    <a:lnTo>
                      <a:pt x="1923" y="249"/>
                    </a:lnTo>
                    <a:lnTo>
                      <a:pt x="2003" y="290"/>
                    </a:lnTo>
                    <a:lnTo>
                      <a:pt x="2091" y="340"/>
                    </a:lnTo>
                    <a:lnTo>
                      <a:pt x="2187" y="398"/>
                    </a:lnTo>
                    <a:lnTo>
                      <a:pt x="2292" y="463"/>
                    </a:lnTo>
                    <a:lnTo>
                      <a:pt x="2409" y="537"/>
                    </a:lnTo>
                    <a:lnTo>
                      <a:pt x="2528" y="608"/>
                    </a:lnTo>
                    <a:lnTo>
                      <a:pt x="2640" y="667"/>
                    </a:lnTo>
                    <a:lnTo>
                      <a:pt x="2745" y="715"/>
                    </a:lnTo>
                    <a:lnTo>
                      <a:pt x="2843" y="754"/>
                    </a:lnTo>
                    <a:lnTo>
                      <a:pt x="2934" y="783"/>
                    </a:lnTo>
                    <a:lnTo>
                      <a:pt x="2974" y="793"/>
                    </a:lnTo>
                    <a:lnTo>
                      <a:pt x="2942" y="773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2"/>
              <p:cNvSpPr/>
              <p:nvPr/>
            </p:nvSpPr>
            <p:spPr>
              <a:xfrm>
                <a:off x="980640" y="6381720"/>
                <a:ext cx="3697200" cy="258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258120"/>
                  <a:gd name="textAreaBottom" fmla="*/ 258480 h 258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543" y="742"/>
                    </a:moveTo>
                    <a:lnTo>
                      <a:pt x="3556" y="732"/>
                    </a:lnTo>
                    <a:lnTo>
                      <a:pt x="3564" y="726"/>
                    </a:lnTo>
                    <a:lnTo>
                      <a:pt x="3566" y="724"/>
                    </a:lnTo>
                    <a:lnTo>
                      <a:pt x="3530" y="750"/>
                    </a:lnTo>
                    <a:lnTo>
                      <a:pt x="3543" y="742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3"/>
              <p:cNvSpPr/>
              <p:nvPr/>
            </p:nvSpPr>
            <p:spPr>
              <a:xfrm>
                <a:off x="980640" y="6381720"/>
                <a:ext cx="3697200" cy="258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258120"/>
                  <a:gd name="textAreaBottom" fmla="*/ 258480 h 258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282" y="889"/>
                    </a:moveTo>
                    <a:lnTo>
                      <a:pt x="3317" y="880"/>
                    </a:lnTo>
                    <a:lnTo>
                      <a:pt x="3352" y="865"/>
                    </a:lnTo>
                    <a:lnTo>
                      <a:pt x="3389" y="845"/>
                    </a:lnTo>
                    <a:lnTo>
                      <a:pt x="3428" y="821"/>
                    </a:lnTo>
                    <a:lnTo>
                      <a:pt x="3470" y="793"/>
                    </a:lnTo>
                    <a:lnTo>
                      <a:pt x="3516" y="760"/>
                    </a:lnTo>
                    <a:lnTo>
                      <a:pt x="3530" y="750"/>
                    </a:lnTo>
                    <a:lnTo>
                      <a:pt x="3524" y="754"/>
                    </a:lnTo>
                    <a:lnTo>
                      <a:pt x="3500" y="767"/>
                    </a:lnTo>
                    <a:lnTo>
                      <a:pt x="3471" y="781"/>
                    </a:lnTo>
                    <a:lnTo>
                      <a:pt x="3435" y="794"/>
                    </a:lnTo>
                    <a:lnTo>
                      <a:pt x="3394" y="806"/>
                    </a:lnTo>
                    <a:lnTo>
                      <a:pt x="3347" y="816"/>
                    </a:lnTo>
                    <a:lnTo>
                      <a:pt x="3294" y="823"/>
                    </a:lnTo>
                    <a:lnTo>
                      <a:pt x="3234" y="827"/>
                    </a:lnTo>
                    <a:lnTo>
                      <a:pt x="3169" y="825"/>
                    </a:lnTo>
                    <a:lnTo>
                      <a:pt x="3097" y="818"/>
                    </a:lnTo>
                    <a:lnTo>
                      <a:pt x="3019" y="804"/>
                    </a:lnTo>
                    <a:lnTo>
                      <a:pt x="2974" y="793"/>
                    </a:lnTo>
                    <a:lnTo>
                      <a:pt x="2998" y="808"/>
                    </a:lnTo>
                    <a:lnTo>
                      <a:pt x="3048" y="837"/>
                    </a:lnTo>
                    <a:lnTo>
                      <a:pt x="3094" y="860"/>
                    </a:lnTo>
                    <a:lnTo>
                      <a:pt x="3136" y="877"/>
                    </a:lnTo>
                    <a:lnTo>
                      <a:pt x="3175" y="888"/>
                    </a:lnTo>
                    <a:lnTo>
                      <a:pt x="3212" y="894"/>
                    </a:lnTo>
                    <a:lnTo>
                      <a:pt x="3248" y="894"/>
                    </a:lnTo>
                    <a:lnTo>
                      <a:pt x="3282" y="889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4"/>
            <p:cNvGrpSpPr/>
            <p:nvPr/>
          </p:nvGrpSpPr>
          <p:grpSpPr>
            <a:xfrm>
              <a:off x="0" y="6428160"/>
              <a:ext cx="5580000" cy="429480"/>
              <a:chOff x="0" y="6428160"/>
              <a:chExt cx="5580000" cy="429480"/>
            </a:xfrm>
          </p:grpSpPr>
          <p:sp>
            <p:nvSpPr>
              <p:cNvPr id="156" name="Freeform 15"/>
              <p:cNvSpPr/>
              <p:nvPr/>
            </p:nvSpPr>
            <p:spPr>
              <a:xfrm>
                <a:off x="0" y="6428160"/>
                <a:ext cx="5580000" cy="42948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065" y="923"/>
                    </a:moveTo>
                    <a:lnTo>
                      <a:pt x="5101" y="916"/>
                    </a:lnTo>
                    <a:lnTo>
                      <a:pt x="5136" y="904"/>
                    </a:lnTo>
                    <a:lnTo>
                      <a:pt x="5172" y="887"/>
                    </a:lnTo>
                    <a:lnTo>
                      <a:pt x="5209" y="864"/>
                    </a:lnTo>
                    <a:lnTo>
                      <a:pt x="5247" y="836"/>
                    </a:lnTo>
                    <a:lnTo>
                      <a:pt x="5289" y="803"/>
                    </a:lnTo>
                    <a:lnTo>
                      <a:pt x="5333" y="765"/>
                    </a:lnTo>
                    <a:lnTo>
                      <a:pt x="5378" y="726"/>
                    </a:lnTo>
                    <a:lnTo>
                      <a:pt x="5372" y="731"/>
                    </a:lnTo>
                    <a:lnTo>
                      <a:pt x="5359" y="741"/>
                    </a:lnTo>
                    <a:lnTo>
                      <a:pt x="5341" y="752"/>
                    </a:lnTo>
                    <a:lnTo>
                      <a:pt x="5317" y="766"/>
                    </a:lnTo>
                    <a:lnTo>
                      <a:pt x="5287" y="779"/>
                    </a:lnTo>
                    <a:lnTo>
                      <a:pt x="5252" y="793"/>
                    </a:lnTo>
                    <a:lnTo>
                      <a:pt x="5210" y="805"/>
                    </a:lnTo>
                    <a:lnTo>
                      <a:pt x="5163" y="815"/>
                    </a:lnTo>
                    <a:lnTo>
                      <a:pt x="5110" y="822"/>
                    </a:lnTo>
                    <a:lnTo>
                      <a:pt x="5051" y="825"/>
                    </a:lnTo>
                    <a:lnTo>
                      <a:pt x="4985" y="824"/>
                    </a:lnTo>
                    <a:lnTo>
                      <a:pt x="4913" y="817"/>
                    </a:lnTo>
                    <a:lnTo>
                      <a:pt x="4835" y="803"/>
                    </a:lnTo>
                    <a:lnTo>
                      <a:pt x="4750" y="782"/>
                    </a:lnTo>
                    <a:lnTo>
                      <a:pt x="4660" y="753"/>
                    </a:lnTo>
                    <a:lnTo>
                      <a:pt x="4729" y="797"/>
                    </a:lnTo>
                    <a:lnTo>
                      <a:pt x="4792" y="834"/>
                    </a:lnTo>
                    <a:lnTo>
                      <a:pt x="4848" y="865"/>
                    </a:lnTo>
                    <a:lnTo>
                      <a:pt x="4899" y="889"/>
                    </a:lnTo>
                    <a:lnTo>
                      <a:pt x="4946" y="907"/>
                    </a:lnTo>
                    <a:lnTo>
                      <a:pt x="4988" y="918"/>
                    </a:lnTo>
                    <a:lnTo>
                      <a:pt x="5028" y="923"/>
                    </a:lnTo>
                    <a:lnTo>
                      <a:pt x="5065" y="92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"/>
              <p:cNvSpPr/>
              <p:nvPr/>
            </p:nvSpPr>
            <p:spPr>
              <a:xfrm>
                <a:off x="0" y="6428160"/>
                <a:ext cx="5580000" cy="42948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2587" y="1358"/>
                    </a:moveTo>
                    <a:lnTo>
                      <a:pt x="2657" y="1323"/>
                    </a:lnTo>
                    <a:lnTo>
                      <a:pt x="2722" y="1284"/>
                    </a:lnTo>
                    <a:lnTo>
                      <a:pt x="2783" y="1241"/>
                    </a:lnTo>
                    <a:lnTo>
                      <a:pt x="2839" y="1194"/>
                    </a:lnTo>
                    <a:lnTo>
                      <a:pt x="2890" y="1143"/>
                    </a:lnTo>
                    <a:lnTo>
                      <a:pt x="2982" y="1050"/>
                    </a:lnTo>
                    <a:lnTo>
                      <a:pt x="3071" y="970"/>
                    </a:lnTo>
                    <a:lnTo>
                      <a:pt x="3156" y="903"/>
                    </a:lnTo>
                    <a:lnTo>
                      <a:pt x="3238" y="846"/>
                    </a:lnTo>
                    <a:lnTo>
                      <a:pt x="3316" y="801"/>
                    </a:lnTo>
                    <a:lnTo>
                      <a:pt x="3391" y="764"/>
                    </a:lnTo>
                    <a:lnTo>
                      <a:pt x="3462" y="737"/>
                    </a:lnTo>
                    <a:lnTo>
                      <a:pt x="3528" y="717"/>
                    </a:lnTo>
                    <a:lnTo>
                      <a:pt x="3590" y="704"/>
                    </a:lnTo>
                    <a:lnTo>
                      <a:pt x="3648" y="697"/>
                    </a:lnTo>
                    <a:lnTo>
                      <a:pt x="3701" y="694"/>
                    </a:lnTo>
                    <a:lnTo>
                      <a:pt x="3749" y="696"/>
                    </a:lnTo>
                    <a:lnTo>
                      <a:pt x="3793" y="701"/>
                    </a:lnTo>
                    <a:lnTo>
                      <a:pt x="3831" y="709"/>
                    </a:lnTo>
                    <a:lnTo>
                      <a:pt x="3863" y="717"/>
                    </a:lnTo>
                    <a:lnTo>
                      <a:pt x="3890" y="726"/>
                    </a:lnTo>
                    <a:lnTo>
                      <a:pt x="3912" y="735"/>
                    </a:lnTo>
                    <a:lnTo>
                      <a:pt x="3927" y="742"/>
                    </a:lnTo>
                    <a:lnTo>
                      <a:pt x="3937" y="748"/>
                    </a:lnTo>
                    <a:lnTo>
                      <a:pt x="3940" y="749"/>
                    </a:lnTo>
                    <a:lnTo>
                      <a:pt x="3882" y="701"/>
                    </a:lnTo>
                    <a:lnTo>
                      <a:pt x="3830" y="657"/>
                    </a:lnTo>
                    <a:lnTo>
                      <a:pt x="3782" y="619"/>
                    </a:lnTo>
                    <a:lnTo>
                      <a:pt x="3737" y="587"/>
                    </a:lnTo>
                    <a:lnTo>
                      <a:pt x="3695" y="560"/>
                    </a:lnTo>
                    <a:lnTo>
                      <a:pt x="3655" y="540"/>
                    </a:lnTo>
                    <a:lnTo>
                      <a:pt x="3616" y="525"/>
                    </a:lnTo>
                    <a:lnTo>
                      <a:pt x="3576" y="517"/>
                    </a:lnTo>
                    <a:lnTo>
                      <a:pt x="3536" y="515"/>
                    </a:lnTo>
                    <a:lnTo>
                      <a:pt x="3494" y="520"/>
                    </a:lnTo>
                    <a:lnTo>
                      <a:pt x="3449" y="531"/>
                    </a:lnTo>
                    <a:lnTo>
                      <a:pt x="3402" y="550"/>
                    </a:lnTo>
                    <a:lnTo>
                      <a:pt x="3349" y="575"/>
                    </a:lnTo>
                    <a:lnTo>
                      <a:pt x="3292" y="608"/>
                    </a:lnTo>
                    <a:lnTo>
                      <a:pt x="3229" y="648"/>
                    </a:lnTo>
                    <a:lnTo>
                      <a:pt x="3158" y="696"/>
                    </a:lnTo>
                    <a:lnTo>
                      <a:pt x="3080" y="751"/>
                    </a:lnTo>
                    <a:lnTo>
                      <a:pt x="2994" y="814"/>
                    </a:lnTo>
                    <a:lnTo>
                      <a:pt x="2898" y="886"/>
                    </a:lnTo>
                    <a:lnTo>
                      <a:pt x="2791" y="965"/>
                    </a:lnTo>
                    <a:lnTo>
                      <a:pt x="2668" y="1034"/>
                    </a:lnTo>
                    <a:lnTo>
                      <a:pt x="2561" y="1080"/>
                    </a:lnTo>
                    <a:lnTo>
                      <a:pt x="2561" y="1369"/>
                    </a:lnTo>
                    <a:lnTo>
                      <a:pt x="2587" y="1358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7"/>
              <p:cNvSpPr/>
              <p:nvPr/>
            </p:nvSpPr>
            <p:spPr>
              <a:xfrm>
                <a:off x="0" y="6428160"/>
                <a:ext cx="5580000" cy="42948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380" y="725"/>
                    </a:moveTo>
                    <a:lnTo>
                      <a:pt x="5383" y="722"/>
                    </a:lnTo>
                    <a:lnTo>
                      <a:pt x="5378" y="726"/>
                    </a:lnTo>
                    <a:lnTo>
                      <a:pt x="5380" y="725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8"/>
              <p:cNvSpPr/>
              <p:nvPr/>
            </p:nvSpPr>
            <p:spPr>
              <a:xfrm>
                <a:off x="0" y="6428160"/>
                <a:ext cx="5580000" cy="42948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4660" y="753"/>
                    </a:moveTo>
                    <a:lnTo>
                      <a:pt x="4582" y="701"/>
                    </a:lnTo>
                    <a:lnTo>
                      <a:pt x="4496" y="642"/>
                    </a:lnTo>
                    <a:lnTo>
                      <a:pt x="4400" y="576"/>
                    </a:lnTo>
                    <a:lnTo>
                      <a:pt x="4293" y="502"/>
                    </a:lnTo>
                    <a:lnTo>
                      <a:pt x="4186" y="427"/>
                    </a:lnTo>
                    <a:lnTo>
                      <a:pt x="4087" y="359"/>
                    </a:lnTo>
                    <a:lnTo>
                      <a:pt x="3995" y="298"/>
                    </a:lnTo>
                    <a:lnTo>
                      <a:pt x="3909" y="242"/>
                    </a:lnTo>
                    <a:lnTo>
                      <a:pt x="3827" y="192"/>
                    </a:lnTo>
                    <a:lnTo>
                      <a:pt x="3748" y="149"/>
                    </a:lnTo>
                    <a:lnTo>
                      <a:pt x="3672" y="111"/>
                    </a:lnTo>
                    <a:lnTo>
                      <a:pt x="3596" y="79"/>
                    </a:lnTo>
                    <a:lnTo>
                      <a:pt x="3521" y="52"/>
                    </a:lnTo>
                    <a:lnTo>
                      <a:pt x="3443" y="31"/>
                    </a:lnTo>
                    <a:lnTo>
                      <a:pt x="3363" y="16"/>
                    </a:lnTo>
                    <a:lnTo>
                      <a:pt x="3278" y="5"/>
                    </a:lnTo>
                    <a:lnTo>
                      <a:pt x="3189" y="0"/>
                    </a:lnTo>
                    <a:lnTo>
                      <a:pt x="3093" y="0"/>
                    </a:lnTo>
                    <a:lnTo>
                      <a:pt x="2989" y="4"/>
                    </a:lnTo>
                    <a:lnTo>
                      <a:pt x="2876" y="13"/>
                    </a:lnTo>
                    <a:lnTo>
                      <a:pt x="2753" y="28"/>
                    </a:lnTo>
                    <a:lnTo>
                      <a:pt x="2619" y="46"/>
                    </a:lnTo>
                    <a:lnTo>
                      <a:pt x="2561" y="55"/>
                    </a:lnTo>
                    <a:lnTo>
                      <a:pt x="2561" y="596"/>
                    </a:lnTo>
                    <a:lnTo>
                      <a:pt x="2637" y="544"/>
                    </a:lnTo>
                    <a:lnTo>
                      <a:pt x="2753" y="466"/>
                    </a:lnTo>
                    <a:lnTo>
                      <a:pt x="2858" y="397"/>
                    </a:lnTo>
                    <a:lnTo>
                      <a:pt x="2954" y="337"/>
                    </a:lnTo>
                    <a:lnTo>
                      <a:pt x="3042" y="286"/>
                    </a:lnTo>
                    <a:lnTo>
                      <a:pt x="3122" y="244"/>
                    </a:lnTo>
                    <a:lnTo>
                      <a:pt x="3196" y="210"/>
                    </a:lnTo>
                    <a:lnTo>
                      <a:pt x="3267" y="185"/>
                    </a:lnTo>
                    <a:lnTo>
                      <a:pt x="3333" y="169"/>
                    </a:lnTo>
                    <a:lnTo>
                      <a:pt x="3398" y="161"/>
                    </a:lnTo>
                    <a:lnTo>
                      <a:pt x="3463" y="162"/>
                    </a:lnTo>
                    <a:lnTo>
                      <a:pt x="3528" y="171"/>
                    </a:lnTo>
                    <a:lnTo>
                      <a:pt x="3594" y="188"/>
                    </a:lnTo>
                    <a:lnTo>
                      <a:pt x="3664" y="214"/>
                    </a:lnTo>
                    <a:lnTo>
                      <a:pt x="3739" y="247"/>
                    </a:lnTo>
                    <a:lnTo>
                      <a:pt x="3820" y="289"/>
                    </a:lnTo>
                    <a:lnTo>
                      <a:pt x="3907" y="339"/>
                    </a:lnTo>
                    <a:lnTo>
                      <a:pt x="4003" y="396"/>
                    </a:lnTo>
                    <a:lnTo>
                      <a:pt x="4109" y="462"/>
                    </a:lnTo>
                    <a:lnTo>
                      <a:pt x="4225" y="535"/>
                    </a:lnTo>
                    <a:lnTo>
                      <a:pt x="4344" y="606"/>
                    </a:lnTo>
                    <a:lnTo>
                      <a:pt x="4456" y="666"/>
                    </a:lnTo>
                    <a:lnTo>
                      <a:pt x="4561" y="714"/>
                    </a:lnTo>
                    <a:lnTo>
                      <a:pt x="4659" y="753"/>
                    </a:lnTo>
                    <a:lnTo>
                      <a:pt x="4660" y="75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EY 20.5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187280" y="980640"/>
            <a:ext cx="6616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OBERTURA DEL PERMISO POSTNATAL PAREN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.- Todas las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abajadoras que estén haciendo uso de su postna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.- Todas las trabajadoras que tengan un hijo menor de 24 semanas y que hayan terminado su postna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0" y="6165720"/>
            <a:ext cx="5580000" cy="691920"/>
            <a:chOff x="0" y="6165720"/>
            <a:chExt cx="5580000" cy="691920"/>
          </a:xfrm>
        </p:grpSpPr>
        <p:grpSp>
          <p:nvGrpSpPr>
            <p:cNvPr id="163" name="Group 5"/>
            <p:cNvGrpSpPr/>
            <p:nvPr/>
          </p:nvGrpSpPr>
          <p:grpSpPr>
            <a:xfrm>
              <a:off x="808560" y="6341040"/>
              <a:ext cx="3614400" cy="404280"/>
              <a:chOff x="808560" y="6341040"/>
              <a:chExt cx="3614400" cy="404280"/>
            </a:xfrm>
          </p:grpSpPr>
          <p:sp>
            <p:nvSpPr>
              <p:cNvPr id="164" name="Freeform 6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85" y="493"/>
                    </a:moveTo>
                    <a:lnTo>
                      <a:pt x="3484" y="492"/>
                    </a:lnTo>
                    <a:lnTo>
                      <a:pt x="3487" y="494"/>
                    </a:lnTo>
                    <a:lnTo>
                      <a:pt x="3485" y="493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7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065" y="962"/>
                    </a:moveTo>
                    <a:lnTo>
                      <a:pt x="2123" y="959"/>
                    </a:lnTo>
                    <a:lnTo>
                      <a:pt x="2178" y="952"/>
                    </a:lnTo>
                    <a:lnTo>
                      <a:pt x="2230" y="942"/>
                    </a:lnTo>
                    <a:lnTo>
                      <a:pt x="2280" y="928"/>
                    </a:lnTo>
                    <a:lnTo>
                      <a:pt x="2329" y="911"/>
                    </a:lnTo>
                    <a:lnTo>
                      <a:pt x="2378" y="891"/>
                    </a:lnTo>
                    <a:lnTo>
                      <a:pt x="2428" y="866"/>
                    </a:lnTo>
                    <a:lnTo>
                      <a:pt x="2479" y="838"/>
                    </a:lnTo>
                    <a:lnTo>
                      <a:pt x="2532" y="806"/>
                    </a:lnTo>
                    <a:lnTo>
                      <a:pt x="2588" y="770"/>
                    </a:lnTo>
                    <a:lnTo>
                      <a:pt x="2647" y="730"/>
                    </a:lnTo>
                    <a:lnTo>
                      <a:pt x="2711" y="685"/>
                    </a:lnTo>
                    <a:lnTo>
                      <a:pt x="2781" y="637"/>
                    </a:lnTo>
                    <a:lnTo>
                      <a:pt x="2850" y="589"/>
                    </a:lnTo>
                    <a:lnTo>
                      <a:pt x="2912" y="546"/>
                    </a:lnTo>
                    <a:lnTo>
                      <a:pt x="2968" y="508"/>
                    </a:lnTo>
                    <a:lnTo>
                      <a:pt x="3018" y="475"/>
                    </a:lnTo>
                    <a:lnTo>
                      <a:pt x="3019" y="475"/>
                    </a:lnTo>
                    <a:lnTo>
                      <a:pt x="3018" y="475"/>
                    </a:lnTo>
                    <a:lnTo>
                      <a:pt x="2954" y="500"/>
                    </a:lnTo>
                    <a:lnTo>
                      <a:pt x="2886" y="531"/>
                    </a:lnTo>
                    <a:lnTo>
                      <a:pt x="2814" y="569"/>
                    </a:lnTo>
                    <a:lnTo>
                      <a:pt x="2737" y="616"/>
                    </a:lnTo>
                    <a:lnTo>
                      <a:pt x="2661" y="663"/>
                    </a:lnTo>
                    <a:lnTo>
                      <a:pt x="2593" y="706"/>
                    </a:lnTo>
                    <a:lnTo>
                      <a:pt x="2531" y="743"/>
                    </a:lnTo>
                    <a:lnTo>
                      <a:pt x="2474" y="775"/>
                    </a:lnTo>
                    <a:lnTo>
                      <a:pt x="2422" y="802"/>
                    </a:lnTo>
                    <a:lnTo>
                      <a:pt x="2374" y="824"/>
                    </a:lnTo>
                    <a:lnTo>
                      <a:pt x="2328" y="841"/>
                    </a:lnTo>
                    <a:lnTo>
                      <a:pt x="2285" y="852"/>
                    </a:lnTo>
                    <a:lnTo>
                      <a:pt x="2243" y="858"/>
                    </a:lnTo>
                    <a:lnTo>
                      <a:pt x="2201" y="858"/>
                    </a:lnTo>
                    <a:lnTo>
                      <a:pt x="2159" y="853"/>
                    </a:lnTo>
                    <a:lnTo>
                      <a:pt x="2116" y="842"/>
                    </a:lnTo>
                    <a:lnTo>
                      <a:pt x="2070" y="826"/>
                    </a:lnTo>
                    <a:lnTo>
                      <a:pt x="2022" y="804"/>
                    </a:lnTo>
                    <a:lnTo>
                      <a:pt x="1970" y="777"/>
                    </a:lnTo>
                    <a:lnTo>
                      <a:pt x="1913" y="744"/>
                    </a:lnTo>
                    <a:lnTo>
                      <a:pt x="1851" y="705"/>
                    </a:lnTo>
                    <a:lnTo>
                      <a:pt x="1783" y="660"/>
                    </a:lnTo>
                    <a:lnTo>
                      <a:pt x="1781" y="659"/>
                    </a:lnTo>
                    <a:lnTo>
                      <a:pt x="1781" y="944"/>
                    </a:lnTo>
                    <a:lnTo>
                      <a:pt x="1783" y="944"/>
                    </a:lnTo>
                    <a:lnTo>
                      <a:pt x="1863" y="954"/>
                    </a:lnTo>
                    <a:lnTo>
                      <a:pt x="1936" y="960"/>
                    </a:lnTo>
                    <a:lnTo>
                      <a:pt x="2003" y="963"/>
                    </a:lnTo>
                    <a:lnTo>
                      <a:pt x="2065" y="962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8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316" y="628"/>
                    </a:moveTo>
                    <a:lnTo>
                      <a:pt x="2342" y="622"/>
                    </a:lnTo>
                    <a:lnTo>
                      <a:pt x="2367" y="613"/>
                    </a:lnTo>
                    <a:lnTo>
                      <a:pt x="2393" y="599"/>
                    </a:lnTo>
                    <a:lnTo>
                      <a:pt x="2421" y="582"/>
                    </a:lnTo>
                    <a:lnTo>
                      <a:pt x="2450" y="561"/>
                    </a:lnTo>
                    <a:lnTo>
                      <a:pt x="2481" y="537"/>
                    </a:lnTo>
                    <a:lnTo>
                      <a:pt x="2515" y="508"/>
                    </a:lnTo>
                    <a:lnTo>
                      <a:pt x="2552" y="477"/>
                    </a:lnTo>
                    <a:lnTo>
                      <a:pt x="2550" y="478"/>
                    </a:lnTo>
                    <a:lnTo>
                      <a:pt x="2544" y="481"/>
                    </a:lnTo>
                    <a:lnTo>
                      <a:pt x="2534" y="486"/>
                    </a:lnTo>
                    <a:lnTo>
                      <a:pt x="2520" y="492"/>
                    </a:lnTo>
                    <a:lnTo>
                      <a:pt x="2502" y="498"/>
                    </a:lnTo>
                    <a:lnTo>
                      <a:pt x="2481" y="503"/>
                    </a:lnTo>
                    <a:lnTo>
                      <a:pt x="2456" y="508"/>
                    </a:lnTo>
                    <a:lnTo>
                      <a:pt x="2428" y="511"/>
                    </a:lnTo>
                    <a:lnTo>
                      <a:pt x="2397" y="513"/>
                    </a:lnTo>
                    <a:lnTo>
                      <a:pt x="2363" y="511"/>
                    </a:lnTo>
                    <a:lnTo>
                      <a:pt x="2325" y="506"/>
                    </a:lnTo>
                    <a:lnTo>
                      <a:pt x="2285" y="498"/>
                    </a:lnTo>
                    <a:lnTo>
                      <a:pt x="2242" y="485"/>
                    </a:lnTo>
                    <a:lnTo>
                      <a:pt x="2196" y="467"/>
                    </a:lnTo>
                    <a:lnTo>
                      <a:pt x="2148" y="444"/>
                    </a:lnTo>
                    <a:lnTo>
                      <a:pt x="2097" y="414"/>
                    </a:lnTo>
                    <a:lnTo>
                      <a:pt x="2044" y="378"/>
                    </a:lnTo>
                    <a:lnTo>
                      <a:pt x="1989" y="334"/>
                    </a:lnTo>
                    <a:lnTo>
                      <a:pt x="1932" y="282"/>
                    </a:lnTo>
                    <a:lnTo>
                      <a:pt x="1872" y="222"/>
                    </a:lnTo>
                    <a:lnTo>
                      <a:pt x="1839" y="189"/>
                    </a:lnTo>
                    <a:lnTo>
                      <a:pt x="1802" y="158"/>
                    </a:lnTo>
                    <a:lnTo>
                      <a:pt x="1781" y="143"/>
                    </a:lnTo>
                    <a:lnTo>
                      <a:pt x="1781" y="322"/>
                    </a:lnTo>
                    <a:lnTo>
                      <a:pt x="1808" y="337"/>
                    </a:lnTo>
                    <a:lnTo>
                      <a:pt x="1877" y="389"/>
                    </a:lnTo>
                    <a:lnTo>
                      <a:pt x="1939" y="435"/>
                    </a:lnTo>
                    <a:lnTo>
                      <a:pt x="1995" y="476"/>
                    </a:lnTo>
                    <a:lnTo>
                      <a:pt x="2046" y="512"/>
                    </a:lnTo>
                    <a:lnTo>
                      <a:pt x="2091" y="543"/>
                    </a:lnTo>
                    <a:lnTo>
                      <a:pt x="2132" y="569"/>
                    </a:lnTo>
                    <a:lnTo>
                      <a:pt x="2169" y="590"/>
                    </a:lnTo>
                    <a:lnTo>
                      <a:pt x="2203" y="606"/>
                    </a:lnTo>
                    <a:lnTo>
                      <a:pt x="2234" y="618"/>
                    </a:lnTo>
                    <a:lnTo>
                      <a:pt x="2263" y="626"/>
                    </a:lnTo>
                    <a:lnTo>
                      <a:pt x="2290" y="629"/>
                    </a:lnTo>
                    <a:lnTo>
                      <a:pt x="2316" y="628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9"/>
              <p:cNvSpPr/>
              <p:nvPr/>
            </p:nvSpPr>
            <p:spPr>
              <a:xfrm>
                <a:off x="808560" y="6341040"/>
                <a:ext cx="3614400" cy="404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55" y="467"/>
                    </a:moveTo>
                    <a:lnTo>
                      <a:pt x="3426" y="442"/>
                    </a:lnTo>
                    <a:lnTo>
                      <a:pt x="3399" y="421"/>
                    </a:lnTo>
                    <a:lnTo>
                      <a:pt x="3374" y="403"/>
                    </a:lnTo>
                    <a:lnTo>
                      <a:pt x="3350" y="388"/>
                    </a:lnTo>
                    <a:lnTo>
                      <a:pt x="3327" y="377"/>
                    </a:lnTo>
                    <a:lnTo>
                      <a:pt x="3304" y="369"/>
                    </a:lnTo>
                    <a:lnTo>
                      <a:pt x="3281" y="365"/>
                    </a:lnTo>
                    <a:lnTo>
                      <a:pt x="3256" y="364"/>
                    </a:lnTo>
                    <a:lnTo>
                      <a:pt x="3231" y="368"/>
                    </a:lnTo>
                    <a:lnTo>
                      <a:pt x="3203" y="375"/>
                    </a:lnTo>
                    <a:lnTo>
                      <a:pt x="3173" y="386"/>
                    </a:lnTo>
                    <a:lnTo>
                      <a:pt x="3140" y="402"/>
                    </a:lnTo>
                    <a:lnTo>
                      <a:pt x="3104" y="422"/>
                    </a:lnTo>
                    <a:lnTo>
                      <a:pt x="3063" y="446"/>
                    </a:lnTo>
                    <a:lnTo>
                      <a:pt x="3019" y="475"/>
                    </a:lnTo>
                    <a:lnTo>
                      <a:pt x="3077" y="456"/>
                    </a:lnTo>
                    <a:lnTo>
                      <a:pt x="3132" y="442"/>
                    </a:lnTo>
                    <a:lnTo>
                      <a:pt x="3183" y="433"/>
                    </a:lnTo>
                    <a:lnTo>
                      <a:pt x="3229" y="429"/>
                    </a:lnTo>
                    <a:lnTo>
                      <a:pt x="3271" y="428"/>
                    </a:lnTo>
                    <a:lnTo>
                      <a:pt x="3310" y="430"/>
                    </a:lnTo>
                    <a:lnTo>
                      <a:pt x="3344" y="434"/>
                    </a:lnTo>
                    <a:lnTo>
                      <a:pt x="3375" y="441"/>
                    </a:lnTo>
                    <a:lnTo>
                      <a:pt x="3402" y="449"/>
                    </a:lnTo>
                    <a:lnTo>
                      <a:pt x="3425" y="457"/>
                    </a:lnTo>
                    <a:lnTo>
                      <a:pt x="3444" y="466"/>
                    </a:lnTo>
                    <a:lnTo>
                      <a:pt x="3459" y="475"/>
                    </a:lnTo>
                    <a:lnTo>
                      <a:pt x="3471" y="483"/>
                    </a:lnTo>
                    <a:lnTo>
                      <a:pt x="3480" y="489"/>
                    </a:lnTo>
                    <a:lnTo>
                      <a:pt x="3484" y="492"/>
                    </a:lnTo>
                    <a:lnTo>
                      <a:pt x="3455" y="467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0"/>
            <p:cNvGrpSpPr/>
            <p:nvPr/>
          </p:nvGrpSpPr>
          <p:grpSpPr>
            <a:xfrm>
              <a:off x="980640" y="6165720"/>
              <a:ext cx="3697200" cy="375120"/>
              <a:chOff x="980640" y="6165720"/>
              <a:chExt cx="3697200" cy="375120"/>
            </a:xfrm>
          </p:grpSpPr>
          <p:sp>
            <p:nvSpPr>
              <p:cNvPr id="169" name="Freeform 11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2942" y="773"/>
                    </a:moveTo>
                    <a:lnTo>
                      <a:pt x="2880" y="731"/>
                    </a:lnTo>
                    <a:lnTo>
                      <a:pt x="2812" y="683"/>
                    </a:lnTo>
                    <a:lnTo>
                      <a:pt x="2735" y="628"/>
                    </a:lnTo>
                    <a:lnTo>
                      <a:pt x="2651" y="566"/>
                    </a:lnTo>
                    <a:lnTo>
                      <a:pt x="2557" y="498"/>
                    </a:lnTo>
                    <a:lnTo>
                      <a:pt x="2449" y="423"/>
                    </a:lnTo>
                    <a:lnTo>
                      <a:pt x="2349" y="355"/>
                    </a:lnTo>
                    <a:lnTo>
                      <a:pt x="2254" y="293"/>
                    </a:lnTo>
                    <a:lnTo>
                      <a:pt x="2164" y="238"/>
                    </a:lnTo>
                    <a:lnTo>
                      <a:pt x="2078" y="189"/>
                    </a:lnTo>
                    <a:lnTo>
                      <a:pt x="1995" y="146"/>
                    </a:lnTo>
                    <a:lnTo>
                      <a:pt x="1913" y="108"/>
                    </a:lnTo>
                    <a:lnTo>
                      <a:pt x="1832" y="76"/>
                    </a:lnTo>
                    <a:lnTo>
                      <a:pt x="1750" y="50"/>
                    </a:lnTo>
                    <a:lnTo>
                      <a:pt x="1667" y="30"/>
                    </a:lnTo>
                    <a:lnTo>
                      <a:pt x="1615" y="20"/>
                    </a:lnTo>
                    <a:lnTo>
                      <a:pt x="1615" y="163"/>
                    </a:lnTo>
                    <a:lnTo>
                      <a:pt x="1646" y="163"/>
                    </a:lnTo>
                    <a:lnTo>
                      <a:pt x="1711" y="172"/>
                    </a:lnTo>
                    <a:lnTo>
                      <a:pt x="1778" y="189"/>
                    </a:lnTo>
                    <a:lnTo>
                      <a:pt x="1848" y="215"/>
                    </a:lnTo>
                    <a:lnTo>
                      <a:pt x="1923" y="249"/>
                    </a:lnTo>
                    <a:lnTo>
                      <a:pt x="2003" y="290"/>
                    </a:lnTo>
                    <a:lnTo>
                      <a:pt x="2091" y="340"/>
                    </a:lnTo>
                    <a:lnTo>
                      <a:pt x="2187" y="398"/>
                    </a:lnTo>
                    <a:lnTo>
                      <a:pt x="2292" y="463"/>
                    </a:lnTo>
                    <a:lnTo>
                      <a:pt x="2409" y="537"/>
                    </a:lnTo>
                    <a:lnTo>
                      <a:pt x="2528" y="608"/>
                    </a:lnTo>
                    <a:lnTo>
                      <a:pt x="2640" y="667"/>
                    </a:lnTo>
                    <a:lnTo>
                      <a:pt x="2745" y="715"/>
                    </a:lnTo>
                    <a:lnTo>
                      <a:pt x="2843" y="754"/>
                    </a:lnTo>
                    <a:lnTo>
                      <a:pt x="2934" y="783"/>
                    </a:lnTo>
                    <a:lnTo>
                      <a:pt x="2974" y="793"/>
                    </a:lnTo>
                    <a:lnTo>
                      <a:pt x="2942" y="773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2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543" y="742"/>
                    </a:moveTo>
                    <a:lnTo>
                      <a:pt x="3556" y="732"/>
                    </a:lnTo>
                    <a:lnTo>
                      <a:pt x="3564" y="726"/>
                    </a:lnTo>
                    <a:lnTo>
                      <a:pt x="3566" y="724"/>
                    </a:lnTo>
                    <a:lnTo>
                      <a:pt x="3530" y="750"/>
                    </a:lnTo>
                    <a:lnTo>
                      <a:pt x="3543" y="742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"/>
              <p:cNvSpPr/>
              <p:nvPr/>
            </p:nvSpPr>
            <p:spPr>
              <a:xfrm>
                <a:off x="980640" y="6165720"/>
                <a:ext cx="3697200" cy="375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282" y="889"/>
                    </a:moveTo>
                    <a:lnTo>
                      <a:pt x="3317" y="880"/>
                    </a:lnTo>
                    <a:lnTo>
                      <a:pt x="3352" y="865"/>
                    </a:lnTo>
                    <a:lnTo>
                      <a:pt x="3389" y="845"/>
                    </a:lnTo>
                    <a:lnTo>
                      <a:pt x="3428" y="821"/>
                    </a:lnTo>
                    <a:lnTo>
                      <a:pt x="3470" y="793"/>
                    </a:lnTo>
                    <a:lnTo>
                      <a:pt x="3516" y="760"/>
                    </a:lnTo>
                    <a:lnTo>
                      <a:pt x="3530" y="750"/>
                    </a:lnTo>
                    <a:lnTo>
                      <a:pt x="3524" y="754"/>
                    </a:lnTo>
                    <a:lnTo>
                      <a:pt x="3500" y="767"/>
                    </a:lnTo>
                    <a:lnTo>
                      <a:pt x="3471" y="781"/>
                    </a:lnTo>
                    <a:lnTo>
                      <a:pt x="3435" y="794"/>
                    </a:lnTo>
                    <a:lnTo>
                      <a:pt x="3394" y="806"/>
                    </a:lnTo>
                    <a:lnTo>
                      <a:pt x="3347" y="816"/>
                    </a:lnTo>
                    <a:lnTo>
                      <a:pt x="3294" y="823"/>
                    </a:lnTo>
                    <a:lnTo>
                      <a:pt x="3234" y="827"/>
                    </a:lnTo>
                    <a:lnTo>
                      <a:pt x="3169" y="825"/>
                    </a:lnTo>
                    <a:lnTo>
                      <a:pt x="3097" y="818"/>
                    </a:lnTo>
                    <a:lnTo>
                      <a:pt x="3019" y="804"/>
                    </a:lnTo>
                    <a:lnTo>
                      <a:pt x="2974" y="793"/>
                    </a:lnTo>
                    <a:lnTo>
                      <a:pt x="2998" y="808"/>
                    </a:lnTo>
                    <a:lnTo>
                      <a:pt x="3048" y="837"/>
                    </a:lnTo>
                    <a:lnTo>
                      <a:pt x="3094" y="860"/>
                    </a:lnTo>
                    <a:lnTo>
                      <a:pt x="3136" y="877"/>
                    </a:lnTo>
                    <a:lnTo>
                      <a:pt x="3175" y="888"/>
                    </a:lnTo>
                    <a:lnTo>
                      <a:pt x="3212" y="894"/>
                    </a:lnTo>
                    <a:lnTo>
                      <a:pt x="3248" y="894"/>
                    </a:lnTo>
                    <a:lnTo>
                      <a:pt x="3282" y="889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14"/>
            <p:cNvGrpSpPr/>
            <p:nvPr/>
          </p:nvGrpSpPr>
          <p:grpSpPr>
            <a:xfrm>
              <a:off x="0" y="6233400"/>
              <a:ext cx="5580000" cy="624240"/>
              <a:chOff x="0" y="6233400"/>
              <a:chExt cx="5580000" cy="624240"/>
            </a:xfrm>
          </p:grpSpPr>
          <p:sp>
            <p:nvSpPr>
              <p:cNvPr id="173" name="Freeform 15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065" y="923"/>
                    </a:moveTo>
                    <a:lnTo>
                      <a:pt x="5101" y="916"/>
                    </a:lnTo>
                    <a:lnTo>
                      <a:pt x="5136" y="904"/>
                    </a:lnTo>
                    <a:lnTo>
                      <a:pt x="5172" y="887"/>
                    </a:lnTo>
                    <a:lnTo>
                      <a:pt x="5209" y="864"/>
                    </a:lnTo>
                    <a:lnTo>
                      <a:pt x="5247" y="836"/>
                    </a:lnTo>
                    <a:lnTo>
                      <a:pt x="5289" y="803"/>
                    </a:lnTo>
                    <a:lnTo>
                      <a:pt x="5333" y="765"/>
                    </a:lnTo>
                    <a:lnTo>
                      <a:pt x="5378" y="726"/>
                    </a:lnTo>
                    <a:lnTo>
                      <a:pt x="5372" y="731"/>
                    </a:lnTo>
                    <a:lnTo>
                      <a:pt x="5359" y="741"/>
                    </a:lnTo>
                    <a:lnTo>
                      <a:pt x="5341" y="752"/>
                    </a:lnTo>
                    <a:lnTo>
                      <a:pt x="5317" y="766"/>
                    </a:lnTo>
                    <a:lnTo>
                      <a:pt x="5287" y="779"/>
                    </a:lnTo>
                    <a:lnTo>
                      <a:pt x="5252" y="793"/>
                    </a:lnTo>
                    <a:lnTo>
                      <a:pt x="5210" y="805"/>
                    </a:lnTo>
                    <a:lnTo>
                      <a:pt x="5163" y="815"/>
                    </a:lnTo>
                    <a:lnTo>
                      <a:pt x="5110" y="822"/>
                    </a:lnTo>
                    <a:lnTo>
                      <a:pt x="5051" y="825"/>
                    </a:lnTo>
                    <a:lnTo>
                      <a:pt x="4985" y="824"/>
                    </a:lnTo>
                    <a:lnTo>
                      <a:pt x="4913" y="817"/>
                    </a:lnTo>
                    <a:lnTo>
                      <a:pt x="4835" y="803"/>
                    </a:lnTo>
                    <a:lnTo>
                      <a:pt x="4750" y="782"/>
                    </a:lnTo>
                    <a:lnTo>
                      <a:pt x="4660" y="753"/>
                    </a:lnTo>
                    <a:lnTo>
                      <a:pt x="4729" y="797"/>
                    </a:lnTo>
                    <a:lnTo>
                      <a:pt x="4792" y="834"/>
                    </a:lnTo>
                    <a:lnTo>
                      <a:pt x="4848" y="865"/>
                    </a:lnTo>
                    <a:lnTo>
                      <a:pt x="4899" y="889"/>
                    </a:lnTo>
                    <a:lnTo>
                      <a:pt x="4946" y="907"/>
                    </a:lnTo>
                    <a:lnTo>
                      <a:pt x="4988" y="918"/>
                    </a:lnTo>
                    <a:lnTo>
                      <a:pt x="5028" y="923"/>
                    </a:lnTo>
                    <a:lnTo>
                      <a:pt x="5065" y="92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6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2587" y="1358"/>
                    </a:moveTo>
                    <a:lnTo>
                      <a:pt x="2657" y="1323"/>
                    </a:lnTo>
                    <a:lnTo>
                      <a:pt x="2722" y="1284"/>
                    </a:lnTo>
                    <a:lnTo>
                      <a:pt x="2783" y="1241"/>
                    </a:lnTo>
                    <a:lnTo>
                      <a:pt x="2839" y="1194"/>
                    </a:lnTo>
                    <a:lnTo>
                      <a:pt x="2890" y="1143"/>
                    </a:lnTo>
                    <a:lnTo>
                      <a:pt x="2982" y="1050"/>
                    </a:lnTo>
                    <a:lnTo>
                      <a:pt x="3071" y="970"/>
                    </a:lnTo>
                    <a:lnTo>
                      <a:pt x="3156" y="903"/>
                    </a:lnTo>
                    <a:lnTo>
                      <a:pt x="3238" y="846"/>
                    </a:lnTo>
                    <a:lnTo>
                      <a:pt x="3316" y="801"/>
                    </a:lnTo>
                    <a:lnTo>
                      <a:pt x="3391" y="764"/>
                    </a:lnTo>
                    <a:lnTo>
                      <a:pt x="3462" y="737"/>
                    </a:lnTo>
                    <a:lnTo>
                      <a:pt x="3528" y="717"/>
                    </a:lnTo>
                    <a:lnTo>
                      <a:pt x="3590" y="704"/>
                    </a:lnTo>
                    <a:lnTo>
                      <a:pt x="3648" y="697"/>
                    </a:lnTo>
                    <a:lnTo>
                      <a:pt x="3701" y="694"/>
                    </a:lnTo>
                    <a:lnTo>
                      <a:pt x="3749" y="696"/>
                    </a:lnTo>
                    <a:lnTo>
                      <a:pt x="3793" y="701"/>
                    </a:lnTo>
                    <a:lnTo>
                      <a:pt x="3831" y="709"/>
                    </a:lnTo>
                    <a:lnTo>
                      <a:pt x="3863" y="717"/>
                    </a:lnTo>
                    <a:lnTo>
                      <a:pt x="3890" y="726"/>
                    </a:lnTo>
                    <a:lnTo>
                      <a:pt x="3912" y="735"/>
                    </a:lnTo>
                    <a:lnTo>
                      <a:pt x="3927" y="742"/>
                    </a:lnTo>
                    <a:lnTo>
                      <a:pt x="3937" y="748"/>
                    </a:lnTo>
                    <a:lnTo>
                      <a:pt x="3940" y="749"/>
                    </a:lnTo>
                    <a:lnTo>
                      <a:pt x="3882" y="701"/>
                    </a:lnTo>
                    <a:lnTo>
                      <a:pt x="3830" y="657"/>
                    </a:lnTo>
                    <a:lnTo>
                      <a:pt x="3782" y="619"/>
                    </a:lnTo>
                    <a:lnTo>
                      <a:pt x="3737" y="587"/>
                    </a:lnTo>
                    <a:lnTo>
                      <a:pt x="3695" y="560"/>
                    </a:lnTo>
                    <a:lnTo>
                      <a:pt x="3655" y="540"/>
                    </a:lnTo>
                    <a:lnTo>
                      <a:pt x="3616" y="525"/>
                    </a:lnTo>
                    <a:lnTo>
                      <a:pt x="3576" y="517"/>
                    </a:lnTo>
                    <a:lnTo>
                      <a:pt x="3536" y="515"/>
                    </a:lnTo>
                    <a:lnTo>
                      <a:pt x="3494" y="520"/>
                    </a:lnTo>
                    <a:lnTo>
                      <a:pt x="3449" y="531"/>
                    </a:lnTo>
                    <a:lnTo>
                      <a:pt x="3402" y="550"/>
                    </a:lnTo>
                    <a:lnTo>
                      <a:pt x="3349" y="575"/>
                    </a:lnTo>
                    <a:lnTo>
                      <a:pt x="3292" y="608"/>
                    </a:lnTo>
                    <a:lnTo>
                      <a:pt x="3229" y="648"/>
                    </a:lnTo>
                    <a:lnTo>
                      <a:pt x="3158" y="696"/>
                    </a:lnTo>
                    <a:lnTo>
                      <a:pt x="3080" y="751"/>
                    </a:lnTo>
                    <a:lnTo>
                      <a:pt x="2994" y="814"/>
                    </a:lnTo>
                    <a:lnTo>
                      <a:pt x="2898" y="886"/>
                    </a:lnTo>
                    <a:lnTo>
                      <a:pt x="2791" y="965"/>
                    </a:lnTo>
                    <a:lnTo>
                      <a:pt x="2668" y="1034"/>
                    </a:lnTo>
                    <a:lnTo>
                      <a:pt x="2561" y="1080"/>
                    </a:lnTo>
                    <a:lnTo>
                      <a:pt x="2561" y="1369"/>
                    </a:lnTo>
                    <a:lnTo>
                      <a:pt x="2587" y="1358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380" y="725"/>
                    </a:moveTo>
                    <a:lnTo>
                      <a:pt x="5383" y="722"/>
                    </a:lnTo>
                    <a:lnTo>
                      <a:pt x="5378" y="726"/>
                    </a:lnTo>
                    <a:lnTo>
                      <a:pt x="5380" y="725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8"/>
              <p:cNvSpPr/>
              <p:nvPr/>
            </p:nvSpPr>
            <p:spPr>
              <a:xfrm>
                <a:off x="0" y="6233400"/>
                <a:ext cx="5580000" cy="62424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4660" y="753"/>
                    </a:moveTo>
                    <a:lnTo>
                      <a:pt x="4582" y="701"/>
                    </a:lnTo>
                    <a:lnTo>
                      <a:pt x="4496" y="642"/>
                    </a:lnTo>
                    <a:lnTo>
                      <a:pt x="4400" y="576"/>
                    </a:lnTo>
                    <a:lnTo>
                      <a:pt x="4293" y="502"/>
                    </a:lnTo>
                    <a:lnTo>
                      <a:pt x="4186" y="427"/>
                    </a:lnTo>
                    <a:lnTo>
                      <a:pt x="4087" y="359"/>
                    </a:lnTo>
                    <a:lnTo>
                      <a:pt x="3995" y="298"/>
                    </a:lnTo>
                    <a:lnTo>
                      <a:pt x="3909" y="242"/>
                    </a:lnTo>
                    <a:lnTo>
                      <a:pt x="3827" y="192"/>
                    </a:lnTo>
                    <a:lnTo>
                      <a:pt x="3748" y="149"/>
                    </a:lnTo>
                    <a:lnTo>
                      <a:pt x="3672" y="111"/>
                    </a:lnTo>
                    <a:lnTo>
                      <a:pt x="3596" y="79"/>
                    </a:lnTo>
                    <a:lnTo>
                      <a:pt x="3521" y="52"/>
                    </a:lnTo>
                    <a:lnTo>
                      <a:pt x="3443" y="31"/>
                    </a:lnTo>
                    <a:lnTo>
                      <a:pt x="3363" y="16"/>
                    </a:lnTo>
                    <a:lnTo>
                      <a:pt x="3278" y="5"/>
                    </a:lnTo>
                    <a:lnTo>
                      <a:pt x="3189" y="0"/>
                    </a:lnTo>
                    <a:lnTo>
                      <a:pt x="3093" y="0"/>
                    </a:lnTo>
                    <a:lnTo>
                      <a:pt x="2989" y="4"/>
                    </a:lnTo>
                    <a:lnTo>
                      <a:pt x="2876" y="13"/>
                    </a:lnTo>
                    <a:lnTo>
                      <a:pt x="2753" y="28"/>
                    </a:lnTo>
                    <a:lnTo>
                      <a:pt x="2619" y="46"/>
                    </a:lnTo>
                    <a:lnTo>
                      <a:pt x="2561" y="55"/>
                    </a:lnTo>
                    <a:lnTo>
                      <a:pt x="2561" y="596"/>
                    </a:lnTo>
                    <a:lnTo>
                      <a:pt x="2637" y="544"/>
                    </a:lnTo>
                    <a:lnTo>
                      <a:pt x="2753" y="466"/>
                    </a:lnTo>
                    <a:lnTo>
                      <a:pt x="2858" y="397"/>
                    </a:lnTo>
                    <a:lnTo>
                      <a:pt x="2954" y="337"/>
                    </a:lnTo>
                    <a:lnTo>
                      <a:pt x="3042" y="286"/>
                    </a:lnTo>
                    <a:lnTo>
                      <a:pt x="3122" y="244"/>
                    </a:lnTo>
                    <a:lnTo>
                      <a:pt x="3196" y="210"/>
                    </a:lnTo>
                    <a:lnTo>
                      <a:pt x="3267" y="185"/>
                    </a:lnTo>
                    <a:lnTo>
                      <a:pt x="3333" y="169"/>
                    </a:lnTo>
                    <a:lnTo>
                      <a:pt x="3398" y="161"/>
                    </a:lnTo>
                    <a:lnTo>
                      <a:pt x="3463" y="162"/>
                    </a:lnTo>
                    <a:lnTo>
                      <a:pt x="3528" y="171"/>
                    </a:lnTo>
                    <a:lnTo>
                      <a:pt x="3594" y="188"/>
                    </a:lnTo>
                    <a:lnTo>
                      <a:pt x="3664" y="214"/>
                    </a:lnTo>
                    <a:lnTo>
                      <a:pt x="3739" y="247"/>
                    </a:lnTo>
                    <a:lnTo>
                      <a:pt x="3820" y="289"/>
                    </a:lnTo>
                    <a:lnTo>
                      <a:pt x="3907" y="339"/>
                    </a:lnTo>
                    <a:lnTo>
                      <a:pt x="4003" y="396"/>
                    </a:lnTo>
                    <a:lnTo>
                      <a:pt x="4109" y="462"/>
                    </a:lnTo>
                    <a:lnTo>
                      <a:pt x="4225" y="535"/>
                    </a:lnTo>
                    <a:lnTo>
                      <a:pt x="4344" y="606"/>
                    </a:lnTo>
                    <a:lnTo>
                      <a:pt x="4456" y="666"/>
                    </a:lnTo>
                    <a:lnTo>
                      <a:pt x="4561" y="714"/>
                    </a:lnTo>
                    <a:lnTo>
                      <a:pt x="4659" y="753"/>
                    </a:lnTo>
                    <a:lnTo>
                      <a:pt x="4660" y="75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Y 20.545</a:t>
            </a:r>
            <a:br>
              <a:rPr sz="4000"/>
            </a:br>
            <a:br>
              <a:rPr sz="40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Madres de hijos prematur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 Tienen derecho a 6 semanas adicionales de postnatal las madres cuyos hijos:</a:t>
            </a:r>
            <a:br>
              <a:rPr sz="2400"/>
            </a:b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Hayan nacido antes de las 33 semanas de gestación, 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Pesen menos de 1.500 gramos al nacer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Madres de Partos Múltiples: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Tienen derecho a 7 días corridos extra de postnatal por cada hijo adicional.</a:t>
            </a:r>
            <a:br>
              <a:rPr sz="2400"/>
            </a:br>
            <a:br>
              <a:rPr sz="2400"/>
            </a:b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En caso de prematuros y múltiples se aplicará el permiso que sea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87280" y="980640"/>
            <a:ext cx="6616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0" y="6381720"/>
            <a:ext cx="5580000" cy="475920"/>
            <a:chOff x="0" y="6381720"/>
            <a:chExt cx="5580000" cy="475920"/>
          </a:xfrm>
        </p:grpSpPr>
        <p:grpSp>
          <p:nvGrpSpPr>
            <p:cNvPr id="180" name="Group 5"/>
            <p:cNvGrpSpPr/>
            <p:nvPr/>
          </p:nvGrpSpPr>
          <p:grpSpPr>
            <a:xfrm>
              <a:off x="808560" y="6502320"/>
              <a:ext cx="3614400" cy="278280"/>
              <a:chOff x="808560" y="6502320"/>
              <a:chExt cx="3614400" cy="278280"/>
            </a:xfrm>
          </p:grpSpPr>
          <p:sp>
            <p:nvSpPr>
              <p:cNvPr id="181" name="Freeform 6"/>
              <p:cNvSpPr/>
              <p:nvPr/>
            </p:nvSpPr>
            <p:spPr>
              <a:xfrm>
                <a:off x="808560" y="6502320"/>
                <a:ext cx="3614400" cy="278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85" y="493"/>
                    </a:moveTo>
                    <a:lnTo>
                      <a:pt x="3484" y="492"/>
                    </a:lnTo>
                    <a:lnTo>
                      <a:pt x="3487" y="494"/>
                    </a:lnTo>
                    <a:lnTo>
                      <a:pt x="3485" y="493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7"/>
              <p:cNvSpPr/>
              <p:nvPr/>
            </p:nvSpPr>
            <p:spPr>
              <a:xfrm>
                <a:off x="808560" y="6502320"/>
                <a:ext cx="3614400" cy="278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065" y="962"/>
                    </a:moveTo>
                    <a:lnTo>
                      <a:pt x="2123" y="959"/>
                    </a:lnTo>
                    <a:lnTo>
                      <a:pt x="2178" y="952"/>
                    </a:lnTo>
                    <a:lnTo>
                      <a:pt x="2230" y="942"/>
                    </a:lnTo>
                    <a:lnTo>
                      <a:pt x="2280" y="928"/>
                    </a:lnTo>
                    <a:lnTo>
                      <a:pt x="2329" y="911"/>
                    </a:lnTo>
                    <a:lnTo>
                      <a:pt x="2378" y="891"/>
                    </a:lnTo>
                    <a:lnTo>
                      <a:pt x="2428" y="866"/>
                    </a:lnTo>
                    <a:lnTo>
                      <a:pt x="2479" y="838"/>
                    </a:lnTo>
                    <a:lnTo>
                      <a:pt x="2532" y="806"/>
                    </a:lnTo>
                    <a:lnTo>
                      <a:pt x="2588" y="770"/>
                    </a:lnTo>
                    <a:lnTo>
                      <a:pt x="2647" y="730"/>
                    </a:lnTo>
                    <a:lnTo>
                      <a:pt x="2711" y="685"/>
                    </a:lnTo>
                    <a:lnTo>
                      <a:pt x="2781" y="637"/>
                    </a:lnTo>
                    <a:lnTo>
                      <a:pt x="2850" y="589"/>
                    </a:lnTo>
                    <a:lnTo>
                      <a:pt x="2912" y="546"/>
                    </a:lnTo>
                    <a:lnTo>
                      <a:pt x="2968" y="508"/>
                    </a:lnTo>
                    <a:lnTo>
                      <a:pt x="3018" y="475"/>
                    </a:lnTo>
                    <a:lnTo>
                      <a:pt x="3019" y="475"/>
                    </a:lnTo>
                    <a:lnTo>
                      <a:pt x="3018" y="475"/>
                    </a:lnTo>
                    <a:lnTo>
                      <a:pt x="2954" y="500"/>
                    </a:lnTo>
                    <a:lnTo>
                      <a:pt x="2886" y="531"/>
                    </a:lnTo>
                    <a:lnTo>
                      <a:pt x="2814" y="569"/>
                    </a:lnTo>
                    <a:lnTo>
                      <a:pt x="2737" y="616"/>
                    </a:lnTo>
                    <a:lnTo>
                      <a:pt x="2661" y="663"/>
                    </a:lnTo>
                    <a:lnTo>
                      <a:pt x="2593" y="706"/>
                    </a:lnTo>
                    <a:lnTo>
                      <a:pt x="2531" y="743"/>
                    </a:lnTo>
                    <a:lnTo>
                      <a:pt x="2474" y="775"/>
                    </a:lnTo>
                    <a:lnTo>
                      <a:pt x="2422" y="802"/>
                    </a:lnTo>
                    <a:lnTo>
                      <a:pt x="2374" y="824"/>
                    </a:lnTo>
                    <a:lnTo>
                      <a:pt x="2328" y="841"/>
                    </a:lnTo>
                    <a:lnTo>
                      <a:pt x="2285" y="852"/>
                    </a:lnTo>
                    <a:lnTo>
                      <a:pt x="2243" y="858"/>
                    </a:lnTo>
                    <a:lnTo>
                      <a:pt x="2201" y="858"/>
                    </a:lnTo>
                    <a:lnTo>
                      <a:pt x="2159" y="853"/>
                    </a:lnTo>
                    <a:lnTo>
                      <a:pt x="2116" y="842"/>
                    </a:lnTo>
                    <a:lnTo>
                      <a:pt x="2070" y="826"/>
                    </a:lnTo>
                    <a:lnTo>
                      <a:pt x="2022" y="804"/>
                    </a:lnTo>
                    <a:lnTo>
                      <a:pt x="1970" y="777"/>
                    </a:lnTo>
                    <a:lnTo>
                      <a:pt x="1913" y="744"/>
                    </a:lnTo>
                    <a:lnTo>
                      <a:pt x="1851" y="705"/>
                    </a:lnTo>
                    <a:lnTo>
                      <a:pt x="1783" y="660"/>
                    </a:lnTo>
                    <a:lnTo>
                      <a:pt x="1781" y="659"/>
                    </a:lnTo>
                    <a:lnTo>
                      <a:pt x="1781" y="944"/>
                    </a:lnTo>
                    <a:lnTo>
                      <a:pt x="1783" y="944"/>
                    </a:lnTo>
                    <a:lnTo>
                      <a:pt x="1863" y="954"/>
                    </a:lnTo>
                    <a:lnTo>
                      <a:pt x="1936" y="960"/>
                    </a:lnTo>
                    <a:lnTo>
                      <a:pt x="2003" y="963"/>
                    </a:lnTo>
                    <a:lnTo>
                      <a:pt x="2065" y="962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8"/>
              <p:cNvSpPr/>
              <p:nvPr/>
            </p:nvSpPr>
            <p:spPr>
              <a:xfrm>
                <a:off x="808560" y="6502320"/>
                <a:ext cx="3614400" cy="278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2316" y="628"/>
                    </a:moveTo>
                    <a:lnTo>
                      <a:pt x="2342" y="622"/>
                    </a:lnTo>
                    <a:lnTo>
                      <a:pt x="2367" y="613"/>
                    </a:lnTo>
                    <a:lnTo>
                      <a:pt x="2393" y="599"/>
                    </a:lnTo>
                    <a:lnTo>
                      <a:pt x="2421" y="582"/>
                    </a:lnTo>
                    <a:lnTo>
                      <a:pt x="2450" y="561"/>
                    </a:lnTo>
                    <a:lnTo>
                      <a:pt x="2481" y="537"/>
                    </a:lnTo>
                    <a:lnTo>
                      <a:pt x="2515" y="508"/>
                    </a:lnTo>
                    <a:lnTo>
                      <a:pt x="2552" y="477"/>
                    </a:lnTo>
                    <a:lnTo>
                      <a:pt x="2550" y="478"/>
                    </a:lnTo>
                    <a:lnTo>
                      <a:pt x="2544" y="481"/>
                    </a:lnTo>
                    <a:lnTo>
                      <a:pt x="2534" y="486"/>
                    </a:lnTo>
                    <a:lnTo>
                      <a:pt x="2520" y="492"/>
                    </a:lnTo>
                    <a:lnTo>
                      <a:pt x="2502" y="498"/>
                    </a:lnTo>
                    <a:lnTo>
                      <a:pt x="2481" y="503"/>
                    </a:lnTo>
                    <a:lnTo>
                      <a:pt x="2456" y="508"/>
                    </a:lnTo>
                    <a:lnTo>
                      <a:pt x="2428" y="511"/>
                    </a:lnTo>
                    <a:lnTo>
                      <a:pt x="2397" y="513"/>
                    </a:lnTo>
                    <a:lnTo>
                      <a:pt x="2363" y="511"/>
                    </a:lnTo>
                    <a:lnTo>
                      <a:pt x="2325" y="506"/>
                    </a:lnTo>
                    <a:lnTo>
                      <a:pt x="2285" y="498"/>
                    </a:lnTo>
                    <a:lnTo>
                      <a:pt x="2242" y="485"/>
                    </a:lnTo>
                    <a:lnTo>
                      <a:pt x="2196" y="467"/>
                    </a:lnTo>
                    <a:lnTo>
                      <a:pt x="2148" y="444"/>
                    </a:lnTo>
                    <a:lnTo>
                      <a:pt x="2097" y="414"/>
                    </a:lnTo>
                    <a:lnTo>
                      <a:pt x="2044" y="378"/>
                    </a:lnTo>
                    <a:lnTo>
                      <a:pt x="1989" y="334"/>
                    </a:lnTo>
                    <a:lnTo>
                      <a:pt x="1932" y="282"/>
                    </a:lnTo>
                    <a:lnTo>
                      <a:pt x="1872" y="222"/>
                    </a:lnTo>
                    <a:lnTo>
                      <a:pt x="1839" y="189"/>
                    </a:lnTo>
                    <a:lnTo>
                      <a:pt x="1802" y="158"/>
                    </a:lnTo>
                    <a:lnTo>
                      <a:pt x="1781" y="143"/>
                    </a:lnTo>
                    <a:lnTo>
                      <a:pt x="1781" y="322"/>
                    </a:lnTo>
                    <a:lnTo>
                      <a:pt x="1808" y="337"/>
                    </a:lnTo>
                    <a:lnTo>
                      <a:pt x="1877" y="389"/>
                    </a:lnTo>
                    <a:lnTo>
                      <a:pt x="1939" y="435"/>
                    </a:lnTo>
                    <a:lnTo>
                      <a:pt x="1995" y="476"/>
                    </a:lnTo>
                    <a:lnTo>
                      <a:pt x="2046" y="512"/>
                    </a:lnTo>
                    <a:lnTo>
                      <a:pt x="2091" y="543"/>
                    </a:lnTo>
                    <a:lnTo>
                      <a:pt x="2132" y="569"/>
                    </a:lnTo>
                    <a:lnTo>
                      <a:pt x="2169" y="590"/>
                    </a:lnTo>
                    <a:lnTo>
                      <a:pt x="2203" y="606"/>
                    </a:lnTo>
                    <a:lnTo>
                      <a:pt x="2234" y="618"/>
                    </a:lnTo>
                    <a:lnTo>
                      <a:pt x="2263" y="626"/>
                    </a:lnTo>
                    <a:lnTo>
                      <a:pt x="2290" y="629"/>
                    </a:lnTo>
                    <a:lnTo>
                      <a:pt x="2316" y="628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9"/>
              <p:cNvSpPr/>
              <p:nvPr/>
            </p:nvSpPr>
            <p:spPr>
              <a:xfrm>
                <a:off x="808560" y="6502320"/>
                <a:ext cx="3614400" cy="278280"/>
              </a:xfrm>
              <a:custGeom>
                <a:avLst/>
                <a:gdLst>
                  <a:gd name="textAreaLeft" fmla="*/ 0 w 3614400"/>
                  <a:gd name="textAreaRight" fmla="*/ 3614760 w 361440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3486" h="963">
                    <a:moveTo>
                      <a:pt x="3455" y="467"/>
                    </a:moveTo>
                    <a:lnTo>
                      <a:pt x="3426" y="442"/>
                    </a:lnTo>
                    <a:lnTo>
                      <a:pt x="3399" y="421"/>
                    </a:lnTo>
                    <a:lnTo>
                      <a:pt x="3374" y="403"/>
                    </a:lnTo>
                    <a:lnTo>
                      <a:pt x="3350" y="388"/>
                    </a:lnTo>
                    <a:lnTo>
                      <a:pt x="3327" y="377"/>
                    </a:lnTo>
                    <a:lnTo>
                      <a:pt x="3304" y="369"/>
                    </a:lnTo>
                    <a:lnTo>
                      <a:pt x="3281" y="365"/>
                    </a:lnTo>
                    <a:lnTo>
                      <a:pt x="3256" y="364"/>
                    </a:lnTo>
                    <a:lnTo>
                      <a:pt x="3231" y="368"/>
                    </a:lnTo>
                    <a:lnTo>
                      <a:pt x="3203" y="375"/>
                    </a:lnTo>
                    <a:lnTo>
                      <a:pt x="3173" y="386"/>
                    </a:lnTo>
                    <a:lnTo>
                      <a:pt x="3140" y="402"/>
                    </a:lnTo>
                    <a:lnTo>
                      <a:pt x="3104" y="422"/>
                    </a:lnTo>
                    <a:lnTo>
                      <a:pt x="3063" y="446"/>
                    </a:lnTo>
                    <a:lnTo>
                      <a:pt x="3019" y="475"/>
                    </a:lnTo>
                    <a:lnTo>
                      <a:pt x="3077" y="456"/>
                    </a:lnTo>
                    <a:lnTo>
                      <a:pt x="3132" y="442"/>
                    </a:lnTo>
                    <a:lnTo>
                      <a:pt x="3183" y="433"/>
                    </a:lnTo>
                    <a:lnTo>
                      <a:pt x="3229" y="429"/>
                    </a:lnTo>
                    <a:lnTo>
                      <a:pt x="3271" y="428"/>
                    </a:lnTo>
                    <a:lnTo>
                      <a:pt x="3310" y="430"/>
                    </a:lnTo>
                    <a:lnTo>
                      <a:pt x="3344" y="434"/>
                    </a:lnTo>
                    <a:lnTo>
                      <a:pt x="3375" y="441"/>
                    </a:lnTo>
                    <a:lnTo>
                      <a:pt x="3402" y="449"/>
                    </a:lnTo>
                    <a:lnTo>
                      <a:pt x="3425" y="457"/>
                    </a:lnTo>
                    <a:lnTo>
                      <a:pt x="3444" y="466"/>
                    </a:lnTo>
                    <a:lnTo>
                      <a:pt x="3459" y="475"/>
                    </a:lnTo>
                    <a:lnTo>
                      <a:pt x="3471" y="483"/>
                    </a:lnTo>
                    <a:lnTo>
                      <a:pt x="3480" y="489"/>
                    </a:lnTo>
                    <a:lnTo>
                      <a:pt x="3484" y="492"/>
                    </a:lnTo>
                    <a:lnTo>
                      <a:pt x="3455" y="467"/>
                    </a:lnTo>
                    <a:close/>
                  </a:path>
                </a:pathLst>
              </a:custGeom>
              <a:solidFill>
                <a:srgbClr val="ec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0"/>
            <p:cNvGrpSpPr/>
            <p:nvPr/>
          </p:nvGrpSpPr>
          <p:grpSpPr>
            <a:xfrm>
              <a:off x="980640" y="6381720"/>
              <a:ext cx="3697200" cy="258120"/>
              <a:chOff x="980640" y="6381720"/>
              <a:chExt cx="3697200" cy="258120"/>
            </a:xfrm>
          </p:grpSpPr>
          <p:sp>
            <p:nvSpPr>
              <p:cNvPr id="186" name="Freeform 11"/>
              <p:cNvSpPr/>
              <p:nvPr/>
            </p:nvSpPr>
            <p:spPr>
              <a:xfrm>
                <a:off x="980640" y="6381720"/>
                <a:ext cx="3697200" cy="258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258120"/>
                  <a:gd name="textAreaBottom" fmla="*/ 258480 h 258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2942" y="773"/>
                    </a:moveTo>
                    <a:lnTo>
                      <a:pt x="2880" y="731"/>
                    </a:lnTo>
                    <a:lnTo>
                      <a:pt x="2812" y="683"/>
                    </a:lnTo>
                    <a:lnTo>
                      <a:pt x="2735" y="628"/>
                    </a:lnTo>
                    <a:lnTo>
                      <a:pt x="2651" y="566"/>
                    </a:lnTo>
                    <a:lnTo>
                      <a:pt x="2557" y="498"/>
                    </a:lnTo>
                    <a:lnTo>
                      <a:pt x="2449" y="423"/>
                    </a:lnTo>
                    <a:lnTo>
                      <a:pt x="2349" y="355"/>
                    </a:lnTo>
                    <a:lnTo>
                      <a:pt x="2254" y="293"/>
                    </a:lnTo>
                    <a:lnTo>
                      <a:pt x="2164" y="238"/>
                    </a:lnTo>
                    <a:lnTo>
                      <a:pt x="2078" y="189"/>
                    </a:lnTo>
                    <a:lnTo>
                      <a:pt x="1995" y="146"/>
                    </a:lnTo>
                    <a:lnTo>
                      <a:pt x="1913" y="108"/>
                    </a:lnTo>
                    <a:lnTo>
                      <a:pt x="1832" y="76"/>
                    </a:lnTo>
                    <a:lnTo>
                      <a:pt x="1750" y="50"/>
                    </a:lnTo>
                    <a:lnTo>
                      <a:pt x="1667" y="30"/>
                    </a:lnTo>
                    <a:lnTo>
                      <a:pt x="1615" y="20"/>
                    </a:lnTo>
                    <a:lnTo>
                      <a:pt x="1615" y="163"/>
                    </a:lnTo>
                    <a:lnTo>
                      <a:pt x="1646" y="163"/>
                    </a:lnTo>
                    <a:lnTo>
                      <a:pt x="1711" y="172"/>
                    </a:lnTo>
                    <a:lnTo>
                      <a:pt x="1778" y="189"/>
                    </a:lnTo>
                    <a:lnTo>
                      <a:pt x="1848" y="215"/>
                    </a:lnTo>
                    <a:lnTo>
                      <a:pt x="1923" y="249"/>
                    </a:lnTo>
                    <a:lnTo>
                      <a:pt x="2003" y="290"/>
                    </a:lnTo>
                    <a:lnTo>
                      <a:pt x="2091" y="340"/>
                    </a:lnTo>
                    <a:lnTo>
                      <a:pt x="2187" y="398"/>
                    </a:lnTo>
                    <a:lnTo>
                      <a:pt x="2292" y="463"/>
                    </a:lnTo>
                    <a:lnTo>
                      <a:pt x="2409" y="537"/>
                    </a:lnTo>
                    <a:lnTo>
                      <a:pt x="2528" y="608"/>
                    </a:lnTo>
                    <a:lnTo>
                      <a:pt x="2640" y="667"/>
                    </a:lnTo>
                    <a:lnTo>
                      <a:pt x="2745" y="715"/>
                    </a:lnTo>
                    <a:lnTo>
                      <a:pt x="2843" y="754"/>
                    </a:lnTo>
                    <a:lnTo>
                      <a:pt x="2934" y="783"/>
                    </a:lnTo>
                    <a:lnTo>
                      <a:pt x="2974" y="793"/>
                    </a:lnTo>
                    <a:lnTo>
                      <a:pt x="2942" y="773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2"/>
              <p:cNvSpPr/>
              <p:nvPr/>
            </p:nvSpPr>
            <p:spPr>
              <a:xfrm>
                <a:off x="980640" y="6381720"/>
                <a:ext cx="3697200" cy="258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258120"/>
                  <a:gd name="textAreaBottom" fmla="*/ 258480 h 258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543" y="742"/>
                    </a:moveTo>
                    <a:lnTo>
                      <a:pt x="3556" y="732"/>
                    </a:lnTo>
                    <a:lnTo>
                      <a:pt x="3564" y="726"/>
                    </a:lnTo>
                    <a:lnTo>
                      <a:pt x="3566" y="724"/>
                    </a:lnTo>
                    <a:lnTo>
                      <a:pt x="3530" y="750"/>
                    </a:lnTo>
                    <a:lnTo>
                      <a:pt x="3543" y="742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3"/>
              <p:cNvSpPr/>
              <p:nvPr/>
            </p:nvSpPr>
            <p:spPr>
              <a:xfrm>
                <a:off x="980640" y="6381720"/>
                <a:ext cx="3697200" cy="258120"/>
              </a:xfrm>
              <a:custGeom>
                <a:avLst/>
                <a:gdLst>
                  <a:gd name="textAreaLeft" fmla="*/ 0 w 3697200"/>
                  <a:gd name="textAreaRight" fmla="*/ 3697560 w 3697200"/>
                  <a:gd name="textAreaTop" fmla="*/ 0 h 258120"/>
                  <a:gd name="textAreaBottom" fmla="*/ 258480 h 258120"/>
                </a:gdLst>
                <a:ahLst/>
                <a:rect l="textAreaLeft" t="textAreaTop" r="textAreaRight" b="textAreaBottom"/>
                <a:pathLst>
                  <a:path w="3566" h="894">
                    <a:moveTo>
                      <a:pt x="3282" y="889"/>
                    </a:moveTo>
                    <a:lnTo>
                      <a:pt x="3317" y="880"/>
                    </a:lnTo>
                    <a:lnTo>
                      <a:pt x="3352" y="865"/>
                    </a:lnTo>
                    <a:lnTo>
                      <a:pt x="3389" y="845"/>
                    </a:lnTo>
                    <a:lnTo>
                      <a:pt x="3428" y="821"/>
                    </a:lnTo>
                    <a:lnTo>
                      <a:pt x="3470" y="793"/>
                    </a:lnTo>
                    <a:lnTo>
                      <a:pt x="3516" y="760"/>
                    </a:lnTo>
                    <a:lnTo>
                      <a:pt x="3530" y="750"/>
                    </a:lnTo>
                    <a:lnTo>
                      <a:pt x="3524" y="754"/>
                    </a:lnTo>
                    <a:lnTo>
                      <a:pt x="3500" y="767"/>
                    </a:lnTo>
                    <a:lnTo>
                      <a:pt x="3471" y="781"/>
                    </a:lnTo>
                    <a:lnTo>
                      <a:pt x="3435" y="794"/>
                    </a:lnTo>
                    <a:lnTo>
                      <a:pt x="3394" y="806"/>
                    </a:lnTo>
                    <a:lnTo>
                      <a:pt x="3347" y="816"/>
                    </a:lnTo>
                    <a:lnTo>
                      <a:pt x="3294" y="823"/>
                    </a:lnTo>
                    <a:lnTo>
                      <a:pt x="3234" y="827"/>
                    </a:lnTo>
                    <a:lnTo>
                      <a:pt x="3169" y="825"/>
                    </a:lnTo>
                    <a:lnTo>
                      <a:pt x="3097" y="818"/>
                    </a:lnTo>
                    <a:lnTo>
                      <a:pt x="3019" y="804"/>
                    </a:lnTo>
                    <a:lnTo>
                      <a:pt x="2974" y="793"/>
                    </a:lnTo>
                    <a:lnTo>
                      <a:pt x="2998" y="808"/>
                    </a:lnTo>
                    <a:lnTo>
                      <a:pt x="3048" y="837"/>
                    </a:lnTo>
                    <a:lnTo>
                      <a:pt x="3094" y="860"/>
                    </a:lnTo>
                    <a:lnTo>
                      <a:pt x="3136" y="877"/>
                    </a:lnTo>
                    <a:lnTo>
                      <a:pt x="3175" y="888"/>
                    </a:lnTo>
                    <a:lnTo>
                      <a:pt x="3212" y="894"/>
                    </a:lnTo>
                    <a:lnTo>
                      <a:pt x="3248" y="894"/>
                    </a:lnTo>
                    <a:lnTo>
                      <a:pt x="3282" y="889"/>
                    </a:lnTo>
                    <a:close/>
                  </a:path>
                </a:pathLst>
              </a:custGeom>
              <a:solidFill>
                <a:srgbClr val="b4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4"/>
            <p:cNvGrpSpPr/>
            <p:nvPr/>
          </p:nvGrpSpPr>
          <p:grpSpPr>
            <a:xfrm>
              <a:off x="0" y="6428160"/>
              <a:ext cx="5580000" cy="429480"/>
              <a:chOff x="0" y="6428160"/>
              <a:chExt cx="5580000" cy="429480"/>
            </a:xfrm>
          </p:grpSpPr>
          <p:sp>
            <p:nvSpPr>
              <p:cNvPr id="190" name="Freeform 15"/>
              <p:cNvSpPr/>
              <p:nvPr/>
            </p:nvSpPr>
            <p:spPr>
              <a:xfrm>
                <a:off x="0" y="6428160"/>
                <a:ext cx="5580000" cy="42948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065" y="923"/>
                    </a:moveTo>
                    <a:lnTo>
                      <a:pt x="5101" y="916"/>
                    </a:lnTo>
                    <a:lnTo>
                      <a:pt x="5136" y="904"/>
                    </a:lnTo>
                    <a:lnTo>
                      <a:pt x="5172" y="887"/>
                    </a:lnTo>
                    <a:lnTo>
                      <a:pt x="5209" y="864"/>
                    </a:lnTo>
                    <a:lnTo>
                      <a:pt x="5247" y="836"/>
                    </a:lnTo>
                    <a:lnTo>
                      <a:pt x="5289" y="803"/>
                    </a:lnTo>
                    <a:lnTo>
                      <a:pt x="5333" y="765"/>
                    </a:lnTo>
                    <a:lnTo>
                      <a:pt x="5378" y="726"/>
                    </a:lnTo>
                    <a:lnTo>
                      <a:pt x="5372" y="731"/>
                    </a:lnTo>
                    <a:lnTo>
                      <a:pt x="5359" y="741"/>
                    </a:lnTo>
                    <a:lnTo>
                      <a:pt x="5341" y="752"/>
                    </a:lnTo>
                    <a:lnTo>
                      <a:pt x="5317" y="766"/>
                    </a:lnTo>
                    <a:lnTo>
                      <a:pt x="5287" y="779"/>
                    </a:lnTo>
                    <a:lnTo>
                      <a:pt x="5252" y="793"/>
                    </a:lnTo>
                    <a:lnTo>
                      <a:pt x="5210" y="805"/>
                    </a:lnTo>
                    <a:lnTo>
                      <a:pt x="5163" y="815"/>
                    </a:lnTo>
                    <a:lnTo>
                      <a:pt x="5110" y="822"/>
                    </a:lnTo>
                    <a:lnTo>
                      <a:pt x="5051" y="825"/>
                    </a:lnTo>
                    <a:lnTo>
                      <a:pt x="4985" y="824"/>
                    </a:lnTo>
                    <a:lnTo>
                      <a:pt x="4913" y="817"/>
                    </a:lnTo>
                    <a:lnTo>
                      <a:pt x="4835" y="803"/>
                    </a:lnTo>
                    <a:lnTo>
                      <a:pt x="4750" y="782"/>
                    </a:lnTo>
                    <a:lnTo>
                      <a:pt x="4660" y="753"/>
                    </a:lnTo>
                    <a:lnTo>
                      <a:pt x="4729" y="797"/>
                    </a:lnTo>
                    <a:lnTo>
                      <a:pt x="4792" y="834"/>
                    </a:lnTo>
                    <a:lnTo>
                      <a:pt x="4848" y="865"/>
                    </a:lnTo>
                    <a:lnTo>
                      <a:pt x="4899" y="889"/>
                    </a:lnTo>
                    <a:lnTo>
                      <a:pt x="4946" y="907"/>
                    </a:lnTo>
                    <a:lnTo>
                      <a:pt x="4988" y="918"/>
                    </a:lnTo>
                    <a:lnTo>
                      <a:pt x="5028" y="923"/>
                    </a:lnTo>
                    <a:lnTo>
                      <a:pt x="5065" y="92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6"/>
              <p:cNvSpPr/>
              <p:nvPr/>
            </p:nvSpPr>
            <p:spPr>
              <a:xfrm>
                <a:off x="0" y="6428160"/>
                <a:ext cx="5580000" cy="42948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2587" y="1358"/>
                    </a:moveTo>
                    <a:lnTo>
                      <a:pt x="2657" y="1323"/>
                    </a:lnTo>
                    <a:lnTo>
                      <a:pt x="2722" y="1284"/>
                    </a:lnTo>
                    <a:lnTo>
                      <a:pt x="2783" y="1241"/>
                    </a:lnTo>
                    <a:lnTo>
                      <a:pt x="2839" y="1194"/>
                    </a:lnTo>
                    <a:lnTo>
                      <a:pt x="2890" y="1143"/>
                    </a:lnTo>
                    <a:lnTo>
                      <a:pt x="2982" y="1050"/>
                    </a:lnTo>
                    <a:lnTo>
                      <a:pt x="3071" y="970"/>
                    </a:lnTo>
                    <a:lnTo>
                      <a:pt x="3156" y="903"/>
                    </a:lnTo>
                    <a:lnTo>
                      <a:pt x="3238" y="846"/>
                    </a:lnTo>
                    <a:lnTo>
                      <a:pt x="3316" y="801"/>
                    </a:lnTo>
                    <a:lnTo>
                      <a:pt x="3391" y="764"/>
                    </a:lnTo>
                    <a:lnTo>
                      <a:pt x="3462" y="737"/>
                    </a:lnTo>
                    <a:lnTo>
                      <a:pt x="3528" y="717"/>
                    </a:lnTo>
                    <a:lnTo>
                      <a:pt x="3590" y="704"/>
                    </a:lnTo>
                    <a:lnTo>
                      <a:pt x="3648" y="697"/>
                    </a:lnTo>
                    <a:lnTo>
                      <a:pt x="3701" y="694"/>
                    </a:lnTo>
                    <a:lnTo>
                      <a:pt x="3749" y="696"/>
                    </a:lnTo>
                    <a:lnTo>
                      <a:pt x="3793" y="701"/>
                    </a:lnTo>
                    <a:lnTo>
                      <a:pt x="3831" y="709"/>
                    </a:lnTo>
                    <a:lnTo>
                      <a:pt x="3863" y="717"/>
                    </a:lnTo>
                    <a:lnTo>
                      <a:pt x="3890" y="726"/>
                    </a:lnTo>
                    <a:lnTo>
                      <a:pt x="3912" y="735"/>
                    </a:lnTo>
                    <a:lnTo>
                      <a:pt x="3927" y="742"/>
                    </a:lnTo>
                    <a:lnTo>
                      <a:pt x="3937" y="748"/>
                    </a:lnTo>
                    <a:lnTo>
                      <a:pt x="3940" y="749"/>
                    </a:lnTo>
                    <a:lnTo>
                      <a:pt x="3882" y="701"/>
                    </a:lnTo>
                    <a:lnTo>
                      <a:pt x="3830" y="657"/>
                    </a:lnTo>
                    <a:lnTo>
                      <a:pt x="3782" y="619"/>
                    </a:lnTo>
                    <a:lnTo>
                      <a:pt x="3737" y="587"/>
                    </a:lnTo>
                    <a:lnTo>
                      <a:pt x="3695" y="560"/>
                    </a:lnTo>
                    <a:lnTo>
                      <a:pt x="3655" y="540"/>
                    </a:lnTo>
                    <a:lnTo>
                      <a:pt x="3616" y="525"/>
                    </a:lnTo>
                    <a:lnTo>
                      <a:pt x="3576" y="517"/>
                    </a:lnTo>
                    <a:lnTo>
                      <a:pt x="3536" y="515"/>
                    </a:lnTo>
                    <a:lnTo>
                      <a:pt x="3494" y="520"/>
                    </a:lnTo>
                    <a:lnTo>
                      <a:pt x="3449" y="531"/>
                    </a:lnTo>
                    <a:lnTo>
                      <a:pt x="3402" y="550"/>
                    </a:lnTo>
                    <a:lnTo>
                      <a:pt x="3349" y="575"/>
                    </a:lnTo>
                    <a:lnTo>
                      <a:pt x="3292" y="608"/>
                    </a:lnTo>
                    <a:lnTo>
                      <a:pt x="3229" y="648"/>
                    </a:lnTo>
                    <a:lnTo>
                      <a:pt x="3158" y="696"/>
                    </a:lnTo>
                    <a:lnTo>
                      <a:pt x="3080" y="751"/>
                    </a:lnTo>
                    <a:lnTo>
                      <a:pt x="2994" y="814"/>
                    </a:lnTo>
                    <a:lnTo>
                      <a:pt x="2898" y="886"/>
                    </a:lnTo>
                    <a:lnTo>
                      <a:pt x="2791" y="965"/>
                    </a:lnTo>
                    <a:lnTo>
                      <a:pt x="2668" y="1034"/>
                    </a:lnTo>
                    <a:lnTo>
                      <a:pt x="2561" y="1080"/>
                    </a:lnTo>
                    <a:lnTo>
                      <a:pt x="2561" y="1369"/>
                    </a:lnTo>
                    <a:lnTo>
                      <a:pt x="2587" y="1358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7"/>
              <p:cNvSpPr/>
              <p:nvPr/>
            </p:nvSpPr>
            <p:spPr>
              <a:xfrm>
                <a:off x="0" y="6428160"/>
                <a:ext cx="5580000" cy="42948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5380" y="725"/>
                    </a:moveTo>
                    <a:lnTo>
                      <a:pt x="5383" y="722"/>
                    </a:lnTo>
                    <a:lnTo>
                      <a:pt x="5378" y="726"/>
                    </a:lnTo>
                    <a:lnTo>
                      <a:pt x="5380" y="725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8"/>
              <p:cNvSpPr/>
              <p:nvPr/>
            </p:nvSpPr>
            <p:spPr>
              <a:xfrm>
                <a:off x="0" y="6428160"/>
                <a:ext cx="5580000" cy="429480"/>
              </a:xfrm>
              <a:custGeom>
                <a:avLst/>
                <a:gdLst>
                  <a:gd name="textAreaLeft" fmla="*/ 0 w 5580000"/>
                  <a:gd name="textAreaRight" fmla="*/ 5580360 w 558000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5382" h="1487">
                    <a:moveTo>
                      <a:pt x="4660" y="753"/>
                    </a:moveTo>
                    <a:lnTo>
                      <a:pt x="4582" y="701"/>
                    </a:lnTo>
                    <a:lnTo>
                      <a:pt x="4496" y="642"/>
                    </a:lnTo>
                    <a:lnTo>
                      <a:pt x="4400" y="576"/>
                    </a:lnTo>
                    <a:lnTo>
                      <a:pt x="4293" y="502"/>
                    </a:lnTo>
                    <a:lnTo>
                      <a:pt x="4186" y="427"/>
                    </a:lnTo>
                    <a:lnTo>
                      <a:pt x="4087" y="359"/>
                    </a:lnTo>
                    <a:lnTo>
                      <a:pt x="3995" y="298"/>
                    </a:lnTo>
                    <a:lnTo>
                      <a:pt x="3909" y="242"/>
                    </a:lnTo>
                    <a:lnTo>
                      <a:pt x="3827" y="192"/>
                    </a:lnTo>
                    <a:lnTo>
                      <a:pt x="3748" y="149"/>
                    </a:lnTo>
                    <a:lnTo>
                      <a:pt x="3672" y="111"/>
                    </a:lnTo>
                    <a:lnTo>
                      <a:pt x="3596" y="79"/>
                    </a:lnTo>
                    <a:lnTo>
                      <a:pt x="3521" y="52"/>
                    </a:lnTo>
                    <a:lnTo>
                      <a:pt x="3443" y="31"/>
                    </a:lnTo>
                    <a:lnTo>
                      <a:pt x="3363" y="16"/>
                    </a:lnTo>
                    <a:lnTo>
                      <a:pt x="3278" y="5"/>
                    </a:lnTo>
                    <a:lnTo>
                      <a:pt x="3189" y="0"/>
                    </a:lnTo>
                    <a:lnTo>
                      <a:pt x="3093" y="0"/>
                    </a:lnTo>
                    <a:lnTo>
                      <a:pt x="2989" y="4"/>
                    </a:lnTo>
                    <a:lnTo>
                      <a:pt x="2876" y="13"/>
                    </a:lnTo>
                    <a:lnTo>
                      <a:pt x="2753" y="28"/>
                    </a:lnTo>
                    <a:lnTo>
                      <a:pt x="2619" y="46"/>
                    </a:lnTo>
                    <a:lnTo>
                      <a:pt x="2561" y="55"/>
                    </a:lnTo>
                    <a:lnTo>
                      <a:pt x="2561" y="596"/>
                    </a:lnTo>
                    <a:lnTo>
                      <a:pt x="2637" y="544"/>
                    </a:lnTo>
                    <a:lnTo>
                      <a:pt x="2753" y="466"/>
                    </a:lnTo>
                    <a:lnTo>
                      <a:pt x="2858" y="397"/>
                    </a:lnTo>
                    <a:lnTo>
                      <a:pt x="2954" y="337"/>
                    </a:lnTo>
                    <a:lnTo>
                      <a:pt x="3042" y="286"/>
                    </a:lnTo>
                    <a:lnTo>
                      <a:pt x="3122" y="244"/>
                    </a:lnTo>
                    <a:lnTo>
                      <a:pt x="3196" y="210"/>
                    </a:lnTo>
                    <a:lnTo>
                      <a:pt x="3267" y="185"/>
                    </a:lnTo>
                    <a:lnTo>
                      <a:pt x="3333" y="169"/>
                    </a:lnTo>
                    <a:lnTo>
                      <a:pt x="3398" y="161"/>
                    </a:lnTo>
                    <a:lnTo>
                      <a:pt x="3463" y="162"/>
                    </a:lnTo>
                    <a:lnTo>
                      <a:pt x="3528" y="171"/>
                    </a:lnTo>
                    <a:lnTo>
                      <a:pt x="3594" y="188"/>
                    </a:lnTo>
                    <a:lnTo>
                      <a:pt x="3664" y="214"/>
                    </a:lnTo>
                    <a:lnTo>
                      <a:pt x="3739" y="247"/>
                    </a:lnTo>
                    <a:lnTo>
                      <a:pt x="3820" y="289"/>
                    </a:lnTo>
                    <a:lnTo>
                      <a:pt x="3907" y="339"/>
                    </a:lnTo>
                    <a:lnTo>
                      <a:pt x="4003" y="396"/>
                    </a:lnTo>
                    <a:lnTo>
                      <a:pt x="4109" y="462"/>
                    </a:lnTo>
                    <a:lnTo>
                      <a:pt x="4225" y="535"/>
                    </a:lnTo>
                    <a:lnTo>
                      <a:pt x="4344" y="606"/>
                    </a:lnTo>
                    <a:lnTo>
                      <a:pt x="4456" y="666"/>
                    </a:lnTo>
                    <a:lnTo>
                      <a:pt x="4561" y="714"/>
                    </a:lnTo>
                    <a:lnTo>
                      <a:pt x="4659" y="753"/>
                    </a:lnTo>
                    <a:lnTo>
                      <a:pt x="4660" y="753"/>
                    </a:lnTo>
                    <a:close/>
                  </a:path>
                </a:pathLst>
              </a:custGeom>
              <a:solidFill>
                <a:srgbClr val="c62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4:40:28Z</dcterms:created>
  <dc:creator>mdrago</dc:creator>
  <dc:description/>
  <dc:language>en-US</dc:language>
  <cp:lastModifiedBy>.</cp:lastModifiedBy>
  <dcterms:modified xsi:type="dcterms:W3CDTF">2011-11-11T17:14:35Z</dcterms:modified>
  <cp:revision>8</cp:revision>
  <dc:subject/>
  <dc:title>LEY 20.545</dc:title>
</cp:coreProperties>
</file>