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16E4-1A38-4DE7-8756-E0C50C0B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2D75-031A-4B39-B6BE-42852D51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E875-BEB2-41D3-9A0B-3433EF1D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8F84-5BDA-41DE-A59F-10709DB7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7175-1EA5-491A-98F9-53D5A49A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D224-CD47-46C2-BA83-F8C0829D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82E2-2211-4F44-AF44-310C0645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BDEA-B479-4A11-8DB0-EF0E8B64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C98C-365E-4809-BF11-963E4AA3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0EF1-4673-43CD-A9BD-8AEA75D9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EF20-52BF-409A-A65D-5DD6C158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8DEC-A87E-4858-94C9-B6E7A95F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C1DD-17CD-4038-94BF-3BCDB748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24C8-99C3-421A-BBA5-D5A7FEAC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9C8C-8692-4DF7-9F0D-3DAD7C6E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550B-414E-47FB-8F88-ECE63967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34DE-12B0-4623-83D6-20C1197D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5573-CF3E-4E39-BF59-D8A9A20B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4438-EAB2-49DF-9337-B617EFFB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DC5B-1EFA-40B5-8A9F-D3B09705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D04A-AF51-4B88-ACD7-E508AD8A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87AC-E6DD-4DDE-AD9E-B44DF592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36B2-25DE-4D1F-B7BA-F5AD28EB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FD80-67C9-4F87-A323-6C36A130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59E3-AB46-460F-9B3B-E4995A9FFF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369B-CFBE-495A-A139-275B27DD28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fdef6"/>
                </a:solidFill>
                <a:latin typeface="Arial"/>
              </a:rPr>
              <a:t>CASO 1 A DESARROLLAR EN CLAS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fesora titular de 56 años, sufre accidente dentro de sala de clases, golpea su cabeza al caerse de una silla, por lo que fue atendida por la ACHS y dada de alta después de 6 meses de licencia médica. De vuelta en su trabajo, no puede asumir como docente porque se da cuenta que tiene falta de estabilidad física y emocional. Durante el tiempo de su ausencia, la reemplazó un profesor plazo fijo quien se destacó en su trabaj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fdef6"/>
                </a:solidFill>
                <a:latin typeface="Arial"/>
              </a:rPr>
              <a:t>TÉRMINO DE LA RELACIÓN LABORAL DE LOS PROFESIONALES DE LOS DOCENT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érdida sobreviniente de alguno de los requisitos de incorporación a una dotación docente. ( art. 65 D.S 453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r supresión de ho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LEY 20.248 / LEY SEP/1º DE FEBRERO DE 2008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ÍCULO 38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IFICA EL ARTÍCULO 72 DEL ESTATUTO DOC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) Incumplimiento Grave de las Obligaciones que impone su función, tales co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No concurrencia del docente a sus labores en forma reiter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Impuntualidades reiteradas del doc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Incumplimiento de las obligaciones docentes  conforme a los planes y programas de estudio  (artículo 20 Nº 1 D.S. 453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Incumplimiento Grave de las Obligaciones que impone la labor docent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andono injustificado del aula de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gación del trabajo docente en otras perso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 u="sng">
                <a:solidFill>
                  <a:srgbClr val="dfdef6"/>
                </a:solidFill>
                <a:uFillTx/>
                <a:latin typeface="Arial"/>
              </a:rPr>
              <a:t>ORDEN DE PRELACIÓN PARA SUPRESIÓN DE HORAS</a:t>
            </a:r>
            <a:r>
              <a:rPr b="0" lang="es-CL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- Los contratas o Plazo fijo. (antigüedad, evaluación, licencias médic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- Titulares más nue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- Inferior Evaluación Doc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ISOS (ART. 40 EST. DOC.), TRASLADOS  (ART. 42 EST. DOC.)Y PERMUTAS( ART.44 EST. DO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mnización de 11 meses. Ley 20.159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perdería al profesor supl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locaría a la Docente frente a curs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Qué sugeriría al sostenedor con respecto a ella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IDENTIFICACIÓN DEL CONFLICTO LABORA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5280" y="1484280"/>
            <a:ext cx="7993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I.  Conflicto entre el individuo y su trabajo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II. Conflicto entre los objetivos de la organización y los objetivos individuales de sus miembros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III. Conflictos entre personas de un mismo cargo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IDENTIFICACIÓN DEL CONFLICTO LABORA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V. Conflictos entre el superior jerárquico y sus subordinados (viceversa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.  Conflictos entre direcciones de establecimientos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I. Conflictos entre la administración central y un establecimiento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II. Conflictos entre un trabajador y un externo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dfdef6"/>
                </a:solidFill>
                <a:uFillTx/>
                <a:latin typeface="Arial"/>
              </a:rPr>
              <a:t>SITUACIONES QUE SE PRESENTAN ANTE UNA DOTACIÓN DOCENTE</a:t>
            </a:r>
            <a:r>
              <a:rPr b="0" lang="es-CL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MIS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RT. 40, 41 Y 42  EST. DOC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ON GOCE DE SUEL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SIN GOCE DE SUEL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SLAD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RT. 42 EST. DOC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ADECUACIÓN DE LA DOT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MUTA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T.44 EST. DOCEN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dfdef6"/>
                </a:solidFill>
                <a:uFillTx/>
                <a:latin typeface="Arial"/>
              </a:rPr>
              <a:t>SITUACIONES QUE SE PRESENTAN ANTE UNA DOTACIÓN DOCENT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ALISIS DE CASOS PARA TRABAJAR DURANTE LA CL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RTICULO 130 DECRETO SUPREMO 4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docentes que realicen docencia de aula efectiva, podrán reducirla aun máximo de 24 horas cronológicas semanales, debiendo destinar el resto de su horario a actividades curriculares no lec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ducción de docencia de aula efectiva deberá ser solicitada expresamente por el docente y surtirá efecto a partir  del año escolar  siguiente o, en el año respectivo cuando no se produjere menoscabo en la atención docent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dfdef6"/>
                </a:solidFill>
                <a:uFillTx/>
                <a:latin typeface="Arial"/>
              </a:rPr>
              <a:t>SITUACIONES QUE SE PRESENTAN ANTE UNA DOTACIÓN DOCENT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RTÍCULO 69 INC. 6º ESTATUTO DOCENTE, AÑO 19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docencia de aula efectiva que realicen los docentes con 30 o más años de servicios, se reducirá a petición del interesado a un máximo de hasta 24 horas, debiendo asignarse el resto de su horario a actividades curriculares no lectivas, lo que regirá a partir del año escolar siguiente, o en el año respectivo si no se produjere menoscabo a la atención docent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fdef6"/>
                </a:solidFill>
                <a:latin typeface="Arial"/>
              </a:rPr>
              <a:t>TÉRMINO DE LA RELACIÓN LABORAL DE LOS PROFESIONALES DE LA EDUCACION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0042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RT. 72: Los profesionales de la educación que forman parte de la dotación docente del sector municipal, dejarán de pertenecer a ella solamente por las siguientes caus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nuncia volun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alta de probidad, conducta inmoral o (</a:t>
            </a: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incumplimiento grave de las obligaciones que impone su función), establecidas fehacientemente en un sumario, de acuerdo l procedimiento establecido en la Ley 18.88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fdef6"/>
                </a:solidFill>
                <a:latin typeface="Arial"/>
              </a:rPr>
              <a:t>TÉRMINO DE LA RELACIÓN LABORAL DE LOS PROFESIONALES DE LOS DOCENT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érmino del plazo por el cual se efectuó el contra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tención de jubilación, pensión o renta vitalicia de un régimen previsional, en relación a las labores doc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alle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rcera evaluación insatisfact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alud Irrecuperable o Incompatible con el desempeño de sus fun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6:34:55Z</dcterms:created>
  <dc:creator>Corporación de Desarrollo Social de Buin</dc:creator>
  <dc:description/>
  <dc:language>en-US</dc:language>
  <cp:lastModifiedBy>mdrago</cp:lastModifiedBy>
  <dcterms:modified xsi:type="dcterms:W3CDTF">2011-11-11T14:59:12Z</dcterms:modified>
  <cp:revision>24</cp:revision>
  <dc:subject/>
  <dc:title>MANTENCION UN COMPROMISO DE GESTION</dc:title>
</cp:coreProperties>
</file>