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1B60-BC36-4222-8AD6-34F0FE6A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8479-4FBA-47B5-8BDD-D658F990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2EAB-0F26-47D4-8515-FEDE4039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74EA-4BE0-4622-96BC-376E6E0D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BFF5-7708-4C2A-A7DB-04FAA533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FF4B-C9C4-422C-A1C2-18AE9DC9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F518-AE00-42E1-80B6-47F2644B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5AC4-ACD2-4B5F-99A0-3D1AE006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40CC-0EED-43D1-9818-8DB52C9D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914F-AC77-4350-8E89-ACA7DE98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88D3-30E5-4752-8037-2A1DD796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AD56-9EF2-42CC-A903-8880C98D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AFD5-7BC3-4249-9AB1-93E55645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43E1-0FFA-4BBB-B9F5-1FB72BF0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BBDE-FE22-45DD-AFBE-B5D70AFD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3A45-CFA9-486A-B5AC-38C0BFD1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2541-34EF-4383-8C5C-64FEFAC5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8CC9-AA04-4E25-AC1E-CD803F0F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9089-1926-433F-985B-19B0F1F3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6896-6C77-4B92-BCD7-447720DA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C868-7E82-44B2-9826-10546812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833B-F513-40FA-84A4-44DEBC20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6D40-8913-49D7-99F5-79BC95D3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FA2F-BF92-47CD-BA61-BDF4037A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FC60-4C20-4BFA-AE03-F4D2F7BE7F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80E5-6B8F-4277-916D-5B8691E84B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fdef6"/>
                </a:solidFill>
                <a:latin typeface="Arial"/>
              </a:rPr>
              <a:t>CASO 1 A DESARROLLAR EN CLA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fesora titular de 56 años, sufre accidente dentro de sala de clases, golpea su cabeza al caerse de una silla, por lo que fue atendida por la ACHS y dada de alta después de 6 meses de licencia médica. De vuelta en su trabajo, no puede asumir como docente porque se da cuenta que tiene falta de estabilidad física y emocional. Durante el tiempo de su ausencia, la reemplazó un profesor plazo fijo quien se destacó en su trabaj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érdida sobreviniente de alguno de los requisitos de incorporación a una dotación docente. ( art. 65 D.S 453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r supresión de h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LEY 20.248 / LEY SEP/1º DE FEBRERO DE 2008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ÍCULO 38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IFICA EL ARTÍCULO 72 DEL ESTATUTO DO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) Incumplimiento Grave de las Obligaciones que impone su función, tales co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No concurrencia del docente a sus labores en forma reiter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Impuntualidades reiteradas del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Incumplimiento de las obligaciones docentes  conforme a los planes y programas de estudio  (artículo 20 Nº 1 D.S. 453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ncumplimiento Grave de las Obligaciones que impone la labor docen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andono injustificado del aula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gación del trabajo docente en otras pers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 u="sng">
                <a:solidFill>
                  <a:srgbClr val="dfdef6"/>
                </a:solidFill>
                <a:uFillTx/>
                <a:latin typeface="Arial"/>
              </a:rPr>
              <a:t>ORDEN DE PRELACIÓN PARA SUPRESIÓN DE HORAS</a:t>
            </a:r>
            <a:r>
              <a:rPr b="0" lang="es-C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- Los contratas o Plazo fijo. (antigüedad, evaluación, licencias médic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- Titulares más nue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- Inferior Evaluación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SOS (ART. 40 EST. DOC.), TRASLADOS  (ART. 42 EST. DOC.)Y PERMUTAS( ART.44 EST. DO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mnización de 11 meses. Ley 20.159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perdería al profesor supl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locaría a la Docente frente a curs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Qué sugeriría al sostenedor con respecto a ell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DENTIFICACIÓN DEL CONFLICTO LABORA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1484280"/>
            <a:ext cx="7993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.  Conflicto entre el individuo y su trabaj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I. Conflicto entre los objetivos de la organización y los objetivos individuales de sus miembros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II. Conflictos entre personas de un mismo carg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DENTIFICACIÓN DEL CONFLICTO LABORA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V. Conflictos entre el superior jerárquico y sus subordinados (viceversa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.  Conflictos entre direcciones de establecimientos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. Conflictos entre la administración central y un establecimient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I. Conflictos entre un trabajador y un extern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r>
              <a:rPr b="0" lang="es-C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MIS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RT. 40, 41 Y 42  EST. DO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 GOCE DE SUEL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IN GOCE DE SUEL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SLAD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RT. 42 EST. DO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ADECUACIÓN DE LA DOT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MUTA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T.44 EST. DOC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ALISIS DE CASOS PARA TRABAJAR DURANTE LA CL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TICULO 130 DECRETO SUPREMO 4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docentes que realicen docencia de aula efectiva, podrán reducirla aun máximo de 24 horas cronológicas semanales, debiendo destinar el resto de su horario a actividades curriculares no lec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ducción de docencia de aula efectiva deberá ser solicitada expresamente por el docente y surtirá efecto a partir  del año escolar  siguiente o, en el año respectivo cuando no se produjere menoscabo en la atención docent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TÍCULO 69 INC. 6º ESTATUTO DOCENTE, AÑO 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docencia de aula efectiva que realicen los docentes con 30 o más años de servicios, se reducirá a petición del interesado a un máximo de hasta 24 horas, debiendo asignarse el resto de su horario a actividades curriculares no lectivas, lo que regirá a partir del año escolar siguiente, o en el año respectivo si no se produjere menoscabo a la atención docent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A EDUCACION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004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T. 72: Los profesionales de la educación que forman parte de la dotación docente del sector municipal, dejarán de pertenecer a ella solamente por las siguientes caus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nuncia volun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alta de probidad, conducta inmoral o (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incumplimiento grave de las obligaciones que impone su función), establecidas fehacientemente en un sumario, de acuerdo l procedimiento establecido en la Ley 18.8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érmino del plazo por el cual se efectuó el contra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tención de jubilación, pensión o renta vitalicia de un régimen previsional, en relación a las labores doc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e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rcera evaluación insatisfac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alud Irrecuperable o Incompatible con el desempeño de sus fun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6:34:55Z</dcterms:created>
  <dc:creator>Corporación de Desarrollo Social de Buin</dc:creator>
  <dc:description/>
  <dc:language>en-US</dc:language>
  <cp:lastModifiedBy>mdrago</cp:lastModifiedBy>
  <dcterms:modified xsi:type="dcterms:W3CDTF">2011-11-11T14:59:12Z</dcterms:modified>
  <cp:revision>24</cp:revision>
  <dc:subject/>
  <dc:title>MANTENCION UN COMPROMISO DE GESTION</dc:title>
</cp:coreProperties>
</file>