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9633-0802-4437-9B7C-45207328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57DA-573F-40CB-AF8D-26C26218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2BA5-589B-4E53-8BF8-28D6E68D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3868-C14A-4DA3-98CA-253B3E38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6A9D-5843-4FBE-926D-530F9F6F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1635-EA0C-407D-83BB-EB805D20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21C0-09A0-4030-8C51-3A8DC96A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58B5-25A2-4913-8372-91D6BE00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6E51-7032-4130-8C0F-213C7EA8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2892-35CD-4950-B1B8-58FD28B6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9C2C-2E03-4D86-8FB4-3C1B180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FB55-66B5-46FF-B534-9F3A62CA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2387-027C-4FCB-90E8-0F95B99B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D389-2BA5-4AE8-B23D-F4456676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012C-EC3B-4D2A-B51E-84423AA0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E6DB-16D0-4D0C-8737-29F38774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0744-FD80-4038-AEC4-60F8FE63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0510-9C4F-4CD2-B41D-49D6BE6F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DAD2-3059-4316-A5DF-3BE5187F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042D-A3B3-47A7-9775-2D550277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C006-C277-492A-8E1C-F0831494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EFCF-9FE1-474D-864E-5CCEC418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6A38-FEB1-4240-8A30-AA55816B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19E5-80B6-47A8-8D68-9BA82FAE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8466-99B1-4234-8E07-C1C83A29A1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E891-DE87-4066-B6A7-5C4BC273D1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dfdef6"/>
                </a:solidFill>
                <a:latin typeface="Arial"/>
              </a:rPr>
              <a:t>CASO 1 A DESARROLLAR EN CL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fesora titular de 56 años, sufre accidente dentro de sala de clases, golpea su cabeza al caerse de una silla, por lo que fue atendida por la ACHS y dada de alta después de 6 meses de licencia médica. De vuelta en su trabajo, no puede asumir como docente porque se da cuenta que tiene falta de estabilidad física y emocional. Durante el tiempo de su ausencia, la reemplazó un profesor plazo fijo quien se destacó en su trabaj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érdida sobreviniente de alguno de los requisitos de incorporación a una dotación docente. ( art. 65 D.S 453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r supresión de h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LEY 20.248 / LEY SEP/1º DE FEBRERO DE 2008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ÍCULO 38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IFICA EL ARTÍCULO 72 DEL ESTATUT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) Incumplimiento Grave de las Obligaciones que impone su función, tales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No concurrencia del docente a sus labores en forma reiter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mpuntualidades reiteradas del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*Incumplimiento de las obligaciones docentes  conforme a los planes y programas de estudio  (artículo 20 Nº 1 D.S. 453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ncumplimiento Grave de las Obligaciones que impone la labor docen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andono injustificado del aula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gación del trabajo docente en otras pers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 u="sng">
                <a:solidFill>
                  <a:srgbClr val="dfdef6"/>
                </a:solidFill>
                <a:uFillTx/>
                <a:latin typeface="Arial"/>
              </a:rPr>
              <a:t>ORDEN DE PRELACIÓN PARA SUPRESIÓN DE HORAS</a:t>
            </a:r>
            <a:r>
              <a:rPr b="0" lang="es-C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- Los contratas o Plazo fijo. (antigüedad, evaluación, licencias médic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- Titulares más nue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- Inferior Evaluación Doc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SOS (ART. 40 EST. DOC.), TRASLADOS  (ART. 42 EST. DOC.)Y PERMUTAS( ART.44 EST. DO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mnización de 11 meses. Ley 20.159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perdería al profesor supl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ocaría a la Docente frente a curs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Qué sugeriría al sostenedor con respecto a ell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1484280"/>
            <a:ext cx="7993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.  Conflicto entre el individuo y su trabaj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. Conflicto entre los objetivos de la organización y los objetivos individuales de sus miembros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III. Conflictos entre personas de un mismo carg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IDENTIFICACIÓN DEL CONFLICTO LABORAL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V. Conflictos entre el superior jerárquico y sus subordinados (viceversa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.  Conflictos entre direcciones de establecimientos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. Conflictos entre la administración central y un establecimient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I. Conflictos entre un trabajador y un extern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r>
              <a:rPr b="0" lang="es-C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MIS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RT. 40, 41 Y 42  EST. DO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 GOCE DE SUEL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IN GOCE DE SUEL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SLAD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RT. 42 EST. DO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ADECUACIÓN DE LA DOT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MUTA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T.44 EST. DOC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ALISIS DE CASOS PARA TRABAJAR DURANTE LA CL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TICULO 130 DECRETO SUPREMO 4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docentes que realicen docencia de aula efectiva, podrán reducirla aun máximo de 24 horas cronológicas semanales, debiendo destinar el resto de su horario a actividades curriculares no lec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ducción de docencia de aula efectiva deberá ser solicitada expresamente por el docente y surtirá efecto a partir  del año escolar  siguiente o, en el año respectivo cuando no se produjere menoscabo en la atención docent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dfdef6"/>
                </a:solidFill>
                <a:uFillTx/>
                <a:latin typeface="Arial"/>
              </a:rPr>
              <a:t>SITUACIONES QUE SE PRESENTAN ANTE UNA DOTACIÓN DOCENT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ÍCULO 69 INC. 6º ESTATUTO DOCENTE, AÑO 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docencia de aula efectiva que realicen los docentes con 30 o más años de servicios, se reducirá a petición del interesado a un máximo de hasta 24 horas, debiendo asignarse el resto de su horario a actividades curriculares no lectivas, lo que regirá a partir del año escolar siguiente, o en el año respectivo si no se produjere menoscabo a la atención docent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A EDUCACIO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004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T. 72: Los profesionales de la educación que forman parte de la dotación docente del sector municipal, dejarán de pertenecer a ella solamente por las siguientes caus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nuncia volun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alta de probidad, conducta inmoral o (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incumplimiento grave de las obligaciones que impone su función), establecidas fehacientemente en un sumario, de acuerdo l procedimiento establecido en la Ley 18.8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fdef6"/>
                </a:solidFill>
                <a:latin typeface="Arial"/>
              </a:rPr>
              <a:t>TÉRMINO DE LA RELACIÓN LABORAL DE LOS PROFESIONALES DE LOS DOCENT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érmino del plazo por el cual se efectuó el contra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tención de jubilación, pensión o renta vitalicia de un régimen previsional, en relación a las labores doc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e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rcera evaluación insatisfac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alud Irrecuperable o Incompatible con el desempeño de sus fun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6:34:55Z</dcterms:created>
  <dc:creator>Corporación de Desarrollo Social de Buin</dc:creator>
  <dc:description/>
  <dc:language>en-US</dc:language>
  <cp:lastModifiedBy>mdrago</cp:lastModifiedBy>
  <dcterms:modified xsi:type="dcterms:W3CDTF">2011-11-11T14:59:12Z</dcterms:modified>
  <cp:revision>24</cp:revision>
  <dc:subject/>
  <dc:title>MANTENCION UN COMPROMISO DE GESTION</dc:title>
</cp:coreProperties>
</file>