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11.wmf" ContentType="image/x-wmf"/>
  <Override PartName="/ppt/media/image8.wmf" ContentType="image/x-wmf"/>
  <Override PartName="/ppt/media/image38.wmf" ContentType="image/x-wmf"/>
  <Override PartName="/ppt/media/image13.png" ContentType="image/png"/>
  <Override PartName="/ppt/media/image52.jpeg" ContentType="image/jpeg"/>
  <Override PartName="/ppt/media/image49.wmf" ContentType="image/x-wmf"/>
  <Override PartName="/ppt/media/image36.wmf" ContentType="image/x-wmf"/>
  <Override PartName="/ppt/media/image47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28.wmf" ContentType="image/x-wmf"/>
  <Override PartName="/ppt/media/image60.jpeg" ContentType="image/jpeg"/>
  <Override PartName="/ppt/media/image34.wmf" ContentType="image/x-wmf"/>
  <Override PartName="/ppt/media/image4.wmf" ContentType="image/x-wmf"/>
  <Override PartName="/ppt/media/image24.wmf" ContentType="image/x-wmf"/>
  <Override PartName="/ppt/media/image7.wmf" ContentType="image/x-wmf"/>
  <Override PartName="/ppt/media/image32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6.wmf" ContentType="image/x-wmf"/>
  <Override PartName="/ppt/media/image18.wmf" ContentType="image/x-wmf"/>
  <Override PartName="/ppt/media/image1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6.png" ContentType="image/png"/>
  <Override PartName="/ppt/media/image27.wmf" ContentType="image/x-wmf"/>
  <Override PartName="/ppt/media/image15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59.jpeg" ContentType="image/jpeg"/>
  <Override PartName="/ppt/media/image40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12.wmf" ContentType="image/x-wmf"/>
  <Override PartName="/ppt/media/image55.png" ContentType="image/png"/>
  <Override PartName="/ppt/media/image3.wmf" ContentType="image/x-wmf"/>
  <Override PartName="/ppt/media/image46.jpeg" ContentType="image/jpeg"/>
  <Override PartName="/ppt/media/image48.jpeg" ContentType="image/jpeg"/>
  <Override PartName="/ppt/media/image29.png" ContentType="image/png"/>
  <Override PartName="/ppt/media/image51.wmf" ContentType="image/x-wmf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58.jpeg" ContentType="image/jpeg"/>
  <Override PartName="/ppt/media/image3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90F-76F6-404D-AF3D-F2E320CC38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0A5-6BBD-47FD-AC0F-91AED59347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013-3F31-410C-B634-605E52EEBE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toma el tema de dfi por su importa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ller con caso practico, se espera los a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icar metodologí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todología escrita y trabajo sobre 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85E-727B-4FC6-AB91-14AE31E331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2346480" y="1598760"/>
            <a:ext cx="2170080" cy="16272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3420-AC42-47E8-BD7D-11AC2E130A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180-1D6C-4BB2-95BC-DBA3BDE5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A5B-0C80-40AF-BB75-EB8AA80C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63B-91FC-4EFA-AF16-AF4595B5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39C-C621-46C8-ABC2-2908E36B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CCFE-EA79-4113-B8E4-FD8D498C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31B3-3DBE-4A18-8F66-3A1F2738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CDEB-61D2-4600-B6CB-BCF311C4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F07-9272-4F58-AAAB-2C3DD75B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421-EF8B-4311-8960-6D96CCA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44CA-1A3B-4AF9-84B6-01FEDDD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8BFB-8922-4957-BBA5-9891A00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04B-B0DD-4CD4-A5F3-C156416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7BB-8F30-4714-AF82-00D0AA8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7488-7721-42DB-9B12-6FE09C0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186-CFCF-433F-9843-E5501C7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533-400D-41BE-864D-E8D1F3BC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ACD-BB32-4FE0-9772-824658C1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53E-866A-46EB-A47F-A9378E5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FFA-389D-485C-BBDC-884FE24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3BF-CCC2-486C-98CA-991C317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836-AE96-41E9-82CC-341A46E9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11C-AD1A-4F0D-B7E5-E0DF0D3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255-C9DE-4766-98B4-1503A97D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423-B035-4B50-B38F-BF8EEB6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0C9-88AC-44C9-913D-3328621DD2B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5"/>
          <p:cNvGraphicFramePr/>
          <p:nvPr/>
        </p:nvGraphicFramePr>
        <p:xfrm>
          <a:off x="7086600" y="6248520"/>
          <a:ext cx="190512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248520"/>
                    <a:ext cx="19051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E3C-EAD3-4492-9F3E-12DA7414117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image" Target="../media/image3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4.wmf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6.wmf"/><Relationship Id="rId18" Type="http://schemas.openxmlformats.org/officeDocument/2006/relationships/image" Target="../media/image37.png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8.wmf"/><Relationship Id="rId21" Type="http://schemas.openxmlformats.org/officeDocument/2006/relationships/image" Target="../media/image39.png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40.wmf"/><Relationship Id="rId24" Type="http://schemas.openxmlformats.org/officeDocument/2006/relationships/image" Target="../media/image41.png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2.wmf"/><Relationship Id="rId2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gif"/><Relationship Id="rId3" Type="http://schemas.openxmlformats.org/officeDocument/2006/relationships/image" Target="../media/image49.wmf"/><Relationship Id="rId4" Type="http://schemas.openxmlformats.org/officeDocument/2006/relationships/image" Target="../media/image50.gi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gif"/><Relationship Id="rId3" Type="http://schemas.openxmlformats.org/officeDocument/2006/relationships/image" Target="../media/image49.wmf"/><Relationship Id="rId4" Type="http://schemas.openxmlformats.org/officeDocument/2006/relationships/image" Target="../media/image50.gi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59.jpeg"/><Relationship Id="rId6" Type="http://schemas.openxmlformats.org/officeDocument/2006/relationships/image" Target="../media/image59.jpeg"/><Relationship Id="rId7" Type="http://schemas.openxmlformats.org/officeDocument/2006/relationships/image" Target="../media/image59.jpeg"/><Relationship Id="rId8" Type="http://schemas.openxmlformats.org/officeDocument/2006/relationships/image" Target="../media/image59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70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006633"/>
                </a:solidFill>
                <a:latin typeface="Garamond"/>
              </a:rPr>
              <a:t>Aplicación de Redes Neuronales en la Aduana del Perú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39560" y="57164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6633"/>
                </a:solidFill>
                <a:latin typeface="Times New Roman"/>
              </a:rPr>
              <a:t>Juli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3048120" y="4114800"/>
          <a:ext cx="3429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11480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10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Selección de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bjetivo es determinar los atributos realmente relacionados con el ob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eficientes de corre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eficientes de determ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s chi cuadrado de indepen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de vari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10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Model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Árboles de 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re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gres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gresiones log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des Neur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ceptrón Multica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pport Vector Machines (SV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delos Bayesia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delos de Asoci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Qué son las Redes Neuronal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01" name="Group 32"/>
          <p:cNvGrpSpPr/>
          <p:nvPr/>
        </p:nvGrpSpPr>
        <p:grpSpPr>
          <a:xfrm>
            <a:off x="2666880" y="2200680"/>
            <a:ext cx="3774960" cy="2182320"/>
            <a:chOff x="2666880" y="2200680"/>
            <a:chExt cx="3774960" cy="2182320"/>
          </a:xfrm>
        </p:grpSpPr>
        <p:sp>
          <p:nvSpPr>
            <p:cNvPr id="1302" name="Freeform 4"/>
            <p:cNvSpPr/>
            <p:nvPr/>
          </p:nvSpPr>
          <p:spPr>
            <a:xfrm rot="18815400">
              <a:off x="3828600" y="2502720"/>
              <a:ext cx="1510920" cy="1577880"/>
            </a:xfrm>
            <a:custGeom>
              <a:avLst/>
              <a:gdLst>
                <a:gd name="textAreaLeft" fmla="*/ 0 w 1510920"/>
                <a:gd name="textAreaRight" fmla="*/ 1511280 w 151092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428" h="1418">
                  <a:moveTo>
                    <a:pt x="458" y="617"/>
                  </a:moveTo>
                  <a:cubicBezTo>
                    <a:pt x="460" y="584"/>
                    <a:pt x="460" y="551"/>
                    <a:pt x="464" y="518"/>
                  </a:cubicBezTo>
                  <a:cubicBezTo>
                    <a:pt x="474" y="444"/>
                    <a:pt x="565" y="443"/>
                    <a:pt x="620" y="432"/>
                  </a:cubicBezTo>
                  <a:cubicBezTo>
                    <a:pt x="652" y="382"/>
                    <a:pt x="628" y="332"/>
                    <a:pt x="591" y="299"/>
                  </a:cubicBezTo>
                  <a:cubicBezTo>
                    <a:pt x="518" y="234"/>
                    <a:pt x="458" y="216"/>
                    <a:pt x="360" y="207"/>
                  </a:cubicBezTo>
                  <a:cubicBezTo>
                    <a:pt x="314" y="195"/>
                    <a:pt x="280" y="198"/>
                    <a:pt x="395" y="190"/>
                  </a:cubicBezTo>
                  <a:cubicBezTo>
                    <a:pt x="400" y="175"/>
                    <a:pt x="395" y="154"/>
                    <a:pt x="406" y="143"/>
                  </a:cubicBezTo>
                  <a:cubicBezTo>
                    <a:pt x="410" y="139"/>
                    <a:pt x="409" y="155"/>
                    <a:pt x="412" y="161"/>
                  </a:cubicBezTo>
                  <a:cubicBezTo>
                    <a:pt x="421" y="179"/>
                    <a:pt x="425" y="179"/>
                    <a:pt x="441" y="190"/>
                  </a:cubicBezTo>
                  <a:cubicBezTo>
                    <a:pt x="460" y="218"/>
                    <a:pt x="494" y="217"/>
                    <a:pt x="522" y="236"/>
                  </a:cubicBezTo>
                  <a:cubicBezTo>
                    <a:pt x="559" y="228"/>
                    <a:pt x="551" y="227"/>
                    <a:pt x="562" y="195"/>
                  </a:cubicBezTo>
                  <a:cubicBezTo>
                    <a:pt x="559" y="159"/>
                    <a:pt x="566" y="110"/>
                    <a:pt x="539" y="80"/>
                  </a:cubicBezTo>
                  <a:cubicBezTo>
                    <a:pt x="467" y="0"/>
                    <a:pt x="531" y="70"/>
                    <a:pt x="487" y="34"/>
                  </a:cubicBezTo>
                  <a:cubicBezTo>
                    <a:pt x="481" y="29"/>
                    <a:pt x="476" y="22"/>
                    <a:pt x="470" y="17"/>
                  </a:cubicBezTo>
                  <a:cubicBezTo>
                    <a:pt x="465" y="12"/>
                    <a:pt x="448" y="10"/>
                    <a:pt x="453" y="5"/>
                  </a:cubicBezTo>
                  <a:cubicBezTo>
                    <a:pt x="454" y="4"/>
                    <a:pt x="489" y="15"/>
                    <a:pt x="493" y="17"/>
                  </a:cubicBezTo>
                  <a:cubicBezTo>
                    <a:pt x="536" y="38"/>
                    <a:pt x="566" y="51"/>
                    <a:pt x="614" y="57"/>
                  </a:cubicBezTo>
                  <a:cubicBezTo>
                    <a:pt x="589" y="82"/>
                    <a:pt x="590" y="102"/>
                    <a:pt x="585" y="138"/>
                  </a:cubicBezTo>
                  <a:cubicBezTo>
                    <a:pt x="587" y="178"/>
                    <a:pt x="584" y="219"/>
                    <a:pt x="591" y="259"/>
                  </a:cubicBezTo>
                  <a:cubicBezTo>
                    <a:pt x="598" y="297"/>
                    <a:pt x="651" y="323"/>
                    <a:pt x="683" y="334"/>
                  </a:cubicBezTo>
                  <a:cubicBezTo>
                    <a:pt x="702" y="332"/>
                    <a:pt x="722" y="331"/>
                    <a:pt x="741" y="328"/>
                  </a:cubicBezTo>
                  <a:cubicBezTo>
                    <a:pt x="747" y="327"/>
                    <a:pt x="764" y="322"/>
                    <a:pt x="758" y="322"/>
                  </a:cubicBezTo>
                  <a:cubicBezTo>
                    <a:pt x="750" y="322"/>
                    <a:pt x="743" y="326"/>
                    <a:pt x="735" y="328"/>
                  </a:cubicBezTo>
                  <a:cubicBezTo>
                    <a:pt x="717" y="340"/>
                    <a:pt x="703" y="344"/>
                    <a:pt x="683" y="351"/>
                  </a:cubicBezTo>
                  <a:cubicBezTo>
                    <a:pt x="652" y="373"/>
                    <a:pt x="652" y="396"/>
                    <a:pt x="666" y="438"/>
                  </a:cubicBezTo>
                  <a:cubicBezTo>
                    <a:pt x="670" y="449"/>
                    <a:pt x="734" y="467"/>
                    <a:pt x="753" y="472"/>
                  </a:cubicBezTo>
                  <a:cubicBezTo>
                    <a:pt x="757" y="478"/>
                    <a:pt x="757" y="489"/>
                    <a:pt x="764" y="490"/>
                  </a:cubicBezTo>
                  <a:cubicBezTo>
                    <a:pt x="834" y="499"/>
                    <a:pt x="905" y="463"/>
                    <a:pt x="972" y="449"/>
                  </a:cubicBezTo>
                  <a:cubicBezTo>
                    <a:pt x="1104" y="459"/>
                    <a:pt x="1047" y="459"/>
                    <a:pt x="989" y="472"/>
                  </a:cubicBezTo>
                  <a:cubicBezTo>
                    <a:pt x="954" y="496"/>
                    <a:pt x="914" y="494"/>
                    <a:pt x="874" y="507"/>
                  </a:cubicBezTo>
                  <a:cubicBezTo>
                    <a:pt x="855" y="513"/>
                    <a:pt x="822" y="536"/>
                    <a:pt x="822" y="536"/>
                  </a:cubicBezTo>
                  <a:cubicBezTo>
                    <a:pt x="810" y="569"/>
                    <a:pt x="809" y="605"/>
                    <a:pt x="799" y="640"/>
                  </a:cubicBezTo>
                  <a:cubicBezTo>
                    <a:pt x="809" y="674"/>
                    <a:pt x="835" y="697"/>
                    <a:pt x="845" y="726"/>
                  </a:cubicBezTo>
                  <a:cubicBezTo>
                    <a:pt x="856" y="756"/>
                    <a:pt x="873" y="792"/>
                    <a:pt x="897" y="813"/>
                  </a:cubicBezTo>
                  <a:cubicBezTo>
                    <a:pt x="919" y="832"/>
                    <a:pt x="965" y="848"/>
                    <a:pt x="983" y="870"/>
                  </a:cubicBezTo>
                  <a:cubicBezTo>
                    <a:pt x="1005" y="898"/>
                    <a:pt x="993" y="887"/>
                    <a:pt x="1018" y="905"/>
                  </a:cubicBezTo>
                  <a:cubicBezTo>
                    <a:pt x="1034" y="930"/>
                    <a:pt x="1065" y="958"/>
                    <a:pt x="1087" y="980"/>
                  </a:cubicBezTo>
                  <a:cubicBezTo>
                    <a:pt x="1097" y="1007"/>
                    <a:pt x="1128" y="1026"/>
                    <a:pt x="1151" y="1043"/>
                  </a:cubicBezTo>
                  <a:cubicBezTo>
                    <a:pt x="1184" y="1097"/>
                    <a:pt x="1140" y="1033"/>
                    <a:pt x="1179" y="1066"/>
                  </a:cubicBezTo>
                  <a:cubicBezTo>
                    <a:pt x="1206" y="1088"/>
                    <a:pt x="1224" y="1123"/>
                    <a:pt x="1249" y="1147"/>
                  </a:cubicBezTo>
                  <a:cubicBezTo>
                    <a:pt x="1267" y="1184"/>
                    <a:pt x="1285" y="1240"/>
                    <a:pt x="1318" y="1263"/>
                  </a:cubicBezTo>
                  <a:cubicBezTo>
                    <a:pt x="1326" y="1286"/>
                    <a:pt x="1333" y="1295"/>
                    <a:pt x="1353" y="1309"/>
                  </a:cubicBezTo>
                  <a:cubicBezTo>
                    <a:pt x="1359" y="1317"/>
                    <a:pt x="1365" y="1324"/>
                    <a:pt x="1370" y="1332"/>
                  </a:cubicBezTo>
                  <a:cubicBezTo>
                    <a:pt x="1378" y="1343"/>
                    <a:pt x="1393" y="1366"/>
                    <a:pt x="1393" y="1366"/>
                  </a:cubicBezTo>
                  <a:cubicBezTo>
                    <a:pt x="1401" y="1390"/>
                    <a:pt x="1410" y="1401"/>
                    <a:pt x="1428" y="1418"/>
                  </a:cubicBezTo>
                  <a:cubicBezTo>
                    <a:pt x="1421" y="1390"/>
                    <a:pt x="1411" y="1382"/>
                    <a:pt x="1387" y="1366"/>
                  </a:cubicBezTo>
                  <a:cubicBezTo>
                    <a:pt x="1363" y="1330"/>
                    <a:pt x="1316" y="1320"/>
                    <a:pt x="1289" y="1286"/>
                  </a:cubicBezTo>
                  <a:cubicBezTo>
                    <a:pt x="1258" y="1247"/>
                    <a:pt x="1253" y="1181"/>
                    <a:pt x="1214" y="1153"/>
                  </a:cubicBezTo>
                  <a:cubicBezTo>
                    <a:pt x="1206" y="1141"/>
                    <a:pt x="1199" y="1130"/>
                    <a:pt x="1191" y="1118"/>
                  </a:cubicBezTo>
                  <a:cubicBezTo>
                    <a:pt x="1177" y="1096"/>
                    <a:pt x="1124" y="1081"/>
                    <a:pt x="1104" y="1055"/>
                  </a:cubicBezTo>
                  <a:cubicBezTo>
                    <a:pt x="1084" y="1030"/>
                    <a:pt x="1070" y="991"/>
                    <a:pt x="1047" y="968"/>
                  </a:cubicBezTo>
                  <a:cubicBezTo>
                    <a:pt x="1034" y="955"/>
                    <a:pt x="980" y="918"/>
                    <a:pt x="960" y="905"/>
                  </a:cubicBezTo>
                  <a:cubicBezTo>
                    <a:pt x="948" y="886"/>
                    <a:pt x="869" y="829"/>
                    <a:pt x="845" y="813"/>
                  </a:cubicBezTo>
                  <a:cubicBezTo>
                    <a:pt x="835" y="784"/>
                    <a:pt x="816" y="747"/>
                    <a:pt x="787" y="732"/>
                  </a:cubicBezTo>
                  <a:cubicBezTo>
                    <a:pt x="769" y="723"/>
                    <a:pt x="735" y="703"/>
                    <a:pt x="735" y="703"/>
                  </a:cubicBezTo>
                  <a:cubicBezTo>
                    <a:pt x="688" y="709"/>
                    <a:pt x="686" y="704"/>
                    <a:pt x="672" y="743"/>
                  </a:cubicBezTo>
                  <a:cubicBezTo>
                    <a:pt x="674" y="784"/>
                    <a:pt x="661" y="831"/>
                    <a:pt x="683" y="865"/>
                  </a:cubicBezTo>
                  <a:cubicBezTo>
                    <a:pt x="692" y="878"/>
                    <a:pt x="726" y="899"/>
                    <a:pt x="735" y="905"/>
                  </a:cubicBezTo>
                  <a:cubicBezTo>
                    <a:pt x="741" y="909"/>
                    <a:pt x="753" y="917"/>
                    <a:pt x="753" y="917"/>
                  </a:cubicBezTo>
                  <a:cubicBezTo>
                    <a:pt x="772" y="942"/>
                    <a:pt x="796" y="969"/>
                    <a:pt x="822" y="986"/>
                  </a:cubicBezTo>
                  <a:cubicBezTo>
                    <a:pt x="847" y="1020"/>
                    <a:pt x="866" y="1043"/>
                    <a:pt x="879" y="1084"/>
                  </a:cubicBezTo>
                  <a:cubicBezTo>
                    <a:pt x="880" y="1089"/>
                    <a:pt x="889" y="1118"/>
                    <a:pt x="897" y="1118"/>
                  </a:cubicBezTo>
                  <a:cubicBezTo>
                    <a:pt x="903" y="1118"/>
                    <a:pt x="895" y="1106"/>
                    <a:pt x="891" y="1101"/>
                  </a:cubicBezTo>
                  <a:cubicBezTo>
                    <a:pt x="887" y="1096"/>
                    <a:pt x="880" y="1094"/>
                    <a:pt x="874" y="1090"/>
                  </a:cubicBezTo>
                  <a:cubicBezTo>
                    <a:pt x="870" y="1084"/>
                    <a:pt x="867" y="1077"/>
                    <a:pt x="862" y="1072"/>
                  </a:cubicBezTo>
                  <a:cubicBezTo>
                    <a:pt x="857" y="1067"/>
                    <a:pt x="849" y="1066"/>
                    <a:pt x="845" y="1061"/>
                  </a:cubicBezTo>
                  <a:cubicBezTo>
                    <a:pt x="821" y="1033"/>
                    <a:pt x="808" y="1000"/>
                    <a:pt x="776" y="980"/>
                  </a:cubicBezTo>
                  <a:cubicBezTo>
                    <a:pt x="770" y="972"/>
                    <a:pt x="743" y="939"/>
                    <a:pt x="735" y="934"/>
                  </a:cubicBezTo>
                  <a:cubicBezTo>
                    <a:pt x="725" y="928"/>
                    <a:pt x="701" y="922"/>
                    <a:pt x="701" y="922"/>
                  </a:cubicBezTo>
                  <a:cubicBezTo>
                    <a:pt x="666" y="934"/>
                    <a:pt x="676" y="966"/>
                    <a:pt x="672" y="1003"/>
                  </a:cubicBezTo>
                  <a:cubicBezTo>
                    <a:pt x="664" y="980"/>
                    <a:pt x="655" y="970"/>
                    <a:pt x="631" y="963"/>
                  </a:cubicBezTo>
                  <a:cubicBezTo>
                    <a:pt x="599" y="972"/>
                    <a:pt x="586" y="1014"/>
                    <a:pt x="574" y="1043"/>
                  </a:cubicBezTo>
                  <a:cubicBezTo>
                    <a:pt x="549" y="1106"/>
                    <a:pt x="534" y="1182"/>
                    <a:pt x="499" y="1240"/>
                  </a:cubicBezTo>
                  <a:cubicBezTo>
                    <a:pt x="488" y="1207"/>
                    <a:pt x="505" y="1173"/>
                    <a:pt x="516" y="1141"/>
                  </a:cubicBezTo>
                  <a:cubicBezTo>
                    <a:pt x="526" y="1112"/>
                    <a:pt x="542" y="1086"/>
                    <a:pt x="551" y="1055"/>
                  </a:cubicBezTo>
                  <a:cubicBezTo>
                    <a:pt x="564" y="1011"/>
                    <a:pt x="576" y="966"/>
                    <a:pt x="603" y="928"/>
                  </a:cubicBezTo>
                  <a:cubicBezTo>
                    <a:pt x="611" y="901"/>
                    <a:pt x="620" y="878"/>
                    <a:pt x="631" y="853"/>
                  </a:cubicBezTo>
                  <a:cubicBezTo>
                    <a:pt x="636" y="842"/>
                    <a:pt x="643" y="818"/>
                    <a:pt x="643" y="818"/>
                  </a:cubicBezTo>
                  <a:cubicBezTo>
                    <a:pt x="641" y="797"/>
                    <a:pt x="643" y="775"/>
                    <a:pt x="637" y="755"/>
                  </a:cubicBezTo>
                  <a:cubicBezTo>
                    <a:pt x="631" y="734"/>
                    <a:pt x="584" y="715"/>
                    <a:pt x="568" y="703"/>
                  </a:cubicBezTo>
                  <a:cubicBezTo>
                    <a:pt x="464" y="708"/>
                    <a:pt x="466" y="701"/>
                    <a:pt x="401" y="720"/>
                  </a:cubicBezTo>
                  <a:cubicBezTo>
                    <a:pt x="362" y="759"/>
                    <a:pt x="297" y="774"/>
                    <a:pt x="262" y="818"/>
                  </a:cubicBezTo>
                  <a:cubicBezTo>
                    <a:pt x="244" y="840"/>
                    <a:pt x="228" y="865"/>
                    <a:pt x="210" y="888"/>
                  </a:cubicBezTo>
                  <a:cubicBezTo>
                    <a:pt x="202" y="899"/>
                    <a:pt x="187" y="922"/>
                    <a:pt x="187" y="922"/>
                  </a:cubicBezTo>
                  <a:cubicBezTo>
                    <a:pt x="171" y="971"/>
                    <a:pt x="194" y="904"/>
                    <a:pt x="170" y="963"/>
                  </a:cubicBezTo>
                  <a:cubicBezTo>
                    <a:pt x="166" y="974"/>
                    <a:pt x="158" y="997"/>
                    <a:pt x="158" y="997"/>
                  </a:cubicBezTo>
                  <a:cubicBezTo>
                    <a:pt x="156" y="1007"/>
                    <a:pt x="154" y="1016"/>
                    <a:pt x="153" y="1026"/>
                  </a:cubicBezTo>
                  <a:cubicBezTo>
                    <a:pt x="150" y="1051"/>
                    <a:pt x="169" y="1112"/>
                    <a:pt x="147" y="1101"/>
                  </a:cubicBezTo>
                  <a:cubicBezTo>
                    <a:pt x="111" y="1083"/>
                    <a:pt x="157" y="1030"/>
                    <a:pt x="135" y="1003"/>
                  </a:cubicBezTo>
                  <a:cubicBezTo>
                    <a:pt x="119" y="983"/>
                    <a:pt x="89" y="967"/>
                    <a:pt x="66" y="957"/>
                  </a:cubicBezTo>
                  <a:cubicBezTo>
                    <a:pt x="55" y="952"/>
                    <a:pt x="43" y="948"/>
                    <a:pt x="31" y="945"/>
                  </a:cubicBezTo>
                  <a:cubicBezTo>
                    <a:pt x="23" y="943"/>
                    <a:pt x="0" y="940"/>
                    <a:pt x="8" y="940"/>
                  </a:cubicBezTo>
                  <a:cubicBezTo>
                    <a:pt x="37" y="940"/>
                    <a:pt x="66" y="943"/>
                    <a:pt x="95" y="945"/>
                  </a:cubicBezTo>
                  <a:cubicBezTo>
                    <a:pt x="170" y="940"/>
                    <a:pt x="171" y="951"/>
                    <a:pt x="193" y="888"/>
                  </a:cubicBezTo>
                  <a:cubicBezTo>
                    <a:pt x="191" y="867"/>
                    <a:pt x="193" y="845"/>
                    <a:pt x="187" y="824"/>
                  </a:cubicBezTo>
                  <a:cubicBezTo>
                    <a:pt x="180" y="801"/>
                    <a:pt x="150" y="773"/>
                    <a:pt x="135" y="755"/>
                  </a:cubicBezTo>
                  <a:cubicBezTo>
                    <a:pt x="131" y="750"/>
                    <a:pt x="128" y="743"/>
                    <a:pt x="124" y="738"/>
                  </a:cubicBezTo>
                  <a:cubicBezTo>
                    <a:pt x="113" y="726"/>
                    <a:pt x="76" y="693"/>
                    <a:pt x="89" y="703"/>
                  </a:cubicBezTo>
                  <a:cubicBezTo>
                    <a:pt x="119" y="724"/>
                    <a:pt x="146" y="747"/>
                    <a:pt x="176" y="767"/>
                  </a:cubicBezTo>
                  <a:cubicBezTo>
                    <a:pt x="187" y="775"/>
                    <a:pt x="210" y="790"/>
                    <a:pt x="210" y="790"/>
                  </a:cubicBezTo>
                  <a:cubicBezTo>
                    <a:pt x="229" y="788"/>
                    <a:pt x="250" y="791"/>
                    <a:pt x="268" y="784"/>
                  </a:cubicBezTo>
                  <a:cubicBezTo>
                    <a:pt x="274" y="782"/>
                    <a:pt x="274" y="773"/>
                    <a:pt x="274" y="767"/>
                  </a:cubicBezTo>
                  <a:cubicBezTo>
                    <a:pt x="274" y="731"/>
                    <a:pt x="273" y="710"/>
                    <a:pt x="245" y="692"/>
                  </a:cubicBezTo>
                  <a:cubicBezTo>
                    <a:pt x="232" y="653"/>
                    <a:pt x="204" y="639"/>
                    <a:pt x="170" y="617"/>
                  </a:cubicBezTo>
                  <a:cubicBezTo>
                    <a:pt x="165" y="614"/>
                    <a:pt x="181" y="620"/>
                    <a:pt x="187" y="622"/>
                  </a:cubicBezTo>
                  <a:cubicBezTo>
                    <a:pt x="199" y="626"/>
                    <a:pt x="210" y="630"/>
                    <a:pt x="222" y="634"/>
                  </a:cubicBezTo>
                  <a:cubicBezTo>
                    <a:pt x="228" y="636"/>
                    <a:pt x="239" y="640"/>
                    <a:pt x="239" y="640"/>
                  </a:cubicBezTo>
                  <a:cubicBezTo>
                    <a:pt x="285" y="635"/>
                    <a:pt x="296" y="639"/>
                    <a:pt x="326" y="611"/>
                  </a:cubicBezTo>
                  <a:cubicBezTo>
                    <a:pt x="328" y="605"/>
                    <a:pt x="337" y="596"/>
                    <a:pt x="331" y="593"/>
                  </a:cubicBezTo>
                  <a:cubicBezTo>
                    <a:pt x="325" y="590"/>
                    <a:pt x="319" y="600"/>
                    <a:pt x="314" y="605"/>
                  </a:cubicBezTo>
                  <a:cubicBezTo>
                    <a:pt x="300" y="620"/>
                    <a:pt x="285" y="640"/>
                    <a:pt x="274" y="657"/>
                  </a:cubicBezTo>
                  <a:cubicBezTo>
                    <a:pt x="272" y="665"/>
                    <a:pt x="268" y="672"/>
                    <a:pt x="268" y="680"/>
                  </a:cubicBezTo>
                  <a:cubicBezTo>
                    <a:pt x="268" y="728"/>
                    <a:pt x="295" y="719"/>
                    <a:pt x="331" y="732"/>
                  </a:cubicBezTo>
                  <a:cubicBezTo>
                    <a:pt x="367" y="723"/>
                    <a:pt x="393" y="705"/>
                    <a:pt x="424" y="686"/>
                  </a:cubicBezTo>
                  <a:cubicBezTo>
                    <a:pt x="439" y="662"/>
                    <a:pt x="446" y="650"/>
                    <a:pt x="453" y="622"/>
                  </a:cubicBezTo>
                  <a:cubicBezTo>
                    <a:pt x="454" y="616"/>
                    <a:pt x="456" y="611"/>
                    <a:pt x="458" y="605"/>
                  </a:cubicBezTo>
                  <a:cubicBezTo>
                    <a:pt x="460" y="599"/>
                    <a:pt x="464" y="582"/>
                    <a:pt x="464" y="588"/>
                  </a:cubicBezTo>
                  <a:cubicBezTo>
                    <a:pt x="464" y="598"/>
                    <a:pt x="460" y="607"/>
                    <a:pt x="458" y="6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"/>
            <p:cNvSpPr/>
            <p:nvPr/>
          </p:nvSpPr>
          <p:spPr>
            <a:xfrm>
              <a:off x="2693160" y="2433960"/>
              <a:ext cx="1199880" cy="5270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923" h="398">
                  <a:moveTo>
                    <a:pt x="0" y="0"/>
                  </a:moveTo>
                  <a:cubicBezTo>
                    <a:pt x="42" y="4"/>
                    <a:pt x="77" y="5"/>
                    <a:pt x="116" y="18"/>
                  </a:cubicBezTo>
                  <a:cubicBezTo>
                    <a:pt x="162" y="64"/>
                    <a:pt x="143" y="38"/>
                    <a:pt x="173" y="98"/>
                  </a:cubicBezTo>
                  <a:cubicBezTo>
                    <a:pt x="181" y="114"/>
                    <a:pt x="183" y="133"/>
                    <a:pt x="196" y="145"/>
                  </a:cubicBezTo>
                  <a:cubicBezTo>
                    <a:pt x="306" y="249"/>
                    <a:pt x="478" y="236"/>
                    <a:pt x="618" y="243"/>
                  </a:cubicBezTo>
                  <a:cubicBezTo>
                    <a:pt x="651" y="250"/>
                    <a:pt x="696" y="257"/>
                    <a:pt x="727" y="272"/>
                  </a:cubicBezTo>
                  <a:cubicBezTo>
                    <a:pt x="747" y="282"/>
                    <a:pt x="763" y="294"/>
                    <a:pt x="785" y="300"/>
                  </a:cubicBezTo>
                  <a:cubicBezTo>
                    <a:pt x="842" y="338"/>
                    <a:pt x="817" y="328"/>
                    <a:pt x="854" y="341"/>
                  </a:cubicBezTo>
                  <a:cubicBezTo>
                    <a:pt x="866" y="352"/>
                    <a:pt x="876" y="366"/>
                    <a:pt x="889" y="375"/>
                  </a:cubicBezTo>
                  <a:cubicBezTo>
                    <a:pt x="900" y="383"/>
                    <a:pt x="923" y="398"/>
                    <a:pt x="923" y="398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"/>
            <p:cNvSpPr/>
            <p:nvPr/>
          </p:nvSpPr>
          <p:spPr>
            <a:xfrm>
              <a:off x="2842920" y="2561400"/>
              <a:ext cx="1473120" cy="69444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131" h="523">
                  <a:moveTo>
                    <a:pt x="0" y="0"/>
                  </a:moveTo>
                  <a:cubicBezTo>
                    <a:pt x="23" y="49"/>
                    <a:pt x="78" y="111"/>
                    <a:pt x="132" y="127"/>
                  </a:cubicBezTo>
                  <a:cubicBezTo>
                    <a:pt x="180" y="163"/>
                    <a:pt x="228" y="193"/>
                    <a:pt x="288" y="202"/>
                  </a:cubicBezTo>
                  <a:cubicBezTo>
                    <a:pt x="367" y="228"/>
                    <a:pt x="448" y="222"/>
                    <a:pt x="531" y="225"/>
                  </a:cubicBezTo>
                  <a:cubicBezTo>
                    <a:pt x="566" y="243"/>
                    <a:pt x="603" y="249"/>
                    <a:pt x="640" y="260"/>
                  </a:cubicBezTo>
                  <a:cubicBezTo>
                    <a:pt x="699" y="278"/>
                    <a:pt x="765" y="299"/>
                    <a:pt x="819" y="329"/>
                  </a:cubicBezTo>
                  <a:cubicBezTo>
                    <a:pt x="844" y="343"/>
                    <a:pt x="873" y="356"/>
                    <a:pt x="894" y="375"/>
                  </a:cubicBezTo>
                  <a:cubicBezTo>
                    <a:pt x="933" y="409"/>
                    <a:pt x="949" y="436"/>
                    <a:pt x="998" y="450"/>
                  </a:cubicBezTo>
                  <a:cubicBezTo>
                    <a:pt x="1061" y="499"/>
                    <a:pt x="984" y="444"/>
                    <a:pt x="1044" y="474"/>
                  </a:cubicBezTo>
                  <a:cubicBezTo>
                    <a:pt x="1109" y="506"/>
                    <a:pt x="1052" y="491"/>
                    <a:pt x="1102" y="502"/>
                  </a:cubicBezTo>
                  <a:cubicBezTo>
                    <a:pt x="1122" y="523"/>
                    <a:pt x="1111" y="520"/>
                    <a:pt x="1131" y="52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3149280" y="2962440"/>
              <a:ext cx="1133640" cy="8431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871" h="635">
                  <a:moveTo>
                    <a:pt x="0" y="0"/>
                  </a:moveTo>
                  <a:cubicBezTo>
                    <a:pt x="10" y="3"/>
                    <a:pt x="55" y="11"/>
                    <a:pt x="69" y="23"/>
                  </a:cubicBezTo>
                  <a:cubicBezTo>
                    <a:pt x="87" y="38"/>
                    <a:pt x="98" y="64"/>
                    <a:pt x="115" y="81"/>
                  </a:cubicBezTo>
                  <a:cubicBezTo>
                    <a:pt x="126" y="112"/>
                    <a:pt x="155" y="134"/>
                    <a:pt x="173" y="162"/>
                  </a:cubicBezTo>
                  <a:cubicBezTo>
                    <a:pt x="276" y="320"/>
                    <a:pt x="417" y="526"/>
                    <a:pt x="617" y="560"/>
                  </a:cubicBezTo>
                  <a:cubicBezTo>
                    <a:pt x="629" y="566"/>
                    <a:pt x="639" y="575"/>
                    <a:pt x="652" y="577"/>
                  </a:cubicBezTo>
                  <a:cubicBezTo>
                    <a:pt x="700" y="584"/>
                    <a:pt x="837" y="567"/>
                    <a:pt x="871" y="635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"/>
            <p:cNvSpPr/>
            <p:nvPr/>
          </p:nvSpPr>
          <p:spPr>
            <a:xfrm>
              <a:off x="2857680" y="2897640"/>
              <a:ext cx="1569960" cy="2682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206" h="202">
                  <a:moveTo>
                    <a:pt x="0" y="0"/>
                  </a:moveTo>
                  <a:cubicBezTo>
                    <a:pt x="206" y="5"/>
                    <a:pt x="277" y="12"/>
                    <a:pt x="450" y="34"/>
                  </a:cubicBezTo>
                  <a:cubicBezTo>
                    <a:pt x="481" y="42"/>
                    <a:pt x="511" y="52"/>
                    <a:pt x="543" y="57"/>
                  </a:cubicBezTo>
                  <a:cubicBezTo>
                    <a:pt x="610" y="81"/>
                    <a:pt x="678" y="104"/>
                    <a:pt x="745" y="127"/>
                  </a:cubicBezTo>
                  <a:cubicBezTo>
                    <a:pt x="770" y="136"/>
                    <a:pt x="796" y="155"/>
                    <a:pt x="820" y="167"/>
                  </a:cubicBezTo>
                  <a:cubicBezTo>
                    <a:pt x="845" y="179"/>
                    <a:pt x="869" y="182"/>
                    <a:pt x="895" y="190"/>
                  </a:cubicBezTo>
                  <a:cubicBezTo>
                    <a:pt x="906" y="194"/>
                    <a:pt x="917" y="202"/>
                    <a:pt x="929" y="202"/>
                  </a:cubicBezTo>
                  <a:cubicBezTo>
                    <a:pt x="1021" y="202"/>
                    <a:pt x="1114" y="202"/>
                    <a:pt x="1206" y="202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"/>
            <p:cNvSpPr/>
            <p:nvPr/>
          </p:nvSpPr>
          <p:spPr>
            <a:xfrm>
              <a:off x="3852360" y="3447360"/>
              <a:ext cx="511560" cy="81936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393" h="617">
                  <a:moveTo>
                    <a:pt x="0" y="617"/>
                  </a:moveTo>
                  <a:cubicBezTo>
                    <a:pt x="60" y="592"/>
                    <a:pt x="101" y="541"/>
                    <a:pt x="162" y="519"/>
                  </a:cubicBezTo>
                  <a:cubicBezTo>
                    <a:pt x="198" y="490"/>
                    <a:pt x="229" y="461"/>
                    <a:pt x="260" y="427"/>
                  </a:cubicBezTo>
                  <a:cubicBezTo>
                    <a:pt x="275" y="411"/>
                    <a:pt x="291" y="396"/>
                    <a:pt x="306" y="380"/>
                  </a:cubicBezTo>
                  <a:cubicBezTo>
                    <a:pt x="314" y="372"/>
                    <a:pt x="329" y="357"/>
                    <a:pt x="329" y="357"/>
                  </a:cubicBezTo>
                  <a:cubicBezTo>
                    <a:pt x="339" y="330"/>
                    <a:pt x="355" y="305"/>
                    <a:pt x="364" y="277"/>
                  </a:cubicBezTo>
                  <a:cubicBezTo>
                    <a:pt x="370" y="258"/>
                    <a:pt x="374" y="238"/>
                    <a:pt x="381" y="219"/>
                  </a:cubicBezTo>
                  <a:cubicBezTo>
                    <a:pt x="393" y="108"/>
                    <a:pt x="387" y="180"/>
                    <a:pt x="387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0"/>
            <p:cNvSpPr/>
            <p:nvPr/>
          </p:nvSpPr>
          <p:spPr>
            <a:xfrm>
              <a:off x="3439800" y="3391920"/>
              <a:ext cx="872280" cy="301320"/>
            </a:xfrm>
            <a:custGeom>
              <a:avLst/>
              <a:gdLst>
                <a:gd name="textAreaLeft" fmla="*/ 0 w 872280"/>
                <a:gd name="textAreaRight" fmla="*/ 872640 w 87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670" h="227">
                  <a:moveTo>
                    <a:pt x="0" y="94"/>
                  </a:moveTo>
                  <a:cubicBezTo>
                    <a:pt x="54" y="126"/>
                    <a:pt x="104" y="157"/>
                    <a:pt x="161" y="181"/>
                  </a:cubicBezTo>
                  <a:cubicBezTo>
                    <a:pt x="177" y="188"/>
                    <a:pt x="191" y="200"/>
                    <a:pt x="208" y="204"/>
                  </a:cubicBezTo>
                  <a:cubicBezTo>
                    <a:pt x="235" y="210"/>
                    <a:pt x="261" y="215"/>
                    <a:pt x="288" y="221"/>
                  </a:cubicBezTo>
                  <a:cubicBezTo>
                    <a:pt x="298" y="223"/>
                    <a:pt x="317" y="227"/>
                    <a:pt x="317" y="227"/>
                  </a:cubicBezTo>
                  <a:cubicBezTo>
                    <a:pt x="367" y="223"/>
                    <a:pt x="409" y="217"/>
                    <a:pt x="456" y="204"/>
                  </a:cubicBezTo>
                  <a:cubicBezTo>
                    <a:pt x="489" y="181"/>
                    <a:pt x="528" y="169"/>
                    <a:pt x="565" y="152"/>
                  </a:cubicBezTo>
                  <a:cubicBezTo>
                    <a:pt x="582" y="126"/>
                    <a:pt x="599" y="107"/>
                    <a:pt x="617" y="83"/>
                  </a:cubicBezTo>
                  <a:cubicBezTo>
                    <a:pt x="626" y="72"/>
                    <a:pt x="634" y="60"/>
                    <a:pt x="640" y="48"/>
                  </a:cubicBezTo>
                  <a:cubicBezTo>
                    <a:pt x="644" y="40"/>
                    <a:pt x="647" y="32"/>
                    <a:pt x="652" y="25"/>
                  </a:cubicBezTo>
                  <a:cubicBezTo>
                    <a:pt x="670" y="0"/>
                    <a:pt x="669" y="18"/>
                    <a:pt x="669" y="2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"/>
            <p:cNvSpPr/>
            <p:nvPr/>
          </p:nvSpPr>
          <p:spPr>
            <a:xfrm>
              <a:off x="2942640" y="3330720"/>
              <a:ext cx="1276560" cy="39024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1" h="294">
                  <a:moveTo>
                    <a:pt x="0" y="253"/>
                  </a:moveTo>
                  <a:cubicBezTo>
                    <a:pt x="97" y="267"/>
                    <a:pt x="190" y="285"/>
                    <a:pt x="288" y="294"/>
                  </a:cubicBezTo>
                  <a:cubicBezTo>
                    <a:pt x="360" y="286"/>
                    <a:pt x="422" y="265"/>
                    <a:pt x="496" y="259"/>
                  </a:cubicBezTo>
                  <a:cubicBezTo>
                    <a:pt x="522" y="252"/>
                    <a:pt x="546" y="245"/>
                    <a:pt x="571" y="236"/>
                  </a:cubicBezTo>
                  <a:cubicBezTo>
                    <a:pt x="588" y="230"/>
                    <a:pt x="623" y="225"/>
                    <a:pt x="623" y="225"/>
                  </a:cubicBezTo>
                  <a:cubicBezTo>
                    <a:pt x="654" y="203"/>
                    <a:pt x="692" y="204"/>
                    <a:pt x="727" y="190"/>
                  </a:cubicBezTo>
                  <a:cubicBezTo>
                    <a:pt x="735" y="187"/>
                    <a:pt x="742" y="181"/>
                    <a:pt x="750" y="178"/>
                  </a:cubicBezTo>
                  <a:cubicBezTo>
                    <a:pt x="767" y="173"/>
                    <a:pt x="802" y="167"/>
                    <a:pt x="802" y="167"/>
                  </a:cubicBezTo>
                  <a:cubicBezTo>
                    <a:pt x="842" y="146"/>
                    <a:pt x="883" y="128"/>
                    <a:pt x="917" y="98"/>
                  </a:cubicBezTo>
                  <a:cubicBezTo>
                    <a:pt x="934" y="83"/>
                    <a:pt x="958" y="46"/>
                    <a:pt x="958" y="46"/>
                  </a:cubicBezTo>
                  <a:cubicBezTo>
                    <a:pt x="964" y="26"/>
                    <a:pt x="966" y="14"/>
                    <a:pt x="981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2"/>
            <p:cNvSpPr/>
            <p:nvPr/>
          </p:nvSpPr>
          <p:spPr>
            <a:xfrm>
              <a:off x="2666880" y="2715840"/>
              <a:ext cx="1849680" cy="419400"/>
            </a:xfrm>
            <a:custGeom>
              <a:avLst/>
              <a:gdLst>
                <a:gd name="textAreaLeft" fmla="*/ 0 w 1849680"/>
                <a:gd name="textAreaRight" fmla="*/ 1850040 w 18496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420" h="316">
                  <a:moveTo>
                    <a:pt x="0" y="0"/>
                  </a:moveTo>
                  <a:cubicBezTo>
                    <a:pt x="160" y="33"/>
                    <a:pt x="322" y="79"/>
                    <a:pt x="485" y="92"/>
                  </a:cubicBezTo>
                  <a:cubicBezTo>
                    <a:pt x="567" y="107"/>
                    <a:pt x="652" y="117"/>
                    <a:pt x="733" y="139"/>
                  </a:cubicBezTo>
                  <a:cubicBezTo>
                    <a:pt x="763" y="147"/>
                    <a:pt x="788" y="165"/>
                    <a:pt x="819" y="173"/>
                  </a:cubicBezTo>
                  <a:cubicBezTo>
                    <a:pt x="879" y="208"/>
                    <a:pt x="940" y="224"/>
                    <a:pt x="1004" y="248"/>
                  </a:cubicBezTo>
                  <a:cubicBezTo>
                    <a:pt x="1045" y="263"/>
                    <a:pt x="1075" y="282"/>
                    <a:pt x="1119" y="289"/>
                  </a:cubicBezTo>
                  <a:cubicBezTo>
                    <a:pt x="1272" y="284"/>
                    <a:pt x="1252" y="316"/>
                    <a:pt x="1316" y="271"/>
                  </a:cubicBezTo>
                  <a:cubicBezTo>
                    <a:pt x="1335" y="258"/>
                    <a:pt x="1351" y="239"/>
                    <a:pt x="1373" y="231"/>
                  </a:cubicBezTo>
                  <a:cubicBezTo>
                    <a:pt x="1410" y="218"/>
                    <a:pt x="1420" y="219"/>
                    <a:pt x="1402" y="219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>
              <a:off x="4150440" y="2421000"/>
              <a:ext cx="369720" cy="8110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84" h="611">
                  <a:moveTo>
                    <a:pt x="0" y="0"/>
                  </a:moveTo>
                  <a:cubicBezTo>
                    <a:pt x="101" y="17"/>
                    <a:pt x="182" y="156"/>
                    <a:pt x="243" y="230"/>
                  </a:cubicBezTo>
                  <a:cubicBezTo>
                    <a:pt x="284" y="383"/>
                    <a:pt x="266" y="345"/>
                    <a:pt x="266" y="611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3171960" y="3195000"/>
              <a:ext cx="1321920" cy="101988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015" h="768">
                  <a:moveTo>
                    <a:pt x="0" y="767"/>
                  </a:moveTo>
                  <a:cubicBezTo>
                    <a:pt x="33" y="765"/>
                    <a:pt x="66" y="768"/>
                    <a:pt x="98" y="762"/>
                  </a:cubicBezTo>
                  <a:cubicBezTo>
                    <a:pt x="111" y="759"/>
                    <a:pt x="121" y="729"/>
                    <a:pt x="127" y="721"/>
                  </a:cubicBezTo>
                  <a:cubicBezTo>
                    <a:pt x="147" y="695"/>
                    <a:pt x="173" y="663"/>
                    <a:pt x="196" y="640"/>
                  </a:cubicBezTo>
                  <a:cubicBezTo>
                    <a:pt x="212" y="624"/>
                    <a:pt x="242" y="606"/>
                    <a:pt x="260" y="594"/>
                  </a:cubicBezTo>
                  <a:cubicBezTo>
                    <a:pt x="266" y="590"/>
                    <a:pt x="277" y="583"/>
                    <a:pt x="277" y="583"/>
                  </a:cubicBezTo>
                  <a:cubicBezTo>
                    <a:pt x="307" y="534"/>
                    <a:pt x="338" y="493"/>
                    <a:pt x="386" y="462"/>
                  </a:cubicBezTo>
                  <a:cubicBezTo>
                    <a:pt x="415" y="419"/>
                    <a:pt x="472" y="406"/>
                    <a:pt x="508" y="369"/>
                  </a:cubicBezTo>
                  <a:cubicBezTo>
                    <a:pt x="561" y="314"/>
                    <a:pt x="567" y="278"/>
                    <a:pt x="606" y="219"/>
                  </a:cubicBezTo>
                  <a:cubicBezTo>
                    <a:pt x="616" y="185"/>
                    <a:pt x="653" y="174"/>
                    <a:pt x="681" y="156"/>
                  </a:cubicBezTo>
                  <a:cubicBezTo>
                    <a:pt x="730" y="124"/>
                    <a:pt x="770" y="82"/>
                    <a:pt x="831" y="75"/>
                  </a:cubicBezTo>
                  <a:cubicBezTo>
                    <a:pt x="862" y="72"/>
                    <a:pt x="892" y="71"/>
                    <a:pt x="923" y="69"/>
                  </a:cubicBezTo>
                  <a:cubicBezTo>
                    <a:pt x="942" y="63"/>
                    <a:pt x="975" y="40"/>
                    <a:pt x="975" y="40"/>
                  </a:cubicBezTo>
                  <a:cubicBezTo>
                    <a:pt x="986" y="23"/>
                    <a:pt x="997" y="10"/>
                    <a:pt x="1015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>
              <a:off x="5589360" y="3331800"/>
              <a:ext cx="852480" cy="6876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889" h="52">
                  <a:moveTo>
                    <a:pt x="0" y="0"/>
                  </a:moveTo>
                  <a:cubicBezTo>
                    <a:pt x="157" y="10"/>
                    <a:pt x="208" y="13"/>
                    <a:pt x="404" y="17"/>
                  </a:cubicBezTo>
                  <a:cubicBezTo>
                    <a:pt x="458" y="31"/>
                    <a:pt x="509" y="45"/>
                    <a:pt x="565" y="52"/>
                  </a:cubicBezTo>
                  <a:cubicBezTo>
                    <a:pt x="816" y="45"/>
                    <a:pt x="708" y="46"/>
                    <a:pt x="889" y="46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33"/>
          <p:cNvGrpSpPr/>
          <p:nvPr/>
        </p:nvGrpSpPr>
        <p:grpSpPr>
          <a:xfrm>
            <a:off x="3048120" y="4876560"/>
            <a:ext cx="2495160" cy="1130040"/>
            <a:chOff x="3048120" y="4876560"/>
            <a:chExt cx="2495160" cy="1130040"/>
          </a:xfrm>
        </p:grpSpPr>
        <p:sp>
          <p:nvSpPr>
            <p:cNvPr id="1315" name="Line 3"/>
            <p:cNvSpPr/>
            <p:nvPr/>
          </p:nvSpPr>
          <p:spPr>
            <a:xfrm>
              <a:off x="4600080" y="5519520"/>
              <a:ext cx="943200" cy="10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6"/>
            <p:cNvSpPr/>
            <p:nvPr/>
          </p:nvSpPr>
          <p:spPr>
            <a:xfrm flipH="1">
              <a:off x="3048120" y="5519520"/>
              <a:ext cx="943200" cy="10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"/>
            <p:cNvSpPr/>
            <p:nvPr/>
          </p:nvSpPr>
          <p:spPr>
            <a:xfrm flipH="1">
              <a:off x="3048120" y="5515920"/>
              <a:ext cx="943200" cy="1206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8"/>
            <p:cNvSpPr/>
            <p:nvPr/>
          </p:nvSpPr>
          <p:spPr>
            <a:xfrm flipH="1">
              <a:off x="3048120" y="5511600"/>
              <a:ext cx="943200" cy="24804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9"/>
            <p:cNvSpPr/>
            <p:nvPr/>
          </p:nvSpPr>
          <p:spPr>
            <a:xfrm flipH="1">
              <a:off x="3048120" y="5508000"/>
              <a:ext cx="943200" cy="3754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0"/>
            <p:cNvSpPr/>
            <p:nvPr/>
          </p:nvSpPr>
          <p:spPr>
            <a:xfrm flipH="1" flipV="1">
              <a:off x="3048120" y="5385600"/>
              <a:ext cx="943200" cy="13356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"/>
            <p:cNvSpPr/>
            <p:nvPr/>
          </p:nvSpPr>
          <p:spPr>
            <a:xfrm flipH="1" flipV="1">
              <a:off x="3048120" y="5258520"/>
              <a:ext cx="943200" cy="26064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2"/>
            <p:cNvSpPr/>
            <p:nvPr/>
          </p:nvSpPr>
          <p:spPr>
            <a:xfrm flipH="1" flipV="1">
              <a:off x="3048120" y="5131440"/>
              <a:ext cx="943200" cy="3880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3"/>
            <p:cNvSpPr/>
            <p:nvPr/>
          </p:nvSpPr>
          <p:spPr>
            <a:xfrm flipH="1" flipV="1">
              <a:off x="3048120" y="5004000"/>
              <a:ext cx="943200" cy="51552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24"/>
            <p:cNvSpPr/>
            <p:nvPr/>
          </p:nvSpPr>
          <p:spPr>
            <a:xfrm flipH="1" flipV="1">
              <a:off x="3048120" y="4876560"/>
              <a:ext cx="943200" cy="6426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>
              <a:off x="4018680" y="5158440"/>
              <a:ext cx="581040" cy="636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6"/>
            <p:cNvSpPr/>
            <p:nvPr/>
          </p:nvSpPr>
          <p:spPr>
            <a:xfrm flipH="1">
              <a:off x="3048120" y="5504040"/>
              <a:ext cx="943200" cy="50256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Text Box 27"/>
          <p:cNvSpPr/>
          <p:nvPr/>
        </p:nvSpPr>
        <p:spPr>
          <a:xfrm>
            <a:off x="4876920" y="251460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952880" y="480060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Oc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WordArt 29"/>
          <p:cNvSpPr txBox="1"/>
          <p:nvPr/>
        </p:nvSpPr>
        <p:spPr>
          <a:xfrm>
            <a:off x="762120" y="3657600"/>
            <a:ext cx="115092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Entrada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330" name="WordArt 30"/>
          <p:cNvSpPr txBox="1"/>
          <p:nvPr/>
        </p:nvSpPr>
        <p:spPr>
          <a:xfrm>
            <a:off x="7620120" y="3505320"/>
            <a:ext cx="105732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Sali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331" name="Rectangle 31"/>
          <p:cNvSpPr/>
          <p:nvPr/>
        </p:nvSpPr>
        <p:spPr>
          <a:xfrm>
            <a:off x="468360" y="1341360"/>
            <a:ext cx="84247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matemáticos no lineales que simulan a las neuronas hu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quitectura: Perceptrón Multica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3" name="Oval 3"/>
          <p:cNvSpPr/>
          <p:nvPr/>
        </p:nvSpPr>
        <p:spPr>
          <a:xfrm>
            <a:off x="4952880" y="3124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4"/>
          <p:cNvSpPr/>
          <p:nvPr/>
        </p:nvSpPr>
        <p:spPr>
          <a:xfrm>
            <a:off x="49528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5"/>
          <p:cNvSpPr/>
          <p:nvPr/>
        </p:nvSpPr>
        <p:spPr>
          <a:xfrm flipV="1">
            <a:off x="4038480" y="42670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6"/>
          <p:cNvSpPr/>
          <p:nvPr/>
        </p:nvSpPr>
        <p:spPr>
          <a:xfrm flipV="1">
            <a:off x="4038480" y="3352680"/>
            <a:ext cx="914400" cy="1371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7"/>
          <p:cNvSpPr/>
          <p:nvPr/>
        </p:nvSpPr>
        <p:spPr>
          <a:xfrm>
            <a:off x="4038480" y="38098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8"/>
          <p:cNvSpPr/>
          <p:nvPr/>
        </p:nvSpPr>
        <p:spPr>
          <a:xfrm flipV="1">
            <a:off x="4038480" y="33526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9"/>
          <p:cNvSpPr/>
          <p:nvPr/>
        </p:nvSpPr>
        <p:spPr>
          <a:xfrm>
            <a:off x="4038480" y="2895480"/>
            <a:ext cx="914400" cy="1371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0"/>
          <p:cNvSpPr/>
          <p:nvPr/>
        </p:nvSpPr>
        <p:spPr>
          <a:xfrm>
            <a:off x="4038480" y="28954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1"/>
          <p:cNvSpPr/>
          <p:nvPr/>
        </p:nvSpPr>
        <p:spPr>
          <a:xfrm>
            <a:off x="3429000" y="1905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s Ocul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2"/>
          <p:cNvSpPr/>
          <p:nvPr/>
        </p:nvSpPr>
        <p:spPr>
          <a:xfrm>
            <a:off x="5715000" y="2757600"/>
            <a:ext cx="31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 de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3"/>
          <p:cNvSpPr/>
          <p:nvPr/>
        </p:nvSpPr>
        <p:spPr>
          <a:xfrm>
            <a:off x="539640" y="3090960"/>
            <a:ext cx="17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4"/>
          <p:cNvSpPr/>
          <p:nvPr/>
        </p:nvSpPr>
        <p:spPr>
          <a:xfrm>
            <a:off x="4038480" y="5105520"/>
            <a:ext cx="1371600" cy="5331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16" h="432">
                <a:moveTo>
                  <a:pt x="0" y="0"/>
                </a:moveTo>
                <a:cubicBezTo>
                  <a:pt x="52" y="132"/>
                  <a:pt x="104" y="264"/>
                  <a:pt x="240" y="336"/>
                </a:cubicBezTo>
                <a:cubicBezTo>
                  <a:pt x="376" y="408"/>
                  <a:pt x="596" y="420"/>
                  <a:pt x="816" y="43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5"/>
          <p:cNvSpPr/>
          <p:nvPr/>
        </p:nvSpPr>
        <p:spPr>
          <a:xfrm>
            <a:off x="5410080" y="5410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Oc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16"/>
          <p:cNvSpPr/>
          <p:nvPr/>
        </p:nvSpPr>
        <p:spPr>
          <a:xfrm>
            <a:off x="3581280" y="2666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17"/>
          <p:cNvSpPr/>
          <p:nvPr/>
        </p:nvSpPr>
        <p:spPr>
          <a:xfrm>
            <a:off x="358128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8"/>
          <p:cNvSpPr/>
          <p:nvPr/>
        </p:nvSpPr>
        <p:spPr>
          <a:xfrm>
            <a:off x="3581280" y="4495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9"/>
          <p:cNvSpPr/>
          <p:nvPr/>
        </p:nvSpPr>
        <p:spPr>
          <a:xfrm flipV="1">
            <a:off x="2666880" y="3809880"/>
            <a:ext cx="914400" cy="19814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20"/>
          <p:cNvSpPr/>
          <p:nvPr/>
        </p:nvSpPr>
        <p:spPr>
          <a:xfrm flipV="1">
            <a:off x="2666880" y="2895480"/>
            <a:ext cx="914400" cy="2895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1"/>
          <p:cNvSpPr/>
          <p:nvPr/>
        </p:nvSpPr>
        <p:spPr>
          <a:xfrm flipV="1">
            <a:off x="2666880" y="3809520"/>
            <a:ext cx="914400" cy="1600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22"/>
          <p:cNvSpPr/>
          <p:nvPr/>
        </p:nvSpPr>
        <p:spPr>
          <a:xfrm flipV="1">
            <a:off x="2666880" y="2895120"/>
            <a:ext cx="914400" cy="2514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3"/>
          <p:cNvSpPr/>
          <p:nvPr/>
        </p:nvSpPr>
        <p:spPr>
          <a:xfrm flipV="1">
            <a:off x="2666880" y="3809880"/>
            <a:ext cx="914400" cy="10670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24"/>
          <p:cNvSpPr/>
          <p:nvPr/>
        </p:nvSpPr>
        <p:spPr>
          <a:xfrm flipV="1">
            <a:off x="2666880" y="2895480"/>
            <a:ext cx="914400" cy="19814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5"/>
          <p:cNvSpPr/>
          <p:nvPr/>
        </p:nvSpPr>
        <p:spPr>
          <a:xfrm flipV="1">
            <a:off x="2666880" y="3809880"/>
            <a:ext cx="914400" cy="609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26"/>
          <p:cNvSpPr/>
          <p:nvPr/>
        </p:nvSpPr>
        <p:spPr>
          <a:xfrm flipV="1">
            <a:off x="2666880" y="2895480"/>
            <a:ext cx="914400" cy="15242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27"/>
          <p:cNvSpPr/>
          <p:nvPr/>
        </p:nvSpPr>
        <p:spPr>
          <a:xfrm flipV="1">
            <a:off x="2666880" y="380952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28"/>
          <p:cNvSpPr/>
          <p:nvPr/>
        </p:nvSpPr>
        <p:spPr>
          <a:xfrm flipV="1">
            <a:off x="2666880" y="2895120"/>
            <a:ext cx="9144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29"/>
          <p:cNvSpPr/>
          <p:nvPr/>
        </p:nvSpPr>
        <p:spPr>
          <a:xfrm>
            <a:off x="2666880" y="358128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0"/>
          <p:cNvSpPr/>
          <p:nvPr/>
        </p:nvSpPr>
        <p:spPr>
          <a:xfrm flipV="1">
            <a:off x="2666880" y="2895120"/>
            <a:ext cx="914400" cy="6858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31"/>
          <p:cNvSpPr/>
          <p:nvPr/>
        </p:nvSpPr>
        <p:spPr>
          <a:xfrm>
            <a:off x="2666880" y="3124080"/>
            <a:ext cx="914400" cy="6858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32"/>
          <p:cNvSpPr/>
          <p:nvPr/>
        </p:nvSpPr>
        <p:spPr>
          <a:xfrm flipV="1">
            <a:off x="2666880" y="289512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33"/>
          <p:cNvSpPr/>
          <p:nvPr/>
        </p:nvSpPr>
        <p:spPr>
          <a:xfrm>
            <a:off x="2668680" y="2668680"/>
            <a:ext cx="914400" cy="20574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34"/>
          <p:cNvSpPr/>
          <p:nvPr/>
        </p:nvSpPr>
        <p:spPr>
          <a:xfrm>
            <a:off x="2666880" y="2666880"/>
            <a:ext cx="9144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35"/>
          <p:cNvSpPr/>
          <p:nvPr/>
        </p:nvSpPr>
        <p:spPr>
          <a:xfrm>
            <a:off x="2666880" y="266688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36"/>
          <p:cNvSpPr/>
          <p:nvPr/>
        </p:nvSpPr>
        <p:spPr>
          <a:xfrm>
            <a:off x="2666880" y="2133720"/>
            <a:ext cx="914400" cy="16761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37"/>
          <p:cNvSpPr/>
          <p:nvPr/>
        </p:nvSpPr>
        <p:spPr>
          <a:xfrm>
            <a:off x="2666880" y="2133720"/>
            <a:ext cx="914400" cy="7617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38"/>
          <p:cNvSpPr/>
          <p:nvPr/>
        </p:nvSpPr>
        <p:spPr>
          <a:xfrm>
            <a:off x="2666880" y="1676520"/>
            <a:ext cx="914400" cy="21333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39"/>
          <p:cNvSpPr/>
          <p:nvPr/>
        </p:nvSpPr>
        <p:spPr>
          <a:xfrm>
            <a:off x="2666880" y="1676520"/>
            <a:ext cx="914400" cy="1218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0"/>
          <p:cNvSpPr/>
          <p:nvPr/>
        </p:nvSpPr>
        <p:spPr>
          <a:xfrm>
            <a:off x="2286000" y="15238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41"/>
          <p:cNvSpPr/>
          <p:nvPr/>
        </p:nvSpPr>
        <p:spPr>
          <a:xfrm>
            <a:off x="228600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42"/>
          <p:cNvSpPr/>
          <p:nvPr/>
        </p:nvSpPr>
        <p:spPr>
          <a:xfrm>
            <a:off x="2286000" y="24382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3"/>
          <p:cNvSpPr/>
          <p:nvPr/>
        </p:nvSpPr>
        <p:spPr>
          <a:xfrm>
            <a:off x="2286000" y="28954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4"/>
          <p:cNvSpPr/>
          <p:nvPr/>
        </p:nvSpPr>
        <p:spPr>
          <a:xfrm>
            <a:off x="2286000" y="33526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5"/>
          <p:cNvSpPr/>
          <p:nvPr/>
        </p:nvSpPr>
        <p:spPr>
          <a:xfrm>
            <a:off x="2286000" y="38098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6"/>
          <p:cNvSpPr/>
          <p:nvPr/>
        </p:nvSpPr>
        <p:spPr>
          <a:xfrm>
            <a:off x="2286000" y="42670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7"/>
          <p:cNvSpPr/>
          <p:nvPr/>
        </p:nvSpPr>
        <p:spPr>
          <a:xfrm>
            <a:off x="2286000" y="47242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8"/>
          <p:cNvSpPr/>
          <p:nvPr/>
        </p:nvSpPr>
        <p:spPr>
          <a:xfrm>
            <a:off x="2286000" y="51814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9"/>
          <p:cNvSpPr/>
          <p:nvPr/>
        </p:nvSpPr>
        <p:spPr>
          <a:xfrm>
            <a:off x="2286000" y="56386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50"/>
          <p:cNvSpPr/>
          <p:nvPr/>
        </p:nvSpPr>
        <p:spPr>
          <a:xfrm>
            <a:off x="2668680" y="1676520"/>
            <a:ext cx="914400" cy="30477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51"/>
          <p:cNvSpPr/>
          <p:nvPr/>
        </p:nvSpPr>
        <p:spPr>
          <a:xfrm>
            <a:off x="2668680" y="2133720"/>
            <a:ext cx="912600" cy="25923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52"/>
          <p:cNvSpPr/>
          <p:nvPr/>
        </p:nvSpPr>
        <p:spPr>
          <a:xfrm>
            <a:off x="2666880" y="3124080"/>
            <a:ext cx="914400" cy="1602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53"/>
          <p:cNvSpPr/>
          <p:nvPr/>
        </p:nvSpPr>
        <p:spPr>
          <a:xfrm>
            <a:off x="2668680" y="3581280"/>
            <a:ext cx="9126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54"/>
          <p:cNvSpPr/>
          <p:nvPr/>
        </p:nvSpPr>
        <p:spPr>
          <a:xfrm>
            <a:off x="2666880" y="4038480"/>
            <a:ext cx="914400" cy="687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55"/>
          <p:cNvSpPr/>
          <p:nvPr/>
        </p:nvSpPr>
        <p:spPr>
          <a:xfrm>
            <a:off x="2666880" y="4419720"/>
            <a:ext cx="914400" cy="3045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56"/>
          <p:cNvSpPr/>
          <p:nvPr/>
        </p:nvSpPr>
        <p:spPr>
          <a:xfrm flipV="1">
            <a:off x="2670120" y="4725720"/>
            <a:ext cx="912960" cy="150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7"/>
          <p:cNvSpPr/>
          <p:nvPr/>
        </p:nvSpPr>
        <p:spPr>
          <a:xfrm flipV="1">
            <a:off x="2668680" y="4726080"/>
            <a:ext cx="914400" cy="684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58"/>
          <p:cNvSpPr/>
          <p:nvPr/>
        </p:nvSpPr>
        <p:spPr>
          <a:xfrm flipV="1">
            <a:off x="2666880" y="4725720"/>
            <a:ext cx="914400" cy="10652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59"/>
          <p:cNvSpPr/>
          <p:nvPr/>
        </p:nvSpPr>
        <p:spPr>
          <a:xfrm>
            <a:off x="6095880" y="3537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7f7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33f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60"/>
          <p:cNvSpPr/>
          <p:nvPr/>
        </p:nvSpPr>
        <p:spPr>
          <a:xfrm flipV="1">
            <a:off x="5410080" y="3809880"/>
            <a:ext cx="6858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61"/>
          <p:cNvSpPr/>
          <p:nvPr/>
        </p:nvSpPr>
        <p:spPr>
          <a:xfrm>
            <a:off x="5410080" y="3352680"/>
            <a:ext cx="6858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63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2"/>
          <p:cNvSpPr/>
          <p:nvPr/>
        </p:nvSpPr>
        <p:spPr>
          <a:xfrm>
            <a:off x="587520" y="914400"/>
            <a:ext cx="122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3"/>
          <p:cNvSpPr/>
          <p:nvPr/>
        </p:nvSpPr>
        <p:spPr>
          <a:xfrm>
            <a:off x="4092480" y="9144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OCU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4"/>
          <p:cNvSpPr/>
          <p:nvPr/>
        </p:nvSpPr>
        <p:spPr>
          <a:xfrm>
            <a:off x="7391520" y="914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5"/>
          <p:cNvSpPr/>
          <p:nvPr/>
        </p:nvSpPr>
        <p:spPr>
          <a:xfrm>
            <a:off x="7283520" y="4145040"/>
            <a:ext cx="2546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6"/>
          <p:cNvSpPr/>
          <p:nvPr/>
        </p:nvSpPr>
        <p:spPr>
          <a:xfrm>
            <a:off x="609480" y="1933560"/>
            <a:ext cx="60984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7"/>
          <p:cNvSpPr/>
          <p:nvPr/>
        </p:nvSpPr>
        <p:spPr>
          <a:xfrm>
            <a:off x="533520" y="4051440"/>
            <a:ext cx="6094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"/>
          <p:cNvSpPr/>
          <p:nvPr/>
        </p:nvSpPr>
        <p:spPr>
          <a:xfrm>
            <a:off x="4267080" y="124776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9"/>
          <p:cNvSpPr/>
          <p:nvPr/>
        </p:nvSpPr>
        <p:spPr>
          <a:xfrm>
            <a:off x="4343400" y="3076560"/>
            <a:ext cx="6094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10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11"/>
          <p:cNvSpPr/>
          <p:nvPr/>
        </p:nvSpPr>
        <p:spPr>
          <a:xfrm>
            <a:off x="7543800" y="3000240"/>
            <a:ext cx="68580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3" name="AutoShape 12"/>
          <p:cNvCxnSpPr>
            <a:stCxn id="1399" idx="6"/>
            <a:endCxn id="1402" idx="1"/>
          </p:cNvCxnSpPr>
          <p:nvPr/>
        </p:nvCxnSpPr>
        <p:spPr>
          <a:xfrm>
            <a:off x="4952520" y="1552680"/>
            <a:ext cx="2691720" cy="153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4" name="AutoShape 13"/>
          <p:cNvCxnSpPr>
            <a:stCxn id="1400" idx="6"/>
            <a:endCxn id="1402" idx="2"/>
          </p:cNvCxnSpPr>
          <p:nvPr/>
        </p:nvCxnSpPr>
        <p:spPr>
          <a:xfrm flipV="1">
            <a:off x="4952520" y="3305160"/>
            <a:ext cx="2591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5" name="AutoShape 14"/>
          <p:cNvCxnSpPr>
            <a:stCxn id="1401" idx="6"/>
            <a:endCxn id="1402" idx="3"/>
          </p:cNvCxnSpPr>
          <p:nvPr/>
        </p:nvCxnSpPr>
        <p:spPr>
          <a:xfrm flipV="1">
            <a:off x="4952520" y="3520800"/>
            <a:ext cx="2691720" cy="173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6" name="Text Box 15"/>
          <p:cNvSpPr/>
          <p:nvPr/>
        </p:nvSpPr>
        <p:spPr>
          <a:xfrm>
            <a:off x="3200400" y="2633760"/>
            <a:ext cx="1658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6"/>
          <p:cNvSpPr/>
          <p:nvPr/>
        </p:nvSpPr>
        <p:spPr>
          <a:xfrm>
            <a:off x="3276720" y="23526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952880" y="2328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18"/>
          <p:cNvSpPr/>
          <p:nvPr/>
        </p:nvSpPr>
        <p:spPr>
          <a:xfrm>
            <a:off x="4787640" y="2630520"/>
            <a:ext cx="2000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19"/>
          <p:cNvSpPr/>
          <p:nvPr/>
        </p:nvSpPr>
        <p:spPr>
          <a:xfrm>
            <a:off x="3220200" y="4127400"/>
            <a:ext cx="157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20"/>
          <p:cNvSpPr/>
          <p:nvPr/>
        </p:nvSpPr>
        <p:spPr>
          <a:xfrm>
            <a:off x="4744800" y="4127400"/>
            <a:ext cx="2000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21"/>
          <p:cNvSpPr/>
          <p:nvPr/>
        </p:nvSpPr>
        <p:spPr>
          <a:xfrm>
            <a:off x="3056760" y="5718240"/>
            <a:ext cx="157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2"/>
          <p:cNvSpPr/>
          <p:nvPr/>
        </p:nvSpPr>
        <p:spPr>
          <a:xfrm>
            <a:off x="4587840" y="5684760"/>
            <a:ext cx="25750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3"/>
          <p:cNvSpPr/>
          <p:nvPr/>
        </p:nvSpPr>
        <p:spPr>
          <a:xfrm>
            <a:off x="7415280" y="38955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4"/>
          <p:cNvSpPr/>
          <p:nvPr/>
        </p:nvSpPr>
        <p:spPr>
          <a:xfrm>
            <a:off x="3297240" y="38703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25"/>
          <p:cNvSpPr/>
          <p:nvPr/>
        </p:nvSpPr>
        <p:spPr>
          <a:xfrm>
            <a:off x="4986360" y="38703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26"/>
          <p:cNvSpPr/>
          <p:nvPr/>
        </p:nvSpPr>
        <p:spPr>
          <a:xfrm>
            <a:off x="3098880" y="54100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27"/>
          <p:cNvSpPr/>
          <p:nvPr/>
        </p:nvSpPr>
        <p:spPr>
          <a:xfrm>
            <a:off x="4871880" y="54100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9" name="AutoShape 28"/>
          <p:cNvCxnSpPr>
            <a:stCxn id="1397" idx="6"/>
            <a:endCxn id="1399" idx="2"/>
          </p:cNvCxnSpPr>
          <p:nvPr/>
        </p:nvCxnSpPr>
        <p:spPr>
          <a:xfrm flipV="1">
            <a:off x="1219320" y="1551960"/>
            <a:ext cx="30484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0" name="AutoShape 29"/>
          <p:cNvCxnSpPr>
            <a:stCxn id="1397" idx="6"/>
            <a:endCxn id="1400" idx="2"/>
          </p:cNvCxnSpPr>
          <p:nvPr/>
        </p:nvCxnSpPr>
        <p:spPr>
          <a:xfrm>
            <a:off x="1219320" y="2238120"/>
            <a:ext cx="3124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1" name="AutoShape 30"/>
          <p:cNvCxnSpPr>
            <a:stCxn id="1397" idx="6"/>
            <a:endCxn id="1401" idx="2"/>
          </p:cNvCxnSpPr>
          <p:nvPr/>
        </p:nvCxnSpPr>
        <p:spPr>
          <a:xfrm>
            <a:off x="1219320" y="2238120"/>
            <a:ext cx="3124800" cy="30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2" name="AutoShape 31"/>
          <p:cNvCxnSpPr>
            <a:stCxn id="1398" idx="6"/>
            <a:endCxn id="1399" idx="2"/>
          </p:cNvCxnSpPr>
          <p:nvPr/>
        </p:nvCxnSpPr>
        <p:spPr>
          <a:xfrm flipV="1">
            <a:off x="1143000" y="1551960"/>
            <a:ext cx="3124800" cy="280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3" name="AutoShape 32"/>
          <p:cNvCxnSpPr/>
          <p:nvPr/>
        </p:nvCxnSpPr>
        <p:spPr>
          <a:xfrm flipV="1">
            <a:off x="1143000" y="3364920"/>
            <a:ext cx="3201120" cy="97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4" name="AutoShape 33"/>
          <p:cNvCxnSpPr>
            <a:stCxn id="1398" idx="6"/>
            <a:endCxn id="1401" idx="2"/>
          </p:cNvCxnSpPr>
          <p:nvPr/>
        </p:nvCxnSpPr>
        <p:spPr>
          <a:xfrm>
            <a:off x="1143000" y="4355640"/>
            <a:ext cx="3201120" cy="90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5" name="Text Box 34"/>
          <p:cNvSpPr/>
          <p:nvPr/>
        </p:nvSpPr>
        <p:spPr>
          <a:xfrm>
            <a:off x="685800" y="15368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457200" y="367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SO N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36"/>
          <p:cNvSpPr/>
          <p:nvPr/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Funcion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7451640" y="2492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 FRA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40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Oval 2"/>
          <p:cNvSpPr/>
          <p:nvPr/>
        </p:nvSpPr>
        <p:spPr>
          <a:xfrm>
            <a:off x="3124080" y="1371600"/>
            <a:ext cx="152424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3"/>
          <p:cNvSpPr/>
          <p:nvPr/>
        </p:nvSpPr>
        <p:spPr>
          <a:xfrm>
            <a:off x="3124080" y="297324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4"/>
          <p:cNvSpPr/>
          <p:nvPr/>
        </p:nvSpPr>
        <p:spPr>
          <a:xfrm>
            <a:off x="3124080" y="457344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5"/>
          <p:cNvGrpSpPr/>
          <p:nvPr/>
        </p:nvGrpSpPr>
        <p:grpSpPr>
          <a:xfrm>
            <a:off x="3308400" y="1849320"/>
            <a:ext cx="1207800" cy="574920"/>
            <a:chOff x="3308400" y="1849320"/>
            <a:chExt cx="1207800" cy="574920"/>
          </a:xfrm>
        </p:grpSpPr>
        <p:sp>
          <p:nvSpPr>
            <p:cNvPr id="1434" name="Freeform 6"/>
            <p:cNvSpPr/>
            <p:nvPr/>
          </p:nvSpPr>
          <p:spPr>
            <a:xfrm>
              <a:off x="3308400" y="1849320"/>
              <a:ext cx="659520" cy="574920"/>
            </a:xfrm>
            <a:custGeom>
              <a:avLst/>
              <a:gdLst>
                <a:gd name="textAreaLeft" fmla="*/ 0 w 659520"/>
                <a:gd name="textAreaRight" fmla="*/ 659520 w 65952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7285" h="6757">
                  <a:moveTo>
                    <a:pt x="7285" y="6757"/>
                  </a:moveTo>
                  <a:lnTo>
                    <a:pt x="6899" y="6401"/>
                  </a:lnTo>
                  <a:lnTo>
                    <a:pt x="6515" y="6045"/>
                  </a:lnTo>
                  <a:lnTo>
                    <a:pt x="6136" y="5690"/>
                  </a:lnTo>
                  <a:lnTo>
                    <a:pt x="5758" y="5339"/>
                  </a:lnTo>
                  <a:lnTo>
                    <a:pt x="5379" y="4991"/>
                  </a:lnTo>
                  <a:lnTo>
                    <a:pt x="5005" y="4643"/>
                  </a:lnTo>
                  <a:lnTo>
                    <a:pt x="4634" y="4297"/>
                  </a:lnTo>
                  <a:lnTo>
                    <a:pt x="4265" y="3956"/>
                  </a:lnTo>
                  <a:lnTo>
                    <a:pt x="3896" y="3616"/>
                  </a:lnTo>
                  <a:lnTo>
                    <a:pt x="3533" y="3275"/>
                  </a:lnTo>
                  <a:lnTo>
                    <a:pt x="3170" y="2940"/>
                  </a:lnTo>
                  <a:lnTo>
                    <a:pt x="2809" y="2604"/>
                  </a:lnTo>
                  <a:lnTo>
                    <a:pt x="2450" y="2274"/>
                  </a:lnTo>
                  <a:lnTo>
                    <a:pt x="2094" y="1940"/>
                  </a:lnTo>
                  <a:lnTo>
                    <a:pt x="1741" y="1612"/>
                  </a:lnTo>
                  <a:lnTo>
                    <a:pt x="1387" y="1287"/>
                  </a:lnTo>
                  <a:lnTo>
                    <a:pt x="1039" y="962"/>
                  </a:lnTo>
                  <a:lnTo>
                    <a:pt x="690" y="638"/>
                  </a:lnTo>
                  <a:lnTo>
                    <a:pt x="344" y="3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7"/>
            <p:cNvSpPr/>
            <p:nvPr/>
          </p:nvSpPr>
          <p:spPr>
            <a:xfrm>
              <a:off x="3967920" y="2410200"/>
              <a:ext cx="546840" cy="1368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6045" h="171">
                  <a:moveTo>
                    <a:pt x="6045" y="0"/>
                  </a:moveTo>
                  <a:lnTo>
                    <a:pt x="5762" y="7"/>
                  </a:lnTo>
                  <a:lnTo>
                    <a:pt x="5479" y="18"/>
                  </a:lnTo>
                  <a:lnTo>
                    <a:pt x="5191" y="26"/>
                  </a:lnTo>
                  <a:lnTo>
                    <a:pt x="4903" y="33"/>
                  </a:lnTo>
                  <a:lnTo>
                    <a:pt x="4614" y="40"/>
                  </a:lnTo>
                  <a:lnTo>
                    <a:pt x="4323" y="50"/>
                  </a:lnTo>
                  <a:lnTo>
                    <a:pt x="4028" y="58"/>
                  </a:lnTo>
                  <a:lnTo>
                    <a:pt x="3732" y="65"/>
                  </a:lnTo>
                  <a:lnTo>
                    <a:pt x="3432" y="76"/>
                  </a:lnTo>
                  <a:lnTo>
                    <a:pt x="3131" y="84"/>
                  </a:lnTo>
                  <a:lnTo>
                    <a:pt x="2828" y="94"/>
                  </a:lnTo>
                  <a:lnTo>
                    <a:pt x="2522" y="101"/>
                  </a:lnTo>
                  <a:lnTo>
                    <a:pt x="2217" y="108"/>
                  </a:lnTo>
                  <a:lnTo>
                    <a:pt x="1907" y="118"/>
                  </a:lnTo>
                  <a:lnTo>
                    <a:pt x="1593" y="126"/>
                  </a:lnTo>
                  <a:lnTo>
                    <a:pt x="1280" y="137"/>
                  </a:lnTo>
                  <a:lnTo>
                    <a:pt x="965" y="147"/>
                  </a:lnTo>
                  <a:lnTo>
                    <a:pt x="644" y="154"/>
                  </a:lnTo>
                  <a:lnTo>
                    <a:pt x="323" y="164"/>
                  </a:lnTo>
                  <a:lnTo>
                    <a:pt x="0" y="1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"/>
            <p:cNvSpPr/>
            <p:nvPr/>
          </p:nvSpPr>
          <p:spPr>
            <a:xfrm>
              <a:off x="3932640" y="2393280"/>
              <a:ext cx="63720" cy="30600"/>
            </a:xfrm>
            <a:custGeom>
              <a:avLst/>
              <a:gdLst>
                <a:gd name="textAreaLeft" fmla="*/ 0 w 63720"/>
                <a:gd name="textAreaRight" fmla="*/ 63720 w 63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07" h="358">
                  <a:moveTo>
                    <a:pt x="707" y="358"/>
                  </a:moveTo>
                  <a:lnTo>
                    <a:pt x="325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9"/>
            <p:cNvSpPr/>
            <p:nvPr/>
          </p:nvSpPr>
          <p:spPr>
            <a:xfrm>
              <a:off x="3897720" y="2364120"/>
              <a:ext cx="128880" cy="586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414" h="702">
                  <a:moveTo>
                    <a:pt x="0" y="7"/>
                  </a:moveTo>
                  <a:lnTo>
                    <a:pt x="326" y="0"/>
                  </a:lnTo>
                  <a:lnTo>
                    <a:pt x="709" y="354"/>
                  </a:lnTo>
                  <a:lnTo>
                    <a:pt x="1030" y="346"/>
                  </a:lnTo>
                  <a:lnTo>
                    <a:pt x="1414" y="7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"/>
            <p:cNvSpPr/>
            <p:nvPr/>
          </p:nvSpPr>
          <p:spPr>
            <a:xfrm>
              <a:off x="3863520" y="2333520"/>
              <a:ext cx="191160" cy="8928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111" h="1047">
                  <a:moveTo>
                    <a:pt x="2111" y="1047"/>
                  </a:moveTo>
                  <a:lnTo>
                    <a:pt x="1727" y="691"/>
                  </a:lnTo>
                  <a:lnTo>
                    <a:pt x="1409" y="698"/>
                  </a:lnTo>
                  <a:lnTo>
                    <a:pt x="1025" y="345"/>
                  </a:lnTo>
                  <a:lnTo>
                    <a:pt x="705" y="352"/>
                  </a:lnTo>
                  <a:lnTo>
                    <a:pt x="323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1"/>
            <p:cNvSpPr/>
            <p:nvPr/>
          </p:nvSpPr>
          <p:spPr>
            <a:xfrm>
              <a:off x="3829680" y="2304000"/>
              <a:ext cx="253800" cy="117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07" h="1386">
                  <a:moveTo>
                    <a:pt x="0" y="2"/>
                  </a:moveTo>
                  <a:lnTo>
                    <a:pt x="323" y="0"/>
                  </a:lnTo>
                  <a:lnTo>
                    <a:pt x="701" y="349"/>
                  </a:lnTo>
                  <a:lnTo>
                    <a:pt x="1025" y="344"/>
                  </a:lnTo>
                  <a:lnTo>
                    <a:pt x="1403" y="694"/>
                  </a:lnTo>
                  <a:lnTo>
                    <a:pt x="1724" y="689"/>
                  </a:lnTo>
                  <a:lnTo>
                    <a:pt x="2105" y="1040"/>
                  </a:lnTo>
                  <a:lnTo>
                    <a:pt x="2424" y="1032"/>
                  </a:lnTo>
                  <a:lnTo>
                    <a:pt x="2807" y="13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"/>
            <p:cNvSpPr/>
            <p:nvPr/>
          </p:nvSpPr>
          <p:spPr>
            <a:xfrm>
              <a:off x="3795480" y="2274480"/>
              <a:ext cx="316080" cy="1454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496" h="1724">
                  <a:moveTo>
                    <a:pt x="3496" y="1724"/>
                  </a:moveTo>
                  <a:lnTo>
                    <a:pt x="3118" y="1374"/>
                  </a:lnTo>
                  <a:lnTo>
                    <a:pt x="2803" y="1381"/>
                  </a:lnTo>
                  <a:lnTo>
                    <a:pt x="2421" y="1030"/>
                  </a:lnTo>
                  <a:lnTo>
                    <a:pt x="2103" y="1038"/>
                  </a:lnTo>
                  <a:lnTo>
                    <a:pt x="1724" y="687"/>
                  </a:lnTo>
                  <a:lnTo>
                    <a:pt x="1404" y="693"/>
                  </a:lnTo>
                  <a:lnTo>
                    <a:pt x="1025" y="344"/>
                  </a:lnTo>
                  <a:lnTo>
                    <a:pt x="702" y="349"/>
                  </a:lnTo>
                  <a:lnTo>
                    <a:pt x="32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3"/>
            <p:cNvSpPr/>
            <p:nvPr/>
          </p:nvSpPr>
          <p:spPr>
            <a:xfrm>
              <a:off x="3761640" y="2245320"/>
              <a:ext cx="378720" cy="17496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187" h="2061">
                  <a:moveTo>
                    <a:pt x="0" y="0"/>
                  </a:moveTo>
                  <a:lnTo>
                    <a:pt x="325" y="0"/>
                  </a:lnTo>
                  <a:lnTo>
                    <a:pt x="700" y="345"/>
                  </a:lnTo>
                  <a:lnTo>
                    <a:pt x="1022" y="343"/>
                  </a:lnTo>
                  <a:lnTo>
                    <a:pt x="1399" y="689"/>
                  </a:lnTo>
                  <a:lnTo>
                    <a:pt x="1720" y="687"/>
                  </a:lnTo>
                  <a:lnTo>
                    <a:pt x="2098" y="1032"/>
                  </a:lnTo>
                  <a:lnTo>
                    <a:pt x="2414" y="1027"/>
                  </a:lnTo>
                  <a:lnTo>
                    <a:pt x="2795" y="1375"/>
                  </a:lnTo>
                  <a:lnTo>
                    <a:pt x="3111" y="1370"/>
                  </a:lnTo>
                  <a:lnTo>
                    <a:pt x="3492" y="1719"/>
                  </a:lnTo>
                  <a:lnTo>
                    <a:pt x="3802" y="1711"/>
                  </a:lnTo>
                  <a:lnTo>
                    <a:pt x="4187" y="206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"/>
            <p:cNvSpPr/>
            <p:nvPr/>
          </p:nvSpPr>
          <p:spPr>
            <a:xfrm>
              <a:off x="3727440" y="2214720"/>
              <a:ext cx="439920" cy="2041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866" h="2397">
                  <a:moveTo>
                    <a:pt x="4866" y="2397"/>
                  </a:moveTo>
                  <a:lnTo>
                    <a:pt x="4484" y="2049"/>
                  </a:lnTo>
                  <a:lnTo>
                    <a:pt x="4173" y="2057"/>
                  </a:lnTo>
                  <a:lnTo>
                    <a:pt x="3793" y="1709"/>
                  </a:lnTo>
                  <a:lnTo>
                    <a:pt x="3482" y="1716"/>
                  </a:lnTo>
                  <a:lnTo>
                    <a:pt x="3101" y="1368"/>
                  </a:lnTo>
                  <a:lnTo>
                    <a:pt x="2785" y="1373"/>
                  </a:lnTo>
                  <a:lnTo>
                    <a:pt x="2408" y="1028"/>
                  </a:lnTo>
                  <a:lnTo>
                    <a:pt x="2091" y="1033"/>
                  </a:lnTo>
                  <a:lnTo>
                    <a:pt x="1717" y="686"/>
                  </a:lnTo>
                  <a:lnTo>
                    <a:pt x="1393" y="689"/>
                  </a:lnTo>
                  <a:lnTo>
                    <a:pt x="1023" y="344"/>
                  </a:lnTo>
                  <a:lnTo>
                    <a:pt x="696" y="346"/>
                  </a:lnTo>
                  <a:lnTo>
                    <a:pt x="32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5"/>
            <p:cNvSpPr/>
            <p:nvPr/>
          </p:nvSpPr>
          <p:spPr>
            <a:xfrm>
              <a:off x="3693600" y="2186640"/>
              <a:ext cx="502200" cy="2322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5542" h="2731">
                  <a:moveTo>
                    <a:pt x="0" y="0"/>
                  </a:moveTo>
                  <a:lnTo>
                    <a:pt x="326" y="0"/>
                  </a:lnTo>
                  <a:lnTo>
                    <a:pt x="694" y="341"/>
                  </a:lnTo>
                  <a:lnTo>
                    <a:pt x="1021" y="341"/>
                  </a:lnTo>
                  <a:lnTo>
                    <a:pt x="1392" y="685"/>
                  </a:lnTo>
                  <a:lnTo>
                    <a:pt x="1712" y="685"/>
                  </a:lnTo>
                  <a:lnTo>
                    <a:pt x="2086" y="1027"/>
                  </a:lnTo>
                  <a:lnTo>
                    <a:pt x="2404" y="1025"/>
                  </a:lnTo>
                  <a:lnTo>
                    <a:pt x="2777" y="1369"/>
                  </a:lnTo>
                  <a:lnTo>
                    <a:pt x="3094" y="1366"/>
                  </a:lnTo>
                  <a:lnTo>
                    <a:pt x="3470" y="1709"/>
                  </a:lnTo>
                  <a:lnTo>
                    <a:pt x="3782" y="1704"/>
                  </a:lnTo>
                  <a:lnTo>
                    <a:pt x="4162" y="2050"/>
                  </a:lnTo>
                  <a:lnTo>
                    <a:pt x="4472" y="2045"/>
                  </a:lnTo>
                  <a:lnTo>
                    <a:pt x="4853" y="2390"/>
                  </a:lnTo>
                  <a:lnTo>
                    <a:pt x="5162" y="2382"/>
                  </a:lnTo>
                  <a:lnTo>
                    <a:pt x="5542" y="273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6"/>
            <p:cNvSpPr/>
            <p:nvPr/>
          </p:nvSpPr>
          <p:spPr>
            <a:xfrm>
              <a:off x="3661200" y="2156760"/>
              <a:ext cx="561960" cy="260640"/>
            </a:xfrm>
            <a:custGeom>
              <a:avLst/>
              <a:gdLst>
                <a:gd name="textAreaLeft" fmla="*/ 0 w 561960"/>
                <a:gd name="textAreaRight" fmla="*/ 561960 w 561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6214" h="3064">
                  <a:moveTo>
                    <a:pt x="6214" y="3064"/>
                  </a:moveTo>
                  <a:lnTo>
                    <a:pt x="5836" y="2715"/>
                  </a:lnTo>
                  <a:lnTo>
                    <a:pt x="5531" y="2722"/>
                  </a:lnTo>
                  <a:lnTo>
                    <a:pt x="5149" y="2377"/>
                  </a:lnTo>
                  <a:lnTo>
                    <a:pt x="4841" y="2385"/>
                  </a:lnTo>
                  <a:lnTo>
                    <a:pt x="4465" y="2039"/>
                  </a:lnTo>
                  <a:lnTo>
                    <a:pt x="4151" y="2044"/>
                  </a:lnTo>
                  <a:lnTo>
                    <a:pt x="3775" y="1701"/>
                  </a:lnTo>
                  <a:lnTo>
                    <a:pt x="3463" y="1706"/>
                  </a:lnTo>
                  <a:lnTo>
                    <a:pt x="3088" y="1362"/>
                  </a:lnTo>
                  <a:lnTo>
                    <a:pt x="2773" y="1365"/>
                  </a:lnTo>
                  <a:lnTo>
                    <a:pt x="2400" y="1022"/>
                  </a:lnTo>
                  <a:lnTo>
                    <a:pt x="2081" y="1025"/>
                  </a:lnTo>
                  <a:lnTo>
                    <a:pt x="1710" y="681"/>
                  </a:lnTo>
                  <a:lnTo>
                    <a:pt x="1390" y="681"/>
                  </a:lnTo>
                  <a:lnTo>
                    <a:pt x="1020" y="343"/>
                  </a:lnTo>
                  <a:lnTo>
                    <a:pt x="695" y="340"/>
                  </a:lnTo>
                  <a:lnTo>
                    <a:pt x="329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7"/>
            <p:cNvSpPr/>
            <p:nvPr/>
          </p:nvSpPr>
          <p:spPr>
            <a:xfrm>
              <a:off x="3628800" y="2127600"/>
              <a:ext cx="621360" cy="28980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6883" h="3395">
                  <a:moveTo>
                    <a:pt x="0" y="0"/>
                  </a:moveTo>
                  <a:lnTo>
                    <a:pt x="325" y="5"/>
                  </a:lnTo>
                  <a:lnTo>
                    <a:pt x="692" y="344"/>
                  </a:lnTo>
                  <a:lnTo>
                    <a:pt x="1015" y="344"/>
                  </a:lnTo>
                  <a:lnTo>
                    <a:pt x="1383" y="684"/>
                  </a:lnTo>
                  <a:lnTo>
                    <a:pt x="1705" y="684"/>
                  </a:lnTo>
                  <a:lnTo>
                    <a:pt x="2073" y="1022"/>
                  </a:lnTo>
                  <a:lnTo>
                    <a:pt x="2391" y="1022"/>
                  </a:lnTo>
                  <a:lnTo>
                    <a:pt x="2763" y="1363"/>
                  </a:lnTo>
                  <a:lnTo>
                    <a:pt x="3080" y="1363"/>
                  </a:lnTo>
                  <a:lnTo>
                    <a:pt x="3451" y="1703"/>
                  </a:lnTo>
                  <a:lnTo>
                    <a:pt x="3765" y="1701"/>
                  </a:lnTo>
                  <a:lnTo>
                    <a:pt x="4138" y="2042"/>
                  </a:lnTo>
                  <a:lnTo>
                    <a:pt x="4451" y="2040"/>
                  </a:lnTo>
                  <a:lnTo>
                    <a:pt x="4828" y="2380"/>
                  </a:lnTo>
                  <a:lnTo>
                    <a:pt x="5136" y="2375"/>
                  </a:lnTo>
                  <a:lnTo>
                    <a:pt x="5512" y="2718"/>
                  </a:lnTo>
                  <a:lnTo>
                    <a:pt x="5820" y="2713"/>
                  </a:lnTo>
                  <a:lnTo>
                    <a:pt x="6199" y="3056"/>
                  </a:lnTo>
                  <a:lnTo>
                    <a:pt x="6502" y="3049"/>
                  </a:lnTo>
                  <a:lnTo>
                    <a:pt x="6883" y="339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8"/>
            <p:cNvSpPr/>
            <p:nvPr/>
          </p:nvSpPr>
          <p:spPr>
            <a:xfrm>
              <a:off x="3594600" y="2099520"/>
              <a:ext cx="682920" cy="316800"/>
            </a:xfrm>
            <a:custGeom>
              <a:avLst/>
              <a:gdLst>
                <a:gd name="textAreaLeft" fmla="*/ 0 w 682920"/>
                <a:gd name="textAreaRight" fmla="*/ 682920 w 68292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7544" h="3722">
                  <a:moveTo>
                    <a:pt x="7544" y="3722"/>
                  </a:moveTo>
                  <a:lnTo>
                    <a:pt x="7165" y="3379"/>
                  </a:lnTo>
                  <a:lnTo>
                    <a:pt x="6865" y="3384"/>
                  </a:lnTo>
                  <a:lnTo>
                    <a:pt x="6487" y="3042"/>
                  </a:lnTo>
                  <a:lnTo>
                    <a:pt x="6183" y="3048"/>
                  </a:lnTo>
                  <a:lnTo>
                    <a:pt x="5804" y="2705"/>
                  </a:lnTo>
                  <a:lnTo>
                    <a:pt x="5499" y="2710"/>
                  </a:lnTo>
                  <a:lnTo>
                    <a:pt x="5123" y="2369"/>
                  </a:lnTo>
                  <a:lnTo>
                    <a:pt x="4814" y="2375"/>
                  </a:lnTo>
                  <a:lnTo>
                    <a:pt x="4441" y="2034"/>
                  </a:lnTo>
                  <a:lnTo>
                    <a:pt x="4128" y="2036"/>
                  </a:lnTo>
                  <a:lnTo>
                    <a:pt x="3756" y="1695"/>
                  </a:lnTo>
                  <a:lnTo>
                    <a:pt x="3443" y="1698"/>
                  </a:lnTo>
                  <a:lnTo>
                    <a:pt x="3072" y="1357"/>
                  </a:lnTo>
                  <a:lnTo>
                    <a:pt x="2754" y="1357"/>
                  </a:lnTo>
                  <a:lnTo>
                    <a:pt x="2388" y="1019"/>
                  </a:lnTo>
                  <a:lnTo>
                    <a:pt x="2068" y="1019"/>
                  </a:lnTo>
                  <a:lnTo>
                    <a:pt x="1702" y="681"/>
                  </a:lnTo>
                  <a:lnTo>
                    <a:pt x="1378" y="679"/>
                  </a:lnTo>
                  <a:lnTo>
                    <a:pt x="1014" y="342"/>
                  </a:lnTo>
                  <a:lnTo>
                    <a:pt x="688" y="340"/>
                  </a:lnTo>
                  <a:lnTo>
                    <a:pt x="327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9"/>
            <p:cNvSpPr/>
            <p:nvPr/>
          </p:nvSpPr>
          <p:spPr>
            <a:xfrm>
              <a:off x="3561840" y="2071440"/>
              <a:ext cx="744120" cy="34344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8208" h="4047">
                  <a:moveTo>
                    <a:pt x="0" y="0"/>
                  </a:moveTo>
                  <a:lnTo>
                    <a:pt x="327" y="7"/>
                  </a:lnTo>
                  <a:lnTo>
                    <a:pt x="688" y="341"/>
                  </a:lnTo>
                  <a:lnTo>
                    <a:pt x="1014" y="346"/>
                  </a:lnTo>
                  <a:lnTo>
                    <a:pt x="1375" y="678"/>
                  </a:lnTo>
                  <a:lnTo>
                    <a:pt x="1698" y="683"/>
                  </a:lnTo>
                  <a:lnTo>
                    <a:pt x="2063" y="1017"/>
                  </a:lnTo>
                  <a:lnTo>
                    <a:pt x="2383" y="1020"/>
                  </a:lnTo>
                  <a:lnTo>
                    <a:pt x="2749" y="1355"/>
                  </a:lnTo>
                  <a:lnTo>
                    <a:pt x="3065" y="1357"/>
                  </a:lnTo>
                  <a:lnTo>
                    <a:pt x="3433" y="1693"/>
                  </a:lnTo>
                  <a:lnTo>
                    <a:pt x="3749" y="1693"/>
                  </a:lnTo>
                  <a:lnTo>
                    <a:pt x="4117" y="2031"/>
                  </a:lnTo>
                  <a:lnTo>
                    <a:pt x="4431" y="2031"/>
                  </a:lnTo>
                  <a:lnTo>
                    <a:pt x="4802" y="2370"/>
                  </a:lnTo>
                  <a:lnTo>
                    <a:pt x="5110" y="2367"/>
                  </a:lnTo>
                  <a:lnTo>
                    <a:pt x="5484" y="2705"/>
                  </a:lnTo>
                  <a:lnTo>
                    <a:pt x="5792" y="2702"/>
                  </a:lnTo>
                  <a:lnTo>
                    <a:pt x="6165" y="3041"/>
                  </a:lnTo>
                  <a:lnTo>
                    <a:pt x="6471" y="3036"/>
                  </a:lnTo>
                  <a:lnTo>
                    <a:pt x="6848" y="3378"/>
                  </a:lnTo>
                  <a:lnTo>
                    <a:pt x="7148" y="3371"/>
                  </a:lnTo>
                  <a:lnTo>
                    <a:pt x="7526" y="3715"/>
                  </a:lnTo>
                  <a:lnTo>
                    <a:pt x="7827" y="3707"/>
                  </a:lnTo>
                  <a:lnTo>
                    <a:pt x="8208" y="404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20"/>
            <p:cNvSpPr/>
            <p:nvPr/>
          </p:nvSpPr>
          <p:spPr>
            <a:xfrm>
              <a:off x="3529440" y="2043360"/>
              <a:ext cx="802080" cy="37152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8860" h="4370">
                  <a:moveTo>
                    <a:pt x="8860" y="4370"/>
                  </a:moveTo>
                  <a:lnTo>
                    <a:pt x="8481" y="4030"/>
                  </a:lnTo>
                  <a:lnTo>
                    <a:pt x="8186" y="4037"/>
                  </a:lnTo>
                  <a:lnTo>
                    <a:pt x="7807" y="3696"/>
                  </a:lnTo>
                  <a:lnTo>
                    <a:pt x="7507" y="3701"/>
                  </a:lnTo>
                  <a:lnTo>
                    <a:pt x="7130" y="3363"/>
                  </a:lnTo>
                  <a:lnTo>
                    <a:pt x="6830" y="3366"/>
                  </a:lnTo>
                  <a:lnTo>
                    <a:pt x="6454" y="3027"/>
                  </a:lnTo>
                  <a:lnTo>
                    <a:pt x="6151" y="3032"/>
                  </a:lnTo>
                  <a:lnTo>
                    <a:pt x="5777" y="2695"/>
                  </a:lnTo>
                  <a:lnTo>
                    <a:pt x="5469" y="2697"/>
                  </a:lnTo>
                  <a:lnTo>
                    <a:pt x="5098" y="2358"/>
                  </a:lnTo>
                  <a:lnTo>
                    <a:pt x="4790" y="2361"/>
                  </a:lnTo>
                  <a:lnTo>
                    <a:pt x="4418" y="2023"/>
                  </a:lnTo>
                  <a:lnTo>
                    <a:pt x="4108" y="2023"/>
                  </a:lnTo>
                  <a:lnTo>
                    <a:pt x="3739" y="1687"/>
                  </a:lnTo>
                  <a:lnTo>
                    <a:pt x="3424" y="1687"/>
                  </a:lnTo>
                  <a:lnTo>
                    <a:pt x="3060" y="1352"/>
                  </a:lnTo>
                  <a:lnTo>
                    <a:pt x="2742" y="1350"/>
                  </a:lnTo>
                  <a:lnTo>
                    <a:pt x="2378" y="1017"/>
                  </a:lnTo>
                  <a:lnTo>
                    <a:pt x="2057" y="1013"/>
                  </a:lnTo>
                  <a:lnTo>
                    <a:pt x="1696" y="681"/>
                  </a:lnTo>
                  <a:lnTo>
                    <a:pt x="1373" y="676"/>
                  </a:lnTo>
                  <a:lnTo>
                    <a:pt x="1012" y="343"/>
                  </a:lnTo>
                  <a:lnTo>
                    <a:pt x="686" y="337"/>
                  </a:lnTo>
                  <a:lnTo>
                    <a:pt x="32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21"/>
            <p:cNvSpPr/>
            <p:nvPr/>
          </p:nvSpPr>
          <p:spPr>
            <a:xfrm>
              <a:off x="3498120" y="2014200"/>
              <a:ext cx="860760" cy="399600"/>
            </a:xfrm>
            <a:custGeom>
              <a:avLst/>
              <a:gdLst>
                <a:gd name="textAreaLeft" fmla="*/ 0 w 860760"/>
                <a:gd name="textAreaRight" fmla="*/ 861120 w 860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514" h="4696">
                  <a:moveTo>
                    <a:pt x="0" y="0"/>
                  </a:moveTo>
                  <a:lnTo>
                    <a:pt x="328" y="11"/>
                  </a:lnTo>
                  <a:lnTo>
                    <a:pt x="684" y="338"/>
                  </a:lnTo>
                  <a:lnTo>
                    <a:pt x="1010" y="346"/>
                  </a:lnTo>
                  <a:lnTo>
                    <a:pt x="1368" y="677"/>
                  </a:lnTo>
                  <a:lnTo>
                    <a:pt x="1691" y="682"/>
                  </a:lnTo>
                  <a:lnTo>
                    <a:pt x="2052" y="1015"/>
                  </a:lnTo>
                  <a:lnTo>
                    <a:pt x="2373" y="1017"/>
                  </a:lnTo>
                  <a:lnTo>
                    <a:pt x="2734" y="1351"/>
                  </a:lnTo>
                  <a:lnTo>
                    <a:pt x="3052" y="1353"/>
                  </a:lnTo>
                  <a:lnTo>
                    <a:pt x="3416" y="1686"/>
                  </a:lnTo>
                  <a:lnTo>
                    <a:pt x="3732" y="1688"/>
                  </a:lnTo>
                  <a:lnTo>
                    <a:pt x="4095" y="2021"/>
                  </a:lnTo>
                  <a:lnTo>
                    <a:pt x="4408" y="2025"/>
                  </a:lnTo>
                  <a:lnTo>
                    <a:pt x="4774" y="2357"/>
                  </a:lnTo>
                  <a:lnTo>
                    <a:pt x="5085" y="2357"/>
                  </a:lnTo>
                  <a:lnTo>
                    <a:pt x="5454" y="2692"/>
                  </a:lnTo>
                  <a:lnTo>
                    <a:pt x="5762" y="2692"/>
                  </a:lnTo>
                  <a:lnTo>
                    <a:pt x="6133" y="3029"/>
                  </a:lnTo>
                  <a:lnTo>
                    <a:pt x="6439" y="3026"/>
                  </a:lnTo>
                  <a:lnTo>
                    <a:pt x="6810" y="3361"/>
                  </a:lnTo>
                  <a:lnTo>
                    <a:pt x="7113" y="3359"/>
                  </a:lnTo>
                  <a:lnTo>
                    <a:pt x="7486" y="3697"/>
                  </a:lnTo>
                  <a:lnTo>
                    <a:pt x="7786" y="3692"/>
                  </a:lnTo>
                  <a:lnTo>
                    <a:pt x="8163" y="4030"/>
                  </a:lnTo>
                  <a:lnTo>
                    <a:pt x="8461" y="4023"/>
                  </a:lnTo>
                  <a:lnTo>
                    <a:pt x="8837" y="4364"/>
                  </a:lnTo>
                  <a:lnTo>
                    <a:pt x="9132" y="4356"/>
                  </a:lnTo>
                  <a:lnTo>
                    <a:pt x="9514" y="469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22"/>
            <p:cNvSpPr/>
            <p:nvPr/>
          </p:nvSpPr>
          <p:spPr>
            <a:xfrm>
              <a:off x="3465720" y="1985760"/>
              <a:ext cx="919080" cy="42804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0154" h="5014">
                  <a:moveTo>
                    <a:pt x="10154" y="5014"/>
                  </a:moveTo>
                  <a:lnTo>
                    <a:pt x="9778" y="4676"/>
                  </a:lnTo>
                  <a:lnTo>
                    <a:pt x="9485" y="4684"/>
                  </a:lnTo>
                  <a:lnTo>
                    <a:pt x="9110" y="4346"/>
                  </a:lnTo>
                  <a:lnTo>
                    <a:pt x="8814" y="4351"/>
                  </a:lnTo>
                  <a:lnTo>
                    <a:pt x="8437" y="4015"/>
                  </a:lnTo>
                  <a:lnTo>
                    <a:pt x="8139" y="4020"/>
                  </a:lnTo>
                  <a:lnTo>
                    <a:pt x="7766" y="3682"/>
                  </a:lnTo>
                  <a:lnTo>
                    <a:pt x="7466" y="3687"/>
                  </a:lnTo>
                  <a:lnTo>
                    <a:pt x="7095" y="3352"/>
                  </a:lnTo>
                  <a:lnTo>
                    <a:pt x="6792" y="3354"/>
                  </a:lnTo>
                  <a:lnTo>
                    <a:pt x="6420" y="3018"/>
                  </a:lnTo>
                  <a:lnTo>
                    <a:pt x="6115" y="3020"/>
                  </a:lnTo>
                  <a:lnTo>
                    <a:pt x="5746" y="2685"/>
                  </a:lnTo>
                  <a:lnTo>
                    <a:pt x="5438" y="2685"/>
                  </a:lnTo>
                  <a:lnTo>
                    <a:pt x="5071" y="2353"/>
                  </a:lnTo>
                  <a:lnTo>
                    <a:pt x="4761" y="2353"/>
                  </a:lnTo>
                  <a:lnTo>
                    <a:pt x="4398" y="2019"/>
                  </a:lnTo>
                  <a:lnTo>
                    <a:pt x="4085" y="2016"/>
                  </a:lnTo>
                  <a:lnTo>
                    <a:pt x="3721" y="1686"/>
                  </a:lnTo>
                  <a:lnTo>
                    <a:pt x="3405" y="1681"/>
                  </a:lnTo>
                  <a:lnTo>
                    <a:pt x="3044" y="1350"/>
                  </a:lnTo>
                  <a:lnTo>
                    <a:pt x="2726" y="1345"/>
                  </a:lnTo>
                  <a:lnTo>
                    <a:pt x="2365" y="1018"/>
                  </a:lnTo>
                  <a:lnTo>
                    <a:pt x="2044" y="1010"/>
                  </a:lnTo>
                  <a:lnTo>
                    <a:pt x="1686" y="681"/>
                  </a:lnTo>
                  <a:lnTo>
                    <a:pt x="1363" y="674"/>
                  </a:lnTo>
                  <a:lnTo>
                    <a:pt x="1007" y="346"/>
                  </a:lnTo>
                  <a:lnTo>
                    <a:pt x="681" y="339"/>
                  </a:lnTo>
                  <a:lnTo>
                    <a:pt x="327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23"/>
            <p:cNvSpPr/>
            <p:nvPr/>
          </p:nvSpPr>
          <p:spPr>
            <a:xfrm>
              <a:off x="3434400" y="1959120"/>
              <a:ext cx="977400" cy="45324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0801" h="5332">
                  <a:moveTo>
                    <a:pt x="0" y="0"/>
                  </a:moveTo>
                  <a:lnTo>
                    <a:pt x="330" y="10"/>
                  </a:lnTo>
                  <a:lnTo>
                    <a:pt x="681" y="335"/>
                  </a:lnTo>
                  <a:lnTo>
                    <a:pt x="1007" y="345"/>
                  </a:lnTo>
                  <a:lnTo>
                    <a:pt x="1361" y="671"/>
                  </a:lnTo>
                  <a:lnTo>
                    <a:pt x="1686" y="679"/>
                  </a:lnTo>
                  <a:lnTo>
                    <a:pt x="2040" y="1006"/>
                  </a:lnTo>
                  <a:lnTo>
                    <a:pt x="2363" y="1014"/>
                  </a:lnTo>
                  <a:lnTo>
                    <a:pt x="2719" y="1343"/>
                  </a:lnTo>
                  <a:lnTo>
                    <a:pt x="3037" y="1347"/>
                  </a:lnTo>
                  <a:lnTo>
                    <a:pt x="3398" y="1675"/>
                  </a:lnTo>
                  <a:lnTo>
                    <a:pt x="3714" y="1680"/>
                  </a:lnTo>
                  <a:lnTo>
                    <a:pt x="4075" y="2011"/>
                  </a:lnTo>
                  <a:lnTo>
                    <a:pt x="4388" y="2014"/>
                  </a:lnTo>
                  <a:lnTo>
                    <a:pt x="4752" y="2344"/>
                  </a:lnTo>
                  <a:lnTo>
                    <a:pt x="5062" y="2346"/>
                  </a:lnTo>
                  <a:lnTo>
                    <a:pt x="5425" y="2678"/>
                  </a:lnTo>
                  <a:lnTo>
                    <a:pt x="5734" y="2680"/>
                  </a:lnTo>
                  <a:lnTo>
                    <a:pt x="6100" y="3010"/>
                  </a:lnTo>
                  <a:lnTo>
                    <a:pt x="6406" y="3010"/>
                  </a:lnTo>
                  <a:lnTo>
                    <a:pt x="6774" y="3343"/>
                  </a:lnTo>
                  <a:lnTo>
                    <a:pt x="7077" y="3343"/>
                  </a:lnTo>
                  <a:lnTo>
                    <a:pt x="7449" y="3677"/>
                  </a:lnTo>
                  <a:lnTo>
                    <a:pt x="7749" y="3674"/>
                  </a:lnTo>
                  <a:lnTo>
                    <a:pt x="8120" y="4007"/>
                  </a:lnTo>
                  <a:lnTo>
                    <a:pt x="8418" y="4004"/>
                  </a:lnTo>
                  <a:lnTo>
                    <a:pt x="8791" y="4340"/>
                  </a:lnTo>
                  <a:lnTo>
                    <a:pt x="9087" y="4335"/>
                  </a:lnTo>
                  <a:lnTo>
                    <a:pt x="9464" y="4671"/>
                  </a:lnTo>
                  <a:lnTo>
                    <a:pt x="9757" y="4666"/>
                  </a:lnTo>
                  <a:lnTo>
                    <a:pt x="10132" y="5001"/>
                  </a:lnTo>
                  <a:lnTo>
                    <a:pt x="10423" y="4993"/>
                  </a:lnTo>
                  <a:lnTo>
                    <a:pt x="10801" y="533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24"/>
            <p:cNvSpPr/>
            <p:nvPr/>
          </p:nvSpPr>
          <p:spPr>
            <a:xfrm>
              <a:off x="3402000" y="1931040"/>
              <a:ext cx="1036080" cy="48132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1435" h="5650">
                  <a:moveTo>
                    <a:pt x="11435" y="5650"/>
                  </a:moveTo>
                  <a:lnTo>
                    <a:pt x="11061" y="5313"/>
                  </a:lnTo>
                  <a:lnTo>
                    <a:pt x="10771" y="5318"/>
                  </a:lnTo>
                  <a:lnTo>
                    <a:pt x="10395" y="4983"/>
                  </a:lnTo>
                  <a:lnTo>
                    <a:pt x="10105" y="4991"/>
                  </a:lnTo>
                  <a:lnTo>
                    <a:pt x="9730" y="4655"/>
                  </a:lnTo>
                  <a:lnTo>
                    <a:pt x="9435" y="4660"/>
                  </a:lnTo>
                  <a:lnTo>
                    <a:pt x="9064" y="4327"/>
                  </a:lnTo>
                  <a:lnTo>
                    <a:pt x="8766" y="4329"/>
                  </a:lnTo>
                  <a:lnTo>
                    <a:pt x="8395" y="3997"/>
                  </a:lnTo>
                  <a:lnTo>
                    <a:pt x="8097" y="3999"/>
                  </a:lnTo>
                  <a:lnTo>
                    <a:pt x="7729" y="3665"/>
                  </a:lnTo>
                  <a:lnTo>
                    <a:pt x="7425" y="3668"/>
                  </a:lnTo>
                  <a:lnTo>
                    <a:pt x="7059" y="3335"/>
                  </a:lnTo>
                  <a:lnTo>
                    <a:pt x="6754" y="3335"/>
                  </a:lnTo>
                  <a:lnTo>
                    <a:pt x="6390" y="3005"/>
                  </a:lnTo>
                  <a:lnTo>
                    <a:pt x="6082" y="3005"/>
                  </a:lnTo>
                  <a:lnTo>
                    <a:pt x="5719" y="2674"/>
                  </a:lnTo>
                  <a:lnTo>
                    <a:pt x="5410" y="2671"/>
                  </a:lnTo>
                  <a:lnTo>
                    <a:pt x="5047" y="2344"/>
                  </a:lnTo>
                  <a:lnTo>
                    <a:pt x="4736" y="2339"/>
                  </a:lnTo>
                  <a:lnTo>
                    <a:pt x="4375" y="2010"/>
                  </a:lnTo>
                  <a:lnTo>
                    <a:pt x="4062" y="2005"/>
                  </a:lnTo>
                  <a:lnTo>
                    <a:pt x="3703" y="1677"/>
                  </a:lnTo>
                  <a:lnTo>
                    <a:pt x="3385" y="1672"/>
                  </a:lnTo>
                  <a:lnTo>
                    <a:pt x="3029" y="1347"/>
                  </a:lnTo>
                  <a:lnTo>
                    <a:pt x="2711" y="1339"/>
                  </a:lnTo>
                  <a:lnTo>
                    <a:pt x="2355" y="1014"/>
                  </a:lnTo>
                  <a:lnTo>
                    <a:pt x="2034" y="1004"/>
                  </a:lnTo>
                  <a:lnTo>
                    <a:pt x="1681" y="678"/>
                  </a:lnTo>
                  <a:lnTo>
                    <a:pt x="1355" y="670"/>
                  </a:lnTo>
                  <a:lnTo>
                    <a:pt x="1004" y="345"/>
                  </a:lnTo>
                  <a:lnTo>
                    <a:pt x="678" y="335"/>
                  </a:lnTo>
                  <a:lnTo>
                    <a:pt x="327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25"/>
            <p:cNvSpPr/>
            <p:nvPr/>
          </p:nvSpPr>
          <p:spPr>
            <a:xfrm>
              <a:off x="3370680" y="1904040"/>
              <a:ext cx="1092600" cy="507240"/>
            </a:xfrm>
            <a:custGeom>
              <a:avLst/>
              <a:gdLst>
                <a:gd name="textAreaLeft" fmla="*/ 0 w 1092600"/>
                <a:gd name="textAreaRight" fmla="*/ 1092960 w 109260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12074" h="5966">
                  <a:moveTo>
                    <a:pt x="0" y="0"/>
                  </a:moveTo>
                  <a:lnTo>
                    <a:pt x="330" y="12"/>
                  </a:lnTo>
                  <a:lnTo>
                    <a:pt x="676" y="336"/>
                  </a:lnTo>
                  <a:lnTo>
                    <a:pt x="1005" y="346"/>
                  </a:lnTo>
                  <a:lnTo>
                    <a:pt x="1353" y="669"/>
                  </a:lnTo>
                  <a:lnTo>
                    <a:pt x="1679" y="679"/>
                  </a:lnTo>
                  <a:lnTo>
                    <a:pt x="2030" y="1002"/>
                  </a:lnTo>
                  <a:lnTo>
                    <a:pt x="2351" y="1012"/>
                  </a:lnTo>
                  <a:lnTo>
                    <a:pt x="2704" y="1338"/>
                  </a:lnTo>
                  <a:lnTo>
                    <a:pt x="3025" y="1345"/>
                  </a:lnTo>
                  <a:lnTo>
                    <a:pt x="3378" y="1671"/>
                  </a:lnTo>
                  <a:lnTo>
                    <a:pt x="3696" y="1676"/>
                  </a:lnTo>
                  <a:lnTo>
                    <a:pt x="4052" y="2001"/>
                  </a:lnTo>
                  <a:lnTo>
                    <a:pt x="4366" y="2009"/>
                  </a:lnTo>
                  <a:lnTo>
                    <a:pt x="4724" y="2334"/>
                  </a:lnTo>
                  <a:lnTo>
                    <a:pt x="5037" y="2339"/>
                  </a:lnTo>
                  <a:lnTo>
                    <a:pt x="5396" y="2668"/>
                  </a:lnTo>
                  <a:lnTo>
                    <a:pt x="5706" y="2670"/>
                  </a:lnTo>
                  <a:lnTo>
                    <a:pt x="6068" y="2998"/>
                  </a:lnTo>
                  <a:lnTo>
                    <a:pt x="6376" y="3000"/>
                  </a:lnTo>
                  <a:lnTo>
                    <a:pt x="6739" y="3329"/>
                  </a:lnTo>
                  <a:lnTo>
                    <a:pt x="7042" y="3332"/>
                  </a:lnTo>
                  <a:lnTo>
                    <a:pt x="7408" y="3659"/>
                  </a:lnTo>
                  <a:lnTo>
                    <a:pt x="7708" y="3659"/>
                  </a:lnTo>
                  <a:lnTo>
                    <a:pt x="8078" y="3989"/>
                  </a:lnTo>
                  <a:lnTo>
                    <a:pt x="8376" y="3989"/>
                  </a:lnTo>
                  <a:lnTo>
                    <a:pt x="8744" y="4321"/>
                  </a:lnTo>
                  <a:lnTo>
                    <a:pt x="9042" y="4318"/>
                  </a:lnTo>
                  <a:lnTo>
                    <a:pt x="9413" y="4651"/>
                  </a:lnTo>
                  <a:lnTo>
                    <a:pt x="9706" y="4646"/>
                  </a:lnTo>
                  <a:lnTo>
                    <a:pt x="10079" y="4979"/>
                  </a:lnTo>
                  <a:lnTo>
                    <a:pt x="10370" y="4974"/>
                  </a:lnTo>
                  <a:lnTo>
                    <a:pt x="10744" y="5307"/>
                  </a:lnTo>
                  <a:lnTo>
                    <a:pt x="11034" y="5302"/>
                  </a:lnTo>
                  <a:lnTo>
                    <a:pt x="11410" y="5637"/>
                  </a:lnTo>
                  <a:lnTo>
                    <a:pt x="11696" y="5630"/>
                  </a:lnTo>
                  <a:lnTo>
                    <a:pt x="12074" y="59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26"/>
            <p:cNvSpPr/>
            <p:nvPr/>
          </p:nvSpPr>
          <p:spPr>
            <a:xfrm>
              <a:off x="3339360" y="1875960"/>
              <a:ext cx="1149840" cy="535320"/>
            </a:xfrm>
            <a:custGeom>
              <a:avLst/>
              <a:gdLst>
                <a:gd name="textAreaLeft" fmla="*/ 0 w 1149840"/>
                <a:gd name="textAreaRight" fmla="*/ 1150200 w 114984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12701" h="6275">
                  <a:moveTo>
                    <a:pt x="12701" y="6275"/>
                  </a:moveTo>
                  <a:lnTo>
                    <a:pt x="12327" y="5942"/>
                  </a:lnTo>
                  <a:lnTo>
                    <a:pt x="12042" y="5950"/>
                  </a:lnTo>
                  <a:lnTo>
                    <a:pt x="11665" y="5617"/>
                  </a:lnTo>
                  <a:lnTo>
                    <a:pt x="11380" y="5622"/>
                  </a:lnTo>
                  <a:lnTo>
                    <a:pt x="11006" y="5289"/>
                  </a:lnTo>
                  <a:lnTo>
                    <a:pt x="10716" y="5294"/>
                  </a:lnTo>
                  <a:lnTo>
                    <a:pt x="10345" y="4963"/>
                  </a:lnTo>
                  <a:lnTo>
                    <a:pt x="10052" y="4966"/>
                  </a:lnTo>
                  <a:lnTo>
                    <a:pt x="9681" y="4636"/>
                  </a:lnTo>
                  <a:lnTo>
                    <a:pt x="9388" y="4638"/>
                  </a:lnTo>
                  <a:lnTo>
                    <a:pt x="9020" y="4307"/>
                  </a:lnTo>
                  <a:lnTo>
                    <a:pt x="8722" y="4309"/>
                  </a:lnTo>
                  <a:lnTo>
                    <a:pt x="8355" y="3979"/>
                  </a:lnTo>
                  <a:lnTo>
                    <a:pt x="8054" y="3979"/>
                  </a:lnTo>
                  <a:lnTo>
                    <a:pt x="7691" y="3652"/>
                  </a:lnTo>
                  <a:lnTo>
                    <a:pt x="7388" y="3652"/>
                  </a:lnTo>
                  <a:lnTo>
                    <a:pt x="7025" y="3323"/>
                  </a:lnTo>
                  <a:lnTo>
                    <a:pt x="6722" y="3320"/>
                  </a:lnTo>
                  <a:lnTo>
                    <a:pt x="6358" y="2993"/>
                  </a:lnTo>
                  <a:lnTo>
                    <a:pt x="6052" y="2990"/>
                  </a:lnTo>
                  <a:lnTo>
                    <a:pt x="5691" y="2664"/>
                  </a:lnTo>
                  <a:lnTo>
                    <a:pt x="5383" y="2659"/>
                  </a:lnTo>
                  <a:lnTo>
                    <a:pt x="5025" y="2334"/>
                  </a:lnTo>
                  <a:lnTo>
                    <a:pt x="4712" y="2329"/>
                  </a:lnTo>
                  <a:lnTo>
                    <a:pt x="4356" y="2004"/>
                  </a:lnTo>
                  <a:lnTo>
                    <a:pt x="4042" y="1996"/>
                  </a:lnTo>
                  <a:lnTo>
                    <a:pt x="3686" y="1672"/>
                  </a:lnTo>
                  <a:lnTo>
                    <a:pt x="3371" y="1665"/>
                  </a:lnTo>
                  <a:lnTo>
                    <a:pt x="3017" y="1342"/>
                  </a:lnTo>
                  <a:lnTo>
                    <a:pt x="2697" y="1332"/>
                  </a:lnTo>
                  <a:lnTo>
                    <a:pt x="2346" y="1009"/>
                  </a:lnTo>
                  <a:lnTo>
                    <a:pt x="2025" y="999"/>
                  </a:lnTo>
                  <a:lnTo>
                    <a:pt x="1674" y="678"/>
                  </a:lnTo>
                  <a:lnTo>
                    <a:pt x="1351" y="666"/>
                  </a:lnTo>
                  <a:lnTo>
                    <a:pt x="1002" y="346"/>
                  </a:lnTo>
                  <a:lnTo>
                    <a:pt x="676" y="332"/>
                  </a:lnTo>
                  <a:lnTo>
                    <a:pt x="331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27"/>
            <p:cNvSpPr/>
            <p:nvPr/>
          </p:nvSpPr>
          <p:spPr>
            <a:xfrm>
              <a:off x="3308400" y="1849320"/>
              <a:ext cx="1206720" cy="560880"/>
            </a:xfrm>
            <a:custGeom>
              <a:avLst/>
              <a:gdLst>
                <a:gd name="textAreaLeft" fmla="*/ 0 w 1206720"/>
                <a:gd name="textAreaRight" fmla="*/ 1207080 w 12067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3330" h="6586">
                  <a:moveTo>
                    <a:pt x="0" y="0"/>
                  </a:moveTo>
                  <a:lnTo>
                    <a:pt x="331" y="15"/>
                  </a:lnTo>
                  <a:lnTo>
                    <a:pt x="675" y="333"/>
                  </a:lnTo>
                  <a:lnTo>
                    <a:pt x="1000" y="345"/>
                  </a:lnTo>
                  <a:lnTo>
                    <a:pt x="1346" y="664"/>
                  </a:lnTo>
                  <a:lnTo>
                    <a:pt x="1672" y="676"/>
                  </a:lnTo>
                  <a:lnTo>
                    <a:pt x="2018" y="996"/>
                  </a:lnTo>
                  <a:lnTo>
                    <a:pt x="2341" y="1006"/>
                  </a:lnTo>
                  <a:lnTo>
                    <a:pt x="2690" y="1327"/>
                  </a:lnTo>
                  <a:lnTo>
                    <a:pt x="3010" y="1340"/>
                  </a:lnTo>
                  <a:lnTo>
                    <a:pt x="3361" y="1660"/>
                  </a:lnTo>
                  <a:lnTo>
                    <a:pt x="3679" y="1668"/>
                  </a:lnTo>
                  <a:lnTo>
                    <a:pt x="4030" y="1990"/>
                  </a:lnTo>
                  <a:lnTo>
                    <a:pt x="4346" y="1998"/>
                  </a:lnTo>
                  <a:lnTo>
                    <a:pt x="4700" y="2322"/>
                  </a:lnTo>
                  <a:lnTo>
                    <a:pt x="5013" y="2329"/>
                  </a:lnTo>
                  <a:lnTo>
                    <a:pt x="5369" y="2652"/>
                  </a:lnTo>
                  <a:lnTo>
                    <a:pt x="5679" y="2657"/>
                  </a:lnTo>
                  <a:lnTo>
                    <a:pt x="6035" y="2982"/>
                  </a:lnTo>
                  <a:lnTo>
                    <a:pt x="6344" y="2986"/>
                  </a:lnTo>
                  <a:lnTo>
                    <a:pt x="6702" y="3311"/>
                  </a:lnTo>
                  <a:lnTo>
                    <a:pt x="7008" y="3316"/>
                  </a:lnTo>
                  <a:lnTo>
                    <a:pt x="7369" y="3641"/>
                  </a:lnTo>
                  <a:lnTo>
                    <a:pt x="7671" y="3643"/>
                  </a:lnTo>
                  <a:lnTo>
                    <a:pt x="8035" y="3970"/>
                  </a:lnTo>
                  <a:lnTo>
                    <a:pt x="8333" y="3970"/>
                  </a:lnTo>
                  <a:lnTo>
                    <a:pt x="8699" y="4297"/>
                  </a:lnTo>
                  <a:lnTo>
                    <a:pt x="8997" y="4297"/>
                  </a:lnTo>
                  <a:lnTo>
                    <a:pt x="9364" y="4625"/>
                  </a:lnTo>
                  <a:lnTo>
                    <a:pt x="9659" y="4625"/>
                  </a:lnTo>
                  <a:lnTo>
                    <a:pt x="10025" y="4954"/>
                  </a:lnTo>
                  <a:lnTo>
                    <a:pt x="10318" y="4951"/>
                  </a:lnTo>
                  <a:lnTo>
                    <a:pt x="10689" y="5281"/>
                  </a:lnTo>
                  <a:lnTo>
                    <a:pt x="10979" y="5276"/>
                  </a:lnTo>
                  <a:lnTo>
                    <a:pt x="11350" y="5607"/>
                  </a:lnTo>
                  <a:lnTo>
                    <a:pt x="11638" y="5604"/>
                  </a:lnTo>
                  <a:lnTo>
                    <a:pt x="12009" y="5935"/>
                  </a:lnTo>
                  <a:lnTo>
                    <a:pt x="12294" y="5930"/>
                  </a:lnTo>
                  <a:lnTo>
                    <a:pt x="12671" y="6260"/>
                  </a:lnTo>
                  <a:lnTo>
                    <a:pt x="12953" y="6253"/>
                  </a:lnTo>
                  <a:lnTo>
                    <a:pt x="13330" y="65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8"/>
            <p:cNvSpPr/>
            <p:nvPr/>
          </p:nvSpPr>
          <p:spPr>
            <a:xfrm>
              <a:off x="3337920" y="1850400"/>
              <a:ext cx="1143000" cy="531720"/>
            </a:xfrm>
            <a:custGeom>
              <a:avLst/>
              <a:gdLst>
                <a:gd name="textAreaLeft" fmla="*/ 0 w 1143000"/>
                <a:gd name="textAreaRight" fmla="*/ 1143000 w 1143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12622" h="6238">
                  <a:moveTo>
                    <a:pt x="12622" y="6238"/>
                  </a:moveTo>
                  <a:lnTo>
                    <a:pt x="12249" y="5907"/>
                  </a:lnTo>
                  <a:lnTo>
                    <a:pt x="11963" y="5915"/>
                  </a:lnTo>
                  <a:lnTo>
                    <a:pt x="11593" y="5584"/>
                  </a:lnTo>
                  <a:lnTo>
                    <a:pt x="11307" y="5589"/>
                  </a:lnTo>
                  <a:lnTo>
                    <a:pt x="10936" y="5259"/>
                  </a:lnTo>
                  <a:lnTo>
                    <a:pt x="10648" y="5261"/>
                  </a:lnTo>
                  <a:lnTo>
                    <a:pt x="10277" y="4934"/>
                  </a:lnTo>
                  <a:lnTo>
                    <a:pt x="9987" y="4936"/>
                  </a:lnTo>
                  <a:lnTo>
                    <a:pt x="9621" y="4607"/>
                  </a:lnTo>
                  <a:lnTo>
                    <a:pt x="9328" y="4610"/>
                  </a:lnTo>
                  <a:lnTo>
                    <a:pt x="8961" y="4282"/>
                  </a:lnTo>
                  <a:lnTo>
                    <a:pt x="8666" y="4282"/>
                  </a:lnTo>
                  <a:lnTo>
                    <a:pt x="8300" y="3957"/>
                  </a:lnTo>
                  <a:lnTo>
                    <a:pt x="8002" y="3955"/>
                  </a:lnTo>
                  <a:lnTo>
                    <a:pt x="7641" y="3628"/>
                  </a:lnTo>
                  <a:lnTo>
                    <a:pt x="7340" y="3628"/>
                  </a:lnTo>
                  <a:lnTo>
                    <a:pt x="6979" y="3303"/>
                  </a:lnTo>
                  <a:lnTo>
                    <a:pt x="6677" y="3301"/>
                  </a:lnTo>
                  <a:lnTo>
                    <a:pt x="6318" y="2975"/>
                  </a:lnTo>
                  <a:lnTo>
                    <a:pt x="6013" y="2971"/>
                  </a:lnTo>
                  <a:lnTo>
                    <a:pt x="5653" y="2647"/>
                  </a:lnTo>
                  <a:lnTo>
                    <a:pt x="5348" y="2642"/>
                  </a:lnTo>
                  <a:lnTo>
                    <a:pt x="4992" y="2319"/>
                  </a:lnTo>
                  <a:lnTo>
                    <a:pt x="4682" y="2314"/>
                  </a:lnTo>
                  <a:lnTo>
                    <a:pt x="4328" y="1991"/>
                  </a:lnTo>
                  <a:lnTo>
                    <a:pt x="4015" y="1983"/>
                  </a:lnTo>
                  <a:lnTo>
                    <a:pt x="3662" y="1663"/>
                  </a:lnTo>
                  <a:lnTo>
                    <a:pt x="3348" y="1653"/>
                  </a:lnTo>
                  <a:lnTo>
                    <a:pt x="2998" y="1335"/>
                  </a:lnTo>
                  <a:lnTo>
                    <a:pt x="2679" y="1325"/>
                  </a:lnTo>
                  <a:lnTo>
                    <a:pt x="2331" y="1004"/>
                  </a:lnTo>
                  <a:lnTo>
                    <a:pt x="2010" y="991"/>
                  </a:lnTo>
                  <a:lnTo>
                    <a:pt x="1664" y="674"/>
                  </a:lnTo>
                  <a:lnTo>
                    <a:pt x="1341" y="661"/>
                  </a:lnTo>
                  <a:lnTo>
                    <a:pt x="995" y="343"/>
                  </a:lnTo>
                  <a:lnTo>
                    <a:pt x="669" y="330"/>
                  </a:lnTo>
                  <a:lnTo>
                    <a:pt x="32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9"/>
            <p:cNvSpPr/>
            <p:nvPr/>
          </p:nvSpPr>
          <p:spPr>
            <a:xfrm>
              <a:off x="3367800" y="1851840"/>
              <a:ext cx="1079280" cy="50220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1923" h="5895">
                  <a:moveTo>
                    <a:pt x="0" y="0"/>
                  </a:moveTo>
                  <a:lnTo>
                    <a:pt x="326" y="16"/>
                  </a:lnTo>
                  <a:lnTo>
                    <a:pt x="669" y="331"/>
                  </a:lnTo>
                  <a:lnTo>
                    <a:pt x="992" y="346"/>
                  </a:lnTo>
                  <a:lnTo>
                    <a:pt x="1338" y="662"/>
                  </a:lnTo>
                  <a:lnTo>
                    <a:pt x="1659" y="674"/>
                  </a:lnTo>
                  <a:lnTo>
                    <a:pt x="2005" y="992"/>
                  </a:lnTo>
                  <a:lnTo>
                    <a:pt x="2323" y="1003"/>
                  </a:lnTo>
                  <a:lnTo>
                    <a:pt x="2672" y="1323"/>
                  </a:lnTo>
                  <a:lnTo>
                    <a:pt x="2987" y="1333"/>
                  </a:lnTo>
                  <a:lnTo>
                    <a:pt x="3336" y="1651"/>
                  </a:lnTo>
                  <a:lnTo>
                    <a:pt x="3649" y="1661"/>
                  </a:lnTo>
                  <a:lnTo>
                    <a:pt x="4002" y="1979"/>
                  </a:lnTo>
                  <a:lnTo>
                    <a:pt x="4312" y="1987"/>
                  </a:lnTo>
                  <a:lnTo>
                    <a:pt x="4666" y="2307"/>
                  </a:lnTo>
                  <a:lnTo>
                    <a:pt x="4974" y="2315"/>
                  </a:lnTo>
                  <a:lnTo>
                    <a:pt x="5327" y="2635"/>
                  </a:lnTo>
                  <a:lnTo>
                    <a:pt x="5634" y="2642"/>
                  </a:lnTo>
                  <a:lnTo>
                    <a:pt x="5992" y="2963"/>
                  </a:lnTo>
                  <a:lnTo>
                    <a:pt x="6295" y="2968"/>
                  </a:lnTo>
                  <a:lnTo>
                    <a:pt x="6653" y="3291"/>
                  </a:lnTo>
                  <a:lnTo>
                    <a:pt x="6954" y="3294"/>
                  </a:lnTo>
                  <a:lnTo>
                    <a:pt x="7315" y="3616"/>
                  </a:lnTo>
                  <a:lnTo>
                    <a:pt x="7613" y="3619"/>
                  </a:lnTo>
                  <a:lnTo>
                    <a:pt x="7974" y="3945"/>
                  </a:lnTo>
                  <a:lnTo>
                    <a:pt x="8272" y="3945"/>
                  </a:lnTo>
                  <a:lnTo>
                    <a:pt x="8635" y="4270"/>
                  </a:lnTo>
                  <a:lnTo>
                    <a:pt x="8928" y="4270"/>
                  </a:lnTo>
                  <a:lnTo>
                    <a:pt x="9295" y="4595"/>
                  </a:lnTo>
                  <a:lnTo>
                    <a:pt x="9584" y="4595"/>
                  </a:lnTo>
                  <a:lnTo>
                    <a:pt x="9951" y="4922"/>
                  </a:lnTo>
                  <a:lnTo>
                    <a:pt x="10242" y="4919"/>
                  </a:lnTo>
                  <a:lnTo>
                    <a:pt x="10610" y="5247"/>
                  </a:lnTo>
                  <a:lnTo>
                    <a:pt x="10896" y="5244"/>
                  </a:lnTo>
                  <a:lnTo>
                    <a:pt x="11267" y="5572"/>
                  </a:lnTo>
                  <a:lnTo>
                    <a:pt x="11550" y="5567"/>
                  </a:lnTo>
                  <a:lnTo>
                    <a:pt x="11923" y="589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0"/>
            <p:cNvSpPr/>
            <p:nvPr/>
          </p:nvSpPr>
          <p:spPr>
            <a:xfrm>
              <a:off x="3397680" y="1852920"/>
              <a:ext cx="1015200" cy="472680"/>
            </a:xfrm>
            <a:custGeom>
              <a:avLst/>
              <a:gdLst>
                <a:gd name="textAreaLeft" fmla="*/ 0 w 1015200"/>
                <a:gd name="textAreaRight" fmla="*/ 1015560 w 10152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11224" h="5551">
                  <a:moveTo>
                    <a:pt x="11224" y="5551"/>
                  </a:moveTo>
                  <a:lnTo>
                    <a:pt x="10855" y="5223"/>
                  </a:lnTo>
                  <a:lnTo>
                    <a:pt x="10570" y="5228"/>
                  </a:lnTo>
                  <a:lnTo>
                    <a:pt x="10200" y="4900"/>
                  </a:lnTo>
                  <a:lnTo>
                    <a:pt x="9916" y="4903"/>
                  </a:lnTo>
                  <a:lnTo>
                    <a:pt x="9546" y="4577"/>
                  </a:lnTo>
                  <a:lnTo>
                    <a:pt x="9258" y="4579"/>
                  </a:lnTo>
                  <a:lnTo>
                    <a:pt x="8892" y="4254"/>
                  </a:lnTo>
                  <a:lnTo>
                    <a:pt x="8602" y="4254"/>
                  </a:lnTo>
                  <a:lnTo>
                    <a:pt x="8239" y="3932"/>
                  </a:lnTo>
                  <a:lnTo>
                    <a:pt x="7946" y="3929"/>
                  </a:lnTo>
                  <a:lnTo>
                    <a:pt x="7582" y="3605"/>
                  </a:lnTo>
                  <a:lnTo>
                    <a:pt x="7287" y="3603"/>
                  </a:lnTo>
                  <a:lnTo>
                    <a:pt x="6926" y="3283"/>
                  </a:lnTo>
                  <a:lnTo>
                    <a:pt x="6628" y="3278"/>
                  </a:lnTo>
                  <a:lnTo>
                    <a:pt x="6269" y="2957"/>
                  </a:lnTo>
                  <a:lnTo>
                    <a:pt x="5969" y="2952"/>
                  </a:lnTo>
                  <a:lnTo>
                    <a:pt x="5613" y="2631"/>
                  </a:lnTo>
                  <a:lnTo>
                    <a:pt x="5308" y="2626"/>
                  </a:lnTo>
                  <a:lnTo>
                    <a:pt x="4954" y="2306"/>
                  </a:lnTo>
                  <a:lnTo>
                    <a:pt x="4648" y="2299"/>
                  </a:lnTo>
                  <a:lnTo>
                    <a:pt x="4294" y="1978"/>
                  </a:lnTo>
                  <a:lnTo>
                    <a:pt x="3986" y="1971"/>
                  </a:lnTo>
                  <a:lnTo>
                    <a:pt x="3633" y="1652"/>
                  </a:lnTo>
                  <a:lnTo>
                    <a:pt x="3323" y="1645"/>
                  </a:lnTo>
                  <a:lnTo>
                    <a:pt x="2974" y="1327"/>
                  </a:lnTo>
                  <a:lnTo>
                    <a:pt x="2661" y="1317"/>
                  </a:lnTo>
                  <a:lnTo>
                    <a:pt x="2313" y="999"/>
                  </a:lnTo>
                  <a:lnTo>
                    <a:pt x="1997" y="987"/>
                  </a:lnTo>
                  <a:lnTo>
                    <a:pt x="1651" y="670"/>
                  </a:lnTo>
                  <a:lnTo>
                    <a:pt x="1333" y="658"/>
                  </a:lnTo>
                  <a:lnTo>
                    <a:pt x="987" y="343"/>
                  </a:lnTo>
                  <a:lnTo>
                    <a:pt x="666" y="330"/>
                  </a:lnTo>
                  <a:lnTo>
                    <a:pt x="323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1"/>
            <p:cNvSpPr/>
            <p:nvPr/>
          </p:nvSpPr>
          <p:spPr>
            <a:xfrm>
              <a:off x="3426120" y="1854000"/>
              <a:ext cx="952920" cy="4435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10532" h="5208">
                  <a:moveTo>
                    <a:pt x="0" y="0"/>
                  </a:moveTo>
                  <a:lnTo>
                    <a:pt x="321" y="15"/>
                  </a:lnTo>
                  <a:lnTo>
                    <a:pt x="664" y="328"/>
                  </a:lnTo>
                  <a:lnTo>
                    <a:pt x="982" y="340"/>
                  </a:lnTo>
                  <a:lnTo>
                    <a:pt x="1328" y="655"/>
                  </a:lnTo>
                  <a:lnTo>
                    <a:pt x="1644" y="669"/>
                  </a:lnTo>
                  <a:lnTo>
                    <a:pt x="1990" y="984"/>
                  </a:lnTo>
                  <a:lnTo>
                    <a:pt x="2302" y="994"/>
                  </a:lnTo>
                  <a:lnTo>
                    <a:pt x="2651" y="1312"/>
                  </a:lnTo>
                  <a:lnTo>
                    <a:pt x="2961" y="1322"/>
                  </a:lnTo>
                  <a:lnTo>
                    <a:pt x="3310" y="1637"/>
                  </a:lnTo>
                  <a:lnTo>
                    <a:pt x="3621" y="1648"/>
                  </a:lnTo>
                  <a:lnTo>
                    <a:pt x="3971" y="1963"/>
                  </a:lnTo>
                  <a:lnTo>
                    <a:pt x="4278" y="1973"/>
                  </a:lnTo>
                  <a:lnTo>
                    <a:pt x="4631" y="2291"/>
                  </a:lnTo>
                  <a:lnTo>
                    <a:pt x="4934" y="2296"/>
                  </a:lnTo>
                  <a:lnTo>
                    <a:pt x="5290" y="2616"/>
                  </a:lnTo>
                  <a:lnTo>
                    <a:pt x="5590" y="2622"/>
                  </a:lnTo>
                  <a:lnTo>
                    <a:pt x="5946" y="2942"/>
                  </a:lnTo>
                  <a:lnTo>
                    <a:pt x="6247" y="2945"/>
                  </a:lnTo>
                  <a:lnTo>
                    <a:pt x="6603" y="3268"/>
                  </a:lnTo>
                  <a:lnTo>
                    <a:pt x="6901" y="3270"/>
                  </a:lnTo>
                  <a:lnTo>
                    <a:pt x="7259" y="3590"/>
                  </a:lnTo>
                  <a:lnTo>
                    <a:pt x="7555" y="3593"/>
                  </a:lnTo>
                  <a:lnTo>
                    <a:pt x="7916" y="3917"/>
                  </a:lnTo>
                  <a:lnTo>
                    <a:pt x="8206" y="3917"/>
                  </a:lnTo>
                  <a:lnTo>
                    <a:pt x="8569" y="4239"/>
                  </a:lnTo>
                  <a:lnTo>
                    <a:pt x="8860" y="4239"/>
                  </a:lnTo>
                  <a:lnTo>
                    <a:pt x="9223" y="4562"/>
                  </a:lnTo>
                  <a:lnTo>
                    <a:pt x="9511" y="4562"/>
                  </a:lnTo>
                  <a:lnTo>
                    <a:pt x="9877" y="4885"/>
                  </a:lnTo>
                  <a:lnTo>
                    <a:pt x="10163" y="4882"/>
                  </a:lnTo>
                  <a:lnTo>
                    <a:pt x="10532" y="520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2"/>
            <p:cNvSpPr/>
            <p:nvPr/>
          </p:nvSpPr>
          <p:spPr>
            <a:xfrm>
              <a:off x="3456000" y="1855440"/>
              <a:ext cx="890640" cy="41400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842" h="4867">
                  <a:moveTo>
                    <a:pt x="9842" y="4867"/>
                  </a:moveTo>
                  <a:lnTo>
                    <a:pt x="9476" y="4545"/>
                  </a:lnTo>
                  <a:lnTo>
                    <a:pt x="9190" y="4547"/>
                  </a:lnTo>
                  <a:lnTo>
                    <a:pt x="8827" y="4224"/>
                  </a:lnTo>
                  <a:lnTo>
                    <a:pt x="8539" y="4224"/>
                  </a:lnTo>
                  <a:lnTo>
                    <a:pt x="8175" y="3904"/>
                  </a:lnTo>
                  <a:lnTo>
                    <a:pt x="7885" y="3902"/>
                  </a:lnTo>
                  <a:lnTo>
                    <a:pt x="7524" y="3580"/>
                  </a:lnTo>
                  <a:lnTo>
                    <a:pt x="7234" y="3578"/>
                  </a:lnTo>
                  <a:lnTo>
                    <a:pt x="6873" y="3258"/>
                  </a:lnTo>
                  <a:lnTo>
                    <a:pt x="6580" y="3255"/>
                  </a:lnTo>
                  <a:lnTo>
                    <a:pt x="6221" y="2935"/>
                  </a:lnTo>
                  <a:lnTo>
                    <a:pt x="5926" y="2930"/>
                  </a:lnTo>
                  <a:lnTo>
                    <a:pt x="5570" y="2612"/>
                  </a:lnTo>
                  <a:lnTo>
                    <a:pt x="5269" y="2607"/>
                  </a:lnTo>
                  <a:lnTo>
                    <a:pt x="4916" y="2288"/>
                  </a:lnTo>
                  <a:lnTo>
                    <a:pt x="4613" y="2281"/>
                  </a:lnTo>
                  <a:lnTo>
                    <a:pt x="4262" y="1966"/>
                  </a:lnTo>
                  <a:lnTo>
                    <a:pt x="3957" y="1958"/>
                  </a:lnTo>
                  <a:lnTo>
                    <a:pt x="3606" y="1640"/>
                  </a:lnTo>
                  <a:lnTo>
                    <a:pt x="3300" y="1633"/>
                  </a:lnTo>
                  <a:lnTo>
                    <a:pt x="2949" y="1314"/>
                  </a:lnTo>
                  <a:lnTo>
                    <a:pt x="2640" y="1307"/>
                  </a:lnTo>
                  <a:lnTo>
                    <a:pt x="2293" y="991"/>
                  </a:lnTo>
                  <a:lnTo>
                    <a:pt x="1981" y="979"/>
                  </a:lnTo>
                  <a:lnTo>
                    <a:pt x="1635" y="666"/>
                  </a:lnTo>
                  <a:lnTo>
                    <a:pt x="1323" y="654"/>
                  </a:lnTo>
                  <a:lnTo>
                    <a:pt x="979" y="341"/>
                  </a:lnTo>
                  <a:lnTo>
                    <a:pt x="661" y="325"/>
                  </a:lnTo>
                  <a:lnTo>
                    <a:pt x="32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3"/>
            <p:cNvSpPr/>
            <p:nvPr/>
          </p:nvSpPr>
          <p:spPr>
            <a:xfrm>
              <a:off x="3484800" y="1856520"/>
              <a:ext cx="828000" cy="385920"/>
            </a:xfrm>
            <a:custGeom>
              <a:avLst/>
              <a:gdLst>
                <a:gd name="textAreaLeft" fmla="*/ 0 w 828000"/>
                <a:gd name="textAreaRight" fmla="*/ 828360 w 8280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156" h="4530">
                  <a:moveTo>
                    <a:pt x="0" y="0"/>
                  </a:moveTo>
                  <a:lnTo>
                    <a:pt x="315" y="12"/>
                  </a:lnTo>
                  <a:lnTo>
                    <a:pt x="659" y="326"/>
                  </a:lnTo>
                  <a:lnTo>
                    <a:pt x="973" y="338"/>
                  </a:lnTo>
                  <a:lnTo>
                    <a:pt x="1315" y="651"/>
                  </a:lnTo>
                  <a:lnTo>
                    <a:pt x="1629" y="664"/>
                  </a:lnTo>
                  <a:lnTo>
                    <a:pt x="1973" y="976"/>
                  </a:lnTo>
                  <a:lnTo>
                    <a:pt x="2283" y="986"/>
                  </a:lnTo>
                  <a:lnTo>
                    <a:pt x="2629" y="1299"/>
                  </a:lnTo>
                  <a:lnTo>
                    <a:pt x="2937" y="1310"/>
                  </a:lnTo>
                  <a:lnTo>
                    <a:pt x="3286" y="1625"/>
                  </a:lnTo>
                  <a:lnTo>
                    <a:pt x="3591" y="1635"/>
                  </a:lnTo>
                  <a:lnTo>
                    <a:pt x="3942" y="1951"/>
                  </a:lnTo>
                  <a:lnTo>
                    <a:pt x="4242" y="1958"/>
                  </a:lnTo>
                  <a:lnTo>
                    <a:pt x="4596" y="2273"/>
                  </a:lnTo>
                  <a:lnTo>
                    <a:pt x="4894" y="2281"/>
                  </a:lnTo>
                  <a:lnTo>
                    <a:pt x="5250" y="2597"/>
                  </a:lnTo>
                  <a:lnTo>
                    <a:pt x="5545" y="2602"/>
                  </a:lnTo>
                  <a:lnTo>
                    <a:pt x="5901" y="2920"/>
                  </a:lnTo>
                  <a:lnTo>
                    <a:pt x="6197" y="2925"/>
                  </a:lnTo>
                  <a:lnTo>
                    <a:pt x="6553" y="3243"/>
                  </a:lnTo>
                  <a:lnTo>
                    <a:pt x="6846" y="3245"/>
                  </a:lnTo>
                  <a:lnTo>
                    <a:pt x="7204" y="3565"/>
                  </a:lnTo>
                  <a:lnTo>
                    <a:pt x="7495" y="3568"/>
                  </a:lnTo>
                  <a:lnTo>
                    <a:pt x="7855" y="3889"/>
                  </a:lnTo>
                  <a:lnTo>
                    <a:pt x="8143" y="3889"/>
                  </a:lnTo>
                  <a:lnTo>
                    <a:pt x="8507" y="4209"/>
                  </a:lnTo>
                  <a:lnTo>
                    <a:pt x="8792" y="4209"/>
                  </a:lnTo>
                  <a:lnTo>
                    <a:pt x="9156" y="453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4"/>
            <p:cNvSpPr/>
            <p:nvPr/>
          </p:nvSpPr>
          <p:spPr>
            <a:xfrm>
              <a:off x="3513240" y="1857960"/>
              <a:ext cx="766800" cy="35640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8477" h="4197">
                  <a:moveTo>
                    <a:pt x="8477" y="4197"/>
                  </a:moveTo>
                  <a:lnTo>
                    <a:pt x="8114" y="3877"/>
                  </a:lnTo>
                  <a:lnTo>
                    <a:pt x="7828" y="3877"/>
                  </a:lnTo>
                  <a:lnTo>
                    <a:pt x="7470" y="3559"/>
                  </a:lnTo>
                  <a:lnTo>
                    <a:pt x="7180" y="3556"/>
                  </a:lnTo>
                  <a:lnTo>
                    <a:pt x="6821" y="3238"/>
                  </a:lnTo>
                  <a:lnTo>
                    <a:pt x="6531" y="3233"/>
                  </a:lnTo>
                  <a:lnTo>
                    <a:pt x="6175" y="2918"/>
                  </a:lnTo>
                  <a:lnTo>
                    <a:pt x="5882" y="2913"/>
                  </a:lnTo>
                  <a:lnTo>
                    <a:pt x="5526" y="2595"/>
                  </a:lnTo>
                  <a:lnTo>
                    <a:pt x="5230" y="2590"/>
                  </a:lnTo>
                  <a:lnTo>
                    <a:pt x="4877" y="2275"/>
                  </a:lnTo>
                  <a:lnTo>
                    <a:pt x="4579" y="2269"/>
                  </a:lnTo>
                  <a:lnTo>
                    <a:pt x="4228" y="1954"/>
                  </a:lnTo>
                  <a:lnTo>
                    <a:pt x="3927" y="1946"/>
                  </a:lnTo>
                  <a:lnTo>
                    <a:pt x="3579" y="1631"/>
                  </a:lnTo>
                  <a:lnTo>
                    <a:pt x="3276" y="1623"/>
                  </a:lnTo>
                  <a:lnTo>
                    <a:pt x="2927" y="1308"/>
                  </a:lnTo>
                  <a:lnTo>
                    <a:pt x="2622" y="1298"/>
                  </a:lnTo>
                  <a:lnTo>
                    <a:pt x="2276" y="985"/>
                  </a:lnTo>
                  <a:lnTo>
                    <a:pt x="1968" y="974"/>
                  </a:lnTo>
                  <a:lnTo>
                    <a:pt x="1622" y="662"/>
                  </a:lnTo>
                  <a:lnTo>
                    <a:pt x="1314" y="652"/>
                  </a:lnTo>
                  <a:lnTo>
                    <a:pt x="971" y="339"/>
                  </a:lnTo>
                  <a:lnTo>
                    <a:pt x="658" y="326"/>
                  </a:lnTo>
                  <a:lnTo>
                    <a:pt x="317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5"/>
            <p:cNvSpPr/>
            <p:nvPr/>
          </p:nvSpPr>
          <p:spPr>
            <a:xfrm>
              <a:off x="3541680" y="1859400"/>
              <a:ext cx="705960" cy="32832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7797" h="3861">
                  <a:moveTo>
                    <a:pt x="0" y="0"/>
                  </a:moveTo>
                  <a:lnTo>
                    <a:pt x="310" y="15"/>
                  </a:lnTo>
                  <a:lnTo>
                    <a:pt x="654" y="323"/>
                  </a:lnTo>
                  <a:lnTo>
                    <a:pt x="961" y="335"/>
                  </a:lnTo>
                  <a:lnTo>
                    <a:pt x="1305" y="646"/>
                  </a:lnTo>
                  <a:lnTo>
                    <a:pt x="1613" y="658"/>
                  </a:lnTo>
                  <a:lnTo>
                    <a:pt x="1959" y="969"/>
                  </a:lnTo>
                  <a:lnTo>
                    <a:pt x="2262" y="982"/>
                  </a:lnTo>
                  <a:lnTo>
                    <a:pt x="2610" y="1292"/>
                  </a:lnTo>
                  <a:lnTo>
                    <a:pt x="2913" y="1302"/>
                  </a:lnTo>
                  <a:lnTo>
                    <a:pt x="3262" y="1615"/>
                  </a:lnTo>
                  <a:lnTo>
                    <a:pt x="3562" y="1622"/>
                  </a:lnTo>
                  <a:lnTo>
                    <a:pt x="3911" y="1938"/>
                  </a:lnTo>
                  <a:lnTo>
                    <a:pt x="4209" y="1945"/>
                  </a:lnTo>
                  <a:lnTo>
                    <a:pt x="4560" y="2259"/>
                  </a:lnTo>
                  <a:lnTo>
                    <a:pt x="4855" y="2266"/>
                  </a:lnTo>
                  <a:lnTo>
                    <a:pt x="5209" y="2579"/>
                  </a:lnTo>
                  <a:lnTo>
                    <a:pt x="5502" y="2586"/>
                  </a:lnTo>
                  <a:lnTo>
                    <a:pt x="5858" y="2902"/>
                  </a:lnTo>
                  <a:lnTo>
                    <a:pt x="6148" y="2904"/>
                  </a:lnTo>
                  <a:lnTo>
                    <a:pt x="6504" y="3222"/>
                  </a:lnTo>
                  <a:lnTo>
                    <a:pt x="6794" y="3225"/>
                  </a:lnTo>
                  <a:lnTo>
                    <a:pt x="7153" y="3543"/>
                  </a:lnTo>
                  <a:lnTo>
                    <a:pt x="7438" y="3543"/>
                  </a:lnTo>
                  <a:lnTo>
                    <a:pt x="7797" y="386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"/>
            <p:cNvSpPr/>
            <p:nvPr/>
          </p:nvSpPr>
          <p:spPr>
            <a:xfrm>
              <a:off x="3570120" y="1860480"/>
              <a:ext cx="644760" cy="30024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128" h="3528">
                  <a:moveTo>
                    <a:pt x="7128" y="3528"/>
                  </a:moveTo>
                  <a:lnTo>
                    <a:pt x="6770" y="3212"/>
                  </a:lnTo>
                  <a:lnTo>
                    <a:pt x="6484" y="3210"/>
                  </a:lnTo>
                  <a:lnTo>
                    <a:pt x="6128" y="2894"/>
                  </a:lnTo>
                  <a:lnTo>
                    <a:pt x="5838" y="2889"/>
                  </a:lnTo>
                  <a:lnTo>
                    <a:pt x="5485" y="2576"/>
                  </a:lnTo>
                  <a:lnTo>
                    <a:pt x="5192" y="2571"/>
                  </a:lnTo>
                  <a:lnTo>
                    <a:pt x="4841" y="2256"/>
                  </a:lnTo>
                  <a:lnTo>
                    <a:pt x="4545" y="2251"/>
                  </a:lnTo>
                  <a:lnTo>
                    <a:pt x="4194" y="1938"/>
                  </a:lnTo>
                  <a:lnTo>
                    <a:pt x="3899" y="1930"/>
                  </a:lnTo>
                  <a:lnTo>
                    <a:pt x="3550" y="1617"/>
                  </a:lnTo>
                  <a:lnTo>
                    <a:pt x="3252" y="1607"/>
                  </a:lnTo>
                  <a:lnTo>
                    <a:pt x="2904" y="1297"/>
                  </a:lnTo>
                  <a:lnTo>
                    <a:pt x="2603" y="1287"/>
                  </a:lnTo>
                  <a:lnTo>
                    <a:pt x="2257" y="977"/>
                  </a:lnTo>
                  <a:lnTo>
                    <a:pt x="1952" y="967"/>
                  </a:lnTo>
                  <a:lnTo>
                    <a:pt x="1608" y="656"/>
                  </a:lnTo>
                  <a:lnTo>
                    <a:pt x="1303" y="643"/>
                  </a:lnTo>
                  <a:lnTo>
                    <a:pt x="959" y="335"/>
                  </a:lnTo>
                  <a:lnTo>
                    <a:pt x="651" y="320"/>
                  </a:lnTo>
                  <a:lnTo>
                    <a:pt x="3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7"/>
            <p:cNvSpPr/>
            <p:nvPr/>
          </p:nvSpPr>
          <p:spPr>
            <a:xfrm>
              <a:off x="3597480" y="1861920"/>
              <a:ext cx="585000" cy="27180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6460" h="3200">
                  <a:moveTo>
                    <a:pt x="0" y="0"/>
                  </a:moveTo>
                  <a:lnTo>
                    <a:pt x="309" y="15"/>
                  </a:lnTo>
                  <a:lnTo>
                    <a:pt x="649" y="323"/>
                  </a:lnTo>
                  <a:lnTo>
                    <a:pt x="955" y="337"/>
                  </a:lnTo>
                  <a:lnTo>
                    <a:pt x="1298" y="644"/>
                  </a:lnTo>
                  <a:lnTo>
                    <a:pt x="1601" y="657"/>
                  </a:lnTo>
                  <a:lnTo>
                    <a:pt x="1947" y="965"/>
                  </a:lnTo>
                  <a:lnTo>
                    <a:pt x="2248" y="975"/>
                  </a:lnTo>
                  <a:lnTo>
                    <a:pt x="2594" y="1285"/>
                  </a:lnTo>
                  <a:lnTo>
                    <a:pt x="2892" y="1295"/>
                  </a:lnTo>
                  <a:lnTo>
                    <a:pt x="3240" y="1605"/>
                  </a:lnTo>
                  <a:lnTo>
                    <a:pt x="3536" y="1613"/>
                  </a:lnTo>
                  <a:lnTo>
                    <a:pt x="3884" y="1926"/>
                  </a:lnTo>
                  <a:lnTo>
                    <a:pt x="4180" y="1934"/>
                  </a:lnTo>
                  <a:lnTo>
                    <a:pt x="4531" y="2244"/>
                  </a:lnTo>
                  <a:lnTo>
                    <a:pt x="4821" y="2252"/>
                  </a:lnTo>
                  <a:lnTo>
                    <a:pt x="5175" y="2564"/>
                  </a:lnTo>
                  <a:lnTo>
                    <a:pt x="5462" y="2569"/>
                  </a:lnTo>
                  <a:lnTo>
                    <a:pt x="5818" y="2882"/>
                  </a:lnTo>
                  <a:lnTo>
                    <a:pt x="6104" y="2887"/>
                  </a:lnTo>
                  <a:lnTo>
                    <a:pt x="6460" y="32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8"/>
            <p:cNvSpPr/>
            <p:nvPr/>
          </p:nvSpPr>
          <p:spPr>
            <a:xfrm>
              <a:off x="3625920" y="1863000"/>
              <a:ext cx="523800" cy="243720"/>
            </a:xfrm>
            <a:custGeom>
              <a:avLst/>
              <a:gdLst>
                <a:gd name="textAreaLeft" fmla="*/ 0 w 523800"/>
                <a:gd name="textAreaRight" fmla="*/ 523800 w 52380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795" h="2872">
                  <a:moveTo>
                    <a:pt x="5795" y="2872"/>
                  </a:moveTo>
                  <a:lnTo>
                    <a:pt x="5441" y="2559"/>
                  </a:lnTo>
                  <a:lnTo>
                    <a:pt x="5153" y="2554"/>
                  </a:lnTo>
                  <a:lnTo>
                    <a:pt x="4802" y="2242"/>
                  </a:lnTo>
                  <a:lnTo>
                    <a:pt x="4512" y="2237"/>
                  </a:lnTo>
                  <a:lnTo>
                    <a:pt x="4161" y="1926"/>
                  </a:lnTo>
                  <a:lnTo>
                    <a:pt x="3871" y="1919"/>
                  </a:lnTo>
                  <a:lnTo>
                    <a:pt x="3522" y="1609"/>
                  </a:lnTo>
                  <a:lnTo>
                    <a:pt x="3227" y="1598"/>
                  </a:lnTo>
                  <a:lnTo>
                    <a:pt x="2880" y="1290"/>
                  </a:lnTo>
                  <a:lnTo>
                    <a:pt x="2583" y="1280"/>
                  </a:lnTo>
                  <a:lnTo>
                    <a:pt x="2236" y="970"/>
                  </a:lnTo>
                  <a:lnTo>
                    <a:pt x="1939" y="960"/>
                  </a:lnTo>
                  <a:lnTo>
                    <a:pt x="1596" y="652"/>
                  </a:lnTo>
                  <a:lnTo>
                    <a:pt x="1292" y="642"/>
                  </a:lnTo>
                  <a:lnTo>
                    <a:pt x="952" y="334"/>
                  </a:lnTo>
                  <a:lnTo>
                    <a:pt x="646" y="322"/>
                  </a:lnTo>
                  <a:lnTo>
                    <a:pt x="30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9"/>
            <p:cNvSpPr/>
            <p:nvPr/>
          </p:nvSpPr>
          <p:spPr>
            <a:xfrm>
              <a:off x="3652920" y="1863000"/>
              <a:ext cx="465480" cy="217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135" h="2545">
                  <a:moveTo>
                    <a:pt x="0" y="0"/>
                  </a:moveTo>
                  <a:lnTo>
                    <a:pt x="305" y="15"/>
                  </a:lnTo>
                  <a:lnTo>
                    <a:pt x="646" y="320"/>
                  </a:lnTo>
                  <a:lnTo>
                    <a:pt x="946" y="332"/>
                  </a:lnTo>
                  <a:lnTo>
                    <a:pt x="1290" y="638"/>
                  </a:lnTo>
                  <a:lnTo>
                    <a:pt x="1588" y="650"/>
                  </a:lnTo>
                  <a:lnTo>
                    <a:pt x="1930" y="956"/>
                  </a:lnTo>
                  <a:lnTo>
                    <a:pt x="2228" y="968"/>
                  </a:lnTo>
                  <a:lnTo>
                    <a:pt x="2574" y="1276"/>
                  </a:lnTo>
                  <a:lnTo>
                    <a:pt x="2867" y="1284"/>
                  </a:lnTo>
                  <a:lnTo>
                    <a:pt x="3216" y="1595"/>
                  </a:lnTo>
                  <a:lnTo>
                    <a:pt x="3506" y="1602"/>
                  </a:lnTo>
                  <a:lnTo>
                    <a:pt x="3855" y="1912"/>
                  </a:lnTo>
                  <a:lnTo>
                    <a:pt x="4145" y="1917"/>
                  </a:lnTo>
                  <a:lnTo>
                    <a:pt x="4496" y="2228"/>
                  </a:lnTo>
                  <a:lnTo>
                    <a:pt x="4784" y="2235"/>
                  </a:lnTo>
                  <a:lnTo>
                    <a:pt x="5135" y="25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40"/>
            <p:cNvSpPr/>
            <p:nvPr/>
          </p:nvSpPr>
          <p:spPr>
            <a:xfrm>
              <a:off x="3681360" y="1864440"/>
              <a:ext cx="404640" cy="188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479" h="2220">
                  <a:moveTo>
                    <a:pt x="4479" y="2220"/>
                  </a:moveTo>
                  <a:lnTo>
                    <a:pt x="4128" y="1910"/>
                  </a:lnTo>
                  <a:lnTo>
                    <a:pt x="3840" y="1902"/>
                  </a:lnTo>
                  <a:lnTo>
                    <a:pt x="3492" y="1594"/>
                  </a:lnTo>
                  <a:lnTo>
                    <a:pt x="3201" y="1587"/>
                  </a:lnTo>
                  <a:lnTo>
                    <a:pt x="2855" y="1279"/>
                  </a:lnTo>
                  <a:lnTo>
                    <a:pt x="2562" y="1269"/>
                  </a:lnTo>
                  <a:lnTo>
                    <a:pt x="2219" y="964"/>
                  </a:lnTo>
                  <a:lnTo>
                    <a:pt x="1923" y="953"/>
                  </a:lnTo>
                  <a:lnTo>
                    <a:pt x="1581" y="645"/>
                  </a:lnTo>
                  <a:lnTo>
                    <a:pt x="1283" y="635"/>
                  </a:lnTo>
                  <a:lnTo>
                    <a:pt x="942" y="330"/>
                  </a:lnTo>
                  <a:lnTo>
                    <a:pt x="641" y="317"/>
                  </a:lnTo>
                  <a:lnTo>
                    <a:pt x="30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41"/>
            <p:cNvSpPr/>
            <p:nvPr/>
          </p:nvSpPr>
          <p:spPr>
            <a:xfrm>
              <a:off x="3708720" y="1865520"/>
              <a:ext cx="345960" cy="1620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828" h="1898">
                  <a:moveTo>
                    <a:pt x="0" y="0"/>
                  </a:moveTo>
                  <a:lnTo>
                    <a:pt x="301" y="12"/>
                  </a:lnTo>
                  <a:lnTo>
                    <a:pt x="642" y="318"/>
                  </a:lnTo>
                  <a:lnTo>
                    <a:pt x="940" y="330"/>
                  </a:lnTo>
                  <a:lnTo>
                    <a:pt x="1281" y="633"/>
                  </a:lnTo>
                  <a:lnTo>
                    <a:pt x="1576" y="647"/>
                  </a:lnTo>
                  <a:lnTo>
                    <a:pt x="1919" y="952"/>
                  </a:lnTo>
                  <a:lnTo>
                    <a:pt x="2212" y="962"/>
                  </a:lnTo>
                  <a:lnTo>
                    <a:pt x="2555" y="1267"/>
                  </a:lnTo>
                  <a:lnTo>
                    <a:pt x="2846" y="1277"/>
                  </a:lnTo>
                  <a:lnTo>
                    <a:pt x="3192" y="1582"/>
                  </a:lnTo>
                  <a:lnTo>
                    <a:pt x="3482" y="1592"/>
                  </a:lnTo>
                  <a:lnTo>
                    <a:pt x="3828" y="189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42"/>
            <p:cNvSpPr/>
            <p:nvPr/>
          </p:nvSpPr>
          <p:spPr>
            <a:xfrm>
              <a:off x="3735720" y="1866960"/>
              <a:ext cx="287640" cy="133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181" h="1580">
                  <a:moveTo>
                    <a:pt x="3181" y="1580"/>
                  </a:moveTo>
                  <a:lnTo>
                    <a:pt x="2835" y="1273"/>
                  </a:lnTo>
                  <a:lnTo>
                    <a:pt x="2545" y="1265"/>
                  </a:lnTo>
                  <a:lnTo>
                    <a:pt x="2201" y="960"/>
                  </a:lnTo>
                  <a:lnTo>
                    <a:pt x="1911" y="950"/>
                  </a:lnTo>
                  <a:lnTo>
                    <a:pt x="1568" y="644"/>
                  </a:lnTo>
                  <a:lnTo>
                    <a:pt x="1275" y="635"/>
                  </a:lnTo>
                  <a:lnTo>
                    <a:pt x="934" y="332"/>
                  </a:lnTo>
                  <a:lnTo>
                    <a:pt x="639" y="318"/>
                  </a:lnTo>
                  <a:lnTo>
                    <a:pt x="29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43"/>
            <p:cNvSpPr/>
            <p:nvPr/>
          </p:nvSpPr>
          <p:spPr>
            <a:xfrm>
              <a:off x="3763080" y="1868400"/>
              <a:ext cx="229320" cy="1069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7" h="1257">
                  <a:moveTo>
                    <a:pt x="0" y="0"/>
                  </a:moveTo>
                  <a:lnTo>
                    <a:pt x="295" y="13"/>
                  </a:lnTo>
                  <a:lnTo>
                    <a:pt x="636" y="316"/>
                  </a:lnTo>
                  <a:lnTo>
                    <a:pt x="929" y="328"/>
                  </a:lnTo>
                  <a:lnTo>
                    <a:pt x="1270" y="628"/>
                  </a:lnTo>
                  <a:lnTo>
                    <a:pt x="1561" y="641"/>
                  </a:lnTo>
                  <a:lnTo>
                    <a:pt x="1903" y="944"/>
                  </a:lnTo>
                  <a:lnTo>
                    <a:pt x="2194" y="954"/>
                  </a:lnTo>
                  <a:lnTo>
                    <a:pt x="2537" y="12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44"/>
            <p:cNvSpPr/>
            <p:nvPr/>
          </p:nvSpPr>
          <p:spPr>
            <a:xfrm>
              <a:off x="3789000" y="1869480"/>
              <a:ext cx="172080" cy="802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99" h="941">
                  <a:moveTo>
                    <a:pt x="1899" y="941"/>
                  </a:moveTo>
                  <a:lnTo>
                    <a:pt x="1555" y="638"/>
                  </a:lnTo>
                  <a:lnTo>
                    <a:pt x="1266" y="628"/>
                  </a:lnTo>
                  <a:lnTo>
                    <a:pt x="927" y="325"/>
                  </a:lnTo>
                  <a:lnTo>
                    <a:pt x="634" y="315"/>
                  </a:lnTo>
                  <a:lnTo>
                    <a:pt x="295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45"/>
            <p:cNvSpPr/>
            <p:nvPr/>
          </p:nvSpPr>
          <p:spPr>
            <a:xfrm>
              <a:off x="3816000" y="1870920"/>
              <a:ext cx="113760" cy="532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260" h="626">
                  <a:moveTo>
                    <a:pt x="0" y="0"/>
                  </a:moveTo>
                  <a:lnTo>
                    <a:pt x="291" y="15"/>
                  </a:lnTo>
                  <a:lnTo>
                    <a:pt x="632" y="313"/>
                  </a:lnTo>
                  <a:lnTo>
                    <a:pt x="920" y="325"/>
                  </a:lnTo>
                  <a:lnTo>
                    <a:pt x="1260" y="62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46"/>
            <p:cNvSpPr/>
            <p:nvPr/>
          </p:nvSpPr>
          <p:spPr>
            <a:xfrm>
              <a:off x="3841920" y="1872000"/>
              <a:ext cx="56880" cy="2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9" h="310">
                  <a:moveTo>
                    <a:pt x="629" y="310"/>
                  </a:moveTo>
                  <a:lnTo>
                    <a:pt x="29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47"/>
            <p:cNvSpPr/>
            <p:nvPr/>
          </p:nvSpPr>
          <p:spPr>
            <a:xfrm>
              <a:off x="4515120" y="2410200"/>
              <a:ext cx="1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48"/>
          <p:cNvGrpSpPr/>
          <p:nvPr/>
        </p:nvGrpSpPr>
        <p:grpSpPr>
          <a:xfrm>
            <a:off x="3233880" y="3203640"/>
            <a:ext cx="1341360" cy="1160280"/>
            <a:chOff x="3233880" y="3203640"/>
            <a:chExt cx="1341360" cy="1160280"/>
          </a:xfrm>
        </p:grpSpPr>
        <p:sp>
          <p:nvSpPr>
            <p:cNvPr id="1477" name="Freeform 49"/>
            <p:cNvSpPr/>
            <p:nvPr/>
          </p:nvSpPr>
          <p:spPr>
            <a:xfrm>
              <a:off x="3233880" y="3650040"/>
              <a:ext cx="732960" cy="713880"/>
            </a:xfrm>
            <a:custGeom>
              <a:avLst/>
              <a:gdLst>
                <a:gd name="textAreaLeft" fmla="*/ 0 w 732960"/>
                <a:gd name="textAreaRight" fmla="*/ 733320 w 73296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7285" h="7130">
                  <a:moveTo>
                    <a:pt x="7285" y="7130"/>
                  </a:moveTo>
                  <a:lnTo>
                    <a:pt x="6899" y="6752"/>
                  </a:lnTo>
                  <a:lnTo>
                    <a:pt x="6515" y="6379"/>
                  </a:lnTo>
                  <a:lnTo>
                    <a:pt x="6136" y="6005"/>
                  </a:lnTo>
                  <a:lnTo>
                    <a:pt x="5758" y="5634"/>
                  </a:lnTo>
                  <a:lnTo>
                    <a:pt x="5379" y="5266"/>
                  </a:lnTo>
                  <a:lnTo>
                    <a:pt x="5005" y="4900"/>
                  </a:lnTo>
                  <a:lnTo>
                    <a:pt x="4634" y="4534"/>
                  </a:lnTo>
                  <a:lnTo>
                    <a:pt x="4265" y="4173"/>
                  </a:lnTo>
                  <a:lnTo>
                    <a:pt x="3896" y="3815"/>
                  </a:lnTo>
                  <a:lnTo>
                    <a:pt x="3533" y="3456"/>
                  </a:lnTo>
                  <a:lnTo>
                    <a:pt x="3170" y="3101"/>
                  </a:lnTo>
                  <a:lnTo>
                    <a:pt x="2809" y="2748"/>
                  </a:lnTo>
                  <a:lnTo>
                    <a:pt x="2450" y="2397"/>
                  </a:lnTo>
                  <a:lnTo>
                    <a:pt x="2094" y="2048"/>
                  </a:lnTo>
                  <a:lnTo>
                    <a:pt x="1741" y="1701"/>
                  </a:lnTo>
                  <a:lnTo>
                    <a:pt x="1387" y="1357"/>
                  </a:lnTo>
                  <a:lnTo>
                    <a:pt x="1039" y="1014"/>
                  </a:lnTo>
                  <a:lnTo>
                    <a:pt x="690" y="673"/>
                  </a:lnTo>
                  <a:lnTo>
                    <a:pt x="344" y="3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50"/>
            <p:cNvSpPr/>
            <p:nvPr/>
          </p:nvSpPr>
          <p:spPr>
            <a:xfrm>
              <a:off x="3966840" y="3843720"/>
              <a:ext cx="608040" cy="519840"/>
            </a:xfrm>
            <a:custGeom>
              <a:avLst/>
              <a:gdLst>
                <a:gd name="textAreaLeft" fmla="*/ 0 w 608040"/>
                <a:gd name="textAreaRight" fmla="*/ 608040 w 60804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6045" h="5200">
                  <a:moveTo>
                    <a:pt x="6045" y="0"/>
                  </a:moveTo>
                  <a:lnTo>
                    <a:pt x="5762" y="242"/>
                  </a:lnTo>
                  <a:lnTo>
                    <a:pt x="5479" y="487"/>
                  </a:lnTo>
                  <a:lnTo>
                    <a:pt x="5191" y="731"/>
                  </a:lnTo>
                  <a:lnTo>
                    <a:pt x="4903" y="982"/>
                  </a:lnTo>
                  <a:lnTo>
                    <a:pt x="4614" y="1232"/>
                  </a:lnTo>
                  <a:lnTo>
                    <a:pt x="4323" y="1482"/>
                  </a:lnTo>
                  <a:lnTo>
                    <a:pt x="4028" y="1736"/>
                  </a:lnTo>
                  <a:lnTo>
                    <a:pt x="3732" y="1991"/>
                  </a:lnTo>
                  <a:lnTo>
                    <a:pt x="3432" y="2248"/>
                  </a:lnTo>
                  <a:lnTo>
                    <a:pt x="3131" y="2505"/>
                  </a:lnTo>
                  <a:lnTo>
                    <a:pt x="2828" y="2769"/>
                  </a:lnTo>
                  <a:lnTo>
                    <a:pt x="2522" y="3031"/>
                  </a:lnTo>
                  <a:lnTo>
                    <a:pt x="2217" y="3293"/>
                  </a:lnTo>
                  <a:lnTo>
                    <a:pt x="1907" y="3561"/>
                  </a:lnTo>
                  <a:lnTo>
                    <a:pt x="1593" y="3828"/>
                  </a:lnTo>
                  <a:lnTo>
                    <a:pt x="1280" y="4100"/>
                  </a:lnTo>
                  <a:lnTo>
                    <a:pt x="965" y="4371"/>
                  </a:lnTo>
                  <a:lnTo>
                    <a:pt x="644" y="4645"/>
                  </a:lnTo>
                  <a:lnTo>
                    <a:pt x="323" y="4923"/>
                  </a:lnTo>
                  <a:lnTo>
                    <a:pt x="0" y="52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51"/>
            <p:cNvSpPr/>
            <p:nvPr/>
          </p:nvSpPr>
          <p:spPr>
            <a:xfrm>
              <a:off x="3927600" y="4299120"/>
              <a:ext cx="70920" cy="374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709" h="375">
                  <a:moveTo>
                    <a:pt x="709" y="375"/>
                  </a:moveTo>
                  <a:lnTo>
                    <a:pt x="325" y="0"/>
                  </a:lnTo>
                  <a:lnTo>
                    <a:pt x="0" y="27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52"/>
            <p:cNvSpPr/>
            <p:nvPr/>
          </p:nvSpPr>
          <p:spPr>
            <a:xfrm>
              <a:off x="3888720" y="4261680"/>
              <a:ext cx="143280" cy="46440"/>
            </a:xfrm>
            <a:custGeom>
              <a:avLst/>
              <a:gdLst>
                <a:gd name="textAreaLeft" fmla="*/ 0 w 143280"/>
                <a:gd name="textAreaRight" fmla="*/ 143280 w 14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414" h="471">
                  <a:moveTo>
                    <a:pt x="0" y="275"/>
                  </a:moveTo>
                  <a:lnTo>
                    <a:pt x="326" y="0"/>
                  </a:lnTo>
                  <a:lnTo>
                    <a:pt x="709" y="374"/>
                  </a:lnTo>
                  <a:lnTo>
                    <a:pt x="1030" y="98"/>
                  </a:lnTo>
                  <a:lnTo>
                    <a:pt x="1414" y="4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3"/>
            <p:cNvSpPr/>
            <p:nvPr/>
          </p:nvSpPr>
          <p:spPr>
            <a:xfrm>
              <a:off x="3850560" y="4223880"/>
              <a:ext cx="212760" cy="5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14" h="568">
                  <a:moveTo>
                    <a:pt x="2114" y="568"/>
                  </a:moveTo>
                  <a:lnTo>
                    <a:pt x="1727" y="197"/>
                  </a:lnTo>
                  <a:lnTo>
                    <a:pt x="1409" y="469"/>
                  </a:lnTo>
                  <a:lnTo>
                    <a:pt x="1025" y="98"/>
                  </a:lnTo>
                  <a:lnTo>
                    <a:pt x="705" y="371"/>
                  </a:lnTo>
                  <a:lnTo>
                    <a:pt x="323" y="0"/>
                  </a:lnTo>
                  <a:lnTo>
                    <a:pt x="0" y="27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54"/>
            <p:cNvSpPr/>
            <p:nvPr/>
          </p:nvSpPr>
          <p:spPr>
            <a:xfrm>
              <a:off x="3813120" y="4187880"/>
              <a:ext cx="282240" cy="658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807" h="665">
                  <a:moveTo>
                    <a:pt x="0" y="269"/>
                  </a:moveTo>
                  <a:lnTo>
                    <a:pt x="323" y="0"/>
                  </a:lnTo>
                  <a:lnTo>
                    <a:pt x="701" y="368"/>
                  </a:lnTo>
                  <a:lnTo>
                    <a:pt x="1025" y="98"/>
                  </a:lnTo>
                  <a:lnTo>
                    <a:pt x="1403" y="466"/>
                  </a:lnTo>
                  <a:lnTo>
                    <a:pt x="1724" y="196"/>
                  </a:lnTo>
                  <a:lnTo>
                    <a:pt x="2105" y="565"/>
                  </a:lnTo>
                  <a:lnTo>
                    <a:pt x="2424" y="294"/>
                  </a:lnTo>
                  <a:lnTo>
                    <a:pt x="2807" y="66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55"/>
            <p:cNvSpPr/>
            <p:nvPr/>
          </p:nvSpPr>
          <p:spPr>
            <a:xfrm>
              <a:off x="3775320" y="4150440"/>
              <a:ext cx="351360" cy="7632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499" h="759">
                  <a:moveTo>
                    <a:pt x="3499" y="759"/>
                  </a:moveTo>
                  <a:lnTo>
                    <a:pt x="3118" y="393"/>
                  </a:lnTo>
                  <a:lnTo>
                    <a:pt x="2803" y="660"/>
                  </a:lnTo>
                  <a:lnTo>
                    <a:pt x="2421" y="294"/>
                  </a:lnTo>
                  <a:lnTo>
                    <a:pt x="2103" y="562"/>
                  </a:lnTo>
                  <a:lnTo>
                    <a:pt x="1724" y="197"/>
                  </a:lnTo>
                  <a:lnTo>
                    <a:pt x="1404" y="464"/>
                  </a:lnTo>
                  <a:lnTo>
                    <a:pt x="1025" y="98"/>
                  </a:lnTo>
                  <a:lnTo>
                    <a:pt x="702" y="366"/>
                  </a:lnTo>
                  <a:lnTo>
                    <a:pt x="326" y="0"/>
                  </a:lnTo>
                  <a:lnTo>
                    <a:pt x="0" y="26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56"/>
            <p:cNvSpPr/>
            <p:nvPr/>
          </p:nvSpPr>
          <p:spPr>
            <a:xfrm>
              <a:off x="3737880" y="4114440"/>
              <a:ext cx="420840" cy="8532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4187" h="856">
                  <a:moveTo>
                    <a:pt x="0" y="265"/>
                  </a:moveTo>
                  <a:lnTo>
                    <a:pt x="325" y="0"/>
                  </a:lnTo>
                  <a:lnTo>
                    <a:pt x="700" y="364"/>
                  </a:lnTo>
                  <a:lnTo>
                    <a:pt x="1022" y="98"/>
                  </a:lnTo>
                  <a:lnTo>
                    <a:pt x="1399" y="462"/>
                  </a:lnTo>
                  <a:lnTo>
                    <a:pt x="1720" y="197"/>
                  </a:lnTo>
                  <a:lnTo>
                    <a:pt x="2098" y="561"/>
                  </a:lnTo>
                  <a:lnTo>
                    <a:pt x="2414" y="295"/>
                  </a:lnTo>
                  <a:lnTo>
                    <a:pt x="2795" y="658"/>
                  </a:lnTo>
                  <a:lnTo>
                    <a:pt x="3111" y="394"/>
                  </a:lnTo>
                  <a:lnTo>
                    <a:pt x="3492" y="757"/>
                  </a:lnTo>
                  <a:lnTo>
                    <a:pt x="3802" y="493"/>
                  </a:lnTo>
                  <a:lnTo>
                    <a:pt x="4187" y="85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57"/>
            <p:cNvSpPr/>
            <p:nvPr/>
          </p:nvSpPr>
          <p:spPr>
            <a:xfrm>
              <a:off x="3699720" y="4078080"/>
              <a:ext cx="490680" cy="9468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4868" h="951">
                  <a:moveTo>
                    <a:pt x="4868" y="951"/>
                  </a:moveTo>
                  <a:lnTo>
                    <a:pt x="4484" y="590"/>
                  </a:lnTo>
                  <a:lnTo>
                    <a:pt x="4173" y="856"/>
                  </a:lnTo>
                  <a:lnTo>
                    <a:pt x="3793" y="492"/>
                  </a:lnTo>
                  <a:lnTo>
                    <a:pt x="3482" y="757"/>
                  </a:lnTo>
                  <a:lnTo>
                    <a:pt x="3101" y="393"/>
                  </a:lnTo>
                  <a:lnTo>
                    <a:pt x="2785" y="658"/>
                  </a:lnTo>
                  <a:lnTo>
                    <a:pt x="2408" y="295"/>
                  </a:lnTo>
                  <a:lnTo>
                    <a:pt x="2091" y="560"/>
                  </a:lnTo>
                  <a:lnTo>
                    <a:pt x="1717" y="197"/>
                  </a:lnTo>
                  <a:lnTo>
                    <a:pt x="1393" y="461"/>
                  </a:lnTo>
                  <a:lnTo>
                    <a:pt x="1023" y="98"/>
                  </a:lnTo>
                  <a:lnTo>
                    <a:pt x="696" y="363"/>
                  </a:lnTo>
                  <a:lnTo>
                    <a:pt x="325" y="0"/>
                  </a:lnTo>
                  <a:lnTo>
                    <a:pt x="0" y="26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58"/>
            <p:cNvSpPr/>
            <p:nvPr/>
          </p:nvSpPr>
          <p:spPr>
            <a:xfrm>
              <a:off x="3662280" y="4042080"/>
              <a:ext cx="558360" cy="105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542" h="1047">
                  <a:moveTo>
                    <a:pt x="0" y="259"/>
                  </a:moveTo>
                  <a:lnTo>
                    <a:pt x="326" y="0"/>
                  </a:lnTo>
                  <a:lnTo>
                    <a:pt x="694" y="358"/>
                  </a:lnTo>
                  <a:lnTo>
                    <a:pt x="1021" y="98"/>
                  </a:lnTo>
                  <a:lnTo>
                    <a:pt x="1392" y="456"/>
                  </a:lnTo>
                  <a:lnTo>
                    <a:pt x="1712" y="196"/>
                  </a:lnTo>
                  <a:lnTo>
                    <a:pt x="2086" y="555"/>
                  </a:lnTo>
                  <a:lnTo>
                    <a:pt x="2404" y="295"/>
                  </a:lnTo>
                  <a:lnTo>
                    <a:pt x="2777" y="653"/>
                  </a:lnTo>
                  <a:lnTo>
                    <a:pt x="3094" y="390"/>
                  </a:lnTo>
                  <a:lnTo>
                    <a:pt x="3470" y="751"/>
                  </a:lnTo>
                  <a:lnTo>
                    <a:pt x="3782" y="489"/>
                  </a:lnTo>
                  <a:lnTo>
                    <a:pt x="4162" y="850"/>
                  </a:lnTo>
                  <a:lnTo>
                    <a:pt x="4472" y="587"/>
                  </a:lnTo>
                  <a:lnTo>
                    <a:pt x="4853" y="948"/>
                  </a:lnTo>
                  <a:lnTo>
                    <a:pt x="5162" y="686"/>
                  </a:lnTo>
                  <a:lnTo>
                    <a:pt x="5542" y="104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59"/>
            <p:cNvSpPr/>
            <p:nvPr/>
          </p:nvSpPr>
          <p:spPr>
            <a:xfrm>
              <a:off x="3625920" y="4006080"/>
              <a:ext cx="624600" cy="11412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217" h="1144">
                  <a:moveTo>
                    <a:pt x="6217" y="1144"/>
                  </a:moveTo>
                  <a:lnTo>
                    <a:pt x="5836" y="785"/>
                  </a:lnTo>
                  <a:lnTo>
                    <a:pt x="5531" y="1045"/>
                  </a:lnTo>
                  <a:lnTo>
                    <a:pt x="5149" y="686"/>
                  </a:lnTo>
                  <a:lnTo>
                    <a:pt x="4841" y="946"/>
                  </a:lnTo>
                  <a:lnTo>
                    <a:pt x="4465" y="588"/>
                  </a:lnTo>
                  <a:lnTo>
                    <a:pt x="4151" y="848"/>
                  </a:lnTo>
                  <a:lnTo>
                    <a:pt x="3775" y="490"/>
                  </a:lnTo>
                  <a:lnTo>
                    <a:pt x="3463" y="749"/>
                  </a:lnTo>
                  <a:lnTo>
                    <a:pt x="3088" y="393"/>
                  </a:lnTo>
                  <a:lnTo>
                    <a:pt x="2773" y="654"/>
                  </a:lnTo>
                  <a:lnTo>
                    <a:pt x="2400" y="295"/>
                  </a:lnTo>
                  <a:lnTo>
                    <a:pt x="2081" y="555"/>
                  </a:lnTo>
                  <a:lnTo>
                    <a:pt x="1710" y="197"/>
                  </a:lnTo>
                  <a:lnTo>
                    <a:pt x="1390" y="457"/>
                  </a:lnTo>
                  <a:lnTo>
                    <a:pt x="1020" y="99"/>
                  </a:lnTo>
                  <a:lnTo>
                    <a:pt x="695" y="359"/>
                  </a:lnTo>
                  <a:lnTo>
                    <a:pt x="329" y="0"/>
                  </a:lnTo>
                  <a:lnTo>
                    <a:pt x="0" y="2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0"/>
            <p:cNvSpPr/>
            <p:nvPr/>
          </p:nvSpPr>
          <p:spPr>
            <a:xfrm>
              <a:off x="3589920" y="3969720"/>
              <a:ext cx="690840" cy="12456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6883" h="1236">
                  <a:moveTo>
                    <a:pt x="0" y="257"/>
                  </a:moveTo>
                  <a:lnTo>
                    <a:pt x="325" y="0"/>
                  </a:lnTo>
                  <a:lnTo>
                    <a:pt x="692" y="356"/>
                  </a:lnTo>
                  <a:lnTo>
                    <a:pt x="1015" y="99"/>
                  </a:lnTo>
                  <a:lnTo>
                    <a:pt x="1383" y="455"/>
                  </a:lnTo>
                  <a:lnTo>
                    <a:pt x="1705" y="197"/>
                  </a:lnTo>
                  <a:lnTo>
                    <a:pt x="2073" y="553"/>
                  </a:lnTo>
                  <a:lnTo>
                    <a:pt x="2391" y="295"/>
                  </a:lnTo>
                  <a:lnTo>
                    <a:pt x="2763" y="651"/>
                  </a:lnTo>
                  <a:lnTo>
                    <a:pt x="3080" y="394"/>
                  </a:lnTo>
                  <a:lnTo>
                    <a:pt x="3451" y="749"/>
                  </a:lnTo>
                  <a:lnTo>
                    <a:pt x="3765" y="490"/>
                  </a:lnTo>
                  <a:lnTo>
                    <a:pt x="4138" y="846"/>
                  </a:lnTo>
                  <a:lnTo>
                    <a:pt x="4451" y="588"/>
                  </a:lnTo>
                  <a:lnTo>
                    <a:pt x="4828" y="944"/>
                  </a:lnTo>
                  <a:lnTo>
                    <a:pt x="5136" y="686"/>
                  </a:lnTo>
                  <a:lnTo>
                    <a:pt x="5512" y="1042"/>
                  </a:lnTo>
                  <a:lnTo>
                    <a:pt x="5820" y="785"/>
                  </a:lnTo>
                  <a:lnTo>
                    <a:pt x="6199" y="1141"/>
                  </a:lnTo>
                  <a:lnTo>
                    <a:pt x="6502" y="881"/>
                  </a:lnTo>
                  <a:lnTo>
                    <a:pt x="6883" y="123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1"/>
            <p:cNvSpPr/>
            <p:nvPr/>
          </p:nvSpPr>
          <p:spPr>
            <a:xfrm>
              <a:off x="3551760" y="3935520"/>
              <a:ext cx="760680" cy="13356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7547" h="1332">
                  <a:moveTo>
                    <a:pt x="7547" y="1332"/>
                  </a:moveTo>
                  <a:lnTo>
                    <a:pt x="7165" y="976"/>
                  </a:lnTo>
                  <a:lnTo>
                    <a:pt x="6865" y="1234"/>
                  </a:lnTo>
                  <a:lnTo>
                    <a:pt x="6487" y="881"/>
                  </a:lnTo>
                  <a:lnTo>
                    <a:pt x="6183" y="1138"/>
                  </a:lnTo>
                  <a:lnTo>
                    <a:pt x="5804" y="782"/>
                  </a:lnTo>
                  <a:lnTo>
                    <a:pt x="5499" y="1039"/>
                  </a:lnTo>
                  <a:lnTo>
                    <a:pt x="5123" y="687"/>
                  </a:lnTo>
                  <a:lnTo>
                    <a:pt x="4814" y="941"/>
                  </a:lnTo>
                  <a:lnTo>
                    <a:pt x="4441" y="588"/>
                  </a:lnTo>
                  <a:lnTo>
                    <a:pt x="4128" y="843"/>
                  </a:lnTo>
                  <a:lnTo>
                    <a:pt x="3756" y="489"/>
                  </a:lnTo>
                  <a:lnTo>
                    <a:pt x="3443" y="747"/>
                  </a:lnTo>
                  <a:lnTo>
                    <a:pt x="3072" y="394"/>
                  </a:lnTo>
                  <a:lnTo>
                    <a:pt x="2754" y="648"/>
                  </a:lnTo>
                  <a:lnTo>
                    <a:pt x="2388" y="295"/>
                  </a:lnTo>
                  <a:lnTo>
                    <a:pt x="2068" y="550"/>
                  </a:lnTo>
                  <a:lnTo>
                    <a:pt x="1702" y="197"/>
                  </a:lnTo>
                  <a:lnTo>
                    <a:pt x="1378" y="452"/>
                  </a:lnTo>
                  <a:lnTo>
                    <a:pt x="1014" y="98"/>
                  </a:lnTo>
                  <a:lnTo>
                    <a:pt x="688" y="353"/>
                  </a:lnTo>
                  <a:lnTo>
                    <a:pt x="327" y="0"/>
                  </a:lnTo>
                  <a:lnTo>
                    <a:pt x="0" y="25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"/>
            <p:cNvSpPr/>
            <p:nvPr/>
          </p:nvSpPr>
          <p:spPr>
            <a:xfrm>
              <a:off x="3515760" y="3899160"/>
              <a:ext cx="826920" cy="1440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8208" h="1426">
                  <a:moveTo>
                    <a:pt x="0" y="253"/>
                  </a:moveTo>
                  <a:lnTo>
                    <a:pt x="327" y="0"/>
                  </a:lnTo>
                  <a:lnTo>
                    <a:pt x="688" y="351"/>
                  </a:lnTo>
                  <a:lnTo>
                    <a:pt x="1014" y="98"/>
                  </a:lnTo>
                  <a:lnTo>
                    <a:pt x="1375" y="449"/>
                  </a:lnTo>
                  <a:lnTo>
                    <a:pt x="1698" y="197"/>
                  </a:lnTo>
                  <a:lnTo>
                    <a:pt x="2063" y="548"/>
                  </a:lnTo>
                  <a:lnTo>
                    <a:pt x="2383" y="296"/>
                  </a:lnTo>
                  <a:lnTo>
                    <a:pt x="2749" y="646"/>
                  </a:lnTo>
                  <a:lnTo>
                    <a:pt x="3065" y="391"/>
                  </a:lnTo>
                  <a:lnTo>
                    <a:pt x="3433" y="745"/>
                  </a:lnTo>
                  <a:lnTo>
                    <a:pt x="3749" y="490"/>
                  </a:lnTo>
                  <a:lnTo>
                    <a:pt x="4117" y="840"/>
                  </a:lnTo>
                  <a:lnTo>
                    <a:pt x="4431" y="588"/>
                  </a:lnTo>
                  <a:lnTo>
                    <a:pt x="4802" y="939"/>
                  </a:lnTo>
                  <a:lnTo>
                    <a:pt x="5110" y="684"/>
                  </a:lnTo>
                  <a:lnTo>
                    <a:pt x="5484" y="1038"/>
                  </a:lnTo>
                  <a:lnTo>
                    <a:pt x="5792" y="783"/>
                  </a:lnTo>
                  <a:lnTo>
                    <a:pt x="6165" y="1133"/>
                  </a:lnTo>
                  <a:lnTo>
                    <a:pt x="6471" y="878"/>
                  </a:lnTo>
                  <a:lnTo>
                    <a:pt x="6848" y="1232"/>
                  </a:lnTo>
                  <a:lnTo>
                    <a:pt x="7148" y="977"/>
                  </a:lnTo>
                  <a:lnTo>
                    <a:pt x="7526" y="1327"/>
                  </a:lnTo>
                  <a:lnTo>
                    <a:pt x="7827" y="1072"/>
                  </a:lnTo>
                  <a:lnTo>
                    <a:pt x="8208" y="142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"/>
            <p:cNvSpPr/>
            <p:nvPr/>
          </p:nvSpPr>
          <p:spPr>
            <a:xfrm>
              <a:off x="3479760" y="3864960"/>
              <a:ext cx="891720" cy="15300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8863" h="1519">
                  <a:moveTo>
                    <a:pt x="8863" y="1519"/>
                  </a:moveTo>
                  <a:lnTo>
                    <a:pt x="8481" y="1168"/>
                  </a:lnTo>
                  <a:lnTo>
                    <a:pt x="8186" y="1420"/>
                  </a:lnTo>
                  <a:lnTo>
                    <a:pt x="7807" y="1073"/>
                  </a:lnTo>
                  <a:lnTo>
                    <a:pt x="7507" y="1325"/>
                  </a:lnTo>
                  <a:lnTo>
                    <a:pt x="7130" y="974"/>
                  </a:lnTo>
                  <a:lnTo>
                    <a:pt x="6830" y="1226"/>
                  </a:lnTo>
                  <a:lnTo>
                    <a:pt x="6454" y="878"/>
                  </a:lnTo>
                  <a:lnTo>
                    <a:pt x="6151" y="1131"/>
                  </a:lnTo>
                  <a:lnTo>
                    <a:pt x="5777" y="780"/>
                  </a:lnTo>
                  <a:lnTo>
                    <a:pt x="5469" y="1032"/>
                  </a:lnTo>
                  <a:lnTo>
                    <a:pt x="5098" y="684"/>
                  </a:lnTo>
                  <a:lnTo>
                    <a:pt x="4790" y="936"/>
                  </a:lnTo>
                  <a:lnTo>
                    <a:pt x="4418" y="586"/>
                  </a:lnTo>
                  <a:lnTo>
                    <a:pt x="4108" y="838"/>
                  </a:lnTo>
                  <a:lnTo>
                    <a:pt x="3739" y="489"/>
                  </a:lnTo>
                  <a:lnTo>
                    <a:pt x="3424" y="739"/>
                  </a:lnTo>
                  <a:lnTo>
                    <a:pt x="3060" y="391"/>
                  </a:lnTo>
                  <a:lnTo>
                    <a:pt x="2742" y="644"/>
                  </a:lnTo>
                  <a:lnTo>
                    <a:pt x="2378" y="293"/>
                  </a:lnTo>
                  <a:lnTo>
                    <a:pt x="2057" y="545"/>
                  </a:lnTo>
                  <a:lnTo>
                    <a:pt x="1696" y="194"/>
                  </a:lnTo>
                  <a:lnTo>
                    <a:pt x="1373" y="446"/>
                  </a:lnTo>
                  <a:lnTo>
                    <a:pt x="1012" y="99"/>
                  </a:lnTo>
                  <a:lnTo>
                    <a:pt x="686" y="348"/>
                  </a:lnTo>
                  <a:lnTo>
                    <a:pt x="328" y="0"/>
                  </a:lnTo>
                  <a:lnTo>
                    <a:pt x="0" y="25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4"/>
            <p:cNvSpPr/>
            <p:nvPr/>
          </p:nvSpPr>
          <p:spPr>
            <a:xfrm>
              <a:off x="3444840" y="3830040"/>
              <a:ext cx="956520" cy="162360"/>
            </a:xfrm>
            <a:custGeom>
              <a:avLst/>
              <a:gdLst>
                <a:gd name="textAreaLeft" fmla="*/ 0 w 956520"/>
                <a:gd name="textAreaRight" fmla="*/ 956880 w 9565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9514" h="1614">
                  <a:moveTo>
                    <a:pt x="0" y="250"/>
                  </a:moveTo>
                  <a:lnTo>
                    <a:pt x="328" y="0"/>
                  </a:lnTo>
                  <a:lnTo>
                    <a:pt x="684" y="349"/>
                  </a:lnTo>
                  <a:lnTo>
                    <a:pt x="1010" y="99"/>
                  </a:lnTo>
                  <a:lnTo>
                    <a:pt x="1368" y="448"/>
                  </a:lnTo>
                  <a:lnTo>
                    <a:pt x="1691" y="198"/>
                  </a:lnTo>
                  <a:lnTo>
                    <a:pt x="2052" y="543"/>
                  </a:lnTo>
                  <a:lnTo>
                    <a:pt x="2373" y="296"/>
                  </a:lnTo>
                  <a:lnTo>
                    <a:pt x="2734" y="642"/>
                  </a:lnTo>
                  <a:lnTo>
                    <a:pt x="3052" y="392"/>
                  </a:lnTo>
                  <a:lnTo>
                    <a:pt x="3416" y="740"/>
                  </a:lnTo>
                  <a:lnTo>
                    <a:pt x="3732" y="490"/>
                  </a:lnTo>
                  <a:lnTo>
                    <a:pt x="4095" y="838"/>
                  </a:lnTo>
                  <a:lnTo>
                    <a:pt x="4408" y="589"/>
                  </a:lnTo>
                  <a:lnTo>
                    <a:pt x="4774" y="935"/>
                  </a:lnTo>
                  <a:lnTo>
                    <a:pt x="5085" y="685"/>
                  </a:lnTo>
                  <a:lnTo>
                    <a:pt x="5454" y="1033"/>
                  </a:lnTo>
                  <a:lnTo>
                    <a:pt x="5762" y="783"/>
                  </a:lnTo>
                  <a:lnTo>
                    <a:pt x="6133" y="1129"/>
                  </a:lnTo>
                  <a:lnTo>
                    <a:pt x="6439" y="879"/>
                  </a:lnTo>
                  <a:lnTo>
                    <a:pt x="6810" y="1227"/>
                  </a:lnTo>
                  <a:lnTo>
                    <a:pt x="7113" y="975"/>
                  </a:lnTo>
                  <a:lnTo>
                    <a:pt x="7486" y="1323"/>
                  </a:lnTo>
                  <a:lnTo>
                    <a:pt x="7786" y="1073"/>
                  </a:lnTo>
                  <a:lnTo>
                    <a:pt x="8163" y="1422"/>
                  </a:lnTo>
                  <a:lnTo>
                    <a:pt x="8461" y="1169"/>
                  </a:lnTo>
                  <a:lnTo>
                    <a:pt x="8837" y="1517"/>
                  </a:lnTo>
                  <a:lnTo>
                    <a:pt x="9132" y="1265"/>
                  </a:lnTo>
                  <a:lnTo>
                    <a:pt x="9514" y="16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5"/>
            <p:cNvSpPr/>
            <p:nvPr/>
          </p:nvSpPr>
          <p:spPr>
            <a:xfrm>
              <a:off x="3408480" y="3795840"/>
              <a:ext cx="1021680" cy="171360"/>
            </a:xfrm>
            <a:custGeom>
              <a:avLst/>
              <a:gdLst/>
              <a:ahLst/>
              <a:rect l="l" t="t" r="r" b="b"/>
              <a:pathLst>
                <a:path w="10158" h="1706">
                  <a:moveTo>
                    <a:pt x="10158" y="1706"/>
                  </a:moveTo>
                  <a:lnTo>
                    <a:pt x="9778" y="1360"/>
                  </a:lnTo>
                  <a:lnTo>
                    <a:pt x="9485" y="1607"/>
                  </a:lnTo>
                  <a:lnTo>
                    <a:pt x="9110" y="1261"/>
                  </a:lnTo>
                  <a:lnTo>
                    <a:pt x="8814" y="1511"/>
                  </a:lnTo>
                  <a:lnTo>
                    <a:pt x="8437" y="1166"/>
                  </a:lnTo>
                  <a:lnTo>
                    <a:pt x="8139" y="1415"/>
                  </a:lnTo>
                  <a:lnTo>
                    <a:pt x="7766" y="1069"/>
                  </a:lnTo>
                  <a:lnTo>
                    <a:pt x="7466" y="1317"/>
                  </a:lnTo>
                  <a:lnTo>
                    <a:pt x="7095" y="971"/>
                  </a:lnTo>
                  <a:lnTo>
                    <a:pt x="6792" y="1221"/>
                  </a:lnTo>
                  <a:lnTo>
                    <a:pt x="6420" y="875"/>
                  </a:lnTo>
                  <a:lnTo>
                    <a:pt x="6115" y="1125"/>
                  </a:lnTo>
                  <a:lnTo>
                    <a:pt x="5746" y="780"/>
                  </a:lnTo>
                  <a:lnTo>
                    <a:pt x="5438" y="1027"/>
                  </a:lnTo>
                  <a:lnTo>
                    <a:pt x="5071" y="681"/>
                  </a:lnTo>
                  <a:lnTo>
                    <a:pt x="4761" y="931"/>
                  </a:lnTo>
                  <a:lnTo>
                    <a:pt x="4398" y="585"/>
                  </a:lnTo>
                  <a:lnTo>
                    <a:pt x="4085" y="832"/>
                  </a:lnTo>
                  <a:lnTo>
                    <a:pt x="3721" y="487"/>
                  </a:lnTo>
                  <a:lnTo>
                    <a:pt x="3405" y="734"/>
                  </a:lnTo>
                  <a:lnTo>
                    <a:pt x="3044" y="391"/>
                  </a:lnTo>
                  <a:lnTo>
                    <a:pt x="2726" y="638"/>
                  </a:lnTo>
                  <a:lnTo>
                    <a:pt x="2365" y="293"/>
                  </a:lnTo>
                  <a:lnTo>
                    <a:pt x="2044" y="540"/>
                  </a:lnTo>
                  <a:lnTo>
                    <a:pt x="1686" y="194"/>
                  </a:lnTo>
                  <a:lnTo>
                    <a:pt x="1363" y="441"/>
                  </a:lnTo>
                  <a:lnTo>
                    <a:pt x="1007" y="95"/>
                  </a:lnTo>
                  <a:lnTo>
                    <a:pt x="681" y="342"/>
                  </a:lnTo>
                  <a:lnTo>
                    <a:pt x="327" y="0"/>
                  </a:lnTo>
                  <a:lnTo>
                    <a:pt x="0" y="2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6"/>
            <p:cNvSpPr/>
            <p:nvPr/>
          </p:nvSpPr>
          <p:spPr>
            <a:xfrm>
              <a:off x="3373920" y="3760920"/>
              <a:ext cx="1086120" cy="18036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0801" h="1800">
                  <a:moveTo>
                    <a:pt x="0" y="245"/>
                  </a:moveTo>
                  <a:lnTo>
                    <a:pt x="330" y="0"/>
                  </a:lnTo>
                  <a:lnTo>
                    <a:pt x="681" y="344"/>
                  </a:lnTo>
                  <a:lnTo>
                    <a:pt x="1007" y="99"/>
                  </a:lnTo>
                  <a:lnTo>
                    <a:pt x="1361" y="439"/>
                  </a:lnTo>
                  <a:lnTo>
                    <a:pt x="1686" y="194"/>
                  </a:lnTo>
                  <a:lnTo>
                    <a:pt x="2040" y="538"/>
                  </a:lnTo>
                  <a:lnTo>
                    <a:pt x="2363" y="293"/>
                  </a:lnTo>
                  <a:lnTo>
                    <a:pt x="2719" y="637"/>
                  </a:lnTo>
                  <a:lnTo>
                    <a:pt x="3037" y="392"/>
                  </a:lnTo>
                  <a:lnTo>
                    <a:pt x="3398" y="735"/>
                  </a:lnTo>
                  <a:lnTo>
                    <a:pt x="3714" y="487"/>
                  </a:lnTo>
                  <a:lnTo>
                    <a:pt x="4075" y="831"/>
                  </a:lnTo>
                  <a:lnTo>
                    <a:pt x="4388" y="586"/>
                  </a:lnTo>
                  <a:lnTo>
                    <a:pt x="4752" y="929"/>
                  </a:lnTo>
                  <a:lnTo>
                    <a:pt x="5062" y="681"/>
                  </a:lnTo>
                  <a:lnTo>
                    <a:pt x="5425" y="1025"/>
                  </a:lnTo>
                  <a:lnTo>
                    <a:pt x="5734" y="780"/>
                  </a:lnTo>
                  <a:lnTo>
                    <a:pt x="6100" y="1124"/>
                  </a:lnTo>
                  <a:lnTo>
                    <a:pt x="6406" y="876"/>
                  </a:lnTo>
                  <a:lnTo>
                    <a:pt x="6774" y="1219"/>
                  </a:lnTo>
                  <a:lnTo>
                    <a:pt x="7077" y="972"/>
                  </a:lnTo>
                  <a:lnTo>
                    <a:pt x="7449" y="1315"/>
                  </a:lnTo>
                  <a:lnTo>
                    <a:pt x="7749" y="1071"/>
                  </a:lnTo>
                  <a:lnTo>
                    <a:pt x="8120" y="1413"/>
                  </a:lnTo>
                  <a:lnTo>
                    <a:pt x="8418" y="1166"/>
                  </a:lnTo>
                  <a:lnTo>
                    <a:pt x="8791" y="1510"/>
                  </a:lnTo>
                  <a:lnTo>
                    <a:pt x="9087" y="1262"/>
                  </a:lnTo>
                  <a:lnTo>
                    <a:pt x="9464" y="1605"/>
                  </a:lnTo>
                  <a:lnTo>
                    <a:pt x="9757" y="1358"/>
                  </a:lnTo>
                  <a:lnTo>
                    <a:pt x="10132" y="1704"/>
                  </a:lnTo>
                  <a:lnTo>
                    <a:pt x="10423" y="1454"/>
                  </a:lnTo>
                  <a:lnTo>
                    <a:pt x="10801" y="18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7"/>
            <p:cNvSpPr/>
            <p:nvPr/>
          </p:nvSpPr>
          <p:spPr>
            <a:xfrm>
              <a:off x="3337560" y="3727800"/>
              <a:ext cx="1151280" cy="189360"/>
            </a:xfrm>
            <a:custGeom>
              <a:avLst/>
              <a:gdLst>
                <a:gd name="textAreaLeft" fmla="*/ 0 w 1151280"/>
                <a:gd name="textAreaRight" fmla="*/ 1151640 w 11512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1437" h="1889">
                  <a:moveTo>
                    <a:pt x="11437" y="1889"/>
                  </a:moveTo>
                  <a:lnTo>
                    <a:pt x="11061" y="1549"/>
                  </a:lnTo>
                  <a:lnTo>
                    <a:pt x="10771" y="1794"/>
                  </a:lnTo>
                  <a:lnTo>
                    <a:pt x="10395" y="1453"/>
                  </a:lnTo>
                  <a:lnTo>
                    <a:pt x="10105" y="1698"/>
                  </a:lnTo>
                  <a:lnTo>
                    <a:pt x="9730" y="1358"/>
                  </a:lnTo>
                  <a:lnTo>
                    <a:pt x="9435" y="1602"/>
                  </a:lnTo>
                  <a:lnTo>
                    <a:pt x="9064" y="1261"/>
                  </a:lnTo>
                  <a:lnTo>
                    <a:pt x="8766" y="1506"/>
                  </a:lnTo>
                  <a:lnTo>
                    <a:pt x="8395" y="1163"/>
                  </a:lnTo>
                  <a:lnTo>
                    <a:pt x="8097" y="1411"/>
                  </a:lnTo>
                  <a:lnTo>
                    <a:pt x="7729" y="1067"/>
                  </a:lnTo>
                  <a:lnTo>
                    <a:pt x="7425" y="1312"/>
                  </a:lnTo>
                  <a:lnTo>
                    <a:pt x="7059" y="971"/>
                  </a:lnTo>
                  <a:lnTo>
                    <a:pt x="6754" y="1216"/>
                  </a:lnTo>
                  <a:lnTo>
                    <a:pt x="6390" y="875"/>
                  </a:lnTo>
                  <a:lnTo>
                    <a:pt x="6082" y="1120"/>
                  </a:lnTo>
                  <a:lnTo>
                    <a:pt x="5719" y="777"/>
                  </a:lnTo>
                  <a:lnTo>
                    <a:pt x="5410" y="1021"/>
                  </a:lnTo>
                  <a:lnTo>
                    <a:pt x="5047" y="681"/>
                  </a:lnTo>
                  <a:lnTo>
                    <a:pt x="4736" y="926"/>
                  </a:lnTo>
                  <a:lnTo>
                    <a:pt x="4375" y="583"/>
                  </a:lnTo>
                  <a:lnTo>
                    <a:pt x="4062" y="827"/>
                  </a:lnTo>
                  <a:lnTo>
                    <a:pt x="3703" y="487"/>
                  </a:lnTo>
                  <a:lnTo>
                    <a:pt x="3385" y="732"/>
                  </a:lnTo>
                  <a:lnTo>
                    <a:pt x="3029" y="388"/>
                  </a:lnTo>
                  <a:lnTo>
                    <a:pt x="2711" y="633"/>
                  </a:lnTo>
                  <a:lnTo>
                    <a:pt x="2355" y="292"/>
                  </a:lnTo>
                  <a:lnTo>
                    <a:pt x="2034" y="534"/>
                  </a:lnTo>
                  <a:lnTo>
                    <a:pt x="1681" y="194"/>
                  </a:lnTo>
                  <a:lnTo>
                    <a:pt x="1355" y="439"/>
                  </a:lnTo>
                  <a:lnTo>
                    <a:pt x="1004" y="98"/>
                  </a:lnTo>
                  <a:lnTo>
                    <a:pt x="678" y="340"/>
                  </a:lnTo>
                  <a:lnTo>
                    <a:pt x="327" y="0"/>
                  </a:lnTo>
                  <a:lnTo>
                    <a:pt x="0" y="24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8"/>
            <p:cNvSpPr/>
            <p:nvPr/>
          </p:nvSpPr>
          <p:spPr>
            <a:xfrm>
              <a:off x="3303000" y="3693600"/>
              <a:ext cx="1214280" cy="1980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2074" h="1984">
                  <a:moveTo>
                    <a:pt x="0" y="240"/>
                  </a:moveTo>
                  <a:lnTo>
                    <a:pt x="330" y="0"/>
                  </a:lnTo>
                  <a:lnTo>
                    <a:pt x="676" y="339"/>
                  </a:lnTo>
                  <a:lnTo>
                    <a:pt x="1005" y="97"/>
                  </a:lnTo>
                  <a:lnTo>
                    <a:pt x="1353" y="437"/>
                  </a:lnTo>
                  <a:lnTo>
                    <a:pt x="1679" y="195"/>
                  </a:lnTo>
                  <a:lnTo>
                    <a:pt x="2030" y="533"/>
                  </a:lnTo>
                  <a:lnTo>
                    <a:pt x="2351" y="291"/>
                  </a:lnTo>
                  <a:lnTo>
                    <a:pt x="2704" y="631"/>
                  </a:lnTo>
                  <a:lnTo>
                    <a:pt x="3025" y="389"/>
                  </a:lnTo>
                  <a:lnTo>
                    <a:pt x="3378" y="727"/>
                  </a:lnTo>
                  <a:lnTo>
                    <a:pt x="3696" y="485"/>
                  </a:lnTo>
                  <a:lnTo>
                    <a:pt x="4052" y="826"/>
                  </a:lnTo>
                  <a:lnTo>
                    <a:pt x="4366" y="584"/>
                  </a:lnTo>
                  <a:lnTo>
                    <a:pt x="4724" y="922"/>
                  </a:lnTo>
                  <a:lnTo>
                    <a:pt x="5037" y="679"/>
                  </a:lnTo>
                  <a:lnTo>
                    <a:pt x="5396" y="1020"/>
                  </a:lnTo>
                  <a:lnTo>
                    <a:pt x="5706" y="778"/>
                  </a:lnTo>
                  <a:lnTo>
                    <a:pt x="6068" y="1116"/>
                  </a:lnTo>
                  <a:lnTo>
                    <a:pt x="6376" y="873"/>
                  </a:lnTo>
                  <a:lnTo>
                    <a:pt x="6739" y="1214"/>
                  </a:lnTo>
                  <a:lnTo>
                    <a:pt x="7042" y="970"/>
                  </a:lnTo>
                  <a:lnTo>
                    <a:pt x="7408" y="1310"/>
                  </a:lnTo>
                  <a:lnTo>
                    <a:pt x="7708" y="1068"/>
                  </a:lnTo>
                  <a:lnTo>
                    <a:pt x="8078" y="1406"/>
                  </a:lnTo>
                  <a:lnTo>
                    <a:pt x="8376" y="1164"/>
                  </a:lnTo>
                  <a:lnTo>
                    <a:pt x="8744" y="1502"/>
                  </a:lnTo>
                  <a:lnTo>
                    <a:pt x="9042" y="1260"/>
                  </a:lnTo>
                  <a:lnTo>
                    <a:pt x="9413" y="1600"/>
                  </a:lnTo>
                  <a:lnTo>
                    <a:pt x="9706" y="1355"/>
                  </a:lnTo>
                  <a:lnTo>
                    <a:pt x="10079" y="1697"/>
                  </a:lnTo>
                  <a:lnTo>
                    <a:pt x="10370" y="1452"/>
                  </a:lnTo>
                  <a:lnTo>
                    <a:pt x="10744" y="1792"/>
                  </a:lnTo>
                  <a:lnTo>
                    <a:pt x="11034" y="1547"/>
                  </a:lnTo>
                  <a:lnTo>
                    <a:pt x="11410" y="1888"/>
                  </a:lnTo>
                  <a:lnTo>
                    <a:pt x="11696" y="1643"/>
                  </a:lnTo>
                  <a:lnTo>
                    <a:pt x="12074" y="198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9"/>
            <p:cNvSpPr/>
            <p:nvPr/>
          </p:nvSpPr>
          <p:spPr>
            <a:xfrm>
              <a:off x="3268440" y="3660480"/>
              <a:ext cx="1278000" cy="207360"/>
            </a:xfrm>
            <a:custGeom>
              <a:avLst/>
              <a:gdLst>
                <a:gd name="textAreaLeft" fmla="*/ 0 w 1278000"/>
                <a:gd name="textAreaRight" fmla="*/ 1278360 w 12780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2703" h="2076">
                  <a:moveTo>
                    <a:pt x="12703" y="2076"/>
                  </a:moveTo>
                  <a:lnTo>
                    <a:pt x="12327" y="1738"/>
                  </a:lnTo>
                  <a:lnTo>
                    <a:pt x="12042" y="1980"/>
                  </a:lnTo>
                  <a:lnTo>
                    <a:pt x="11665" y="1642"/>
                  </a:lnTo>
                  <a:lnTo>
                    <a:pt x="11380" y="1884"/>
                  </a:lnTo>
                  <a:lnTo>
                    <a:pt x="11006" y="1546"/>
                  </a:lnTo>
                  <a:lnTo>
                    <a:pt x="10716" y="1789"/>
                  </a:lnTo>
                  <a:lnTo>
                    <a:pt x="10345" y="1450"/>
                  </a:lnTo>
                  <a:lnTo>
                    <a:pt x="10052" y="1692"/>
                  </a:lnTo>
                  <a:lnTo>
                    <a:pt x="9681" y="1355"/>
                  </a:lnTo>
                  <a:lnTo>
                    <a:pt x="9388" y="1597"/>
                  </a:lnTo>
                  <a:lnTo>
                    <a:pt x="9020" y="1259"/>
                  </a:lnTo>
                  <a:lnTo>
                    <a:pt x="8722" y="1501"/>
                  </a:lnTo>
                  <a:lnTo>
                    <a:pt x="8355" y="1163"/>
                  </a:lnTo>
                  <a:lnTo>
                    <a:pt x="8054" y="1405"/>
                  </a:lnTo>
                  <a:lnTo>
                    <a:pt x="7691" y="1067"/>
                  </a:lnTo>
                  <a:lnTo>
                    <a:pt x="7388" y="1307"/>
                  </a:lnTo>
                  <a:lnTo>
                    <a:pt x="7025" y="968"/>
                  </a:lnTo>
                  <a:lnTo>
                    <a:pt x="6722" y="1210"/>
                  </a:lnTo>
                  <a:lnTo>
                    <a:pt x="6358" y="873"/>
                  </a:lnTo>
                  <a:lnTo>
                    <a:pt x="6052" y="1115"/>
                  </a:lnTo>
                  <a:lnTo>
                    <a:pt x="5691" y="776"/>
                  </a:lnTo>
                  <a:lnTo>
                    <a:pt x="5383" y="1016"/>
                  </a:lnTo>
                  <a:lnTo>
                    <a:pt x="5025" y="681"/>
                  </a:lnTo>
                  <a:lnTo>
                    <a:pt x="4712" y="921"/>
                  </a:lnTo>
                  <a:lnTo>
                    <a:pt x="4356" y="582"/>
                  </a:lnTo>
                  <a:lnTo>
                    <a:pt x="4042" y="822"/>
                  </a:lnTo>
                  <a:lnTo>
                    <a:pt x="3686" y="487"/>
                  </a:lnTo>
                  <a:lnTo>
                    <a:pt x="3371" y="726"/>
                  </a:lnTo>
                  <a:lnTo>
                    <a:pt x="3017" y="388"/>
                  </a:lnTo>
                  <a:lnTo>
                    <a:pt x="2697" y="628"/>
                  </a:lnTo>
                  <a:lnTo>
                    <a:pt x="2346" y="292"/>
                  </a:lnTo>
                  <a:lnTo>
                    <a:pt x="2025" y="532"/>
                  </a:lnTo>
                  <a:lnTo>
                    <a:pt x="1674" y="194"/>
                  </a:lnTo>
                  <a:lnTo>
                    <a:pt x="1351" y="434"/>
                  </a:lnTo>
                  <a:lnTo>
                    <a:pt x="1002" y="98"/>
                  </a:lnTo>
                  <a:lnTo>
                    <a:pt x="676" y="337"/>
                  </a:lnTo>
                  <a:lnTo>
                    <a:pt x="331" y="0"/>
                  </a:lnTo>
                  <a:lnTo>
                    <a:pt x="0" y="24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70"/>
            <p:cNvSpPr/>
            <p:nvPr/>
          </p:nvSpPr>
          <p:spPr>
            <a:xfrm>
              <a:off x="3233880" y="3625920"/>
              <a:ext cx="1341360" cy="21744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3330" h="2168">
                  <a:moveTo>
                    <a:pt x="0" y="238"/>
                  </a:moveTo>
                  <a:lnTo>
                    <a:pt x="331" y="0"/>
                  </a:lnTo>
                  <a:lnTo>
                    <a:pt x="675" y="334"/>
                  </a:lnTo>
                  <a:lnTo>
                    <a:pt x="1000" y="97"/>
                  </a:lnTo>
                  <a:lnTo>
                    <a:pt x="1346" y="432"/>
                  </a:lnTo>
                  <a:lnTo>
                    <a:pt x="1672" y="194"/>
                  </a:lnTo>
                  <a:lnTo>
                    <a:pt x="2018" y="528"/>
                  </a:lnTo>
                  <a:lnTo>
                    <a:pt x="2341" y="291"/>
                  </a:lnTo>
                  <a:lnTo>
                    <a:pt x="2690" y="626"/>
                  </a:lnTo>
                  <a:lnTo>
                    <a:pt x="3010" y="389"/>
                  </a:lnTo>
                  <a:lnTo>
                    <a:pt x="3361" y="722"/>
                  </a:lnTo>
                  <a:lnTo>
                    <a:pt x="3679" y="485"/>
                  </a:lnTo>
                  <a:lnTo>
                    <a:pt x="4030" y="821"/>
                  </a:lnTo>
                  <a:lnTo>
                    <a:pt x="4346" y="581"/>
                  </a:lnTo>
                  <a:lnTo>
                    <a:pt x="4700" y="916"/>
                  </a:lnTo>
                  <a:lnTo>
                    <a:pt x="5013" y="679"/>
                  </a:lnTo>
                  <a:lnTo>
                    <a:pt x="5369" y="1015"/>
                  </a:lnTo>
                  <a:lnTo>
                    <a:pt x="5679" y="775"/>
                  </a:lnTo>
                  <a:lnTo>
                    <a:pt x="6035" y="1110"/>
                  </a:lnTo>
                  <a:lnTo>
                    <a:pt x="6344" y="871"/>
                  </a:lnTo>
                  <a:lnTo>
                    <a:pt x="6702" y="1207"/>
                  </a:lnTo>
                  <a:lnTo>
                    <a:pt x="7008" y="967"/>
                  </a:lnTo>
                  <a:lnTo>
                    <a:pt x="7369" y="1302"/>
                  </a:lnTo>
                  <a:lnTo>
                    <a:pt x="7671" y="1066"/>
                  </a:lnTo>
                  <a:lnTo>
                    <a:pt x="8035" y="1401"/>
                  </a:lnTo>
                  <a:lnTo>
                    <a:pt x="8333" y="1161"/>
                  </a:lnTo>
                  <a:lnTo>
                    <a:pt x="8699" y="1497"/>
                  </a:lnTo>
                  <a:lnTo>
                    <a:pt x="8997" y="1257"/>
                  </a:lnTo>
                  <a:lnTo>
                    <a:pt x="9364" y="1593"/>
                  </a:lnTo>
                  <a:lnTo>
                    <a:pt x="9659" y="1353"/>
                  </a:lnTo>
                  <a:lnTo>
                    <a:pt x="10025" y="1689"/>
                  </a:lnTo>
                  <a:lnTo>
                    <a:pt x="10318" y="1449"/>
                  </a:lnTo>
                  <a:lnTo>
                    <a:pt x="10689" y="1784"/>
                  </a:lnTo>
                  <a:lnTo>
                    <a:pt x="10979" y="1544"/>
                  </a:lnTo>
                  <a:lnTo>
                    <a:pt x="11350" y="1880"/>
                  </a:lnTo>
                  <a:lnTo>
                    <a:pt x="11638" y="1641"/>
                  </a:lnTo>
                  <a:lnTo>
                    <a:pt x="12009" y="1976"/>
                  </a:lnTo>
                  <a:lnTo>
                    <a:pt x="12294" y="1734"/>
                  </a:lnTo>
                  <a:lnTo>
                    <a:pt x="12671" y="2072"/>
                  </a:lnTo>
                  <a:lnTo>
                    <a:pt x="12953" y="1830"/>
                  </a:lnTo>
                  <a:lnTo>
                    <a:pt x="13330" y="216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71"/>
            <p:cNvSpPr/>
            <p:nvPr/>
          </p:nvSpPr>
          <p:spPr>
            <a:xfrm>
              <a:off x="3267000" y="3601800"/>
              <a:ext cx="1270440" cy="207360"/>
            </a:xfrm>
            <a:custGeom>
              <a:avLst/>
              <a:gdLst>
                <a:gd name="textAreaLeft" fmla="*/ 0 w 1270440"/>
                <a:gd name="textAreaRight" fmla="*/ 1270800 w 12704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2622" h="2067">
                  <a:moveTo>
                    <a:pt x="12622" y="2067"/>
                  </a:moveTo>
                  <a:lnTo>
                    <a:pt x="12249" y="1734"/>
                  </a:lnTo>
                  <a:lnTo>
                    <a:pt x="11963" y="1971"/>
                  </a:lnTo>
                  <a:lnTo>
                    <a:pt x="11593" y="1638"/>
                  </a:lnTo>
                  <a:lnTo>
                    <a:pt x="11307" y="1878"/>
                  </a:lnTo>
                  <a:lnTo>
                    <a:pt x="10936" y="1542"/>
                  </a:lnTo>
                  <a:lnTo>
                    <a:pt x="10648" y="1781"/>
                  </a:lnTo>
                  <a:lnTo>
                    <a:pt x="10277" y="1446"/>
                  </a:lnTo>
                  <a:lnTo>
                    <a:pt x="9987" y="1686"/>
                  </a:lnTo>
                  <a:lnTo>
                    <a:pt x="9621" y="1350"/>
                  </a:lnTo>
                  <a:lnTo>
                    <a:pt x="9328" y="1590"/>
                  </a:lnTo>
                  <a:lnTo>
                    <a:pt x="8961" y="1255"/>
                  </a:lnTo>
                  <a:lnTo>
                    <a:pt x="8666" y="1494"/>
                  </a:lnTo>
                  <a:lnTo>
                    <a:pt x="8300" y="1158"/>
                  </a:lnTo>
                  <a:lnTo>
                    <a:pt x="8002" y="1398"/>
                  </a:lnTo>
                  <a:lnTo>
                    <a:pt x="7641" y="1063"/>
                  </a:lnTo>
                  <a:lnTo>
                    <a:pt x="7340" y="1303"/>
                  </a:lnTo>
                  <a:lnTo>
                    <a:pt x="6979" y="967"/>
                  </a:lnTo>
                  <a:lnTo>
                    <a:pt x="6677" y="1204"/>
                  </a:lnTo>
                  <a:lnTo>
                    <a:pt x="6318" y="871"/>
                  </a:lnTo>
                  <a:lnTo>
                    <a:pt x="6013" y="1108"/>
                  </a:lnTo>
                  <a:lnTo>
                    <a:pt x="5653" y="775"/>
                  </a:lnTo>
                  <a:lnTo>
                    <a:pt x="5348" y="1012"/>
                  </a:lnTo>
                  <a:lnTo>
                    <a:pt x="4992" y="679"/>
                  </a:lnTo>
                  <a:lnTo>
                    <a:pt x="4682" y="916"/>
                  </a:lnTo>
                  <a:lnTo>
                    <a:pt x="4328" y="583"/>
                  </a:lnTo>
                  <a:lnTo>
                    <a:pt x="4015" y="818"/>
                  </a:lnTo>
                  <a:lnTo>
                    <a:pt x="3662" y="484"/>
                  </a:lnTo>
                  <a:lnTo>
                    <a:pt x="3348" y="722"/>
                  </a:lnTo>
                  <a:lnTo>
                    <a:pt x="2998" y="389"/>
                  </a:lnTo>
                  <a:lnTo>
                    <a:pt x="2679" y="626"/>
                  </a:lnTo>
                  <a:lnTo>
                    <a:pt x="2331" y="293"/>
                  </a:lnTo>
                  <a:lnTo>
                    <a:pt x="2010" y="528"/>
                  </a:lnTo>
                  <a:lnTo>
                    <a:pt x="1664" y="194"/>
                  </a:lnTo>
                  <a:lnTo>
                    <a:pt x="1341" y="431"/>
                  </a:lnTo>
                  <a:lnTo>
                    <a:pt x="995" y="99"/>
                  </a:lnTo>
                  <a:lnTo>
                    <a:pt x="669" y="334"/>
                  </a:lnTo>
                  <a:lnTo>
                    <a:pt x="326" y="0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72"/>
            <p:cNvSpPr/>
            <p:nvPr/>
          </p:nvSpPr>
          <p:spPr>
            <a:xfrm>
              <a:off x="3300120" y="3579480"/>
              <a:ext cx="1199520" cy="196920"/>
            </a:xfrm>
            <a:custGeom>
              <a:avLst/>
              <a:gdLst>
                <a:gd name="textAreaLeft" fmla="*/ 0 w 1199520"/>
                <a:gd name="textAreaRight" fmla="*/ 1199880 w 1199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1923" h="1966">
                  <a:moveTo>
                    <a:pt x="0" y="232"/>
                  </a:moveTo>
                  <a:lnTo>
                    <a:pt x="326" y="0"/>
                  </a:lnTo>
                  <a:lnTo>
                    <a:pt x="669" y="331"/>
                  </a:lnTo>
                  <a:lnTo>
                    <a:pt x="992" y="96"/>
                  </a:lnTo>
                  <a:lnTo>
                    <a:pt x="1338" y="426"/>
                  </a:lnTo>
                  <a:lnTo>
                    <a:pt x="1659" y="192"/>
                  </a:lnTo>
                  <a:lnTo>
                    <a:pt x="2005" y="525"/>
                  </a:lnTo>
                  <a:lnTo>
                    <a:pt x="2323" y="290"/>
                  </a:lnTo>
                  <a:lnTo>
                    <a:pt x="2672" y="621"/>
                  </a:lnTo>
                  <a:lnTo>
                    <a:pt x="2987" y="386"/>
                  </a:lnTo>
                  <a:lnTo>
                    <a:pt x="3336" y="716"/>
                  </a:lnTo>
                  <a:lnTo>
                    <a:pt x="3649" y="482"/>
                  </a:lnTo>
                  <a:lnTo>
                    <a:pt x="4002" y="815"/>
                  </a:lnTo>
                  <a:lnTo>
                    <a:pt x="4312" y="578"/>
                  </a:lnTo>
                  <a:lnTo>
                    <a:pt x="4666" y="911"/>
                  </a:lnTo>
                  <a:lnTo>
                    <a:pt x="4974" y="677"/>
                  </a:lnTo>
                  <a:lnTo>
                    <a:pt x="5327" y="1007"/>
                  </a:lnTo>
                  <a:lnTo>
                    <a:pt x="5634" y="772"/>
                  </a:lnTo>
                  <a:lnTo>
                    <a:pt x="5992" y="1103"/>
                  </a:lnTo>
                  <a:lnTo>
                    <a:pt x="6295" y="868"/>
                  </a:lnTo>
                  <a:lnTo>
                    <a:pt x="6653" y="1199"/>
                  </a:lnTo>
                  <a:lnTo>
                    <a:pt x="6954" y="964"/>
                  </a:lnTo>
                  <a:lnTo>
                    <a:pt x="7315" y="1295"/>
                  </a:lnTo>
                  <a:lnTo>
                    <a:pt x="7613" y="1060"/>
                  </a:lnTo>
                  <a:lnTo>
                    <a:pt x="7974" y="1390"/>
                  </a:lnTo>
                  <a:lnTo>
                    <a:pt x="8272" y="1155"/>
                  </a:lnTo>
                  <a:lnTo>
                    <a:pt x="8635" y="1487"/>
                  </a:lnTo>
                  <a:lnTo>
                    <a:pt x="8928" y="1252"/>
                  </a:lnTo>
                  <a:lnTo>
                    <a:pt x="9295" y="1582"/>
                  </a:lnTo>
                  <a:lnTo>
                    <a:pt x="9584" y="1347"/>
                  </a:lnTo>
                  <a:lnTo>
                    <a:pt x="9951" y="1678"/>
                  </a:lnTo>
                  <a:lnTo>
                    <a:pt x="10242" y="1441"/>
                  </a:lnTo>
                  <a:lnTo>
                    <a:pt x="10610" y="1774"/>
                  </a:lnTo>
                  <a:lnTo>
                    <a:pt x="10896" y="1537"/>
                  </a:lnTo>
                  <a:lnTo>
                    <a:pt x="11267" y="1870"/>
                  </a:lnTo>
                  <a:lnTo>
                    <a:pt x="11550" y="1633"/>
                  </a:lnTo>
                  <a:lnTo>
                    <a:pt x="11923" y="19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73"/>
            <p:cNvSpPr/>
            <p:nvPr/>
          </p:nvSpPr>
          <p:spPr>
            <a:xfrm>
              <a:off x="3333240" y="3555000"/>
              <a:ext cx="1128240" cy="18792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1224" h="1867">
                  <a:moveTo>
                    <a:pt x="11224" y="1867"/>
                  </a:moveTo>
                  <a:lnTo>
                    <a:pt x="10855" y="1536"/>
                  </a:lnTo>
                  <a:lnTo>
                    <a:pt x="10570" y="1771"/>
                  </a:lnTo>
                  <a:lnTo>
                    <a:pt x="10200" y="1440"/>
                  </a:lnTo>
                  <a:lnTo>
                    <a:pt x="9916" y="1675"/>
                  </a:lnTo>
                  <a:lnTo>
                    <a:pt x="9546" y="1345"/>
                  </a:lnTo>
                  <a:lnTo>
                    <a:pt x="9258" y="1581"/>
                  </a:lnTo>
                  <a:lnTo>
                    <a:pt x="8892" y="1251"/>
                  </a:lnTo>
                  <a:lnTo>
                    <a:pt x="8602" y="1486"/>
                  </a:lnTo>
                  <a:lnTo>
                    <a:pt x="8239" y="1156"/>
                  </a:lnTo>
                  <a:lnTo>
                    <a:pt x="7946" y="1389"/>
                  </a:lnTo>
                  <a:lnTo>
                    <a:pt x="7582" y="1059"/>
                  </a:lnTo>
                  <a:lnTo>
                    <a:pt x="7287" y="1294"/>
                  </a:lnTo>
                  <a:lnTo>
                    <a:pt x="6926" y="963"/>
                  </a:lnTo>
                  <a:lnTo>
                    <a:pt x="6628" y="1198"/>
                  </a:lnTo>
                  <a:lnTo>
                    <a:pt x="6269" y="868"/>
                  </a:lnTo>
                  <a:lnTo>
                    <a:pt x="5969" y="1102"/>
                  </a:lnTo>
                  <a:lnTo>
                    <a:pt x="5613" y="771"/>
                  </a:lnTo>
                  <a:lnTo>
                    <a:pt x="5308" y="1006"/>
                  </a:lnTo>
                  <a:lnTo>
                    <a:pt x="4954" y="676"/>
                  </a:lnTo>
                  <a:lnTo>
                    <a:pt x="4648" y="911"/>
                  </a:lnTo>
                  <a:lnTo>
                    <a:pt x="4294" y="580"/>
                  </a:lnTo>
                  <a:lnTo>
                    <a:pt x="3986" y="812"/>
                  </a:lnTo>
                  <a:lnTo>
                    <a:pt x="3633" y="484"/>
                  </a:lnTo>
                  <a:lnTo>
                    <a:pt x="3323" y="716"/>
                  </a:lnTo>
                  <a:lnTo>
                    <a:pt x="2974" y="388"/>
                  </a:lnTo>
                  <a:lnTo>
                    <a:pt x="2661" y="620"/>
                  </a:lnTo>
                  <a:lnTo>
                    <a:pt x="2313" y="289"/>
                  </a:lnTo>
                  <a:lnTo>
                    <a:pt x="1997" y="524"/>
                  </a:lnTo>
                  <a:lnTo>
                    <a:pt x="1651" y="194"/>
                  </a:lnTo>
                  <a:lnTo>
                    <a:pt x="1333" y="426"/>
                  </a:lnTo>
                  <a:lnTo>
                    <a:pt x="987" y="97"/>
                  </a:lnTo>
                  <a:lnTo>
                    <a:pt x="666" y="330"/>
                  </a:lnTo>
                  <a:lnTo>
                    <a:pt x="323" y="0"/>
                  </a:lnTo>
                  <a:lnTo>
                    <a:pt x="0" y="23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74"/>
            <p:cNvSpPr/>
            <p:nvPr/>
          </p:nvSpPr>
          <p:spPr>
            <a:xfrm>
              <a:off x="3364920" y="3532680"/>
              <a:ext cx="1059120" cy="1774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532" h="1766">
                  <a:moveTo>
                    <a:pt x="0" y="230"/>
                  </a:moveTo>
                  <a:lnTo>
                    <a:pt x="321" y="0"/>
                  </a:lnTo>
                  <a:lnTo>
                    <a:pt x="664" y="327"/>
                  </a:lnTo>
                  <a:lnTo>
                    <a:pt x="982" y="95"/>
                  </a:lnTo>
                  <a:lnTo>
                    <a:pt x="1328" y="424"/>
                  </a:lnTo>
                  <a:lnTo>
                    <a:pt x="1644" y="194"/>
                  </a:lnTo>
                  <a:lnTo>
                    <a:pt x="1990" y="519"/>
                  </a:lnTo>
                  <a:lnTo>
                    <a:pt x="2302" y="290"/>
                  </a:lnTo>
                  <a:lnTo>
                    <a:pt x="2651" y="618"/>
                  </a:lnTo>
                  <a:lnTo>
                    <a:pt x="2961" y="386"/>
                  </a:lnTo>
                  <a:lnTo>
                    <a:pt x="3310" y="714"/>
                  </a:lnTo>
                  <a:lnTo>
                    <a:pt x="3621" y="482"/>
                  </a:lnTo>
                  <a:lnTo>
                    <a:pt x="3971" y="810"/>
                  </a:lnTo>
                  <a:lnTo>
                    <a:pt x="4278" y="577"/>
                  </a:lnTo>
                  <a:lnTo>
                    <a:pt x="4631" y="906"/>
                  </a:lnTo>
                  <a:lnTo>
                    <a:pt x="4934" y="674"/>
                  </a:lnTo>
                  <a:lnTo>
                    <a:pt x="5290" y="1001"/>
                  </a:lnTo>
                  <a:lnTo>
                    <a:pt x="5590" y="769"/>
                  </a:lnTo>
                  <a:lnTo>
                    <a:pt x="5946" y="1098"/>
                  </a:lnTo>
                  <a:lnTo>
                    <a:pt x="6247" y="865"/>
                  </a:lnTo>
                  <a:lnTo>
                    <a:pt x="6603" y="1193"/>
                  </a:lnTo>
                  <a:lnTo>
                    <a:pt x="6901" y="961"/>
                  </a:lnTo>
                  <a:lnTo>
                    <a:pt x="7259" y="1289"/>
                  </a:lnTo>
                  <a:lnTo>
                    <a:pt x="7555" y="1057"/>
                  </a:lnTo>
                  <a:lnTo>
                    <a:pt x="7916" y="1386"/>
                  </a:lnTo>
                  <a:lnTo>
                    <a:pt x="8206" y="1151"/>
                  </a:lnTo>
                  <a:lnTo>
                    <a:pt x="8569" y="1481"/>
                  </a:lnTo>
                  <a:lnTo>
                    <a:pt x="8860" y="1246"/>
                  </a:lnTo>
                  <a:lnTo>
                    <a:pt x="9223" y="1575"/>
                  </a:lnTo>
                  <a:lnTo>
                    <a:pt x="9511" y="1342"/>
                  </a:lnTo>
                  <a:lnTo>
                    <a:pt x="9877" y="1670"/>
                  </a:lnTo>
                  <a:lnTo>
                    <a:pt x="10163" y="1438"/>
                  </a:lnTo>
                  <a:lnTo>
                    <a:pt x="10532" y="17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75"/>
            <p:cNvSpPr/>
            <p:nvPr/>
          </p:nvSpPr>
          <p:spPr>
            <a:xfrm>
              <a:off x="3398040" y="3510000"/>
              <a:ext cx="989640" cy="16668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42" h="1668">
                  <a:moveTo>
                    <a:pt x="9842" y="1668"/>
                  </a:moveTo>
                  <a:lnTo>
                    <a:pt x="9476" y="1340"/>
                  </a:lnTo>
                  <a:lnTo>
                    <a:pt x="9190" y="1572"/>
                  </a:lnTo>
                  <a:lnTo>
                    <a:pt x="8827" y="1244"/>
                  </a:lnTo>
                  <a:lnTo>
                    <a:pt x="8539" y="1476"/>
                  </a:lnTo>
                  <a:lnTo>
                    <a:pt x="8175" y="1151"/>
                  </a:lnTo>
                  <a:lnTo>
                    <a:pt x="7885" y="1381"/>
                  </a:lnTo>
                  <a:lnTo>
                    <a:pt x="7524" y="1054"/>
                  </a:lnTo>
                  <a:lnTo>
                    <a:pt x="7234" y="1287"/>
                  </a:lnTo>
                  <a:lnTo>
                    <a:pt x="6873" y="959"/>
                  </a:lnTo>
                  <a:lnTo>
                    <a:pt x="6580" y="1191"/>
                  </a:lnTo>
                  <a:lnTo>
                    <a:pt x="6221" y="863"/>
                  </a:lnTo>
                  <a:lnTo>
                    <a:pt x="5926" y="1095"/>
                  </a:lnTo>
                  <a:lnTo>
                    <a:pt x="5570" y="770"/>
                  </a:lnTo>
                  <a:lnTo>
                    <a:pt x="5269" y="999"/>
                  </a:lnTo>
                  <a:lnTo>
                    <a:pt x="4916" y="674"/>
                  </a:lnTo>
                  <a:lnTo>
                    <a:pt x="4613" y="904"/>
                  </a:lnTo>
                  <a:lnTo>
                    <a:pt x="4262" y="578"/>
                  </a:lnTo>
                  <a:lnTo>
                    <a:pt x="3957" y="807"/>
                  </a:lnTo>
                  <a:lnTo>
                    <a:pt x="3606" y="482"/>
                  </a:lnTo>
                  <a:lnTo>
                    <a:pt x="3300" y="712"/>
                  </a:lnTo>
                  <a:lnTo>
                    <a:pt x="2949" y="386"/>
                  </a:lnTo>
                  <a:lnTo>
                    <a:pt x="2640" y="616"/>
                  </a:lnTo>
                  <a:lnTo>
                    <a:pt x="2293" y="290"/>
                  </a:lnTo>
                  <a:lnTo>
                    <a:pt x="1981" y="520"/>
                  </a:lnTo>
                  <a:lnTo>
                    <a:pt x="1635" y="194"/>
                  </a:lnTo>
                  <a:lnTo>
                    <a:pt x="1323" y="424"/>
                  </a:lnTo>
                  <a:lnTo>
                    <a:pt x="979" y="96"/>
                  </a:lnTo>
                  <a:lnTo>
                    <a:pt x="661" y="325"/>
                  </a:lnTo>
                  <a:lnTo>
                    <a:pt x="320" y="0"/>
                  </a:lnTo>
                  <a:lnTo>
                    <a:pt x="0" y="23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76"/>
            <p:cNvSpPr/>
            <p:nvPr/>
          </p:nvSpPr>
          <p:spPr>
            <a:xfrm>
              <a:off x="3429720" y="3487680"/>
              <a:ext cx="920160" cy="156240"/>
            </a:xfrm>
            <a:custGeom>
              <a:avLst/>
              <a:gdLst>
                <a:gd name="textAreaLeft" fmla="*/ 0 w 920160"/>
                <a:gd name="textAreaRight" fmla="*/ 920520 w 9201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156" h="1568">
                  <a:moveTo>
                    <a:pt x="0" y="228"/>
                  </a:moveTo>
                  <a:lnTo>
                    <a:pt x="315" y="0"/>
                  </a:lnTo>
                  <a:lnTo>
                    <a:pt x="659" y="324"/>
                  </a:lnTo>
                  <a:lnTo>
                    <a:pt x="973" y="97"/>
                  </a:lnTo>
                  <a:lnTo>
                    <a:pt x="1315" y="422"/>
                  </a:lnTo>
                  <a:lnTo>
                    <a:pt x="1629" y="193"/>
                  </a:lnTo>
                  <a:lnTo>
                    <a:pt x="1973" y="518"/>
                  </a:lnTo>
                  <a:lnTo>
                    <a:pt x="2283" y="288"/>
                  </a:lnTo>
                  <a:lnTo>
                    <a:pt x="2629" y="614"/>
                  </a:lnTo>
                  <a:lnTo>
                    <a:pt x="2937" y="385"/>
                  </a:lnTo>
                  <a:lnTo>
                    <a:pt x="3286" y="710"/>
                  </a:lnTo>
                  <a:lnTo>
                    <a:pt x="3591" y="480"/>
                  </a:lnTo>
                  <a:lnTo>
                    <a:pt x="3942" y="806"/>
                  </a:lnTo>
                  <a:lnTo>
                    <a:pt x="4242" y="576"/>
                  </a:lnTo>
                  <a:lnTo>
                    <a:pt x="4596" y="902"/>
                  </a:lnTo>
                  <a:lnTo>
                    <a:pt x="4894" y="672"/>
                  </a:lnTo>
                  <a:lnTo>
                    <a:pt x="5250" y="998"/>
                  </a:lnTo>
                  <a:lnTo>
                    <a:pt x="5545" y="768"/>
                  </a:lnTo>
                  <a:lnTo>
                    <a:pt x="5901" y="1091"/>
                  </a:lnTo>
                  <a:lnTo>
                    <a:pt x="6197" y="864"/>
                  </a:lnTo>
                  <a:lnTo>
                    <a:pt x="6553" y="1187"/>
                  </a:lnTo>
                  <a:lnTo>
                    <a:pt x="6846" y="957"/>
                  </a:lnTo>
                  <a:lnTo>
                    <a:pt x="7204" y="1282"/>
                  </a:lnTo>
                  <a:lnTo>
                    <a:pt x="7495" y="1054"/>
                  </a:lnTo>
                  <a:lnTo>
                    <a:pt x="7855" y="1379"/>
                  </a:lnTo>
                  <a:lnTo>
                    <a:pt x="8143" y="1149"/>
                  </a:lnTo>
                  <a:lnTo>
                    <a:pt x="8507" y="1472"/>
                  </a:lnTo>
                  <a:lnTo>
                    <a:pt x="8792" y="1243"/>
                  </a:lnTo>
                  <a:lnTo>
                    <a:pt x="9156" y="156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77"/>
            <p:cNvSpPr/>
            <p:nvPr/>
          </p:nvSpPr>
          <p:spPr>
            <a:xfrm>
              <a:off x="3461760" y="3465000"/>
              <a:ext cx="852120" cy="145440"/>
            </a:xfrm>
            <a:custGeom>
              <a:avLst/>
              <a:gdLst>
                <a:gd name="textAreaLeft" fmla="*/ 0 w 852120"/>
                <a:gd name="textAreaRight" fmla="*/ 852480 w 8521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477" h="1466">
                  <a:moveTo>
                    <a:pt x="8477" y="1466"/>
                  </a:moveTo>
                  <a:lnTo>
                    <a:pt x="8114" y="1142"/>
                  </a:lnTo>
                  <a:lnTo>
                    <a:pt x="7828" y="1372"/>
                  </a:lnTo>
                  <a:lnTo>
                    <a:pt x="7470" y="1047"/>
                  </a:lnTo>
                  <a:lnTo>
                    <a:pt x="7180" y="1277"/>
                  </a:lnTo>
                  <a:lnTo>
                    <a:pt x="6821" y="953"/>
                  </a:lnTo>
                  <a:lnTo>
                    <a:pt x="6531" y="1180"/>
                  </a:lnTo>
                  <a:lnTo>
                    <a:pt x="6175" y="858"/>
                  </a:lnTo>
                  <a:lnTo>
                    <a:pt x="5882" y="1087"/>
                  </a:lnTo>
                  <a:lnTo>
                    <a:pt x="5526" y="764"/>
                  </a:lnTo>
                  <a:lnTo>
                    <a:pt x="5230" y="991"/>
                  </a:lnTo>
                  <a:lnTo>
                    <a:pt x="4877" y="668"/>
                  </a:lnTo>
                  <a:lnTo>
                    <a:pt x="4579" y="895"/>
                  </a:lnTo>
                  <a:lnTo>
                    <a:pt x="4228" y="572"/>
                  </a:lnTo>
                  <a:lnTo>
                    <a:pt x="3927" y="799"/>
                  </a:lnTo>
                  <a:lnTo>
                    <a:pt x="3579" y="477"/>
                  </a:lnTo>
                  <a:lnTo>
                    <a:pt x="3276" y="703"/>
                  </a:lnTo>
                  <a:lnTo>
                    <a:pt x="2927" y="380"/>
                  </a:lnTo>
                  <a:lnTo>
                    <a:pt x="2622" y="608"/>
                  </a:lnTo>
                  <a:lnTo>
                    <a:pt x="2276" y="288"/>
                  </a:lnTo>
                  <a:lnTo>
                    <a:pt x="1968" y="511"/>
                  </a:lnTo>
                  <a:lnTo>
                    <a:pt x="1622" y="191"/>
                  </a:lnTo>
                  <a:lnTo>
                    <a:pt x="1314" y="416"/>
                  </a:lnTo>
                  <a:lnTo>
                    <a:pt x="971" y="95"/>
                  </a:lnTo>
                  <a:lnTo>
                    <a:pt x="658" y="320"/>
                  </a:lnTo>
                  <a:lnTo>
                    <a:pt x="317" y="0"/>
                  </a:lnTo>
                  <a:lnTo>
                    <a:pt x="0" y="22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78"/>
            <p:cNvSpPr/>
            <p:nvPr/>
          </p:nvSpPr>
          <p:spPr>
            <a:xfrm>
              <a:off x="3493080" y="3442680"/>
              <a:ext cx="784440" cy="13644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797" h="1367">
                  <a:moveTo>
                    <a:pt x="0" y="225"/>
                  </a:moveTo>
                  <a:lnTo>
                    <a:pt x="310" y="0"/>
                  </a:lnTo>
                  <a:lnTo>
                    <a:pt x="654" y="320"/>
                  </a:lnTo>
                  <a:lnTo>
                    <a:pt x="961" y="96"/>
                  </a:lnTo>
                  <a:lnTo>
                    <a:pt x="1305" y="416"/>
                  </a:lnTo>
                  <a:lnTo>
                    <a:pt x="1613" y="191"/>
                  </a:lnTo>
                  <a:lnTo>
                    <a:pt x="1959" y="513"/>
                  </a:lnTo>
                  <a:lnTo>
                    <a:pt x="2262" y="285"/>
                  </a:lnTo>
                  <a:lnTo>
                    <a:pt x="2610" y="605"/>
                  </a:lnTo>
                  <a:lnTo>
                    <a:pt x="2913" y="380"/>
                  </a:lnTo>
                  <a:lnTo>
                    <a:pt x="3262" y="702"/>
                  </a:lnTo>
                  <a:lnTo>
                    <a:pt x="3562" y="477"/>
                  </a:lnTo>
                  <a:lnTo>
                    <a:pt x="3911" y="797"/>
                  </a:lnTo>
                  <a:lnTo>
                    <a:pt x="4209" y="572"/>
                  </a:lnTo>
                  <a:lnTo>
                    <a:pt x="4560" y="893"/>
                  </a:lnTo>
                  <a:lnTo>
                    <a:pt x="4855" y="666"/>
                  </a:lnTo>
                  <a:lnTo>
                    <a:pt x="5209" y="989"/>
                  </a:lnTo>
                  <a:lnTo>
                    <a:pt x="5502" y="762"/>
                  </a:lnTo>
                  <a:lnTo>
                    <a:pt x="5858" y="1083"/>
                  </a:lnTo>
                  <a:lnTo>
                    <a:pt x="6148" y="858"/>
                  </a:lnTo>
                  <a:lnTo>
                    <a:pt x="6504" y="1178"/>
                  </a:lnTo>
                  <a:lnTo>
                    <a:pt x="6794" y="951"/>
                  </a:lnTo>
                  <a:lnTo>
                    <a:pt x="7153" y="1272"/>
                  </a:lnTo>
                  <a:lnTo>
                    <a:pt x="7438" y="1047"/>
                  </a:lnTo>
                  <a:lnTo>
                    <a:pt x="7797" y="136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79"/>
            <p:cNvSpPr/>
            <p:nvPr/>
          </p:nvSpPr>
          <p:spPr>
            <a:xfrm>
              <a:off x="3524760" y="3420000"/>
              <a:ext cx="716760" cy="12636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7128" h="1272">
                  <a:moveTo>
                    <a:pt x="7128" y="1272"/>
                  </a:moveTo>
                  <a:lnTo>
                    <a:pt x="6770" y="952"/>
                  </a:lnTo>
                  <a:lnTo>
                    <a:pt x="6484" y="1176"/>
                  </a:lnTo>
                  <a:lnTo>
                    <a:pt x="6128" y="858"/>
                  </a:lnTo>
                  <a:lnTo>
                    <a:pt x="5838" y="1083"/>
                  </a:lnTo>
                  <a:lnTo>
                    <a:pt x="5485" y="762"/>
                  </a:lnTo>
                  <a:lnTo>
                    <a:pt x="5192" y="987"/>
                  </a:lnTo>
                  <a:lnTo>
                    <a:pt x="4841" y="666"/>
                  </a:lnTo>
                  <a:lnTo>
                    <a:pt x="4545" y="891"/>
                  </a:lnTo>
                  <a:lnTo>
                    <a:pt x="4194" y="573"/>
                  </a:lnTo>
                  <a:lnTo>
                    <a:pt x="3899" y="797"/>
                  </a:lnTo>
                  <a:lnTo>
                    <a:pt x="3550" y="477"/>
                  </a:lnTo>
                  <a:lnTo>
                    <a:pt x="3252" y="702"/>
                  </a:lnTo>
                  <a:lnTo>
                    <a:pt x="2904" y="384"/>
                  </a:lnTo>
                  <a:lnTo>
                    <a:pt x="2603" y="605"/>
                  </a:lnTo>
                  <a:lnTo>
                    <a:pt x="2257" y="288"/>
                  </a:lnTo>
                  <a:lnTo>
                    <a:pt x="1952" y="510"/>
                  </a:lnTo>
                  <a:lnTo>
                    <a:pt x="1608" y="192"/>
                  </a:lnTo>
                  <a:lnTo>
                    <a:pt x="1303" y="416"/>
                  </a:lnTo>
                  <a:lnTo>
                    <a:pt x="959" y="96"/>
                  </a:lnTo>
                  <a:lnTo>
                    <a:pt x="651" y="321"/>
                  </a:lnTo>
                  <a:lnTo>
                    <a:pt x="310" y="0"/>
                  </a:lnTo>
                  <a:lnTo>
                    <a:pt x="0" y="22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80"/>
            <p:cNvSpPr/>
            <p:nvPr/>
          </p:nvSpPr>
          <p:spPr>
            <a:xfrm>
              <a:off x="3555000" y="3397320"/>
              <a:ext cx="650160" cy="11700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6460" h="1171">
                  <a:moveTo>
                    <a:pt x="0" y="219"/>
                  </a:moveTo>
                  <a:lnTo>
                    <a:pt x="309" y="0"/>
                  </a:lnTo>
                  <a:lnTo>
                    <a:pt x="649" y="315"/>
                  </a:lnTo>
                  <a:lnTo>
                    <a:pt x="955" y="93"/>
                  </a:lnTo>
                  <a:lnTo>
                    <a:pt x="1298" y="411"/>
                  </a:lnTo>
                  <a:lnTo>
                    <a:pt x="1601" y="189"/>
                  </a:lnTo>
                  <a:lnTo>
                    <a:pt x="1947" y="507"/>
                  </a:lnTo>
                  <a:lnTo>
                    <a:pt x="2248" y="285"/>
                  </a:lnTo>
                  <a:lnTo>
                    <a:pt x="2594" y="603"/>
                  </a:lnTo>
                  <a:lnTo>
                    <a:pt x="2892" y="378"/>
                  </a:lnTo>
                  <a:lnTo>
                    <a:pt x="3240" y="696"/>
                  </a:lnTo>
                  <a:lnTo>
                    <a:pt x="3536" y="474"/>
                  </a:lnTo>
                  <a:lnTo>
                    <a:pt x="3884" y="792"/>
                  </a:lnTo>
                  <a:lnTo>
                    <a:pt x="4180" y="570"/>
                  </a:lnTo>
                  <a:lnTo>
                    <a:pt x="4531" y="885"/>
                  </a:lnTo>
                  <a:lnTo>
                    <a:pt x="4821" y="664"/>
                  </a:lnTo>
                  <a:lnTo>
                    <a:pt x="5175" y="981"/>
                  </a:lnTo>
                  <a:lnTo>
                    <a:pt x="5462" y="759"/>
                  </a:lnTo>
                  <a:lnTo>
                    <a:pt x="5818" y="1077"/>
                  </a:lnTo>
                  <a:lnTo>
                    <a:pt x="6104" y="853"/>
                  </a:lnTo>
                  <a:lnTo>
                    <a:pt x="6460" y="11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81"/>
            <p:cNvSpPr/>
            <p:nvPr/>
          </p:nvSpPr>
          <p:spPr>
            <a:xfrm>
              <a:off x="3586680" y="3375000"/>
              <a:ext cx="582120" cy="1083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5795" h="1076">
                  <a:moveTo>
                    <a:pt x="5795" y="1076"/>
                  </a:moveTo>
                  <a:lnTo>
                    <a:pt x="5441" y="760"/>
                  </a:lnTo>
                  <a:lnTo>
                    <a:pt x="5153" y="982"/>
                  </a:lnTo>
                  <a:lnTo>
                    <a:pt x="4802" y="664"/>
                  </a:lnTo>
                  <a:lnTo>
                    <a:pt x="4512" y="887"/>
                  </a:lnTo>
                  <a:lnTo>
                    <a:pt x="4161" y="571"/>
                  </a:lnTo>
                  <a:lnTo>
                    <a:pt x="3871" y="793"/>
                  </a:lnTo>
                  <a:lnTo>
                    <a:pt x="3522" y="477"/>
                  </a:lnTo>
                  <a:lnTo>
                    <a:pt x="3227" y="697"/>
                  </a:lnTo>
                  <a:lnTo>
                    <a:pt x="2880" y="381"/>
                  </a:lnTo>
                  <a:lnTo>
                    <a:pt x="2583" y="601"/>
                  </a:lnTo>
                  <a:lnTo>
                    <a:pt x="2236" y="286"/>
                  </a:lnTo>
                  <a:lnTo>
                    <a:pt x="1939" y="508"/>
                  </a:lnTo>
                  <a:lnTo>
                    <a:pt x="1596" y="192"/>
                  </a:lnTo>
                  <a:lnTo>
                    <a:pt x="1292" y="412"/>
                  </a:lnTo>
                  <a:lnTo>
                    <a:pt x="952" y="97"/>
                  </a:lnTo>
                  <a:lnTo>
                    <a:pt x="646" y="316"/>
                  </a:lnTo>
                  <a:lnTo>
                    <a:pt x="306" y="0"/>
                  </a:lnTo>
                  <a:lnTo>
                    <a:pt x="0" y="22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82"/>
            <p:cNvSpPr/>
            <p:nvPr/>
          </p:nvSpPr>
          <p:spPr>
            <a:xfrm>
              <a:off x="3616920" y="3353760"/>
              <a:ext cx="517320" cy="97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135" h="976">
                  <a:moveTo>
                    <a:pt x="0" y="216"/>
                  </a:moveTo>
                  <a:lnTo>
                    <a:pt x="305" y="0"/>
                  </a:lnTo>
                  <a:lnTo>
                    <a:pt x="646" y="313"/>
                  </a:lnTo>
                  <a:lnTo>
                    <a:pt x="946" y="95"/>
                  </a:lnTo>
                  <a:lnTo>
                    <a:pt x="1290" y="408"/>
                  </a:lnTo>
                  <a:lnTo>
                    <a:pt x="1588" y="189"/>
                  </a:lnTo>
                  <a:lnTo>
                    <a:pt x="1930" y="502"/>
                  </a:lnTo>
                  <a:lnTo>
                    <a:pt x="2228" y="284"/>
                  </a:lnTo>
                  <a:lnTo>
                    <a:pt x="2574" y="597"/>
                  </a:lnTo>
                  <a:lnTo>
                    <a:pt x="2867" y="378"/>
                  </a:lnTo>
                  <a:lnTo>
                    <a:pt x="3216" y="693"/>
                  </a:lnTo>
                  <a:lnTo>
                    <a:pt x="3506" y="473"/>
                  </a:lnTo>
                  <a:lnTo>
                    <a:pt x="3855" y="787"/>
                  </a:lnTo>
                  <a:lnTo>
                    <a:pt x="4145" y="567"/>
                  </a:lnTo>
                  <a:lnTo>
                    <a:pt x="4496" y="880"/>
                  </a:lnTo>
                  <a:lnTo>
                    <a:pt x="4784" y="661"/>
                  </a:lnTo>
                  <a:lnTo>
                    <a:pt x="5135" y="97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83"/>
            <p:cNvSpPr/>
            <p:nvPr/>
          </p:nvSpPr>
          <p:spPr>
            <a:xfrm>
              <a:off x="3648600" y="3331080"/>
              <a:ext cx="449640" cy="8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479" h="879">
                  <a:moveTo>
                    <a:pt x="4479" y="879"/>
                  </a:moveTo>
                  <a:lnTo>
                    <a:pt x="4128" y="568"/>
                  </a:lnTo>
                  <a:lnTo>
                    <a:pt x="3840" y="785"/>
                  </a:lnTo>
                  <a:lnTo>
                    <a:pt x="3492" y="473"/>
                  </a:lnTo>
                  <a:lnTo>
                    <a:pt x="3201" y="691"/>
                  </a:lnTo>
                  <a:lnTo>
                    <a:pt x="2855" y="379"/>
                  </a:lnTo>
                  <a:lnTo>
                    <a:pt x="2562" y="596"/>
                  </a:lnTo>
                  <a:lnTo>
                    <a:pt x="2219" y="283"/>
                  </a:lnTo>
                  <a:lnTo>
                    <a:pt x="1923" y="502"/>
                  </a:lnTo>
                  <a:lnTo>
                    <a:pt x="1581" y="190"/>
                  </a:lnTo>
                  <a:lnTo>
                    <a:pt x="1283" y="407"/>
                  </a:lnTo>
                  <a:lnTo>
                    <a:pt x="942" y="97"/>
                  </a:lnTo>
                  <a:lnTo>
                    <a:pt x="641" y="313"/>
                  </a:lnTo>
                  <a:lnTo>
                    <a:pt x="300" y="0"/>
                  </a:lnTo>
                  <a:lnTo>
                    <a:pt x="0" y="2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84"/>
            <p:cNvSpPr/>
            <p:nvPr/>
          </p:nvSpPr>
          <p:spPr>
            <a:xfrm>
              <a:off x="3678840" y="3310560"/>
              <a:ext cx="384480" cy="777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28" h="782">
                  <a:moveTo>
                    <a:pt x="0" y="214"/>
                  </a:moveTo>
                  <a:lnTo>
                    <a:pt x="301" y="0"/>
                  </a:lnTo>
                  <a:lnTo>
                    <a:pt x="642" y="311"/>
                  </a:lnTo>
                  <a:lnTo>
                    <a:pt x="940" y="93"/>
                  </a:lnTo>
                  <a:lnTo>
                    <a:pt x="1281" y="404"/>
                  </a:lnTo>
                  <a:lnTo>
                    <a:pt x="1576" y="187"/>
                  </a:lnTo>
                  <a:lnTo>
                    <a:pt x="1919" y="497"/>
                  </a:lnTo>
                  <a:lnTo>
                    <a:pt x="2212" y="282"/>
                  </a:lnTo>
                  <a:lnTo>
                    <a:pt x="2555" y="593"/>
                  </a:lnTo>
                  <a:lnTo>
                    <a:pt x="2846" y="376"/>
                  </a:lnTo>
                  <a:lnTo>
                    <a:pt x="3192" y="687"/>
                  </a:lnTo>
                  <a:lnTo>
                    <a:pt x="3482" y="469"/>
                  </a:lnTo>
                  <a:lnTo>
                    <a:pt x="3828" y="78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5"/>
            <p:cNvSpPr/>
            <p:nvPr/>
          </p:nvSpPr>
          <p:spPr>
            <a:xfrm>
              <a:off x="3709080" y="3289320"/>
              <a:ext cx="319680" cy="67320"/>
            </a:xfrm>
            <a:custGeom>
              <a:avLst/>
              <a:gdLst>
                <a:gd name="textAreaLeft" fmla="*/ 0 w 319680"/>
                <a:gd name="textAreaRight" fmla="*/ 319680 w 3196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181" h="684">
                  <a:moveTo>
                    <a:pt x="3181" y="684"/>
                  </a:moveTo>
                  <a:lnTo>
                    <a:pt x="2835" y="376"/>
                  </a:lnTo>
                  <a:lnTo>
                    <a:pt x="2545" y="591"/>
                  </a:lnTo>
                  <a:lnTo>
                    <a:pt x="2201" y="283"/>
                  </a:lnTo>
                  <a:lnTo>
                    <a:pt x="1911" y="497"/>
                  </a:lnTo>
                  <a:lnTo>
                    <a:pt x="1568" y="187"/>
                  </a:lnTo>
                  <a:lnTo>
                    <a:pt x="1275" y="402"/>
                  </a:lnTo>
                  <a:lnTo>
                    <a:pt x="934" y="94"/>
                  </a:lnTo>
                  <a:lnTo>
                    <a:pt x="639" y="308"/>
                  </a:lnTo>
                  <a:lnTo>
                    <a:pt x="298" y="0"/>
                  </a:lnTo>
                  <a:lnTo>
                    <a:pt x="0" y="21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6"/>
            <p:cNvSpPr/>
            <p:nvPr/>
          </p:nvSpPr>
          <p:spPr>
            <a:xfrm>
              <a:off x="3738960" y="3267000"/>
              <a:ext cx="254880" cy="597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537" h="590">
                  <a:moveTo>
                    <a:pt x="0" y="214"/>
                  </a:moveTo>
                  <a:lnTo>
                    <a:pt x="295" y="0"/>
                  </a:lnTo>
                  <a:lnTo>
                    <a:pt x="636" y="308"/>
                  </a:lnTo>
                  <a:lnTo>
                    <a:pt x="929" y="96"/>
                  </a:lnTo>
                  <a:lnTo>
                    <a:pt x="1270" y="401"/>
                  </a:lnTo>
                  <a:lnTo>
                    <a:pt x="1561" y="190"/>
                  </a:lnTo>
                  <a:lnTo>
                    <a:pt x="1903" y="497"/>
                  </a:lnTo>
                  <a:lnTo>
                    <a:pt x="2194" y="282"/>
                  </a:lnTo>
                  <a:lnTo>
                    <a:pt x="2537" y="59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87"/>
            <p:cNvSpPr/>
            <p:nvPr/>
          </p:nvSpPr>
          <p:spPr>
            <a:xfrm>
              <a:off x="3767760" y="3245760"/>
              <a:ext cx="191520" cy="49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99" h="492">
                  <a:moveTo>
                    <a:pt x="1899" y="492"/>
                  </a:moveTo>
                  <a:lnTo>
                    <a:pt x="1555" y="187"/>
                  </a:lnTo>
                  <a:lnTo>
                    <a:pt x="1266" y="400"/>
                  </a:lnTo>
                  <a:lnTo>
                    <a:pt x="927" y="94"/>
                  </a:lnTo>
                  <a:lnTo>
                    <a:pt x="634" y="306"/>
                  </a:lnTo>
                  <a:lnTo>
                    <a:pt x="295" y="0"/>
                  </a:lnTo>
                  <a:lnTo>
                    <a:pt x="0" y="2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8"/>
            <p:cNvSpPr/>
            <p:nvPr/>
          </p:nvSpPr>
          <p:spPr>
            <a:xfrm>
              <a:off x="3798000" y="3224520"/>
              <a:ext cx="126360" cy="4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60" h="396">
                  <a:moveTo>
                    <a:pt x="0" y="209"/>
                  </a:moveTo>
                  <a:lnTo>
                    <a:pt x="291" y="0"/>
                  </a:lnTo>
                  <a:lnTo>
                    <a:pt x="632" y="303"/>
                  </a:lnTo>
                  <a:lnTo>
                    <a:pt x="920" y="93"/>
                  </a:lnTo>
                  <a:lnTo>
                    <a:pt x="1260" y="39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9"/>
            <p:cNvSpPr/>
            <p:nvPr/>
          </p:nvSpPr>
          <p:spPr>
            <a:xfrm>
              <a:off x="3826800" y="3203640"/>
              <a:ext cx="63000" cy="316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29" h="303">
                  <a:moveTo>
                    <a:pt x="629" y="303"/>
                  </a:moveTo>
                  <a:lnTo>
                    <a:pt x="290" y="0"/>
                  </a:lnTo>
                  <a:lnTo>
                    <a:pt x="0" y="2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90"/>
          <p:cNvGrpSpPr/>
          <p:nvPr/>
        </p:nvGrpSpPr>
        <p:grpSpPr>
          <a:xfrm>
            <a:off x="3348000" y="5025960"/>
            <a:ext cx="1163520" cy="642960"/>
            <a:chOff x="3348000" y="5025960"/>
            <a:chExt cx="1163520" cy="642960"/>
          </a:xfrm>
        </p:grpSpPr>
        <p:sp>
          <p:nvSpPr>
            <p:cNvPr id="1519" name="Freeform 91"/>
            <p:cNvSpPr/>
            <p:nvPr/>
          </p:nvSpPr>
          <p:spPr>
            <a:xfrm>
              <a:off x="3348000" y="5558040"/>
              <a:ext cx="636120" cy="1105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285" h="1281">
                  <a:moveTo>
                    <a:pt x="7285" y="0"/>
                  </a:moveTo>
                  <a:lnTo>
                    <a:pt x="6899" y="68"/>
                  </a:lnTo>
                  <a:lnTo>
                    <a:pt x="6515" y="136"/>
                  </a:lnTo>
                  <a:lnTo>
                    <a:pt x="6136" y="202"/>
                  </a:lnTo>
                  <a:lnTo>
                    <a:pt x="5758" y="270"/>
                  </a:lnTo>
                  <a:lnTo>
                    <a:pt x="5379" y="335"/>
                  </a:lnTo>
                  <a:lnTo>
                    <a:pt x="5005" y="401"/>
                  </a:lnTo>
                  <a:lnTo>
                    <a:pt x="4634" y="466"/>
                  </a:lnTo>
                  <a:lnTo>
                    <a:pt x="4265" y="532"/>
                  </a:lnTo>
                  <a:lnTo>
                    <a:pt x="3896" y="595"/>
                  </a:lnTo>
                  <a:lnTo>
                    <a:pt x="3533" y="660"/>
                  </a:lnTo>
                  <a:lnTo>
                    <a:pt x="3170" y="724"/>
                  </a:lnTo>
                  <a:lnTo>
                    <a:pt x="2809" y="787"/>
                  </a:lnTo>
                  <a:lnTo>
                    <a:pt x="2450" y="850"/>
                  </a:lnTo>
                  <a:lnTo>
                    <a:pt x="2094" y="913"/>
                  </a:lnTo>
                  <a:lnTo>
                    <a:pt x="1741" y="976"/>
                  </a:lnTo>
                  <a:lnTo>
                    <a:pt x="1387" y="1039"/>
                  </a:lnTo>
                  <a:lnTo>
                    <a:pt x="1039" y="1099"/>
                  </a:lnTo>
                  <a:lnTo>
                    <a:pt x="690" y="1160"/>
                  </a:lnTo>
                  <a:lnTo>
                    <a:pt x="344" y="1221"/>
                  </a:lnTo>
                  <a:lnTo>
                    <a:pt x="0" y="128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92"/>
            <p:cNvSpPr/>
            <p:nvPr/>
          </p:nvSpPr>
          <p:spPr>
            <a:xfrm>
              <a:off x="3984120" y="5025960"/>
              <a:ext cx="527040" cy="532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6045" h="6102">
                  <a:moveTo>
                    <a:pt x="6045" y="0"/>
                  </a:moveTo>
                  <a:lnTo>
                    <a:pt x="5762" y="286"/>
                  </a:lnTo>
                  <a:lnTo>
                    <a:pt x="5479" y="572"/>
                  </a:lnTo>
                  <a:lnTo>
                    <a:pt x="5191" y="860"/>
                  </a:lnTo>
                  <a:lnTo>
                    <a:pt x="4903" y="1153"/>
                  </a:lnTo>
                  <a:lnTo>
                    <a:pt x="4614" y="1446"/>
                  </a:lnTo>
                  <a:lnTo>
                    <a:pt x="4323" y="1741"/>
                  </a:lnTo>
                  <a:lnTo>
                    <a:pt x="4028" y="2036"/>
                  </a:lnTo>
                  <a:lnTo>
                    <a:pt x="3732" y="2337"/>
                  </a:lnTo>
                  <a:lnTo>
                    <a:pt x="3432" y="2637"/>
                  </a:lnTo>
                  <a:lnTo>
                    <a:pt x="3131" y="2942"/>
                  </a:lnTo>
                  <a:lnTo>
                    <a:pt x="2828" y="3248"/>
                  </a:lnTo>
                  <a:lnTo>
                    <a:pt x="2522" y="3556"/>
                  </a:lnTo>
                  <a:lnTo>
                    <a:pt x="2217" y="3866"/>
                  </a:lnTo>
                  <a:lnTo>
                    <a:pt x="1907" y="4179"/>
                  </a:lnTo>
                  <a:lnTo>
                    <a:pt x="1593" y="4491"/>
                  </a:lnTo>
                  <a:lnTo>
                    <a:pt x="1280" y="4809"/>
                  </a:lnTo>
                  <a:lnTo>
                    <a:pt x="965" y="5130"/>
                  </a:lnTo>
                  <a:lnTo>
                    <a:pt x="644" y="5451"/>
                  </a:lnTo>
                  <a:lnTo>
                    <a:pt x="323" y="5776"/>
                  </a:lnTo>
                  <a:lnTo>
                    <a:pt x="0" y="61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93"/>
            <p:cNvSpPr/>
            <p:nvPr/>
          </p:nvSpPr>
          <p:spPr>
            <a:xfrm>
              <a:off x="3949920" y="5529240"/>
              <a:ext cx="61200" cy="334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09" h="394">
                  <a:moveTo>
                    <a:pt x="709" y="0"/>
                  </a:moveTo>
                  <a:lnTo>
                    <a:pt x="325" y="68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94"/>
            <p:cNvSpPr/>
            <p:nvPr/>
          </p:nvSpPr>
          <p:spPr>
            <a:xfrm>
              <a:off x="3917160" y="5500440"/>
              <a:ext cx="122760" cy="687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1412" h="787">
                  <a:moveTo>
                    <a:pt x="0" y="787"/>
                  </a:moveTo>
                  <a:lnTo>
                    <a:pt x="324" y="461"/>
                  </a:lnTo>
                  <a:lnTo>
                    <a:pt x="707" y="393"/>
                  </a:lnTo>
                  <a:lnTo>
                    <a:pt x="1028" y="70"/>
                  </a:lnTo>
                  <a:lnTo>
                    <a:pt x="141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95"/>
            <p:cNvSpPr/>
            <p:nvPr/>
          </p:nvSpPr>
          <p:spPr>
            <a:xfrm>
              <a:off x="3883320" y="5472720"/>
              <a:ext cx="184320" cy="101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14" h="1174">
                  <a:moveTo>
                    <a:pt x="2114" y="0"/>
                  </a:moveTo>
                  <a:lnTo>
                    <a:pt x="1727" y="68"/>
                  </a:lnTo>
                  <a:lnTo>
                    <a:pt x="1409" y="391"/>
                  </a:lnTo>
                  <a:lnTo>
                    <a:pt x="1025" y="459"/>
                  </a:lnTo>
                  <a:lnTo>
                    <a:pt x="705" y="782"/>
                  </a:lnTo>
                  <a:lnTo>
                    <a:pt x="323" y="851"/>
                  </a:lnTo>
                  <a:lnTo>
                    <a:pt x="0" y="117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96"/>
            <p:cNvSpPr/>
            <p:nvPr/>
          </p:nvSpPr>
          <p:spPr>
            <a:xfrm>
              <a:off x="3850560" y="5445360"/>
              <a:ext cx="244440" cy="135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805" h="1563">
                  <a:moveTo>
                    <a:pt x="0" y="1563"/>
                  </a:moveTo>
                  <a:lnTo>
                    <a:pt x="321" y="1240"/>
                  </a:lnTo>
                  <a:lnTo>
                    <a:pt x="699" y="1172"/>
                  </a:lnTo>
                  <a:lnTo>
                    <a:pt x="1023" y="848"/>
                  </a:lnTo>
                  <a:lnTo>
                    <a:pt x="1401" y="780"/>
                  </a:lnTo>
                  <a:lnTo>
                    <a:pt x="1722" y="460"/>
                  </a:lnTo>
                  <a:lnTo>
                    <a:pt x="2103" y="389"/>
                  </a:lnTo>
                  <a:lnTo>
                    <a:pt x="2422" y="72"/>
                  </a:lnTo>
                  <a:lnTo>
                    <a:pt x="280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97"/>
            <p:cNvSpPr/>
            <p:nvPr/>
          </p:nvSpPr>
          <p:spPr>
            <a:xfrm>
              <a:off x="3817800" y="5416560"/>
              <a:ext cx="304560" cy="169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499" h="1946">
                  <a:moveTo>
                    <a:pt x="3499" y="0"/>
                  </a:moveTo>
                  <a:lnTo>
                    <a:pt x="3118" y="73"/>
                  </a:lnTo>
                  <a:lnTo>
                    <a:pt x="2803" y="390"/>
                  </a:lnTo>
                  <a:lnTo>
                    <a:pt x="2421" y="460"/>
                  </a:lnTo>
                  <a:lnTo>
                    <a:pt x="2103" y="778"/>
                  </a:lnTo>
                  <a:lnTo>
                    <a:pt x="1724" y="848"/>
                  </a:lnTo>
                  <a:lnTo>
                    <a:pt x="1404" y="1166"/>
                  </a:lnTo>
                  <a:lnTo>
                    <a:pt x="1025" y="1234"/>
                  </a:lnTo>
                  <a:lnTo>
                    <a:pt x="702" y="1558"/>
                  </a:lnTo>
                  <a:lnTo>
                    <a:pt x="326" y="1624"/>
                  </a:lnTo>
                  <a:lnTo>
                    <a:pt x="0" y="194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98"/>
            <p:cNvSpPr/>
            <p:nvPr/>
          </p:nvSpPr>
          <p:spPr>
            <a:xfrm>
              <a:off x="3785040" y="5390280"/>
              <a:ext cx="365040" cy="20124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4184" h="2324">
                  <a:moveTo>
                    <a:pt x="0" y="2324"/>
                  </a:moveTo>
                  <a:lnTo>
                    <a:pt x="322" y="2001"/>
                  </a:lnTo>
                  <a:lnTo>
                    <a:pt x="697" y="1936"/>
                  </a:lnTo>
                  <a:lnTo>
                    <a:pt x="1019" y="1614"/>
                  </a:lnTo>
                  <a:lnTo>
                    <a:pt x="1396" y="1546"/>
                  </a:lnTo>
                  <a:lnTo>
                    <a:pt x="1717" y="1229"/>
                  </a:lnTo>
                  <a:lnTo>
                    <a:pt x="2095" y="1160"/>
                  </a:lnTo>
                  <a:lnTo>
                    <a:pt x="2411" y="843"/>
                  </a:lnTo>
                  <a:lnTo>
                    <a:pt x="2792" y="772"/>
                  </a:lnTo>
                  <a:lnTo>
                    <a:pt x="3108" y="457"/>
                  </a:lnTo>
                  <a:lnTo>
                    <a:pt x="3489" y="385"/>
                  </a:lnTo>
                  <a:lnTo>
                    <a:pt x="3799" y="70"/>
                  </a:lnTo>
                  <a:lnTo>
                    <a:pt x="418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99"/>
            <p:cNvSpPr/>
            <p:nvPr/>
          </p:nvSpPr>
          <p:spPr>
            <a:xfrm>
              <a:off x="3752280" y="5362920"/>
              <a:ext cx="425160" cy="235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868" h="2702">
                  <a:moveTo>
                    <a:pt x="4868" y="0"/>
                  </a:moveTo>
                  <a:lnTo>
                    <a:pt x="4484" y="73"/>
                  </a:lnTo>
                  <a:lnTo>
                    <a:pt x="4173" y="383"/>
                  </a:lnTo>
                  <a:lnTo>
                    <a:pt x="3793" y="456"/>
                  </a:lnTo>
                  <a:lnTo>
                    <a:pt x="3482" y="770"/>
                  </a:lnTo>
                  <a:lnTo>
                    <a:pt x="3101" y="840"/>
                  </a:lnTo>
                  <a:lnTo>
                    <a:pt x="2785" y="1156"/>
                  </a:lnTo>
                  <a:lnTo>
                    <a:pt x="2408" y="1224"/>
                  </a:lnTo>
                  <a:lnTo>
                    <a:pt x="2091" y="1542"/>
                  </a:lnTo>
                  <a:lnTo>
                    <a:pt x="1717" y="1610"/>
                  </a:lnTo>
                  <a:lnTo>
                    <a:pt x="1393" y="1927"/>
                  </a:lnTo>
                  <a:lnTo>
                    <a:pt x="1023" y="1996"/>
                  </a:lnTo>
                  <a:lnTo>
                    <a:pt x="696" y="2314"/>
                  </a:lnTo>
                  <a:lnTo>
                    <a:pt x="325" y="2382"/>
                  </a:lnTo>
                  <a:lnTo>
                    <a:pt x="0" y="27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00"/>
            <p:cNvSpPr/>
            <p:nvPr/>
          </p:nvSpPr>
          <p:spPr>
            <a:xfrm>
              <a:off x="3720960" y="5335560"/>
              <a:ext cx="482760" cy="2678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5540" h="3078">
                  <a:moveTo>
                    <a:pt x="0" y="3078"/>
                  </a:moveTo>
                  <a:lnTo>
                    <a:pt x="324" y="2758"/>
                  </a:lnTo>
                  <a:lnTo>
                    <a:pt x="692" y="2692"/>
                  </a:lnTo>
                  <a:lnTo>
                    <a:pt x="1019" y="2372"/>
                  </a:lnTo>
                  <a:lnTo>
                    <a:pt x="1390" y="2306"/>
                  </a:lnTo>
                  <a:lnTo>
                    <a:pt x="1710" y="1988"/>
                  </a:lnTo>
                  <a:lnTo>
                    <a:pt x="2084" y="1920"/>
                  </a:lnTo>
                  <a:lnTo>
                    <a:pt x="2402" y="1604"/>
                  </a:lnTo>
                  <a:lnTo>
                    <a:pt x="2775" y="1534"/>
                  </a:lnTo>
                  <a:lnTo>
                    <a:pt x="3092" y="1221"/>
                  </a:lnTo>
                  <a:lnTo>
                    <a:pt x="3468" y="1150"/>
                  </a:lnTo>
                  <a:lnTo>
                    <a:pt x="3780" y="838"/>
                  </a:lnTo>
                  <a:lnTo>
                    <a:pt x="4160" y="766"/>
                  </a:lnTo>
                  <a:lnTo>
                    <a:pt x="4470" y="456"/>
                  </a:lnTo>
                  <a:lnTo>
                    <a:pt x="4851" y="383"/>
                  </a:lnTo>
                  <a:lnTo>
                    <a:pt x="5160" y="73"/>
                  </a:lnTo>
                  <a:lnTo>
                    <a:pt x="554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01"/>
            <p:cNvSpPr/>
            <p:nvPr/>
          </p:nvSpPr>
          <p:spPr>
            <a:xfrm>
              <a:off x="3688200" y="5307840"/>
              <a:ext cx="541800" cy="30060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6217" h="3449">
                  <a:moveTo>
                    <a:pt x="6217" y="0"/>
                  </a:moveTo>
                  <a:lnTo>
                    <a:pt x="5836" y="73"/>
                  </a:lnTo>
                  <a:lnTo>
                    <a:pt x="5531" y="381"/>
                  </a:lnTo>
                  <a:lnTo>
                    <a:pt x="5149" y="454"/>
                  </a:lnTo>
                  <a:lnTo>
                    <a:pt x="4841" y="764"/>
                  </a:lnTo>
                  <a:lnTo>
                    <a:pt x="4465" y="835"/>
                  </a:lnTo>
                  <a:lnTo>
                    <a:pt x="4151" y="1146"/>
                  </a:lnTo>
                  <a:lnTo>
                    <a:pt x="3775" y="1216"/>
                  </a:lnTo>
                  <a:lnTo>
                    <a:pt x="3463" y="1529"/>
                  </a:lnTo>
                  <a:lnTo>
                    <a:pt x="3088" y="1599"/>
                  </a:lnTo>
                  <a:lnTo>
                    <a:pt x="2773" y="1912"/>
                  </a:lnTo>
                  <a:lnTo>
                    <a:pt x="2400" y="1980"/>
                  </a:lnTo>
                  <a:lnTo>
                    <a:pt x="2081" y="2296"/>
                  </a:lnTo>
                  <a:lnTo>
                    <a:pt x="1710" y="2365"/>
                  </a:lnTo>
                  <a:lnTo>
                    <a:pt x="1390" y="2680"/>
                  </a:lnTo>
                  <a:lnTo>
                    <a:pt x="1020" y="2748"/>
                  </a:lnTo>
                  <a:lnTo>
                    <a:pt x="695" y="3066"/>
                  </a:lnTo>
                  <a:lnTo>
                    <a:pt x="329" y="3131"/>
                  </a:lnTo>
                  <a:lnTo>
                    <a:pt x="0" y="344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02"/>
            <p:cNvSpPr/>
            <p:nvPr/>
          </p:nvSpPr>
          <p:spPr>
            <a:xfrm>
              <a:off x="3656880" y="5281920"/>
              <a:ext cx="599400" cy="333360"/>
            </a:xfrm>
            <a:custGeom>
              <a:avLst/>
              <a:gdLst>
                <a:gd name="textAreaLeft" fmla="*/ 0 w 599400"/>
                <a:gd name="textAreaRight" fmla="*/ 599760 w 599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6881" h="3820">
                  <a:moveTo>
                    <a:pt x="0" y="3820"/>
                  </a:moveTo>
                  <a:lnTo>
                    <a:pt x="323" y="3500"/>
                  </a:lnTo>
                  <a:lnTo>
                    <a:pt x="690" y="3437"/>
                  </a:lnTo>
                  <a:lnTo>
                    <a:pt x="1013" y="3119"/>
                  </a:lnTo>
                  <a:lnTo>
                    <a:pt x="1381" y="3054"/>
                  </a:lnTo>
                  <a:lnTo>
                    <a:pt x="1703" y="2739"/>
                  </a:lnTo>
                  <a:lnTo>
                    <a:pt x="2071" y="2671"/>
                  </a:lnTo>
                  <a:lnTo>
                    <a:pt x="2389" y="2354"/>
                  </a:lnTo>
                  <a:lnTo>
                    <a:pt x="2761" y="2286"/>
                  </a:lnTo>
                  <a:lnTo>
                    <a:pt x="3078" y="1973"/>
                  </a:lnTo>
                  <a:lnTo>
                    <a:pt x="3449" y="1905"/>
                  </a:lnTo>
                  <a:lnTo>
                    <a:pt x="3763" y="1593"/>
                  </a:lnTo>
                  <a:lnTo>
                    <a:pt x="4136" y="1522"/>
                  </a:lnTo>
                  <a:lnTo>
                    <a:pt x="4449" y="1214"/>
                  </a:lnTo>
                  <a:lnTo>
                    <a:pt x="4826" y="1141"/>
                  </a:lnTo>
                  <a:lnTo>
                    <a:pt x="5134" y="833"/>
                  </a:lnTo>
                  <a:lnTo>
                    <a:pt x="5510" y="760"/>
                  </a:lnTo>
                  <a:lnTo>
                    <a:pt x="5818" y="454"/>
                  </a:lnTo>
                  <a:lnTo>
                    <a:pt x="6197" y="379"/>
                  </a:lnTo>
                  <a:lnTo>
                    <a:pt x="6500" y="76"/>
                  </a:lnTo>
                  <a:lnTo>
                    <a:pt x="688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03"/>
            <p:cNvSpPr/>
            <p:nvPr/>
          </p:nvSpPr>
          <p:spPr>
            <a:xfrm>
              <a:off x="3624120" y="5256000"/>
              <a:ext cx="659160" cy="36432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7547" h="4189">
                  <a:moveTo>
                    <a:pt x="7547" y="0"/>
                  </a:moveTo>
                  <a:lnTo>
                    <a:pt x="7165" y="75"/>
                  </a:lnTo>
                  <a:lnTo>
                    <a:pt x="6865" y="381"/>
                  </a:lnTo>
                  <a:lnTo>
                    <a:pt x="6487" y="454"/>
                  </a:lnTo>
                  <a:lnTo>
                    <a:pt x="6183" y="759"/>
                  </a:lnTo>
                  <a:lnTo>
                    <a:pt x="5804" y="833"/>
                  </a:lnTo>
                  <a:lnTo>
                    <a:pt x="5499" y="1138"/>
                  </a:lnTo>
                  <a:lnTo>
                    <a:pt x="5123" y="1211"/>
                  </a:lnTo>
                  <a:lnTo>
                    <a:pt x="4814" y="1519"/>
                  </a:lnTo>
                  <a:lnTo>
                    <a:pt x="4441" y="1590"/>
                  </a:lnTo>
                  <a:lnTo>
                    <a:pt x="4128" y="1898"/>
                  </a:lnTo>
                  <a:lnTo>
                    <a:pt x="3756" y="1968"/>
                  </a:lnTo>
                  <a:lnTo>
                    <a:pt x="3443" y="2278"/>
                  </a:lnTo>
                  <a:lnTo>
                    <a:pt x="3072" y="2349"/>
                  </a:lnTo>
                  <a:lnTo>
                    <a:pt x="2754" y="2659"/>
                  </a:lnTo>
                  <a:lnTo>
                    <a:pt x="2388" y="2727"/>
                  </a:lnTo>
                  <a:lnTo>
                    <a:pt x="2068" y="3044"/>
                  </a:lnTo>
                  <a:lnTo>
                    <a:pt x="1702" y="3109"/>
                  </a:lnTo>
                  <a:lnTo>
                    <a:pt x="1378" y="3424"/>
                  </a:lnTo>
                  <a:lnTo>
                    <a:pt x="1014" y="3490"/>
                  </a:lnTo>
                  <a:lnTo>
                    <a:pt x="688" y="3805"/>
                  </a:lnTo>
                  <a:lnTo>
                    <a:pt x="327" y="3871"/>
                  </a:lnTo>
                  <a:lnTo>
                    <a:pt x="0" y="418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04"/>
            <p:cNvSpPr/>
            <p:nvPr/>
          </p:nvSpPr>
          <p:spPr>
            <a:xfrm>
              <a:off x="3592800" y="5229720"/>
              <a:ext cx="717120" cy="39600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8206" h="4552">
                  <a:moveTo>
                    <a:pt x="0" y="4552"/>
                  </a:moveTo>
                  <a:lnTo>
                    <a:pt x="325" y="4236"/>
                  </a:lnTo>
                  <a:lnTo>
                    <a:pt x="686" y="4171"/>
                  </a:lnTo>
                  <a:lnTo>
                    <a:pt x="1012" y="3856"/>
                  </a:lnTo>
                  <a:lnTo>
                    <a:pt x="1373" y="3790"/>
                  </a:lnTo>
                  <a:lnTo>
                    <a:pt x="1696" y="3475"/>
                  </a:lnTo>
                  <a:lnTo>
                    <a:pt x="2061" y="3409"/>
                  </a:lnTo>
                  <a:lnTo>
                    <a:pt x="2381" y="3096"/>
                  </a:lnTo>
                  <a:lnTo>
                    <a:pt x="2747" y="3027"/>
                  </a:lnTo>
                  <a:lnTo>
                    <a:pt x="3063" y="2717"/>
                  </a:lnTo>
                  <a:lnTo>
                    <a:pt x="3431" y="2649"/>
                  </a:lnTo>
                  <a:lnTo>
                    <a:pt x="3747" y="2339"/>
                  </a:lnTo>
                  <a:lnTo>
                    <a:pt x="4115" y="2268"/>
                  </a:lnTo>
                  <a:lnTo>
                    <a:pt x="4429" y="1960"/>
                  </a:lnTo>
                  <a:lnTo>
                    <a:pt x="4800" y="1890"/>
                  </a:lnTo>
                  <a:lnTo>
                    <a:pt x="5108" y="1582"/>
                  </a:lnTo>
                  <a:lnTo>
                    <a:pt x="5482" y="1511"/>
                  </a:lnTo>
                  <a:lnTo>
                    <a:pt x="5790" y="1206"/>
                  </a:lnTo>
                  <a:lnTo>
                    <a:pt x="6163" y="1133"/>
                  </a:lnTo>
                  <a:lnTo>
                    <a:pt x="6469" y="828"/>
                  </a:lnTo>
                  <a:lnTo>
                    <a:pt x="6846" y="754"/>
                  </a:lnTo>
                  <a:lnTo>
                    <a:pt x="7146" y="451"/>
                  </a:lnTo>
                  <a:lnTo>
                    <a:pt x="7524" y="375"/>
                  </a:lnTo>
                  <a:lnTo>
                    <a:pt x="7825" y="75"/>
                  </a:lnTo>
                  <a:lnTo>
                    <a:pt x="820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05"/>
            <p:cNvSpPr/>
            <p:nvPr/>
          </p:nvSpPr>
          <p:spPr>
            <a:xfrm>
              <a:off x="3561120" y="5203440"/>
              <a:ext cx="773280" cy="42732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8863" h="4916">
                  <a:moveTo>
                    <a:pt x="8863" y="0"/>
                  </a:moveTo>
                  <a:lnTo>
                    <a:pt x="8481" y="78"/>
                  </a:lnTo>
                  <a:lnTo>
                    <a:pt x="8186" y="376"/>
                  </a:lnTo>
                  <a:lnTo>
                    <a:pt x="7807" y="453"/>
                  </a:lnTo>
                  <a:lnTo>
                    <a:pt x="7507" y="752"/>
                  </a:lnTo>
                  <a:lnTo>
                    <a:pt x="7130" y="828"/>
                  </a:lnTo>
                  <a:lnTo>
                    <a:pt x="6830" y="1129"/>
                  </a:lnTo>
                  <a:lnTo>
                    <a:pt x="6454" y="1204"/>
                  </a:lnTo>
                  <a:lnTo>
                    <a:pt x="6151" y="1507"/>
                  </a:lnTo>
                  <a:lnTo>
                    <a:pt x="5777" y="1580"/>
                  </a:lnTo>
                  <a:lnTo>
                    <a:pt x="5469" y="1883"/>
                  </a:lnTo>
                  <a:lnTo>
                    <a:pt x="5098" y="1956"/>
                  </a:lnTo>
                  <a:lnTo>
                    <a:pt x="4790" y="2261"/>
                  </a:lnTo>
                  <a:lnTo>
                    <a:pt x="4418" y="2332"/>
                  </a:lnTo>
                  <a:lnTo>
                    <a:pt x="4108" y="2640"/>
                  </a:lnTo>
                  <a:lnTo>
                    <a:pt x="3739" y="2708"/>
                  </a:lnTo>
                  <a:lnTo>
                    <a:pt x="3424" y="3018"/>
                  </a:lnTo>
                  <a:lnTo>
                    <a:pt x="3060" y="3087"/>
                  </a:lnTo>
                  <a:lnTo>
                    <a:pt x="2742" y="3397"/>
                  </a:lnTo>
                  <a:lnTo>
                    <a:pt x="2378" y="3465"/>
                  </a:lnTo>
                  <a:lnTo>
                    <a:pt x="2057" y="3776"/>
                  </a:lnTo>
                  <a:lnTo>
                    <a:pt x="1696" y="3844"/>
                  </a:lnTo>
                  <a:lnTo>
                    <a:pt x="1373" y="4157"/>
                  </a:lnTo>
                  <a:lnTo>
                    <a:pt x="1012" y="4222"/>
                  </a:lnTo>
                  <a:lnTo>
                    <a:pt x="686" y="4537"/>
                  </a:lnTo>
                  <a:lnTo>
                    <a:pt x="328" y="4600"/>
                  </a:lnTo>
                  <a:lnTo>
                    <a:pt x="0" y="491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06"/>
            <p:cNvSpPr/>
            <p:nvPr/>
          </p:nvSpPr>
          <p:spPr>
            <a:xfrm>
              <a:off x="3531240" y="5177160"/>
              <a:ext cx="829440" cy="46008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9511" h="5274">
                  <a:moveTo>
                    <a:pt x="0" y="5274"/>
                  </a:moveTo>
                  <a:lnTo>
                    <a:pt x="325" y="4958"/>
                  </a:lnTo>
                  <a:lnTo>
                    <a:pt x="681" y="4895"/>
                  </a:lnTo>
                  <a:lnTo>
                    <a:pt x="1007" y="4580"/>
                  </a:lnTo>
                  <a:lnTo>
                    <a:pt x="1365" y="4517"/>
                  </a:lnTo>
                  <a:lnTo>
                    <a:pt x="1688" y="4204"/>
                  </a:lnTo>
                  <a:lnTo>
                    <a:pt x="2049" y="4139"/>
                  </a:lnTo>
                  <a:lnTo>
                    <a:pt x="2370" y="3826"/>
                  </a:lnTo>
                  <a:lnTo>
                    <a:pt x="2731" y="3760"/>
                  </a:lnTo>
                  <a:lnTo>
                    <a:pt x="3049" y="3450"/>
                  </a:lnTo>
                  <a:lnTo>
                    <a:pt x="3413" y="3382"/>
                  </a:lnTo>
                  <a:lnTo>
                    <a:pt x="3729" y="3074"/>
                  </a:lnTo>
                  <a:lnTo>
                    <a:pt x="4092" y="3003"/>
                  </a:lnTo>
                  <a:lnTo>
                    <a:pt x="4405" y="2697"/>
                  </a:lnTo>
                  <a:lnTo>
                    <a:pt x="4771" y="2627"/>
                  </a:lnTo>
                  <a:lnTo>
                    <a:pt x="5082" y="2321"/>
                  </a:lnTo>
                  <a:lnTo>
                    <a:pt x="5451" y="2251"/>
                  </a:lnTo>
                  <a:lnTo>
                    <a:pt x="5759" y="1946"/>
                  </a:lnTo>
                  <a:lnTo>
                    <a:pt x="6130" y="1875"/>
                  </a:lnTo>
                  <a:lnTo>
                    <a:pt x="6436" y="1572"/>
                  </a:lnTo>
                  <a:lnTo>
                    <a:pt x="6807" y="1499"/>
                  </a:lnTo>
                  <a:lnTo>
                    <a:pt x="7110" y="1196"/>
                  </a:lnTo>
                  <a:lnTo>
                    <a:pt x="7483" y="1123"/>
                  </a:lnTo>
                  <a:lnTo>
                    <a:pt x="7783" y="823"/>
                  </a:lnTo>
                  <a:lnTo>
                    <a:pt x="8160" y="748"/>
                  </a:lnTo>
                  <a:lnTo>
                    <a:pt x="8458" y="450"/>
                  </a:lnTo>
                  <a:lnTo>
                    <a:pt x="8834" y="373"/>
                  </a:lnTo>
                  <a:lnTo>
                    <a:pt x="9129" y="76"/>
                  </a:lnTo>
                  <a:lnTo>
                    <a:pt x="951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07"/>
            <p:cNvSpPr/>
            <p:nvPr/>
          </p:nvSpPr>
          <p:spPr>
            <a:xfrm>
              <a:off x="3499920" y="5151240"/>
              <a:ext cx="885600" cy="4914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10158" h="5632">
                  <a:moveTo>
                    <a:pt x="10158" y="0"/>
                  </a:moveTo>
                  <a:lnTo>
                    <a:pt x="9778" y="78"/>
                  </a:lnTo>
                  <a:lnTo>
                    <a:pt x="9485" y="371"/>
                  </a:lnTo>
                  <a:lnTo>
                    <a:pt x="9110" y="449"/>
                  </a:lnTo>
                  <a:lnTo>
                    <a:pt x="8814" y="745"/>
                  </a:lnTo>
                  <a:lnTo>
                    <a:pt x="8437" y="820"/>
                  </a:lnTo>
                  <a:lnTo>
                    <a:pt x="8139" y="1118"/>
                  </a:lnTo>
                  <a:lnTo>
                    <a:pt x="7766" y="1193"/>
                  </a:lnTo>
                  <a:lnTo>
                    <a:pt x="7466" y="1491"/>
                  </a:lnTo>
                  <a:lnTo>
                    <a:pt x="7095" y="1567"/>
                  </a:lnTo>
                  <a:lnTo>
                    <a:pt x="6792" y="1867"/>
                  </a:lnTo>
                  <a:lnTo>
                    <a:pt x="6420" y="1940"/>
                  </a:lnTo>
                  <a:lnTo>
                    <a:pt x="6115" y="2241"/>
                  </a:lnTo>
                  <a:lnTo>
                    <a:pt x="5746" y="2314"/>
                  </a:lnTo>
                  <a:lnTo>
                    <a:pt x="5438" y="2616"/>
                  </a:lnTo>
                  <a:lnTo>
                    <a:pt x="5071" y="2687"/>
                  </a:lnTo>
                  <a:lnTo>
                    <a:pt x="4761" y="2992"/>
                  </a:lnTo>
                  <a:lnTo>
                    <a:pt x="4398" y="3060"/>
                  </a:lnTo>
                  <a:lnTo>
                    <a:pt x="4085" y="3369"/>
                  </a:lnTo>
                  <a:lnTo>
                    <a:pt x="3721" y="3437"/>
                  </a:lnTo>
                  <a:lnTo>
                    <a:pt x="3405" y="3745"/>
                  </a:lnTo>
                  <a:lnTo>
                    <a:pt x="3044" y="3811"/>
                  </a:lnTo>
                  <a:lnTo>
                    <a:pt x="2726" y="4121"/>
                  </a:lnTo>
                  <a:lnTo>
                    <a:pt x="2365" y="4186"/>
                  </a:lnTo>
                  <a:lnTo>
                    <a:pt x="2044" y="4499"/>
                  </a:lnTo>
                  <a:lnTo>
                    <a:pt x="1686" y="4562"/>
                  </a:lnTo>
                  <a:lnTo>
                    <a:pt x="1363" y="4875"/>
                  </a:lnTo>
                  <a:lnTo>
                    <a:pt x="1007" y="4941"/>
                  </a:lnTo>
                  <a:lnTo>
                    <a:pt x="681" y="5253"/>
                  </a:lnTo>
                  <a:lnTo>
                    <a:pt x="327" y="5316"/>
                  </a:lnTo>
                  <a:lnTo>
                    <a:pt x="0" y="563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08"/>
            <p:cNvSpPr/>
            <p:nvPr/>
          </p:nvSpPr>
          <p:spPr>
            <a:xfrm>
              <a:off x="3469680" y="5126400"/>
              <a:ext cx="942120" cy="5216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0798" h="5988">
                  <a:moveTo>
                    <a:pt x="0" y="5988"/>
                  </a:moveTo>
                  <a:lnTo>
                    <a:pt x="327" y="5673"/>
                  </a:lnTo>
                  <a:lnTo>
                    <a:pt x="678" y="5609"/>
                  </a:lnTo>
                  <a:lnTo>
                    <a:pt x="1004" y="5297"/>
                  </a:lnTo>
                  <a:lnTo>
                    <a:pt x="1358" y="5234"/>
                  </a:lnTo>
                  <a:lnTo>
                    <a:pt x="1683" y="4921"/>
                  </a:lnTo>
                  <a:lnTo>
                    <a:pt x="2037" y="4855"/>
                  </a:lnTo>
                  <a:lnTo>
                    <a:pt x="2360" y="4545"/>
                  </a:lnTo>
                  <a:lnTo>
                    <a:pt x="2716" y="4479"/>
                  </a:lnTo>
                  <a:lnTo>
                    <a:pt x="3034" y="4172"/>
                  </a:lnTo>
                  <a:lnTo>
                    <a:pt x="3395" y="4104"/>
                  </a:lnTo>
                  <a:lnTo>
                    <a:pt x="3711" y="3798"/>
                  </a:lnTo>
                  <a:lnTo>
                    <a:pt x="4072" y="3730"/>
                  </a:lnTo>
                  <a:lnTo>
                    <a:pt x="4385" y="3425"/>
                  </a:lnTo>
                  <a:lnTo>
                    <a:pt x="4749" y="3353"/>
                  </a:lnTo>
                  <a:lnTo>
                    <a:pt x="5059" y="3051"/>
                  </a:lnTo>
                  <a:lnTo>
                    <a:pt x="5422" y="2980"/>
                  </a:lnTo>
                  <a:lnTo>
                    <a:pt x="5731" y="2677"/>
                  </a:lnTo>
                  <a:lnTo>
                    <a:pt x="6097" y="2607"/>
                  </a:lnTo>
                  <a:lnTo>
                    <a:pt x="6403" y="2304"/>
                  </a:lnTo>
                  <a:lnTo>
                    <a:pt x="6771" y="2233"/>
                  </a:lnTo>
                  <a:lnTo>
                    <a:pt x="7074" y="1933"/>
                  </a:lnTo>
                  <a:lnTo>
                    <a:pt x="7446" y="1860"/>
                  </a:lnTo>
                  <a:lnTo>
                    <a:pt x="7746" y="1559"/>
                  </a:lnTo>
                  <a:lnTo>
                    <a:pt x="8117" y="1486"/>
                  </a:lnTo>
                  <a:lnTo>
                    <a:pt x="8415" y="1189"/>
                  </a:lnTo>
                  <a:lnTo>
                    <a:pt x="8788" y="1113"/>
                  </a:lnTo>
                  <a:lnTo>
                    <a:pt x="9084" y="818"/>
                  </a:lnTo>
                  <a:lnTo>
                    <a:pt x="9461" y="742"/>
                  </a:lnTo>
                  <a:lnTo>
                    <a:pt x="9754" y="449"/>
                  </a:lnTo>
                  <a:lnTo>
                    <a:pt x="10129" y="371"/>
                  </a:lnTo>
                  <a:lnTo>
                    <a:pt x="10420" y="78"/>
                  </a:lnTo>
                  <a:lnTo>
                    <a:pt x="1079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09"/>
            <p:cNvSpPr/>
            <p:nvPr/>
          </p:nvSpPr>
          <p:spPr>
            <a:xfrm>
              <a:off x="3438360" y="5100120"/>
              <a:ext cx="998280" cy="5526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11437" h="6341">
                  <a:moveTo>
                    <a:pt x="11437" y="0"/>
                  </a:moveTo>
                  <a:lnTo>
                    <a:pt x="11061" y="81"/>
                  </a:lnTo>
                  <a:lnTo>
                    <a:pt x="10771" y="371"/>
                  </a:lnTo>
                  <a:lnTo>
                    <a:pt x="10395" y="449"/>
                  </a:lnTo>
                  <a:lnTo>
                    <a:pt x="10105" y="742"/>
                  </a:lnTo>
                  <a:lnTo>
                    <a:pt x="9730" y="818"/>
                  </a:lnTo>
                  <a:lnTo>
                    <a:pt x="9435" y="1111"/>
                  </a:lnTo>
                  <a:lnTo>
                    <a:pt x="9064" y="1189"/>
                  </a:lnTo>
                  <a:lnTo>
                    <a:pt x="8766" y="1482"/>
                  </a:lnTo>
                  <a:lnTo>
                    <a:pt x="8395" y="1557"/>
                  </a:lnTo>
                  <a:lnTo>
                    <a:pt x="8097" y="1852"/>
                  </a:lnTo>
                  <a:lnTo>
                    <a:pt x="7729" y="1928"/>
                  </a:lnTo>
                  <a:lnTo>
                    <a:pt x="7425" y="2226"/>
                  </a:lnTo>
                  <a:lnTo>
                    <a:pt x="7059" y="2299"/>
                  </a:lnTo>
                  <a:lnTo>
                    <a:pt x="6754" y="2597"/>
                  </a:lnTo>
                  <a:lnTo>
                    <a:pt x="6390" y="2671"/>
                  </a:lnTo>
                  <a:lnTo>
                    <a:pt x="6082" y="2970"/>
                  </a:lnTo>
                  <a:lnTo>
                    <a:pt x="5719" y="3042"/>
                  </a:lnTo>
                  <a:lnTo>
                    <a:pt x="5410" y="3344"/>
                  </a:lnTo>
                  <a:lnTo>
                    <a:pt x="5047" y="3412"/>
                  </a:lnTo>
                  <a:lnTo>
                    <a:pt x="4736" y="3718"/>
                  </a:lnTo>
                  <a:lnTo>
                    <a:pt x="4375" y="3786"/>
                  </a:lnTo>
                  <a:lnTo>
                    <a:pt x="4062" y="4091"/>
                  </a:lnTo>
                  <a:lnTo>
                    <a:pt x="3703" y="4159"/>
                  </a:lnTo>
                  <a:lnTo>
                    <a:pt x="3385" y="4465"/>
                  </a:lnTo>
                  <a:lnTo>
                    <a:pt x="3029" y="4530"/>
                  </a:lnTo>
                  <a:lnTo>
                    <a:pt x="2711" y="4838"/>
                  </a:lnTo>
                  <a:lnTo>
                    <a:pt x="2355" y="4904"/>
                  </a:lnTo>
                  <a:lnTo>
                    <a:pt x="2034" y="5214"/>
                  </a:lnTo>
                  <a:lnTo>
                    <a:pt x="1681" y="5279"/>
                  </a:lnTo>
                  <a:lnTo>
                    <a:pt x="1355" y="5590"/>
                  </a:lnTo>
                  <a:lnTo>
                    <a:pt x="1004" y="5653"/>
                  </a:lnTo>
                  <a:lnTo>
                    <a:pt x="678" y="5966"/>
                  </a:lnTo>
                  <a:lnTo>
                    <a:pt x="327" y="6029"/>
                  </a:lnTo>
                  <a:lnTo>
                    <a:pt x="0" y="634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10"/>
            <p:cNvSpPr/>
            <p:nvPr/>
          </p:nvSpPr>
          <p:spPr>
            <a:xfrm>
              <a:off x="3408120" y="5075280"/>
              <a:ext cx="1053360" cy="582840"/>
            </a:xfrm>
            <a:custGeom>
              <a:avLst/>
              <a:gdLst>
                <a:gd name="textAreaLeft" fmla="*/ 0 w 1053360"/>
                <a:gd name="textAreaRight" fmla="*/ 1053720 w 105336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2072" h="6690">
                  <a:moveTo>
                    <a:pt x="0" y="6690"/>
                  </a:moveTo>
                  <a:lnTo>
                    <a:pt x="328" y="6377"/>
                  </a:lnTo>
                  <a:lnTo>
                    <a:pt x="674" y="6317"/>
                  </a:lnTo>
                  <a:lnTo>
                    <a:pt x="1003" y="6004"/>
                  </a:lnTo>
                  <a:lnTo>
                    <a:pt x="1351" y="5941"/>
                  </a:lnTo>
                  <a:lnTo>
                    <a:pt x="1677" y="5630"/>
                  </a:lnTo>
                  <a:lnTo>
                    <a:pt x="2028" y="5567"/>
                  </a:lnTo>
                  <a:lnTo>
                    <a:pt x="2349" y="5257"/>
                  </a:lnTo>
                  <a:lnTo>
                    <a:pt x="2702" y="5192"/>
                  </a:lnTo>
                  <a:lnTo>
                    <a:pt x="3023" y="4886"/>
                  </a:lnTo>
                  <a:lnTo>
                    <a:pt x="3376" y="4818"/>
                  </a:lnTo>
                  <a:lnTo>
                    <a:pt x="3694" y="4513"/>
                  </a:lnTo>
                  <a:lnTo>
                    <a:pt x="4050" y="4447"/>
                  </a:lnTo>
                  <a:lnTo>
                    <a:pt x="4364" y="4142"/>
                  </a:lnTo>
                  <a:lnTo>
                    <a:pt x="4722" y="4074"/>
                  </a:lnTo>
                  <a:lnTo>
                    <a:pt x="5035" y="3771"/>
                  </a:lnTo>
                  <a:lnTo>
                    <a:pt x="5394" y="3700"/>
                  </a:lnTo>
                  <a:lnTo>
                    <a:pt x="5704" y="3400"/>
                  </a:lnTo>
                  <a:lnTo>
                    <a:pt x="6066" y="3330"/>
                  </a:lnTo>
                  <a:lnTo>
                    <a:pt x="6374" y="3029"/>
                  </a:lnTo>
                  <a:lnTo>
                    <a:pt x="6737" y="2959"/>
                  </a:lnTo>
                  <a:lnTo>
                    <a:pt x="7040" y="2658"/>
                  </a:lnTo>
                  <a:lnTo>
                    <a:pt x="7406" y="2587"/>
                  </a:lnTo>
                  <a:lnTo>
                    <a:pt x="7706" y="2290"/>
                  </a:lnTo>
                  <a:lnTo>
                    <a:pt x="8076" y="2216"/>
                  </a:lnTo>
                  <a:lnTo>
                    <a:pt x="8374" y="1921"/>
                  </a:lnTo>
                  <a:lnTo>
                    <a:pt x="8742" y="1845"/>
                  </a:lnTo>
                  <a:lnTo>
                    <a:pt x="9040" y="1553"/>
                  </a:lnTo>
                  <a:lnTo>
                    <a:pt x="9411" y="1477"/>
                  </a:lnTo>
                  <a:lnTo>
                    <a:pt x="9704" y="1185"/>
                  </a:lnTo>
                  <a:lnTo>
                    <a:pt x="10077" y="1106"/>
                  </a:lnTo>
                  <a:lnTo>
                    <a:pt x="10368" y="816"/>
                  </a:lnTo>
                  <a:lnTo>
                    <a:pt x="10742" y="737"/>
                  </a:lnTo>
                  <a:lnTo>
                    <a:pt x="11032" y="448"/>
                  </a:lnTo>
                  <a:lnTo>
                    <a:pt x="11408" y="369"/>
                  </a:lnTo>
                  <a:lnTo>
                    <a:pt x="11694" y="82"/>
                  </a:lnTo>
                  <a:lnTo>
                    <a:pt x="1207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11"/>
            <p:cNvSpPr/>
            <p:nvPr/>
          </p:nvSpPr>
          <p:spPr>
            <a:xfrm>
              <a:off x="3378240" y="5050800"/>
              <a:ext cx="1108080" cy="6130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12703" h="7037">
                  <a:moveTo>
                    <a:pt x="12703" y="0"/>
                  </a:moveTo>
                  <a:lnTo>
                    <a:pt x="12327" y="80"/>
                  </a:lnTo>
                  <a:lnTo>
                    <a:pt x="12042" y="368"/>
                  </a:lnTo>
                  <a:lnTo>
                    <a:pt x="11665" y="446"/>
                  </a:lnTo>
                  <a:lnTo>
                    <a:pt x="11380" y="734"/>
                  </a:lnTo>
                  <a:lnTo>
                    <a:pt x="11006" y="812"/>
                  </a:lnTo>
                  <a:lnTo>
                    <a:pt x="10716" y="1102"/>
                  </a:lnTo>
                  <a:lnTo>
                    <a:pt x="10345" y="1178"/>
                  </a:lnTo>
                  <a:lnTo>
                    <a:pt x="10052" y="1471"/>
                  </a:lnTo>
                  <a:lnTo>
                    <a:pt x="9681" y="1546"/>
                  </a:lnTo>
                  <a:lnTo>
                    <a:pt x="9388" y="1839"/>
                  </a:lnTo>
                  <a:lnTo>
                    <a:pt x="9020" y="1912"/>
                  </a:lnTo>
                  <a:lnTo>
                    <a:pt x="8722" y="2207"/>
                  </a:lnTo>
                  <a:lnTo>
                    <a:pt x="8355" y="2280"/>
                  </a:lnTo>
                  <a:lnTo>
                    <a:pt x="8054" y="2576"/>
                  </a:lnTo>
                  <a:lnTo>
                    <a:pt x="7691" y="2649"/>
                  </a:lnTo>
                  <a:lnTo>
                    <a:pt x="7388" y="2944"/>
                  </a:lnTo>
                  <a:lnTo>
                    <a:pt x="7025" y="3017"/>
                  </a:lnTo>
                  <a:lnTo>
                    <a:pt x="6722" y="3315"/>
                  </a:lnTo>
                  <a:lnTo>
                    <a:pt x="6358" y="3386"/>
                  </a:lnTo>
                  <a:lnTo>
                    <a:pt x="6052" y="3686"/>
                  </a:lnTo>
                  <a:lnTo>
                    <a:pt x="5691" y="3757"/>
                  </a:lnTo>
                  <a:lnTo>
                    <a:pt x="5383" y="4057"/>
                  </a:lnTo>
                  <a:lnTo>
                    <a:pt x="5025" y="4125"/>
                  </a:lnTo>
                  <a:lnTo>
                    <a:pt x="4712" y="4428"/>
                  </a:lnTo>
                  <a:lnTo>
                    <a:pt x="4356" y="4496"/>
                  </a:lnTo>
                  <a:lnTo>
                    <a:pt x="4042" y="4799"/>
                  </a:lnTo>
                  <a:lnTo>
                    <a:pt x="3686" y="4867"/>
                  </a:lnTo>
                  <a:lnTo>
                    <a:pt x="3371" y="5172"/>
                  </a:lnTo>
                  <a:lnTo>
                    <a:pt x="3017" y="5238"/>
                  </a:lnTo>
                  <a:lnTo>
                    <a:pt x="2697" y="5543"/>
                  </a:lnTo>
                  <a:lnTo>
                    <a:pt x="2346" y="5609"/>
                  </a:lnTo>
                  <a:lnTo>
                    <a:pt x="2025" y="5916"/>
                  </a:lnTo>
                  <a:lnTo>
                    <a:pt x="1674" y="5979"/>
                  </a:lnTo>
                  <a:lnTo>
                    <a:pt x="1351" y="6290"/>
                  </a:lnTo>
                  <a:lnTo>
                    <a:pt x="1002" y="6353"/>
                  </a:lnTo>
                  <a:lnTo>
                    <a:pt x="676" y="6663"/>
                  </a:lnTo>
                  <a:lnTo>
                    <a:pt x="331" y="6726"/>
                  </a:lnTo>
                  <a:lnTo>
                    <a:pt x="0" y="703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12"/>
            <p:cNvSpPr/>
            <p:nvPr/>
          </p:nvSpPr>
          <p:spPr>
            <a:xfrm>
              <a:off x="3348000" y="5025960"/>
              <a:ext cx="1163520" cy="6429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3327" h="7383">
                  <a:moveTo>
                    <a:pt x="0" y="7383"/>
                  </a:moveTo>
                  <a:lnTo>
                    <a:pt x="328" y="7073"/>
                  </a:lnTo>
                  <a:lnTo>
                    <a:pt x="672" y="7012"/>
                  </a:lnTo>
                  <a:lnTo>
                    <a:pt x="997" y="6702"/>
                  </a:lnTo>
                  <a:lnTo>
                    <a:pt x="1343" y="6639"/>
                  </a:lnTo>
                  <a:lnTo>
                    <a:pt x="1669" y="6329"/>
                  </a:lnTo>
                  <a:lnTo>
                    <a:pt x="2015" y="6265"/>
                  </a:lnTo>
                  <a:lnTo>
                    <a:pt x="2338" y="5958"/>
                  </a:lnTo>
                  <a:lnTo>
                    <a:pt x="2687" y="5895"/>
                  </a:lnTo>
                  <a:lnTo>
                    <a:pt x="3007" y="5589"/>
                  </a:lnTo>
                  <a:lnTo>
                    <a:pt x="3358" y="5524"/>
                  </a:lnTo>
                  <a:lnTo>
                    <a:pt x="3676" y="5218"/>
                  </a:lnTo>
                  <a:lnTo>
                    <a:pt x="4027" y="5153"/>
                  </a:lnTo>
                  <a:lnTo>
                    <a:pt x="4343" y="4850"/>
                  </a:lnTo>
                  <a:lnTo>
                    <a:pt x="4697" y="4782"/>
                  </a:lnTo>
                  <a:lnTo>
                    <a:pt x="5010" y="4479"/>
                  </a:lnTo>
                  <a:lnTo>
                    <a:pt x="5366" y="4411"/>
                  </a:lnTo>
                  <a:lnTo>
                    <a:pt x="5676" y="4111"/>
                  </a:lnTo>
                  <a:lnTo>
                    <a:pt x="6032" y="4043"/>
                  </a:lnTo>
                  <a:lnTo>
                    <a:pt x="6341" y="3742"/>
                  </a:lnTo>
                  <a:lnTo>
                    <a:pt x="6699" y="3672"/>
                  </a:lnTo>
                  <a:lnTo>
                    <a:pt x="7005" y="3374"/>
                  </a:lnTo>
                  <a:lnTo>
                    <a:pt x="7366" y="3303"/>
                  </a:lnTo>
                  <a:lnTo>
                    <a:pt x="7668" y="3008"/>
                  </a:lnTo>
                  <a:lnTo>
                    <a:pt x="8032" y="2935"/>
                  </a:lnTo>
                  <a:lnTo>
                    <a:pt x="8330" y="2639"/>
                  </a:lnTo>
                  <a:lnTo>
                    <a:pt x="8696" y="2566"/>
                  </a:lnTo>
                  <a:lnTo>
                    <a:pt x="8994" y="2274"/>
                  </a:lnTo>
                  <a:lnTo>
                    <a:pt x="9361" y="2198"/>
                  </a:lnTo>
                  <a:lnTo>
                    <a:pt x="9656" y="1908"/>
                  </a:lnTo>
                  <a:lnTo>
                    <a:pt x="10022" y="1832"/>
                  </a:lnTo>
                  <a:lnTo>
                    <a:pt x="10315" y="1542"/>
                  </a:lnTo>
                  <a:lnTo>
                    <a:pt x="10686" y="1464"/>
                  </a:lnTo>
                  <a:lnTo>
                    <a:pt x="10976" y="1176"/>
                  </a:lnTo>
                  <a:lnTo>
                    <a:pt x="11347" y="1098"/>
                  </a:lnTo>
                  <a:lnTo>
                    <a:pt x="11635" y="810"/>
                  </a:lnTo>
                  <a:lnTo>
                    <a:pt x="12006" y="732"/>
                  </a:lnTo>
                  <a:lnTo>
                    <a:pt x="12291" y="446"/>
                  </a:lnTo>
                  <a:lnTo>
                    <a:pt x="12668" y="366"/>
                  </a:lnTo>
                  <a:lnTo>
                    <a:pt x="12950" y="83"/>
                  </a:lnTo>
                  <a:lnTo>
                    <a:pt x="1332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13"/>
            <p:cNvSpPr/>
            <p:nvPr/>
          </p:nvSpPr>
          <p:spPr>
            <a:xfrm>
              <a:off x="3376440" y="5032440"/>
              <a:ext cx="1101600" cy="60912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12622" h="6990">
                  <a:moveTo>
                    <a:pt x="12622" y="0"/>
                  </a:moveTo>
                  <a:lnTo>
                    <a:pt x="12249" y="79"/>
                  </a:lnTo>
                  <a:lnTo>
                    <a:pt x="11963" y="363"/>
                  </a:lnTo>
                  <a:lnTo>
                    <a:pt x="11593" y="442"/>
                  </a:lnTo>
                  <a:lnTo>
                    <a:pt x="11307" y="727"/>
                  </a:lnTo>
                  <a:lnTo>
                    <a:pt x="10936" y="805"/>
                  </a:lnTo>
                  <a:lnTo>
                    <a:pt x="10648" y="1093"/>
                  </a:lnTo>
                  <a:lnTo>
                    <a:pt x="10277" y="1171"/>
                  </a:lnTo>
                  <a:lnTo>
                    <a:pt x="9987" y="1459"/>
                  </a:lnTo>
                  <a:lnTo>
                    <a:pt x="9621" y="1534"/>
                  </a:lnTo>
                  <a:lnTo>
                    <a:pt x="9328" y="1825"/>
                  </a:lnTo>
                  <a:lnTo>
                    <a:pt x="8961" y="1900"/>
                  </a:lnTo>
                  <a:lnTo>
                    <a:pt x="8666" y="2191"/>
                  </a:lnTo>
                  <a:lnTo>
                    <a:pt x="8300" y="2266"/>
                  </a:lnTo>
                  <a:lnTo>
                    <a:pt x="8002" y="2556"/>
                  </a:lnTo>
                  <a:lnTo>
                    <a:pt x="7641" y="2629"/>
                  </a:lnTo>
                  <a:lnTo>
                    <a:pt x="7340" y="2925"/>
                  </a:lnTo>
                  <a:lnTo>
                    <a:pt x="6979" y="2995"/>
                  </a:lnTo>
                  <a:lnTo>
                    <a:pt x="6677" y="3291"/>
                  </a:lnTo>
                  <a:lnTo>
                    <a:pt x="6318" y="3364"/>
                  </a:lnTo>
                  <a:lnTo>
                    <a:pt x="6013" y="3659"/>
                  </a:lnTo>
                  <a:lnTo>
                    <a:pt x="5653" y="3730"/>
                  </a:lnTo>
                  <a:lnTo>
                    <a:pt x="5348" y="4028"/>
                  </a:lnTo>
                  <a:lnTo>
                    <a:pt x="4992" y="4098"/>
                  </a:lnTo>
                  <a:lnTo>
                    <a:pt x="4682" y="4396"/>
                  </a:lnTo>
                  <a:lnTo>
                    <a:pt x="4328" y="4464"/>
                  </a:lnTo>
                  <a:lnTo>
                    <a:pt x="4015" y="4767"/>
                  </a:lnTo>
                  <a:lnTo>
                    <a:pt x="3662" y="4832"/>
                  </a:lnTo>
                  <a:lnTo>
                    <a:pt x="3348" y="5135"/>
                  </a:lnTo>
                  <a:lnTo>
                    <a:pt x="2998" y="5201"/>
                  </a:lnTo>
                  <a:lnTo>
                    <a:pt x="2679" y="5506"/>
                  </a:lnTo>
                  <a:lnTo>
                    <a:pt x="2331" y="5572"/>
                  </a:lnTo>
                  <a:lnTo>
                    <a:pt x="2010" y="5875"/>
                  </a:lnTo>
                  <a:lnTo>
                    <a:pt x="1664" y="5940"/>
                  </a:lnTo>
                  <a:lnTo>
                    <a:pt x="1341" y="6246"/>
                  </a:lnTo>
                  <a:lnTo>
                    <a:pt x="995" y="6309"/>
                  </a:lnTo>
                  <a:lnTo>
                    <a:pt x="669" y="6619"/>
                  </a:lnTo>
                  <a:lnTo>
                    <a:pt x="326" y="6679"/>
                  </a:lnTo>
                  <a:lnTo>
                    <a:pt x="0" y="699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14"/>
            <p:cNvSpPr/>
            <p:nvPr/>
          </p:nvSpPr>
          <p:spPr>
            <a:xfrm>
              <a:off x="3405600" y="5040000"/>
              <a:ext cx="1040040" cy="57528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11923" h="6600">
                  <a:moveTo>
                    <a:pt x="0" y="6600"/>
                  </a:moveTo>
                  <a:lnTo>
                    <a:pt x="326" y="6293"/>
                  </a:lnTo>
                  <a:lnTo>
                    <a:pt x="669" y="6230"/>
                  </a:lnTo>
                  <a:lnTo>
                    <a:pt x="992" y="5924"/>
                  </a:lnTo>
                  <a:lnTo>
                    <a:pt x="1338" y="5861"/>
                  </a:lnTo>
                  <a:lnTo>
                    <a:pt x="1659" y="5556"/>
                  </a:lnTo>
                  <a:lnTo>
                    <a:pt x="2005" y="5493"/>
                  </a:lnTo>
                  <a:lnTo>
                    <a:pt x="2323" y="5187"/>
                  </a:lnTo>
                  <a:lnTo>
                    <a:pt x="2672" y="5122"/>
                  </a:lnTo>
                  <a:lnTo>
                    <a:pt x="2987" y="4821"/>
                  </a:lnTo>
                  <a:lnTo>
                    <a:pt x="3336" y="4753"/>
                  </a:lnTo>
                  <a:lnTo>
                    <a:pt x="3649" y="4453"/>
                  </a:lnTo>
                  <a:lnTo>
                    <a:pt x="4002" y="4385"/>
                  </a:lnTo>
                  <a:lnTo>
                    <a:pt x="4312" y="4087"/>
                  </a:lnTo>
                  <a:lnTo>
                    <a:pt x="4666" y="4019"/>
                  </a:lnTo>
                  <a:lnTo>
                    <a:pt x="4974" y="3721"/>
                  </a:lnTo>
                  <a:lnTo>
                    <a:pt x="5327" y="3651"/>
                  </a:lnTo>
                  <a:lnTo>
                    <a:pt x="5634" y="3355"/>
                  </a:lnTo>
                  <a:lnTo>
                    <a:pt x="5992" y="3285"/>
                  </a:lnTo>
                  <a:lnTo>
                    <a:pt x="6295" y="2989"/>
                  </a:lnTo>
                  <a:lnTo>
                    <a:pt x="6653" y="2916"/>
                  </a:lnTo>
                  <a:lnTo>
                    <a:pt x="6954" y="2623"/>
                  </a:lnTo>
                  <a:lnTo>
                    <a:pt x="7315" y="2550"/>
                  </a:lnTo>
                  <a:lnTo>
                    <a:pt x="7613" y="2260"/>
                  </a:lnTo>
                  <a:lnTo>
                    <a:pt x="7974" y="2187"/>
                  </a:lnTo>
                  <a:lnTo>
                    <a:pt x="8272" y="1894"/>
                  </a:lnTo>
                  <a:lnTo>
                    <a:pt x="8635" y="1821"/>
                  </a:lnTo>
                  <a:lnTo>
                    <a:pt x="8928" y="1532"/>
                  </a:lnTo>
                  <a:lnTo>
                    <a:pt x="9295" y="1455"/>
                  </a:lnTo>
                  <a:lnTo>
                    <a:pt x="9584" y="1168"/>
                  </a:lnTo>
                  <a:lnTo>
                    <a:pt x="9951" y="1092"/>
                  </a:lnTo>
                  <a:lnTo>
                    <a:pt x="10242" y="805"/>
                  </a:lnTo>
                  <a:lnTo>
                    <a:pt x="10610" y="726"/>
                  </a:lnTo>
                  <a:lnTo>
                    <a:pt x="10896" y="444"/>
                  </a:lnTo>
                  <a:lnTo>
                    <a:pt x="11267" y="363"/>
                  </a:lnTo>
                  <a:lnTo>
                    <a:pt x="11550" y="80"/>
                  </a:lnTo>
                  <a:lnTo>
                    <a:pt x="11923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15"/>
            <p:cNvSpPr/>
            <p:nvPr/>
          </p:nvSpPr>
          <p:spPr>
            <a:xfrm>
              <a:off x="3434400" y="5046480"/>
              <a:ext cx="978480" cy="54108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1224" h="6213">
                  <a:moveTo>
                    <a:pt x="11224" y="0"/>
                  </a:moveTo>
                  <a:lnTo>
                    <a:pt x="10855" y="81"/>
                  </a:lnTo>
                  <a:lnTo>
                    <a:pt x="10570" y="364"/>
                  </a:lnTo>
                  <a:lnTo>
                    <a:pt x="10200" y="442"/>
                  </a:lnTo>
                  <a:lnTo>
                    <a:pt x="9916" y="725"/>
                  </a:lnTo>
                  <a:lnTo>
                    <a:pt x="9546" y="803"/>
                  </a:lnTo>
                  <a:lnTo>
                    <a:pt x="9258" y="1088"/>
                  </a:lnTo>
                  <a:lnTo>
                    <a:pt x="8892" y="1166"/>
                  </a:lnTo>
                  <a:lnTo>
                    <a:pt x="8602" y="1452"/>
                  </a:lnTo>
                  <a:lnTo>
                    <a:pt x="8239" y="1527"/>
                  </a:lnTo>
                  <a:lnTo>
                    <a:pt x="7946" y="1814"/>
                  </a:lnTo>
                  <a:lnTo>
                    <a:pt x="7582" y="1891"/>
                  </a:lnTo>
                  <a:lnTo>
                    <a:pt x="7287" y="2180"/>
                  </a:lnTo>
                  <a:lnTo>
                    <a:pt x="6926" y="2254"/>
                  </a:lnTo>
                  <a:lnTo>
                    <a:pt x="6628" y="2543"/>
                  </a:lnTo>
                  <a:lnTo>
                    <a:pt x="6269" y="2617"/>
                  </a:lnTo>
                  <a:lnTo>
                    <a:pt x="5969" y="2909"/>
                  </a:lnTo>
                  <a:lnTo>
                    <a:pt x="5613" y="2981"/>
                  </a:lnTo>
                  <a:lnTo>
                    <a:pt x="5308" y="3275"/>
                  </a:lnTo>
                  <a:lnTo>
                    <a:pt x="4954" y="3346"/>
                  </a:lnTo>
                  <a:lnTo>
                    <a:pt x="4648" y="3641"/>
                  </a:lnTo>
                  <a:lnTo>
                    <a:pt x="4294" y="3709"/>
                  </a:lnTo>
                  <a:lnTo>
                    <a:pt x="3986" y="4007"/>
                  </a:lnTo>
                  <a:lnTo>
                    <a:pt x="3633" y="4075"/>
                  </a:lnTo>
                  <a:lnTo>
                    <a:pt x="3323" y="4373"/>
                  </a:lnTo>
                  <a:lnTo>
                    <a:pt x="2974" y="4441"/>
                  </a:lnTo>
                  <a:lnTo>
                    <a:pt x="2661" y="4741"/>
                  </a:lnTo>
                  <a:lnTo>
                    <a:pt x="2313" y="4807"/>
                  </a:lnTo>
                  <a:lnTo>
                    <a:pt x="1997" y="5107"/>
                  </a:lnTo>
                  <a:lnTo>
                    <a:pt x="1651" y="5173"/>
                  </a:lnTo>
                  <a:lnTo>
                    <a:pt x="1333" y="5476"/>
                  </a:lnTo>
                  <a:lnTo>
                    <a:pt x="987" y="5541"/>
                  </a:lnTo>
                  <a:lnTo>
                    <a:pt x="666" y="5844"/>
                  </a:lnTo>
                  <a:lnTo>
                    <a:pt x="323" y="5907"/>
                  </a:lnTo>
                  <a:lnTo>
                    <a:pt x="0" y="62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16"/>
            <p:cNvSpPr/>
            <p:nvPr/>
          </p:nvSpPr>
          <p:spPr>
            <a:xfrm>
              <a:off x="3461760" y="5052960"/>
              <a:ext cx="918720" cy="50868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10532" h="5826">
                  <a:moveTo>
                    <a:pt x="0" y="5826"/>
                  </a:moveTo>
                  <a:lnTo>
                    <a:pt x="321" y="5523"/>
                  </a:lnTo>
                  <a:lnTo>
                    <a:pt x="664" y="5460"/>
                  </a:lnTo>
                  <a:lnTo>
                    <a:pt x="982" y="5158"/>
                  </a:lnTo>
                  <a:lnTo>
                    <a:pt x="1328" y="5092"/>
                  </a:lnTo>
                  <a:lnTo>
                    <a:pt x="1644" y="4792"/>
                  </a:lnTo>
                  <a:lnTo>
                    <a:pt x="1990" y="4726"/>
                  </a:lnTo>
                  <a:lnTo>
                    <a:pt x="2302" y="4428"/>
                  </a:lnTo>
                  <a:lnTo>
                    <a:pt x="2651" y="4360"/>
                  </a:lnTo>
                  <a:lnTo>
                    <a:pt x="2961" y="4063"/>
                  </a:lnTo>
                  <a:lnTo>
                    <a:pt x="3310" y="3994"/>
                  </a:lnTo>
                  <a:lnTo>
                    <a:pt x="3621" y="3700"/>
                  </a:lnTo>
                  <a:lnTo>
                    <a:pt x="3971" y="3628"/>
                  </a:lnTo>
                  <a:lnTo>
                    <a:pt x="4278" y="3336"/>
                  </a:lnTo>
                  <a:lnTo>
                    <a:pt x="4631" y="3265"/>
                  </a:lnTo>
                  <a:lnTo>
                    <a:pt x="4934" y="2970"/>
                  </a:lnTo>
                  <a:lnTo>
                    <a:pt x="5290" y="2900"/>
                  </a:lnTo>
                  <a:lnTo>
                    <a:pt x="5590" y="2609"/>
                  </a:lnTo>
                  <a:lnTo>
                    <a:pt x="5946" y="2536"/>
                  </a:lnTo>
                  <a:lnTo>
                    <a:pt x="6247" y="2246"/>
                  </a:lnTo>
                  <a:lnTo>
                    <a:pt x="6603" y="2173"/>
                  </a:lnTo>
                  <a:lnTo>
                    <a:pt x="6901" y="1883"/>
                  </a:lnTo>
                  <a:lnTo>
                    <a:pt x="7259" y="1810"/>
                  </a:lnTo>
                  <a:lnTo>
                    <a:pt x="7555" y="1522"/>
                  </a:lnTo>
                  <a:lnTo>
                    <a:pt x="7916" y="1446"/>
                  </a:lnTo>
                  <a:lnTo>
                    <a:pt x="8206" y="1161"/>
                  </a:lnTo>
                  <a:lnTo>
                    <a:pt x="8569" y="1085"/>
                  </a:lnTo>
                  <a:lnTo>
                    <a:pt x="8860" y="800"/>
                  </a:lnTo>
                  <a:lnTo>
                    <a:pt x="9223" y="722"/>
                  </a:lnTo>
                  <a:lnTo>
                    <a:pt x="9511" y="439"/>
                  </a:lnTo>
                  <a:lnTo>
                    <a:pt x="9877" y="361"/>
                  </a:lnTo>
                  <a:lnTo>
                    <a:pt x="10163" y="78"/>
                  </a:lnTo>
                  <a:lnTo>
                    <a:pt x="1053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17"/>
            <p:cNvSpPr/>
            <p:nvPr/>
          </p:nvSpPr>
          <p:spPr>
            <a:xfrm>
              <a:off x="3490560" y="5060880"/>
              <a:ext cx="858240" cy="47448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9842" h="5445">
                  <a:moveTo>
                    <a:pt x="9842" y="0"/>
                  </a:moveTo>
                  <a:lnTo>
                    <a:pt x="9476" y="79"/>
                  </a:lnTo>
                  <a:lnTo>
                    <a:pt x="9190" y="361"/>
                  </a:lnTo>
                  <a:lnTo>
                    <a:pt x="8827" y="440"/>
                  </a:lnTo>
                  <a:lnTo>
                    <a:pt x="8539" y="722"/>
                  </a:lnTo>
                  <a:lnTo>
                    <a:pt x="8175" y="797"/>
                  </a:lnTo>
                  <a:lnTo>
                    <a:pt x="7885" y="1083"/>
                  </a:lnTo>
                  <a:lnTo>
                    <a:pt x="7524" y="1158"/>
                  </a:lnTo>
                  <a:lnTo>
                    <a:pt x="7234" y="1444"/>
                  </a:lnTo>
                  <a:lnTo>
                    <a:pt x="6873" y="1519"/>
                  </a:lnTo>
                  <a:lnTo>
                    <a:pt x="6580" y="1805"/>
                  </a:lnTo>
                  <a:lnTo>
                    <a:pt x="6221" y="1880"/>
                  </a:lnTo>
                  <a:lnTo>
                    <a:pt x="5926" y="2168"/>
                  </a:lnTo>
                  <a:lnTo>
                    <a:pt x="5570" y="2241"/>
                  </a:lnTo>
                  <a:lnTo>
                    <a:pt x="5269" y="2531"/>
                  </a:lnTo>
                  <a:lnTo>
                    <a:pt x="4916" y="2602"/>
                  </a:lnTo>
                  <a:lnTo>
                    <a:pt x="4613" y="2892"/>
                  </a:lnTo>
                  <a:lnTo>
                    <a:pt x="4262" y="2965"/>
                  </a:lnTo>
                  <a:lnTo>
                    <a:pt x="3957" y="3258"/>
                  </a:lnTo>
                  <a:lnTo>
                    <a:pt x="3606" y="3326"/>
                  </a:lnTo>
                  <a:lnTo>
                    <a:pt x="3300" y="3622"/>
                  </a:lnTo>
                  <a:lnTo>
                    <a:pt x="2949" y="3690"/>
                  </a:lnTo>
                  <a:lnTo>
                    <a:pt x="2640" y="3985"/>
                  </a:lnTo>
                  <a:lnTo>
                    <a:pt x="2293" y="4053"/>
                  </a:lnTo>
                  <a:lnTo>
                    <a:pt x="1981" y="4350"/>
                  </a:lnTo>
                  <a:lnTo>
                    <a:pt x="1635" y="4417"/>
                  </a:lnTo>
                  <a:lnTo>
                    <a:pt x="1323" y="4714"/>
                  </a:lnTo>
                  <a:lnTo>
                    <a:pt x="979" y="4779"/>
                  </a:lnTo>
                  <a:lnTo>
                    <a:pt x="661" y="5080"/>
                  </a:lnTo>
                  <a:lnTo>
                    <a:pt x="320" y="5145"/>
                  </a:lnTo>
                  <a:lnTo>
                    <a:pt x="0" y="54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18"/>
            <p:cNvSpPr/>
            <p:nvPr/>
          </p:nvSpPr>
          <p:spPr>
            <a:xfrm>
              <a:off x="3518280" y="5067720"/>
              <a:ext cx="798120" cy="4417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9156" h="5066">
                  <a:moveTo>
                    <a:pt x="0" y="5066"/>
                  </a:moveTo>
                  <a:lnTo>
                    <a:pt x="315" y="4767"/>
                  </a:lnTo>
                  <a:lnTo>
                    <a:pt x="659" y="4700"/>
                  </a:lnTo>
                  <a:lnTo>
                    <a:pt x="973" y="4403"/>
                  </a:lnTo>
                  <a:lnTo>
                    <a:pt x="1315" y="4338"/>
                  </a:lnTo>
                  <a:lnTo>
                    <a:pt x="1629" y="4042"/>
                  </a:lnTo>
                  <a:lnTo>
                    <a:pt x="1973" y="3974"/>
                  </a:lnTo>
                  <a:lnTo>
                    <a:pt x="2283" y="3679"/>
                  </a:lnTo>
                  <a:lnTo>
                    <a:pt x="2629" y="3611"/>
                  </a:lnTo>
                  <a:lnTo>
                    <a:pt x="2937" y="3318"/>
                  </a:lnTo>
                  <a:lnTo>
                    <a:pt x="3286" y="3247"/>
                  </a:lnTo>
                  <a:lnTo>
                    <a:pt x="3591" y="2954"/>
                  </a:lnTo>
                  <a:lnTo>
                    <a:pt x="3942" y="2886"/>
                  </a:lnTo>
                  <a:lnTo>
                    <a:pt x="4242" y="2593"/>
                  </a:lnTo>
                  <a:lnTo>
                    <a:pt x="4596" y="2523"/>
                  </a:lnTo>
                  <a:lnTo>
                    <a:pt x="4894" y="2232"/>
                  </a:lnTo>
                  <a:lnTo>
                    <a:pt x="5250" y="2162"/>
                  </a:lnTo>
                  <a:lnTo>
                    <a:pt x="5545" y="1874"/>
                  </a:lnTo>
                  <a:lnTo>
                    <a:pt x="5901" y="1801"/>
                  </a:lnTo>
                  <a:lnTo>
                    <a:pt x="6197" y="1513"/>
                  </a:lnTo>
                  <a:lnTo>
                    <a:pt x="6553" y="1440"/>
                  </a:lnTo>
                  <a:lnTo>
                    <a:pt x="6846" y="1156"/>
                  </a:lnTo>
                  <a:lnTo>
                    <a:pt x="7204" y="1079"/>
                  </a:lnTo>
                  <a:lnTo>
                    <a:pt x="7495" y="795"/>
                  </a:lnTo>
                  <a:lnTo>
                    <a:pt x="7855" y="718"/>
                  </a:lnTo>
                  <a:lnTo>
                    <a:pt x="8143" y="436"/>
                  </a:lnTo>
                  <a:lnTo>
                    <a:pt x="8507" y="361"/>
                  </a:lnTo>
                  <a:lnTo>
                    <a:pt x="8792" y="78"/>
                  </a:lnTo>
                  <a:lnTo>
                    <a:pt x="915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19"/>
            <p:cNvSpPr/>
            <p:nvPr/>
          </p:nvSpPr>
          <p:spPr>
            <a:xfrm>
              <a:off x="3545640" y="5074200"/>
              <a:ext cx="739440" cy="40896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8477" h="4689">
                  <a:moveTo>
                    <a:pt x="8477" y="0"/>
                  </a:moveTo>
                  <a:lnTo>
                    <a:pt x="8114" y="78"/>
                  </a:lnTo>
                  <a:lnTo>
                    <a:pt x="7828" y="358"/>
                  </a:lnTo>
                  <a:lnTo>
                    <a:pt x="7470" y="436"/>
                  </a:lnTo>
                  <a:lnTo>
                    <a:pt x="7180" y="717"/>
                  </a:lnTo>
                  <a:lnTo>
                    <a:pt x="6821" y="792"/>
                  </a:lnTo>
                  <a:lnTo>
                    <a:pt x="6531" y="1078"/>
                  </a:lnTo>
                  <a:lnTo>
                    <a:pt x="6175" y="1151"/>
                  </a:lnTo>
                  <a:lnTo>
                    <a:pt x="5882" y="1435"/>
                  </a:lnTo>
                  <a:lnTo>
                    <a:pt x="5526" y="1509"/>
                  </a:lnTo>
                  <a:lnTo>
                    <a:pt x="5230" y="1796"/>
                  </a:lnTo>
                  <a:lnTo>
                    <a:pt x="4877" y="1870"/>
                  </a:lnTo>
                  <a:lnTo>
                    <a:pt x="4579" y="2154"/>
                  </a:lnTo>
                  <a:lnTo>
                    <a:pt x="4228" y="2227"/>
                  </a:lnTo>
                  <a:lnTo>
                    <a:pt x="3927" y="2515"/>
                  </a:lnTo>
                  <a:lnTo>
                    <a:pt x="3579" y="2586"/>
                  </a:lnTo>
                  <a:lnTo>
                    <a:pt x="3276" y="2876"/>
                  </a:lnTo>
                  <a:lnTo>
                    <a:pt x="2927" y="2947"/>
                  </a:lnTo>
                  <a:lnTo>
                    <a:pt x="2622" y="3240"/>
                  </a:lnTo>
                  <a:lnTo>
                    <a:pt x="2276" y="3308"/>
                  </a:lnTo>
                  <a:lnTo>
                    <a:pt x="1968" y="3601"/>
                  </a:lnTo>
                  <a:lnTo>
                    <a:pt x="1622" y="3669"/>
                  </a:lnTo>
                  <a:lnTo>
                    <a:pt x="1314" y="3964"/>
                  </a:lnTo>
                  <a:lnTo>
                    <a:pt x="971" y="4030"/>
                  </a:lnTo>
                  <a:lnTo>
                    <a:pt x="658" y="4325"/>
                  </a:lnTo>
                  <a:lnTo>
                    <a:pt x="317" y="4391"/>
                  </a:lnTo>
                  <a:lnTo>
                    <a:pt x="0" y="468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20"/>
            <p:cNvSpPr/>
            <p:nvPr/>
          </p:nvSpPr>
          <p:spPr>
            <a:xfrm>
              <a:off x="3573000" y="5080680"/>
              <a:ext cx="680400" cy="37620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7797" h="4313">
                  <a:moveTo>
                    <a:pt x="0" y="4313"/>
                  </a:moveTo>
                  <a:lnTo>
                    <a:pt x="310" y="4017"/>
                  </a:lnTo>
                  <a:lnTo>
                    <a:pt x="654" y="3952"/>
                  </a:lnTo>
                  <a:lnTo>
                    <a:pt x="961" y="3659"/>
                  </a:lnTo>
                  <a:lnTo>
                    <a:pt x="1305" y="3591"/>
                  </a:lnTo>
                  <a:lnTo>
                    <a:pt x="1613" y="3298"/>
                  </a:lnTo>
                  <a:lnTo>
                    <a:pt x="1959" y="3230"/>
                  </a:lnTo>
                  <a:lnTo>
                    <a:pt x="2262" y="2939"/>
                  </a:lnTo>
                  <a:lnTo>
                    <a:pt x="2610" y="2869"/>
                  </a:lnTo>
                  <a:lnTo>
                    <a:pt x="2913" y="2578"/>
                  </a:lnTo>
                  <a:lnTo>
                    <a:pt x="3262" y="2508"/>
                  </a:lnTo>
                  <a:lnTo>
                    <a:pt x="3562" y="2221"/>
                  </a:lnTo>
                  <a:lnTo>
                    <a:pt x="3911" y="2149"/>
                  </a:lnTo>
                  <a:lnTo>
                    <a:pt x="4209" y="1862"/>
                  </a:lnTo>
                  <a:lnTo>
                    <a:pt x="4560" y="1792"/>
                  </a:lnTo>
                  <a:lnTo>
                    <a:pt x="4855" y="1504"/>
                  </a:lnTo>
                  <a:lnTo>
                    <a:pt x="5209" y="1431"/>
                  </a:lnTo>
                  <a:lnTo>
                    <a:pt x="5502" y="1148"/>
                  </a:lnTo>
                  <a:lnTo>
                    <a:pt x="5858" y="1073"/>
                  </a:lnTo>
                  <a:lnTo>
                    <a:pt x="6148" y="789"/>
                  </a:lnTo>
                  <a:lnTo>
                    <a:pt x="6504" y="714"/>
                  </a:lnTo>
                  <a:lnTo>
                    <a:pt x="6794" y="433"/>
                  </a:lnTo>
                  <a:lnTo>
                    <a:pt x="7153" y="358"/>
                  </a:lnTo>
                  <a:lnTo>
                    <a:pt x="7438" y="78"/>
                  </a:lnTo>
                  <a:lnTo>
                    <a:pt x="779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21"/>
            <p:cNvSpPr/>
            <p:nvPr/>
          </p:nvSpPr>
          <p:spPr>
            <a:xfrm>
              <a:off x="3600720" y="5088240"/>
              <a:ext cx="621360" cy="34236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7128" h="3939">
                  <a:moveTo>
                    <a:pt x="7128" y="0"/>
                  </a:moveTo>
                  <a:lnTo>
                    <a:pt x="6770" y="76"/>
                  </a:lnTo>
                  <a:lnTo>
                    <a:pt x="6484" y="355"/>
                  </a:lnTo>
                  <a:lnTo>
                    <a:pt x="6128" y="432"/>
                  </a:lnTo>
                  <a:lnTo>
                    <a:pt x="5838" y="711"/>
                  </a:lnTo>
                  <a:lnTo>
                    <a:pt x="5485" y="787"/>
                  </a:lnTo>
                  <a:lnTo>
                    <a:pt x="5192" y="1070"/>
                  </a:lnTo>
                  <a:lnTo>
                    <a:pt x="4841" y="1143"/>
                  </a:lnTo>
                  <a:lnTo>
                    <a:pt x="4545" y="1426"/>
                  </a:lnTo>
                  <a:lnTo>
                    <a:pt x="4194" y="1499"/>
                  </a:lnTo>
                  <a:lnTo>
                    <a:pt x="3899" y="1784"/>
                  </a:lnTo>
                  <a:lnTo>
                    <a:pt x="3550" y="1857"/>
                  </a:lnTo>
                  <a:lnTo>
                    <a:pt x="3252" y="2143"/>
                  </a:lnTo>
                  <a:lnTo>
                    <a:pt x="2904" y="2213"/>
                  </a:lnTo>
                  <a:lnTo>
                    <a:pt x="2603" y="2500"/>
                  </a:lnTo>
                  <a:lnTo>
                    <a:pt x="2257" y="2572"/>
                  </a:lnTo>
                  <a:lnTo>
                    <a:pt x="1952" y="2861"/>
                  </a:lnTo>
                  <a:lnTo>
                    <a:pt x="1608" y="2929"/>
                  </a:lnTo>
                  <a:lnTo>
                    <a:pt x="1303" y="3220"/>
                  </a:lnTo>
                  <a:lnTo>
                    <a:pt x="959" y="3288"/>
                  </a:lnTo>
                  <a:lnTo>
                    <a:pt x="651" y="3581"/>
                  </a:lnTo>
                  <a:lnTo>
                    <a:pt x="310" y="3646"/>
                  </a:lnTo>
                  <a:lnTo>
                    <a:pt x="0" y="393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22"/>
            <p:cNvSpPr/>
            <p:nvPr/>
          </p:nvSpPr>
          <p:spPr>
            <a:xfrm>
              <a:off x="3626640" y="5094720"/>
              <a:ext cx="563760" cy="31104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6460" h="3570">
                  <a:moveTo>
                    <a:pt x="0" y="3570"/>
                  </a:moveTo>
                  <a:lnTo>
                    <a:pt x="309" y="3280"/>
                  </a:lnTo>
                  <a:lnTo>
                    <a:pt x="649" y="3212"/>
                  </a:lnTo>
                  <a:lnTo>
                    <a:pt x="955" y="2922"/>
                  </a:lnTo>
                  <a:lnTo>
                    <a:pt x="1298" y="2853"/>
                  </a:lnTo>
                  <a:lnTo>
                    <a:pt x="1601" y="2566"/>
                  </a:lnTo>
                  <a:lnTo>
                    <a:pt x="1947" y="2496"/>
                  </a:lnTo>
                  <a:lnTo>
                    <a:pt x="2248" y="2208"/>
                  </a:lnTo>
                  <a:lnTo>
                    <a:pt x="2594" y="2137"/>
                  </a:lnTo>
                  <a:lnTo>
                    <a:pt x="2892" y="1852"/>
                  </a:lnTo>
                  <a:lnTo>
                    <a:pt x="3240" y="1781"/>
                  </a:lnTo>
                  <a:lnTo>
                    <a:pt x="3536" y="1496"/>
                  </a:lnTo>
                  <a:lnTo>
                    <a:pt x="3884" y="1423"/>
                  </a:lnTo>
                  <a:lnTo>
                    <a:pt x="4180" y="1140"/>
                  </a:lnTo>
                  <a:lnTo>
                    <a:pt x="4531" y="1067"/>
                  </a:lnTo>
                  <a:lnTo>
                    <a:pt x="4821" y="785"/>
                  </a:lnTo>
                  <a:lnTo>
                    <a:pt x="5175" y="711"/>
                  </a:lnTo>
                  <a:lnTo>
                    <a:pt x="5462" y="431"/>
                  </a:lnTo>
                  <a:lnTo>
                    <a:pt x="5818" y="356"/>
                  </a:lnTo>
                  <a:lnTo>
                    <a:pt x="6104" y="75"/>
                  </a:lnTo>
                  <a:lnTo>
                    <a:pt x="64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23"/>
            <p:cNvSpPr/>
            <p:nvPr/>
          </p:nvSpPr>
          <p:spPr>
            <a:xfrm>
              <a:off x="3654000" y="5101560"/>
              <a:ext cx="505080" cy="2782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5795" h="3205">
                  <a:moveTo>
                    <a:pt x="5795" y="0"/>
                  </a:moveTo>
                  <a:lnTo>
                    <a:pt x="5441" y="78"/>
                  </a:lnTo>
                  <a:lnTo>
                    <a:pt x="5153" y="356"/>
                  </a:lnTo>
                  <a:lnTo>
                    <a:pt x="4802" y="432"/>
                  </a:lnTo>
                  <a:lnTo>
                    <a:pt x="4512" y="710"/>
                  </a:lnTo>
                  <a:lnTo>
                    <a:pt x="4161" y="785"/>
                  </a:lnTo>
                  <a:lnTo>
                    <a:pt x="3871" y="1065"/>
                  </a:lnTo>
                  <a:lnTo>
                    <a:pt x="3522" y="1139"/>
                  </a:lnTo>
                  <a:lnTo>
                    <a:pt x="3227" y="1421"/>
                  </a:lnTo>
                  <a:lnTo>
                    <a:pt x="2880" y="1494"/>
                  </a:lnTo>
                  <a:lnTo>
                    <a:pt x="2583" y="1777"/>
                  </a:lnTo>
                  <a:lnTo>
                    <a:pt x="2236" y="1847"/>
                  </a:lnTo>
                  <a:lnTo>
                    <a:pt x="1939" y="2133"/>
                  </a:lnTo>
                  <a:lnTo>
                    <a:pt x="1596" y="2203"/>
                  </a:lnTo>
                  <a:lnTo>
                    <a:pt x="1292" y="2491"/>
                  </a:lnTo>
                  <a:lnTo>
                    <a:pt x="952" y="2559"/>
                  </a:lnTo>
                  <a:lnTo>
                    <a:pt x="646" y="2847"/>
                  </a:lnTo>
                  <a:lnTo>
                    <a:pt x="306" y="2915"/>
                  </a:lnTo>
                  <a:lnTo>
                    <a:pt x="0" y="320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24"/>
            <p:cNvSpPr/>
            <p:nvPr/>
          </p:nvSpPr>
          <p:spPr>
            <a:xfrm>
              <a:off x="3680640" y="5108040"/>
              <a:ext cx="448560" cy="24660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5135" h="2837">
                  <a:moveTo>
                    <a:pt x="0" y="2837"/>
                  </a:moveTo>
                  <a:lnTo>
                    <a:pt x="305" y="2549"/>
                  </a:lnTo>
                  <a:lnTo>
                    <a:pt x="646" y="2481"/>
                  </a:lnTo>
                  <a:lnTo>
                    <a:pt x="946" y="2196"/>
                  </a:lnTo>
                  <a:lnTo>
                    <a:pt x="1290" y="2125"/>
                  </a:lnTo>
                  <a:lnTo>
                    <a:pt x="1588" y="1840"/>
                  </a:lnTo>
                  <a:lnTo>
                    <a:pt x="1930" y="1769"/>
                  </a:lnTo>
                  <a:lnTo>
                    <a:pt x="2228" y="1487"/>
                  </a:lnTo>
                  <a:lnTo>
                    <a:pt x="2574" y="1416"/>
                  </a:lnTo>
                  <a:lnTo>
                    <a:pt x="2867" y="1134"/>
                  </a:lnTo>
                  <a:lnTo>
                    <a:pt x="3216" y="1061"/>
                  </a:lnTo>
                  <a:lnTo>
                    <a:pt x="3506" y="780"/>
                  </a:lnTo>
                  <a:lnTo>
                    <a:pt x="3855" y="707"/>
                  </a:lnTo>
                  <a:lnTo>
                    <a:pt x="4145" y="427"/>
                  </a:lnTo>
                  <a:lnTo>
                    <a:pt x="4496" y="354"/>
                  </a:lnTo>
                  <a:lnTo>
                    <a:pt x="4784" y="77"/>
                  </a:lnTo>
                  <a:lnTo>
                    <a:pt x="513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25"/>
            <p:cNvSpPr/>
            <p:nvPr/>
          </p:nvSpPr>
          <p:spPr>
            <a:xfrm>
              <a:off x="3707640" y="5114880"/>
              <a:ext cx="389880" cy="21528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4479" h="2472">
                  <a:moveTo>
                    <a:pt x="4479" y="0"/>
                  </a:moveTo>
                  <a:lnTo>
                    <a:pt x="4128" y="73"/>
                  </a:lnTo>
                  <a:lnTo>
                    <a:pt x="3840" y="350"/>
                  </a:lnTo>
                  <a:lnTo>
                    <a:pt x="3492" y="426"/>
                  </a:lnTo>
                  <a:lnTo>
                    <a:pt x="3201" y="703"/>
                  </a:lnTo>
                  <a:lnTo>
                    <a:pt x="2855" y="776"/>
                  </a:lnTo>
                  <a:lnTo>
                    <a:pt x="2562" y="1057"/>
                  </a:lnTo>
                  <a:lnTo>
                    <a:pt x="2219" y="1130"/>
                  </a:lnTo>
                  <a:lnTo>
                    <a:pt x="1923" y="1410"/>
                  </a:lnTo>
                  <a:lnTo>
                    <a:pt x="1581" y="1481"/>
                  </a:lnTo>
                  <a:lnTo>
                    <a:pt x="1283" y="1763"/>
                  </a:lnTo>
                  <a:lnTo>
                    <a:pt x="942" y="1834"/>
                  </a:lnTo>
                  <a:lnTo>
                    <a:pt x="641" y="2119"/>
                  </a:lnTo>
                  <a:lnTo>
                    <a:pt x="300" y="2187"/>
                  </a:lnTo>
                  <a:lnTo>
                    <a:pt x="0" y="247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26"/>
            <p:cNvSpPr/>
            <p:nvPr/>
          </p:nvSpPr>
          <p:spPr>
            <a:xfrm>
              <a:off x="3733920" y="5121360"/>
              <a:ext cx="333720" cy="1839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828" h="2114">
                  <a:moveTo>
                    <a:pt x="0" y="2114"/>
                  </a:moveTo>
                  <a:lnTo>
                    <a:pt x="301" y="1832"/>
                  </a:lnTo>
                  <a:lnTo>
                    <a:pt x="642" y="1761"/>
                  </a:lnTo>
                  <a:lnTo>
                    <a:pt x="940" y="1481"/>
                  </a:lnTo>
                  <a:lnTo>
                    <a:pt x="1281" y="1408"/>
                  </a:lnTo>
                  <a:lnTo>
                    <a:pt x="1576" y="1127"/>
                  </a:lnTo>
                  <a:lnTo>
                    <a:pt x="1919" y="1057"/>
                  </a:lnTo>
                  <a:lnTo>
                    <a:pt x="2212" y="776"/>
                  </a:lnTo>
                  <a:lnTo>
                    <a:pt x="2555" y="703"/>
                  </a:lnTo>
                  <a:lnTo>
                    <a:pt x="2846" y="426"/>
                  </a:lnTo>
                  <a:lnTo>
                    <a:pt x="3192" y="353"/>
                  </a:lnTo>
                  <a:lnTo>
                    <a:pt x="3482" y="75"/>
                  </a:lnTo>
                  <a:lnTo>
                    <a:pt x="382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27"/>
            <p:cNvSpPr/>
            <p:nvPr/>
          </p:nvSpPr>
          <p:spPr>
            <a:xfrm>
              <a:off x="3760200" y="5127840"/>
              <a:ext cx="276840" cy="1526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81" h="1757">
                  <a:moveTo>
                    <a:pt x="3181" y="0"/>
                  </a:moveTo>
                  <a:lnTo>
                    <a:pt x="2835" y="73"/>
                  </a:lnTo>
                  <a:lnTo>
                    <a:pt x="2545" y="351"/>
                  </a:lnTo>
                  <a:lnTo>
                    <a:pt x="2201" y="424"/>
                  </a:lnTo>
                  <a:lnTo>
                    <a:pt x="1911" y="701"/>
                  </a:lnTo>
                  <a:lnTo>
                    <a:pt x="1568" y="775"/>
                  </a:lnTo>
                  <a:lnTo>
                    <a:pt x="1275" y="1052"/>
                  </a:lnTo>
                  <a:lnTo>
                    <a:pt x="934" y="1125"/>
                  </a:lnTo>
                  <a:lnTo>
                    <a:pt x="639" y="1406"/>
                  </a:lnTo>
                  <a:lnTo>
                    <a:pt x="298" y="1476"/>
                  </a:lnTo>
                  <a:lnTo>
                    <a:pt x="0" y="17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28"/>
            <p:cNvSpPr/>
            <p:nvPr/>
          </p:nvSpPr>
          <p:spPr>
            <a:xfrm>
              <a:off x="3786480" y="5134320"/>
              <a:ext cx="221040" cy="12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537" h="1403">
                  <a:moveTo>
                    <a:pt x="0" y="1403"/>
                  </a:moveTo>
                  <a:lnTo>
                    <a:pt x="295" y="1124"/>
                  </a:lnTo>
                  <a:lnTo>
                    <a:pt x="636" y="1052"/>
                  </a:lnTo>
                  <a:lnTo>
                    <a:pt x="929" y="773"/>
                  </a:lnTo>
                  <a:lnTo>
                    <a:pt x="1270" y="702"/>
                  </a:lnTo>
                  <a:lnTo>
                    <a:pt x="1561" y="424"/>
                  </a:lnTo>
                  <a:lnTo>
                    <a:pt x="1903" y="351"/>
                  </a:lnTo>
                  <a:lnTo>
                    <a:pt x="2194" y="76"/>
                  </a:lnTo>
                  <a:lnTo>
                    <a:pt x="253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29"/>
            <p:cNvSpPr/>
            <p:nvPr/>
          </p:nvSpPr>
          <p:spPr>
            <a:xfrm>
              <a:off x="3811320" y="5140800"/>
              <a:ext cx="165960" cy="914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899" h="1048">
                  <a:moveTo>
                    <a:pt x="1899" y="0"/>
                  </a:moveTo>
                  <a:lnTo>
                    <a:pt x="1555" y="74"/>
                  </a:lnTo>
                  <a:lnTo>
                    <a:pt x="1266" y="348"/>
                  </a:lnTo>
                  <a:lnTo>
                    <a:pt x="927" y="421"/>
                  </a:lnTo>
                  <a:lnTo>
                    <a:pt x="634" y="697"/>
                  </a:lnTo>
                  <a:lnTo>
                    <a:pt x="295" y="770"/>
                  </a:lnTo>
                  <a:lnTo>
                    <a:pt x="0" y="104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30"/>
            <p:cNvSpPr/>
            <p:nvPr/>
          </p:nvSpPr>
          <p:spPr>
            <a:xfrm>
              <a:off x="3837600" y="5147280"/>
              <a:ext cx="109800" cy="60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0" h="696">
                  <a:moveTo>
                    <a:pt x="0" y="696"/>
                  </a:moveTo>
                  <a:lnTo>
                    <a:pt x="291" y="418"/>
                  </a:lnTo>
                  <a:lnTo>
                    <a:pt x="632" y="347"/>
                  </a:lnTo>
                  <a:lnTo>
                    <a:pt x="920" y="73"/>
                  </a:lnTo>
                  <a:lnTo>
                    <a:pt x="12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31"/>
            <p:cNvSpPr/>
            <p:nvPr/>
          </p:nvSpPr>
          <p:spPr>
            <a:xfrm>
              <a:off x="3862440" y="5153760"/>
              <a:ext cx="54720" cy="298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29" h="345">
                  <a:moveTo>
                    <a:pt x="629" y="0"/>
                  </a:moveTo>
                  <a:lnTo>
                    <a:pt x="290" y="73"/>
                  </a:lnTo>
                  <a:lnTo>
                    <a:pt x="0" y="3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Group 132"/>
          <p:cNvGrpSpPr/>
          <p:nvPr/>
        </p:nvGrpSpPr>
        <p:grpSpPr>
          <a:xfrm>
            <a:off x="3124080" y="1371600"/>
            <a:ext cx="1523880" cy="4726080"/>
            <a:chOff x="3124080" y="1371600"/>
            <a:chExt cx="1523880" cy="4726080"/>
          </a:xfrm>
        </p:grpSpPr>
        <p:sp>
          <p:nvSpPr>
            <p:cNvPr id="1561" name="Oval 133"/>
            <p:cNvSpPr/>
            <p:nvPr/>
          </p:nvSpPr>
          <p:spPr>
            <a:xfrm>
              <a:off x="3124080" y="137160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val 134"/>
            <p:cNvSpPr/>
            <p:nvPr/>
          </p:nvSpPr>
          <p:spPr>
            <a:xfrm>
              <a:off x="3124080" y="2973240"/>
              <a:ext cx="15238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val 135"/>
            <p:cNvSpPr/>
            <p:nvPr/>
          </p:nvSpPr>
          <p:spPr>
            <a:xfrm>
              <a:off x="3124080" y="4573440"/>
              <a:ext cx="15238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4" name="Group 136"/>
            <p:cNvGrpSpPr/>
            <p:nvPr/>
          </p:nvGrpSpPr>
          <p:grpSpPr>
            <a:xfrm>
              <a:off x="3255840" y="4883040"/>
              <a:ext cx="1203120" cy="888840"/>
              <a:chOff x="3255840" y="4883040"/>
              <a:chExt cx="1203120" cy="888840"/>
            </a:xfrm>
          </p:grpSpPr>
          <p:sp>
            <p:nvSpPr>
              <p:cNvPr id="1565" name="Freeform 137"/>
              <p:cNvSpPr/>
              <p:nvPr/>
            </p:nvSpPr>
            <p:spPr>
              <a:xfrm>
                <a:off x="3255840" y="5605200"/>
                <a:ext cx="656280" cy="166680"/>
              </a:xfrm>
              <a:custGeom>
                <a:avLst/>
                <a:gdLst>
                  <a:gd name="textAreaLeft" fmla="*/ 0 w 656280"/>
                  <a:gd name="textAreaRight" fmla="*/ 656640 w 65628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7166" h="1819">
                    <a:moveTo>
                      <a:pt x="7166" y="1536"/>
                    </a:moveTo>
                    <a:lnTo>
                      <a:pt x="6786" y="1730"/>
                    </a:lnTo>
                    <a:lnTo>
                      <a:pt x="6409" y="1812"/>
                    </a:lnTo>
                    <a:lnTo>
                      <a:pt x="6036" y="1819"/>
                    </a:lnTo>
                    <a:lnTo>
                      <a:pt x="5663" y="1777"/>
                    </a:lnTo>
                    <a:lnTo>
                      <a:pt x="5291" y="1702"/>
                    </a:lnTo>
                    <a:lnTo>
                      <a:pt x="4923" y="1611"/>
                    </a:lnTo>
                    <a:lnTo>
                      <a:pt x="4558" y="1506"/>
                    </a:lnTo>
                    <a:lnTo>
                      <a:pt x="4196" y="1395"/>
                    </a:lnTo>
                    <a:lnTo>
                      <a:pt x="3832" y="1281"/>
                    </a:lnTo>
                    <a:lnTo>
                      <a:pt x="3475" y="1164"/>
                    </a:lnTo>
                    <a:lnTo>
                      <a:pt x="3118" y="1046"/>
                    </a:lnTo>
                    <a:lnTo>
                      <a:pt x="2763" y="930"/>
                    </a:lnTo>
                    <a:lnTo>
                      <a:pt x="2409" y="810"/>
                    </a:lnTo>
                    <a:lnTo>
                      <a:pt x="2059" y="694"/>
                    </a:lnTo>
                    <a:lnTo>
                      <a:pt x="1712" y="577"/>
                    </a:lnTo>
                    <a:lnTo>
                      <a:pt x="1364" y="460"/>
                    </a:lnTo>
                    <a:lnTo>
                      <a:pt x="1022" y="346"/>
                    </a:lnTo>
                    <a:lnTo>
                      <a:pt x="678" y="230"/>
                    </a:lnTo>
                    <a:lnTo>
                      <a:pt x="338" y="1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38"/>
              <p:cNvSpPr/>
              <p:nvPr/>
            </p:nvSpPr>
            <p:spPr>
              <a:xfrm>
                <a:off x="3912120" y="4938840"/>
                <a:ext cx="545760" cy="80676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5946" h="8807">
                    <a:moveTo>
                      <a:pt x="5946" y="0"/>
                    </a:moveTo>
                    <a:lnTo>
                      <a:pt x="5668" y="112"/>
                    </a:lnTo>
                    <a:lnTo>
                      <a:pt x="5390" y="223"/>
                    </a:lnTo>
                    <a:lnTo>
                      <a:pt x="5106" y="338"/>
                    </a:lnTo>
                    <a:lnTo>
                      <a:pt x="4823" y="457"/>
                    </a:lnTo>
                    <a:lnTo>
                      <a:pt x="4538" y="578"/>
                    </a:lnTo>
                    <a:lnTo>
                      <a:pt x="4252" y="710"/>
                    </a:lnTo>
                    <a:lnTo>
                      <a:pt x="3962" y="855"/>
                    </a:lnTo>
                    <a:lnTo>
                      <a:pt x="3671" y="1019"/>
                    </a:lnTo>
                    <a:lnTo>
                      <a:pt x="3375" y="1215"/>
                    </a:lnTo>
                    <a:lnTo>
                      <a:pt x="3080" y="1458"/>
                    </a:lnTo>
                    <a:lnTo>
                      <a:pt x="2782" y="1779"/>
                    </a:lnTo>
                    <a:lnTo>
                      <a:pt x="2481" y="2209"/>
                    </a:lnTo>
                    <a:lnTo>
                      <a:pt x="2181" y="2783"/>
                    </a:lnTo>
                    <a:lnTo>
                      <a:pt x="1876" y="3529"/>
                    </a:lnTo>
                    <a:lnTo>
                      <a:pt x="1567" y="4441"/>
                    </a:lnTo>
                    <a:lnTo>
                      <a:pt x="1259" y="5460"/>
                    </a:lnTo>
                    <a:lnTo>
                      <a:pt x="949" y="6486"/>
                    </a:lnTo>
                    <a:lnTo>
                      <a:pt x="634" y="7418"/>
                    </a:lnTo>
                    <a:lnTo>
                      <a:pt x="318" y="8196"/>
                    </a:lnTo>
                    <a:lnTo>
                      <a:pt x="0" y="88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39"/>
              <p:cNvSpPr/>
              <p:nvPr/>
            </p:nvSpPr>
            <p:spPr>
              <a:xfrm>
                <a:off x="3877560" y="5689800"/>
                <a:ext cx="64080" cy="738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696" h="803">
                    <a:moveTo>
                      <a:pt x="696" y="0"/>
                    </a:moveTo>
                    <a:lnTo>
                      <a:pt x="320" y="336"/>
                    </a:lnTo>
                    <a:lnTo>
                      <a:pt x="2" y="800"/>
                    </a:lnTo>
                    <a:lnTo>
                      <a:pt x="0" y="80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40"/>
              <p:cNvSpPr/>
              <p:nvPr/>
            </p:nvSpPr>
            <p:spPr>
              <a:xfrm>
                <a:off x="3843000" y="5618160"/>
                <a:ext cx="127080" cy="1526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389" h="1665">
                    <a:moveTo>
                      <a:pt x="0" y="1665"/>
                    </a:moveTo>
                    <a:lnTo>
                      <a:pt x="318" y="1310"/>
                    </a:lnTo>
                    <a:lnTo>
                      <a:pt x="693" y="1119"/>
                    </a:lnTo>
                    <a:lnTo>
                      <a:pt x="695" y="1116"/>
                    </a:lnTo>
                    <a:lnTo>
                      <a:pt x="1011" y="509"/>
                    </a:lnTo>
                    <a:lnTo>
                      <a:pt x="138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41"/>
              <p:cNvSpPr/>
              <p:nvPr/>
            </p:nvSpPr>
            <p:spPr>
              <a:xfrm>
                <a:off x="3808440" y="5533560"/>
                <a:ext cx="190440" cy="2383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2076" h="2599">
                    <a:moveTo>
                      <a:pt x="2076" y="0"/>
                    </a:moveTo>
                    <a:lnTo>
                      <a:pt x="1699" y="666"/>
                    </a:lnTo>
                    <a:lnTo>
                      <a:pt x="1386" y="1436"/>
                    </a:lnTo>
                    <a:lnTo>
                      <a:pt x="1008" y="1774"/>
                    </a:lnTo>
                    <a:lnTo>
                      <a:pt x="695" y="2234"/>
                    </a:lnTo>
                    <a:lnTo>
                      <a:pt x="693" y="2237"/>
                    </a:lnTo>
                    <a:lnTo>
                      <a:pt x="318" y="2319"/>
                    </a:lnTo>
                    <a:lnTo>
                      <a:pt x="0" y="259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42"/>
              <p:cNvSpPr/>
              <p:nvPr/>
            </p:nvSpPr>
            <p:spPr>
              <a:xfrm>
                <a:off x="3774960" y="5439600"/>
                <a:ext cx="252360" cy="329040"/>
              </a:xfrm>
              <a:custGeom>
                <a:avLst/>
                <a:gdLst>
                  <a:gd name="textAreaLeft" fmla="*/ 0 w 252360"/>
                  <a:gd name="textAreaRight" fmla="*/ 252360 w 2523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760" h="3588">
                    <a:moveTo>
                      <a:pt x="0" y="3588"/>
                    </a:moveTo>
                    <a:lnTo>
                      <a:pt x="317" y="3357"/>
                    </a:lnTo>
                    <a:lnTo>
                      <a:pt x="689" y="3350"/>
                    </a:lnTo>
                    <a:lnTo>
                      <a:pt x="1007" y="2997"/>
                    </a:lnTo>
                    <a:lnTo>
                      <a:pt x="1377" y="2808"/>
                    </a:lnTo>
                    <a:lnTo>
                      <a:pt x="1379" y="2805"/>
                    </a:lnTo>
                    <a:lnTo>
                      <a:pt x="1694" y="2204"/>
                    </a:lnTo>
                    <a:lnTo>
                      <a:pt x="2070" y="1697"/>
                    </a:lnTo>
                    <a:lnTo>
                      <a:pt x="2383" y="773"/>
                    </a:lnTo>
                    <a:lnTo>
                      <a:pt x="276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43"/>
              <p:cNvSpPr/>
              <p:nvPr/>
            </p:nvSpPr>
            <p:spPr>
              <a:xfrm>
                <a:off x="3740400" y="5346720"/>
                <a:ext cx="315720" cy="41472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3439" h="4527">
                    <a:moveTo>
                      <a:pt x="3439" y="0"/>
                    </a:moveTo>
                    <a:lnTo>
                      <a:pt x="3067" y="768"/>
                    </a:lnTo>
                    <a:lnTo>
                      <a:pt x="2757" y="1787"/>
                    </a:lnTo>
                    <a:lnTo>
                      <a:pt x="2382" y="2453"/>
                    </a:lnTo>
                    <a:lnTo>
                      <a:pt x="2068" y="3218"/>
                    </a:lnTo>
                    <a:lnTo>
                      <a:pt x="1696" y="3553"/>
                    </a:lnTo>
                    <a:lnTo>
                      <a:pt x="1383" y="4009"/>
                    </a:lnTo>
                    <a:lnTo>
                      <a:pt x="1381" y="4011"/>
                    </a:lnTo>
                    <a:lnTo>
                      <a:pt x="1008" y="4096"/>
                    </a:lnTo>
                    <a:lnTo>
                      <a:pt x="691" y="4371"/>
                    </a:lnTo>
                    <a:lnTo>
                      <a:pt x="320" y="4331"/>
                    </a:lnTo>
                    <a:lnTo>
                      <a:pt x="0" y="452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44"/>
              <p:cNvSpPr/>
              <p:nvPr/>
            </p:nvSpPr>
            <p:spPr>
              <a:xfrm>
                <a:off x="3707280" y="5261760"/>
                <a:ext cx="377640" cy="4910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4116" h="5353">
                    <a:moveTo>
                      <a:pt x="0" y="5353"/>
                    </a:moveTo>
                    <a:lnTo>
                      <a:pt x="317" y="5176"/>
                    </a:lnTo>
                    <a:lnTo>
                      <a:pt x="685" y="5248"/>
                    </a:lnTo>
                    <a:lnTo>
                      <a:pt x="1003" y="5020"/>
                    </a:lnTo>
                    <a:lnTo>
                      <a:pt x="1373" y="5013"/>
                    </a:lnTo>
                    <a:lnTo>
                      <a:pt x="1689" y="4662"/>
                    </a:lnTo>
                    <a:lnTo>
                      <a:pt x="2058" y="4473"/>
                    </a:lnTo>
                    <a:lnTo>
                      <a:pt x="2061" y="4470"/>
                    </a:lnTo>
                    <a:lnTo>
                      <a:pt x="2371" y="3874"/>
                    </a:lnTo>
                    <a:lnTo>
                      <a:pt x="2747" y="3370"/>
                    </a:lnTo>
                    <a:lnTo>
                      <a:pt x="3057" y="2453"/>
                    </a:lnTo>
                    <a:lnTo>
                      <a:pt x="3432" y="1685"/>
                    </a:lnTo>
                    <a:lnTo>
                      <a:pt x="3737" y="674"/>
                    </a:lnTo>
                    <a:lnTo>
                      <a:pt x="4116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45"/>
              <p:cNvSpPr/>
              <p:nvPr/>
            </p:nvSpPr>
            <p:spPr>
              <a:xfrm>
                <a:off x="3673800" y="5194080"/>
                <a:ext cx="438480" cy="54936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4787" h="5991">
                    <a:moveTo>
                      <a:pt x="4787" y="0"/>
                    </a:moveTo>
                    <a:lnTo>
                      <a:pt x="4411" y="512"/>
                    </a:lnTo>
                    <a:lnTo>
                      <a:pt x="4105" y="1417"/>
                    </a:lnTo>
                    <a:lnTo>
                      <a:pt x="3731" y="2185"/>
                    </a:lnTo>
                    <a:lnTo>
                      <a:pt x="3425" y="3196"/>
                    </a:lnTo>
                    <a:lnTo>
                      <a:pt x="3051" y="3860"/>
                    </a:lnTo>
                    <a:lnTo>
                      <a:pt x="2739" y="4617"/>
                    </a:lnTo>
                    <a:lnTo>
                      <a:pt x="2369" y="4953"/>
                    </a:lnTo>
                    <a:lnTo>
                      <a:pt x="2059" y="5402"/>
                    </a:lnTo>
                    <a:lnTo>
                      <a:pt x="2057" y="5405"/>
                    </a:lnTo>
                    <a:lnTo>
                      <a:pt x="1689" y="5489"/>
                    </a:lnTo>
                    <a:lnTo>
                      <a:pt x="1371" y="5763"/>
                    </a:lnTo>
                    <a:lnTo>
                      <a:pt x="1006" y="5723"/>
                    </a:lnTo>
                    <a:lnTo>
                      <a:pt x="685" y="5919"/>
                    </a:lnTo>
                    <a:lnTo>
                      <a:pt x="320" y="5828"/>
                    </a:lnTo>
                    <a:lnTo>
                      <a:pt x="0" y="59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46"/>
              <p:cNvSpPr/>
              <p:nvPr/>
            </p:nvSpPr>
            <p:spPr>
              <a:xfrm>
                <a:off x="3640320" y="5140440"/>
                <a:ext cx="499320" cy="592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92560"/>
                  <a:gd name="textAreaBottom" fmla="*/ 592920 h 592560"/>
                </a:gdLst>
                <a:ahLst/>
                <a:rect l="textAreaLeft" t="textAreaTop" r="textAreaRight" b="textAreaBottom"/>
                <a:pathLst>
                  <a:path w="5451" h="6457">
                    <a:moveTo>
                      <a:pt x="0" y="6457"/>
                    </a:moveTo>
                    <a:lnTo>
                      <a:pt x="2" y="6457"/>
                    </a:lnTo>
                    <a:lnTo>
                      <a:pt x="320" y="6303"/>
                    </a:lnTo>
                    <a:lnTo>
                      <a:pt x="682" y="6405"/>
                    </a:lnTo>
                    <a:lnTo>
                      <a:pt x="1003" y="6228"/>
                    </a:lnTo>
                    <a:lnTo>
                      <a:pt x="1368" y="6300"/>
                    </a:lnTo>
                    <a:lnTo>
                      <a:pt x="1684" y="6073"/>
                    </a:lnTo>
                    <a:lnTo>
                      <a:pt x="2051" y="6066"/>
                    </a:lnTo>
                    <a:lnTo>
                      <a:pt x="2364" y="5721"/>
                    </a:lnTo>
                    <a:lnTo>
                      <a:pt x="2729" y="5532"/>
                    </a:lnTo>
                    <a:lnTo>
                      <a:pt x="2731" y="5530"/>
                    </a:lnTo>
                    <a:lnTo>
                      <a:pt x="3042" y="4938"/>
                    </a:lnTo>
                    <a:lnTo>
                      <a:pt x="3413" y="4437"/>
                    </a:lnTo>
                    <a:lnTo>
                      <a:pt x="3720" y="3524"/>
                    </a:lnTo>
                    <a:lnTo>
                      <a:pt x="4093" y="2762"/>
                    </a:lnTo>
                    <a:lnTo>
                      <a:pt x="4398" y="1757"/>
                    </a:lnTo>
                    <a:lnTo>
                      <a:pt x="4773" y="1089"/>
                    </a:lnTo>
                    <a:lnTo>
                      <a:pt x="5077" y="348"/>
                    </a:lnTo>
                    <a:lnTo>
                      <a:pt x="545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47"/>
              <p:cNvSpPr/>
              <p:nvPr/>
            </p:nvSpPr>
            <p:spPr>
              <a:xfrm>
                <a:off x="3606840" y="5101200"/>
                <a:ext cx="559800" cy="621000"/>
              </a:xfrm>
              <a:custGeom>
                <a:avLst/>
                <a:gdLst>
                  <a:gd name="textAreaLeft" fmla="*/ 0 w 559800"/>
                  <a:gd name="textAreaRight" fmla="*/ 560160 w 559800"/>
                  <a:gd name="textAreaTop" fmla="*/ 0 h 621000"/>
                  <a:gd name="textAreaBottom" fmla="*/ 621000 h 621000"/>
                </a:gdLst>
                <a:ahLst/>
                <a:rect l="textAreaLeft" t="textAreaTop" r="textAreaRight" b="textAreaBottom"/>
                <a:pathLst>
                  <a:path w="6116" h="6773">
                    <a:moveTo>
                      <a:pt x="6116" y="0"/>
                    </a:moveTo>
                    <a:lnTo>
                      <a:pt x="6113" y="3"/>
                    </a:lnTo>
                    <a:lnTo>
                      <a:pt x="5741" y="209"/>
                    </a:lnTo>
                    <a:lnTo>
                      <a:pt x="5441" y="778"/>
                    </a:lnTo>
                    <a:lnTo>
                      <a:pt x="5065" y="1290"/>
                    </a:lnTo>
                    <a:lnTo>
                      <a:pt x="4762" y="2187"/>
                    </a:lnTo>
                    <a:lnTo>
                      <a:pt x="4392" y="2950"/>
                    </a:lnTo>
                    <a:lnTo>
                      <a:pt x="4084" y="3954"/>
                    </a:lnTo>
                    <a:lnTo>
                      <a:pt x="3714" y="4612"/>
                    </a:lnTo>
                    <a:lnTo>
                      <a:pt x="3406" y="5368"/>
                    </a:lnTo>
                    <a:lnTo>
                      <a:pt x="3038" y="5701"/>
                    </a:lnTo>
                    <a:lnTo>
                      <a:pt x="2730" y="6148"/>
                    </a:lnTo>
                    <a:lnTo>
                      <a:pt x="2728" y="6151"/>
                    </a:lnTo>
                    <a:lnTo>
                      <a:pt x="2361" y="6233"/>
                    </a:lnTo>
                    <a:lnTo>
                      <a:pt x="2048" y="6503"/>
                    </a:lnTo>
                    <a:lnTo>
                      <a:pt x="1682" y="6466"/>
                    </a:lnTo>
                    <a:lnTo>
                      <a:pt x="1367" y="6658"/>
                    </a:lnTo>
                    <a:lnTo>
                      <a:pt x="1004" y="6569"/>
                    </a:lnTo>
                    <a:lnTo>
                      <a:pt x="684" y="6733"/>
                    </a:lnTo>
                    <a:lnTo>
                      <a:pt x="682" y="6733"/>
                    </a:lnTo>
                    <a:lnTo>
                      <a:pt x="324" y="6624"/>
                    </a:lnTo>
                    <a:lnTo>
                      <a:pt x="3" y="6773"/>
                    </a:lnTo>
                    <a:lnTo>
                      <a:pt x="0" y="677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48"/>
              <p:cNvSpPr/>
              <p:nvPr/>
            </p:nvSpPr>
            <p:spPr>
              <a:xfrm>
                <a:off x="3573720" y="5072400"/>
                <a:ext cx="620640" cy="638640"/>
              </a:xfrm>
              <a:custGeom>
                <a:avLst/>
                <a:gdLst>
                  <a:gd name="textAreaLeft" fmla="*/ 0 w 620640"/>
                  <a:gd name="textAreaRight" fmla="*/ 620640 w 620640"/>
                  <a:gd name="textAreaTop" fmla="*/ 0 h 638640"/>
                  <a:gd name="textAreaBottom" fmla="*/ 639000 h 638640"/>
                </a:gdLst>
                <a:ahLst/>
                <a:rect l="textAreaLeft" t="textAreaTop" r="textAreaRight" b="textAreaBottom"/>
                <a:pathLst>
                  <a:path w="6771" h="6977">
                    <a:moveTo>
                      <a:pt x="0" y="6977"/>
                    </a:moveTo>
                    <a:lnTo>
                      <a:pt x="2" y="6977"/>
                    </a:lnTo>
                    <a:lnTo>
                      <a:pt x="320" y="6829"/>
                    </a:lnTo>
                    <a:lnTo>
                      <a:pt x="679" y="6945"/>
                    </a:lnTo>
                    <a:lnTo>
                      <a:pt x="681" y="6945"/>
                    </a:lnTo>
                    <a:lnTo>
                      <a:pt x="684" y="6945"/>
                    </a:lnTo>
                    <a:lnTo>
                      <a:pt x="999" y="6790"/>
                    </a:lnTo>
                    <a:lnTo>
                      <a:pt x="1361" y="6890"/>
                    </a:lnTo>
                    <a:lnTo>
                      <a:pt x="1677" y="6718"/>
                    </a:lnTo>
                    <a:lnTo>
                      <a:pt x="2039" y="6787"/>
                    </a:lnTo>
                    <a:lnTo>
                      <a:pt x="2353" y="6564"/>
                    </a:lnTo>
                    <a:lnTo>
                      <a:pt x="2718" y="6554"/>
                    </a:lnTo>
                    <a:lnTo>
                      <a:pt x="3030" y="6211"/>
                    </a:lnTo>
                    <a:lnTo>
                      <a:pt x="3393" y="6024"/>
                    </a:lnTo>
                    <a:lnTo>
                      <a:pt x="3395" y="6022"/>
                    </a:lnTo>
                    <a:lnTo>
                      <a:pt x="3703" y="5433"/>
                    </a:lnTo>
                    <a:lnTo>
                      <a:pt x="4071" y="4933"/>
                    </a:lnTo>
                    <a:lnTo>
                      <a:pt x="4379" y="4031"/>
                    </a:lnTo>
                    <a:lnTo>
                      <a:pt x="4749" y="3271"/>
                    </a:lnTo>
                    <a:lnTo>
                      <a:pt x="5052" y="2277"/>
                    </a:lnTo>
                    <a:lnTo>
                      <a:pt x="5422" y="1611"/>
                    </a:lnTo>
                    <a:lnTo>
                      <a:pt x="5726" y="875"/>
                    </a:lnTo>
                    <a:lnTo>
                      <a:pt x="6098" y="530"/>
                    </a:lnTo>
                    <a:lnTo>
                      <a:pt x="6100" y="527"/>
                    </a:lnTo>
                    <a:lnTo>
                      <a:pt x="6396" y="102"/>
                    </a:lnTo>
                    <a:lnTo>
                      <a:pt x="677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49"/>
              <p:cNvSpPr/>
              <p:nvPr/>
            </p:nvSpPr>
            <p:spPr>
              <a:xfrm>
                <a:off x="3541680" y="5049720"/>
                <a:ext cx="680040" cy="65088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7423" h="7102">
                    <a:moveTo>
                      <a:pt x="7423" y="0"/>
                    </a:moveTo>
                    <a:lnTo>
                      <a:pt x="7048" y="30"/>
                    </a:lnTo>
                    <a:lnTo>
                      <a:pt x="6753" y="345"/>
                    </a:lnTo>
                    <a:lnTo>
                      <a:pt x="6750" y="347"/>
                    </a:lnTo>
                    <a:lnTo>
                      <a:pt x="6381" y="554"/>
                    </a:lnTo>
                    <a:lnTo>
                      <a:pt x="6083" y="1118"/>
                    </a:lnTo>
                    <a:lnTo>
                      <a:pt x="5709" y="1628"/>
                    </a:lnTo>
                    <a:lnTo>
                      <a:pt x="5409" y="2520"/>
                    </a:lnTo>
                    <a:lnTo>
                      <a:pt x="5039" y="3278"/>
                    </a:lnTo>
                    <a:lnTo>
                      <a:pt x="4736" y="4274"/>
                    </a:lnTo>
                    <a:lnTo>
                      <a:pt x="4369" y="4931"/>
                    </a:lnTo>
                    <a:lnTo>
                      <a:pt x="4060" y="5676"/>
                    </a:lnTo>
                    <a:lnTo>
                      <a:pt x="3695" y="6009"/>
                    </a:lnTo>
                    <a:lnTo>
                      <a:pt x="3390" y="6452"/>
                    </a:lnTo>
                    <a:lnTo>
                      <a:pt x="3387" y="6454"/>
                    </a:lnTo>
                    <a:lnTo>
                      <a:pt x="3022" y="6539"/>
                    </a:lnTo>
                    <a:lnTo>
                      <a:pt x="2710" y="6807"/>
                    </a:lnTo>
                    <a:lnTo>
                      <a:pt x="2349" y="6770"/>
                    </a:lnTo>
                    <a:lnTo>
                      <a:pt x="2034" y="6961"/>
                    </a:lnTo>
                    <a:lnTo>
                      <a:pt x="1674" y="6871"/>
                    </a:lnTo>
                    <a:lnTo>
                      <a:pt x="1356" y="7033"/>
                    </a:lnTo>
                    <a:lnTo>
                      <a:pt x="1353" y="7033"/>
                    </a:lnTo>
                    <a:lnTo>
                      <a:pt x="998" y="6923"/>
                    </a:lnTo>
                    <a:lnTo>
                      <a:pt x="680" y="7072"/>
                    </a:lnTo>
                    <a:lnTo>
                      <a:pt x="677" y="7072"/>
                    </a:lnTo>
                    <a:lnTo>
                      <a:pt x="675" y="7072"/>
                    </a:lnTo>
                    <a:lnTo>
                      <a:pt x="322" y="6958"/>
                    </a:lnTo>
                    <a:lnTo>
                      <a:pt x="2" y="7102"/>
                    </a:lnTo>
                    <a:lnTo>
                      <a:pt x="0" y="71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50"/>
              <p:cNvSpPr/>
              <p:nvPr/>
            </p:nvSpPr>
            <p:spPr>
              <a:xfrm>
                <a:off x="3509280" y="5030640"/>
                <a:ext cx="739800" cy="65916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659160"/>
                  <a:gd name="textAreaBottom" fmla="*/ 659160 h 659160"/>
                </a:gdLst>
                <a:ahLst/>
                <a:rect l="textAreaLeft" t="textAreaTop" r="textAreaRight" b="textAreaBottom"/>
                <a:pathLst>
                  <a:path w="8074" h="7200">
                    <a:moveTo>
                      <a:pt x="0" y="7200"/>
                    </a:moveTo>
                    <a:lnTo>
                      <a:pt x="2" y="7200"/>
                    </a:lnTo>
                    <a:lnTo>
                      <a:pt x="322" y="7056"/>
                    </a:lnTo>
                    <a:lnTo>
                      <a:pt x="675" y="7172"/>
                    </a:lnTo>
                    <a:lnTo>
                      <a:pt x="677" y="7172"/>
                    </a:lnTo>
                    <a:lnTo>
                      <a:pt x="680" y="7172"/>
                    </a:lnTo>
                    <a:lnTo>
                      <a:pt x="997" y="7026"/>
                    </a:lnTo>
                    <a:lnTo>
                      <a:pt x="1351" y="7137"/>
                    </a:lnTo>
                    <a:lnTo>
                      <a:pt x="1353" y="7137"/>
                    </a:lnTo>
                    <a:lnTo>
                      <a:pt x="1356" y="7137"/>
                    </a:lnTo>
                    <a:lnTo>
                      <a:pt x="1671" y="6986"/>
                    </a:lnTo>
                    <a:lnTo>
                      <a:pt x="2029" y="7085"/>
                    </a:lnTo>
                    <a:lnTo>
                      <a:pt x="2344" y="6914"/>
                    </a:lnTo>
                    <a:lnTo>
                      <a:pt x="2704" y="6984"/>
                    </a:lnTo>
                    <a:lnTo>
                      <a:pt x="3015" y="6763"/>
                    </a:lnTo>
                    <a:lnTo>
                      <a:pt x="3377" y="6753"/>
                    </a:lnTo>
                    <a:lnTo>
                      <a:pt x="3688" y="6412"/>
                    </a:lnTo>
                    <a:lnTo>
                      <a:pt x="4048" y="6225"/>
                    </a:lnTo>
                    <a:lnTo>
                      <a:pt x="4050" y="6223"/>
                    </a:lnTo>
                    <a:lnTo>
                      <a:pt x="4358" y="5642"/>
                    </a:lnTo>
                    <a:lnTo>
                      <a:pt x="4724" y="5145"/>
                    </a:lnTo>
                    <a:lnTo>
                      <a:pt x="5027" y="4248"/>
                    </a:lnTo>
                    <a:lnTo>
                      <a:pt x="5394" y="3492"/>
                    </a:lnTo>
                    <a:lnTo>
                      <a:pt x="5697" y="2503"/>
                    </a:lnTo>
                    <a:lnTo>
                      <a:pt x="6064" y="1842"/>
                    </a:lnTo>
                    <a:lnTo>
                      <a:pt x="6366" y="1113"/>
                    </a:lnTo>
                    <a:lnTo>
                      <a:pt x="6736" y="768"/>
                    </a:lnTo>
                    <a:lnTo>
                      <a:pt x="6738" y="766"/>
                    </a:lnTo>
                    <a:lnTo>
                      <a:pt x="7031" y="345"/>
                    </a:lnTo>
                    <a:lnTo>
                      <a:pt x="7403" y="244"/>
                    </a:lnTo>
                    <a:lnTo>
                      <a:pt x="7699" y="0"/>
                    </a:lnTo>
                    <a:lnTo>
                      <a:pt x="8074" y="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51"/>
              <p:cNvSpPr/>
              <p:nvPr/>
            </p:nvSpPr>
            <p:spPr>
              <a:xfrm>
                <a:off x="3475800" y="5012640"/>
                <a:ext cx="799200" cy="666360"/>
              </a:xfrm>
              <a:custGeom>
                <a:avLst/>
                <a:gdLst>
                  <a:gd name="textAreaLeft" fmla="*/ 0 w 799200"/>
                  <a:gd name="textAreaRight" fmla="*/ 799560 w 7992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8719" h="7273">
                    <a:moveTo>
                      <a:pt x="8719" y="47"/>
                    </a:moveTo>
                    <a:lnTo>
                      <a:pt x="8344" y="0"/>
                    </a:lnTo>
                    <a:lnTo>
                      <a:pt x="8053" y="193"/>
                    </a:lnTo>
                    <a:lnTo>
                      <a:pt x="7680" y="223"/>
                    </a:lnTo>
                    <a:lnTo>
                      <a:pt x="7385" y="538"/>
                    </a:lnTo>
                    <a:lnTo>
                      <a:pt x="7382" y="541"/>
                    </a:lnTo>
                    <a:lnTo>
                      <a:pt x="7015" y="744"/>
                    </a:lnTo>
                    <a:lnTo>
                      <a:pt x="6720" y="1306"/>
                    </a:lnTo>
                    <a:lnTo>
                      <a:pt x="6349" y="1814"/>
                    </a:lnTo>
                    <a:lnTo>
                      <a:pt x="6051" y="2696"/>
                    </a:lnTo>
                    <a:lnTo>
                      <a:pt x="5684" y="3452"/>
                    </a:lnTo>
                    <a:lnTo>
                      <a:pt x="5381" y="4441"/>
                    </a:lnTo>
                    <a:lnTo>
                      <a:pt x="5016" y="5092"/>
                    </a:lnTo>
                    <a:lnTo>
                      <a:pt x="4712" y="5835"/>
                    </a:lnTo>
                    <a:lnTo>
                      <a:pt x="4347" y="6165"/>
                    </a:lnTo>
                    <a:lnTo>
                      <a:pt x="4044" y="6602"/>
                    </a:lnTo>
                    <a:lnTo>
                      <a:pt x="4042" y="6605"/>
                    </a:lnTo>
                    <a:lnTo>
                      <a:pt x="3679" y="6690"/>
                    </a:lnTo>
                    <a:lnTo>
                      <a:pt x="3369" y="6956"/>
                    </a:lnTo>
                    <a:lnTo>
                      <a:pt x="3011" y="6918"/>
                    </a:lnTo>
                    <a:lnTo>
                      <a:pt x="2698" y="7107"/>
                    </a:lnTo>
                    <a:lnTo>
                      <a:pt x="2340" y="7020"/>
                    </a:lnTo>
                    <a:lnTo>
                      <a:pt x="2025" y="7179"/>
                    </a:lnTo>
                    <a:lnTo>
                      <a:pt x="2023" y="7179"/>
                    </a:lnTo>
                    <a:lnTo>
                      <a:pt x="1669" y="7072"/>
                    </a:lnTo>
                    <a:lnTo>
                      <a:pt x="1354" y="7219"/>
                    </a:lnTo>
                    <a:lnTo>
                      <a:pt x="1351" y="7219"/>
                    </a:lnTo>
                    <a:lnTo>
                      <a:pt x="1349" y="7219"/>
                    </a:lnTo>
                    <a:lnTo>
                      <a:pt x="996" y="7107"/>
                    </a:lnTo>
                    <a:lnTo>
                      <a:pt x="679" y="7249"/>
                    </a:lnTo>
                    <a:lnTo>
                      <a:pt x="676" y="7249"/>
                    </a:lnTo>
                    <a:lnTo>
                      <a:pt x="674" y="7249"/>
                    </a:lnTo>
                    <a:lnTo>
                      <a:pt x="324" y="7132"/>
                    </a:lnTo>
                    <a:lnTo>
                      <a:pt x="3" y="7273"/>
                    </a:lnTo>
                    <a:lnTo>
                      <a:pt x="0" y="727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52"/>
              <p:cNvSpPr/>
              <p:nvPr/>
            </p:nvSpPr>
            <p:spPr>
              <a:xfrm>
                <a:off x="3443760" y="4997160"/>
                <a:ext cx="857880" cy="671040"/>
              </a:xfrm>
              <a:custGeom>
                <a:avLst/>
                <a:gdLst>
                  <a:gd name="textAreaLeft" fmla="*/ 0 w 857880"/>
                  <a:gd name="textAreaRight" fmla="*/ 858240 w 857880"/>
                  <a:gd name="textAreaTop" fmla="*/ 0 h 671040"/>
                  <a:gd name="textAreaBottom" fmla="*/ 671040 h 671040"/>
                </a:gdLst>
                <a:ahLst/>
                <a:rect l="textAreaLeft" t="textAreaTop" r="textAreaRight" b="textAreaBottom"/>
                <a:pathLst>
                  <a:path w="9359" h="7320">
                    <a:moveTo>
                      <a:pt x="0" y="7320"/>
                    </a:moveTo>
                    <a:lnTo>
                      <a:pt x="3" y="7320"/>
                    </a:lnTo>
                    <a:lnTo>
                      <a:pt x="323" y="7181"/>
                    </a:lnTo>
                    <a:lnTo>
                      <a:pt x="671" y="7295"/>
                    </a:lnTo>
                    <a:lnTo>
                      <a:pt x="674" y="7295"/>
                    </a:lnTo>
                    <a:lnTo>
                      <a:pt x="676" y="7295"/>
                    </a:lnTo>
                    <a:lnTo>
                      <a:pt x="994" y="7156"/>
                    </a:lnTo>
                    <a:lnTo>
                      <a:pt x="1344" y="7270"/>
                    </a:lnTo>
                    <a:lnTo>
                      <a:pt x="1346" y="7270"/>
                    </a:lnTo>
                    <a:lnTo>
                      <a:pt x="1349" y="7270"/>
                    </a:lnTo>
                    <a:lnTo>
                      <a:pt x="1664" y="7126"/>
                    </a:lnTo>
                    <a:lnTo>
                      <a:pt x="2017" y="7235"/>
                    </a:lnTo>
                    <a:lnTo>
                      <a:pt x="2019" y="7235"/>
                    </a:lnTo>
                    <a:lnTo>
                      <a:pt x="2022" y="7235"/>
                    </a:lnTo>
                    <a:lnTo>
                      <a:pt x="2335" y="7086"/>
                    </a:lnTo>
                    <a:lnTo>
                      <a:pt x="2690" y="7183"/>
                    </a:lnTo>
                    <a:lnTo>
                      <a:pt x="3003" y="7014"/>
                    </a:lnTo>
                    <a:lnTo>
                      <a:pt x="3361" y="7081"/>
                    </a:lnTo>
                    <a:lnTo>
                      <a:pt x="3671" y="6865"/>
                    </a:lnTo>
                    <a:lnTo>
                      <a:pt x="4029" y="6853"/>
                    </a:lnTo>
                    <a:lnTo>
                      <a:pt x="4337" y="6517"/>
                    </a:lnTo>
                    <a:lnTo>
                      <a:pt x="4695" y="6331"/>
                    </a:lnTo>
                    <a:lnTo>
                      <a:pt x="4697" y="6328"/>
                    </a:lnTo>
                    <a:lnTo>
                      <a:pt x="5002" y="5749"/>
                    </a:lnTo>
                    <a:lnTo>
                      <a:pt x="5366" y="5255"/>
                    </a:lnTo>
                    <a:lnTo>
                      <a:pt x="5669" y="4365"/>
                    </a:lnTo>
                    <a:lnTo>
                      <a:pt x="6034" y="3615"/>
                    </a:lnTo>
                    <a:lnTo>
                      <a:pt x="6334" y="2633"/>
                    </a:lnTo>
                    <a:lnTo>
                      <a:pt x="6699" y="1977"/>
                    </a:lnTo>
                    <a:lnTo>
                      <a:pt x="6998" y="1251"/>
                    </a:lnTo>
                    <a:lnTo>
                      <a:pt x="7365" y="907"/>
                    </a:lnTo>
                    <a:lnTo>
                      <a:pt x="7368" y="905"/>
                    </a:lnTo>
                    <a:lnTo>
                      <a:pt x="7660" y="490"/>
                    </a:lnTo>
                    <a:lnTo>
                      <a:pt x="8030" y="386"/>
                    </a:lnTo>
                    <a:lnTo>
                      <a:pt x="8323" y="148"/>
                    </a:lnTo>
                    <a:lnTo>
                      <a:pt x="8694" y="163"/>
                    </a:lnTo>
                    <a:lnTo>
                      <a:pt x="8984" y="0"/>
                    </a:lnTo>
                    <a:lnTo>
                      <a:pt x="9357" y="65"/>
                    </a:lnTo>
                    <a:lnTo>
                      <a:pt x="9359" y="6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53"/>
              <p:cNvSpPr/>
              <p:nvPr/>
            </p:nvSpPr>
            <p:spPr>
              <a:xfrm>
                <a:off x="3412800" y="4983840"/>
                <a:ext cx="914760" cy="67356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673560"/>
                  <a:gd name="textAreaBottom" fmla="*/ 673560 h 673560"/>
                </a:gdLst>
                <a:ahLst/>
                <a:rect l="textAreaLeft" t="textAreaTop" r="textAreaRight" b="textAreaBottom"/>
                <a:pathLst>
                  <a:path w="9992" h="7344">
                    <a:moveTo>
                      <a:pt x="9992" y="74"/>
                    </a:moveTo>
                    <a:lnTo>
                      <a:pt x="9989" y="74"/>
                    </a:lnTo>
                    <a:lnTo>
                      <a:pt x="9619" y="0"/>
                    </a:lnTo>
                    <a:lnTo>
                      <a:pt x="9334" y="141"/>
                    </a:lnTo>
                    <a:lnTo>
                      <a:pt x="9331" y="141"/>
                    </a:lnTo>
                    <a:lnTo>
                      <a:pt x="8962" y="94"/>
                    </a:lnTo>
                    <a:lnTo>
                      <a:pt x="8670" y="289"/>
                    </a:lnTo>
                    <a:lnTo>
                      <a:pt x="8300" y="319"/>
                    </a:lnTo>
                    <a:lnTo>
                      <a:pt x="8007" y="631"/>
                    </a:lnTo>
                    <a:lnTo>
                      <a:pt x="8005" y="634"/>
                    </a:lnTo>
                    <a:lnTo>
                      <a:pt x="7640" y="835"/>
                    </a:lnTo>
                    <a:lnTo>
                      <a:pt x="7345" y="1392"/>
                    </a:lnTo>
                    <a:lnTo>
                      <a:pt x="6979" y="1896"/>
                    </a:lnTo>
                    <a:lnTo>
                      <a:pt x="6681" y="2774"/>
                    </a:lnTo>
                    <a:lnTo>
                      <a:pt x="6316" y="3524"/>
                    </a:lnTo>
                    <a:lnTo>
                      <a:pt x="6016" y="4506"/>
                    </a:lnTo>
                    <a:lnTo>
                      <a:pt x="5652" y="5154"/>
                    </a:lnTo>
                    <a:lnTo>
                      <a:pt x="5349" y="5890"/>
                    </a:lnTo>
                    <a:lnTo>
                      <a:pt x="4989" y="6221"/>
                    </a:lnTo>
                    <a:lnTo>
                      <a:pt x="4687" y="6655"/>
                    </a:lnTo>
                    <a:lnTo>
                      <a:pt x="4684" y="6658"/>
                    </a:lnTo>
                    <a:lnTo>
                      <a:pt x="4327" y="6742"/>
                    </a:lnTo>
                    <a:lnTo>
                      <a:pt x="4018" y="7006"/>
                    </a:lnTo>
                    <a:lnTo>
                      <a:pt x="3660" y="6968"/>
                    </a:lnTo>
                    <a:lnTo>
                      <a:pt x="3350" y="7155"/>
                    </a:lnTo>
                    <a:lnTo>
                      <a:pt x="2995" y="7071"/>
                    </a:lnTo>
                    <a:lnTo>
                      <a:pt x="2682" y="7227"/>
                    </a:lnTo>
                    <a:lnTo>
                      <a:pt x="2680" y="7227"/>
                    </a:lnTo>
                    <a:lnTo>
                      <a:pt x="2326" y="7123"/>
                    </a:lnTo>
                    <a:lnTo>
                      <a:pt x="2014" y="7267"/>
                    </a:lnTo>
                    <a:lnTo>
                      <a:pt x="2011" y="7267"/>
                    </a:lnTo>
                    <a:lnTo>
                      <a:pt x="2009" y="7267"/>
                    </a:lnTo>
                    <a:lnTo>
                      <a:pt x="1659" y="7155"/>
                    </a:lnTo>
                    <a:lnTo>
                      <a:pt x="1343" y="7297"/>
                    </a:lnTo>
                    <a:lnTo>
                      <a:pt x="1341" y="7297"/>
                    </a:lnTo>
                    <a:lnTo>
                      <a:pt x="1339" y="7297"/>
                    </a:lnTo>
                    <a:lnTo>
                      <a:pt x="991" y="7180"/>
                    </a:lnTo>
                    <a:lnTo>
                      <a:pt x="672" y="7322"/>
                    </a:lnTo>
                    <a:lnTo>
                      <a:pt x="670" y="7322"/>
                    </a:lnTo>
                    <a:lnTo>
                      <a:pt x="667" y="7322"/>
                    </a:lnTo>
                    <a:lnTo>
                      <a:pt x="322" y="7205"/>
                    </a:lnTo>
                    <a:lnTo>
                      <a:pt x="2" y="7344"/>
                    </a:lnTo>
                    <a:lnTo>
                      <a:pt x="0" y="734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54"/>
              <p:cNvSpPr/>
              <p:nvPr/>
            </p:nvSpPr>
            <p:spPr>
              <a:xfrm>
                <a:off x="3380760" y="4971960"/>
                <a:ext cx="973080" cy="674640"/>
              </a:xfrm>
              <a:custGeom>
                <a:avLst/>
                <a:gdLst>
                  <a:gd name="textAreaLeft" fmla="*/ 0 w 973080"/>
                  <a:gd name="textAreaRight" fmla="*/ 973440 w 97308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10625" h="7359">
                    <a:moveTo>
                      <a:pt x="0" y="7359"/>
                    </a:moveTo>
                    <a:lnTo>
                      <a:pt x="3" y="7359"/>
                    </a:lnTo>
                    <a:lnTo>
                      <a:pt x="325" y="7223"/>
                    </a:lnTo>
                    <a:lnTo>
                      <a:pt x="668" y="7337"/>
                    </a:lnTo>
                    <a:lnTo>
                      <a:pt x="670" y="7337"/>
                    </a:lnTo>
                    <a:lnTo>
                      <a:pt x="673" y="7337"/>
                    </a:lnTo>
                    <a:lnTo>
                      <a:pt x="990" y="7198"/>
                    </a:lnTo>
                    <a:lnTo>
                      <a:pt x="1337" y="7312"/>
                    </a:lnTo>
                    <a:lnTo>
                      <a:pt x="1339" y="7312"/>
                    </a:lnTo>
                    <a:lnTo>
                      <a:pt x="1341" y="7312"/>
                    </a:lnTo>
                    <a:lnTo>
                      <a:pt x="1659" y="7173"/>
                    </a:lnTo>
                    <a:lnTo>
                      <a:pt x="2004" y="7287"/>
                    </a:lnTo>
                    <a:lnTo>
                      <a:pt x="2007" y="7287"/>
                    </a:lnTo>
                    <a:lnTo>
                      <a:pt x="2009" y="7287"/>
                    </a:lnTo>
                    <a:lnTo>
                      <a:pt x="2324" y="7146"/>
                    </a:lnTo>
                    <a:lnTo>
                      <a:pt x="2672" y="7255"/>
                    </a:lnTo>
                    <a:lnTo>
                      <a:pt x="2674" y="7255"/>
                    </a:lnTo>
                    <a:lnTo>
                      <a:pt x="2677" y="7255"/>
                    </a:lnTo>
                    <a:lnTo>
                      <a:pt x="2988" y="7105"/>
                    </a:lnTo>
                    <a:lnTo>
                      <a:pt x="3341" y="7203"/>
                    </a:lnTo>
                    <a:lnTo>
                      <a:pt x="3343" y="7203"/>
                    </a:lnTo>
                    <a:lnTo>
                      <a:pt x="3653" y="7036"/>
                    </a:lnTo>
                    <a:lnTo>
                      <a:pt x="4008" y="7100"/>
                    </a:lnTo>
                    <a:lnTo>
                      <a:pt x="4316" y="6887"/>
                    </a:lnTo>
                    <a:lnTo>
                      <a:pt x="4675" y="6874"/>
                    </a:lnTo>
                    <a:lnTo>
                      <a:pt x="4980" y="6542"/>
                    </a:lnTo>
                    <a:lnTo>
                      <a:pt x="5335" y="6356"/>
                    </a:lnTo>
                    <a:lnTo>
                      <a:pt x="5337" y="6353"/>
                    </a:lnTo>
                    <a:lnTo>
                      <a:pt x="5640" y="5779"/>
                    </a:lnTo>
                    <a:lnTo>
                      <a:pt x="6000" y="5286"/>
                    </a:lnTo>
                    <a:lnTo>
                      <a:pt x="6302" y="4401"/>
                    </a:lnTo>
                    <a:lnTo>
                      <a:pt x="6664" y="3656"/>
                    </a:lnTo>
                    <a:lnTo>
                      <a:pt x="6962" y="2682"/>
                    </a:lnTo>
                    <a:lnTo>
                      <a:pt x="7327" y="2028"/>
                    </a:lnTo>
                    <a:lnTo>
                      <a:pt x="7622" y="1311"/>
                    </a:lnTo>
                    <a:lnTo>
                      <a:pt x="7988" y="967"/>
                    </a:lnTo>
                    <a:lnTo>
                      <a:pt x="7991" y="964"/>
                    </a:lnTo>
                    <a:lnTo>
                      <a:pt x="8281" y="552"/>
                    </a:lnTo>
                    <a:lnTo>
                      <a:pt x="8648" y="451"/>
                    </a:lnTo>
                    <a:lnTo>
                      <a:pt x="8939" y="211"/>
                    </a:lnTo>
                    <a:lnTo>
                      <a:pt x="9310" y="226"/>
                    </a:lnTo>
                    <a:lnTo>
                      <a:pt x="9598" y="67"/>
                    </a:lnTo>
                    <a:lnTo>
                      <a:pt x="9965" y="132"/>
                    </a:lnTo>
                    <a:lnTo>
                      <a:pt x="9967" y="132"/>
                    </a:lnTo>
                    <a:lnTo>
                      <a:pt x="9970" y="132"/>
                    </a:lnTo>
                    <a:lnTo>
                      <a:pt x="10253" y="0"/>
                    </a:lnTo>
                    <a:lnTo>
                      <a:pt x="10623" y="85"/>
                    </a:lnTo>
                    <a:lnTo>
                      <a:pt x="10625" y="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55"/>
              <p:cNvSpPr/>
              <p:nvPr/>
            </p:nvSpPr>
            <p:spPr>
              <a:xfrm>
                <a:off x="3349800" y="4961520"/>
                <a:ext cx="1030320" cy="674640"/>
              </a:xfrm>
              <a:custGeom>
                <a:avLst/>
                <a:gdLst>
                  <a:gd name="textAreaLeft" fmla="*/ 0 w 1030320"/>
                  <a:gd name="textAreaRight" fmla="*/ 1030680 w 10303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1250" h="7366">
                    <a:moveTo>
                      <a:pt x="11250" y="87"/>
                    </a:moveTo>
                    <a:lnTo>
                      <a:pt x="11248" y="87"/>
                    </a:lnTo>
                    <a:lnTo>
                      <a:pt x="10880" y="0"/>
                    </a:lnTo>
                    <a:lnTo>
                      <a:pt x="10597" y="121"/>
                    </a:lnTo>
                    <a:lnTo>
                      <a:pt x="10595" y="121"/>
                    </a:lnTo>
                    <a:lnTo>
                      <a:pt x="10592" y="121"/>
                    </a:lnTo>
                    <a:lnTo>
                      <a:pt x="10225" y="47"/>
                    </a:lnTo>
                    <a:lnTo>
                      <a:pt x="9942" y="188"/>
                    </a:lnTo>
                    <a:lnTo>
                      <a:pt x="9940" y="188"/>
                    </a:lnTo>
                    <a:lnTo>
                      <a:pt x="9571" y="144"/>
                    </a:lnTo>
                    <a:lnTo>
                      <a:pt x="9281" y="332"/>
                    </a:lnTo>
                    <a:lnTo>
                      <a:pt x="8916" y="365"/>
                    </a:lnTo>
                    <a:lnTo>
                      <a:pt x="8623" y="673"/>
                    </a:lnTo>
                    <a:lnTo>
                      <a:pt x="8620" y="676"/>
                    </a:lnTo>
                    <a:lnTo>
                      <a:pt x="8258" y="879"/>
                    </a:lnTo>
                    <a:lnTo>
                      <a:pt x="7964" y="1432"/>
                    </a:lnTo>
                    <a:lnTo>
                      <a:pt x="7602" y="1933"/>
                    </a:lnTo>
                    <a:lnTo>
                      <a:pt x="7304" y="2803"/>
                    </a:lnTo>
                    <a:lnTo>
                      <a:pt x="6944" y="3551"/>
                    </a:lnTo>
                    <a:lnTo>
                      <a:pt x="6644" y="4522"/>
                    </a:lnTo>
                    <a:lnTo>
                      <a:pt x="6285" y="5169"/>
                    </a:lnTo>
                    <a:lnTo>
                      <a:pt x="5982" y="5900"/>
                    </a:lnTo>
                    <a:lnTo>
                      <a:pt x="5625" y="6227"/>
                    </a:lnTo>
                    <a:lnTo>
                      <a:pt x="5325" y="6660"/>
                    </a:lnTo>
                    <a:lnTo>
                      <a:pt x="5322" y="6663"/>
                    </a:lnTo>
                    <a:lnTo>
                      <a:pt x="4965" y="6747"/>
                    </a:lnTo>
                    <a:lnTo>
                      <a:pt x="4658" y="7008"/>
                    </a:lnTo>
                    <a:lnTo>
                      <a:pt x="4303" y="6970"/>
                    </a:lnTo>
                    <a:lnTo>
                      <a:pt x="3995" y="7157"/>
                    </a:lnTo>
                    <a:lnTo>
                      <a:pt x="3643" y="7072"/>
                    </a:lnTo>
                    <a:lnTo>
                      <a:pt x="3333" y="7226"/>
                    </a:lnTo>
                    <a:lnTo>
                      <a:pt x="3330" y="7226"/>
                    </a:lnTo>
                    <a:lnTo>
                      <a:pt x="3328" y="7226"/>
                    </a:lnTo>
                    <a:lnTo>
                      <a:pt x="2979" y="7122"/>
                    </a:lnTo>
                    <a:lnTo>
                      <a:pt x="2669" y="7267"/>
                    </a:lnTo>
                    <a:lnTo>
                      <a:pt x="2666" y="7267"/>
                    </a:lnTo>
                    <a:lnTo>
                      <a:pt x="2664" y="7267"/>
                    </a:lnTo>
                    <a:lnTo>
                      <a:pt x="2316" y="7154"/>
                    </a:lnTo>
                    <a:lnTo>
                      <a:pt x="2004" y="7294"/>
                    </a:lnTo>
                    <a:lnTo>
                      <a:pt x="2001" y="7294"/>
                    </a:lnTo>
                    <a:lnTo>
                      <a:pt x="1999" y="7294"/>
                    </a:lnTo>
                    <a:lnTo>
                      <a:pt x="1654" y="7181"/>
                    </a:lnTo>
                    <a:lnTo>
                      <a:pt x="1335" y="7319"/>
                    </a:lnTo>
                    <a:lnTo>
                      <a:pt x="1332" y="7319"/>
                    </a:lnTo>
                    <a:lnTo>
                      <a:pt x="1330" y="7319"/>
                    </a:lnTo>
                    <a:lnTo>
                      <a:pt x="987" y="7204"/>
                    </a:lnTo>
                    <a:lnTo>
                      <a:pt x="670" y="7344"/>
                    </a:lnTo>
                    <a:lnTo>
                      <a:pt x="667" y="7344"/>
                    </a:lnTo>
                    <a:lnTo>
                      <a:pt x="665" y="7344"/>
                    </a:lnTo>
                    <a:lnTo>
                      <a:pt x="322" y="7226"/>
                    </a:lnTo>
                    <a:lnTo>
                      <a:pt x="2" y="7366"/>
                    </a:lnTo>
                    <a:lnTo>
                      <a:pt x="0" y="736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56"/>
              <p:cNvSpPr/>
              <p:nvPr/>
            </p:nvSpPr>
            <p:spPr>
              <a:xfrm>
                <a:off x="3317400" y="4950720"/>
                <a:ext cx="1088640" cy="67572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1878" h="7364">
                    <a:moveTo>
                      <a:pt x="0" y="7364"/>
                    </a:moveTo>
                    <a:lnTo>
                      <a:pt x="2" y="7364"/>
                    </a:lnTo>
                    <a:lnTo>
                      <a:pt x="326" y="7226"/>
                    </a:lnTo>
                    <a:lnTo>
                      <a:pt x="664" y="7340"/>
                    </a:lnTo>
                    <a:lnTo>
                      <a:pt x="666" y="7340"/>
                    </a:lnTo>
                    <a:lnTo>
                      <a:pt x="669" y="7340"/>
                    </a:lnTo>
                    <a:lnTo>
                      <a:pt x="989" y="7204"/>
                    </a:lnTo>
                    <a:lnTo>
                      <a:pt x="1329" y="7318"/>
                    </a:lnTo>
                    <a:lnTo>
                      <a:pt x="1331" y="7318"/>
                    </a:lnTo>
                    <a:lnTo>
                      <a:pt x="1334" y="7318"/>
                    </a:lnTo>
                    <a:lnTo>
                      <a:pt x="1652" y="7181"/>
                    </a:lnTo>
                    <a:lnTo>
                      <a:pt x="1995" y="7295"/>
                    </a:lnTo>
                    <a:lnTo>
                      <a:pt x="1998" y="7295"/>
                    </a:lnTo>
                    <a:lnTo>
                      <a:pt x="2000" y="7295"/>
                    </a:lnTo>
                    <a:lnTo>
                      <a:pt x="2313" y="7159"/>
                    </a:lnTo>
                    <a:lnTo>
                      <a:pt x="2658" y="7268"/>
                    </a:lnTo>
                    <a:lnTo>
                      <a:pt x="2660" y="7268"/>
                    </a:lnTo>
                    <a:lnTo>
                      <a:pt x="2663" y="7268"/>
                    </a:lnTo>
                    <a:lnTo>
                      <a:pt x="2976" y="7129"/>
                    </a:lnTo>
                    <a:lnTo>
                      <a:pt x="3321" y="7236"/>
                    </a:lnTo>
                    <a:lnTo>
                      <a:pt x="3323" y="7236"/>
                    </a:lnTo>
                    <a:lnTo>
                      <a:pt x="3326" y="7236"/>
                    </a:lnTo>
                    <a:lnTo>
                      <a:pt x="3637" y="7089"/>
                    </a:lnTo>
                    <a:lnTo>
                      <a:pt x="3985" y="7186"/>
                    </a:lnTo>
                    <a:lnTo>
                      <a:pt x="3987" y="7186"/>
                    </a:lnTo>
                    <a:lnTo>
                      <a:pt x="4295" y="7020"/>
                    </a:lnTo>
                    <a:lnTo>
                      <a:pt x="4647" y="7084"/>
                    </a:lnTo>
                    <a:lnTo>
                      <a:pt x="4955" y="6873"/>
                    </a:lnTo>
                    <a:lnTo>
                      <a:pt x="5309" y="6861"/>
                    </a:lnTo>
                    <a:lnTo>
                      <a:pt x="5614" y="6531"/>
                    </a:lnTo>
                    <a:lnTo>
                      <a:pt x="5966" y="6344"/>
                    </a:lnTo>
                    <a:lnTo>
                      <a:pt x="5969" y="6341"/>
                    </a:lnTo>
                    <a:lnTo>
                      <a:pt x="6272" y="5773"/>
                    </a:lnTo>
                    <a:lnTo>
                      <a:pt x="6629" y="5283"/>
                    </a:lnTo>
                    <a:lnTo>
                      <a:pt x="6928" y="4406"/>
                    </a:lnTo>
                    <a:lnTo>
                      <a:pt x="7288" y="3665"/>
                    </a:lnTo>
                    <a:lnTo>
                      <a:pt x="7583" y="2696"/>
                    </a:lnTo>
                    <a:lnTo>
                      <a:pt x="7946" y="2047"/>
                    </a:lnTo>
                    <a:lnTo>
                      <a:pt x="8239" y="1334"/>
                    </a:lnTo>
                    <a:lnTo>
                      <a:pt x="8602" y="993"/>
                    </a:lnTo>
                    <a:lnTo>
                      <a:pt x="8605" y="991"/>
                    </a:lnTo>
                    <a:lnTo>
                      <a:pt x="8895" y="580"/>
                    </a:lnTo>
                    <a:lnTo>
                      <a:pt x="9260" y="479"/>
                    </a:lnTo>
                    <a:lnTo>
                      <a:pt x="9548" y="243"/>
                    </a:lnTo>
                    <a:lnTo>
                      <a:pt x="9915" y="258"/>
                    </a:lnTo>
                    <a:lnTo>
                      <a:pt x="10202" y="99"/>
                    </a:lnTo>
                    <a:lnTo>
                      <a:pt x="10567" y="161"/>
                    </a:lnTo>
                    <a:lnTo>
                      <a:pt x="10569" y="161"/>
                    </a:lnTo>
                    <a:lnTo>
                      <a:pt x="10572" y="161"/>
                    </a:lnTo>
                    <a:lnTo>
                      <a:pt x="10854" y="34"/>
                    </a:lnTo>
                    <a:lnTo>
                      <a:pt x="11222" y="114"/>
                    </a:lnTo>
                    <a:lnTo>
                      <a:pt x="11224" y="114"/>
                    </a:lnTo>
                    <a:lnTo>
                      <a:pt x="11227" y="114"/>
                    </a:lnTo>
                    <a:lnTo>
                      <a:pt x="11505" y="0"/>
                    </a:lnTo>
                    <a:lnTo>
                      <a:pt x="11876" y="86"/>
                    </a:lnTo>
                    <a:lnTo>
                      <a:pt x="11878" y="8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57"/>
              <p:cNvSpPr/>
              <p:nvPr/>
            </p:nvSpPr>
            <p:spPr>
              <a:xfrm>
                <a:off x="3286440" y="4939920"/>
                <a:ext cx="1144800" cy="676080"/>
              </a:xfrm>
              <a:custGeom>
                <a:avLst/>
                <a:gdLst>
                  <a:gd name="textAreaLeft" fmla="*/ 0 w 1144800"/>
                  <a:gd name="textAreaRight" fmla="*/ 1145160 w 114480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12496" h="7363">
                    <a:moveTo>
                      <a:pt x="12496" y="90"/>
                    </a:moveTo>
                    <a:lnTo>
                      <a:pt x="12494" y="90"/>
                    </a:lnTo>
                    <a:lnTo>
                      <a:pt x="12126" y="0"/>
                    </a:lnTo>
                    <a:lnTo>
                      <a:pt x="11847" y="115"/>
                    </a:lnTo>
                    <a:lnTo>
                      <a:pt x="11845" y="115"/>
                    </a:lnTo>
                    <a:lnTo>
                      <a:pt x="11842" y="115"/>
                    </a:lnTo>
                    <a:lnTo>
                      <a:pt x="11475" y="28"/>
                    </a:lnTo>
                    <a:lnTo>
                      <a:pt x="11197" y="149"/>
                    </a:lnTo>
                    <a:lnTo>
                      <a:pt x="11194" y="149"/>
                    </a:lnTo>
                    <a:lnTo>
                      <a:pt x="11192" y="149"/>
                    </a:lnTo>
                    <a:lnTo>
                      <a:pt x="10827" y="75"/>
                    </a:lnTo>
                    <a:lnTo>
                      <a:pt x="10544" y="214"/>
                    </a:lnTo>
                    <a:lnTo>
                      <a:pt x="10542" y="214"/>
                    </a:lnTo>
                    <a:lnTo>
                      <a:pt x="10176" y="169"/>
                    </a:lnTo>
                    <a:lnTo>
                      <a:pt x="9888" y="358"/>
                    </a:lnTo>
                    <a:lnTo>
                      <a:pt x="9523" y="390"/>
                    </a:lnTo>
                    <a:lnTo>
                      <a:pt x="9235" y="695"/>
                    </a:lnTo>
                    <a:lnTo>
                      <a:pt x="9232" y="698"/>
                    </a:lnTo>
                    <a:lnTo>
                      <a:pt x="8873" y="900"/>
                    </a:lnTo>
                    <a:lnTo>
                      <a:pt x="8579" y="1449"/>
                    </a:lnTo>
                    <a:lnTo>
                      <a:pt x="8219" y="1946"/>
                    </a:lnTo>
                    <a:lnTo>
                      <a:pt x="7923" y="2811"/>
                    </a:lnTo>
                    <a:lnTo>
                      <a:pt x="7566" y="3554"/>
                    </a:lnTo>
                    <a:lnTo>
                      <a:pt x="7268" y="4521"/>
                    </a:lnTo>
                    <a:lnTo>
                      <a:pt x="6910" y="5162"/>
                    </a:lnTo>
                    <a:lnTo>
                      <a:pt x="6612" y="5888"/>
                    </a:lnTo>
                    <a:lnTo>
                      <a:pt x="6254" y="6213"/>
                    </a:lnTo>
                    <a:lnTo>
                      <a:pt x="5956" y="6643"/>
                    </a:lnTo>
                    <a:lnTo>
                      <a:pt x="5954" y="6646"/>
                    </a:lnTo>
                    <a:lnTo>
                      <a:pt x="5599" y="6730"/>
                    </a:lnTo>
                    <a:lnTo>
                      <a:pt x="5295" y="6988"/>
                    </a:lnTo>
                    <a:lnTo>
                      <a:pt x="4943" y="6954"/>
                    </a:lnTo>
                    <a:lnTo>
                      <a:pt x="4635" y="7135"/>
                    </a:lnTo>
                    <a:lnTo>
                      <a:pt x="4285" y="7053"/>
                    </a:lnTo>
                    <a:lnTo>
                      <a:pt x="3979" y="7204"/>
                    </a:lnTo>
                    <a:lnTo>
                      <a:pt x="3977" y="7204"/>
                    </a:lnTo>
                    <a:lnTo>
                      <a:pt x="3975" y="7204"/>
                    </a:lnTo>
                    <a:lnTo>
                      <a:pt x="3626" y="7103"/>
                    </a:lnTo>
                    <a:lnTo>
                      <a:pt x="3318" y="7244"/>
                    </a:lnTo>
                    <a:lnTo>
                      <a:pt x="3316" y="7244"/>
                    </a:lnTo>
                    <a:lnTo>
                      <a:pt x="3313" y="7244"/>
                    </a:lnTo>
                    <a:lnTo>
                      <a:pt x="2968" y="7135"/>
                    </a:lnTo>
                    <a:lnTo>
                      <a:pt x="2655" y="7274"/>
                    </a:lnTo>
                    <a:lnTo>
                      <a:pt x="2653" y="7274"/>
                    </a:lnTo>
                    <a:lnTo>
                      <a:pt x="2650" y="7274"/>
                    </a:lnTo>
                    <a:lnTo>
                      <a:pt x="2308" y="7162"/>
                    </a:lnTo>
                    <a:lnTo>
                      <a:pt x="1994" y="7296"/>
                    </a:lnTo>
                    <a:lnTo>
                      <a:pt x="1992" y="7296"/>
                    </a:lnTo>
                    <a:lnTo>
                      <a:pt x="1989" y="7296"/>
                    </a:lnTo>
                    <a:lnTo>
                      <a:pt x="1647" y="7185"/>
                    </a:lnTo>
                    <a:lnTo>
                      <a:pt x="1331" y="7319"/>
                    </a:lnTo>
                    <a:lnTo>
                      <a:pt x="1329" y="7319"/>
                    </a:lnTo>
                    <a:lnTo>
                      <a:pt x="1326" y="7319"/>
                    </a:lnTo>
                    <a:lnTo>
                      <a:pt x="986" y="7207"/>
                    </a:lnTo>
                    <a:lnTo>
                      <a:pt x="669" y="7341"/>
                    </a:lnTo>
                    <a:lnTo>
                      <a:pt x="666" y="7341"/>
                    </a:lnTo>
                    <a:lnTo>
                      <a:pt x="664" y="7341"/>
                    </a:lnTo>
                    <a:lnTo>
                      <a:pt x="325" y="7229"/>
                    </a:lnTo>
                    <a:lnTo>
                      <a:pt x="2" y="7363"/>
                    </a:lnTo>
                    <a:lnTo>
                      <a:pt x="0" y="736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58"/>
              <p:cNvSpPr/>
              <p:nvPr/>
            </p:nvSpPr>
            <p:spPr>
              <a:xfrm>
                <a:off x="3255840" y="4930560"/>
                <a:ext cx="1202040" cy="674640"/>
              </a:xfrm>
              <a:custGeom>
                <a:avLst/>
                <a:gdLst>
                  <a:gd name="textAreaLeft" fmla="*/ 0 w 1202040"/>
                  <a:gd name="textAreaRight" fmla="*/ 1202400 w 120204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3110" h="7358">
                    <a:moveTo>
                      <a:pt x="0" y="7358"/>
                    </a:moveTo>
                    <a:lnTo>
                      <a:pt x="3" y="7358"/>
                    </a:lnTo>
                    <a:lnTo>
                      <a:pt x="325" y="7224"/>
                    </a:lnTo>
                    <a:lnTo>
                      <a:pt x="661" y="7338"/>
                    </a:lnTo>
                    <a:lnTo>
                      <a:pt x="663" y="7338"/>
                    </a:lnTo>
                    <a:lnTo>
                      <a:pt x="666" y="7338"/>
                    </a:lnTo>
                    <a:lnTo>
                      <a:pt x="984" y="7202"/>
                    </a:lnTo>
                    <a:lnTo>
                      <a:pt x="1322" y="7316"/>
                    </a:lnTo>
                    <a:lnTo>
                      <a:pt x="1324" y="7316"/>
                    </a:lnTo>
                    <a:lnTo>
                      <a:pt x="1327" y="7316"/>
                    </a:lnTo>
                    <a:lnTo>
                      <a:pt x="1645" y="7182"/>
                    </a:lnTo>
                    <a:lnTo>
                      <a:pt x="1982" y="7294"/>
                    </a:lnTo>
                    <a:lnTo>
                      <a:pt x="1985" y="7294"/>
                    </a:lnTo>
                    <a:lnTo>
                      <a:pt x="1987" y="7294"/>
                    </a:lnTo>
                    <a:lnTo>
                      <a:pt x="2302" y="7160"/>
                    </a:lnTo>
                    <a:lnTo>
                      <a:pt x="2643" y="7271"/>
                    </a:lnTo>
                    <a:lnTo>
                      <a:pt x="2646" y="7271"/>
                    </a:lnTo>
                    <a:lnTo>
                      <a:pt x="2648" y="7271"/>
                    </a:lnTo>
                    <a:lnTo>
                      <a:pt x="2961" y="7135"/>
                    </a:lnTo>
                    <a:lnTo>
                      <a:pt x="3304" y="7244"/>
                    </a:lnTo>
                    <a:lnTo>
                      <a:pt x="3306" y="7244"/>
                    </a:lnTo>
                    <a:lnTo>
                      <a:pt x="3309" y="7244"/>
                    </a:lnTo>
                    <a:lnTo>
                      <a:pt x="3619" y="7107"/>
                    </a:lnTo>
                    <a:lnTo>
                      <a:pt x="3962" y="7212"/>
                    </a:lnTo>
                    <a:lnTo>
                      <a:pt x="3964" y="7212"/>
                    </a:lnTo>
                    <a:lnTo>
                      <a:pt x="3966" y="7212"/>
                    </a:lnTo>
                    <a:lnTo>
                      <a:pt x="4275" y="7068"/>
                    </a:lnTo>
                    <a:lnTo>
                      <a:pt x="4620" y="7162"/>
                    </a:lnTo>
                    <a:lnTo>
                      <a:pt x="4623" y="7162"/>
                    </a:lnTo>
                    <a:lnTo>
                      <a:pt x="4931" y="6998"/>
                    </a:lnTo>
                    <a:lnTo>
                      <a:pt x="5281" y="7063"/>
                    </a:lnTo>
                    <a:lnTo>
                      <a:pt x="5586" y="6852"/>
                    </a:lnTo>
                    <a:lnTo>
                      <a:pt x="5937" y="6839"/>
                    </a:lnTo>
                    <a:lnTo>
                      <a:pt x="6240" y="6511"/>
                    </a:lnTo>
                    <a:lnTo>
                      <a:pt x="6590" y="6325"/>
                    </a:lnTo>
                    <a:lnTo>
                      <a:pt x="6592" y="6322"/>
                    </a:lnTo>
                    <a:lnTo>
                      <a:pt x="6893" y="5758"/>
                    </a:lnTo>
                    <a:lnTo>
                      <a:pt x="7248" y="5271"/>
                    </a:lnTo>
                    <a:lnTo>
                      <a:pt x="7546" y="4401"/>
                    </a:lnTo>
                    <a:lnTo>
                      <a:pt x="7904" y="3663"/>
                    </a:lnTo>
                    <a:lnTo>
                      <a:pt x="8197" y="2704"/>
                    </a:lnTo>
                    <a:lnTo>
                      <a:pt x="8557" y="2055"/>
                    </a:lnTo>
                    <a:lnTo>
                      <a:pt x="8850" y="1349"/>
                    </a:lnTo>
                    <a:lnTo>
                      <a:pt x="9211" y="1009"/>
                    </a:lnTo>
                    <a:lnTo>
                      <a:pt x="9213" y="1006"/>
                    </a:lnTo>
                    <a:lnTo>
                      <a:pt x="9501" y="601"/>
                    </a:lnTo>
                    <a:lnTo>
                      <a:pt x="9861" y="499"/>
                    </a:lnTo>
                    <a:lnTo>
                      <a:pt x="10149" y="266"/>
                    </a:lnTo>
                    <a:lnTo>
                      <a:pt x="10514" y="278"/>
                    </a:lnTo>
                    <a:lnTo>
                      <a:pt x="10800" y="122"/>
                    </a:lnTo>
                    <a:lnTo>
                      <a:pt x="11163" y="184"/>
                    </a:lnTo>
                    <a:lnTo>
                      <a:pt x="11165" y="184"/>
                    </a:lnTo>
                    <a:lnTo>
                      <a:pt x="11168" y="184"/>
                    </a:lnTo>
                    <a:lnTo>
                      <a:pt x="11448" y="57"/>
                    </a:lnTo>
                    <a:lnTo>
                      <a:pt x="11811" y="137"/>
                    </a:lnTo>
                    <a:lnTo>
                      <a:pt x="11813" y="137"/>
                    </a:lnTo>
                    <a:lnTo>
                      <a:pt x="11815" y="137"/>
                    </a:lnTo>
                    <a:lnTo>
                      <a:pt x="12093" y="22"/>
                    </a:lnTo>
                    <a:lnTo>
                      <a:pt x="12462" y="109"/>
                    </a:lnTo>
                    <a:lnTo>
                      <a:pt x="12464" y="109"/>
                    </a:lnTo>
                    <a:lnTo>
                      <a:pt x="12467" y="109"/>
                    </a:lnTo>
                    <a:lnTo>
                      <a:pt x="12742" y="0"/>
                    </a:lnTo>
                    <a:lnTo>
                      <a:pt x="13110" y="8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Line 159"/>
              <p:cNvSpPr/>
              <p:nvPr/>
            </p:nvSpPr>
            <p:spPr>
              <a:xfrm>
                <a:off x="4457880" y="4938840"/>
                <a:ext cx="1080" cy="1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60"/>
              <p:cNvSpPr/>
              <p:nvPr/>
            </p:nvSpPr>
            <p:spPr>
              <a:xfrm>
                <a:off x="3285360" y="4921920"/>
                <a:ext cx="1137600" cy="67104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671040"/>
                  <a:gd name="textAreaBottom" fmla="*/ 671400 h 671040"/>
                </a:gdLst>
                <a:ahLst/>
                <a:rect l="textAreaLeft" t="textAreaTop" r="textAreaRight" b="textAreaBottom"/>
                <a:pathLst>
                  <a:path w="12417" h="7314">
                    <a:moveTo>
                      <a:pt x="12417" y="90"/>
                    </a:moveTo>
                    <a:lnTo>
                      <a:pt x="12415" y="90"/>
                    </a:lnTo>
                    <a:lnTo>
                      <a:pt x="12050" y="0"/>
                    </a:lnTo>
                    <a:lnTo>
                      <a:pt x="11771" y="112"/>
                    </a:lnTo>
                    <a:lnTo>
                      <a:pt x="11768" y="112"/>
                    </a:lnTo>
                    <a:lnTo>
                      <a:pt x="11766" y="112"/>
                    </a:lnTo>
                    <a:lnTo>
                      <a:pt x="11404" y="27"/>
                    </a:lnTo>
                    <a:lnTo>
                      <a:pt x="11126" y="147"/>
                    </a:lnTo>
                    <a:lnTo>
                      <a:pt x="11123" y="147"/>
                    </a:lnTo>
                    <a:lnTo>
                      <a:pt x="11121" y="147"/>
                    </a:lnTo>
                    <a:lnTo>
                      <a:pt x="10758" y="75"/>
                    </a:lnTo>
                    <a:lnTo>
                      <a:pt x="10478" y="212"/>
                    </a:lnTo>
                    <a:lnTo>
                      <a:pt x="10475" y="212"/>
                    </a:lnTo>
                    <a:lnTo>
                      <a:pt x="10109" y="170"/>
                    </a:lnTo>
                    <a:lnTo>
                      <a:pt x="9824" y="356"/>
                    </a:lnTo>
                    <a:lnTo>
                      <a:pt x="9464" y="388"/>
                    </a:lnTo>
                    <a:lnTo>
                      <a:pt x="9176" y="691"/>
                    </a:lnTo>
                    <a:lnTo>
                      <a:pt x="9174" y="693"/>
                    </a:lnTo>
                    <a:lnTo>
                      <a:pt x="8816" y="894"/>
                    </a:lnTo>
                    <a:lnTo>
                      <a:pt x="8525" y="1439"/>
                    </a:lnTo>
                    <a:lnTo>
                      <a:pt x="8165" y="1934"/>
                    </a:lnTo>
                    <a:lnTo>
                      <a:pt x="7872" y="2794"/>
                    </a:lnTo>
                    <a:lnTo>
                      <a:pt x="7517" y="3532"/>
                    </a:lnTo>
                    <a:lnTo>
                      <a:pt x="7221" y="4491"/>
                    </a:lnTo>
                    <a:lnTo>
                      <a:pt x="6865" y="5130"/>
                    </a:lnTo>
                    <a:lnTo>
                      <a:pt x="6568" y="5848"/>
                    </a:lnTo>
                    <a:lnTo>
                      <a:pt x="6215" y="6174"/>
                    </a:lnTo>
                    <a:lnTo>
                      <a:pt x="5917" y="6598"/>
                    </a:lnTo>
                    <a:lnTo>
                      <a:pt x="5915" y="6601"/>
                    </a:lnTo>
                    <a:lnTo>
                      <a:pt x="5562" y="6685"/>
                    </a:lnTo>
                    <a:lnTo>
                      <a:pt x="5261" y="6942"/>
                    </a:lnTo>
                    <a:lnTo>
                      <a:pt x="4911" y="6909"/>
                    </a:lnTo>
                    <a:lnTo>
                      <a:pt x="4606" y="7088"/>
                    </a:lnTo>
                    <a:lnTo>
                      <a:pt x="4258" y="7006"/>
                    </a:lnTo>
                    <a:lnTo>
                      <a:pt x="3953" y="7158"/>
                    </a:lnTo>
                    <a:lnTo>
                      <a:pt x="3950" y="7158"/>
                    </a:lnTo>
                    <a:lnTo>
                      <a:pt x="3948" y="7158"/>
                    </a:lnTo>
                    <a:lnTo>
                      <a:pt x="3602" y="7056"/>
                    </a:lnTo>
                    <a:lnTo>
                      <a:pt x="3296" y="7197"/>
                    </a:lnTo>
                    <a:lnTo>
                      <a:pt x="3294" y="7197"/>
                    </a:lnTo>
                    <a:lnTo>
                      <a:pt x="3291" y="7197"/>
                    </a:lnTo>
                    <a:lnTo>
                      <a:pt x="2949" y="7088"/>
                    </a:lnTo>
                    <a:lnTo>
                      <a:pt x="2639" y="7225"/>
                    </a:lnTo>
                    <a:lnTo>
                      <a:pt x="2636" y="7225"/>
                    </a:lnTo>
                    <a:lnTo>
                      <a:pt x="2634" y="7225"/>
                    </a:lnTo>
                    <a:lnTo>
                      <a:pt x="2294" y="7116"/>
                    </a:lnTo>
                    <a:lnTo>
                      <a:pt x="1980" y="7250"/>
                    </a:lnTo>
                    <a:lnTo>
                      <a:pt x="1977" y="7250"/>
                    </a:lnTo>
                    <a:lnTo>
                      <a:pt x="1975" y="7250"/>
                    </a:lnTo>
                    <a:lnTo>
                      <a:pt x="1637" y="7138"/>
                    </a:lnTo>
                    <a:lnTo>
                      <a:pt x="1322" y="7272"/>
                    </a:lnTo>
                    <a:lnTo>
                      <a:pt x="1320" y="7272"/>
                    </a:lnTo>
                    <a:lnTo>
                      <a:pt x="1317" y="7272"/>
                    </a:lnTo>
                    <a:lnTo>
                      <a:pt x="979" y="7160"/>
                    </a:lnTo>
                    <a:lnTo>
                      <a:pt x="662" y="7292"/>
                    </a:lnTo>
                    <a:lnTo>
                      <a:pt x="659" y="7292"/>
                    </a:lnTo>
                    <a:lnTo>
                      <a:pt x="657" y="7292"/>
                    </a:lnTo>
                    <a:lnTo>
                      <a:pt x="321" y="7180"/>
                    </a:lnTo>
                    <a:lnTo>
                      <a:pt x="3" y="7314"/>
                    </a:lnTo>
                    <a:lnTo>
                      <a:pt x="0" y="731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61"/>
              <p:cNvSpPr/>
              <p:nvPr/>
            </p:nvSpPr>
            <p:spPr>
              <a:xfrm>
                <a:off x="3315240" y="4913640"/>
                <a:ext cx="1074600" cy="666360"/>
              </a:xfrm>
              <a:custGeom>
                <a:avLst/>
                <a:gdLst/>
                <a:ahLst/>
                <a:rect l="l" t="t" r="r" b="b"/>
                <a:pathLst>
                  <a:path w="11729" h="7265">
                    <a:moveTo>
                      <a:pt x="0" y="7265"/>
                    </a:moveTo>
                    <a:lnTo>
                      <a:pt x="2" y="7265"/>
                    </a:lnTo>
                    <a:lnTo>
                      <a:pt x="321" y="7133"/>
                    </a:lnTo>
                    <a:lnTo>
                      <a:pt x="656" y="7245"/>
                    </a:lnTo>
                    <a:lnTo>
                      <a:pt x="658" y="7245"/>
                    </a:lnTo>
                    <a:lnTo>
                      <a:pt x="661" y="7245"/>
                    </a:lnTo>
                    <a:lnTo>
                      <a:pt x="976" y="7111"/>
                    </a:lnTo>
                    <a:lnTo>
                      <a:pt x="1314" y="7223"/>
                    </a:lnTo>
                    <a:lnTo>
                      <a:pt x="1316" y="7223"/>
                    </a:lnTo>
                    <a:lnTo>
                      <a:pt x="1319" y="7223"/>
                    </a:lnTo>
                    <a:lnTo>
                      <a:pt x="1632" y="7089"/>
                    </a:lnTo>
                    <a:lnTo>
                      <a:pt x="1970" y="7201"/>
                    </a:lnTo>
                    <a:lnTo>
                      <a:pt x="1973" y="7201"/>
                    </a:lnTo>
                    <a:lnTo>
                      <a:pt x="1975" y="7201"/>
                    </a:lnTo>
                    <a:lnTo>
                      <a:pt x="2285" y="7066"/>
                    </a:lnTo>
                    <a:lnTo>
                      <a:pt x="2625" y="7173"/>
                    </a:lnTo>
                    <a:lnTo>
                      <a:pt x="2628" y="7173"/>
                    </a:lnTo>
                    <a:lnTo>
                      <a:pt x="2630" y="7173"/>
                    </a:lnTo>
                    <a:lnTo>
                      <a:pt x="2938" y="7039"/>
                    </a:lnTo>
                    <a:lnTo>
                      <a:pt x="3278" y="7141"/>
                    </a:lnTo>
                    <a:lnTo>
                      <a:pt x="3281" y="7141"/>
                    </a:lnTo>
                    <a:lnTo>
                      <a:pt x="3283" y="7141"/>
                    </a:lnTo>
                    <a:lnTo>
                      <a:pt x="3590" y="6999"/>
                    </a:lnTo>
                    <a:lnTo>
                      <a:pt x="3935" y="7091"/>
                    </a:lnTo>
                    <a:lnTo>
                      <a:pt x="3937" y="7091"/>
                    </a:lnTo>
                    <a:lnTo>
                      <a:pt x="4242" y="6930"/>
                    </a:lnTo>
                    <a:lnTo>
                      <a:pt x="4590" y="6994"/>
                    </a:lnTo>
                    <a:lnTo>
                      <a:pt x="4893" y="6785"/>
                    </a:lnTo>
                    <a:lnTo>
                      <a:pt x="5241" y="6770"/>
                    </a:lnTo>
                    <a:lnTo>
                      <a:pt x="5542" y="6445"/>
                    </a:lnTo>
                    <a:lnTo>
                      <a:pt x="5892" y="6261"/>
                    </a:lnTo>
                    <a:lnTo>
                      <a:pt x="5894" y="6259"/>
                    </a:lnTo>
                    <a:lnTo>
                      <a:pt x="6192" y="5699"/>
                    </a:lnTo>
                    <a:lnTo>
                      <a:pt x="6544" y="5215"/>
                    </a:lnTo>
                    <a:lnTo>
                      <a:pt x="6841" y="4349"/>
                    </a:lnTo>
                    <a:lnTo>
                      <a:pt x="7196" y="3617"/>
                    </a:lnTo>
                    <a:lnTo>
                      <a:pt x="7489" y="2662"/>
                    </a:lnTo>
                    <a:lnTo>
                      <a:pt x="7844" y="2019"/>
                    </a:lnTo>
                    <a:lnTo>
                      <a:pt x="8137" y="1318"/>
                    </a:lnTo>
                    <a:lnTo>
                      <a:pt x="8495" y="979"/>
                    </a:lnTo>
                    <a:lnTo>
                      <a:pt x="8498" y="977"/>
                    </a:lnTo>
                    <a:lnTo>
                      <a:pt x="8783" y="575"/>
                    </a:lnTo>
                    <a:lnTo>
                      <a:pt x="9143" y="473"/>
                    </a:lnTo>
                    <a:lnTo>
                      <a:pt x="9428" y="240"/>
                    </a:lnTo>
                    <a:lnTo>
                      <a:pt x="9788" y="255"/>
                    </a:lnTo>
                    <a:lnTo>
                      <a:pt x="10075" y="97"/>
                    </a:lnTo>
                    <a:lnTo>
                      <a:pt x="10435" y="160"/>
                    </a:lnTo>
                    <a:lnTo>
                      <a:pt x="10437" y="160"/>
                    </a:lnTo>
                    <a:lnTo>
                      <a:pt x="10440" y="160"/>
                    </a:lnTo>
                    <a:lnTo>
                      <a:pt x="10718" y="35"/>
                    </a:lnTo>
                    <a:lnTo>
                      <a:pt x="11080" y="112"/>
                    </a:lnTo>
                    <a:lnTo>
                      <a:pt x="11083" y="112"/>
                    </a:lnTo>
                    <a:lnTo>
                      <a:pt x="11085" y="112"/>
                    </a:lnTo>
                    <a:lnTo>
                      <a:pt x="11361" y="0"/>
                    </a:lnTo>
                    <a:lnTo>
                      <a:pt x="11727" y="85"/>
                    </a:lnTo>
                    <a:lnTo>
                      <a:pt x="11729" y="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62"/>
              <p:cNvSpPr/>
              <p:nvPr/>
            </p:nvSpPr>
            <p:spPr>
              <a:xfrm>
                <a:off x="3343680" y="4906800"/>
                <a:ext cx="1012680" cy="661320"/>
              </a:xfrm>
              <a:custGeom>
                <a:avLst/>
                <a:gdLst>
                  <a:gd name="textAreaLeft" fmla="*/ 0 w 1012680"/>
                  <a:gd name="textAreaRight" fmla="*/ 1013040 w 101268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11040" h="7217">
                    <a:moveTo>
                      <a:pt x="11040" y="84"/>
                    </a:moveTo>
                    <a:lnTo>
                      <a:pt x="11037" y="84"/>
                    </a:lnTo>
                    <a:lnTo>
                      <a:pt x="10677" y="0"/>
                    </a:lnTo>
                    <a:lnTo>
                      <a:pt x="10399" y="119"/>
                    </a:lnTo>
                    <a:lnTo>
                      <a:pt x="10397" y="119"/>
                    </a:lnTo>
                    <a:lnTo>
                      <a:pt x="10394" y="119"/>
                    </a:lnTo>
                    <a:lnTo>
                      <a:pt x="10034" y="47"/>
                    </a:lnTo>
                    <a:lnTo>
                      <a:pt x="9756" y="181"/>
                    </a:lnTo>
                    <a:lnTo>
                      <a:pt x="9754" y="181"/>
                    </a:lnTo>
                    <a:lnTo>
                      <a:pt x="9390" y="139"/>
                    </a:lnTo>
                    <a:lnTo>
                      <a:pt x="9107" y="324"/>
                    </a:lnTo>
                    <a:lnTo>
                      <a:pt x="8747" y="358"/>
                    </a:lnTo>
                    <a:lnTo>
                      <a:pt x="8462" y="659"/>
                    </a:lnTo>
                    <a:lnTo>
                      <a:pt x="8460" y="661"/>
                    </a:lnTo>
                    <a:lnTo>
                      <a:pt x="8105" y="860"/>
                    </a:lnTo>
                    <a:lnTo>
                      <a:pt x="7816" y="1402"/>
                    </a:lnTo>
                    <a:lnTo>
                      <a:pt x="7458" y="1893"/>
                    </a:lnTo>
                    <a:lnTo>
                      <a:pt x="7168" y="2746"/>
                    </a:lnTo>
                    <a:lnTo>
                      <a:pt x="6813" y="3482"/>
                    </a:lnTo>
                    <a:lnTo>
                      <a:pt x="6520" y="4433"/>
                    </a:lnTo>
                    <a:lnTo>
                      <a:pt x="6166" y="5070"/>
                    </a:lnTo>
                    <a:lnTo>
                      <a:pt x="5871" y="5783"/>
                    </a:lnTo>
                    <a:lnTo>
                      <a:pt x="5521" y="6106"/>
                    </a:lnTo>
                    <a:lnTo>
                      <a:pt x="5223" y="6526"/>
                    </a:lnTo>
                    <a:lnTo>
                      <a:pt x="5221" y="6529"/>
                    </a:lnTo>
                    <a:lnTo>
                      <a:pt x="4873" y="6616"/>
                    </a:lnTo>
                    <a:lnTo>
                      <a:pt x="4572" y="6869"/>
                    </a:lnTo>
                    <a:lnTo>
                      <a:pt x="4224" y="6837"/>
                    </a:lnTo>
                    <a:lnTo>
                      <a:pt x="3921" y="7014"/>
                    </a:lnTo>
                    <a:lnTo>
                      <a:pt x="3574" y="6934"/>
                    </a:lnTo>
                    <a:lnTo>
                      <a:pt x="3271" y="7083"/>
                    </a:lnTo>
                    <a:lnTo>
                      <a:pt x="3269" y="7083"/>
                    </a:lnTo>
                    <a:lnTo>
                      <a:pt x="3266" y="7083"/>
                    </a:lnTo>
                    <a:lnTo>
                      <a:pt x="2925" y="6983"/>
                    </a:lnTo>
                    <a:lnTo>
                      <a:pt x="2620" y="7123"/>
                    </a:lnTo>
                    <a:lnTo>
                      <a:pt x="2617" y="7123"/>
                    </a:lnTo>
                    <a:lnTo>
                      <a:pt x="2615" y="7123"/>
                    </a:lnTo>
                    <a:lnTo>
                      <a:pt x="2275" y="7016"/>
                    </a:lnTo>
                    <a:lnTo>
                      <a:pt x="1967" y="7150"/>
                    </a:lnTo>
                    <a:lnTo>
                      <a:pt x="1964" y="7150"/>
                    </a:lnTo>
                    <a:lnTo>
                      <a:pt x="1962" y="7150"/>
                    </a:lnTo>
                    <a:lnTo>
                      <a:pt x="1624" y="7041"/>
                    </a:lnTo>
                    <a:lnTo>
                      <a:pt x="1313" y="7173"/>
                    </a:lnTo>
                    <a:lnTo>
                      <a:pt x="1311" y="7173"/>
                    </a:lnTo>
                    <a:lnTo>
                      <a:pt x="1308" y="7173"/>
                    </a:lnTo>
                    <a:lnTo>
                      <a:pt x="970" y="7064"/>
                    </a:lnTo>
                    <a:lnTo>
                      <a:pt x="658" y="7195"/>
                    </a:lnTo>
                    <a:lnTo>
                      <a:pt x="655" y="7195"/>
                    </a:lnTo>
                    <a:lnTo>
                      <a:pt x="653" y="7195"/>
                    </a:lnTo>
                    <a:lnTo>
                      <a:pt x="318" y="7086"/>
                    </a:lnTo>
                    <a:lnTo>
                      <a:pt x="2" y="7217"/>
                    </a:lnTo>
                    <a:lnTo>
                      <a:pt x="0" y="721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63"/>
              <p:cNvSpPr/>
              <p:nvPr/>
            </p:nvSpPr>
            <p:spPr>
              <a:xfrm>
                <a:off x="3373560" y="4899240"/>
                <a:ext cx="949680" cy="657000"/>
              </a:xfrm>
              <a:custGeom>
                <a:avLst/>
                <a:gdLst>
                  <a:gd name="textAreaLeft" fmla="*/ 0 w 949680"/>
                  <a:gd name="textAreaRight" fmla="*/ 950040 w 949680"/>
                  <a:gd name="textAreaTop" fmla="*/ 0 h 657000"/>
                  <a:gd name="textAreaBottom" fmla="*/ 657000 h 657000"/>
                </a:gdLst>
                <a:ahLst/>
                <a:rect l="textAreaLeft" t="textAreaTop" r="textAreaRight" b="textAreaBottom"/>
                <a:pathLst>
                  <a:path w="10359" h="7163">
                    <a:moveTo>
                      <a:pt x="0" y="7163"/>
                    </a:moveTo>
                    <a:lnTo>
                      <a:pt x="2" y="7163"/>
                    </a:lnTo>
                    <a:lnTo>
                      <a:pt x="315" y="7030"/>
                    </a:lnTo>
                    <a:lnTo>
                      <a:pt x="650" y="7141"/>
                    </a:lnTo>
                    <a:lnTo>
                      <a:pt x="652" y="7141"/>
                    </a:lnTo>
                    <a:lnTo>
                      <a:pt x="655" y="7141"/>
                    </a:lnTo>
                    <a:lnTo>
                      <a:pt x="965" y="7008"/>
                    </a:lnTo>
                    <a:lnTo>
                      <a:pt x="1304" y="7118"/>
                    </a:lnTo>
                    <a:lnTo>
                      <a:pt x="1306" y="7118"/>
                    </a:lnTo>
                    <a:lnTo>
                      <a:pt x="1309" y="7118"/>
                    </a:lnTo>
                    <a:lnTo>
                      <a:pt x="1617" y="6986"/>
                    </a:lnTo>
                    <a:lnTo>
                      <a:pt x="1954" y="7093"/>
                    </a:lnTo>
                    <a:lnTo>
                      <a:pt x="1957" y="7093"/>
                    </a:lnTo>
                    <a:lnTo>
                      <a:pt x="1959" y="7093"/>
                    </a:lnTo>
                    <a:lnTo>
                      <a:pt x="2264" y="6958"/>
                    </a:lnTo>
                    <a:lnTo>
                      <a:pt x="2605" y="7060"/>
                    </a:lnTo>
                    <a:lnTo>
                      <a:pt x="2607" y="7060"/>
                    </a:lnTo>
                    <a:lnTo>
                      <a:pt x="2610" y="7060"/>
                    </a:lnTo>
                    <a:lnTo>
                      <a:pt x="2913" y="6919"/>
                    </a:lnTo>
                    <a:lnTo>
                      <a:pt x="3253" y="7011"/>
                    </a:lnTo>
                    <a:lnTo>
                      <a:pt x="3256" y="7011"/>
                    </a:lnTo>
                    <a:lnTo>
                      <a:pt x="3561" y="6852"/>
                    </a:lnTo>
                    <a:lnTo>
                      <a:pt x="3906" y="6914"/>
                    </a:lnTo>
                    <a:lnTo>
                      <a:pt x="4207" y="6705"/>
                    </a:lnTo>
                    <a:lnTo>
                      <a:pt x="4555" y="6693"/>
                    </a:lnTo>
                    <a:lnTo>
                      <a:pt x="4853" y="6370"/>
                    </a:lnTo>
                    <a:lnTo>
                      <a:pt x="5201" y="6185"/>
                    </a:lnTo>
                    <a:lnTo>
                      <a:pt x="5203" y="6183"/>
                    </a:lnTo>
                    <a:lnTo>
                      <a:pt x="5498" y="5629"/>
                    </a:lnTo>
                    <a:lnTo>
                      <a:pt x="5848" y="5147"/>
                    </a:lnTo>
                    <a:lnTo>
                      <a:pt x="6145" y="4287"/>
                    </a:lnTo>
                    <a:lnTo>
                      <a:pt x="6495" y="3559"/>
                    </a:lnTo>
                    <a:lnTo>
                      <a:pt x="6788" y="2612"/>
                    </a:lnTo>
                    <a:lnTo>
                      <a:pt x="7140" y="1970"/>
                    </a:lnTo>
                    <a:lnTo>
                      <a:pt x="7431" y="1275"/>
                    </a:lnTo>
                    <a:lnTo>
                      <a:pt x="7787" y="937"/>
                    </a:lnTo>
                    <a:lnTo>
                      <a:pt x="7789" y="934"/>
                    </a:lnTo>
                    <a:lnTo>
                      <a:pt x="8072" y="537"/>
                    </a:lnTo>
                    <a:lnTo>
                      <a:pt x="8429" y="435"/>
                    </a:lnTo>
                    <a:lnTo>
                      <a:pt x="8715" y="204"/>
                    </a:lnTo>
                    <a:lnTo>
                      <a:pt x="9072" y="216"/>
                    </a:lnTo>
                    <a:lnTo>
                      <a:pt x="9355" y="65"/>
                    </a:lnTo>
                    <a:lnTo>
                      <a:pt x="9714" y="124"/>
                    </a:lnTo>
                    <a:lnTo>
                      <a:pt x="9716" y="124"/>
                    </a:lnTo>
                    <a:lnTo>
                      <a:pt x="9719" y="124"/>
                    </a:lnTo>
                    <a:lnTo>
                      <a:pt x="9997" y="0"/>
                    </a:lnTo>
                    <a:lnTo>
                      <a:pt x="10357" y="77"/>
                    </a:lnTo>
                    <a:lnTo>
                      <a:pt x="10359" y="7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64"/>
              <p:cNvSpPr/>
              <p:nvPr/>
            </p:nvSpPr>
            <p:spPr>
              <a:xfrm>
                <a:off x="3402000" y="4893480"/>
                <a:ext cx="887400" cy="65088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9682" h="7099">
                    <a:moveTo>
                      <a:pt x="9682" y="69"/>
                    </a:moveTo>
                    <a:lnTo>
                      <a:pt x="9679" y="69"/>
                    </a:lnTo>
                    <a:lnTo>
                      <a:pt x="9322" y="0"/>
                    </a:lnTo>
                    <a:lnTo>
                      <a:pt x="9043" y="134"/>
                    </a:lnTo>
                    <a:lnTo>
                      <a:pt x="9040" y="134"/>
                    </a:lnTo>
                    <a:lnTo>
                      <a:pt x="8683" y="91"/>
                    </a:lnTo>
                    <a:lnTo>
                      <a:pt x="8400" y="273"/>
                    </a:lnTo>
                    <a:lnTo>
                      <a:pt x="8042" y="307"/>
                    </a:lnTo>
                    <a:lnTo>
                      <a:pt x="7757" y="606"/>
                    </a:lnTo>
                    <a:lnTo>
                      <a:pt x="7755" y="609"/>
                    </a:lnTo>
                    <a:lnTo>
                      <a:pt x="7401" y="807"/>
                    </a:lnTo>
                    <a:lnTo>
                      <a:pt x="7116" y="1344"/>
                    </a:lnTo>
                    <a:lnTo>
                      <a:pt x="6761" y="1833"/>
                    </a:lnTo>
                    <a:lnTo>
                      <a:pt x="6473" y="2681"/>
                    </a:lnTo>
                    <a:lnTo>
                      <a:pt x="6120" y="3409"/>
                    </a:lnTo>
                    <a:lnTo>
                      <a:pt x="5830" y="4356"/>
                    </a:lnTo>
                    <a:lnTo>
                      <a:pt x="5479" y="4987"/>
                    </a:lnTo>
                    <a:lnTo>
                      <a:pt x="5183" y="5698"/>
                    </a:lnTo>
                    <a:lnTo>
                      <a:pt x="4836" y="6019"/>
                    </a:lnTo>
                    <a:lnTo>
                      <a:pt x="4540" y="6437"/>
                    </a:lnTo>
                    <a:lnTo>
                      <a:pt x="4538" y="6439"/>
                    </a:lnTo>
                    <a:lnTo>
                      <a:pt x="4193" y="6523"/>
                    </a:lnTo>
                    <a:lnTo>
                      <a:pt x="3892" y="6774"/>
                    </a:lnTo>
                    <a:lnTo>
                      <a:pt x="3547" y="6744"/>
                    </a:lnTo>
                    <a:lnTo>
                      <a:pt x="3246" y="6921"/>
                    </a:lnTo>
                    <a:lnTo>
                      <a:pt x="2901" y="6841"/>
                    </a:lnTo>
                    <a:lnTo>
                      <a:pt x="2601" y="6988"/>
                    </a:lnTo>
                    <a:lnTo>
                      <a:pt x="2598" y="6988"/>
                    </a:lnTo>
                    <a:lnTo>
                      <a:pt x="2596" y="6988"/>
                    </a:lnTo>
                    <a:lnTo>
                      <a:pt x="2255" y="6891"/>
                    </a:lnTo>
                    <a:lnTo>
                      <a:pt x="1952" y="7027"/>
                    </a:lnTo>
                    <a:lnTo>
                      <a:pt x="1949" y="7027"/>
                    </a:lnTo>
                    <a:lnTo>
                      <a:pt x="1947" y="7027"/>
                    </a:lnTo>
                    <a:lnTo>
                      <a:pt x="1609" y="6921"/>
                    </a:lnTo>
                    <a:lnTo>
                      <a:pt x="1304" y="7055"/>
                    </a:lnTo>
                    <a:lnTo>
                      <a:pt x="1302" y="7055"/>
                    </a:lnTo>
                    <a:lnTo>
                      <a:pt x="1299" y="7055"/>
                    </a:lnTo>
                    <a:lnTo>
                      <a:pt x="964" y="6945"/>
                    </a:lnTo>
                    <a:lnTo>
                      <a:pt x="653" y="7077"/>
                    </a:lnTo>
                    <a:lnTo>
                      <a:pt x="650" y="7077"/>
                    </a:lnTo>
                    <a:lnTo>
                      <a:pt x="648" y="7077"/>
                    </a:lnTo>
                    <a:lnTo>
                      <a:pt x="315" y="6968"/>
                    </a:lnTo>
                    <a:lnTo>
                      <a:pt x="2" y="7099"/>
                    </a:lnTo>
                    <a:lnTo>
                      <a:pt x="0" y="709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65"/>
              <p:cNvSpPr/>
              <p:nvPr/>
            </p:nvSpPr>
            <p:spPr>
              <a:xfrm>
                <a:off x="3430800" y="4887360"/>
                <a:ext cx="825480" cy="6451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645120"/>
                  <a:gd name="textAreaBottom" fmla="*/ 645120 h 645120"/>
                </a:gdLst>
                <a:ahLst/>
                <a:rect l="textAreaLeft" t="textAreaTop" r="textAreaRight" b="textAreaBottom"/>
                <a:pathLst>
                  <a:path w="9007" h="7028">
                    <a:moveTo>
                      <a:pt x="0" y="7028"/>
                    </a:moveTo>
                    <a:lnTo>
                      <a:pt x="3" y="7028"/>
                    </a:lnTo>
                    <a:lnTo>
                      <a:pt x="310" y="6899"/>
                    </a:lnTo>
                    <a:lnTo>
                      <a:pt x="647" y="7005"/>
                    </a:lnTo>
                    <a:lnTo>
                      <a:pt x="649" y="7005"/>
                    </a:lnTo>
                    <a:lnTo>
                      <a:pt x="651" y="7005"/>
                    </a:lnTo>
                    <a:lnTo>
                      <a:pt x="957" y="6876"/>
                    </a:lnTo>
                    <a:lnTo>
                      <a:pt x="1292" y="6981"/>
                    </a:lnTo>
                    <a:lnTo>
                      <a:pt x="1294" y="6981"/>
                    </a:lnTo>
                    <a:lnTo>
                      <a:pt x="1297" y="6981"/>
                    </a:lnTo>
                    <a:lnTo>
                      <a:pt x="1602" y="6849"/>
                    </a:lnTo>
                    <a:lnTo>
                      <a:pt x="1937" y="6951"/>
                    </a:lnTo>
                    <a:lnTo>
                      <a:pt x="1940" y="6951"/>
                    </a:lnTo>
                    <a:lnTo>
                      <a:pt x="1942" y="6951"/>
                    </a:lnTo>
                    <a:lnTo>
                      <a:pt x="2246" y="6812"/>
                    </a:lnTo>
                    <a:lnTo>
                      <a:pt x="2584" y="6901"/>
                    </a:lnTo>
                    <a:lnTo>
                      <a:pt x="2586" y="6901"/>
                    </a:lnTo>
                    <a:lnTo>
                      <a:pt x="2889" y="6742"/>
                    </a:lnTo>
                    <a:lnTo>
                      <a:pt x="3232" y="6804"/>
                    </a:lnTo>
                    <a:lnTo>
                      <a:pt x="3532" y="6601"/>
                    </a:lnTo>
                    <a:lnTo>
                      <a:pt x="3878" y="6583"/>
                    </a:lnTo>
                    <a:lnTo>
                      <a:pt x="4173" y="6265"/>
                    </a:lnTo>
                    <a:lnTo>
                      <a:pt x="4518" y="6081"/>
                    </a:lnTo>
                    <a:lnTo>
                      <a:pt x="4521" y="6079"/>
                    </a:lnTo>
                    <a:lnTo>
                      <a:pt x="4814" y="5528"/>
                    </a:lnTo>
                    <a:lnTo>
                      <a:pt x="5164" y="5047"/>
                    </a:lnTo>
                    <a:lnTo>
                      <a:pt x="5454" y="4195"/>
                    </a:lnTo>
                    <a:lnTo>
                      <a:pt x="5805" y="3469"/>
                    </a:lnTo>
                    <a:lnTo>
                      <a:pt x="6096" y="2530"/>
                    </a:lnTo>
                    <a:lnTo>
                      <a:pt x="6446" y="1893"/>
                    </a:lnTo>
                    <a:lnTo>
                      <a:pt x="6734" y="1202"/>
                    </a:lnTo>
                    <a:lnTo>
                      <a:pt x="7086" y="867"/>
                    </a:lnTo>
                    <a:lnTo>
                      <a:pt x="7089" y="865"/>
                    </a:lnTo>
                    <a:lnTo>
                      <a:pt x="7373" y="470"/>
                    </a:lnTo>
                    <a:lnTo>
                      <a:pt x="7727" y="367"/>
                    </a:lnTo>
                    <a:lnTo>
                      <a:pt x="8010" y="139"/>
                    </a:lnTo>
                    <a:lnTo>
                      <a:pt x="8368" y="151"/>
                    </a:lnTo>
                    <a:lnTo>
                      <a:pt x="8648" y="0"/>
                    </a:lnTo>
                    <a:lnTo>
                      <a:pt x="9004" y="60"/>
                    </a:lnTo>
                    <a:lnTo>
                      <a:pt x="9007" y="6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66"/>
              <p:cNvSpPr/>
              <p:nvPr/>
            </p:nvSpPr>
            <p:spPr>
              <a:xfrm>
                <a:off x="3459240" y="4884120"/>
                <a:ext cx="764640" cy="636480"/>
              </a:xfrm>
              <a:custGeom>
                <a:avLst/>
                <a:gdLst>
                  <a:gd name="textAreaLeft" fmla="*/ 0 w 764640"/>
                  <a:gd name="textAreaRight" fmla="*/ 765000 w 764640"/>
                  <a:gd name="textAreaTop" fmla="*/ 0 h 636480"/>
                  <a:gd name="textAreaBottom" fmla="*/ 636840 h 636480"/>
                </a:gdLst>
                <a:ahLst/>
                <a:rect l="textAreaLeft" t="textAreaTop" r="textAreaRight" b="textAreaBottom"/>
                <a:pathLst>
                  <a:path w="8338" h="6939">
                    <a:moveTo>
                      <a:pt x="8338" y="40"/>
                    </a:moveTo>
                    <a:lnTo>
                      <a:pt x="7981" y="0"/>
                    </a:lnTo>
                    <a:lnTo>
                      <a:pt x="7700" y="179"/>
                    </a:lnTo>
                    <a:lnTo>
                      <a:pt x="7348" y="214"/>
                    </a:lnTo>
                    <a:lnTo>
                      <a:pt x="7063" y="510"/>
                    </a:lnTo>
                    <a:lnTo>
                      <a:pt x="7060" y="513"/>
                    </a:lnTo>
                    <a:lnTo>
                      <a:pt x="6709" y="711"/>
                    </a:lnTo>
                    <a:lnTo>
                      <a:pt x="6424" y="1242"/>
                    </a:lnTo>
                    <a:lnTo>
                      <a:pt x="6074" y="1730"/>
                    </a:lnTo>
                    <a:lnTo>
                      <a:pt x="5786" y="2570"/>
                    </a:lnTo>
                    <a:lnTo>
                      <a:pt x="5436" y="3296"/>
                    </a:lnTo>
                    <a:lnTo>
                      <a:pt x="5144" y="4235"/>
                    </a:lnTo>
                    <a:lnTo>
                      <a:pt x="4797" y="4864"/>
                    </a:lnTo>
                    <a:lnTo>
                      <a:pt x="4504" y="5568"/>
                    </a:lnTo>
                    <a:lnTo>
                      <a:pt x="4159" y="5890"/>
                    </a:lnTo>
                    <a:lnTo>
                      <a:pt x="3866" y="6302"/>
                    </a:lnTo>
                    <a:lnTo>
                      <a:pt x="3863" y="6305"/>
                    </a:lnTo>
                    <a:lnTo>
                      <a:pt x="3521" y="6390"/>
                    </a:lnTo>
                    <a:lnTo>
                      <a:pt x="3222" y="6641"/>
                    </a:lnTo>
                    <a:lnTo>
                      <a:pt x="2879" y="6609"/>
                    </a:lnTo>
                    <a:lnTo>
                      <a:pt x="2579" y="6782"/>
                    </a:lnTo>
                    <a:lnTo>
                      <a:pt x="2239" y="6705"/>
                    </a:lnTo>
                    <a:lnTo>
                      <a:pt x="1939" y="6852"/>
                    </a:lnTo>
                    <a:lnTo>
                      <a:pt x="1936" y="6852"/>
                    </a:lnTo>
                    <a:lnTo>
                      <a:pt x="1934" y="6852"/>
                    </a:lnTo>
                    <a:lnTo>
                      <a:pt x="1595" y="6755"/>
                    </a:lnTo>
                    <a:lnTo>
                      <a:pt x="1295" y="6889"/>
                    </a:lnTo>
                    <a:lnTo>
                      <a:pt x="1292" y="6889"/>
                    </a:lnTo>
                    <a:lnTo>
                      <a:pt x="1290" y="6889"/>
                    </a:lnTo>
                    <a:lnTo>
                      <a:pt x="955" y="6785"/>
                    </a:lnTo>
                    <a:lnTo>
                      <a:pt x="649" y="6916"/>
                    </a:lnTo>
                    <a:lnTo>
                      <a:pt x="647" y="6916"/>
                    </a:lnTo>
                    <a:lnTo>
                      <a:pt x="644" y="6916"/>
                    </a:lnTo>
                    <a:lnTo>
                      <a:pt x="312" y="6810"/>
                    </a:lnTo>
                    <a:lnTo>
                      <a:pt x="3" y="6939"/>
                    </a:lnTo>
                    <a:lnTo>
                      <a:pt x="0" y="69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67"/>
              <p:cNvSpPr/>
              <p:nvPr/>
            </p:nvSpPr>
            <p:spPr>
              <a:xfrm>
                <a:off x="3488040" y="4883040"/>
                <a:ext cx="702720" cy="625680"/>
              </a:xfrm>
              <a:custGeom>
                <a:avLst/>
                <a:gdLst>
                  <a:gd name="textAreaLeft" fmla="*/ 0 w 702720"/>
                  <a:gd name="textAreaRight" fmla="*/ 703080 w 702720"/>
                  <a:gd name="textAreaTop" fmla="*/ 0 h 625680"/>
                  <a:gd name="textAreaBottom" fmla="*/ 626040 h 625680"/>
                </a:gdLst>
                <a:ahLst/>
                <a:rect l="textAreaLeft" t="textAreaTop" r="textAreaRight" b="textAreaBottom"/>
                <a:pathLst>
                  <a:path w="7669" h="6822">
                    <a:moveTo>
                      <a:pt x="0" y="6822"/>
                    </a:moveTo>
                    <a:lnTo>
                      <a:pt x="2" y="6822"/>
                    </a:lnTo>
                    <a:lnTo>
                      <a:pt x="305" y="6693"/>
                    </a:lnTo>
                    <a:lnTo>
                      <a:pt x="640" y="6797"/>
                    </a:lnTo>
                    <a:lnTo>
                      <a:pt x="643" y="6797"/>
                    </a:lnTo>
                    <a:lnTo>
                      <a:pt x="645" y="6797"/>
                    </a:lnTo>
                    <a:lnTo>
                      <a:pt x="945" y="6665"/>
                    </a:lnTo>
                    <a:lnTo>
                      <a:pt x="1281" y="6767"/>
                    </a:lnTo>
                    <a:lnTo>
                      <a:pt x="1283" y="6767"/>
                    </a:lnTo>
                    <a:lnTo>
                      <a:pt x="1286" y="6767"/>
                    </a:lnTo>
                    <a:lnTo>
                      <a:pt x="1587" y="6628"/>
                    </a:lnTo>
                    <a:lnTo>
                      <a:pt x="1924" y="6717"/>
                    </a:lnTo>
                    <a:lnTo>
                      <a:pt x="1927" y="6717"/>
                    </a:lnTo>
                    <a:lnTo>
                      <a:pt x="2225" y="6561"/>
                    </a:lnTo>
                    <a:lnTo>
                      <a:pt x="2567" y="6621"/>
                    </a:lnTo>
                    <a:lnTo>
                      <a:pt x="2865" y="6420"/>
                    </a:lnTo>
                    <a:lnTo>
                      <a:pt x="3209" y="6402"/>
                    </a:lnTo>
                    <a:lnTo>
                      <a:pt x="3504" y="6086"/>
                    </a:lnTo>
                    <a:lnTo>
                      <a:pt x="3844" y="5905"/>
                    </a:lnTo>
                    <a:lnTo>
                      <a:pt x="3847" y="5902"/>
                    </a:lnTo>
                    <a:lnTo>
                      <a:pt x="4140" y="5355"/>
                    </a:lnTo>
                    <a:lnTo>
                      <a:pt x="4485" y="4876"/>
                    </a:lnTo>
                    <a:lnTo>
                      <a:pt x="4775" y="4031"/>
                    </a:lnTo>
                    <a:lnTo>
                      <a:pt x="5124" y="3308"/>
                    </a:lnTo>
                    <a:lnTo>
                      <a:pt x="5412" y="2376"/>
                    </a:lnTo>
                    <a:lnTo>
                      <a:pt x="5762" y="1742"/>
                    </a:lnTo>
                    <a:lnTo>
                      <a:pt x="6047" y="1056"/>
                    </a:lnTo>
                    <a:lnTo>
                      <a:pt x="6397" y="723"/>
                    </a:lnTo>
                    <a:lnTo>
                      <a:pt x="6400" y="721"/>
                    </a:lnTo>
                    <a:lnTo>
                      <a:pt x="6683" y="327"/>
                    </a:lnTo>
                    <a:lnTo>
                      <a:pt x="7036" y="226"/>
                    </a:lnTo>
                    <a:lnTo>
                      <a:pt x="7316" y="0"/>
                    </a:lnTo>
                    <a:lnTo>
                      <a:pt x="7669" y="1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68"/>
              <p:cNvSpPr/>
              <p:nvPr/>
            </p:nvSpPr>
            <p:spPr>
              <a:xfrm>
                <a:off x="3516480" y="4883040"/>
                <a:ext cx="642240" cy="613800"/>
              </a:xfrm>
              <a:custGeom>
                <a:avLst/>
                <a:gdLst>
                  <a:gd name="textAreaLeft" fmla="*/ 0 w 642240"/>
                  <a:gd name="textAreaRight" fmla="*/ 642600 w 642240"/>
                  <a:gd name="textAreaTop" fmla="*/ 0 h 613800"/>
                  <a:gd name="textAreaBottom" fmla="*/ 613800 h 613800"/>
                </a:gdLst>
                <a:ahLst/>
                <a:rect l="textAreaLeft" t="textAreaTop" r="textAreaRight" b="textAreaBottom"/>
                <a:pathLst>
                  <a:path w="7011" h="6693">
                    <a:moveTo>
                      <a:pt x="7011" y="0"/>
                    </a:moveTo>
                    <a:lnTo>
                      <a:pt x="6659" y="32"/>
                    </a:lnTo>
                    <a:lnTo>
                      <a:pt x="6378" y="327"/>
                    </a:lnTo>
                    <a:lnTo>
                      <a:pt x="6376" y="330"/>
                    </a:lnTo>
                    <a:lnTo>
                      <a:pt x="6027" y="527"/>
                    </a:lnTo>
                    <a:lnTo>
                      <a:pt x="5742" y="1056"/>
                    </a:lnTo>
                    <a:lnTo>
                      <a:pt x="5395" y="1541"/>
                    </a:lnTo>
                    <a:lnTo>
                      <a:pt x="5107" y="2376"/>
                    </a:lnTo>
                    <a:lnTo>
                      <a:pt x="4762" y="3099"/>
                    </a:lnTo>
                    <a:lnTo>
                      <a:pt x="4470" y="4031"/>
                    </a:lnTo>
                    <a:lnTo>
                      <a:pt x="4125" y="4657"/>
                    </a:lnTo>
                    <a:lnTo>
                      <a:pt x="3835" y="5355"/>
                    </a:lnTo>
                    <a:lnTo>
                      <a:pt x="3492" y="5674"/>
                    </a:lnTo>
                    <a:lnTo>
                      <a:pt x="3202" y="6083"/>
                    </a:lnTo>
                    <a:lnTo>
                      <a:pt x="3199" y="6086"/>
                    </a:lnTo>
                    <a:lnTo>
                      <a:pt x="2856" y="6173"/>
                    </a:lnTo>
                    <a:lnTo>
                      <a:pt x="2560" y="6420"/>
                    </a:lnTo>
                    <a:lnTo>
                      <a:pt x="2220" y="6389"/>
                    </a:lnTo>
                    <a:lnTo>
                      <a:pt x="1920" y="6561"/>
                    </a:lnTo>
                    <a:lnTo>
                      <a:pt x="1582" y="6484"/>
                    </a:lnTo>
                    <a:lnTo>
                      <a:pt x="1284" y="6628"/>
                    </a:lnTo>
                    <a:lnTo>
                      <a:pt x="1282" y="6628"/>
                    </a:lnTo>
                    <a:lnTo>
                      <a:pt x="1279" y="6628"/>
                    </a:lnTo>
                    <a:lnTo>
                      <a:pt x="943" y="6534"/>
                    </a:lnTo>
                    <a:lnTo>
                      <a:pt x="643" y="6665"/>
                    </a:lnTo>
                    <a:lnTo>
                      <a:pt x="640" y="6665"/>
                    </a:lnTo>
                    <a:lnTo>
                      <a:pt x="638" y="6665"/>
                    </a:lnTo>
                    <a:lnTo>
                      <a:pt x="305" y="6563"/>
                    </a:lnTo>
                    <a:lnTo>
                      <a:pt x="3" y="6693"/>
                    </a:lnTo>
                    <a:lnTo>
                      <a:pt x="0" y="66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69"/>
              <p:cNvSpPr/>
              <p:nvPr/>
            </p:nvSpPr>
            <p:spPr>
              <a:xfrm>
                <a:off x="3543840" y="4886280"/>
                <a:ext cx="582480" cy="59832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598320"/>
                  <a:gd name="textAreaBottom" fmla="*/ 598320 h 598320"/>
                </a:gdLst>
                <a:ahLst/>
                <a:rect l="textAreaLeft" t="textAreaTop" r="textAreaRight" b="textAreaBottom"/>
                <a:pathLst>
                  <a:path w="6354" h="6531">
                    <a:moveTo>
                      <a:pt x="0" y="6531"/>
                    </a:moveTo>
                    <a:lnTo>
                      <a:pt x="3" y="6531"/>
                    </a:lnTo>
                    <a:lnTo>
                      <a:pt x="303" y="6402"/>
                    </a:lnTo>
                    <a:lnTo>
                      <a:pt x="636" y="6502"/>
                    </a:lnTo>
                    <a:lnTo>
                      <a:pt x="638" y="6502"/>
                    </a:lnTo>
                    <a:lnTo>
                      <a:pt x="641" y="6502"/>
                    </a:lnTo>
                    <a:lnTo>
                      <a:pt x="939" y="6364"/>
                    </a:lnTo>
                    <a:lnTo>
                      <a:pt x="1275" y="6452"/>
                    </a:lnTo>
                    <a:lnTo>
                      <a:pt x="1277" y="6452"/>
                    </a:lnTo>
                    <a:lnTo>
                      <a:pt x="1575" y="6297"/>
                    </a:lnTo>
                    <a:lnTo>
                      <a:pt x="1915" y="6357"/>
                    </a:lnTo>
                    <a:lnTo>
                      <a:pt x="2211" y="6156"/>
                    </a:lnTo>
                    <a:lnTo>
                      <a:pt x="2551" y="6141"/>
                    </a:lnTo>
                    <a:lnTo>
                      <a:pt x="2845" y="5828"/>
                    </a:lnTo>
                    <a:lnTo>
                      <a:pt x="3185" y="5644"/>
                    </a:lnTo>
                    <a:lnTo>
                      <a:pt x="3187" y="5642"/>
                    </a:lnTo>
                    <a:lnTo>
                      <a:pt x="3478" y="5100"/>
                    </a:lnTo>
                    <a:lnTo>
                      <a:pt x="3820" y="4625"/>
                    </a:lnTo>
                    <a:lnTo>
                      <a:pt x="4111" y="3782"/>
                    </a:lnTo>
                    <a:lnTo>
                      <a:pt x="4457" y="3067"/>
                    </a:lnTo>
                    <a:lnTo>
                      <a:pt x="4742" y="2139"/>
                    </a:lnTo>
                    <a:lnTo>
                      <a:pt x="5090" y="1509"/>
                    </a:lnTo>
                    <a:lnTo>
                      <a:pt x="5372" y="828"/>
                    </a:lnTo>
                    <a:lnTo>
                      <a:pt x="5722" y="495"/>
                    </a:lnTo>
                    <a:lnTo>
                      <a:pt x="5725" y="493"/>
                    </a:lnTo>
                    <a:lnTo>
                      <a:pt x="6004" y="102"/>
                    </a:lnTo>
                    <a:lnTo>
                      <a:pt x="6354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70"/>
              <p:cNvSpPr/>
              <p:nvPr/>
            </p:nvSpPr>
            <p:spPr>
              <a:xfrm>
                <a:off x="3571200" y="4894920"/>
                <a:ext cx="523080" cy="57780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5701" h="6300">
                    <a:moveTo>
                      <a:pt x="5701" y="0"/>
                    </a:moveTo>
                    <a:lnTo>
                      <a:pt x="5699" y="2"/>
                    </a:lnTo>
                    <a:lnTo>
                      <a:pt x="5352" y="201"/>
                    </a:lnTo>
                    <a:lnTo>
                      <a:pt x="5069" y="726"/>
                    </a:lnTo>
                    <a:lnTo>
                      <a:pt x="4724" y="1208"/>
                    </a:lnTo>
                    <a:lnTo>
                      <a:pt x="4439" y="2037"/>
                    </a:lnTo>
                    <a:lnTo>
                      <a:pt x="4094" y="2756"/>
                    </a:lnTo>
                    <a:lnTo>
                      <a:pt x="3808" y="3680"/>
                    </a:lnTo>
                    <a:lnTo>
                      <a:pt x="3465" y="4304"/>
                    </a:lnTo>
                    <a:lnTo>
                      <a:pt x="3175" y="4998"/>
                    </a:lnTo>
                    <a:lnTo>
                      <a:pt x="2834" y="5315"/>
                    </a:lnTo>
                    <a:lnTo>
                      <a:pt x="2544" y="5724"/>
                    </a:lnTo>
                    <a:lnTo>
                      <a:pt x="2542" y="5726"/>
                    </a:lnTo>
                    <a:lnTo>
                      <a:pt x="2200" y="5810"/>
                    </a:lnTo>
                    <a:lnTo>
                      <a:pt x="1908" y="6054"/>
                    </a:lnTo>
                    <a:lnTo>
                      <a:pt x="1570" y="6026"/>
                    </a:lnTo>
                    <a:lnTo>
                      <a:pt x="1272" y="6195"/>
                    </a:lnTo>
                    <a:lnTo>
                      <a:pt x="937" y="6121"/>
                    </a:lnTo>
                    <a:lnTo>
                      <a:pt x="638" y="6262"/>
                    </a:lnTo>
                    <a:lnTo>
                      <a:pt x="636" y="6262"/>
                    </a:lnTo>
                    <a:lnTo>
                      <a:pt x="633" y="6262"/>
                    </a:lnTo>
                    <a:lnTo>
                      <a:pt x="301" y="6168"/>
                    </a:lnTo>
                    <a:lnTo>
                      <a:pt x="3" y="6300"/>
                    </a:lnTo>
                    <a:lnTo>
                      <a:pt x="0" y="630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71"/>
              <p:cNvSpPr/>
              <p:nvPr/>
            </p:nvSpPr>
            <p:spPr>
              <a:xfrm>
                <a:off x="3600000" y="4913640"/>
                <a:ext cx="462240" cy="54720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5051" h="5967">
                    <a:moveTo>
                      <a:pt x="0" y="5967"/>
                    </a:moveTo>
                    <a:lnTo>
                      <a:pt x="2" y="5967"/>
                    </a:lnTo>
                    <a:lnTo>
                      <a:pt x="300" y="5833"/>
                    </a:lnTo>
                    <a:lnTo>
                      <a:pt x="634" y="5920"/>
                    </a:lnTo>
                    <a:lnTo>
                      <a:pt x="636" y="5920"/>
                    </a:lnTo>
                    <a:lnTo>
                      <a:pt x="931" y="5766"/>
                    </a:lnTo>
                    <a:lnTo>
                      <a:pt x="1269" y="5825"/>
                    </a:lnTo>
                    <a:lnTo>
                      <a:pt x="1562" y="5627"/>
                    </a:lnTo>
                    <a:lnTo>
                      <a:pt x="1899" y="5609"/>
                    </a:lnTo>
                    <a:lnTo>
                      <a:pt x="2193" y="5299"/>
                    </a:lnTo>
                    <a:lnTo>
                      <a:pt x="2531" y="5117"/>
                    </a:lnTo>
                    <a:lnTo>
                      <a:pt x="2533" y="5114"/>
                    </a:lnTo>
                    <a:lnTo>
                      <a:pt x="2821" y="4576"/>
                    </a:lnTo>
                    <a:lnTo>
                      <a:pt x="3164" y="4103"/>
                    </a:lnTo>
                    <a:lnTo>
                      <a:pt x="3449" y="3268"/>
                    </a:lnTo>
                    <a:lnTo>
                      <a:pt x="3793" y="2555"/>
                    </a:lnTo>
                    <a:lnTo>
                      <a:pt x="4078" y="1633"/>
                    </a:lnTo>
                    <a:lnTo>
                      <a:pt x="4423" y="1007"/>
                    </a:lnTo>
                    <a:lnTo>
                      <a:pt x="4706" y="331"/>
                    </a:lnTo>
                    <a:lnTo>
                      <a:pt x="505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72"/>
              <p:cNvSpPr/>
              <p:nvPr/>
            </p:nvSpPr>
            <p:spPr>
              <a:xfrm>
                <a:off x="3627360" y="4943520"/>
                <a:ext cx="403920" cy="505440"/>
              </a:xfrm>
              <a:custGeom>
                <a:avLst/>
                <a:gdLst>
                  <a:gd name="textAreaLeft" fmla="*/ 0 w 403920"/>
                  <a:gd name="textAreaRight" fmla="*/ 404280 w 403920"/>
                  <a:gd name="textAreaTop" fmla="*/ 0 h 505440"/>
                  <a:gd name="textAreaBottom" fmla="*/ 505800 h 505440"/>
                </a:gdLst>
                <a:ahLst/>
                <a:rect l="textAreaLeft" t="textAreaTop" r="textAreaRight" b="textAreaBottom"/>
                <a:pathLst>
                  <a:path w="4406" h="5502">
                    <a:moveTo>
                      <a:pt x="4406" y="0"/>
                    </a:moveTo>
                    <a:lnTo>
                      <a:pt x="4061" y="479"/>
                    </a:lnTo>
                    <a:lnTo>
                      <a:pt x="3778" y="1302"/>
                    </a:lnTo>
                    <a:lnTo>
                      <a:pt x="3436" y="2018"/>
                    </a:lnTo>
                    <a:lnTo>
                      <a:pt x="3149" y="2937"/>
                    </a:lnTo>
                    <a:lnTo>
                      <a:pt x="2809" y="3556"/>
                    </a:lnTo>
                    <a:lnTo>
                      <a:pt x="2521" y="4245"/>
                    </a:lnTo>
                    <a:lnTo>
                      <a:pt x="2184" y="4560"/>
                    </a:lnTo>
                    <a:lnTo>
                      <a:pt x="1896" y="4966"/>
                    </a:lnTo>
                    <a:lnTo>
                      <a:pt x="1893" y="4968"/>
                    </a:lnTo>
                    <a:lnTo>
                      <a:pt x="1555" y="5053"/>
                    </a:lnTo>
                    <a:lnTo>
                      <a:pt x="1262" y="5296"/>
                    </a:lnTo>
                    <a:lnTo>
                      <a:pt x="927" y="5266"/>
                    </a:lnTo>
                    <a:lnTo>
                      <a:pt x="631" y="5435"/>
                    </a:lnTo>
                    <a:lnTo>
                      <a:pt x="296" y="5360"/>
                    </a:lnTo>
                    <a:lnTo>
                      <a:pt x="2" y="5502"/>
                    </a:lnTo>
                    <a:lnTo>
                      <a:pt x="0" y="55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73"/>
              <p:cNvSpPr/>
              <p:nvPr/>
            </p:nvSpPr>
            <p:spPr>
              <a:xfrm>
                <a:off x="3653280" y="4987800"/>
                <a:ext cx="345240" cy="44820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448200"/>
                  <a:gd name="textAreaBottom" fmla="*/ 448560 h 448200"/>
                </a:gdLst>
                <a:ahLst/>
                <a:rect l="textAreaLeft" t="textAreaTop" r="textAreaRight" b="textAreaBottom"/>
                <a:pathLst>
                  <a:path w="3765" h="4881">
                    <a:moveTo>
                      <a:pt x="0" y="4881"/>
                    </a:moveTo>
                    <a:lnTo>
                      <a:pt x="296" y="4732"/>
                    </a:lnTo>
                    <a:lnTo>
                      <a:pt x="631" y="4787"/>
                    </a:lnTo>
                    <a:lnTo>
                      <a:pt x="924" y="4591"/>
                    </a:lnTo>
                    <a:lnTo>
                      <a:pt x="1259" y="4574"/>
                    </a:lnTo>
                    <a:lnTo>
                      <a:pt x="1550" y="4267"/>
                    </a:lnTo>
                    <a:lnTo>
                      <a:pt x="1885" y="4084"/>
                    </a:lnTo>
                    <a:lnTo>
                      <a:pt x="1888" y="4081"/>
                    </a:lnTo>
                    <a:lnTo>
                      <a:pt x="2176" y="3546"/>
                    </a:lnTo>
                    <a:lnTo>
                      <a:pt x="2513" y="3077"/>
                    </a:lnTo>
                    <a:lnTo>
                      <a:pt x="2799" y="2250"/>
                    </a:lnTo>
                    <a:lnTo>
                      <a:pt x="3140" y="1539"/>
                    </a:lnTo>
                    <a:lnTo>
                      <a:pt x="3425" y="624"/>
                    </a:lnTo>
                    <a:lnTo>
                      <a:pt x="3765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74"/>
              <p:cNvSpPr/>
              <p:nvPr/>
            </p:nvSpPr>
            <p:spPr>
              <a:xfrm>
                <a:off x="3681000" y="5044680"/>
                <a:ext cx="286920" cy="37656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3129" h="4108">
                    <a:moveTo>
                      <a:pt x="3129" y="0"/>
                    </a:moveTo>
                    <a:lnTo>
                      <a:pt x="2789" y="711"/>
                    </a:lnTo>
                    <a:lnTo>
                      <a:pt x="2503" y="1626"/>
                    </a:lnTo>
                    <a:lnTo>
                      <a:pt x="2165" y="2240"/>
                    </a:lnTo>
                    <a:lnTo>
                      <a:pt x="1880" y="2922"/>
                    </a:lnTo>
                    <a:lnTo>
                      <a:pt x="1542" y="3239"/>
                    </a:lnTo>
                    <a:lnTo>
                      <a:pt x="1257" y="3641"/>
                    </a:lnTo>
                    <a:lnTo>
                      <a:pt x="1254" y="3643"/>
                    </a:lnTo>
                    <a:lnTo>
                      <a:pt x="918" y="3728"/>
                    </a:lnTo>
                    <a:lnTo>
                      <a:pt x="628" y="3967"/>
                    </a:lnTo>
                    <a:lnTo>
                      <a:pt x="293" y="3940"/>
                    </a:lnTo>
                    <a:lnTo>
                      <a:pt x="0" y="410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75"/>
              <p:cNvSpPr/>
              <p:nvPr/>
            </p:nvSpPr>
            <p:spPr>
              <a:xfrm>
                <a:off x="3708360" y="5110560"/>
                <a:ext cx="228600" cy="295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96" h="3229">
                    <a:moveTo>
                      <a:pt x="0" y="3229"/>
                    </a:moveTo>
                    <a:lnTo>
                      <a:pt x="290" y="3034"/>
                    </a:lnTo>
                    <a:lnTo>
                      <a:pt x="625" y="3017"/>
                    </a:lnTo>
                    <a:lnTo>
                      <a:pt x="914" y="2711"/>
                    </a:lnTo>
                    <a:lnTo>
                      <a:pt x="1247" y="2530"/>
                    </a:lnTo>
                    <a:lnTo>
                      <a:pt x="1249" y="2528"/>
                    </a:lnTo>
                    <a:lnTo>
                      <a:pt x="1535" y="1998"/>
                    </a:lnTo>
                    <a:lnTo>
                      <a:pt x="1872" y="1529"/>
                    </a:lnTo>
                    <a:lnTo>
                      <a:pt x="2158" y="706"/>
                    </a:lnTo>
                    <a:lnTo>
                      <a:pt x="2496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76"/>
              <p:cNvSpPr/>
              <p:nvPr/>
            </p:nvSpPr>
            <p:spPr>
              <a:xfrm>
                <a:off x="3734280" y="5175000"/>
                <a:ext cx="171360" cy="2131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1868" h="2328">
                    <a:moveTo>
                      <a:pt x="1868" y="0"/>
                    </a:moveTo>
                    <a:lnTo>
                      <a:pt x="1530" y="613"/>
                    </a:lnTo>
                    <a:lnTo>
                      <a:pt x="1245" y="1292"/>
                    </a:lnTo>
                    <a:lnTo>
                      <a:pt x="912" y="1606"/>
                    </a:lnTo>
                    <a:lnTo>
                      <a:pt x="627" y="2003"/>
                    </a:lnTo>
                    <a:lnTo>
                      <a:pt x="624" y="2005"/>
                    </a:lnTo>
                    <a:lnTo>
                      <a:pt x="290" y="2092"/>
                    </a:lnTo>
                    <a:lnTo>
                      <a:pt x="0" y="232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77"/>
              <p:cNvSpPr/>
              <p:nvPr/>
            </p:nvSpPr>
            <p:spPr>
              <a:xfrm>
                <a:off x="3760560" y="5230800"/>
                <a:ext cx="114480" cy="1357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240" h="1479">
                    <a:moveTo>
                      <a:pt x="0" y="1479"/>
                    </a:moveTo>
                    <a:lnTo>
                      <a:pt x="287" y="1176"/>
                    </a:lnTo>
                    <a:lnTo>
                      <a:pt x="620" y="995"/>
                    </a:lnTo>
                    <a:lnTo>
                      <a:pt x="622" y="993"/>
                    </a:lnTo>
                    <a:lnTo>
                      <a:pt x="905" y="465"/>
                    </a:lnTo>
                    <a:lnTo>
                      <a:pt x="124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78"/>
              <p:cNvSpPr/>
              <p:nvPr/>
            </p:nvSpPr>
            <p:spPr>
              <a:xfrm>
                <a:off x="3786840" y="5274000"/>
                <a:ext cx="57240" cy="65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18" h="711">
                    <a:moveTo>
                      <a:pt x="618" y="0"/>
                    </a:moveTo>
                    <a:lnTo>
                      <a:pt x="285" y="313"/>
                    </a:lnTo>
                    <a:lnTo>
                      <a:pt x="2" y="70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79"/>
              <p:cNvSpPr/>
              <p:nvPr/>
            </p:nvSpPr>
            <p:spPr>
              <a:xfrm>
                <a:off x="3255840" y="5598000"/>
                <a:ext cx="15120" cy="7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74" h="72">
                    <a:moveTo>
                      <a:pt x="0" y="72"/>
                    </a:moveTo>
                    <a:lnTo>
                      <a:pt x="3" y="72"/>
                    </a:lnTo>
                    <a:lnTo>
                      <a:pt x="5" y="70"/>
                    </a:lnTo>
                    <a:lnTo>
                      <a:pt x="8" y="70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7"/>
                    </a:lnTo>
                    <a:lnTo>
                      <a:pt x="18" y="65"/>
                    </a:lnTo>
                    <a:lnTo>
                      <a:pt x="20" y="65"/>
                    </a:lnTo>
                    <a:lnTo>
                      <a:pt x="23" y="62"/>
                    </a:lnTo>
                    <a:lnTo>
                      <a:pt x="25" y="62"/>
                    </a:lnTo>
                    <a:lnTo>
                      <a:pt x="28" y="60"/>
                    </a:lnTo>
                    <a:lnTo>
                      <a:pt x="30" y="60"/>
                    </a:lnTo>
                    <a:lnTo>
                      <a:pt x="33" y="60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2" y="55"/>
                    </a:lnTo>
                    <a:lnTo>
                      <a:pt x="45" y="55"/>
                    </a:lnTo>
                    <a:lnTo>
                      <a:pt x="47" y="52"/>
                    </a:lnTo>
                    <a:lnTo>
                      <a:pt x="50" y="52"/>
                    </a:lnTo>
                    <a:lnTo>
                      <a:pt x="52" y="50"/>
                    </a:lnTo>
                    <a:lnTo>
                      <a:pt x="55" y="50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7" y="40"/>
                    </a:lnTo>
                    <a:lnTo>
                      <a:pt x="80" y="40"/>
                    </a:lnTo>
                    <a:lnTo>
                      <a:pt x="82" y="37"/>
                    </a:lnTo>
                    <a:lnTo>
                      <a:pt x="85" y="37"/>
                    </a:lnTo>
                    <a:lnTo>
                      <a:pt x="90" y="35"/>
                    </a:lnTo>
                    <a:lnTo>
                      <a:pt x="92" y="35"/>
                    </a:lnTo>
                    <a:lnTo>
                      <a:pt x="95" y="32"/>
                    </a:lnTo>
                    <a:lnTo>
                      <a:pt x="97" y="32"/>
                    </a:lnTo>
                    <a:lnTo>
                      <a:pt x="102" y="30"/>
                    </a:lnTo>
                    <a:lnTo>
                      <a:pt x="105" y="30"/>
                    </a:lnTo>
                    <a:lnTo>
                      <a:pt x="107" y="27"/>
                    </a:lnTo>
                    <a:lnTo>
                      <a:pt x="110" y="27"/>
                    </a:lnTo>
                    <a:lnTo>
                      <a:pt x="112" y="25"/>
                    </a:lnTo>
                    <a:lnTo>
                      <a:pt x="114" y="25"/>
                    </a:lnTo>
                    <a:lnTo>
                      <a:pt x="119" y="22"/>
                    </a:lnTo>
                    <a:lnTo>
                      <a:pt x="122" y="22"/>
                    </a:lnTo>
                    <a:lnTo>
                      <a:pt x="124" y="20"/>
                    </a:lnTo>
                    <a:lnTo>
                      <a:pt x="127" y="20"/>
                    </a:lnTo>
                    <a:lnTo>
                      <a:pt x="132" y="18"/>
                    </a:lnTo>
                    <a:lnTo>
                      <a:pt x="134" y="18"/>
                    </a:lnTo>
                    <a:lnTo>
                      <a:pt x="137" y="15"/>
                    </a:lnTo>
                    <a:lnTo>
                      <a:pt x="139" y="15"/>
                    </a:lnTo>
                    <a:lnTo>
                      <a:pt x="144" y="13"/>
                    </a:lnTo>
                    <a:lnTo>
                      <a:pt x="147" y="13"/>
                    </a:lnTo>
                    <a:lnTo>
                      <a:pt x="149" y="10"/>
                    </a:lnTo>
                    <a:lnTo>
                      <a:pt x="152" y="10"/>
                    </a:lnTo>
                    <a:lnTo>
                      <a:pt x="154" y="8"/>
                    </a:lnTo>
                    <a:lnTo>
                      <a:pt x="157" y="8"/>
                    </a:lnTo>
                    <a:lnTo>
                      <a:pt x="162" y="5"/>
                    </a:lnTo>
                    <a:lnTo>
                      <a:pt x="164" y="5"/>
                    </a:lnTo>
                    <a:lnTo>
                      <a:pt x="167" y="3"/>
                    </a:lnTo>
                    <a:lnTo>
                      <a:pt x="169" y="3"/>
                    </a:lnTo>
                    <a:lnTo>
                      <a:pt x="1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80"/>
              <p:cNvSpPr/>
              <p:nvPr/>
            </p:nvSpPr>
            <p:spPr>
              <a:xfrm>
                <a:off x="3291480" y="558360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74" h="72">
                    <a:moveTo>
                      <a:pt x="0" y="72"/>
                    </a:moveTo>
                    <a:lnTo>
                      <a:pt x="2" y="72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5" y="62"/>
                    </a:lnTo>
                    <a:lnTo>
                      <a:pt x="30" y="60"/>
                    </a:lnTo>
                    <a:lnTo>
                      <a:pt x="32" y="60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42" y="55"/>
                    </a:lnTo>
                    <a:lnTo>
                      <a:pt x="45" y="55"/>
                    </a:lnTo>
                    <a:lnTo>
                      <a:pt x="47" y="52"/>
                    </a:lnTo>
                    <a:lnTo>
                      <a:pt x="50" y="52"/>
                    </a:lnTo>
                    <a:lnTo>
                      <a:pt x="52" y="50"/>
                    </a:lnTo>
                    <a:lnTo>
                      <a:pt x="55" y="50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72" y="43"/>
                    </a:lnTo>
                    <a:lnTo>
                      <a:pt x="74" y="43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82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5"/>
                    </a:lnTo>
                    <a:lnTo>
                      <a:pt x="92" y="35"/>
                    </a:lnTo>
                    <a:lnTo>
                      <a:pt x="94" y="33"/>
                    </a:lnTo>
                    <a:lnTo>
                      <a:pt x="97" y="33"/>
                    </a:lnTo>
                    <a:lnTo>
                      <a:pt x="102" y="30"/>
                    </a:lnTo>
                    <a:lnTo>
                      <a:pt x="104" y="30"/>
                    </a:lnTo>
                    <a:lnTo>
                      <a:pt x="107" y="28"/>
                    </a:lnTo>
                    <a:lnTo>
                      <a:pt x="109" y="28"/>
                    </a:lnTo>
                    <a:lnTo>
                      <a:pt x="112" y="25"/>
                    </a:lnTo>
                    <a:lnTo>
                      <a:pt x="114" y="25"/>
                    </a:lnTo>
                    <a:lnTo>
                      <a:pt x="117" y="25"/>
                    </a:lnTo>
                    <a:lnTo>
                      <a:pt x="119" y="23"/>
                    </a:lnTo>
                    <a:lnTo>
                      <a:pt x="122" y="23"/>
                    </a:lnTo>
                    <a:lnTo>
                      <a:pt x="124" y="20"/>
                    </a:lnTo>
                    <a:lnTo>
                      <a:pt x="127" y="20"/>
                    </a:lnTo>
                    <a:lnTo>
                      <a:pt x="132" y="18"/>
                    </a:lnTo>
                    <a:lnTo>
                      <a:pt x="134" y="18"/>
                    </a:lnTo>
                    <a:lnTo>
                      <a:pt x="137" y="15"/>
                    </a:lnTo>
                    <a:lnTo>
                      <a:pt x="139" y="15"/>
                    </a:lnTo>
                    <a:lnTo>
                      <a:pt x="141" y="13"/>
                    </a:lnTo>
                    <a:lnTo>
                      <a:pt x="144" y="13"/>
                    </a:lnTo>
                    <a:lnTo>
                      <a:pt x="146" y="13"/>
                    </a:lnTo>
                    <a:lnTo>
                      <a:pt x="149" y="10"/>
                    </a:lnTo>
                    <a:lnTo>
                      <a:pt x="151" y="10"/>
                    </a:lnTo>
                    <a:lnTo>
                      <a:pt x="154" y="8"/>
                    </a:lnTo>
                    <a:lnTo>
                      <a:pt x="156" y="8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4" y="5"/>
                    </a:lnTo>
                    <a:lnTo>
                      <a:pt x="166" y="3"/>
                    </a:lnTo>
                    <a:lnTo>
                      <a:pt x="169" y="3"/>
                    </a:lnTo>
                    <a:lnTo>
                      <a:pt x="171" y="0"/>
                    </a:lnTo>
                    <a:lnTo>
                      <a:pt x="1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81"/>
              <p:cNvSpPr/>
              <p:nvPr/>
            </p:nvSpPr>
            <p:spPr>
              <a:xfrm>
                <a:off x="3308040" y="5581440"/>
                <a:ext cx="3240" cy="2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39" y="0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82"/>
              <p:cNvSpPr/>
              <p:nvPr/>
            </p:nvSpPr>
            <p:spPr>
              <a:xfrm>
                <a:off x="3311640" y="55800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0" y="9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83"/>
              <p:cNvSpPr/>
              <p:nvPr/>
            </p:nvSpPr>
            <p:spPr>
              <a:xfrm>
                <a:off x="3315240" y="557892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84"/>
              <p:cNvSpPr/>
              <p:nvPr/>
            </p:nvSpPr>
            <p:spPr>
              <a:xfrm>
                <a:off x="3332880" y="55638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258" h="107">
                    <a:moveTo>
                      <a:pt x="0" y="107"/>
                    </a:moveTo>
                    <a:lnTo>
                      <a:pt x="3" y="107"/>
                    </a:lnTo>
                    <a:lnTo>
                      <a:pt x="5" y="105"/>
                    </a:lnTo>
                    <a:lnTo>
                      <a:pt x="8" y="105"/>
                    </a:lnTo>
                    <a:lnTo>
                      <a:pt x="10" y="102"/>
                    </a:lnTo>
                    <a:lnTo>
                      <a:pt x="13" y="102"/>
                    </a:lnTo>
                    <a:lnTo>
                      <a:pt x="18" y="100"/>
                    </a:lnTo>
                    <a:lnTo>
                      <a:pt x="20" y="100"/>
                    </a:lnTo>
                    <a:lnTo>
                      <a:pt x="23" y="97"/>
                    </a:lnTo>
                    <a:lnTo>
                      <a:pt x="25" y="97"/>
                    </a:lnTo>
                    <a:lnTo>
                      <a:pt x="30" y="95"/>
                    </a:lnTo>
                    <a:lnTo>
                      <a:pt x="33" y="95"/>
                    </a:lnTo>
                    <a:lnTo>
                      <a:pt x="35" y="92"/>
                    </a:lnTo>
                    <a:lnTo>
                      <a:pt x="38" y="92"/>
                    </a:lnTo>
                    <a:lnTo>
                      <a:pt x="42" y="90"/>
                    </a:lnTo>
                    <a:lnTo>
                      <a:pt x="47" y="87"/>
                    </a:lnTo>
                    <a:lnTo>
                      <a:pt x="50" y="87"/>
                    </a:lnTo>
                    <a:lnTo>
                      <a:pt x="55" y="85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72" y="77"/>
                    </a:lnTo>
                    <a:lnTo>
                      <a:pt x="77" y="75"/>
                    </a:lnTo>
                    <a:lnTo>
                      <a:pt x="80" y="75"/>
                    </a:lnTo>
                    <a:lnTo>
                      <a:pt x="85" y="72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7" y="67"/>
                    </a:lnTo>
                    <a:lnTo>
                      <a:pt x="102" y="65"/>
                    </a:lnTo>
                    <a:lnTo>
                      <a:pt x="107" y="62"/>
                    </a:lnTo>
                    <a:lnTo>
                      <a:pt x="109" y="62"/>
                    </a:lnTo>
                    <a:lnTo>
                      <a:pt x="114" y="60"/>
                    </a:lnTo>
                    <a:lnTo>
                      <a:pt x="119" y="57"/>
                    </a:lnTo>
                    <a:lnTo>
                      <a:pt x="122" y="57"/>
                    </a:lnTo>
                    <a:lnTo>
                      <a:pt x="127" y="55"/>
                    </a:lnTo>
                    <a:lnTo>
                      <a:pt x="132" y="53"/>
                    </a:lnTo>
                    <a:lnTo>
                      <a:pt x="134" y="53"/>
                    </a:lnTo>
                    <a:lnTo>
                      <a:pt x="139" y="50"/>
                    </a:lnTo>
                    <a:lnTo>
                      <a:pt x="144" y="48"/>
                    </a:lnTo>
                    <a:lnTo>
                      <a:pt x="149" y="45"/>
                    </a:lnTo>
                    <a:lnTo>
                      <a:pt x="152" y="45"/>
                    </a:lnTo>
                    <a:lnTo>
                      <a:pt x="157" y="43"/>
                    </a:lnTo>
                    <a:lnTo>
                      <a:pt x="162" y="40"/>
                    </a:lnTo>
                    <a:lnTo>
                      <a:pt x="164" y="40"/>
                    </a:lnTo>
                    <a:lnTo>
                      <a:pt x="169" y="38"/>
                    </a:lnTo>
                    <a:lnTo>
                      <a:pt x="174" y="35"/>
                    </a:lnTo>
                    <a:lnTo>
                      <a:pt x="179" y="33"/>
                    </a:lnTo>
                    <a:lnTo>
                      <a:pt x="181" y="33"/>
                    </a:lnTo>
                    <a:lnTo>
                      <a:pt x="186" y="30"/>
                    </a:lnTo>
                    <a:lnTo>
                      <a:pt x="191" y="28"/>
                    </a:lnTo>
                    <a:lnTo>
                      <a:pt x="194" y="28"/>
                    </a:lnTo>
                    <a:lnTo>
                      <a:pt x="199" y="25"/>
                    </a:lnTo>
                    <a:lnTo>
                      <a:pt x="204" y="23"/>
                    </a:lnTo>
                    <a:lnTo>
                      <a:pt x="211" y="20"/>
                    </a:lnTo>
                    <a:lnTo>
                      <a:pt x="216" y="18"/>
                    </a:lnTo>
                    <a:lnTo>
                      <a:pt x="221" y="15"/>
                    </a:lnTo>
                    <a:lnTo>
                      <a:pt x="224" y="15"/>
                    </a:lnTo>
                    <a:lnTo>
                      <a:pt x="229" y="13"/>
                    </a:lnTo>
                    <a:lnTo>
                      <a:pt x="234" y="10"/>
                    </a:lnTo>
                    <a:lnTo>
                      <a:pt x="236" y="10"/>
                    </a:lnTo>
                    <a:lnTo>
                      <a:pt x="241" y="8"/>
                    </a:lnTo>
                    <a:lnTo>
                      <a:pt x="246" y="5"/>
                    </a:lnTo>
                    <a:lnTo>
                      <a:pt x="251" y="3"/>
                    </a:lnTo>
                    <a:lnTo>
                      <a:pt x="253" y="3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85"/>
              <p:cNvSpPr/>
              <p:nvPr/>
            </p:nvSpPr>
            <p:spPr>
              <a:xfrm>
                <a:off x="3382920" y="554328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236" h="98">
                    <a:moveTo>
                      <a:pt x="0" y="98"/>
                    </a:moveTo>
                    <a:lnTo>
                      <a:pt x="2" y="98"/>
                    </a:lnTo>
                    <a:lnTo>
                      <a:pt x="7" y="96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20" y="91"/>
                    </a:lnTo>
                    <a:lnTo>
                      <a:pt x="25" y="88"/>
                    </a:lnTo>
                    <a:lnTo>
                      <a:pt x="30" y="86"/>
                    </a:lnTo>
                    <a:lnTo>
                      <a:pt x="32" y="86"/>
                    </a:lnTo>
                    <a:lnTo>
                      <a:pt x="37" y="83"/>
                    </a:lnTo>
                    <a:lnTo>
                      <a:pt x="42" y="81"/>
                    </a:lnTo>
                    <a:lnTo>
                      <a:pt x="45" y="81"/>
                    </a:lnTo>
                    <a:lnTo>
                      <a:pt x="50" y="78"/>
                    </a:lnTo>
                    <a:lnTo>
                      <a:pt x="55" y="76"/>
                    </a:lnTo>
                    <a:lnTo>
                      <a:pt x="57" y="76"/>
                    </a:lnTo>
                    <a:lnTo>
                      <a:pt x="59" y="73"/>
                    </a:lnTo>
                    <a:lnTo>
                      <a:pt x="62" y="73"/>
                    </a:lnTo>
                    <a:lnTo>
                      <a:pt x="67" y="71"/>
                    </a:lnTo>
                    <a:lnTo>
                      <a:pt x="72" y="68"/>
                    </a:lnTo>
                    <a:lnTo>
                      <a:pt x="74" y="68"/>
                    </a:lnTo>
                    <a:lnTo>
                      <a:pt x="79" y="66"/>
                    </a:lnTo>
                    <a:lnTo>
                      <a:pt x="84" y="63"/>
                    </a:lnTo>
                    <a:lnTo>
                      <a:pt x="87" y="63"/>
                    </a:lnTo>
                    <a:lnTo>
                      <a:pt x="89" y="61"/>
                    </a:lnTo>
                    <a:lnTo>
                      <a:pt x="92" y="61"/>
                    </a:lnTo>
                    <a:lnTo>
                      <a:pt x="97" y="59"/>
                    </a:lnTo>
                    <a:lnTo>
                      <a:pt x="102" y="56"/>
                    </a:lnTo>
                    <a:lnTo>
                      <a:pt x="104" y="56"/>
                    </a:lnTo>
                    <a:lnTo>
                      <a:pt x="109" y="54"/>
                    </a:lnTo>
                    <a:lnTo>
                      <a:pt x="114" y="51"/>
                    </a:lnTo>
                    <a:lnTo>
                      <a:pt x="117" y="51"/>
                    </a:lnTo>
                    <a:lnTo>
                      <a:pt x="119" y="49"/>
                    </a:lnTo>
                    <a:lnTo>
                      <a:pt x="122" y="49"/>
                    </a:lnTo>
                    <a:lnTo>
                      <a:pt x="126" y="46"/>
                    </a:lnTo>
                    <a:lnTo>
                      <a:pt x="131" y="43"/>
                    </a:lnTo>
                    <a:lnTo>
                      <a:pt x="134" y="43"/>
                    </a:lnTo>
                    <a:lnTo>
                      <a:pt x="139" y="40"/>
                    </a:lnTo>
                    <a:lnTo>
                      <a:pt x="144" y="38"/>
                    </a:lnTo>
                    <a:lnTo>
                      <a:pt x="146" y="38"/>
                    </a:lnTo>
                    <a:lnTo>
                      <a:pt x="149" y="35"/>
                    </a:lnTo>
                    <a:lnTo>
                      <a:pt x="151" y="35"/>
                    </a:lnTo>
                    <a:lnTo>
                      <a:pt x="156" y="33"/>
                    </a:lnTo>
                    <a:lnTo>
                      <a:pt x="161" y="30"/>
                    </a:lnTo>
                    <a:lnTo>
                      <a:pt x="164" y="30"/>
                    </a:lnTo>
                    <a:lnTo>
                      <a:pt x="169" y="28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3"/>
                    </a:lnTo>
                    <a:lnTo>
                      <a:pt x="181" y="23"/>
                    </a:lnTo>
                    <a:lnTo>
                      <a:pt x="186" y="20"/>
                    </a:lnTo>
                    <a:lnTo>
                      <a:pt x="189" y="20"/>
                    </a:lnTo>
                    <a:lnTo>
                      <a:pt x="191" y="18"/>
                    </a:lnTo>
                    <a:lnTo>
                      <a:pt x="194" y="18"/>
                    </a:lnTo>
                    <a:lnTo>
                      <a:pt x="198" y="15"/>
                    </a:lnTo>
                    <a:lnTo>
                      <a:pt x="203" y="13"/>
                    </a:lnTo>
                    <a:lnTo>
                      <a:pt x="206" y="13"/>
                    </a:lnTo>
                    <a:lnTo>
                      <a:pt x="208" y="10"/>
                    </a:lnTo>
                    <a:lnTo>
                      <a:pt x="211" y="10"/>
                    </a:lnTo>
                    <a:lnTo>
                      <a:pt x="216" y="8"/>
                    </a:lnTo>
                    <a:lnTo>
                      <a:pt x="218" y="8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6" y="3"/>
                    </a:lnTo>
                    <a:lnTo>
                      <a:pt x="228" y="3"/>
                    </a:lnTo>
                    <a:lnTo>
                      <a:pt x="233" y="0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86"/>
              <p:cNvSpPr/>
              <p:nvPr/>
            </p:nvSpPr>
            <p:spPr>
              <a:xfrm>
                <a:off x="3420000" y="553248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4" h="47">
                    <a:moveTo>
                      <a:pt x="0" y="47"/>
                    </a:moveTo>
                    <a:lnTo>
                      <a:pt x="2" y="47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10" y="42"/>
                    </a:lnTo>
                    <a:lnTo>
                      <a:pt x="12" y="42"/>
                    </a:lnTo>
                    <a:lnTo>
                      <a:pt x="15" y="42"/>
                    </a:lnTo>
                    <a:lnTo>
                      <a:pt x="17" y="40"/>
                    </a:lnTo>
                    <a:lnTo>
                      <a:pt x="20" y="40"/>
                    </a:lnTo>
                    <a:lnTo>
                      <a:pt x="22" y="38"/>
                    </a:lnTo>
                    <a:lnTo>
                      <a:pt x="25" y="38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2" y="35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50" y="28"/>
                    </a:lnTo>
                    <a:lnTo>
                      <a:pt x="52" y="25"/>
                    </a:lnTo>
                    <a:lnTo>
                      <a:pt x="55" y="25"/>
                    </a:lnTo>
                    <a:lnTo>
                      <a:pt x="57" y="23"/>
                    </a:lnTo>
                    <a:lnTo>
                      <a:pt x="60" y="23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18"/>
                    </a:lnTo>
                    <a:lnTo>
                      <a:pt x="77" y="15"/>
                    </a:lnTo>
                    <a:lnTo>
                      <a:pt x="79" y="15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7" y="10"/>
                    </a:lnTo>
                    <a:lnTo>
                      <a:pt x="89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7" y="8"/>
                    </a:lnTo>
                    <a:lnTo>
                      <a:pt x="99" y="5"/>
                    </a:lnTo>
                    <a:lnTo>
                      <a:pt x="102" y="5"/>
                    </a:lnTo>
                    <a:lnTo>
                      <a:pt x="104" y="5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2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87"/>
              <p:cNvSpPr/>
              <p:nvPr/>
            </p:nvSpPr>
            <p:spPr>
              <a:xfrm>
                <a:off x="3430800" y="55314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3" y="10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88"/>
              <p:cNvSpPr/>
              <p:nvPr/>
            </p:nvSpPr>
            <p:spPr>
              <a:xfrm>
                <a:off x="3434400" y="553032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89"/>
              <p:cNvSpPr/>
              <p:nvPr/>
            </p:nvSpPr>
            <p:spPr>
              <a:xfrm>
                <a:off x="3436560" y="552924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90"/>
              <p:cNvSpPr/>
              <p:nvPr/>
            </p:nvSpPr>
            <p:spPr>
              <a:xfrm>
                <a:off x="3439080" y="5527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3" y="10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91"/>
              <p:cNvSpPr/>
              <p:nvPr/>
            </p:nvSpPr>
            <p:spPr>
              <a:xfrm>
                <a:off x="3442680" y="552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92"/>
              <p:cNvSpPr/>
              <p:nvPr/>
            </p:nvSpPr>
            <p:spPr>
              <a:xfrm>
                <a:off x="3443760" y="552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2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93"/>
              <p:cNvSpPr/>
              <p:nvPr/>
            </p:nvSpPr>
            <p:spPr>
              <a:xfrm>
                <a:off x="3445200" y="552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94"/>
              <p:cNvSpPr/>
              <p:nvPr/>
            </p:nvSpPr>
            <p:spPr>
              <a:xfrm>
                <a:off x="3447360" y="5525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95"/>
              <p:cNvSpPr/>
              <p:nvPr/>
            </p:nvSpPr>
            <p:spPr>
              <a:xfrm>
                <a:off x="3448440" y="552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5"/>
                    </a:moveTo>
                    <a:lnTo>
                      <a:pt x="3" y="5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96"/>
              <p:cNvSpPr/>
              <p:nvPr/>
            </p:nvSpPr>
            <p:spPr>
              <a:xfrm>
                <a:off x="3449520" y="552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97"/>
              <p:cNvSpPr/>
              <p:nvPr/>
            </p:nvSpPr>
            <p:spPr>
              <a:xfrm>
                <a:off x="3450960" y="552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3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98"/>
              <p:cNvSpPr/>
              <p:nvPr/>
            </p:nvSpPr>
            <p:spPr>
              <a:xfrm>
                <a:off x="3453480" y="552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99"/>
              <p:cNvSpPr/>
              <p:nvPr/>
            </p:nvSpPr>
            <p:spPr>
              <a:xfrm>
                <a:off x="3454560" y="552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200"/>
              <p:cNvSpPr/>
              <p:nvPr/>
            </p:nvSpPr>
            <p:spPr>
              <a:xfrm>
                <a:off x="3455640" y="552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201"/>
              <p:cNvSpPr/>
              <p:nvPr/>
            </p:nvSpPr>
            <p:spPr>
              <a:xfrm>
                <a:off x="3458160" y="552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202"/>
              <p:cNvSpPr/>
              <p:nvPr/>
            </p:nvSpPr>
            <p:spPr>
              <a:xfrm>
                <a:off x="3459240" y="552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203"/>
              <p:cNvSpPr/>
              <p:nvPr/>
            </p:nvSpPr>
            <p:spPr>
              <a:xfrm>
                <a:off x="3460320" y="5519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2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204"/>
              <p:cNvSpPr/>
              <p:nvPr/>
            </p:nvSpPr>
            <p:spPr>
              <a:xfrm>
                <a:off x="3462840" y="5519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205"/>
              <p:cNvSpPr/>
              <p:nvPr/>
            </p:nvSpPr>
            <p:spPr>
              <a:xfrm>
                <a:off x="3463920" y="551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206"/>
              <p:cNvSpPr/>
              <p:nvPr/>
            </p:nvSpPr>
            <p:spPr>
              <a:xfrm>
                <a:off x="3465360" y="551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207"/>
              <p:cNvSpPr/>
              <p:nvPr/>
            </p:nvSpPr>
            <p:spPr>
              <a:xfrm>
                <a:off x="3466440" y="5517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208"/>
              <p:cNvSpPr/>
              <p:nvPr/>
            </p:nvSpPr>
            <p:spPr>
              <a:xfrm>
                <a:off x="3467880" y="5517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209"/>
              <p:cNvSpPr/>
              <p:nvPr/>
            </p:nvSpPr>
            <p:spPr>
              <a:xfrm>
                <a:off x="3468960" y="5515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210"/>
              <p:cNvSpPr/>
              <p:nvPr/>
            </p:nvSpPr>
            <p:spPr>
              <a:xfrm>
                <a:off x="3470040" y="5515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11"/>
              <p:cNvSpPr/>
              <p:nvPr/>
            </p:nvSpPr>
            <p:spPr>
              <a:xfrm>
                <a:off x="3471120" y="5514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212"/>
              <p:cNvSpPr/>
              <p:nvPr/>
            </p:nvSpPr>
            <p:spPr>
              <a:xfrm>
                <a:off x="3473640" y="5514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213"/>
              <p:cNvSpPr/>
              <p:nvPr/>
            </p:nvSpPr>
            <p:spPr>
              <a:xfrm>
                <a:off x="3474720" y="5513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214"/>
              <p:cNvSpPr/>
              <p:nvPr/>
            </p:nvSpPr>
            <p:spPr>
              <a:xfrm>
                <a:off x="3475800" y="55134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215"/>
              <p:cNvSpPr/>
              <p:nvPr/>
            </p:nvSpPr>
            <p:spPr>
              <a:xfrm>
                <a:off x="3477240" y="5512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216"/>
              <p:cNvSpPr/>
              <p:nvPr/>
            </p:nvSpPr>
            <p:spPr>
              <a:xfrm>
                <a:off x="3478320" y="55123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217"/>
              <p:cNvSpPr/>
              <p:nvPr/>
            </p:nvSpPr>
            <p:spPr>
              <a:xfrm>
                <a:off x="3479760" y="5511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218"/>
              <p:cNvSpPr/>
              <p:nvPr/>
            </p:nvSpPr>
            <p:spPr>
              <a:xfrm>
                <a:off x="3481920" y="551124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19"/>
              <p:cNvSpPr/>
              <p:nvPr/>
            </p:nvSpPr>
            <p:spPr>
              <a:xfrm>
                <a:off x="3483000" y="5511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Line 220"/>
              <p:cNvSpPr/>
              <p:nvPr/>
            </p:nvSpPr>
            <p:spPr>
              <a:xfrm>
                <a:off x="3484080" y="55098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221"/>
              <p:cNvSpPr/>
              <p:nvPr/>
            </p:nvSpPr>
            <p:spPr>
              <a:xfrm>
                <a:off x="3486600" y="55087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222"/>
              <p:cNvSpPr/>
              <p:nvPr/>
            </p:nvSpPr>
            <p:spPr>
              <a:xfrm>
                <a:off x="3488040" y="55087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223"/>
              <p:cNvSpPr/>
              <p:nvPr/>
            </p:nvSpPr>
            <p:spPr>
              <a:xfrm>
                <a:off x="3490200" y="55072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224"/>
              <p:cNvSpPr/>
              <p:nvPr/>
            </p:nvSpPr>
            <p:spPr>
              <a:xfrm>
                <a:off x="3490200" y="55072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225"/>
              <p:cNvSpPr/>
              <p:nvPr/>
            </p:nvSpPr>
            <p:spPr>
              <a:xfrm>
                <a:off x="3492720" y="55062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Group 226"/>
            <p:cNvGrpSpPr/>
            <p:nvPr/>
          </p:nvGrpSpPr>
          <p:grpSpPr>
            <a:xfrm>
              <a:off x="3267000" y="3219480"/>
              <a:ext cx="1301760" cy="1123560"/>
              <a:chOff x="3267000" y="3219480"/>
              <a:chExt cx="1301760" cy="1123560"/>
            </a:xfrm>
          </p:grpSpPr>
          <p:sp>
            <p:nvSpPr>
              <p:cNvPr id="1655" name="Freeform 227"/>
              <p:cNvSpPr/>
              <p:nvPr/>
            </p:nvSpPr>
            <p:spPr>
              <a:xfrm>
                <a:off x="3276000" y="3429360"/>
                <a:ext cx="705600" cy="913680"/>
              </a:xfrm>
              <a:custGeom>
                <a:avLst/>
                <a:gdLst>
                  <a:gd name="textAreaLeft" fmla="*/ 0 w 705600"/>
                  <a:gd name="textAreaRight" fmla="*/ 705600 w 705600"/>
                  <a:gd name="textAreaTop" fmla="*/ 0 h 913680"/>
                  <a:gd name="textAreaBottom" fmla="*/ 914040 h 913680"/>
                </a:gdLst>
                <a:ahLst/>
                <a:rect l="textAreaLeft" t="textAreaTop" r="textAreaRight" b="textAreaBottom"/>
                <a:pathLst>
                  <a:path w="7166" h="9274">
                    <a:moveTo>
                      <a:pt x="7166" y="9274"/>
                    </a:moveTo>
                    <a:lnTo>
                      <a:pt x="6786" y="9143"/>
                    </a:lnTo>
                    <a:lnTo>
                      <a:pt x="6409" y="9006"/>
                    </a:lnTo>
                    <a:lnTo>
                      <a:pt x="6036" y="8867"/>
                    </a:lnTo>
                    <a:lnTo>
                      <a:pt x="5663" y="8715"/>
                    </a:lnTo>
                    <a:lnTo>
                      <a:pt x="5291" y="8541"/>
                    </a:lnTo>
                    <a:lnTo>
                      <a:pt x="4923" y="8333"/>
                    </a:lnTo>
                    <a:lnTo>
                      <a:pt x="4558" y="8062"/>
                    </a:lnTo>
                    <a:lnTo>
                      <a:pt x="4196" y="7684"/>
                    </a:lnTo>
                    <a:lnTo>
                      <a:pt x="3832" y="7143"/>
                    </a:lnTo>
                    <a:lnTo>
                      <a:pt x="3475" y="6387"/>
                    </a:lnTo>
                    <a:lnTo>
                      <a:pt x="3118" y="5398"/>
                    </a:lnTo>
                    <a:lnTo>
                      <a:pt x="2763" y="4252"/>
                    </a:lnTo>
                    <a:lnTo>
                      <a:pt x="2409" y="3114"/>
                    </a:lnTo>
                    <a:lnTo>
                      <a:pt x="2059" y="2145"/>
                    </a:lnTo>
                    <a:lnTo>
                      <a:pt x="1712" y="1414"/>
                    </a:lnTo>
                    <a:lnTo>
                      <a:pt x="1364" y="904"/>
                    </a:lnTo>
                    <a:lnTo>
                      <a:pt x="1022" y="557"/>
                    </a:lnTo>
                    <a:lnTo>
                      <a:pt x="678" y="315"/>
                    </a:lnTo>
                    <a:lnTo>
                      <a:pt x="338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28"/>
              <p:cNvSpPr/>
              <p:nvPr/>
            </p:nvSpPr>
            <p:spPr>
              <a:xfrm>
                <a:off x="3981600" y="3907440"/>
                <a:ext cx="586800" cy="43560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5946" h="4421">
                    <a:moveTo>
                      <a:pt x="5946" y="0"/>
                    </a:moveTo>
                    <a:lnTo>
                      <a:pt x="5668" y="462"/>
                    </a:lnTo>
                    <a:lnTo>
                      <a:pt x="5390" y="873"/>
                    </a:lnTo>
                    <a:lnTo>
                      <a:pt x="5106" y="1230"/>
                    </a:lnTo>
                    <a:lnTo>
                      <a:pt x="4823" y="1544"/>
                    </a:lnTo>
                    <a:lnTo>
                      <a:pt x="4538" y="1819"/>
                    </a:lnTo>
                    <a:lnTo>
                      <a:pt x="4252" y="2063"/>
                    </a:lnTo>
                    <a:lnTo>
                      <a:pt x="3962" y="2285"/>
                    </a:lnTo>
                    <a:lnTo>
                      <a:pt x="3671" y="2486"/>
                    </a:lnTo>
                    <a:lnTo>
                      <a:pt x="3375" y="2672"/>
                    </a:lnTo>
                    <a:lnTo>
                      <a:pt x="3080" y="2851"/>
                    </a:lnTo>
                    <a:lnTo>
                      <a:pt x="2782" y="3019"/>
                    </a:lnTo>
                    <a:lnTo>
                      <a:pt x="2481" y="3182"/>
                    </a:lnTo>
                    <a:lnTo>
                      <a:pt x="2181" y="3341"/>
                    </a:lnTo>
                    <a:lnTo>
                      <a:pt x="1876" y="3500"/>
                    </a:lnTo>
                    <a:lnTo>
                      <a:pt x="1567" y="3653"/>
                    </a:lnTo>
                    <a:lnTo>
                      <a:pt x="1259" y="3807"/>
                    </a:lnTo>
                    <a:lnTo>
                      <a:pt x="949" y="3962"/>
                    </a:lnTo>
                    <a:lnTo>
                      <a:pt x="634" y="4114"/>
                    </a:lnTo>
                    <a:lnTo>
                      <a:pt x="318" y="4268"/>
                    </a:lnTo>
                    <a:lnTo>
                      <a:pt x="0" y="44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29"/>
              <p:cNvSpPr/>
              <p:nvPr/>
            </p:nvSpPr>
            <p:spPr>
              <a:xfrm>
                <a:off x="3944880" y="4316400"/>
                <a:ext cx="69120" cy="140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698" h="154">
                    <a:moveTo>
                      <a:pt x="698" y="132"/>
                    </a:moveTo>
                    <a:lnTo>
                      <a:pt x="696" y="132"/>
                    </a:lnTo>
                    <a:lnTo>
                      <a:pt x="320" y="0"/>
                    </a:lnTo>
                    <a:lnTo>
                      <a:pt x="2" y="154"/>
                    </a:lnTo>
                    <a:lnTo>
                      <a:pt x="0" y="15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30"/>
              <p:cNvSpPr/>
              <p:nvPr/>
            </p:nvSpPr>
            <p:spPr>
              <a:xfrm>
                <a:off x="3907440" y="4301280"/>
                <a:ext cx="136800" cy="165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6560"/>
                  <a:gd name="textAreaBottom" fmla="*/ 16560 h 16560"/>
                </a:gdLst>
                <a:ahLst/>
                <a:rect l="textAreaLeft" t="textAreaTop" r="textAreaRight" b="textAreaBottom"/>
                <a:pathLst>
                  <a:path w="1391" h="173">
                    <a:moveTo>
                      <a:pt x="0" y="173"/>
                    </a:moveTo>
                    <a:lnTo>
                      <a:pt x="2" y="173"/>
                    </a:lnTo>
                    <a:lnTo>
                      <a:pt x="320" y="19"/>
                    </a:lnTo>
                    <a:lnTo>
                      <a:pt x="695" y="156"/>
                    </a:lnTo>
                    <a:lnTo>
                      <a:pt x="697" y="156"/>
                    </a:lnTo>
                    <a:lnTo>
                      <a:pt x="700" y="156"/>
                    </a:lnTo>
                    <a:lnTo>
                      <a:pt x="1013" y="0"/>
                    </a:lnTo>
                    <a:lnTo>
                      <a:pt x="1388" y="134"/>
                    </a:lnTo>
                    <a:lnTo>
                      <a:pt x="1391" y="13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231"/>
              <p:cNvSpPr/>
              <p:nvPr/>
            </p:nvSpPr>
            <p:spPr>
              <a:xfrm>
                <a:off x="3870360" y="4285800"/>
                <a:ext cx="204840" cy="176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79" h="189">
                    <a:moveTo>
                      <a:pt x="2079" y="137"/>
                    </a:moveTo>
                    <a:lnTo>
                      <a:pt x="2076" y="137"/>
                    </a:lnTo>
                    <a:lnTo>
                      <a:pt x="1699" y="0"/>
                    </a:lnTo>
                    <a:lnTo>
                      <a:pt x="1389" y="155"/>
                    </a:lnTo>
                    <a:lnTo>
                      <a:pt x="1386" y="155"/>
                    </a:lnTo>
                    <a:lnTo>
                      <a:pt x="1384" y="155"/>
                    </a:lnTo>
                    <a:lnTo>
                      <a:pt x="1008" y="15"/>
                    </a:lnTo>
                    <a:lnTo>
                      <a:pt x="693" y="174"/>
                    </a:lnTo>
                    <a:lnTo>
                      <a:pt x="690" y="174"/>
                    </a:lnTo>
                    <a:lnTo>
                      <a:pt x="318" y="27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232"/>
              <p:cNvSpPr/>
              <p:nvPr/>
            </p:nvSpPr>
            <p:spPr>
              <a:xfrm>
                <a:off x="3834360" y="4270320"/>
                <a:ext cx="271440" cy="176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760" h="194">
                    <a:moveTo>
                      <a:pt x="0" y="194"/>
                    </a:moveTo>
                    <a:lnTo>
                      <a:pt x="317" y="25"/>
                    </a:lnTo>
                    <a:lnTo>
                      <a:pt x="689" y="184"/>
                    </a:lnTo>
                    <a:lnTo>
                      <a:pt x="1007" y="20"/>
                    </a:lnTo>
                    <a:lnTo>
                      <a:pt x="1379" y="172"/>
                    </a:lnTo>
                    <a:lnTo>
                      <a:pt x="1694" y="13"/>
                    </a:lnTo>
                    <a:lnTo>
                      <a:pt x="2068" y="157"/>
                    </a:lnTo>
                    <a:lnTo>
                      <a:pt x="2070" y="157"/>
                    </a:lnTo>
                    <a:lnTo>
                      <a:pt x="2383" y="0"/>
                    </a:lnTo>
                    <a:lnTo>
                      <a:pt x="2758" y="139"/>
                    </a:lnTo>
                    <a:lnTo>
                      <a:pt x="2760" y="1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233"/>
              <p:cNvSpPr/>
              <p:nvPr/>
            </p:nvSpPr>
            <p:spPr>
              <a:xfrm>
                <a:off x="3797280" y="4253400"/>
                <a:ext cx="339480" cy="1800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3442" h="189">
                    <a:moveTo>
                      <a:pt x="3442" y="149"/>
                    </a:moveTo>
                    <a:lnTo>
                      <a:pt x="3439" y="149"/>
                    </a:lnTo>
                    <a:lnTo>
                      <a:pt x="3067" y="5"/>
                    </a:lnTo>
                    <a:lnTo>
                      <a:pt x="2757" y="164"/>
                    </a:lnTo>
                    <a:lnTo>
                      <a:pt x="2754" y="164"/>
                    </a:lnTo>
                    <a:lnTo>
                      <a:pt x="2382" y="15"/>
                    </a:lnTo>
                    <a:lnTo>
                      <a:pt x="2068" y="177"/>
                    </a:lnTo>
                    <a:lnTo>
                      <a:pt x="1696" y="18"/>
                    </a:lnTo>
                    <a:lnTo>
                      <a:pt x="1381" y="184"/>
                    </a:lnTo>
                    <a:lnTo>
                      <a:pt x="1008" y="15"/>
                    </a:lnTo>
                    <a:lnTo>
                      <a:pt x="691" y="189"/>
                    </a:lnTo>
                    <a:lnTo>
                      <a:pt x="320" y="0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234"/>
              <p:cNvSpPr/>
              <p:nvPr/>
            </p:nvSpPr>
            <p:spPr>
              <a:xfrm>
                <a:off x="3761280" y="4230360"/>
                <a:ext cx="406080" cy="2412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119" h="251">
                    <a:moveTo>
                      <a:pt x="0" y="209"/>
                    </a:moveTo>
                    <a:lnTo>
                      <a:pt x="320" y="0"/>
                    </a:lnTo>
                    <a:lnTo>
                      <a:pt x="688" y="233"/>
                    </a:lnTo>
                    <a:lnTo>
                      <a:pt x="1006" y="40"/>
                    </a:lnTo>
                    <a:lnTo>
                      <a:pt x="1376" y="248"/>
                    </a:lnTo>
                    <a:lnTo>
                      <a:pt x="1692" y="65"/>
                    </a:lnTo>
                    <a:lnTo>
                      <a:pt x="2064" y="251"/>
                    </a:lnTo>
                    <a:lnTo>
                      <a:pt x="2374" y="77"/>
                    </a:lnTo>
                    <a:lnTo>
                      <a:pt x="2750" y="248"/>
                    </a:lnTo>
                    <a:lnTo>
                      <a:pt x="3060" y="82"/>
                    </a:lnTo>
                    <a:lnTo>
                      <a:pt x="3435" y="238"/>
                    </a:lnTo>
                    <a:lnTo>
                      <a:pt x="3740" y="80"/>
                    </a:lnTo>
                    <a:lnTo>
                      <a:pt x="4116" y="229"/>
                    </a:lnTo>
                    <a:lnTo>
                      <a:pt x="4119" y="2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235"/>
              <p:cNvSpPr/>
              <p:nvPr/>
            </p:nvSpPr>
            <p:spPr>
              <a:xfrm>
                <a:off x="3725280" y="4198680"/>
                <a:ext cx="471600" cy="3924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789" h="401">
                    <a:moveTo>
                      <a:pt x="4789" y="389"/>
                    </a:moveTo>
                    <a:lnTo>
                      <a:pt x="4411" y="235"/>
                    </a:lnTo>
                    <a:lnTo>
                      <a:pt x="4105" y="399"/>
                    </a:lnTo>
                    <a:lnTo>
                      <a:pt x="3731" y="230"/>
                    </a:lnTo>
                    <a:lnTo>
                      <a:pt x="3425" y="401"/>
                    </a:lnTo>
                    <a:lnTo>
                      <a:pt x="3051" y="217"/>
                    </a:lnTo>
                    <a:lnTo>
                      <a:pt x="2739" y="396"/>
                    </a:lnTo>
                    <a:lnTo>
                      <a:pt x="2369" y="193"/>
                    </a:lnTo>
                    <a:lnTo>
                      <a:pt x="2057" y="384"/>
                    </a:lnTo>
                    <a:lnTo>
                      <a:pt x="1689" y="150"/>
                    </a:lnTo>
                    <a:lnTo>
                      <a:pt x="1371" y="359"/>
                    </a:lnTo>
                    <a:lnTo>
                      <a:pt x="1006" y="87"/>
                    </a:lnTo>
                    <a:lnTo>
                      <a:pt x="685" y="319"/>
                    </a:lnTo>
                    <a:lnTo>
                      <a:pt x="320" y="0"/>
                    </a:lnTo>
                    <a:lnTo>
                      <a:pt x="0" y="25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236"/>
              <p:cNvSpPr/>
              <p:nvPr/>
            </p:nvSpPr>
            <p:spPr>
              <a:xfrm>
                <a:off x="3689640" y="4155120"/>
                <a:ext cx="536760" cy="6768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451" h="684">
                    <a:moveTo>
                      <a:pt x="0" y="328"/>
                    </a:moveTo>
                    <a:lnTo>
                      <a:pt x="320" y="0"/>
                    </a:lnTo>
                    <a:lnTo>
                      <a:pt x="682" y="449"/>
                    </a:lnTo>
                    <a:lnTo>
                      <a:pt x="1003" y="161"/>
                    </a:lnTo>
                    <a:lnTo>
                      <a:pt x="1368" y="536"/>
                    </a:lnTo>
                    <a:lnTo>
                      <a:pt x="1684" y="283"/>
                    </a:lnTo>
                    <a:lnTo>
                      <a:pt x="2051" y="599"/>
                    </a:lnTo>
                    <a:lnTo>
                      <a:pt x="2364" y="370"/>
                    </a:lnTo>
                    <a:lnTo>
                      <a:pt x="2731" y="642"/>
                    </a:lnTo>
                    <a:lnTo>
                      <a:pt x="3042" y="432"/>
                    </a:lnTo>
                    <a:lnTo>
                      <a:pt x="3413" y="666"/>
                    </a:lnTo>
                    <a:lnTo>
                      <a:pt x="3720" y="474"/>
                    </a:lnTo>
                    <a:lnTo>
                      <a:pt x="4093" y="679"/>
                    </a:lnTo>
                    <a:lnTo>
                      <a:pt x="4398" y="499"/>
                    </a:lnTo>
                    <a:lnTo>
                      <a:pt x="4773" y="684"/>
                    </a:lnTo>
                    <a:lnTo>
                      <a:pt x="5077" y="511"/>
                    </a:lnTo>
                    <a:lnTo>
                      <a:pt x="5451" y="67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237"/>
              <p:cNvSpPr/>
              <p:nvPr/>
            </p:nvSpPr>
            <p:spPr>
              <a:xfrm>
                <a:off x="3653640" y="4092120"/>
                <a:ext cx="602280" cy="11376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6116" h="1157">
                    <a:moveTo>
                      <a:pt x="6116" y="1157"/>
                    </a:moveTo>
                    <a:lnTo>
                      <a:pt x="5741" y="974"/>
                    </a:lnTo>
                    <a:lnTo>
                      <a:pt x="5441" y="1152"/>
                    </a:lnTo>
                    <a:lnTo>
                      <a:pt x="5065" y="949"/>
                    </a:lnTo>
                    <a:lnTo>
                      <a:pt x="4762" y="1140"/>
                    </a:lnTo>
                    <a:lnTo>
                      <a:pt x="4392" y="909"/>
                    </a:lnTo>
                    <a:lnTo>
                      <a:pt x="4084" y="1115"/>
                    </a:lnTo>
                    <a:lnTo>
                      <a:pt x="3714" y="847"/>
                    </a:lnTo>
                    <a:lnTo>
                      <a:pt x="3406" y="1073"/>
                    </a:lnTo>
                    <a:lnTo>
                      <a:pt x="3038" y="760"/>
                    </a:lnTo>
                    <a:lnTo>
                      <a:pt x="2728" y="1011"/>
                    </a:lnTo>
                    <a:lnTo>
                      <a:pt x="2361" y="639"/>
                    </a:lnTo>
                    <a:lnTo>
                      <a:pt x="2048" y="924"/>
                    </a:lnTo>
                    <a:lnTo>
                      <a:pt x="1682" y="477"/>
                    </a:lnTo>
                    <a:lnTo>
                      <a:pt x="1367" y="802"/>
                    </a:lnTo>
                    <a:lnTo>
                      <a:pt x="1004" y="265"/>
                    </a:lnTo>
                    <a:lnTo>
                      <a:pt x="684" y="641"/>
                    </a:lnTo>
                    <a:lnTo>
                      <a:pt x="324" y="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238"/>
              <p:cNvSpPr/>
              <p:nvPr/>
            </p:nvSpPr>
            <p:spPr>
              <a:xfrm>
                <a:off x="3618000" y="4005000"/>
                <a:ext cx="667440" cy="184320"/>
              </a:xfrm>
              <a:custGeom>
                <a:avLst/>
                <a:gdLst>
                  <a:gd name="textAreaLeft" fmla="*/ 0 w 667440"/>
                  <a:gd name="textAreaRight" fmla="*/ 667800 w 6674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6771" h="1864">
                    <a:moveTo>
                      <a:pt x="0" y="547"/>
                    </a:moveTo>
                    <a:lnTo>
                      <a:pt x="320" y="0"/>
                    </a:lnTo>
                    <a:lnTo>
                      <a:pt x="681" y="875"/>
                    </a:lnTo>
                    <a:lnTo>
                      <a:pt x="999" y="387"/>
                    </a:lnTo>
                    <a:lnTo>
                      <a:pt x="1361" y="1140"/>
                    </a:lnTo>
                    <a:lnTo>
                      <a:pt x="1677" y="713"/>
                    </a:lnTo>
                    <a:lnTo>
                      <a:pt x="2039" y="1352"/>
                    </a:lnTo>
                    <a:lnTo>
                      <a:pt x="2353" y="979"/>
                    </a:lnTo>
                    <a:lnTo>
                      <a:pt x="2718" y="1514"/>
                    </a:lnTo>
                    <a:lnTo>
                      <a:pt x="3030" y="1187"/>
                    </a:lnTo>
                    <a:lnTo>
                      <a:pt x="3395" y="1635"/>
                    </a:lnTo>
                    <a:lnTo>
                      <a:pt x="3703" y="1350"/>
                    </a:lnTo>
                    <a:lnTo>
                      <a:pt x="4071" y="1722"/>
                    </a:lnTo>
                    <a:lnTo>
                      <a:pt x="4379" y="1471"/>
                    </a:lnTo>
                    <a:lnTo>
                      <a:pt x="4749" y="1784"/>
                    </a:lnTo>
                    <a:lnTo>
                      <a:pt x="5052" y="1558"/>
                    </a:lnTo>
                    <a:lnTo>
                      <a:pt x="5422" y="1824"/>
                    </a:lnTo>
                    <a:lnTo>
                      <a:pt x="5726" y="1620"/>
                    </a:lnTo>
                    <a:lnTo>
                      <a:pt x="6098" y="1849"/>
                    </a:lnTo>
                    <a:lnTo>
                      <a:pt x="6396" y="1660"/>
                    </a:lnTo>
                    <a:lnTo>
                      <a:pt x="6771" y="186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239"/>
              <p:cNvSpPr/>
              <p:nvPr/>
            </p:nvSpPr>
            <p:spPr>
              <a:xfrm>
                <a:off x="3583440" y="3898440"/>
                <a:ext cx="731520" cy="272880"/>
              </a:xfrm>
              <a:custGeom>
                <a:avLst/>
                <a:gdLst>
                  <a:gd name="textAreaLeft" fmla="*/ 0 w 731520"/>
                  <a:gd name="textAreaRight" fmla="*/ 731520 w 7315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7423" h="2766">
                    <a:moveTo>
                      <a:pt x="7423" y="2766"/>
                    </a:moveTo>
                    <a:lnTo>
                      <a:pt x="7048" y="2538"/>
                    </a:lnTo>
                    <a:lnTo>
                      <a:pt x="6753" y="2741"/>
                    </a:lnTo>
                    <a:lnTo>
                      <a:pt x="6381" y="2478"/>
                    </a:lnTo>
                    <a:lnTo>
                      <a:pt x="6083" y="2701"/>
                    </a:lnTo>
                    <a:lnTo>
                      <a:pt x="5709" y="2391"/>
                    </a:lnTo>
                    <a:lnTo>
                      <a:pt x="5409" y="2639"/>
                    </a:lnTo>
                    <a:lnTo>
                      <a:pt x="5039" y="2268"/>
                    </a:lnTo>
                    <a:lnTo>
                      <a:pt x="4736" y="2552"/>
                    </a:lnTo>
                    <a:lnTo>
                      <a:pt x="4369" y="2110"/>
                    </a:lnTo>
                    <a:lnTo>
                      <a:pt x="4060" y="2431"/>
                    </a:lnTo>
                    <a:lnTo>
                      <a:pt x="3695" y="1901"/>
                    </a:lnTo>
                    <a:lnTo>
                      <a:pt x="3387" y="2268"/>
                    </a:lnTo>
                    <a:lnTo>
                      <a:pt x="3022" y="1635"/>
                    </a:lnTo>
                    <a:lnTo>
                      <a:pt x="2710" y="2060"/>
                    </a:lnTo>
                    <a:lnTo>
                      <a:pt x="2349" y="1309"/>
                    </a:lnTo>
                    <a:lnTo>
                      <a:pt x="2034" y="1794"/>
                    </a:lnTo>
                    <a:lnTo>
                      <a:pt x="1674" y="925"/>
                    </a:lnTo>
                    <a:lnTo>
                      <a:pt x="1356" y="1468"/>
                    </a:lnTo>
                    <a:lnTo>
                      <a:pt x="998" y="484"/>
                    </a:lnTo>
                    <a:lnTo>
                      <a:pt x="677" y="1081"/>
                    </a:lnTo>
                    <a:lnTo>
                      <a:pt x="322" y="0"/>
                    </a:lnTo>
                    <a:lnTo>
                      <a:pt x="0" y="6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240"/>
              <p:cNvSpPr/>
              <p:nvPr/>
            </p:nvSpPr>
            <p:spPr>
              <a:xfrm>
                <a:off x="3548520" y="3784320"/>
                <a:ext cx="795600" cy="36900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369000"/>
                  <a:gd name="textAreaBottom" fmla="*/ 369360 h 369000"/>
                </a:gdLst>
                <a:ahLst/>
                <a:rect l="textAreaLeft" t="textAreaTop" r="textAreaRight" b="textAreaBottom"/>
                <a:pathLst>
                  <a:path w="8074" h="3741">
                    <a:moveTo>
                      <a:pt x="0" y="654"/>
                    </a:moveTo>
                    <a:lnTo>
                      <a:pt x="322" y="0"/>
                    </a:lnTo>
                    <a:lnTo>
                      <a:pt x="677" y="1161"/>
                    </a:lnTo>
                    <a:lnTo>
                      <a:pt x="997" y="505"/>
                    </a:lnTo>
                    <a:lnTo>
                      <a:pt x="1353" y="1645"/>
                    </a:lnTo>
                    <a:lnTo>
                      <a:pt x="1671" y="1010"/>
                    </a:lnTo>
                    <a:lnTo>
                      <a:pt x="2029" y="2086"/>
                    </a:lnTo>
                    <a:lnTo>
                      <a:pt x="2344" y="1491"/>
                    </a:lnTo>
                    <a:lnTo>
                      <a:pt x="2704" y="2470"/>
                    </a:lnTo>
                    <a:lnTo>
                      <a:pt x="3015" y="1932"/>
                    </a:lnTo>
                    <a:lnTo>
                      <a:pt x="3377" y="2796"/>
                    </a:lnTo>
                    <a:lnTo>
                      <a:pt x="3688" y="2314"/>
                    </a:lnTo>
                    <a:lnTo>
                      <a:pt x="4050" y="3062"/>
                    </a:lnTo>
                    <a:lnTo>
                      <a:pt x="4358" y="2638"/>
                    </a:lnTo>
                    <a:lnTo>
                      <a:pt x="4724" y="3271"/>
                    </a:lnTo>
                    <a:lnTo>
                      <a:pt x="5027" y="2903"/>
                    </a:lnTo>
                    <a:lnTo>
                      <a:pt x="5394" y="3429"/>
                    </a:lnTo>
                    <a:lnTo>
                      <a:pt x="5697" y="3109"/>
                    </a:lnTo>
                    <a:lnTo>
                      <a:pt x="6064" y="3552"/>
                    </a:lnTo>
                    <a:lnTo>
                      <a:pt x="6366" y="3271"/>
                    </a:lnTo>
                    <a:lnTo>
                      <a:pt x="6736" y="3639"/>
                    </a:lnTo>
                    <a:lnTo>
                      <a:pt x="7031" y="3390"/>
                    </a:lnTo>
                    <a:lnTo>
                      <a:pt x="7403" y="3699"/>
                    </a:lnTo>
                    <a:lnTo>
                      <a:pt x="7699" y="3477"/>
                    </a:lnTo>
                    <a:lnTo>
                      <a:pt x="8074" y="374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241"/>
              <p:cNvSpPr/>
              <p:nvPr/>
            </p:nvSpPr>
            <p:spPr>
              <a:xfrm>
                <a:off x="3512520" y="3679560"/>
                <a:ext cx="859680" cy="45360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8719" h="4608">
                    <a:moveTo>
                      <a:pt x="8719" y="4608"/>
                    </a:moveTo>
                    <a:lnTo>
                      <a:pt x="8344" y="4299"/>
                    </a:lnTo>
                    <a:lnTo>
                      <a:pt x="8053" y="4545"/>
                    </a:lnTo>
                    <a:lnTo>
                      <a:pt x="7680" y="4180"/>
                    </a:lnTo>
                    <a:lnTo>
                      <a:pt x="7385" y="4458"/>
                    </a:lnTo>
                    <a:lnTo>
                      <a:pt x="7015" y="4021"/>
                    </a:lnTo>
                    <a:lnTo>
                      <a:pt x="6720" y="4339"/>
                    </a:lnTo>
                    <a:lnTo>
                      <a:pt x="6349" y="3812"/>
                    </a:lnTo>
                    <a:lnTo>
                      <a:pt x="6051" y="4177"/>
                    </a:lnTo>
                    <a:lnTo>
                      <a:pt x="5684" y="3551"/>
                    </a:lnTo>
                    <a:lnTo>
                      <a:pt x="5381" y="3971"/>
                    </a:lnTo>
                    <a:lnTo>
                      <a:pt x="5016" y="3228"/>
                    </a:lnTo>
                    <a:lnTo>
                      <a:pt x="4712" y="3706"/>
                    </a:lnTo>
                    <a:lnTo>
                      <a:pt x="4347" y="2845"/>
                    </a:lnTo>
                    <a:lnTo>
                      <a:pt x="4042" y="3382"/>
                    </a:lnTo>
                    <a:lnTo>
                      <a:pt x="3679" y="2408"/>
                    </a:lnTo>
                    <a:lnTo>
                      <a:pt x="3369" y="3000"/>
                    </a:lnTo>
                    <a:lnTo>
                      <a:pt x="3011" y="1928"/>
                    </a:lnTo>
                    <a:lnTo>
                      <a:pt x="2698" y="2559"/>
                    </a:lnTo>
                    <a:lnTo>
                      <a:pt x="2340" y="1424"/>
                    </a:lnTo>
                    <a:lnTo>
                      <a:pt x="2025" y="2078"/>
                    </a:lnTo>
                    <a:lnTo>
                      <a:pt x="1669" y="921"/>
                    </a:lnTo>
                    <a:lnTo>
                      <a:pt x="1351" y="1573"/>
                    </a:lnTo>
                    <a:lnTo>
                      <a:pt x="996" y="440"/>
                    </a:lnTo>
                    <a:lnTo>
                      <a:pt x="676" y="1068"/>
                    </a:lnTo>
                    <a:lnTo>
                      <a:pt x="324" y="0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242"/>
              <p:cNvSpPr/>
              <p:nvPr/>
            </p:nvSpPr>
            <p:spPr>
              <a:xfrm>
                <a:off x="3477960" y="3594960"/>
                <a:ext cx="922320" cy="51624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9359" h="5236">
                    <a:moveTo>
                      <a:pt x="0" y="465"/>
                    </a:moveTo>
                    <a:lnTo>
                      <a:pt x="323" y="0"/>
                    </a:lnTo>
                    <a:lnTo>
                      <a:pt x="674" y="850"/>
                    </a:lnTo>
                    <a:lnTo>
                      <a:pt x="994" y="325"/>
                    </a:lnTo>
                    <a:lnTo>
                      <a:pt x="1346" y="1290"/>
                    </a:lnTo>
                    <a:lnTo>
                      <a:pt x="1664" y="708"/>
                    </a:lnTo>
                    <a:lnTo>
                      <a:pt x="2019" y="1771"/>
                    </a:lnTo>
                    <a:lnTo>
                      <a:pt x="2335" y="1147"/>
                    </a:lnTo>
                    <a:lnTo>
                      <a:pt x="2690" y="2274"/>
                    </a:lnTo>
                    <a:lnTo>
                      <a:pt x="3003" y="1627"/>
                    </a:lnTo>
                    <a:lnTo>
                      <a:pt x="3361" y="2778"/>
                    </a:lnTo>
                    <a:lnTo>
                      <a:pt x="3671" y="2127"/>
                    </a:lnTo>
                    <a:lnTo>
                      <a:pt x="4029" y="3258"/>
                    </a:lnTo>
                    <a:lnTo>
                      <a:pt x="4337" y="2629"/>
                    </a:lnTo>
                    <a:lnTo>
                      <a:pt x="4697" y="3695"/>
                    </a:lnTo>
                    <a:lnTo>
                      <a:pt x="5002" y="3106"/>
                    </a:lnTo>
                    <a:lnTo>
                      <a:pt x="5366" y="4078"/>
                    </a:lnTo>
                    <a:lnTo>
                      <a:pt x="5669" y="3541"/>
                    </a:lnTo>
                    <a:lnTo>
                      <a:pt x="6034" y="4401"/>
                    </a:lnTo>
                    <a:lnTo>
                      <a:pt x="6334" y="3924"/>
                    </a:lnTo>
                    <a:lnTo>
                      <a:pt x="6699" y="4662"/>
                    </a:lnTo>
                    <a:lnTo>
                      <a:pt x="6998" y="4244"/>
                    </a:lnTo>
                    <a:lnTo>
                      <a:pt x="7365" y="4871"/>
                    </a:lnTo>
                    <a:lnTo>
                      <a:pt x="7660" y="4505"/>
                    </a:lnTo>
                    <a:lnTo>
                      <a:pt x="8030" y="5030"/>
                    </a:lnTo>
                    <a:lnTo>
                      <a:pt x="8323" y="4714"/>
                    </a:lnTo>
                    <a:lnTo>
                      <a:pt x="8694" y="5149"/>
                    </a:lnTo>
                    <a:lnTo>
                      <a:pt x="8984" y="4873"/>
                    </a:lnTo>
                    <a:lnTo>
                      <a:pt x="9359" y="523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243"/>
              <p:cNvSpPr/>
              <p:nvPr/>
            </p:nvSpPr>
            <p:spPr>
              <a:xfrm>
                <a:off x="3444840" y="3534840"/>
                <a:ext cx="983880" cy="552240"/>
              </a:xfrm>
              <a:custGeom>
                <a:avLst/>
                <a:gdLst>
                  <a:gd name="textAreaLeft" fmla="*/ 0 w 983880"/>
                  <a:gd name="textAreaRight" fmla="*/ 984240 w 983880"/>
                  <a:gd name="textAreaTop" fmla="*/ 0 h 552240"/>
                  <a:gd name="textAreaBottom" fmla="*/ 552600 h 552240"/>
                </a:gdLst>
                <a:ahLst/>
                <a:rect l="textAreaLeft" t="textAreaTop" r="textAreaRight" b="textAreaBottom"/>
                <a:pathLst>
                  <a:path w="9992" h="5607">
                    <a:moveTo>
                      <a:pt x="9992" y="5607"/>
                    </a:moveTo>
                    <a:lnTo>
                      <a:pt x="9619" y="5173"/>
                    </a:lnTo>
                    <a:lnTo>
                      <a:pt x="9331" y="5488"/>
                    </a:lnTo>
                    <a:lnTo>
                      <a:pt x="8962" y="4966"/>
                    </a:lnTo>
                    <a:lnTo>
                      <a:pt x="8670" y="5329"/>
                    </a:lnTo>
                    <a:lnTo>
                      <a:pt x="8300" y="4705"/>
                    </a:lnTo>
                    <a:lnTo>
                      <a:pt x="8007" y="5120"/>
                    </a:lnTo>
                    <a:lnTo>
                      <a:pt x="7640" y="4385"/>
                    </a:lnTo>
                    <a:lnTo>
                      <a:pt x="7345" y="4859"/>
                    </a:lnTo>
                    <a:lnTo>
                      <a:pt x="6979" y="4007"/>
                    </a:lnTo>
                    <a:lnTo>
                      <a:pt x="6681" y="4539"/>
                    </a:lnTo>
                    <a:lnTo>
                      <a:pt x="6316" y="3573"/>
                    </a:lnTo>
                    <a:lnTo>
                      <a:pt x="6016" y="4156"/>
                    </a:lnTo>
                    <a:lnTo>
                      <a:pt x="5652" y="3097"/>
                    </a:lnTo>
                    <a:lnTo>
                      <a:pt x="5349" y="3721"/>
                    </a:lnTo>
                    <a:lnTo>
                      <a:pt x="4989" y="2597"/>
                    </a:lnTo>
                    <a:lnTo>
                      <a:pt x="4684" y="3244"/>
                    </a:lnTo>
                    <a:lnTo>
                      <a:pt x="4327" y="2099"/>
                    </a:lnTo>
                    <a:lnTo>
                      <a:pt x="4018" y="2742"/>
                    </a:lnTo>
                    <a:lnTo>
                      <a:pt x="3660" y="1621"/>
                    </a:lnTo>
                    <a:lnTo>
                      <a:pt x="3350" y="2242"/>
                    </a:lnTo>
                    <a:lnTo>
                      <a:pt x="2995" y="1184"/>
                    </a:lnTo>
                    <a:lnTo>
                      <a:pt x="2682" y="1762"/>
                    </a:lnTo>
                    <a:lnTo>
                      <a:pt x="2326" y="801"/>
                    </a:lnTo>
                    <a:lnTo>
                      <a:pt x="2011" y="1323"/>
                    </a:lnTo>
                    <a:lnTo>
                      <a:pt x="1659" y="478"/>
                    </a:lnTo>
                    <a:lnTo>
                      <a:pt x="1341" y="940"/>
                    </a:lnTo>
                    <a:lnTo>
                      <a:pt x="991" y="212"/>
                    </a:lnTo>
                    <a:lnTo>
                      <a:pt x="670" y="615"/>
                    </a:lnTo>
                    <a:lnTo>
                      <a:pt x="322" y="0"/>
                    </a:lnTo>
                    <a:lnTo>
                      <a:pt x="0" y="3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244"/>
              <p:cNvSpPr/>
              <p:nvPr/>
            </p:nvSpPr>
            <p:spPr>
              <a:xfrm>
                <a:off x="3410280" y="3493440"/>
                <a:ext cx="1046520" cy="56628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0625" h="5749">
                    <a:moveTo>
                      <a:pt x="0" y="256"/>
                    </a:moveTo>
                    <a:lnTo>
                      <a:pt x="325" y="0"/>
                    </a:lnTo>
                    <a:lnTo>
                      <a:pt x="670" y="417"/>
                    </a:lnTo>
                    <a:lnTo>
                      <a:pt x="990" y="122"/>
                    </a:lnTo>
                    <a:lnTo>
                      <a:pt x="1339" y="629"/>
                    </a:lnTo>
                    <a:lnTo>
                      <a:pt x="1659" y="283"/>
                    </a:lnTo>
                    <a:lnTo>
                      <a:pt x="2007" y="895"/>
                    </a:lnTo>
                    <a:lnTo>
                      <a:pt x="2324" y="494"/>
                    </a:lnTo>
                    <a:lnTo>
                      <a:pt x="2674" y="1218"/>
                    </a:lnTo>
                    <a:lnTo>
                      <a:pt x="2988" y="759"/>
                    </a:lnTo>
                    <a:lnTo>
                      <a:pt x="3343" y="1601"/>
                    </a:lnTo>
                    <a:lnTo>
                      <a:pt x="3653" y="1081"/>
                    </a:lnTo>
                    <a:lnTo>
                      <a:pt x="4008" y="2038"/>
                    </a:lnTo>
                    <a:lnTo>
                      <a:pt x="4316" y="1462"/>
                    </a:lnTo>
                    <a:lnTo>
                      <a:pt x="4675" y="2516"/>
                    </a:lnTo>
                    <a:lnTo>
                      <a:pt x="4980" y="1896"/>
                    </a:lnTo>
                    <a:lnTo>
                      <a:pt x="5337" y="3014"/>
                    </a:lnTo>
                    <a:lnTo>
                      <a:pt x="5640" y="2374"/>
                    </a:lnTo>
                    <a:lnTo>
                      <a:pt x="6000" y="3514"/>
                    </a:lnTo>
                    <a:lnTo>
                      <a:pt x="6302" y="2870"/>
                    </a:lnTo>
                    <a:lnTo>
                      <a:pt x="6664" y="3990"/>
                    </a:lnTo>
                    <a:lnTo>
                      <a:pt x="6962" y="3368"/>
                    </a:lnTo>
                    <a:lnTo>
                      <a:pt x="7327" y="4424"/>
                    </a:lnTo>
                    <a:lnTo>
                      <a:pt x="7622" y="3840"/>
                    </a:lnTo>
                    <a:lnTo>
                      <a:pt x="7988" y="4802"/>
                    </a:lnTo>
                    <a:lnTo>
                      <a:pt x="8281" y="4272"/>
                    </a:lnTo>
                    <a:lnTo>
                      <a:pt x="8648" y="5122"/>
                    </a:lnTo>
                    <a:lnTo>
                      <a:pt x="8939" y="4650"/>
                    </a:lnTo>
                    <a:lnTo>
                      <a:pt x="9310" y="5383"/>
                    </a:lnTo>
                    <a:lnTo>
                      <a:pt x="9598" y="4971"/>
                    </a:lnTo>
                    <a:lnTo>
                      <a:pt x="9967" y="5590"/>
                    </a:lnTo>
                    <a:lnTo>
                      <a:pt x="10253" y="5229"/>
                    </a:lnTo>
                    <a:lnTo>
                      <a:pt x="10625" y="57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245"/>
              <p:cNvSpPr/>
              <p:nvPr/>
            </p:nvSpPr>
            <p:spPr>
              <a:xfrm>
                <a:off x="3376800" y="3465360"/>
                <a:ext cx="1108080" cy="56412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11250" h="5722">
                    <a:moveTo>
                      <a:pt x="11250" y="5722"/>
                    </a:moveTo>
                    <a:lnTo>
                      <a:pt x="10880" y="5107"/>
                    </a:lnTo>
                    <a:lnTo>
                      <a:pt x="10595" y="5516"/>
                    </a:lnTo>
                    <a:lnTo>
                      <a:pt x="10225" y="4788"/>
                    </a:lnTo>
                    <a:lnTo>
                      <a:pt x="9940" y="5258"/>
                    </a:lnTo>
                    <a:lnTo>
                      <a:pt x="9571" y="4411"/>
                    </a:lnTo>
                    <a:lnTo>
                      <a:pt x="9281" y="4937"/>
                    </a:lnTo>
                    <a:lnTo>
                      <a:pt x="8916" y="3980"/>
                    </a:lnTo>
                    <a:lnTo>
                      <a:pt x="8623" y="4559"/>
                    </a:lnTo>
                    <a:lnTo>
                      <a:pt x="8258" y="3508"/>
                    </a:lnTo>
                    <a:lnTo>
                      <a:pt x="7964" y="4127"/>
                    </a:lnTo>
                    <a:lnTo>
                      <a:pt x="7602" y="3014"/>
                    </a:lnTo>
                    <a:lnTo>
                      <a:pt x="7304" y="3655"/>
                    </a:lnTo>
                    <a:lnTo>
                      <a:pt x="6944" y="2520"/>
                    </a:lnTo>
                    <a:lnTo>
                      <a:pt x="6644" y="3157"/>
                    </a:lnTo>
                    <a:lnTo>
                      <a:pt x="6285" y="2044"/>
                    </a:lnTo>
                    <a:lnTo>
                      <a:pt x="5982" y="2661"/>
                    </a:lnTo>
                    <a:lnTo>
                      <a:pt x="5625" y="1612"/>
                    </a:lnTo>
                    <a:lnTo>
                      <a:pt x="5322" y="2183"/>
                    </a:lnTo>
                    <a:lnTo>
                      <a:pt x="4965" y="1232"/>
                    </a:lnTo>
                    <a:lnTo>
                      <a:pt x="4658" y="1749"/>
                    </a:lnTo>
                    <a:lnTo>
                      <a:pt x="4303" y="909"/>
                    </a:lnTo>
                    <a:lnTo>
                      <a:pt x="3995" y="1368"/>
                    </a:lnTo>
                    <a:lnTo>
                      <a:pt x="3643" y="647"/>
                    </a:lnTo>
                    <a:lnTo>
                      <a:pt x="3330" y="1046"/>
                    </a:lnTo>
                    <a:lnTo>
                      <a:pt x="2979" y="439"/>
                    </a:lnTo>
                    <a:lnTo>
                      <a:pt x="2666" y="781"/>
                    </a:lnTo>
                    <a:lnTo>
                      <a:pt x="2316" y="275"/>
                    </a:lnTo>
                    <a:lnTo>
                      <a:pt x="2001" y="570"/>
                    </a:lnTo>
                    <a:lnTo>
                      <a:pt x="1654" y="153"/>
                    </a:lnTo>
                    <a:lnTo>
                      <a:pt x="1332" y="409"/>
                    </a:lnTo>
                    <a:lnTo>
                      <a:pt x="987" y="64"/>
                    </a:lnTo>
                    <a:lnTo>
                      <a:pt x="667" y="287"/>
                    </a:lnTo>
                    <a:lnTo>
                      <a:pt x="322" y="0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246"/>
              <p:cNvSpPr/>
              <p:nvPr/>
            </p:nvSpPr>
            <p:spPr>
              <a:xfrm>
                <a:off x="3342240" y="3444840"/>
                <a:ext cx="1170720" cy="549720"/>
              </a:xfrm>
              <a:custGeom>
                <a:avLst/>
                <a:gdLst>
                  <a:gd name="textAreaLeft" fmla="*/ 0 w 1170720"/>
                  <a:gd name="textAreaRight" fmla="*/ 1171080 w 11707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1878" h="5570">
                    <a:moveTo>
                      <a:pt x="0" y="159"/>
                    </a:moveTo>
                    <a:lnTo>
                      <a:pt x="326" y="0"/>
                    </a:lnTo>
                    <a:lnTo>
                      <a:pt x="666" y="205"/>
                    </a:lnTo>
                    <a:lnTo>
                      <a:pt x="989" y="30"/>
                    </a:lnTo>
                    <a:lnTo>
                      <a:pt x="1331" y="269"/>
                    </a:lnTo>
                    <a:lnTo>
                      <a:pt x="1652" y="74"/>
                    </a:lnTo>
                    <a:lnTo>
                      <a:pt x="1998" y="358"/>
                    </a:lnTo>
                    <a:lnTo>
                      <a:pt x="2313" y="136"/>
                    </a:lnTo>
                    <a:lnTo>
                      <a:pt x="2660" y="480"/>
                    </a:lnTo>
                    <a:lnTo>
                      <a:pt x="2976" y="229"/>
                    </a:lnTo>
                    <a:lnTo>
                      <a:pt x="3323" y="644"/>
                    </a:lnTo>
                    <a:lnTo>
                      <a:pt x="3637" y="351"/>
                    </a:lnTo>
                    <a:lnTo>
                      <a:pt x="3987" y="852"/>
                    </a:lnTo>
                    <a:lnTo>
                      <a:pt x="4295" y="510"/>
                    </a:lnTo>
                    <a:lnTo>
                      <a:pt x="4647" y="1114"/>
                    </a:lnTo>
                    <a:lnTo>
                      <a:pt x="4955" y="718"/>
                    </a:lnTo>
                    <a:lnTo>
                      <a:pt x="5309" y="1437"/>
                    </a:lnTo>
                    <a:lnTo>
                      <a:pt x="5614" y="981"/>
                    </a:lnTo>
                    <a:lnTo>
                      <a:pt x="5969" y="1817"/>
                    </a:lnTo>
                    <a:lnTo>
                      <a:pt x="6272" y="1300"/>
                    </a:lnTo>
                    <a:lnTo>
                      <a:pt x="6629" y="2249"/>
                    </a:lnTo>
                    <a:lnTo>
                      <a:pt x="6928" y="1680"/>
                    </a:lnTo>
                    <a:lnTo>
                      <a:pt x="7288" y="2725"/>
                    </a:lnTo>
                    <a:lnTo>
                      <a:pt x="7583" y="2110"/>
                    </a:lnTo>
                    <a:lnTo>
                      <a:pt x="7946" y="3219"/>
                    </a:lnTo>
                    <a:lnTo>
                      <a:pt x="8239" y="2582"/>
                    </a:lnTo>
                    <a:lnTo>
                      <a:pt x="8602" y="3713"/>
                    </a:lnTo>
                    <a:lnTo>
                      <a:pt x="8895" y="3077"/>
                    </a:lnTo>
                    <a:lnTo>
                      <a:pt x="9260" y="4185"/>
                    </a:lnTo>
                    <a:lnTo>
                      <a:pt x="9548" y="3570"/>
                    </a:lnTo>
                    <a:lnTo>
                      <a:pt x="9915" y="4616"/>
                    </a:lnTo>
                    <a:lnTo>
                      <a:pt x="10202" y="4039"/>
                    </a:lnTo>
                    <a:lnTo>
                      <a:pt x="10569" y="4993"/>
                    </a:lnTo>
                    <a:lnTo>
                      <a:pt x="10854" y="4469"/>
                    </a:lnTo>
                    <a:lnTo>
                      <a:pt x="11224" y="5312"/>
                    </a:lnTo>
                    <a:lnTo>
                      <a:pt x="11505" y="4844"/>
                    </a:lnTo>
                    <a:lnTo>
                      <a:pt x="11878" y="557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247"/>
              <p:cNvSpPr/>
              <p:nvPr/>
            </p:nvSpPr>
            <p:spPr>
              <a:xfrm>
                <a:off x="3309120" y="3429360"/>
                <a:ext cx="1231200" cy="52380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12496" h="5313">
                    <a:moveTo>
                      <a:pt x="12496" y="5313"/>
                    </a:moveTo>
                    <a:lnTo>
                      <a:pt x="12126" y="4476"/>
                    </a:lnTo>
                    <a:lnTo>
                      <a:pt x="11845" y="4998"/>
                    </a:lnTo>
                    <a:lnTo>
                      <a:pt x="11475" y="4049"/>
                    </a:lnTo>
                    <a:lnTo>
                      <a:pt x="11194" y="4623"/>
                    </a:lnTo>
                    <a:lnTo>
                      <a:pt x="10827" y="3581"/>
                    </a:lnTo>
                    <a:lnTo>
                      <a:pt x="10542" y="4193"/>
                    </a:lnTo>
                    <a:lnTo>
                      <a:pt x="10176" y="3090"/>
                    </a:lnTo>
                    <a:lnTo>
                      <a:pt x="9888" y="3724"/>
                    </a:lnTo>
                    <a:lnTo>
                      <a:pt x="9523" y="2597"/>
                    </a:lnTo>
                    <a:lnTo>
                      <a:pt x="9235" y="3231"/>
                    </a:lnTo>
                    <a:lnTo>
                      <a:pt x="8873" y="2128"/>
                    </a:lnTo>
                    <a:lnTo>
                      <a:pt x="8579" y="2736"/>
                    </a:lnTo>
                    <a:lnTo>
                      <a:pt x="8219" y="1697"/>
                    </a:lnTo>
                    <a:lnTo>
                      <a:pt x="7923" y="2264"/>
                    </a:lnTo>
                    <a:lnTo>
                      <a:pt x="7566" y="1320"/>
                    </a:lnTo>
                    <a:lnTo>
                      <a:pt x="7268" y="1834"/>
                    </a:lnTo>
                    <a:lnTo>
                      <a:pt x="6910" y="1001"/>
                    </a:lnTo>
                    <a:lnTo>
                      <a:pt x="6612" y="1454"/>
                    </a:lnTo>
                    <a:lnTo>
                      <a:pt x="6254" y="741"/>
                    </a:lnTo>
                    <a:lnTo>
                      <a:pt x="5954" y="1135"/>
                    </a:lnTo>
                    <a:lnTo>
                      <a:pt x="5599" y="535"/>
                    </a:lnTo>
                    <a:lnTo>
                      <a:pt x="5295" y="872"/>
                    </a:lnTo>
                    <a:lnTo>
                      <a:pt x="4943" y="373"/>
                    </a:lnTo>
                    <a:lnTo>
                      <a:pt x="4635" y="664"/>
                    </a:lnTo>
                    <a:lnTo>
                      <a:pt x="4285" y="251"/>
                    </a:lnTo>
                    <a:lnTo>
                      <a:pt x="3977" y="505"/>
                    </a:lnTo>
                    <a:lnTo>
                      <a:pt x="3626" y="161"/>
                    </a:lnTo>
                    <a:lnTo>
                      <a:pt x="3316" y="383"/>
                    </a:lnTo>
                    <a:lnTo>
                      <a:pt x="2968" y="99"/>
                    </a:lnTo>
                    <a:lnTo>
                      <a:pt x="2653" y="290"/>
                    </a:lnTo>
                    <a:lnTo>
                      <a:pt x="2308" y="55"/>
                    </a:lnTo>
                    <a:lnTo>
                      <a:pt x="1992" y="228"/>
                    </a:lnTo>
                    <a:lnTo>
                      <a:pt x="1647" y="25"/>
                    </a:lnTo>
                    <a:lnTo>
                      <a:pt x="1329" y="184"/>
                    </a:lnTo>
                    <a:lnTo>
                      <a:pt x="986" y="8"/>
                    </a:lnTo>
                    <a:lnTo>
                      <a:pt x="666" y="154"/>
                    </a:lnTo>
                    <a:lnTo>
                      <a:pt x="664" y="154"/>
                    </a:lnTo>
                    <a:lnTo>
                      <a:pt x="325" y="0"/>
                    </a:lnTo>
                    <a:lnTo>
                      <a:pt x="0" y="13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248"/>
              <p:cNvSpPr/>
              <p:nvPr/>
            </p:nvSpPr>
            <p:spPr>
              <a:xfrm>
                <a:off x="3276000" y="3416760"/>
                <a:ext cx="1292760" cy="490680"/>
              </a:xfrm>
              <a:custGeom>
                <a:avLst/>
                <a:gdLst>
                  <a:gd name="textAreaLeft" fmla="*/ 0 w 1292760"/>
                  <a:gd name="textAreaRight" fmla="*/ 1293120 w 129276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13112" h="4980">
                    <a:moveTo>
                      <a:pt x="0" y="127"/>
                    </a:moveTo>
                    <a:lnTo>
                      <a:pt x="3" y="127"/>
                    </a:lnTo>
                    <a:lnTo>
                      <a:pt x="325" y="2"/>
                    </a:lnTo>
                    <a:lnTo>
                      <a:pt x="661" y="129"/>
                    </a:lnTo>
                    <a:lnTo>
                      <a:pt x="663" y="129"/>
                    </a:lnTo>
                    <a:lnTo>
                      <a:pt x="666" y="129"/>
                    </a:lnTo>
                    <a:lnTo>
                      <a:pt x="984" y="0"/>
                    </a:lnTo>
                    <a:lnTo>
                      <a:pt x="1322" y="137"/>
                    </a:lnTo>
                    <a:lnTo>
                      <a:pt x="1324" y="137"/>
                    </a:lnTo>
                    <a:lnTo>
                      <a:pt x="1645" y="0"/>
                    </a:lnTo>
                    <a:lnTo>
                      <a:pt x="1982" y="154"/>
                    </a:lnTo>
                    <a:lnTo>
                      <a:pt x="1985" y="154"/>
                    </a:lnTo>
                    <a:lnTo>
                      <a:pt x="2302" y="10"/>
                    </a:lnTo>
                    <a:lnTo>
                      <a:pt x="2646" y="184"/>
                    </a:lnTo>
                    <a:lnTo>
                      <a:pt x="2961" y="25"/>
                    </a:lnTo>
                    <a:lnTo>
                      <a:pt x="3306" y="228"/>
                    </a:lnTo>
                    <a:lnTo>
                      <a:pt x="3619" y="55"/>
                    </a:lnTo>
                    <a:lnTo>
                      <a:pt x="3964" y="290"/>
                    </a:lnTo>
                    <a:lnTo>
                      <a:pt x="4275" y="99"/>
                    </a:lnTo>
                    <a:lnTo>
                      <a:pt x="4623" y="380"/>
                    </a:lnTo>
                    <a:lnTo>
                      <a:pt x="4931" y="161"/>
                    </a:lnTo>
                    <a:lnTo>
                      <a:pt x="5281" y="502"/>
                    </a:lnTo>
                    <a:lnTo>
                      <a:pt x="5586" y="251"/>
                    </a:lnTo>
                    <a:lnTo>
                      <a:pt x="5937" y="664"/>
                    </a:lnTo>
                    <a:lnTo>
                      <a:pt x="6240" y="372"/>
                    </a:lnTo>
                    <a:lnTo>
                      <a:pt x="6592" y="870"/>
                    </a:lnTo>
                    <a:lnTo>
                      <a:pt x="6893" y="532"/>
                    </a:lnTo>
                    <a:lnTo>
                      <a:pt x="7248" y="1130"/>
                    </a:lnTo>
                    <a:lnTo>
                      <a:pt x="7546" y="738"/>
                    </a:lnTo>
                    <a:lnTo>
                      <a:pt x="7904" y="1449"/>
                    </a:lnTo>
                    <a:lnTo>
                      <a:pt x="8197" y="999"/>
                    </a:lnTo>
                    <a:lnTo>
                      <a:pt x="8557" y="1826"/>
                    </a:lnTo>
                    <a:lnTo>
                      <a:pt x="8850" y="1318"/>
                    </a:lnTo>
                    <a:lnTo>
                      <a:pt x="9211" y="2257"/>
                    </a:lnTo>
                    <a:lnTo>
                      <a:pt x="9501" y="1692"/>
                    </a:lnTo>
                    <a:lnTo>
                      <a:pt x="9861" y="2726"/>
                    </a:lnTo>
                    <a:lnTo>
                      <a:pt x="10149" y="2119"/>
                    </a:lnTo>
                    <a:lnTo>
                      <a:pt x="10514" y="3219"/>
                    </a:lnTo>
                    <a:lnTo>
                      <a:pt x="10800" y="2590"/>
                    </a:lnTo>
                    <a:lnTo>
                      <a:pt x="11165" y="3710"/>
                    </a:lnTo>
                    <a:lnTo>
                      <a:pt x="11448" y="3080"/>
                    </a:lnTo>
                    <a:lnTo>
                      <a:pt x="11813" y="4178"/>
                    </a:lnTo>
                    <a:lnTo>
                      <a:pt x="12093" y="3569"/>
                    </a:lnTo>
                    <a:lnTo>
                      <a:pt x="12464" y="4605"/>
                    </a:lnTo>
                    <a:lnTo>
                      <a:pt x="12742" y="4034"/>
                    </a:lnTo>
                    <a:lnTo>
                      <a:pt x="13112" y="49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249"/>
              <p:cNvSpPr/>
              <p:nvPr/>
            </p:nvSpPr>
            <p:spPr>
              <a:xfrm>
                <a:off x="3307680" y="3403800"/>
                <a:ext cx="1223640" cy="411120"/>
              </a:xfrm>
              <a:custGeom>
                <a:avLst/>
                <a:gdLst>
                  <a:gd name="textAreaLeft" fmla="*/ 0 w 1223640"/>
                  <a:gd name="textAreaRight" fmla="*/ 1224000 w 1223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2417" h="4163">
                    <a:moveTo>
                      <a:pt x="12417" y="4163"/>
                    </a:moveTo>
                    <a:lnTo>
                      <a:pt x="12050" y="3069"/>
                    </a:lnTo>
                    <a:lnTo>
                      <a:pt x="11768" y="3698"/>
                    </a:lnTo>
                    <a:lnTo>
                      <a:pt x="11404" y="2582"/>
                    </a:lnTo>
                    <a:lnTo>
                      <a:pt x="11123" y="3209"/>
                    </a:lnTo>
                    <a:lnTo>
                      <a:pt x="10758" y="2114"/>
                    </a:lnTo>
                    <a:lnTo>
                      <a:pt x="10475" y="2719"/>
                    </a:lnTo>
                    <a:lnTo>
                      <a:pt x="10109" y="1687"/>
                    </a:lnTo>
                    <a:lnTo>
                      <a:pt x="9824" y="2248"/>
                    </a:lnTo>
                    <a:lnTo>
                      <a:pt x="9464" y="1314"/>
                    </a:lnTo>
                    <a:lnTo>
                      <a:pt x="9176" y="1821"/>
                    </a:lnTo>
                    <a:lnTo>
                      <a:pt x="8816" y="996"/>
                    </a:lnTo>
                    <a:lnTo>
                      <a:pt x="8525" y="1447"/>
                    </a:lnTo>
                    <a:lnTo>
                      <a:pt x="8165" y="738"/>
                    </a:lnTo>
                    <a:lnTo>
                      <a:pt x="7872" y="1128"/>
                    </a:lnTo>
                    <a:lnTo>
                      <a:pt x="7517" y="531"/>
                    </a:lnTo>
                    <a:lnTo>
                      <a:pt x="7221" y="867"/>
                    </a:lnTo>
                    <a:lnTo>
                      <a:pt x="6865" y="372"/>
                    </a:lnTo>
                    <a:lnTo>
                      <a:pt x="6568" y="661"/>
                    </a:lnTo>
                    <a:lnTo>
                      <a:pt x="6215" y="253"/>
                    </a:lnTo>
                    <a:lnTo>
                      <a:pt x="5915" y="501"/>
                    </a:lnTo>
                    <a:lnTo>
                      <a:pt x="5562" y="164"/>
                    </a:lnTo>
                    <a:lnTo>
                      <a:pt x="5261" y="380"/>
                    </a:lnTo>
                    <a:lnTo>
                      <a:pt x="4911" y="99"/>
                    </a:lnTo>
                    <a:lnTo>
                      <a:pt x="4606" y="290"/>
                    </a:lnTo>
                    <a:lnTo>
                      <a:pt x="4258" y="57"/>
                    </a:lnTo>
                    <a:lnTo>
                      <a:pt x="3950" y="228"/>
                    </a:lnTo>
                    <a:lnTo>
                      <a:pt x="3602" y="27"/>
                    </a:lnTo>
                    <a:lnTo>
                      <a:pt x="3294" y="184"/>
                    </a:lnTo>
                    <a:lnTo>
                      <a:pt x="2949" y="10"/>
                    </a:lnTo>
                    <a:lnTo>
                      <a:pt x="2636" y="154"/>
                    </a:lnTo>
                    <a:lnTo>
                      <a:pt x="2294" y="2"/>
                    </a:lnTo>
                    <a:lnTo>
                      <a:pt x="1977" y="139"/>
                    </a:lnTo>
                    <a:lnTo>
                      <a:pt x="1975" y="139"/>
                    </a:lnTo>
                    <a:lnTo>
                      <a:pt x="1637" y="0"/>
                    </a:lnTo>
                    <a:lnTo>
                      <a:pt x="1322" y="129"/>
                    </a:lnTo>
                    <a:lnTo>
                      <a:pt x="1320" y="129"/>
                    </a:lnTo>
                    <a:lnTo>
                      <a:pt x="1317" y="129"/>
                    </a:lnTo>
                    <a:lnTo>
                      <a:pt x="979" y="2"/>
                    </a:lnTo>
                    <a:lnTo>
                      <a:pt x="662" y="129"/>
                    </a:lnTo>
                    <a:lnTo>
                      <a:pt x="659" y="129"/>
                    </a:lnTo>
                    <a:lnTo>
                      <a:pt x="657" y="129"/>
                    </a:lnTo>
                    <a:lnTo>
                      <a:pt x="321" y="10"/>
                    </a:lnTo>
                    <a:lnTo>
                      <a:pt x="3" y="131"/>
                    </a:lnTo>
                    <a:lnTo>
                      <a:pt x="0" y="13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250"/>
              <p:cNvSpPr/>
              <p:nvPr/>
            </p:nvSpPr>
            <p:spPr>
              <a:xfrm>
                <a:off x="3339720" y="3392280"/>
                <a:ext cx="1155600" cy="313560"/>
              </a:xfrm>
              <a:custGeom>
                <a:avLst/>
                <a:gdLst>
                  <a:gd name="textAreaLeft" fmla="*/ 0 w 1155600"/>
                  <a:gd name="textAreaRight" fmla="*/ 1155960 w 1155600"/>
                  <a:gd name="textAreaTop" fmla="*/ 0 h 313560"/>
                  <a:gd name="textAreaBottom" fmla="*/ 313560 h 313560"/>
                </a:gdLst>
                <a:ahLst/>
                <a:rect l="textAreaLeft" t="textAreaTop" r="textAreaRight" b="textAreaBottom"/>
                <a:pathLst>
                  <a:path w="11729" h="3196">
                    <a:moveTo>
                      <a:pt x="0" y="137"/>
                    </a:moveTo>
                    <a:lnTo>
                      <a:pt x="2" y="137"/>
                    </a:lnTo>
                    <a:lnTo>
                      <a:pt x="321" y="20"/>
                    </a:lnTo>
                    <a:lnTo>
                      <a:pt x="656" y="129"/>
                    </a:lnTo>
                    <a:lnTo>
                      <a:pt x="658" y="129"/>
                    </a:lnTo>
                    <a:lnTo>
                      <a:pt x="661" y="129"/>
                    </a:lnTo>
                    <a:lnTo>
                      <a:pt x="976" y="10"/>
                    </a:lnTo>
                    <a:lnTo>
                      <a:pt x="1314" y="127"/>
                    </a:lnTo>
                    <a:lnTo>
                      <a:pt x="1316" y="127"/>
                    </a:lnTo>
                    <a:lnTo>
                      <a:pt x="1319" y="127"/>
                    </a:lnTo>
                    <a:lnTo>
                      <a:pt x="1632" y="5"/>
                    </a:lnTo>
                    <a:lnTo>
                      <a:pt x="1970" y="129"/>
                    </a:lnTo>
                    <a:lnTo>
                      <a:pt x="1973" y="129"/>
                    </a:lnTo>
                    <a:lnTo>
                      <a:pt x="1975" y="129"/>
                    </a:lnTo>
                    <a:lnTo>
                      <a:pt x="2285" y="0"/>
                    </a:lnTo>
                    <a:lnTo>
                      <a:pt x="2625" y="137"/>
                    </a:lnTo>
                    <a:lnTo>
                      <a:pt x="2628" y="137"/>
                    </a:lnTo>
                    <a:lnTo>
                      <a:pt x="2938" y="3"/>
                    </a:lnTo>
                    <a:lnTo>
                      <a:pt x="3281" y="154"/>
                    </a:lnTo>
                    <a:lnTo>
                      <a:pt x="3590" y="10"/>
                    </a:lnTo>
                    <a:lnTo>
                      <a:pt x="3937" y="184"/>
                    </a:lnTo>
                    <a:lnTo>
                      <a:pt x="4242" y="28"/>
                    </a:lnTo>
                    <a:lnTo>
                      <a:pt x="4590" y="226"/>
                    </a:lnTo>
                    <a:lnTo>
                      <a:pt x="4893" y="57"/>
                    </a:lnTo>
                    <a:lnTo>
                      <a:pt x="5241" y="291"/>
                    </a:lnTo>
                    <a:lnTo>
                      <a:pt x="5542" y="102"/>
                    </a:lnTo>
                    <a:lnTo>
                      <a:pt x="5894" y="380"/>
                    </a:lnTo>
                    <a:lnTo>
                      <a:pt x="6192" y="164"/>
                    </a:lnTo>
                    <a:lnTo>
                      <a:pt x="6544" y="499"/>
                    </a:lnTo>
                    <a:lnTo>
                      <a:pt x="6841" y="254"/>
                    </a:lnTo>
                    <a:lnTo>
                      <a:pt x="7196" y="658"/>
                    </a:lnTo>
                    <a:lnTo>
                      <a:pt x="7489" y="373"/>
                    </a:lnTo>
                    <a:lnTo>
                      <a:pt x="7844" y="865"/>
                    </a:lnTo>
                    <a:lnTo>
                      <a:pt x="8137" y="532"/>
                    </a:lnTo>
                    <a:lnTo>
                      <a:pt x="8495" y="1123"/>
                    </a:lnTo>
                    <a:lnTo>
                      <a:pt x="8783" y="736"/>
                    </a:lnTo>
                    <a:lnTo>
                      <a:pt x="9143" y="1441"/>
                    </a:lnTo>
                    <a:lnTo>
                      <a:pt x="9428" y="994"/>
                    </a:lnTo>
                    <a:lnTo>
                      <a:pt x="9788" y="1814"/>
                    </a:lnTo>
                    <a:lnTo>
                      <a:pt x="10075" y="1309"/>
                    </a:lnTo>
                    <a:lnTo>
                      <a:pt x="10437" y="2241"/>
                    </a:lnTo>
                    <a:lnTo>
                      <a:pt x="10718" y="1683"/>
                    </a:lnTo>
                    <a:lnTo>
                      <a:pt x="11083" y="2709"/>
                    </a:lnTo>
                    <a:lnTo>
                      <a:pt x="11361" y="2107"/>
                    </a:lnTo>
                    <a:lnTo>
                      <a:pt x="11729" y="3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251"/>
              <p:cNvSpPr/>
              <p:nvPr/>
            </p:nvSpPr>
            <p:spPr>
              <a:xfrm>
                <a:off x="3370680" y="3379320"/>
                <a:ext cx="1089000" cy="220320"/>
              </a:xfrm>
              <a:custGeom>
                <a:avLst/>
                <a:gdLst>
                  <a:gd name="textAreaLeft" fmla="*/ 0 w 1089000"/>
                  <a:gd name="textAreaRight" fmla="*/ 1089360 w 10890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1040" h="2231">
                    <a:moveTo>
                      <a:pt x="11040" y="2231"/>
                    </a:moveTo>
                    <a:lnTo>
                      <a:pt x="10677" y="1304"/>
                    </a:lnTo>
                    <a:lnTo>
                      <a:pt x="10397" y="1807"/>
                    </a:lnTo>
                    <a:lnTo>
                      <a:pt x="10034" y="989"/>
                    </a:lnTo>
                    <a:lnTo>
                      <a:pt x="9754" y="1433"/>
                    </a:lnTo>
                    <a:lnTo>
                      <a:pt x="9390" y="732"/>
                    </a:lnTo>
                    <a:lnTo>
                      <a:pt x="9107" y="1118"/>
                    </a:lnTo>
                    <a:lnTo>
                      <a:pt x="8747" y="529"/>
                    </a:lnTo>
                    <a:lnTo>
                      <a:pt x="8462" y="860"/>
                    </a:lnTo>
                    <a:lnTo>
                      <a:pt x="8105" y="370"/>
                    </a:lnTo>
                    <a:lnTo>
                      <a:pt x="7816" y="656"/>
                    </a:lnTo>
                    <a:lnTo>
                      <a:pt x="7458" y="251"/>
                    </a:lnTo>
                    <a:lnTo>
                      <a:pt x="7168" y="497"/>
                    </a:lnTo>
                    <a:lnTo>
                      <a:pt x="6813" y="162"/>
                    </a:lnTo>
                    <a:lnTo>
                      <a:pt x="6520" y="378"/>
                    </a:lnTo>
                    <a:lnTo>
                      <a:pt x="6166" y="99"/>
                    </a:lnTo>
                    <a:lnTo>
                      <a:pt x="5871" y="288"/>
                    </a:lnTo>
                    <a:lnTo>
                      <a:pt x="5521" y="55"/>
                    </a:lnTo>
                    <a:lnTo>
                      <a:pt x="5221" y="226"/>
                    </a:lnTo>
                    <a:lnTo>
                      <a:pt x="4873" y="28"/>
                    </a:lnTo>
                    <a:lnTo>
                      <a:pt x="4572" y="181"/>
                    </a:lnTo>
                    <a:lnTo>
                      <a:pt x="4224" y="10"/>
                    </a:lnTo>
                    <a:lnTo>
                      <a:pt x="3921" y="152"/>
                    </a:lnTo>
                    <a:lnTo>
                      <a:pt x="3574" y="3"/>
                    </a:lnTo>
                    <a:lnTo>
                      <a:pt x="3271" y="134"/>
                    </a:lnTo>
                    <a:lnTo>
                      <a:pt x="3269" y="134"/>
                    </a:lnTo>
                    <a:lnTo>
                      <a:pt x="3266" y="134"/>
                    </a:lnTo>
                    <a:lnTo>
                      <a:pt x="2925" y="0"/>
                    </a:lnTo>
                    <a:lnTo>
                      <a:pt x="2620" y="127"/>
                    </a:lnTo>
                    <a:lnTo>
                      <a:pt x="2617" y="127"/>
                    </a:lnTo>
                    <a:lnTo>
                      <a:pt x="2615" y="127"/>
                    </a:lnTo>
                    <a:lnTo>
                      <a:pt x="2275" y="3"/>
                    </a:lnTo>
                    <a:lnTo>
                      <a:pt x="1967" y="124"/>
                    </a:lnTo>
                    <a:lnTo>
                      <a:pt x="1964" y="124"/>
                    </a:lnTo>
                    <a:lnTo>
                      <a:pt x="1962" y="124"/>
                    </a:lnTo>
                    <a:lnTo>
                      <a:pt x="1624" y="10"/>
                    </a:lnTo>
                    <a:lnTo>
                      <a:pt x="1313" y="129"/>
                    </a:lnTo>
                    <a:lnTo>
                      <a:pt x="1311" y="129"/>
                    </a:lnTo>
                    <a:lnTo>
                      <a:pt x="1308" y="129"/>
                    </a:lnTo>
                    <a:lnTo>
                      <a:pt x="970" y="20"/>
                    </a:lnTo>
                    <a:lnTo>
                      <a:pt x="658" y="134"/>
                    </a:lnTo>
                    <a:lnTo>
                      <a:pt x="655" y="134"/>
                    </a:lnTo>
                    <a:lnTo>
                      <a:pt x="653" y="134"/>
                    </a:lnTo>
                    <a:lnTo>
                      <a:pt x="318" y="30"/>
                    </a:lnTo>
                    <a:lnTo>
                      <a:pt x="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252"/>
              <p:cNvSpPr/>
              <p:nvPr/>
            </p:nvSpPr>
            <p:spPr>
              <a:xfrm>
                <a:off x="3402360" y="3366720"/>
                <a:ext cx="1021320" cy="140760"/>
              </a:xfrm>
              <a:custGeom>
                <a:avLst/>
                <a:gdLst>
                  <a:gd name="textAreaLeft" fmla="*/ 0 w 1021320"/>
                  <a:gd name="textAreaRight" fmla="*/ 1021680 w 1021320"/>
                  <a:gd name="textAreaTop" fmla="*/ 0 h 140760"/>
                  <a:gd name="textAreaBottom" fmla="*/ 140760 h 140760"/>
                </a:gdLst>
                <a:ahLst/>
                <a:rect l="textAreaLeft" t="textAreaTop" r="textAreaRight" b="textAreaBottom"/>
                <a:pathLst>
                  <a:path w="10359" h="1429">
                    <a:moveTo>
                      <a:pt x="0" y="155"/>
                    </a:moveTo>
                    <a:lnTo>
                      <a:pt x="2" y="155"/>
                    </a:lnTo>
                    <a:lnTo>
                      <a:pt x="315" y="42"/>
                    </a:lnTo>
                    <a:lnTo>
                      <a:pt x="650" y="145"/>
                    </a:lnTo>
                    <a:lnTo>
                      <a:pt x="652" y="145"/>
                    </a:lnTo>
                    <a:lnTo>
                      <a:pt x="655" y="145"/>
                    </a:lnTo>
                    <a:lnTo>
                      <a:pt x="965" y="30"/>
                    </a:lnTo>
                    <a:lnTo>
                      <a:pt x="1304" y="135"/>
                    </a:lnTo>
                    <a:lnTo>
                      <a:pt x="1306" y="135"/>
                    </a:lnTo>
                    <a:lnTo>
                      <a:pt x="1309" y="135"/>
                    </a:lnTo>
                    <a:lnTo>
                      <a:pt x="1617" y="17"/>
                    </a:lnTo>
                    <a:lnTo>
                      <a:pt x="1954" y="128"/>
                    </a:lnTo>
                    <a:lnTo>
                      <a:pt x="1957" y="128"/>
                    </a:lnTo>
                    <a:lnTo>
                      <a:pt x="1959" y="128"/>
                    </a:lnTo>
                    <a:lnTo>
                      <a:pt x="2264" y="10"/>
                    </a:lnTo>
                    <a:lnTo>
                      <a:pt x="2605" y="125"/>
                    </a:lnTo>
                    <a:lnTo>
                      <a:pt x="2607" y="125"/>
                    </a:lnTo>
                    <a:lnTo>
                      <a:pt x="2610" y="125"/>
                    </a:lnTo>
                    <a:lnTo>
                      <a:pt x="2913" y="3"/>
                    </a:lnTo>
                    <a:lnTo>
                      <a:pt x="3253" y="128"/>
                    </a:lnTo>
                    <a:lnTo>
                      <a:pt x="3256" y="128"/>
                    </a:lnTo>
                    <a:lnTo>
                      <a:pt x="3258" y="128"/>
                    </a:lnTo>
                    <a:lnTo>
                      <a:pt x="3561" y="0"/>
                    </a:lnTo>
                    <a:lnTo>
                      <a:pt x="3904" y="135"/>
                    </a:lnTo>
                    <a:lnTo>
                      <a:pt x="3906" y="135"/>
                    </a:lnTo>
                    <a:lnTo>
                      <a:pt x="3909" y="135"/>
                    </a:lnTo>
                    <a:lnTo>
                      <a:pt x="4207" y="3"/>
                    </a:lnTo>
                    <a:lnTo>
                      <a:pt x="4555" y="153"/>
                    </a:lnTo>
                    <a:lnTo>
                      <a:pt x="4853" y="10"/>
                    </a:lnTo>
                    <a:lnTo>
                      <a:pt x="5203" y="180"/>
                    </a:lnTo>
                    <a:lnTo>
                      <a:pt x="5498" y="27"/>
                    </a:lnTo>
                    <a:lnTo>
                      <a:pt x="5848" y="224"/>
                    </a:lnTo>
                    <a:lnTo>
                      <a:pt x="6145" y="55"/>
                    </a:lnTo>
                    <a:lnTo>
                      <a:pt x="6495" y="287"/>
                    </a:lnTo>
                    <a:lnTo>
                      <a:pt x="6788" y="99"/>
                    </a:lnTo>
                    <a:lnTo>
                      <a:pt x="7140" y="376"/>
                    </a:lnTo>
                    <a:lnTo>
                      <a:pt x="7431" y="162"/>
                    </a:lnTo>
                    <a:lnTo>
                      <a:pt x="7787" y="495"/>
                    </a:lnTo>
                    <a:lnTo>
                      <a:pt x="8072" y="252"/>
                    </a:lnTo>
                    <a:lnTo>
                      <a:pt x="8429" y="654"/>
                    </a:lnTo>
                    <a:lnTo>
                      <a:pt x="8715" y="371"/>
                    </a:lnTo>
                    <a:lnTo>
                      <a:pt x="9072" y="857"/>
                    </a:lnTo>
                    <a:lnTo>
                      <a:pt x="9355" y="527"/>
                    </a:lnTo>
                    <a:lnTo>
                      <a:pt x="9716" y="1114"/>
                    </a:lnTo>
                    <a:lnTo>
                      <a:pt x="9997" y="731"/>
                    </a:lnTo>
                    <a:lnTo>
                      <a:pt x="10359" y="14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253"/>
              <p:cNvSpPr/>
              <p:nvPr/>
            </p:nvSpPr>
            <p:spPr>
              <a:xfrm>
                <a:off x="3433320" y="3355200"/>
                <a:ext cx="954360" cy="84240"/>
              </a:xfrm>
              <a:custGeom>
                <a:avLst/>
                <a:gdLst>
                  <a:gd name="textAreaLeft" fmla="*/ 0 w 954360"/>
                  <a:gd name="textAreaRight" fmla="*/ 954720 w 9543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82" h="855">
                    <a:moveTo>
                      <a:pt x="9682" y="855"/>
                    </a:moveTo>
                    <a:lnTo>
                      <a:pt x="9322" y="371"/>
                    </a:lnTo>
                    <a:lnTo>
                      <a:pt x="9040" y="651"/>
                    </a:lnTo>
                    <a:lnTo>
                      <a:pt x="8683" y="252"/>
                    </a:lnTo>
                    <a:lnTo>
                      <a:pt x="8400" y="495"/>
                    </a:lnTo>
                    <a:lnTo>
                      <a:pt x="8042" y="161"/>
                    </a:lnTo>
                    <a:lnTo>
                      <a:pt x="7757" y="376"/>
                    </a:lnTo>
                    <a:lnTo>
                      <a:pt x="7401" y="99"/>
                    </a:lnTo>
                    <a:lnTo>
                      <a:pt x="7116" y="286"/>
                    </a:lnTo>
                    <a:lnTo>
                      <a:pt x="6761" y="57"/>
                    </a:lnTo>
                    <a:lnTo>
                      <a:pt x="6473" y="223"/>
                    </a:lnTo>
                    <a:lnTo>
                      <a:pt x="6120" y="27"/>
                    </a:lnTo>
                    <a:lnTo>
                      <a:pt x="5830" y="179"/>
                    </a:lnTo>
                    <a:lnTo>
                      <a:pt x="5479" y="10"/>
                    </a:lnTo>
                    <a:lnTo>
                      <a:pt x="5183" y="151"/>
                    </a:lnTo>
                    <a:lnTo>
                      <a:pt x="4836" y="2"/>
                    </a:lnTo>
                    <a:lnTo>
                      <a:pt x="4540" y="134"/>
                    </a:lnTo>
                    <a:lnTo>
                      <a:pt x="4538" y="134"/>
                    </a:lnTo>
                    <a:lnTo>
                      <a:pt x="4536" y="134"/>
                    </a:lnTo>
                    <a:lnTo>
                      <a:pt x="4193" y="0"/>
                    </a:lnTo>
                    <a:lnTo>
                      <a:pt x="3894" y="127"/>
                    </a:lnTo>
                    <a:lnTo>
                      <a:pt x="3892" y="127"/>
                    </a:lnTo>
                    <a:lnTo>
                      <a:pt x="3889" y="127"/>
                    </a:lnTo>
                    <a:lnTo>
                      <a:pt x="3547" y="2"/>
                    </a:lnTo>
                    <a:lnTo>
                      <a:pt x="3249" y="124"/>
                    </a:lnTo>
                    <a:lnTo>
                      <a:pt x="3246" y="124"/>
                    </a:lnTo>
                    <a:lnTo>
                      <a:pt x="3244" y="124"/>
                    </a:lnTo>
                    <a:lnTo>
                      <a:pt x="2901" y="10"/>
                    </a:lnTo>
                    <a:lnTo>
                      <a:pt x="2601" y="127"/>
                    </a:lnTo>
                    <a:lnTo>
                      <a:pt x="2598" y="127"/>
                    </a:lnTo>
                    <a:lnTo>
                      <a:pt x="2596" y="127"/>
                    </a:lnTo>
                    <a:lnTo>
                      <a:pt x="2255" y="20"/>
                    </a:lnTo>
                    <a:lnTo>
                      <a:pt x="1952" y="134"/>
                    </a:lnTo>
                    <a:lnTo>
                      <a:pt x="1949" y="134"/>
                    </a:lnTo>
                    <a:lnTo>
                      <a:pt x="1947" y="134"/>
                    </a:lnTo>
                    <a:lnTo>
                      <a:pt x="1609" y="30"/>
                    </a:lnTo>
                    <a:lnTo>
                      <a:pt x="1304" y="141"/>
                    </a:lnTo>
                    <a:lnTo>
                      <a:pt x="1302" y="141"/>
                    </a:lnTo>
                    <a:lnTo>
                      <a:pt x="1299" y="141"/>
                    </a:lnTo>
                    <a:lnTo>
                      <a:pt x="964" y="42"/>
                    </a:lnTo>
                    <a:lnTo>
                      <a:pt x="653" y="154"/>
                    </a:lnTo>
                    <a:lnTo>
                      <a:pt x="650" y="154"/>
                    </a:lnTo>
                    <a:lnTo>
                      <a:pt x="648" y="154"/>
                    </a:lnTo>
                    <a:lnTo>
                      <a:pt x="315" y="57"/>
                    </a:lnTo>
                    <a:lnTo>
                      <a:pt x="2" y="166"/>
                    </a:lnTo>
                    <a:lnTo>
                      <a:pt x="0" y="16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254"/>
              <p:cNvSpPr/>
              <p:nvPr/>
            </p:nvSpPr>
            <p:spPr>
              <a:xfrm>
                <a:off x="3464280" y="3343320"/>
                <a:ext cx="887760" cy="47520"/>
              </a:xfrm>
              <a:custGeom>
                <a:avLst/>
                <a:gdLst>
                  <a:gd name="textAreaLeft" fmla="*/ 0 w 887760"/>
                  <a:gd name="textAreaRight" fmla="*/ 888120 w 887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007" h="493">
                    <a:moveTo>
                      <a:pt x="0" y="179"/>
                    </a:moveTo>
                    <a:lnTo>
                      <a:pt x="3" y="179"/>
                    </a:lnTo>
                    <a:lnTo>
                      <a:pt x="310" y="70"/>
                    </a:lnTo>
                    <a:lnTo>
                      <a:pt x="647" y="164"/>
                    </a:lnTo>
                    <a:lnTo>
                      <a:pt x="649" y="164"/>
                    </a:lnTo>
                    <a:lnTo>
                      <a:pt x="651" y="164"/>
                    </a:lnTo>
                    <a:lnTo>
                      <a:pt x="957" y="55"/>
                    </a:lnTo>
                    <a:lnTo>
                      <a:pt x="1292" y="152"/>
                    </a:lnTo>
                    <a:lnTo>
                      <a:pt x="1294" y="152"/>
                    </a:lnTo>
                    <a:lnTo>
                      <a:pt x="1297" y="152"/>
                    </a:lnTo>
                    <a:lnTo>
                      <a:pt x="1602" y="43"/>
                    </a:lnTo>
                    <a:lnTo>
                      <a:pt x="1937" y="142"/>
                    </a:lnTo>
                    <a:lnTo>
                      <a:pt x="1940" y="142"/>
                    </a:lnTo>
                    <a:lnTo>
                      <a:pt x="1942" y="142"/>
                    </a:lnTo>
                    <a:lnTo>
                      <a:pt x="2246" y="30"/>
                    </a:lnTo>
                    <a:lnTo>
                      <a:pt x="2584" y="132"/>
                    </a:lnTo>
                    <a:lnTo>
                      <a:pt x="2586" y="132"/>
                    </a:lnTo>
                    <a:lnTo>
                      <a:pt x="2589" y="132"/>
                    </a:lnTo>
                    <a:lnTo>
                      <a:pt x="2889" y="18"/>
                    </a:lnTo>
                    <a:lnTo>
                      <a:pt x="3229" y="124"/>
                    </a:lnTo>
                    <a:lnTo>
                      <a:pt x="3232" y="124"/>
                    </a:lnTo>
                    <a:lnTo>
                      <a:pt x="3234" y="124"/>
                    </a:lnTo>
                    <a:lnTo>
                      <a:pt x="3532" y="8"/>
                    </a:lnTo>
                    <a:lnTo>
                      <a:pt x="3875" y="122"/>
                    </a:lnTo>
                    <a:lnTo>
                      <a:pt x="3878" y="122"/>
                    </a:lnTo>
                    <a:lnTo>
                      <a:pt x="3880" y="122"/>
                    </a:lnTo>
                    <a:lnTo>
                      <a:pt x="4173" y="3"/>
                    </a:lnTo>
                    <a:lnTo>
                      <a:pt x="4518" y="124"/>
                    </a:lnTo>
                    <a:lnTo>
                      <a:pt x="4521" y="124"/>
                    </a:lnTo>
                    <a:lnTo>
                      <a:pt x="4523" y="124"/>
                    </a:lnTo>
                    <a:lnTo>
                      <a:pt x="4814" y="0"/>
                    </a:lnTo>
                    <a:lnTo>
                      <a:pt x="5161" y="132"/>
                    </a:lnTo>
                    <a:lnTo>
                      <a:pt x="5164" y="132"/>
                    </a:lnTo>
                    <a:lnTo>
                      <a:pt x="5166" y="132"/>
                    </a:lnTo>
                    <a:lnTo>
                      <a:pt x="5454" y="3"/>
                    </a:lnTo>
                    <a:lnTo>
                      <a:pt x="5805" y="149"/>
                    </a:lnTo>
                    <a:lnTo>
                      <a:pt x="6096" y="10"/>
                    </a:lnTo>
                    <a:lnTo>
                      <a:pt x="6446" y="179"/>
                    </a:lnTo>
                    <a:lnTo>
                      <a:pt x="6734" y="28"/>
                    </a:lnTo>
                    <a:lnTo>
                      <a:pt x="7086" y="221"/>
                    </a:lnTo>
                    <a:lnTo>
                      <a:pt x="7373" y="55"/>
                    </a:lnTo>
                    <a:lnTo>
                      <a:pt x="7727" y="283"/>
                    </a:lnTo>
                    <a:lnTo>
                      <a:pt x="8010" y="100"/>
                    </a:lnTo>
                    <a:lnTo>
                      <a:pt x="8368" y="374"/>
                    </a:lnTo>
                    <a:lnTo>
                      <a:pt x="8648" y="162"/>
                    </a:lnTo>
                    <a:lnTo>
                      <a:pt x="9007" y="4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255"/>
              <p:cNvSpPr/>
              <p:nvPr/>
            </p:nvSpPr>
            <p:spPr>
              <a:xfrm>
                <a:off x="3494880" y="3330720"/>
                <a:ext cx="822600" cy="2808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38" h="283">
                    <a:moveTo>
                      <a:pt x="8338" y="283"/>
                    </a:moveTo>
                    <a:lnTo>
                      <a:pt x="7981" y="57"/>
                    </a:lnTo>
                    <a:lnTo>
                      <a:pt x="7700" y="221"/>
                    </a:lnTo>
                    <a:lnTo>
                      <a:pt x="7348" y="27"/>
                    </a:lnTo>
                    <a:lnTo>
                      <a:pt x="7063" y="176"/>
                    </a:lnTo>
                    <a:lnTo>
                      <a:pt x="6709" y="10"/>
                    </a:lnTo>
                    <a:lnTo>
                      <a:pt x="6424" y="149"/>
                    </a:lnTo>
                    <a:lnTo>
                      <a:pt x="6074" y="2"/>
                    </a:lnTo>
                    <a:lnTo>
                      <a:pt x="5788" y="131"/>
                    </a:lnTo>
                    <a:lnTo>
                      <a:pt x="5786" y="131"/>
                    </a:lnTo>
                    <a:lnTo>
                      <a:pt x="5783" y="131"/>
                    </a:lnTo>
                    <a:lnTo>
                      <a:pt x="5436" y="0"/>
                    </a:lnTo>
                    <a:lnTo>
                      <a:pt x="5147" y="124"/>
                    </a:lnTo>
                    <a:lnTo>
                      <a:pt x="5144" y="124"/>
                    </a:lnTo>
                    <a:lnTo>
                      <a:pt x="5142" y="124"/>
                    </a:lnTo>
                    <a:lnTo>
                      <a:pt x="4797" y="2"/>
                    </a:lnTo>
                    <a:lnTo>
                      <a:pt x="4506" y="121"/>
                    </a:lnTo>
                    <a:lnTo>
                      <a:pt x="4504" y="121"/>
                    </a:lnTo>
                    <a:lnTo>
                      <a:pt x="4501" y="121"/>
                    </a:lnTo>
                    <a:lnTo>
                      <a:pt x="4159" y="7"/>
                    </a:lnTo>
                    <a:lnTo>
                      <a:pt x="3866" y="124"/>
                    </a:lnTo>
                    <a:lnTo>
                      <a:pt x="3863" y="124"/>
                    </a:lnTo>
                    <a:lnTo>
                      <a:pt x="3861" y="124"/>
                    </a:lnTo>
                    <a:lnTo>
                      <a:pt x="3521" y="17"/>
                    </a:lnTo>
                    <a:lnTo>
                      <a:pt x="3224" y="129"/>
                    </a:lnTo>
                    <a:lnTo>
                      <a:pt x="3222" y="129"/>
                    </a:lnTo>
                    <a:lnTo>
                      <a:pt x="3219" y="129"/>
                    </a:lnTo>
                    <a:lnTo>
                      <a:pt x="2879" y="29"/>
                    </a:lnTo>
                    <a:lnTo>
                      <a:pt x="2581" y="139"/>
                    </a:lnTo>
                    <a:lnTo>
                      <a:pt x="2579" y="139"/>
                    </a:lnTo>
                    <a:lnTo>
                      <a:pt x="2577" y="139"/>
                    </a:lnTo>
                    <a:lnTo>
                      <a:pt x="2239" y="42"/>
                    </a:lnTo>
                    <a:lnTo>
                      <a:pt x="1939" y="151"/>
                    </a:lnTo>
                    <a:lnTo>
                      <a:pt x="1936" y="151"/>
                    </a:lnTo>
                    <a:lnTo>
                      <a:pt x="1934" y="151"/>
                    </a:lnTo>
                    <a:lnTo>
                      <a:pt x="1595" y="54"/>
                    </a:lnTo>
                    <a:lnTo>
                      <a:pt x="1295" y="164"/>
                    </a:lnTo>
                    <a:lnTo>
                      <a:pt x="1292" y="164"/>
                    </a:lnTo>
                    <a:lnTo>
                      <a:pt x="1290" y="164"/>
                    </a:lnTo>
                    <a:lnTo>
                      <a:pt x="955" y="69"/>
                    </a:lnTo>
                    <a:lnTo>
                      <a:pt x="649" y="176"/>
                    </a:lnTo>
                    <a:lnTo>
                      <a:pt x="647" y="176"/>
                    </a:lnTo>
                    <a:lnTo>
                      <a:pt x="644" y="176"/>
                    </a:lnTo>
                    <a:lnTo>
                      <a:pt x="312" y="84"/>
                    </a:lnTo>
                    <a:lnTo>
                      <a:pt x="3" y="191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256"/>
              <p:cNvSpPr/>
              <p:nvPr/>
            </p:nvSpPr>
            <p:spPr>
              <a:xfrm>
                <a:off x="3525840" y="3319200"/>
                <a:ext cx="755640" cy="201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669" h="206">
                    <a:moveTo>
                      <a:pt x="0" y="206"/>
                    </a:moveTo>
                    <a:lnTo>
                      <a:pt x="2" y="206"/>
                    </a:lnTo>
                    <a:lnTo>
                      <a:pt x="305" y="99"/>
                    </a:lnTo>
                    <a:lnTo>
                      <a:pt x="640" y="191"/>
                    </a:lnTo>
                    <a:lnTo>
                      <a:pt x="643" y="191"/>
                    </a:lnTo>
                    <a:lnTo>
                      <a:pt x="645" y="191"/>
                    </a:lnTo>
                    <a:lnTo>
                      <a:pt x="945" y="84"/>
                    </a:lnTo>
                    <a:lnTo>
                      <a:pt x="1281" y="176"/>
                    </a:lnTo>
                    <a:lnTo>
                      <a:pt x="1283" y="176"/>
                    </a:lnTo>
                    <a:lnTo>
                      <a:pt x="1286" y="176"/>
                    </a:lnTo>
                    <a:lnTo>
                      <a:pt x="1587" y="70"/>
                    </a:lnTo>
                    <a:lnTo>
                      <a:pt x="1924" y="164"/>
                    </a:lnTo>
                    <a:lnTo>
                      <a:pt x="1927" y="164"/>
                    </a:lnTo>
                    <a:lnTo>
                      <a:pt x="1929" y="164"/>
                    </a:lnTo>
                    <a:lnTo>
                      <a:pt x="2225" y="55"/>
                    </a:lnTo>
                    <a:lnTo>
                      <a:pt x="2565" y="151"/>
                    </a:lnTo>
                    <a:lnTo>
                      <a:pt x="2567" y="151"/>
                    </a:lnTo>
                    <a:lnTo>
                      <a:pt x="2570" y="151"/>
                    </a:lnTo>
                    <a:lnTo>
                      <a:pt x="2865" y="42"/>
                    </a:lnTo>
                    <a:lnTo>
                      <a:pt x="3206" y="139"/>
                    </a:lnTo>
                    <a:lnTo>
                      <a:pt x="3209" y="139"/>
                    </a:lnTo>
                    <a:lnTo>
                      <a:pt x="3211" y="139"/>
                    </a:lnTo>
                    <a:lnTo>
                      <a:pt x="3504" y="30"/>
                    </a:lnTo>
                    <a:lnTo>
                      <a:pt x="3844" y="129"/>
                    </a:lnTo>
                    <a:lnTo>
                      <a:pt x="3847" y="129"/>
                    </a:lnTo>
                    <a:lnTo>
                      <a:pt x="3849" y="129"/>
                    </a:lnTo>
                    <a:lnTo>
                      <a:pt x="4140" y="17"/>
                    </a:lnTo>
                    <a:lnTo>
                      <a:pt x="4482" y="124"/>
                    </a:lnTo>
                    <a:lnTo>
                      <a:pt x="4485" y="124"/>
                    </a:lnTo>
                    <a:lnTo>
                      <a:pt x="4487" y="124"/>
                    </a:lnTo>
                    <a:lnTo>
                      <a:pt x="4775" y="10"/>
                    </a:lnTo>
                    <a:lnTo>
                      <a:pt x="5121" y="122"/>
                    </a:lnTo>
                    <a:lnTo>
                      <a:pt x="5124" y="122"/>
                    </a:lnTo>
                    <a:lnTo>
                      <a:pt x="5126" y="122"/>
                    </a:lnTo>
                    <a:lnTo>
                      <a:pt x="5412" y="3"/>
                    </a:lnTo>
                    <a:lnTo>
                      <a:pt x="5759" y="124"/>
                    </a:lnTo>
                    <a:lnTo>
                      <a:pt x="5762" y="124"/>
                    </a:lnTo>
                    <a:lnTo>
                      <a:pt x="5764" y="124"/>
                    </a:lnTo>
                    <a:lnTo>
                      <a:pt x="6047" y="0"/>
                    </a:lnTo>
                    <a:lnTo>
                      <a:pt x="6395" y="132"/>
                    </a:lnTo>
                    <a:lnTo>
                      <a:pt x="6397" y="132"/>
                    </a:lnTo>
                    <a:lnTo>
                      <a:pt x="6400" y="132"/>
                    </a:lnTo>
                    <a:lnTo>
                      <a:pt x="6683" y="3"/>
                    </a:lnTo>
                    <a:lnTo>
                      <a:pt x="7036" y="149"/>
                    </a:lnTo>
                    <a:lnTo>
                      <a:pt x="7316" y="12"/>
                    </a:lnTo>
                    <a:lnTo>
                      <a:pt x="7669" y="17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257"/>
              <p:cNvSpPr/>
              <p:nvPr/>
            </p:nvSpPr>
            <p:spPr>
              <a:xfrm>
                <a:off x="3556080" y="3307680"/>
                <a:ext cx="690480" cy="20520"/>
              </a:xfrm>
              <a:custGeom>
                <a:avLst/>
                <a:gdLst>
                  <a:gd name="textAreaLeft" fmla="*/ 0 w 690480"/>
                  <a:gd name="textAreaRight" fmla="*/ 690840 w 6904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011" h="218">
                    <a:moveTo>
                      <a:pt x="7011" y="131"/>
                    </a:moveTo>
                    <a:lnTo>
                      <a:pt x="7009" y="131"/>
                    </a:lnTo>
                    <a:lnTo>
                      <a:pt x="6659" y="0"/>
                    </a:lnTo>
                    <a:lnTo>
                      <a:pt x="6381" y="122"/>
                    </a:lnTo>
                    <a:lnTo>
                      <a:pt x="6378" y="122"/>
                    </a:lnTo>
                    <a:lnTo>
                      <a:pt x="6376" y="122"/>
                    </a:lnTo>
                    <a:lnTo>
                      <a:pt x="6027" y="2"/>
                    </a:lnTo>
                    <a:lnTo>
                      <a:pt x="5745" y="119"/>
                    </a:lnTo>
                    <a:lnTo>
                      <a:pt x="5742" y="119"/>
                    </a:lnTo>
                    <a:lnTo>
                      <a:pt x="5740" y="119"/>
                    </a:lnTo>
                    <a:lnTo>
                      <a:pt x="5395" y="10"/>
                    </a:lnTo>
                    <a:lnTo>
                      <a:pt x="5109" y="122"/>
                    </a:lnTo>
                    <a:lnTo>
                      <a:pt x="5107" y="122"/>
                    </a:lnTo>
                    <a:lnTo>
                      <a:pt x="5104" y="122"/>
                    </a:lnTo>
                    <a:lnTo>
                      <a:pt x="4762" y="17"/>
                    </a:lnTo>
                    <a:lnTo>
                      <a:pt x="4473" y="129"/>
                    </a:lnTo>
                    <a:lnTo>
                      <a:pt x="4470" y="129"/>
                    </a:lnTo>
                    <a:lnTo>
                      <a:pt x="4468" y="129"/>
                    </a:lnTo>
                    <a:lnTo>
                      <a:pt x="4125" y="30"/>
                    </a:lnTo>
                    <a:lnTo>
                      <a:pt x="3837" y="136"/>
                    </a:lnTo>
                    <a:lnTo>
                      <a:pt x="3835" y="136"/>
                    </a:lnTo>
                    <a:lnTo>
                      <a:pt x="3832" y="136"/>
                    </a:lnTo>
                    <a:lnTo>
                      <a:pt x="3492" y="42"/>
                    </a:lnTo>
                    <a:lnTo>
                      <a:pt x="3202" y="149"/>
                    </a:lnTo>
                    <a:lnTo>
                      <a:pt x="3199" y="149"/>
                    </a:lnTo>
                    <a:lnTo>
                      <a:pt x="3197" y="149"/>
                    </a:lnTo>
                    <a:lnTo>
                      <a:pt x="2856" y="55"/>
                    </a:lnTo>
                    <a:lnTo>
                      <a:pt x="2563" y="161"/>
                    </a:lnTo>
                    <a:lnTo>
                      <a:pt x="2560" y="161"/>
                    </a:lnTo>
                    <a:lnTo>
                      <a:pt x="2558" y="161"/>
                    </a:lnTo>
                    <a:lnTo>
                      <a:pt x="2220" y="69"/>
                    </a:lnTo>
                    <a:lnTo>
                      <a:pt x="1922" y="174"/>
                    </a:lnTo>
                    <a:lnTo>
                      <a:pt x="1920" y="174"/>
                    </a:lnTo>
                    <a:lnTo>
                      <a:pt x="1917" y="174"/>
                    </a:lnTo>
                    <a:lnTo>
                      <a:pt x="1582" y="84"/>
                    </a:lnTo>
                    <a:lnTo>
                      <a:pt x="1284" y="189"/>
                    </a:lnTo>
                    <a:lnTo>
                      <a:pt x="1282" y="189"/>
                    </a:lnTo>
                    <a:lnTo>
                      <a:pt x="1279" y="189"/>
                    </a:lnTo>
                    <a:lnTo>
                      <a:pt x="943" y="99"/>
                    </a:lnTo>
                    <a:lnTo>
                      <a:pt x="643" y="203"/>
                    </a:lnTo>
                    <a:lnTo>
                      <a:pt x="640" y="203"/>
                    </a:lnTo>
                    <a:lnTo>
                      <a:pt x="638" y="203"/>
                    </a:lnTo>
                    <a:lnTo>
                      <a:pt x="305" y="114"/>
                    </a:lnTo>
                    <a:lnTo>
                      <a:pt x="3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258"/>
              <p:cNvSpPr/>
              <p:nvPr/>
            </p:nvSpPr>
            <p:spPr>
              <a:xfrm>
                <a:off x="3585960" y="3296160"/>
                <a:ext cx="626400" cy="2160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354" h="223">
                    <a:moveTo>
                      <a:pt x="0" y="223"/>
                    </a:moveTo>
                    <a:lnTo>
                      <a:pt x="3" y="223"/>
                    </a:lnTo>
                    <a:lnTo>
                      <a:pt x="303" y="119"/>
                    </a:lnTo>
                    <a:lnTo>
                      <a:pt x="636" y="208"/>
                    </a:lnTo>
                    <a:lnTo>
                      <a:pt x="638" y="208"/>
                    </a:lnTo>
                    <a:lnTo>
                      <a:pt x="641" y="208"/>
                    </a:lnTo>
                    <a:lnTo>
                      <a:pt x="939" y="104"/>
                    </a:lnTo>
                    <a:lnTo>
                      <a:pt x="1275" y="193"/>
                    </a:lnTo>
                    <a:lnTo>
                      <a:pt x="1277" y="193"/>
                    </a:lnTo>
                    <a:lnTo>
                      <a:pt x="1280" y="193"/>
                    </a:lnTo>
                    <a:lnTo>
                      <a:pt x="1575" y="89"/>
                    </a:lnTo>
                    <a:lnTo>
                      <a:pt x="1913" y="178"/>
                    </a:lnTo>
                    <a:lnTo>
                      <a:pt x="1915" y="178"/>
                    </a:lnTo>
                    <a:lnTo>
                      <a:pt x="1918" y="178"/>
                    </a:lnTo>
                    <a:lnTo>
                      <a:pt x="2211" y="74"/>
                    </a:lnTo>
                    <a:lnTo>
                      <a:pt x="2548" y="164"/>
                    </a:lnTo>
                    <a:lnTo>
                      <a:pt x="2551" y="164"/>
                    </a:lnTo>
                    <a:lnTo>
                      <a:pt x="2553" y="164"/>
                    </a:lnTo>
                    <a:lnTo>
                      <a:pt x="2845" y="59"/>
                    </a:lnTo>
                    <a:lnTo>
                      <a:pt x="3185" y="151"/>
                    </a:lnTo>
                    <a:lnTo>
                      <a:pt x="3187" y="151"/>
                    </a:lnTo>
                    <a:lnTo>
                      <a:pt x="3190" y="151"/>
                    </a:lnTo>
                    <a:lnTo>
                      <a:pt x="3478" y="44"/>
                    </a:lnTo>
                    <a:lnTo>
                      <a:pt x="3818" y="139"/>
                    </a:lnTo>
                    <a:lnTo>
                      <a:pt x="3820" y="139"/>
                    </a:lnTo>
                    <a:lnTo>
                      <a:pt x="3823" y="139"/>
                    </a:lnTo>
                    <a:lnTo>
                      <a:pt x="4111" y="32"/>
                    </a:lnTo>
                    <a:lnTo>
                      <a:pt x="4454" y="126"/>
                    </a:lnTo>
                    <a:lnTo>
                      <a:pt x="4457" y="126"/>
                    </a:lnTo>
                    <a:lnTo>
                      <a:pt x="4459" y="126"/>
                    </a:lnTo>
                    <a:lnTo>
                      <a:pt x="4742" y="20"/>
                    </a:lnTo>
                    <a:lnTo>
                      <a:pt x="5087" y="119"/>
                    </a:lnTo>
                    <a:lnTo>
                      <a:pt x="5090" y="119"/>
                    </a:lnTo>
                    <a:lnTo>
                      <a:pt x="5092" y="119"/>
                    </a:lnTo>
                    <a:lnTo>
                      <a:pt x="5372" y="7"/>
                    </a:lnTo>
                    <a:lnTo>
                      <a:pt x="5720" y="111"/>
                    </a:lnTo>
                    <a:lnTo>
                      <a:pt x="5722" y="111"/>
                    </a:lnTo>
                    <a:lnTo>
                      <a:pt x="5725" y="111"/>
                    </a:lnTo>
                    <a:lnTo>
                      <a:pt x="6004" y="0"/>
                    </a:lnTo>
                    <a:lnTo>
                      <a:pt x="6352" y="109"/>
                    </a:lnTo>
                    <a:lnTo>
                      <a:pt x="6354" y="10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259"/>
              <p:cNvSpPr/>
              <p:nvPr/>
            </p:nvSpPr>
            <p:spPr>
              <a:xfrm>
                <a:off x="3615120" y="3287160"/>
                <a:ext cx="562320" cy="2052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5701" h="220">
                    <a:moveTo>
                      <a:pt x="5701" y="101"/>
                    </a:moveTo>
                    <a:lnTo>
                      <a:pt x="5699" y="101"/>
                    </a:lnTo>
                    <a:lnTo>
                      <a:pt x="5352" y="0"/>
                    </a:lnTo>
                    <a:lnTo>
                      <a:pt x="5072" y="108"/>
                    </a:lnTo>
                    <a:lnTo>
                      <a:pt x="5069" y="108"/>
                    </a:lnTo>
                    <a:lnTo>
                      <a:pt x="5067" y="108"/>
                    </a:lnTo>
                    <a:lnTo>
                      <a:pt x="4724" y="13"/>
                    </a:lnTo>
                    <a:lnTo>
                      <a:pt x="4441" y="121"/>
                    </a:lnTo>
                    <a:lnTo>
                      <a:pt x="4439" y="121"/>
                    </a:lnTo>
                    <a:lnTo>
                      <a:pt x="4437" y="121"/>
                    </a:lnTo>
                    <a:lnTo>
                      <a:pt x="4094" y="25"/>
                    </a:lnTo>
                    <a:lnTo>
                      <a:pt x="3810" y="133"/>
                    </a:lnTo>
                    <a:lnTo>
                      <a:pt x="3808" y="133"/>
                    </a:lnTo>
                    <a:lnTo>
                      <a:pt x="3805" y="133"/>
                    </a:lnTo>
                    <a:lnTo>
                      <a:pt x="3465" y="40"/>
                    </a:lnTo>
                    <a:lnTo>
                      <a:pt x="3177" y="145"/>
                    </a:lnTo>
                    <a:lnTo>
                      <a:pt x="3175" y="145"/>
                    </a:lnTo>
                    <a:lnTo>
                      <a:pt x="3172" y="145"/>
                    </a:lnTo>
                    <a:lnTo>
                      <a:pt x="2834" y="55"/>
                    </a:lnTo>
                    <a:lnTo>
                      <a:pt x="2544" y="160"/>
                    </a:lnTo>
                    <a:lnTo>
                      <a:pt x="2542" y="160"/>
                    </a:lnTo>
                    <a:lnTo>
                      <a:pt x="2539" y="160"/>
                    </a:lnTo>
                    <a:lnTo>
                      <a:pt x="2200" y="70"/>
                    </a:lnTo>
                    <a:lnTo>
                      <a:pt x="1910" y="175"/>
                    </a:lnTo>
                    <a:lnTo>
                      <a:pt x="1908" y="175"/>
                    </a:lnTo>
                    <a:lnTo>
                      <a:pt x="1905" y="175"/>
                    </a:lnTo>
                    <a:lnTo>
                      <a:pt x="1570" y="86"/>
                    </a:lnTo>
                    <a:lnTo>
                      <a:pt x="1275" y="190"/>
                    </a:lnTo>
                    <a:lnTo>
                      <a:pt x="1272" y="190"/>
                    </a:lnTo>
                    <a:lnTo>
                      <a:pt x="1270" y="190"/>
                    </a:lnTo>
                    <a:lnTo>
                      <a:pt x="937" y="101"/>
                    </a:lnTo>
                    <a:lnTo>
                      <a:pt x="638" y="205"/>
                    </a:lnTo>
                    <a:lnTo>
                      <a:pt x="636" y="205"/>
                    </a:lnTo>
                    <a:lnTo>
                      <a:pt x="633" y="205"/>
                    </a:lnTo>
                    <a:lnTo>
                      <a:pt x="301" y="118"/>
                    </a:lnTo>
                    <a:lnTo>
                      <a:pt x="3" y="220"/>
                    </a:lnTo>
                    <a:lnTo>
                      <a:pt x="0" y="22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260"/>
              <p:cNvSpPr/>
              <p:nvPr/>
            </p:nvSpPr>
            <p:spPr>
              <a:xfrm>
                <a:off x="3646080" y="3278160"/>
                <a:ext cx="497160" cy="2016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5051" h="209">
                    <a:moveTo>
                      <a:pt x="0" y="209"/>
                    </a:moveTo>
                    <a:lnTo>
                      <a:pt x="2" y="209"/>
                    </a:lnTo>
                    <a:lnTo>
                      <a:pt x="300" y="106"/>
                    </a:lnTo>
                    <a:lnTo>
                      <a:pt x="634" y="192"/>
                    </a:lnTo>
                    <a:lnTo>
                      <a:pt x="636" y="192"/>
                    </a:lnTo>
                    <a:lnTo>
                      <a:pt x="638" y="192"/>
                    </a:lnTo>
                    <a:lnTo>
                      <a:pt x="931" y="89"/>
                    </a:lnTo>
                    <a:lnTo>
                      <a:pt x="1266" y="177"/>
                    </a:lnTo>
                    <a:lnTo>
                      <a:pt x="1269" y="177"/>
                    </a:lnTo>
                    <a:lnTo>
                      <a:pt x="1271" y="177"/>
                    </a:lnTo>
                    <a:lnTo>
                      <a:pt x="1562" y="74"/>
                    </a:lnTo>
                    <a:lnTo>
                      <a:pt x="1897" y="161"/>
                    </a:lnTo>
                    <a:lnTo>
                      <a:pt x="1899" y="161"/>
                    </a:lnTo>
                    <a:lnTo>
                      <a:pt x="1902" y="161"/>
                    </a:lnTo>
                    <a:lnTo>
                      <a:pt x="2193" y="59"/>
                    </a:lnTo>
                    <a:lnTo>
                      <a:pt x="2531" y="146"/>
                    </a:lnTo>
                    <a:lnTo>
                      <a:pt x="2533" y="146"/>
                    </a:lnTo>
                    <a:lnTo>
                      <a:pt x="2536" y="146"/>
                    </a:lnTo>
                    <a:lnTo>
                      <a:pt x="2821" y="44"/>
                    </a:lnTo>
                    <a:lnTo>
                      <a:pt x="3161" y="131"/>
                    </a:lnTo>
                    <a:lnTo>
                      <a:pt x="3164" y="131"/>
                    </a:lnTo>
                    <a:lnTo>
                      <a:pt x="3166" y="131"/>
                    </a:lnTo>
                    <a:lnTo>
                      <a:pt x="3449" y="27"/>
                    </a:lnTo>
                    <a:lnTo>
                      <a:pt x="3790" y="116"/>
                    </a:lnTo>
                    <a:lnTo>
                      <a:pt x="3793" y="116"/>
                    </a:lnTo>
                    <a:lnTo>
                      <a:pt x="3795" y="116"/>
                    </a:lnTo>
                    <a:lnTo>
                      <a:pt x="4078" y="14"/>
                    </a:lnTo>
                    <a:lnTo>
                      <a:pt x="4421" y="104"/>
                    </a:lnTo>
                    <a:lnTo>
                      <a:pt x="4423" y="104"/>
                    </a:lnTo>
                    <a:lnTo>
                      <a:pt x="4426" y="104"/>
                    </a:lnTo>
                    <a:lnTo>
                      <a:pt x="4706" y="0"/>
                    </a:lnTo>
                    <a:lnTo>
                      <a:pt x="5049" y="91"/>
                    </a:lnTo>
                    <a:lnTo>
                      <a:pt x="5051" y="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261"/>
              <p:cNvSpPr/>
              <p:nvPr/>
            </p:nvSpPr>
            <p:spPr>
              <a:xfrm>
                <a:off x="3675240" y="3269160"/>
                <a:ext cx="434160" cy="19080"/>
              </a:xfrm>
              <a:custGeom>
                <a:avLst/>
                <a:gdLst>
                  <a:gd name="textAreaLeft" fmla="*/ 0 w 434160"/>
                  <a:gd name="textAreaRight" fmla="*/ 434520 w 4341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4406" h="196">
                    <a:moveTo>
                      <a:pt x="4406" y="90"/>
                    </a:moveTo>
                    <a:lnTo>
                      <a:pt x="4404" y="90"/>
                    </a:lnTo>
                    <a:lnTo>
                      <a:pt x="4061" y="0"/>
                    </a:lnTo>
                    <a:lnTo>
                      <a:pt x="3781" y="104"/>
                    </a:lnTo>
                    <a:lnTo>
                      <a:pt x="3778" y="104"/>
                    </a:lnTo>
                    <a:lnTo>
                      <a:pt x="3776" y="104"/>
                    </a:lnTo>
                    <a:lnTo>
                      <a:pt x="3436" y="15"/>
                    </a:lnTo>
                    <a:lnTo>
                      <a:pt x="3152" y="117"/>
                    </a:lnTo>
                    <a:lnTo>
                      <a:pt x="3149" y="117"/>
                    </a:lnTo>
                    <a:lnTo>
                      <a:pt x="3147" y="117"/>
                    </a:lnTo>
                    <a:lnTo>
                      <a:pt x="2809" y="32"/>
                    </a:lnTo>
                    <a:lnTo>
                      <a:pt x="2524" y="134"/>
                    </a:lnTo>
                    <a:lnTo>
                      <a:pt x="2521" y="134"/>
                    </a:lnTo>
                    <a:lnTo>
                      <a:pt x="2519" y="134"/>
                    </a:lnTo>
                    <a:lnTo>
                      <a:pt x="2184" y="47"/>
                    </a:lnTo>
                    <a:lnTo>
                      <a:pt x="1896" y="149"/>
                    </a:lnTo>
                    <a:lnTo>
                      <a:pt x="1893" y="149"/>
                    </a:lnTo>
                    <a:lnTo>
                      <a:pt x="1891" y="149"/>
                    </a:lnTo>
                    <a:lnTo>
                      <a:pt x="1555" y="62"/>
                    </a:lnTo>
                    <a:lnTo>
                      <a:pt x="1264" y="164"/>
                    </a:lnTo>
                    <a:lnTo>
                      <a:pt x="1262" y="164"/>
                    </a:lnTo>
                    <a:lnTo>
                      <a:pt x="1259" y="164"/>
                    </a:lnTo>
                    <a:lnTo>
                      <a:pt x="927" y="77"/>
                    </a:lnTo>
                    <a:lnTo>
                      <a:pt x="634" y="179"/>
                    </a:lnTo>
                    <a:lnTo>
                      <a:pt x="631" y="179"/>
                    </a:lnTo>
                    <a:lnTo>
                      <a:pt x="629" y="179"/>
                    </a:lnTo>
                    <a:lnTo>
                      <a:pt x="296" y="95"/>
                    </a:lnTo>
                    <a:lnTo>
                      <a:pt x="2" y="196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262"/>
              <p:cNvSpPr/>
              <p:nvPr/>
            </p:nvSpPr>
            <p:spPr>
              <a:xfrm>
                <a:off x="3703680" y="3260160"/>
                <a:ext cx="371520" cy="1800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18000"/>
                  <a:gd name="textAreaBottom" fmla="*/ 18000 h 18000"/>
                </a:gdLst>
                <a:ahLst/>
                <a:rect l="textAreaLeft" t="textAreaTop" r="textAreaRight" b="textAreaBottom"/>
                <a:pathLst>
                  <a:path w="3765" h="179">
                    <a:moveTo>
                      <a:pt x="0" y="179"/>
                    </a:moveTo>
                    <a:lnTo>
                      <a:pt x="3" y="179"/>
                    </a:lnTo>
                    <a:lnTo>
                      <a:pt x="296" y="77"/>
                    </a:lnTo>
                    <a:lnTo>
                      <a:pt x="628" y="161"/>
                    </a:lnTo>
                    <a:lnTo>
                      <a:pt x="631" y="161"/>
                    </a:lnTo>
                    <a:lnTo>
                      <a:pt x="633" y="161"/>
                    </a:lnTo>
                    <a:lnTo>
                      <a:pt x="924" y="62"/>
                    </a:lnTo>
                    <a:lnTo>
                      <a:pt x="1256" y="146"/>
                    </a:lnTo>
                    <a:lnTo>
                      <a:pt x="1259" y="146"/>
                    </a:lnTo>
                    <a:lnTo>
                      <a:pt x="1261" y="146"/>
                    </a:lnTo>
                    <a:lnTo>
                      <a:pt x="1550" y="47"/>
                    </a:lnTo>
                    <a:lnTo>
                      <a:pt x="1885" y="131"/>
                    </a:lnTo>
                    <a:lnTo>
                      <a:pt x="1888" y="131"/>
                    </a:lnTo>
                    <a:lnTo>
                      <a:pt x="1890" y="131"/>
                    </a:lnTo>
                    <a:lnTo>
                      <a:pt x="2176" y="30"/>
                    </a:lnTo>
                    <a:lnTo>
                      <a:pt x="2511" y="116"/>
                    </a:lnTo>
                    <a:lnTo>
                      <a:pt x="2513" y="116"/>
                    </a:lnTo>
                    <a:lnTo>
                      <a:pt x="2516" y="116"/>
                    </a:lnTo>
                    <a:lnTo>
                      <a:pt x="2799" y="15"/>
                    </a:lnTo>
                    <a:lnTo>
                      <a:pt x="3137" y="99"/>
                    </a:lnTo>
                    <a:lnTo>
                      <a:pt x="3140" y="99"/>
                    </a:lnTo>
                    <a:lnTo>
                      <a:pt x="3142" y="99"/>
                    </a:lnTo>
                    <a:lnTo>
                      <a:pt x="3425" y="0"/>
                    </a:lnTo>
                    <a:lnTo>
                      <a:pt x="3763" y="84"/>
                    </a:lnTo>
                    <a:lnTo>
                      <a:pt x="3765" y="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263"/>
              <p:cNvSpPr/>
              <p:nvPr/>
            </p:nvSpPr>
            <p:spPr>
              <a:xfrm>
                <a:off x="3733200" y="3252600"/>
                <a:ext cx="308880" cy="15120"/>
              </a:xfrm>
              <a:custGeom>
                <a:avLst/>
                <a:gdLst>
                  <a:gd name="textAreaLeft" fmla="*/ 0 w 308880"/>
                  <a:gd name="textAreaRight" fmla="*/ 308880 w 3088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129" h="162">
                    <a:moveTo>
                      <a:pt x="3129" y="85"/>
                    </a:moveTo>
                    <a:lnTo>
                      <a:pt x="3127" y="85"/>
                    </a:lnTo>
                    <a:lnTo>
                      <a:pt x="2789" y="0"/>
                    </a:lnTo>
                    <a:lnTo>
                      <a:pt x="2505" y="100"/>
                    </a:lnTo>
                    <a:lnTo>
                      <a:pt x="2503" y="100"/>
                    </a:lnTo>
                    <a:lnTo>
                      <a:pt x="2500" y="100"/>
                    </a:lnTo>
                    <a:lnTo>
                      <a:pt x="2165" y="15"/>
                    </a:lnTo>
                    <a:lnTo>
                      <a:pt x="1882" y="115"/>
                    </a:lnTo>
                    <a:lnTo>
                      <a:pt x="1880" y="115"/>
                    </a:lnTo>
                    <a:lnTo>
                      <a:pt x="1877" y="115"/>
                    </a:lnTo>
                    <a:lnTo>
                      <a:pt x="1542" y="30"/>
                    </a:lnTo>
                    <a:lnTo>
                      <a:pt x="1257" y="132"/>
                    </a:lnTo>
                    <a:lnTo>
                      <a:pt x="1254" y="132"/>
                    </a:lnTo>
                    <a:lnTo>
                      <a:pt x="1252" y="132"/>
                    </a:lnTo>
                    <a:lnTo>
                      <a:pt x="918" y="48"/>
                    </a:lnTo>
                    <a:lnTo>
                      <a:pt x="630" y="147"/>
                    </a:lnTo>
                    <a:lnTo>
                      <a:pt x="628" y="147"/>
                    </a:lnTo>
                    <a:lnTo>
                      <a:pt x="625" y="147"/>
                    </a:lnTo>
                    <a:lnTo>
                      <a:pt x="293" y="62"/>
                    </a:lnTo>
                    <a:lnTo>
                      <a:pt x="2" y="162"/>
                    </a:lnTo>
                    <a:lnTo>
                      <a:pt x="0" y="16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64"/>
              <p:cNvSpPr/>
              <p:nvPr/>
            </p:nvSpPr>
            <p:spPr>
              <a:xfrm>
                <a:off x="3762720" y="3243600"/>
                <a:ext cx="245880" cy="136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496" h="146">
                    <a:moveTo>
                      <a:pt x="0" y="146"/>
                    </a:moveTo>
                    <a:lnTo>
                      <a:pt x="2" y="146"/>
                    </a:lnTo>
                    <a:lnTo>
                      <a:pt x="290" y="47"/>
                    </a:lnTo>
                    <a:lnTo>
                      <a:pt x="623" y="132"/>
                    </a:lnTo>
                    <a:lnTo>
                      <a:pt x="625" y="132"/>
                    </a:lnTo>
                    <a:lnTo>
                      <a:pt x="628" y="132"/>
                    </a:lnTo>
                    <a:lnTo>
                      <a:pt x="914" y="32"/>
                    </a:lnTo>
                    <a:lnTo>
                      <a:pt x="1247" y="114"/>
                    </a:lnTo>
                    <a:lnTo>
                      <a:pt x="1249" y="114"/>
                    </a:lnTo>
                    <a:lnTo>
                      <a:pt x="1252" y="114"/>
                    </a:lnTo>
                    <a:lnTo>
                      <a:pt x="1535" y="17"/>
                    </a:lnTo>
                    <a:lnTo>
                      <a:pt x="1870" y="99"/>
                    </a:lnTo>
                    <a:lnTo>
                      <a:pt x="1872" y="99"/>
                    </a:lnTo>
                    <a:lnTo>
                      <a:pt x="1875" y="99"/>
                    </a:lnTo>
                    <a:lnTo>
                      <a:pt x="2158" y="0"/>
                    </a:lnTo>
                    <a:lnTo>
                      <a:pt x="2494" y="84"/>
                    </a:lnTo>
                    <a:lnTo>
                      <a:pt x="2496" y="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265"/>
              <p:cNvSpPr/>
              <p:nvPr/>
            </p:nvSpPr>
            <p:spPr>
              <a:xfrm>
                <a:off x="3790800" y="3236040"/>
                <a:ext cx="184320" cy="1260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68" h="129">
                    <a:moveTo>
                      <a:pt x="1868" y="82"/>
                    </a:moveTo>
                    <a:lnTo>
                      <a:pt x="1865" y="82"/>
                    </a:lnTo>
                    <a:lnTo>
                      <a:pt x="1530" y="0"/>
                    </a:lnTo>
                    <a:lnTo>
                      <a:pt x="1247" y="99"/>
                    </a:lnTo>
                    <a:lnTo>
                      <a:pt x="1245" y="99"/>
                    </a:lnTo>
                    <a:lnTo>
                      <a:pt x="1242" y="99"/>
                    </a:lnTo>
                    <a:lnTo>
                      <a:pt x="912" y="15"/>
                    </a:lnTo>
                    <a:lnTo>
                      <a:pt x="627" y="114"/>
                    </a:lnTo>
                    <a:lnTo>
                      <a:pt x="624" y="114"/>
                    </a:lnTo>
                    <a:lnTo>
                      <a:pt x="622" y="114"/>
                    </a:lnTo>
                    <a:lnTo>
                      <a:pt x="290" y="32"/>
                    </a:lnTo>
                    <a:lnTo>
                      <a:pt x="2" y="129"/>
                    </a:lnTo>
                    <a:lnTo>
                      <a:pt x="0" y="1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266"/>
              <p:cNvSpPr/>
              <p:nvPr/>
            </p:nvSpPr>
            <p:spPr>
              <a:xfrm>
                <a:off x="3818880" y="3228480"/>
                <a:ext cx="123120" cy="1008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40" h="114">
                    <a:moveTo>
                      <a:pt x="0" y="114"/>
                    </a:moveTo>
                    <a:lnTo>
                      <a:pt x="3" y="114"/>
                    </a:lnTo>
                    <a:lnTo>
                      <a:pt x="287" y="15"/>
                    </a:lnTo>
                    <a:lnTo>
                      <a:pt x="620" y="97"/>
                    </a:lnTo>
                    <a:lnTo>
                      <a:pt x="622" y="97"/>
                    </a:lnTo>
                    <a:lnTo>
                      <a:pt x="624" y="97"/>
                    </a:lnTo>
                    <a:lnTo>
                      <a:pt x="905" y="0"/>
                    </a:lnTo>
                    <a:lnTo>
                      <a:pt x="1238" y="82"/>
                    </a:lnTo>
                    <a:lnTo>
                      <a:pt x="1240" y="8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267"/>
              <p:cNvSpPr/>
              <p:nvPr/>
            </p:nvSpPr>
            <p:spPr>
              <a:xfrm>
                <a:off x="3846960" y="3219480"/>
                <a:ext cx="61560" cy="100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18" h="97">
                    <a:moveTo>
                      <a:pt x="618" y="82"/>
                    </a:moveTo>
                    <a:lnTo>
                      <a:pt x="615" y="82"/>
                    </a:lnTo>
                    <a:lnTo>
                      <a:pt x="285" y="0"/>
                    </a:lnTo>
                    <a:lnTo>
                      <a:pt x="2" y="97"/>
                    </a:lnTo>
                    <a:lnTo>
                      <a:pt x="0" y="9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Line 268"/>
              <p:cNvSpPr/>
              <p:nvPr/>
            </p:nvSpPr>
            <p:spPr>
              <a:xfrm>
                <a:off x="3267000" y="342432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Group 269"/>
            <p:cNvGrpSpPr/>
            <p:nvPr/>
          </p:nvGrpSpPr>
          <p:grpSpPr>
            <a:xfrm>
              <a:off x="3362040" y="1709640"/>
              <a:ext cx="1209600" cy="866520"/>
              <a:chOff x="3362040" y="1709640"/>
              <a:chExt cx="1209600" cy="866520"/>
            </a:xfrm>
          </p:grpSpPr>
          <p:sp>
            <p:nvSpPr>
              <p:cNvPr id="1698" name="Freeform 270"/>
              <p:cNvSpPr/>
              <p:nvPr/>
            </p:nvSpPr>
            <p:spPr>
              <a:xfrm>
                <a:off x="3370320" y="1722600"/>
                <a:ext cx="655560" cy="853560"/>
              </a:xfrm>
              <a:custGeom>
                <a:avLst/>
                <a:gdLst>
                  <a:gd name="textAreaLeft" fmla="*/ 0 w 655560"/>
                  <a:gd name="textAreaRight" fmla="*/ 655560 w 65556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7166" h="9329">
                    <a:moveTo>
                      <a:pt x="7166" y="9329"/>
                    </a:moveTo>
                    <a:lnTo>
                      <a:pt x="6786" y="9200"/>
                    </a:lnTo>
                    <a:lnTo>
                      <a:pt x="6409" y="9074"/>
                    </a:lnTo>
                    <a:lnTo>
                      <a:pt x="6036" y="8945"/>
                    </a:lnTo>
                    <a:lnTo>
                      <a:pt x="5663" y="8815"/>
                    </a:lnTo>
                    <a:lnTo>
                      <a:pt x="5291" y="8683"/>
                    </a:lnTo>
                    <a:lnTo>
                      <a:pt x="4923" y="8542"/>
                    </a:lnTo>
                    <a:lnTo>
                      <a:pt x="4558" y="8385"/>
                    </a:lnTo>
                    <a:lnTo>
                      <a:pt x="4196" y="8199"/>
                    </a:lnTo>
                    <a:lnTo>
                      <a:pt x="3832" y="7950"/>
                    </a:lnTo>
                    <a:lnTo>
                      <a:pt x="3475" y="7587"/>
                    </a:lnTo>
                    <a:lnTo>
                      <a:pt x="3118" y="7030"/>
                    </a:lnTo>
                    <a:lnTo>
                      <a:pt x="2763" y="6188"/>
                    </a:lnTo>
                    <a:lnTo>
                      <a:pt x="2409" y="5030"/>
                    </a:lnTo>
                    <a:lnTo>
                      <a:pt x="2059" y="3690"/>
                    </a:lnTo>
                    <a:lnTo>
                      <a:pt x="1712" y="2441"/>
                    </a:lnTo>
                    <a:lnTo>
                      <a:pt x="1364" y="1481"/>
                    </a:lnTo>
                    <a:lnTo>
                      <a:pt x="1022" y="840"/>
                    </a:lnTo>
                    <a:lnTo>
                      <a:pt x="678" y="435"/>
                    </a:lnTo>
                    <a:lnTo>
                      <a:pt x="338" y="1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271"/>
              <p:cNvSpPr/>
              <p:nvPr/>
            </p:nvSpPr>
            <p:spPr>
              <a:xfrm>
                <a:off x="4026240" y="2316600"/>
                <a:ext cx="545400" cy="2595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5946" h="2842">
                    <a:moveTo>
                      <a:pt x="5946" y="0"/>
                    </a:moveTo>
                    <a:lnTo>
                      <a:pt x="5668" y="134"/>
                    </a:lnTo>
                    <a:lnTo>
                      <a:pt x="5390" y="265"/>
                    </a:lnTo>
                    <a:lnTo>
                      <a:pt x="5106" y="402"/>
                    </a:lnTo>
                    <a:lnTo>
                      <a:pt x="4823" y="536"/>
                    </a:lnTo>
                    <a:lnTo>
                      <a:pt x="4538" y="673"/>
                    </a:lnTo>
                    <a:lnTo>
                      <a:pt x="4252" y="810"/>
                    </a:lnTo>
                    <a:lnTo>
                      <a:pt x="3962" y="949"/>
                    </a:lnTo>
                    <a:lnTo>
                      <a:pt x="3671" y="1088"/>
                    </a:lnTo>
                    <a:lnTo>
                      <a:pt x="3375" y="1229"/>
                    </a:lnTo>
                    <a:lnTo>
                      <a:pt x="3080" y="1371"/>
                    </a:lnTo>
                    <a:lnTo>
                      <a:pt x="2782" y="1513"/>
                    </a:lnTo>
                    <a:lnTo>
                      <a:pt x="2481" y="1657"/>
                    </a:lnTo>
                    <a:lnTo>
                      <a:pt x="2181" y="1801"/>
                    </a:lnTo>
                    <a:lnTo>
                      <a:pt x="1876" y="1945"/>
                    </a:lnTo>
                    <a:lnTo>
                      <a:pt x="1567" y="2092"/>
                    </a:lnTo>
                    <a:lnTo>
                      <a:pt x="1259" y="2241"/>
                    </a:lnTo>
                    <a:lnTo>
                      <a:pt x="949" y="2391"/>
                    </a:lnTo>
                    <a:lnTo>
                      <a:pt x="634" y="2540"/>
                    </a:lnTo>
                    <a:lnTo>
                      <a:pt x="318" y="2691"/>
                    </a:lnTo>
                    <a:lnTo>
                      <a:pt x="0" y="284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272"/>
              <p:cNvSpPr/>
              <p:nvPr/>
            </p:nvSpPr>
            <p:spPr>
              <a:xfrm>
                <a:off x="3991680" y="2551320"/>
                <a:ext cx="64080" cy="14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698" h="149">
                    <a:moveTo>
                      <a:pt x="698" y="127"/>
                    </a:moveTo>
                    <a:lnTo>
                      <a:pt x="696" y="127"/>
                    </a:lnTo>
                    <a:lnTo>
                      <a:pt x="320" y="0"/>
                    </a:lnTo>
                    <a:lnTo>
                      <a:pt x="2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273"/>
              <p:cNvSpPr/>
              <p:nvPr/>
            </p:nvSpPr>
            <p:spPr>
              <a:xfrm>
                <a:off x="3957120" y="2536920"/>
                <a:ext cx="127080" cy="16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391" h="174">
                    <a:moveTo>
                      <a:pt x="0" y="174"/>
                    </a:moveTo>
                    <a:lnTo>
                      <a:pt x="2" y="174"/>
                    </a:lnTo>
                    <a:lnTo>
                      <a:pt x="320" y="25"/>
                    </a:lnTo>
                    <a:lnTo>
                      <a:pt x="695" y="151"/>
                    </a:lnTo>
                    <a:lnTo>
                      <a:pt x="697" y="151"/>
                    </a:lnTo>
                    <a:lnTo>
                      <a:pt x="700" y="151"/>
                    </a:lnTo>
                    <a:lnTo>
                      <a:pt x="1013" y="0"/>
                    </a:lnTo>
                    <a:lnTo>
                      <a:pt x="1388" y="127"/>
                    </a:lnTo>
                    <a:lnTo>
                      <a:pt x="1391" y="12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274"/>
              <p:cNvSpPr/>
              <p:nvPr/>
            </p:nvSpPr>
            <p:spPr>
              <a:xfrm>
                <a:off x="3922560" y="2523960"/>
                <a:ext cx="190080" cy="17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079" h="195">
                    <a:moveTo>
                      <a:pt x="2079" y="128"/>
                    </a:moveTo>
                    <a:lnTo>
                      <a:pt x="2076" y="128"/>
                    </a:lnTo>
                    <a:lnTo>
                      <a:pt x="1699" y="0"/>
                    </a:lnTo>
                    <a:lnTo>
                      <a:pt x="1389" y="150"/>
                    </a:lnTo>
                    <a:lnTo>
                      <a:pt x="1386" y="150"/>
                    </a:lnTo>
                    <a:lnTo>
                      <a:pt x="1384" y="150"/>
                    </a:lnTo>
                    <a:lnTo>
                      <a:pt x="1008" y="25"/>
                    </a:lnTo>
                    <a:lnTo>
                      <a:pt x="695" y="175"/>
                    </a:lnTo>
                    <a:lnTo>
                      <a:pt x="693" y="175"/>
                    </a:lnTo>
                    <a:lnTo>
                      <a:pt x="690" y="175"/>
                    </a:lnTo>
                    <a:lnTo>
                      <a:pt x="318" y="47"/>
                    </a:lnTo>
                    <a:lnTo>
                      <a:pt x="3" y="195"/>
                    </a:lnTo>
                    <a:lnTo>
                      <a:pt x="0" y="1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275"/>
              <p:cNvSpPr/>
              <p:nvPr/>
            </p:nvSpPr>
            <p:spPr>
              <a:xfrm>
                <a:off x="3889080" y="2511000"/>
                <a:ext cx="252360" cy="190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762" h="211">
                    <a:moveTo>
                      <a:pt x="0" y="211"/>
                    </a:moveTo>
                    <a:lnTo>
                      <a:pt x="2" y="211"/>
                    </a:lnTo>
                    <a:lnTo>
                      <a:pt x="319" y="64"/>
                    </a:lnTo>
                    <a:lnTo>
                      <a:pt x="688" y="193"/>
                    </a:lnTo>
                    <a:lnTo>
                      <a:pt x="691" y="193"/>
                    </a:lnTo>
                    <a:lnTo>
                      <a:pt x="693" y="193"/>
                    </a:lnTo>
                    <a:lnTo>
                      <a:pt x="1009" y="44"/>
                    </a:lnTo>
                    <a:lnTo>
                      <a:pt x="1379" y="171"/>
                    </a:lnTo>
                    <a:lnTo>
                      <a:pt x="1381" y="171"/>
                    </a:lnTo>
                    <a:lnTo>
                      <a:pt x="1384" y="171"/>
                    </a:lnTo>
                    <a:lnTo>
                      <a:pt x="1696" y="22"/>
                    </a:lnTo>
                    <a:lnTo>
                      <a:pt x="2070" y="146"/>
                    </a:lnTo>
                    <a:lnTo>
                      <a:pt x="2072" y="146"/>
                    </a:lnTo>
                    <a:lnTo>
                      <a:pt x="2075" y="146"/>
                    </a:lnTo>
                    <a:lnTo>
                      <a:pt x="2385" y="0"/>
                    </a:lnTo>
                    <a:lnTo>
                      <a:pt x="2760" y="124"/>
                    </a:lnTo>
                    <a:lnTo>
                      <a:pt x="2762" y="12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276"/>
              <p:cNvSpPr/>
              <p:nvPr/>
            </p:nvSpPr>
            <p:spPr>
              <a:xfrm>
                <a:off x="3854520" y="2496600"/>
                <a:ext cx="315360" cy="2160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3442" h="226">
                    <a:moveTo>
                      <a:pt x="3442" y="122"/>
                    </a:moveTo>
                    <a:lnTo>
                      <a:pt x="3439" y="122"/>
                    </a:lnTo>
                    <a:lnTo>
                      <a:pt x="3067" y="0"/>
                    </a:lnTo>
                    <a:lnTo>
                      <a:pt x="2759" y="147"/>
                    </a:lnTo>
                    <a:lnTo>
                      <a:pt x="2757" y="147"/>
                    </a:lnTo>
                    <a:lnTo>
                      <a:pt x="2754" y="147"/>
                    </a:lnTo>
                    <a:lnTo>
                      <a:pt x="2382" y="22"/>
                    </a:lnTo>
                    <a:lnTo>
                      <a:pt x="2071" y="169"/>
                    </a:lnTo>
                    <a:lnTo>
                      <a:pt x="2068" y="169"/>
                    </a:lnTo>
                    <a:lnTo>
                      <a:pt x="2066" y="169"/>
                    </a:lnTo>
                    <a:lnTo>
                      <a:pt x="1696" y="45"/>
                    </a:lnTo>
                    <a:lnTo>
                      <a:pt x="1383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008" y="67"/>
                    </a:lnTo>
                    <a:lnTo>
                      <a:pt x="693" y="211"/>
                    </a:lnTo>
                    <a:lnTo>
                      <a:pt x="691" y="211"/>
                    </a:lnTo>
                    <a:lnTo>
                      <a:pt x="688" y="211"/>
                    </a:lnTo>
                    <a:lnTo>
                      <a:pt x="320" y="82"/>
                    </a:lnTo>
                    <a:lnTo>
                      <a:pt x="2" y="226"/>
                    </a:lnTo>
                    <a:lnTo>
                      <a:pt x="0" y="22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277"/>
              <p:cNvSpPr/>
              <p:nvPr/>
            </p:nvSpPr>
            <p:spPr>
              <a:xfrm>
                <a:off x="3821400" y="2483640"/>
                <a:ext cx="377280" cy="2124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4119" h="231">
                    <a:moveTo>
                      <a:pt x="0" y="231"/>
                    </a:moveTo>
                    <a:lnTo>
                      <a:pt x="3" y="231"/>
                    </a:lnTo>
                    <a:lnTo>
                      <a:pt x="320" y="97"/>
                    </a:lnTo>
                    <a:lnTo>
                      <a:pt x="685" y="228"/>
                    </a:lnTo>
                    <a:lnTo>
                      <a:pt x="688" y="228"/>
                    </a:lnTo>
                    <a:lnTo>
                      <a:pt x="690" y="228"/>
                    </a:lnTo>
                    <a:lnTo>
                      <a:pt x="1006" y="87"/>
                    </a:lnTo>
                    <a:lnTo>
                      <a:pt x="1374" y="213"/>
                    </a:lnTo>
                    <a:lnTo>
                      <a:pt x="1376" y="213"/>
                    </a:lnTo>
                    <a:lnTo>
                      <a:pt x="1379" y="213"/>
                    </a:lnTo>
                    <a:lnTo>
                      <a:pt x="1692" y="67"/>
                    </a:lnTo>
                    <a:lnTo>
                      <a:pt x="2061" y="191"/>
                    </a:lnTo>
                    <a:lnTo>
                      <a:pt x="2064" y="191"/>
                    </a:lnTo>
                    <a:lnTo>
                      <a:pt x="2066" y="191"/>
                    </a:lnTo>
                    <a:lnTo>
                      <a:pt x="2374" y="47"/>
                    </a:lnTo>
                    <a:lnTo>
                      <a:pt x="2748" y="168"/>
                    </a:lnTo>
                    <a:lnTo>
                      <a:pt x="2750" y="168"/>
                    </a:lnTo>
                    <a:lnTo>
                      <a:pt x="2753" y="168"/>
                    </a:lnTo>
                    <a:lnTo>
                      <a:pt x="3060" y="25"/>
                    </a:lnTo>
                    <a:lnTo>
                      <a:pt x="3433" y="146"/>
                    </a:lnTo>
                    <a:lnTo>
                      <a:pt x="3435" y="146"/>
                    </a:lnTo>
                    <a:lnTo>
                      <a:pt x="3438" y="146"/>
                    </a:lnTo>
                    <a:lnTo>
                      <a:pt x="3740" y="0"/>
                    </a:lnTo>
                    <a:lnTo>
                      <a:pt x="4116" y="121"/>
                    </a:lnTo>
                    <a:lnTo>
                      <a:pt x="4119" y="1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278"/>
              <p:cNvSpPr/>
              <p:nvPr/>
            </p:nvSpPr>
            <p:spPr>
              <a:xfrm>
                <a:off x="3787920" y="2470320"/>
                <a:ext cx="438120" cy="226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789" h="241">
                    <a:moveTo>
                      <a:pt x="4789" y="121"/>
                    </a:moveTo>
                    <a:lnTo>
                      <a:pt x="4787" y="121"/>
                    </a:lnTo>
                    <a:lnTo>
                      <a:pt x="4411" y="0"/>
                    </a:lnTo>
                    <a:lnTo>
                      <a:pt x="4108" y="144"/>
                    </a:lnTo>
                    <a:lnTo>
                      <a:pt x="4105" y="144"/>
                    </a:lnTo>
                    <a:lnTo>
                      <a:pt x="4103" y="144"/>
                    </a:lnTo>
                    <a:lnTo>
                      <a:pt x="3731" y="22"/>
                    </a:lnTo>
                    <a:lnTo>
                      <a:pt x="3428" y="169"/>
                    </a:lnTo>
                    <a:lnTo>
                      <a:pt x="3425" y="169"/>
                    </a:lnTo>
                    <a:lnTo>
                      <a:pt x="3423" y="169"/>
                    </a:lnTo>
                    <a:lnTo>
                      <a:pt x="3051" y="44"/>
                    </a:lnTo>
                    <a:lnTo>
                      <a:pt x="2742" y="191"/>
                    </a:lnTo>
                    <a:lnTo>
                      <a:pt x="2739" y="191"/>
                    </a:lnTo>
                    <a:lnTo>
                      <a:pt x="2737" y="191"/>
                    </a:lnTo>
                    <a:lnTo>
                      <a:pt x="2369" y="67"/>
                    </a:lnTo>
                    <a:lnTo>
                      <a:pt x="2059" y="211"/>
                    </a:lnTo>
                    <a:lnTo>
                      <a:pt x="2057" y="211"/>
                    </a:lnTo>
                    <a:lnTo>
                      <a:pt x="2054" y="211"/>
                    </a:lnTo>
                    <a:lnTo>
                      <a:pt x="1689" y="87"/>
                    </a:lnTo>
                    <a:lnTo>
                      <a:pt x="1374" y="231"/>
                    </a:lnTo>
                    <a:lnTo>
                      <a:pt x="1371" y="231"/>
                    </a:lnTo>
                    <a:lnTo>
                      <a:pt x="1369" y="231"/>
                    </a:lnTo>
                    <a:lnTo>
                      <a:pt x="1006" y="101"/>
                    </a:lnTo>
                    <a:lnTo>
                      <a:pt x="688" y="241"/>
                    </a:lnTo>
                    <a:lnTo>
                      <a:pt x="685" y="241"/>
                    </a:lnTo>
                    <a:lnTo>
                      <a:pt x="683" y="241"/>
                    </a:lnTo>
                    <a:lnTo>
                      <a:pt x="320" y="94"/>
                    </a:lnTo>
                    <a:lnTo>
                      <a:pt x="3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279"/>
              <p:cNvSpPr/>
              <p:nvPr/>
            </p:nvSpPr>
            <p:spPr>
              <a:xfrm>
                <a:off x="3754800" y="2457360"/>
                <a:ext cx="498960" cy="2232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22320"/>
                  <a:gd name="textAreaBottom" fmla="*/ 22320 h 22320"/>
                </a:gdLst>
                <a:ahLst/>
                <a:rect l="textAreaLeft" t="textAreaTop" r="textAreaRight" b="textAreaBottom"/>
                <a:pathLst>
                  <a:path w="5451" h="245">
                    <a:moveTo>
                      <a:pt x="0" y="176"/>
                    </a:moveTo>
                    <a:lnTo>
                      <a:pt x="320" y="74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5" y="238"/>
                    </a:lnTo>
                    <a:lnTo>
                      <a:pt x="1003" y="109"/>
                    </a:lnTo>
                    <a:lnTo>
                      <a:pt x="1365" y="245"/>
                    </a:lnTo>
                    <a:lnTo>
                      <a:pt x="1368" y="245"/>
                    </a:lnTo>
                    <a:lnTo>
                      <a:pt x="1370" y="245"/>
                    </a:lnTo>
                    <a:lnTo>
                      <a:pt x="1684" y="106"/>
                    </a:lnTo>
                    <a:lnTo>
                      <a:pt x="2049" y="231"/>
                    </a:lnTo>
                    <a:lnTo>
                      <a:pt x="2051" y="231"/>
                    </a:lnTo>
                    <a:lnTo>
                      <a:pt x="2054" y="231"/>
                    </a:lnTo>
                    <a:lnTo>
                      <a:pt x="2364" y="89"/>
                    </a:lnTo>
                    <a:lnTo>
                      <a:pt x="2729" y="211"/>
                    </a:lnTo>
                    <a:lnTo>
                      <a:pt x="2731" y="211"/>
                    </a:lnTo>
                    <a:lnTo>
                      <a:pt x="2734" y="211"/>
                    </a:lnTo>
                    <a:lnTo>
                      <a:pt x="3042" y="69"/>
                    </a:lnTo>
                    <a:lnTo>
                      <a:pt x="3410" y="188"/>
                    </a:lnTo>
                    <a:lnTo>
                      <a:pt x="3413" y="188"/>
                    </a:lnTo>
                    <a:lnTo>
                      <a:pt x="3415" y="188"/>
                    </a:lnTo>
                    <a:lnTo>
                      <a:pt x="3720" y="47"/>
                    </a:lnTo>
                    <a:lnTo>
                      <a:pt x="4090" y="166"/>
                    </a:lnTo>
                    <a:lnTo>
                      <a:pt x="4093" y="166"/>
                    </a:lnTo>
                    <a:lnTo>
                      <a:pt x="4095" y="166"/>
                    </a:lnTo>
                    <a:lnTo>
                      <a:pt x="4398" y="22"/>
                    </a:lnTo>
                    <a:lnTo>
                      <a:pt x="4770" y="144"/>
                    </a:lnTo>
                    <a:lnTo>
                      <a:pt x="4773" y="144"/>
                    </a:lnTo>
                    <a:lnTo>
                      <a:pt x="4775" y="144"/>
                    </a:lnTo>
                    <a:lnTo>
                      <a:pt x="5077" y="0"/>
                    </a:lnTo>
                    <a:lnTo>
                      <a:pt x="5449" y="121"/>
                    </a:lnTo>
                    <a:lnTo>
                      <a:pt x="5451" y="1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280"/>
              <p:cNvSpPr/>
              <p:nvPr/>
            </p:nvSpPr>
            <p:spPr>
              <a:xfrm>
                <a:off x="3721320" y="2444040"/>
                <a:ext cx="559440" cy="2268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116" h="252">
                    <a:moveTo>
                      <a:pt x="6116" y="120"/>
                    </a:moveTo>
                    <a:lnTo>
                      <a:pt x="6113" y="120"/>
                    </a:lnTo>
                    <a:lnTo>
                      <a:pt x="5741" y="0"/>
                    </a:lnTo>
                    <a:lnTo>
                      <a:pt x="5443" y="143"/>
                    </a:lnTo>
                    <a:lnTo>
                      <a:pt x="5441" y="143"/>
                    </a:lnTo>
                    <a:lnTo>
                      <a:pt x="5438" y="143"/>
                    </a:lnTo>
                    <a:lnTo>
                      <a:pt x="5065" y="23"/>
                    </a:lnTo>
                    <a:lnTo>
                      <a:pt x="4764" y="165"/>
                    </a:lnTo>
                    <a:lnTo>
                      <a:pt x="4762" y="165"/>
                    </a:lnTo>
                    <a:lnTo>
                      <a:pt x="4759" y="165"/>
                    </a:lnTo>
                    <a:lnTo>
                      <a:pt x="4392" y="45"/>
                    </a:lnTo>
                    <a:lnTo>
                      <a:pt x="4087" y="190"/>
                    </a:lnTo>
                    <a:lnTo>
                      <a:pt x="4084" y="190"/>
                    </a:lnTo>
                    <a:lnTo>
                      <a:pt x="4082" y="190"/>
                    </a:lnTo>
                    <a:lnTo>
                      <a:pt x="3714" y="67"/>
                    </a:lnTo>
                    <a:lnTo>
                      <a:pt x="3408" y="212"/>
                    </a:lnTo>
                    <a:lnTo>
                      <a:pt x="3406" y="212"/>
                    </a:lnTo>
                    <a:lnTo>
                      <a:pt x="3403" y="212"/>
                    </a:lnTo>
                    <a:lnTo>
                      <a:pt x="3038" y="90"/>
                    </a:lnTo>
                    <a:lnTo>
                      <a:pt x="2730" y="232"/>
                    </a:lnTo>
                    <a:lnTo>
                      <a:pt x="2728" y="232"/>
                    </a:lnTo>
                    <a:lnTo>
                      <a:pt x="2726" y="232"/>
                    </a:lnTo>
                    <a:lnTo>
                      <a:pt x="2361" y="108"/>
                    </a:lnTo>
                    <a:lnTo>
                      <a:pt x="2050" y="249"/>
                    </a:lnTo>
                    <a:lnTo>
                      <a:pt x="2048" y="249"/>
                    </a:lnTo>
                    <a:lnTo>
                      <a:pt x="2045" y="249"/>
                    </a:lnTo>
                    <a:lnTo>
                      <a:pt x="1682" y="118"/>
                    </a:lnTo>
                    <a:lnTo>
                      <a:pt x="1369" y="252"/>
                    </a:lnTo>
                    <a:lnTo>
                      <a:pt x="1367" y="252"/>
                    </a:lnTo>
                    <a:lnTo>
                      <a:pt x="1364" y="252"/>
                    </a:lnTo>
                    <a:lnTo>
                      <a:pt x="1004" y="103"/>
                    </a:lnTo>
                    <a:lnTo>
                      <a:pt x="687" y="217"/>
                    </a:lnTo>
                    <a:lnTo>
                      <a:pt x="684" y="217"/>
                    </a:lnTo>
                    <a:lnTo>
                      <a:pt x="324" y="10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281"/>
              <p:cNvSpPr/>
              <p:nvPr/>
            </p:nvSpPr>
            <p:spPr>
              <a:xfrm>
                <a:off x="3688200" y="2417040"/>
                <a:ext cx="619920" cy="37800"/>
              </a:xfrm>
              <a:custGeom>
                <a:avLst/>
                <a:gdLst>
                  <a:gd name="textAreaLeft" fmla="*/ 0 w 619920"/>
                  <a:gd name="textAreaRight" fmla="*/ 620280 w 619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771" h="411">
                    <a:moveTo>
                      <a:pt x="0" y="0"/>
                    </a:moveTo>
                    <a:lnTo>
                      <a:pt x="320" y="15"/>
                    </a:lnTo>
                    <a:lnTo>
                      <a:pt x="681" y="303"/>
                    </a:lnTo>
                    <a:lnTo>
                      <a:pt x="999" y="216"/>
                    </a:lnTo>
                    <a:lnTo>
                      <a:pt x="1359" y="396"/>
                    </a:lnTo>
                    <a:lnTo>
                      <a:pt x="1361" y="396"/>
                    </a:lnTo>
                    <a:lnTo>
                      <a:pt x="1364" y="396"/>
                    </a:lnTo>
                    <a:lnTo>
                      <a:pt x="1677" y="271"/>
                    </a:lnTo>
                    <a:lnTo>
                      <a:pt x="2036" y="411"/>
                    </a:lnTo>
                    <a:lnTo>
                      <a:pt x="2039" y="411"/>
                    </a:lnTo>
                    <a:lnTo>
                      <a:pt x="2041" y="411"/>
                    </a:lnTo>
                    <a:lnTo>
                      <a:pt x="2353" y="276"/>
                    </a:lnTo>
                    <a:lnTo>
                      <a:pt x="2715" y="401"/>
                    </a:lnTo>
                    <a:lnTo>
                      <a:pt x="2718" y="401"/>
                    </a:lnTo>
                    <a:lnTo>
                      <a:pt x="2720" y="401"/>
                    </a:lnTo>
                    <a:lnTo>
                      <a:pt x="3030" y="261"/>
                    </a:lnTo>
                    <a:lnTo>
                      <a:pt x="3393" y="383"/>
                    </a:lnTo>
                    <a:lnTo>
                      <a:pt x="3395" y="383"/>
                    </a:lnTo>
                    <a:lnTo>
                      <a:pt x="3398" y="383"/>
                    </a:lnTo>
                    <a:lnTo>
                      <a:pt x="3703" y="241"/>
                    </a:lnTo>
                    <a:lnTo>
                      <a:pt x="4069" y="360"/>
                    </a:lnTo>
                    <a:lnTo>
                      <a:pt x="4071" y="360"/>
                    </a:lnTo>
                    <a:lnTo>
                      <a:pt x="4074" y="360"/>
                    </a:lnTo>
                    <a:lnTo>
                      <a:pt x="4379" y="219"/>
                    </a:lnTo>
                    <a:lnTo>
                      <a:pt x="4747" y="338"/>
                    </a:lnTo>
                    <a:lnTo>
                      <a:pt x="4749" y="338"/>
                    </a:lnTo>
                    <a:lnTo>
                      <a:pt x="4752" y="338"/>
                    </a:lnTo>
                    <a:lnTo>
                      <a:pt x="5052" y="196"/>
                    </a:lnTo>
                    <a:lnTo>
                      <a:pt x="5419" y="316"/>
                    </a:lnTo>
                    <a:lnTo>
                      <a:pt x="5422" y="316"/>
                    </a:lnTo>
                    <a:lnTo>
                      <a:pt x="5424" y="316"/>
                    </a:lnTo>
                    <a:lnTo>
                      <a:pt x="5726" y="174"/>
                    </a:lnTo>
                    <a:lnTo>
                      <a:pt x="6095" y="293"/>
                    </a:lnTo>
                    <a:lnTo>
                      <a:pt x="6098" y="293"/>
                    </a:lnTo>
                    <a:lnTo>
                      <a:pt x="6100" y="293"/>
                    </a:lnTo>
                    <a:lnTo>
                      <a:pt x="6396" y="152"/>
                    </a:lnTo>
                    <a:lnTo>
                      <a:pt x="6768" y="271"/>
                    </a:lnTo>
                    <a:lnTo>
                      <a:pt x="6771" y="27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282"/>
              <p:cNvSpPr/>
              <p:nvPr/>
            </p:nvSpPr>
            <p:spPr>
              <a:xfrm>
                <a:off x="3655800" y="2367000"/>
                <a:ext cx="679680" cy="75960"/>
              </a:xfrm>
              <a:custGeom>
                <a:avLst/>
                <a:gdLst>
                  <a:gd name="textAreaLeft" fmla="*/ 0 w 679680"/>
                  <a:gd name="textAreaRight" fmla="*/ 680040 w 6796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7423" h="833">
                    <a:moveTo>
                      <a:pt x="7423" y="686"/>
                    </a:moveTo>
                    <a:lnTo>
                      <a:pt x="7421" y="686"/>
                    </a:lnTo>
                    <a:lnTo>
                      <a:pt x="7048" y="567"/>
                    </a:lnTo>
                    <a:lnTo>
                      <a:pt x="6755" y="709"/>
                    </a:lnTo>
                    <a:lnTo>
                      <a:pt x="6753" y="709"/>
                    </a:lnTo>
                    <a:lnTo>
                      <a:pt x="6750" y="709"/>
                    </a:lnTo>
                    <a:lnTo>
                      <a:pt x="6381" y="590"/>
                    </a:lnTo>
                    <a:lnTo>
                      <a:pt x="6085" y="731"/>
                    </a:lnTo>
                    <a:lnTo>
                      <a:pt x="6083" y="731"/>
                    </a:lnTo>
                    <a:lnTo>
                      <a:pt x="6080" y="731"/>
                    </a:lnTo>
                    <a:lnTo>
                      <a:pt x="5709" y="612"/>
                    </a:lnTo>
                    <a:lnTo>
                      <a:pt x="5411" y="753"/>
                    </a:lnTo>
                    <a:lnTo>
                      <a:pt x="5409" y="753"/>
                    </a:lnTo>
                    <a:lnTo>
                      <a:pt x="5406" y="753"/>
                    </a:lnTo>
                    <a:lnTo>
                      <a:pt x="5039" y="634"/>
                    </a:lnTo>
                    <a:lnTo>
                      <a:pt x="4739" y="776"/>
                    </a:lnTo>
                    <a:lnTo>
                      <a:pt x="4736" y="776"/>
                    </a:lnTo>
                    <a:lnTo>
                      <a:pt x="4734" y="776"/>
                    </a:lnTo>
                    <a:lnTo>
                      <a:pt x="4369" y="657"/>
                    </a:lnTo>
                    <a:lnTo>
                      <a:pt x="4063" y="798"/>
                    </a:lnTo>
                    <a:lnTo>
                      <a:pt x="4060" y="798"/>
                    </a:lnTo>
                    <a:lnTo>
                      <a:pt x="4058" y="798"/>
                    </a:lnTo>
                    <a:lnTo>
                      <a:pt x="3695" y="679"/>
                    </a:lnTo>
                    <a:lnTo>
                      <a:pt x="3390" y="818"/>
                    </a:lnTo>
                    <a:lnTo>
                      <a:pt x="3387" y="818"/>
                    </a:lnTo>
                    <a:lnTo>
                      <a:pt x="3385" y="818"/>
                    </a:lnTo>
                    <a:lnTo>
                      <a:pt x="3022" y="694"/>
                    </a:lnTo>
                    <a:lnTo>
                      <a:pt x="2712" y="833"/>
                    </a:lnTo>
                    <a:lnTo>
                      <a:pt x="2710" y="833"/>
                    </a:lnTo>
                    <a:lnTo>
                      <a:pt x="2707" y="833"/>
                    </a:lnTo>
                    <a:lnTo>
                      <a:pt x="2349" y="699"/>
                    </a:lnTo>
                    <a:lnTo>
                      <a:pt x="2036" y="828"/>
                    </a:lnTo>
                    <a:lnTo>
                      <a:pt x="2034" y="828"/>
                    </a:lnTo>
                    <a:lnTo>
                      <a:pt x="2031" y="828"/>
                    </a:lnTo>
                    <a:lnTo>
                      <a:pt x="1674" y="669"/>
                    </a:lnTo>
                    <a:lnTo>
                      <a:pt x="1358" y="773"/>
                    </a:lnTo>
                    <a:lnTo>
                      <a:pt x="1356" y="773"/>
                    </a:lnTo>
                    <a:lnTo>
                      <a:pt x="998" y="540"/>
                    </a:lnTo>
                    <a:lnTo>
                      <a:pt x="677" y="572"/>
                    </a:lnTo>
                    <a:lnTo>
                      <a:pt x="322" y="1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283"/>
              <p:cNvSpPr/>
              <p:nvPr/>
            </p:nvSpPr>
            <p:spPr>
              <a:xfrm>
                <a:off x="3623760" y="2289600"/>
                <a:ext cx="739080" cy="140400"/>
              </a:xfrm>
              <a:custGeom>
                <a:avLst/>
                <a:gdLst>
                  <a:gd name="textAreaLeft" fmla="*/ 0 w 739080"/>
                  <a:gd name="textAreaRight" fmla="*/ 739440 w 7390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8072" h="1539">
                    <a:moveTo>
                      <a:pt x="0" y="0"/>
                    </a:moveTo>
                    <a:lnTo>
                      <a:pt x="320" y="317"/>
                    </a:lnTo>
                    <a:lnTo>
                      <a:pt x="675" y="983"/>
                    </a:lnTo>
                    <a:lnTo>
                      <a:pt x="995" y="1045"/>
                    </a:lnTo>
                    <a:lnTo>
                      <a:pt x="1351" y="1380"/>
                    </a:lnTo>
                    <a:lnTo>
                      <a:pt x="1669" y="1315"/>
                    </a:lnTo>
                    <a:lnTo>
                      <a:pt x="2027" y="1509"/>
                    </a:lnTo>
                    <a:lnTo>
                      <a:pt x="2029" y="1509"/>
                    </a:lnTo>
                    <a:lnTo>
                      <a:pt x="2342" y="1395"/>
                    </a:lnTo>
                    <a:lnTo>
                      <a:pt x="2699" y="1539"/>
                    </a:lnTo>
                    <a:lnTo>
                      <a:pt x="2702" y="1539"/>
                    </a:lnTo>
                    <a:lnTo>
                      <a:pt x="2704" y="1539"/>
                    </a:lnTo>
                    <a:lnTo>
                      <a:pt x="3013" y="1407"/>
                    </a:lnTo>
                    <a:lnTo>
                      <a:pt x="3373" y="1534"/>
                    </a:lnTo>
                    <a:lnTo>
                      <a:pt x="3375" y="1534"/>
                    </a:lnTo>
                    <a:lnTo>
                      <a:pt x="3378" y="1534"/>
                    </a:lnTo>
                    <a:lnTo>
                      <a:pt x="3686" y="1397"/>
                    </a:lnTo>
                    <a:lnTo>
                      <a:pt x="4046" y="1519"/>
                    </a:lnTo>
                    <a:lnTo>
                      <a:pt x="4048" y="1519"/>
                    </a:lnTo>
                    <a:lnTo>
                      <a:pt x="4051" y="1519"/>
                    </a:lnTo>
                    <a:lnTo>
                      <a:pt x="4356" y="1377"/>
                    </a:lnTo>
                    <a:lnTo>
                      <a:pt x="4719" y="1497"/>
                    </a:lnTo>
                    <a:lnTo>
                      <a:pt x="4722" y="1497"/>
                    </a:lnTo>
                    <a:lnTo>
                      <a:pt x="4724" y="1497"/>
                    </a:lnTo>
                    <a:lnTo>
                      <a:pt x="5025" y="1358"/>
                    </a:lnTo>
                    <a:lnTo>
                      <a:pt x="5390" y="1474"/>
                    </a:lnTo>
                    <a:lnTo>
                      <a:pt x="5392" y="1474"/>
                    </a:lnTo>
                    <a:lnTo>
                      <a:pt x="5395" y="1474"/>
                    </a:lnTo>
                    <a:lnTo>
                      <a:pt x="5695" y="1335"/>
                    </a:lnTo>
                    <a:lnTo>
                      <a:pt x="6060" y="1452"/>
                    </a:lnTo>
                    <a:lnTo>
                      <a:pt x="6062" y="1452"/>
                    </a:lnTo>
                    <a:lnTo>
                      <a:pt x="6065" y="1452"/>
                    </a:lnTo>
                    <a:lnTo>
                      <a:pt x="6364" y="1313"/>
                    </a:lnTo>
                    <a:lnTo>
                      <a:pt x="6731" y="1430"/>
                    </a:lnTo>
                    <a:lnTo>
                      <a:pt x="6734" y="1430"/>
                    </a:lnTo>
                    <a:lnTo>
                      <a:pt x="6736" y="1430"/>
                    </a:lnTo>
                    <a:lnTo>
                      <a:pt x="7029" y="1291"/>
                    </a:lnTo>
                    <a:lnTo>
                      <a:pt x="7399" y="1407"/>
                    </a:lnTo>
                    <a:lnTo>
                      <a:pt x="7401" y="1407"/>
                    </a:lnTo>
                    <a:lnTo>
                      <a:pt x="7404" y="1407"/>
                    </a:lnTo>
                    <a:lnTo>
                      <a:pt x="7697" y="1268"/>
                    </a:lnTo>
                    <a:lnTo>
                      <a:pt x="8070" y="1385"/>
                    </a:lnTo>
                    <a:lnTo>
                      <a:pt x="8072" y="13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284"/>
              <p:cNvSpPr/>
              <p:nvPr/>
            </p:nvSpPr>
            <p:spPr>
              <a:xfrm>
                <a:off x="3590280" y="2183400"/>
                <a:ext cx="798840" cy="234360"/>
              </a:xfrm>
              <a:custGeom>
                <a:avLst/>
                <a:gdLst>
                  <a:gd name="textAreaLeft" fmla="*/ 0 w 798840"/>
                  <a:gd name="textAreaRight" fmla="*/ 798840 w 798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8719" h="2567">
                    <a:moveTo>
                      <a:pt x="8719" y="2406"/>
                    </a:moveTo>
                    <a:lnTo>
                      <a:pt x="8716" y="2406"/>
                    </a:lnTo>
                    <a:lnTo>
                      <a:pt x="8344" y="2289"/>
                    </a:lnTo>
                    <a:lnTo>
                      <a:pt x="8055" y="2428"/>
                    </a:lnTo>
                    <a:lnTo>
                      <a:pt x="8053" y="2428"/>
                    </a:lnTo>
                    <a:lnTo>
                      <a:pt x="8050" y="2428"/>
                    </a:lnTo>
                    <a:lnTo>
                      <a:pt x="7680" y="2312"/>
                    </a:lnTo>
                    <a:lnTo>
                      <a:pt x="7387" y="2451"/>
                    </a:lnTo>
                    <a:lnTo>
                      <a:pt x="7385" y="2451"/>
                    </a:lnTo>
                    <a:lnTo>
                      <a:pt x="7382" y="2451"/>
                    </a:lnTo>
                    <a:lnTo>
                      <a:pt x="7015" y="2334"/>
                    </a:lnTo>
                    <a:lnTo>
                      <a:pt x="6722" y="2473"/>
                    </a:lnTo>
                    <a:lnTo>
                      <a:pt x="6720" y="2473"/>
                    </a:lnTo>
                    <a:lnTo>
                      <a:pt x="6717" y="2473"/>
                    </a:lnTo>
                    <a:lnTo>
                      <a:pt x="6349" y="2356"/>
                    </a:lnTo>
                    <a:lnTo>
                      <a:pt x="6053" y="2495"/>
                    </a:lnTo>
                    <a:lnTo>
                      <a:pt x="6051" y="2495"/>
                    </a:lnTo>
                    <a:lnTo>
                      <a:pt x="6048" y="2495"/>
                    </a:lnTo>
                    <a:lnTo>
                      <a:pt x="5684" y="2379"/>
                    </a:lnTo>
                    <a:lnTo>
                      <a:pt x="5383" y="2518"/>
                    </a:lnTo>
                    <a:lnTo>
                      <a:pt x="5381" y="2518"/>
                    </a:lnTo>
                    <a:lnTo>
                      <a:pt x="5378" y="2518"/>
                    </a:lnTo>
                    <a:lnTo>
                      <a:pt x="5016" y="2401"/>
                    </a:lnTo>
                    <a:lnTo>
                      <a:pt x="4714" y="2537"/>
                    </a:lnTo>
                    <a:lnTo>
                      <a:pt x="4712" y="2537"/>
                    </a:lnTo>
                    <a:lnTo>
                      <a:pt x="4709" y="2537"/>
                    </a:lnTo>
                    <a:lnTo>
                      <a:pt x="4347" y="2421"/>
                    </a:lnTo>
                    <a:lnTo>
                      <a:pt x="4044" y="2557"/>
                    </a:lnTo>
                    <a:lnTo>
                      <a:pt x="4042" y="2557"/>
                    </a:lnTo>
                    <a:lnTo>
                      <a:pt x="4039" y="2557"/>
                    </a:lnTo>
                    <a:lnTo>
                      <a:pt x="3679" y="2433"/>
                    </a:lnTo>
                    <a:lnTo>
                      <a:pt x="3372" y="2567"/>
                    </a:lnTo>
                    <a:lnTo>
                      <a:pt x="3369" y="2567"/>
                    </a:lnTo>
                    <a:lnTo>
                      <a:pt x="3367" y="2567"/>
                    </a:lnTo>
                    <a:lnTo>
                      <a:pt x="3011" y="2433"/>
                    </a:lnTo>
                    <a:lnTo>
                      <a:pt x="2700" y="2555"/>
                    </a:lnTo>
                    <a:lnTo>
                      <a:pt x="2698" y="2555"/>
                    </a:lnTo>
                    <a:lnTo>
                      <a:pt x="2695" y="2555"/>
                    </a:lnTo>
                    <a:lnTo>
                      <a:pt x="2340" y="2386"/>
                    </a:lnTo>
                    <a:lnTo>
                      <a:pt x="2025" y="2475"/>
                    </a:lnTo>
                    <a:lnTo>
                      <a:pt x="1669" y="2207"/>
                    </a:lnTo>
                    <a:lnTo>
                      <a:pt x="1351" y="2205"/>
                    </a:lnTo>
                    <a:lnTo>
                      <a:pt x="996" y="1688"/>
                    </a:lnTo>
                    <a:lnTo>
                      <a:pt x="676" y="1477"/>
                    </a:lnTo>
                    <a:lnTo>
                      <a:pt x="324" y="50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285"/>
              <p:cNvSpPr/>
              <p:nvPr/>
            </p:nvSpPr>
            <p:spPr>
              <a:xfrm>
                <a:off x="3559680" y="2060640"/>
                <a:ext cx="855720" cy="345240"/>
              </a:xfrm>
              <a:custGeom>
                <a:avLst/>
                <a:gdLst>
                  <a:gd name="textAreaLeft" fmla="*/ 0 w 855720"/>
                  <a:gd name="textAreaRight" fmla="*/ 855720 w 855720"/>
                  <a:gd name="textAreaTop" fmla="*/ 0 h 345240"/>
                  <a:gd name="textAreaBottom" fmla="*/ 345600 h 345240"/>
                </a:gdLst>
                <a:ahLst/>
                <a:rect l="textAreaLeft" t="textAreaTop" r="textAreaRight" b="textAreaBottom"/>
                <a:pathLst>
                  <a:path w="9356" h="3768">
                    <a:moveTo>
                      <a:pt x="0" y="0"/>
                    </a:moveTo>
                    <a:lnTo>
                      <a:pt x="320" y="577"/>
                    </a:lnTo>
                    <a:lnTo>
                      <a:pt x="671" y="1835"/>
                    </a:lnTo>
                    <a:lnTo>
                      <a:pt x="991" y="2232"/>
                    </a:lnTo>
                    <a:lnTo>
                      <a:pt x="1343" y="3023"/>
                    </a:lnTo>
                    <a:lnTo>
                      <a:pt x="1661" y="3142"/>
                    </a:lnTo>
                    <a:lnTo>
                      <a:pt x="2016" y="3542"/>
                    </a:lnTo>
                    <a:lnTo>
                      <a:pt x="2332" y="3503"/>
                    </a:lnTo>
                    <a:lnTo>
                      <a:pt x="2687" y="3721"/>
                    </a:lnTo>
                    <a:lnTo>
                      <a:pt x="2690" y="3721"/>
                    </a:lnTo>
                    <a:lnTo>
                      <a:pt x="3000" y="3617"/>
                    </a:lnTo>
                    <a:lnTo>
                      <a:pt x="3355" y="3768"/>
                    </a:lnTo>
                    <a:lnTo>
                      <a:pt x="3358" y="3768"/>
                    </a:lnTo>
                    <a:lnTo>
                      <a:pt x="3360" y="3768"/>
                    </a:lnTo>
                    <a:lnTo>
                      <a:pt x="3668" y="3642"/>
                    </a:lnTo>
                    <a:lnTo>
                      <a:pt x="4024" y="3768"/>
                    </a:lnTo>
                    <a:lnTo>
                      <a:pt x="4026" y="3768"/>
                    </a:lnTo>
                    <a:lnTo>
                      <a:pt x="4029" y="3768"/>
                    </a:lnTo>
                    <a:lnTo>
                      <a:pt x="4334" y="3634"/>
                    </a:lnTo>
                    <a:lnTo>
                      <a:pt x="4692" y="3756"/>
                    </a:lnTo>
                    <a:lnTo>
                      <a:pt x="4694" y="3756"/>
                    </a:lnTo>
                    <a:lnTo>
                      <a:pt x="4697" y="3756"/>
                    </a:lnTo>
                    <a:lnTo>
                      <a:pt x="4999" y="3617"/>
                    </a:lnTo>
                    <a:lnTo>
                      <a:pt x="5360" y="3736"/>
                    </a:lnTo>
                    <a:lnTo>
                      <a:pt x="5363" y="3736"/>
                    </a:lnTo>
                    <a:lnTo>
                      <a:pt x="5365" y="3736"/>
                    </a:lnTo>
                    <a:lnTo>
                      <a:pt x="5666" y="3597"/>
                    </a:lnTo>
                    <a:lnTo>
                      <a:pt x="6028" y="3714"/>
                    </a:lnTo>
                    <a:lnTo>
                      <a:pt x="6031" y="3714"/>
                    </a:lnTo>
                    <a:lnTo>
                      <a:pt x="6033" y="3714"/>
                    </a:lnTo>
                    <a:lnTo>
                      <a:pt x="6331" y="3575"/>
                    </a:lnTo>
                    <a:lnTo>
                      <a:pt x="6693" y="3691"/>
                    </a:lnTo>
                    <a:lnTo>
                      <a:pt x="6696" y="3691"/>
                    </a:lnTo>
                    <a:lnTo>
                      <a:pt x="6698" y="3691"/>
                    </a:lnTo>
                    <a:lnTo>
                      <a:pt x="6995" y="3555"/>
                    </a:lnTo>
                    <a:lnTo>
                      <a:pt x="7360" y="3669"/>
                    </a:lnTo>
                    <a:lnTo>
                      <a:pt x="7362" y="3669"/>
                    </a:lnTo>
                    <a:lnTo>
                      <a:pt x="7365" y="3669"/>
                    </a:lnTo>
                    <a:lnTo>
                      <a:pt x="7657" y="3532"/>
                    </a:lnTo>
                    <a:lnTo>
                      <a:pt x="8025" y="3647"/>
                    </a:lnTo>
                    <a:lnTo>
                      <a:pt x="8027" y="3647"/>
                    </a:lnTo>
                    <a:lnTo>
                      <a:pt x="8030" y="3647"/>
                    </a:lnTo>
                    <a:lnTo>
                      <a:pt x="8320" y="3510"/>
                    </a:lnTo>
                    <a:lnTo>
                      <a:pt x="8689" y="3624"/>
                    </a:lnTo>
                    <a:lnTo>
                      <a:pt x="8691" y="3624"/>
                    </a:lnTo>
                    <a:lnTo>
                      <a:pt x="8694" y="3624"/>
                    </a:lnTo>
                    <a:lnTo>
                      <a:pt x="8981" y="3488"/>
                    </a:lnTo>
                    <a:lnTo>
                      <a:pt x="9354" y="3602"/>
                    </a:lnTo>
                    <a:lnTo>
                      <a:pt x="9356" y="36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286"/>
              <p:cNvSpPr/>
              <p:nvPr/>
            </p:nvSpPr>
            <p:spPr>
              <a:xfrm>
                <a:off x="3527280" y="1946520"/>
                <a:ext cx="914040" cy="44748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9992" h="4896">
                    <a:moveTo>
                      <a:pt x="9992" y="4719"/>
                    </a:moveTo>
                    <a:lnTo>
                      <a:pt x="9989" y="4719"/>
                    </a:lnTo>
                    <a:lnTo>
                      <a:pt x="9619" y="4604"/>
                    </a:lnTo>
                    <a:lnTo>
                      <a:pt x="9334" y="4742"/>
                    </a:lnTo>
                    <a:lnTo>
                      <a:pt x="9331" y="4742"/>
                    </a:lnTo>
                    <a:lnTo>
                      <a:pt x="9329" y="4742"/>
                    </a:lnTo>
                    <a:lnTo>
                      <a:pt x="8962" y="4627"/>
                    </a:lnTo>
                    <a:lnTo>
                      <a:pt x="8673" y="4764"/>
                    </a:lnTo>
                    <a:lnTo>
                      <a:pt x="8670" y="4764"/>
                    </a:lnTo>
                    <a:lnTo>
                      <a:pt x="8668" y="4764"/>
                    </a:lnTo>
                    <a:lnTo>
                      <a:pt x="8300" y="4649"/>
                    </a:lnTo>
                    <a:lnTo>
                      <a:pt x="8010" y="4786"/>
                    </a:lnTo>
                    <a:lnTo>
                      <a:pt x="8007" y="4786"/>
                    </a:lnTo>
                    <a:lnTo>
                      <a:pt x="8005" y="4786"/>
                    </a:lnTo>
                    <a:lnTo>
                      <a:pt x="7640" y="4669"/>
                    </a:lnTo>
                    <a:lnTo>
                      <a:pt x="7347" y="4809"/>
                    </a:lnTo>
                    <a:lnTo>
                      <a:pt x="7345" y="4809"/>
                    </a:lnTo>
                    <a:lnTo>
                      <a:pt x="7342" y="4809"/>
                    </a:lnTo>
                    <a:lnTo>
                      <a:pt x="6979" y="4692"/>
                    </a:lnTo>
                    <a:lnTo>
                      <a:pt x="6683" y="4829"/>
                    </a:lnTo>
                    <a:lnTo>
                      <a:pt x="6681" y="4829"/>
                    </a:lnTo>
                    <a:lnTo>
                      <a:pt x="6678" y="4829"/>
                    </a:lnTo>
                    <a:lnTo>
                      <a:pt x="6316" y="4714"/>
                    </a:lnTo>
                    <a:lnTo>
                      <a:pt x="6018" y="4851"/>
                    </a:lnTo>
                    <a:lnTo>
                      <a:pt x="6016" y="4851"/>
                    </a:lnTo>
                    <a:lnTo>
                      <a:pt x="6013" y="4851"/>
                    </a:lnTo>
                    <a:lnTo>
                      <a:pt x="5652" y="4734"/>
                    </a:lnTo>
                    <a:lnTo>
                      <a:pt x="5352" y="4871"/>
                    </a:lnTo>
                    <a:lnTo>
                      <a:pt x="5349" y="4871"/>
                    </a:lnTo>
                    <a:lnTo>
                      <a:pt x="5347" y="4871"/>
                    </a:lnTo>
                    <a:lnTo>
                      <a:pt x="4989" y="4754"/>
                    </a:lnTo>
                    <a:lnTo>
                      <a:pt x="4687" y="4888"/>
                    </a:lnTo>
                    <a:lnTo>
                      <a:pt x="4684" y="4888"/>
                    </a:lnTo>
                    <a:lnTo>
                      <a:pt x="4682" y="4888"/>
                    </a:lnTo>
                    <a:lnTo>
                      <a:pt x="4327" y="4764"/>
                    </a:lnTo>
                    <a:lnTo>
                      <a:pt x="4020" y="4896"/>
                    </a:lnTo>
                    <a:lnTo>
                      <a:pt x="4018" y="4896"/>
                    </a:lnTo>
                    <a:lnTo>
                      <a:pt x="4015" y="4896"/>
                    </a:lnTo>
                    <a:lnTo>
                      <a:pt x="3660" y="4757"/>
                    </a:lnTo>
                    <a:lnTo>
                      <a:pt x="3353" y="4871"/>
                    </a:lnTo>
                    <a:lnTo>
                      <a:pt x="3350" y="4871"/>
                    </a:lnTo>
                    <a:lnTo>
                      <a:pt x="2995" y="4684"/>
                    </a:lnTo>
                    <a:lnTo>
                      <a:pt x="2682" y="4757"/>
                    </a:lnTo>
                    <a:lnTo>
                      <a:pt x="2326" y="4440"/>
                    </a:lnTo>
                    <a:lnTo>
                      <a:pt x="2011" y="4396"/>
                    </a:lnTo>
                    <a:lnTo>
                      <a:pt x="1659" y="3777"/>
                    </a:lnTo>
                    <a:lnTo>
                      <a:pt x="1341" y="3486"/>
                    </a:lnTo>
                    <a:lnTo>
                      <a:pt x="991" y="2383"/>
                    </a:lnTo>
                    <a:lnTo>
                      <a:pt x="670" y="1831"/>
                    </a:lnTo>
                    <a:lnTo>
                      <a:pt x="322" y="50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287"/>
              <p:cNvSpPr/>
              <p:nvPr/>
            </p:nvSpPr>
            <p:spPr>
              <a:xfrm>
                <a:off x="3495240" y="1858680"/>
                <a:ext cx="972360" cy="52380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10622" h="5721">
                    <a:moveTo>
                      <a:pt x="0" y="0"/>
                    </a:moveTo>
                    <a:lnTo>
                      <a:pt x="322" y="328"/>
                    </a:lnTo>
                    <a:lnTo>
                      <a:pt x="667" y="1461"/>
                    </a:lnTo>
                    <a:lnTo>
                      <a:pt x="987" y="2027"/>
                    </a:lnTo>
                    <a:lnTo>
                      <a:pt x="1336" y="3340"/>
                    </a:lnTo>
                    <a:lnTo>
                      <a:pt x="1656" y="3814"/>
                    </a:lnTo>
                    <a:lnTo>
                      <a:pt x="2004" y="4734"/>
                    </a:lnTo>
                    <a:lnTo>
                      <a:pt x="2321" y="4921"/>
                    </a:lnTo>
                    <a:lnTo>
                      <a:pt x="2671" y="5397"/>
                    </a:lnTo>
                    <a:lnTo>
                      <a:pt x="2985" y="5390"/>
                    </a:lnTo>
                    <a:lnTo>
                      <a:pt x="3340" y="5641"/>
                    </a:lnTo>
                    <a:lnTo>
                      <a:pt x="3650" y="5549"/>
                    </a:lnTo>
                    <a:lnTo>
                      <a:pt x="4003" y="5714"/>
                    </a:lnTo>
                    <a:lnTo>
                      <a:pt x="4005" y="5714"/>
                    </a:lnTo>
                    <a:lnTo>
                      <a:pt x="4008" y="5714"/>
                    </a:lnTo>
                    <a:lnTo>
                      <a:pt x="4313" y="5591"/>
                    </a:lnTo>
                    <a:lnTo>
                      <a:pt x="4669" y="5721"/>
                    </a:lnTo>
                    <a:lnTo>
                      <a:pt x="4672" y="5721"/>
                    </a:lnTo>
                    <a:lnTo>
                      <a:pt x="4674" y="5721"/>
                    </a:lnTo>
                    <a:lnTo>
                      <a:pt x="4977" y="5589"/>
                    </a:lnTo>
                    <a:lnTo>
                      <a:pt x="5332" y="5711"/>
                    </a:lnTo>
                    <a:lnTo>
                      <a:pt x="5334" y="5711"/>
                    </a:lnTo>
                    <a:lnTo>
                      <a:pt x="5337" y="5711"/>
                    </a:lnTo>
                    <a:lnTo>
                      <a:pt x="5637" y="5574"/>
                    </a:lnTo>
                    <a:lnTo>
                      <a:pt x="5995" y="5691"/>
                    </a:lnTo>
                    <a:lnTo>
                      <a:pt x="5997" y="5691"/>
                    </a:lnTo>
                    <a:lnTo>
                      <a:pt x="6000" y="5691"/>
                    </a:lnTo>
                    <a:lnTo>
                      <a:pt x="6299" y="5556"/>
                    </a:lnTo>
                    <a:lnTo>
                      <a:pt x="6659" y="5671"/>
                    </a:lnTo>
                    <a:lnTo>
                      <a:pt x="6661" y="5671"/>
                    </a:lnTo>
                    <a:lnTo>
                      <a:pt x="6663" y="5671"/>
                    </a:lnTo>
                    <a:lnTo>
                      <a:pt x="6959" y="5534"/>
                    </a:lnTo>
                    <a:lnTo>
                      <a:pt x="7321" y="5649"/>
                    </a:lnTo>
                    <a:lnTo>
                      <a:pt x="7324" y="5649"/>
                    </a:lnTo>
                    <a:lnTo>
                      <a:pt x="7326" y="5649"/>
                    </a:lnTo>
                    <a:lnTo>
                      <a:pt x="7619" y="5512"/>
                    </a:lnTo>
                    <a:lnTo>
                      <a:pt x="7983" y="5626"/>
                    </a:lnTo>
                    <a:lnTo>
                      <a:pt x="7985" y="5626"/>
                    </a:lnTo>
                    <a:lnTo>
                      <a:pt x="7988" y="5626"/>
                    </a:lnTo>
                    <a:lnTo>
                      <a:pt x="8278" y="5492"/>
                    </a:lnTo>
                    <a:lnTo>
                      <a:pt x="8643" y="5606"/>
                    </a:lnTo>
                    <a:lnTo>
                      <a:pt x="8645" y="5606"/>
                    </a:lnTo>
                    <a:lnTo>
                      <a:pt x="8648" y="5606"/>
                    </a:lnTo>
                    <a:lnTo>
                      <a:pt x="8936" y="5469"/>
                    </a:lnTo>
                    <a:lnTo>
                      <a:pt x="9304" y="5584"/>
                    </a:lnTo>
                    <a:lnTo>
                      <a:pt x="9307" y="5584"/>
                    </a:lnTo>
                    <a:lnTo>
                      <a:pt x="9309" y="5584"/>
                    </a:lnTo>
                    <a:lnTo>
                      <a:pt x="9595" y="5447"/>
                    </a:lnTo>
                    <a:lnTo>
                      <a:pt x="9962" y="5561"/>
                    </a:lnTo>
                    <a:lnTo>
                      <a:pt x="9964" y="5561"/>
                    </a:lnTo>
                    <a:lnTo>
                      <a:pt x="9967" y="5561"/>
                    </a:lnTo>
                    <a:lnTo>
                      <a:pt x="10250" y="5425"/>
                    </a:lnTo>
                    <a:lnTo>
                      <a:pt x="10620" y="5539"/>
                    </a:lnTo>
                    <a:lnTo>
                      <a:pt x="10622" y="55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288"/>
              <p:cNvSpPr/>
              <p:nvPr/>
            </p:nvSpPr>
            <p:spPr>
              <a:xfrm>
                <a:off x="3464280" y="1798920"/>
                <a:ext cx="1029600" cy="571320"/>
              </a:xfrm>
              <a:custGeom>
                <a:avLst/>
                <a:gdLst>
                  <a:gd name="textAreaLeft" fmla="*/ 0 w 1029600"/>
                  <a:gd name="textAreaRight" fmla="*/ 1029960 w 102960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11250" h="6235">
                    <a:moveTo>
                      <a:pt x="11250" y="6049"/>
                    </a:moveTo>
                    <a:lnTo>
                      <a:pt x="11248" y="6049"/>
                    </a:lnTo>
                    <a:lnTo>
                      <a:pt x="10880" y="5935"/>
                    </a:lnTo>
                    <a:lnTo>
                      <a:pt x="10597" y="6069"/>
                    </a:lnTo>
                    <a:lnTo>
                      <a:pt x="10595" y="6069"/>
                    </a:lnTo>
                    <a:lnTo>
                      <a:pt x="10592" y="6069"/>
                    </a:lnTo>
                    <a:lnTo>
                      <a:pt x="10225" y="5957"/>
                    </a:lnTo>
                    <a:lnTo>
                      <a:pt x="9942" y="6091"/>
                    </a:lnTo>
                    <a:lnTo>
                      <a:pt x="9940" y="6091"/>
                    </a:lnTo>
                    <a:lnTo>
                      <a:pt x="9937" y="6091"/>
                    </a:lnTo>
                    <a:lnTo>
                      <a:pt x="9571" y="5979"/>
                    </a:lnTo>
                    <a:lnTo>
                      <a:pt x="9283" y="6113"/>
                    </a:lnTo>
                    <a:lnTo>
                      <a:pt x="9281" y="6113"/>
                    </a:lnTo>
                    <a:lnTo>
                      <a:pt x="9278" y="6113"/>
                    </a:lnTo>
                    <a:lnTo>
                      <a:pt x="8916" y="5999"/>
                    </a:lnTo>
                    <a:lnTo>
                      <a:pt x="8625" y="6136"/>
                    </a:lnTo>
                    <a:lnTo>
                      <a:pt x="8623" y="6136"/>
                    </a:lnTo>
                    <a:lnTo>
                      <a:pt x="8620" y="6136"/>
                    </a:lnTo>
                    <a:lnTo>
                      <a:pt x="8258" y="6022"/>
                    </a:lnTo>
                    <a:lnTo>
                      <a:pt x="7967" y="6156"/>
                    </a:lnTo>
                    <a:lnTo>
                      <a:pt x="7964" y="6156"/>
                    </a:lnTo>
                    <a:lnTo>
                      <a:pt x="7962" y="6156"/>
                    </a:lnTo>
                    <a:lnTo>
                      <a:pt x="7602" y="6044"/>
                    </a:lnTo>
                    <a:lnTo>
                      <a:pt x="7306" y="6178"/>
                    </a:lnTo>
                    <a:lnTo>
                      <a:pt x="7304" y="6178"/>
                    </a:lnTo>
                    <a:lnTo>
                      <a:pt x="7301" y="6178"/>
                    </a:lnTo>
                    <a:lnTo>
                      <a:pt x="6944" y="6064"/>
                    </a:lnTo>
                    <a:lnTo>
                      <a:pt x="6646" y="6200"/>
                    </a:lnTo>
                    <a:lnTo>
                      <a:pt x="6644" y="6200"/>
                    </a:lnTo>
                    <a:lnTo>
                      <a:pt x="6641" y="6200"/>
                    </a:lnTo>
                    <a:lnTo>
                      <a:pt x="6285" y="6084"/>
                    </a:lnTo>
                    <a:lnTo>
                      <a:pt x="5985" y="6218"/>
                    </a:lnTo>
                    <a:lnTo>
                      <a:pt x="5982" y="6218"/>
                    </a:lnTo>
                    <a:lnTo>
                      <a:pt x="5980" y="6218"/>
                    </a:lnTo>
                    <a:lnTo>
                      <a:pt x="5625" y="6101"/>
                    </a:lnTo>
                    <a:lnTo>
                      <a:pt x="5325" y="6233"/>
                    </a:lnTo>
                    <a:lnTo>
                      <a:pt x="5322" y="6233"/>
                    </a:lnTo>
                    <a:lnTo>
                      <a:pt x="5320" y="6233"/>
                    </a:lnTo>
                    <a:lnTo>
                      <a:pt x="4965" y="6108"/>
                    </a:lnTo>
                    <a:lnTo>
                      <a:pt x="4661" y="6235"/>
                    </a:lnTo>
                    <a:lnTo>
                      <a:pt x="4658" y="6235"/>
                    </a:lnTo>
                    <a:lnTo>
                      <a:pt x="4656" y="6235"/>
                    </a:lnTo>
                    <a:lnTo>
                      <a:pt x="4303" y="6089"/>
                    </a:lnTo>
                    <a:lnTo>
                      <a:pt x="3998" y="6193"/>
                    </a:lnTo>
                    <a:lnTo>
                      <a:pt x="3995" y="6193"/>
                    </a:lnTo>
                    <a:lnTo>
                      <a:pt x="3643" y="5987"/>
                    </a:lnTo>
                    <a:lnTo>
                      <a:pt x="3330" y="6034"/>
                    </a:lnTo>
                    <a:lnTo>
                      <a:pt x="2979" y="5664"/>
                    </a:lnTo>
                    <a:lnTo>
                      <a:pt x="2666" y="5565"/>
                    </a:lnTo>
                    <a:lnTo>
                      <a:pt x="2316" y="4827"/>
                    </a:lnTo>
                    <a:lnTo>
                      <a:pt x="2001" y="4458"/>
                    </a:lnTo>
                    <a:lnTo>
                      <a:pt x="1654" y="3246"/>
                    </a:lnTo>
                    <a:lnTo>
                      <a:pt x="1332" y="2671"/>
                    </a:lnTo>
                    <a:lnTo>
                      <a:pt x="987" y="1407"/>
                    </a:lnTo>
                    <a:lnTo>
                      <a:pt x="667" y="972"/>
                    </a:lnTo>
                    <a:lnTo>
                      <a:pt x="322" y="15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89"/>
              <p:cNvSpPr/>
              <p:nvPr/>
            </p:nvSpPr>
            <p:spPr>
              <a:xfrm>
                <a:off x="3432240" y="1761840"/>
                <a:ext cx="1087920" cy="596520"/>
              </a:xfrm>
              <a:custGeom>
                <a:avLst/>
                <a:gdLst>
                  <a:gd name="textAreaLeft" fmla="*/ 0 w 1087920"/>
                  <a:gd name="textAreaRight" fmla="*/ 1088280 w 1087920"/>
                  <a:gd name="textAreaTop" fmla="*/ 0 h 596520"/>
                  <a:gd name="textAreaBottom" fmla="*/ 596520 h 596520"/>
                </a:gdLst>
                <a:ahLst/>
                <a:rect l="textAreaLeft" t="textAreaTop" r="textAreaRight" b="textAreaBottom"/>
                <a:pathLst>
                  <a:path w="11878" h="6513">
                    <a:moveTo>
                      <a:pt x="0" y="0"/>
                    </a:moveTo>
                    <a:lnTo>
                      <a:pt x="326" y="40"/>
                    </a:lnTo>
                    <a:lnTo>
                      <a:pt x="666" y="564"/>
                    </a:lnTo>
                    <a:lnTo>
                      <a:pt x="989" y="818"/>
                    </a:lnTo>
                    <a:lnTo>
                      <a:pt x="1331" y="1812"/>
                    </a:lnTo>
                    <a:lnTo>
                      <a:pt x="1652" y="2333"/>
                    </a:lnTo>
                    <a:lnTo>
                      <a:pt x="1998" y="3651"/>
                    </a:lnTo>
                    <a:lnTo>
                      <a:pt x="2313" y="4183"/>
                    </a:lnTo>
                    <a:lnTo>
                      <a:pt x="2660" y="5232"/>
                    </a:lnTo>
                    <a:lnTo>
                      <a:pt x="2976" y="5495"/>
                    </a:lnTo>
                    <a:lnTo>
                      <a:pt x="3323" y="6069"/>
                    </a:lnTo>
                    <a:lnTo>
                      <a:pt x="3637" y="6101"/>
                    </a:lnTo>
                    <a:lnTo>
                      <a:pt x="3987" y="6392"/>
                    </a:lnTo>
                    <a:lnTo>
                      <a:pt x="4295" y="6317"/>
                    </a:lnTo>
                    <a:lnTo>
                      <a:pt x="4647" y="6494"/>
                    </a:lnTo>
                    <a:lnTo>
                      <a:pt x="4650" y="6494"/>
                    </a:lnTo>
                    <a:lnTo>
                      <a:pt x="4955" y="6379"/>
                    </a:lnTo>
                    <a:lnTo>
                      <a:pt x="5306" y="6513"/>
                    </a:lnTo>
                    <a:lnTo>
                      <a:pt x="5309" y="6513"/>
                    </a:lnTo>
                    <a:lnTo>
                      <a:pt x="5311" y="6513"/>
                    </a:lnTo>
                    <a:lnTo>
                      <a:pt x="5614" y="6387"/>
                    </a:lnTo>
                    <a:lnTo>
                      <a:pt x="5966" y="6506"/>
                    </a:lnTo>
                    <a:lnTo>
                      <a:pt x="5969" y="6506"/>
                    </a:lnTo>
                    <a:lnTo>
                      <a:pt x="5971" y="6506"/>
                    </a:lnTo>
                    <a:lnTo>
                      <a:pt x="6272" y="6374"/>
                    </a:lnTo>
                    <a:lnTo>
                      <a:pt x="6627" y="6489"/>
                    </a:lnTo>
                    <a:lnTo>
                      <a:pt x="6629" y="6489"/>
                    </a:lnTo>
                    <a:lnTo>
                      <a:pt x="6632" y="6489"/>
                    </a:lnTo>
                    <a:lnTo>
                      <a:pt x="6928" y="6355"/>
                    </a:lnTo>
                    <a:lnTo>
                      <a:pt x="7285" y="6469"/>
                    </a:lnTo>
                    <a:lnTo>
                      <a:pt x="7288" y="6469"/>
                    </a:lnTo>
                    <a:lnTo>
                      <a:pt x="7290" y="6469"/>
                    </a:lnTo>
                    <a:lnTo>
                      <a:pt x="7583" y="6335"/>
                    </a:lnTo>
                    <a:lnTo>
                      <a:pt x="7943" y="6449"/>
                    </a:lnTo>
                    <a:lnTo>
                      <a:pt x="7946" y="6449"/>
                    </a:lnTo>
                    <a:lnTo>
                      <a:pt x="7948" y="6449"/>
                    </a:lnTo>
                    <a:lnTo>
                      <a:pt x="8239" y="6312"/>
                    </a:lnTo>
                    <a:lnTo>
                      <a:pt x="8600" y="6427"/>
                    </a:lnTo>
                    <a:lnTo>
                      <a:pt x="8602" y="6427"/>
                    </a:lnTo>
                    <a:lnTo>
                      <a:pt x="8605" y="6427"/>
                    </a:lnTo>
                    <a:lnTo>
                      <a:pt x="8895" y="6292"/>
                    </a:lnTo>
                    <a:lnTo>
                      <a:pt x="9257" y="6404"/>
                    </a:lnTo>
                    <a:lnTo>
                      <a:pt x="9260" y="6404"/>
                    </a:lnTo>
                    <a:lnTo>
                      <a:pt x="9262" y="6404"/>
                    </a:lnTo>
                    <a:lnTo>
                      <a:pt x="9548" y="6270"/>
                    </a:lnTo>
                    <a:lnTo>
                      <a:pt x="9913" y="6384"/>
                    </a:lnTo>
                    <a:lnTo>
                      <a:pt x="9915" y="6384"/>
                    </a:lnTo>
                    <a:lnTo>
                      <a:pt x="9918" y="6384"/>
                    </a:lnTo>
                    <a:lnTo>
                      <a:pt x="10202" y="6250"/>
                    </a:lnTo>
                    <a:lnTo>
                      <a:pt x="10567" y="6362"/>
                    </a:lnTo>
                    <a:lnTo>
                      <a:pt x="10569" y="6362"/>
                    </a:lnTo>
                    <a:lnTo>
                      <a:pt x="10572" y="6362"/>
                    </a:lnTo>
                    <a:lnTo>
                      <a:pt x="10854" y="6228"/>
                    </a:lnTo>
                    <a:lnTo>
                      <a:pt x="11222" y="6340"/>
                    </a:lnTo>
                    <a:lnTo>
                      <a:pt x="11224" y="6340"/>
                    </a:lnTo>
                    <a:lnTo>
                      <a:pt x="11227" y="6340"/>
                    </a:lnTo>
                    <a:lnTo>
                      <a:pt x="11505" y="6206"/>
                    </a:lnTo>
                    <a:lnTo>
                      <a:pt x="11876" y="6317"/>
                    </a:lnTo>
                    <a:lnTo>
                      <a:pt x="11878" y="631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90"/>
              <p:cNvSpPr/>
              <p:nvPr/>
            </p:nvSpPr>
            <p:spPr>
              <a:xfrm>
                <a:off x="3400920" y="1735560"/>
                <a:ext cx="1144080" cy="612000"/>
              </a:xfrm>
              <a:custGeom>
                <a:avLst/>
                <a:gdLst>
                  <a:gd name="textAreaLeft" fmla="*/ 0 w 1144080"/>
                  <a:gd name="textAreaRight" fmla="*/ 1144440 w 114408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12496" h="6678">
                    <a:moveTo>
                      <a:pt x="12496" y="6477"/>
                    </a:moveTo>
                    <a:lnTo>
                      <a:pt x="12494" y="6477"/>
                    </a:lnTo>
                    <a:lnTo>
                      <a:pt x="12126" y="6365"/>
                    </a:lnTo>
                    <a:lnTo>
                      <a:pt x="11847" y="6497"/>
                    </a:lnTo>
                    <a:lnTo>
                      <a:pt x="11845" y="6497"/>
                    </a:lnTo>
                    <a:lnTo>
                      <a:pt x="11842" y="6497"/>
                    </a:lnTo>
                    <a:lnTo>
                      <a:pt x="11475" y="6385"/>
                    </a:lnTo>
                    <a:lnTo>
                      <a:pt x="11197" y="6519"/>
                    </a:lnTo>
                    <a:lnTo>
                      <a:pt x="11194" y="6519"/>
                    </a:lnTo>
                    <a:lnTo>
                      <a:pt x="11192" y="6519"/>
                    </a:lnTo>
                    <a:lnTo>
                      <a:pt x="10827" y="6407"/>
                    </a:lnTo>
                    <a:lnTo>
                      <a:pt x="10544" y="6541"/>
                    </a:lnTo>
                    <a:lnTo>
                      <a:pt x="10542" y="6541"/>
                    </a:lnTo>
                    <a:lnTo>
                      <a:pt x="10539" y="6541"/>
                    </a:lnTo>
                    <a:lnTo>
                      <a:pt x="10176" y="6430"/>
                    </a:lnTo>
                    <a:lnTo>
                      <a:pt x="9890" y="6561"/>
                    </a:lnTo>
                    <a:lnTo>
                      <a:pt x="9888" y="6561"/>
                    </a:lnTo>
                    <a:lnTo>
                      <a:pt x="9885" y="6561"/>
                    </a:lnTo>
                    <a:lnTo>
                      <a:pt x="9523" y="6449"/>
                    </a:lnTo>
                    <a:lnTo>
                      <a:pt x="9237" y="6583"/>
                    </a:lnTo>
                    <a:lnTo>
                      <a:pt x="9235" y="6583"/>
                    </a:lnTo>
                    <a:lnTo>
                      <a:pt x="9232" y="6583"/>
                    </a:lnTo>
                    <a:lnTo>
                      <a:pt x="8873" y="6472"/>
                    </a:lnTo>
                    <a:lnTo>
                      <a:pt x="8581" y="6603"/>
                    </a:lnTo>
                    <a:lnTo>
                      <a:pt x="8579" y="6603"/>
                    </a:lnTo>
                    <a:lnTo>
                      <a:pt x="8576" y="6603"/>
                    </a:lnTo>
                    <a:lnTo>
                      <a:pt x="8219" y="6492"/>
                    </a:lnTo>
                    <a:lnTo>
                      <a:pt x="7926" y="6626"/>
                    </a:lnTo>
                    <a:lnTo>
                      <a:pt x="7923" y="6626"/>
                    </a:lnTo>
                    <a:lnTo>
                      <a:pt x="7921" y="6626"/>
                    </a:lnTo>
                    <a:lnTo>
                      <a:pt x="7566" y="6514"/>
                    </a:lnTo>
                    <a:lnTo>
                      <a:pt x="7271" y="6646"/>
                    </a:lnTo>
                    <a:lnTo>
                      <a:pt x="7268" y="6646"/>
                    </a:lnTo>
                    <a:lnTo>
                      <a:pt x="7266" y="6646"/>
                    </a:lnTo>
                    <a:lnTo>
                      <a:pt x="6910" y="6531"/>
                    </a:lnTo>
                    <a:lnTo>
                      <a:pt x="6614" y="6665"/>
                    </a:lnTo>
                    <a:lnTo>
                      <a:pt x="6612" y="6665"/>
                    </a:lnTo>
                    <a:lnTo>
                      <a:pt x="6609" y="6665"/>
                    </a:lnTo>
                    <a:lnTo>
                      <a:pt x="6254" y="6549"/>
                    </a:lnTo>
                    <a:lnTo>
                      <a:pt x="5956" y="6678"/>
                    </a:lnTo>
                    <a:lnTo>
                      <a:pt x="5954" y="6678"/>
                    </a:lnTo>
                    <a:lnTo>
                      <a:pt x="5951" y="6678"/>
                    </a:lnTo>
                    <a:lnTo>
                      <a:pt x="5599" y="6551"/>
                    </a:lnTo>
                    <a:lnTo>
                      <a:pt x="5298" y="6670"/>
                    </a:lnTo>
                    <a:lnTo>
                      <a:pt x="5295" y="6670"/>
                    </a:lnTo>
                    <a:lnTo>
                      <a:pt x="5293" y="6670"/>
                    </a:lnTo>
                    <a:lnTo>
                      <a:pt x="4943" y="6516"/>
                    </a:lnTo>
                    <a:lnTo>
                      <a:pt x="4637" y="6608"/>
                    </a:lnTo>
                    <a:lnTo>
                      <a:pt x="4635" y="6608"/>
                    </a:lnTo>
                    <a:lnTo>
                      <a:pt x="4285" y="6375"/>
                    </a:lnTo>
                    <a:lnTo>
                      <a:pt x="3977" y="6392"/>
                    </a:lnTo>
                    <a:lnTo>
                      <a:pt x="3626" y="5947"/>
                    </a:lnTo>
                    <a:lnTo>
                      <a:pt x="3316" y="5786"/>
                    </a:lnTo>
                    <a:lnTo>
                      <a:pt x="2968" y="4921"/>
                    </a:lnTo>
                    <a:lnTo>
                      <a:pt x="2653" y="4474"/>
                    </a:lnTo>
                    <a:lnTo>
                      <a:pt x="2308" y="3194"/>
                    </a:lnTo>
                    <a:lnTo>
                      <a:pt x="1992" y="2624"/>
                    </a:lnTo>
                    <a:lnTo>
                      <a:pt x="1647" y="1464"/>
                    </a:lnTo>
                    <a:lnTo>
                      <a:pt x="1329" y="1109"/>
                    </a:lnTo>
                    <a:lnTo>
                      <a:pt x="986" y="433"/>
                    </a:lnTo>
                    <a:lnTo>
                      <a:pt x="666" y="331"/>
                    </a:lnTo>
                    <a:lnTo>
                      <a:pt x="325" y="0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91"/>
              <p:cNvSpPr/>
              <p:nvPr/>
            </p:nvSpPr>
            <p:spPr>
              <a:xfrm>
                <a:off x="3370320" y="1715400"/>
                <a:ext cx="1166400" cy="620280"/>
              </a:xfrm>
              <a:custGeom>
                <a:avLst/>
                <a:gdLst>
                  <a:gd name="textAreaLeft" fmla="*/ 0 w 1166400"/>
                  <a:gd name="textAreaRight" fmla="*/ 1166760 w 1166400"/>
                  <a:gd name="textAreaTop" fmla="*/ 0 h 620280"/>
                  <a:gd name="textAreaBottom" fmla="*/ 620280 h 620280"/>
                </a:gdLst>
                <a:ahLst/>
                <a:rect l="textAreaLeft" t="textAreaTop" r="textAreaRight" b="textAreaBottom"/>
                <a:pathLst>
                  <a:path w="12742" h="6765">
                    <a:moveTo>
                      <a:pt x="0" y="70"/>
                    </a:moveTo>
                    <a:lnTo>
                      <a:pt x="325" y="0"/>
                    </a:lnTo>
                    <a:lnTo>
                      <a:pt x="663" y="214"/>
                    </a:lnTo>
                    <a:lnTo>
                      <a:pt x="984" y="219"/>
                    </a:lnTo>
                    <a:lnTo>
                      <a:pt x="1324" y="647"/>
                    </a:lnTo>
                    <a:lnTo>
                      <a:pt x="1645" y="828"/>
                    </a:lnTo>
                    <a:lnTo>
                      <a:pt x="1985" y="1678"/>
                    </a:lnTo>
                    <a:lnTo>
                      <a:pt x="2302" y="2133"/>
                    </a:lnTo>
                    <a:lnTo>
                      <a:pt x="2646" y="3408"/>
                    </a:lnTo>
                    <a:lnTo>
                      <a:pt x="2961" y="3972"/>
                    </a:lnTo>
                    <a:lnTo>
                      <a:pt x="3306" y="5135"/>
                    </a:lnTo>
                    <a:lnTo>
                      <a:pt x="3619" y="5475"/>
                    </a:lnTo>
                    <a:lnTo>
                      <a:pt x="3964" y="6161"/>
                    </a:lnTo>
                    <a:lnTo>
                      <a:pt x="4275" y="6243"/>
                    </a:lnTo>
                    <a:lnTo>
                      <a:pt x="4623" y="6589"/>
                    </a:lnTo>
                    <a:lnTo>
                      <a:pt x="4931" y="6534"/>
                    </a:lnTo>
                    <a:lnTo>
                      <a:pt x="5281" y="6730"/>
                    </a:lnTo>
                    <a:lnTo>
                      <a:pt x="5283" y="6730"/>
                    </a:lnTo>
                    <a:lnTo>
                      <a:pt x="5586" y="6624"/>
                    </a:lnTo>
                    <a:lnTo>
                      <a:pt x="5934" y="6765"/>
                    </a:lnTo>
                    <a:lnTo>
                      <a:pt x="5937" y="6765"/>
                    </a:lnTo>
                    <a:lnTo>
                      <a:pt x="5939" y="6765"/>
                    </a:lnTo>
                    <a:lnTo>
                      <a:pt x="6240" y="6641"/>
                    </a:lnTo>
                    <a:lnTo>
                      <a:pt x="6590" y="6763"/>
                    </a:lnTo>
                    <a:lnTo>
                      <a:pt x="6592" y="6763"/>
                    </a:lnTo>
                    <a:lnTo>
                      <a:pt x="6595" y="6763"/>
                    </a:lnTo>
                    <a:lnTo>
                      <a:pt x="6893" y="6631"/>
                    </a:lnTo>
                    <a:lnTo>
                      <a:pt x="7245" y="6745"/>
                    </a:lnTo>
                    <a:lnTo>
                      <a:pt x="7248" y="6745"/>
                    </a:lnTo>
                    <a:lnTo>
                      <a:pt x="7250" y="6745"/>
                    </a:lnTo>
                    <a:lnTo>
                      <a:pt x="7546" y="6614"/>
                    </a:lnTo>
                    <a:lnTo>
                      <a:pt x="7901" y="6728"/>
                    </a:lnTo>
                    <a:lnTo>
                      <a:pt x="7904" y="6728"/>
                    </a:lnTo>
                    <a:lnTo>
                      <a:pt x="7906" y="6728"/>
                    </a:lnTo>
                    <a:lnTo>
                      <a:pt x="8197" y="6594"/>
                    </a:lnTo>
                    <a:lnTo>
                      <a:pt x="8554" y="6706"/>
                    </a:lnTo>
                    <a:lnTo>
                      <a:pt x="8557" y="6706"/>
                    </a:lnTo>
                    <a:lnTo>
                      <a:pt x="8559" y="6706"/>
                    </a:lnTo>
                    <a:lnTo>
                      <a:pt x="8850" y="6574"/>
                    </a:lnTo>
                    <a:lnTo>
                      <a:pt x="9208" y="6686"/>
                    </a:lnTo>
                    <a:lnTo>
                      <a:pt x="9211" y="6686"/>
                    </a:lnTo>
                    <a:lnTo>
                      <a:pt x="9213" y="6686"/>
                    </a:lnTo>
                    <a:lnTo>
                      <a:pt x="9501" y="6552"/>
                    </a:lnTo>
                    <a:lnTo>
                      <a:pt x="9858" y="6663"/>
                    </a:lnTo>
                    <a:lnTo>
                      <a:pt x="9861" y="6663"/>
                    </a:lnTo>
                    <a:lnTo>
                      <a:pt x="9863" y="6663"/>
                    </a:lnTo>
                    <a:lnTo>
                      <a:pt x="10149" y="6532"/>
                    </a:lnTo>
                    <a:lnTo>
                      <a:pt x="10511" y="6644"/>
                    </a:lnTo>
                    <a:lnTo>
                      <a:pt x="10514" y="6644"/>
                    </a:lnTo>
                    <a:lnTo>
                      <a:pt x="10516" y="6644"/>
                    </a:lnTo>
                    <a:lnTo>
                      <a:pt x="10800" y="6510"/>
                    </a:lnTo>
                    <a:lnTo>
                      <a:pt x="11163" y="6621"/>
                    </a:lnTo>
                    <a:lnTo>
                      <a:pt x="11165" y="6621"/>
                    </a:lnTo>
                    <a:lnTo>
                      <a:pt x="11168" y="6621"/>
                    </a:lnTo>
                    <a:lnTo>
                      <a:pt x="11448" y="6490"/>
                    </a:lnTo>
                    <a:lnTo>
                      <a:pt x="11811" y="6599"/>
                    </a:lnTo>
                    <a:lnTo>
                      <a:pt x="11813" y="6599"/>
                    </a:lnTo>
                    <a:lnTo>
                      <a:pt x="11815" y="6599"/>
                    </a:lnTo>
                    <a:lnTo>
                      <a:pt x="12093" y="6467"/>
                    </a:lnTo>
                    <a:lnTo>
                      <a:pt x="12462" y="6579"/>
                    </a:lnTo>
                    <a:lnTo>
                      <a:pt x="12464" y="6579"/>
                    </a:lnTo>
                    <a:lnTo>
                      <a:pt x="12467" y="6579"/>
                    </a:lnTo>
                    <a:lnTo>
                      <a:pt x="12742" y="644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92"/>
              <p:cNvSpPr/>
              <p:nvPr/>
            </p:nvSpPr>
            <p:spPr>
              <a:xfrm>
                <a:off x="4537080" y="2306160"/>
                <a:ext cx="34560" cy="104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370" h="110">
                    <a:moveTo>
                      <a:pt x="0" y="0"/>
                    </a:moveTo>
                    <a:lnTo>
                      <a:pt x="368" y="110"/>
                    </a:lnTo>
                    <a:lnTo>
                      <a:pt x="370" y="11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93"/>
              <p:cNvSpPr/>
              <p:nvPr/>
            </p:nvSpPr>
            <p:spPr>
              <a:xfrm>
                <a:off x="3399840" y="1710720"/>
                <a:ext cx="1136880" cy="613080"/>
              </a:xfrm>
              <a:custGeom>
                <a:avLst/>
                <a:gdLst>
                  <a:gd name="textAreaLeft" fmla="*/ 0 w 1136880"/>
                  <a:gd name="textAreaRight" fmla="*/ 1136880 w 1136880"/>
                  <a:gd name="textAreaTop" fmla="*/ 0 h 613080"/>
                  <a:gd name="textAreaBottom" fmla="*/ 613440 h 613080"/>
                </a:gdLst>
                <a:ahLst/>
                <a:rect l="textAreaLeft" t="textAreaTop" r="textAreaRight" b="textAreaBottom"/>
                <a:pathLst>
                  <a:path w="12417" h="6693">
                    <a:moveTo>
                      <a:pt x="12417" y="6499"/>
                    </a:moveTo>
                    <a:lnTo>
                      <a:pt x="12415" y="6499"/>
                    </a:lnTo>
                    <a:lnTo>
                      <a:pt x="12050" y="6387"/>
                    </a:lnTo>
                    <a:lnTo>
                      <a:pt x="11771" y="6519"/>
                    </a:lnTo>
                    <a:lnTo>
                      <a:pt x="11768" y="6519"/>
                    </a:lnTo>
                    <a:lnTo>
                      <a:pt x="11766" y="6519"/>
                    </a:lnTo>
                    <a:lnTo>
                      <a:pt x="11404" y="6410"/>
                    </a:lnTo>
                    <a:lnTo>
                      <a:pt x="11126" y="6542"/>
                    </a:lnTo>
                    <a:lnTo>
                      <a:pt x="11123" y="6542"/>
                    </a:lnTo>
                    <a:lnTo>
                      <a:pt x="11121" y="6542"/>
                    </a:lnTo>
                    <a:lnTo>
                      <a:pt x="10758" y="6430"/>
                    </a:lnTo>
                    <a:lnTo>
                      <a:pt x="10478" y="6562"/>
                    </a:lnTo>
                    <a:lnTo>
                      <a:pt x="10475" y="6562"/>
                    </a:lnTo>
                    <a:lnTo>
                      <a:pt x="10473" y="6562"/>
                    </a:lnTo>
                    <a:lnTo>
                      <a:pt x="10109" y="6452"/>
                    </a:lnTo>
                    <a:lnTo>
                      <a:pt x="9826" y="6584"/>
                    </a:lnTo>
                    <a:lnTo>
                      <a:pt x="9824" y="6584"/>
                    </a:lnTo>
                    <a:lnTo>
                      <a:pt x="9821" y="6584"/>
                    </a:lnTo>
                    <a:lnTo>
                      <a:pt x="9464" y="6472"/>
                    </a:lnTo>
                    <a:lnTo>
                      <a:pt x="9178" y="6604"/>
                    </a:lnTo>
                    <a:lnTo>
                      <a:pt x="9176" y="6604"/>
                    </a:lnTo>
                    <a:lnTo>
                      <a:pt x="9174" y="6604"/>
                    </a:lnTo>
                    <a:lnTo>
                      <a:pt x="8816" y="6495"/>
                    </a:lnTo>
                    <a:lnTo>
                      <a:pt x="8527" y="6626"/>
                    </a:lnTo>
                    <a:lnTo>
                      <a:pt x="8525" y="6626"/>
                    </a:lnTo>
                    <a:lnTo>
                      <a:pt x="8522" y="6626"/>
                    </a:lnTo>
                    <a:lnTo>
                      <a:pt x="8165" y="6514"/>
                    </a:lnTo>
                    <a:lnTo>
                      <a:pt x="7874" y="6646"/>
                    </a:lnTo>
                    <a:lnTo>
                      <a:pt x="7872" y="6646"/>
                    </a:lnTo>
                    <a:lnTo>
                      <a:pt x="7869" y="6646"/>
                    </a:lnTo>
                    <a:lnTo>
                      <a:pt x="7517" y="6534"/>
                    </a:lnTo>
                    <a:lnTo>
                      <a:pt x="7224" y="6666"/>
                    </a:lnTo>
                    <a:lnTo>
                      <a:pt x="7221" y="6666"/>
                    </a:lnTo>
                    <a:lnTo>
                      <a:pt x="7219" y="6666"/>
                    </a:lnTo>
                    <a:lnTo>
                      <a:pt x="6865" y="6554"/>
                    </a:lnTo>
                    <a:lnTo>
                      <a:pt x="6570" y="6683"/>
                    </a:lnTo>
                    <a:lnTo>
                      <a:pt x="6568" y="6683"/>
                    </a:lnTo>
                    <a:lnTo>
                      <a:pt x="6565" y="6683"/>
                    </a:lnTo>
                    <a:lnTo>
                      <a:pt x="6215" y="6567"/>
                    </a:lnTo>
                    <a:lnTo>
                      <a:pt x="5917" y="6693"/>
                    </a:lnTo>
                    <a:lnTo>
                      <a:pt x="5915" y="6693"/>
                    </a:lnTo>
                    <a:lnTo>
                      <a:pt x="5912" y="6693"/>
                    </a:lnTo>
                    <a:lnTo>
                      <a:pt x="5562" y="6562"/>
                    </a:lnTo>
                    <a:lnTo>
                      <a:pt x="5263" y="6676"/>
                    </a:lnTo>
                    <a:lnTo>
                      <a:pt x="5261" y="6676"/>
                    </a:lnTo>
                    <a:lnTo>
                      <a:pt x="5258" y="6676"/>
                    </a:lnTo>
                    <a:lnTo>
                      <a:pt x="4911" y="6509"/>
                    </a:lnTo>
                    <a:lnTo>
                      <a:pt x="4606" y="6586"/>
                    </a:lnTo>
                    <a:lnTo>
                      <a:pt x="4258" y="6312"/>
                    </a:lnTo>
                    <a:lnTo>
                      <a:pt x="3950" y="6295"/>
                    </a:lnTo>
                    <a:lnTo>
                      <a:pt x="3602" y="5761"/>
                    </a:lnTo>
                    <a:lnTo>
                      <a:pt x="3294" y="5527"/>
                    </a:lnTo>
                    <a:lnTo>
                      <a:pt x="2949" y="4533"/>
                    </a:lnTo>
                    <a:lnTo>
                      <a:pt x="2636" y="4024"/>
                    </a:lnTo>
                    <a:lnTo>
                      <a:pt x="2294" y="2719"/>
                    </a:lnTo>
                    <a:lnTo>
                      <a:pt x="1977" y="2185"/>
                    </a:lnTo>
                    <a:lnTo>
                      <a:pt x="1637" y="1156"/>
                    </a:lnTo>
                    <a:lnTo>
                      <a:pt x="1320" y="880"/>
                    </a:lnTo>
                    <a:lnTo>
                      <a:pt x="979" y="326"/>
                    </a:lnTo>
                    <a:lnTo>
                      <a:pt x="659" y="271"/>
                    </a:lnTo>
                    <a:lnTo>
                      <a:pt x="321" y="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94"/>
              <p:cNvSpPr/>
              <p:nvPr/>
            </p:nvSpPr>
            <p:spPr>
              <a:xfrm>
                <a:off x="3429720" y="1709640"/>
                <a:ext cx="1073880" cy="603720"/>
              </a:xfrm>
              <a:custGeom>
                <a:avLst/>
                <a:gdLst>
                  <a:gd name="textAreaLeft" fmla="*/ 0 w 1073880"/>
                  <a:gd name="textAreaRight" fmla="*/ 1074240 w 1073880"/>
                  <a:gd name="textAreaTop" fmla="*/ 0 h 603720"/>
                  <a:gd name="textAreaBottom" fmla="*/ 603720 h 603720"/>
                </a:gdLst>
                <a:ahLst/>
                <a:rect l="textAreaLeft" t="textAreaTop" r="textAreaRight" b="textAreaBottom"/>
                <a:pathLst>
                  <a:path w="11729" h="6589">
                    <a:moveTo>
                      <a:pt x="0" y="22"/>
                    </a:moveTo>
                    <a:lnTo>
                      <a:pt x="321" y="0"/>
                    </a:lnTo>
                    <a:lnTo>
                      <a:pt x="658" y="348"/>
                    </a:lnTo>
                    <a:lnTo>
                      <a:pt x="976" y="467"/>
                    </a:lnTo>
                    <a:lnTo>
                      <a:pt x="1316" y="1178"/>
                    </a:lnTo>
                    <a:lnTo>
                      <a:pt x="1632" y="1556"/>
                    </a:lnTo>
                    <a:lnTo>
                      <a:pt x="1973" y="2741"/>
                    </a:lnTo>
                    <a:lnTo>
                      <a:pt x="2285" y="3310"/>
                    </a:lnTo>
                    <a:lnTo>
                      <a:pt x="2628" y="4555"/>
                    </a:lnTo>
                    <a:lnTo>
                      <a:pt x="2938" y="4976"/>
                    </a:lnTo>
                    <a:lnTo>
                      <a:pt x="3281" y="5783"/>
                    </a:lnTo>
                    <a:lnTo>
                      <a:pt x="3590" y="5925"/>
                    </a:lnTo>
                    <a:lnTo>
                      <a:pt x="3937" y="6334"/>
                    </a:lnTo>
                    <a:lnTo>
                      <a:pt x="4242" y="6309"/>
                    </a:lnTo>
                    <a:lnTo>
                      <a:pt x="4590" y="6531"/>
                    </a:lnTo>
                    <a:lnTo>
                      <a:pt x="4592" y="6531"/>
                    </a:lnTo>
                    <a:lnTo>
                      <a:pt x="4893" y="6437"/>
                    </a:lnTo>
                    <a:lnTo>
                      <a:pt x="5239" y="6584"/>
                    </a:lnTo>
                    <a:lnTo>
                      <a:pt x="5241" y="6584"/>
                    </a:lnTo>
                    <a:lnTo>
                      <a:pt x="5244" y="6584"/>
                    </a:lnTo>
                    <a:lnTo>
                      <a:pt x="5542" y="6464"/>
                    </a:lnTo>
                    <a:lnTo>
                      <a:pt x="5892" y="6589"/>
                    </a:lnTo>
                    <a:lnTo>
                      <a:pt x="5894" y="6589"/>
                    </a:lnTo>
                    <a:lnTo>
                      <a:pt x="5897" y="6589"/>
                    </a:lnTo>
                    <a:lnTo>
                      <a:pt x="6192" y="6462"/>
                    </a:lnTo>
                    <a:lnTo>
                      <a:pt x="6542" y="6576"/>
                    </a:lnTo>
                    <a:lnTo>
                      <a:pt x="6544" y="6576"/>
                    </a:lnTo>
                    <a:lnTo>
                      <a:pt x="6547" y="6576"/>
                    </a:lnTo>
                    <a:lnTo>
                      <a:pt x="6841" y="6445"/>
                    </a:lnTo>
                    <a:lnTo>
                      <a:pt x="7193" y="6556"/>
                    </a:lnTo>
                    <a:lnTo>
                      <a:pt x="7196" y="6556"/>
                    </a:lnTo>
                    <a:lnTo>
                      <a:pt x="7198" y="6556"/>
                    </a:lnTo>
                    <a:lnTo>
                      <a:pt x="7489" y="6426"/>
                    </a:lnTo>
                    <a:lnTo>
                      <a:pt x="7841" y="6536"/>
                    </a:lnTo>
                    <a:lnTo>
                      <a:pt x="7844" y="6536"/>
                    </a:lnTo>
                    <a:lnTo>
                      <a:pt x="7846" y="6536"/>
                    </a:lnTo>
                    <a:lnTo>
                      <a:pt x="8137" y="6404"/>
                    </a:lnTo>
                    <a:lnTo>
                      <a:pt x="8493" y="6517"/>
                    </a:lnTo>
                    <a:lnTo>
                      <a:pt x="8495" y="6517"/>
                    </a:lnTo>
                    <a:lnTo>
                      <a:pt x="8498" y="6517"/>
                    </a:lnTo>
                    <a:lnTo>
                      <a:pt x="8783" y="6384"/>
                    </a:lnTo>
                    <a:lnTo>
                      <a:pt x="9140" y="6494"/>
                    </a:lnTo>
                    <a:lnTo>
                      <a:pt x="9143" y="6494"/>
                    </a:lnTo>
                    <a:lnTo>
                      <a:pt x="9145" y="6494"/>
                    </a:lnTo>
                    <a:lnTo>
                      <a:pt x="9428" y="6364"/>
                    </a:lnTo>
                    <a:lnTo>
                      <a:pt x="9786" y="6474"/>
                    </a:lnTo>
                    <a:lnTo>
                      <a:pt x="9788" y="6474"/>
                    </a:lnTo>
                    <a:lnTo>
                      <a:pt x="9791" y="6474"/>
                    </a:lnTo>
                    <a:lnTo>
                      <a:pt x="10075" y="6342"/>
                    </a:lnTo>
                    <a:lnTo>
                      <a:pt x="10435" y="6452"/>
                    </a:lnTo>
                    <a:lnTo>
                      <a:pt x="10437" y="6452"/>
                    </a:lnTo>
                    <a:lnTo>
                      <a:pt x="10440" y="6452"/>
                    </a:lnTo>
                    <a:lnTo>
                      <a:pt x="10718" y="6322"/>
                    </a:lnTo>
                    <a:lnTo>
                      <a:pt x="11080" y="6432"/>
                    </a:lnTo>
                    <a:lnTo>
                      <a:pt x="11083" y="6432"/>
                    </a:lnTo>
                    <a:lnTo>
                      <a:pt x="11085" y="6432"/>
                    </a:lnTo>
                    <a:lnTo>
                      <a:pt x="11361" y="6300"/>
                    </a:lnTo>
                    <a:lnTo>
                      <a:pt x="11727" y="6409"/>
                    </a:lnTo>
                    <a:lnTo>
                      <a:pt x="11729" y="640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95"/>
              <p:cNvSpPr/>
              <p:nvPr/>
            </p:nvSpPr>
            <p:spPr>
              <a:xfrm>
                <a:off x="3458160" y="1709640"/>
                <a:ext cx="1011960" cy="591840"/>
              </a:xfrm>
              <a:custGeom>
                <a:avLst/>
                <a:gdLst>
                  <a:gd name="textAreaLeft" fmla="*/ 0 w 1011960"/>
                  <a:gd name="textAreaRight" fmla="*/ 1012320 w 101196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11040" h="6464">
                    <a:moveTo>
                      <a:pt x="11040" y="6300"/>
                    </a:moveTo>
                    <a:lnTo>
                      <a:pt x="11037" y="6300"/>
                    </a:lnTo>
                    <a:lnTo>
                      <a:pt x="10677" y="6193"/>
                    </a:lnTo>
                    <a:lnTo>
                      <a:pt x="10399" y="6322"/>
                    </a:lnTo>
                    <a:lnTo>
                      <a:pt x="10397" y="6322"/>
                    </a:lnTo>
                    <a:lnTo>
                      <a:pt x="10394" y="6322"/>
                    </a:lnTo>
                    <a:lnTo>
                      <a:pt x="10034" y="6213"/>
                    </a:lnTo>
                    <a:lnTo>
                      <a:pt x="9756" y="6342"/>
                    </a:lnTo>
                    <a:lnTo>
                      <a:pt x="9754" y="6342"/>
                    </a:lnTo>
                    <a:lnTo>
                      <a:pt x="9751" y="6342"/>
                    </a:lnTo>
                    <a:lnTo>
                      <a:pt x="9390" y="6233"/>
                    </a:lnTo>
                    <a:lnTo>
                      <a:pt x="9110" y="6364"/>
                    </a:lnTo>
                    <a:lnTo>
                      <a:pt x="9107" y="6364"/>
                    </a:lnTo>
                    <a:lnTo>
                      <a:pt x="9105" y="6364"/>
                    </a:lnTo>
                    <a:lnTo>
                      <a:pt x="8747" y="6255"/>
                    </a:lnTo>
                    <a:lnTo>
                      <a:pt x="8464" y="6384"/>
                    </a:lnTo>
                    <a:lnTo>
                      <a:pt x="8462" y="6384"/>
                    </a:lnTo>
                    <a:lnTo>
                      <a:pt x="8460" y="6384"/>
                    </a:lnTo>
                    <a:lnTo>
                      <a:pt x="8105" y="6275"/>
                    </a:lnTo>
                    <a:lnTo>
                      <a:pt x="7818" y="6404"/>
                    </a:lnTo>
                    <a:lnTo>
                      <a:pt x="7816" y="6404"/>
                    </a:lnTo>
                    <a:lnTo>
                      <a:pt x="7813" y="6404"/>
                    </a:lnTo>
                    <a:lnTo>
                      <a:pt x="7458" y="6295"/>
                    </a:lnTo>
                    <a:lnTo>
                      <a:pt x="7170" y="6426"/>
                    </a:lnTo>
                    <a:lnTo>
                      <a:pt x="7168" y="6426"/>
                    </a:lnTo>
                    <a:lnTo>
                      <a:pt x="7165" y="6426"/>
                    </a:lnTo>
                    <a:lnTo>
                      <a:pt x="6813" y="6314"/>
                    </a:lnTo>
                    <a:lnTo>
                      <a:pt x="6522" y="6445"/>
                    </a:lnTo>
                    <a:lnTo>
                      <a:pt x="6520" y="6445"/>
                    </a:lnTo>
                    <a:lnTo>
                      <a:pt x="6517" y="6445"/>
                    </a:lnTo>
                    <a:lnTo>
                      <a:pt x="6166" y="6332"/>
                    </a:lnTo>
                    <a:lnTo>
                      <a:pt x="5873" y="6462"/>
                    </a:lnTo>
                    <a:lnTo>
                      <a:pt x="5871" y="6462"/>
                    </a:lnTo>
                    <a:lnTo>
                      <a:pt x="5869" y="6462"/>
                    </a:lnTo>
                    <a:lnTo>
                      <a:pt x="5521" y="6342"/>
                    </a:lnTo>
                    <a:lnTo>
                      <a:pt x="5223" y="6464"/>
                    </a:lnTo>
                    <a:lnTo>
                      <a:pt x="5221" y="6464"/>
                    </a:lnTo>
                    <a:lnTo>
                      <a:pt x="5218" y="6464"/>
                    </a:lnTo>
                    <a:lnTo>
                      <a:pt x="4873" y="6329"/>
                    </a:lnTo>
                    <a:lnTo>
                      <a:pt x="4574" y="6437"/>
                    </a:lnTo>
                    <a:lnTo>
                      <a:pt x="4572" y="6437"/>
                    </a:lnTo>
                    <a:lnTo>
                      <a:pt x="4224" y="6250"/>
                    </a:lnTo>
                    <a:lnTo>
                      <a:pt x="3921" y="6309"/>
                    </a:lnTo>
                    <a:lnTo>
                      <a:pt x="3574" y="5989"/>
                    </a:lnTo>
                    <a:lnTo>
                      <a:pt x="3269" y="5925"/>
                    </a:lnTo>
                    <a:lnTo>
                      <a:pt x="2925" y="5286"/>
                    </a:lnTo>
                    <a:lnTo>
                      <a:pt x="2617" y="4976"/>
                    </a:lnTo>
                    <a:lnTo>
                      <a:pt x="2275" y="3861"/>
                    </a:lnTo>
                    <a:lnTo>
                      <a:pt x="1964" y="3310"/>
                    </a:lnTo>
                    <a:lnTo>
                      <a:pt x="1624" y="2030"/>
                    </a:lnTo>
                    <a:lnTo>
                      <a:pt x="1311" y="1556"/>
                    </a:lnTo>
                    <a:lnTo>
                      <a:pt x="970" y="671"/>
                    </a:lnTo>
                    <a:lnTo>
                      <a:pt x="655" y="467"/>
                    </a:lnTo>
                    <a:lnTo>
                      <a:pt x="31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96"/>
              <p:cNvSpPr/>
              <p:nvPr/>
            </p:nvSpPr>
            <p:spPr>
              <a:xfrm>
                <a:off x="3488040" y="1710720"/>
                <a:ext cx="948960" cy="579600"/>
              </a:xfrm>
              <a:custGeom>
                <a:avLst/>
                <a:gdLst>
                  <a:gd name="textAreaLeft" fmla="*/ 0 w 948960"/>
                  <a:gd name="textAreaRight" fmla="*/ 949320 w 94896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10359" h="6325">
                    <a:moveTo>
                      <a:pt x="0" y="0"/>
                    </a:moveTo>
                    <a:lnTo>
                      <a:pt x="315" y="70"/>
                    </a:lnTo>
                    <a:lnTo>
                      <a:pt x="652" y="654"/>
                    </a:lnTo>
                    <a:lnTo>
                      <a:pt x="965" y="952"/>
                    </a:lnTo>
                    <a:lnTo>
                      <a:pt x="1306" y="2013"/>
                    </a:lnTo>
                    <a:lnTo>
                      <a:pt x="1617" y="2558"/>
                    </a:lnTo>
                    <a:lnTo>
                      <a:pt x="1957" y="3844"/>
                    </a:lnTo>
                    <a:lnTo>
                      <a:pt x="2264" y="4329"/>
                    </a:lnTo>
                    <a:lnTo>
                      <a:pt x="2607" y="5269"/>
                    </a:lnTo>
                    <a:lnTo>
                      <a:pt x="2913" y="5477"/>
                    </a:lnTo>
                    <a:lnTo>
                      <a:pt x="3256" y="5972"/>
                    </a:lnTo>
                    <a:lnTo>
                      <a:pt x="3561" y="5980"/>
                    </a:lnTo>
                    <a:lnTo>
                      <a:pt x="3906" y="6233"/>
                    </a:lnTo>
                    <a:lnTo>
                      <a:pt x="4207" y="6153"/>
                    </a:lnTo>
                    <a:lnTo>
                      <a:pt x="4553" y="6312"/>
                    </a:lnTo>
                    <a:lnTo>
                      <a:pt x="4555" y="6312"/>
                    </a:lnTo>
                    <a:lnTo>
                      <a:pt x="4558" y="6312"/>
                    </a:lnTo>
                    <a:lnTo>
                      <a:pt x="4853" y="6198"/>
                    </a:lnTo>
                    <a:lnTo>
                      <a:pt x="5201" y="6325"/>
                    </a:lnTo>
                    <a:lnTo>
                      <a:pt x="5203" y="6325"/>
                    </a:lnTo>
                    <a:lnTo>
                      <a:pt x="5205" y="6325"/>
                    </a:lnTo>
                    <a:lnTo>
                      <a:pt x="5498" y="6201"/>
                    </a:lnTo>
                    <a:lnTo>
                      <a:pt x="5846" y="6315"/>
                    </a:lnTo>
                    <a:lnTo>
                      <a:pt x="5848" y="6315"/>
                    </a:lnTo>
                    <a:lnTo>
                      <a:pt x="5851" y="6315"/>
                    </a:lnTo>
                    <a:lnTo>
                      <a:pt x="6145" y="6188"/>
                    </a:lnTo>
                    <a:lnTo>
                      <a:pt x="6492" y="6297"/>
                    </a:lnTo>
                    <a:lnTo>
                      <a:pt x="6495" y="6297"/>
                    </a:lnTo>
                    <a:lnTo>
                      <a:pt x="6497" y="6297"/>
                    </a:lnTo>
                    <a:lnTo>
                      <a:pt x="6788" y="6168"/>
                    </a:lnTo>
                    <a:lnTo>
                      <a:pt x="7138" y="6278"/>
                    </a:lnTo>
                    <a:lnTo>
                      <a:pt x="7140" y="6278"/>
                    </a:lnTo>
                    <a:lnTo>
                      <a:pt x="7143" y="6278"/>
                    </a:lnTo>
                    <a:lnTo>
                      <a:pt x="7431" y="6149"/>
                    </a:lnTo>
                    <a:lnTo>
                      <a:pt x="7784" y="6258"/>
                    </a:lnTo>
                    <a:lnTo>
                      <a:pt x="7787" y="6258"/>
                    </a:lnTo>
                    <a:lnTo>
                      <a:pt x="7789" y="6258"/>
                    </a:lnTo>
                    <a:lnTo>
                      <a:pt x="8072" y="6129"/>
                    </a:lnTo>
                    <a:lnTo>
                      <a:pt x="8427" y="6238"/>
                    </a:lnTo>
                    <a:lnTo>
                      <a:pt x="8429" y="6238"/>
                    </a:lnTo>
                    <a:lnTo>
                      <a:pt x="8432" y="6238"/>
                    </a:lnTo>
                    <a:lnTo>
                      <a:pt x="8715" y="6109"/>
                    </a:lnTo>
                    <a:lnTo>
                      <a:pt x="9070" y="6216"/>
                    </a:lnTo>
                    <a:lnTo>
                      <a:pt x="9072" y="6216"/>
                    </a:lnTo>
                    <a:lnTo>
                      <a:pt x="9075" y="6216"/>
                    </a:lnTo>
                    <a:lnTo>
                      <a:pt x="9355" y="6086"/>
                    </a:lnTo>
                    <a:lnTo>
                      <a:pt x="9714" y="6196"/>
                    </a:lnTo>
                    <a:lnTo>
                      <a:pt x="9716" y="6196"/>
                    </a:lnTo>
                    <a:lnTo>
                      <a:pt x="9719" y="6196"/>
                    </a:lnTo>
                    <a:lnTo>
                      <a:pt x="9997" y="6067"/>
                    </a:lnTo>
                    <a:lnTo>
                      <a:pt x="10357" y="6176"/>
                    </a:lnTo>
                    <a:lnTo>
                      <a:pt x="10359" y="617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97"/>
              <p:cNvSpPr/>
              <p:nvPr/>
            </p:nvSpPr>
            <p:spPr>
              <a:xfrm>
                <a:off x="3516480" y="1716840"/>
                <a:ext cx="886680" cy="56160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9682" h="6131">
                    <a:moveTo>
                      <a:pt x="9682" y="5997"/>
                    </a:moveTo>
                    <a:lnTo>
                      <a:pt x="9679" y="5997"/>
                    </a:lnTo>
                    <a:lnTo>
                      <a:pt x="9322" y="5890"/>
                    </a:lnTo>
                    <a:lnTo>
                      <a:pt x="9043" y="6016"/>
                    </a:lnTo>
                    <a:lnTo>
                      <a:pt x="9040" y="6016"/>
                    </a:lnTo>
                    <a:lnTo>
                      <a:pt x="9038" y="6016"/>
                    </a:lnTo>
                    <a:lnTo>
                      <a:pt x="8683" y="5910"/>
                    </a:lnTo>
                    <a:lnTo>
                      <a:pt x="8402" y="6039"/>
                    </a:lnTo>
                    <a:lnTo>
                      <a:pt x="8400" y="6039"/>
                    </a:lnTo>
                    <a:lnTo>
                      <a:pt x="8397" y="6039"/>
                    </a:lnTo>
                    <a:lnTo>
                      <a:pt x="8042" y="5930"/>
                    </a:lnTo>
                    <a:lnTo>
                      <a:pt x="7760" y="6059"/>
                    </a:lnTo>
                    <a:lnTo>
                      <a:pt x="7757" y="6059"/>
                    </a:lnTo>
                    <a:lnTo>
                      <a:pt x="7755" y="6059"/>
                    </a:lnTo>
                    <a:lnTo>
                      <a:pt x="7401" y="5952"/>
                    </a:lnTo>
                    <a:lnTo>
                      <a:pt x="7118" y="6079"/>
                    </a:lnTo>
                    <a:lnTo>
                      <a:pt x="7116" y="6079"/>
                    </a:lnTo>
                    <a:lnTo>
                      <a:pt x="7113" y="6079"/>
                    </a:lnTo>
                    <a:lnTo>
                      <a:pt x="6761" y="5972"/>
                    </a:lnTo>
                    <a:lnTo>
                      <a:pt x="6475" y="6098"/>
                    </a:lnTo>
                    <a:lnTo>
                      <a:pt x="6473" y="6098"/>
                    </a:lnTo>
                    <a:lnTo>
                      <a:pt x="6470" y="6098"/>
                    </a:lnTo>
                    <a:lnTo>
                      <a:pt x="6120" y="5989"/>
                    </a:lnTo>
                    <a:lnTo>
                      <a:pt x="5832" y="6118"/>
                    </a:lnTo>
                    <a:lnTo>
                      <a:pt x="5830" y="6118"/>
                    </a:lnTo>
                    <a:lnTo>
                      <a:pt x="5827" y="6118"/>
                    </a:lnTo>
                    <a:lnTo>
                      <a:pt x="5479" y="6007"/>
                    </a:lnTo>
                    <a:lnTo>
                      <a:pt x="5186" y="6131"/>
                    </a:lnTo>
                    <a:lnTo>
                      <a:pt x="5183" y="6131"/>
                    </a:lnTo>
                    <a:lnTo>
                      <a:pt x="5181" y="6131"/>
                    </a:lnTo>
                    <a:lnTo>
                      <a:pt x="4836" y="6011"/>
                    </a:lnTo>
                    <a:lnTo>
                      <a:pt x="4540" y="6128"/>
                    </a:lnTo>
                    <a:lnTo>
                      <a:pt x="4538" y="6128"/>
                    </a:lnTo>
                    <a:lnTo>
                      <a:pt x="4536" y="6128"/>
                    </a:lnTo>
                    <a:lnTo>
                      <a:pt x="4193" y="5987"/>
                    </a:lnTo>
                    <a:lnTo>
                      <a:pt x="3894" y="6083"/>
                    </a:lnTo>
                    <a:lnTo>
                      <a:pt x="3892" y="6083"/>
                    </a:lnTo>
                    <a:lnTo>
                      <a:pt x="3547" y="5875"/>
                    </a:lnTo>
                    <a:lnTo>
                      <a:pt x="3246" y="5910"/>
                    </a:lnTo>
                    <a:lnTo>
                      <a:pt x="2901" y="5527"/>
                    </a:lnTo>
                    <a:lnTo>
                      <a:pt x="2598" y="5407"/>
                    </a:lnTo>
                    <a:lnTo>
                      <a:pt x="2255" y="4649"/>
                    </a:lnTo>
                    <a:lnTo>
                      <a:pt x="1949" y="4259"/>
                    </a:lnTo>
                    <a:lnTo>
                      <a:pt x="1609" y="3055"/>
                    </a:lnTo>
                    <a:lnTo>
                      <a:pt x="1302" y="2488"/>
                    </a:lnTo>
                    <a:lnTo>
                      <a:pt x="964" y="1285"/>
                    </a:lnTo>
                    <a:lnTo>
                      <a:pt x="650" y="882"/>
                    </a:lnTo>
                    <a:lnTo>
                      <a:pt x="315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98"/>
              <p:cNvSpPr/>
              <p:nvPr/>
            </p:nvSpPr>
            <p:spPr>
              <a:xfrm>
                <a:off x="3545280" y="1729800"/>
                <a:ext cx="825120" cy="538200"/>
              </a:xfrm>
              <a:custGeom>
                <a:avLst/>
                <a:gdLst>
                  <a:gd name="textAreaLeft" fmla="*/ 0 w 825120"/>
                  <a:gd name="textAreaRight" fmla="*/ 825480 w 82512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9007" h="5872">
                    <a:moveTo>
                      <a:pt x="0" y="0"/>
                    </a:moveTo>
                    <a:lnTo>
                      <a:pt x="310" y="223"/>
                    </a:lnTo>
                    <a:lnTo>
                      <a:pt x="649" y="1146"/>
                    </a:lnTo>
                    <a:lnTo>
                      <a:pt x="957" y="1638"/>
                    </a:lnTo>
                    <a:lnTo>
                      <a:pt x="1294" y="2916"/>
                    </a:lnTo>
                    <a:lnTo>
                      <a:pt x="1602" y="3449"/>
                    </a:lnTo>
                    <a:lnTo>
                      <a:pt x="1940" y="4510"/>
                    </a:lnTo>
                    <a:lnTo>
                      <a:pt x="2246" y="4794"/>
                    </a:lnTo>
                    <a:lnTo>
                      <a:pt x="2586" y="5388"/>
                    </a:lnTo>
                    <a:lnTo>
                      <a:pt x="2889" y="5438"/>
                    </a:lnTo>
                    <a:lnTo>
                      <a:pt x="3232" y="5736"/>
                    </a:lnTo>
                    <a:lnTo>
                      <a:pt x="3532" y="5674"/>
                    </a:lnTo>
                    <a:lnTo>
                      <a:pt x="3878" y="5848"/>
                    </a:lnTo>
                    <a:lnTo>
                      <a:pt x="3880" y="5848"/>
                    </a:lnTo>
                    <a:lnTo>
                      <a:pt x="4173" y="5741"/>
                    </a:lnTo>
                    <a:lnTo>
                      <a:pt x="4518" y="5872"/>
                    </a:lnTo>
                    <a:lnTo>
                      <a:pt x="4521" y="5872"/>
                    </a:lnTo>
                    <a:lnTo>
                      <a:pt x="4523" y="5872"/>
                    </a:lnTo>
                    <a:lnTo>
                      <a:pt x="4814" y="5751"/>
                    </a:lnTo>
                    <a:lnTo>
                      <a:pt x="5161" y="5868"/>
                    </a:lnTo>
                    <a:lnTo>
                      <a:pt x="5164" y="5868"/>
                    </a:lnTo>
                    <a:lnTo>
                      <a:pt x="5166" y="5868"/>
                    </a:lnTo>
                    <a:lnTo>
                      <a:pt x="5454" y="5741"/>
                    </a:lnTo>
                    <a:lnTo>
                      <a:pt x="5803" y="5850"/>
                    </a:lnTo>
                    <a:lnTo>
                      <a:pt x="5805" y="5850"/>
                    </a:lnTo>
                    <a:lnTo>
                      <a:pt x="5808" y="5850"/>
                    </a:lnTo>
                    <a:lnTo>
                      <a:pt x="6096" y="5724"/>
                    </a:lnTo>
                    <a:lnTo>
                      <a:pt x="6443" y="5833"/>
                    </a:lnTo>
                    <a:lnTo>
                      <a:pt x="6446" y="5833"/>
                    </a:lnTo>
                    <a:lnTo>
                      <a:pt x="6448" y="5833"/>
                    </a:lnTo>
                    <a:lnTo>
                      <a:pt x="6734" y="5704"/>
                    </a:lnTo>
                    <a:lnTo>
                      <a:pt x="7084" y="5813"/>
                    </a:lnTo>
                    <a:lnTo>
                      <a:pt x="7086" y="5813"/>
                    </a:lnTo>
                    <a:lnTo>
                      <a:pt x="7089" y="5813"/>
                    </a:lnTo>
                    <a:lnTo>
                      <a:pt x="7373" y="5684"/>
                    </a:lnTo>
                    <a:lnTo>
                      <a:pt x="7725" y="5791"/>
                    </a:lnTo>
                    <a:lnTo>
                      <a:pt x="7727" y="5791"/>
                    </a:lnTo>
                    <a:lnTo>
                      <a:pt x="7730" y="5791"/>
                    </a:lnTo>
                    <a:lnTo>
                      <a:pt x="8010" y="5664"/>
                    </a:lnTo>
                    <a:lnTo>
                      <a:pt x="8365" y="5771"/>
                    </a:lnTo>
                    <a:lnTo>
                      <a:pt x="8368" y="5771"/>
                    </a:lnTo>
                    <a:lnTo>
                      <a:pt x="8370" y="5771"/>
                    </a:lnTo>
                    <a:lnTo>
                      <a:pt x="8648" y="5644"/>
                    </a:lnTo>
                    <a:lnTo>
                      <a:pt x="9004" y="5751"/>
                    </a:lnTo>
                    <a:lnTo>
                      <a:pt x="9007" y="575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99"/>
              <p:cNvSpPr/>
              <p:nvPr/>
            </p:nvSpPr>
            <p:spPr>
              <a:xfrm>
                <a:off x="3573720" y="1749960"/>
                <a:ext cx="764280" cy="507240"/>
              </a:xfrm>
              <a:custGeom>
                <a:avLst/>
                <a:gdLst>
                  <a:gd name="textAreaLeft" fmla="*/ 0 w 764280"/>
                  <a:gd name="textAreaRight" fmla="*/ 764640 w 76428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8338" h="5528">
                    <a:moveTo>
                      <a:pt x="8338" y="5421"/>
                    </a:moveTo>
                    <a:lnTo>
                      <a:pt x="8336" y="5421"/>
                    </a:lnTo>
                    <a:lnTo>
                      <a:pt x="7981" y="5314"/>
                    </a:lnTo>
                    <a:lnTo>
                      <a:pt x="7703" y="5441"/>
                    </a:lnTo>
                    <a:lnTo>
                      <a:pt x="7700" y="5441"/>
                    </a:lnTo>
                    <a:lnTo>
                      <a:pt x="7698" y="5441"/>
                    </a:lnTo>
                    <a:lnTo>
                      <a:pt x="7348" y="5334"/>
                    </a:lnTo>
                    <a:lnTo>
                      <a:pt x="7065" y="5461"/>
                    </a:lnTo>
                    <a:lnTo>
                      <a:pt x="7063" y="5461"/>
                    </a:lnTo>
                    <a:lnTo>
                      <a:pt x="7060" y="5461"/>
                    </a:lnTo>
                    <a:lnTo>
                      <a:pt x="6709" y="5354"/>
                    </a:lnTo>
                    <a:lnTo>
                      <a:pt x="6426" y="5481"/>
                    </a:lnTo>
                    <a:lnTo>
                      <a:pt x="6424" y="5481"/>
                    </a:lnTo>
                    <a:lnTo>
                      <a:pt x="6421" y="5481"/>
                    </a:lnTo>
                    <a:lnTo>
                      <a:pt x="6074" y="5374"/>
                    </a:lnTo>
                    <a:lnTo>
                      <a:pt x="5788" y="5501"/>
                    </a:lnTo>
                    <a:lnTo>
                      <a:pt x="5786" y="5501"/>
                    </a:lnTo>
                    <a:lnTo>
                      <a:pt x="5783" y="5501"/>
                    </a:lnTo>
                    <a:lnTo>
                      <a:pt x="5436" y="5394"/>
                    </a:lnTo>
                    <a:lnTo>
                      <a:pt x="5147" y="5518"/>
                    </a:lnTo>
                    <a:lnTo>
                      <a:pt x="5144" y="5518"/>
                    </a:lnTo>
                    <a:lnTo>
                      <a:pt x="5142" y="5518"/>
                    </a:lnTo>
                    <a:lnTo>
                      <a:pt x="4797" y="5406"/>
                    </a:lnTo>
                    <a:lnTo>
                      <a:pt x="4506" y="5528"/>
                    </a:lnTo>
                    <a:lnTo>
                      <a:pt x="4504" y="5528"/>
                    </a:lnTo>
                    <a:lnTo>
                      <a:pt x="4501" y="5528"/>
                    </a:lnTo>
                    <a:lnTo>
                      <a:pt x="4159" y="5406"/>
                    </a:lnTo>
                    <a:lnTo>
                      <a:pt x="3866" y="5518"/>
                    </a:lnTo>
                    <a:lnTo>
                      <a:pt x="3863" y="5518"/>
                    </a:lnTo>
                    <a:lnTo>
                      <a:pt x="3861" y="5518"/>
                    </a:lnTo>
                    <a:lnTo>
                      <a:pt x="3521" y="5367"/>
                    </a:lnTo>
                    <a:lnTo>
                      <a:pt x="3222" y="5451"/>
                    </a:lnTo>
                    <a:lnTo>
                      <a:pt x="2879" y="5213"/>
                    </a:lnTo>
                    <a:lnTo>
                      <a:pt x="2579" y="5215"/>
                    </a:lnTo>
                    <a:lnTo>
                      <a:pt x="2239" y="4757"/>
                    </a:lnTo>
                    <a:lnTo>
                      <a:pt x="1936" y="4571"/>
                    </a:lnTo>
                    <a:lnTo>
                      <a:pt x="1595" y="3689"/>
                    </a:lnTo>
                    <a:lnTo>
                      <a:pt x="1292" y="3226"/>
                    </a:lnTo>
                    <a:lnTo>
                      <a:pt x="955" y="1964"/>
                    </a:lnTo>
                    <a:lnTo>
                      <a:pt x="647" y="1415"/>
                    </a:lnTo>
                    <a:lnTo>
                      <a:pt x="312" y="3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300"/>
              <p:cNvSpPr/>
              <p:nvPr/>
            </p:nvSpPr>
            <p:spPr>
              <a:xfrm>
                <a:off x="3602520" y="1779840"/>
                <a:ext cx="702000" cy="46548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465480"/>
                  <a:gd name="textAreaBottom" fmla="*/ 465840 h 465480"/>
                </a:gdLst>
                <a:ahLst/>
                <a:rect l="textAreaLeft" t="textAreaTop" r="textAreaRight" b="textAreaBottom"/>
                <a:pathLst>
                  <a:path w="7669" h="5082">
                    <a:moveTo>
                      <a:pt x="0" y="0"/>
                    </a:moveTo>
                    <a:lnTo>
                      <a:pt x="305" y="424"/>
                    </a:lnTo>
                    <a:lnTo>
                      <a:pt x="643" y="1640"/>
                    </a:lnTo>
                    <a:lnTo>
                      <a:pt x="945" y="2199"/>
                    </a:lnTo>
                    <a:lnTo>
                      <a:pt x="1283" y="3365"/>
                    </a:lnTo>
                    <a:lnTo>
                      <a:pt x="1587" y="3725"/>
                    </a:lnTo>
                    <a:lnTo>
                      <a:pt x="1927" y="4433"/>
                    </a:lnTo>
                    <a:lnTo>
                      <a:pt x="2225" y="4533"/>
                    </a:lnTo>
                    <a:lnTo>
                      <a:pt x="2567" y="4889"/>
                    </a:lnTo>
                    <a:lnTo>
                      <a:pt x="2865" y="4846"/>
                    </a:lnTo>
                    <a:lnTo>
                      <a:pt x="3209" y="5043"/>
                    </a:lnTo>
                    <a:lnTo>
                      <a:pt x="3211" y="5043"/>
                    </a:lnTo>
                    <a:lnTo>
                      <a:pt x="3504" y="4946"/>
                    </a:lnTo>
                    <a:lnTo>
                      <a:pt x="3844" y="5082"/>
                    </a:lnTo>
                    <a:lnTo>
                      <a:pt x="3847" y="5082"/>
                    </a:lnTo>
                    <a:lnTo>
                      <a:pt x="3849" y="5082"/>
                    </a:lnTo>
                    <a:lnTo>
                      <a:pt x="4140" y="4966"/>
                    </a:lnTo>
                    <a:lnTo>
                      <a:pt x="4482" y="5082"/>
                    </a:lnTo>
                    <a:lnTo>
                      <a:pt x="4485" y="5082"/>
                    </a:lnTo>
                    <a:lnTo>
                      <a:pt x="4487" y="5082"/>
                    </a:lnTo>
                    <a:lnTo>
                      <a:pt x="4775" y="4958"/>
                    </a:lnTo>
                    <a:lnTo>
                      <a:pt x="5121" y="5070"/>
                    </a:lnTo>
                    <a:lnTo>
                      <a:pt x="5124" y="5070"/>
                    </a:lnTo>
                    <a:lnTo>
                      <a:pt x="5126" y="5070"/>
                    </a:lnTo>
                    <a:lnTo>
                      <a:pt x="5412" y="4943"/>
                    </a:lnTo>
                    <a:lnTo>
                      <a:pt x="5759" y="5050"/>
                    </a:lnTo>
                    <a:lnTo>
                      <a:pt x="5762" y="5050"/>
                    </a:lnTo>
                    <a:lnTo>
                      <a:pt x="5764" y="5050"/>
                    </a:lnTo>
                    <a:lnTo>
                      <a:pt x="6047" y="4926"/>
                    </a:lnTo>
                    <a:lnTo>
                      <a:pt x="6395" y="5030"/>
                    </a:lnTo>
                    <a:lnTo>
                      <a:pt x="6397" y="5030"/>
                    </a:lnTo>
                    <a:lnTo>
                      <a:pt x="6400" y="5030"/>
                    </a:lnTo>
                    <a:lnTo>
                      <a:pt x="6683" y="4906"/>
                    </a:lnTo>
                    <a:lnTo>
                      <a:pt x="7033" y="5010"/>
                    </a:lnTo>
                    <a:lnTo>
                      <a:pt x="7036" y="5010"/>
                    </a:lnTo>
                    <a:lnTo>
                      <a:pt x="7038" y="5010"/>
                    </a:lnTo>
                    <a:lnTo>
                      <a:pt x="7316" y="4886"/>
                    </a:lnTo>
                    <a:lnTo>
                      <a:pt x="7666" y="4990"/>
                    </a:lnTo>
                    <a:lnTo>
                      <a:pt x="7669" y="49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301"/>
              <p:cNvSpPr/>
              <p:nvPr/>
            </p:nvSpPr>
            <p:spPr>
              <a:xfrm>
                <a:off x="3630960" y="1819080"/>
                <a:ext cx="641520" cy="415440"/>
              </a:xfrm>
              <a:custGeom>
                <a:avLst/>
                <a:gdLst>
                  <a:gd name="textAreaLeft" fmla="*/ 0 w 641520"/>
                  <a:gd name="textAreaRight" fmla="*/ 641520 w 64152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7011" h="4542">
                    <a:moveTo>
                      <a:pt x="7011" y="4462"/>
                    </a:moveTo>
                    <a:lnTo>
                      <a:pt x="7009" y="4462"/>
                    </a:lnTo>
                    <a:lnTo>
                      <a:pt x="6659" y="4354"/>
                    </a:lnTo>
                    <a:lnTo>
                      <a:pt x="6381" y="4482"/>
                    </a:lnTo>
                    <a:lnTo>
                      <a:pt x="6378" y="4482"/>
                    </a:lnTo>
                    <a:lnTo>
                      <a:pt x="6376" y="4482"/>
                    </a:lnTo>
                    <a:lnTo>
                      <a:pt x="6027" y="4374"/>
                    </a:lnTo>
                    <a:lnTo>
                      <a:pt x="5745" y="4502"/>
                    </a:lnTo>
                    <a:lnTo>
                      <a:pt x="5742" y="4502"/>
                    </a:lnTo>
                    <a:lnTo>
                      <a:pt x="5740" y="4502"/>
                    </a:lnTo>
                    <a:lnTo>
                      <a:pt x="5395" y="4395"/>
                    </a:lnTo>
                    <a:lnTo>
                      <a:pt x="5109" y="4519"/>
                    </a:lnTo>
                    <a:lnTo>
                      <a:pt x="5107" y="4519"/>
                    </a:lnTo>
                    <a:lnTo>
                      <a:pt x="5104" y="4519"/>
                    </a:lnTo>
                    <a:lnTo>
                      <a:pt x="4762" y="4412"/>
                    </a:lnTo>
                    <a:lnTo>
                      <a:pt x="4473" y="4534"/>
                    </a:lnTo>
                    <a:lnTo>
                      <a:pt x="4470" y="4534"/>
                    </a:lnTo>
                    <a:lnTo>
                      <a:pt x="4468" y="4534"/>
                    </a:lnTo>
                    <a:lnTo>
                      <a:pt x="4125" y="4422"/>
                    </a:lnTo>
                    <a:lnTo>
                      <a:pt x="3837" y="4542"/>
                    </a:lnTo>
                    <a:lnTo>
                      <a:pt x="3835" y="4542"/>
                    </a:lnTo>
                    <a:lnTo>
                      <a:pt x="3832" y="4542"/>
                    </a:lnTo>
                    <a:lnTo>
                      <a:pt x="3492" y="4415"/>
                    </a:lnTo>
                    <a:lnTo>
                      <a:pt x="3202" y="4522"/>
                    </a:lnTo>
                    <a:lnTo>
                      <a:pt x="3199" y="4522"/>
                    </a:lnTo>
                    <a:lnTo>
                      <a:pt x="3197" y="4522"/>
                    </a:lnTo>
                    <a:lnTo>
                      <a:pt x="2856" y="4354"/>
                    </a:lnTo>
                    <a:lnTo>
                      <a:pt x="2560" y="4422"/>
                    </a:lnTo>
                    <a:lnTo>
                      <a:pt x="2220" y="4143"/>
                    </a:lnTo>
                    <a:lnTo>
                      <a:pt x="1920" y="4109"/>
                    </a:lnTo>
                    <a:lnTo>
                      <a:pt x="1582" y="3558"/>
                    </a:lnTo>
                    <a:lnTo>
                      <a:pt x="1282" y="3301"/>
                    </a:lnTo>
                    <a:lnTo>
                      <a:pt x="943" y="2295"/>
                    </a:lnTo>
                    <a:lnTo>
                      <a:pt x="640" y="1775"/>
                    </a:lnTo>
                    <a:lnTo>
                      <a:pt x="305" y="50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302"/>
              <p:cNvSpPr/>
              <p:nvPr/>
            </p:nvSpPr>
            <p:spPr>
              <a:xfrm>
                <a:off x="3658320" y="1865520"/>
                <a:ext cx="582120" cy="35820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358200"/>
                  <a:gd name="textAreaBottom" fmla="*/ 358200 h 358200"/>
                </a:gdLst>
                <a:ahLst/>
                <a:rect l="textAreaLeft" t="textAreaTop" r="textAreaRight" b="textAreaBottom"/>
                <a:pathLst>
                  <a:path w="6354" h="3914">
                    <a:moveTo>
                      <a:pt x="0" y="0"/>
                    </a:moveTo>
                    <a:lnTo>
                      <a:pt x="303" y="552"/>
                    </a:lnTo>
                    <a:lnTo>
                      <a:pt x="638" y="1787"/>
                    </a:lnTo>
                    <a:lnTo>
                      <a:pt x="939" y="2222"/>
                    </a:lnTo>
                    <a:lnTo>
                      <a:pt x="1277" y="3050"/>
                    </a:lnTo>
                    <a:lnTo>
                      <a:pt x="1575" y="3211"/>
                    </a:lnTo>
                    <a:lnTo>
                      <a:pt x="1915" y="3635"/>
                    </a:lnTo>
                    <a:lnTo>
                      <a:pt x="2211" y="3623"/>
                    </a:lnTo>
                    <a:lnTo>
                      <a:pt x="2551" y="3846"/>
                    </a:lnTo>
                    <a:lnTo>
                      <a:pt x="2553" y="3846"/>
                    </a:lnTo>
                    <a:lnTo>
                      <a:pt x="2845" y="3762"/>
                    </a:lnTo>
                    <a:lnTo>
                      <a:pt x="3185" y="3907"/>
                    </a:lnTo>
                    <a:lnTo>
                      <a:pt x="3187" y="3907"/>
                    </a:lnTo>
                    <a:lnTo>
                      <a:pt x="3190" y="3907"/>
                    </a:lnTo>
                    <a:lnTo>
                      <a:pt x="3478" y="3794"/>
                    </a:lnTo>
                    <a:lnTo>
                      <a:pt x="3818" y="3914"/>
                    </a:lnTo>
                    <a:lnTo>
                      <a:pt x="3820" y="3914"/>
                    </a:lnTo>
                    <a:lnTo>
                      <a:pt x="3823" y="3914"/>
                    </a:lnTo>
                    <a:lnTo>
                      <a:pt x="4111" y="3794"/>
                    </a:lnTo>
                    <a:lnTo>
                      <a:pt x="4454" y="3904"/>
                    </a:lnTo>
                    <a:lnTo>
                      <a:pt x="4457" y="3904"/>
                    </a:lnTo>
                    <a:lnTo>
                      <a:pt x="4459" y="3904"/>
                    </a:lnTo>
                    <a:lnTo>
                      <a:pt x="4742" y="3779"/>
                    </a:lnTo>
                    <a:lnTo>
                      <a:pt x="5087" y="3887"/>
                    </a:lnTo>
                    <a:lnTo>
                      <a:pt x="5090" y="3887"/>
                    </a:lnTo>
                    <a:lnTo>
                      <a:pt x="5092" y="3887"/>
                    </a:lnTo>
                    <a:lnTo>
                      <a:pt x="5372" y="3762"/>
                    </a:lnTo>
                    <a:lnTo>
                      <a:pt x="5720" y="3866"/>
                    </a:lnTo>
                    <a:lnTo>
                      <a:pt x="5722" y="3866"/>
                    </a:lnTo>
                    <a:lnTo>
                      <a:pt x="5725" y="3866"/>
                    </a:lnTo>
                    <a:lnTo>
                      <a:pt x="6004" y="3742"/>
                    </a:lnTo>
                    <a:lnTo>
                      <a:pt x="6352" y="3846"/>
                    </a:lnTo>
                    <a:lnTo>
                      <a:pt x="6354" y="384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303"/>
              <p:cNvSpPr/>
              <p:nvPr/>
            </p:nvSpPr>
            <p:spPr>
              <a:xfrm>
                <a:off x="3685680" y="1915560"/>
                <a:ext cx="522720" cy="297720"/>
              </a:xfrm>
              <a:custGeom>
                <a:avLst/>
                <a:gdLst>
                  <a:gd name="textAreaLeft" fmla="*/ 0 w 522720"/>
                  <a:gd name="textAreaRight" fmla="*/ 522720 w 52272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5701" h="3242">
                    <a:moveTo>
                      <a:pt x="5701" y="3190"/>
                    </a:moveTo>
                    <a:lnTo>
                      <a:pt x="5699" y="3190"/>
                    </a:lnTo>
                    <a:lnTo>
                      <a:pt x="5352" y="3086"/>
                    </a:lnTo>
                    <a:lnTo>
                      <a:pt x="5072" y="3210"/>
                    </a:lnTo>
                    <a:lnTo>
                      <a:pt x="5069" y="3210"/>
                    </a:lnTo>
                    <a:lnTo>
                      <a:pt x="5067" y="3210"/>
                    </a:lnTo>
                    <a:lnTo>
                      <a:pt x="4724" y="3106"/>
                    </a:lnTo>
                    <a:lnTo>
                      <a:pt x="4441" y="3227"/>
                    </a:lnTo>
                    <a:lnTo>
                      <a:pt x="4439" y="3227"/>
                    </a:lnTo>
                    <a:lnTo>
                      <a:pt x="4437" y="3227"/>
                    </a:lnTo>
                    <a:lnTo>
                      <a:pt x="4094" y="3121"/>
                    </a:lnTo>
                    <a:lnTo>
                      <a:pt x="3810" y="3242"/>
                    </a:lnTo>
                    <a:lnTo>
                      <a:pt x="3808" y="3242"/>
                    </a:lnTo>
                    <a:lnTo>
                      <a:pt x="3805" y="3242"/>
                    </a:lnTo>
                    <a:lnTo>
                      <a:pt x="3465" y="3128"/>
                    </a:lnTo>
                    <a:lnTo>
                      <a:pt x="3177" y="3242"/>
                    </a:lnTo>
                    <a:lnTo>
                      <a:pt x="3175" y="3242"/>
                    </a:lnTo>
                    <a:lnTo>
                      <a:pt x="3172" y="3242"/>
                    </a:lnTo>
                    <a:lnTo>
                      <a:pt x="2834" y="3111"/>
                    </a:lnTo>
                    <a:lnTo>
                      <a:pt x="2544" y="3210"/>
                    </a:lnTo>
                    <a:lnTo>
                      <a:pt x="2542" y="3210"/>
                    </a:lnTo>
                    <a:lnTo>
                      <a:pt x="2200" y="3024"/>
                    </a:lnTo>
                    <a:lnTo>
                      <a:pt x="1908" y="3071"/>
                    </a:lnTo>
                    <a:lnTo>
                      <a:pt x="1570" y="2743"/>
                    </a:lnTo>
                    <a:lnTo>
                      <a:pt x="1272" y="2659"/>
                    </a:lnTo>
                    <a:lnTo>
                      <a:pt x="937" y="2003"/>
                    </a:lnTo>
                    <a:lnTo>
                      <a:pt x="636" y="1670"/>
                    </a:lnTo>
                    <a:lnTo>
                      <a:pt x="301" y="54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304"/>
              <p:cNvSpPr/>
              <p:nvPr/>
            </p:nvSpPr>
            <p:spPr>
              <a:xfrm>
                <a:off x="3714120" y="1966680"/>
                <a:ext cx="461880" cy="235440"/>
              </a:xfrm>
              <a:custGeom>
                <a:avLst/>
                <a:gdLst>
                  <a:gd name="textAreaLeft" fmla="*/ 0 w 461880"/>
                  <a:gd name="textAreaRight" fmla="*/ 461880 w 46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5051" h="2580">
                    <a:moveTo>
                      <a:pt x="0" y="0"/>
                    </a:moveTo>
                    <a:lnTo>
                      <a:pt x="300" y="498"/>
                    </a:lnTo>
                    <a:lnTo>
                      <a:pt x="636" y="1455"/>
                    </a:lnTo>
                    <a:lnTo>
                      <a:pt x="931" y="1683"/>
                    </a:lnTo>
                    <a:lnTo>
                      <a:pt x="1269" y="2195"/>
                    </a:lnTo>
                    <a:lnTo>
                      <a:pt x="1562" y="2218"/>
                    </a:lnTo>
                    <a:lnTo>
                      <a:pt x="1899" y="2476"/>
                    </a:lnTo>
                    <a:lnTo>
                      <a:pt x="2193" y="2406"/>
                    </a:lnTo>
                    <a:lnTo>
                      <a:pt x="2531" y="2563"/>
                    </a:lnTo>
                    <a:lnTo>
                      <a:pt x="2533" y="2563"/>
                    </a:lnTo>
                    <a:lnTo>
                      <a:pt x="2536" y="2563"/>
                    </a:lnTo>
                    <a:lnTo>
                      <a:pt x="2821" y="2458"/>
                    </a:lnTo>
                    <a:lnTo>
                      <a:pt x="3161" y="2580"/>
                    </a:lnTo>
                    <a:lnTo>
                      <a:pt x="3164" y="2580"/>
                    </a:lnTo>
                    <a:lnTo>
                      <a:pt x="3166" y="2580"/>
                    </a:lnTo>
                    <a:lnTo>
                      <a:pt x="3449" y="2463"/>
                    </a:lnTo>
                    <a:lnTo>
                      <a:pt x="3790" y="2573"/>
                    </a:lnTo>
                    <a:lnTo>
                      <a:pt x="3793" y="2573"/>
                    </a:lnTo>
                    <a:lnTo>
                      <a:pt x="3795" y="2573"/>
                    </a:lnTo>
                    <a:lnTo>
                      <a:pt x="4078" y="2451"/>
                    </a:lnTo>
                    <a:lnTo>
                      <a:pt x="4421" y="2558"/>
                    </a:lnTo>
                    <a:lnTo>
                      <a:pt x="4423" y="2558"/>
                    </a:lnTo>
                    <a:lnTo>
                      <a:pt x="4426" y="2558"/>
                    </a:lnTo>
                    <a:lnTo>
                      <a:pt x="4706" y="2434"/>
                    </a:lnTo>
                    <a:lnTo>
                      <a:pt x="5049" y="2538"/>
                    </a:lnTo>
                    <a:lnTo>
                      <a:pt x="5051" y="253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305"/>
              <p:cNvSpPr/>
              <p:nvPr/>
            </p:nvSpPr>
            <p:spPr>
              <a:xfrm>
                <a:off x="3741480" y="2012040"/>
                <a:ext cx="403560" cy="17964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4406" h="1965">
                    <a:moveTo>
                      <a:pt x="4406" y="1936"/>
                    </a:moveTo>
                    <a:lnTo>
                      <a:pt x="4404" y="1936"/>
                    </a:lnTo>
                    <a:lnTo>
                      <a:pt x="4061" y="1831"/>
                    </a:lnTo>
                    <a:lnTo>
                      <a:pt x="3781" y="1953"/>
                    </a:lnTo>
                    <a:lnTo>
                      <a:pt x="3778" y="1953"/>
                    </a:lnTo>
                    <a:lnTo>
                      <a:pt x="3776" y="1953"/>
                    </a:lnTo>
                    <a:lnTo>
                      <a:pt x="3436" y="1846"/>
                    </a:lnTo>
                    <a:lnTo>
                      <a:pt x="3152" y="1965"/>
                    </a:lnTo>
                    <a:lnTo>
                      <a:pt x="3149" y="1965"/>
                    </a:lnTo>
                    <a:lnTo>
                      <a:pt x="3147" y="1965"/>
                    </a:lnTo>
                    <a:lnTo>
                      <a:pt x="2809" y="1849"/>
                    </a:lnTo>
                    <a:lnTo>
                      <a:pt x="2524" y="1960"/>
                    </a:lnTo>
                    <a:lnTo>
                      <a:pt x="2521" y="1960"/>
                    </a:lnTo>
                    <a:lnTo>
                      <a:pt x="2519" y="1960"/>
                    </a:lnTo>
                    <a:lnTo>
                      <a:pt x="2184" y="1821"/>
                    </a:lnTo>
                    <a:lnTo>
                      <a:pt x="1896" y="1908"/>
                    </a:lnTo>
                    <a:lnTo>
                      <a:pt x="1893" y="1908"/>
                    </a:lnTo>
                    <a:lnTo>
                      <a:pt x="1555" y="1700"/>
                    </a:lnTo>
                    <a:lnTo>
                      <a:pt x="1262" y="1720"/>
                    </a:lnTo>
                    <a:lnTo>
                      <a:pt x="927" y="1326"/>
                    </a:lnTo>
                    <a:lnTo>
                      <a:pt x="631" y="1185"/>
                    </a:lnTo>
                    <a:lnTo>
                      <a:pt x="296" y="40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306"/>
              <p:cNvSpPr/>
              <p:nvPr/>
            </p:nvSpPr>
            <p:spPr>
              <a:xfrm>
                <a:off x="3767760" y="2048760"/>
                <a:ext cx="345240" cy="1321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765" h="1442">
                    <a:moveTo>
                      <a:pt x="0" y="0"/>
                    </a:moveTo>
                    <a:lnTo>
                      <a:pt x="296" y="306"/>
                    </a:lnTo>
                    <a:lnTo>
                      <a:pt x="631" y="919"/>
                    </a:lnTo>
                    <a:lnTo>
                      <a:pt x="924" y="984"/>
                    </a:lnTo>
                    <a:lnTo>
                      <a:pt x="1259" y="1293"/>
                    </a:lnTo>
                    <a:lnTo>
                      <a:pt x="1550" y="1241"/>
                    </a:lnTo>
                    <a:lnTo>
                      <a:pt x="1888" y="1414"/>
                    </a:lnTo>
                    <a:lnTo>
                      <a:pt x="1890" y="1414"/>
                    </a:lnTo>
                    <a:lnTo>
                      <a:pt x="2176" y="1315"/>
                    </a:lnTo>
                    <a:lnTo>
                      <a:pt x="2511" y="1442"/>
                    </a:lnTo>
                    <a:lnTo>
                      <a:pt x="2513" y="1442"/>
                    </a:lnTo>
                    <a:lnTo>
                      <a:pt x="2516" y="1442"/>
                    </a:lnTo>
                    <a:lnTo>
                      <a:pt x="2799" y="1330"/>
                    </a:lnTo>
                    <a:lnTo>
                      <a:pt x="3137" y="1439"/>
                    </a:lnTo>
                    <a:lnTo>
                      <a:pt x="3140" y="1439"/>
                    </a:lnTo>
                    <a:lnTo>
                      <a:pt x="3142" y="1439"/>
                    </a:lnTo>
                    <a:lnTo>
                      <a:pt x="3425" y="1320"/>
                    </a:lnTo>
                    <a:lnTo>
                      <a:pt x="3763" y="1424"/>
                    </a:lnTo>
                    <a:lnTo>
                      <a:pt x="3765" y="142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307"/>
              <p:cNvSpPr/>
              <p:nvPr/>
            </p:nvSpPr>
            <p:spPr>
              <a:xfrm>
                <a:off x="3795120" y="2077560"/>
                <a:ext cx="286920" cy="928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129" h="1024">
                    <a:moveTo>
                      <a:pt x="3129" y="1014"/>
                    </a:moveTo>
                    <a:lnTo>
                      <a:pt x="3127" y="1014"/>
                    </a:lnTo>
                    <a:lnTo>
                      <a:pt x="2789" y="907"/>
                    </a:lnTo>
                    <a:lnTo>
                      <a:pt x="2505" y="1024"/>
                    </a:lnTo>
                    <a:lnTo>
                      <a:pt x="2503" y="1024"/>
                    </a:lnTo>
                    <a:lnTo>
                      <a:pt x="2500" y="1024"/>
                    </a:lnTo>
                    <a:lnTo>
                      <a:pt x="2165" y="905"/>
                    </a:lnTo>
                    <a:lnTo>
                      <a:pt x="1882" y="1009"/>
                    </a:lnTo>
                    <a:lnTo>
                      <a:pt x="1880" y="1009"/>
                    </a:lnTo>
                    <a:lnTo>
                      <a:pt x="1877" y="1009"/>
                    </a:lnTo>
                    <a:lnTo>
                      <a:pt x="1542" y="860"/>
                    </a:lnTo>
                    <a:lnTo>
                      <a:pt x="1254" y="935"/>
                    </a:lnTo>
                    <a:lnTo>
                      <a:pt x="918" y="690"/>
                    </a:lnTo>
                    <a:lnTo>
                      <a:pt x="628" y="678"/>
                    </a:lnTo>
                    <a:lnTo>
                      <a:pt x="293" y="2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308"/>
              <p:cNvSpPr/>
              <p:nvPr/>
            </p:nvSpPr>
            <p:spPr>
              <a:xfrm>
                <a:off x="3822480" y="2096640"/>
                <a:ext cx="228600" cy="626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96" h="701">
                    <a:moveTo>
                      <a:pt x="0" y="0"/>
                    </a:moveTo>
                    <a:lnTo>
                      <a:pt x="290" y="120"/>
                    </a:lnTo>
                    <a:lnTo>
                      <a:pt x="625" y="484"/>
                    </a:lnTo>
                    <a:lnTo>
                      <a:pt x="914" y="457"/>
                    </a:lnTo>
                    <a:lnTo>
                      <a:pt x="1249" y="654"/>
                    </a:lnTo>
                    <a:lnTo>
                      <a:pt x="1252" y="654"/>
                    </a:lnTo>
                    <a:lnTo>
                      <a:pt x="1535" y="565"/>
                    </a:lnTo>
                    <a:lnTo>
                      <a:pt x="1870" y="699"/>
                    </a:lnTo>
                    <a:lnTo>
                      <a:pt x="1872" y="699"/>
                    </a:lnTo>
                    <a:lnTo>
                      <a:pt x="1875" y="699"/>
                    </a:lnTo>
                    <a:lnTo>
                      <a:pt x="2158" y="590"/>
                    </a:lnTo>
                    <a:lnTo>
                      <a:pt x="2494" y="701"/>
                    </a:lnTo>
                    <a:lnTo>
                      <a:pt x="2496" y="70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309"/>
              <p:cNvSpPr/>
              <p:nvPr/>
            </p:nvSpPr>
            <p:spPr>
              <a:xfrm>
                <a:off x="3848760" y="2107080"/>
                <a:ext cx="171360" cy="428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1868" h="470">
                    <a:moveTo>
                      <a:pt x="1868" y="470"/>
                    </a:moveTo>
                    <a:lnTo>
                      <a:pt x="1865" y="470"/>
                    </a:lnTo>
                    <a:lnTo>
                      <a:pt x="1530" y="347"/>
                    </a:lnTo>
                    <a:lnTo>
                      <a:pt x="1247" y="445"/>
                    </a:lnTo>
                    <a:lnTo>
                      <a:pt x="1245" y="445"/>
                    </a:lnTo>
                    <a:lnTo>
                      <a:pt x="1242" y="445"/>
                    </a:lnTo>
                    <a:lnTo>
                      <a:pt x="912" y="280"/>
                    </a:lnTo>
                    <a:lnTo>
                      <a:pt x="624" y="337"/>
                    </a:lnTo>
                    <a:lnTo>
                      <a:pt x="290" y="5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310"/>
              <p:cNvSpPr/>
              <p:nvPr/>
            </p:nvSpPr>
            <p:spPr>
              <a:xfrm>
                <a:off x="3875040" y="2112120"/>
                <a:ext cx="114480" cy="259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40" h="295">
                    <a:moveTo>
                      <a:pt x="0" y="0"/>
                    </a:moveTo>
                    <a:lnTo>
                      <a:pt x="287" y="0"/>
                    </a:lnTo>
                    <a:lnTo>
                      <a:pt x="622" y="228"/>
                    </a:lnTo>
                    <a:lnTo>
                      <a:pt x="624" y="228"/>
                    </a:lnTo>
                    <a:lnTo>
                      <a:pt x="905" y="151"/>
                    </a:lnTo>
                    <a:lnTo>
                      <a:pt x="1238" y="295"/>
                    </a:lnTo>
                    <a:lnTo>
                      <a:pt x="1240" y="2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311"/>
              <p:cNvSpPr/>
              <p:nvPr/>
            </p:nvSpPr>
            <p:spPr>
              <a:xfrm>
                <a:off x="3900960" y="2108520"/>
                <a:ext cx="57240" cy="162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18" h="186">
                    <a:moveTo>
                      <a:pt x="618" y="186"/>
                    </a:moveTo>
                    <a:lnTo>
                      <a:pt x="285" y="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312"/>
              <p:cNvSpPr/>
              <p:nvPr/>
            </p:nvSpPr>
            <p:spPr>
              <a:xfrm>
                <a:off x="4133160" y="21859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313"/>
              <p:cNvSpPr/>
              <p:nvPr/>
            </p:nvSpPr>
            <p:spPr>
              <a:xfrm>
                <a:off x="4135680" y="21859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Line 314"/>
              <p:cNvSpPr/>
              <p:nvPr/>
            </p:nvSpPr>
            <p:spPr>
              <a:xfrm>
                <a:off x="413568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Line 315"/>
              <p:cNvSpPr/>
              <p:nvPr/>
            </p:nvSpPr>
            <p:spPr>
              <a:xfrm>
                <a:off x="413820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316"/>
              <p:cNvSpPr/>
              <p:nvPr/>
            </p:nvSpPr>
            <p:spPr>
              <a:xfrm>
                <a:off x="413820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317"/>
              <p:cNvSpPr/>
              <p:nvPr/>
            </p:nvSpPr>
            <p:spPr>
              <a:xfrm>
                <a:off x="414072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Line 318"/>
              <p:cNvSpPr/>
              <p:nvPr/>
            </p:nvSpPr>
            <p:spPr>
              <a:xfrm>
                <a:off x="414072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Line 319"/>
              <p:cNvSpPr/>
              <p:nvPr/>
            </p:nvSpPr>
            <p:spPr>
              <a:xfrm>
                <a:off x="414288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Line 320"/>
              <p:cNvSpPr/>
              <p:nvPr/>
            </p:nvSpPr>
            <p:spPr>
              <a:xfrm>
                <a:off x="414288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321"/>
              <p:cNvSpPr/>
              <p:nvPr/>
            </p:nvSpPr>
            <p:spPr>
              <a:xfrm>
                <a:off x="4143960" y="218916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Line 322"/>
              <p:cNvSpPr/>
              <p:nvPr/>
            </p:nvSpPr>
            <p:spPr>
              <a:xfrm>
                <a:off x="4145040" y="218916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Line 323"/>
              <p:cNvSpPr/>
              <p:nvPr/>
            </p:nvSpPr>
            <p:spPr>
              <a:xfrm>
                <a:off x="414756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324"/>
              <p:cNvSpPr/>
              <p:nvPr/>
            </p:nvSpPr>
            <p:spPr>
              <a:xfrm>
                <a:off x="4149000" y="219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325"/>
              <p:cNvSpPr/>
              <p:nvPr/>
            </p:nvSpPr>
            <p:spPr>
              <a:xfrm>
                <a:off x="414900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326"/>
              <p:cNvSpPr/>
              <p:nvPr/>
            </p:nvSpPr>
            <p:spPr>
              <a:xfrm>
                <a:off x="415008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327"/>
              <p:cNvSpPr/>
              <p:nvPr/>
            </p:nvSpPr>
            <p:spPr>
              <a:xfrm>
                <a:off x="4150080" y="219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328"/>
              <p:cNvSpPr/>
              <p:nvPr/>
            </p:nvSpPr>
            <p:spPr>
              <a:xfrm>
                <a:off x="415116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329"/>
              <p:cNvSpPr/>
              <p:nvPr/>
            </p:nvSpPr>
            <p:spPr>
              <a:xfrm>
                <a:off x="415260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330"/>
              <p:cNvSpPr/>
              <p:nvPr/>
            </p:nvSpPr>
            <p:spPr>
              <a:xfrm>
                <a:off x="4152600" y="219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331"/>
              <p:cNvSpPr/>
              <p:nvPr/>
            </p:nvSpPr>
            <p:spPr>
              <a:xfrm>
                <a:off x="415368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Line 332"/>
              <p:cNvSpPr/>
              <p:nvPr/>
            </p:nvSpPr>
            <p:spPr>
              <a:xfrm>
                <a:off x="415476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333"/>
              <p:cNvSpPr/>
              <p:nvPr/>
            </p:nvSpPr>
            <p:spPr>
              <a:xfrm>
                <a:off x="4154760" y="219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334"/>
              <p:cNvSpPr/>
              <p:nvPr/>
            </p:nvSpPr>
            <p:spPr>
              <a:xfrm>
                <a:off x="415584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Line 335"/>
              <p:cNvSpPr/>
              <p:nvPr/>
            </p:nvSpPr>
            <p:spPr>
              <a:xfrm>
                <a:off x="4156920" y="21931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336"/>
              <p:cNvSpPr/>
              <p:nvPr/>
            </p:nvSpPr>
            <p:spPr>
              <a:xfrm>
                <a:off x="415692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337"/>
              <p:cNvSpPr/>
              <p:nvPr/>
            </p:nvSpPr>
            <p:spPr>
              <a:xfrm>
                <a:off x="415836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Line 338"/>
              <p:cNvSpPr/>
              <p:nvPr/>
            </p:nvSpPr>
            <p:spPr>
              <a:xfrm>
                <a:off x="4158360" y="21931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339"/>
              <p:cNvSpPr/>
              <p:nvPr/>
            </p:nvSpPr>
            <p:spPr>
              <a:xfrm>
                <a:off x="415944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340"/>
              <p:cNvSpPr/>
              <p:nvPr/>
            </p:nvSpPr>
            <p:spPr>
              <a:xfrm>
                <a:off x="416088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Line 341"/>
              <p:cNvSpPr/>
              <p:nvPr/>
            </p:nvSpPr>
            <p:spPr>
              <a:xfrm>
                <a:off x="4160880" y="21942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342"/>
              <p:cNvSpPr/>
              <p:nvPr/>
            </p:nvSpPr>
            <p:spPr>
              <a:xfrm>
                <a:off x="416196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343"/>
              <p:cNvSpPr/>
              <p:nvPr/>
            </p:nvSpPr>
            <p:spPr>
              <a:xfrm>
                <a:off x="416340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344"/>
              <p:cNvSpPr/>
              <p:nvPr/>
            </p:nvSpPr>
            <p:spPr>
              <a:xfrm>
                <a:off x="416448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345"/>
              <p:cNvSpPr/>
              <p:nvPr/>
            </p:nvSpPr>
            <p:spPr>
              <a:xfrm>
                <a:off x="416448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346"/>
              <p:cNvSpPr/>
              <p:nvPr/>
            </p:nvSpPr>
            <p:spPr>
              <a:xfrm>
                <a:off x="416556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347"/>
              <p:cNvSpPr/>
              <p:nvPr/>
            </p:nvSpPr>
            <p:spPr>
              <a:xfrm>
                <a:off x="416664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348"/>
              <p:cNvSpPr/>
              <p:nvPr/>
            </p:nvSpPr>
            <p:spPr>
              <a:xfrm>
                <a:off x="416664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349"/>
              <p:cNvSpPr/>
              <p:nvPr/>
            </p:nvSpPr>
            <p:spPr>
              <a:xfrm>
                <a:off x="416772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50"/>
              <p:cNvSpPr/>
              <p:nvPr/>
            </p:nvSpPr>
            <p:spPr>
              <a:xfrm>
                <a:off x="416916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51"/>
              <p:cNvSpPr/>
              <p:nvPr/>
            </p:nvSpPr>
            <p:spPr>
              <a:xfrm>
                <a:off x="416916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52"/>
              <p:cNvSpPr/>
              <p:nvPr/>
            </p:nvSpPr>
            <p:spPr>
              <a:xfrm>
                <a:off x="417132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53"/>
              <p:cNvSpPr/>
              <p:nvPr/>
            </p:nvSpPr>
            <p:spPr>
              <a:xfrm>
                <a:off x="417132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54"/>
              <p:cNvSpPr/>
              <p:nvPr/>
            </p:nvSpPr>
            <p:spPr>
              <a:xfrm>
                <a:off x="417276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55"/>
              <p:cNvSpPr/>
              <p:nvPr/>
            </p:nvSpPr>
            <p:spPr>
              <a:xfrm>
                <a:off x="417384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56"/>
              <p:cNvSpPr/>
              <p:nvPr/>
            </p:nvSpPr>
            <p:spPr>
              <a:xfrm>
                <a:off x="417384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57"/>
              <p:cNvSpPr/>
              <p:nvPr/>
            </p:nvSpPr>
            <p:spPr>
              <a:xfrm>
                <a:off x="417528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58"/>
              <p:cNvSpPr/>
              <p:nvPr/>
            </p:nvSpPr>
            <p:spPr>
              <a:xfrm>
                <a:off x="4175280" y="2198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59"/>
              <p:cNvSpPr/>
              <p:nvPr/>
            </p:nvSpPr>
            <p:spPr>
              <a:xfrm>
                <a:off x="4176360" y="219888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60"/>
              <p:cNvSpPr/>
              <p:nvPr/>
            </p:nvSpPr>
            <p:spPr>
              <a:xfrm>
                <a:off x="4181040" y="21999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61"/>
              <p:cNvSpPr/>
              <p:nvPr/>
            </p:nvSpPr>
            <p:spPr>
              <a:xfrm>
                <a:off x="4185720" y="220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3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62"/>
              <p:cNvSpPr/>
              <p:nvPr/>
            </p:nvSpPr>
            <p:spPr>
              <a:xfrm>
                <a:off x="4188240" y="2202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63"/>
              <p:cNvSpPr/>
              <p:nvPr/>
            </p:nvSpPr>
            <p:spPr>
              <a:xfrm>
                <a:off x="4189320" y="2202480"/>
                <a:ext cx="14040" cy="4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5" h="44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4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2"/>
                    </a:lnTo>
                    <a:lnTo>
                      <a:pt x="83" y="24"/>
                    </a:lnTo>
                    <a:lnTo>
                      <a:pt x="85" y="24"/>
                    </a:lnTo>
                    <a:lnTo>
                      <a:pt x="88" y="24"/>
                    </a:lnTo>
                    <a:lnTo>
                      <a:pt x="90" y="27"/>
                    </a:lnTo>
                    <a:lnTo>
                      <a:pt x="93" y="27"/>
                    </a:lnTo>
                    <a:lnTo>
                      <a:pt x="95" y="27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8" y="32"/>
                    </a:lnTo>
                    <a:lnTo>
                      <a:pt x="110" y="32"/>
                    </a:lnTo>
                    <a:lnTo>
                      <a:pt x="113" y="32"/>
                    </a:lnTo>
                    <a:lnTo>
                      <a:pt x="115" y="34"/>
                    </a:lnTo>
                    <a:lnTo>
                      <a:pt x="118" y="34"/>
                    </a:lnTo>
                    <a:lnTo>
                      <a:pt x="120" y="34"/>
                    </a:lnTo>
                    <a:lnTo>
                      <a:pt x="123" y="34"/>
                    </a:lnTo>
                    <a:lnTo>
                      <a:pt x="125" y="37"/>
                    </a:lnTo>
                    <a:lnTo>
                      <a:pt x="128" y="37"/>
                    </a:lnTo>
                    <a:lnTo>
                      <a:pt x="130" y="37"/>
                    </a:lnTo>
                    <a:lnTo>
                      <a:pt x="132" y="39"/>
                    </a:lnTo>
                    <a:lnTo>
                      <a:pt x="135" y="39"/>
                    </a:lnTo>
                    <a:lnTo>
                      <a:pt x="137" y="39"/>
                    </a:lnTo>
                    <a:lnTo>
                      <a:pt x="140" y="42"/>
                    </a:lnTo>
                    <a:lnTo>
                      <a:pt x="142" y="42"/>
                    </a:lnTo>
                    <a:lnTo>
                      <a:pt x="145" y="42"/>
                    </a:lnTo>
                    <a:lnTo>
                      <a:pt x="147" y="42"/>
                    </a:lnTo>
                    <a:lnTo>
                      <a:pt x="150" y="44"/>
                    </a:lnTo>
                    <a:lnTo>
                      <a:pt x="152" y="44"/>
                    </a:lnTo>
                    <a:lnTo>
                      <a:pt x="155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64"/>
              <p:cNvSpPr/>
              <p:nvPr/>
            </p:nvSpPr>
            <p:spPr>
              <a:xfrm>
                <a:off x="4219200" y="2210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365"/>
              <p:cNvSpPr/>
              <p:nvPr/>
            </p:nvSpPr>
            <p:spPr>
              <a:xfrm>
                <a:off x="4231080" y="221544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3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366"/>
              <p:cNvSpPr/>
              <p:nvPr/>
            </p:nvSpPr>
            <p:spPr>
              <a:xfrm>
                <a:off x="4233600" y="2215440"/>
                <a:ext cx="14040" cy="468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4" h="4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70" y="20"/>
                    </a:lnTo>
                    <a:lnTo>
                      <a:pt x="72" y="20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2" y="25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92" y="27"/>
                    </a:lnTo>
                    <a:lnTo>
                      <a:pt x="94" y="27"/>
                    </a:lnTo>
                    <a:lnTo>
                      <a:pt x="97" y="27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4" y="30"/>
                    </a:lnTo>
                    <a:lnTo>
                      <a:pt x="107" y="32"/>
                    </a:lnTo>
                    <a:lnTo>
                      <a:pt x="109" y="32"/>
                    </a:lnTo>
                    <a:lnTo>
                      <a:pt x="112" y="32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19" y="35"/>
                    </a:lnTo>
                    <a:lnTo>
                      <a:pt x="122" y="35"/>
                    </a:lnTo>
                    <a:lnTo>
                      <a:pt x="124" y="37"/>
                    </a:lnTo>
                    <a:lnTo>
                      <a:pt x="127" y="37"/>
                    </a:lnTo>
                    <a:lnTo>
                      <a:pt x="129" y="37"/>
                    </a:lnTo>
                    <a:lnTo>
                      <a:pt x="132" y="40"/>
                    </a:lnTo>
                    <a:lnTo>
                      <a:pt x="134" y="40"/>
                    </a:lnTo>
                    <a:lnTo>
                      <a:pt x="137" y="40"/>
                    </a:lnTo>
                    <a:lnTo>
                      <a:pt x="139" y="42"/>
                    </a:lnTo>
                    <a:lnTo>
                      <a:pt x="142" y="42"/>
                    </a:lnTo>
                    <a:lnTo>
                      <a:pt x="144" y="42"/>
                    </a:lnTo>
                    <a:lnTo>
                      <a:pt x="146" y="42"/>
                    </a:lnTo>
                    <a:lnTo>
                      <a:pt x="149" y="45"/>
                    </a:lnTo>
                    <a:lnTo>
                      <a:pt x="151" y="45"/>
                    </a:lnTo>
                    <a:lnTo>
                      <a:pt x="15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67"/>
              <p:cNvSpPr/>
              <p:nvPr/>
            </p:nvSpPr>
            <p:spPr>
              <a:xfrm>
                <a:off x="4293000" y="2233440"/>
                <a:ext cx="19080" cy="5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09" h="62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55" y="17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72" y="22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80" y="24"/>
                    </a:lnTo>
                    <a:lnTo>
                      <a:pt x="82" y="24"/>
                    </a:lnTo>
                    <a:lnTo>
                      <a:pt x="85" y="24"/>
                    </a:lnTo>
                    <a:lnTo>
                      <a:pt x="90" y="27"/>
                    </a:lnTo>
                    <a:lnTo>
                      <a:pt x="92" y="27"/>
                    </a:lnTo>
                    <a:lnTo>
                      <a:pt x="97" y="29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5" y="32"/>
                    </a:lnTo>
                    <a:lnTo>
                      <a:pt x="107" y="32"/>
                    </a:lnTo>
                    <a:lnTo>
                      <a:pt x="110" y="32"/>
                    </a:lnTo>
                    <a:lnTo>
                      <a:pt x="115" y="34"/>
                    </a:lnTo>
                    <a:lnTo>
                      <a:pt x="117" y="34"/>
                    </a:lnTo>
                    <a:lnTo>
                      <a:pt x="122" y="37"/>
                    </a:lnTo>
                    <a:lnTo>
                      <a:pt x="125" y="37"/>
                    </a:lnTo>
                    <a:lnTo>
                      <a:pt x="127" y="37"/>
                    </a:lnTo>
                    <a:lnTo>
                      <a:pt x="129" y="39"/>
                    </a:lnTo>
                    <a:lnTo>
                      <a:pt x="132" y="39"/>
                    </a:lnTo>
                    <a:lnTo>
                      <a:pt x="134" y="39"/>
                    </a:lnTo>
                    <a:lnTo>
                      <a:pt x="139" y="42"/>
                    </a:lnTo>
                    <a:lnTo>
                      <a:pt x="142" y="42"/>
                    </a:lnTo>
                    <a:lnTo>
                      <a:pt x="144" y="42"/>
                    </a:lnTo>
                    <a:lnTo>
                      <a:pt x="147" y="44"/>
                    </a:lnTo>
                    <a:lnTo>
                      <a:pt x="149" y="44"/>
                    </a:lnTo>
                    <a:lnTo>
                      <a:pt x="152" y="44"/>
                    </a:lnTo>
                    <a:lnTo>
                      <a:pt x="154" y="47"/>
                    </a:lnTo>
                    <a:lnTo>
                      <a:pt x="157" y="47"/>
                    </a:lnTo>
                    <a:lnTo>
                      <a:pt x="159" y="47"/>
                    </a:lnTo>
                    <a:lnTo>
                      <a:pt x="164" y="49"/>
                    </a:lnTo>
                    <a:lnTo>
                      <a:pt x="167" y="49"/>
                    </a:lnTo>
                    <a:lnTo>
                      <a:pt x="169" y="49"/>
                    </a:lnTo>
                    <a:lnTo>
                      <a:pt x="172" y="52"/>
                    </a:lnTo>
                    <a:lnTo>
                      <a:pt x="174" y="52"/>
                    </a:lnTo>
                    <a:lnTo>
                      <a:pt x="177" y="52"/>
                    </a:lnTo>
                    <a:lnTo>
                      <a:pt x="182" y="54"/>
                    </a:lnTo>
                    <a:lnTo>
                      <a:pt x="184" y="54"/>
                    </a:lnTo>
                    <a:lnTo>
                      <a:pt x="189" y="57"/>
                    </a:lnTo>
                    <a:lnTo>
                      <a:pt x="192" y="57"/>
                    </a:lnTo>
                    <a:lnTo>
                      <a:pt x="194" y="57"/>
                    </a:lnTo>
                    <a:lnTo>
                      <a:pt x="196" y="59"/>
                    </a:lnTo>
                    <a:lnTo>
                      <a:pt x="199" y="59"/>
                    </a:lnTo>
                    <a:lnTo>
                      <a:pt x="201" y="59"/>
                    </a:lnTo>
                    <a:lnTo>
                      <a:pt x="206" y="62"/>
                    </a:lnTo>
                    <a:lnTo>
                      <a:pt x="209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68"/>
              <p:cNvSpPr/>
              <p:nvPr/>
            </p:nvSpPr>
            <p:spPr>
              <a:xfrm>
                <a:off x="4348800" y="2250000"/>
                <a:ext cx="16560" cy="4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3" h="57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7" y="12"/>
                    </a:lnTo>
                    <a:lnTo>
                      <a:pt x="52" y="15"/>
                    </a:lnTo>
                    <a:lnTo>
                      <a:pt x="54" y="15"/>
                    </a:lnTo>
                    <a:lnTo>
                      <a:pt x="59" y="17"/>
                    </a:lnTo>
                    <a:lnTo>
                      <a:pt x="62" y="17"/>
                    </a:lnTo>
                    <a:lnTo>
                      <a:pt x="64" y="17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0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4" y="25"/>
                    </a:lnTo>
                    <a:lnTo>
                      <a:pt x="86" y="25"/>
                    </a:lnTo>
                    <a:lnTo>
                      <a:pt x="89" y="25"/>
                    </a:lnTo>
                    <a:lnTo>
                      <a:pt x="91" y="27"/>
                    </a:lnTo>
                    <a:lnTo>
                      <a:pt x="94" y="27"/>
                    </a:lnTo>
                    <a:lnTo>
                      <a:pt x="96" y="27"/>
                    </a:lnTo>
                    <a:lnTo>
                      <a:pt x="101" y="30"/>
                    </a:lnTo>
                    <a:lnTo>
                      <a:pt x="104" y="30"/>
                    </a:lnTo>
                    <a:lnTo>
                      <a:pt x="109" y="32"/>
                    </a:lnTo>
                    <a:lnTo>
                      <a:pt x="111" y="32"/>
                    </a:lnTo>
                    <a:lnTo>
                      <a:pt x="114" y="32"/>
                    </a:lnTo>
                    <a:lnTo>
                      <a:pt x="116" y="35"/>
                    </a:lnTo>
                    <a:lnTo>
                      <a:pt x="119" y="35"/>
                    </a:lnTo>
                    <a:lnTo>
                      <a:pt x="121" y="35"/>
                    </a:lnTo>
                    <a:lnTo>
                      <a:pt x="126" y="37"/>
                    </a:lnTo>
                    <a:lnTo>
                      <a:pt x="129" y="37"/>
                    </a:lnTo>
                    <a:lnTo>
                      <a:pt x="134" y="40"/>
                    </a:lnTo>
                    <a:lnTo>
                      <a:pt x="136" y="40"/>
                    </a:lnTo>
                    <a:lnTo>
                      <a:pt x="139" y="40"/>
                    </a:lnTo>
                    <a:lnTo>
                      <a:pt x="141" y="42"/>
                    </a:lnTo>
                    <a:lnTo>
                      <a:pt x="144" y="42"/>
                    </a:lnTo>
                    <a:lnTo>
                      <a:pt x="146" y="42"/>
                    </a:lnTo>
                    <a:lnTo>
                      <a:pt x="151" y="45"/>
                    </a:lnTo>
                    <a:lnTo>
                      <a:pt x="153" y="45"/>
                    </a:lnTo>
                    <a:lnTo>
                      <a:pt x="158" y="47"/>
                    </a:lnTo>
                    <a:lnTo>
                      <a:pt x="161" y="47"/>
                    </a:lnTo>
                    <a:lnTo>
                      <a:pt x="163" y="47"/>
                    </a:lnTo>
                    <a:lnTo>
                      <a:pt x="166" y="50"/>
                    </a:lnTo>
                    <a:lnTo>
                      <a:pt x="168" y="50"/>
                    </a:lnTo>
                    <a:lnTo>
                      <a:pt x="171" y="50"/>
                    </a:lnTo>
                    <a:lnTo>
                      <a:pt x="176" y="52"/>
                    </a:lnTo>
                    <a:lnTo>
                      <a:pt x="178" y="52"/>
                    </a:lnTo>
                    <a:lnTo>
                      <a:pt x="183" y="54"/>
                    </a:lnTo>
                    <a:lnTo>
                      <a:pt x="186" y="54"/>
                    </a:lnTo>
                    <a:lnTo>
                      <a:pt x="188" y="54"/>
                    </a:lnTo>
                    <a:lnTo>
                      <a:pt x="191" y="57"/>
                    </a:lnTo>
                    <a:lnTo>
                      <a:pt x="193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369"/>
              <p:cNvSpPr/>
              <p:nvPr/>
            </p:nvSpPr>
            <p:spPr>
              <a:xfrm>
                <a:off x="4463280" y="22845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370"/>
              <p:cNvSpPr/>
              <p:nvPr/>
            </p:nvSpPr>
            <p:spPr>
              <a:xfrm>
                <a:off x="4465800" y="2284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71"/>
              <p:cNvSpPr/>
              <p:nvPr/>
            </p:nvSpPr>
            <p:spPr>
              <a:xfrm>
                <a:off x="4467960" y="2286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72"/>
              <p:cNvSpPr/>
              <p:nvPr/>
            </p:nvSpPr>
            <p:spPr>
              <a:xfrm>
                <a:off x="4467960" y="2286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73"/>
              <p:cNvSpPr/>
              <p:nvPr/>
            </p:nvSpPr>
            <p:spPr>
              <a:xfrm>
                <a:off x="4469040" y="22860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74"/>
              <p:cNvSpPr/>
              <p:nvPr/>
            </p:nvSpPr>
            <p:spPr>
              <a:xfrm>
                <a:off x="447156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75"/>
              <p:cNvSpPr/>
              <p:nvPr/>
            </p:nvSpPr>
            <p:spPr>
              <a:xfrm>
                <a:off x="4471560" y="228708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76"/>
              <p:cNvSpPr/>
              <p:nvPr/>
            </p:nvSpPr>
            <p:spPr>
              <a:xfrm>
                <a:off x="447372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77"/>
              <p:cNvSpPr/>
              <p:nvPr/>
            </p:nvSpPr>
            <p:spPr>
              <a:xfrm>
                <a:off x="447372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78"/>
              <p:cNvSpPr/>
              <p:nvPr/>
            </p:nvSpPr>
            <p:spPr>
              <a:xfrm>
                <a:off x="447624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79"/>
              <p:cNvSpPr/>
              <p:nvPr/>
            </p:nvSpPr>
            <p:spPr>
              <a:xfrm>
                <a:off x="447624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80"/>
              <p:cNvSpPr/>
              <p:nvPr/>
            </p:nvSpPr>
            <p:spPr>
              <a:xfrm>
                <a:off x="447876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81"/>
              <p:cNvSpPr/>
              <p:nvPr/>
            </p:nvSpPr>
            <p:spPr>
              <a:xfrm>
                <a:off x="447876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82"/>
              <p:cNvSpPr/>
              <p:nvPr/>
            </p:nvSpPr>
            <p:spPr>
              <a:xfrm>
                <a:off x="447984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83"/>
              <p:cNvSpPr/>
              <p:nvPr/>
            </p:nvSpPr>
            <p:spPr>
              <a:xfrm>
                <a:off x="447984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84"/>
              <p:cNvSpPr/>
              <p:nvPr/>
            </p:nvSpPr>
            <p:spPr>
              <a:xfrm>
                <a:off x="448092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85"/>
              <p:cNvSpPr/>
              <p:nvPr/>
            </p:nvSpPr>
            <p:spPr>
              <a:xfrm>
                <a:off x="448200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86"/>
              <p:cNvSpPr/>
              <p:nvPr/>
            </p:nvSpPr>
            <p:spPr>
              <a:xfrm>
                <a:off x="448344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87"/>
              <p:cNvSpPr/>
              <p:nvPr/>
            </p:nvSpPr>
            <p:spPr>
              <a:xfrm>
                <a:off x="448452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88"/>
              <p:cNvSpPr/>
              <p:nvPr/>
            </p:nvSpPr>
            <p:spPr>
              <a:xfrm>
                <a:off x="448452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89"/>
              <p:cNvSpPr/>
              <p:nvPr/>
            </p:nvSpPr>
            <p:spPr>
              <a:xfrm>
                <a:off x="448704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90"/>
              <p:cNvSpPr/>
              <p:nvPr/>
            </p:nvSpPr>
            <p:spPr>
              <a:xfrm>
                <a:off x="448704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91"/>
              <p:cNvSpPr/>
              <p:nvPr/>
            </p:nvSpPr>
            <p:spPr>
              <a:xfrm>
                <a:off x="448812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92"/>
              <p:cNvSpPr/>
              <p:nvPr/>
            </p:nvSpPr>
            <p:spPr>
              <a:xfrm>
                <a:off x="448956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93"/>
              <p:cNvSpPr/>
              <p:nvPr/>
            </p:nvSpPr>
            <p:spPr>
              <a:xfrm>
                <a:off x="449064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94"/>
              <p:cNvSpPr/>
              <p:nvPr/>
            </p:nvSpPr>
            <p:spPr>
              <a:xfrm>
                <a:off x="449064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95"/>
              <p:cNvSpPr/>
              <p:nvPr/>
            </p:nvSpPr>
            <p:spPr>
              <a:xfrm>
                <a:off x="449172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96"/>
              <p:cNvSpPr/>
              <p:nvPr/>
            </p:nvSpPr>
            <p:spPr>
              <a:xfrm>
                <a:off x="449280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97"/>
              <p:cNvSpPr/>
              <p:nvPr/>
            </p:nvSpPr>
            <p:spPr>
              <a:xfrm>
                <a:off x="449280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98"/>
              <p:cNvSpPr/>
              <p:nvPr/>
            </p:nvSpPr>
            <p:spPr>
              <a:xfrm>
                <a:off x="449388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99"/>
              <p:cNvSpPr/>
              <p:nvPr/>
            </p:nvSpPr>
            <p:spPr>
              <a:xfrm>
                <a:off x="4495320" y="2294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400"/>
              <p:cNvSpPr/>
              <p:nvPr/>
            </p:nvSpPr>
            <p:spPr>
              <a:xfrm>
                <a:off x="4497840" y="2294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401"/>
              <p:cNvSpPr/>
              <p:nvPr/>
            </p:nvSpPr>
            <p:spPr>
              <a:xfrm>
                <a:off x="449892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402"/>
              <p:cNvSpPr/>
              <p:nvPr/>
            </p:nvSpPr>
            <p:spPr>
              <a:xfrm>
                <a:off x="450000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403"/>
              <p:cNvSpPr/>
              <p:nvPr/>
            </p:nvSpPr>
            <p:spPr>
              <a:xfrm>
                <a:off x="450000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404"/>
              <p:cNvSpPr/>
              <p:nvPr/>
            </p:nvSpPr>
            <p:spPr>
              <a:xfrm>
                <a:off x="450144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405"/>
              <p:cNvSpPr/>
              <p:nvPr/>
            </p:nvSpPr>
            <p:spPr>
              <a:xfrm>
                <a:off x="450144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406"/>
              <p:cNvSpPr/>
              <p:nvPr/>
            </p:nvSpPr>
            <p:spPr>
              <a:xfrm>
                <a:off x="450252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407"/>
              <p:cNvSpPr/>
              <p:nvPr/>
            </p:nvSpPr>
            <p:spPr>
              <a:xfrm>
                <a:off x="450360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408"/>
              <p:cNvSpPr/>
              <p:nvPr/>
            </p:nvSpPr>
            <p:spPr>
              <a:xfrm>
                <a:off x="450360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409"/>
              <p:cNvSpPr/>
              <p:nvPr/>
            </p:nvSpPr>
            <p:spPr>
              <a:xfrm>
                <a:off x="450468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410"/>
              <p:cNvSpPr/>
              <p:nvPr/>
            </p:nvSpPr>
            <p:spPr>
              <a:xfrm>
                <a:off x="450612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411"/>
              <p:cNvSpPr/>
              <p:nvPr/>
            </p:nvSpPr>
            <p:spPr>
              <a:xfrm>
                <a:off x="450612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412"/>
              <p:cNvSpPr/>
              <p:nvPr/>
            </p:nvSpPr>
            <p:spPr>
              <a:xfrm>
                <a:off x="450720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413"/>
              <p:cNvSpPr/>
              <p:nvPr/>
            </p:nvSpPr>
            <p:spPr>
              <a:xfrm>
                <a:off x="450828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414"/>
              <p:cNvSpPr/>
              <p:nvPr/>
            </p:nvSpPr>
            <p:spPr>
              <a:xfrm>
                <a:off x="450828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415"/>
              <p:cNvSpPr/>
              <p:nvPr/>
            </p:nvSpPr>
            <p:spPr>
              <a:xfrm>
                <a:off x="450972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416"/>
              <p:cNvSpPr/>
              <p:nvPr/>
            </p:nvSpPr>
            <p:spPr>
              <a:xfrm>
                <a:off x="4510800" y="2298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417"/>
              <p:cNvSpPr/>
              <p:nvPr/>
            </p:nvSpPr>
            <p:spPr>
              <a:xfrm>
                <a:off x="4512240" y="2298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418"/>
              <p:cNvSpPr/>
              <p:nvPr/>
            </p:nvSpPr>
            <p:spPr>
              <a:xfrm>
                <a:off x="4568040" y="2315520"/>
                <a:ext cx="3240" cy="1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2" h="10">
                    <a:moveTo>
                      <a:pt x="0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Line 419"/>
              <p:cNvSpPr/>
              <p:nvPr/>
            </p:nvSpPr>
            <p:spPr>
              <a:xfrm>
                <a:off x="3362040" y="1722600"/>
                <a:ext cx="8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l de la Función de Activ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9" name="Oval 421"/>
          <p:cNvSpPr/>
          <p:nvPr/>
        </p:nvSpPr>
        <p:spPr>
          <a:xfrm>
            <a:off x="6167520" y="2662200"/>
            <a:ext cx="2138400" cy="213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422"/>
          <p:cNvGrpSpPr/>
          <p:nvPr/>
        </p:nvGrpSpPr>
        <p:grpSpPr>
          <a:xfrm>
            <a:off x="6332400" y="3164040"/>
            <a:ext cx="1892520" cy="1450800"/>
            <a:chOff x="6332400" y="3164040"/>
            <a:chExt cx="1892520" cy="1450800"/>
          </a:xfrm>
        </p:grpSpPr>
        <p:sp>
          <p:nvSpPr>
            <p:cNvPr id="1851" name="Freeform 423"/>
            <p:cNvSpPr/>
            <p:nvPr/>
          </p:nvSpPr>
          <p:spPr>
            <a:xfrm>
              <a:off x="6345360" y="3324240"/>
              <a:ext cx="1027080" cy="129060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7764" h="9754">
                  <a:moveTo>
                    <a:pt x="7764" y="9720"/>
                  </a:moveTo>
                  <a:lnTo>
                    <a:pt x="7352" y="9754"/>
                  </a:lnTo>
                  <a:lnTo>
                    <a:pt x="6943" y="9727"/>
                  </a:lnTo>
                  <a:lnTo>
                    <a:pt x="6539" y="9655"/>
                  </a:lnTo>
                  <a:lnTo>
                    <a:pt x="6135" y="9547"/>
                  </a:lnTo>
                  <a:lnTo>
                    <a:pt x="5732" y="9410"/>
                  </a:lnTo>
                  <a:lnTo>
                    <a:pt x="5333" y="9239"/>
                  </a:lnTo>
                  <a:lnTo>
                    <a:pt x="4938" y="9015"/>
                  </a:lnTo>
                  <a:lnTo>
                    <a:pt x="4545" y="8711"/>
                  </a:lnTo>
                  <a:lnTo>
                    <a:pt x="4152" y="8281"/>
                  </a:lnTo>
                  <a:lnTo>
                    <a:pt x="3765" y="7668"/>
                  </a:lnTo>
                  <a:lnTo>
                    <a:pt x="3378" y="6818"/>
                  </a:lnTo>
                  <a:lnTo>
                    <a:pt x="2993" y="5726"/>
                  </a:lnTo>
                  <a:lnTo>
                    <a:pt x="2610" y="4465"/>
                  </a:lnTo>
                  <a:lnTo>
                    <a:pt x="2231" y="3195"/>
                  </a:lnTo>
                  <a:lnTo>
                    <a:pt x="1854" y="2109"/>
                  </a:lnTo>
                  <a:lnTo>
                    <a:pt x="1477" y="1302"/>
                  </a:lnTo>
                  <a:lnTo>
                    <a:pt x="1106" y="761"/>
                  </a:lnTo>
                  <a:lnTo>
                    <a:pt x="735" y="409"/>
                  </a:lnTo>
                  <a:lnTo>
                    <a:pt x="366" y="17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424"/>
            <p:cNvSpPr/>
            <p:nvPr/>
          </p:nvSpPr>
          <p:spPr>
            <a:xfrm>
              <a:off x="7372440" y="3649680"/>
              <a:ext cx="852480" cy="96048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6441" h="7265">
                  <a:moveTo>
                    <a:pt x="6441" y="0"/>
                  </a:moveTo>
                  <a:lnTo>
                    <a:pt x="6140" y="316"/>
                  </a:lnTo>
                  <a:lnTo>
                    <a:pt x="5838" y="601"/>
                  </a:lnTo>
                  <a:lnTo>
                    <a:pt x="5532" y="858"/>
                  </a:lnTo>
                  <a:lnTo>
                    <a:pt x="5225" y="1096"/>
                  </a:lnTo>
                  <a:lnTo>
                    <a:pt x="4916" y="1313"/>
                  </a:lnTo>
                  <a:lnTo>
                    <a:pt x="4606" y="1517"/>
                  </a:lnTo>
                  <a:lnTo>
                    <a:pt x="4291" y="1717"/>
                  </a:lnTo>
                  <a:lnTo>
                    <a:pt x="3976" y="1916"/>
                  </a:lnTo>
                  <a:lnTo>
                    <a:pt x="3656" y="2125"/>
                  </a:lnTo>
                  <a:lnTo>
                    <a:pt x="3336" y="2357"/>
                  </a:lnTo>
                  <a:lnTo>
                    <a:pt x="3013" y="2623"/>
                  </a:lnTo>
                  <a:lnTo>
                    <a:pt x="2687" y="2948"/>
                  </a:lnTo>
                  <a:lnTo>
                    <a:pt x="2362" y="3351"/>
                  </a:lnTo>
                  <a:lnTo>
                    <a:pt x="2031" y="3849"/>
                  </a:lnTo>
                  <a:lnTo>
                    <a:pt x="1697" y="4436"/>
                  </a:lnTo>
                  <a:lnTo>
                    <a:pt x="1363" y="5081"/>
                  </a:lnTo>
                  <a:lnTo>
                    <a:pt x="1027" y="5732"/>
                  </a:lnTo>
                  <a:lnTo>
                    <a:pt x="686" y="6332"/>
                  </a:lnTo>
                  <a:lnTo>
                    <a:pt x="343" y="6842"/>
                  </a:lnTo>
                  <a:lnTo>
                    <a:pt x="0" y="726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425"/>
            <p:cNvSpPr/>
            <p:nvPr/>
          </p:nvSpPr>
          <p:spPr>
            <a:xfrm>
              <a:off x="7318440" y="4554360"/>
              <a:ext cx="100080" cy="60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55" h="457">
                  <a:moveTo>
                    <a:pt x="755" y="0"/>
                  </a:moveTo>
                  <a:lnTo>
                    <a:pt x="347" y="118"/>
                  </a:lnTo>
                  <a:lnTo>
                    <a:pt x="0" y="45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426"/>
            <p:cNvSpPr/>
            <p:nvPr/>
          </p:nvSpPr>
          <p:spPr>
            <a:xfrm>
              <a:off x="7264440" y="4486320"/>
              <a:ext cx="198360" cy="125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05" h="940">
                  <a:moveTo>
                    <a:pt x="0" y="940"/>
                  </a:moveTo>
                  <a:lnTo>
                    <a:pt x="345" y="661"/>
                  </a:lnTo>
                  <a:lnTo>
                    <a:pt x="754" y="628"/>
                  </a:lnTo>
                  <a:lnTo>
                    <a:pt x="1095" y="209"/>
                  </a:lnTo>
                  <a:lnTo>
                    <a:pt x="1502" y="2"/>
                  </a:lnTo>
                  <a:lnTo>
                    <a:pt x="1505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427"/>
            <p:cNvSpPr/>
            <p:nvPr/>
          </p:nvSpPr>
          <p:spPr>
            <a:xfrm>
              <a:off x="7210440" y="4406760"/>
              <a:ext cx="297000" cy="1954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249" h="1466">
                  <a:moveTo>
                    <a:pt x="2249" y="0"/>
                  </a:moveTo>
                  <a:lnTo>
                    <a:pt x="1840" y="297"/>
                  </a:lnTo>
                  <a:lnTo>
                    <a:pt x="1501" y="807"/>
                  </a:lnTo>
                  <a:lnTo>
                    <a:pt x="1092" y="920"/>
                  </a:lnTo>
                  <a:lnTo>
                    <a:pt x="751" y="1259"/>
                  </a:lnTo>
                  <a:lnTo>
                    <a:pt x="344" y="1226"/>
                  </a:lnTo>
                  <a:lnTo>
                    <a:pt x="0" y="146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428"/>
            <p:cNvSpPr/>
            <p:nvPr/>
          </p:nvSpPr>
          <p:spPr>
            <a:xfrm>
              <a:off x="7156440" y="4321080"/>
              <a:ext cx="396720" cy="266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989" h="2011">
                  <a:moveTo>
                    <a:pt x="0" y="2011"/>
                  </a:moveTo>
                  <a:lnTo>
                    <a:pt x="342" y="1796"/>
                  </a:lnTo>
                  <a:lnTo>
                    <a:pt x="745" y="1879"/>
                  </a:lnTo>
                  <a:lnTo>
                    <a:pt x="1090" y="1598"/>
                  </a:lnTo>
                  <a:lnTo>
                    <a:pt x="1493" y="1573"/>
                  </a:lnTo>
                  <a:lnTo>
                    <a:pt x="1835" y="1153"/>
                  </a:lnTo>
                  <a:lnTo>
                    <a:pt x="2241" y="950"/>
                  </a:lnTo>
                  <a:lnTo>
                    <a:pt x="2581" y="355"/>
                  </a:lnTo>
                  <a:lnTo>
                    <a:pt x="298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429"/>
            <p:cNvSpPr/>
            <p:nvPr/>
          </p:nvSpPr>
          <p:spPr>
            <a:xfrm>
              <a:off x="7104240" y="4237200"/>
              <a:ext cx="492120" cy="33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3726" h="2517">
                  <a:moveTo>
                    <a:pt x="3726" y="0"/>
                  </a:moveTo>
                  <a:lnTo>
                    <a:pt x="3323" y="350"/>
                  </a:lnTo>
                  <a:lnTo>
                    <a:pt x="2987" y="998"/>
                  </a:lnTo>
                  <a:lnTo>
                    <a:pt x="2580" y="1288"/>
                  </a:lnTo>
                  <a:lnTo>
                    <a:pt x="2241" y="1796"/>
                  </a:lnTo>
                  <a:lnTo>
                    <a:pt x="1838" y="1899"/>
                  </a:lnTo>
                  <a:lnTo>
                    <a:pt x="1496" y="2241"/>
                  </a:lnTo>
                  <a:lnTo>
                    <a:pt x="1092" y="2195"/>
                  </a:lnTo>
                  <a:lnTo>
                    <a:pt x="748" y="2439"/>
                  </a:lnTo>
                  <a:lnTo>
                    <a:pt x="347" y="2313"/>
                  </a:lnTo>
                  <a:lnTo>
                    <a:pt x="0" y="251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430"/>
            <p:cNvSpPr/>
            <p:nvPr/>
          </p:nvSpPr>
          <p:spPr>
            <a:xfrm>
              <a:off x="7051680" y="4157640"/>
              <a:ext cx="588960" cy="388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459" h="2935">
                  <a:moveTo>
                    <a:pt x="0" y="2935"/>
                  </a:moveTo>
                  <a:lnTo>
                    <a:pt x="344" y="2727"/>
                  </a:lnTo>
                  <a:lnTo>
                    <a:pt x="743" y="2902"/>
                  </a:lnTo>
                  <a:lnTo>
                    <a:pt x="1087" y="2674"/>
                  </a:lnTo>
                  <a:lnTo>
                    <a:pt x="1488" y="2784"/>
                  </a:lnTo>
                  <a:lnTo>
                    <a:pt x="1830" y="2493"/>
                  </a:lnTo>
                  <a:lnTo>
                    <a:pt x="2234" y="2488"/>
                  </a:lnTo>
                  <a:lnTo>
                    <a:pt x="2570" y="2066"/>
                  </a:lnTo>
                  <a:lnTo>
                    <a:pt x="2976" y="1877"/>
                  </a:lnTo>
                  <a:lnTo>
                    <a:pt x="3312" y="1280"/>
                  </a:lnTo>
                  <a:lnTo>
                    <a:pt x="3719" y="939"/>
                  </a:lnTo>
                  <a:lnTo>
                    <a:pt x="4049" y="293"/>
                  </a:lnTo>
                  <a:lnTo>
                    <a:pt x="445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431"/>
            <p:cNvSpPr/>
            <p:nvPr/>
          </p:nvSpPr>
          <p:spPr>
            <a:xfrm>
              <a:off x="6997680" y="4092480"/>
              <a:ext cx="687240" cy="42696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5188" h="3225">
                  <a:moveTo>
                    <a:pt x="5188" y="0"/>
                  </a:moveTo>
                  <a:lnTo>
                    <a:pt x="4779" y="202"/>
                  </a:lnTo>
                  <a:lnTo>
                    <a:pt x="4447" y="791"/>
                  </a:lnTo>
                  <a:lnTo>
                    <a:pt x="4042" y="1125"/>
                  </a:lnTo>
                  <a:lnTo>
                    <a:pt x="3710" y="1778"/>
                  </a:lnTo>
                  <a:lnTo>
                    <a:pt x="3305" y="2045"/>
                  </a:lnTo>
                  <a:lnTo>
                    <a:pt x="2968" y="2564"/>
                  </a:lnTo>
                  <a:lnTo>
                    <a:pt x="2567" y="2636"/>
                  </a:lnTo>
                  <a:lnTo>
                    <a:pt x="2228" y="2991"/>
                  </a:lnTo>
                  <a:lnTo>
                    <a:pt x="1829" y="2908"/>
                  </a:lnTo>
                  <a:lnTo>
                    <a:pt x="1485" y="3172"/>
                  </a:lnTo>
                  <a:lnTo>
                    <a:pt x="1090" y="2996"/>
                  </a:lnTo>
                  <a:lnTo>
                    <a:pt x="742" y="3225"/>
                  </a:lnTo>
                  <a:lnTo>
                    <a:pt x="346" y="2991"/>
                  </a:lnTo>
                  <a:lnTo>
                    <a:pt x="0" y="320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432"/>
            <p:cNvSpPr/>
            <p:nvPr/>
          </p:nvSpPr>
          <p:spPr>
            <a:xfrm>
              <a:off x="6946920" y="4038480"/>
              <a:ext cx="781200" cy="4510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5906" h="3399">
                  <a:moveTo>
                    <a:pt x="0" y="3308"/>
                  </a:moveTo>
                  <a:lnTo>
                    <a:pt x="347" y="3066"/>
                  </a:lnTo>
                  <a:lnTo>
                    <a:pt x="739" y="3394"/>
                  </a:lnTo>
                  <a:lnTo>
                    <a:pt x="1087" y="3150"/>
                  </a:lnTo>
                  <a:lnTo>
                    <a:pt x="1483" y="3399"/>
                  </a:lnTo>
                  <a:lnTo>
                    <a:pt x="1825" y="3141"/>
                  </a:lnTo>
                  <a:lnTo>
                    <a:pt x="2222" y="3311"/>
                  </a:lnTo>
                  <a:lnTo>
                    <a:pt x="2562" y="2996"/>
                  </a:lnTo>
                  <a:lnTo>
                    <a:pt x="2960" y="3039"/>
                  </a:lnTo>
                  <a:lnTo>
                    <a:pt x="3297" y="2601"/>
                  </a:lnTo>
                  <a:lnTo>
                    <a:pt x="3698" y="2448"/>
                  </a:lnTo>
                  <a:lnTo>
                    <a:pt x="4031" y="1840"/>
                  </a:lnTo>
                  <a:lnTo>
                    <a:pt x="4435" y="1528"/>
                  </a:lnTo>
                  <a:lnTo>
                    <a:pt x="4766" y="877"/>
                  </a:lnTo>
                  <a:lnTo>
                    <a:pt x="5172" y="605"/>
                  </a:lnTo>
                  <a:lnTo>
                    <a:pt x="5501" y="102"/>
                  </a:lnTo>
                  <a:lnTo>
                    <a:pt x="590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433"/>
            <p:cNvSpPr/>
            <p:nvPr/>
          </p:nvSpPr>
          <p:spPr>
            <a:xfrm>
              <a:off x="6894360" y="3995640"/>
              <a:ext cx="876600" cy="46044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625" h="3475">
                  <a:moveTo>
                    <a:pt x="6625" y="0"/>
                  </a:moveTo>
                  <a:lnTo>
                    <a:pt x="6219" y="15"/>
                  </a:lnTo>
                  <a:lnTo>
                    <a:pt x="5894" y="427"/>
                  </a:lnTo>
                  <a:lnTo>
                    <a:pt x="5487" y="603"/>
                  </a:lnTo>
                  <a:lnTo>
                    <a:pt x="5159" y="1202"/>
                  </a:lnTo>
                  <a:lnTo>
                    <a:pt x="4757" y="1498"/>
                  </a:lnTo>
                  <a:lnTo>
                    <a:pt x="4424" y="2165"/>
                  </a:lnTo>
                  <a:lnTo>
                    <a:pt x="4022" y="2385"/>
                  </a:lnTo>
                  <a:lnTo>
                    <a:pt x="3690" y="2926"/>
                  </a:lnTo>
                  <a:lnTo>
                    <a:pt x="3291" y="2936"/>
                  </a:lnTo>
                  <a:lnTo>
                    <a:pt x="2955" y="3321"/>
                  </a:lnTo>
                  <a:lnTo>
                    <a:pt x="2557" y="3163"/>
                  </a:lnTo>
                  <a:lnTo>
                    <a:pt x="2218" y="3466"/>
                  </a:lnTo>
                  <a:lnTo>
                    <a:pt x="1822" y="3194"/>
                  </a:lnTo>
                  <a:lnTo>
                    <a:pt x="1480" y="3475"/>
                  </a:lnTo>
                  <a:lnTo>
                    <a:pt x="1087" y="3114"/>
                  </a:lnTo>
                  <a:lnTo>
                    <a:pt x="740" y="3391"/>
                  </a:lnTo>
                  <a:lnTo>
                    <a:pt x="350" y="2931"/>
                  </a:lnTo>
                  <a:lnTo>
                    <a:pt x="0" y="320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434"/>
            <p:cNvSpPr/>
            <p:nvPr/>
          </p:nvSpPr>
          <p:spPr>
            <a:xfrm>
              <a:off x="6843600" y="3954600"/>
              <a:ext cx="970200" cy="463320"/>
            </a:xfrm>
            <a:custGeom>
              <a:avLst/>
              <a:gdLst>
                <a:gd name="textAreaLeft" fmla="*/ 0 w 970200"/>
                <a:gd name="textAreaRight" fmla="*/ 970560 w 970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335" h="3514">
                  <a:moveTo>
                    <a:pt x="0" y="2910"/>
                  </a:moveTo>
                  <a:lnTo>
                    <a:pt x="346" y="2616"/>
                  </a:lnTo>
                  <a:lnTo>
                    <a:pt x="737" y="3251"/>
                  </a:lnTo>
                  <a:lnTo>
                    <a:pt x="1081" y="2931"/>
                  </a:lnTo>
                  <a:lnTo>
                    <a:pt x="1474" y="3434"/>
                  </a:lnTo>
                  <a:lnTo>
                    <a:pt x="1816" y="3114"/>
                  </a:lnTo>
                  <a:lnTo>
                    <a:pt x="2209" y="3514"/>
                  </a:lnTo>
                  <a:lnTo>
                    <a:pt x="2548" y="3192"/>
                  </a:lnTo>
                  <a:lnTo>
                    <a:pt x="2944" y="3483"/>
                  </a:lnTo>
                  <a:lnTo>
                    <a:pt x="3282" y="3117"/>
                  </a:lnTo>
                  <a:lnTo>
                    <a:pt x="3678" y="3256"/>
                  </a:lnTo>
                  <a:lnTo>
                    <a:pt x="4012" y="2778"/>
                  </a:lnTo>
                  <a:lnTo>
                    <a:pt x="4409" y="2705"/>
                  </a:lnTo>
                  <a:lnTo>
                    <a:pt x="4743" y="2068"/>
                  </a:lnTo>
                  <a:lnTo>
                    <a:pt x="5144" y="1818"/>
                  </a:lnTo>
                  <a:lnTo>
                    <a:pt x="5473" y="1146"/>
                  </a:lnTo>
                  <a:lnTo>
                    <a:pt x="5874" y="923"/>
                  </a:lnTo>
                  <a:lnTo>
                    <a:pt x="6203" y="406"/>
                  </a:lnTo>
                  <a:lnTo>
                    <a:pt x="6606" y="335"/>
                  </a:lnTo>
                  <a:lnTo>
                    <a:pt x="6929" y="0"/>
                  </a:lnTo>
                  <a:lnTo>
                    <a:pt x="7335" y="5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435"/>
            <p:cNvSpPr/>
            <p:nvPr/>
          </p:nvSpPr>
          <p:spPr>
            <a:xfrm>
              <a:off x="6791400" y="3916440"/>
              <a:ext cx="1065240" cy="4604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8042" h="3477">
                  <a:moveTo>
                    <a:pt x="8042" y="107"/>
                  </a:moveTo>
                  <a:lnTo>
                    <a:pt x="7636" y="0"/>
                  </a:lnTo>
                  <a:lnTo>
                    <a:pt x="7316" y="285"/>
                  </a:lnTo>
                  <a:lnTo>
                    <a:pt x="6913" y="255"/>
                  </a:lnTo>
                  <a:lnTo>
                    <a:pt x="6590" y="691"/>
                  </a:lnTo>
                  <a:lnTo>
                    <a:pt x="6185" y="804"/>
                  </a:lnTo>
                  <a:lnTo>
                    <a:pt x="5860" y="1431"/>
                  </a:lnTo>
                  <a:lnTo>
                    <a:pt x="5459" y="1649"/>
                  </a:lnTo>
                  <a:lnTo>
                    <a:pt x="5130" y="2353"/>
                  </a:lnTo>
                  <a:lnTo>
                    <a:pt x="4733" y="2474"/>
                  </a:lnTo>
                  <a:lnTo>
                    <a:pt x="4399" y="3063"/>
                  </a:lnTo>
                  <a:lnTo>
                    <a:pt x="4003" y="2955"/>
                  </a:lnTo>
                  <a:lnTo>
                    <a:pt x="3669" y="3402"/>
                  </a:lnTo>
                  <a:lnTo>
                    <a:pt x="3273" y="3098"/>
                  </a:lnTo>
                  <a:lnTo>
                    <a:pt x="2935" y="3477"/>
                  </a:lnTo>
                  <a:lnTo>
                    <a:pt x="2545" y="3035"/>
                  </a:lnTo>
                  <a:lnTo>
                    <a:pt x="2203" y="3399"/>
                  </a:lnTo>
                  <a:lnTo>
                    <a:pt x="1813" y="2850"/>
                  </a:lnTo>
                  <a:lnTo>
                    <a:pt x="1468" y="3216"/>
                  </a:lnTo>
                  <a:lnTo>
                    <a:pt x="1080" y="2552"/>
                  </a:lnTo>
                  <a:lnTo>
                    <a:pt x="733" y="2901"/>
                  </a:lnTo>
                  <a:lnTo>
                    <a:pt x="349" y="2070"/>
                  </a:lnTo>
                  <a:lnTo>
                    <a:pt x="0" y="234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436"/>
            <p:cNvSpPr/>
            <p:nvPr/>
          </p:nvSpPr>
          <p:spPr>
            <a:xfrm>
              <a:off x="6740640" y="3882960"/>
              <a:ext cx="1157040" cy="44280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8747" h="3354">
                  <a:moveTo>
                    <a:pt x="0" y="1509"/>
                  </a:moveTo>
                  <a:lnTo>
                    <a:pt x="349" y="1321"/>
                  </a:lnTo>
                  <a:lnTo>
                    <a:pt x="734" y="2326"/>
                  </a:lnTo>
                  <a:lnTo>
                    <a:pt x="1081" y="1996"/>
                  </a:lnTo>
                  <a:lnTo>
                    <a:pt x="1465" y="2808"/>
                  </a:lnTo>
                  <a:lnTo>
                    <a:pt x="1810" y="2415"/>
                  </a:lnTo>
                  <a:lnTo>
                    <a:pt x="2198" y="3106"/>
                  </a:lnTo>
                  <a:lnTo>
                    <a:pt x="2540" y="2700"/>
                  </a:lnTo>
                  <a:lnTo>
                    <a:pt x="2930" y="3291"/>
                  </a:lnTo>
                  <a:lnTo>
                    <a:pt x="3266" y="2878"/>
                  </a:lnTo>
                  <a:lnTo>
                    <a:pt x="3658" y="3354"/>
                  </a:lnTo>
                  <a:lnTo>
                    <a:pt x="3996" y="2905"/>
                  </a:lnTo>
                  <a:lnTo>
                    <a:pt x="4388" y="3211"/>
                  </a:lnTo>
                  <a:lnTo>
                    <a:pt x="4722" y="2658"/>
                  </a:lnTo>
                  <a:lnTo>
                    <a:pt x="5118" y="2730"/>
                  </a:lnTo>
                  <a:lnTo>
                    <a:pt x="5446" y="2034"/>
                  </a:lnTo>
                  <a:lnTo>
                    <a:pt x="5844" y="1905"/>
                  </a:lnTo>
                  <a:lnTo>
                    <a:pt x="6172" y="1183"/>
                  </a:lnTo>
                  <a:lnTo>
                    <a:pt x="6570" y="1060"/>
                  </a:lnTo>
                  <a:lnTo>
                    <a:pt x="6896" y="503"/>
                  </a:lnTo>
                  <a:lnTo>
                    <a:pt x="7298" y="511"/>
                  </a:lnTo>
                  <a:lnTo>
                    <a:pt x="7617" y="143"/>
                  </a:lnTo>
                  <a:lnTo>
                    <a:pt x="8021" y="256"/>
                  </a:lnTo>
                  <a:lnTo>
                    <a:pt x="8342" y="0"/>
                  </a:lnTo>
                  <a:lnTo>
                    <a:pt x="8747" y="15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437"/>
            <p:cNvSpPr/>
            <p:nvPr/>
          </p:nvSpPr>
          <p:spPr>
            <a:xfrm>
              <a:off x="6691320" y="3851280"/>
              <a:ext cx="1249200" cy="41580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445" h="3144">
                  <a:moveTo>
                    <a:pt x="9445" y="194"/>
                  </a:moveTo>
                  <a:lnTo>
                    <a:pt x="9039" y="0"/>
                  </a:lnTo>
                  <a:lnTo>
                    <a:pt x="8725" y="239"/>
                  </a:lnTo>
                  <a:lnTo>
                    <a:pt x="8320" y="56"/>
                  </a:lnTo>
                  <a:lnTo>
                    <a:pt x="8000" y="382"/>
                  </a:lnTo>
                  <a:lnTo>
                    <a:pt x="7599" y="259"/>
                  </a:lnTo>
                  <a:lnTo>
                    <a:pt x="7279" y="742"/>
                  </a:lnTo>
                  <a:lnTo>
                    <a:pt x="6878" y="734"/>
                  </a:lnTo>
                  <a:lnTo>
                    <a:pt x="6555" y="1422"/>
                  </a:lnTo>
                  <a:lnTo>
                    <a:pt x="6157" y="1495"/>
                  </a:lnTo>
                  <a:lnTo>
                    <a:pt x="5829" y="2273"/>
                  </a:lnTo>
                  <a:lnTo>
                    <a:pt x="5433" y="2224"/>
                  </a:lnTo>
                  <a:lnTo>
                    <a:pt x="5105" y="2897"/>
                  </a:lnTo>
                  <a:lnTo>
                    <a:pt x="4709" y="2606"/>
                  </a:lnTo>
                  <a:lnTo>
                    <a:pt x="4379" y="3144"/>
                  </a:lnTo>
                  <a:lnTo>
                    <a:pt x="3985" y="2649"/>
                  </a:lnTo>
                  <a:lnTo>
                    <a:pt x="3649" y="3117"/>
                  </a:lnTo>
                  <a:lnTo>
                    <a:pt x="3262" y="2496"/>
                  </a:lnTo>
                  <a:lnTo>
                    <a:pt x="2923" y="2939"/>
                  </a:lnTo>
                  <a:lnTo>
                    <a:pt x="2535" y="2238"/>
                  </a:lnTo>
                  <a:lnTo>
                    <a:pt x="2193" y="2654"/>
                  </a:lnTo>
                  <a:lnTo>
                    <a:pt x="1808" y="1874"/>
                  </a:lnTo>
                  <a:lnTo>
                    <a:pt x="1464" y="2235"/>
                  </a:lnTo>
                  <a:lnTo>
                    <a:pt x="1079" y="1331"/>
                  </a:lnTo>
                  <a:lnTo>
                    <a:pt x="732" y="1560"/>
                  </a:lnTo>
                  <a:lnTo>
                    <a:pt x="350" y="438"/>
                  </a:lnTo>
                  <a:lnTo>
                    <a:pt x="0" y="48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438"/>
            <p:cNvSpPr/>
            <p:nvPr/>
          </p:nvSpPr>
          <p:spPr>
            <a:xfrm>
              <a:off x="6640560" y="3746520"/>
              <a:ext cx="1341360" cy="45396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139" h="3432">
                  <a:moveTo>
                    <a:pt x="0" y="0"/>
                  </a:moveTo>
                  <a:lnTo>
                    <a:pt x="350" y="64"/>
                  </a:lnTo>
                  <a:lnTo>
                    <a:pt x="729" y="1221"/>
                  </a:lnTo>
                  <a:lnTo>
                    <a:pt x="1076" y="1149"/>
                  </a:lnTo>
                  <a:lnTo>
                    <a:pt x="1458" y="2114"/>
                  </a:lnTo>
                  <a:lnTo>
                    <a:pt x="1802" y="1856"/>
                  </a:lnTo>
                  <a:lnTo>
                    <a:pt x="2187" y="2657"/>
                  </a:lnTo>
                  <a:lnTo>
                    <a:pt x="2529" y="2286"/>
                  </a:lnTo>
                  <a:lnTo>
                    <a:pt x="2914" y="3021"/>
                  </a:lnTo>
                  <a:lnTo>
                    <a:pt x="3253" y="2588"/>
                  </a:lnTo>
                  <a:lnTo>
                    <a:pt x="3641" y="3279"/>
                  </a:lnTo>
                  <a:lnTo>
                    <a:pt x="3977" y="2807"/>
                  </a:lnTo>
                  <a:lnTo>
                    <a:pt x="4364" y="3432"/>
                  </a:lnTo>
                  <a:lnTo>
                    <a:pt x="4698" y="2902"/>
                  </a:lnTo>
                  <a:lnTo>
                    <a:pt x="5088" y="3389"/>
                  </a:lnTo>
                  <a:lnTo>
                    <a:pt x="5419" y="2746"/>
                  </a:lnTo>
                  <a:lnTo>
                    <a:pt x="5812" y="3007"/>
                  </a:lnTo>
                  <a:lnTo>
                    <a:pt x="6141" y="2221"/>
                  </a:lnTo>
                  <a:lnTo>
                    <a:pt x="6536" y="2278"/>
                  </a:lnTo>
                  <a:lnTo>
                    <a:pt x="6862" y="1474"/>
                  </a:lnTo>
                  <a:lnTo>
                    <a:pt x="7257" y="1517"/>
                  </a:lnTo>
                  <a:lnTo>
                    <a:pt x="7580" y="888"/>
                  </a:lnTo>
                  <a:lnTo>
                    <a:pt x="7978" y="1042"/>
                  </a:lnTo>
                  <a:lnTo>
                    <a:pt x="8298" y="610"/>
                  </a:lnTo>
                  <a:lnTo>
                    <a:pt x="8699" y="839"/>
                  </a:lnTo>
                  <a:lnTo>
                    <a:pt x="9017" y="536"/>
                  </a:lnTo>
                  <a:lnTo>
                    <a:pt x="9418" y="783"/>
                  </a:lnTo>
                  <a:lnTo>
                    <a:pt x="9732" y="543"/>
                  </a:lnTo>
                  <a:lnTo>
                    <a:pt x="10139" y="77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439"/>
            <p:cNvSpPr/>
            <p:nvPr/>
          </p:nvSpPr>
          <p:spPr>
            <a:xfrm>
              <a:off x="6591240" y="3603600"/>
              <a:ext cx="1432080" cy="52704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0826" h="3988">
                  <a:moveTo>
                    <a:pt x="10826" y="1659"/>
                  </a:moveTo>
                  <a:lnTo>
                    <a:pt x="10421" y="1379"/>
                  </a:lnTo>
                  <a:lnTo>
                    <a:pt x="10109" y="1629"/>
                  </a:lnTo>
                  <a:lnTo>
                    <a:pt x="9709" y="1317"/>
                  </a:lnTo>
                  <a:lnTo>
                    <a:pt x="9394" y="1622"/>
                  </a:lnTo>
                  <a:lnTo>
                    <a:pt x="8993" y="1297"/>
                  </a:lnTo>
                  <a:lnTo>
                    <a:pt x="8675" y="1696"/>
                  </a:lnTo>
                  <a:lnTo>
                    <a:pt x="8277" y="1406"/>
                  </a:lnTo>
                  <a:lnTo>
                    <a:pt x="7957" y="1974"/>
                  </a:lnTo>
                  <a:lnTo>
                    <a:pt x="7562" y="1783"/>
                  </a:lnTo>
                  <a:lnTo>
                    <a:pt x="7239" y="2560"/>
                  </a:lnTo>
                  <a:lnTo>
                    <a:pt x="6843" y="2442"/>
                  </a:lnTo>
                  <a:lnTo>
                    <a:pt x="6518" y="3307"/>
                  </a:lnTo>
                  <a:lnTo>
                    <a:pt x="6124" y="3082"/>
                  </a:lnTo>
                  <a:lnTo>
                    <a:pt x="5796" y="3832"/>
                  </a:lnTo>
                  <a:lnTo>
                    <a:pt x="5406" y="3394"/>
                  </a:lnTo>
                  <a:lnTo>
                    <a:pt x="5075" y="3988"/>
                  </a:lnTo>
                  <a:lnTo>
                    <a:pt x="4688" y="3399"/>
                  </a:lnTo>
                  <a:lnTo>
                    <a:pt x="4354" y="3893"/>
                  </a:lnTo>
                  <a:lnTo>
                    <a:pt x="3966" y="3243"/>
                  </a:lnTo>
                  <a:lnTo>
                    <a:pt x="3630" y="3674"/>
                  </a:lnTo>
                  <a:lnTo>
                    <a:pt x="3245" y="3006"/>
                  </a:lnTo>
                  <a:lnTo>
                    <a:pt x="2906" y="3372"/>
                  </a:lnTo>
                  <a:lnTo>
                    <a:pt x="2521" y="2676"/>
                  </a:lnTo>
                  <a:lnTo>
                    <a:pt x="2179" y="2942"/>
                  </a:lnTo>
                  <a:lnTo>
                    <a:pt x="1798" y="2137"/>
                  </a:lnTo>
                  <a:lnTo>
                    <a:pt x="1453" y="2235"/>
                  </a:lnTo>
                  <a:lnTo>
                    <a:pt x="1074" y="1232"/>
                  </a:lnTo>
                  <a:lnTo>
                    <a:pt x="727" y="1150"/>
                  </a:lnTo>
                  <a:lnTo>
                    <a:pt x="350" y="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440"/>
            <p:cNvSpPr/>
            <p:nvPr/>
          </p:nvSpPr>
          <p:spPr>
            <a:xfrm>
              <a:off x="6540480" y="3497400"/>
              <a:ext cx="1522440" cy="5554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512" h="4206">
                  <a:moveTo>
                    <a:pt x="0" y="0"/>
                  </a:moveTo>
                  <a:lnTo>
                    <a:pt x="353" y="43"/>
                  </a:lnTo>
                  <a:lnTo>
                    <a:pt x="727" y="893"/>
                  </a:lnTo>
                  <a:lnTo>
                    <a:pt x="1073" y="1041"/>
                  </a:lnTo>
                  <a:lnTo>
                    <a:pt x="1451" y="2039"/>
                  </a:lnTo>
                  <a:lnTo>
                    <a:pt x="1798" y="2108"/>
                  </a:lnTo>
                  <a:lnTo>
                    <a:pt x="2175" y="2944"/>
                  </a:lnTo>
                  <a:lnTo>
                    <a:pt x="2518" y="2826"/>
                  </a:lnTo>
                  <a:lnTo>
                    <a:pt x="2898" y="3483"/>
                  </a:lnTo>
                  <a:lnTo>
                    <a:pt x="3237" y="3222"/>
                  </a:lnTo>
                  <a:lnTo>
                    <a:pt x="3622" y="3813"/>
                  </a:lnTo>
                  <a:lnTo>
                    <a:pt x="3958" y="3461"/>
                  </a:lnTo>
                  <a:lnTo>
                    <a:pt x="4343" y="4050"/>
                  </a:lnTo>
                  <a:lnTo>
                    <a:pt x="4677" y="3622"/>
                  </a:lnTo>
                  <a:lnTo>
                    <a:pt x="5065" y="4206"/>
                  </a:lnTo>
                  <a:lnTo>
                    <a:pt x="5396" y="3684"/>
                  </a:lnTo>
                  <a:lnTo>
                    <a:pt x="5783" y="4201"/>
                  </a:lnTo>
                  <a:lnTo>
                    <a:pt x="6111" y="3531"/>
                  </a:lnTo>
                  <a:lnTo>
                    <a:pt x="6501" y="3889"/>
                  </a:lnTo>
                  <a:lnTo>
                    <a:pt x="6828" y="3047"/>
                  </a:lnTo>
                  <a:lnTo>
                    <a:pt x="7220" y="3249"/>
                  </a:lnTo>
                  <a:lnTo>
                    <a:pt x="7543" y="2369"/>
                  </a:lnTo>
                  <a:lnTo>
                    <a:pt x="7939" y="2590"/>
                  </a:lnTo>
                  <a:lnTo>
                    <a:pt x="8259" y="1872"/>
                  </a:lnTo>
                  <a:lnTo>
                    <a:pt x="8654" y="2213"/>
                  </a:lnTo>
                  <a:lnTo>
                    <a:pt x="8972" y="1692"/>
                  </a:lnTo>
                  <a:lnTo>
                    <a:pt x="9370" y="2104"/>
                  </a:lnTo>
                  <a:lnTo>
                    <a:pt x="9685" y="1714"/>
                  </a:lnTo>
                  <a:lnTo>
                    <a:pt x="10086" y="2124"/>
                  </a:lnTo>
                  <a:lnTo>
                    <a:pt x="10398" y="1810"/>
                  </a:lnTo>
                  <a:lnTo>
                    <a:pt x="10798" y="2186"/>
                  </a:lnTo>
                  <a:lnTo>
                    <a:pt x="11109" y="1917"/>
                  </a:lnTo>
                  <a:lnTo>
                    <a:pt x="11512" y="224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441"/>
            <p:cNvSpPr/>
            <p:nvPr/>
          </p:nvSpPr>
          <p:spPr>
            <a:xfrm>
              <a:off x="6491160" y="3422520"/>
              <a:ext cx="1613160" cy="56196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2190" h="4243">
                  <a:moveTo>
                    <a:pt x="12190" y="2570"/>
                  </a:moveTo>
                  <a:lnTo>
                    <a:pt x="11788" y="2186"/>
                  </a:lnTo>
                  <a:lnTo>
                    <a:pt x="11480" y="2476"/>
                  </a:lnTo>
                  <a:lnTo>
                    <a:pt x="11078" y="2035"/>
                  </a:lnTo>
                  <a:lnTo>
                    <a:pt x="10769" y="2369"/>
                  </a:lnTo>
                  <a:lnTo>
                    <a:pt x="10371" y="1879"/>
                  </a:lnTo>
                  <a:lnTo>
                    <a:pt x="10056" y="2273"/>
                  </a:lnTo>
                  <a:lnTo>
                    <a:pt x="9660" y="1761"/>
                  </a:lnTo>
                  <a:lnTo>
                    <a:pt x="9343" y="2251"/>
                  </a:lnTo>
                  <a:lnTo>
                    <a:pt x="8947" y="1785"/>
                  </a:lnTo>
                  <a:lnTo>
                    <a:pt x="8630" y="2431"/>
                  </a:lnTo>
                  <a:lnTo>
                    <a:pt x="8237" y="2095"/>
                  </a:lnTo>
                  <a:lnTo>
                    <a:pt x="7914" y="2928"/>
                  </a:lnTo>
                  <a:lnTo>
                    <a:pt x="7524" y="2716"/>
                  </a:lnTo>
                  <a:lnTo>
                    <a:pt x="7199" y="3606"/>
                  </a:lnTo>
                  <a:lnTo>
                    <a:pt x="6810" y="3348"/>
                  </a:lnTo>
                  <a:lnTo>
                    <a:pt x="6482" y="4090"/>
                  </a:lnTo>
                  <a:lnTo>
                    <a:pt x="6095" y="3692"/>
                  </a:lnTo>
                  <a:lnTo>
                    <a:pt x="5767" y="4243"/>
                  </a:lnTo>
                  <a:lnTo>
                    <a:pt x="5380" y="3759"/>
                  </a:lnTo>
                  <a:lnTo>
                    <a:pt x="5048" y="4181"/>
                  </a:lnTo>
                  <a:lnTo>
                    <a:pt x="4663" y="3684"/>
                  </a:lnTo>
                  <a:lnTo>
                    <a:pt x="4329" y="4020"/>
                  </a:lnTo>
                  <a:lnTo>
                    <a:pt x="3948" y="3525"/>
                  </a:lnTo>
                  <a:lnTo>
                    <a:pt x="3608" y="3781"/>
                  </a:lnTo>
                  <a:lnTo>
                    <a:pt x="3229" y="3249"/>
                  </a:lnTo>
                  <a:lnTo>
                    <a:pt x="2889" y="3385"/>
                  </a:lnTo>
                  <a:lnTo>
                    <a:pt x="2510" y="2708"/>
                  </a:lnTo>
                  <a:lnTo>
                    <a:pt x="2169" y="2667"/>
                  </a:lnTo>
                  <a:lnTo>
                    <a:pt x="1792" y="1774"/>
                  </a:lnTo>
                  <a:lnTo>
                    <a:pt x="1444" y="1600"/>
                  </a:lnTo>
                  <a:lnTo>
                    <a:pt x="1070" y="718"/>
                  </a:lnTo>
                  <a:lnTo>
                    <a:pt x="724" y="602"/>
                  </a:lnTo>
                  <a:lnTo>
                    <a:pt x="350" y="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442"/>
            <p:cNvSpPr/>
            <p:nvPr/>
          </p:nvSpPr>
          <p:spPr>
            <a:xfrm>
              <a:off x="6442200" y="3370320"/>
              <a:ext cx="1703160" cy="54936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2867" h="4157">
                  <a:moveTo>
                    <a:pt x="0" y="64"/>
                  </a:moveTo>
                  <a:lnTo>
                    <a:pt x="352" y="0"/>
                  </a:lnTo>
                  <a:lnTo>
                    <a:pt x="721" y="398"/>
                  </a:lnTo>
                  <a:lnTo>
                    <a:pt x="1071" y="441"/>
                  </a:lnTo>
                  <a:lnTo>
                    <a:pt x="1441" y="1116"/>
                  </a:lnTo>
                  <a:lnTo>
                    <a:pt x="1789" y="1296"/>
                  </a:lnTo>
                  <a:lnTo>
                    <a:pt x="2163" y="2172"/>
                  </a:lnTo>
                  <a:lnTo>
                    <a:pt x="2505" y="2344"/>
                  </a:lnTo>
                  <a:lnTo>
                    <a:pt x="2881" y="3106"/>
                  </a:lnTo>
                  <a:lnTo>
                    <a:pt x="3224" y="3108"/>
                  </a:lnTo>
                  <a:lnTo>
                    <a:pt x="3600" y="3647"/>
                  </a:lnTo>
                  <a:lnTo>
                    <a:pt x="3939" y="3498"/>
                  </a:lnTo>
                  <a:lnTo>
                    <a:pt x="4319" y="3923"/>
                  </a:lnTo>
                  <a:lnTo>
                    <a:pt x="4652" y="3678"/>
                  </a:lnTo>
                  <a:lnTo>
                    <a:pt x="5034" y="4082"/>
                  </a:lnTo>
                  <a:lnTo>
                    <a:pt x="5368" y="3759"/>
                  </a:lnTo>
                  <a:lnTo>
                    <a:pt x="5751" y="4157"/>
                  </a:lnTo>
                  <a:lnTo>
                    <a:pt x="6081" y="3730"/>
                  </a:lnTo>
                  <a:lnTo>
                    <a:pt x="6466" y="4090"/>
                  </a:lnTo>
                  <a:lnTo>
                    <a:pt x="6794" y="3493"/>
                  </a:lnTo>
                  <a:lnTo>
                    <a:pt x="7181" y="3746"/>
                  </a:lnTo>
                  <a:lnTo>
                    <a:pt x="7505" y="2947"/>
                  </a:lnTo>
                  <a:lnTo>
                    <a:pt x="7895" y="3114"/>
                  </a:lnTo>
                  <a:lnTo>
                    <a:pt x="8215" y="2243"/>
                  </a:lnTo>
                  <a:lnTo>
                    <a:pt x="8608" y="2493"/>
                  </a:lnTo>
                  <a:lnTo>
                    <a:pt x="8926" y="1747"/>
                  </a:lnTo>
                  <a:lnTo>
                    <a:pt x="9318" y="2183"/>
                  </a:lnTo>
                  <a:lnTo>
                    <a:pt x="9636" y="1606"/>
                  </a:lnTo>
                  <a:lnTo>
                    <a:pt x="10031" y="2159"/>
                  </a:lnTo>
                  <a:lnTo>
                    <a:pt x="10344" y="1691"/>
                  </a:lnTo>
                  <a:lnTo>
                    <a:pt x="10742" y="2277"/>
                  </a:lnTo>
                  <a:lnTo>
                    <a:pt x="11052" y="1871"/>
                  </a:lnTo>
                  <a:lnTo>
                    <a:pt x="11449" y="2433"/>
                  </a:lnTo>
                  <a:lnTo>
                    <a:pt x="11758" y="2074"/>
                  </a:lnTo>
                  <a:lnTo>
                    <a:pt x="12159" y="2584"/>
                  </a:lnTo>
                  <a:lnTo>
                    <a:pt x="12464" y="2264"/>
                  </a:lnTo>
                  <a:lnTo>
                    <a:pt x="12867" y="27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443"/>
            <p:cNvSpPr/>
            <p:nvPr/>
          </p:nvSpPr>
          <p:spPr>
            <a:xfrm>
              <a:off x="6394320" y="3335400"/>
              <a:ext cx="1791000" cy="531720"/>
            </a:xfrm>
            <a:custGeom>
              <a:avLst/>
              <a:gdLst>
                <a:gd name="textAreaLeft" fmla="*/ 0 w 1791000"/>
                <a:gd name="textAreaRight" fmla="*/ 1791360 w 1791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13538" h="4023">
                  <a:moveTo>
                    <a:pt x="13538" y="2690"/>
                  </a:moveTo>
                  <a:lnTo>
                    <a:pt x="13137" y="2178"/>
                  </a:lnTo>
                  <a:lnTo>
                    <a:pt x="12833" y="2528"/>
                  </a:lnTo>
                  <a:lnTo>
                    <a:pt x="12432" y="1958"/>
                  </a:lnTo>
                  <a:lnTo>
                    <a:pt x="12127" y="2338"/>
                  </a:lnTo>
                  <a:lnTo>
                    <a:pt x="11730" y="1724"/>
                  </a:lnTo>
                  <a:lnTo>
                    <a:pt x="11421" y="2135"/>
                  </a:lnTo>
                  <a:lnTo>
                    <a:pt x="11025" y="1503"/>
                  </a:lnTo>
                  <a:lnTo>
                    <a:pt x="10713" y="1955"/>
                  </a:lnTo>
                  <a:lnTo>
                    <a:pt x="10317" y="1353"/>
                  </a:lnTo>
                  <a:lnTo>
                    <a:pt x="10005" y="1870"/>
                  </a:lnTo>
                  <a:lnTo>
                    <a:pt x="9612" y="1374"/>
                  </a:lnTo>
                  <a:lnTo>
                    <a:pt x="9295" y="2011"/>
                  </a:lnTo>
                  <a:lnTo>
                    <a:pt x="8904" y="1716"/>
                  </a:lnTo>
                  <a:lnTo>
                    <a:pt x="8584" y="2507"/>
                  </a:lnTo>
                  <a:lnTo>
                    <a:pt x="8197" y="2396"/>
                  </a:lnTo>
                  <a:lnTo>
                    <a:pt x="7874" y="3211"/>
                  </a:lnTo>
                  <a:lnTo>
                    <a:pt x="7487" y="3109"/>
                  </a:lnTo>
                  <a:lnTo>
                    <a:pt x="7163" y="3757"/>
                  </a:lnTo>
                  <a:lnTo>
                    <a:pt x="6775" y="3542"/>
                  </a:lnTo>
                  <a:lnTo>
                    <a:pt x="6450" y="3994"/>
                  </a:lnTo>
                  <a:lnTo>
                    <a:pt x="6065" y="3704"/>
                  </a:lnTo>
                  <a:lnTo>
                    <a:pt x="5737" y="4023"/>
                  </a:lnTo>
                  <a:lnTo>
                    <a:pt x="5355" y="3706"/>
                  </a:lnTo>
                  <a:lnTo>
                    <a:pt x="5021" y="3942"/>
                  </a:lnTo>
                  <a:lnTo>
                    <a:pt x="4642" y="3604"/>
                  </a:lnTo>
                  <a:lnTo>
                    <a:pt x="4308" y="3762"/>
                  </a:lnTo>
                  <a:lnTo>
                    <a:pt x="3929" y="3338"/>
                  </a:lnTo>
                  <a:lnTo>
                    <a:pt x="3593" y="3372"/>
                  </a:lnTo>
                  <a:lnTo>
                    <a:pt x="3215" y="2746"/>
                  </a:lnTo>
                  <a:lnTo>
                    <a:pt x="2874" y="2608"/>
                  </a:lnTo>
                  <a:lnTo>
                    <a:pt x="2500" y="1777"/>
                  </a:lnTo>
                  <a:lnTo>
                    <a:pt x="2158" y="1560"/>
                  </a:lnTo>
                  <a:lnTo>
                    <a:pt x="1784" y="815"/>
                  </a:lnTo>
                  <a:lnTo>
                    <a:pt x="1440" y="705"/>
                  </a:lnTo>
                  <a:lnTo>
                    <a:pt x="1068" y="239"/>
                  </a:lnTo>
                  <a:lnTo>
                    <a:pt x="721" y="264"/>
                  </a:lnTo>
                  <a:lnTo>
                    <a:pt x="352" y="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444"/>
            <p:cNvSpPr/>
            <p:nvPr/>
          </p:nvSpPr>
          <p:spPr>
            <a:xfrm>
              <a:off x="6345360" y="3309840"/>
              <a:ext cx="1879560" cy="51588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4205" h="3894">
                  <a:moveTo>
                    <a:pt x="0" y="107"/>
                  </a:moveTo>
                  <a:lnTo>
                    <a:pt x="3" y="107"/>
                  </a:lnTo>
                  <a:lnTo>
                    <a:pt x="352" y="0"/>
                  </a:lnTo>
                  <a:lnTo>
                    <a:pt x="718" y="188"/>
                  </a:lnTo>
                  <a:lnTo>
                    <a:pt x="1065" y="120"/>
                  </a:lnTo>
                  <a:lnTo>
                    <a:pt x="1434" y="427"/>
                  </a:lnTo>
                  <a:lnTo>
                    <a:pt x="1782" y="454"/>
                  </a:lnTo>
                  <a:lnTo>
                    <a:pt x="2150" y="1003"/>
                  </a:lnTo>
                  <a:lnTo>
                    <a:pt x="2494" y="1172"/>
                  </a:lnTo>
                  <a:lnTo>
                    <a:pt x="2866" y="1965"/>
                  </a:lnTo>
                  <a:lnTo>
                    <a:pt x="3207" y="2189"/>
                  </a:lnTo>
                  <a:lnTo>
                    <a:pt x="3581" y="2934"/>
                  </a:lnTo>
                  <a:lnTo>
                    <a:pt x="3921" y="3025"/>
                  </a:lnTo>
                  <a:lnTo>
                    <a:pt x="4295" y="3526"/>
                  </a:lnTo>
                  <a:lnTo>
                    <a:pt x="4631" y="3458"/>
                  </a:lnTo>
                  <a:lnTo>
                    <a:pt x="5008" y="3792"/>
                  </a:lnTo>
                  <a:lnTo>
                    <a:pt x="5342" y="3627"/>
                  </a:lnTo>
                  <a:lnTo>
                    <a:pt x="5721" y="3894"/>
                  </a:lnTo>
                  <a:lnTo>
                    <a:pt x="6052" y="3658"/>
                  </a:lnTo>
                  <a:lnTo>
                    <a:pt x="6431" y="3892"/>
                  </a:lnTo>
                  <a:lnTo>
                    <a:pt x="6760" y="3558"/>
                  </a:lnTo>
                  <a:lnTo>
                    <a:pt x="7141" y="3730"/>
                  </a:lnTo>
                  <a:lnTo>
                    <a:pt x="7468" y="3235"/>
                  </a:lnTo>
                  <a:lnTo>
                    <a:pt x="7853" y="3297"/>
                  </a:lnTo>
                  <a:lnTo>
                    <a:pt x="8174" y="2600"/>
                  </a:lnTo>
                  <a:lnTo>
                    <a:pt x="8563" y="2584"/>
                  </a:lnTo>
                  <a:lnTo>
                    <a:pt x="8880" y="1807"/>
                  </a:lnTo>
                  <a:lnTo>
                    <a:pt x="9270" y="1904"/>
                  </a:lnTo>
                  <a:lnTo>
                    <a:pt x="9588" y="1232"/>
                  </a:lnTo>
                  <a:lnTo>
                    <a:pt x="9978" y="1562"/>
                  </a:lnTo>
                  <a:lnTo>
                    <a:pt x="10293" y="1027"/>
                  </a:lnTo>
                  <a:lnTo>
                    <a:pt x="10683" y="1541"/>
                  </a:lnTo>
                  <a:lnTo>
                    <a:pt x="10995" y="1078"/>
                  </a:lnTo>
                  <a:lnTo>
                    <a:pt x="11391" y="1691"/>
                  </a:lnTo>
                  <a:lnTo>
                    <a:pt x="11700" y="1258"/>
                  </a:lnTo>
                  <a:lnTo>
                    <a:pt x="12096" y="1912"/>
                  </a:lnTo>
                  <a:lnTo>
                    <a:pt x="12402" y="1495"/>
                  </a:lnTo>
                  <a:lnTo>
                    <a:pt x="12798" y="2146"/>
                  </a:lnTo>
                  <a:lnTo>
                    <a:pt x="13102" y="1748"/>
                  </a:lnTo>
                  <a:lnTo>
                    <a:pt x="13503" y="2366"/>
                  </a:lnTo>
                  <a:lnTo>
                    <a:pt x="13804" y="1993"/>
                  </a:lnTo>
                  <a:lnTo>
                    <a:pt x="14205" y="256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445"/>
            <p:cNvSpPr/>
            <p:nvPr/>
          </p:nvSpPr>
          <p:spPr>
            <a:xfrm>
              <a:off x="6391440" y="3298680"/>
              <a:ext cx="1779480" cy="495360"/>
            </a:xfrm>
            <a:custGeom>
              <a:avLst/>
              <a:gdLst>
                <a:gd name="textAreaLeft" fmla="*/ 0 w 1779480"/>
                <a:gd name="textAreaRight" fmla="*/ 1779840 w 17794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3452" h="3750">
                  <a:moveTo>
                    <a:pt x="13452" y="2085"/>
                  </a:moveTo>
                  <a:lnTo>
                    <a:pt x="13054" y="1431"/>
                  </a:lnTo>
                  <a:lnTo>
                    <a:pt x="12750" y="1840"/>
                  </a:lnTo>
                  <a:lnTo>
                    <a:pt x="12355" y="1176"/>
                  </a:lnTo>
                  <a:lnTo>
                    <a:pt x="12050" y="1587"/>
                  </a:lnTo>
                  <a:lnTo>
                    <a:pt x="11655" y="945"/>
                  </a:lnTo>
                  <a:lnTo>
                    <a:pt x="11348" y="1350"/>
                  </a:lnTo>
                  <a:lnTo>
                    <a:pt x="10952" y="758"/>
                  </a:lnTo>
                  <a:lnTo>
                    <a:pt x="10643" y="1170"/>
                  </a:lnTo>
                  <a:lnTo>
                    <a:pt x="10253" y="673"/>
                  </a:lnTo>
                  <a:lnTo>
                    <a:pt x="9941" y="1119"/>
                  </a:lnTo>
                  <a:lnTo>
                    <a:pt x="9550" y="778"/>
                  </a:lnTo>
                  <a:lnTo>
                    <a:pt x="9236" y="1324"/>
                  </a:lnTo>
                  <a:lnTo>
                    <a:pt x="8846" y="1210"/>
                  </a:lnTo>
                  <a:lnTo>
                    <a:pt x="8528" y="1899"/>
                  </a:lnTo>
                  <a:lnTo>
                    <a:pt x="8143" y="1979"/>
                  </a:lnTo>
                  <a:lnTo>
                    <a:pt x="7822" y="2692"/>
                  </a:lnTo>
                  <a:lnTo>
                    <a:pt x="7438" y="2774"/>
                  </a:lnTo>
                  <a:lnTo>
                    <a:pt x="7116" y="3327"/>
                  </a:lnTo>
                  <a:lnTo>
                    <a:pt x="6733" y="3282"/>
                  </a:lnTo>
                  <a:lnTo>
                    <a:pt x="6408" y="3650"/>
                  </a:lnTo>
                  <a:lnTo>
                    <a:pt x="6025" y="3502"/>
                  </a:lnTo>
                  <a:lnTo>
                    <a:pt x="5700" y="3750"/>
                  </a:lnTo>
                  <a:lnTo>
                    <a:pt x="5321" y="3547"/>
                  </a:lnTo>
                  <a:lnTo>
                    <a:pt x="4990" y="3719"/>
                  </a:lnTo>
                  <a:lnTo>
                    <a:pt x="4613" y="3458"/>
                  </a:lnTo>
                  <a:lnTo>
                    <a:pt x="4279" y="3550"/>
                  </a:lnTo>
                  <a:lnTo>
                    <a:pt x="3903" y="3157"/>
                  </a:lnTo>
                  <a:lnTo>
                    <a:pt x="3569" y="3117"/>
                  </a:lnTo>
                  <a:lnTo>
                    <a:pt x="3195" y="2480"/>
                  </a:lnTo>
                  <a:lnTo>
                    <a:pt x="2855" y="2281"/>
                  </a:lnTo>
                  <a:lnTo>
                    <a:pt x="2485" y="1484"/>
                  </a:lnTo>
                  <a:lnTo>
                    <a:pt x="2142" y="1264"/>
                  </a:lnTo>
                  <a:lnTo>
                    <a:pt x="1773" y="627"/>
                  </a:lnTo>
                  <a:lnTo>
                    <a:pt x="1430" y="546"/>
                  </a:lnTo>
                  <a:lnTo>
                    <a:pt x="1060" y="176"/>
                  </a:lnTo>
                  <a:lnTo>
                    <a:pt x="713" y="212"/>
                  </a:lnTo>
                  <a:lnTo>
                    <a:pt x="348" y="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446"/>
            <p:cNvSpPr/>
            <p:nvPr/>
          </p:nvSpPr>
          <p:spPr>
            <a:xfrm>
              <a:off x="6437160" y="3287880"/>
              <a:ext cx="1681200" cy="4791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06" h="3622">
                  <a:moveTo>
                    <a:pt x="0" y="75"/>
                  </a:moveTo>
                  <a:lnTo>
                    <a:pt x="347" y="0"/>
                  </a:lnTo>
                  <a:lnTo>
                    <a:pt x="712" y="251"/>
                  </a:lnTo>
                  <a:lnTo>
                    <a:pt x="1057" y="251"/>
                  </a:lnTo>
                  <a:lnTo>
                    <a:pt x="1425" y="702"/>
                  </a:lnTo>
                  <a:lnTo>
                    <a:pt x="1768" y="844"/>
                  </a:lnTo>
                  <a:lnTo>
                    <a:pt x="2137" y="1559"/>
                  </a:lnTo>
                  <a:lnTo>
                    <a:pt x="2475" y="1802"/>
                  </a:lnTo>
                  <a:lnTo>
                    <a:pt x="2847" y="2555"/>
                  </a:lnTo>
                  <a:lnTo>
                    <a:pt x="3183" y="2711"/>
                  </a:lnTo>
                  <a:lnTo>
                    <a:pt x="3555" y="3232"/>
                  </a:lnTo>
                  <a:lnTo>
                    <a:pt x="3888" y="3225"/>
                  </a:lnTo>
                  <a:lnTo>
                    <a:pt x="4265" y="3533"/>
                  </a:lnTo>
                  <a:lnTo>
                    <a:pt x="4595" y="3421"/>
                  </a:lnTo>
                  <a:lnTo>
                    <a:pt x="4973" y="3622"/>
                  </a:lnTo>
                  <a:lnTo>
                    <a:pt x="5301" y="3437"/>
                  </a:lnTo>
                  <a:lnTo>
                    <a:pt x="5677" y="3577"/>
                  </a:lnTo>
                  <a:lnTo>
                    <a:pt x="6003" y="3300"/>
                  </a:lnTo>
                  <a:lnTo>
                    <a:pt x="6385" y="3357"/>
                  </a:lnTo>
                  <a:lnTo>
                    <a:pt x="6708" y="2931"/>
                  </a:lnTo>
                  <a:lnTo>
                    <a:pt x="7090" y="2849"/>
                  </a:lnTo>
                  <a:lnTo>
                    <a:pt x="7411" y="2238"/>
                  </a:lnTo>
                  <a:lnTo>
                    <a:pt x="7795" y="2054"/>
                  </a:lnTo>
                  <a:lnTo>
                    <a:pt x="8113" y="1372"/>
                  </a:lnTo>
                  <a:lnTo>
                    <a:pt x="8498" y="1285"/>
                  </a:lnTo>
                  <a:lnTo>
                    <a:pt x="8815" y="713"/>
                  </a:lnTo>
                  <a:lnTo>
                    <a:pt x="9202" y="853"/>
                  </a:lnTo>
                  <a:lnTo>
                    <a:pt x="9515" y="417"/>
                  </a:lnTo>
                  <a:lnTo>
                    <a:pt x="9905" y="748"/>
                  </a:lnTo>
                  <a:lnTo>
                    <a:pt x="10214" y="374"/>
                  </a:lnTo>
                  <a:lnTo>
                    <a:pt x="10604" y="833"/>
                  </a:lnTo>
                  <a:lnTo>
                    <a:pt x="10914" y="470"/>
                  </a:lnTo>
                  <a:lnTo>
                    <a:pt x="11307" y="1020"/>
                  </a:lnTo>
                  <a:lnTo>
                    <a:pt x="11611" y="643"/>
                  </a:lnTo>
                  <a:lnTo>
                    <a:pt x="12007" y="1251"/>
                  </a:lnTo>
                  <a:lnTo>
                    <a:pt x="12308" y="860"/>
                  </a:lnTo>
                  <a:lnTo>
                    <a:pt x="12706" y="150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447"/>
            <p:cNvSpPr/>
            <p:nvPr/>
          </p:nvSpPr>
          <p:spPr>
            <a:xfrm>
              <a:off x="6483240" y="3281400"/>
              <a:ext cx="1582920" cy="46188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1961" h="3488">
                  <a:moveTo>
                    <a:pt x="11961" y="911"/>
                  </a:moveTo>
                  <a:lnTo>
                    <a:pt x="11568" y="352"/>
                  </a:lnTo>
                  <a:lnTo>
                    <a:pt x="11264" y="694"/>
                  </a:lnTo>
                  <a:lnTo>
                    <a:pt x="10871" y="204"/>
                  </a:lnTo>
                  <a:lnTo>
                    <a:pt x="10567" y="521"/>
                  </a:lnTo>
                  <a:lnTo>
                    <a:pt x="10174" y="113"/>
                  </a:lnTo>
                  <a:lnTo>
                    <a:pt x="9867" y="425"/>
                  </a:lnTo>
                  <a:lnTo>
                    <a:pt x="9477" y="118"/>
                  </a:lnTo>
                  <a:lnTo>
                    <a:pt x="9168" y="468"/>
                  </a:lnTo>
                  <a:lnTo>
                    <a:pt x="8781" y="309"/>
                  </a:lnTo>
                  <a:lnTo>
                    <a:pt x="8468" y="764"/>
                  </a:lnTo>
                  <a:lnTo>
                    <a:pt x="8080" y="815"/>
                  </a:lnTo>
                  <a:lnTo>
                    <a:pt x="7766" y="1423"/>
                  </a:lnTo>
                  <a:lnTo>
                    <a:pt x="7381" y="1646"/>
                  </a:lnTo>
                  <a:lnTo>
                    <a:pt x="7064" y="2289"/>
                  </a:lnTo>
                  <a:lnTo>
                    <a:pt x="6681" y="2488"/>
                  </a:lnTo>
                  <a:lnTo>
                    <a:pt x="6361" y="2982"/>
                  </a:lnTo>
                  <a:lnTo>
                    <a:pt x="5982" y="3031"/>
                  </a:lnTo>
                  <a:lnTo>
                    <a:pt x="5656" y="3351"/>
                  </a:lnTo>
                  <a:lnTo>
                    <a:pt x="5279" y="3279"/>
                  </a:lnTo>
                  <a:lnTo>
                    <a:pt x="4954" y="3488"/>
                  </a:lnTo>
                  <a:lnTo>
                    <a:pt x="4577" y="3335"/>
                  </a:lnTo>
                  <a:lnTo>
                    <a:pt x="4248" y="3472"/>
                  </a:lnTo>
                  <a:lnTo>
                    <a:pt x="3872" y="3230"/>
                  </a:lnTo>
                  <a:lnTo>
                    <a:pt x="3541" y="3276"/>
                  </a:lnTo>
                  <a:lnTo>
                    <a:pt x="3170" y="2858"/>
                  </a:lnTo>
                  <a:lnTo>
                    <a:pt x="2836" y="2762"/>
                  </a:lnTo>
                  <a:lnTo>
                    <a:pt x="2465" y="2087"/>
                  </a:lnTo>
                  <a:lnTo>
                    <a:pt x="2128" y="1853"/>
                  </a:lnTo>
                  <a:lnTo>
                    <a:pt x="1759" y="1089"/>
                  </a:lnTo>
                  <a:lnTo>
                    <a:pt x="1421" y="895"/>
                  </a:lnTo>
                  <a:lnTo>
                    <a:pt x="1051" y="352"/>
                  </a:lnTo>
                  <a:lnTo>
                    <a:pt x="710" y="302"/>
                  </a:lnTo>
                  <a:lnTo>
                    <a:pt x="345" y="0"/>
                  </a:lnTo>
                  <a:lnTo>
                    <a:pt x="0" y="5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448"/>
            <p:cNvSpPr/>
            <p:nvPr/>
          </p:nvSpPr>
          <p:spPr>
            <a:xfrm>
              <a:off x="6529320" y="3260880"/>
              <a:ext cx="1484280" cy="4618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1223" h="3496">
                  <a:moveTo>
                    <a:pt x="0" y="161"/>
                  </a:moveTo>
                  <a:lnTo>
                    <a:pt x="341" y="140"/>
                  </a:lnTo>
                  <a:lnTo>
                    <a:pt x="706" y="513"/>
                  </a:lnTo>
                  <a:lnTo>
                    <a:pt x="1046" y="615"/>
                  </a:lnTo>
                  <a:lnTo>
                    <a:pt x="1414" y="1250"/>
                  </a:lnTo>
                  <a:lnTo>
                    <a:pt x="1751" y="1486"/>
                  </a:lnTo>
                  <a:lnTo>
                    <a:pt x="2120" y="2248"/>
                  </a:lnTo>
                  <a:lnTo>
                    <a:pt x="2453" y="2450"/>
                  </a:lnTo>
                  <a:lnTo>
                    <a:pt x="2825" y="3019"/>
                  </a:lnTo>
                  <a:lnTo>
                    <a:pt x="3155" y="3063"/>
                  </a:lnTo>
                  <a:lnTo>
                    <a:pt x="3527" y="3391"/>
                  </a:lnTo>
                  <a:lnTo>
                    <a:pt x="3858" y="3310"/>
                  </a:lnTo>
                  <a:lnTo>
                    <a:pt x="4230" y="3496"/>
                  </a:lnTo>
                  <a:lnTo>
                    <a:pt x="4232" y="3496"/>
                  </a:lnTo>
                  <a:lnTo>
                    <a:pt x="4235" y="3496"/>
                  </a:lnTo>
                  <a:lnTo>
                    <a:pt x="4558" y="3340"/>
                  </a:lnTo>
                  <a:lnTo>
                    <a:pt x="4934" y="3440"/>
                  </a:lnTo>
                  <a:lnTo>
                    <a:pt x="5257" y="3195"/>
                  </a:lnTo>
                  <a:lnTo>
                    <a:pt x="5637" y="3192"/>
                  </a:lnTo>
                  <a:lnTo>
                    <a:pt x="5956" y="2805"/>
                  </a:lnTo>
                  <a:lnTo>
                    <a:pt x="6336" y="2649"/>
                  </a:lnTo>
                  <a:lnTo>
                    <a:pt x="6657" y="2083"/>
                  </a:lnTo>
                  <a:lnTo>
                    <a:pt x="7036" y="1807"/>
                  </a:lnTo>
                  <a:lnTo>
                    <a:pt x="7354" y="1180"/>
                  </a:lnTo>
                  <a:lnTo>
                    <a:pt x="7735" y="976"/>
                  </a:lnTo>
                  <a:lnTo>
                    <a:pt x="8051" y="476"/>
                  </a:lnTo>
                  <a:lnTo>
                    <a:pt x="8436" y="470"/>
                  </a:lnTo>
                  <a:lnTo>
                    <a:pt x="8745" y="115"/>
                  </a:lnTo>
                  <a:lnTo>
                    <a:pt x="9132" y="279"/>
                  </a:lnTo>
                  <a:lnTo>
                    <a:pt x="9442" y="0"/>
                  </a:lnTo>
                  <a:lnTo>
                    <a:pt x="9829" y="274"/>
                  </a:lnTo>
                  <a:lnTo>
                    <a:pt x="10135" y="8"/>
                  </a:lnTo>
                  <a:lnTo>
                    <a:pt x="10526" y="365"/>
                  </a:lnTo>
                  <a:lnTo>
                    <a:pt x="10830" y="86"/>
                  </a:lnTo>
                  <a:lnTo>
                    <a:pt x="11223" y="51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449"/>
            <p:cNvSpPr/>
            <p:nvPr/>
          </p:nvSpPr>
          <p:spPr>
            <a:xfrm>
              <a:off x="6573960" y="3228840"/>
              <a:ext cx="1388880" cy="473040"/>
            </a:xfrm>
            <a:custGeom>
              <a:avLst/>
              <a:gdLst>
                <a:gd name="textAreaLeft" fmla="*/ 0 w 1388880"/>
                <a:gd name="textAreaRight" fmla="*/ 1389240 w 1388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0489" h="3574">
                  <a:moveTo>
                    <a:pt x="10489" y="320"/>
                  </a:moveTo>
                  <a:lnTo>
                    <a:pt x="10099" y="16"/>
                  </a:lnTo>
                  <a:lnTo>
                    <a:pt x="9794" y="242"/>
                  </a:lnTo>
                  <a:lnTo>
                    <a:pt x="9407" y="0"/>
                  </a:lnTo>
                  <a:lnTo>
                    <a:pt x="9101" y="234"/>
                  </a:lnTo>
                  <a:lnTo>
                    <a:pt x="8713" y="69"/>
                  </a:lnTo>
                  <a:lnTo>
                    <a:pt x="8404" y="349"/>
                  </a:lnTo>
                  <a:lnTo>
                    <a:pt x="8019" y="312"/>
                  </a:lnTo>
                  <a:lnTo>
                    <a:pt x="7710" y="710"/>
                  </a:lnTo>
                  <a:lnTo>
                    <a:pt x="7325" y="858"/>
                  </a:lnTo>
                  <a:lnTo>
                    <a:pt x="7013" y="1414"/>
                  </a:lnTo>
                  <a:lnTo>
                    <a:pt x="6630" y="1713"/>
                  </a:lnTo>
                  <a:lnTo>
                    <a:pt x="6316" y="2317"/>
                  </a:lnTo>
                  <a:lnTo>
                    <a:pt x="5936" y="2573"/>
                  </a:lnTo>
                  <a:lnTo>
                    <a:pt x="5615" y="3039"/>
                  </a:lnTo>
                  <a:lnTo>
                    <a:pt x="5239" y="3133"/>
                  </a:lnTo>
                  <a:lnTo>
                    <a:pt x="4916" y="3429"/>
                  </a:lnTo>
                  <a:lnTo>
                    <a:pt x="4542" y="3386"/>
                  </a:lnTo>
                  <a:lnTo>
                    <a:pt x="4217" y="3574"/>
                  </a:lnTo>
                  <a:lnTo>
                    <a:pt x="4214" y="3574"/>
                  </a:lnTo>
                  <a:lnTo>
                    <a:pt x="3843" y="3436"/>
                  </a:lnTo>
                  <a:lnTo>
                    <a:pt x="3520" y="3544"/>
                  </a:lnTo>
                  <a:lnTo>
                    <a:pt x="3517" y="3544"/>
                  </a:lnTo>
                  <a:lnTo>
                    <a:pt x="3143" y="3291"/>
                  </a:lnTo>
                  <a:lnTo>
                    <a:pt x="2814" y="3297"/>
                  </a:lnTo>
                  <a:lnTo>
                    <a:pt x="2444" y="2832"/>
                  </a:lnTo>
                  <a:lnTo>
                    <a:pt x="2112" y="2684"/>
                  </a:lnTo>
                  <a:lnTo>
                    <a:pt x="1743" y="1968"/>
                  </a:lnTo>
                  <a:lnTo>
                    <a:pt x="1410" y="1720"/>
                  </a:lnTo>
                  <a:lnTo>
                    <a:pt x="1044" y="1009"/>
                  </a:lnTo>
                  <a:lnTo>
                    <a:pt x="705" y="849"/>
                  </a:lnTo>
                  <a:lnTo>
                    <a:pt x="342" y="390"/>
                  </a:lnTo>
                  <a:lnTo>
                    <a:pt x="0" y="37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450"/>
            <p:cNvSpPr/>
            <p:nvPr/>
          </p:nvSpPr>
          <p:spPr>
            <a:xfrm>
              <a:off x="6620040" y="3203640"/>
              <a:ext cx="1290600" cy="4795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9757" h="3632">
                  <a:moveTo>
                    <a:pt x="0" y="586"/>
                  </a:moveTo>
                  <a:lnTo>
                    <a:pt x="336" y="650"/>
                  </a:lnTo>
                  <a:lnTo>
                    <a:pt x="702" y="1205"/>
                  </a:lnTo>
                  <a:lnTo>
                    <a:pt x="1036" y="1417"/>
                  </a:lnTo>
                  <a:lnTo>
                    <a:pt x="1401" y="2164"/>
                  </a:lnTo>
                  <a:lnTo>
                    <a:pt x="1735" y="2398"/>
                  </a:lnTo>
                  <a:lnTo>
                    <a:pt x="2102" y="3028"/>
                  </a:lnTo>
                  <a:lnTo>
                    <a:pt x="2432" y="3116"/>
                  </a:lnTo>
                  <a:lnTo>
                    <a:pt x="2801" y="3487"/>
                  </a:lnTo>
                  <a:lnTo>
                    <a:pt x="3129" y="3436"/>
                  </a:lnTo>
                  <a:lnTo>
                    <a:pt x="3501" y="3632"/>
                  </a:lnTo>
                  <a:lnTo>
                    <a:pt x="3503" y="3632"/>
                  </a:lnTo>
                  <a:lnTo>
                    <a:pt x="3826" y="3493"/>
                  </a:lnTo>
                  <a:lnTo>
                    <a:pt x="4200" y="3582"/>
                  </a:lnTo>
                  <a:lnTo>
                    <a:pt x="4520" y="3353"/>
                  </a:lnTo>
                  <a:lnTo>
                    <a:pt x="4897" y="3329"/>
                  </a:lnTo>
                  <a:lnTo>
                    <a:pt x="5215" y="2961"/>
                  </a:lnTo>
                  <a:lnTo>
                    <a:pt x="5591" y="2772"/>
                  </a:lnTo>
                  <a:lnTo>
                    <a:pt x="5594" y="2769"/>
                  </a:lnTo>
                  <a:lnTo>
                    <a:pt x="5909" y="2228"/>
                  </a:lnTo>
                  <a:lnTo>
                    <a:pt x="6288" y="1909"/>
                  </a:lnTo>
                  <a:lnTo>
                    <a:pt x="6604" y="1314"/>
                  </a:lnTo>
                  <a:lnTo>
                    <a:pt x="6983" y="1054"/>
                  </a:lnTo>
                  <a:lnTo>
                    <a:pt x="7295" y="588"/>
                  </a:lnTo>
                  <a:lnTo>
                    <a:pt x="7677" y="508"/>
                  </a:lnTo>
                  <a:lnTo>
                    <a:pt x="7987" y="198"/>
                  </a:lnTo>
                  <a:lnTo>
                    <a:pt x="8371" y="265"/>
                  </a:lnTo>
                  <a:lnTo>
                    <a:pt x="8677" y="40"/>
                  </a:lnTo>
                  <a:lnTo>
                    <a:pt x="9065" y="196"/>
                  </a:lnTo>
                  <a:lnTo>
                    <a:pt x="9369" y="0"/>
                  </a:lnTo>
                  <a:lnTo>
                    <a:pt x="9757" y="2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451"/>
            <p:cNvSpPr/>
            <p:nvPr/>
          </p:nvSpPr>
          <p:spPr>
            <a:xfrm>
              <a:off x="6664320" y="3182760"/>
              <a:ext cx="1195560" cy="48276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9033" h="3642">
                  <a:moveTo>
                    <a:pt x="9033" y="149"/>
                  </a:moveTo>
                  <a:lnTo>
                    <a:pt x="8646" y="0"/>
                  </a:lnTo>
                  <a:lnTo>
                    <a:pt x="8341" y="189"/>
                  </a:lnTo>
                  <a:lnTo>
                    <a:pt x="7960" y="102"/>
                  </a:lnTo>
                  <a:lnTo>
                    <a:pt x="7651" y="347"/>
                  </a:lnTo>
                  <a:lnTo>
                    <a:pt x="7268" y="369"/>
                  </a:lnTo>
                  <a:lnTo>
                    <a:pt x="6959" y="737"/>
                  </a:lnTo>
                  <a:lnTo>
                    <a:pt x="6956" y="740"/>
                  </a:lnTo>
                  <a:lnTo>
                    <a:pt x="6580" y="928"/>
                  </a:lnTo>
                  <a:lnTo>
                    <a:pt x="6268" y="1463"/>
                  </a:lnTo>
                  <a:lnTo>
                    <a:pt x="5888" y="1795"/>
                  </a:lnTo>
                  <a:lnTo>
                    <a:pt x="5573" y="2377"/>
                  </a:lnTo>
                  <a:lnTo>
                    <a:pt x="5197" y="2660"/>
                  </a:lnTo>
                  <a:lnTo>
                    <a:pt x="4881" y="3107"/>
                  </a:lnTo>
                  <a:lnTo>
                    <a:pt x="4879" y="3110"/>
                  </a:lnTo>
                  <a:lnTo>
                    <a:pt x="4505" y="3219"/>
                  </a:lnTo>
                  <a:lnTo>
                    <a:pt x="4184" y="3502"/>
                  </a:lnTo>
                  <a:lnTo>
                    <a:pt x="3813" y="3469"/>
                  </a:lnTo>
                  <a:lnTo>
                    <a:pt x="3490" y="3642"/>
                  </a:lnTo>
                  <a:lnTo>
                    <a:pt x="3487" y="3642"/>
                  </a:lnTo>
                  <a:lnTo>
                    <a:pt x="3118" y="3499"/>
                  </a:lnTo>
                  <a:lnTo>
                    <a:pt x="2793" y="3585"/>
                  </a:lnTo>
                  <a:lnTo>
                    <a:pt x="2425" y="3297"/>
                  </a:lnTo>
                  <a:lnTo>
                    <a:pt x="2096" y="3265"/>
                  </a:lnTo>
                  <a:lnTo>
                    <a:pt x="1728" y="2738"/>
                  </a:lnTo>
                  <a:lnTo>
                    <a:pt x="1399" y="2547"/>
                  </a:lnTo>
                  <a:lnTo>
                    <a:pt x="1034" y="1808"/>
                  </a:lnTo>
                  <a:lnTo>
                    <a:pt x="700" y="1566"/>
                  </a:lnTo>
                  <a:lnTo>
                    <a:pt x="337" y="920"/>
                  </a:lnTo>
                  <a:lnTo>
                    <a:pt x="0" y="79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452"/>
            <p:cNvSpPr/>
            <p:nvPr/>
          </p:nvSpPr>
          <p:spPr>
            <a:xfrm>
              <a:off x="6708600" y="3171960"/>
              <a:ext cx="1098720" cy="474480"/>
            </a:xfrm>
            <a:custGeom>
              <a:avLst/>
              <a:gdLst>
                <a:gd name="textAreaLeft" fmla="*/ 0 w 1098720"/>
                <a:gd name="textAreaRight" fmla="*/ 1099080 w 10987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8309" h="3593">
                  <a:moveTo>
                    <a:pt x="0" y="1014"/>
                  </a:moveTo>
                  <a:lnTo>
                    <a:pt x="330" y="1186"/>
                  </a:lnTo>
                  <a:lnTo>
                    <a:pt x="697" y="1902"/>
                  </a:lnTo>
                  <a:lnTo>
                    <a:pt x="1024" y="2149"/>
                  </a:lnTo>
                  <a:lnTo>
                    <a:pt x="1391" y="2832"/>
                  </a:lnTo>
                  <a:lnTo>
                    <a:pt x="1719" y="2967"/>
                  </a:lnTo>
                  <a:lnTo>
                    <a:pt x="2088" y="3391"/>
                  </a:lnTo>
                  <a:lnTo>
                    <a:pt x="2411" y="3375"/>
                  </a:lnTo>
                  <a:lnTo>
                    <a:pt x="2781" y="3593"/>
                  </a:lnTo>
                  <a:lnTo>
                    <a:pt x="2785" y="3593"/>
                  </a:lnTo>
                  <a:lnTo>
                    <a:pt x="3104" y="3472"/>
                  </a:lnTo>
                  <a:lnTo>
                    <a:pt x="3476" y="3563"/>
                  </a:lnTo>
                  <a:lnTo>
                    <a:pt x="3796" y="3346"/>
                  </a:lnTo>
                  <a:lnTo>
                    <a:pt x="4168" y="3313"/>
                  </a:lnTo>
                  <a:lnTo>
                    <a:pt x="4486" y="2956"/>
                  </a:lnTo>
                  <a:lnTo>
                    <a:pt x="4856" y="2756"/>
                  </a:lnTo>
                  <a:lnTo>
                    <a:pt x="4860" y="2754"/>
                  </a:lnTo>
                  <a:lnTo>
                    <a:pt x="5174" y="2227"/>
                  </a:lnTo>
                  <a:lnTo>
                    <a:pt x="5551" y="1889"/>
                  </a:lnTo>
                  <a:lnTo>
                    <a:pt x="5863" y="1310"/>
                  </a:lnTo>
                  <a:lnTo>
                    <a:pt x="6243" y="1022"/>
                  </a:lnTo>
                  <a:lnTo>
                    <a:pt x="6245" y="1020"/>
                  </a:lnTo>
                  <a:lnTo>
                    <a:pt x="6552" y="579"/>
                  </a:lnTo>
                  <a:lnTo>
                    <a:pt x="6931" y="463"/>
                  </a:lnTo>
                  <a:lnTo>
                    <a:pt x="7240" y="175"/>
                  </a:lnTo>
                  <a:lnTo>
                    <a:pt x="7623" y="196"/>
                  </a:lnTo>
                  <a:lnTo>
                    <a:pt x="7926" y="0"/>
                  </a:lnTo>
                  <a:lnTo>
                    <a:pt x="8309" y="9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453"/>
            <p:cNvSpPr/>
            <p:nvPr/>
          </p:nvSpPr>
          <p:spPr>
            <a:xfrm>
              <a:off x="6753240" y="3164040"/>
              <a:ext cx="1004760" cy="46656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7596" h="3523">
                  <a:moveTo>
                    <a:pt x="7596" y="51"/>
                  </a:moveTo>
                  <a:lnTo>
                    <a:pt x="7215" y="0"/>
                  </a:lnTo>
                  <a:lnTo>
                    <a:pt x="6910" y="226"/>
                  </a:lnTo>
                  <a:lnTo>
                    <a:pt x="6531" y="274"/>
                  </a:lnTo>
                  <a:lnTo>
                    <a:pt x="6222" y="630"/>
                  </a:lnTo>
                  <a:lnTo>
                    <a:pt x="6220" y="632"/>
                  </a:lnTo>
                  <a:lnTo>
                    <a:pt x="5846" y="839"/>
                  </a:lnTo>
                  <a:lnTo>
                    <a:pt x="5533" y="1361"/>
                  </a:lnTo>
                  <a:lnTo>
                    <a:pt x="5159" y="1702"/>
                  </a:lnTo>
                  <a:lnTo>
                    <a:pt x="4844" y="2278"/>
                  </a:lnTo>
                  <a:lnTo>
                    <a:pt x="4470" y="2569"/>
                  </a:lnTo>
                  <a:lnTo>
                    <a:pt x="4158" y="3005"/>
                  </a:lnTo>
                  <a:lnTo>
                    <a:pt x="4156" y="3007"/>
                  </a:lnTo>
                  <a:lnTo>
                    <a:pt x="3784" y="3123"/>
                  </a:lnTo>
                  <a:lnTo>
                    <a:pt x="3466" y="3397"/>
                  </a:lnTo>
                  <a:lnTo>
                    <a:pt x="3095" y="3362"/>
                  </a:lnTo>
                  <a:lnTo>
                    <a:pt x="2774" y="3523"/>
                  </a:lnTo>
                  <a:lnTo>
                    <a:pt x="2772" y="3523"/>
                  </a:lnTo>
                  <a:lnTo>
                    <a:pt x="2406" y="3362"/>
                  </a:lnTo>
                  <a:lnTo>
                    <a:pt x="2081" y="3426"/>
                  </a:lnTo>
                  <a:lnTo>
                    <a:pt x="1714" y="3090"/>
                  </a:lnTo>
                  <a:lnTo>
                    <a:pt x="1389" y="3018"/>
                  </a:lnTo>
                  <a:lnTo>
                    <a:pt x="1023" y="2423"/>
                  </a:lnTo>
                  <a:lnTo>
                    <a:pt x="694" y="2200"/>
                  </a:lnTo>
                  <a:lnTo>
                    <a:pt x="331" y="1457"/>
                  </a:lnTo>
                  <a:lnTo>
                    <a:pt x="0" y="123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454"/>
            <p:cNvSpPr/>
            <p:nvPr/>
          </p:nvSpPr>
          <p:spPr>
            <a:xfrm>
              <a:off x="6796080" y="3164040"/>
              <a:ext cx="911160" cy="4442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6884" h="3365">
                  <a:moveTo>
                    <a:pt x="0" y="1460"/>
                  </a:moveTo>
                  <a:lnTo>
                    <a:pt x="328" y="1705"/>
                  </a:lnTo>
                  <a:lnTo>
                    <a:pt x="692" y="2426"/>
                  </a:lnTo>
                  <a:lnTo>
                    <a:pt x="1018" y="2601"/>
                  </a:lnTo>
                  <a:lnTo>
                    <a:pt x="1383" y="3093"/>
                  </a:lnTo>
                  <a:lnTo>
                    <a:pt x="1706" y="3112"/>
                  </a:lnTo>
                  <a:lnTo>
                    <a:pt x="2075" y="3365"/>
                  </a:lnTo>
                  <a:lnTo>
                    <a:pt x="2078" y="3365"/>
                  </a:lnTo>
                  <a:lnTo>
                    <a:pt x="2396" y="3262"/>
                  </a:lnTo>
                  <a:lnTo>
                    <a:pt x="2764" y="3365"/>
                  </a:lnTo>
                  <a:lnTo>
                    <a:pt x="3082" y="3158"/>
                  </a:lnTo>
                  <a:lnTo>
                    <a:pt x="3453" y="3126"/>
                  </a:lnTo>
                  <a:lnTo>
                    <a:pt x="3768" y="2776"/>
                  </a:lnTo>
                  <a:lnTo>
                    <a:pt x="4137" y="2574"/>
                  </a:lnTo>
                  <a:lnTo>
                    <a:pt x="4139" y="2572"/>
                  </a:lnTo>
                  <a:lnTo>
                    <a:pt x="4454" y="2050"/>
                  </a:lnTo>
                  <a:lnTo>
                    <a:pt x="4828" y="1705"/>
                  </a:lnTo>
                  <a:lnTo>
                    <a:pt x="5137" y="1135"/>
                  </a:lnTo>
                  <a:lnTo>
                    <a:pt x="5515" y="842"/>
                  </a:lnTo>
                  <a:lnTo>
                    <a:pt x="5517" y="840"/>
                  </a:lnTo>
                  <a:lnTo>
                    <a:pt x="5820" y="404"/>
                  </a:lnTo>
                  <a:lnTo>
                    <a:pt x="6200" y="277"/>
                  </a:lnTo>
                  <a:lnTo>
                    <a:pt x="6504" y="0"/>
                  </a:lnTo>
                  <a:lnTo>
                    <a:pt x="6884" y="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455"/>
            <p:cNvSpPr/>
            <p:nvPr/>
          </p:nvSpPr>
          <p:spPr>
            <a:xfrm>
              <a:off x="6838920" y="3164040"/>
              <a:ext cx="817560" cy="4316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6176" h="3262">
                  <a:moveTo>
                    <a:pt x="6176" y="0"/>
                  </a:moveTo>
                  <a:lnTo>
                    <a:pt x="5799" y="60"/>
                  </a:lnTo>
                  <a:lnTo>
                    <a:pt x="5492" y="404"/>
                  </a:lnTo>
                  <a:lnTo>
                    <a:pt x="5490" y="406"/>
                  </a:lnTo>
                  <a:lnTo>
                    <a:pt x="5118" y="622"/>
                  </a:lnTo>
                  <a:lnTo>
                    <a:pt x="4809" y="1135"/>
                  </a:lnTo>
                  <a:lnTo>
                    <a:pt x="4435" y="1485"/>
                  </a:lnTo>
                  <a:lnTo>
                    <a:pt x="4126" y="2050"/>
                  </a:lnTo>
                  <a:lnTo>
                    <a:pt x="3755" y="2343"/>
                  </a:lnTo>
                  <a:lnTo>
                    <a:pt x="3442" y="2773"/>
                  </a:lnTo>
                  <a:lnTo>
                    <a:pt x="3440" y="2776"/>
                  </a:lnTo>
                  <a:lnTo>
                    <a:pt x="3071" y="2892"/>
                  </a:lnTo>
                  <a:lnTo>
                    <a:pt x="2754" y="3158"/>
                  </a:lnTo>
                  <a:lnTo>
                    <a:pt x="2384" y="3115"/>
                  </a:lnTo>
                  <a:lnTo>
                    <a:pt x="2070" y="3262"/>
                  </a:lnTo>
                  <a:lnTo>
                    <a:pt x="2068" y="3262"/>
                  </a:lnTo>
                  <a:lnTo>
                    <a:pt x="1701" y="3077"/>
                  </a:lnTo>
                  <a:lnTo>
                    <a:pt x="1378" y="3112"/>
                  </a:lnTo>
                  <a:lnTo>
                    <a:pt x="1015" y="2719"/>
                  </a:lnTo>
                  <a:lnTo>
                    <a:pt x="690" y="2601"/>
                  </a:lnTo>
                  <a:lnTo>
                    <a:pt x="327" y="1950"/>
                  </a:lnTo>
                  <a:lnTo>
                    <a:pt x="0" y="170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456"/>
            <p:cNvSpPr/>
            <p:nvPr/>
          </p:nvSpPr>
          <p:spPr>
            <a:xfrm>
              <a:off x="6883560" y="3171960"/>
              <a:ext cx="723600" cy="40464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5472" h="3055">
                  <a:moveTo>
                    <a:pt x="0" y="1890"/>
                  </a:moveTo>
                  <a:lnTo>
                    <a:pt x="325" y="2100"/>
                  </a:lnTo>
                  <a:lnTo>
                    <a:pt x="688" y="2659"/>
                  </a:lnTo>
                  <a:lnTo>
                    <a:pt x="1008" y="2716"/>
                  </a:lnTo>
                  <a:lnTo>
                    <a:pt x="1374" y="3017"/>
                  </a:lnTo>
                  <a:lnTo>
                    <a:pt x="1692" y="2933"/>
                  </a:lnTo>
                  <a:lnTo>
                    <a:pt x="2055" y="3055"/>
                  </a:lnTo>
                  <a:lnTo>
                    <a:pt x="2057" y="3055"/>
                  </a:lnTo>
                  <a:lnTo>
                    <a:pt x="2375" y="2859"/>
                  </a:lnTo>
                  <a:lnTo>
                    <a:pt x="2744" y="2832"/>
                  </a:lnTo>
                  <a:lnTo>
                    <a:pt x="3056" y="2487"/>
                  </a:lnTo>
                  <a:lnTo>
                    <a:pt x="3424" y="2286"/>
                  </a:lnTo>
                  <a:lnTo>
                    <a:pt x="3428" y="2283"/>
                  </a:lnTo>
                  <a:lnTo>
                    <a:pt x="3737" y="1769"/>
                  </a:lnTo>
                  <a:lnTo>
                    <a:pt x="4108" y="1425"/>
                  </a:lnTo>
                  <a:lnTo>
                    <a:pt x="4417" y="860"/>
                  </a:lnTo>
                  <a:lnTo>
                    <a:pt x="4791" y="562"/>
                  </a:lnTo>
                  <a:lnTo>
                    <a:pt x="4795" y="559"/>
                  </a:lnTo>
                  <a:lnTo>
                    <a:pt x="5098" y="132"/>
                  </a:lnTo>
                  <a:lnTo>
                    <a:pt x="547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457"/>
            <p:cNvSpPr/>
            <p:nvPr/>
          </p:nvSpPr>
          <p:spPr>
            <a:xfrm>
              <a:off x="6926400" y="3189240"/>
              <a:ext cx="631800" cy="37008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773" h="2801">
                  <a:moveTo>
                    <a:pt x="4773" y="0"/>
                  </a:moveTo>
                  <a:lnTo>
                    <a:pt x="4771" y="2"/>
                  </a:lnTo>
                  <a:lnTo>
                    <a:pt x="4399" y="220"/>
                  </a:lnTo>
                  <a:lnTo>
                    <a:pt x="4092" y="728"/>
                  </a:lnTo>
                  <a:lnTo>
                    <a:pt x="3722" y="1076"/>
                  </a:lnTo>
                  <a:lnTo>
                    <a:pt x="3412" y="1637"/>
                  </a:lnTo>
                  <a:lnTo>
                    <a:pt x="3043" y="1927"/>
                  </a:lnTo>
                  <a:lnTo>
                    <a:pt x="2734" y="2353"/>
                  </a:lnTo>
                  <a:lnTo>
                    <a:pt x="2731" y="2355"/>
                  </a:lnTo>
                  <a:lnTo>
                    <a:pt x="2365" y="2466"/>
                  </a:lnTo>
                  <a:lnTo>
                    <a:pt x="2050" y="2727"/>
                  </a:lnTo>
                  <a:lnTo>
                    <a:pt x="1685" y="2670"/>
                  </a:lnTo>
                  <a:lnTo>
                    <a:pt x="1369" y="2801"/>
                  </a:lnTo>
                  <a:lnTo>
                    <a:pt x="1367" y="2801"/>
                  </a:lnTo>
                  <a:lnTo>
                    <a:pt x="1004" y="2581"/>
                  </a:lnTo>
                  <a:lnTo>
                    <a:pt x="683" y="2584"/>
                  </a:lnTo>
                  <a:lnTo>
                    <a:pt x="320" y="2130"/>
                  </a:lnTo>
                  <a:lnTo>
                    <a:pt x="0" y="1968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458"/>
            <p:cNvSpPr/>
            <p:nvPr/>
          </p:nvSpPr>
          <p:spPr>
            <a:xfrm>
              <a:off x="6967440" y="3218040"/>
              <a:ext cx="540000" cy="32544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4079" h="2450">
                  <a:moveTo>
                    <a:pt x="0" y="1910"/>
                  </a:moveTo>
                  <a:lnTo>
                    <a:pt x="321" y="2006"/>
                  </a:lnTo>
                  <a:lnTo>
                    <a:pt x="684" y="2361"/>
                  </a:lnTo>
                  <a:lnTo>
                    <a:pt x="1001" y="2302"/>
                  </a:lnTo>
                  <a:lnTo>
                    <a:pt x="1361" y="2450"/>
                  </a:lnTo>
                  <a:lnTo>
                    <a:pt x="1365" y="2450"/>
                  </a:lnTo>
                  <a:lnTo>
                    <a:pt x="1679" y="2264"/>
                  </a:lnTo>
                  <a:lnTo>
                    <a:pt x="2045" y="2246"/>
                  </a:lnTo>
                  <a:lnTo>
                    <a:pt x="2358" y="1910"/>
                  </a:lnTo>
                  <a:lnTo>
                    <a:pt x="2721" y="1710"/>
                  </a:lnTo>
                  <a:lnTo>
                    <a:pt x="2723" y="1707"/>
                  </a:lnTo>
                  <a:lnTo>
                    <a:pt x="3033" y="1199"/>
                  </a:lnTo>
                  <a:lnTo>
                    <a:pt x="3402" y="856"/>
                  </a:lnTo>
                  <a:lnTo>
                    <a:pt x="3710" y="299"/>
                  </a:lnTo>
                  <a:lnTo>
                    <a:pt x="407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459"/>
            <p:cNvSpPr/>
            <p:nvPr/>
          </p:nvSpPr>
          <p:spPr>
            <a:xfrm>
              <a:off x="7010280" y="3257640"/>
              <a:ext cx="449280" cy="2649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389" h="2003">
                  <a:moveTo>
                    <a:pt x="3389" y="0"/>
                  </a:moveTo>
                  <a:lnTo>
                    <a:pt x="3021" y="346"/>
                  </a:lnTo>
                  <a:lnTo>
                    <a:pt x="2712" y="900"/>
                  </a:lnTo>
                  <a:lnTo>
                    <a:pt x="2346" y="1188"/>
                  </a:lnTo>
                  <a:lnTo>
                    <a:pt x="2039" y="1607"/>
                  </a:lnTo>
                  <a:lnTo>
                    <a:pt x="2037" y="1611"/>
                  </a:lnTo>
                  <a:lnTo>
                    <a:pt x="1670" y="1715"/>
                  </a:lnTo>
                  <a:lnTo>
                    <a:pt x="1358" y="1965"/>
                  </a:lnTo>
                  <a:lnTo>
                    <a:pt x="995" y="1890"/>
                  </a:lnTo>
                  <a:lnTo>
                    <a:pt x="683" y="2003"/>
                  </a:lnTo>
                  <a:lnTo>
                    <a:pt x="680" y="2003"/>
                  </a:lnTo>
                  <a:lnTo>
                    <a:pt x="317" y="1742"/>
                  </a:lnTo>
                  <a:lnTo>
                    <a:pt x="0" y="170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460"/>
            <p:cNvSpPr/>
            <p:nvPr/>
          </p:nvSpPr>
          <p:spPr>
            <a:xfrm>
              <a:off x="7053120" y="3303720"/>
              <a:ext cx="357480" cy="20448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704" h="1544">
                  <a:moveTo>
                    <a:pt x="0" y="1396"/>
                  </a:moveTo>
                  <a:lnTo>
                    <a:pt x="315" y="1367"/>
                  </a:lnTo>
                  <a:lnTo>
                    <a:pt x="676" y="1544"/>
                  </a:lnTo>
                  <a:lnTo>
                    <a:pt x="678" y="1544"/>
                  </a:lnTo>
                  <a:lnTo>
                    <a:pt x="990" y="1374"/>
                  </a:lnTo>
                  <a:lnTo>
                    <a:pt x="1353" y="1369"/>
                  </a:lnTo>
                  <a:lnTo>
                    <a:pt x="1663" y="1042"/>
                  </a:lnTo>
                  <a:lnTo>
                    <a:pt x="2026" y="844"/>
                  </a:lnTo>
                  <a:lnTo>
                    <a:pt x="2029" y="842"/>
                  </a:lnTo>
                  <a:lnTo>
                    <a:pt x="2339" y="342"/>
                  </a:lnTo>
                  <a:lnTo>
                    <a:pt x="270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461"/>
            <p:cNvSpPr/>
            <p:nvPr/>
          </p:nvSpPr>
          <p:spPr>
            <a:xfrm>
              <a:off x="7094520" y="3349800"/>
              <a:ext cx="266760" cy="13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24" h="1032">
                  <a:moveTo>
                    <a:pt x="2024" y="0"/>
                  </a:moveTo>
                  <a:lnTo>
                    <a:pt x="1657" y="282"/>
                  </a:lnTo>
                  <a:lnTo>
                    <a:pt x="1350" y="696"/>
                  </a:lnTo>
                  <a:lnTo>
                    <a:pt x="1348" y="700"/>
                  </a:lnTo>
                  <a:lnTo>
                    <a:pt x="987" y="794"/>
                  </a:lnTo>
                  <a:lnTo>
                    <a:pt x="675" y="1032"/>
                  </a:lnTo>
                  <a:lnTo>
                    <a:pt x="314" y="936"/>
                  </a:lnTo>
                  <a:lnTo>
                    <a:pt x="2" y="1025"/>
                  </a:lnTo>
                  <a:lnTo>
                    <a:pt x="0" y="102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462"/>
            <p:cNvSpPr/>
            <p:nvPr/>
          </p:nvSpPr>
          <p:spPr>
            <a:xfrm>
              <a:off x="7135920" y="3386160"/>
              <a:ext cx="177840" cy="87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343" h="654">
                  <a:moveTo>
                    <a:pt x="0" y="654"/>
                  </a:moveTo>
                  <a:lnTo>
                    <a:pt x="3" y="654"/>
                  </a:lnTo>
                  <a:lnTo>
                    <a:pt x="310" y="501"/>
                  </a:lnTo>
                  <a:lnTo>
                    <a:pt x="673" y="512"/>
                  </a:lnTo>
                  <a:lnTo>
                    <a:pt x="980" y="191"/>
                  </a:lnTo>
                  <a:lnTo>
                    <a:pt x="1341" y="3"/>
                  </a:lnTo>
                  <a:lnTo>
                    <a:pt x="134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463"/>
            <p:cNvSpPr/>
            <p:nvPr/>
          </p:nvSpPr>
          <p:spPr>
            <a:xfrm>
              <a:off x="7176960" y="3411360"/>
              <a:ext cx="88920" cy="41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70" h="310">
                  <a:moveTo>
                    <a:pt x="670" y="0"/>
                  </a:moveTo>
                  <a:lnTo>
                    <a:pt x="309" y="84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Line 464"/>
            <p:cNvSpPr/>
            <p:nvPr/>
          </p:nvSpPr>
          <p:spPr>
            <a:xfrm>
              <a:off x="6332400" y="3324240"/>
              <a:ext cx="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93" name="AutoShape 465"/>
          <p:cNvCxnSpPr>
            <a:stCxn id="1430" idx="6"/>
            <a:endCxn id="1849" idx="2"/>
          </p:cNvCxnSpPr>
          <p:nvPr/>
        </p:nvCxnSpPr>
        <p:spPr>
          <a:xfrm>
            <a:off x="4648320" y="2133720"/>
            <a:ext cx="1519920" cy="159912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4" name="AutoShape 466"/>
          <p:cNvCxnSpPr>
            <a:stCxn id="1431" idx="6"/>
            <a:endCxn id="1849" idx="2"/>
          </p:cNvCxnSpPr>
          <p:nvPr/>
        </p:nvCxnSpPr>
        <p:spPr>
          <a:xfrm flipV="1">
            <a:off x="4648320" y="3731400"/>
            <a:ext cx="1519920" cy="396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5" name="AutoShape 467"/>
          <p:cNvCxnSpPr>
            <a:stCxn id="1432" idx="6"/>
            <a:endCxn id="1849" idx="2"/>
          </p:cNvCxnSpPr>
          <p:nvPr/>
        </p:nvCxnSpPr>
        <p:spPr>
          <a:xfrm flipV="1">
            <a:off x="4648320" y="3731760"/>
            <a:ext cx="1519920" cy="160416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sp>
        <p:nvSpPr>
          <p:cNvPr id="1896" name="Text Box 468"/>
          <p:cNvSpPr/>
          <p:nvPr/>
        </p:nvSpPr>
        <p:spPr>
          <a:xfrm rot="16200000">
            <a:off x="296640" y="260100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469"/>
          <p:cNvSpPr/>
          <p:nvPr/>
        </p:nvSpPr>
        <p:spPr>
          <a:xfrm rot="16200000">
            <a:off x="293400" y="434340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p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8" name="AutoShape 470"/>
          <p:cNvCxnSpPr>
            <a:stCxn id="1896" idx="2"/>
            <a:endCxn id="1561" idx="2"/>
          </p:cNvCxnSpPr>
          <p:nvPr/>
        </p:nvCxnSpPr>
        <p:spPr>
          <a:xfrm flipV="1">
            <a:off x="1347840" y="2133360"/>
            <a:ext cx="1776960" cy="73080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9" name="AutoShape 471"/>
          <p:cNvCxnSpPr>
            <a:stCxn id="1896" idx="2"/>
            <a:endCxn id="1562" idx="2"/>
          </p:cNvCxnSpPr>
          <p:nvPr/>
        </p:nvCxnSpPr>
        <p:spPr>
          <a:xfrm>
            <a:off x="1347840" y="2863440"/>
            <a:ext cx="1776960" cy="8722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0" name="AutoShape 472"/>
          <p:cNvCxnSpPr>
            <a:stCxn id="1896" idx="2"/>
            <a:endCxn id="1563" idx="2"/>
          </p:cNvCxnSpPr>
          <p:nvPr/>
        </p:nvCxnSpPr>
        <p:spPr>
          <a:xfrm>
            <a:off x="1347840" y="2863800"/>
            <a:ext cx="1776960" cy="24724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1" name="AutoShape 473"/>
          <p:cNvCxnSpPr>
            <a:stCxn id="1897" idx="2"/>
            <a:endCxn id="1561" idx="2"/>
          </p:cNvCxnSpPr>
          <p:nvPr/>
        </p:nvCxnSpPr>
        <p:spPr>
          <a:xfrm flipV="1">
            <a:off x="1345680" y="2133360"/>
            <a:ext cx="1778760" cy="24724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2" name="AutoShape 474"/>
          <p:cNvCxnSpPr>
            <a:stCxn id="1897" idx="2"/>
            <a:endCxn id="1562" idx="2"/>
          </p:cNvCxnSpPr>
          <p:nvPr/>
        </p:nvCxnSpPr>
        <p:spPr>
          <a:xfrm flipV="1">
            <a:off x="1345680" y="3734640"/>
            <a:ext cx="1778760" cy="87084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3" name="AutoShape 475"/>
          <p:cNvCxnSpPr>
            <a:stCxn id="1897" idx="2"/>
            <a:endCxn id="1563" idx="2"/>
          </p:cNvCxnSpPr>
          <p:nvPr/>
        </p:nvCxnSpPr>
        <p:spPr>
          <a:xfrm>
            <a:off x="1345680" y="4605480"/>
            <a:ext cx="1778760" cy="73080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sp>
        <p:nvSpPr>
          <p:cNvPr id="1904" name="Rectangle 476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2" descr=""/>
          <p:cNvPicPr/>
          <p:nvPr/>
        </p:nvPicPr>
        <p:blipFill>
          <a:blip r:embed="rId1"/>
          <a:stretch/>
        </p:blipFill>
        <p:spPr>
          <a:xfrm>
            <a:off x="5106960" y="2514600"/>
            <a:ext cx="3198960" cy="3198960"/>
          </a:xfrm>
          <a:prstGeom prst="rect">
            <a:avLst/>
          </a:prstGeom>
          <a:ln w="0">
            <a:noFill/>
          </a:ln>
        </p:spPr>
      </p:pic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ventaja RN: Sobreaju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7" name="Text Box 4"/>
          <p:cNvSpPr/>
          <p:nvPr/>
        </p:nvSpPr>
        <p:spPr>
          <a:xfrm>
            <a:off x="1554480" y="5734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os de Entr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5"/>
          <p:cNvSpPr/>
          <p:nvPr/>
        </p:nvSpPr>
        <p:spPr>
          <a:xfrm>
            <a:off x="6306120" y="5734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6"/>
          <p:cNvSpPr/>
          <p:nvPr/>
        </p:nvSpPr>
        <p:spPr>
          <a:xfrm>
            <a:off x="1981440" y="20574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 =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7"/>
          <p:cNvSpPr/>
          <p:nvPr/>
        </p:nvSpPr>
        <p:spPr>
          <a:xfrm>
            <a:off x="56386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Picture 8" descr=""/>
          <p:cNvPicPr/>
          <p:nvPr/>
        </p:nvPicPr>
        <p:blipFill>
          <a:blip r:embed="rId2"/>
          <a:stretch/>
        </p:blipFill>
        <p:spPr>
          <a:xfrm>
            <a:off x="1449360" y="2514600"/>
            <a:ext cx="3198960" cy="31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2" name="Object 9"/>
          <p:cNvGraphicFramePr/>
          <p:nvPr/>
        </p:nvGraphicFramePr>
        <p:xfrm>
          <a:off x="1447920" y="2514600"/>
          <a:ext cx="3189240" cy="31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514600"/>
                    <a:ext cx="3189240" cy="3189240"/>
                  </a:xfrm>
                  <a:prstGeom prst="rect">
                    <a:avLst/>
                  </a:prstGeom>
                  <a:ln w="25560">
                    <a:solidFill>
                      <a:srgbClr val="00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14" name="Object 10"/>
          <p:cNvGraphicFramePr/>
          <p:nvPr/>
        </p:nvGraphicFramePr>
        <p:xfrm>
          <a:off x="5105520" y="2514600"/>
          <a:ext cx="3189240" cy="31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514600"/>
                    <a:ext cx="3189240" cy="3189240"/>
                  </a:xfrm>
                  <a:prstGeom prst="rect">
                    <a:avLst/>
                  </a:prstGeom>
                  <a:ln w="25560">
                    <a:solidFill>
                      <a:srgbClr val="00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026"/>
          <p:cNvGrpSpPr/>
          <p:nvPr/>
        </p:nvGrpSpPr>
        <p:grpSpPr>
          <a:xfrm>
            <a:off x="4211640" y="4797360"/>
            <a:ext cx="1366920" cy="868320"/>
            <a:chOff x="4211640" y="4797360"/>
            <a:chExt cx="1366920" cy="868320"/>
          </a:xfrm>
        </p:grpSpPr>
        <p:grpSp>
          <p:nvGrpSpPr>
            <p:cNvPr id="100" name="Group 1027"/>
            <p:cNvGrpSpPr/>
            <p:nvPr/>
          </p:nvGrpSpPr>
          <p:grpSpPr>
            <a:xfrm>
              <a:off x="4765680" y="5165640"/>
              <a:ext cx="812880" cy="466920"/>
              <a:chOff x="4765680" y="5165640"/>
              <a:chExt cx="812880" cy="466920"/>
            </a:xfrm>
          </p:grpSpPr>
          <p:grpSp>
            <p:nvGrpSpPr>
              <p:cNvPr id="101" name="Group 1028"/>
              <p:cNvGrpSpPr/>
              <p:nvPr/>
            </p:nvGrpSpPr>
            <p:grpSpPr>
              <a:xfrm>
                <a:off x="5313240" y="5281560"/>
                <a:ext cx="265320" cy="317520"/>
                <a:chOff x="5313240" y="5281560"/>
                <a:chExt cx="265320" cy="317520"/>
              </a:xfrm>
            </p:grpSpPr>
            <p:sp>
              <p:nvSpPr>
                <p:cNvPr id="102" name="Freeform 1029"/>
                <p:cNvSpPr/>
                <p:nvPr/>
              </p:nvSpPr>
              <p:spPr>
                <a:xfrm>
                  <a:off x="5313240" y="5281560"/>
                  <a:ext cx="265320" cy="317520"/>
                </a:xfrm>
                <a:custGeom>
                  <a:avLst/>
                  <a:gdLst>
                    <a:gd name="textAreaLeft" fmla="*/ 0 w 265320"/>
                    <a:gd name="textAreaRight" fmla="*/ 265680 w 26532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167" h="200">
                      <a:moveTo>
                        <a:pt x="50" y="8"/>
                      </a:moveTo>
                      <a:lnTo>
                        <a:pt x="56" y="5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82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5" y="2"/>
                      </a:lnTo>
                      <a:lnTo>
                        <a:pt x="112" y="4"/>
                      </a:lnTo>
                      <a:lnTo>
                        <a:pt x="119" y="7"/>
                      </a:lnTo>
                      <a:lnTo>
                        <a:pt x="122" y="9"/>
                      </a:lnTo>
                      <a:lnTo>
                        <a:pt x="121" y="21"/>
                      </a:lnTo>
                      <a:lnTo>
                        <a:pt x="120" y="32"/>
                      </a:lnTo>
                      <a:lnTo>
                        <a:pt x="120" y="43"/>
                      </a:lnTo>
                      <a:lnTo>
                        <a:pt x="120" y="51"/>
                      </a:lnTo>
                      <a:lnTo>
                        <a:pt x="120" y="60"/>
                      </a:lnTo>
                      <a:lnTo>
                        <a:pt x="122" y="66"/>
                      </a:lnTo>
                      <a:lnTo>
                        <a:pt x="123" y="72"/>
                      </a:lnTo>
                      <a:lnTo>
                        <a:pt x="124" y="77"/>
                      </a:lnTo>
                      <a:lnTo>
                        <a:pt x="126" y="83"/>
                      </a:lnTo>
                      <a:lnTo>
                        <a:pt x="127" y="88"/>
                      </a:lnTo>
                      <a:lnTo>
                        <a:pt x="129" y="92"/>
                      </a:lnTo>
                      <a:lnTo>
                        <a:pt x="132" y="101"/>
                      </a:lnTo>
                      <a:lnTo>
                        <a:pt x="136" y="111"/>
                      </a:lnTo>
                      <a:lnTo>
                        <a:pt x="142" y="124"/>
                      </a:lnTo>
                      <a:lnTo>
                        <a:pt x="148" y="137"/>
                      </a:lnTo>
                      <a:lnTo>
                        <a:pt x="155" y="149"/>
                      </a:lnTo>
                      <a:lnTo>
                        <a:pt x="159" y="157"/>
                      </a:lnTo>
                      <a:lnTo>
                        <a:pt x="166" y="165"/>
                      </a:lnTo>
                      <a:lnTo>
                        <a:pt x="166" y="190"/>
                      </a:lnTo>
                      <a:lnTo>
                        <a:pt x="156" y="193"/>
                      </a:lnTo>
                      <a:lnTo>
                        <a:pt x="145" y="195"/>
                      </a:lnTo>
                      <a:lnTo>
                        <a:pt x="130" y="197"/>
                      </a:lnTo>
                      <a:lnTo>
                        <a:pt x="112" y="199"/>
                      </a:lnTo>
                      <a:lnTo>
                        <a:pt x="93" y="199"/>
                      </a:lnTo>
                      <a:lnTo>
                        <a:pt x="70" y="199"/>
                      </a:lnTo>
                      <a:lnTo>
                        <a:pt x="51" y="198"/>
                      </a:lnTo>
                      <a:lnTo>
                        <a:pt x="31" y="196"/>
                      </a:lnTo>
                      <a:lnTo>
                        <a:pt x="18" y="194"/>
                      </a:lnTo>
                      <a:lnTo>
                        <a:pt x="10" y="193"/>
                      </a:lnTo>
                      <a:lnTo>
                        <a:pt x="0" y="189"/>
                      </a:lnTo>
                      <a:lnTo>
                        <a:pt x="0" y="165"/>
                      </a:lnTo>
                      <a:lnTo>
                        <a:pt x="4" y="160"/>
                      </a:lnTo>
                      <a:lnTo>
                        <a:pt x="9" y="153"/>
                      </a:lnTo>
                      <a:lnTo>
                        <a:pt x="13" y="146"/>
                      </a:lnTo>
                      <a:lnTo>
                        <a:pt x="21" y="134"/>
                      </a:lnTo>
                      <a:lnTo>
                        <a:pt x="27" y="125"/>
                      </a:lnTo>
                      <a:lnTo>
                        <a:pt x="31" y="115"/>
                      </a:lnTo>
                      <a:lnTo>
                        <a:pt x="37" y="104"/>
                      </a:lnTo>
                      <a:lnTo>
                        <a:pt x="41" y="94"/>
                      </a:lnTo>
                      <a:lnTo>
                        <a:pt x="45" y="80"/>
                      </a:lnTo>
                      <a:lnTo>
                        <a:pt x="48" y="69"/>
                      </a:lnTo>
                      <a:lnTo>
                        <a:pt x="50" y="58"/>
                      </a:lnTo>
                      <a:lnTo>
                        <a:pt x="52" y="49"/>
                      </a:lnTo>
                      <a:lnTo>
                        <a:pt x="53" y="37"/>
                      </a:lnTo>
                      <a:lnTo>
                        <a:pt x="53" y="27"/>
                      </a:lnTo>
                      <a:lnTo>
                        <a:pt x="52" y="18"/>
                      </a:lnTo>
                      <a:lnTo>
                        <a:pt x="50" y="8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30"/>
                <p:cNvSpPr/>
                <p:nvPr/>
              </p:nvSpPr>
              <p:spPr>
                <a:xfrm>
                  <a:off x="5313240" y="5281560"/>
                  <a:ext cx="208080" cy="31752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131" h="200">
                      <a:moveTo>
                        <a:pt x="50" y="8"/>
                      </a:moveTo>
                      <a:lnTo>
                        <a:pt x="56" y="5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82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5" y="2"/>
                      </a:lnTo>
                      <a:lnTo>
                        <a:pt x="105" y="11"/>
                      </a:lnTo>
                      <a:lnTo>
                        <a:pt x="104" y="20"/>
                      </a:lnTo>
                      <a:lnTo>
                        <a:pt x="104" y="31"/>
                      </a:lnTo>
                      <a:lnTo>
                        <a:pt x="103" y="42"/>
                      </a:lnTo>
                      <a:lnTo>
                        <a:pt x="103" y="52"/>
                      </a:lnTo>
                      <a:lnTo>
                        <a:pt x="103" y="63"/>
                      </a:lnTo>
                      <a:lnTo>
                        <a:pt x="103" y="73"/>
                      </a:lnTo>
                      <a:lnTo>
                        <a:pt x="104" y="81"/>
                      </a:lnTo>
                      <a:lnTo>
                        <a:pt x="105" y="90"/>
                      </a:lnTo>
                      <a:lnTo>
                        <a:pt x="105" y="98"/>
                      </a:lnTo>
                      <a:lnTo>
                        <a:pt x="106" y="105"/>
                      </a:lnTo>
                      <a:lnTo>
                        <a:pt x="107" y="113"/>
                      </a:lnTo>
                      <a:lnTo>
                        <a:pt x="108" y="120"/>
                      </a:lnTo>
                      <a:lnTo>
                        <a:pt x="110" y="127"/>
                      </a:lnTo>
                      <a:lnTo>
                        <a:pt x="112" y="135"/>
                      </a:lnTo>
                      <a:lnTo>
                        <a:pt x="114" y="141"/>
                      </a:lnTo>
                      <a:lnTo>
                        <a:pt x="119" y="152"/>
                      </a:lnTo>
                      <a:lnTo>
                        <a:pt x="124" y="165"/>
                      </a:lnTo>
                      <a:lnTo>
                        <a:pt x="128" y="173"/>
                      </a:lnTo>
                      <a:lnTo>
                        <a:pt x="130" y="178"/>
                      </a:lnTo>
                      <a:lnTo>
                        <a:pt x="130" y="197"/>
                      </a:lnTo>
                      <a:lnTo>
                        <a:pt x="112" y="199"/>
                      </a:lnTo>
                      <a:lnTo>
                        <a:pt x="93" y="199"/>
                      </a:lnTo>
                      <a:lnTo>
                        <a:pt x="70" y="199"/>
                      </a:lnTo>
                      <a:lnTo>
                        <a:pt x="51" y="198"/>
                      </a:lnTo>
                      <a:lnTo>
                        <a:pt x="31" y="196"/>
                      </a:lnTo>
                      <a:lnTo>
                        <a:pt x="18" y="194"/>
                      </a:lnTo>
                      <a:lnTo>
                        <a:pt x="10" y="193"/>
                      </a:lnTo>
                      <a:lnTo>
                        <a:pt x="0" y="189"/>
                      </a:lnTo>
                      <a:lnTo>
                        <a:pt x="0" y="165"/>
                      </a:lnTo>
                      <a:lnTo>
                        <a:pt x="4" y="160"/>
                      </a:lnTo>
                      <a:lnTo>
                        <a:pt x="9" y="153"/>
                      </a:lnTo>
                      <a:lnTo>
                        <a:pt x="13" y="146"/>
                      </a:lnTo>
                      <a:lnTo>
                        <a:pt x="21" y="134"/>
                      </a:lnTo>
                      <a:lnTo>
                        <a:pt x="27" y="125"/>
                      </a:lnTo>
                      <a:lnTo>
                        <a:pt x="31" y="115"/>
                      </a:lnTo>
                      <a:lnTo>
                        <a:pt x="37" y="104"/>
                      </a:lnTo>
                      <a:lnTo>
                        <a:pt x="41" y="94"/>
                      </a:lnTo>
                      <a:lnTo>
                        <a:pt x="45" y="80"/>
                      </a:lnTo>
                      <a:lnTo>
                        <a:pt x="48" y="69"/>
                      </a:lnTo>
                      <a:lnTo>
                        <a:pt x="50" y="58"/>
                      </a:lnTo>
                      <a:lnTo>
                        <a:pt x="52" y="49"/>
                      </a:lnTo>
                      <a:lnTo>
                        <a:pt x="53" y="37"/>
                      </a:lnTo>
                      <a:lnTo>
                        <a:pt x="53" y="27"/>
                      </a:lnTo>
                      <a:lnTo>
                        <a:pt x="52" y="18"/>
                      </a:lnTo>
                      <a:lnTo>
                        <a:pt x="50" y="8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031"/>
              <p:cNvGrpSpPr/>
              <p:nvPr/>
            </p:nvGrpSpPr>
            <p:grpSpPr>
              <a:xfrm>
                <a:off x="5072040" y="5221440"/>
                <a:ext cx="331920" cy="395280"/>
                <a:chOff x="5072040" y="5221440"/>
                <a:chExt cx="331920" cy="395280"/>
              </a:xfrm>
            </p:grpSpPr>
            <p:sp>
              <p:nvSpPr>
                <p:cNvPr id="105" name="Freeform 1032"/>
                <p:cNvSpPr/>
                <p:nvPr/>
              </p:nvSpPr>
              <p:spPr>
                <a:xfrm>
                  <a:off x="5072040" y="5221440"/>
                  <a:ext cx="331920" cy="39528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62" y="11"/>
                      </a:moveTo>
                      <a:lnTo>
                        <a:pt x="70" y="7"/>
                      </a:lnTo>
                      <a:lnTo>
                        <a:pt x="80" y="4"/>
                      </a:lnTo>
                      <a:lnTo>
                        <a:pt x="91" y="1"/>
                      </a:lnTo>
                      <a:lnTo>
                        <a:pt x="103" y="0"/>
                      </a:lnTo>
                      <a:lnTo>
                        <a:pt x="115" y="0"/>
                      </a:lnTo>
                      <a:lnTo>
                        <a:pt x="125" y="1"/>
                      </a:lnTo>
                      <a:lnTo>
                        <a:pt x="132" y="2"/>
                      </a:lnTo>
                      <a:lnTo>
                        <a:pt x="141" y="5"/>
                      </a:lnTo>
                      <a:lnTo>
                        <a:pt x="149" y="9"/>
                      </a:lnTo>
                      <a:lnTo>
                        <a:pt x="153" y="12"/>
                      </a:lnTo>
                      <a:lnTo>
                        <a:pt x="151" y="26"/>
                      </a:lnTo>
                      <a:lnTo>
                        <a:pt x="150" y="40"/>
                      </a:lnTo>
                      <a:lnTo>
                        <a:pt x="150" y="54"/>
                      </a:lnTo>
                      <a:lnTo>
                        <a:pt x="150" y="64"/>
                      </a:lnTo>
                      <a:lnTo>
                        <a:pt x="151" y="75"/>
                      </a:lnTo>
                      <a:lnTo>
                        <a:pt x="152" y="83"/>
                      </a:lnTo>
                      <a:lnTo>
                        <a:pt x="154" y="90"/>
                      </a:lnTo>
                      <a:lnTo>
                        <a:pt x="155" y="96"/>
                      </a:lnTo>
                      <a:lnTo>
                        <a:pt x="158" y="103"/>
                      </a:lnTo>
                      <a:lnTo>
                        <a:pt x="160" y="110"/>
                      </a:lnTo>
                      <a:lnTo>
                        <a:pt x="162" y="115"/>
                      </a:lnTo>
                      <a:lnTo>
                        <a:pt x="166" y="126"/>
                      </a:lnTo>
                      <a:lnTo>
                        <a:pt x="171" y="138"/>
                      </a:lnTo>
                      <a:lnTo>
                        <a:pt x="178" y="154"/>
                      </a:lnTo>
                      <a:lnTo>
                        <a:pt x="186" y="170"/>
                      </a:lnTo>
                      <a:lnTo>
                        <a:pt x="195" y="186"/>
                      </a:lnTo>
                      <a:lnTo>
                        <a:pt x="199" y="195"/>
                      </a:lnTo>
                      <a:lnTo>
                        <a:pt x="208" y="205"/>
                      </a:lnTo>
                      <a:lnTo>
                        <a:pt x="208" y="236"/>
                      </a:lnTo>
                      <a:lnTo>
                        <a:pt x="195" y="240"/>
                      </a:lnTo>
                      <a:lnTo>
                        <a:pt x="182" y="242"/>
                      </a:lnTo>
                      <a:lnTo>
                        <a:pt x="163" y="245"/>
                      </a:lnTo>
                      <a:lnTo>
                        <a:pt x="141" y="247"/>
                      </a:lnTo>
                      <a:lnTo>
                        <a:pt x="117" y="248"/>
                      </a:lnTo>
                      <a:lnTo>
                        <a:pt x="87" y="248"/>
                      </a:lnTo>
                      <a:lnTo>
                        <a:pt x="63" y="246"/>
                      </a:lnTo>
                      <a:lnTo>
                        <a:pt x="39" y="244"/>
                      </a:lnTo>
                      <a:lnTo>
                        <a:pt x="23" y="241"/>
                      </a:lnTo>
                      <a:lnTo>
                        <a:pt x="12" y="240"/>
                      </a:lnTo>
                      <a:lnTo>
                        <a:pt x="0" y="235"/>
                      </a:lnTo>
                      <a:lnTo>
                        <a:pt x="0" y="205"/>
                      </a:lnTo>
                      <a:lnTo>
                        <a:pt x="6" y="199"/>
                      </a:lnTo>
                      <a:lnTo>
                        <a:pt x="11" y="190"/>
                      </a:lnTo>
                      <a:lnTo>
                        <a:pt x="17" y="182"/>
                      </a:lnTo>
                      <a:lnTo>
                        <a:pt x="27" y="167"/>
                      </a:lnTo>
                      <a:lnTo>
                        <a:pt x="34" y="155"/>
                      </a:lnTo>
                      <a:lnTo>
                        <a:pt x="39" y="143"/>
                      </a:lnTo>
                      <a:lnTo>
                        <a:pt x="46" y="130"/>
                      </a:lnTo>
                      <a:lnTo>
                        <a:pt x="51" y="118"/>
                      </a:lnTo>
                      <a:lnTo>
                        <a:pt x="57" y="101"/>
                      </a:lnTo>
                      <a:lnTo>
                        <a:pt x="61" y="86"/>
                      </a:lnTo>
                      <a:lnTo>
                        <a:pt x="63" y="73"/>
                      </a:lnTo>
                      <a:lnTo>
                        <a:pt x="65" y="61"/>
                      </a:lnTo>
                      <a:lnTo>
                        <a:pt x="66" y="47"/>
                      </a:lnTo>
                      <a:lnTo>
                        <a:pt x="66" y="34"/>
                      </a:lnTo>
                      <a:lnTo>
                        <a:pt x="65" y="23"/>
                      </a:lnTo>
                      <a:lnTo>
                        <a:pt x="62" y="11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033"/>
                <p:cNvSpPr/>
                <p:nvPr/>
              </p:nvSpPr>
              <p:spPr>
                <a:xfrm>
                  <a:off x="5072040" y="5221440"/>
                  <a:ext cx="260280" cy="39528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64" h="249">
                      <a:moveTo>
                        <a:pt x="63" y="11"/>
                      </a:moveTo>
                      <a:lnTo>
                        <a:pt x="70" y="7"/>
                      </a:lnTo>
                      <a:lnTo>
                        <a:pt x="80" y="4"/>
                      </a:lnTo>
                      <a:lnTo>
                        <a:pt x="91" y="1"/>
                      </a:lnTo>
                      <a:lnTo>
                        <a:pt x="103" y="0"/>
                      </a:lnTo>
                      <a:lnTo>
                        <a:pt x="115" y="0"/>
                      </a:lnTo>
                      <a:lnTo>
                        <a:pt x="125" y="1"/>
                      </a:lnTo>
                      <a:lnTo>
                        <a:pt x="132" y="2"/>
                      </a:lnTo>
                      <a:lnTo>
                        <a:pt x="131" y="14"/>
                      </a:lnTo>
                      <a:lnTo>
                        <a:pt x="131" y="25"/>
                      </a:lnTo>
                      <a:lnTo>
                        <a:pt x="130" y="39"/>
                      </a:lnTo>
                      <a:lnTo>
                        <a:pt x="130" y="52"/>
                      </a:lnTo>
                      <a:lnTo>
                        <a:pt x="130" y="65"/>
                      </a:lnTo>
                      <a:lnTo>
                        <a:pt x="130" y="78"/>
                      </a:lnTo>
                      <a:lnTo>
                        <a:pt x="130" y="91"/>
                      </a:lnTo>
                      <a:lnTo>
                        <a:pt x="131" y="101"/>
                      </a:lnTo>
                      <a:lnTo>
                        <a:pt x="132" y="112"/>
                      </a:lnTo>
                      <a:lnTo>
                        <a:pt x="132" y="122"/>
                      </a:lnTo>
                      <a:lnTo>
                        <a:pt x="133" y="131"/>
                      </a:lnTo>
                      <a:lnTo>
                        <a:pt x="135" y="141"/>
                      </a:lnTo>
                      <a:lnTo>
                        <a:pt x="136" y="149"/>
                      </a:lnTo>
                      <a:lnTo>
                        <a:pt x="138" y="158"/>
                      </a:lnTo>
                      <a:lnTo>
                        <a:pt x="140" y="168"/>
                      </a:lnTo>
                      <a:lnTo>
                        <a:pt x="144" y="176"/>
                      </a:lnTo>
                      <a:lnTo>
                        <a:pt x="149" y="189"/>
                      </a:lnTo>
                      <a:lnTo>
                        <a:pt x="156" y="206"/>
                      </a:lnTo>
                      <a:lnTo>
                        <a:pt x="161" y="215"/>
                      </a:lnTo>
                      <a:lnTo>
                        <a:pt x="163" y="222"/>
                      </a:lnTo>
                      <a:lnTo>
                        <a:pt x="163" y="245"/>
                      </a:lnTo>
                      <a:lnTo>
                        <a:pt x="141" y="247"/>
                      </a:lnTo>
                      <a:lnTo>
                        <a:pt x="117" y="248"/>
                      </a:lnTo>
                      <a:lnTo>
                        <a:pt x="88" y="248"/>
                      </a:lnTo>
                      <a:lnTo>
                        <a:pt x="64" y="246"/>
                      </a:lnTo>
                      <a:lnTo>
                        <a:pt x="39" y="244"/>
                      </a:lnTo>
                      <a:lnTo>
                        <a:pt x="23" y="241"/>
                      </a:lnTo>
                      <a:lnTo>
                        <a:pt x="12" y="240"/>
                      </a:lnTo>
                      <a:lnTo>
                        <a:pt x="0" y="235"/>
                      </a:lnTo>
                      <a:lnTo>
                        <a:pt x="0" y="205"/>
                      </a:lnTo>
                      <a:lnTo>
                        <a:pt x="6" y="199"/>
                      </a:lnTo>
                      <a:lnTo>
                        <a:pt x="11" y="190"/>
                      </a:lnTo>
                      <a:lnTo>
                        <a:pt x="17" y="182"/>
                      </a:lnTo>
                      <a:lnTo>
                        <a:pt x="27" y="167"/>
                      </a:lnTo>
                      <a:lnTo>
                        <a:pt x="34" y="155"/>
                      </a:lnTo>
                      <a:lnTo>
                        <a:pt x="39" y="143"/>
                      </a:lnTo>
                      <a:lnTo>
                        <a:pt x="46" y="130"/>
                      </a:lnTo>
                      <a:lnTo>
                        <a:pt x="51" y="118"/>
                      </a:lnTo>
                      <a:lnTo>
                        <a:pt x="57" y="101"/>
                      </a:lnTo>
                      <a:lnTo>
                        <a:pt x="61" y="86"/>
                      </a:lnTo>
                      <a:lnTo>
                        <a:pt x="63" y="73"/>
                      </a:lnTo>
                      <a:lnTo>
                        <a:pt x="65" y="61"/>
                      </a:lnTo>
                      <a:lnTo>
                        <a:pt x="66" y="47"/>
                      </a:lnTo>
                      <a:lnTo>
                        <a:pt x="66" y="34"/>
                      </a:lnTo>
                      <a:lnTo>
                        <a:pt x="65" y="23"/>
                      </a:lnTo>
                      <a:lnTo>
                        <a:pt x="63" y="11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034"/>
              <p:cNvGrpSpPr/>
              <p:nvPr/>
            </p:nvGrpSpPr>
            <p:grpSpPr>
              <a:xfrm>
                <a:off x="4765680" y="5165640"/>
                <a:ext cx="392040" cy="466920"/>
                <a:chOff x="4765680" y="5165640"/>
                <a:chExt cx="392040" cy="466920"/>
              </a:xfrm>
            </p:grpSpPr>
            <p:sp>
              <p:nvSpPr>
                <p:cNvPr id="108" name="Freeform 1035"/>
                <p:cNvSpPr/>
                <p:nvPr/>
              </p:nvSpPr>
              <p:spPr>
                <a:xfrm>
                  <a:off x="4765680" y="5165640"/>
                  <a:ext cx="392040" cy="46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466920"/>
                    <a:gd name="textAreaBottom" fmla="*/ 467280 h 466920"/>
                  </a:gdLst>
                  <a:ahLst/>
                  <a:rect l="textAreaLeft" t="textAreaTop" r="textAreaRight" b="textAreaBottom"/>
                  <a:pathLst>
                    <a:path w="247" h="294">
                      <a:moveTo>
                        <a:pt x="74" y="13"/>
                      </a:moveTo>
                      <a:lnTo>
                        <a:pt x="83" y="8"/>
                      </a:lnTo>
                      <a:lnTo>
                        <a:pt x="95" y="4"/>
                      </a:lnTo>
                      <a:lnTo>
                        <a:pt x="108" y="1"/>
                      </a:lnTo>
                      <a:lnTo>
                        <a:pt x="122" y="0"/>
                      </a:lnTo>
                      <a:lnTo>
                        <a:pt x="135" y="0"/>
                      </a:lnTo>
                      <a:lnTo>
                        <a:pt x="147" y="1"/>
                      </a:lnTo>
                      <a:lnTo>
                        <a:pt x="156" y="3"/>
                      </a:lnTo>
                      <a:lnTo>
                        <a:pt x="167" y="6"/>
                      </a:lnTo>
                      <a:lnTo>
                        <a:pt x="177" y="11"/>
                      </a:lnTo>
                      <a:lnTo>
                        <a:pt x="181" y="14"/>
                      </a:lnTo>
                      <a:lnTo>
                        <a:pt x="179" y="31"/>
                      </a:lnTo>
                      <a:lnTo>
                        <a:pt x="178" y="47"/>
                      </a:lnTo>
                      <a:lnTo>
                        <a:pt x="178" y="63"/>
                      </a:lnTo>
                      <a:lnTo>
                        <a:pt x="178" y="76"/>
                      </a:lnTo>
                      <a:lnTo>
                        <a:pt x="179" y="88"/>
                      </a:lnTo>
                      <a:lnTo>
                        <a:pt x="180" y="98"/>
                      </a:lnTo>
                      <a:lnTo>
                        <a:pt x="182" y="106"/>
                      </a:lnTo>
                      <a:lnTo>
                        <a:pt x="183" y="113"/>
                      </a:lnTo>
                      <a:lnTo>
                        <a:pt x="186" y="122"/>
                      </a:lnTo>
                      <a:lnTo>
                        <a:pt x="189" y="129"/>
                      </a:lnTo>
                      <a:lnTo>
                        <a:pt x="191" y="136"/>
                      </a:lnTo>
                      <a:lnTo>
                        <a:pt x="196" y="149"/>
                      </a:lnTo>
                      <a:lnTo>
                        <a:pt x="202" y="163"/>
                      </a:lnTo>
                      <a:lnTo>
                        <a:pt x="211" y="182"/>
                      </a:lnTo>
                      <a:lnTo>
                        <a:pt x="220" y="201"/>
                      </a:lnTo>
                      <a:lnTo>
                        <a:pt x="230" y="220"/>
                      </a:lnTo>
                      <a:lnTo>
                        <a:pt x="236" y="231"/>
                      </a:lnTo>
                      <a:lnTo>
                        <a:pt x="246" y="242"/>
                      </a:lnTo>
                      <a:lnTo>
                        <a:pt x="246" y="279"/>
                      </a:lnTo>
                      <a:lnTo>
                        <a:pt x="231" y="284"/>
                      </a:lnTo>
                      <a:lnTo>
                        <a:pt x="215" y="286"/>
                      </a:lnTo>
                      <a:lnTo>
                        <a:pt x="192" y="290"/>
                      </a:lnTo>
                      <a:lnTo>
                        <a:pt x="166" y="292"/>
                      </a:lnTo>
                      <a:lnTo>
                        <a:pt x="138" y="293"/>
                      </a:lnTo>
                      <a:lnTo>
                        <a:pt x="104" y="293"/>
                      </a:lnTo>
                      <a:lnTo>
                        <a:pt x="75" y="291"/>
                      </a:lnTo>
                      <a:lnTo>
                        <a:pt x="47" y="288"/>
                      </a:lnTo>
                      <a:lnTo>
                        <a:pt x="27" y="285"/>
                      </a:lnTo>
                      <a:lnTo>
                        <a:pt x="15" y="283"/>
                      </a:lnTo>
                      <a:lnTo>
                        <a:pt x="0" y="278"/>
                      </a:lnTo>
                      <a:lnTo>
                        <a:pt x="0" y="242"/>
                      </a:lnTo>
                      <a:lnTo>
                        <a:pt x="7" y="235"/>
                      </a:lnTo>
                      <a:lnTo>
                        <a:pt x="14" y="224"/>
                      </a:lnTo>
                      <a:lnTo>
                        <a:pt x="20" y="215"/>
                      </a:lnTo>
                      <a:lnTo>
                        <a:pt x="32" y="198"/>
                      </a:lnTo>
                      <a:lnTo>
                        <a:pt x="40" y="184"/>
                      </a:lnTo>
                      <a:lnTo>
                        <a:pt x="47" y="169"/>
                      </a:lnTo>
                      <a:lnTo>
                        <a:pt x="54" y="154"/>
                      </a:lnTo>
                      <a:lnTo>
                        <a:pt x="60" y="139"/>
                      </a:lnTo>
                      <a:lnTo>
                        <a:pt x="67" y="119"/>
                      </a:lnTo>
                      <a:lnTo>
                        <a:pt x="72" y="102"/>
                      </a:lnTo>
                      <a:lnTo>
                        <a:pt x="75" y="87"/>
                      </a:lnTo>
                      <a:lnTo>
                        <a:pt x="77" y="72"/>
                      </a:lnTo>
                      <a:lnTo>
                        <a:pt x="79" y="55"/>
                      </a:lnTo>
                      <a:lnTo>
                        <a:pt x="79" y="40"/>
                      </a:lnTo>
                      <a:lnTo>
                        <a:pt x="78" y="27"/>
                      </a:lnTo>
                      <a:lnTo>
                        <a:pt x="74" y="13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036"/>
                <p:cNvSpPr/>
                <p:nvPr/>
              </p:nvSpPr>
              <p:spPr>
                <a:xfrm>
                  <a:off x="4765680" y="5165640"/>
                  <a:ext cx="307800" cy="466920"/>
                </a:xfrm>
                <a:custGeom>
                  <a:avLst/>
                  <a:gdLst>
                    <a:gd name="textAreaLeft" fmla="*/ 0 w 307800"/>
                    <a:gd name="textAreaRight" fmla="*/ 308160 w 307800"/>
                    <a:gd name="textAreaTop" fmla="*/ 0 h 466920"/>
                    <a:gd name="textAreaBottom" fmla="*/ 467280 h 466920"/>
                  </a:gdLst>
                  <a:ahLst/>
                  <a:rect l="textAreaLeft" t="textAreaTop" r="textAreaRight" b="textAreaBottom"/>
                  <a:pathLst>
                    <a:path w="194" h="294">
                      <a:moveTo>
                        <a:pt x="74" y="13"/>
                      </a:moveTo>
                      <a:lnTo>
                        <a:pt x="83" y="8"/>
                      </a:lnTo>
                      <a:lnTo>
                        <a:pt x="95" y="4"/>
                      </a:lnTo>
                      <a:lnTo>
                        <a:pt x="109" y="1"/>
                      </a:lnTo>
                      <a:lnTo>
                        <a:pt x="122" y="0"/>
                      </a:lnTo>
                      <a:lnTo>
                        <a:pt x="136" y="0"/>
                      </a:lnTo>
                      <a:lnTo>
                        <a:pt x="147" y="1"/>
                      </a:lnTo>
                      <a:lnTo>
                        <a:pt x="157" y="3"/>
                      </a:lnTo>
                      <a:lnTo>
                        <a:pt x="156" y="17"/>
                      </a:lnTo>
                      <a:lnTo>
                        <a:pt x="155" y="30"/>
                      </a:lnTo>
                      <a:lnTo>
                        <a:pt x="154" y="46"/>
                      </a:lnTo>
                      <a:lnTo>
                        <a:pt x="154" y="62"/>
                      </a:lnTo>
                      <a:lnTo>
                        <a:pt x="153" y="77"/>
                      </a:lnTo>
                      <a:lnTo>
                        <a:pt x="153" y="93"/>
                      </a:lnTo>
                      <a:lnTo>
                        <a:pt x="153" y="107"/>
                      </a:lnTo>
                      <a:lnTo>
                        <a:pt x="155" y="119"/>
                      </a:lnTo>
                      <a:lnTo>
                        <a:pt x="156" y="132"/>
                      </a:lnTo>
                      <a:lnTo>
                        <a:pt x="157" y="144"/>
                      </a:lnTo>
                      <a:lnTo>
                        <a:pt x="157" y="155"/>
                      </a:lnTo>
                      <a:lnTo>
                        <a:pt x="159" y="166"/>
                      </a:lnTo>
                      <a:lnTo>
                        <a:pt x="161" y="176"/>
                      </a:lnTo>
                      <a:lnTo>
                        <a:pt x="163" y="187"/>
                      </a:lnTo>
                      <a:lnTo>
                        <a:pt x="166" y="198"/>
                      </a:lnTo>
                      <a:lnTo>
                        <a:pt x="170" y="207"/>
                      </a:lnTo>
                      <a:lnTo>
                        <a:pt x="177" y="223"/>
                      </a:lnTo>
                      <a:lnTo>
                        <a:pt x="185" y="243"/>
                      </a:lnTo>
                      <a:lnTo>
                        <a:pt x="190" y="254"/>
                      </a:lnTo>
                      <a:lnTo>
                        <a:pt x="193" y="262"/>
                      </a:lnTo>
                      <a:lnTo>
                        <a:pt x="193" y="290"/>
                      </a:lnTo>
                      <a:lnTo>
                        <a:pt x="167" y="292"/>
                      </a:lnTo>
                      <a:lnTo>
                        <a:pt x="138" y="293"/>
                      </a:lnTo>
                      <a:lnTo>
                        <a:pt x="104" y="293"/>
                      </a:lnTo>
                      <a:lnTo>
                        <a:pt x="75" y="291"/>
                      </a:lnTo>
                      <a:lnTo>
                        <a:pt x="47" y="288"/>
                      </a:lnTo>
                      <a:lnTo>
                        <a:pt x="27" y="285"/>
                      </a:lnTo>
                      <a:lnTo>
                        <a:pt x="15" y="283"/>
                      </a:lnTo>
                      <a:lnTo>
                        <a:pt x="0" y="278"/>
                      </a:lnTo>
                      <a:lnTo>
                        <a:pt x="0" y="242"/>
                      </a:lnTo>
                      <a:lnTo>
                        <a:pt x="7" y="235"/>
                      </a:lnTo>
                      <a:lnTo>
                        <a:pt x="14" y="224"/>
                      </a:lnTo>
                      <a:lnTo>
                        <a:pt x="20" y="215"/>
                      </a:lnTo>
                      <a:lnTo>
                        <a:pt x="32" y="198"/>
                      </a:lnTo>
                      <a:lnTo>
                        <a:pt x="40" y="184"/>
                      </a:lnTo>
                      <a:lnTo>
                        <a:pt x="47" y="169"/>
                      </a:lnTo>
                      <a:lnTo>
                        <a:pt x="55" y="154"/>
                      </a:lnTo>
                      <a:lnTo>
                        <a:pt x="61" y="139"/>
                      </a:lnTo>
                      <a:lnTo>
                        <a:pt x="67" y="119"/>
                      </a:lnTo>
                      <a:lnTo>
                        <a:pt x="72" y="102"/>
                      </a:lnTo>
                      <a:lnTo>
                        <a:pt x="75" y="87"/>
                      </a:lnTo>
                      <a:lnTo>
                        <a:pt x="77" y="72"/>
                      </a:lnTo>
                      <a:lnTo>
                        <a:pt x="79" y="55"/>
                      </a:lnTo>
                      <a:lnTo>
                        <a:pt x="79" y="40"/>
                      </a:lnTo>
                      <a:lnTo>
                        <a:pt x="78" y="27"/>
                      </a:lnTo>
                      <a:lnTo>
                        <a:pt x="74" y="13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1037"/>
            <p:cNvGrpSpPr/>
            <p:nvPr/>
          </p:nvGrpSpPr>
          <p:grpSpPr>
            <a:xfrm>
              <a:off x="5067360" y="4797360"/>
              <a:ext cx="69840" cy="817560"/>
              <a:chOff x="5067360" y="4797360"/>
              <a:chExt cx="69840" cy="817560"/>
            </a:xfrm>
          </p:grpSpPr>
          <p:sp>
            <p:nvSpPr>
              <p:cNvPr id="111" name="Oval 1038"/>
              <p:cNvSpPr/>
              <p:nvPr/>
            </p:nvSpPr>
            <p:spPr>
              <a:xfrm>
                <a:off x="5072040" y="4802040"/>
                <a:ext cx="60480" cy="2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9"/>
              <p:cNvSpPr/>
              <p:nvPr/>
            </p:nvSpPr>
            <p:spPr>
              <a:xfrm>
                <a:off x="5072040" y="4818240"/>
                <a:ext cx="60480" cy="792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040"/>
              <p:cNvGrpSpPr/>
              <p:nvPr/>
            </p:nvGrpSpPr>
            <p:grpSpPr>
              <a:xfrm>
                <a:off x="5067360" y="4797360"/>
                <a:ext cx="69840" cy="817560"/>
                <a:chOff x="5067360" y="4797360"/>
                <a:chExt cx="69840" cy="817560"/>
              </a:xfrm>
            </p:grpSpPr>
            <p:grpSp>
              <p:nvGrpSpPr>
                <p:cNvPr id="114" name="Group 1041"/>
                <p:cNvGrpSpPr/>
                <p:nvPr/>
              </p:nvGrpSpPr>
              <p:grpSpPr>
                <a:xfrm>
                  <a:off x="5067360" y="4797360"/>
                  <a:ext cx="69840" cy="817560"/>
                  <a:chOff x="5067360" y="4797360"/>
                  <a:chExt cx="69840" cy="817560"/>
                </a:xfrm>
              </p:grpSpPr>
              <p:sp>
                <p:nvSpPr>
                  <p:cNvPr id="115" name="Oval 1042"/>
                  <p:cNvSpPr/>
                  <p:nvPr/>
                </p:nvSpPr>
                <p:spPr>
                  <a:xfrm>
                    <a:off x="5067360" y="4797360"/>
                    <a:ext cx="69840" cy="3168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1043"/>
                  <p:cNvSpPr/>
                  <p:nvPr/>
                </p:nvSpPr>
                <p:spPr>
                  <a:xfrm>
                    <a:off x="5067360" y="4813200"/>
                    <a:ext cx="69840" cy="80172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1044"/>
                <p:cNvGrpSpPr/>
                <p:nvPr/>
              </p:nvGrpSpPr>
              <p:grpSpPr>
                <a:xfrm>
                  <a:off x="5076720" y="4797360"/>
                  <a:ext cx="39960" cy="816120"/>
                  <a:chOff x="5076720" y="4797360"/>
                  <a:chExt cx="39960" cy="816120"/>
                </a:xfrm>
              </p:grpSpPr>
              <p:sp>
                <p:nvSpPr>
                  <p:cNvPr id="118" name="Oval 1045"/>
                  <p:cNvSpPr/>
                  <p:nvPr/>
                </p:nvSpPr>
                <p:spPr>
                  <a:xfrm>
                    <a:off x="5076720" y="4797360"/>
                    <a:ext cx="39960" cy="3168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1046"/>
                  <p:cNvSpPr/>
                  <p:nvPr/>
                </p:nvSpPr>
                <p:spPr>
                  <a:xfrm>
                    <a:off x="5076720" y="4813200"/>
                    <a:ext cx="39960" cy="800280"/>
                  </a:xfrm>
                  <a:prstGeom prst="rect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0" name="Group 1047"/>
            <p:cNvGrpSpPr/>
            <p:nvPr/>
          </p:nvGrpSpPr>
          <p:grpSpPr>
            <a:xfrm>
              <a:off x="4211640" y="5246640"/>
              <a:ext cx="1085760" cy="419040"/>
              <a:chOff x="4211640" y="5246640"/>
              <a:chExt cx="1085760" cy="419040"/>
            </a:xfrm>
          </p:grpSpPr>
          <p:sp>
            <p:nvSpPr>
              <p:cNvPr id="121" name="Freeform 1048"/>
              <p:cNvSpPr/>
              <p:nvPr/>
            </p:nvSpPr>
            <p:spPr>
              <a:xfrm>
                <a:off x="4211640" y="5576760"/>
                <a:ext cx="52560" cy="572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2" y="0"/>
                    </a:moveTo>
                    <a:lnTo>
                      <a:pt x="0" y="7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35"/>
                    </a:lnTo>
                    <a:lnTo>
                      <a:pt x="13" y="35"/>
                    </a:lnTo>
                    <a:lnTo>
                      <a:pt x="13" y="20"/>
                    </a:lnTo>
                    <a:lnTo>
                      <a:pt x="31" y="2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1049"/>
              <p:cNvGrpSpPr/>
              <p:nvPr/>
            </p:nvGrpSpPr>
            <p:grpSpPr>
              <a:xfrm>
                <a:off x="4259160" y="5256360"/>
                <a:ext cx="1005120" cy="396720"/>
                <a:chOff x="4259160" y="5256360"/>
                <a:chExt cx="1005120" cy="396720"/>
              </a:xfrm>
            </p:grpSpPr>
            <p:grpSp>
              <p:nvGrpSpPr>
                <p:cNvPr id="123" name="Group 1050"/>
                <p:cNvGrpSpPr/>
                <p:nvPr/>
              </p:nvGrpSpPr>
              <p:grpSpPr>
                <a:xfrm>
                  <a:off x="4702320" y="5330880"/>
                  <a:ext cx="561960" cy="318960"/>
                  <a:chOff x="4702320" y="5330880"/>
                  <a:chExt cx="561960" cy="318960"/>
                </a:xfrm>
              </p:grpSpPr>
              <p:sp>
                <p:nvSpPr>
                  <p:cNvPr id="124" name="Freeform 1051"/>
                  <p:cNvSpPr/>
                  <p:nvPr/>
                </p:nvSpPr>
                <p:spPr>
                  <a:xfrm>
                    <a:off x="5157720" y="5557680"/>
                    <a:ext cx="106560" cy="6516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67" h="41">
                        <a:moveTo>
                          <a:pt x="0" y="10"/>
                        </a:moveTo>
                        <a:lnTo>
                          <a:pt x="20" y="10"/>
                        </a:lnTo>
                        <a:lnTo>
                          <a:pt x="20" y="1"/>
                        </a:lnTo>
                        <a:lnTo>
                          <a:pt x="34" y="0"/>
                        </a:lnTo>
                        <a:lnTo>
                          <a:pt x="34" y="10"/>
                        </a:lnTo>
                        <a:lnTo>
                          <a:pt x="42" y="12"/>
                        </a:lnTo>
                        <a:lnTo>
                          <a:pt x="42" y="5"/>
                        </a:lnTo>
                        <a:lnTo>
                          <a:pt x="54" y="5"/>
                        </a:lnTo>
                        <a:lnTo>
                          <a:pt x="54" y="14"/>
                        </a:lnTo>
                        <a:lnTo>
                          <a:pt x="66" y="17"/>
                        </a:lnTo>
                        <a:lnTo>
                          <a:pt x="66" y="40"/>
                        </a:lnTo>
                        <a:lnTo>
                          <a:pt x="0" y="4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052"/>
                  <p:cNvGrpSpPr/>
                  <p:nvPr/>
                </p:nvGrpSpPr>
                <p:grpSpPr>
                  <a:xfrm>
                    <a:off x="4702320" y="5330880"/>
                    <a:ext cx="469800" cy="318960"/>
                    <a:chOff x="4702320" y="5330880"/>
                    <a:chExt cx="469800" cy="318960"/>
                  </a:xfrm>
                </p:grpSpPr>
                <p:grpSp>
                  <p:nvGrpSpPr>
                    <p:cNvPr id="126" name="Group 1053"/>
                    <p:cNvGrpSpPr/>
                    <p:nvPr/>
                  </p:nvGrpSpPr>
                  <p:grpSpPr>
                    <a:xfrm>
                      <a:off x="5087880" y="5446800"/>
                      <a:ext cx="84240" cy="195120"/>
                      <a:chOff x="5087880" y="5446800"/>
                      <a:chExt cx="84240" cy="195120"/>
                    </a:xfrm>
                  </p:grpSpPr>
                  <p:sp>
                    <p:nvSpPr>
                      <p:cNvPr id="127" name="Freeform 1054"/>
                      <p:cNvSpPr/>
                      <p:nvPr/>
                    </p:nvSpPr>
                    <p:spPr>
                      <a:xfrm>
                        <a:off x="5087880" y="5446800"/>
                        <a:ext cx="84240" cy="195120"/>
                      </a:xfrm>
                      <a:custGeom>
                        <a:avLst/>
                        <a:gdLst>
                          <a:gd name="textAreaLeft" fmla="*/ 0 w 84240"/>
                          <a:gd name="textAreaRight" fmla="*/ 84240 w 84240"/>
                          <a:gd name="textAreaTop" fmla="*/ 0 h 195120"/>
                          <a:gd name="textAreaBottom" fmla="*/ 195480 h 195120"/>
                        </a:gdLst>
                        <a:ahLst/>
                        <a:rect l="textAreaLeft" t="textAreaTop" r="textAreaRight" b="textAreaBottom"/>
                        <a:pathLst>
                          <a:path w="53" h="123">
                            <a:moveTo>
                              <a:pt x="0" y="0"/>
                            </a:moveTo>
                            <a:lnTo>
                              <a:pt x="19" y="9"/>
                            </a:lnTo>
                            <a:lnTo>
                              <a:pt x="19" y="25"/>
                            </a:lnTo>
                            <a:lnTo>
                              <a:pt x="40" y="31"/>
                            </a:lnTo>
                            <a:lnTo>
                              <a:pt x="40" y="23"/>
                            </a:lnTo>
                            <a:lnTo>
                              <a:pt x="52" y="26"/>
                            </a:lnTo>
                            <a:lnTo>
                              <a:pt x="52" y="111"/>
                            </a:lnTo>
                            <a:lnTo>
                              <a:pt x="0" y="1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" name="Freeform 1055"/>
                      <p:cNvSpPr/>
                      <p:nvPr/>
                    </p:nvSpPr>
                    <p:spPr>
                      <a:xfrm>
                        <a:off x="5087880" y="5511960"/>
                        <a:ext cx="41400" cy="123840"/>
                      </a:xfrm>
                      <a:custGeom>
                        <a:avLst/>
                        <a:gdLst>
                          <a:gd name="textAreaLeft" fmla="*/ 0 w 41400"/>
                          <a:gd name="textAreaRight" fmla="*/ 41760 w 41400"/>
                          <a:gd name="textAreaTop" fmla="*/ 0 h 123840"/>
                          <a:gd name="textAreaBottom" fmla="*/ 124200 h 123840"/>
                        </a:gdLst>
                        <a:ahLst/>
                        <a:rect l="textAreaLeft" t="textAreaTop" r="textAreaRight" b="textAreaBottom"/>
                        <a:pathLst>
                          <a:path w="26" h="78">
                            <a:moveTo>
                              <a:pt x="0" y="0"/>
                            </a:moveTo>
                            <a:lnTo>
                              <a:pt x="25" y="11"/>
                            </a:lnTo>
                            <a:lnTo>
                              <a:pt x="25" y="75"/>
                            </a:lnTo>
                            <a:lnTo>
                              <a:pt x="17" y="77"/>
                            </a:lnTo>
                            <a:lnTo>
                              <a:pt x="17" y="12"/>
                            </a:lnTo>
                            <a:lnTo>
                              <a:pt x="0" y="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5f5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" name="Group 1056"/>
                    <p:cNvGrpSpPr/>
                    <p:nvPr/>
                  </p:nvGrpSpPr>
                  <p:grpSpPr>
                    <a:xfrm>
                      <a:off x="4702320" y="5330880"/>
                      <a:ext cx="415800" cy="318960"/>
                      <a:chOff x="4702320" y="5330880"/>
                      <a:chExt cx="415800" cy="318960"/>
                    </a:xfrm>
                  </p:grpSpPr>
                  <p:sp>
                    <p:nvSpPr>
                      <p:cNvPr id="130" name="Freeform 1057"/>
                      <p:cNvSpPr/>
                      <p:nvPr/>
                    </p:nvSpPr>
                    <p:spPr>
                      <a:xfrm>
                        <a:off x="4702320" y="5330880"/>
                        <a:ext cx="325440" cy="318960"/>
                      </a:xfrm>
                      <a:custGeom>
                        <a:avLst/>
                        <a:gdLst>
                          <a:gd name="textAreaLeft" fmla="*/ 0 w 325440"/>
                          <a:gd name="textAreaRight" fmla="*/ 325800 w 325440"/>
                          <a:gd name="textAreaTop" fmla="*/ 0 h 318960"/>
                          <a:gd name="textAreaBottom" fmla="*/ 319320 h 318960"/>
                        </a:gdLst>
                        <a:ahLst/>
                        <a:rect l="textAreaLeft" t="textAreaTop" r="textAreaRight" b="textAreaBottom"/>
                        <a:pathLst>
                          <a:path w="205" h="201">
                            <a:moveTo>
                              <a:pt x="0" y="43"/>
                            </a:moveTo>
                            <a:lnTo>
                              <a:pt x="204" y="0"/>
                            </a:lnTo>
                            <a:lnTo>
                              <a:pt x="204" y="200"/>
                            </a:lnTo>
                            <a:lnTo>
                              <a:pt x="0" y="200"/>
                            </a:lnTo>
                            <a:lnTo>
                              <a:pt x="0" y="43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Freeform 1058"/>
                      <p:cNvSpPr/>
                      <p:nvPr/>
                    </p:nvSpPr>
                    <p:spPr>
                      <a:xfrm>
                        <a:off x="5025960" y="5330880"/>
                        <a:ext cx="92160" cy="318960"/>
                      </a:xfrm>
                      <a:custGeom>
                        <a:avLst/>
                        <a:gdLst>
                          <a:gd name="textAreaLeft" fmla="*/ 0 w 92160"/>
                          <a:gd name="textAreaRight" fmla="*/ 92520 w 92160"/>
                          <a:gd name="textAreaTop" fmla="*/ 0 h 318960"/>
                          <a:gd name="textAreaBottom" fmla="*/ 319320 h 318960"/>
                        </a:gdLst>
                        <a:ahLst/>
                        <a:rect l="textAreaLeft" t="textAreaTop" r="textAreaRight" b="textAreaBottom"/>
                        <a:pathLst>
                          <a:path w="58" h="201">
                            <a:moveTo>
                              <a:pt x="37" y="1"/>
                            </a:moveTo>
                            <a:lnTo>
                              <a:pt x="37" y="9"/>
                            </a:lnTo>
                            <a:lnTo>
                              <a:pt x="0" y="0"/>
                            </a:lnTo>
                            <a:lnTo>
                              <a:pt x="0" y="200"/>
                            </a:lnTo>
                            <a:lnTo>
                              <a:pt x="38" y="195"/>
                            </a:lnTo>
                            <a:lnTo>
                              <a:pt x="38" y="43"/>
                            </a:lnTo>
                            <a:lnTo>
                              <a:pt x="57" y="46"/>
                            </a:lnTo>
                            <a:lnTo>
                              <a:pt x="57" y="6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" name="Group 1059"/>
                    <p:cNvGrpSpPr/>
                    <p:nvPr/>
                  </p:nvGrpSpPr>
                  <p:grpSpPr>
                    <a:xfrm>
                      <a:off x="4844880" y="5351400"/>
                      <a:ext cx="73080" cy="235080"/>
                      <a:chOff x="4844880" y="5351400"/>
                      <a:chExt cx="73080" cy="235080"/>
                    </a:xfrm>
                  </p:grpSpPr>
                  <p:sp>
                    <p:nvSpPr>
                      <p:cNvPr id="133" name="Freeform 1060"/>
                      <p:cNvSpPr/>
                      <p:nvPr/>
                    </p:nvSpPr>
                    <p:spPr>
                      <a:xfrm>
                        <a:off x="4844880" y="5351400"/>
                        <a:ext cx="52560" cy="1904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90440"/>
                          <a:gd name="textAreaBottom" fmla="*/ 190800 h 190440"/>
                        </a:gdLst>
                        <a:ahLst/>
                        <a:rect l="textAreaLeft" t="textAreaTop" r="textAreaRight" b="textAreaBottom"/>
                        <a:pathLst>
                          <a:path w="33" h="120">
                            <a:moveTo>
                              <a:pt x="32" y="0"/>
                            </a:moveTo>
                            <a:lnTo>
                              <a:pt x="32" y="117"/>
                            </a:lnTo>
                            <a:lnTo>
                              <a:pt x="0" y="119"/>
                            </a:lnTo>
                            <a:lnTo>
                              <a:pt x="0" y="5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1061"/>
                      <p:cNvSpPr/>
                      <p:nvPr/>
                    </p:nvSpPr>
                    <p:spPr>
                      <a:xfrm>
                        <a:off x="4844880" y="5537160"/>
                        <a:ext cx="68400" cy="44640"/>
                      </a:xfrm>
                      <a:custGeom>
                        <a:avLst/>
                        <a:gdLst>
                          <a:gd name="textAreaLeft" fmla="*/ 0 w 68400"/>
                          <a:gd name="textAreaRight" fmla="*/ 68760 w 6840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43" h="28">
                            <a:moveTo>
                              <a:pt x="0" y="2"/>
                            </a:moveTo>
                            <a:lnTo>
                              <a:pt x="32" y="0"/>
                            </a:lnTo>
                            <a:lnTo>
                              <a:pt x="42" y="26"/>
                            </a:lnTo>
                            <a:lnTo>
                              <a:pt x="14" y="27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1062"/>
                      <p:cNvSpPr/>
                      <p:nvPr/>
                    </p:nvSpPr>
                    <p:spPr>
                      <a:xfrm>
                        <a:off x="4896000" y="5351400"/>
                        <a:ext cx="21960" cy="235080"/>
                      </a:xfrm>
                      <a:custGeom>
                        <a:avLst/>
                        <a:gdLst>
                          <a:gd name="textAreaLeft" fmla="*/ 0 w 21960"/>
                          <a:gd name="textAreaRight" fmla="*/ 22320 w 21960"/>
                          <a:gd name="textAreaTop" fmla="*/ 0 h 235080"/>
                          <a:gd name="textAreaBottom" fmla="*/ 235440 h 235080"/>
                        </a:gdLst>
                        <a:ahLst/>
                        <a:rect l="textAreaLeft" t="textAreaTop" r="textAreaRight" b="textAreaBottom"/>
                        <a:pathLst>
                          <a:path w="14" h="148">
                            <a:moveTo>
                              <a:pt x="0" y="0"/>
                            </a:moveTo>
                            <a:lnTo>
                              <a:pt x="13" y="1"/>
                            </a:lnTo>
                            <a:lnTo>
                              <a:pt x="13" y="147"/>
                            </a:lnTo>
                            <a:lnTo>
                              <a:pt x="0" y="1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1063"/>
                    <p:cNvGrpSpPr/>
                    <p:nvPr/>
                  </p:nvGrpSpPr>
                  <p:grpSpPr>
                    <a:xfrm>
                      <a:off x="4730760" y="5376960"/>
                      <a:ext cx="79200" cy="210960"/>
                      <a:chOff x="4730760" y="5376960"/>
                      <a:chExt cx="79200" cy="210960"/>
                    </a:xfrm>
                  </p:grpSpPr>
                  <p:sp>
                    <p:nvSpPr>
                      <p:cNvPr id="137" name="Freeform 1064"/>
                      <p:cNvSpPr/>
                      <p:nvPr/>
                    </p:nvSpPr>
                    <p:spPr>
                      <a:xfrm>
                        <a:off x="4781520" y="5376960"/>
                        <a:ext cx="28440" cy="210960"/>
                      </a:xfrm>
                      <a:custGeom>
                        <a:avLst/>
                        <a:gdLst>
                          <a:gd name="textAreaLeft" fmla="*/ 0 w 28440"/>
                          <a:gd name="textAreaRight" fmla="*/ 28800 w 28440"/>
                          <a:gd name="textAreaTop" fmla="*/ 0 h 210960"/>
                          <a:gd name="textAreaBottom" fmla="*/ 211320 h 210960"/>
                        </a:gdLst>
                        <a:ahLst/>
                        <a:rect l="textAreaLeft" t="textAreaTop" r="textAreaRight" b="textAreaBottom"/>
                        <a:pathLst>
                          <a:path w="18" h="133">
                            <a:moveTo>
                              <a:pt x="0" y="0"/>
                            </a:moveTo>
                            <a:lnTo>
                              <a:pt x="0" y="105"/>
                            </a:lnTo>
                            <a:lnTo>
                              <a:pt x="17" y="132"/>
                            </a:lnTo>
                            <a:lnTo>
                              <a:pt x="17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Freeform 1065"/>
                      <p:cNvSpPr/>
                      <p:nvPr/>
                    </p:nvSpPr>
                    <p:spPr>
                      <a:xfrm>
                        <a:off x="4734000" y="5376960"/>
                        <a:ext cx="48960" cy="172800"/>
                      </a:xfrm>
                      <a:custGeom>
                        <a:avLst/>
                        <a:gdLst>
                          <a:gd name="textAreaLeft" fmla="*/ 0 w 48960"/>
                          <a:gd name="textAreaRight" fmla="*/ 49320 w 48960"/>
                          <a:gd name="textAreaTop" fmla="*/ 0 h 172800"/>
                          <a:gd name="textAreaBottom" fmla="*/ 173160 h 172800"/>
                        </a:gdLst>
                        <a:ahLst/>
                        <a:rect l="textAreaLeft" t="textAreaTop" r="textAreaRight" b="textAreaBottom"/>
                        <a:pathLst>
                          <a:path w="31" h="109">
                            <a:moveTo>
                              <a:pt x="0" y="5"/>
                            </a:moveTo>
                            <a:lnTo>
                              <a:pt x="30" y="0"/>
                            </a:lnTo>
                            <a:lnTo>
                              <a:pt x="30" y="106"/>
                            </a:lnTo>
                            <a:lnTo>
                              <a:pt x="0" y="10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1066"/>
                      <p:cNvSpPr/>
                      <p:nvPr/>
                    </p:nvSpPr>
                    <p:spPr>
                      <a:xfrm>
                        <a:off x="4730760" y="5543640"/>
                        <a:ext cx="79200" cy="4428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44280"/>
                          <a:gd name="textAreaBottom" fmla="*/ 44640 h 44280"/>
                        </a:gdLst>
                        <a:ahLst/>
                        <a:rect l="textAreaLeft" t="textAreaTop" r="textAreaRight" b="textAreaBottom"/>
                        <a:pathLst>
                          <a:path w="50" h="28">
                            <a:moveTo>
                              <a:pt x="0" y="2"/>
                            </a:moveTo>
                            <a:lnTo>
                              <a:pt x="32" y="0"/>
                            </a:lnTo>
                            <a:lnTo>
                              <a:pt x="49" y="27"/>
                            </a:lnTo>
                            <a:lnTo>
                              <a:pt x="17" y="27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0" name="Group 1067"/>
                    <p:cNvGrpSpPr/>
                    <p:nvPr/>
                  </p:nvGrpSpPr>
                  <p:grpSpPr>
                    <a:xfrm>
                      <a:off x="4948200" y="5332320"/>
                      <a:ext cx="74520" cy="189000"/>
                      <a:chOff x="4948200" y="5332320"/>
                      <a:chExt cx="74520" cy="189000"/>
                    </a:xfrm>
                  </p:grpSpPr>
                  <p:sp>
                    <p:nvSpPr>
                      <p:cNvPr id="141" name="Freeform 1068"/>
                      <p:cNvSpPr/>
                      <p:nvPr/>
                    </p:nvSpPr>
                    <p:spPr>
                      <a:xfrm>
                        <a:off x="4948200" y="5456160"/>
                        <a:ext cx="73080" cy="63720"/>
                      </a:xfrm>
                      <a:custGeom>
                        <a:avLst/>
                        <a:gdLst>
                          <a:gd name="textAreaLeft" fmla="*/ 0 w 73080"/>
                          <a:gd name="textAreaRight" fmla="*/ 73440 w 73080"/>
                          <a:gd name="textAreaTop" fmla="*/ 0 h 63720"/>
                          <a:gd name="textAreaBottom" fmla="*/ 64080 h 63720"/>
                        </a:gdLst>
                        <a:ahLst/>
                        <a:rect l="textAreaLeft" t="textAreaTop" r="textAreaRight" b="textAreaBottom"/>
                        <a:pathLst>
                          <a:path w="46" h="40">
                            <a:moveTo>
                              <a:pt x="0" y="1"/>
                            </a:moveTo>
                            <a:lnTo>
                              <a:pt x="30" y="0"/>
                            </a:lnTo>
                            <a:lnTo>
                              <a:pt x="45" y="39"/>
                            </a:lnTo>
                            <a:lnTo>
                              <a:pt x="16" y="39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Freeform 1069"/>
                      <p:cNvSpPr/>
                      <p:nvPr/>
                    </p:nvSpPr>
                    <p:spPr>
                      <a:xfrm>
                        <a:off x="4948200" y="5332320"/>
                        <a:ext cx="49320" cy="128520"/>
                      </a:xfrm>
                      <a:custGeom>
                        <a:avLst/>
                        <a:gdLst>
                          <a:gd name="textAreaLeft" fmla="*/ 0 w 49320"/>
                          <a:gd name="textAreaRight" fmla="*/ 49680 w 4932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31" h="81">
                            <a:moveTo>
                              <a:pt x="0" y="80"/>
                            </a:moveTo>
                            <a:lnTo>
                              <a:pt x="30" y="77"/>
                            </a:lnTo>
                            <a:lnTo>
                              <a:pt x="30" y="0"/>
                            </a:lnTo>
                            <a:lnTo>
                              <a:pt x="0" y="5"/>
                            </a:lnTo>
                            <a:lnTo>
                              <a:pt x="0" y="80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Freeform 1070"/>
                      <p:cNvSpPr/>
                      <p:nvPr/>
                    </p:nvSpPr>
                    <p:spPr>
                      <a:xfrm>
                        <a:off x="4995720" y="5332320"/>
                        <a:ext cx="27000" cy="18900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89000"/>
                          <a:gd name="textAreaBottom" fmla="*/ 189360 h 189000"/>
                        </a:gdLst>
                        <a:ahLst/>
                        <a:rect l="textAreaLeft" t="textAreaTop" r="textAreaRight" b="textAreaBottom"/>
                        <a:pathLst>
                          <a:path w="17" h="119">
                            <a:moveTo>
                              <a:pt x="0" y="0"/>
                            </a:moveTo>
                            <a:lnTo>
                              <a:pt x="0" y="78"/>
                            </a:lnTo>
                            <a:lnTo>
                              <a:pt x="16" y="118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4" name="Group 1071"/>
                    <p:cNvGrpSpPr/>
                    <p:nvPr/>
                  </p:nvGrpSpPr>
                  <p:grpSpPr>
                    <a:xfrm>
                      <a:off x="4835520" y="5367240"/>
                      <a:ext cx="57240" cy="158760"/>
                      <a:chOff x="4835520" y="5367240"/>
                      <a:chExt cx="57240" cy="158760"/>
                    </a:xfrm>
                  </p:grpSpPr>
                  <p:sp>
                    <p:nvSpPr>
                      <p:cNvPr id="145" name="Freeform 1072"/>
                      <p:cNvSpPr/>
                      <p:nvPr/>
                    </p:nvSpPr>
                    <p:spPr>
                      <a:xfrm>
                        <a:off x="4835520" y="5367240"/>
                        <a:ext cx="30240" cy="10332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103320"/>
                          <a:gd name="textAreaBottom" fmla="*/ 103680 h 103320"/>
                        </a:gdLst>
                        <a:ahLst/>
                        <a:rect l="textAreaLeft" t="textAreaTop" r="textAreaRight" b="textAreaBottom"/>
                        <a:pathLst>
                          <a:path w="19" h="65">
                            <a:moveTo>
                              <a:pt x="0" y="3"/>
                            </a:moveTo>
                            <a:lnTo>
                              <a:pt x="18" y="0"/>
                            </a:lnTo>
                            <a:lnTo>
                              <a:pt x="18" y="64"/>
                            </a:lnTo>
                            <a:lnTo>
                              <a:pt x="0" y="64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Freeform 1073"/>
                      <p:cNvSpPr/>
                      <p:nvPr/>
                    </p:nvSpPr>
                    <p:spPr>
                      <a:xfrm>
                        <a:off x="4835520" y="5468760"/>
                        <a:ext cx="57240" cy="57240"/>
                      </a:xfrm>
                      <a:custGeom>
                        <a:avLst/>
                        <a:gdLst>
                          <a:gd name="textAreaLeft" fmla="*/ 0 w 57240"/>
                          <a:gd name="textAreaRight" fmla="*/ 57600 w 57240"/>
                          <a:gd name="textAreaTop" fmla="*/ 0 h 57240"/>
                          <a:gd name="textAreaBottom" fmla="*/ 57600 h 57240"/>
                        </a:gdLst>
                        <a:ahLst/>
                        <a:rect l="textAreaLeft" t="textAreaTop" r="textAreaRight" b="textAreaBottom"/>
                        <a:pathLst>
                          <a:path w="36" h="36">
                            <a:moveTo>
                              <a:pt x="0" y="0"/>
                            </a:moveTo>
                            <a:lnTo>
                              <a:pt x="19" y="0"/>
                            </a:lnTo>
                            <a:lnTo>
                              <a:pt x="35" y="35"/>
                            </a:lnTo>
                            <a:lnTo>
                              <a:pt x="17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Freeform 1074"/>
                      <p:cNvSpPr/>
                      <p:nvPr/>
                    </p:nvSpPr>
                    <p:spPr>
                      <a:xfrm>
                        <a:off x="4863960" y="5367240"/>
                        <a:ext cx="28800" cy="15876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158760"/>
                          <a:gd name="textAreaBottom" fmla="*/ 159120 h 158760"/>
                        </a:gdLst>
                        <a:ahLst/>
                        <a:rect l="textAreaLeft" t="textAreaTop" r="textAreaRight" b="textAreaBottom"/>
                        <a:pathLst>
                          <a:path w="18" h="100">
                            <a:moveTo>
                              <a:pt x="17" y="99"/>
                            </a:moveTo>
                            <a:lnTo>
                              <a:pt x="17" y="4"/>
                            </a:ln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7" y="99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" name="Group 1075"/>
                    <p:cNvGrpSpPr/>
                    <p:nvPr/>
                  </p:nvGrpSpPr>
                  <p:grpSpPr>
                    <a:xfrm>
                      <a:off x="4726080" y="5403960"/>
                      <a:ext cx="54000" cy="126720"/>
                      <a:chOff x="4726080" y="5403960"/>
                      <a:chExt cx="54000" cy="126720"/>
                    </a:xfrm>
                  </p:grpSpPr>
                  <p:sp>
                    <p:nvSpPr>
                      <p:cNvPr id="149" name="Freeform 1076"/>
                      <p:cNvSpPr/>
                      <p:nvPr/>
                    </p:nvSpPr>
                    <p:spPr>
                      <a:xfrm>
                        <a:off x="4726080" y="5475240"/>
                        <a:ext cx="52200" cy="5400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54000"/>
                          <a:gd name="textAreaBottom" fmla="*/ 54360 h 54000"/>
                        </a:gdLst>
                        <a:ahLst/>
                        <a:rect l="textAreaLeft" t="textAreaTop" r="textAreaRight" b="textAreaBottom"/>
                        <a:pathLst>
                          <a:path w="33" h="34">
                            <a:moveTo>
                              <a:pt x="14" y="33"/>
                            </a:moveTo>
                            <a:lnTo>
                              <a:pt x="32" y="33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lnTo>
                              <a:pt x="14" y="33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Freeform 1077"/>
                      <p:cNvSpPr/>
                      <p:nvPr/>
                    </p:nvSpPr>
                    <p:spPr>
                      <a:xfrm>
                        <a:off x="4726080" y="5403960"/>
                        <a:ext cx="31680" cy="730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20" h="46">
                            <a:moveTo>
                              <a:pt x="0" y="45"/>
                            </a:moveTo>
                            <a:lnTo>
                              <a:pt x="18" y="45"/>
                            </a:lnTo>
                            <a:lnTo>
                              <a:pt x="19" y="0"/>
                            </a:lnTo>
                            <a:lnTo>
                              <a:pt x="0" y="3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Freeform 1078"/>
                      <p:cNvSpPr/>
                      <p:nvPr/>
                    </p:nvSpPr>
                    <p:spPr>
                      <a:xfrm>
                        <a:off x="4754520" y="5405400"/>
                        <a:ext cx="25560" cy="12528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125280"/>
                          <a:gd name="textAreaBottom" fmla="*/ 125280 h 125280"/>
                        </a:gdLst>
                        <a:ahLst/>
                        <a:rect l="textAreaLeft" t="textAreaTop" r="textAreaRight" b="textAreaBottom"/>
                        <a:pathLst>
                          <a:path w="16" h="79">
                            <a:moveTo>
                              <a:pt x="0" y="0"/>
                            </a:moveTo>
                            <a:lnTo>
                              <a:pt x="0" y="44"/>
                            </a:lnTo>
                            <a:lnTo>
                              <a:pt x="15" y="78"/>
                            </a:lnTo>
                            <a:lnTo>
                              <a:pt x="14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2" name="Group 1079"/>
                <p:cNvGrpSpPr/>
                <p:nvPr/>
              </p:nvGrpSpPr>
              <p:grpSpPr>
                <a:xfrm>
                  <a:off x="4276800" y="5256360"/>
                  <a:ext cx="436320" cy="396720"/>
                  <a:chOff x="4276800" y="5256360"/>
                  <a:chExt cx="436320" cy="396720"/>
                </a:xfrm>
              </p:grpSpPr>
              <p:grpSp>
                <p:nvGrpSpPr>
                  <p:cNvPr id="153" name="Group 1080"/>
                  <p:cNvGrpSpPr/>
                  <p:nvPr/>
                </p:nvGrpSpPr>
                <p:grpSpPr>
                  <a:xfrm>
                    <a:off x="4276800" y="5256360"/>
                    <a:ext cx="436320" cy="396720"/>
                    <a:chOff x="4276800" y="5256360"/>
                    <a:chExt cx="436320" cy="396720"/>
                  </a:xfrm>
                </p:grpSpPr>
                <p:sp>
                  <p:nvSpPr>
                    <p:cNvPr id="154" name="Freeform 1081"/>
                    <p:cNvSpPr/>
                    <p:nvPr/>
                  </p:nvSpPr>
                  <p:spPr>
                    <a:xfrm>
                      <a:off x="4626000" y="5362560"/>
                      <a:ext cx="87120" cy="284040"/>
                    </a:xfrm>
                    <a:custGeom>
                      <a:avLst/>
                      <a:gdLst>
                        <a:gd name="textAreaLeft" fmla="*/ 0 w 87120"/>
                        <a:gd name="textAreaRight" fmla="*/ 87480 w 87120"/>
                        <a:gd name="textAreaTop" fmla="*/ 0 h 284040"/>
                        <a:gd name="textAreaBottom" fmla="*/ 284400 h 284040"/>
                      </a:gdLst>
                      <a:ahLst/>
                      <a:rect l="textAreaLeft" t="textAreaTop" r="textAreaRight" b="textAreaBottom"/>
                      <a:pathLst>
                        <a:path w="55" h="179">
                          <a:moveTo>
                            <a:pt x="15" y="0"/>
                          </a:moveTo>
                          <a:lnTo>
                            <a:pt x="15" y="21"/>
                          </a:lnTo>
                          <a:lnTo>
                            <a:pt x="0" y="18"/>
                          </a:lnTo>
                          <a:lnTo>
                            <a:pt x="0" y="178"/>
                          </a:lnTo>
                          <a:lnTo>
                            <a:pt x="54" y="176"/>
                          </a:lnTo>
                          <a:lnTo>
                            <a:pt x="54" y="21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00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Freeform 1082"/>
                    <p:cNvSpPr/>
                    <p:nvPr/>
                  </p:nvSpPr>
                  <p:spPr>
                    <a:xfrm>
                      <a:off x="4611600" y="5362560"/>
                      <a:ext cx="39600" cy="4932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49320"/>
                        <a:gd name="textAreaBottom" fmla="*/ 49680 h 49320"/>
                      </a:gdLst>
                      <a:ahLst/>
                      <a:rect l="textAreaLeft" t="textAreaTop" r="textAreaRight" b="textAreaBottom"/>
                      <a:pathLst>
                        <a:path w="25" h="31">
                          <a:moveTo>
                            <a:pt x="24" y="0"/>
                          </a:moveTo>
                          <a:lnTo>
                            <a:pt x="0" y="5"/>
                          </a:lnTo>
                          <a:lnTo>
                            <a:pt x="0" y="30"/>
                          </a:lnTo>
                          <a:lnTo>
                            <a:pt x="24" y="30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083"/>
                    <p:cNvSpPr/>
                    <p:nvPr/>
                  </p:nvSpPr>
                  <p:spPr>
                    <a:xfrm>
                      <a:off x="4276800" y="5256360"/>
                      <a:ext cx="234720" cy="39672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396720"/>
                        <a:gd name="textAreaBottom" fmla="*/ 397080 h 396720"/>
                      </a:gdLst>
                      <a:ahLst/>
                      <a:rect l="textAreaLeft" t="textAreaTop" r="textAreaRight" b="textAreaBottom"/>
                      <a:pathLst>
                        <a:path w="148" h="250">
                          <a:moveTo>
                            <a:pt x="0" y="46"/>
                          </a:moveTo>
                          <a:lnTo>
                            <a:pt x="147" y="0"/>
                          </a:lnTo>
                          <a:lnTo>
                            <a:pt x="147" y="249"/>
                          </a:lnTo>
                          <a:lnTo>
                            <a:pt x="0" y="245"/>
                          </a:lnTo>
                          <a:lnTo>
                            <a:pt x="0" y="46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Freeform 1084"/>
                    <p:cNvSpPr/>
                    <p:nvPr/>
                  </p:nvSpPr>
                  <p:spPr>
                    <a:xfrm>
                      <a:off x="4510080" y="5257800"/>
                      <a:ext cx="120600" cy="395280"/>
                    </a:xfrm>
                    <a:custGeom>
                      <a:avLst/>
                      <a:gdLst>
                        <a:gd name="textAreaLeft" fmla="*/ 0 w 120600"/>
                        <a:gd name="textAreaRight" fmla="*/ 120960 w 120600"/>
                        <a:gd name="textAreaTop" fmla="*/ 0 h 395280"/>
                        <a:gd name="textAreaBottom" fmla="*/ 395640 h 395280"/>
                      </a:gdLst>
                      <a:ahLst/>
                      <a:rect l="textAreaLeft" t="textAreaTop" r="textAreaRight" b="textAreaBottom"/>
                      <a:pathLst>
                        <a:path w="76" h="249">
                          <a:moveTo>
                            <a:pt x="0" y="0"/>
                          </a:moveTo>
                          <a:lnTo>
                            <a:pt x="12" y="3"/>
                          </a:lnTo>
                          <a:lnTo>
                            <a:pt x="29" y="2"/>
                          </a:lnTo>
                          <a:lnTo>
                            <a:pt x="46" y="5"/>
                          </a:lnTo>
                          <a:lnTo>
                            <a:pt x="46" y="14"/>
                          </a:lnTo>
                          <a:lnTo>
                            <a:pt x="75" y="25"/>
                          </a:lnTo>
                          <a:lnTo>
                            <a:pt x="75" y="239"/>
                          </a:lnTo>
                          <a:lnTo>
                            <a:pt x="0" y="2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" name="Freeform 1085"/>
                  <p:cNvSpPr/>
                  <p:nvPr/>
                </p:nvSpPr>
                <p:spPr>
                  <a:xfrm>
                    <a:off x="4660920" y="5376960"/>
                    <a:ext cx="44280" cy="42840"/>
                  </a:xfrm>
                  <a:custGeom>
                    <a:avLst/>
                    <a:gdLst>
                      <a:gd name="textAreaLeft" fmla="*/ 0 w 44280"/>
                      <a:gd name="textAreaRight" fmla="*/ 44640 w 442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8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27" y="26"/>
                        </a:lnTo>
                        <a:lnTo>
                          <a:pt x="2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086"/>
                <p:cNvGrpSpPr/>
                <p:nvPr/>
              </p:nvGrpSpPr>
              <p:grpSpPr>
                <a:xfrm>
                  <a:off x="4259160" y="5386320"/>
                  <a:ext cx="47880" cy="262080"/>
                  <a:chOff x="4259160" y="5386320"/>
                  <a:chExt cx="47880" cy="262080"/>
                </a:xfrm>
              </p:grpSpPr>
              <p:grpSp>
                <p:nvGrpSpPr>
                  <p:cNvPr id="160" name="Group 1087"/>
                  <p:cNvGrpSpPr/>
                  <p:nvPr/>
                </p:nvGrpSpPr>
                <p:grpSpPr>
                  <a:xfrm>
                    <a:off x="4259160" y="5386320"/>
                    <a:ext cx="47880" cy="262080"/>
                    <a:chOff x="4259160" y="5386320"/>
                    <a:chExt cx="47880" cy="262080"/>
                  </a:xfrm>
                </p:grpSpPr>
                <p:sp>
                  <p:nvSpPr>
                    <p:cNvPr id="161" name="Freeform 1088"/>
                    <p:cNvSpPr/>
                    <p:nvPr/>
                  </p:nvSpPr>
                  <p:spPr>
                    <a:xfrm>
                      <a:off x="4259160" y="5386320"/>
                      <a:ext cx="30240" cy="2620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262080"/>
                        <a:gd name="textAreaBottom" fmla="*/ 262440 h 262080"/>
                      </a:gdLst>
                      <a:ahLst/>
                      <a:rect l="textAreaLeft" t="textAreaTop" r="textAreaRight" b="textAreaBottom"/>
                      <a:pathLst>
                        <a:path w="19" h="165">
                          <a:moveTo>
                            <a:pt x="0" y="5"/>
                          </a:moveTo>
                          <a:lnTo>
                            <a:pt x="18" y="0"/>
                          </a:lnTo>
                          <a:lnTo>
                            <a:pt x="18" y="164"/>
                          </a:lnTo>
                          <a:lnTo>
                            <a:pt x="0" y="164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Rectangle 1089"/>
                    <p:cNvSpPr/>
                    <p:nvPr/>
                  </p:nvSpPr>
                  <p:spPr>
                    <a:xfrm>
                      <a:off x="4294080" y="5392800"/>
                      <a:ext cx="12960" cy="247680"/>
                    </a:xfrm>
                    <a:prstGeom prst="rect">
                      <a:avLst/>
                    </a:prstGeom>
                    <a:solidFill>
                      <a:srgbClr val="00d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1090"/>
                  <p:cNvGrpSpPr/>
                  <p:nvPr/>
                </p:nvGrpSpPr>
                <p:grpSpPr>
                  <a:xfrm>
                    <a:off x="4295880" y="5400720"/>
                    <a:ext cx="7920" cy="101520"/>
                    <a:chOff x="4295880" y="5400720"/>
                    <a:chExt cx="7920" cy="101520"/>
                  </a:xfrm>
                </p:grpSpPr>
                <p:grpSp>
                  <p:nvGrpSpPr>
                    <p:cNvPr id="164" name="Group 1091"/>
                    <p:cNvGrpSpPr/>
                    <p:nvPr/>
                  </p:nvGrpSpPr>
                  <p:grpSpPr>
                    <a:xfrm>
                      <a:off x="4295880" y="5400720"/>
                      <a:ext cx="7920" cy="39600"/>
                      <a:chOff x="4295880" y="5400720"/>
                      <a:chExt cx="7920" cy="39600"/>
                    </a:xfrm>
                  </p:grpSpPr>
                  <p:sp>
                    <p:nvSpPr>
                      <p:cNvPr id="165" name="Rectangle 1092"/>
                      <p:cNvSpPr/>
                      <p:nvPr/>
                    </p:nvSpPr>
                    <p:spPr>
                      <a:xfrm>
                        <a:off x="4295880" y="540072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" name="Rectangle 1093"/>
                      <p:cNvSpPr/>
                      <p:nvPr/>
                    </p:nvSpPr>
                    <p:spPr>
                      <a:xfrm>
                        <a:off x="4295880" y="5430960"/>
                        <a:ext cx="7920" cy="93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7" name="Group 1094"/>
                    <p:cNvGrpSpPr/>
                    <p:nvPr/>
                  </p:nvGrpSpPr>
                  <p:grpSpPr>
                    <a:xfrm>
                      <a:off x="4295880" y="5462640"/>
                      <a:ext cx="7920" cy="39600"/>
                      <a:chOff x="4295880" y="5462640"/>
                      <a:chExt cx="7920" cy="39600"/>
                    </a:xfrm>
                  </p:grpSpPr>
                  <p:sp>
                    <p:nvSpPr>
                      <p:cNvPr id="168" name="Rectangle 1095"/>
                      <p:cNvSpPr/>
                      <p:nvPr/>
                    </p:nvSpPr>
                    <p:spPr>
                      <a:xfrm>
                        <a:off x="4295880" y="546264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Rectangle 1096"/>
                      <p:cNvSpPr/>
                      <p:nvPr/>
                    </p:nvSpPr>
                    <p:spPr>
                      <a:xfrm>
                        <a:off x="4295880" y="54910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0" name="Group 1097"/>
              <p:cNvGrpSpPr/>
              <p:nvPr/>
            </p:nvGrpSpPr>
            <p:grpSpPr>
              <a:xfrm>
                <a:off x="4324320" y="5246640"/>
                <a:ext cx="155520" cy="69840"/>
                <a:chOff x="4324320" y="5246640"/>
                <a:chExt cx="155520" cy="69840"/>
              </a:xfrm>
            </p:grpSpPr>
            <p:sp>
              <p:nvSpPr>
                <p:cNvPr id="171" name="Freeform 1098"/>
                <p:cNvSpPr/>
                <p:nvPr/>
              </p:nvSpPr>
              <p:spPr>
                <a:xfrm>
                  <a:off x="4324320" y="5289480"/>
                  <a:ext cx="14400" cy="270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099"/>
                <p:cNvSpPr/>
                <p:nvPr/>
              </p:nvSpPr>
              <p:spPr>
                <a:xfrm>
                  <a:off x="4411800" y="5262480"/>
                  <a:ext cx="15840" cy="2700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0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100"/>
                <p:cNvSpPr/>
                <p:nvPr/>
              </p:nvSpPr>
              <p:spPr>
                <a:xfrm>
                  <a:off x="4368960" y="5276880"/>
                  <a:ext cx="14040" cy="27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101"/>
                <p:cNvSpPr/>
                <p:nvPr/>
              </p:nvSpPr>
              <p:spPr>
                <a:xfrm>
                  <a:off x="4465800" y="5246640"/>
                  <a:ext cx="14040" cy="27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102"/>
              <p:cNvGrpSpPr/>
              <p:nvPr/>
            </p:nvGrpSpPr>
            <p:grpSpPr>
              <a:xfrm>
                <a:off x="4556160" y="5372280"/>
                <a:ext cx="92160" cy="282240"/>
                <a:chOff x="4556160" y="5372280"/>
                <a:chExt cx="92160" cy="282240"/>
              </a:xfrm>
            </p:grpSpPr>
            <p:grpSp>
              <p:nvGrpSpPr>
                <p:cNvPr id="176" name="Group 1103"/>
                <p:cNvGrpSpPr/>
                <p:nvPr/>
              </p:nvGrpSpPr>
              <p:grpSpPr>
                <a:xfrm>
                  <a:off x="4556160" y="5372280"/>
                  <a:ext cx="92160" cy="282240"/>
                  <a:chOff x="4556160" y="5372280"/>
                  <a:chExt cx="92160" cy="282240"/>
                </a:xfrm>
              </p:grpSpPr>
              <p:sp>
                <p:nvSpPr>
                  <p:cNvPr id="177" name="Freeform 1104"/>
                  <p:cNvSpPr/>
                  <p:nvPr/>
                </p:nvSpPr>
                <p:spPr>
                  <a:xfrm>
                    <a:off x="4584600" y="5372280"/>
                    <a:ext cx="63720" cy="280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40" h="177">
                        <a:moveTo>
                          <a:pt x="0" y="0"/>
                        </a:moveTo>
                        <a:lnTo>
                          <a:pt x="39" y="9"/>
                        </a:lnTo>
                        <a:lnTo>
                          <a:pt x="39" y="172"/>
                        </a:lnTo>
                        <a:lnTo>
                          <a:pt x="0" y="1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105"/>
                  <p:cNvSpPr/>
                  <p:nvPr/>
                </p:nvSpPr>
                <p:spPr>
                  <a:xfrm>
                    <a:off x="4556160" y="5372280"/>
                    <a:ext cx="30240" cy="2822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9" h="178">
                        <a:moveTo>
                          <a:pt x="18" y="0"/>
                        </a:moveTo>
                        <a:lnTo>
                          <a:pt x="18" y="177"/>
                        </a:lnTo>
                        <a:lnTo>
                          <a:pt x="0" y="174"/>
                        </a:lnTo>
                        <a:lnTo>
                          <a:pt x="0" y="4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106"/>
                <p:cNvGrpSpPr/>
                <p:nvPr/>
              </p:nvGrpSpPr>
              <p:grpSpPr>
                <a:xfrm>
                  <a:off x="4603680" y="5418000"/>
                  <a:ext cx="9720" cy="98640"/>
                  <a:chOff x="4603680" y="5418000"/>
                  <a:chExt cx="9720" cy="98640"/>
                </a:xfrm>
              </p:grpSpPr>
              <p:grpSp>
                <p:nvGrpSpPr>
                  <p:cNvPr id="180" name="Group 1107"/>
                  <p:cNvGrpSpPr/>
                  <p:nvPr/>
                </p:nvGrpSpPr>
                <p:grpSpPr>
                  <a:xfrm>
                    <a:off x="4603680" y="5418000"/>
                    <a:ext cx="9720" cy="36720"/>
                    <a:chOff x="4603680" y="5418000"/>
                    <a:chExt cx="9720" cy="36720"/>
                  </a:xfrm>
                </p:grpSpPr>
                <p:sp>
                  <p:nvSpPr>
                    <p:cNvPr id="181" name="Rectangle 1108"/>
                    <p:cNvSpPr/>
                    <p:nvPr/>
                  </p:nvSpPr>
                  <p:spPr>
                    <a:xfrm>
                      <a:off x="4603680" y="5418000"/>
                      <a:ext cx="9720" cy="6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Rectangle 1109"/>
                    <p:cNvSpPr/>
                    <p:nvPr/>
                  </p:nvSpPr>
                  <p:spPr>
                    <a:xfrm>
                      <a:off x="4603680" y="5446800"/>
                      <a:ext cx="97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1110"/>
                  <p:cNvGrpSpPr/>
                  <p:nvPr/>
                </p:nvGrpSpPr>
                <p:grpSpPr>
                  <a:xfrm>
                    <a:off x="4603680" y="5479920"/>
                    <a:ext cx="9720" cy="36720"/>
                    <a:chOff x="4603680" y="5479920"/>
                    <a:chExt cx="9720" cy="36720"/>
                  </a:xfrm>
                </p:grpSpPr>
                <p:sp>
                  <p:nvSpPr>
                    <p:cNvPr id="184" name="Rectangle 1111"/>
                    <p:cNvSpPr/>
                    <p:nvPr/>
                  </p:nvSpPr>
                  <p:spPr>
                    <a:xfrm>
                      <a:off x="4603680" y="5479920"/>
                      <a:ext cx="9720" cy="6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Rectangle 1112"/>
                    <p:cNvSpPr/>
                    <p:nvPr/>
                  </p:nvSpPr>
                  <p:spPr>
                    <a:xfrm>
                      <a:off x="4603680" y="5508720"/>
                      <a:ext cx="97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6" name="Freeform 1113"/>
              <p:cNvSpPr/>
              <p:nvPr/>
            </p:nvSpPr>
            <p:spPr>
              <a:xfrm>
                <a:off x="4626000" y="5462640"/>
                <a:ext cx="141120" cy="1839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9" h="116">
                    <a:moveTo>
                      <a:pt x="0" y="115"/>
                    </a:moveTo>
                    <a:lnTo>
                      <a:pt x="88" y="115"/>
                    </a:lnTo>
                    <a:lnTo>
                      <a:pt x="88" y="0"/>
                    </a:lnTo>
                    <a:lnTo>
                      <a:pt x="34" y="3"/>
                    </a:lnTo>
                    <a:lnTo>
                      <a:pt x="34" y="85"/>
                    </a:lnTo>
                    <a:lnTo>
                      <a:pt x="0" y="92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14"/>
              <p:cNvSpPr/>
              <p:nvPr/>
            </p:nvSpPr>
            <p:spPr>
              <a:xfrm>
                <a:off x="5213520" y="5530680"/>
                <a:ext cx="26640" cy="1065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7" h="67">
                    <a:moveTo>
                      <a:pt x="0" y="11"/>
                    </a:move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3" y="66"/>
                    </a:lnTo>
                    <a:lnTo>
                      <a:pt x="0" y="6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1115"/>
              <p:cNvGrpSpPr/>
              <p:nvPr/>
            </p:nvGrpSpPr>
            <p:grpSpPr>
              <a:xfrm>
                <a:off x="4694400" y="5611680"/>
                <a:ext cx="318960" cy="42840"/>
                <a:chOff x="4694400" y="5611680"/>
                <a:chExt cx="318960" cy="42840"/>
              </a:xfrm>
            </p:grpSpPr>
            <p:grpSp>
              <p:nvGrpSpPr>
                <p:cNvPr id="189" name="Group 1116"/>
                <p:cNvGrpSpPr/>
                <p:nvPr/>
              </p:nvGrpSpPr>
              <p:grpSpPr>
                <a:xfrm>
                  <a:off x="4694400" y="5611680"/>
                  <a:ext cx="160200" cy="42840"/>
                  <a:chOff x="4694400" y="5611680"/>
                  <a:chExt cx="160200" cy="42840"/>
                </a:xfrm>
              </p:grpSpPr>
              <p:grpSp>
                <p:nvGrpSpPr>
                  <p:cNvPr id="190" name="Group 1117"/>
                  <p:cNvGrpSpPr/>
                  <p:nvPr/>
                </p:nvGrpSpPr>
                <p:grpSpPr>
                  <a:xfrm>
                    <a:off x="4694400" y="5611680"/>
                    <a:ext cx="41040" cy="42840"/>
                    <a:chOff x="4694400" y="5611680"/>
                    <a:chExt cx="41040" cy="42840"/>
                  </a:xfrm>
                </p:grpSpPr>
                <p:sp>
                  <p:nvSpPr>
                    <p:cNvPr id="191" name="Rectangle 1118"/>
                    <p:cNvSpPr/>
                    <p:nvPr/>
                  </p:nvSpPr>
                  <p:spPr>
                    <a:xfrm>
                      <a:off x="470052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1119"/>
                    <p:cNvSpPr/>
                    <p:nvPr/>
                  </p:nvSpPr>
                  <p:spPr>
                    <a:xfrm>
                      <a:off x="469440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1120"/>
                  <p:cNvGrpSpPr/>
                  <p:nvPr/>
                </p:nvGrpSpPr>
                <p:grpSpPr>
                  <a:xfrm>
                    <a:off x="4734000" y="5611680"/>
                    <a:ext cx="41040" cy="42840"/>
                    <a:chOff x="4734000" y="5611680"/>
                    <a:chExt cx="41040" cy="42840"/>
                  </a:xfrm>
                </p:grpSpPr>
                <p:sp>
                  <p:nvSpPr>
                    <p:cNvPr id="194" name="Rectangle 1121"/>
                    <p:cNvSpPr/>
                    <p:nvPr/>
                  </p:nvSpPr>
                  <p:spPr>
                    <a:xfrm>
                      <a:off x="474012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Freeform 1122"/>
                    <p:cNvSpPr/>
                    <p:nvPr/>
                  </p:nvSpPr>
                  <p:spPr>
                    <a:xfrm>
                      <a:off x="473400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Group 1123"/>
                  <p:cNvGrpSpPr/>
                  <p:nvPr/>
                </p:nvGrpSpPr>
                <p:grpSpPr>
                  <a:xfrm>
                    <a:off x="4773600" y="5611680"/>
                    <a:ext cx="41400" cy="42840"/>
                    <a:chOff x="4773600" y="5611680"/>
                    <a:chExt cx="41400" cy="42840"/>
                  </a:xfrm>
                </p:grpSpPr>
                <p:sp>
                  <p:nvSpPr>
                    <p:cNvPr id="197" name="Rectangle 1124"/>
                    <p:cNvSpPr/>
                    <p:nvPr/>
                  </p:nvSpPr>
                  <p:spPr>
                    <a:xfrm>
                      <a:off x="47800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Freeform 1125"/>
                    <p:cNvSpPr/>
                    <p:nvPr/>
                  </p:nvSpPr>
                  <p:spPr>
                    <a:xfrm>
                      <a:off x="477360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Group 1126"/>
                  <p:cNvGrpSpPr/>
                  <p:nvPr/>
                </p:nvGrpSpPr>
                <p:grpSpPr>
                  <a:xfrm>
                    <a:off x="4813200" y="5611680"/>
                    <a:ext cx="41400" cy="42840"/>
                    <a:chOff x="4813200" y="5611680"/>
                    <a:chExt cx="41400" cy="42840"/>
                  </a:xfrm>
                </p:grpSpPr>
                <p:sp>
                  <p:nvSpPr>
                    <p:cNvPr id="200" name="Rectangle 1127"/>
                    <p:cNvSpPr/>
                    <p:nvPr/>
                  </p:nvSpPr>
                  <p:spPr>
                    <a:xfrm>
                      <a:off x="48196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28"/>
                    <p:cNvSpPr/>
                    <p:nvPr/>
                  </p:nvSpPr>
                  <p:spPr>
                    <a:xfrm>
                      <a:off x="481320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2" name="Group 1129"/>
                <p:cNvGrpSpPr/>
                <p:nvPr/>
              </p:nvGrpSpPr>
              <p:grpSpPr>
                <a:xfrm>
                  <a:off x="4853160" y="5611680"/>
                  <a:ext cx="160200" cy="42840"/>
                  <a:chOff x="4853160" y="5611680"/>
                  <a:chExt cx="160200" cy="42840"/>
                </a:xfrm>
              </p:grpSpPr>
              <p:grpSp>
                <p:nvGrpSpPr>
                  <p:cNvPr id="203" name="Group 1130"/>
                  <p:cNvGrpSpPr/>
                  <p:nvPr/>
                </p:nvGrpSpPr>
                <p:grpSpPr>
                  <a:xfrm>
                    <a:off x="4853160" y="5611680"/>
                    <a:ext cx="41040" cy="42840"/>
                    <a:chOff x="4853160" y="5611680"/>
                    <a:chExt cx="41040" cy="42840"/>
                  </a:xfrm>
                </p:grpSpPr>
                <p:sp>
                  <p:nvSpPr>
                    <p:cNvPr id="204" name="Rectangle 1131"/>
                    <p:cNvSpPr/>
                    <p:nvPr/>
                  </p:nvSpPr>
                  <p:spPr>
                    <a:xfrm>
                      <a:off x="48592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Freeform 1132"/>
                    <p:cNvSpPr/>
                    <p:nvPr/>
                  </p:nvSpPr>
                  <p:spPr>
                    <a:xfrm>
                      <a:off x="485316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1133"/>
                  <p:cNvGrpSpPr/>
                  <p:nvPr/>
                </p:nvGrpSpPr>
                <p:grpSpPr>
                  <a:xfrm>
                    <a:off x="4892760" y="5611680"/>
                    <a:ext cx="41040" cy="42840"/>
                    <a:chOff x="4892760" y="5611680"/>
                    <a:chExt cx="41040" cy="42840"/>
                  </a:xfrm>
                </p:grpSpPr>
                <p:sp>
                  <p:nvSpPr>
                    <p:cNvPr id="207" name="Rectangle 1134"/>
                    <p:cNvSpPr/>
                    <p:nvPr/>
                  </p:nvSpPr>
                  <p:spPr>
                    <a:xfrm>
                      <a:off x="48988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Freeform 1135"/>
                    <p:cNvSpPr/>
                    <p:nvPr/>
                  </p:nvSpPr>
                  <p:spPr>
                    <a:xfrm>
                      <a:off x="489276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1136"/>
                  <p:cNvGrpSpPr/>
                  <p:nvPr/>
                </p:nvGrpSpPr>
                <p:grpSpPr>
                  <a:xfrm>
                    <a:off x="4932360" y="5611680"/>
                    <a:ext cx="41400" cy="42840"/>
                    <a:chOff x="4932360" y="5611680"/>
                    <a:chExt cx="41400" cy="42840"/>
                  </a:xfrm>
                </p:grpSpPr>
                <p:sp>
                  <p:nvSpPr>
                    <p:cNvPr id="210" name="Rectangle 1137"/>
                    <p:cNvSpPr/>
                    <p:nvPr/>
                  </p:nvSpPr>
                  <p:spPr>
                    <a:xfrm>
                      <a:off x="493884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Freeform 1138"/>
                    <p:cNvSpPr/>
                    <p:nvPr/>
                  </p:nvSpPr>
                  <p:spPr>
                    <a:xfrm>
                      <a:off x="493236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1139"/>
                  <p:cNvGrpSpPr/>
                  <p:nvPr/>
                </p:nvGrpSpPr>
                <p:grpSpPr>
                  <a:xfrm>
                    <a:off x="4971960" y="5611680"/>
                    <a:ext cx="41400" cy="42840"/>
                    <a:chOff x="4971960" y="5611680"/>
                    <a:chExt cx="41400" cy="42840"/>
                  </a:xfrm>
                </p:grpSpPr>
                <p:sp>
                  <p:nvSpPr>
                    <p:cNvPr id="213" name="Rectangle 1140"/>
                    <p:cNvSpPr/>
                    <p:nvPr/>
                  </p:nvSpPr>
                  <p:spPr>
                    <a:xfrm>
                      <a:off x="497844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Freeform 1141"/>
                    <p:cNvSpPr/>
                    <p:nvPr/>
                  </p:nvSpPr>
                  <p:spPr>
                    <a:xfrm>
                      <a:off x="497196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5" name="Line 1142"/>
                <p:cNvSpPr/>
                <p:nvPr/>
              </p:nvSpPr>
              <p:spPr>
                <a:xfrm>
                  <a:off x="479268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1143"/>
                <p:cNvSpPr/>
                <p:nvPr/>
              </p:nvSpPr>
              <p:spPr>
                <a:xfrm>
                  <a:off x="491184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144"/>
                <p:cNvSpPr/>
                <p:nvPr/>
              </p:nvSpPr>
              <p:spPr>
                <a:xfrm>
                  <a:off x="483228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145"/>
                <p:cNvSpPr/>
                <p:nvPr/>
              </p:nvSpPr>
              <p:spPr>
                <a:xfrm>
                  <a:off x="487188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146"/>
                <p:cNvSpPr/>
                <p:nvPr/>
              </p:nvSpPr>
              <p:spPr>
                <a:xfrm>
                  <a:off x="475308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147"/>
                <p:cNvSpPr/>
                <p:nvPr/>
              </p:nvSpPr>
              <p:spPr>
                <a:xfrm>
                  <a:off x="471312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148"/>
                <p:cNvSpPr/>
                <p:nvPr/>
              </p:nvSpPr>
              <p:spPr>
                <a:xfrm>
                  <a:off x="495144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149"/>
                <p:cNvSpPr/>
                <p:nvPr/>
              </p:nvSpPr>
              <p:spPr>
                <a:xfrm>
                  <a:off x="499104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Freeform 1150"/>
              <p:cNvSpPr/>
              <p:nvPr/>
            </p:nvSpPr>
            <p:spPr>
              <a:xfrm>
                <a:off x="4633920" y="5592600"/>
                <a:ext cx="349200" cy="208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0" h="13">
                    <a:moveTo>
                      <a:pt x="0" y="10"/>
                    </a:moveTo>
                    <a:lnTo>
                      <a:pt x="13" y="0"/>
                    </a:lnTo>
                    <a:lnTo>
                      <a:pt x="218" y="0"/>
                    </a:lnTo>
                    <a:lnTo>
                      <a:pt x="219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51"/>
              <p:cNvSpPr/>
              <p:nvPr/>
            </p:nvSpPr>
            <p:spPr>
              <a:xfrm>
                <a:off x="5140440" y="5514840"/>
                <a:ext cx="34920" cy="139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2" h="88">
                    <a:moveTo>
                      <a:pt x="0" y="15"/>
                    </a:moveTo>
                    <a:lnTo>
                      <a:pt x="0" y="10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7" y="10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87"/>
                    </a:lnTo>
                    <a:lnTo>
                      <a:pt x="0" y="87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152"/>
              <p:cNvGrpSpPr/>
              <p:nvPr/>
            </p:nvGrpSpPr>
            <p:grpSpPr>
              <a:xfrm>
                <a:off x="5067360" y="5619600"/>
                <a:ext cx="65160" cy="36720"/>
                <a:chOff x="5067360" y="5619600"/>
                <a:chExt cx="65160" cy="36720"/>
              </a:xfrm>
            </p:grpSpPr>
            <p:sp>
              <p:nvSpPr>
                <p:cNvPr id="226" name="Freeform 1153"/>
                <p:cNvSpPr/>
                <p:nvPr/>
              </p:nvSpPr>
              <p:spPr>
                <a:xfrm>
                  <a:off x="5067360" y="5619600"/>
                  <a:ext cx="49320" cy="3672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23">
                      <a:moveTo>
                        <a:pt x="0" y="22"/>
                      </a:moveTo>
                      <a:lnTo>
                        <a:pt x="30" y="22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9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154"/>
                <p:cNvSpPr/>
                <p:nvPr/>
              </p:nvSpPr>
              <p:spPr>
                <a:xfrm>
                  <a:off x="5114880" y="5619600"/>
                  <a:ext cx="17640" cy="367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1" h="23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10" y="2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Freeform 1155"/>
              <p:cNvSpPr/>
              <p:nvPr/>
            </p:nvSpPr>
            <p:spPr>
              <a:xfrm>
                <a:off x="5280120" y="5551560"/>
                <a:ext cx="17280" cy="73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" h="46">
                    <a:moveTo>
                      <a:pt x="0" y="8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45"/>
                    </a:lnTo>
                    <a:lnTo>
                      <a:pt x="0" y="4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1156"/>
              <p:cNvGrpSpPr/>
              <p:nvPr/>
            </p:nvGrpSpPr>
            <p:grpSpPr>
              <a:xfrm>
                <a:off x="5062680" y="5519880"/>
                <a:ext cx="21960" cy="133200"/>
                <a:chOff x="5062680" y="5519880"/>
                <a:chExt cx="21960" cy="133200"/>
              </a:xfrm>
            </p:grpSpPr>
            <p:grpSp>
              <p:nvGrpSpPr>
                <p:cNvPr id="230" name="Group 1157"/>
                <p:cNvGrpSpPr/>
                <p:nvPr/>
              </p:nvGrpSpPr>
              <p:grpSpPr>
                <a:xfrm>
                  <a:off x="5062680" y="5607000"/>
                  <a:ext cx="21960" cy="46080"/>
                  <a:chOff x="5062680" y="5607000"/>
                  <a:chExt cx="21960" cy="46080"/>
                </a:xfrm>
              </p:grpSpPr>
              <p:sp>
                <p:nvSpPr>
                  <p:cNvPr id="231" name="Rectangle 1158"/>
                  <p:cNvSpPr/>
                  <p:nvPr/>
                </p:nvSpPr>
                <p:spPr>
                  <a:xfrm>
                    <a:off x="5067360" y="563400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159"/>
                  <p:cNvSpPr/>
                  <p:nvPr/>
                </p:nvSpPr>
                <p:spPr>
                  <a:xfrm>
                    <a:off x="5062680" y="562932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1160"/>
                  <p:cNvSpPr/>
                  <p:nvPr/>
                </p:nvSpPr>
                <p:spPr>
                  <a:xfrm>
                    <a:off x="5068800" y="5613480"/>
                    <a:ext cx="792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161"/>
                  <p:cNvSpPr/>
                  <p:nvPr/>
                </p:nvSpPr>
                <p:spPr>
                  <a:xfrm>
                    <a:off x="5062680" y="560700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162"/>
                <p:cNvGrpSpPr/>
                <p:nvPr/>
              </p:nvGrpSpPr>
              <p:grpSpPr>
                <a:xfrm>
                  <a:off x="5062680" y="5562720"/>
                  <a:ext cx="21960" cy="46080"/>
                  <a:chOff x="5062680" y="5562720"/>
                  <a:chExt cx="21960" cy="46080"/>
                </a:xfrm>
              </p:grpSpPr>
              <p:sp>
                <p:nvSpPr>
                  <p:cNvPr id="236" name="Rectangle 1163"/>
                  <p:cNvSpPr/>
                  <p:nvPr/>
                </p:nvSpPr>
                <p:spPr>
                  <a:xfrm>
                    <a:off x="5067360" y="558972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164"/>
                  <p:cNvSpPr/>
                  <p:nvPr/>
                </p:nvSpPr>
                <p:spPr>
                  <a:xfrm>
                    <a:off x="5062680" y="5584680"/>
                    <a:ext cx="21960" cy="241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1165"/>
                  <p:cNvSpPr/>
                  <p:nvPr/>
                </p:nvSpPr>
                <p:spPr>
                  <a:xfrm>
                    <a:off x="5068800" y="5568840"/>
                    <a:ext cx="7920" cy="97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166"/>
                  <p:cNvSpPr/>
                  <p:nvPr/>
                </p:nvSpPr>
                <p:spPr>
                  <a:xfrm>
                    <a:off x="5062680" y="556272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67"/>
                <p:cNvGrpSpPr/>
                <p:nvPr/>
              </p:nvGrpSpPr>
              <p:grpSpPr>
                <a:xfrm>
                  <a:off x="5062680" y="5519880"/>
                  <a:ext cx="21960" cy="44280"/>
                  <a:chOff x="5062680" y="5519880"/>
                  <a:chExt cx="21960" cy="44280"/>
                </a:xfrm>
              </p:grpSpPr>
              <p:sp>
                <p:nvSpPr>
                  <p:cNvPr id="241" name="Rectangle 1168"/>
                  <p:cNvSpPr/>
                  <p:nvPr/>
                </p:nvSpPr>
                <p:spPr>
                  <a:xfrm>
                    <a:off x="5067360" y="554508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169"/>
                  <p:cNvSpPr/>
                  <p:nvPr/>
                </p:nvSpPr>
                <p:spPr>
                  <a:xfrm>
                    <a:off x="5062680" y="554040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Rectangle 1170"/>
                  <p:cNvSpPr/>
                  <p:nvPr/>
                </p:nvSpPr>
                <p:spPr>
                  <a:xfrm>
                    <a:off x="5068800" y="5526000"/>
                    <a:ext cx="7920" cy="7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171"/>
                  <p:cNvSpPr/>
                  <p:nvPr/>
                </p:nvSpPr>
                <p:spPr>
                  <a:xfrm>
                    <a:off x="5062680" y="5519880"/>
                    <a:ext cx="21960" cy="219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4" h="14">
                        <a:moveTo>
                          <a:pt x="0" y="0"/>
                        </a:move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Freeform 1172"/>
              <p:cNvSpPr/>
              <p:nvPr/>
            </p:nvSpPr>
            <p:spPr>
              <a:xfrm>
                <a:off x="4248000" y="5421240"/>
                <a:ext cx="736920" cy="165240"/>
              </a:xfrm>
              <a:custGeom>
                <a:avLst/>
                <a:gdLst>
                  <a:gd name="textAreaLeft" fmla="*/ 0 w 736920"/>
                  <a:gd name="textAreaRight" fmla="*/ 737280 w 736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464" h="104">
                    <a:moveTo>
                      <a:pt x="463" y="0"/>
                    </a:moveTo>
                    <a:lnTo>
                      <a:pt x="463" y="19"/>
                    </a:lnTo>
                    <a:lnTo>
                      <a:pt x="282" y="35"/>
                    </a:lnTo>
                    <a:lnTo>
                      <a:pt x="240" y="98"/>
                    </a:lnTo>
                    <a:lnTo>
                      <a:pt x="0" y="103"/>
                    </a:lnTo>
                    <a:lnTo>
                      <a:pt x="0" y="91"/>
                    </a:lnTo>
                    <a:lnTo>
                      <a:pt x="225" y="82"/>
                    </a:lnTo>
                    <a:lnTo>
                      <a:pt x="272" y="18"/>
                    </a:lnTo>
                    <a:lnTo>
                      <a:pt x="463" y="0"/>
                    </a:lnTo>
                  </a:path>
                </a:pathLst>
              </a:custGeom>
              <a:solidFill>
                <a:srgbClr val="9f7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1173"/>
              <p:cNvGrpSpPr/>
              <p:nvPr/>
            </p:nvGrpSpPr>
            <p:grpSpPr>
              <a:xfrm>
                <a:off x="4776840" y="5365800"/>
                <a:ext cx="85680" cy="93600"/>
                <a:chOff x="4776840" y="5365800"/>
                <a:chExt cx="85680" cy="93600"/>
              </a:xfrm>
            </p:grpSpPr>
            <p:sp>
              <p:nvSpPr>
                <p:cNvPr id="247" name="Freeform 1174"/>
                <p:cNvSpPr/>
                <p:nvPr/>
              </p:nvSpPr>
              <p:spPr>
                <a:xfrm>
                  <a:off x="4803840" y="5367240"/>
                  <a:ext cx="58680" cy="90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57">
                      <a:moveTo>
                        <a:pt x="19" y="0"/>
                      </a:moveTo>
                      <a:lnTo>
                        <a:pt x="36" y="8"/>
                      </a:lnTo>
                      <a:lnTo>
                        <a:pt x="36" y="24"/>
                      </a:lnTo>
                      <a:lnTo>
                        <a:pt x="21" y="25"/>
                      </a:lnTo>
                      <a:lnTo>
                        <a:pt x="12" y="53"/>
                      </a:lnTo>
                      <a:lnTo>
                        <a:pt x="0" y="56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7ff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175"/>
                <p:cNvSpPr/>
                <p:nvPr/>
              </p:nvSpPr>
              <p:spPr>
                <a:xfrm>
                  <a:off x="4776840" y="5365800"/>
                  <a:ext cx="58680" cy="936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7" h="59">
                      <a:moveTo>
                        <a:pt x="19" y="5"/>
                      </a:moveTo>
                      <a:lnTo>
                        <a:pt x="36" y="0"/>
                      </a:lnTo>
                      <a:lnTo>
                        <a:pt x="17" y="57"/>
                      </a:lnTo>
                      <a:lnTo>
                        <a:pt x="0" y="58"/>
                      </a:lnTo>
                      <a:lnTo>
                        <a:pt x="19" y="5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176"/>
              <p:cNvGrpSpPr/>
              <p:nvPr/>
            </p:nvGrpSpPr>
            <p:grpSpPr>
              <a:xfrm>
                <a:off x="4896000" y="5338800"/>
                <a:ext cx="96840" cy="108000"/>
                <a:chOff x="4896000" y="5338800"/>
                <a:chExt cx="96840" cy="108000"/>
              </a:xfrm>
            </p:grpSpPr>
            <p:sp>
              <p:nvSpPr>
                <p:cNvPr id="250" name="Freeform 1177"/>
                <p:cNvSpPr/>
                <p:nvPr/>
              </p:nvSpPr>
              <p:spPr>
                <a:xfrm>
                  <a:off x="4896000" y="5338800"/>
                  <a:ext cx="68040" cy="10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43" h="68">
                      <a:moveTo>
                        <a:pt x="22" y="4"/>
                      </a:moveTo>
                      <a:lnTo>
                        <a:pt x="42" y="0"/>
                      </a:lnTo>
                      <a:lnTo>
                        <a:pt x="21" y="65"/>
                      </a:lnTo>
                      <a:lnTo>
                        <a:pt x="0" y="67"/>
                      </a:lnTo>
                      <a:lnTo>
                        <a:pt x="22" y="4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178"/>
                <p:cNvSpPr/>
                <p:nvPr/>
              </p:nvSpPr>
              <p:spPr>
                <a:xfrm>
                  <a:off x="4929120" y="5340240"/>
                  <a:ext cx="63720" cy="1033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40" h="65">
                      <a:moveTo>
                        <a:pt x="21" y="0"/>
                      </a:moveTo>
                      <a:lnTo>
                        <a:pt x="0" y="64"/>
                      </a:lnTo>
                      <a:lnTo>
                        <a:pt x="13" y="58"/>
                      </a:lnTo>
                      <a:lnTo>
                        <a:pt x="22" y="30"/>
                      </a:lnTo>
                      <a:lnTo>
                        <a:pt x="39" y="29"/>
                      </a:lnTo>
                      <a:lnTo>
                        <a:pt x="39" y="1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7ff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179"/>
              <p:cNvGrpSpPr/>
              <p:nvPr/>
            </p:nvGrpSpPr>
            <p:grpSpPr>
              <a:xfrm>
                <a:off x="4991040" y="5614920"/>
                <a:ext cx="85680" cy="50760"/>
                <a:chOff x="4991040" y="5614920"/>
                <a:chExt cx="85680" cy="50760"/>
              </a:xfrm>
            </p:grpSpPr>
            <p:sp>
              <p:nvSpPr>
                <p:cNvPr id="253" name="Rectangle 1180"/>
                <p:cNvSpPr/>
                <p:nvPr/>
              </p:nvSpPr>
              <p:spPr>
                <a:xfrm>
                  <a:off x="4991040" y="5621400"/>
                  <a:ext cx="54000" cy="36360"/>
                </a:xfrm>
                <a:prstGeom prst="rect">
                  <a:avLst/>
                </a:prstGeom>
                <a:solidFill>
                  <a:srgbClr val="00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181"/>
                <p:cNvSpPr/>
                <p:nvPr/>
              </p:nvSpPr>
              <p:spPr>
                <a:xfrm>
                  <a:off x="5051520" y="5614920"/>
                  <a:ext cx="25200" cy="507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6" h="32">
                      <a:moveTo>
                        <a:pt x="0" y="0"/>
                      </a:moveTo>
                      <a:lnTo>
                        <a:pt x="0" y="31"/>
                      </a:lnTo>
                      <a:lnTo>
                        <a:pt x="15" y="30"/>
                      </a:lnTo>
                      <a:lnTo>
                        <a:pt x="15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1182"/>
              <p:cNvGrpSpPr/>
              <p:nvPr/>
            </p:nvGrpSpPr>
            <p:grpSpPr>
              <a:xfrm>
                <a:off x="4692600" y="5479920"/>
                <a:ext cx="231840" cy="181080"/>
                <a:chOff x="4692600" y="5479920"/>
                <a:chExt cx="231840" cy="181080"/>
              </a:xfrm>
            </p:grpSpPr>
            <p:sp>
              <p:nvSpPr>
                <p:cNvPr id="256" name="Freeform 1183"/>
                <p:cNvSpPr/>
                <p:nvPr/>
              </p:nvSpPr>
              <p:spPr>
                <a:xfrm>
                  <a:off x="4694400" y="5486400"/>
                  <a:ext cx="109440" cy="1440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9" h="9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68" y="6"/>
                      </a:lnTo>
                      <a:lnTo>
                        <a:pt x="6" y="8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184"/>
                <p:cNvSpPr/>
                <p:nvPr/>
              </p:nvSpPr>
              <p:spPr>
                <a:xfrm>
                  <a:off x="4692600" y="5492880"/>
                  <a:ext cx="12600" cy="1634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8" h="103">
                      <a:moveTo>
                        <a:pt x="0" y="102"/>
                      </a:moveTo>
                      <a:lnTo>
                        <a:pt x="0" y="0"/>
                      </a:lnTo>
                      <a:lnTo>
                        <a:pt x="7" y="5"/>
                      </a:lnTo>
                      <a:lnTo>
                        <a:pt x="7" y="102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185"/>
                <p:cNvSpPr/>
                <p:nvPr/>
              </p:nvSpPr>
              <p:spPr>
                <a:xfrm>
                  <a:off x="4789440" y="5486400"/>
                  <a:ext cx="11160" cy="173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7" h="109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108"/>
                      </a:lnTo>
                      <a:lnTo>
                        <a:pt x="0" y="108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186"/>
                <p:cNvSpPr/>
                <p:nvPr/>
              </p:nvSpPr>
              <p:spPr>
                <a:xfrm>
                  <a:off x="4789440" y="5481720"/>
                  <a:ext cx="135000" cy="15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85" h="10">
                      <a:moveTo>
                        <a:pt x="0" y="3"/>
                      </a:moveTo>
                      <a:lnTo>
                        <a:pt x="73" y="0"/>
                      </a:lnTo>
                      <a:lnTo>
                        <a:pt x="84" y="6"/>
                      </a:lnTo>
                      <a:lnTo>
                        <a:pt x="7" y="9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187"/>
                <p:cNvSpPr/>
                <p:nvPr/>
              </p:nvSpPr>
              <p:spPr>
                <a:xfrm>
                  <a:off x="4910040" y="5479920"/>
                  <a:ext cx="14400" cy="1810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9" h="114">
                      <a:moveTo>
                        <a:pt x="0" y="113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8" y="113"/>
                      </a:lnTo>
                      <a:lnTo>
                        <a:pt x="0" y="113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188"/>
              <p:cNvGrpSpPr/>
              <p:nvPr/>
            </p:nvGrpSpPr>
            <p:grpSpPr>
              <a:xfrm>
                <a:off x="4262400" y="5611680"/>
                <a:ext cx="301680" cy="39960"/>
                <a:chOff x="4262400" y="5611680"/>
                <a:chExt cx="301680" cy="39960"/>
              </a:xfrm>
            </p:grpSpPr>
            <p:grpSp>
              <p:nvGrpSpPr>
                <p:cNvPr id="262" name="Group 1189"/>
                <p:cNvGrpSpPr/>
                <p:nvPr/>
              </p:nvGrpSpPr>
              <p:grpSpPr>
                <a:xfrm>
                  <a:off x="4262400" y="5611680"/>
                  <a:ext cx="150840" cy="39960"/>
                  <a:chOff x="4262400" y="5611680"/>
                  <a:chExt cx="150840" cy="39960"/>
                </a:xfrm>
              </p:grpSpPr>
              <p:grpSp>
                <p:nvGrpSpPr>
                  <p:cNvPr id="263" name="Group 1190"/>
                  <p:cNvGrpSpPr/>
                  <p:nvPr/>
                </p:nvGrpSpPr>
                <p:grpSpPr>
                  <a:xfrm>
                    <a:off x="4262400" y="5611680"/>
                    <a:ext cx="38160" cy="39960"/>
                    <a:chOff x="4262400" y="5611680"/>
                    <a:chExt cx="38160" cy="39960"/>
                  </a:xfrm>
                </p:grpSpPr>
                <p:sp>
                  <p:nvSpPr>
                    <p:cNvPr id="264" name="Rectangle 1191"/>
                    <p:cNvSpPr/>
                    <p:nvPr/>
                  </p:nvSpPr>
                  <p:spPr>
                    <a:xfrm>
                      <a:off x="426888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1192"/>
                    <p:cNvSpPr/>
                    <p:nvPr/>
                  </p:nvSpPr>
                  <p:spPr>
                    <a:xfrm>
                      <a:off x="426240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1193"/>
                  <p:cNvGrpSpPr/>
                  <p:nvPr/>
                </p:nvGrpSpPr>
                <p:grpSpPr>
                  <a:xfrm>
                    <a:off x="4299120" y="5611680"/>
                    <a:ext cx="39600" cy="39960"/>
                    <a:chOff x="4299120" y="5611680"/>
                    <a:chExt cx="39600" cy="39960"/>
                  </a:xfrm>
                </p:grpSpPr>
                <p:sp>
                  <p:nvSpPr>
                    <p:cNvPr id="267" name="Rectangle 1194"/>
                    <p:cNvSpPr/>
                    <p:nvPr/>
                  </p:nvSpPr>
                  <p:spPr>
                    <a:xfrm>
                      <a:off x="430524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1195"/>
                    <p:cNvSpPr/>
                    <p:nvPr/>
                  </p:nvSpPr>
                  <p:spPr>
                    <a:xfrm>
                      <a:off x="429912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1196"/>
                  <p:cNvGrpSpPr/>
                  <p:nvPr/>
                </p:nvGrpSpPr>
                <p:grpSpPr>
                  <a:xfrm>
                    <a:off x="4336920" y="5611680"/>
                    <a:ext cx="38160" cy="39960"/>
                    <a:chOff x="4336920" y="5611680"/>
                    <a:chExt cx="38160" cy="39960"/>
                  </a:xfrm>
                </p:grpSpPr>
                <p:sp>
                  <p:nvSpPr>
                    <p:cNvPr id="270" name="Rectangle 1197"/>
                    <p:cNvSpPr/>
                    <p:nvPr/>
                  </p:nvSpPr>
                  <p:spPr>
                    <a:xfrm>
                      <a:off x="434340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1198"/>
                    <p:cNvSpPr/>
                    <p:nvPr/>
                  </p:nvSpPr>
                  <p:spPr>
                    <a:xfrm>
                      <a:off x="433692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199"/>
                  <p:cNvGrpSpPr/>
                  <p:nvPr/>
                </p:nvGrpSpPr>
                <p:grpSpPr>
                  <a:xfrm>
                    <a:off x="4373640" y="5611680"/>
                    <a:ext cx="39600" cy="39960"/>
                    <a:chOff x="4373640" y="5611680"/>
                    <a:chExt cx="39600" cy="39960"/>
                  </a:xfrm>
                </p:grpSpPr>
                <p:sp>
                  <p:nvSpPr>
                    <p:cNvPr id="273" name="Rectangle 1200"/>
                    <p:cNvSpPr/>
                    <p:nvPr/>
                  </p:nvSpPr>
                  <p:spPr>
                    <a:xfrm>
                      <a:off x="437976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201"/>
                    <p:cNvSpPr/>
                    <p:nvPr/>
                  </p:nvSpPr>
                  <p:spPr>
                    <a:xfrm>
                      <a:off x="437364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5" name="Group 1202"/>
                <p:cNvGrpSpPr/>
                <p:nvPr/>
              </p:nvGrpSpPr>
              <p:grpSpPr>
                <a:xfrm>
                  <a:off x="4411800" y="5611680"/>
                  <a:ext cx="152280" cy="39960"/>
                  <a:chOff x="4411800" y="5611680"/>
                  <a:chExt cx="152280" cy="39960"/>
                </a:xfrm>
              </p:grpSpPr>
              <p:grpSp>
                <p:nvGrpSpPr>
                  <p:cNvPr id="276" name="Group 1203"/>
                  <p:cNvGrpSpPr/>
                  <p:nvPr/>
                </p:nvGrpSpPr>
                <p:grpSpPr>
                  <a:xfrm>
                    <a:off x="4411800" y="5611680"/>
                    <a:ext cx="39600" cy="39960"/>
                    <a:chOff x="4411800" y="5611680"/>
                    <a:chExt cx="39600" cy="39960"/>
                  </a:xfrm>
                </p:grpSpPr>
                <p:sp>
                  <p:nvSpPr>
                    <p:cNvPr id="277" name="Rectangle 1204"/>
                    <p:cNvSpPr/>
                    <p:nvPr/>
                  </p:nvSpPr>
                  <p:spPr>
                    <a:xfrm>
                      <a:off x="441792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1205"/>
                    <p:cNvSpPr/>
                    <p:nvPr/>
                  </p:nvSpPr>
                  <p:spPr>
                    <a:xfrm>
                      <a:off x="441180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1206"/>
                  <p:cNvGrpSpPr/>
                  <p:nvPr/>
                </p:nvGrpSpPr>
                <p:grpSpPr>
                  <a:xfrm>
                    <a:off x="4449600" y="5611680"/>
                    <a:ext cx="38160" cy="39960"/>
                    <a:chOff x="4449600" y="5611680"/>
                    <a:chExt cx="38160" cy="39960"/>
                  </a:xfrm>
                </p:grpSpPr>
                <p:sp>
                  <p:nvSpPr>
                    <p:cNvPr id="280" name="Rectangle 1207"/>
                    <p:cNvSpPr/>
                    <p:nvPr/>
                  </p:nvSpPr>
                  <p:spPr>
                    <a:xfrm>
                      <a:off x="445608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Freeform 1208"/>
                    <p:cNvSpPr/>
                    <p:nvPr/>
                  </p:nvSpPr>
                  <p:spPr>
                    <a:xfrm>
                      <a:off x="444960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1209"/>
                  <p:cNvGrpSpPr/>
                  <p:nvPr/>
                </p:nvGrpSpPr>
                <p:grpSpPr>
                  <a:xfrm>
                    <a:off x="4486320" y="5611680"/>
                    <a:ext cx="39600" cy="39960"/>
                    <a:chOff x="4486320" y="5611680"/>
                    <a:chExt cx="39600" cy="39960"/>
                  </a:xfrm>
                </p:grpSpPr>
                <p:sp>
                  <p:nvSpPr>
                    <p:cNvPr id="283" name="Rectangle 1210"/>
                    <p:cNvSpPr/>
                    <p:nvPr/>
                  </p:nvSpPr>
                  <p:spPr>
                    <a:xfrm>
                      <a:off x="4492800" y="5618160"/>
                      <a:ext cx="2520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Freeform 1211"/>
                    <p:cNvSpPr/>
                    <p:nvPr/>
                  </p:nvSpPr>
                  <p:spPr>
                    <a:xfrm>
                      <a:off x="448632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212"/>
                  <p:cNvGrpSpPr/>
                  <p:nvPr/>
                </p:nvGrpSpPr>
                <p:grpSpPr>
                  <a:xfrm>
                    <a:off x="4524480" y="5611680"/>
                    <a:ext cx="39600" cy="39960"/>
                    <a:chOff x="4524480" y="5611680"/>
                    <a:chExt cx="39600" cy="39960"/>
                  </a:xfrm>
                </p:grpSpPr>
                <p:sp>
                  <p:nvSpPr>
                    <p:cNvPr id="286" name="Rectangle 1213"/>
                    <p:cNvSpPr/>
                    <p:nvPr/>
                  </p:nvSpPr>
                  <p:spPr>
                    <a:xfrm>
                      <a:off x="453060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1214"/>
                    <p:cNvSpPr/>
                    <p:nvPr/>
                  </p:nvSpPr>
                  <p:spPr>
                    <a:xfrm>
                      <a:off x="452448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8" name="Line 1215"/>
                <p:cNvSpPr/>
                <p:nvPr/>
              </p:nvSpPr>
              <p:spPr>
                <a:xfrm>
                  <a:off x="435456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216"/>
                <p:cNvSpPr/>
                <p:nvPr/>
              </p:nvSpPr>
              <p:spPr>
                <a:xfrm>
                  <a:off x="446724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217"/>
                <p:cNvSpPr/>
                <p:nvPr/>
              </p:nvSpPr>
              <p:spPr>
                <a:xfrm>
                  <a:off x="439272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218"/>
                <p:cNvSpPr/>
                <p:nvPr/>
              </p:nvSpPr>
              <p:spPr>
                <a:xfrm>
                  <a:off x="443088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219"/>
                <p:cNvSpPr/>
                <p:nvPr/>
              </p:nvSpPr>
              <p:spPr>
                <a:xfrm>
                  <a:off x="4317840" y="5614920"/>
                  <a:ext cx="180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220"/>
                <p:cNvSpPr/>
                <p:nvPr/>
              </p:nvSpPr>
              <p:spPr>
                <a:xfrm>
                  <a:off x="428004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221"/>
                <p:cNvSpPr/>
                <p:nvPr/>
              </p:nvSpPr>
              <p:spPr>
                <a:xfrm>
                  <a:off x="450540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222"/>
                <p:cNvSpPr/>
                <p:nvPr/>
              </p:nvSpPr>
              <p:spPr>
                <a:xfrm>
                  <a:off x="4541760" y="5614920"/>
                  <a:ext cx="180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" name="Rectangle 1223"/>
          <p:cNvSpPr/>
          <p:nvPr/>
        </p:nvSpPr>
        <p:spPr>
          <a:xfrm>
            <a:off x="3995640" y="5661000"/>
            <a:ext cx="20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IMPOR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224"/>
          <p:cNvGrpSpPr/>
          <p:nvPr/>
        </p:nvGrpSpPr>
        <p:grpSpPr>
          <a:xfrm>
            <a:off x="609480" y="3429000"/>
            <a:ext cx="1430280" cy="892080"/>
            <a:chOff x="609480" y="3429000"/>
            <a:chExt cx="1430280" cy="892080"/>
          </a:xfrm>
        </p:grpSpPr>
        <p:grpSp>
          <p:nvGrpSpPr>
            <p:cNvPr id="298" name="Group 1225"/>
            <p:cNvGrpSpPr/>
            <p:nvPr/>
          </p:nvGrpSpPr>
          <p:grpSpPr>
            <a:xfrm>
              <a:off x="1672920" y="3429000"/>
              <a:ext cx="155520" cy="711360"/>
              <a:chOff x="1672920" y="3429000"/>
              <a:chExt cx="155520" cy="711360"/>
            </a:xfrm>
          </p:grpSpPr>
          <p:sp>
            <p:nvSpPr>
              <p:cNvPr id="299" name="Freeform 1226"/>
              <p:cNvSpPr/>
              <p:nvPr/>
            </p:nvSpPr>
            <p:spPr>
              <a:xfrm>
                <a:off x="1672920" y="3429000"/>
                <a:ext cx="55440" cy="711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35" h="448">
                    <a:moveTo>
                      <a:pt x="9" y="0"/>
                    </a:moveTo>
                    <a:lnTo>
                      <a:pt x="9" y="71"/>
                    </a:lnTo>
                    <a:lnTo>
                      <a:pt x="6" y="71"/>
                    </a:lnTo>
                    <a:lnTo>
                      <a:pt x="6" y="142"/>
                    </a:lnTo>
                    <a:lnTo>
                      <a:pt x="3" y="142"/>
                    </a:lnTo>
                    <a:lnTo>
                      <a:pt x="3" y="209"/>
                    </a:lnTo>
                    <a:lnTo>
                      <a:pt x="2" y="209"/>
                    </a:lnTo>
                    <a:lnTo>
                      <a:pt x="2" y="298"/>
                    </a:lnTo>
                    <a:lnTo>
                      <a:pt x="0" y="298"/>
                    </a:lnTo>
                    <a:lnTo>
                      <a:pt x="0" y="447"/>
                    </a:lnTo>
                    <a:lnTo>
                      <a:pt x="18" y="447"/>
                    </a:lnTo>
                    <a:lnTo>
                      <a:pt x="34" y="297"/>
                    </a:lnTo>
                    <a:lnTo>
                      <a:pt x="34" y="208"/>
                    </a:lnTo>
                    <a:lnTo>
                      <a:pt x="32" y="208"/>
                    </a:lnTo>
                    <a:lnTo>
                      <a:pt x="32" y="142"/>
                    </a:lnTo>
                    <a:lnTo>
                      <a:pt x="30" y="142"/>
                    </a:lnTo>
                    <a:lnTo>
                      <a:pt x="30" y="71"/>
                    </a:lnTo>
                    <a:lnTo>
                      <a:pt x="27" y="71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27"/>
              <p:cNvSpPr/>
              <p:nvPr/>
            </p:nvSpPr>
            <p:spPr>
              <a:xfrm>
                <a:off x="1769760" y="3429000"/>
                <a:ext cx="58680" cy="711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37" h="448">
                    <a:moveTo>
                      <a:pt x="9" y="0"/>
                    </a:moveTo>
                    <a:lnTo>
                      <a:pt x="9" y="71"/>
                    </a:lnTo>
                    <a:lnTo>
                      <a:pt x="6" y="71"/>
                    </a:lnTo>
                    <a:lnTo>
                      <a:pt x="6" y="142"/>
                    </a:lnTo>
                    <a:lnTo>
                      <a:pt x="4" y="142"/>
                    </a:lnTo>
                    <a:lnTo>
                      <a:pt x="4" y="209"/>
                    </a:lnTo>
                    <a:lnTo>
                      <a:pt x="2" y="209"/>
                    </a:lnTo>
                    <a:lnTo>
                      <a:pt x="2" y="298"/>
                    </a:lnTo>
                    <a:lnTo>
                      <a:pt x="0" y="298"/>
                    </a:lnTo>
                    <a:lnTo>
                      <a:pt x="0" y="447"/>
                    </a:lnTo>
                    <a:lnTo>
                      <a:pt x="36" y="447"/>
                    </a:lnTo>
                    <a:lnTo>
                      <a:pt x="36" y="298"/>
                    </a:lnTo>
                    <a:lnTo>
                      <a:pt x="34" y="298"/>
                    </a:lnTo>
                    <a:lnTo>
                      <a:pt x="34" y="208"/>
                    </a:lnTo>
                    <a:lnTo>
                      <a:pt x="32" y="208"/>
                    </a:lnTo>
                    <a:lnTo>
                      <a:pt x="32" y="142"/>
                    </a:lnTo>
                    <a:lnTo>
                      <a:pt x="30" y="142"/>
                    </a:lnTo>
                    <a:lnTo>
                      <a:pt x="30" y="71"/>
                    </a:lnTo>
                    <a:lnTo>
                      <a:pt x="27" y="71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228"/>
            <p:cNvGrpSpPr/>
            <p:nvPr/>
          </p:nvGrpSpPr>
          <p:grpSpPr>
            <a:xfrm>
              <a:off x="1795320" y="3998880"/>
              <a:ext cx="244440" cy="295200"/>
              <a:chOff x="1795320" y="3998880"/>
              <a:chExt cx="244440" cy="295200"/>
            </a:xfrm>
          </p:grpSpPr>
          <p:grpSp>
            <p:nvGrpSpPr>
              <p:cNvPr id="302" name="Group 1229"/>
              <p:cNvGrpSpPr/>
              <p:nvPr/>
            </p:nvGrpSpPr>
            <p:grpSpPr>
              <a:xfrm>
                <a:off x="1795320" y="3998880"/>
                <a:ext cx="244440" cy="295200"/>
                <a:chOff x="1795320" y="3998880"/>
                <a:chExt cx="244440" cy="295200"/>
              </a:xfrm>
            </p:grpSpPr>
            <p:grpSp>
              <p:nvGrpSpPr>
                <p:cNvPr id="303" name="Group 1230"/>
                <p:cNvGrpSpPr/>
                <p:nvPr/>
              </p:nvGrpSpPr>
              <p:grpSpPr>
                <a:xfrm>
                  <a:off x="1858680" y="3998880"/>
                  <a:ext cx="63360" cy="136440"/>
                  <a:chOff x="1858680" y="3998880"/>
                  <a:chExt cx="63360" cy="136440"/>
                </a:xfrm>
              </p:grpSpPr>
              <p:sp>
                <p:nvSpPr>
                  <p:cNvPr id="304" name="Rectangle 1231"/>
                  <p:cNvSpPr/>
                  <p:nvPr/>
                </p:nvSpPr>
                <p:spPr>
                  <a:xfrm>
                    <a:off x="1873080" y="3998880"/>
                    <a:ext cx="34920" cy="223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232"/>
                  <p:cNvSpPr/>
                  <p:nvPr/>
                </p:nvSpPr>
                <p:spPr>
                  <a:xfrm>
                    <a:off x="1858680" y="4022640"/>
                    <a:ext cx="63360" cy="112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233"/>
                <p:cNvGrpSpPr/>
                <p:nvPr/>
              </p:nvGrpSpPr>
              <p:grpSpPr>
                <a:xfrm>
                  <a:off x="1795320" y="4137120"/>
                  <a:ext cx="244440" cy="156960"/>
                  <a:chOff x="1795320" y="4137120"/>
                  <a:chExt cx="244440" cy="156960"/>
                </a:xfrm>
              </p:grpSpPr>
              <p:sp>
                <p:nvSpPr>
                  <p:cNvPr id="307" name="Rectangle 1234"/>
                  <p:cNvSpPr/>
                  <p:nvPr/>
                </p:nvSpPr>
                <p:spPr>
                  <a:xfrm>
                    <a:off x="1804680" y="4154400"/>
                    <a:ext cx="227160" cy="139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Rectangle 1235"/>
                  <p:cNvSpPr/>
                  <p:nvPr/>
                </p:nvSpPr>
                <p:spPr>
                  <a:xfrm>
                    <a:off x="1795320" y="4137120"/>
                    <a:ext cx="244440" cy="15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Group 1236"/>
              <p:cNvGrpSpPr/>
              <p:nvPr/>
            </p:nvGrpSpPr>
            <p:grpSpPr>
              <a:xfrm>
                <a:off x="1823760" y="4178160"/>
                <a:ext cx="182520" cy="88920"/>
                <a:chOff x="1823760" y="4178160"/>
                <a:chExt cx="182520" cy="88920"/>
              </a:xfrm>
            </p:grpSpPr>
            <p:sp>
              <p:nvSpPr>
                <p:cNvPr id="310" name="Rectangle 1237"/>
                <p:cNvSpPr/>
                <p:nvPr/>
              </p:nvSpPr>
              <p:spPr>
                <a:xfrm>
                  <a:off x="182376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1238"/>
                <p:cNvSpPr/>
                <p:nvPr/>
              </p:nvSpPr>
              <p:spPr>
                <a:xfrm>
                  <a:off x="196812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239"/>
                <p:cNvSpPr/>
                <p:nvPr/>
              </p:nvSpPr>
              <p:spPr>
                <a:xfrm>
                  <a:off x="189504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1240"/>
            <p:cNvGrpSpPr/>
            <p:nvPr/>
          </p:nvGrpSpPr>
          <p:grpSpPr>
            <a:xfrm>
              <a:off x="609480" y="4086360"/>
              <a:ext cx="242640" cy="207720"/>
              <a:chOff x="609480" y="4086360"/>
              <a:chExt cx="242640" cy="207720"/>
            </a:xfrm>
          </p:grpSpPr>
          <p:grpSp>
            <p:nvGrpSpPr>
              <p:cNvPr id="314" name="Group 1241"/>
              <p:cNvGrpSpPr/>
              <p:nvPr/>
            </p:nvGrpSpPr>
            <p:grpSpPr>
              <a:xfrm>
                <a:off x="609480" y="4086360"/>
                <a:ext cx="242640" cy="207720"/>
                <a:chOff x="609480" y="4086360"/>
                <a:chExt cx="242640" cy="207720"/>
              </a:xfrm>
            </p:grpSpPr>
            <p:sp>
              <p:nvSpPr>
                <p:cNvPr id="315" name="Rectangle 1242"/>
                <p:cNvSpPr/>
                <p:nvPr/>
              </p:nvSpPr>
              <p:spPr>
                <a:xfrm>
                  <a:off x="755280" y="4086360"/>
                  <a:ext cx="69840" cy="489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Group 1243"/>
                <p:cNvGrpSpPr/>
                <p:nvPr/>
              </p:nvGrpSpPr>
              <p:grpSpPr>
                <a:xfrm>
                  <a:off x="609480" y="4137120"/>
                  <a:ext cx="242640" cy="156960"/>
                  <a:chOff x="609480" y="4137120"/>
                  <a:chExt cx="242640" cy="156960"/>
                </a:xfrm>
              </p:grpSpPr>
              <p:sp>
                <p:nvSpPr>
                  <p:cNvPr id="317" name="Rectangle 1244"/>
                  <p:cNvSpPr/>
                  <p:nvPr/>
                </p:nvSpPr>
                <p:spPr>
                  <a:xfrm>
                    <a:off x="617400" y="4154400"/>
                    <a:ext cx="226800" cy="139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Rectangle 1245"/>
                  <p:cNvSpPr/>
                  <p:nvPr/>
                </p:nvSpPr>
                <p:spPr>
                  <a:xfrm>
                    <a:off x="609480" y="4137120"/>
                    <a:ext cx="242640" cy="15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Group 1246"/>
              <p:cNvGrpSpPr/>
              <p:nvPr/>
            </p:nvGrpSpPr>
            <p:grpSpPr>
              <a:xfrm>
                <a:off x="633240" y="4178160"/>
                <a:ext cx="191880" cy="88920"/>
                <a:chOff x="633240" y="4178160"/>
                <a:chExt cx="191880" cy="88920"/>
              </a:xfrm>
            </p:grpSpPr>
            <p:sp>
              <p:nvSpPr>
                <p:cNvPr id="320" name="Rectangle 1247"/>
                <p:cNvSpPr/>
                <p:nvPr/>
              </p:nvSpPr>
              <p:spPr>
                <a:xfrm>
                  <a:off x="777600" y="4178160"/>
                  <a:ext cx="475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248"/>
                <p:cNvSpPr/>
                <p:nvPr/>
              </p:nvSpPr>
              <p:spPr>
                <a:xfrm>
                  <a:off x="633240" y="4178160"/>
                  <a:ext cx="475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249"/>
                <p:cNvSpPr/>
                <p:nvPr/>
              </p:nvSpPr>
              <p:spPr>
                <a:xfrm>
                  <a:off x="706320" y="4178160"/>
                  <a:ext cx="457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Group 1250"/>
            <p:cNvGrpSpPr/>
            <p:nvPr/>
          </p:nvGrpSpPr>
          <p:grpSpPr>
            <a:xfrm>
              <a:off x="828360" y="3811680"/>
              <a:ext cx="982800" cy="509400"/>
              <a:chOff x="828360" y="3811680"/>
              <a:chExt cx="982800" cy="509400"/>
            </a:xfrm>
          </p:grpSpPr>
          <p:grpSp>
            <p:nvGrpSpPr>
              <p:cNvPr id="324" name="Group 1251"/>
              <p:cNvGrpSpPr/>
              <p:nvPr/>
            </p:nvGrpSpPr>
            <p:grpSpPr>
              <a:xfrm>
                <a:off x="828360" y="3811680"/>
                <a:ext cx="982800" cy="509400"/>
                <a:chOff x="828360" y="3811680"/>
                <a:chExt cx="982800" cy="509400"/>
              </a:xfrm>
            </p:grpSpPr>
            <p:sp>
              <p:nvSpPr>
                <p:cNvPr id="325" name="Rectangle 1252"/>
                <p:cNvSpPr/>
                <p:nvPr/>
              </p:nvSpPr>
              <p:spPr>
                <a:xfrm>
                  <a:off x="844200" y="3895560"/>
                  <a:ext cx="951120" cy="4255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253"/>
                <p:cNvSpPr/>
                <p:nvPr/>
              </p:nvSpPr>
              <p:spPr>
                <a:xfrm>
                  <a:off x="1083960" y="3824280"/>
                  <a:ext cx="60480" cy="42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254"/>
                <p:cNvSpPr/>
                <p:nvPr/>
              </p:nvSpPr>
              <p:spPr>
                <a:xfrm>
                  <a:off x="1258560" y="3811680"/>
                  <a:ext cx="85680" cy="61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255"/>
                <p:cNvSpPr/>
                <p:nvPr/>
              </p:nvSpPr>
              <p:spPr>
                <a:xfrm>
                  <a:off x="828360" y="3871800"/>
                  <a:ext cx="982800" cy="25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256"/>
                <p:cNvSpPr/>
                <p:nvPr/>
              </p:nvSpPr>
              <p:spPr>
                <a:xfrm>
                  <a:off x="844200" y="4106880"/>
                  <a:ext cx="951120" cy="64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1257"/>
              <p:cNvGrpSpPr/>
              <p:nvPr/>
            </p:nvGrpSpPr>
            <p:grpSpPr>
              <a:xfrm>
                <a:off x="861840" y="3933720"/>
                <a:ext cx="903240" cy="344880"/>
                <a:chOff x="861840" y="3933720"/>
                <a:chExt cx="903240" cy="344880"/>
              </a:xfrm>
            </p:grpSpPr>
            <p:grpSp>
              <p:nvGrpSpPr>
                <p:cNvPr id="331" name="Group 1258"/>
                <p:cNvGrpSpPr/>
                <p:nvPr/>
              </p:nvGrpSpPr>
              <p:grpSpPr>
                <a:xfrm>
                  <a:off x="995040" y="4146480"/>
                  <a:ext cx="108000" cy="132120"/>
                  <a:chOff x="995040" y="4146480"/>
                  <a:chExt cx="108000" cy="132120"/>
                </a:xfrm>
              </p:grpSpPr>
              <p:sp>
                <p:nvSpPr>
                  <p:cNvPr id="332" name="Rectangle 1259"/>
                  <p:cNvSpPr/>
                  <p:nvPr/>
                </p:nvSpPr>
                <p:spPr>
                  <a:xfrm>
                    <a:off x="99972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ectangle 1260"/>
                  <p:cNvSpPr/>
                  <p:nvPr/>
                </p:nvSpPr>
                <p:spPr>
                  <a:xfrm>
                    <a:off x="995040" y="4278240"/>
                    <a:ext cx="1080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1261"/>
                  <p:cNvSpPr/>
                  <p:nvPr/>
                </p:nvSpPr>
                <p:spPr>
                  <a:xfrm>
                    <a:off x="104760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262"/>
                  <p:cNvSpPr/>
                  <p:nvPr/>
                </p:nvSpPr>
                <p:spPr>
                  <a:xfrm>
                    <a:off x="99828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1263"/>
                <p:cNvGrpSpPr/>
                <p:nvPr/>
              </p:nvGrpSpPr>
              <p:grpSpPr>
                <a:xfrm>
                  <a:off x="1128600" y="4146480"/>
                  <a:ext cx="107640" cy="132120"/>
                  <a:chOff x="1128600" y="4146480"/>
                  <a:chExt cx="107640" cy="132120"/>
                </a:xfrm>
              </p:grpSpPr>
              <p:sp>
                <p:nvSpPr>
                  <p:cNvPr id="337" name="Rectangle 1264"/>
                  <p:cNvSpPr/>
                  <p:nvPr/>
                </p:nvSpPr>
                <p:spPr>
                  <a:xfrm>
                    <a:off x="113328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1265"/>
                  <p:cNvSpPr/>
                  <p:nvPr/>
                </p:nvSpPr>
                <p:spPr>
                  <a:xfrm>
                    <a:off x="112860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1266"/>
                  <p:cNvSpPr/>
                  <p:nvPr/>
                </p:nvSpPr>
                <p:spPr>
                  <a:xfrm>
                    <a:off x="118080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267"/>
                  <p:cNvSpPr/>
                  <p:nvPr/>
                </p:nvSpPr>
                <p:spPr>
                  <a:xfrm>
                    <a:off x="113148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268"/>
                <p:cNvGrpSpPr/>
                <p:nvPr/>
              </p:nvGrpSpPr>
              <p:grpSpPr>
                <a:xfrm>
                  <a:off x="1655640" y="4146480"/>
                  <a:ext cx="107640" cy="132120"/>
                  <a:chOff x="1655640" y="4146480"/>
                  <a:chExt cx="107640" cy="132120"/>
                </a:xfrm>
              </p:grpSpPr>
              <p:sp>
                <p:nvSpPr>
                  <p:cNvPr id="342" name="Rectangle 1269"/>
                  <p:cNvSpPr/>
                  <p:nvPr/>
                </p:nvSpPr>
                <p:spPr>
                  <a:xfrm>
                    <a:off x="16617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1270"/>
                  <p:cNvSpPr/>
                  <p:nvPr/>
                </p:nvSpPr>
                <p:spPr>
                  <a:xfrm>
                    <a:off x="165564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271"/>
                  <p:cNvSpPr/>
                  <p:nvPr/>
                </p:nvSpPr>
                <p:spPr>
                  <a:xfrm>
                    <a:off x="1709280" y="4146480"/>
                    <a:ext cx="180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272"/>
                  <p:cNvSpPr/>
                  <p:nvPr/>
                </p:nvSpPr>
                <p:spPr>
                  <a:xfrm>
                    <a:off x="165852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Group 1273"/>
                <p:cNvGrpSpPr/>
                <p:nvPr/>
              </p:nvGrpSpPr>
              <p:grpSpPr>
                <a:xfrm>
                  <a:off x="861840" y="4146480"/>
                  <a:ext cx="108000" cy="132120"/>
                  <a:chOff x="861840" y="4146480"/>
                  <a:chExt cx="108000" cy="132120"/>
                </a:xfrm>
              </p:grpSpPr>
              <p:sp>
                <p:nvSpPr>
                  <p:cNvPr id="347" name="Rectangle 1274"/>
                  <p:cNvSpPr/>
                  <p:nvPr/>
                </p:nvSpPr>
                <p:spPr>
                  <a:xfrm>
                    <a:off x="8679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275"/>
                  <p:cNvSpPr/>
                  <p:nvPr/>
                </p:nvSpPr>
                <p:spPr>
                  <a:xfrm>
                    <a:off x="861840" y="4278240"/>
                    <a:ext cx="1080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276"/>
                  <p:cNvSpPr/>
                  <p:nvPr/>
                </p:nvSpPr>
                <p:spPr>
                  <a:xfrm>
                    <a:off x="91584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277"/>
                  <p:cNvSpPr/>
                  <p:nvPr/>
                </p:nvSpPr>
                <p:spPr>
                  <a:xfrm>
                    <a:off x="866520" y="4206960"/>
                    <a:ext cx="101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278"/>
                <p:cNvGrpSpPr/>
                <p:nvPr/>
              </p:nvGrpSpPr>
              <p:grpSpPr>
                <a:xfrm>
                  <a:off x="1261800" y="3933720"/>
                  <a:ext cx="108000" cy="133560"/>
                  <a:chOff x="1261800" y="3933720"/>
                  <a:chExt cx="108000" cy="133560"/>
                </a:xfrm>
              </p:grpSpPr>
              <p:sp>
                <p:nvSpPr>
                  <p:cNvPr id="352" name="Rectangle 1279"/>
                  <p:cNvSpPr/>
                  <p:nvPr/>
                </p:nvSpPr>
                <p:spPr>
                  <a:xfrm>
                    <a:off x="126828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1280"/>
                  <p:cNvSpPr/>
                  <p:nvPr/>
                </p:nvSpPr>
                <p:spPr>
                  <a:xfrm>
                    <a:off x="126180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281"/>
                  <p:cNvSpPr/>
                  <p:nvPr/>
                </p:nvSpPr>
                <p:spPr>
                  <a:xfrm>
                    <a:off x="131580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282"/>
                  <p:cNvSpPr/>
                  <p:nvPr/>
                </p:nvSpPr>
                <p:spPr>
                  <a:xfrm>
                    <a:off x="1266480" y="3995640"/>
                    <a:ext cx="10152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283"/>
                <p:cNvGrpSpPr/>
                <p:nvPr/>
              </p:nvGrpSpPr>
              <p:grpSpPr>
                <a:xfrm>
                  <a:off x="1392120" y="4146480"/>
                  <a:ext cx="107640" cy="132120"/>
                  <a:chOff x="1392120" y="4146480"/>
                  <a:chExt cx="107640" cy="132120"/>
                </a:xfrm>
              </p:grpSpPr>
              <p:sp>
                <p:nvSpPr>
                  <p:cNvPr id="357" name="Rectangle 1284"/>
                  <p:cNvSpPr/>
                  <p:nvPr/>
                </p:nvSpPr>
                <p:spPr>
                  <a:xfrm>
                    <a:off x="139680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Rectangle 1285"/>
                  <p:cNvSpPr/>
                  <p:nvPr/>
                </p:nvSpPr>
                <p:spPr>
                  <a:xfrm>
                    <a:off x="139212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1286"/>
                  <p:cNvSpPr/>
                  <p:nvPr/>
                </p:nvSpPr>
                <p:spPr>
                  <a:xfrm>
                    <a:off x="144432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287"/>
                  <p:cNvSpPr/>
                  <p:nvPr/>
                </p:nvSpPr>
                <p:spPr>
                  <a:xfrm>
                    <a:off x="139500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1288"/>
                <p:cNvGrpSpPr/>
                <p:nvPr/>
              </p:nvGrpSpPr>
              <p:grpSpPr>
                <a:xfrm>
                  <a:off x="1523880" y="4146480"/>
                  <a:ext cx="107640" cy="132120"/>
                  <a:chOff x="1523880" y="4146480"/>
                  <a:chExt cx="107640" cy="132120"/>
                </a:xfrm>
              </p:grpSpPr>
              <p:sp>
                <p:nvSpPr>
                  <p:cNvPr id="362" name="Rectangle 1289"/>
                  <p:cNvSpPr/>
                  <p:nvPr/>
                </p:nvSpPr>
                <p:spPr>
                  <a:xfrm>
                    <a:off x="15285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1290"/>
                  <p:cNvSpPr/>
                  <p:nvPr/>
                </p:nvSpPr>
                <p:spPr>
                  <a:xfrm>
                    <a:off x="152388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291"/>
                  <p:cNvSpPr/>
                  <p:nvPr/>
                </p:nvSpPr>
                <p:spPr>
                  <a:xfrm>
                    <a:off x="157608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292"/>
                  <p:cNvSpPr/>
                  <p:nvPr/>
                </p:nvSpPr>
                <p:spPr>
                  <a:xfrm>
                    <a:off x="152676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1293"/>
                <p:cNvGrpSpPr/>
                <p:nvPr/>
              </p:nvGrpSpPr>
              <p:grpSpPr>
                <a:xfrm>
                  <a:off x="996840" y="3933720"/>
                  <a:ext cx="106200" cy="133560"/>
                  <a:chOff x="996840" y="3933720"/>
                  <a:chExt cx="106200" cy="133560"/>
                </a:xfrm>
              </p:grpSpPr>
              <p:sp>
                <p:nvSpPr>
                  <p:cNvPr id="367" name="Rectangle 1294"/>
                  <p:cNvSpPr/>
                  <p:nvPr/>
                </p:nvSpPr>
                <p:spPr>
                  <a:xfrm>
                    <a:off x="100152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1295"/>
                  <p:cNvSpPr/>
                  <p:nvPr/>
                </p:nvSpPr>
                <p:spPr>
                  <a:xfrm>
                    <a:off x="996840" y="4065480"/>
                    <a:ext cx="1062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1296"/>
                  <p:cNvSpPr/>
                  <p:nvPr/>
                </p:nvSpPr>
                <p:spPr>
                  <a:xfrm>
                    <a:off x="104904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1297"/>
                  <p:cNvSpPr/>
                  <p:nvPr/>
                </p:nvSpPr>
                <p:spPr>
                  <a:xfrm>
                    <a:off x="999720" y="3995640"/>
                    <a:ext cx="1018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1298"/>
                <p:cNvGrpSpPr/>
                <p:nvPr/>
              </p:nvGrpSpPr>
              <p:grpSpPr>
                <a:xfrm>
                  <a:off x="1130040" y="3933720"/>
                  <a:ext cx="108000" cy="133560"/>
                  <a:chOff x="1130040" y="3933720"/>
                  <a:chExt cx="108000" cy="133560"/>
                </a:xfrm>
              </p:grpSpPr>
              <p:sp>
                <p:nvSpPr>
                  <p:cNvPr id="372" name="Rectangle 1299"/>
                  <p:cNvSpPr/>
                  <p:nvPr/>
                </p:nvSpPr>
                <p:spPr>
                  <a:xfrm>
                    <a:off x="113472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Rectangle 1300"/>
                  <p:cNvSpPr/>
                  <p:nvPr/>
                </p:nvSpPr>
                <p:spPr>
                  <a:xfrm>
                    <a:off x="113004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1301"/>
                  <p:cNvSpPr/>
                  <p:nvPr/>
                </p:nvSpPr>
                <p:spPr>
                  <a:xfrm>
                    <a:off x="118224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1302"/>
                  <p:cNvSpPr/>
                  <p:nvPr/>
                </p:nvSpPr>
                <p:spPr>
                  <a:xfrm>
                    <a:off x="113328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303"/>
                <p:cNvGrpSpPr/>
                <p:nvPr/>
              </p:nvGrpSpPr>
              <p:grpSpPr>
                <a:xfrm>
                  <a:off x="1657080" y="3933720"/>
                  <a:ext cx="108000" cy="133560"/>
                  <a:chOff x="1657080" y="3933720"/>
                  <a:chExt cx="108000" cy="133560"/>
                </a:xfrm>
              </p:grpSpPr>
              <p:sp>
                <p:nvSpPr>
                  <p:cNvPr id="377" name="Rectangle 1304"/>
                  <p:cNvSpPr/>
                  <p:nvPr/>
                </p:nvSpPr>
                <p:spPr>
                  <a:xfrm>
                    <a:off x="166176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1305"/>
                  <p:cNvSpPr/>
                  <p:nvPr/>
                </p:nvSpPr>
                <p:spPr>
                  <a:xfrm>
                    <a:off x="165708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306"/>
                  <p:cNvSpPr/>
                  <p:nvPr/>
                </p:nvSpPr>
                <p:spPr>
                  <a:xfrm>
                    <a:off x="171108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Line 1307"/>
                  <p:cNvSpPr/>
                  <p:nvPr/>
                </p:nvSpPr>
                <p:spPr>
                  <a:xfrm>
                    <a:off x="166032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1308"/>
                <p:cNvGrpSpPr/>
                <p:nvPr/>
              </p:nvGrpSpPr>
              <p:grpSpPr>
                <a:xfrm>
                  <a:off x="863280" y="3933720"/>
                  <a:ext cx="108000" cy="133560"/>
                  <a:chOff x="863280" y="3933720"/>
                  <a:chExt cx="108000" cy="133560"/>
                </a:xfrm>
              </p:grpSpPr>
              <p:sp>
                <p:nvSpPr>
                  <p:cNvPr id="382" name="Rectangle 1309"/>
                  <p:cNvSpPr/>
                  <p:nvPr/>
                </p:nvSpPr>
                <p:spPr>
                  <a:xfrm>
                    <a:off x="86976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Rectangle 1310"/>
                  <p:cNvSpPr/>
                  <p:nvPr/>
                </p:nvSpPr>
                <p:spPr>
                  <a:xfrm>
                    <a:off x="86328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Line 1311"/>
                  <p:cNvSpPr/>
                  <p:nvPr/>
                </p:nvSpPr>
                <p:spPr>
                  <a:xfrm>
                    <a:off x="91728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1312"/>
                  <p:cNvSpPr/>
                  <p:nvPr/>
                </p:nvSpPr>
                <p:spPr>
                  <a:xfrm>
                    <a:off x="866520" y="3995640"/>
                    <a:ext cx="10332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313"/>
                <p:cNvGrpSpPr/>
                <p:nvPr/>
              </p:nvGrpSpPr>
              <p:grpSpPr>
                <a:xfrm>
                  <a:off x="1393560" y="3933720"/>
                  <a:ext cx="108000" cy="133560"/>
                  <a:chOff x="1393560" y="3933720"/>
                  <a:chExt cx="108000" cy="133560"/>
                </a:xfrm>
              </p:grpSpPr>
              <p:sp>
                <p:nvSpPr>
                  <p:cNvPr id="387" name="Rectangle 1314"/>
                  <p:cNvSpPr/>
                  <p:nvPr/>
                </p:nvSpPr>
                <p:spPr>
                  <a:xfrm>
                    <a:off x="139824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315"/>
                  <p:cNvSpPr/>
                  <p:nvPr/>
                </p:nvSpPr>
                <p:spPr>
                  <a:xfrm>
                    <a:off x="139356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1316"/>
                  <p:cNvSpPr/>
                  <p:nvPr/>
                </p:nvSpPr>
                <p:spPr>
                  <a:xfrm>
                    <a:off x="144576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1317"/>
                  <p:cNvSpPr/>
                  <p:nvPr/>
                </p:nvSpPr>
                <p:spPr>
                  <a:xfrm>
                    <a:off x="139680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318"/>
                <p:cNvGrpSpPr/>
                <p:nvPr/>
              </p:nvGrpSpPr>
              <p:grpSpPr>
                <a:xfrm>
                  <a:off x="1525320" y="3933720"/>
                  <a:ext cx="108000" cy="133560"/>
                  <a:chOff x="1525320" y="3933720"/>
                  <a:chExt cx="108000" cy="133560"/>
                </a:xfrm>
              </p:grpSpPr>
              <p:sp>
                <p:nvSpPr>
                  <p:cNvPr id="392" name="Rectangle 1319"/>
                  <p:cNvSpPr/>
                  <p:nvPr/>
                </p:nvSpPr>
                <p:spPr>
                  <a:xfrm>
                    <a:off x="153000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320"/>
                  <p:cNvSpPr/>
                  <p:nvPr/>
                </p:nvSpPr>
                <p:spPr>
                  <a:xfrm>
                    <a:off x="152532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1321"/>
                  <p:cNvSpPr/>
                  <p:nvPr/>
                </p:nvSpPr>
                <p:spPr>
                  <a:xfrm>
                    <a:off x="157752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1322"/>
                  <p:cNvSpPr/>
                  <p:nvPr/>
                </p:nvSpPr>
                <p:spPr>
                  <a:xfrm>
                    <a:off x="152856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6" name="Group 1323"/>
              <p:cNvGrpSpPr/>
              <p:nvPr/>
            </p:nvGrpSpPr>
            <p:grpSpPr>
              <a:xfrm>
                <a:off x="1263240" y="4135320"/>
                <a:ext cx="101880" cy="184320"/>
                <a:chOff x="1263240" y="4135320"/>
                <a:chExt cx="101880" cy="184320"/>
              </a:xfrm>
            </p:grpSpPr>
            <p:sp>
              <p:nvSpPr>
                <p:cNvPr id="397" name="Rectangle 1324"/>
                <p:cNvSpPr/>
                <p:nvPr/>
              </p:nvSpPr>
              <p:spPr>
                <a:xfrm>
                  <a:off x="1263240" y="4135320"/>
                  <a:ext cx="101880" cy="184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1325"/>
                <p:cNvSpPr/>
                <p:nvPr/>
              </p:nvSpPr>
              <p:spPr>
                <a:xfrm>
                  <a:off x="1276200" y="4154400"/>
                  <a:ext cx="74520" cy="1540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326"/>
                <p:cNvSpPr/>
                <p:nvPr/>
              </p:nvSpPr>
              <p:spPr>
                <a:xfrm>
                  <a:off x="1341000" y="4232160"/>
                  <a:ext cx="3240" cy="32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Rectangle 1327"/>
          <p:cNvSpPr/>
          <p:nvPr/>
        </p:nvSpPr>
        <p:spPr>
          <a:xfrm>
            <a:off x="1639800" y="372960"/>
            <a:ext cx="572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28"/>
          <p:cNvSpPr/>
          <p:nvPr/>
        </p:nvSpPr>
        <p:spPr>
          <a:xfrm>
            <a:off x="250920" y="4508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EXPOR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29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1422360" cy="14428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30"/>
          <p:cNvSpPr/>
          <p:nvPr/>
        </p:nvSpPr>
        <p:spPr>
          <a:xfrm>
            <a:off x="228600" y="5562720"/>
            <a:ext cx="276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33"/>
                </a:solidFill>
                <a:latin typeface="Verdana"/>
              </a:rPr>
              <a:t>INCO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331"/>
          <p:cNvSpPr/>
          <p:nvPr/>
        </p:nvSpPr>
        <p:spPr>
          <a:xfrm rot="1440000">
            <a:off x="6120" y="3398760"/>
            <a:ext cx="6018120" cy="2992680"/>
          </a:xfrm>
          <a:prstGeom prst="ellipse">
            <a:avLst/>
          </a:prstGeom>
          <a:noFill/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32"/>
          <p:cNvSpPr/>
          <p:nvPr/>
        </p:nvSpPr>
        <p:spPr>
          <a:xfrm>
            <a:off x="2050920" y="3429000"/>
            <a:ext cx="1911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333"/>
          <p:cNvSpPr/>
          <p:nvPr/>
        </p:nvSpPr>
        <p:spPr>
          <a:xfrm>
            <a:off x="4513320" y="60768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8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2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334"/>
          <p:cNvGraphicFramePr/>
          <p:nvPr/>
        </p:nvGraphicFramePr>
        <p:xfrm>
          <a:off x="4343400" y="6019920"/>
          <a:ext cx="110016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13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6019920"/>
                    <a:ext cx="11001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1335" descr=""/>
          <p:cNvPicPr/>
          <p:nvPr/>
        </p:nvPicPr>
        <p:blipFill>
          <a:blip r:embed="rId4"/>
          <a:stretch/>
        </p:blipFill>
        <p:spPr>
          <a:xfrm>
            <a:off x="0" y="3048120"/>
            <a:ext cx="1623960" cy="8683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336"/>
          <p:cNvSpPr/>
          <p:nvPr/>
        </p:nvSpPr>
        <p:spPr>
          <a:xfrm>
            <a:off x="5410080" y="6095880"/>
            <a:ext cx="152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BANCO EM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37"/>
          <p:cNvSpPr/>
          <p:nvPr/>
        </p:nvSpPr>
        <p:spPr>
          <a:xfrm rot="16200000">
            <a:off x="-546840" y="1766160"/>
            <a:ext cx="1803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B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EXPOR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338"/>
          <p:cNvGraphicFramePr/>
          <p:nvPr/>
        </p:nvGraphicFramePr>
        <p:xfrm>
          <a:off x="1042920" y="2492280"/>
          <a:ext cx="5796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13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2492280"/>
                    <a:ext cx="579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Group 1339"/>
          <p:cNvGrpSpPr/>
          <p:nvPr/>
        </p:nvGrpSpPr>
        <p:grpSpPr>
          <a:xfrm>
            <a:off x="1832040" y="995400"/>
            <a:ext cx="1361880" cy="390600"/>
            <a:chOff x="1832040" y="995400"/>
            <a:chExt cx="1361880" cy="390600"/>
          </a:xfrm>
        </p:grpSpPr>
        <p:grpSp>
          <p:nvGrpSpPr>
            <p:cNvPr id="415" name="Group 1340"/>
            <p:cNvGrpSpPr/>
            <p:nvPr/>
          </p:nvGrpSpPr>
          <p:grpSpPr>
            <a:xfrm>
              <a:off x="2147760" y="995400"/>
              <a:ext cx="1046160" cy="390600"/>
              <a:chOff x="2147760" y="995400"/>
              <a:chExt cx="1046160" cy="390600"/>
            </a:xfrm>
          </p:grpSpPr>
          <p:grpSp>
            <p:nvGrpSpPr>
              <p:cNvPr id="416" name="Group 1341"/>
              <p:cNvGrpSpPr/>
              <p:nvPr/>
            </p:nvGrpSpPr>
            <p:grpSpPr>
              <a:xfrm>
                <a:off x="2147760" y="995400"/>
                <a:ext cx="1046160" cy="272880"/>
                <a:chOff x="2147760" y="995400"/>
                <a:chExt cx="1046160" cy="272880"/>
              </a:xfrm>
            </p:grpSpPr>
            <p:sp>
              <p:nvSpPr>
                <p:cNvPr id="417" name="Rectangle 1342"/>
                <p:cNvSpPr/>
                <p:nvPr/>
              </p:nvSpPr>
              <p:spPr>
                <a:xfrm>
                  <a:off x="2147760" y="995400"/>
                  <a:ext cx="1046160" cy="2728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1343"/>
                <p:cNvSpPr/>
                <p:nvPr/>
              </p:nvSpPr>
              <p:spPr>
                <a:xfrm>
                  <a:off x="2147760" y="1004760"/>
                  <a:ext cx="1046160" cy="254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1344"/>
              <p:cNvGrpSpPr/>
              <p:nvPr/>
            </p:nvGrpSpPr>
            <p:grpSpPr>
              <a:xfrm>
                <a:off x="2436840" y="1274760"/>
                <a:ext cx="706320" cy="111240"/>
                <a:chOff x="2436840" y="1274760"/>
                <a:chExt cx="706320" cy="111240"/>
              </a:xfrm>
            </p:grpSpPr>
            <p:grpSp>
              <p:nvGrpSpPr>
                <p:cNvPr id="420" name="Group 1345"/>
                <p:cNvGrpSpPr/>
                <p:nvPr/>
              </p:nvGrpSpPr>
              <p:grpSpPr>
                <a:xfrm>
                  <a:off x="2436840" y="1274760"/>
                  <a:ext cx="706320" cy="103320"/>
                  <a:chOff x="2436840" y="1274760"/>
                  <a:chExt cx="706320" cy="103320"/>
                </a:xfrm>
              </p:grpSpPr>
              <p:grpSp>
                <p:nvGrpSpPr>
                  <p:cNvPr id="421" name="Group 1346"/>
                  <p:cNvGrpSpPr/>
                  <p:nvPr/>
                </p:nvGrpSpPr>
                <p:grpSpPr>
                  <a:xfrm>
                    <a:off x="2436840" y="1274760"/>
                    <a:ext cx="85680" cy="73080"/>
                    <a:chOff x="2436840" y="1274760"/>
                    <a:chExt cx="85680" cy="73080"/>
                  </a:xfrm>
                </p:grpSpPr>
                <p:sp>
                  <p:nvSpPr>
                    <p:cNvPr id="422" name="Freeform 1347"/>
                    <p:cNvSpPr/>
                    <p:nvPr/>
                  </p:nvSpPr>
                  <p:spPr>
                    <a:xfrm>
                      <a:off x="2436840" y="1274760"/>
                      <a:ext cx="85680" cy="12600"/>
                    </a:xfrm>
                    <a:custGeom>
                      <a:avLst/>
                      <a:gdLst>
                        <a:gd name="textAreaLeft" fmla="*/ 0 w 85680"/>
                        <a:gd name="textAreaRight" fmla="*/ 85680 w 856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54" h="8">
                          <a:moveTo>
                            <a:pt x="0" y="0"/>
                          </a:moveTo>
                          <a:lnTo>
                            <a:pt x="53" y="0"/>
                          </a:lnTo>
                          <a:lnTo>
                            <a:pt x="46" y="7"/>
                          </a:lnTo>
                          <a:lnTo>
                            <a:pt x="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1348"/>
                    <p:cNvSpPr/>
                    <p:nvPr/>
                  </p:nvSpPr>
                  <p:spPr>
                    <a:xfrm>
                      <a:off x="2457360" y="1285920"/>
                      <a:ext cx="44640" cy="792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28" h="5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24" y="4"/>
                          </a:lnTo>
                          <a:lnTo>
                            <a:pt x="3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Rectangle 1349"/>
                    <p:cNvSpPr/>
                    <p:nvPr/>
                  </p:nvSpPr>
                  <p:spPr>
                    <a:xfrm>
                      <a:off x="2478240" y="1297080"/>
                      <a:ext cx="144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1350"/>
                  <p:cNvGrpSpPr/>
                  <p:nvPr/>
                </p:nvGrpSpPr>
                <p:grpSpPr>
                  <a:xfrm>
                    <a:off x="2863800" y="1276200"/>
                    <a:ext cx="135000" cy="101880"/>
                    <a:chOff x="2863800" y="1276200"/>
                    <a:chExt cx="135000" cy="101880"/>
                  </a:xfrm>
                </p:grpSpPr>
                <p:sp>
                  <p:nvSpPr>
                    <p:cNvPr id="426" name="Freeform 1351"/>
                    <p:cNvSpPr/>
                    <p:nvPr/>
                  </p:nvSpPr>
                  <p:spPr>
                    <a:xfrm>
                      <a:off x="2863800" y="1276200"/>
                      <a:ext cx="135000" cy="2232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85" h="14">
                          <a:moveTo>
                            <a:pt x="0" y="0"/>
                          </a:moveTo>
                          <a:lnTo>
                            <a:pt x="84" y="0"/>
                          </a:lnTo>
                          <a:lnTo>
                            <a:pt x="84" y="13"/>
                          </a:lnTo>
                          <a:lnTo>
                            <a:pt x="7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1352"/>
                    <p:cNvGrpSpPr/>
                    <p:nvPr/>
                  </p:nvGrpSpPr>
                  <p:grpSpPr>
                    <a:xfrm>
                      <a:off x="2873520" y="1278000"/>
                      <a:ext cx="114120" cy="20520"/>
                      <a:chOff x="2873520" y="1278000"/>
                      <a:chExt cx="114120" cy="20520"/>
                    </a:xfrm>
                  </p:grpSpPr>
                  <p:sp>
                    <p:nvSpPr>
                      <p:cNvPr id="428" name="Freeform 1353"/>
                      <p:cNvSpPr/>
                      <p:nvPr/>
                    </p:nvSpPr>
                    <p:spPr>
                      <a:xfrm>
                        <a:off x="2873520" y="1281240"/>
                        <a:ext cx="102960" cy="17280"/>
                      </a:xfrm>
                      <a:custGeom>
                        <a:avLst/>
                        <a:gdLst>
                          <a:gd name="textAreaLeft" fmla="*/ 0 w 102960"/>
                          <a:gd name="textAreaRight" fmla="*/ 103320 w 102960"/>
                          <a:gd name="textAreaTop" fmla="*/ 0 h 17280"/>
                          <a:gd name="textAreaBottom" fmla="*/ 17280 h 17280"/>
                        </a:gdLst>
                        <a:ahLst/>
                        <a:rect l="textAreaLeft" t="textAreaTop" r="textAreaRight" b="textAreaBottom"/>
                        <a:pathLst>
                          <a:path w="65" h="11">
                            <a:moveTo>
                              <a:pt x="0" y="10"/>
                            </a:moveTo>
                            <a:lnTo>
                              <a:pt x="10" y="0"/>
                            </a:lnTo>
                            <a:lnTo>
                              <a:pt x="64" y="0"/>
                            </a:lnTo>
                            <a:lnTo>
                              <a:pt x="64" y="1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Line 1354"/>
                      <p:cNvSpPr/>
                      <p:nvPr/>
                    </p:nvSpPr>
                    <p:spPr>
                      <a:xfrm>
                        <a:off x="2986200" y="1278000"/>
                        <a:ext cx="144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0" name="Line 1355"/>
                    <p:cNvSpPr/>
                    <p:nvPr/>
                  </p:nvSpPr>
                  <p:spPr>
                    <a:xfrm>
                      <a:off x="2997360" y="1300320"/>
                      <a:ext cx="1440" cy="77760"/>
                    </a:xfrm>
                    <a:prstGeom prst="line">
                      <a:avLst/>
                    </a:prstGeom>
                    <a:ln w="1260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356"/>
                  <p:cNvGrpSpPr/>
                  <p:nvPr/>
                </p:nvGrpSpPr>
                <p:grpSpPr>
                  <a:xfrm>
                    <a:off x="3008160" y="1276200"/>
                    <a:ext cx="135000" cy="101880"/>
                    <a:chOff x="3008160" y="1276200"/>
                    <a:chExt cx="135000" cy="101880"/>
                  </a:xfrm>
                </p:grpSpPr>
                <p:sp>
                  <p:nvSpPr>
                    <p:cNvPr id="432" name="Freeform 1357"/>
                    <p:cNvSpPr/>
                    <p:nvPr/>
                  </p:nvSpPr>
                  <p:spPr>
                    <a:xfrm>
                      <a:off x="3008160" y="1276200"/>
                      <a:ext cx="135000" cy="2232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85" h="14">
                          <a:moveTo>
                            <a:pt x="0" y="0"/>
                          </a:moveTo>
                          <a:lnTo>
                            <a:pt x="84" y="0"/>
                          </a:lnTo>
                          <a:lnTo>
                            <a:pt x="84" y="13"/>
                          </a:lnTo>
                          <a:lnTo>
                            <a:pt x="7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3" name="Group 1358"/>
                    <p:cNvGrpSpPr/>
                    <p:nvPr/>
                  </p:nvGrpSpPr>
                  <p:grpSpPr>
                    <a:xfrm>
                      <a:off x="3017880" y="1278000"/>
                      <a:ext cx="114120" cy="20520"/>
                      <a:chOff x="3017880" y="1278000"/>
                      <a:chExt cx="114120" cy="20520"/>
                    </a:xfrm>
                  </p:grpSpPr>
                  <p:sp>
                    <p:nvSpPr>
                      <p:cNvPr id="434" name="Freeform 1359"/>
                      <p:cNvSpPr/>
                      <p:nvPr/>
                    </p:nvSpPr>
                    <p:spPr>
                      <a:xfrm>
                        <a:off x="3017880" y="1281240"/>
                        <a:ext cx="104760" cy="172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17280"/>
                          <a:gd name="textAreaBottom" fmla="*/ 17280 h 17280"/>
                        </a:gdLst>
                        <a:ahLst/>
                        <a:rect l="textAreaLeft" t="textAreaTop" r="textAreaRight" b="textAreaBottom"/>
                        <a:pathLst>
                          <a:path w="66" h="11">
                            <a:moveTo>
                              <a:pt x="0" y="10"/>
                            </a:moveTo>
                            <a:lnTo>
                              <a:pt x="10" y="0"/>
                            </a:lnTo>
                            <a:lnTo>
                              <a:pt x="65" y="0"/>
                            </a:lnTo>
                            <a:lnTo>
                              <a:pt x="65" y="1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Line 1360"/>
                      <p:cNvSpPr/>
                      <p:nvPr/>
                    </p:nvSpPr>
                    <p:spPr>
                      <a:xfrm>
                        <a:off x="3130560" y="1278000"/>
                        <a:ext cx="144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6" name="Line 1361"/>
                    <p:cNvSpPr/>
                    <p:nvPr/>
                  </p:nvSpPr>
                  <p:spPr>
                    <a:xfrm>
                      <a:off x="3141720" y="1300320"/>
                      <a:ext cx="1440" cy="77760"/>
                    </a:xfrm>
                    <a:prstGeom prst="line">
                      <a:avLst/>
                    </a:prstGeom>
                    <a:ln w="1260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1362"/>
                <p:cNvGrpSpPr/>
                <p:nvPr/>
              </p:nvGrpSpPr>
              <p:grpSpPr>
                <a:xfrm>
                  <a:off x="2884320" y="1290600"/>
                  <a:ext cx="98640" cy="95400"/>
                  <a:chOff x="2884320" y="1290600"/>
                  <a:chExt cx="98640" cy="95400"/>
                </a:xfrm>
              </p:grpSpPr>
              <p:sp>
                <p:nvSpPr>
                  <p:cNvPr id="438" name="Oval 1363"/>
                  <p:cNvSpPr/>
                  <p:nvPr/>
                </p:nvSpPr>
                <p:spPr>
                  <a:xfrm>
                    <a:off x="2884320" y="1290600"/>
                    <a:ext cx="986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1364"/>
                  <p:cNvSpPr/>
                  <p:nvPr/>
                </p:nvSpPr>
                <p:spPr>
                  <a:xfrm>
                    <a:off x="2900520" y="1306440"/>
                    <a:ext cx="6480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1365"/>
                  <p:cNvSpPr/>
                  <p:nvPr/>
                </p:nvSpPr>
                <p:spPr>
                  <a:xfrm>
                    <a:off x="292248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Group 1366"/>
                <p:cNvGrpSpPr/>
                <p:nvPr/>
              </p:nvGrpSpPr>
              <p:grpSpPr>
                <a:xfrm>
                  <a:off x="3029040" y="1290600"/>
                  <a:ext cx="96840" cy="95400"/>
                  <a:chOff x="3029040" y="1290600"/>
                  <a:chExt cx="96840" cy="95400"/>
                </a:xfrm>
              </p:grpSpPr>
              <p:sp>
                <p:nvSpPr>
                  <p:cNvPr id="442" name="Oval 1367"/>
                  <p:cNvSpPr/>
                  <p:nvPr/>
                </p:nvSpPr>
                <p:spPr>
                  <a:xfrm>
                    <a:off x="3029040" y="1290600"/>
                    <a:ext cx="968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1368"/>
                  <p:cNvSpPr/>
                  <p:nvPr/>
                </p:nvSpPr>
                <p:spPr>
                  <a:xfrm>
                    <a:off x="3044880" y="1306440"/>
                    <a:ext cx="651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1369"/>
                  <p:cNvSpPr/>
                  <p:nvPr/>
                </p:nvSpPr>
                <p:spPr>
                  <a:xfrm>
                    <a:off x="3067200" y="1327320"/>
                    <a:ext cx="2196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Group 1370"/>
            <p:cNvGrpSpPr/>
            <p:nvPr/>
          </p:nvGrpSpPr>
          <p:grpSpPr>
            <a:xfrm>
              <a:off x="1832040" y="1093680"/>
              <a:ext cx="525240" cy="292320"/>
              <a:chOff x="1832040" y="1093680"/>
              <a:chExt cx="525240" cy="292320"/>
            </a:xfrm>
          </p:grpSpPr>
          <p:grpSp>
            <p:nvGrpSpPr>
              <p:cNvPr id="446" name="Group 1371"/>
              <p:cNvGrpSpPr/>
              <p:nvPr/>
            </p:nvGrpSpPr>
            <p:grpSpPr>
              <a:xfrm>
                <a:off x="1832040" y="1093680"/>
                <a:ext cx="209520" cy="228600"/>
                <a:chOff x="1832040" y="1093680"/>
                <a:chExt cx="209520" cy="228600"/>
              </a:xfrm>
            </p:grpSpPr>
            <p:sp>
              <p:nvSpPr>
                <p:cNvPr id="447" name="Rectangle 1372"/>
                <p:cNvSpPr/>
                <p:nvPr/>
              </p:nvSpPr>
              <p:spPr>
                <a:xfrm>
                  <a:off x="2039760" y="1209600"/>
                  <a:ext cx="1800" cy="1764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373"/>
                <p:cNvSpPr/>
                <p:nvPr/>
              </p:nvSpPr>
              <p:spPr>
                <a:xfrm>
                  <a:off x="1832040" y="1093680"/>
                  <a:ext cx="204840" cy="18252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129" h="115">
                      <a:moveTo>
                        <a:pt x="27" y="3"/>
                      </a:moveTo>
                      <a:lnTo>
                        <a:pt x="34" y="0"/>
                      </a:lnTo>
                      <a:lnTo>
                        <a:pt x="118" y="0"/>
                      </a:lnTo>
                      <a:lnTo>
                        <a:pt x="125" y="3"/>
                      </a:lnTo>
                      <a:lnTo>
                        <a:pt x="125" y="43"/>
                      </a:lnTo>
                      <a:lnTo>
                        <a:pt x="128" y="52"/>
                      </a:lnTo>
                      <a:lnTo>
                        <a:pt x="128" y="114"/>
                      </a:lnTo>
                      <a:lnTo>
                        <a:pt x="0" y="114"/>
                      </a:lnTo>
                      <a:lnTo>
                        <a:pt x="0" y="59"/>
                      </a:lnTo>
                      <a:lnTo>
                        <a:pt x="10" y="52"/>
                      </a:lnTo>
                      <a:lnTo>
                        <a:pt x="24" y="13"/>
                      </a:lnTo>
                      <a:lnTo>
                        <a:pt x="27" y="13"/>
                      </a:lnTo>
                      <a:lnTo>
                        <a:pt x="14" y="52"/>
                      </a:lnTo>
                      <a:lnTo>
                        <a:pt x="37" y="52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40" y="52"/>
                      </a:lnTo>
                      <a:lnTo>
                        <a:pt x="84" y="52"/>
                      </a:lnTo>
                      <a:lnTo>
                        <a:pt x="71" y="13"/>
                      </a:lnTo>
                      <a:lnTo>
                        <a:pt x="78" y="13"/>
                      </a:lnTo>
                      <a:lnTo>
                        <a:pt x="91" y="52"/>
                      </a:lnTo>
                      <a:lnTo>
                        <a:pt x="125" y="52"/>
                      </a:lnTo>
                      <a:lnTo>
                        <a:pt x="111" y="13"/>
                      </a:lnTo>
                      <a:lnTo>
                        <a:pt x="78" y="13"/>
                      </a:lnTo>
                      <a:lnTo>
                        <a:pt x="71" y="13"/>
                      </a:lnTo>
                      <a:lnTo>
                        <a:pt x="30" y="13"/>
                      </a:lnTo>
                      <a:lnTo>
                        <a:pt x="27" y="13"/>
                      </a:lnTo>
                      <a:lnTo>
                        <a:pt x="24" y="13"/>
                      </a:lnTo>
                      <a:lnTo>
                        <a:pt x="27" y="6"/>
                      </a:lnTo>
                      <a:lnTo>
                        <a:pt x="27" y="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374"/>
                <p:cNvSpPr/>
                <p:nvPr/>
              </p:nvSpPr>
              <p:spPr>
                <a:xfrm>
                  <a:off x="1890720" y="1179360"/>
                  <a:ext cx="144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375"/>
                <p:cNvSpPr/>
                <p:nvPr/>
              </p:nvSpPr>
              <p:spPr>
                <a:xfrm>
                  <a:off x="1946160" y="1103400"/>
                  <a:ext cx="27000" cy="147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17" h="93">
                      <a:moveTo>
                        <a:pt x="0" y="0"/>
                      </a:moveTo>
                      <a:lnTo>
                        <a:pt x="16" y="46"/>
                      </a:lnTo>
                      <a:lnTo>
                        <a:pt x="16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1376"/>
                <p:cNvGrpSpPr/>
                <p:nvPr/>
              </p:nvGrpSpPr>
              <p:grpSpPr>
                <a:xfrm>
                  <a:off x="1833480" y="1281240"/>
                  <a:ext cx="195480" cy="41040"/>
                  <a:chOff x="1833480" y="1281240"/>
                  <a:chExt cx="195480" cy="41040"/>
                </a:xfrm>
              </p:grpSpPr>
              <p:sp>
                <p:nvSpPr>
                  <p:cNvPr id="452" name="Rectangle 1377"/>
                  <p:cNvSpPr/>
                  <p:nvPr/>
                </p:nvSpPr>
                <p:spPr>
                  <a:xfrm>
                    <a:off x="1833480" y="1281240"/>
                    <a:ext cx="195480" cy="4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Group 1378"/>
                  <p:cNvGrpSpPr/>
                  <p:nvPr/>
                </p:nvGrpSpPr>
                <p:grpSpPr>
                  <a:xfrm>
                    <a:off x="1839960" y="1281240"/>
                    <a:ext cx="58680" cy="6120"/>
                    <a:chOff x="1839960" y="1281240"/>
                    <a:chExt cx="58680" cy="6120"/>
                  </a:xfrm>
                </p:grpSpPr>
                <p:sp>
                  <p:nvSpPr>
                    <p:cNvPr id="454" name="Line 1379"/>
                    <p:cNvSpPr/>
                    <p:nvPr/>
                  </p:nvSpPr>
                  <p:spPr>
                    <a:xfrm>
                      <a:off x="1839960" y="1281240"/>
                      <a:ext cx="5868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1380"/>
                    <p:cNvSpPr/>
                    <p:nvPr/>
                  </p:nvSpPr>
                  <p:spPr>
                    <a:xfrm>
                      <a:off x="1846440" y="1285920"/>
                      <a:ext cx="52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1381"/>
                <p:cNvGrpSpPr/>
                <p:nvPr/>
              </p:nvGrpSpPr>
              <p:grpSpPr>
                <a:xfrm>
                  <a:off x="1835280" y="1249200"/>
                  <a:ext cx="196560" cy="8280"/>
                  <a:chOff x="1835280" y="1249200"/>
                  <a:chExt cx="196560" cy="8280"/>
                </a:xfrm>
              </p:grpSpPr>
              <p:sp>
                <p:nvSpPr>
                  <p:cNvPr id="457" name="Line 1382"/>
                  <p:cNvSpPr/>
                  <p:nvPr/>
                </p:nvSpPr>
                <p:spPr>
                  <a:xfrm>
                    <a:off x="1835280" y="1255680"/>
                    <a:ext cx="58680" cy="1800"/>
                  </a:xfrm>
                  <a:prstGeom prst="line">
                    <a:avLst/>
                  </a:prstGeom>
                  <a:ln w="126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383"/>
                  <p:cNvSpPr/>
                  <p:nvPr/>
                </p:nvSpPr>
                <p:spPr>
                  <a:xfrm>
                    <a:off x="1835280" y="1249200"/>
                    <a:ext cx="196560" cy="1800"/>
                  </a:xfrm>
                  <a:prstGeom prst="line">
                    <a:avLst/>
                  </a:prstGeom>
                  <a:ln w="126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Line 1384"/>
                <p:cNvSpPr/>
                <p:nvPr/>
              </p:nvSpPr>
              <p:spPr>
                <a:xfrm>
                  <a:off x="2030400" y="1179360"/>
                  <a:ext cx="1440" cy="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Group 1385"/>
                <p:cNvGrpSpPr/>
                <p:nvPr/>
              </p:nvGrpSpPr>
              <p:grpSpPr>
                <a:xfrm>
                  <a:off x="1900080" y="1139760"/>
                  <a:ext cx="20880" cy="65160"/>
                  <a:chOff x="1900080" y="1139760"/>
                  <a:chExt cx="20880" cy="65160"/>
                </a:xfrm>
              </p:grpSpPr>
              <p:sp>
                <p:nvSpPr>
                  <p:cNvPr id="461" name="AutoShape 1386"/>
                  <p:cNvSpPr/>
                  <p:nvPr/>
                </p:nvSpPr>
                <p:spPr>
                  <a:xfrm>
                    <a:off x="1901880" y="1139760"/>
                    <a:ext cx="6120" cy="42840"/>
                  </a:xfrm>
                  <a:custGeom>
                    <a:avLst/>
                    <a:gdLst>
                      <a:gd name="textAreaLeft" fmla="*/ 720 w 6120"/>
                      <a:gd name="textAreaRight" fmla="*/ 5400 w 6120"/>
                      <a:gd name="textAreaTop" fmla="*/ 720 h 42840"/>
                      <a:gd name="textAreaBottom" fmla="*/ 42120 h 42840"/>
                    </a:gdLst>
                    <a:ahLst/>
                    <a:rect l="textAreaLeft" t="textAreaTop" r="textAreaRight" b="textAreaBottom"/>
                    <a:pathLst>
                      <a:path w="21600" h="144000">
                        <a:moveTo>
                          <a:pt x="10445" y="0"/>
                        </a:moveTo>
                        <a:arcTo wR="10445" hR="10445" stAng="16200000" swAng="-5400000"/>
                        <a:lnTo>
                          <a:pt x="0" y="133555"/>
                        </a:lnTo>
                        <a:arcTo wR="10445" hR="10445" stAng="10800000" swAng="-5400000"/>
                        <a:lnTo>
                          <a:pt x="11155" y="144000"/>
                        </a:lnTo>
                        <a:arcTo wR="10445" hR="10445" stAng="5400000" swAng="-5400000"/>
                        <a:lnTo>
                          <a:pt x="21600" y="10445"/>
                        </a:lnTo>
                        <a:arcTo wR="10445" hR="10445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AutoShape 1387"/>
                  <p:cNvSpPr/>
                  <p:nvPr/>
                </p:nvSpPr>
                <p:spPr>
                  <a:xfrm>
                    <a:off x="1900080" y="1201680"/>
                    <a:ext cx="3240" cy="3240"/>
                  </a:xfrm>
                  <a:prstGeom prst="roundRect">
                    <a:avLst>
                      <a:gd name="adj" fmla="val 49972"/>
                    </a:avLst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1388"/>
                  <p:cNvSpPr/>
                  <p:nvPr/>
                </p:nvSpPr>
                <p:spPr>
                  <a:xfrm>
                    <a:off x="1916280" y="1195560"/>
                    <a:ext cx="2880" cy="4680"/>
                  </a:xfrm>
                  <a:custGeom>
                    <a:avLst/>
                    <a:gdLst>
                      <a:gd name="textAreaLeft" fmla="*/ 360 w 2880"/>
                      <a:gd name="textAreaRight" fmla="*/ 2520 w 2880"/>
                      <a:gd name="textAreaTop" fmla="*/ 360 h 4680"/>
                      <a:gd name="textAreaBottom" fmla="*/ 4320 h 4680"/>
                    </a:gdLst>
                    <a:ahLst/>
                    <a:rect l="textAreaLeft" t="textAreaTop" r="textAreaRight" b="textAreaBottom"/>
                    <a:pathLst>
                      <a:path w="21600" h="33600">
                        <a:moveTo>
                          <a:pt x="10794" y="0"/>
                        </a:moveTo>
                        <a:arcTo wR="10794" hR="10794" stAng="16200000" swAng="-5400000"/>
                        <a:lnTo>
                          <a:pt x="0" y="22806"/>
                        </a:lnTo>
                        <a:arcTo wR="10794" hR="10794" stAng="10800000" swAng="-5400000"/>
                        <a:lnTo>
                          <a:pt x="10806" y="33600"/>
                        </a:lnTo>
                        <a:arcTo wR="10794" hR="10794" stAng="5400000" swAng="-5400000"/>
                        <a:lnTo>
                          <a:pt x="21600" y="10794"/>
                        </a:lnTo>
                        <a:arcTo wR="10794" hR="10794" stAng="0" swAng="-5400000"/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4" name="Group 1389"/>
                  <p:cNvGrpSpPr/>
                  <p:nvPr/>
                </p:nvGrpSpPr>
                <p:grpSpPr>
                  <a:xfrm>
                    <a:off x="1901880" y="1165320"/>
                    <a:ext cx="19080" cy="39600"/>
                    <a:chOff x="1901880" y="1165320"/>
                    <a:chExt cx="19080" cy="39600"/>
                  </a:xfrm>
                </p:grpSpPr>
                <p:sp>
                  <p:nvSpPr>
                    <p:cNvPr id="465" name="Freeform 1390"/>
                    <p:cNvSpPr/>
                    <p:nvPr/>
                  </p:nvSpPr>
                  <p:spPr>
                    <a:xfrm>
                      <a:off x="1901880" y="1165320"/>
                      <a:ext cx="1440" cy="3960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1" h="25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391"/>
                    <p:cNvSpPr/>
                    <p:nvPr/>
                  </p:nvSpPr>
                  <p:spPr>
                    <a:xfrm>
                      <a:off x="1906560" y="1190520"/>
                      <a:ext cx="144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67" name="Freeform 1392"/>
                <p:cNvSpPr/>
                <p:nvPr/>
              </p:nvSpPr>
              <p:spPr>
                <a:xfrm>
                  <a:off x="1944720" y="1182600"/>
                  <a:ext cx="22320" cy="648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4" h="4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393"/>
                <p:cNvSpPr/>
                <p:nvPr/>
              </p:nvSpPr>
              <p:spPr>
                <a:xfrm>
                  <a:off x="1874880" y="1098720"/>
                  <a:ext cx="156960" cy="61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9" h="4">
                      <a:moveTo>
                        <a:pt x="0" y="0"/>
                      </a:moveTo>
                      <a:lnTo>
                        <a:pt x="98" y="0"/>
                      </a:lnTo>
                      <a:lnTo>
                        <a:pt x="98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394"/>
              <p:cNvGrpSpPr/>
              <p:nvPr/>
            </p:nvGrpSpPr>
            <p:grpSpPr>
              <a:xfrm>
                <a:off x="1873080" y="1255680"/>
                <a:ext cx="173160" cy="74520"/>
                <a:chOff x="1873080" y="1255680"/>
                <a:chExt cx="173160" cy="74520"/>
              </a:xfrm>
            </p:grpSpPr>
            <p:sp>
              <p:nvSpPr>
                <p:cNvPr id="470" name="Freeform 1395"/>
                <p:cNvSpPr/>
                <p:nvPr/>
              </p:nvSpPr>
              <p:spPr>
                <a:xfrm>
                  <a:off x="1873080" y="1255680"/>
                  <a:ext cx="173160" cy="74520"/>
                </a:xfrm>
                <a:custGeom>
                  <a:avLst/>
                  <a:gdLst>
                    <a:gd name="textAreaLeft" fmla="*/ 0 w 173160"/>
                    <a:gd name="textAreaRight" fmla="*/ 173160 w 173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09" h="47">
                      <a:moveTo>
                        <a:pt x="0" y="46"/>
                      </a:moveTo>
                      <a:lnTo>
                        <a:pt x="0" y="41"/>
                      </a:lnTo>
                      <a:lnTo>
                        <a:pt x="1" y="36"/>
                      </a:lnTo>
                      <a:lnTo>
                        <a:pt x="3" y="30"/>
                      </a:lnTo>
                      <a:lnTo>
                        <a:pt x="6" y="25"/>
                      </a:lnTo>
                      <a:lnTo>
                        <a:pt x="9" y="20"/>
                      </a:lnTo>
                      <a:lnTo>
                        <a:pt x="13" y="16"/>
                      </a:lnTo>
                      <a:lnTo>
                        <a:pt x="18" y="12"/>
                      </a:lnTo>
                      <a:lnTo>
                        <a:pt x="24" y="8"/>
                      </a:lnTo>
                      <a:lnTo>
                        <a:pt x="30" y="5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7" y="0"/>
                      </a:lnTo>
                      <a:lnTo>
                        <a:pt x="64" y="1"/>
                      </a:lnTo>
                      <a:lnTo>
                        <a:pt x="71" y="2"/>
                      </a:lnTo>
                      <a:lnTo>
                        <a:pt x="77" y="5"/>
                      </a:lnTo>
                      <a:lnTo>
                        <a:pt x="83" y="7"/>
                      </a:lnTo>
                      <a:lnTo>
                        <a:pt x="87" y="10"/>
                      </a:lnTo>
                      <a:lnTo>
                        <a:pt x="91" y="13"/>
                      </a:lnTo>
                      <a:lnTo>
                        <a:pt x="95" y="17"/>
                      </a:lnTo>
                      <a:lnTo>
                        <a:pt x="99" y="22"/>
                      </a:lnTo>
                      <a:lnTo>
                        <a:pt x="103" y="26"/>
                      </a:lnTo>
                      <a:lnTo>
                        <a:pt x="104" y="30"/>
                      </a:lnTo>
                      <a:lnTo>
                        <a:pt x="106" y="33"/>
                      </a:lnTo>
                      <a:lnTo>
                        <a:pt x="107" y="37"/>
                      </a:lnTo>
                      <a:lnTo>
                        <a:pt x="107" y="41"/>
                      </a:lnTo>
                      <a:lnTo>
                        <a:pt x="107" y="44"/>
                      </a:lnTo>
                      <a:lnTo>
                        <a:pt x="108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396"/>
                <p:cNvSpPr/>
                <p:nvPr/>
              </p:nvSpPr>
              <p:spPr>
                <a:xfrm>
                  <a:off x="1898640" y="1276200"/>
                  <a:ext cx="123840" cy="54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78" h="34">
                      <a:moveTo>
                        <a:pt x="0" y="33"/>
                      </a:move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2" y="22"/>
                      </a:lnTo>
                      <a:lnTo>
                        <a:pt x="4" y="18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3" y="9"/>
                      </a:lnTo>
                      <a:lnTo>
                        <a:pt x="17" y="5"/>
                      </a:lnTo>
                      <a:lnTo>
                        <a:pt x="21" y="3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5" y="0"/>
                      </a:lnTo>
                      <a:lnTo>
                        <a:pt x="50" y="2"/>
                      </a:lnTo>
                      <a:lnTo>
                        <a:pt x="55" y="3"/>
                      </a:lnTo>
                      <a:lnTo>
                        <a:pt x="59" y="5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8" y="12"/>
                      </a:lnTo>
                      <a:lnTo>
                        <a:pt x="71" y="15"/>
                      </a:lnTo>
                      <a:lnTo>
                        <a:pt x="73" y="19"/>
                      </a:lnTo>
                      <a:lnTo>
                        <a:pt x="74" y="21"/>
                      </a:lnTo>
                      <a:lnTo>
                        <a:pt x="75" y="24"/>
                      </a:lnTo>
                      <a:lnTo>
                        <a:pt x="76" y="26"/>
                      </a:lnTo>
                      <a:lnTo>
                        <a:pt x="77" y="29"/>
                      </a:lnTo>
                      <a:lnTo>
                        <a:pt x="77" y="32"/>
                      </a:lnTo>
                      <a:lnTo>
                        <a:pt x="77" y="33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397"/>
              <p:cNvGrpSpPr/>
              <p:nvPr/>
            </p:nvGrpSpPr>
            <p:grpSpPr>
              <a:xfrm>
                <a:off x="2046240" y="1135080"/>
                <a:ext cx="103320" cy="131760"/>
                <a:chOff x="2046240" y="1135080"/>
                <a:chExt cx="103320" cy="131760"/>
              </a:xfrm>
            </p:grpSpPr>
            <p:sp>
              <p:nvSpPr>
                <p:cNvPr id="473" name="Freeform 1398"/>
                <p:cNvSpPr/>
                <p:nvPr/>
              </p:nvSpPr>
              <p:spPr>
                <a:xfrm>
                  <a:off x="2046240" y="116064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1" h="57">
                      <a:moveTo>
                        <a:pt x="0" y="30"/>
                      </a:moveTo>
                      <a:lnTo>
                        <a:pt x="3" y="33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11" y="42"/>
                      </a:lnTo>
                      <a:lnTo>
                        <a:pt x="13" y="45"/>
                      </a:lnTo>
                      <a:lnTo>
                        <a:pt x="16" y="48"/>
                      </a:lnTo>
                      <a:lnTo>
                        <a:pt x="17" y="50"/>
                      </a:lnTo>
                      <a:lnTo>
                        <a:pt x="20" y="52"/>
                      </a:lnTo>
                      <a:lnTo>
                        <a:pt x="22" y="53"/>
                      </a:lnTo>
                      <a:lnTo>
                        <a:pt x="23" y="55"/>
                      </a:lnTo>
                      <a:lnTo>
                        <a:pt x="26" y="55"/>
                      </a:lnTo>
                      <a:lnTo>
                        <a:pt x="28" y="56"/>
                      </a:lnTo>
                      <a:lnTo>
                        <a:pt x="31" y="55"/>
                      </a:lnTo>
                      <a:lnTo>
                        <a:pt x="34" y="55"/>
                      </a:lnTo>
                      <a:lnTo>
                        <a:pt x="35" y="54"/>
                      </a:lnTo>
                      <a:lnTo>
                        <a:pt x="37" y="53"/>
                      </a:lnTo>
                      <a:lnTo>
                        <a:pt x="39" y="51"/>
                      </a:lnTo>
                      <a:lnTo>
                        <a:pt x="41" y="48"/>
                      </a:lnTo>
                      <a:lnTo>
                        <a:pt x="43" y="46"/>
                      </a:lnTo>
                      <a:lnTo>
                        <a:pt x="46" y="43"/>
                      </a:lnTo>
                      <a:lnTo>
                        <a:pt x="47" y="40"/>
                      </a:lnTo>
                      <a:lnTo>
                        <a:pt x="49" y="37"/>
                      </a:lnTo>
                      <a:lnTo>
                        <a:pt x="50" y="33"/>
                      </a:lnTo>
                      <a:lnTo>
                        <a:pt x="51" y="29"/>
                      </a:lnTo>
                      <a:lnTo>
                        <a:pt x="51" y="24"/>
                      </a:lnTo>
                      <a:lnTo>
                        <a:pt x="52" y="21"/>
                      </a:lnTo>
                      <a:lnTo>
                        <a:pt x="52" y="17"/>
                      </a:lnTo>
                      <a:lnTo>
                        <a:pt x="53" y="14"/>
                      </a:lnTo>
                      <a:lnTo>
                        <a:pt x="54" y="12"/>
                      </a:lnTo>
                      <a:lnTo>
                        <a:pt x="55" y="10"/>
                      </a:lnTo>
                      <a:lnTo>
                        <a:pt x="57" y="6"/>
                      </a:lnTo>
                      <a:lnTo>
                        <a:pt x="58" y="2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399"/>
                <p:cNvSpPr/>
                <p:nvPr/>
              </p:nvSpPr>
              <p:spPr>
                <a:xfrm>
                  <a:off x="2046240" y="1135080"/>
                  <a:ext cx="96840" cy="131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61" h="83">
                      <a:moveTo>
                        <a:pt x="0" y="56"/>
                      </a:moveTo>
                      <a:lnTo>
                        <a:pt x="2" y="57"/>
                      </a:lnTo>
                      <a:lnTo>
                        <a:pt x="3" y="58"/>
                      </a:lnTo>
                      <a:lnTo>
                        <a:pt x="4" y="60"/>
                      </a:lnTo>
                      <a:lnTo>
                        <a:pt x="6" y="62"/>
                      </a:lnTo>
                      <a:lnTo>
                        <a:pt x="8" y="64"/>
                      </a:lnTo>
                      <a:lnTo>
                        <a:pt x="9" y="66"/>
                      </a:lnTo>
                      <a:lnTo>
                        <a:pt x="11" y="69"/>
                      </a:lnTo>
                      <a:lnTo>
                        <a:pt x="13" y="74"/>
                      </a:lnTo>
                      <a:lnTo>
                        <a:pt x="16" y="76"/>
                      </a:lnTo>
                      <a:lnTo>
                        <a:pt x="18" y="77"/>
                      </a:lnTo>
                      <a:lnTo>
                        <a:pt x="20" y="79"/>
                      </a:lnTo>
                      <a:lnTo>
                        <a:pt x="21" y="79"/>
                      </a:lnTo>
                      <a:lnTo>
                        <a:pt x="23" y="80"/>
                      </a:lnTo>
                      <a:lnTo>
                        <a:pt x="26" y="81"/>
                      </a:lnTo>
                      <a:lnTo>
                        <a:pt x="28" y="82"/>
                      </a:lnTo>
                      <a:lnTo>
                        <a:pt x="30" y="82"/>
                      </a:lnTo>
                      <a:lnTo>
                        <a:pt x="32" y="82"/>
                      </a:lnTo>
                      <a:lnTo>
                        <a:pt x="35" y="81"/>
                      </a:lnTo>
                      <a:lnTo>
                        <a:pt x="37" y="80"/>
                      </a:lnTo>
                      <a:lnTo>
                        <a:pt x="40" y="79"/>
                      </a:lnTo>
                      <a:lnTo>
                        <a:pt x="42" y="78"/>
                      </a:lnTo>
                      <a:lnTo>
                        <a:pt x="44" y="77"/>
                      </a:lnTo>
                      <a:lnTo>
                        <a:pt x="44" y="76"/>
                      </a:lnTo>
                      <a:lnTo>
                        <a:pt x="46" y="75"/>
                      </a:lnTo>
                      <a:lnTo>
                        <a:pt x="47" y="73"/>
                      </a:lnTo>
                      <a:lnTo>
                        <a:pt x="48" y="71"/>
                      </a:lnTo>
                      <a:lnTo>
                        <a:pt x="49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52" y="61"/>
                      </a:lnTo>
                      <a:lnTo>
                        <a:pt x="53" y="58"/>
                      </a:lnTo>
                      <a:lnTo>
                        <a:pt x="54" y="55"/>
                      </a:lnTo>
                      <a:lnTo>
                        <a:pt x="54" y="51"/>
                      </a:lnTo>
                      <a:lnTo>
                        <a:pt x="55" y="49"/>
                      </a:lnTo>
                      <a:lnTo>
                        <a:pt x="56" y="46"/>
                      </a:lnTo>
                      <a:lnTo>
                        <a:pt x="57" y="43"/>
                      </a:lnTo>
                      <a:lnTo>
                        <a:pt x="57" y="40"/>
                      </a:lnTo>
                      <a:lnTo>
                        <a:pt x="57" y="37"/>
                      </a:lnTo>
                      <a:lnTo>
                        <a:pt x="57" y="33"/>
                      </a:lnTo>
                      <a:lnTo>
                        <a:pt x="57" y="16"/>
                      </a:lnTo>
                      <a:lnTo>
                        <a:pt x="57" y="9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7" y="3"/>
                      </a:lnTo>
                      <a:lnTo>
                        <a:pt x="58" y="1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rc 1400"/>
                <p:cNvSpPr/>
                <p:nvPr/>
              </p:nvSpPr>
              <p:spPr>
                <a:xfrm>
                  <a:off x="2133720" y="1160640"/>
                  <a:ext cx="15840" cy="9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fill="none" w="21600" h="42038">
                      <a:moveTo>
                        <a:pt x="14923" y="42038"/>
                      </a:moveTo>
                      <a:cubicBezTo>
                        <a:pt x="6024" y="39146"/>
                        <a:pt x="0" y="30853"/>
                        <a:pt x="0" y="21496"/>
                      </a:cubicBezTo>
                      <a:cubicBezTo>
                        <a:pt x="-1" y="10386"/>
                        <a:pt x="8427" y="1088"/>
                        <a:pt x="19482" y="-1"/>
                      </a:cubicBezTo>
                    </a:path>
                    <a:path stroke="0" w="21600" h="42038">
                      <a:moveTo>
                        <a:pt x="14923" y="42038"/>
                      </a:moveTo>
                      <a:cubicBezTo>
                        <a:pt x="6024" y="39146"/>
                        <a:pt x="0" y="30853"/>
                        <a:pt x="0" y="21496"/>
                      </a:cubicBezTo>
                      <a:cubicBezTo>
                        <a:pt x="-1" y="10386"/>
                        <a:pt x="8427" y="1088"/>
                        <a:pt x="19482" y="-1"/>
                      </a:cubicBezTo>
                      <a:lnTo>
                        <a:pt x="21600" y="21496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401"/>
              <p:cNvGrpSpPr/>
              <p:nvPr/>
            </p:nvGrpSpPr>
            <p:grpSpPr>
              <a:xfrm>
                <a:off x="2041560" y="1274760"/>
                <a:ext cx="315720" cy="95400"/>
                <a:chOff x="2041560" y="1274760"/>
                <a:chExt cx="315720" cy="95400"/>
              </a:xfrm>
            </p:grpSpPr>
            <p:sp>
              <p:nvSpPr>
                <p:cNvPr id="477" name="Line 1402"/>
                <p:cNvSpPr/>
                <p:nvPr/>
              </p:nvSpPr>
              <p:spPr>
                <a:xfrm>
                  <a:off x="2355840" y="1314360"/>
                  <a:ext cx="1440" cy="55800"/>
                </a:xfrm>
                <a:prstGeom prst="line">
                  <a:avLst/>
                </a:prstGeom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1403"/>
                <p:cNvSpPr/>
                <p:nvPr/>
              </p:nvSpPr>
              <p:spPr>
                <a:xfrm>
                  <a:off x="2041560" y="1292400"/>
                  <a:ext cx="307800" cy="28440"/>
                </a:xfrm>
                <a:prstGeom prst="rect">
                  <a:avLst/>
                </a:prstGeom>
                <a:solidFill>
                  <a:srgbClr val="a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1404"/>
                <p:cNvGrpSpPr/>
                <p:nvPr/>
              </p:nvGrpSpPr>
              <p:grpSpPr>
                <a:xfrm>
                  <a:off x="2054160" y="1289160"/>
                  <a:ext cx="57240" cy="52200"/>
                  <a:chOff x="2054160" y="1289160"/>
                  <a:chExt cx="57240" cy="52200"/>
                </a:xfrm>
              </p:grpSpPr>
              <p:sp>
                <p:nvSpPr>
                  <p:cNvPr id="480" name="Rectangle 1405"/>
                  <p:cNvSpPr/>
                  <p:nvPr/>
                </p:nvSpPr>
                <p:spPr>
                  <a:xfrm>
                    <a:off x="2054160" y="1292400"/>
                    <a:ext cx="57240" cy="3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Group 1406"/>
                  <p:cNvGrpSpPr/>
                  <p:nvPr/>
                </p:nvGrpSpPr>
                <p:grpSpPr>
                  <a:xfrm>
                    <a:off x="2058840" y="1289160"/>
                    <a:ext cx="49320" cy="52200"/>
                    <a:chOff x="2058840" y="1289160"/>
                    <a:chExt cx="49320" cy="52200"/>
                  </a:xfrm>
                </p:grpSpPr>
                <p:sp>
                  <p:nvSpPr>
                    <p:cNvPr id="482" name="Line 1407"/>
                    <p:cNvSpPr/>
                    <p:nvPr/>
                  </p:nvSpPr>
                  <p:spPr>
                    <a:xfrm>
                      <a:off x="2058840" y="1289160"/>
                      <a:ext cx="180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408"/>
                    <p:cNvSpPr/>
                    <p:nvPr/>
                  </p:nvSpPr>
                  <p:spPr>
                    <a:xfrm>
                      <a:off x="2063880" y="1289160"/>
                      <a:ext cx="144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409"/>
                    <p:cNvSpPr/>
                    <p:nvPr/>
                  </p:nvSpPr>
                  <p:spPr>
                    <a:xfrm>
                      <a:off x="2101680" y="1289160"/>
                      <a:ext cx="180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410"/>
                    <p:cNvSpPr/>
                    <p:nvPr/>
                  </p:nvSpPr>
                  <p:spPr>
                    <a:xfrm>
                      <a:off x="2106720" y="1289160"/>
                      <a:ext cx="144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6" name="Freeform 1411"/>
                <p:cNvSpPr/>
                <p:nvPr/>
              </p:nvSpPr>
              <p:spPr>
                <a:xfrm>
                  <a:off x="2184480" y="1274760"/>
                  <a:ext cx="87120" cy="126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5" h="8">
                      <a:moveTo>
                        <a:pt x="0" y="0"/>
                      </a:moveTo>
                      <a:lnTo>
                        <a:pt x="54" y="0"/>
                      </a:lnTo>
                      <a:lnTo>
                        <a:pt x="54" y="4"/>
                      </a:lnTo>
                      <a:lnTo>
                        <a:pt x="41" y="4"/>
                      </a:lnTo>
                      <a:lnTo>
                        <a:pt x="41" y="7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412"/>
              <p:cNvGrpSpPr/>
              <p:nvPr/>
            </p:nvGrpSpPr>
            <p:grpSpPr>
              <a:xfrm>
                <a:off x="1911240" y="1290600"/>
                <a:ext cx="419040" cy="95400"/>
                <a:chOff x="1911240" y="1290600"/>
                <a:chExt cx="419040" cy="95400"/>
              </a:xfrm>
            </p:grpSpPr>
            <p:grpSp>
              <p:nvGrpSpPr>
                <p:cNvPr id="488" name="Group 1413"/>
                <p:cNvGrpSpPr/>
                <p:nvPr/>
              </p:nvGrpSpPr>
              <p:grpSpPr>
                <a:xfrm>
                  <a:off x="2125800" y="1290600"/>
                  <a:ext cx="96840" cy="95400"/>
                  <a:chOff x="2125800" y="1290600"/>
                  <a:chExt cx="96840" cy="95400"/>
                </a:xfrm>
              </p:grpSpPr>
              <p:sp>
                <p:nvSpPr>
                  <p:cNvPr id="489" name="Oval 1414"/>
                  <p:cNvSpPr/>
                  <p:nvPr/>
                </p:nvSpPr>
                <p:spPr>
                  <a:xfrm>
                    <a:off x="2125800" y="1290600"/>
                    <a:ext cx="968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1415"/>
                  <p:cNvSpPr/>
                  <p:nvPr/>
                </p:nvSpPr>
                <p:spPr>
                  <a:xfrm>
                    <a:off x="2141640" y="1306440"/>
                    <a:ext cx="651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1416"/>
                  <p:cNvSpPr/>
                  <p:nvPr/>
                </p:nvSpPr>
                <p:spPr>
                  <a:xfrm>
                    <a:off x="216360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1417"/>
                <p:cNvGrpSpPr/>
                <p:nvPr/>
              </p:nvGrpSpPr>
              <p:grpSpPr>
                <a:xfrm>
                  <a:off x="2232000" y="1290600"/>
                  <a:ext cx="98280" cy="95400"/>
                  <a:chOff x="2232000" y="1290600"/>
                  <a:chExt cx="98280" cy="95400"/>
                </a:xfrm>
              </p:grpSpPr>
              <p:sp>
                <p:nvSpPr>
                  <p:cNvPr id="493" name="Oval 1418"/>
                  <p:cNvSpPr/>
                  <p:nvPr/>
                </p:nvSpPr>
                <p:spPr>
                  <a:xfrm>
                    <a:off x="2232000" y="1290600"/>
                    <a:ext cx="9828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1419"/>
                  <p:cNvSpPr/>
                  <p:nvPr/>
                </p:nvSpPr>
                <p:spPr>
                  <a:xfrm>
                    <a:off x="2249640" y="1306440"/>
                    <a:ext cx="6480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1420"/>
                  <p:cNvSpPr/>
                  <p:nvPr/>
                </p:nvSpPr>
                <p:spPr>
                  <a:xfrm>
                    <a:off x="227016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421"/>
                <p:cNvGrpSpPr/>
                <p:nvPr/>
              </p:nvGrpSpPr>
              <p:grpSpPr>
                <a:xfrm>
                  <a:off x="1911240" y="1290600"/>
                  <a:ext cx="98640" cy="95400"/>
                  <a:chOff x="1911240" y="1290600"/>
                  <a:chExt cx="98640" cy="95400"/>
                </a:xfrm>
              </p:grpSpPr>
              <p:sp>
                <p:nvSpPr>
                  <p:cNvPr id="497" name="Oval 1422"/>
                  <p:cNvSpPr/>
                  <p:nvPr/>
                </p:nvSpPr>
                <p:spPr>
                  <a:xfrm>
                    <a:off x="1911240" y="1290600"/>
                    <a:ext cx="986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1423"/>
                  <p:cNvSpPr/>
                  <p:nvPr/>
                </p:nvSpPr>
                <p:spPr>
                  <a:xfrm>
                    <a:off x="1927080" y="1306440"/>
                    <a:ext cx="669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1424"/>
                  <p:cNvSpPr/>
                  <p:nvPr/>
                </p:nvSpPr>
                <p:spPr>
                  <a:xfrm>
                    <a:off x="194940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00" name="Group 1425"/>
          <p:cNvGrpSpPr/>
          <p:nvPr/>
        </p:nvGrpSpPr>
        <p:grpSpPr>
          <a:xfrm>
            <a:off x="6553080" y="914400"/>
            <a:ext cx="1009800" cy="522360"/>
            <a:chOff x="6553080" y="914400"/>
            <a:chExt cx="1009800" cy="522360"/>
          </a:xfrm>
        </p:grpSpPr>
        <p:sp>
          <p:nvSpPr>
            <p:cNvPr id="501" name="Freeform 1426"/>
            <p:cNvSpPr/>
            <p:nvPr/>
          </p:nvSpPr>
          <p:spPr>
            <a:xfrm>
              <a:off x="6553080" y="1228680"/>
              <a:ext cx="1009800" cy="208080"/>
            </a:xfrm>
            <a:custGeom>
              <a:avLst/>
              <a:gdLst>
                <a:gd name="textAreaLeft" fmla="*/ 0 w 1009800"/>
                <a:gd name="textAreaRight" fmla="*/ 1009800 w 10098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36" h="131">
                  <a:moveTo>
                    <a:pt x="50" y="0"/>
                  </a:moveTo>
                  <a:lnTo>
                    <a:pt x="0" y="77"/>
                  </a:lnTo>
                  <a:lnTo>
                    <a:pt x="43" y="130"/>
                  </a:lnTo>
                  <a:lnTo>
                    <a:pt x="192" y="130"/>
                  </a:lnTo>
                  <a:lnTo>
                    <a:pt x="268" y="130"/>
                  </a:lnTo>
                  <a:lnTo>
                    <a:pt x="304" y="122"/>
                  </a:lnTo>
                  <a:lnTo>
                    <a:pt x="218" y="122"/>
                  </a:lnTo>
                  <a:lnTo>
                    <a:pt x="265" y="113"/>
                  </a:lnTo>
                  <a:lnTo>
                    <a:pt x="331" y="113"/>
                  </a:lnTo>
                  <a:lnTo>
                    <a:pt x="359" y="107"/>
                  </a:lnTo>
                  <a:lnTo>
                    <a:pt x="286" y="107"/>
                  </a:lnTo>
                  <a:lnTo>
                    <a:pt x="317" y="102"/>
                  </a:lnTo>
                  <a:lnTo>
                    <a:pt x="383" y="101"/>
                  </a:lnTo>
                  <a:lnTo>
                    <a:pt x="406" y="97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421" y="91"/>
                  </a:lnTo>
                  <a:lnTo>
                    <a:pt x="450" y="85"/>
                  </a:lnTo>
                  <a:lnTo>
                    <a:pt x="383" y="85"/>
                  </a:lnTo>
                  <a:lnTo>
                    <a:pt x="415" y="80"/>
                  </a:lnTo>
                  <a:lnTo>
                    <a:pt x="475" y="79"/>
                  </a:lnTo>
                  <a:lnTo>
                    <a:pt x="504" y="73"/>
                  </a:lnTo>
                  <a:lnTo>
                    <a:pt x="431" y="73"/>
                  </a:lnTo>
                  <a:lnTo>
                    <a:pt x="468" y="66"/>
                  </a:lnTo>
                  <a:lnTo>
                    <a:pt x="527" y="66"/>
                  </a:lnTo>
                  <a:lnTo>
                    <a:pt x="557" y="60"/>
                  </a:lnTo>
                  <a:lnTo>
                    <a:pt x="486" y="60"/>
                  </a:lnTo>
                  <a:lnTo>
                    <a:pt x="523" y="53"/>
                  </a:lnTo>
                  <a:lnTo>
                    <a:pt x="585" y="53"/>
                  </a:lnTo>
                  <a:lnTo>
                    <a:pt x="605" y="49"/>
                  </a:lnTo>
                  <a:lnTo>
                    <a:pt x="542" y="49"/>
                  </a:lnTo>
                  <a:lnTo>
                    <a:pt x="568" y="44"/>
                  </a:lnTo>
                  <a:lnTo>
                    <a:pt x="616" y="44"/>
                  </a:lnTo>
                  <a:lnTo>
                    <a:pt x="635" y="38"/>
                  </a:lnTo>
                  <a:lnTo>
                    <a:pt x="582" y="38"/>
                  </a:lnTo>
                  <a:lnTo>
                    <a:pt x="604" y="35"/>
                  </a:lnTo>
                  <a:lnTo>
                    <a:pt x="617" y="32"/>
                  </a:lnTo>
                  <a:lnTo>
                    <a:pt x="610" y="22"/>
                  </a:lnTo>
                  <a:lnTo>
                    <a:pt x="608" y="7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1427"/>
            <p:cNvGrpSpPr/>
            <p:nvPr/>
          </p:nvGrpSpPr>
          <p:grpSpPr>
            <a:xfrm>
              <a:off x="6553080" y="914400"/>
              <a:ext cx="978120" cy="495360"/>
              <a:chOff x="6553080" y="914400"/>
              <a:chExt cx="978120" cy="495360"/>
            </a:xfrm>
          </p:grpSpPr>
          <p:grpSp>
            <p:nvGrpSpPr>
              <p:cNvPr id="503" name="Group 1428"/>
              <p:cNvGrpSpPr/>
              <p:nvPr/>
            </p:nvGrpSpPr>
            <p:grpSpPr>
              <a:xfrm>
                <a:off x="6553080" y="914400"/>
                <a:ext cx="978120" cy="495360"/>
                <a:chOff x="6553080" y="914400"/>
                <a:chExt cx="978120" cy="495360"/>
              </a:xfrm>
            </p:grpSpPr>
            <p:grpSp>
              <p:nvGrpSpPr>
                <p:cNvPr id="504" name="Group 1429"/>
                <p:cNvGrpSpPr/>
                <p:nvPr/>
              </p:nvGrpSpPr>
              <p:grpSpPr>
                <a:xfrm>
                  <a:off x="6553080" y="914400"/>
                  <a:ext cx="978120" cy="495360"/>
                  <a:chOff x="6553080" y="914400"/>
                  <a:chExt cx="978120" cy="495360"/>
                </a:xfrm>
              </p:grpSpPr>
              <p:grpSp>
                <p:nvGrpSpPr>
                  <p:cNvPr id="505" name="Group 1430"/>
                  <p:cNvGrpSpPr/>
                  <p:nvPr/>
                </p:nvGrpSpPr>
                <p:grpSpPr>
                  <a:xfrm>
                    <a:off x="6848640" y="914400"/>
                    <a:ext cx="125280" cy="28440"/>
                    <a:chOff x="6848640" y="914400"/>
                    <a:chExt cx="125280" cy="28440"/>
                  </a:xfrm>
                </p:grpSpPr>
                <p:grpSp>
                  <p:nvGrpSpPr>
                    <p:cNvPr id="506" name="Group 1431"/>
                    <p:cNvGrpSpPr/>
                    <p:nvPr/>
                  </p:nvGrpSpPr>
                  <p:grpSpPr>
                    <a:xfrm>
                      <a:off x="6953400" y="917640"/>
                      <a:ext cx="20520" cy="25200"/>
                      <a:chOff x="6953400" y="917640"/>
                      <a:chExt cx="20520" cy="25200"/>
                    </a:xfrm>
                  </p:grpSpPr>
                  <p:sp>
                    <p:nvSpPr>
                      <p:cNvPr id="507" name="Freeform 1432"/>
                      <p:cNvSpPr/>
                      <p:nvPr/>
                    </p:nvSpPr>
                    <p:spPr>
                      <a:xfrm>
                        <a:off x="6953400" y="917640"/>
                        <a:ext cx="20520" cy="25200"/>
                      </a:xfrm>
                      <a:custGeom>
                        <a:avLst/>
                        <a:gdLst>
                          <a:gd name="textAreaLeft" fmla="*/ 0 w 20520"/>
                          <a:gd name="textAreaRight" fmla="*/ 20880 w 205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3" h="16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  <a:lnTo>
                              <a:pt x="12" y="15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Freeform 1433"/>
                      <p:cNvSpPr/>
                      <p:nvPr/>
                    </p:nvSpPr>
                    <p:spPr>
                      <a:xfrm>
                        <a:off x="6953400" y="917640"/>
                        <a:ext cx="7920" cy="2232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2320"/>
                          <a:gd name="textAreaBottom" fmla="*/ 22680 h 22320"/>
                        </a:gdLst>
                        <a:ahLst/>
                        <a:rect l="textAreaLeft" t="textAreaTop" r="textAreaRight" b="textAreaBottom"/>
                        <a:pathLst>
                          <a:path w="5" h="14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  <a:lnTo>
                              <a:pt x="4" y="13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9" name="Group 1434"/>
                    <p:cNvGrpSpPr/>
                    <p:nvPr/>
                  </p:nvGrpSpPr>
                  <p:grpSpPr>
                    <a:xfrm>
                      <a:off x="6848640" y="914400"/>
                      <a:ext cx="20520" cy="20520"/>
                      <a:chOff x="6848640" y="914400"/>
                      <a:chExt cx="20520" cy="20520"/>
                    </a:xfrm>
                  </p:grpSpPr>
                  <p:sp>
                    <p:nvSpPr>
                      <p:cNvPr id="510" name="Freeform 1435"/>
                      <p:cNvSpPr/>
                      <p:nvPr/>
                    </p:nvSpPr>
                    <p:spPr>
                      <a:xfrm>
                        <a:off x="6848640" y="914400"/>
                        <a:ext cx="20520" cy="20520"/>
                      </a:xfrm>
                      <a:custGeom>
                        <a:avLst/>
                        <a:gdLst>
                          <a:gd name="textAreaLeft" fmla="*/ 0 w 20520"/>
                          <a:gd name="textAreaRight" fmla="*/ 20880 w 2052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3" h="13">
                            <a:moveTo>
                              <a:pt x="12" y="11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12" y="11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Freeform 1436"/>
                      <p:cNvSpPr/>
                      <p:nvPr/>
                    </p:nvSpPr>
                    <p:spPr>
                      <a:xfrm>
                        <a:off x="6848640" y="914400"/>
                        <a:ext cx="7920" cy="2052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5" h="13">
                            <a:moveTo>
                              <a:pt x="4" y="12"/>
                            </a:moveTo>
                            <a:lnTo>
                              <a:pt x="4" y="0"/>
                            </a:ln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2" name="Group 1437"/>
                  <p:cNvGrpSpPr/>
                  <p:nvPr/>
                </p:nvGrpSpPr>
                <p:grpSpPr>
                  <a:xfrm>
                    <a:off x="6553080" y="928800"/>
                    <a:ext cx="978120" cy="480960"/>
                    <a:chOff x="6553080" y="928800"/>
                    <a:chExt cx="978120" cy="480960"/>
                  </a:xfrm>
                </p:grpSpPr>
                <p:grpSp>
                  <p:nvGrpSpPr>
                    <p:cNvPr id="513" name="Group 1438"/>
                    <p:cNvGrpSpPr/>
                    <p:nvPr/>
                  </p:nvGrpSpPr>
                  <p:grpSpPr>
                    <a:xfrm>
                      <a:off x="6553080" y="928800"/>
                      <a:ext cx="978120" cy="480960"/>
                      <a:chOff x="6553080" y="928800"/>
                      <a:chExt cx="978120" cy="480960"/>
                    </a:xfrm>
                  </p:grpSpPr>
                  <p:grpSp>
                    <p:nvGrpSpPr>
                      <p:cNvPr id="514" name="Group 1439"/>
                      <p:cNvGrpSpPr/>
                      <p:nvPr/>
                    </p:nvGrpSpPr>
                    <p:grpSpPr>
                      <a:xfrm>
                        <a:off x="6553080" y="928800"/>
                        <a:ext cx="978120" cy="480960"/>
                        <a:chOff x="6553080" y="928800"/>
                        <a:chExt cx="978120" cy="480960"/>
                      </a:xfrm>
                    </p:grpSpPr>
                    <p:grpSp>
                      <p:nvGrpSpPr>
                        <p:cNvPr id="515" name="Group 1440"/>
                        <p:cNvGrpSpPr/>
                        <p:nvPr/>
                      </p:nvGrpSpPr>
                      <p:grpSpPr>
                        <a:xfrm>
                          <a:off x="6553080" y="1246320"/>
                          <a:ext cx="976320" cy="163440"/>
                          <a:chOff x="6553080" y="1246320"/>
                          <a:chExt cx="976320" cy="163440"/>
                        </a:xfrm>
                      </p:grpSpPr>
                      <p:sp>
                        <p:nvSpPr>
                          <p:cNvPr id="516" name="Freeform 1441"/>
                          <p:cNvSpPr/>
                          <p:nvPr/>
                        </p:nvSpPr>
                        <p:spPr>
                          <a:xfrm>
                            <a:off x="6553080" y="1246320"/>
                            <a:ext cx="976320" cy="16344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163440"/>
                              <a:gd name="textAreaBottom" fmla="*/ 163800 h 16344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103">
                                <a:moveTo>
                                  <a:pt x="614" y="0"/>
                                </a:moveTo>
                                <a:lnTo>
                                  <a:pt x="612" y="8"/>
                                </a:lnTo>
                                <a:lnTo>
                                  <a:pt x="613" y="9"/>
                                </a:lnTo>
                                <a:lnTo>
                                  <a:pt x="614" y="12"/>
                                </a:lnTo>
                                <a:lnTo>
                                  <a:pt x="613" y="14"/>
                                </a:lnTo>
                                <a:lnTo>
                                  <a:pt x="612" y="15"/>
                                </a:lnTo>
                                <a:lnTo>
                                  <a:pt x="304" y="79"/>
                                </a:lnTo>
                                <a:lnTo>
                                  <a:pt x="172" y="99"/>
                                </a:lnTo>
                                <a:lnTo>
                                  <a:pt x="40" y="102"/>
                                </a:lnTo>
                                <a:lnTo>
                                  <a:pt x="34" y="95"/>
                                </a:lnTo>
                                <a:lnTo>
                                  <a:pt x="28" y="86"/>
                                </a:lnTo>
                                <a:lnTo>
                                  <a:pt x="28" y="57"/>
                                </a:lnTo>
                                <a:lnTo>
                                  <a:pt x="19" y="57"/>
                                </a:lnTo>
                                <a:lnTo>
                                  <a:pt x="19" y="67"/>
                                </a:lnTo>
                                <a:lnTo>
                                  <a:pt x="3" y="67"/>
                                </a:lnTo>
                                <a:lnTo>
                                  <a:pt x="1" y="67"/>
                                </a:lnTo>
                                <a:lnTo>
                                  <a:pt x="0" y="65"/>
                                </a:lnTo>
                                <a:lnTo>
                                  <a:pt x="0" y="62"/>
                                </a:lnTo>
                                <a:lnTo>
                                  <a:pt x="0" y="42"/>
                                </a:lnTo>
                                <a:lnTo>
                                  <a:pt x="61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17" name="Group 1442"/>
                          <p:cNvGrpSpPr/>
                          <p:nvPr/>
                        </p:nvGrpSpPr>
                        <p:grpSpPr>
                          <a:xfrm>
                            <a:off x="6829560" y="1266840"/>
                            <a:ext cx="691920" cy="115920"/>
                            <a:chOff x="6829560" y="1266840"/>
                            <a:chExt cx="691920" cy="115920"/>
                          </a:xfrm>
                        </p:grpSpPr>
                        <p:sp>
                          <p:nvSpPr>
                            <p:cNvPr id="518" name="Freeform 1443"/>
                            <p:cNvSpPr/>
                            <p:nvPr/>
                          </p:nvSpPr>
                          <p:spPr>
                            <a:xfrm>
                              <a:off x="6829560" y="1266840"/>
                              <a:ext cx="691920" cy="115920"/>
                            </a:xfrm>
                            <a:custGeom>
                              <a:avLst/>
                              <a:gdLst>
                                <a:gd name="textAreaLeft" fmla="*/ 0 w 691920"/>
                                <a:gd name="textAreaRight" fmla="*/ 691920 w 691920"/>
                                <a:gd name="textAreaTop" fmla="*/ 0 h 115920"/>
                                <a:gd name="textAreaBottom" fmla="*/ 116280 h 11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36" h="73">
                                  <a:moveTo>
                                    <a:pt x="435" y="0"/>
                                  </a:moveTo>
                                  <a:lnTo>
                                    <a:pt x="248" y="33"/>
                                  </a:lnTo>
                                  <a:lnTo>
                                    <a:pt x="248" y="16"/>
                                  </a:lnTo>
                                  <a:lnTo>
                                    <a:pt x="76" y="33"/>
                                  </a:lnTo>
                                  <a:lnTo>
                                    <a:pt x="76" y="62"/>
                                  </a:lnTo>
                                  <a:lnTo>
                                    <a:pt x="0" y="72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19" name="Group 1444"/>
                            <p:cNvGrpSpPr/>
                            <p:nvPr/>
                          </p:nvGrpSpPr>
                          <p:grpSpPr>
                            <a:xfrm>
                              <a:off x="6978600" y="1305000"/>
                              <a:ext cx="222480" cy="63360"/>
                              <a:chOff x="6978600" y="1305000"/>
                              <a:chExt cx="222480" cy="63360"/>
                            </a:xfrm>
                          </p:grpSpPr>
                          <p:sp>
                            <p:nvSpPr>
                              <p:cNvPr id="520" name="Oval 1445"/>
                              <p:cNvSpPr/>
                              <p:nvPr/>
                            </p:nvSpPr>
                            <p:spPr>
                              <a:xfrm>
                                <a:off x="6978600" y="1322280"/>
                                <a:ext cx="49320" cy="4608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1" name="Oval 1446"/>
                              <p:cNvSpPr/>
                              <p:nvPr/>
                            </p:nvSpPr>
                            <p:spPr>
                              <a:xfrm>
                                <a:off x="7115040" y="1309680"/>
                                <a:ext cx="34920" cy="3348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2680" bIns="-22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2" name="Oval 1447"/>
                              <p:cNvSpPr/>
                              <p:nvPr/>
                            </p:nvSpPr>
                            <p:spPr>
                              <a:xfrm>
                                <a:off x="7048440" y="1314360"/>
                                <a:ext cx="42840" cy="428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6200" bIns="-162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3" name="Oval 1448"/>
                              <p:cNvSpPr/>
                              <p:nvPr/>
                            </p:nvSpPr>
                            <p:spPr>
                              <a:xfrm>
                                <a:off x="7172280" y="1305000"/>
                                <a:ext cx="28800" cy="270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720" bIns="-2772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24" name="Group 1449"/>
                        <p:cNvGrpSpPr/>
                        <p:nvPr/>
                      </p:nvGrpSpPr>
                      <p:grpSpPr>
                        <a:xfrm>
                          <a:off x="6554880" y="928800"/>
                          <a:ext cx="976320" cy="395280"/>
                          <a:chOff x="6554880" y="928800"/>
                          <a:chExt cx="976320" cy="395280"/>
                        </a:xfrm>
                      </p:grpSpPr>
                      <p:sp>
                        <p:nvSpPr>
                          <p:cNvPr id="525" name="Freeform 1450"/>
                          <p:cNvSpPr/>
                          <p:nvPr/>
                        </p:nvSpPr>
                        <p:spPr>
                          <a:xfrm>
                            <a:off x="6554880" y="928800"/>
                            <a:ext cx="976320" cy="38556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385560"/>
                              <a:gd name="textAreaBottom" fmla="*/ 385920 h 38556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243">
                                <a:moveTo>
                                  <a:pt x="461" y="87"/>
                                </a:moveTo>
                                <a:lnTo>
                                  <a:pt x="535" y="118"/>
                                </a:lnTo>
                                <a:lnTo>
                                  <a:pt x="609" y="153"/>
                                </a:lnTo>
                                <a:lnTo>
                                  <a:pt x="610" y="154"/>
                                </a:lnTo>
                                <a:lnTo>
                                  <a:pt x="611" y="156"/>
                                </a:lnTo>
                                <a:lnTo>
                                  <a:pt x="612" y="158"/>
                                </a:lnTo>
                                <a:lnTo>
                                  <a:pt x="612" y="161"/>
                                </a:lnTo>
                                <a:lnTo>
                                  <a:pt x="612" y="184"/>
                                </a:lnTo>
                                <a:lnTo>
                                  <a:pt x="614" y="186"/>
                                </a:lnTo>
                                <a:lnTo>
                                  <a:pt x="614" y="192"/>
                                </a:lnTo>
                                <a:lnTo>
                                  <a:pt x="613" y="194"/>
                                </a:lnTo>
                                <a:lnTo>
                                  <a:pt x="614" y="196"/>
                                </a:lnTo>
                                <a:lnTo>
                                  <a:pt x="612" y="202"/>
                                </a:lnTo>
                                <a:lnTo>
                                  <a:pt x="1" y="242"/>
                                </a:lnTo>
                                <a:lnTo>
                                  <a:pt x="0" y="178"/>
                                </a:lnTo>
                                <a:lnTo>
                                  <a:pt x="11" y="162"/>
                                </a:lnTo>
                                <a:lnTo>
                                  <a:pt x="12" y="161"/>
                                </a:lnTo>
                                <a:lnTo>
                                  <a:pt x="18" y="152"/>
                                </a:lnTo>
                                <a:lnTo>
                                  <a:pt x="18" y="149"/>
                                </a:lnTo>
                                <a:lnTo>
                                  <a:pt x="21" y="140"/>
                                </a:lnTo>
                                <a:lnTo>
                                  <a:pt x="33" y="122"/>
                                </a:lnTo>
                                <a:lnTo>
                                  <a:pt x="41" y="107"/>
                                </a:lnTo>
                                <a:lnTo>
                                  <a:pt x="42" y="103"/>
                                </a:lnTo>
                                <a:lnTo>
                                  <a:pt x="115" y="93"/>
                                </a:lnTo>
                                <a:lnTo>
                                  <a:pt x="216" y="93"/>
                                </a:lnTo>
                                <a:lnTo>
                                  <a:pt x="268" y="98"/>
                                </a:lnTo>
                                <a:lnTo>
                                  <a:pt x="315" y="104"/>
                                </a:lnTo>
                                <a:lnTo>
                                  <a:pt x="315" y="70"/>
                                </a:lnTo>
                                <a:lnTo>
                                  <a:pt x="313" y="69"/>
                                </a:lnTo>
                                <a:lnTo>
                                  <a:pt x="314" y="55"/>
                                </a:lnTo>
                                <a:lnTo>
                                  <a:pt x="291" y="47"/>
                                </a:lnTo>
                                <a:lnTo>
                                  <a:pt x="265" y="41"/>
                                </a:lnTo>
                                <a:lnTo>
                                  <a:pt x="231" y="39"/>
                                </a:lnTo>
                                <a:lnTo>
                                  <a:pt x="171" y="39"/>
                                </a:lnTo>
                                <a:lnTo>
                                  <a:pt x="145" y="39"/>
                                </a:lnTo>
                                <a:lnTo>
                                  <a:pt x="94" y="50"/>
                                </a:lnTo>
                                <a:lnTo>
                                  <a:pt x="95" y="45"/>
                                </a:lnTo>
                                <a:lnTo>
                                  <a:pt x="96" y="43"/>
                                </a:lnTo>
                                <a:lnTo>
                                  <a:pt x="98" y="42"/>
                                </a:lnTo>
                                <a:lnTo>
                                  <a:pt x="117" y="32"/>
                                </a:lnTo>
                                <a:lnTo>
                                  <a:pt x="118" y="26"/>
                                </a:lnTo>
                                <a:lnTo>
                                  <a:pt x="120" y="24"/>
                                </a:lnTo>
                                <a:lnTo>
                                  <a:pt x="121" y="23"/>
                                </a:lnTo>
                                <a:lnTo>
                                  <a:pt x="127" y="19"/>
                                </a:lnTo>
                                <a:lnTo>
                                  <a:pt x="133" y="16"/>
                                </a:lnTo>
                                <a:lnTo>
                                  <a:pt x="140" y="13"/>
                                </a:lnTo>
                                <a:lnTo>
                                  <a:pt x="141" y="7"/>
                                </a:lnTo>
                                <a:lnTo>
                                  <a:pt x="142" y="6"/>
                                </a:lnTo>
                                <a:lnTo>
                                  <a:pt x="143" y="5"/>
                                </a:lnTo>
                                <a:lnTo>
                                  <a:pt x="146" y="5"/>
                                </a:lnTo>
                                <a:lnTo>
                                  <a:pt x="148" y="4"/>
                                </a:lnTo>
                                <a:lnTo>
                                  <a:pt x="191" y="1"/>
                                </a:lnTo>
                                <a:lnTo>
                                  <a:pt x="214" y="0"/>
                                </a:lnTo>
                                <a:lnTo>
                                  <a:pt x="234" y="1"/>
                                </a:lnTo>
                                <a:lnTo>
                                  <a:pt x="271" y="8"/>
                                </a:lnTo>
                                <a:lnTo>
                                  <a:pt x="296" y="14"/>
                                </a:lnTo>
                                <a:lnTo>
                                  <a:pt x="304" y="16"/>
                                </a:lnTo>
                                <a:lnTo>
                                  <a:pt x="317" y="14"/>
                                </a:lnTo>
                                <a:lnTo>
                                  <a:pt x="327" y="14"/>
                                </a:lnTo>
                                <a:lnTo>
                                  <a:pt x="421" y="53"/>
                                </a:lnTo>
                                <a:lnTo>
                                  <a:pt x="437" y="60"/>
                                </a:lnTo>
                                <a:lnTo>
                                  <a:pt x="440" y="62"/>
                                </a:lnTo>
                                <a:lnTo>
                                  <a:pt x="443" y="64"/>
                                </a:lnTo>
                                <a:lnTo>
                                  <a:pt x="446" y="68"/>
                                </a:lnTo>
                                <a:lnTo>
                                  <a:pt x="461" y="87"/>
                                </a:lnTo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Freeform 1451"/>
                          <p:cNvSpPr/>
                          <p:nvPr/>
                        </p:nvSpPr>
                        <p:spPr>
                          <a:xfrm>
                            <a:off x="6554880" y="1238400"/>
                            <a:ext cx="976320" cy="8568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85680"/>
                              <a:gd name="textAreaBottom" fmla="*/ 85680 h 8568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54">
                                <a:moveTo>
                                  <a:pt x="614" y="1"/>
                                </a:moveTo>
                                <a:lnTo>
                                  <a:pt x="315" y="1"/>
                                </a:lnTo>
                                <a:lnTo>
                                  <a:pt x="292" y="0"/>
                                </a:lnTo>
                                <a:lnTo>
                                  <a:pt x="161" y="1"/>
                                </a:lnTo>
                                <a:lnTo>
                                  <a:pt x="0" y="6"/>
                                </a:lnTo>
                                <a:lnTo>
                                  <a:pt x="0" y="53"/>
                                </a:lnTo>
                                <a:lnTo>
                                  <a:pt x="179" y="49"/>
                                </a:lnTo>
                                <a:lnTo>
                                  <a:pt x="320" y="36"/>
                                </a:lnTo>
                                <a:lnTo>
                                  <a:pt x="336" y="34"/>
                                </a:lnTo>
                                <a:lnTo>
                                  <a:pt x="335" y="26"/>
                                </a:lnTo>
                                <a:lnTo>
                                  <a:pt x="351" y="24"/>
                                </a:lnTo>
                                <a:lnTo>
                                  <a:pt x="351" y="33"/>
                                </a:lnTo>
                                <a:lnTo>
                                  <a:pt x="613" y="7"/>
                                </a:lnTo>
                                <a:lnTo>
                                  <a:pt x="614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8880" bIns="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27" name="Group 1452"/>
                      <p:cNvGrpSpPr/>
                      <p:nvPr/>
                    </p:nvGrpSpPr>
                    <p:grpSpPr>
                      <a:xfrm>
                        <a:off x="6553080" y="1160640"/>
                        <a:ext cx="978120" cy="163440"/>
                        <a:chOff x="6553080" y="1160640"/>
                        <a:chExt cx="978120" cy="163440"/>
                      </a:xfrm>
                    </p:grpSpPr>
                    <p:grpSp>
                      <p:nvGrpSpPr>
                        <p:cNvPr id="528" name="Group 1453"/>
                        <p:cNvGrpSpPr/>
                        <p:nvPr/>
                      </p:nvGrpSpPr>
                      <p:grpSpPr>
                        <a:xfrm>
                          <a:off x="6554880" y="1211400"/>
                          <a:ext cx="104760" cy="112680"/>
                          <a:chOff x="6554880" y="1211400"/>
                          <a:chExt cx="104760" cy="112680"/>
                        </a:xfrm>
                      </p:grpSpPr>
                      <p:sp>
                        <p:nvSpPr>
                          <p:cNvPr id="529" name="Freeform 1454"/>
                          <p:cNvSpPr/>
                          <p:nvPr/>
                        </p:nvSpPr>
                        <p:spPr>
                          <a:xfrm>
                            <a:off x="6554880" y="1211400"/>
                            <a:ext cx="104760" cy="64800"/>
                          </a:xfrm>
                          <a:custGeom>
                            <a:avLst/>
                            <a:gdLst>
                              <a:gd name="textAreaLeft" fmla="*/ 0 w 104760"/>
                              <a:gd name="textAreaRight" fmla="*/ 105120 w 104760"/>
                              <a:gd name="textAreaTop" fmla="*/ 0 h 64800"/>
                              <a:gd name="textAreaBottom" fmla="*/ 65160 h 64800"/>
                            </a:gdLst>
                            <a:ahLst/>
                            <a:rect l="textAreaLeft" t="textAreaTop" r="textAreaRight" b="textAreaBottom"/>
                            <a:pathLst>
                              <a:path w="66" h="41">
                                <a:moveTo>
                                  <a:pt x="65" y="0"/>
                                </a:moveTo>
                                <a:lnTo>
                                  <a:pt x="0" y="2"/>
                                </a:lnTo>
                                <a:lnTo>
                                  <a:pt x="0" y="40"/>
                                </a:lnTo>
                                <a:lnTo>
                                  <a:pt x="65" y="40"/>
                                </a:lnTo>
                                <a:lnTo>
                                  <a:pt x="65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Freeform 1455"/>
                          <p:cNvSpPr/>
                          <p:nvPr/>
                        </p:nvSpPr>
                        <p:spPr>
                          <a:xfrm>
                            <a:off x="6554880" y="1244520"/>
                            <a:ext cx="104760" cy="79560"/>
                          </a:xfrm>
                          <a:custGeom>
                            <a:avLst/>
                            <a:gdLst>
                              <a:gd name="textAreaLeft" fmla="*/ 0 w 104760"/>
                              <a:gd name="textAreaRight" fmla="*/ 105120 w 10476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66" h="50">
                                <a:moveTo>
                                  <a:pt x="65" y="0"/>
                                </a:moveTo>
                                <a:lnTo>
                                  <a:pt x="0" y="2"/>
                                </a:lnTo>
                                <a:lnTo>
                                  <a:pt x="0" y="49"/>
                                </a:lnTo>
                                <a:lnTo>
                                  <a:pt x="65" y="47"/>
                                </a:lnTo>
                                <a:lnTo>
                                  <a:pt x="65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1" name="Group 1456"/>
                        <p:cNvGrpSpPr/>
                        <p:nvPr/>
                      </p:nvGrpSpPr>
                      <p:grpSpPr>
                        <a:xfrm>
                          <a:off x="6553080" y="1160640"/>
                          <a:ext cx="978120" cy="74520"/>
                          <a:chOff x="6553080" y="1160640"/>
                          <a:chExt cx="978120" cy="74520"/>
                        </a:xfrm>
                      </p:grpSpPr>
                      <p:sp>
                        <p:nvSpPr>
                          <p:cNvPr id="532" name="Freeform 1457"/>
                          <p:cNvSpPr/>
                          <p:nvPr/>
                        </p:nvSpPr>
                        <p:spPr>
                          <a:xfrm>
                            <a:off x="6553080" y="1168560"/>
                            <a:ext cx="117720" cy="44280"/>
                          </a:xfrm>
                          <a:custGeom>
                            <a:avLst/>
                            <a:gdLst>
                              <a:gd name="textAreaLeft" fmla="*/ 0 w 117720"/>
                              <a:gd name="textAreaRight" fmla="*/ 118080 w 117720"/>
                              <a:gd name="textAreaTop" fmla="*/ 0 h 44280"/>
                              <a:gd name="textAreaBottom" fmla="*/ 44640 h 44280"/>
                            </a:gdLst>
                            <a:ahLst/>
                            <a:rect l="textAreaLeft" t="textAreaTop" r="textAreaRight" b="textAreaBottom"/>
                            <a:pathLst>
                              <a:path w="74" h="28">
                                <a:moveTo>
                                  <a:pt x="18" y="1"/>
                                </a:moveTo>
                                <a:lnTo>
                                  <a:pt x="73" y="0"/>
                                </a:lnTo>
                                <a:lnTo>
                                  <a:pt x="66" y="25"/>
                                </a:lnTo>
                                <a:lnTo>
                                  <a:pt x="0" y="27"/>
                                </a:lnTo>
                                <a:lnTo>
                                  <a:pt x="11" y="10"/>
                                </a:lnTo>
                                <a:lnTo>
                                  <a:pt x="12" y="10"/>
                                </a:lnTo>
                                <a:lnTo>
                                  <a:pt x="18" y="1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Freeform 1458"/>
                          <p:cNvSpPr/>
                          <p:nvPr/>
                        </p:nvSpPr>
                        <p:spPr>
                          <a:xfrm>
                            <a:off x="6659640" y="1160640"/>
                            <a:ext cx="871560" cy="74520"/>
                          </a:xfrm>
                          <a:custGeom>
                            <a:avLst/>
                            <a:gdLst>
                              <a:gd name="textAreaLeft" fmla="*/ 0 w 871560"/>
                              <a:gd name="textAreaRight" fmla="*/ 871920 w 871560"/>
                              <a:gd name="textAreaTop" fmla="*/ 0 h 74520"/>
                              <a:gd name="textAreaBottom" fmla="*/ 74880 h 74520"/>
                            </a:gdLst>
                            <a:ahLst/>
                            <a:rect l="textAreaLeft" t="textAreaTop" r="textAreaRight" b="textAreaBottom"/>
                            <a:pathLst>
                              <a:path w="549" h="47">
                                <a:moveTo>
                                  <a:pt x="6" y="5"/>
                                </a:moveTo>
                                <a:lnTo>
                                  <a:pt x="0" y="30"/>
                                </a:lnTo>
                                <a:lnTo>
                                  <a:pt x="122" y="28"/>
                                </a:lnTo>
                                <a:lnTo>
                                  <a:pt x="157" y="28"/>
                                </a:lnTo>
                                <a:lnTo>
                                  <a:pt x="197" y="29"/>
                                </a:lnTo>
                                <a:lnTo>
                                  <a:pt x="286" y="35"/>
                                </a:lnTo>
                                <a:lnTo>
                                  <a:pt x="548" y="46"/>
                                </a:lnTo>
                                <a:lnTo>
                                  <a:pt x="548" y="40"/>
                                </a:lnTo>
                                <a:lnTo>
                                  <a:pt x="271" y="11"/>
                                </a:lnTo>
                                <a:lnTo>
                                  <a:pt x="196" y="2"/>
                                </a:lnTo>
                                <a:lnTo>
                                  <a:pt x="157" y="0"/>
                                </a:lnTo>
                                <a:lnTo>
                                  <a:pt x="122" y="0"/>
                                </a:lnTo>
                                <a:lnTo>
                                  <a:pt x="6" y="5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4" name="Group 1459"/>
                        <p:cNvGrpSpPr/>
                        <p:nvPr/>
                      </p:nvGrpSpPr>
                      <p:grpSpPr>
                        <a:xfrm>
                          <a:off x="6595920" y="1266840"/>
                          <a:ext cx="154080" cy="57240"/>
                          <a:chOff x="6595920" y="1266840"/>
                          <a:chExt cx="154080" cy="57240"/>
                        </a:xfrm>
                      </p:grpSpPr>
                      <p:grpSp>
                        <p:nvGrpSpPr>
                          <p:cNvPr id="535" name="Group 1460"/>
                          <p:cNvGrpSpPr/>
                          <p:nvPr/>
                        </p:nvGrpSpPr>
                        <p:grpSpPr>
                          <a:xfrm>
                            <a:off x="6597720" y="1266840"/>
                            <a:ext cx="152280" cy="57240"/>
                            <a:chOff x="6597720" y="1266840"/>
                            <a:chExt cx="152280" cy="57240"/>
                          </a:xfrm>
                        </p:grpSpPr>
                        <p:sp>
                          <p:nvSpPr>
                            <p:cNvPr id="536" name="Line 1461"/>
                            <p:cNvSpPr/>
                            <p:nvPr/>
                          </p:nvSpPr>
                          <p:spPr>
                            <a:xfrm>
                              <a:off x="6748560" y="1266840"/>
                              <a:ext cx="1440" cy="522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7" name="Line 1462"/>
                            <p:cNvSpPr/>
                            <p:nvPr/>
                          </p:nvSpPr>
                          <p:spPr>
                            <a:xfrm>
                              <a:off x="6597720" y="1268280"/>
                              <a:ext cx="1440" cy="558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8" name="Group 1463"/>
                          <p:cNvGrpSpPr/>
                          <p:nvPr/>
                        </p:nvGrpSpPr>
                        <p:grpSpPr>
                          <a:xfrm>
                            <a:off x="6595920" y="1266840"/>
                            <a:ext cx="152640" cy="57240"/>
                            <a:chOff x="6595920" y="1266840"/>
                            <a:chExt cx="152640" cy="57240"/>
                          </a:xfrm>
                        </p:grpSpPr>
                        <p:sp>
                          <p:nvSpPr>
                            <p:cNvPr id="539" name="Line 1464"/>
                            <p:cNvSpPr/>
                            <p:nvPr/>
                          </p:nvSpPr>
                          <p:spPr>
                            <a:xfrm>
                              <a:off x="6746760" y="1266840"/>
                              <a:ext cx="1800" cy="522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0" name="Line 1465"/>
                            <p:cNvSpPr/>
                            <p:nvPr/>
                          </p:nvSpPr>
                          <p:spPr>
                            <a:xfrm>
                              <a:off x="6595920" y="1268280"/>
                              <a:ext cx="1800" cy="558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1" name="Group 1466"/>
                        <p:cNvGrpSpPr/>
                        <p:nvPr/>
                      </p:nvGrpSpPr>
                      <p:grpSpPr>
                        <a:xfrm>
                          <a:off x="6554880" y="1239840"/>
                          <a:ext cx="504720" cy="58680"/>
                          <a:chOff x="6554880" y="1239840"/>
                          <a:chExt cx="504720" cy="58680"/>
                        </a:xfrm>
                      </p:grpSpPr>
                      <p:sp>
                        <p:nvSpPr>
                          <p:cNvPr id="542" name="Freeform 1467"/>
                          <p:cNvSpPr/>
                          <p:nvPr/>
                        </p:nvSpPr>
                        <p:spPr>
                          <a:xfrm>
                            <a:off x="6554880" y="1249200"/>
                            <a:ext cx="503280" cy="19080"/>
                          </a:xfrm>
                          <a:custGeom>
                            <a:avLst/>
                            <a:gdLst>
                              <a:gd name="textAreaLeft" fmla="*/ 0 w 503280"/>
                              <a:gd name="textAreaRight" fmla="*/ 503640 w 503280"/>
                              <a:gd name="textAreaTop" fmla="*/ 0 h 19080"/>
                              <a:gd name="textAreaBottom" fmla="*/ 19440 h 19080"/>
                            </a:gdLst>
                            <a:ahLst/>
                            <a:rect l="textAreaLeft" t="textAreaTop" r="textAreaRight" b="textAreaBottom"/>
                            <a:pathLst>
                              <a:path w="317" h="12">
                                <a:moveTo>
                                  <a:pt x="315" y="1"/>
                                </a:moveTo>
                                <a:lnTo>
                                  <a:pt x="295" y="0"/>
                                </a:lnTo>
                                <a:lnTo>
                                  <a:pt x="183" y="2"/>
                                </a:lnTo>
                                <a:lnTo>
                                  <a:pt x="65" y="4"/>
                                </a:lnTo>
                                <a:lnTo>
                                  <a:pt x="0" y="5"/>
                                </a:lnTo>
                                <a:lnTo>
                                  <a:pt x="0" y="11"/>
                                </a:lnTo>
                                <a:lnTo>
                                  <a:pt x="65" y="10"/>
                                </a:lnTo>
                                <a:lnTo>
                                  <a:pt x="183" y="8"/>
                                </a:lnTo>
                                <a:lnTo>
                                  <a:pt x="295" y="5"/>
                                </a:lnTo>
                                <a:lnTo>
                                  <a:pt x="316" y="5"/>
                                </a:lnTo>
                                <a:lnTo>
                                  <a:pt x="315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360" bIns="-27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Freeform 1468"/>
                          <p:cNvSpPr/>
                          <p:nvPr/>
                        </p:nvSpPr>
                        <p:spPr>
                          <a:xfrm>
                            <a:off x="7053120" y="1239840"/>
                            <a:ext cx="6480" cy="55440"/>
                          </a:xfrm>
                          <a:custGeom>
                            <a:avLst/>
                            <a:gdLst>
                              <a:gd name="textAreaLeft" fmla="*/ 0 w 6480"/>
                              <a:gd name="textAreaRight" fmla="*/ 6840 w 6480"/>
                              <a:gd name="textAreaTop" fmla="*/ 0 h 55440"/>
                              <a:gd name="textAreaBottom" fmla="*/ 55800 h 55440"/>
                            </a:gdLst>
                            <a:ahLst/>
                            <a:rect l="textAreaLeft" t="textAreaTop" r="textAreaRight" b="textAreaBottom"/>
                            <a:pathLst>
                              <a:path w="4" h="35">
                                <a:moveTo>
                                  <a:pt x="0" y="0"/>
                                </a:moveTo>
                                <a:lnTo>
                                  <a:pt x="3" y="11"/>
                                </a:lnTo>
                                <a:lnTo>
                                  <a:pt x="3" y="3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000" bIns="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Freeform 1469"/>
                          <p:cNvSpPr/>
                          <p:nvPr/>
                        </p:nvSpPr>
                        <p:spPr>
                          <a:xfrm>
                            <a:off x="7026120" y="1239840"/>
                            <a:ext cx="3240" cy="5868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58680"/>
                              <a:gd name="textAreaBottom" fmla="*/ 59040 h 58680"/>
                            </a:gdLst>
                            <a:ahLst/>
                            <a:rect l="textAreaLeft" t="textAreaTop" r="textAreaRight" b="textAreaBottom"/>
                            <a:pathLst>
                              <a:path w="2" h="37">
                                <a:moveTo>
                                  <a:pt x="0" y="0"/>
                                </a:moveTo>
                                <a:lnTo>
                                  <a:pt x="1" y="6"/>
                                </a:lnTo>
                                <a:lnTo>
                                  <a:pt x="1" y="3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45" name="Group 1470"/>
                    <p:cNvGrpSpPr/>
                    <p:nvPr/>
                  </p:nvGrpSpPr>
                  <p:grpSpPr>
                    <a:xfrm>
                      <a:off x="6622920" y="944640"/>
                      <a:ext cx="644760" cy="152280"/>
                      <a:chOff x="6622920" y="944640"/>
                      <a:chExt cx="644760" cy="152280"/>
                    </a:xfrm>
                  </p:grpSpPr>
                  <p:grpSp>
                    <p:nvGrpSpPr>
                      <p:cNvPr id="546" name="Group 1471"/>
                      <p:cNvGrpSpPr/>
                      <p:nvPr/>
                    </p:nvGrpSpPr>
                    <p:grpSpPr>
                      <a:xfrm>
                        <a:off x="6622920" y="988920"/>
                        <a:ext cx="433440" cy="108000"/>
                        <a:chOff x="6622920" y="988920"/>
                        <a:chExt cx="433440" cy="108000"/>
                      </a:xfrm>
                    </p:grpSpPr>
                    <p:grpSp>
                      <p:nvGrpSpPr>
                        <p:cNvPr id="547" name="Group 1472"/>
                        <p:cNvGrpSpPr/>
                        <p:nvPr/>
                      </p:nvGrpSpPr>
                      <p:grpSpPr>
                        <a:xfrm>
                          <a:off x="6622920" y="988920"/>
                          <a:ext cx="430200" cy="103320"/>
                          <a:chOff x="6622920" y="988920"/>
                          <a:chExt cx="430200" cy="103320"/>
                        </a:xfrm>
                      </p:grpSpPr>
                      <p:sp>
                        <p:nvSpPr>
                          <p:cNvPr id="548" name="Freeform 1473"/>
                          <p:cNvSpPr/>
                          <p:nvPr/>
                        </p:nvSpPr>
                        <p:spPr>
                          <a:xfrm>
                            <a:off x="6622920" y="988920"/>
                            <a:ext cx="430200" cy="103320"/>
                          </a:xfrm>
                          <a:custGeom>
                            <a:avLst/>
                            <a:gdLst>
                              <a:gd name="textAreaLeft" fmla="*/ 0 w 430200"/>
                              <a:gd name="textAreaRight" fmla="*/ 430560 w 430200"/>
                              <a:gd name="textAreaTop" fmla="*/ 0 h 103320"/>
                              <a:gd name="textAreaBottom" fmla="*/ 103680 h 103320"/>
                            </a:gdLst>
                            <a:ahLst/>
                            <a:rect l="textAreaLeft" t="textAreaTop" r="textAreaRight" b="textAreaBottom"/>
                            <a:pathLst>
                              <a:path w="271" h="65">
                                <a:moveTo>
                                  <a:pt x="270" y="16"/>
                                </a:moveTo>
                                <a:lnTo>
                                  <a:pt x="270" y="25"/>
                                </a:lnTo>
                                <a:lnTo>
                                  <a:pt x="245" y="17"/>
                                </a:lnTo>
                                <a:lnTo>
                                  <a:pt x="220" y="10"/>
                                </a:lnTo>
                                <a:lnTo>
                                  <a:pt x="193" y="8"/>
                                </a:lnTo>
                                <a:lnTo>
                                  <a:pt x="146" y="8"/>
                                </a:lnTo>
                                <a:lnTo>
                                  <a:pt x="102" y="9"/>
                                </a:lnTo>
                                <a:lnTo>
                                  <a:pt x="51" y="20"/>
                                </a:lnTo>
                                <a:lnTo>
                                  <a:pt x="38" y="24"/>
                                </a:lnTo>
                                <a:lnTo>
                                  <a:pt x="5" y="64"/>
                                </a:lnTo>
                                <a:lnTo>
                                  <a:pt x="0" y="64"/>
                                </a:lnTo>
                                <a:lnTo>
                                  <a:pt x="38" y="17"/>
                                </a:lnTo>
                                <a:lnTo>
                                  <a:pt x="51" y="12"/>
                                </a:lnTo>
                                <a:lnTo>
                                  <a:pt x="102" y="1"/>
                                </a:lnTo>
                                <a:lnTo>
                                  <a:pt x="146" y="0"/>
                                </a:lnTo>
                                <a:lnTo>
                                  <a:pt x="193" y="0"/>
                                </a:lnTo>
                                <a:lnTo>
                                  <a:pt x="222" y="2"/>
                                </a:lnTo>
                                <a:lnTo>
                                  <a:pt x="249" y="9"/>
                                </a:lnTo>
                                <a:lnTo>
                                  <a:pt x="270" y="16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49" name="Group 1474"/>
                          <p:cNvGrpSpPr/>
                          <p:nvPr/>
                        </p:nvGrpSpPr>
                        <p:grpSpPr>
                          <a:xfrm>
                            <a:off x="6737400" y="992160"/>
                            <a:ext cx="222120" cy="87480"/>
                            <a:chOff x="6737400" y="992160"/>
                            <a:chExt cx="222120" cy="87480"/>
                          </a:xfrm>
                        </p:grpSpPr>
                        <p:grpSp>
                          <p:nvGrpSpPr>
                            <p:cNvPr id="550" name="Group 1475"/>
                            <p:cNvGrpSpPr/>
                            <p:nvPr/>
                          </p:nvGrpSpPr>
                          <p:grpSpPr>
                            <a:xfrm>
                              <a:off x="6737400" y="992160"/>
                              <a:ext cx="66600" cy="84240"/>
                              <a:chOff x="6737400" y="992160"/>
                              <a:chExt cx="66600" cy="84240"/>
                            </a:xfrm>
                          </p:grpSpPr>
                          <p:sp>
                            <p:nvSpPr>
                              <p:cNvPr id="551" name="Freeform 1476"/>
                              <p:cNvSpPr/>
                              <p:nvPr/>
                            </p:nvSpPr>
                            <p:spPr>
                              <a:xfrm>
                                <a:off x="6737400" y="992160"/>
                                <a:ext cx="66600" cy="84240"/>
                              </a:xfrm>
                              <a:custGeom>
                                <a:avLst/>
                                <a:gdLst>
                                  <a:gd name="textAreaLeft" fmla="*/ 0 w 66600"/>
                                  <a:gd name="textAreaRight" fmla="*/ 66960 w 66600"/>
                                  <a:gd name="textAreaTop" fmla="*/ 0 h 84240"/>
                                  <a:gd name="textAreaBottom" fmla="*/ 84240 h 84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" h="53">
                                    <a:moveTo>
                                      <a:pt x="34" y="0"/>
                                    </a:moveTo>
                                    <a:lnTo>
                                      <a:pt x="0" y="52"/>
                                    </a:lnTo>
                                    <a:lnTo>
                                      <a:pt x="7" y="5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7440" bIns="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477"/>
                              <p:cNvSpPr/>
                              <p:nvPr/>
                            </p:nvSpPr>
                            <p:spPr>
                              <a:xfrm>
                                <a:off x="6746760" y="992160"/>
                                <a:ext cx="57240" cy="84240"/>
                              </a:xfrm>
                              <a:custGeom>
                                <a:avLst/>
                                <a:gdLst>
                                  <a:gd name="textAreaLeft" fmla="*/ 0 w 57240"/>
                                  <a:gd name="textAreaRight" fmla="*/ 57600 w 57240"/>
                                  <a:gd name="textAreaTop" fmla="*/ 0 h 84240"/>
                                  <a:gd name="textAreaBottom" fmla="*/ 84240 h 84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6" h="53">
                                    <a:moveTo>
                                      <a:pt x="35" y="0"/>
                                    </a:moveTo>
                                    <a:lnTo>
                                      <a:pt x="0" y="52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33" y="7"/>
                                    </a:lnTo>
                                    <a:lnTo>
                                      <a:pt x="3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7440" bIns="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3" name="Group 1478"/>
                            <p:cNvGrpSpPr/>
                            <p:nvPr/>
                          </p:nvGrpSpPr>
                          <p:grpSpPr>
                            <a:xfrm>
                              <a:off x="6892920" y="993600"/>
                              <a:ext cx="66600" cy="86040"/>
                              <a:chOff x="6892920" y="993600"/>
                              <a:chExt cx="66600" cy="86040"/>
                            </a:xfrm>
                          </p:grpSpPr>
                          <p:sp>
                            <p:nvSpPr>
                              <p:cNvPr id="554" name="Freeform 1479"/>
                              <p:cNvSpPr/>
                              <p:nvPr/>
                            </p:nvSpPr>
                            <p:spPr>
                              <a:xfrm>
                                <a:off x="6892920" y="993600"/>
                                <a:ext cx="66600" cy="86040"/>
                              </a:xfrm>
                              <a:custGeom>
                                <a:avLst/>
                                <a:gdLst>
                                  <a:gd name="textAreaLeft" fmla="*/ 0 w 66600"/>
                                  <a:gd name="textAreaRight" fmla="*/ 66960 w 66600"/>
                                  <a:gd name="textAreaTop" fmla="*/ 0 h 86040"/>
                                  <a:gd name="textAreaBottom" fmla="*/ 86400 h 8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" h="54">
                                    <a:moveTo>
                                      <a:pt x="34" y="0"/>
                                    </a:moveTo>
                                    <a:lnTo>
                                      <a:pt x="0" y="53"/>
                                    </a:lnTo>
                                    <a:lnTo>
                                      <a:pt x="7" y="53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0" bIns="39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480"/>
                              <p:cNvSpPr/>
                              <p:nvPr/>
                            </p:nvSpPr>
                            <p:spPr>
                              <a:xfrm>
                                <a:off x="6904080" y="993600"/>
                                <a:ext cx="55440" cy="86040"/>
                              </a:xfrm>
                              <a:custGeom>
                                <a:avLst/>
                                <a:gdLst>
                                  <a:gd name="textAreaLeft" fmla="*/ 0 w 55440"/>
                                  <a:gd name="textAreaRight" fmla="*/ 55800 w 55440"/>
                                  <a:gd name="textAreaTop" fmla="*/ 0 h 86040"/>
                                  <a:gd name="textAreaBottom" fmla="*/ 86400 h 8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" h="54">
                                    <a:moveTo>
                                      <a:pt x="34" y="0"/>
                                    </a:moveTo>
                                    <a:lnTo>
                                      <a:pt x="0" y="53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32" y="7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0" bIns="39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556" name="Freeform 1481"/>
                        <p:cNvSpPr/>
                        <p:nvPr/>
                      </p:nvSpPr>
                      <p:spPr>
                        <a:xfrm>
                          <a:off x="6622920" y="988920"/>
                          <a:ext cx="433440" cy="108000"/>
                        </a:xfrm>
                        <a:custGeom>
                          <a:avLst/>
                          <a:gdLst>
                            <a:gd name="textAreaLeft" fmla="*/ 0 w 433440"/>
                            <a:gd name="textAreaRight" fmla="*/ 433800 w 433440"/>
                            <a:gd name="textAreaTop" fmla="*/ 0 h 108000"/>
                            <a:gd name="textAreaBottom" fmla="*/ 108360 h 108000"/>
                          </a:gdLst>
                          <a:ahLst/>
                          <a:rect l="textAreaLeft" t="textAreaTop" r="textAreaRight" b="textAreaBottom"/>
                          <a:pathLst>
                            <a:path w="273" h="68">
                              <a:moveTo>
                                <a:pt x="39" y="17"/>
                              </a:moveTo>
                              <a:lnTo>
                                <a:pt x="51" y="12"/>
                              </a:lnTo>
                              <a:lnTo>
                                <a:pt x="103" y="1"/>
                              </a:lnTo>
                              <a:lnTo>
                                <a:pt x="146" y="0"/>
                              </a:lnTo>
                              <a:lnTo>
                                <a:pt x="191" y="0"/>
                              </a:lnTo>
                              <a:lnTo>
                                <a:pt x="223" y="2"/>
                              </a:lnTo>
                              <a:lnTo>
                                <a:pt x="249" y="9"/>
                              </a:lnTo>
                              <a:lnTo>
                                <a:pt x="271" y="16"/>
                              </a:lnTo>
                              <a:lnTo>
                                <a:pt x="271" y="31"/>
                              </a:lnTo>
                              <a:lnTo>
                                <a:pt x="272" y="33"/>
                              </a:lnTo>
                              <a:lnTo>
                                <a:pt x="272" y="67"/>
                              </a:lnTo>
                              <a:lnTo>
                                <a:pt x="225" y="60"/>
                              </a:lnTo>
                              <a:lnTo>
                                <a:pt x="174" y="56"/>
                              </a:lnTo>
                              <a:lnTo>
                                <a:pt x="73" y="56"/>
                              </a:lnTo>
                              <a:lnTo>
                                <a:pt x="0" y="66"/>
                              </a:lnTo>
                              <a:lnTo>
                                <a:pt x="18" y="44"/>
                              </a:lnTo>
                              <a:lnTo>
                                <a:pt x="37" y="19"/>
                              </a:lnTo>
                              <a:lnTo>
                                <a:pt x="38" y="18"/>
                              </a:lnTo>
                              <a:lnTo>
                                <a:pt x="39" y="1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7" name="Group 1482"/>
                      <p:cNvGrpSpPr/>
                      <p:nvPr/>
                    </p:nvGrpSpPr>
                    <p:grpSpPr>
                      <a:xfrm>
                        <a:off x="6742080" y="944640"/>
                        <a:ext cx="525600" cy="142920"/>
                        <a:chOff x="6742080" y="944640"/>
                        <a:chExt cx="525600" cy="142920"/>
                      </a:xfrm>
                    </p:grpSpPr>
                    <p:sp>
                      <p:nvSpPr>
                        <p:cNvPr id="558" name="Freeform 1483"/>
                        <p:cNvSpPr/>
                        <p:nvPr/>
                      </p:nvSpPr>
                      <p:spPr>
                        <a:xfrm>
                          <a:off x="6742080" y="944640"/>
                          <a:ext cx="306360" cy="41040"/>
                        </a:xfrm>
                        <a:custGeom>
                          <a:avLst/>
                          <a:gdLst>
                            <a:gd name="textAreaLeft" fmla="*/ 0 w 306360"/>
                            <a:gd name="textAreaRight" fmla="*/ 306360 w 306360"/>
                            <a:gd name="textAreaTop" fmla="*/ 0 h 41040"/>
                            <a:gd name="textAreaBottom" fmla="*/ 41400 h 41040"/>
                          </a:gdLst>
                          <a:ahLst/>
                          <a:rect l="textAreaLeft" t="textAreaTop" r="textAreaRight" b="textAreaBottom"/>
                          <a:pathLst>
                            <a:path w="193" h="26">
                              <a:moveTo>
                                <a:pt x="192" y="25"/>
                              </a:moveTo>
                              <a:lnTo>
                                <a:pt x="190" y="21"/>
                              </a:lnTo>
                              <a:lnTo>
                                <a:pt x="188" y="18"/>
                              </a:lnTo>
                              <a:lnTo>
                                <a:pt x="186" y="15"/>
                              </a:lnTo>
                              <a:lnTo>
                                <a:pt x="184" y="14"/>
                              </a:lnTo>
                              <a:lnTo>
                                <a:pt x="158" y="7"/>
                              </a:lnTo>
                              <a:lnTo>
                                <a:pt x="112" y="1"/>
                              </a:lnTo>
                              <a:lnTo>
                                <a:pt x="85" y="0"/>
                              </a:lnTo>
                              <a:lnTo>
                                <a:pt x="55" y="1"/>
                              </a:lnTo>
                              <a:lnTo>
                                <a:pt x="22" y="8"/>
                              </a:lnTo>
                              <a:lnTo>
                                <a:pt x="11" y="12"/>
                              </a:lnTo>
                              <a:lnTo>
                                <a:pt x="1" y="17"/>
                              </a:lnTo>
                              <a:lnTo>
                                <a:pt x="0" y="22"/>
                              </a:lnTo>
                              <a:lnTo>
                                <a:pt x="12" y="17"/>
                              </a:lnTo>
                              <a:lnTo>
                                <a:pt x="23" y="13"/>
                              </a:lnTo>
                              <a:lnTo>
                                <a:pt x="55" y="6"/>
                              </a:lnTo>
                              <a:lnTo>
                                <a:pt x="112" y="6"/>
                              </a:lnTo>
                              <a:lnTo>
                                <a:pt x="157" y="10"/>
                              </a:lnTo>
                              <a:lnTo>
                                <a:pt x="183" y="18"/>
                              </a:lnTo>
                              <a:lnTo>
                                <a:pt x="187" y="20"/>
                              </a:lnTo>
                              <a:lnTo>
                                <a:pt x="192" y="25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1484"/>
                        <p:cNvSpPr/>
                        <p:nvPr/>
                      </p:nvSpPr>
                      <p:spPr>
                        <a:xfrm>
                          <a:off x="7056360" y="1019160"/>
                          <a:ext cx="211320" cy="68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60" name="Group 1485"/>
                <p:cNvGrpSpPr/>
                <p:nvPr/>
              </p:nvGrpSpPr>
              <p:grpSpPr>
                <a:xfrm>
                  <a:off x="6556320" y="971640"/>
                  <a:ext cx="701640" cy="323640"/>
                  <a:chOff x="6556320" y="971640"/>
                  <a:chExt cx="701640" cy="323640"/>
                </a:xfrm>
              </p:grpSpPr>
              <p:grpSp>
                <p:nvGrpSpPr>
                  <p:cNvPr id="561" name="Group 1486"/>
                  <p:cNvGrpSpPr/>
                  <p:nvPr/>
                </p:nvGrpSpPr>
                <p:grpSpPr>
                  <a:xfrm>
                    <a:off x="6556320" y="971640"/>
                    <a:ext cx="701640" cy="323640"/>
                    <a:chOff x="6556320" y="971640"/>
                    <a:chExt cx="701640" cy="323640"/>
                  </a:xfrm>
                </p:grpSpPr>
                <p:grpSp>
                  <p:nvGrpSpPr>
                    <p:cNvPr id="562" name="Group 1487"/>
                    <p:cNvGrpSpPr/>
                    <p:nvPr/>
                  </p:nvGrpSpPr>
                  <p:grpSpPr>
                    <a:xfrm>
                      <a:off x="6556320" y="971640"/>
                      <a:ext cx="460440" cy="272880"/>
                      <a:chOff x="6556320" y="971640"/>
                      <a:chExt cx="460440" cy="272880"/>
                    </a:xfrm>
                  </p:grpSpPr>
                  <p:grpSp>
                    <p:nvGrpSpPr>
                      <p:cNvPr id="563" name="Group 1488"/>
                      <p:cNvGrpSpPr/>
                      <p:nvPr/>
                    </p:nvGrpSpPr>
                    <p:grpSpPr>
                      <a:xfrm>
                        <a:off x="6556320" y="971640"/>
                        <a:ext cx="409680" cy="272880"/>
                        <a:chOff x="6556320" y="971640"/>
                        <a:chExt cx="409680" cy="272880"/>
                      </a:xfrm>
                    </p:grpSpPr>
                    <p:grpSp>
                      <p:nvGrpSpPr>
                        <p:cNvPr id="564" name="Group 1489"/>
                        <p:cNvGrpSpPr/>
                        <p:nvPr/>
                      </p:nvGrpSpPr>
                      <p:grpSpPr>
                        <a:xfrm>
                          <a:off x="6680160" y="1128600"/>
                          <a:ext cx="20520" cy="17640"/>
                          <a:chOff x="6680160" y="1128600"/>
                          <a:chExt cx="20520" cy="17640"/>
                        </a:xfrm>
                      </p:grpSpPr>
                      <p:sp>
                        <p:nvSpPr>
                          <p:cNvPr id="565" name="Oval 1490"/>
                          <p:cNvSpPr/>
                          <p:nvPr/>
                        </p:nvSpPr>
                        <p:spPr>
                          <a:xfrm>
                            <a:off x="6683400" y="1130400"/>
                            <a:ext cx="17280" cy="158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280" bIns="-352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6" name="Oval 1491"/>
                          <p:cNvSpPr/>
                          <p:nvPr/>
                        </p:nvSpPr>
                        <p:spPr>
                          <a:xfrm>
                            <a:off x="6680160" y="1128600"/>
                            <a:ext cx="17640" cy="1440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720" bIns="-367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7" name="Oval 1492"/>
                          <p:cNvSpPr/>
                          <p:nvPr/>
                        </p:nvSpPr>
                        <p:spPr>
                          <a:xfrm>
                            <a:off x="6681960" y="1130400"/>
                            <a:ext cx="17280" cy="1404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360" bIns="-363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8" name="Group 1493"/>
                        <p:cNvGrpSpPr/>
                        <p:nvPr/>
                      </p:nvGrpSpPr>
                      <p:grpSpPr>
                        <a:xfrm>
                          <a:off x="6556320" y="1219320"/>
                          <a:ext cx="14400" cy="25200"/>
                          <a:chOff x="6556320" y="1219320"/>
                          <a:chExt cx="14400" cy="25200"/>
                        </a:xfrm>
                      </p:grpSpPr>
                      <p:sp>
                        <p:nvSpPr>
                          <p:cNvPr id="569" name="Oval 1494"/>
                          <p:cNvSpPr/>
                          <p:nvPr/>
                        </p:nvSpPr>
                        <p:spPr>
                          <a:xfrm>
                            <a:off x="6556320" y="1219320"/>
                            <a:ext cx="12600" cy="219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1320" bIns="-31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0" name="Oval 1495"/>
                          <p:cNvSpPr/>
                          <p:nvPr/>
                        </p:nvSpPr>
                        <p:spPr>
                          <a:xfrm>
                            <a:off x="6556320" y="1220760"/>
                            <a:ext cx="12600" cy="237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1" name="Oval 1496"/>
                          <p:cNvSpPr/>
                          <p:nvPr/>
                        </p:nvSpPr>
                        <p:spPr>
                          <a:xfrm>
                            <a:off x="6558120" y="1219320"/>
                            <a:ext cx="12600" cy="2376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2" name="Oval 1497"/>
                          <p:cNvSpPr/>
                          <p:nvPr/>
                        </p:nvSpPr>
                        <p:spPr>
                          <a:xfrm>
                            <a:off x="6566040" y="1227240"/>
                            <a:ext cx="4680" cy="61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2120" bIns="-42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3" name="Group 1498"/>
                        <p:cNvGrpSpPr/>
                        <p:nvPr/>
                      </p:nvGrpSpPr>
                      <p:grpSpPr>
                        <a:xfrm>
                          <a:off x="6813720" y="1211400"/>
                          <a:ext cx="14040" cy="25200"/>
                          <a:chOff x="6813720" y="1211400"/>
                          <a:chExt cx="14040" cy="25200"/>
                        </a:xfrm>
                      </p:grpSpPr>
                      <p:sp>
                        <p:nvSpPr>
                          <p:cNvPr id="574" name="Oval 1499"/>
                          <p:cNvSpPr/>
                          <p:nvPr/>
                        </p:nvSpPr>
                        <p:spPr>
                          <a:xfrm>
                            <a:off x="6813720" y="1211400"/>
                            <a:ext cx="14040" cy="237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5" name="Oval 1500"/>
                          <p:cNvSpPr/>
                          <p:nvPr/>
                        </p:nvSpPr>
                        <p:spPr>
                          <a:xfrm>
                            <a:off x="6813720" y="1214280"/>
                            <a:ext cx="14040" cy="2232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0960" bIns="-309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Oval 1501"/>
                          <p:cNvSpPr/>
                          <p:nvPr/>
                        </p:nvSpPr>
                        <p:spPr>
                          <a:xfrm>
                            <a:off x="6815160" y="1212840"/>
                            <a:ext cx="12600" cy="2232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0960" bIns="-309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7" name="Oval 1502"/>
                          <p:cNvSpPr/>
                          <p:nvPr/>
                        </p:nvSpPr>
                        <p:spPr>
                          <a:xfrm>
                            <a:off x="6824520" y="1219320"/>
                            <a:ext cx="3240" cy="61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2120" bIns="-42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8" name="Group 1503"/>
                        <p:cNvGrpSpPr/>
                        <p:nvPr/>
                      </p:nvGrpSpPr>
                      <p:grpSpPr>
                        <a:xfrm>
                          <a:off x="6927840" y="971640"/>
                          <a:ext cx="38160" cy="11160"/>
                          <a:chOff x="6927840" y="971640"/>
                          <a:chExt cx="38160" cy="11160"/>
                        </a:xfrm>
                      </p:grpSpPr>
                      <p:sp>
                        <p:nvSpPr>
                          <p:cNvPr id="579" name="Freeform 1504"/>
                          <p:cNvSpPr/>
                          <p:nvPr/>
                        </p:nvSpPr>
                        <p:spPr>
                          <a:xfrm>
                            <a:off x="6932520" y="971640"/>
                            <a:ext cx="33480" cy="11160"/>
                          </a:xfrm>
                          <a:custGeom>
                            <a:avLst/>
                            <a:gdLst>
                              <a:gd name="textAreaLeft" fmla="*/ 0 w 33480"/>
                              <a:gd name="textAreaRight" fmla="*/ 33840 w 334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1" h="7">
                                <a:moveTo>
                                  <a:pt x="20" y="1"/>
                                </a:moveTo>
                                <a:lnTo>
                                  <a:pt x="14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20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0" name="Freeform 1505"/>
                          <p:cNvSpPr/>
                          <p:nvPr/>
                        </p:nvSpPr>
                        <p:spPr>
                          <a:xfrm>
                            <a:off x="6927840" y="971640"/>
                            <a:ext cx="31680" cy="11160"/>
                          </a:xfrm>
                          <a:custGeom>
                            <a:avLst/>
                            <a:gdLst>
                              <a:gd name="textAreaLeft" fmla="*/ 0 w 31680"/>
                              <a:gd name="textAreaRight" fmla="*/ 32040 w 316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0" h="7">
                                <a:moveTo>
                                  <a:pt x="19" y="1"/>
                                </a:moveTo>
                                <a:lnTo>
                                  <a:pt x="13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19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1" name="Freeform 1506"/>
                          <p:cNvSpPr/>
                          <p:nvPr/>
                        </p:nvSpPr>
                        <p:spPr>
                          <a:xfrm>
                            <a:off x="6931080" y="971640"/>
                            <a:ext cx="31680" cy="11160"/>
                          </a:xfrm>
                          <a:custGeom>
                            <a:avLst/>
                            <a:gdLst>
                              <a:gd name="textAreaLeft" fmla="*/ 0 w 31680"/>
                              <a:gd name="textAreaRight" fmla="*/ 32040 w 316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0" h="7">
                                <a:moveTo>
                                  <a:pt x="19" y="1"/>
                                </a:moveTo>
                                <a:lnTo>
                                  <a:pt x="13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19" y="1"/>
                                </a:lnTo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2" name="Group 1507"/>
                      <p:cNvGrpSpPr/>
                      <p:nvPr/>
                    </p:nvGrpSpPr>
                    <p:grpSpPr>
                      <a:xfrm>
                        <a:off x="6691320" y="1015920"/>
                        <a:ext cx="325440" cy="119160"/>
                        <a:chOff x="6691320" y="1015920"/>
                        <a:chExt cx="325440" cy="119160"/>
                      </a:xfrm>
                    </p:grpSpPr>
                    <p:grpSp>
                      <p:nvGrpSpPr>
                        <p:cNvPr id="583" name="Group 1508"/>
                        <p:cNvGrpSpPr/>
                        <p:nvPr/>
                      </p:nvGrpSpPr>
                      <p:grpSpPr>
                        <a:xfrm>
                          <a:off x="6691320" y="1015920"/>
                          <a:ext cx="115920" cy="74520"/>
                          <a:chOff x="6691320" y="1015920"/>
                          <a:chExt cx="115920" cy="74520"/>
                        </a:xfrm>
                      </p:grpSpPr>
                      <p:grpSp>
                        <p:nvGrpSpPr>
                          <p:cNvPr id="584" name="Group 1509"/>
                          <p:cNvGrpSpPr/>
                          <p:nvPr/>
                        </p:nvGrpSpPr>
                        <p:grpSpPr>
                          <a:xfrm>
                            <a:off x="6691320" y="1015920"/>
                            <a:ext cx="82440" cy="74520"/>
                            <a:chOff x="6691320" y="1015920"/>
                            <a:chExt cx="82440" cy="74520"/>
                          </a:xfrm>
                        </p:grpSpPr>
                        <p:grpSp>
                          <p:nvGrpSpPr>
                            <p:cNvPr id="585" name="Group 1510"/>
                            <p:cNvGrpSpPr/>
                            <p:nvPr/>
                          </p:nvGrpSpPr>
                          <p:grpSpPr>
                            <a:xfrm>
                              <a:off x="6692760" y="1015920"/>
                              <a:ext cx="81000" cy="74520"/>
                              <a:chOff x="6692760" y="1015920"/>
                              <a:chExt cx="81000" cy="74520"/>
                            </a:xfrm>
                          </p:grpSpPr>
                          <p:sp>
                            <p:nvSpPr>
                              <p:cNvPr id="586" name="Freeform 1511"/>
                              <p:cNvSpPr/>
                              <p:nvPr/>
                            </p:nvSpPr>
                            <p:spPr>
                              <a:xfrm>
                                <a:off x="6694560" y="1017720"/>
                                <a:ext cx="79200" cy="7128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71280"/>
                                  <a:gd name="textAreaBottom" fmla="*/ 71640 h 71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45">
                                    <a:moveTo>
                                      <a:pt x="0" y="44"/>
                                    </a:moveTo>
                                    <a:lnTo>
                                      <a:pt x="0" y="43"/>
                                    </a:lnTo>
                                    <a:lnTo>
                                      <a:pt x="11" y="30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8" y="0"/>
                                    </a:lnTo>
                                    <a:lnTo>
                                      <a:pt x="49" y="0"/>
                                    </a:lnTo>
                                    <a:lnTo>
                                      <a:pt x="34" y="23"/>
                                    </a:lnTo>
                                    <a:lnTo>
                                      <a:pt x="38" y="12"/>
                                    </a:lnTo>
                                    <a:lnTo>
                                      <a:pt x="11" y="31"/>
                                    </a:lnTo>
                                    <a:lnTo>
                                      <a:pt x="0" y="44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840" bIns="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Freeform 1512"/>
                              <p:cNvSpPr/>
                              <p:nvPr/>
                            </p:nvSpPr>
                            <p:spPr>
                              <a:xfrm>
                                <a:off x="6692760" y="1015920"/>
                                <a:ext cx="81000" cy="7452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74520"/>
                                  <a:gd name="textAreaBottom" fmla="*/ 74880 h 74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47">
                                    <a:moveTo>
                                      <a:pt x="0" y="46"/>
                                    </a:moveTo>
                                    <a:lnTo>
                                      <a:pt x="1" y="44"/>
                                    </a:lnTo>
                                    <a:lnTo>
                                      <a:pt x="11" y="29"/>
                                    </a:lnTo>
                                    <a:lnTo>
                                      <a:pt x="41" y="9"/>
                                    </a:lnTo>
                                    <a:lnTo>
                                      <a:pt x="50" y="0"/>
                                    </a:lnTo>
                                    <a:lnTo>
                                      <a:pt x="35" y="23"/>
                                    </a:lnTo>
                                    <a:lnTo>
                                      <a:pt x="39" y="12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0" y="46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080" bIns="280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8" name="Group 1513"/>
                            <p:cNvGrpSpPr/>
                            <p:nvPr/>
                          </p:nvGrpSpPr>
                          <p:grpSpPr>
                            <a:xfrm>
                              <a:off x="6691320" y="1085760"/>
                              <a:ext cx="4680" cy="4680"/>
                              <a:chOff x="6691320" y="1085760"/>
                              <a:chExt cx="4680" cy="4680"/>
                            </a:xfrm>
                          </p:grpSpPr>
                          <p:grpSp>
                            <p:nvGrpSpPr>
                              <p:cNvPr id="589" name="Group 1514"/>
                              <p:cNvGrpSpPr/>
                              <p:nvPr/>
                            </p:nvGrpSpPr>
                            <p:grpSpPr>
                              <a:xfrm>
                                <a:off x="6692760" y="1085760"/>
                                <a:ext cx="3240" cy="3240"/>
                                <a:chOff x="6692760" y="1085760"/>
                                <a:chExt cx="3240" cy="3240"/>
                              </a:xfrm>
                            </p:grpSpPr>
                            <p:sp>
                              <p:nvSpPr>
                                <p:cNvPr id="590" name="Oval 1515"/>
                                <p:cNvSpPr/>
                                <p:nvPr/>
                              </p:nvSpPr>
                              <p:spPr>
                                <a:xfrm>
                                  <a:off x="6692760" y="1085760"/>
                                  <a:ext cx="324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280" bIns="-442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1" name="Oval 1516"/>
                                <p:cNvSpPr/>
                                <p:nvPr/>
                              </p:nvSpPr>
                              <p:spPr>
                                <a:xfrm>
                                  <a:off x="6692760" y="1085760"/>
                                  <a:ext cx="324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280" bIns="-442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92" name="Group 1517"/>
                              <p:cNvGrpSpPr/>
                              <p:nvPr/>
                            </p:nvGrpSpPr>
                            <p:grpSpPr>
                              <a:xfrm>
                                <a:off x="6691320" y="1087560"/>
                                <a:ext cx="3240" cy="2880"/>
                                <a:chOff x="6691320" y="1087560"/>
                                <a:chExt cx="3240" cy="2880"/>
                              </a:xfrm>
                            </p:grpSpPr>
                            <p:sp>
                              <p:nvSpPr>
                                <p:cNvPr id="593" name="Oval 1518"/>
                                <p:cNvSpPr/>
                                <p:nvPr/>
                              </p:nvSpPr>
                              <p:spPr>
                                <a:xfrm>
                                  <a:off x="6691320" y="1087560"/>
                                  <a:ext cx="32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4" name="Oval 1519"/>
                                <p:cNvSpPr/>
                                <p:nvPr/>
                              </p:nvSpPr>
                              <p:spPr>
                                <a:xfrm>
                                  <a:off x="6691320" y="1087560"/>
                                  <a:ext cx="32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95" name="Group 1520"/>
                          <p:cNvGrpSpPr/>
                          <p:nvPr/>
                        </p:nvGrpSpPr>
                        <p:grpSpPr>
                          <a:xfrm>
                            <a:off x="6762600" y="1022400"/>
                            <a:ext cx="44640" cy="68040"/>
                            <a:chOff x="6762600" y="1022400"/>
                            <a:chExt cx="44640" cy="68040"/>
                          </a:xfrm>
                        </p:grpSpPr>
                        <p:grpSp>
                          <p:nvGrpSpPr>
                            <p:cNvPr id="596" name="Group 1521"/>
                            <p:cNvGrpSpPr/>
                            <p:nvPr/>
                          </p:nvGrpSpPr>
                          <p:grpSpPr>
                            <a:xfrm>
                              <a:off x="6762600" y="1022400"/>
                              <a:ext cx="44640" cy="66600"/>
                              <a:chOff x="6762600" y="1022400"/>
                              <a:chExt cx="44640" cy="66600"/>
                            </a:xfrm>
                          </p:grpSpPr>
                          <p:sp>
                            <p:nvSpPr>
                              <p:cNvPr id="597" name="Freeform 1522"/>
                              <p:cNvSpPr/>
                              <p:nvPr/>
                            </p:nvSpPr>
                            <p:spPr>
                              <a:xfrm>
                                <a:off x="6783480" y="1039680"/>
                                <a:ext cx="23760" cy="49320"/>
                              </a:xfrm>
                              <a:custGeom>
                                <a:avLst/>
                                <a:gdLst>
                                  <a:gd name="textAreaLeft" fmla="*/ 0 w 23760"/>
                                  <a:gd name="textAreaRight" fmla="*/ 24120 w 23760"/>
                                  <a:gd name="textAreaTop" fmla="*/ 0 h 49320"/>
                                  <a:gd name="textAreaBottom" fmla="*/ 49680 h 49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" h="31">
                                    <a:moveTo>
                                      <a:pt x="0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14" y="28"/>
                                    </a:lnTo>
                                    <a:lnTo>
                                      <a:pt x="12" y="3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" bIns="2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98" name="Group 1523"/>
                              <p:cNvGrpSpPr/>
                              <p:nvPr/>
                            </p:nvGrpSpPr>
                            <p:grpSpPr>
                              <a:xfrm>
                                <a:off x="6762600" y="1022400"/>
                                <a:ext cx="42840" cy="66600"/>
                                <a:chOff x="6762600" y="1022400"/>
                                <a:chExt cx="42840" cy="66600"/>
                              </a:xfrm>
                            </p:grpSpPr>
                            <p:sp>
                              <p:nvSpPr>
                                <p:cNvPr id="599" name="Freeform 1524"/>
                                <p:cNvSpPr/>
                                <p:nvPr/>
                              </p:nvSpPr>
                              <p:spPr>
                                <a:xfrm>
                                  <a:off x="6762600" y="1022400"/>
                                  <a:ext cx="42840" cy="66600"/>
                                </a:xfrm>
                                <a:custGeom>
                                  <a:avLst/>
                                  <a:gdLst>
                                    <a:gd name="textAreaLeft" fmla="*/ 0 w 42840"/>
                                    <a:gd name="textAreaRight" fmla="*/ 43200 w 42840"/>
                                    <a:gd name="textAreaTop" fmla="*/ 0 h 66600"/>
                                    <a:gd name="textAreaBottom" fmla="*/ 66960 h 6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42">
                                      <a:moveTo>
                                        <a:pt x="16" y="0"/>
                                      </a:moveTo>
                                      <a:lnTo>
                                        <a:pt x="16" y="0"/>
                                      </a:lnTo>
                                      <a:lnTo>
                                        <a:pt x="0" y="24"/>
                                      </a:lnTo>
                                      <a:lnTo>
                                        <a:pt x="10" y="14"/>
                                      </a:lnTo>
                                      <a:lnTo>
                                        <a:pt x="25" y="41"/>
                                      </a:lnTo>
                                      <a:lnTo>
                                        <a:pt x="26" y="41"/>
                                      </a:lnTo>
                                      <a:lnTo>
                                        <a:pt x="12" y="11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0160" bIns="201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0" name="Freeform 1525"/>
                                <p:cNvSpPr/>
                                <p:nvPr/>
                              </p:nvSpPr>
                              <p:spPr>
                                <a:xfrm>
                                  <a:off x="6762600" y="1022400"/>
                                  <a:ext cx="42840" cy="66600"/>
                                </a:xfrm>
                                <a:custGeom>
                                  <a:avLst/>
                                  <a:gdLst>
                                    <a:gd name="textAreaLeft" fmla="*/ 0 w 42840"/>
                                    <a:gd name="textAreaRight" fmla="*/ 43200 w 42840"/>
                                    <a:gd name="textAreaTop" fmla="*/ 0 h 66600"/>
                                    <a:gd name="textAreaBottom" fmla="*/ 66960 h 6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42">
                                      <a:moveTo>
                                        <a:pt x="16" y="0"/>
                                      </a:moveTo>
                                      <a:lnTo>
                                        <a:pt x="0" y="24"/>
                                      </a:lnTo>
                                      <a:lnTo>
                                        <a:pt x="10" y="14"/>
                                      </a:lnTo>
                                      <a:lnTo>
                                        <a:pt x="25" y="41"/>
                                      </a:lnTo>
                                      <a:lnTo>
                                        <a:pt x="26" y="41"/>
                                      </a:lnTo>
                                      <a:lnTo>
                                        <a:pt x="12" y="11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0160" bIns="201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01" name="Group 1526"/>
                            <p:cNvGrpSpPr/>
                            <p:nvPr/>
                          </p:nvGrpSpPr>
                          <p:grpSpPr>
                            <a:xfrm>
                              <a:off x="6800760" y="1084320"/>
                              <a:ext cx="4680" cy="6120"/>
                              <a:chOff x="6800760" y="1084320"/>
                              <a:chExt cx="4680" cy="6120"/>
                            </a:xfrm>
                          </p:grpSpPr>
                          <p:grpSp>
                            <p:nvGrpSpPr>
                              <p:cNvPr id="602" name="Group 1527"/>
                              <p:cNvGrpSpPr/>
                              <p:nvPr/>
                            </p:nvGrpSpPr>
                            <p:grpSpPr>
                              <a:xfrm>
                                <a:off x="6800760" y="1084320"/>
                                <a:ext cx="3240" cy="4680"/>
                                <a:chOff x="6800760" y="1084320"/>
                                <a:chExt cx="3240" cy="4680"/>
                              </a:xfrm>
                            </p:grpSpPr>
                            <p:sp>
                              <p:nvSpPr>
                                <p:cNvPr id="603" name="Oval 1528"/>
                                <p:cNvSpPr/>
                                <p:nvPr/>
                              </p:nvSpPr>
                              <p:spPr>
                                <a:xfrm>
                                  <a:off x="6802560" y="1084320"/>
                                  <a:ext cx="144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560" bIns="-43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4" name="Oval 1529"/>
                                <p:cNvSpPr/>
                                <p:nvPr/>
                              </p:nvSpPr>
                              <p:spPr>
                                <a:xfrm>
                                  <a:off x="6800760" y="1084320"/>
                                  <a:ext cx="324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560" bIns="-43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05" name="Group 1530"/>
                              <p:cNvGrpSpPr/>
                              <p:nvPr/>
                            </p:nvGrpSpPr>
                            <p:grpSpPr>
                              <a:xfrm>
                                <a:off x="6802560" y="1087560"/>
                                <a:ext cx="2880" cy="2880"/>
                                <a:chOff x="6802560" y="1087560"/>
                                <a:chExt cx="2880" cy="2880"/>
                              </a:xfrm>
                            </p:grpSpPr>
                            <p:sp>
                              <p:nvSpPr>
                                <p:cNvPr id="606" name="Oval 1531"/>
                                <p:cNvSpPr/>
                                <p:nvPr/>
                              </p:nvSpPr>
                              <p:spPr>
                                <a:xfrm>
                                  <a:off x="6804000" y="1087560"/>
                                  <a:ext cx="14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7" name="Oval 1532"/>
                                <p:cNvSpPr/>
                                <p:nvPr/>
                              </p:nvSpPr>
                              <p:spPr>
                                <a:xfrm>
                                  <a:off x="6802560" y="108756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08" name="Group 1533"/>
                        <p:cNvGrpSpPr/>
                        <p:nvPr/>
                      </p:nvGrpSpPr>
                      <p:grpSpPr>
                        <a:xfrm>
                          <a:off x="6950160" y="1050840"/>
                          <a:ext cx="66600" cy="84240"/>
                          <a:chOff x="6950160" y="1050840"/>
                          <a:chExt cx="66600" cy="84240"/>
                        </a:xfrm>
                      </p:grpSpPr>
                      <p:sp>
                        <p:nvSpPr>
                          <p:cNvPr id="609" name="Freeform 1534"/>
                          <p:cNvSpPr/>
                          <p:nvPr/>
                        </p:nvSpPr>
                        <p:spPr>
                          <a:xfrm>
                            <a:off x="6959520" y="1098720"/>
                            <a:ext cx="14400" cy="36360"/>
                          </a:xfrm>
                          <a:custGeom>
                            <a:avLst/>
                            <a:gdLst>
                              <a:gd name="textAreaLeft" fmla="*/ 0 w 14400"/>
                              <a:gd name="textAreaRight" fmla="*/ 14760 w 14400"/>
                              <a:gd name="textAreaTop" fmla="*/ 0 h 36360"/>
                              <a:gd name="textAreaBottom" fmla="*/ 36720 h 363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3">
                                <a:moveTo>
                                  <a:pt x="0" y="1"/>
                                </a:moveTo>
                                <a:lnTo>
                                  <a:pt x="4" y="12"/>
                                </a:lnTo>
                                <a:lnTo>
                                  <a:pt x="4" y="0"/>
                                </a:lnTo>
                                <a:lnTo>
                                  <a:pt x="8" y="9"/>
                                </a:lnTo>
                                <a:lnTo>
                                  <a:pt x="8" y="22"/>
                                </a:lnTo>
                                <a:lnTo>
                                  <a:pt x="4" y="16"/>
                                </a:lnTo>
                                <a:lnTo>
                                  <a:pt x="4" y="14"/>
                                </a:lnTo>
                                <a:lnTo>
                                  <a:pt x="0" y="3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10" name="Group 1535"/>
                          <p:cNvGrpSpPr/>
                          <p:nvPr/>
                        </p:nvGrpSpPr>
                        <p:grpSpPr>
                          <a:xfrm>
                            <a:off x="6950160" y="1050840"/>
                            <a:ext cx="66600" cy="61920"/>
                            <a:chOff x="6950160" y="1050840"/>
                            <a:chExt cx="66600" cy="61920"/>
                          </a:xfrm>
                        </p:grpSpPr>
                        <p:grpSp>
                          <p:nvGrpSpPr>
                            <p:cNvPr id="611" name="Group 1536"/>
                            <p:cNvGrpSpPr/>
                            <p:nvPr/>
                          </p:nvGrpSpPr>
                          <p:grpSpPr>
                            <a:xfrm>
                              <a:off x="6951600" y="1052640"/>
                              <a:ext cx="65160" cy="60120"/>
                              <a:chOff x="6951600" y="1052640"/>
                              <a:chExt cx="65160" cy="60120"/>
                            </a:xfrm>
                          </p:grpSpPr>
                          <p:sp>
                            <p:nvSpPr>
                              <p:cNvPr id="612" name="Freeform 1537"/>
                              <p:cNvSpPr/>
                              <p:nvPr/>
                            </p:nvSpPr>
                            <p:spPr>
                              <a:xfrm>
                                <a:off x="6953400" y="1084320"/>
                                <a:ext cx="60120" cy="23760"/>
                              </a:xfrm>
                              <a:custGeom>
                                <a:avLst/>
                                <a:gdLst>
                                  <a:gd name="textAreaLeft" fmla="*/ 0 w 60120"/>
                                  <a:gd name="textAreaRight" fmla="*/ 60480 w 60120"/>
                                  <a:gd name="textAreaTop" fmla="*/ 0 h 23760"/>
                                  <a:gd name="textAreaBottom" fmla="*/ 24120 h 23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5">
                                    <a:moveTo>
                                      <a:pt x="32" y="0"/>
                                    </a:moveTo>
                                    <a:lnTo>
                                      <a:pt x="6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2" y="8"/>
                                    </a:lnTo>
                                    <a:lnTo>
                                      <a:pt x="1" y="9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8" y="8"/>
                                    </a:lnTo>
                                    <a:lnTo>
                                      <a:pt x="37" y="1"/>
                                    </a:lnTo>
                                    <a:lnTo>
                                      <a:pt x="3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680" bIns="-22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3" name="Freeform 1538"/>
                              <p:cNvSpPr/>
                              <p:nvPr/>
                            </p:nvSpPr>
                            <p:spPr>
                              <a:xfrm>
                                <a:off x="6951600" y="1106640"/>
                                <a:ext cx="11160" cy="6120"/>
                              </a:xfrm>
                              <a:custGeom>
                                <a:avLst/>
                                <a:gdLst>
                                  <a:gd name="textAreaLeft" fmla="*/ 0 w 11160"/>
                                  <a:gd name="textAreaRight" fmla="*/ 11520 w 11160"/>
                                  <a:gd name="textAreaTop" fmla="*/ 0 h 6120"/>
                                  <a:gd name="textAreaBottom" fmla="*/ 6480 h 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" h="4">
                                    <a:moveTo>
                                      <a:pt x="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4" name="Freeform 1539"/>
                              <p:cNvSpPr/>
                              <p:nvPr/>
                            </p:nvSpPr>
                            <p:spPr>
                              <a:xfrm>
                                <a:off x="6991200" y="1052640"/>
                                <a:ext cx="25560" cy="39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39600"/>
                                  <a:gd name="textAreaBottom" fmla="*/ 39960 h 3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" h="25">
                                    <a:moveTo>
                                      <a:pt x="15" y="24"/>
                                    </a:moveTo>
                                    <a:lnTo>
                                      <a:pt x="0" y="2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5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5" name="Group 1540"/>
                            <p:cNvGrpSpPr/>
                            <p:nvPr/>
                          </p:nvGrpSpPr>
                          <p:grpSpPr>
                            <a:xfrm>
                              <a:off x="6950160" y="1050840"/>
                              <a:ext cx="65160" cy="60480"/>
                              <a:chOff x="6950160" y="1050840"/>
                              <a:chExt cx="65160" cy="60480"/>
                            </a:xfrm>
                          </p:grpSpPr>
                          <p:sp>
                            <p:nvSpPr>
                              <p:cNvPr id="616" name="Freeform 1541"/>
                              <p:cNvSpPr/>
                              <p:nvPr/>
                            </p:nvSpPr>
                            <p:spPr>
                              <a:xfrm>
                                <a:off x="6951600" y="1084320"/>
                                <a:ext cx="60480" cy="2376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3760"/>
                                  <a:gd name="textAreaBottom" fmla="*/ 24120 h 23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5">
                                    <a:moveTo>
                                      <a:pt x="32" y="0"/>
                                    </a:moveTo>
                                    <a:lnTo>
                                      <a:pt x="6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2" y="8"/>
                                    </a:lnTo>
                                    <a:lnTo>
                                      <a:pt x="1" y="9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8" y="8"/>
                                    </a:lnTo>
                                    <a:lnTo>
                                      <a:pt x="37" y="1"/>
                                    </a:lnTo>
                                    <a:lnTo>
                                      <a:pt x="3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680" bIns="-22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" name="Freeform 1542"/>
                              <p:cNvSpPr/>
                              <p:nvPr/>
                            </p:nvSpPr>
                            <p:spPr>
                              <a:xfrm>
                                <a:off x="6950160" y="1104840"/>
                                <a:ext cx="11160" cy="6480"/>
                              </a:xfrm>
                              <a:custGeom>
                                <a:avLst/>
                                <a:gdLst>
                                  <a:gd name="textAreaLeft" fmla="*/ 0 w 11160"/>
                                  <a:gd name="textAreaRight" fmla="*/ 11520 w 11160"/>
                                  <a:gd name="textAreaTop" fmla="*/ 0 h 6480"/>
                                  <a:gd name="textAreaBottom" fmla="*/ 6840 h 6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" h="4">
                                    <a:moveTo>
                                      <a:pt x="6" y="1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8" name="Freeform 1543"/>
                              <p:cNvSpPr/>
                              <p:nvPr/>
                            </p:nvSpPr>
                            <p:spPr>
                              <a:xfrm>
                                <a:off x="6989760" y="1050840"/>
                                <a:ext cx="25560" cy="39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39600"/>
                                  <a:gd name="textAreaBottom" fmla="*/ 39960 h 3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" h="25">
                                    <a:moveTo>
                                      <a:pt x="15" y="24"/>
                                    </a:moveTo>
                                    <a:lnTo>
                                      <a:pt x="0" y="2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5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cap="rnd"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19" name="Group 1544"/>
                    <p:cNvGrpSpPr/>
                    <p:nvPr/>
                  </p:nvGrpSpPr>
                  <p:grpSpPr>
                    <a:xfrm>
                      <a:off x="7000920" y="1030320"/>
                      <a:ext cx="257040" cy="264960"/>
                      <a:chOff x="7000920" y="1030320"/>
                      <a:chExt cx="257040" cy="264960"/>
                    </a:xfrm>
                  </p:grpSpPr>
                  <p:grpSp>
                    <p:nvGrpSpPr>
                      <p:cNvPr id="620" name="Group 1545"/>
                      <p:cNvGrpSpPr/>
                      <p:nvPr/>
                    </p:nvGrpSpPr>
                    <p:grpSpPr>
                      <a:xfrm>
                        <a:off x="7000920" y="1184400"/>
                        <a:ext cx="193680" cy="34920"/>
                        <a:chOff x="7000920" y="1184400"/>
                        <a:chExt cx="193680" cy="34920"/>
                      </a:xfrm>
                    </p:grpSpPr>
                    <p:grpSp>
                      <p:nvGrpSpPr>
                        <p:cNvPr id="621" name="Group 1546"/>
                        <p:cNvGrpSpPr/>
                        <p:nvPr/>
                      </p:nvGrpSpPr>
                      <p:grpSpPr>
                        <a:xfrm>
                          <a:off x="7000920" y="1184400"/>
                          <a:ext cx="20520" cy="31680"/>
                          <a:chOff x="7000920" y="1184400"/>
                          <a:chExt cx="20520" cy="31680"/>
                        </a:xfrm>
                      </p:grpSpPr>
                      <p:sp>
                        <p:nvSpPr>
                          <p:cNvPr id="622" name="Oval 1547"/>
                          <p:cNvSpPr/>
                          <p:nvPr/>
                        </p:nvSpPr>
                        <p:spPr>
                          <a:xfrm>
                            <a:off x="7000920" y="1185840"/>
                            <a:ext cx="19080" cy="302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5200" bIns="-252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3" name="Oval 1548"/>
                          <p:cNvSpPr/>
                          <p:nvPr/>
                        </p:nvSpPr>
                        <p:spPr>
                          <a:xfrm>
                            <a:off x="7002360" y="1184400"/>
                            <a:ext cx="19080" cy="316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4480" bIns="-244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4" name="Oval 1549"/>
                          <p:cNvSpPr/>
                          <p:nvPr/>
                        </p:nvSpPr>
                        <p:spPr>
                          <a:xfrm>
                            <a:off x="7004160" y="119232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5" name="Oval 1550"/>
                          <p:cNvSpPr/>
                          <p:nvPr/>
                        </p:nvSpPr>
                        <p:spPr>
                          <a:xfrm>
                            <a:off x="7004160" y="118440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6" name="Oval 1551"/>
                          <p:cNvSpPr/>
                          <p:nvPr/>
                        </p:nvSpPr>
                        <p:spPr>
                          <a:xfrm>
                            <a:off x="7004160" y="118908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7" name="Group 1552"/>
                        <p:cNvGrpSpPr/>
                        <p:nvPr/>
                      </p:nvGrpSpPr>
                      <p:grpSpPr>
                        <a:xfrm>
                          <a:off x="7178760" y="1195560"/>
                          <a:ext cx="15840" cy="23760"/>
                          <a:chOff x="7178760" y="1195560"/>
                          <a:chExt cx="15840" cy="23760"/>
                        </a:xfrm>
                      </p:grpSpPr>
                      <p:sp>
                        <p:nvSpPr>
                          <p:cNvPr id="628" name="Oval 1553"/>
                          <p:cNvSpPr/>
                          <p:nvPr/>
                        </p:nvSpPr>
                        <p:spPr>
                          <a:xfrm>
                            <a:off x="7178760" y="119556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Oval 1554"/>
                          <p:cNvSpPr/>
                          <p:nvPr/>
                        </p:nvSpPr>
                        <p:spPr>
                          <a:xfrm>
                            <a:off x="7180200" y="1195560"/>
                            <a:ext cx="14400" cy="237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Oval 1555"/>
                          <p:cNvSpPr/>
                          <p:nvPr/>
                        </p:nvSpPr>
                        <p:spPr>
                          <a:xfrm>
                            <a:off x="7182000" y="1200240"/>
                            <a:ext cx="12600" cy="1908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760" bIns="-327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Oval 1556"/>
                          <p:cNvSpPr/>
                          <p:nvPr/>
                        </p:nvSpPr>
                        <p:spPr>
                          <a:xfrm>
                            <a:off x="7182000" y="1195560"/>
                            <a:ext cx="12600" cy="187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3120" bIns="-33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Oval 1557"/>
                          <p:cNvSpPr/>
                          <p:nvPr/>
                        </p:nvSpPr>
                        <p:spPr>
                          <a:xfrm>
                            <a:off x="7182000" y="1198440"/>
                            <a:ext cx="12600" cy="1908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760" bIns="-327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33" name="Group 1558"/>
                      <p:cNvGrpSpPr/>
                      <p:nvPr/>
                    </p:nvGrpSpPr>
                    <p:grpSpPr>
                      <a:xfrm>
                        <a:off x="7032600" y="1030320"/>
                        <a:ext cx="225360" cy="264960"/>
                        <a:chOff x="7032600" y="1030320"/>
                        <a:chExt cx="225360" cy="264960"/>
                      </a:xfrm>
                    </p:grpSpPr>
                    <p:grpSp>
                      <p:nvGrpSpPr>
                        <p:cNvPr id="634" name="Group 1559"/>
                        <p:cNvGrpSpPr/>
                        <p:nvPr/>
                      </p:nvGrpSpPr>
                      <p:grpSpPr>
                        <a:xfrm>
                          <a:off x="7061040" y="1030320"/>
                          <a:ext cx="52560" cy="96840"/>
                          <a:chOff x="7061040" y="1030320"/>
                          <a:chExt cx="52560" cy="96840"/>
                        </a:xfrm>
                      </p:grpSpPr>
                      <p:sp>
                        <p:nvSpPr>
                          <p:cNvPr id="635" name="Freeform 1560"/>
                          <p:cNvSpPr/>
                          <p:nvPr/>
                        </p:nvSpPr>
                        <p:spPr>
                          <a:xfrm>
                            <a:off x="7061040" y="1030320"/>
                            <a:ext cx="52560" cy="34920"/>
                          </a:xfrm>
                          <a:custGeom>
                            <a:avLst/>
                            <a:gdLst>
                              <a:gd name="textAreaLeft" fmla="*/ 0 w 52560"/>
                              <a:gd name="textAreaRight" fmla="*/ 52920 w 52560"/>
                              <a:gd name="textAreaTop" fmla="*/ 0 h 34920"/>
                              <a:gd name="textAreaBottom" fmla="*/ 3492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33" h="22">
                                <a:moveTo>
                                  <a:pt x="32" y="10"/>
                                </a:moveTo>
                                <a:lnTo>
                                  <a:pt x="19" y="21"/>
                                </a:lnTo>
                                <a:lnTo>
                                  <a:pt x="0" y="15"/>
                                </a:lnTo>
                                <a:lnTo>
                                  <a:pt x="0" y="0"/>
                                </a:lnTo>
                                <a:lnTo>
                                  <a:pt x="32" y="1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Freeform 1561"/>
                          <p:cNvSpPr/>
                          <p:nvPr/>
                        </p:nvSpPr>
                        <p:spPr>
                          <a:xfrm>
                            <a:off x="7093080" y="1046160"/>
                            <a:ext cx="20520" cy="8100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81000"/>
                              <a:gd name="textAreaBottom" fmla="*/ 81360 h 810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51">
                                <a:moveTo>
                                  <a:pt x="12" y="0"/>
                                </a:moveTo>
                                <a:lnTo>
                                  <a:pt x="0" y="11"/>
                                </a:lnTo>
                                <a:lnTo>
                                  <a:pt x="0" y="48"/>
                                </a:lnTo>
                                <a:lnTo>
                                  <a:pt x="12" y="50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560" bIns="34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Freeform 1562"/>
                          <p:cNvSpPr/>
                          <p:nvPr/>
                        </p:nvSpPr>
                        <p:spPr>
                          <a:xfrm>
                            <a:off x="7061040" y="1054080"/>
                            <a:ext cx="32040" cy="69840"/>
                          </a:xfrm>
                          <a:custGeom>
                            <a:avLst/>
                            <a:gdLst>
                              <a:gd name="textAreaLeft" fmla="*/ 0 w 32040"/>
                              <a:gd name="textAreaRight" fmla="*/ 32400 w 32040"/>
                              <a:gd name="textAreaTop" fmla="*/ 0 h 69840"/>
                              <a:gd name="textAreaBottom" fmla="*/ 70200 h 69840"/>
                            </a:gdLst>
                            <a:ahLst/>
                            <a:rect l="textAreaLeft" t="textAreaTop" r="textAreaRight" b="textAreaBottom"/>
                            <a:pathLst>
                              <a:path w="20" h="44">
                                <a:moveTo>
                                  <a:pt x="0" y="0"/>
                                </a:moveTo>
                                <a:lnTo>
                                  <a:pt x="19" y="6"/>
                                </a:lnTo>
                                <a:lnTo>
                                  <a:pt x="19" y="4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400" bIns="23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Line 1563"/>
                          <p:cNvSpPr/>
                          <p:nvPr/>
                        </p:nvSpPr>
                        <p:spPr>
                          <a:xfrm>
                            <a:off x="7085160" y="1042920"/>
                            <a:ext cx="1440" cy="810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39" name="Group 1564"/>
                        <p:cNvGrpSpPr/>
                        <p:nvPr/>
                      </p:nvGrpSpPr>
                      <p:grpSpPr>
                        <a:xfrm>
                          <a:off x="7032600" y="1039680"/>
                          <a:ext cx="225360" cy="255600"/>
                          <a:chOff x="7032600" y="1039680"/>
                          <a:chExt cx="225360" cy="255600"/>
                        </a:xfrm>
                      </p:grpSpPr>
                      <p:grpSp>
                        <p:nvGrpSpPr>
                          <p:cNvPr id="640" name="Group 1565"/>
                          <p:cNvGrpSpPr/>
                          <p:nvPr/>
                        </p:nvGrpSpPr>
                        <p:grpSpPr>
                          <a:xfrm>
                            <a:off x="7032600" y="1260360"/>
                            <a:ext cx="20520" cy="34920"/>
                            <a:chOff x="7032600" y="1260360"/>
                            <a:chExt cx="20520" cy="34920"/>
                          </a:xfrm>
                        </p:grpSpPr>
                        <p:sp>
                          <p:nvSpPr>
                            <p:cNvPr id="641" name="Freeform 1566"/>
                            <p:cNvSpPr/>
                            <p:nvPr/>
                          </p:nvSpPr>
                          <p:spPr>
                            <a:xfrm>
                              <a:off x="7032600" y="1262160"/>
                              <a:ext cx="20520" cy="33120"/>
                            </a:xfrm>
                            <a:custGeom>
                              <a:avLst/>
                              <a:gdLst>
                                <a:gd name="textAreaLeft" fmla="*/ 0 w 20520"/>
                                <a:gd name="textAreaRight" fmla="*/ 20880 w 20520"/>
                                <a:gd name="textAreaTop" fmla="*/ 0 h 33120"/>
                                <a:gd name="textAreaBottom" fmla="*/ 33480 h 33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" h="21">
                                  <a:moveTo>
                                    <a:pt x="12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2" y="19"/>
                                  </a:lnTo>
                                  <a:lnTo>
                                    <a:pt x="1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2" name="Freeform 1567"/>
                            <p:cNvSpPr/>
                            <p:nvPr/>
                          </p:nvSpPr>
                          <p:spPr>
                            <a:xfrm>
                              <a:off x="7032600" y="1260360"/>
                              <a:ext cx="20520" cy="34920"/>
                            </a:xfrm>
                            <a:custGeom>
                              <a:avLst/>
                              <a:gdLst>
                                <a:gd name="textAreaLeft" fmla="*/ 0 w 20520"/>
                                <a:gd name="textAreaRight" fmla="*/ 20880 w 20520"/>
                                <a:gd name="textAreaTop" fmla="*/ 0 h 34920"/>
                                <a:gd name="textAreaBottom" fmla="*/ 3492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" h="22">
                                  <a:moveTo>
                                    <a:pt x="12" y="0"/>
                                  </a:moveTo>
                                  <a:lnTo>
                                    <a:pt x="0" y="21"/>
                                  </a:lnTo>
                                  <a:lnTo>
                                    <a:pt x="12" y="20"/>
                                  </a:lnTo>
                                  <a:lnTo>
                                    <a:pt x="12" y="0"/>
                                  </a:lnTo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880" bIns="-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3" name="Group 1568"/>
                          <p:cNvGrpSpPr/>
                          <p:nvPr/>
                        </p:nvGrpSpPr>
                        <p:grpSpPr>
                          <a:xfrm>
                            <a:off x="7134120" y="1039680"/>
                            <a:ext cx="123840" cy="200160"/>
                            <a:chOff x="7134120" y="1039680"/>
                            <a:chExt cx="123840" cy="200160"/>
                          </a:xfrm>
                        </p:grpSpPr>
                        <p:grpSp>
                          <p:nvGrpSpPr>
                            <p:cNvPr id="644" name="Group 1569"/>
                            <p:cNvGrpSpPr/>
                            <p:nvPr/>
                          </p:nvGrpSpPr>
                          <p:grpSpPr>
                            <a:xfrm>
                              <a:off x="7134120" y="1081080"/>
                              <a:ext cx="90360" cy="158760"/>
                              <a:chOff x="7134120" y="1081080"/>
                              <a:chExt cx="90360" cy="158760"/>
                            </a:xfrm>
                          </p:grpSpPr>
                          <p:grpSp>
                            <p:nvGrpSpPr>
                              <p:cNvPr id="645" name="Group 1570"/>
                              <p:cNvGrpSpPr/>
                              <p:nvPr/>
                            </p:nvGrpSpPr>
                            <p:grpSpPr>
                              <a:xfrm>
                                <a:off x="7186680" y="1081080"/>
                                <a:ext cx="37800" cy="100080"/>
                                <a:chOff x="7186680" y="1081080"/>
                                <a:chExt cx="37800" cy="100080"/>
                              </a:xfrm>
                            </p:grpSpPr>
                            <p:grpSp>
                              <p:nvGrpSpPr>
                                <p:cNvPr id="646" name="Group 1571"/>
                                <p:cNvGrpSpPr/>
                                <p:nvPr/>
                              </p:nvGrpSpPr>
                              <p:grpSpPr>
                                <a:xfrm>
                                  <a:off x="7186680" y="1109160"/>
                                  <a:ext cx="37800" cy="70200"/>
                                  <a:chOff x="7186680" y="1109160"/>
                                  <a:chExt cx="37800" cy="70200"/>
                                </a:xfrm>
                              </p:grpSpPr>
                              <p:sp>
                                <p:nvSpPr>
                                  <p:cNvPr id="647" name="Line 1572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8120" y="1109160"/>
                                    <a:ext cx="3024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8" name="Line 157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936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9" name="Line 1574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8120" y="1115640"/>
                                    <a:ext cx="3024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0" name="Line 1575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6680" y="1123560"/>
                                    <a:ext cx="3312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1" name="Line 1576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6680" y="1123920"/>
                                    <a:ext cx="33120" cy="14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360" bIns="-45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2" name="Line 1577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92440" y="1131480"/>
                                    <a:ext cx="32040" cy="18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000" bIns="-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3" name="Line 1578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92440" y="1138320"/>
                                    <a:ext cx="32040" cy="14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360" bIns="-45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4" name="Line 1579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92440" y="1152360"/>
                                    <a:ext cx="3204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5" name="Line 158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5884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6" name="Line 158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6532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7" name="Line 1582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144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8" name="Line 158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792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59" name="Line 1584"/>
                                <p:cNvSpPr/>
                                <p:nvPr/>
                              </p:nvSpPr>
                              <p:spPr>
                                <a:xfrm flipV="1">
                                  <a:off x="7203960" y="1081080"/>
                                  <a:ext cx="0" cy="10008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60" name="Group 1585"/>
                              <p:cNvGrpSpPr/>
                              <p:nvPr/>
                            </p:nvGrpSpPr>
                            <p:grpSpPr>
                              <a:xfrm>
                                <a:off x="7134120" y="1185840"/>
                                <a:ext cx="34920" cy="54000"/>
                                <a:chOff x="7134120" y="1185840"/>
                                <a:chExt cx="34920" cy="54000"/>
                              </a:xfrm>
                            </p:grpSpPr>
                            <p:grpSp>
                              <p:nvGrpSpPr>
                                <p:cNvPr id="661" name="Group 1586"/>
                                <p:cNvGrpSpPr/>
                                <p:nvPr/>
                              </p:nvGrpSpPr>
                              <p:grpSpPr>
                                <a:xfrm>
                                  <a:off x="7153200" y="1187280"/>
                                  <a:ext cx="15840" cy="52560"/>
                                  <a:chOff x="7153200" y="1187280"/>
                                  <a:chExt cx="15840" cy="52560"/>
                                </a:xfrm>
                              </p:grpSpPr>
                              <p:sp>
                                <p:nvSpPr>
                                  <p:cNvPr id="662" name="Freeform 1587"/>
                                  <p:cNvSpPr/>
                                  <p:nvPr/>
                                </p:nvSpPr>
                                <p:spPr>
                                  <a:xfrm>
                                    <a:off x="7153200" y="1187280"/>
                                    <a:ext cx="15840" cy="52560"/>
                                  </a:xfrm>
                                  <a:custGeom>
                                    <a:avLst/>
                                    <a:gdLst>
                                      <a:gd name="textAreaLeft" fmla="*/ 0 w 15840"/>
                                      <a:gd name="textAreaRight" fmla="*/ 16200 w 15840"/>
                                      <a:gd name="textAreaTop" fmla="*/ 0 h 52560"/>
                                      <a:gd name="textAreaBottom" fmla="*/ 52920 h 5256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0" h="33">
                                        <a:moveTo>
                                          <a:pt x="9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32"/>
                                        </a:lnTo>
                                        <a:lnTo>
                                          <a:pt x="9" y="32"/>
                                        </a:lnTo>
                                        <a:lnTo>
                                          <a:pt x="9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6120" bIns="61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3" name="Freeform 1588"/>
                                  <p:cNvSpPr/>
                                  <p:nvPr/>
                                </p:nvSpPr>
                                <p:spPr>
                                  <a:xfrm>
                                    <a:off x="7153200" y="1187280"/>
                                    <a:ext cx="15840" cy="32040"/>
                                  </a:xfrm>
                                  <a:custGeom>
                                    <a:avLst/>
                                    <a:gdLst>
                                      <a:gd name="textAreaLeft" fmla="*/ 0 w 15840"/>
                                      <a:gd name="textAreaRight" fmla="*/ 16200 w 15840"/>
                                      <a:gd name="textAreaTop" fmla="*/ 0 h 32040"/>
                                      <a:gd name="textAreaBottom" fmla="*/ 32400 h 3204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0" h="20">
                                        <a:moveTo>
                                          <a:pt x="9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19"/>
                                        </a:lnTo>
                                        <a:lnTo>
                                          <a:pt x="9" y="19"/>
                                        </a:lnTo>
                                        <a:lnTo>
                                          <a:pt x="9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4400" bIns="-144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664" name="Group 1589"/>
                                <p:cNvGrpSpPr/>
                                <p:nvPr/>
                              </p:nvGrpSpPr>
                              <p:grpSpPr>
                                <a:xfrm>
                                  <a:off x="7134120" y="1185840"/>
                                  <a:ext cx="17640" cy="54000"/>
                                  <a:chOff x="7134120" y="1185840"/>
                                  <a:chExt cx="17640" cy="54000"/>
                                </a:xfrm>
                              </p:grpSpPr>
                              <p:sp>
                                <p:nvSpPr>
                                  <p:cNvPr id="665" name="Freeform 1590"/>
                                  <p:cNvSpPr/>
                                  <p:nvPr/>
                                </p:nvSpPr>
                                <p:spPr>
                                  <a:xfrm>
                                    <a:off x="7134120" y="1185840"/>
                                    <a:ext cx="17640" cy="54000"/>
                                  </a:xfrm>
                                  <a:custGeom>
                                    <a:avLst/>
                                    <a:gdLst>
                                      <a:gd name="textAreaLeft" fmla="*/ 0 w 17640"/>
                                      <a:gd name="textAreaRight" fmla="*/ 18000 w 17640"/>
                                      <a:gd name="textAreaTop" fmla="*/ 0 h 54000"/>
                                      <a:gd name="textAreaBottom" fmla="*/ 54360 h 5400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1" h="34">
                                        <a:moveTo>
                                          <a:pt x="10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33"/>
                                        </a:lnTo>
                                        <a:lnTo>
                                          <a:pt x="10" y="33"/>
                                        </a:lnTo>
                                        <a:lnTo>
                                          <a:pt x="1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7560" bIns="7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6" name="Freeform 1591"/>
                                  <p:cNvSpPr/>
                                  <p:nvPr/>
                                </p:nvSpPr>
                                <p:spPr>
                                  <a:xfrm>
                                    <a:off x="7134120" y="1185840"/>
                                    <a:ext cx="17640" cy="33480"/>
                                  </a:xfrm>
                                  <a:custGeom>
                                    <a:avLst/>
                                    <a:gdLst>
                                      <a:gd name="textAreaLeft" fmla="*/ 0 w 17640"/>
                                      <a:gd name="textAreaRight" fmla="*/ 18000 w 17640"/>
                                      <a:gd name="textAreaTop" fmla="*/ 0 h 33480"/>
                                      <a:gd name="textAreaBottom" fmla="*/ 33840 h 3348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1" h="21">
                                        <a:moveTo>
                                          <a:pt x="10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20"/>
                                        </a:lnTo>
                                        <a:lnTo>
                                          <a:pt x="10" y="20"/>
                                        </a:lnTo>
                                        <a:lnTo>
                                          <a:pt x="1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2960" bIns="-129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67" name="Group 1592"/>
                            <p:cNvGrpSpPr/>
                            <p:nvPr/>
                          </p:nvGrpSpPr>
                          <p:grpSpPr>
                            <a:xfrm>
                              <a:off x="7236000" y="1039680"/>
                              <a:ext cx="21960" cy="38160"/>
                              <a:chOff x="7236000" y="1039680"/>
                              <a:chExt cx="21960" cy="38160"/>
                            </a:xfrm>
                          </p:grpSpPr>
                          <p:sp>
                            <p:nvSpPr>
                              <p:cNvPr id="668" name="Freeform 1593"/>
                              <p:cNvSpPr/>
                              <p:nvPr/>
                            </p:nvSpPr>
                            <p:spPr>
                              <a:xfrm>
                                <a:off x="7236000" y="1039680"/>
                                <a:ext cx="21960" cy="38160"/>
                              </a:xfrm>
                              <a:custGeom>
                                <a:avLst/>
                                <a:gdLst>
                                  <a:gd name="textAreaLeft" fmla="*/ 0 w 21960"/>
                                  <a:gd name="textAreaRight" fmla="*/ 22320 w 21960"/>
                                  <a:gd name="textAreaTop" fmla="*/ 0 h 38160"/>
                                  <a:gd name="textAreaBottom" fmla="*/ 38520 h 38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" h="24">
                                    <a:moveTo>
                                      <a:pt x="13" y="23"/>
                                    </a:move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3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280" bIns="-8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Freeform 1594"/>
                              <p:cNvSpPr/>
                              <p:nvPr/>
                            </p:nvSpPr>
                            <p:spPr>
                              <a:xfrm>
                                <a:off x="7236000" y="1039680"/>
                                <a:ext cx="21960" cy="22320"/>
                              </a:xfrm>
                              <a:custGeom>
                                <a:avLst/>
                                <a:gdLst>
                                  <a:gd name="textAreaLeft" fmla="*/ 0 w 21960"/>
                                  <a:gd name="textAreaRight" fmla="*/ 22320 w 21960"/>
                                  <a:gd name="textAreaTop" fmla="*/ 0 h 22320"/>
                                  <a:gd name="textAreaBottom" fmla="*/ 22680 h 22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" h="14">
                                    <a:moveTo>
                                      <a:pt x="13" y="13"/>
                                    </a:moveTo>
                                    <a:lnTo>
                                      <a:pt x="11" y="8"/>
                                    </a:lnTo>
                                    <a:lnTo>
                                      <a:pt x="0" y="4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13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670" name="Group 1595"/>
                  <p:cNvGrpSpPr/>
                  <p:nvPr/>
                </p:nvGrpSpPr>
                <p:grpSpPr>
                  <a:xfrm>
                    <a:off x="7021440" y="1019160"/>
                    <a:ext cx="41400" cy="222120"/>
                    <a:chOff x="7021440" y="1019160"/>
                    <a:chExt cx="41400" cy="222120"/>
                  </a:xfrm>
                </p:grpSpPr>
                <p:grpSp>
                  <p:nvGrpSpPr>
                    <p:cNvPr id="671" name="Group 1596"/>
                    <p:cNvGrpSpPr/>
                    <p:nvPr/>
                  </p:nvGrpSpPr>
                  <p:grpSpPr>
                    <a:xfrm>
                      <a:off x="7021440" y="1091880"/>
                      <a:ext cx="34920" cy="135360"/>
                      <a:chOff x="7021440" y="1091880"/>
                      <a:chExt cx="34920" cy="135360"/>
                    </a:xfrm>
                  </p:grpSpPr>
                  <p:grpSp>
                    <p:nvGrpSpPr>
                      <p:cNvPr id="672" name="Group 1597"/>
                      <p:cNvGrpSpPr/>
                      <p:nvPr/>
                    </p:nvGrpSpPr>
                    <p:grpSpPr>
                      <a:xfrm>
                        <a:off x="7054920" y="1098720"/>
                        <a:ext cx="1440" cy="128520"/>
                        <a:chOff x="7054920" y="1098720"/>
                        <a:chExt cx="1440" cy="128520"/>
                      </a:xfrm>
                    </p:grpSpPr>
                    <p:sp>
                      <p:nvSpPr>
                        <p:cNvPr id="673" name="Line 1598"/>
                        <p:cNvSpPr/>
                        <p:nvPr/>
                      </p:nvSpPr>
                      <p:spPr>
                        <a:xfrm>
                          <a:off x="7054920" y="1098720"/>
                          <a:ext cx="1440" cy="128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Line 1599"/>
                        <p:cNvSpPr/>
                        <p:nvPr/>
                      </p:nvSpPr>
                      <p:spPr>
                        <a:xfrm>
                          <a:off x="7054920" y="1177920"/>
                          <a:ext cx="144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5" name="Group 1600"/>
                      <p:cNvGrpSpPr/>
                      <p:nvPr/>
                    </p:nvGrpSpPr>
                    <p:grpSpPr>
                      <a:xfrm>
                        <a:off x="7021440" y="1091880"/>
                        <a:ext cx="6480" cy="129960"/>
                        <a:chOff x="7021440" y="1091880"/>
                        <a:chExt cx="6480" cy="129960"/>
                      </a:xfrm>
                    </p:grpSpPr>
                    <p:sp>
                      <p:nvSpPr>
                        <p:cNvPr id="676" name="Line 1601"/>
                        <p:cNvSpPr/>
                        <p:nvPr/>
                      </p:nvSpPr>
                      <p:spPr>
                        <a:xfrm flipV="1">
                          <a:off x="7021440" y="1091880"/>
                          <a:ext cx="0" cy="129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Line 1602"/>
                        <p:cNvSpPr/>
                        <p:nvPr/>
                      </p:nvSpPr>
                      <p:spPr>
                        <a:xfrm>
                          <a:off x="7026120" y="1174680"/>
                          <a:ext cx="180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8" name="Group 1603"/>
                    <p:cNvGrpSpPr/>
                    <p:nvPr/>
                  </p:nvGrpSpPr>
                  <p:grpSpPr>
                    <a:xfrm>
                      <a:off x="7024680" y="1019160"/>
                      <a:ext cx="38160" cy="222120"/>
                      <a:chOff x="7024680" y="1019160"/>
                      <a:chExt cx="38160" cy="222120"/>
                    </a:xfrm>
                  </p:grpSpPr>
                  <p:sp>
                    <p:nvSpPr>
                      <p:cNvPr id="679" name="Freeform 1604"/>
                      <p:cNvSpPr/>
                      <p:nvPr/>
                    </p:nvSpPr>
                    <p:spPr>
                      <a:xfrm>
                        <a:off x="7024680" y="1019160"/>
                        <a:ext cx="11160" cy="220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220680"/>
                          <a:gd name="textAreaBottom" fmla="*/ 221040 h 220680"/>
                        </a:gdLst>
                        <a:ahLst/>
                        <a:rect l="textAreaLeft" t="textAreaTop" r="textAreaRight" b="textAreaBottom"/>
                        <a:pathLst>
                          <a:path w="7" h="139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5" y="9"/>
                            </a:lnTo>
                            <a:lnTo>
                              <a:pt x="6" y="64"/>
                            </a:lnTo>
                            <a:lnTo>
                              <a:pt x="5" y="124"/>
                            </a:lnTo>
                            <a:lnTo>
                              <a:pt x="1" y="128"/>
                            </a:lnTo>
                            <a:lnTo>
                              <a:pt x="1" y="13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Freeform 1605"/>
                      <p:cNvSpPr/>
                      <p:nvPr/>
                    </p:nvSpPr>
                    <p:spPr>
                      <a:xfrm>
                        <a:off x="7051680" y="1027080"/>
                        <a:ext cx="11160" cy="21420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214200"/>
                          <a:gd name="textAreaBottom" fmla="*/ 214560 h 214200"/>
                        </a:gdLst>
                        <a:ahLst/>
                        <a:rect l="textAreaLeft" t="textAreaTop" r="textAreaRight" b="textAreaBottom"/>
                        <a:pathLst>
                          <a:path w="7" h="135">
                            <a:moveTo>
                              <a:pt x="0" y="0"/>
                            </a:moveTo>
                            <a:lnTo>
                              <a:pt x="6" y="6"/>
                            </a:lnTo>
                            <a:lnTo>
                              <a:pt x="6" y="61"/>
                            </a:lnTo>
                            <a:lnTo>
                              <a:pt x="6" y="121"/>
                            </a:lnTo>
                            <a:lnTo>
                              <a:pt x="1" y="125"/>
                            </a:lnTo>
                            <a:lnTo>
                              <a:pt x="1" y="13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81" name="Group 1606"/>
              <p:cNvGrpSpPr/>
              <p:nvPr/>
            </p:nvGrpSpPr>
            <p:grpSpPr>
              <a:xfrm>
                <a:off x="7294680" y="1108080"/>
                <a:ext cx="231480" cy="114120"/>
                <a:chOff x="7294680" y="1108080"/>
                <a:chExt cx="231480" cy="114120"/>
              </a:xfrm>
            </p:grpSpPr>
            <p:grpSp>
              <p:nvGrpSpPr>
                <p:cNvPr id="682" name="Group 1607"/>
                <p:cNvGrpSpPr/>
                <p:nvPr/>
              </p:nvGrpSpPr>
              <p:grpSpPr>
                <a:xfrm>
                  <a:off x="7453440" y="1162080"/>
                  <a:ext cx="72720" cy="60120"/>
                  <a:chOff x="7453440" y="1162080"/>
                  <a:chExt cx="72720" cy="60120"/>
                </a:xfrm>
              </p:grpSpPr>
              <p:grpSp>
                <p:nvGrpSpPr>
                  <p:cNvPr id="683" name="Group 1608"/>
                  <p:cNvGrpSpPr/>
                  <p:nvPr/>
                </p:nvGrpSpPr>
                <p:grpSpPr>
                  <a:xfrm>
                    <a:off x="7453440" y="1162080"/>
                    <a:ext cx="72720" cy="57240"/>
                    <a:chOff x="7453440" y="1162080"/>
                    <a:chExt cx="72720" cy="57240"/>
                  </a:xfrm>
                </p:grpSpPr>
                <p:sp>
                  <p:nvSpPr>
                    <p:cNvPr id="684" name="Freeform 1609"/>
                    <p:cNvSpPr/>
                    <p:nvPr/>
                  </p:nvSpPr>
                  <p:spPr>
                    <a:xfrm>
                      <a:off x="7453440" y="1162080"/>
                      <a:ext cx="72720" cy="57240"/>
                    </a:xfrm>
                    <a:custGeom>
                      <a:avLst/>
                      <a:gdLst>
                        <a:gd name="textAreaLeft" fmla="*/ 0 w 72720"/>
                        <a:gd name="textAreaRight" fmla="*/ 72720 w 727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46" h="36">
                          <a:moveTo>
                            <a:pt x="45" y="16"/>
                          </a:moveTo>
                          <a:lnTo>
                            <a:pt x="0" y="0"/>
                          </a:lnTo>
                          <a:lnTo>
                            <a:pt x="0" y="29"/>
                          </a:lnTo>
                          <a:lnTo>
                            <a:pt x="45" y="35"/>
                          </a:lnTo>
                          <a:lnTo>
                            <a:pt x="45" y="16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1610"/>
                    <p:cNvSpPr/>
                    <p:nvPr/>
                  </p:nvSpPr>
                  <p:spPr>
                    <a:xfrm>
                      <a:off x="7453440" y="1163520"/>
                      <a:ext cx="72720" cy="55800"/>
                    </a:xfrm>
                    <a:custGeom>
                      <a:avLst/>
                      <a:gdLst>
                        <a:gd name="textAreaLeft" fmla="*/ 0 w 72720"/>
                        <a:gd name="textAreaRight" fmla="*/ 72720 w 7272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46" h="35">
                          <a:moveTo>
                            <a:pt x="45" y="16"/>
                          </a:moveTo>
                          <a:lnTo>
                            <a:pt x="0" y="0"/>
                          </a:lnTo>
                          <a:lnTo>
                            <a:pt x="0" y="28"/>
                          </a:lnTo>
                          <a:lnTo>
                            <a:pt x="45" y="34"/>
                          </a:lnTo>
                          <a:lnTo>
                            <a:pt x="45" y="16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1611"/>
                    <p:cNvSpPr/>
                    <p:nvPr/>
                  </p:nvSpPr>
                  <p:spPr>
                    <a:xfrm>
                      <a:off x="7453440" y="1163520"/>
                      <a:ext cx="71280" cy="54000"/>
                    </a:xfrm>
                    <a:custGeom>
                      <a:avLst/>
                      <a:gdLst>
                        <a:gd name="textAreaLeft" fmla="*/ 0 w 71280"/>
                        <a:gd name="textAreaRight" fmla="*/ 71640 w 71280"/>
                        <a:gd name="textAreaTop" fmla="*/ 0 h 54000"/>
                        <a:gd name="textAreaBottom" fmla="*/ 54360 h 54000"/>
                      </a:gdLst>
                      <a:ahLst/>
                      <a:rect l="textAreaLeft" t="textAreaTop" r="textAreaRight" b="textAreaBottom"/>
                      <a:pathLst>
                        <a:path w="45" h="34">
                          <a:moveTo>
                            <a:pt x="44" y="15"/>
                          </a:moveTo>
                          <a:lnTo>
                            <a:pt x="0" y="0"/>
                          </a:lnTo>
                          <a:lnTo>
                            <a:pt x="0" y="27"/>
                          </a:lnTo>
                          <a:lnTo>
                            <a:pt x="44" y="33"/>
                          </a:lnTo>
                          <a:lnTo>
                            <a:pt x="44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612"/>
                  <p:cNvGrpSpPr/>
                  <p:nvPr/>
                </p:nvGrpSpPr>
                <p:grpSpPr>
                  <a:xfrm>
                    <a:off x="7462800" y="1168560"/>
                    <a:ext cx="58680" cy="53640"/>
                    <a:chOff x="7462800" y="1168560"/>
                    <a:chExt cx="58680" cy="53640"/>
                  </a:xfrm>
                </p:grpSpPr>
                <p:grpSp>
                  <p:nvGrpSpPr>
                    <p:cNvPr id="688" name="Group 1613"/>
                    <p:cNvGrpSpPr/>
                    <p:nvPr/>
                  </p:nvGrpSpPr>
                  <p:grpSpPr>
                    <a:xfrm>
                      <a:off x="7462800" y="1170000"/>
                      <a:ext cx="57240" cy="47520"/>
                      <a:chOff x="7462800" y="1170000"/>
                      <a:chExt cx="57240" cy="47520"/>
                    </a:xfrm>
                  </p:grpSpPr>
                  <p:sp>
                    <p:nvSpPr>
                      <p:cNvPr id="689" name="Line 1614"/>
                      <p:cNvSpPr/>
                      <p:nvPr/>
                    </p:nvSpPr>
                    <p:spPr>
                      <a:xfrm>
                        <a:off x="7518240" y="1189080"/>
                        <a:ext cx="1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Line 1615"/>
                      <p:cNvSpPr/>
                      <p:nvPr/>
                    </p:nvSpPr>
                    <p:spPr>
                      <a:xfrm>
                        <a:off x="7512120" y="1185840"/>
                        <a:ext cx="144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Line 1616"/>
                      <p:cNvSpPr/>
                      <p:nvPr/>
                    </p:nvSpPr>
                    <p:spPr>
                      <a:xfrm>
                        <a:off x="7504200" y="1184400"/>
                        <a:ext cx="144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Line 1617"/>
                      <p:cNvSpPr/>
                      <p:nvPr/>
                    </p:nvSpPr>
                    <p:spPr>
                      <a:xfrm>
                        <a:off x="7497720" y="1181160"/>
                        <a:ext cx="180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Line 1618"/>
                      <p:cNvSpPr/>
                      <p:nvPr/>
                    </p:nvSpPr>
                    <p:spPr>
                      <a:xfrm>
                        <a:off x="7489800" y="1179360"/>
                        <a:ext cx="144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Line 1619"/>
                      <p:cNvSpPr/>
                      <p:nvPr/>
                    </p:nvSpPr>
                    <p:spPr>
                      <a:xfrm>
                        <a:off x="7480440" y="1176480"/>
                        <a:ext cx="1440" cy="363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Line 1620"/>
                      <p:cNvSpPr/>
                      <p:nvPr/>
                    </p:nvSpPr>
                    <p:spPr>
                      <a:xfrm>
                        <a:off x="7472520" y="1173240"/>
                        <a:ext cx="144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Line 1621"/>
                      <p:cNvSpPr/>
                      <p:nvPr/>
                    </p:nvSpPr>
                    <p:spPr>
                      <a:xfrm>
                        <a:off x="7462800" y="1170000"/>
                        <a:ext cx="180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7" name="Group 1622"/>
                    <p:cNvGrpSpPr/>
                    <p:nvPr/>
                  </p:nvGrpSpPr>
                  <p:grpSpPr>
                    <a:xfrm>
                      <a:off x="7462800" y="1168560"/>
                      <a:ext cx="58680" cy="53640"/>
                      <a:chOff x="7462800" y="1168560"/>
                      <a:chExt cx="58680" cy="53640"/>
                    </a:xfrm>
                  </p:grpSpPr>
                  <p:sp>
                    <p:nvSpPr>
                      <p:cNvPr id="698" name="Line 1623"/>
                      <p:cNvSpPr/>
                      <p:nvPr/>
                    </p:nvSpPr>
                    <p:spPr>
                      <a:xfrm>
                        <a:off x="7520040" y="1187280"/>
                        <a:ext cx="144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Line 1624"/>
                      <p:cNvSpPr/>
                      <p:nvPr/>
                    </p:nvSpPr>
                    <p:spPr>
                      <a:xfrm>
                        <a:off x="7512120" y="1184400"/>
                        <a:ext cx="1440" cy="363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Line 1625"/>
                      <p:cNvSpPr/>
                      <p:nvPr/>
                    </p:nvSpPr>
                    <p:spPr>
                      <a:xfrm>
                        <a:off x="7505640" y="1182600"/>
                        <a:ext cx="180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Line 1626"/>
                      <p:cNvSpPr/>
                      <p:nvPr/>
                    </p:nvSpPr>
                    <p:spPr>
                      <a:xfrm>
                        <a:off x="7497720" y="1177920"/>
                        <a:ext cx="1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627"/>
                      <p:cNvSpPr/>
                      <p:nvPr/>
                    </p:nvSpPr>
                    <p:spPr>
                      <a:xfrm>
                        <a:off x="7489800" y="1173240"/>
                        <a:ext cx="144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628"/>
                      <p:cNvSpPr/>
                      <p:nvPr/>
                    </p:nvSpPr>
                    <p:spPr>
                      <a:xfrm>
                        <a:off x="7481880" y="1171440"/>
                        <a:ext cx="144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1629"/>
                      <p:cNvSpPr/>
                      <p:nvPr/>
                    </p:nvSpPr>
                    <p:spPr>
                      <a:xfrm>
                        <a:off x="7472520" y="1170000"/>
                        <a:ext cx="144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Line 1630"/>
                      <p:cNvSpPr/>
                      <p:nvPr/>
                    </p:nvSpPr>
                    <p:spPr>
                      <a:xfrm>
                        <a:off x="7462800" y="1168560"/>
                        <a:ext cx="1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06" name="Group 1631"/>
                <p:cNvGrpSpPr/>
                <p:nvPr/>
              </p:nvGrpSpPr>
              <p:grpSpPr>
                <a:xfrm>
                  <a:off x="7294680" y="1108080"/>
                  <a:ext cx="136440" cy="96840"/>
                  <a:chOff x="7294680" y="1108080"/>
                  <a:chExt cx="136440" cy="96840"/>
                </a:xfrm>
              </p:grpSpPr>
              <p:grpSp>
                <p:nvGrpSpPr>
                  <p:cNvPr id="707" name="Group 1632"/>
                  <p:cNvGrpSpPr/>
                  <p:nvPr/>
                </p:nvGrpSpPr>
                <p:grpSpPr>
                  <a:xfrm>
                    <a:off x="7296120" y="1108080"/>
                    <a:ext cx="135000" cy="96840"/>
                    <a:chOff x="7296120" y="1108080"/>
                    <a:chExt cx="135000" cy="96840"/>
                  </a:xfrm>
                </p:grpSpPr>
                <p:sp>
                  <p:nvSpPr>
                    <p:cNvPr id="708" name="Freeform 1633"/>
                    <p:cNvSpPr/>
                    <p:nvPr/>
                  </p:nvSpPr>
                  <p:spPr>
                    <a:xfrm>
                      <a:off x="741204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1634"/>
                    <p:cNvSpPr/>
                    <p:nvPr/>
                  </p:nvSpPr>
                  <p:spPr>
                    <a:xfrm>
                      <a:off x="7386480" y="1138320"/>
                      <a:ext cx="20880" cy="65160"/>
                    </a:xfrm>
                    <a:custGeom>
                      <a:avLst/>
                      <a:gdLst>
                        <a:gd name="textAreaLeft" fmla="*/ 0 w 20880"/>
                        <a:gd name="textAreaRight" fmla="*/ 21240 w 2088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1635"/>
                    <p:cNvSpPr/>
                    <p:nvPr/>
                  </p:nvSpPr>
                  <p:spPr>
                    <a:xfrm>
                      <a:off x="7359480" y="1130400"/>
                      <a:ext cx="22320" cy="698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636"/>
                    <p:cNvSpPr/>
                    <p:nvPr/>
                  </p:nvSpPr>
                  <p:spPr>
                    <a:xfrm>
                      <a:off x="7329600" y="1119240"/>
                      <a:ext cx="25200" cy="76320"/>
                    </a:xfrm>
                    <a:custGeom>
                      <a:avLst/>
                      <a:gdLst>
                        <a:gd name="textAreaLeft" fmla="*/ 0 w 25200"/>
                        <a:gd name="textAreaRight" fmla="*/ 25560 w 2520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6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5" y="47"/>
                          </a:lnTo>
                          <a:lnTo>
                            <a:pt x="15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1637"/>
                    <p:cNvSpPr/>
                    <p:nvPr/>
                  </p:nvSpPr>
                  <p:spPr>
                    <a:xfrm>
                      <a:off x="7296120" y="1108080"/>
                      <a:ext cx="30240" cy="842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9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8" y="52"/>
                          </a:lnTo>
                          <a:lnTo>
                            <a:pt x="18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638"/>
                  <p:cNvGrpSpPr/>
                  <p:nvPr/>
                </p:nvGrpSpPr>
                <p:grpSpPr>
                  <a:xfrm>
                    <a:off x="7294680" y="1108080"/>
                    <a:ext cx="133200" cy="96840"/>
                    <a:chOff x="7294680" y="1108080"/>
                    <a:chExt cx="133200" cy="96840"/>
                  </a:xfrm>
                </p:grpSpPr>
                <p:sp>
                  <p:nvSpPr>
                    <p:cNvPr id="714" name="Freeform 1639"/>
                    <p:cNvSpPr/>
                    <p:nvPr/>
                  </p:nvSpPr>
                  <p:spPr>
                    <a:xfrm>
                      <a:off x="740880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640"/>
                    <p:cNvSpPr/>
                    <p:nvPr/>
                  </p:nvSpPr>
                  <p:spPr>
                    <a:xfrm>
                      <a:off x="7383600" y="1138320"/>
                      <a:ext cx="20520" cy="651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1641"/>
                    <p:cNvSpPr/>
                    <p:nvPr/>
                  </p:nvSpPr>
                  <p:spPr>
                    <a:xfrm>
                      <a:off x="7356600" y="1130400"/>
                      <a:ext cx="21960" cy="69840"/>
                    </a:xfrm>
                    <a:custGeom>
                      <a:avLst/>
                      <a:gdLst>
                        <a:gd name="textAreaLeft" fmla="*/ 0 w 21960"/>
                        <a:gd name="textAreaRight" fmla="*/ 22320 w 2196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Freeform 1642"/>
                    <p:cNvSpPr/>
                    <p:nvPr/>
                  </p:nvSpPr>
                  <p:spPr>
                    <a:xfrm>
                      <a:off x="7327800" y="1119240"/>
                      <a:ext cx="23760" cy="7632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5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4" y="47"/>
                          </a:lnTo>
                          <a:lnTo>
                            <a:pt x="14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1643"/>
                    <p:cNvSpPr/>
                    <p:nvPr/>
                  </p:nvSpPr>
                  <p:spPr>
                    <a:xfrm>
                      <a:off x="7294680" y="1108080"/>
                      <a:ext cx="28440" cy="8424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8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7" y="52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1644"/>
                  <p:cNvGrpSpPr/>
                  <p:nvPr/>
                </p:nvGrpSpPr>
                <p:grpSpPr>
                  <a:xfrm>
                    <a:off x="7294680" y="1108080"/>
                    <a:ext cx="135000" cy="96840"/>
                    <a:chOff x="7294680" y="1108080"/>
                    <a:chExt cx="135000" cy="96840"/>
                  </a:xfrm>
                </p:grpSpPr>
                <p:sp>
                  <p:nvSpPr>
                    <p:cNvPr id="720" name="Freeform 1645"/>
                    <p:cNvSpPr/>
                    <p:nvPr/>
                  </p:nvSpPr>
                  <p:spPr>
                    <a:xfrm>
                      <a:off x="741060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1646"/>
                    <p:cNvSpPr/>
                    <p:nvPr/>
                  </p:nvSpPr>
                  <p:spPr>
                    <a:xfrm>
                      <a:off x="7385040" y="1138320"/>
                      <a:ext cx="20520" cy="651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1647"/>
                    <p:cNvSpPr/>
                    <p:nvPr/>
                  </p:nvSpPr>
                  <p:spPr>
                    <a:xfrm>
                      <a:off x="7358040" y="1130400"/>
                      <a:ext cx="22320" cy="698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Freeform 1648"/>
                    <p:cNvSpPr/>
                    <p:nvPr/>
                  </p:nvSpPr>
                  <p:spPr>
                    <a:xfrm>
                      <a:off x="7329600" y="1119240"/>
                      <a:ext cx="23760" cy="7632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5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4" y="47"/>
                          </a:lnTo>
                          <a:lnTo>
                            <a:pt x="14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649"/>
                    <p:cNvSpPr/>
                    <p:nvPr/>
                  </p:nvSpPr>
                  <p:spPr>
                    <a:xfrm>
                      <a:off x="7294680" y="1108080"/>
                      <a:ext cx="29880" cy="8424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9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8" y="52"/>
                          </a:lnTo>
                          <a:lnTo>
                            <a:pt x="18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25" name="Group 1650"/>
          <p:cNvGrpSpPr/>
          <p:nvPr/>
        </p:nvGrpSpPr>
        <p:grpSpPr>
          <a:xfrm>
            <a:off x="2411280" y="2492280"/>
            <a:ext cx="284400" cy="390600"/>
            <a:chOff x="2411280" y="2492280"/>
            <a:chExt cx="284400" cy="390600"/>
          </a:xfrm>
        </p:grpSpPr>
        <p:grpSp>
          <p:nvGrpSpPr>
            <p:cNvPr id="726" name="Group 1651"/>
            <p:cNvGrpSpPr/>
            <p:nvPr/>
          </p:nvGrpSpPr>
          <p:grpSpPr>
            <a:xfrm>
              <a:off x="2411280" y="2514600"/>
              <a:ext cx="39960" cy="347760"/>
              <a:chOff x="2411280" y="2514600"/>
              <a:chExt cx="39960" cy="347760"/>
            </a:xfrm>
          </p:grpSpPr>
          <p:sp>
            <p:nvSpPr>
              <p:cNvPr id="727" name="Freeform 1652"/>
              <p:cNvSpPr/>
              <p:nvPr/>
            </p:nvSpPr>
            <p:spPr>
              <a:xfrm>
                <a:off x="2411280" y="2514600"/>
                <a:ext cx="39960" cy="347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653"/>
              <p:cNvSpPr/>
              <p:nvPr/>
            </p:nvSpPr>
            <p:spPr>
              <a:xfrm>
                <a:off x="2411280" y="251460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654"/>
            <p:cNvGrpSpPr/>
            <p:nvPr/>
          </p:nvGrpSpPr>
          <p:grpSpPr>
            <a:xfrm>
              <a:off x="2416320" y="2492280"/>
              <a:ext cx="279360" cy="390600"/>
              <a:chOff x="2416320" y="2492280"/>
              <a:chExt cx="279360" cy="390600"/>
            </a:xfrm>
          </p:grpSpPr>
          <p:sp>
            <p:nvSpPr>
              <p:cNvPr id="730" name="Freeform 1655"/>
              <p:cNvSpPr/>
              <p:nvPr/>
            </p:nvSpPr>
            <p:spPr>
              <a:xfrm>
                <a:off x="2416320" y="249228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656"/>
              <p:cNvSpPr/>
              <p:nvPr/>
            </p:nvSpPr>
            <p:spPr>
              <a:xfrm>
                <a:off x="2422440" y="2860560"/>
                <a:ext cx="268200" cy="22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657"/>
              <p:cNvSpPr/>
              <p:nvPr/>
            </p:nvSpPr>
            <p:spPr>
              <a:xfrm>
                <a:off x="2427120" y="2514600"/>
                <a:ext cx="268560" cy="3477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658"/>
              <p:cNvSpPr/>
              <p:nvPr/>
            </p:nvSpPr>
            <p:spPr>
              <a:xfrm>
                <a:off x="2455920" y="263052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59"/>
              <p:cNvSpPr/>
              <p:nvPr/>
            </p:nvSpPr>
            <p:spPr>
              <a:xfrm>
                <a:off x="2432160" y="282096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1660"/>
          <p:cNvGrpSpPr/>
          <p:nvPr/>
        </p:nvGrpSpPr>
        <p:grpSpPr>
          <a:xfrm>
            <a:off x="2268360" y="2133720"/>
            <a:ext cx="284400" cy="390240"/>
            <a:chOff x="2268360" y="2133720"/>
            <a:chExt cx="284400" cy="390240"/>
          </a:xfrm>
        </p:grpSpPr>
        <p:grpSp>
          <p:nvGrpSpPr>
            <p:cNvPr id="736" name="Group 1661"/>
            <p:cNvGrpSpPr/>
            <p:nvPr/>
          </p:nvGrpSpPr>
          <p:grpSpPr>
            <a:xfrm>
              <a:off x="2268360" y="2155680"/>
              <a:ext cx="39960" cy="346320"/>
              <a:chOff x="2268360" y="2155680"/>
              <a:chExt cx="39960" cy="346320"/>
            </a:xfrm>
          </p:grpSpPr>
          <p:sp>
            <p:nvSpPr>
              <p:cNvPr id="737" name="Freeform 1662"/>
              <p:cNvSpPr/>
              <p:nvPr/>
            </p:nvSpPr>
            <p:spPr>
              <a:xfrm>
                <a:off x="2268360" y="2155680"/>
                <a:ext cx="39960" cy="3463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" h="218">
                    <a:moveTo>
                      <a:pt x="10" y="0"/>
                    </a:moveTo>
                    <a:lnTo>
                      <a:pt x="0" y="24"/>
                    </a:lnTo>
                    <a:lnTo>
                      <a:pt x="0" y="193"/>
                    </a:lnTo>
                    <a:lnTo>
                      <a:pt x="14" y="217"/>
                    </a:lnTo>
                    <a:lnTo>
                      <a:pt x="24" y="193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63"/>
              <p:cNvSpPr/>
              <p:nvPr/>
            </p:nvSpPr>
            <p:spPr>
              <a:xfrm>
                <a:off x="2268360" y="2155680"/>
                <a:ext cx="33480" cy="346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1" h="218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3"/>
                    </a:lnTo>
                    <a:lnTo>
                      <a:pt x="13" y="217"/>
                    </a:lnTo>
                    <a:lnTo>
                      <a:pt x="0" y="193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1664"/>
            <p:cNvGrpSpPr/>
            <p:nvPr/>
          </p:nvGrpSpPr>
          <p:grpSpPr>
            <a:xfrm>
              <a:off x="2273400" y="2133720"/>
              <a:ext cx="279360" cy="390240"/>
              <a:chOff x="2273400" y="2133720"/>
              <a:chExt cx="279360" cy="390240"/>
            </a:xfrm>
          </p:grpSpPr>
          <p:sp>
            <p:nvSpPr>
              <p:cNvPr id="740" name="Freeform 1665"/>
              <p:cNvSpPr/>
              <p:nvPr/>
            </p:nvSpPr>
            <p:spPr>
              <a:xfrm>
                <a:off x="2273400" y="213372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66"/>
              <p:cNvSpPr/>
              <p:nvPr/>
            </p:nvSpPr>
            <p:spPr>
              <a:xfrm>
                <a:off x="2279520" y="2500200"/>
                <a:ext cx="268560" cy="237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69" h="15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1"/>
                    </a:lnTo>
                    <a:lnTo>
                      <a:pt x="161" y="14"/>
                    </a:lnTo>
                    <a:lnTo>
                      <a:pt x="0" y="1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67"/>
              <p:cNvSpPr/>
              <p:nvPr/>
            </p:nvSpPr>
            <p:spPr>
              <a:xfrm>
                <a:off x="2284560" y="2155680"/>
                <a:ext cx="268200" cy="346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69" h="218">
                    <a:moveTo>
                      <a:pt x="3" y="217"/>
                    </a:moveTo>
                    <a:lnTo>
                      <a:pt x="154" y="217"/>
                    </a:lnTo>
                    <a:lnTo>
                      <a:pt x="168" y="193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3"/>
                    </a:lnTo>
                    <a:lnTo>
                      <a:pt x="3" y="217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668"/>
              <p:cNvSpPr/>
              <p:nvPr/>
            </p:nvSpPr>
            <p:spPr>
              <a:xfrm>
                <a:off x="2313000" y="227160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669"/>
              <p:cNvSpPr/>
              <p:nvPr/>
            </p:nvSpPr>
            <p:spPr>
              <a:xfrm>
                <a:off x="2289240" y="2462040"/>
                <a:ext cx="263520" cy="399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6" h="25">
                    <a:moveTo>
                      <a:pt x="10" y="0"/>
                    </a:moveTo>
                    <a:lnTo>
                      <a:pt x="0" y="24"/>
                    </a:lnTo>
                    <a:lnTo>
                      <a:pt x="151" y="24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Group 1670"/>
          <p:cNvGrpSpPr/>
          <p:nvPr/>
        </p:nvGrpSpPr>
        <p:grpSpPr>
          <a:xfrm>
            <a:off x="1979640" y="2492280"/>
            <a:ext cx="284040" cy="390600"/>
            <a:chOff x="1979640" y="2492280"/>
            <a:chExt cx="284040" cy="390600"/>
          </a:xfrm>
        </p:grpSpPr>
        <p:grpSp>
          <p:nvGrpSpPr>
            <p:cNvPr id="746" name="Group 1671"/>
            <p:cNvGrpSpPr/>
            <p:nvPr/>
          </p:nvGrpSpPr>
          <p:grpSpPr>
            <a:xfrm>
              <a:off x="1979640" y="2514600"/>
              <a:ext cx="39600" cy="347760"/>
              <a:chOff x="1979640" y="2514600"/>
              <a:chExt cx="39600" cy="347760"/>
            </a:xfrm>
          </p:grpSpPr>
          <p:sp>
            <p:nvSpPr>
              <p:cNvPr id="747" name="Freeform 1672"/>
              <p:cNvSpPr/>
              <p:nvPr/>
            </p:nvSpPr>
            <p:spPr>
              <a:xfrm>
                <a:off x="1979640" y="251460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673"/>
              <p:cNvSpPr/>
              <p:nvPr/>
            </p:nvSpPr>
            <p:spPr>
              <a:xfrm>
                <a:off x="1979640" y="251460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674"/>
            <p:cNvGrpSpPr/>
            <p:nvPr/>
          </p:nvGrpSpPr>
          <p:grpSpPr>
            <a:xfrm>
              <a:off x="1984320" y="2492280"/>
              <a:ext cx="279360" cy="390600"/>
              <a:chOff x="1984320" y="2492280"/>
              <a:chExt cx="279360" cy="390600"/>
            </a:xfrm>
          </p:grpSpPr>
          <p:sp>
            <p:nvSpPr>
              <p:cNvPr id="750" name="Freeform 1675"/>
              <p:cNvSpPr/>
              <p:nvPr/>
            </p:nvSpPr>
            <p:spPr>
              <a:xfrm>
                <a:off x="1984320" y="249228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676"/>
              <p:cNvSpPr/>
              <p:nvPr/>
            </p:nvSpPr>
            <p:spPr>
              <a:xfrm>
                <a:off x="1990800" y="2860560"/>
                <a:ext cx="268200" cy="22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677"/>
              <p:cNvSpPr/>
              <p:nvPr/>
            </p:nvSpPr>
            <p:spPr>
              <a:xfrm>
                <a:off x="1995480" y="251460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678"/>
              <p:cNvSpPr/>
              <p:nvPr/>
            </p:nvSpPr>
            <p:spPr>
              <a:xfrm>
                <a:off x="2023920" y="263052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679"/>
              <p:cNvSpPr/>
              <p:nvPr/>
            </p:nvSpPr>
            <p:spPr>
              <a:xfrm>
                <a:off x="2000160" y="282096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Group 1680"/>
          <p:cNvGrpSpPr/>
          <p:nvPr/>
        </p:nvGrpSpPr>
        <p:grpSpPr>
          <a:xfrm>
            <a:off x="3424320" y="1989000"/>
            <a:ext cx="822240" cy="586080"/>
            <a:chOff x="3424320" y="1989000"/>
            <a:chExt cx="822240" cy="586080"/>
          </a:xfrm>
        </p:grpSpPr>
        <p:sp>
          <p:nvSpPr>
            <p:cNvPr id="756" name="Line 1681"/>
            <p:cNvSpPr/>
            <p:nvPr/>
          </p:nvSpPr>
          <p:spPr>
            <a:xfrm>
              <a:off x="3498840" y="2146320"/>
              <a:ext cx="67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82"/>
            <p:cNvGrpSpPr/>
            <p:nvPr/>
          </p:nvGrpSpPr>
          <p:grpSpPr>
            <a:xfrm>
              <a:off x="3424320" y="1989000"/>
              <a:ext cx="822240" cy="586080"/>
              <a:chOff x="3424320" y="1989000"/>
              <a:chExt cx="822240" cy="586080"/>
            </a:xfrm>
          </p:grpSpPr>
          <p:grpSp>
            <p:nvGrpSpPr>
              <p:cNvPr id="758" name="Group 1683"/>
              <p:cNvGrpSpPr/>
              <p:nvPr/>
            </p:nvGrpSpPr>
            <p:grpSpPr>
              <a:xfrm>
                <a:off x="3440160" y="1989000"/>
                <a:ext cx="795240" cy="211680"/>
                <a:chOff x="3440160" y="1989000"/>
                <a:chExt cx="795240" cy="211680"/>
              </a:xfrm>
            </p:grpSpPr>
            <p:sp>
              <p:nvSpPr>
                <p:cNvPr id="759" name="Freeform 1684"/>
                <p:cNvSpPr/>
                <p:nvPr/>
              </p:nvSpPr>
              <p:spPr>
                <a:xfrm>
                  <a:off x="3440160" y="1989000"/>
                  <a:ext cx="793800" cy="17460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00" h="110">
                      <a:moveTo>
                        <a:pt x="0" y="109"/>
                      </a:moveTo>
                      <a:lnTo>
                        <a:pt x="499" y="109"/>
                      </a:lnTo>
                      <a:lnTo>
                        <a:pt x="250" y="0"/>
                      </a:lnTo>
                      <a:lnTo>
                        <a:pt x="0" y="10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685"/>
                <p:cNvSpPr/>
                <p:nvPr/>
              </p:nvSpPr>
              <p:spPr>
                <a:xfrm>
                  <a:off x="3498840" y="2001960"/>
                  <a:ext cx="679320" cy="145800"/>
                </a:xfrm>
                <a:custGeom>
                  <a:avLst/>
                  <a:gdLst/>
                  <a:ahLst/>
                  <a:rect l="l" t="t" r="r" b="b"/>
                  <a:pathLst>
                    <a:path w="428" h="92">
                      <a:moveTo>
                        <a:pt x="0" y="91"/>
                      </a:moveTo>
                      <a:lnTo>
                        <a:pt x="427" y="91"/>
                      </a:lnTo>
                      <a:lnTo>
                        <a:pt x="214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1686"/>
                <p:cNvSpPr/>
                <p:nvPr/>
              </p:nvSpPr>
              <p:spPr>
                <a:xfrm>
                  <a:off x="3441600" y="2178000"/>
                  <a:ext cx="79380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1687"/>
                <p:cNvSpPr/>
                <p:nvPr/>
              </p:nvSpPr>
              <p:spPr>
                <a:xfrm>
                  <a:off x="3452760" y="220032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1688"/>
              <p:cNvGrpSpPr/>
              <p:nvPr/>
            </p:nvGrpSpPr>
            <p:grpSpPr>
              <a:xfrm>
                <a:off x="3424320" y="2513160"/>
                <a:ext cx="822240" cy="61920"/>
                <a:chOff x="3424320" y="2513160"/>
                <a:chExt cx="822240" cy="61920"/>
              </a:xfrm>
            </p:grpSpPr>
            <p:sp>
              <p:nvSpPr>
                <p:cNvPr id="764" name="Rectangle 1689"/>
                <p:cNvSpPr/>
                <p:nvPr/>
              </p:nvSpPr>
              <p:spPr>
                <a:xfrm>
                  <a:off x="3475080" y="2513160"/>
                  <a:ext cx="7207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1690"/>
                <p:cNvSpPr/>
                <p:nvPr/>
              </p:nvSpPr>
              <p:spPr>
                <a:xfrm>
                  <a:off x="3424320" y="2568600"/>
                  <a:ext cx="822240" cy="64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Rectangle 1691"/>
                <p:cNvSpPr/>
                <p:nvPr/>
              </p:nvSpPr>
              <p:spPr>
                <a:xfrm>
                  <a:off x="3452760" y="253044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Rectangle 1692"/>
                <p:cNvSpPr/>
                <p:nvPr/>
              </p:nvSpPr>
              <p:spPr>
                <a:xfrm>
                  <a:off x="3441600" y="2548080"/>
                  <a:ext cx="78768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Group 1693"/>
            <p:cNvGrpSpPr/>
            <p:nvPr/>
          </p:nvGrpSpPr>
          <p:grpSpPr>
            <a:xfrm>
              <a:off x="3492360" y="2214720"/>
              <a:ext cx="681120" cy="287280"/>
              <a:chOff x="3492360" y="2214720"/>
              <a:chExt cx="681120" cy="287280"/>
            </a:xfrm>
          </p:grpSpPr>
          <p:grpSp>
            <p:nvGrpSpPr>
              <p:cNvPr id="769" name="Group 1694"/>
              <p:cNvGrpSpPr/>
              <p:nvPr/>
            </p:nvGrpSpPr>
            <p:grpSpPr>
              <a:xfrm>
                <a:off x="3592440" y="2214720"/>
                <a:ext cx="77760" cy="287280"/>
                <a:chOff x="3592440" y="2214720"/>
                <a:chExt cx="77760" cy="287280"/>
              </a:xfrm>
            </p:grpSpPr>
            <p:sp>
              <p:nvSpPr>
                <p:cNvPr id="770" name="Rectangle 1695"/>
                <p:cNvSpPr/>
                <p:nvPr/>
              </p:nvSpPr>
              <p:spPr>
                <a:xfrm>
                  <a:off x="35924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1696"/>
                <p:cNvSpPr/>
                <p:nvPr/>
              </p:nvSpPr>
              <p:spPr>
                <a:xfrm>
                  <a:off x="35924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1697"/>
                <p:cNvGrpSpPr/>
                <p:nvPr/>
              </p:nvGrpSpPr>
              <p:grpSpPr>
                <a:xfrm>
                  <a:off x="3608280" y="2230560"/>
                  <a:ext cx="50760" cy="255600"/>
                  <a:chOff x="3608280" y="2230560"/>
                  <a:chExt cx="50760" cy="255600"/>
                </a:xfrm>
              </p:grpSpPr>
              <p:sp>
                <p:nvSpPr>
                  <p:cNvPr id="773" name="Rectangle 1698"/>
                  <p:cNvSpPr/>
                  <p:nvPr/>
                </p:nvSpPr>
                <p:spPr>
                  <a:xfrm>
                    <a:off x="3608280" y="2230560"/>
                    <a:ext cx="507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Rectangle 1699"/>
                  <p:cNvSpPr/>
                  <p:nvPr/>
                </p:nvSpPr>
                <p:spPr>
                  <a:xfrm>
                    <a:off x="36259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Rectangle 1700"/>
                  <p:cNvSpPr/>
                  <p:nvPr/>
                </p:nvSpPr>
                <p:spPr>
                  <a:xfrm>
                    <a:off x="363996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Rectangle 1701"/>
                  <p:cNvSpPr/>
                  <p:nvPr/>
                </p:nvSpPr>
                <p:spPr>
                  <a:xfrm>
                    <a:off x="36529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702"/>
                  <p:cNvSpPr/>
                  <p:nvPr/>
                </p:nvSpPr>
                <p:spPr>
                  <a:xfrm>
                    <a:off x="36115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8" name="Group 1703"/>
              <p:cNvGrpSpPr/>
              <p:nvPr/>
            </p:nvGrpSpPr>
            <p:grpSpPr>
              <a:xfrm>
                <a:off x="3695760" y="2214720"/>
                <a:ext cx="76320" cy="287280"/>
                <a:chOff x="3695760" y="2214720"/>
                <a:chExt cx="76320" cy="287280"/>
              </a:xfrm>
            </p:grpSpPr>
            <p:sp>
              <p:nvSpPr>
                <p:cNvPr id="779" name="Rectangle 1704"/>
                <p:cNvSpPr/>
                <p:nvPr/>
              </p:nvSpPr>
              <p:spPr>
                <a:xfrm>
                  <a:off x="369576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705"/>
                <p:cNvSpPr/>
                <p:nvPr/>
              </p:nvSpPr>
              <p:spPr>
                <a:xfrm>
                  <a:off x="369576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1" name="Group 1706"/>
                <p:cNvGrpSpPr/>
                <p:nvPr/>
              </p:nvGrpSpPr>
              <p:grpSpPr>
                <a:xfrm>
                  <a:off x="3710160" y="2230560"/>
                  <a:ext cx="52200" cy="255600"/>
                  <a:chOff x="3710160" y="2230560"/>
                  <a:chExt cx="52200" cy="255600"/>
                </a:xfrm>
              </p:grpSpPr>
              <p:sp>
                <p:nvSpPr>
                  <p:cNvPr id="782" name="Rectangle 1707"/>
                  <p:cNvSpPr/>
                  <p:nvPr/>
                </p:nvSpPr>
                <p:spPr>
                  <a:xfrm>
                    <a:off x="371016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Rectangle 1708"/>
                  <p:cNvSpPr/>
                  <p:nvPr/>
                </p:nvSpPr>
                <p:spPr>
                  <a:xfrm>
                    <a:off x="372744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Rectangle 1709"/>
                  <p:cNvSpPr/>
                  <p:nvPr/>
                </p:nvSpPr>
                <p:spPr>
                  <a:xfrm>
                    <a:off x="374184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Rectangle 1710"/>
                  <p:cNvSpPr/>
                  <p:nvPr/>
                </p:nvSpPr>
                <p:spPr>
                  <a:xfrm>
                    <a:off x="375444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Rectangle 1711"/>
                  <p:cNvSpPr/>
                  <p:nvPr/>
                </p:nvSpPr>
                <p:spPr>
                  <a:xfrm>
                    <a:off x="371484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7" name="Group 1712"/>
              <p:cNvGrpSpPr/>
              <p:nvPr/>
            </p:nvGrpSpPr>
            <p:grpSpPr>
              <a:xfrm>
                <a:off x="3794040" y="2214720"/>
                <a:ext cx="77760" cy="287280"/>
                <a:chOff x="3794040" y="2214720"/>
                <a:chExt cx="77760" cy="287280"/>
              </a:xfrm>
            </p:grpSpPr>
            <p:sp>
              <p:nvSpPr>
                <p:cNvPr id="788" name="Rectangle 1713"/>
                <p:cNvSpPr/>
                <p:nvPr/>
              </p:nvSpPr>
              <p:spPr>
                <a:xfrm>
                  <a:off x="37940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1714"/>
                <p:cNvSpPr/>
                <p:nvPr/>
              </p:nvSpPr>
              <p:spPr>
                <a:xfrm>
                  <a:off x="37940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Group 1715"/>
                <p:cNvGrpSpPr/>
                <p:nvPr/>
              </p:nvGrpSpPr>
              <p:grpSpPr>
                <a:xfrm>
                  <a:off x="3808440" y="2230560"/>
                  <a:ext cx="52200" cy="255600"/>
                  <a:chOff x="3808440" y="2230560"/>
                  <a:chExt cx="52200" cy="255600"/>
                </a:xfrm>
              </p:grpSpPr>
              <p:sp>
                <p:nvSpPr>
                  <p:cNvPr id="791" name="Rectangle 1716"/>
                  <p:cNvSpPr/>
                  <p:nvPr/>
                </p:nvSpPr>
                <p:spPr>
                  <a:xfrm>
                    <a:off x="380844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Rectangle 1717"/>
                  <p:cNvSpPr/>
                  <p:nvPr/>
                </p:nvSpPr>
                <p:spPr>
                  <a:xfrm>
                    <a:off x="3825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Rectangle 1718"/>
                  <p:cNvSpPr/>
                  <p:nvPr/>
                </p:nvSpPr>
                <p:spPr>
                  <a:xfrm>
                    <a:off x="38401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Rectangle 1719"/>
                  <p:cNvSpPr/>
                  <p:nvPr/>
                </p:nvSpPr>
                <p:spPr>
                  <a:xfrm>
                    <a:off x="38545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Rectangle 1720"/>
                  <p:cNvSpPr/>
                  <p:nvPr/>
                </p:nvSpPr>
                <p:spPr>
                  <a:xfrm>
                    <a:off x="381312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6" name="Group 1721"/>
              <p:cNvGrpSpPr/>
              <p:nvPr/>
            </p:nvGrpSpPr>
            <p:grpSpPr>
              <a:xfrm>
                <a:off x="3894120" y="2214720"/>
                <a:ext cx="76320" cy="287280"/>
                <a:chOff x="3894120" y="2214720"/>
                <a:chExt cx="76320" cy="287280"/>
              </a:xfrm>
            </p:grpSpPr>
            <p:sp>
              <p:nvSpPr>
                <p:cNvPr id="797" name="Rectangle 1722"/>
                <p:cNvSpPr/>
                <p:nvPr/>
              </p:nvSpPr>
              <p:spPr>
                <a:xfrm>
                  <a:off x="389412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723"/>
                <p:cNvSpPr/>
                <p:nvPr/>
              </p:nvSpPr>
              <p:spPr>
                <a:xfrm>
                  <a:off x="389412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9" name="Group 1724"/>
                <p:cNvGrpSpPr/>
                <p:nvPr/>
              </p:nvGrpSpPr>
              <p:grpSpPr>
                <a:xfrm>
                  <a:off x="3908520" y="2230560"/>
                  <a:ext cx="52200" cy="255600"/>
                  <a:chOff x="3908520" y="2230560"/>
                  <a:chExt cx="52200" cy="255600"/>
                </a:xfrm>
              </p:grpSpPr>
              <p:sp>
                <p:nvSpPr>
                  <p:cNvPr id="800" name="Rectangle 1725"/>
                  <p:cNvSpPr/>
                  <p:nvPr/>
                </p:nvSpPr>
                <p:spPr>
                  <a:xfrm>
                    <a:off x="390852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Rectangle 1726"/>
                  <p:cNvSpPr/>
                  <p:nvPr/>
                </p:nvSpPr>
                <p:spPr>
                  <a:xfrm>
                    <a:off x="392580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Rectangle 1727"/>
                  <p:cNvSpPr/>
                  <p:nvPr/>
                </p:nvSpPr>
                <p:spPr>
                  <a:xfrm>
                    <a:off x="3940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Rectangle 1728"/>
                  <p:cNvSpPr/>
                  <p:nvPr/>
                </p:nvSpPr>
                <p:spPr>
                  <a:xfrm>
                    <a:off x="39546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Rectangle 1729"/>
                  <p:cNvSpPr/>
                  <p:nvPr/>
                </p:nvSpPr>
                <p:spPr>
                  <a:xfrm>
                    <a:off x="3913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Group 1730"/>
              <p:cNvGrpSpPr/>
              <p:nvPr/>
            </p:nvGrpSpPr>
            <p:grpSpPr>
              <a:xfrm>
                <a:off x="4095720" y="2214720"/>
                <a:ext cx="77760" cy="287280"/>
                <a:chOff x="4095720" y="2214720"/>
                <a:chExt cx="77760" cy="287280"/>
              </a:xfrm>
            </p:grpSpPr>
            <p:sp>
              <p:nvSpPr>
                <p:cNvPr id="806" name="Rectangle 1731"/>
                <p:cNvSpPr/>
                <p:nvPr/>
              </p:nvSpPr>
              <p:spPr>
                <a:xfrm>
                  <a:off x="409572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1732"/>
                <p:cNvSpPr/>
                <p:nvPr/>
              </p:nvSpPr>
              <p:spPr>
                <a:xfrm>
                  <a:off x="409572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Group 1733"/>
                <p:cNvGrpSpPr/>
                <p:nvPr/>
              </p:nvGrpSpPr>
              <p:grpSpPr>
                <a:xfrm>
                  <a:off x="4110120" y="2230560"/>
                  <a:ext cx="52200" cy="255600"/>
                  <a:chOff x="4110120" y="2230560"/>
                  <a:chExt cx="52200" cy="255600"/>
                </a:xfrm>
              </p:grpSpPr>
              <p:sp>
                <p:nvSpPr>
                  <p:cNvPr id="809" name="Rectangle 1734"/>
                  <p:cNvSpPr/>
                  <p:nvPr/>
                </p:nvSpPr>
                <p:spPr>
                  <a:xfrm>
                    <a:off x="411012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Rectangle 1735"/>
                  <p:cNvSpPr/>
                  <p:nvPr/>
                </p:nvSpPr>
                <p:spPr>
                  <a:xfrm>
                    <a:off x="4129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Rectangle 1736"/>
                  <p:cNvSpPr/>
                  <p:nvPr/>
                </p:nvSpPr>
                <p:spPr>
                  <a:xfrm>
                    <a:off x="414180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Rectangle 1737"/>
                  <p:cNvSpPr/>
                  <p:nvPr/>
                </p:nvSpPr>
                <p:spPr>
                  <a:xfrm>
                    <a:off x="4156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Rectangle 1738"/>
                  <p:cNvSpPr/>
                  <p:nvPr/>
                </p:nvSpPr>
                <p:spPr>
                  <a:xfrm>
                    <a:off x="41148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Group 1739"/>
              <p:cNvGrpSpPr/>
              <p:nvPr/>
            </p:nvGrpSpPr>
            <p:grpSpPr>
              <a:xfrm>
                <a:off x="3492360" y="2214720"/>
                <a:ext cx="76320" cy="287280"/>
                <a:chOff x="3492360" y="2214720"/>
                <a:chExt cx="76320" cy="287280"/>
              </a:xfrm>
            </p:grpSpPr>
            <p:sp>
              <p:nvSpPr>
                <p:cNvPr id="815" name="Rectangle 1740"/>
                <p:cNvSpPr/>
                <p:nvPr/>
              </p:nvSpPr>
              <p:spPr>
                <a:xfrm>
                  <a:off x="349236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1741"/>
                <p:cNvSpPr/>
                <p:nvPr/>
              </p:nvSpPr>
              <p:spPr>
                <a:xfrm>
                  <a:off x="349236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1742"/>
                <p:cNvGrpSpPr/>
                <p:nvPr/>
              </p:nvGrpSpPr>
              <p:grpSpPr>
                <a:xfrm>
                  <a:off x="3506760" y="2230560"/>
                  <a:ext cx="52560" cy="255600"/>
                  <a:chOff x="3506760" y="2230560"/>
                  <a:chExt cx="52560" cy="255600"/>
                </a:xfrm>
              </p:grpSpPr>
              <p:sp>
                <p:nvSpPr>
                  <p:cNvPr id="818" name="Rectangle 1743"/>
                  <p:cNvSpPr/>
                  <p:nvPr/>
                </p:nvSpPr>
                <p:spPr>
                  <a:xfrm>
                    <a:off x="3506760" y="2230560"/>
                    <a:ext cx="525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Rectangle 1744"/>
                  <p:cNvSpPr/>
                  <p:nvPr/>
                </p:nvSpPr>
                <p:spPr>
                  <a:xfrm>
                    <a:off x="3524400" y="223668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Rectangle 1745"/>
                  <p:cNvSpPr/>
                  <p:nvPr/>
                </p:nvSpPr>
                <p:spPr>
                  <a:xfrm>
                    <a:off x="353844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746"/>
                  <p:cNvSpPr/>
                  <p:nvPr/>
                </p:nvSpPr>
                <p:spPr>
                  <a:xfrm>
                    <a:off x="3551400" y="223668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Rectangle 1747"/>
                  <p:cNvSpPr/>
                  <p:nvPr/>
                </p:nvSpPr>
                <p:spPr>
                  <a:xfrm>
                    <a:off x="351144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3" name="Group 1748"/>
              <p:cNvGrpSpPr/>
              <p:nvPr/>
            </p:nvGrpSpPr>
            <p:grpSpPr>
              <a:xfrm>
                <a:off x="3995640" y="2214720"/>
                <a:ext cx="77760" cy="287280"/>
                <a:chOff x="3995640" y="2214720"/>
                <a:chExt cx="77760" cy="287280"/>
              </a:xfrm>
            </p:grpSpPr>
            <p:sp>
              <p:nvSpPr>
                <p:cNvPr id="824" name="Rectangle 1749"/>
                <p:cNvSpPr/>
                <p:nvPr/>
              </p:nvSpPr>
              <p:spPr>
                <a:xfrm>
                  <a:off x="39956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1750"/>
                <p:cNvSpPr/>
                <p:nvPr/>
              </p:nvSpPr>
              <p:spPr>
                <a:xfrm>
                  <a:off x="39956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Group 1751"/>
                <p:cNvGrpSpPr/>
                <p:nvPr/>
              </p:nvGrpSpPr>
              <p:grpSpPr>
                <a:xfrm>
                  <a:off x="4010040" y="2230560"/>
                  <a:ext cx="52200" cy="255600"/>
                  <a:chOff x="4010040" y="2230560"/>
                  <a:chExt cx="52200" cy="255600"/>
                </a:xfrm>
              </p:grpSpPr>
              <p:sp>
                <p:nvSpPr>
                  <p:cNvPr id="827" name="Rectangle 1752"/>
                  <p:cNvSpPr/>
                  <p:nvPr/>
                </p:nvSpPr>
                <p:spPr>
                  <a:xfrm>
                    <a:off x="401004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Rectangle 1753"/>
                  <p:cNvSpPr/>
                  <p:nvPr/>
                </p:nvSpPr>
                <p:spPr>
                  <a:xfrm>
                    <a:off x="40291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Rectangle 1754"/>
                  <p:cNvSpPr/>
                  <p:nvPr/>
                </p:nvSpPr>
                <p:spPr>
                  <a:xfrm>
                    <a:off x="4041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Rectangle 1755"/>
                  <p:cNvSpPr/>
                  <p:nvPr/>
                </p:nvSpPr>
                <p:spPr>
                  <a:xfrm>
                    <a:off x="40561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Rectangle 1756"/>
                  <p:cNvSpPr/>
                  <p:nvPr/>
                </p:nvSpPr>
                <p:spPr>
                  <a:xfrm>
                    <a:off x="4014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2" name="Rectangle 1757"/>
          <p:cNvSpPr/>
          <p:nvPr/>
        </p:nvSpPr>
        <p:spPr>
          <a:xfrm>
            <a:off x="3203640" y="2708280"/>
            <a:ext cx="15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ADUANA</a:t>
            </a:r>
            <a:r>
              <a:rPr b="1" lang="es-MX" sz="1800" spc="-1" strike="noStrike">
                <a:solidFill>
                  <a:srgbClr val="006633"/>
                </a:solidFill>
                <a:latin typeface="Verdana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758"/>
          <p:cNvGrpSpPr/>
          <p:nvPr/>
        </p:nvGrpSpPr>
        <p:grpSpPr>
          <a:xfrm>
            <a:off x="5364000" y="1700280"/>
            <a:ext cx="1432080" cy="907920"/>
            <a:chOff x="5364000" y="1700280"/>
            <a:chExt cx="1432080" cy="907920"/>
          </a:xfrm>
        </p:grpSpPr>
        <p:grpSp>
          <p:nvGrpSpPr>
            <p:cNvPr id="834" name="Group 1759"/>
            <p:cNvGrpSpPr/>
            <p:nvPr/>
          </p:nvGrpSpPr>
          <p:grpSpPr>
            <a:xfrm>
              <a:off x="5364000" y="1700280"/>
              <a:ext cx="870120" cy="434880"/>
              <a:chOff x="5364000" y="1700280"/>
              <a:chExt cx="870120" cy="434880"/>
            </a:xfrm>
          </p:grpSpPr>
          <p:sp>
            <p:nvSpPr>
              <p:cNvPr id="835" name="Oval 1760"/>
              <p:cNvSpPr/>
              <p:nvPr/>
            </p:nvSpPr>
            <p:spPr>
              <a:xfrm>
                <a:off x="5462640" y="1700280"/>
                <a:ext cx="174600" cy="162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1761"/>
              <p:cNvSpPr/>
              <p:nvPr/>
            </p:nvSpPr>
            <p:spPr>
              <a:xfrm>
                <a:off x="5364000" y="1782720"/>
                <a:ext cx="200160" cy="187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Oval 1762"/>
              <p:cNvSpPr/>
              <p:nvPr/>
            </p:nvSpPr>
            <p:spPr>
              <a:xfrm>
                <a:off x="5421240" y="1833480"/>
                <a:ext cx="200160" cy="185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Oval 1763"/>
              <p:cNvSpPr/>
              <p:nvPr/>
            </p:nvSpPr>
            <p:spPr>
              <a:xfrm>
                <a:off x="5592600" y="1717560"/>
                <a:ext cx="200160" cy="185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1764"/>
              <p:cNvSpPr/>
              <p:nvPr/>
            </p:nvSpPr>
            <p:spPr>
              <a:xfrm>
                <a:off x="5761080" y="1785960"/>
                <a:ext cx="200160" cy="187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1765"/>
              <p:cNvSpPr/>
              <p:nvPr/>
            </p:nvSpPr>
            <p:spPr>
              <a:xfrm>
                <a:off x="5902200" y="1855800"/>
                <a:ext cx="17316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1766"/>
              <p:cNvSpPr/>
              <p:nvPr/>
            </p:nvSpPr>
            <p:spPr>
              <a:xfrm>
                <a:off x="5543640" y="1795320"/>
                <a:ext cx="271440" cy="265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1767"/>
              <p:cNvSpPr/>
              <p:nvPr/>
            </p:nvSpPr>
            <p:spPr>
              <a:xfrm>
                <a:off x="5781600" y="1922400"/>
                <a:ext cx="174600" cy="16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768"/>
              <p:cNvSpPr/>
              <p:nvPr/>
            </p:nvSpPr>
            <p:spPr>
              <a:xfrm>
                <a:off x="6000840" y="1917720"/>
                <a:ext cx="17280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1769"/>
              <p:cNvSpPr/>
              <p:nvPr/>
            </p:nvSpPr>
            <p:spPr>
              <a:xfrm>
                <a:off x="5924520" y="1928880"/>
                <a:ext cx="17460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rc 1770"/>
              <p:cNvSpPr/>
              <p:nvPr/>
            </p:nvSpPr>
            <p:spPr>
              <a:xfrm>
                <a:off x="6081840" y="2023920"/>
                <a:ext cx="152280" cy="1112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fill="none" w="43084" h="21600">
                    <a:moveTo>
                      <a:pt x="0" y="19451"/>
                    </a:moveTo>
                    <a:cubicBezTo>
                      <a:pt x="1104" y="8408"/>
                      <a:pt x="10395" y="-1"/>
                      <a:pt x="21493" y="0"/>
                    </a:cubicBezTo>
                    <a:cubicBezTo>
                      <a:pt x="33177" y="0"/>
                      <a:pt x="42743" y="9290"/>
                      <a:pt x="43083" y="20970"/>
                    </a:cubicBezTo>
                  </a:path>
                  <a:path stroke="0" w="43084" h="21600">
                    <a:moveTo>
                      <a:pt x="0" y="19451"/>
                    </a:moveTo>
                    <a:cubicBezTo>
                      <a:pt x="1104" y="8408"/>
                      <a:pt x="10395" y="-1"/>
                      <a:pt x="21493" y="0"/>
                    </a:cubicBezTo>
                    <a:cubicBezTo>
                      <a:pt x="33177" y="0"/>
                      <a:pt x="42743" y="9290"/>
                      <a:pt x="43083" y="20970"/>
                    </a:cubicBezTo>
                    <a:lnTo>
                      <a:pt x="214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771"/>
            <p:cNvGrpSpPr/>
            <p:nvPr/>
          </p:nvGrpSpPr>
          <p:grpSpPr>
            <a:xfrm>
              <a:off x="5505480" y="1881360"/>
              <a:ext cx="1290600" cy="726840"/>
              <a:chOff x="5505480" y="1881360"/>
              <a:chExt cx="1290600" cy="726840"/>
            </a:xfrm>
          </p:grpSpPr>
          <p:grpSp>
            <p:nvGrpSpPr>
              <p:cNvPr id="847" name="Group 1772"/>
              <p:cNvGrpSpPr/>
              <p:nvPr/>
            </p:nvGrpSpPr>
            <p:grpSpPr>
              <a:xfrm>
                <a:off x="6262560" y="1881360"/>
                <a:ext cx="325440" cy="493560"/>
                <a:chOff x="6262560" y="1881360"/>
                <a:chExt cx="325440" cy="493560"/>
              </a:xfrm>
            </p:grpSpPr>
            <p:sp>
              <p:nvSpPr>
                <p:cNvPr id="848" name="Line 1773"/>
                <p:cNvSpPr/>
                <p:nvPr/>
              </p:nvSpPr>
              <p:spPr>
                <a:xfrm>
                  <a:off x="6421320" y="1881360"/>
                  <a:ext cx="1800" cy="49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774"/>
                <p:cNvSpPr/>
                <p:nvPr/>
              </p:nvSpPr>
              <p:spPr>
                <a:xfrm>
                  <a:off x="6362640" y="1965240"/>
                  <a:ext cx="120600" cy="3999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76" h="252">
                      <a:moveTo>
                        <a:pt x="0" y="249"/>
                      </a:moveTo>
                      <a:lnTo>
                        <a:pt x="38" y="0"/>
                      </a:lnTo>
                      <a:lnTo>
                        <a:pt x="75" y="2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775"/>
                <p:cNvSpPr/>
                <p:nvPr/>
              </p:nvSpPr>
              <p:spPr>
                <a:xfrm>
                  <a:off x="6334200" y="2004840"/>
                  <a:ext cx="1825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776"/>
                <p:cNvSpPr/>
                <p:nvPr/>
              </p:nvSpPr>
              <p:spPr>
                <a:xfrm>
                  <a:off x="6262560" y="2251080"/>
                  <a:ext cx="325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777"/>
                <p:cNvSpPr/>
                <p:nvPr/>
              </p:nvSpPr>
              <p:spPr>
                <a:xfrm>
                  <a:off x="6400800" y="2138400"/>
                  <a:ext cx="49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778"/>
                <p:cNvSpPr/>
                <p:nvPr/>
              </p:nvSpPr>
              <p:spPr>
                <a:xfrm>
                  <a:off x="6389640" y="2200320"/>
                  <a:ext cx="716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779"/>
                <p:cNvSpPr/>
                <p:nvPr/>
              </p:nvSpPr>
              <p:spPr>
                <a:xfrm>
                  <a:off x="6380280" y="2301840"/>
                  <a:ext cx="90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1780"/>
              <p:cNvGrpSpPr/>
              <p:nvPr/>
            </p:nvGrpSpPr>
            <p:grpSpPr>
              <a:xfrm>
                <a:off x="5676840" y="1881360"/>
                <a:ext cx="325440" cy="493560"/>
                <a:chOff x="5676840" y="1881360"/>
                <a:chExt cx="325440" cy="493560"/>
              </a:xfrm>
            </p:grpSpPr>
            <p:sp>
              <p:nvSpPr>
                <p:cNvPr id="856" name="Line 1781"/>
                <p:cNvSpPr/>
                <p:nvPr/>
              </p:nvSpPr>
              <p:spPr>
                <a:xfrm>
                  <a:off x="5835600" y="1881360"/>
                  <a:ext cx="1800" cy="49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782"/>
                <p:cNvSpPr/>
                <p:nvPr/>
              </p:nvSpPr>
              <p:spPr>
                <a:xfrm>
                  <a:off x="5776920" y="1965240"/>
                  <a:ext cx="120600" cy="3999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76" h="252">
                      <a:moveTo>
                        <a:pt x="0" y="249"/>
                      </a:moveTo>
                      <a:lnTo>
                        <a:pt x="38" y="0"/>
                      </a:lnTo>
                      <a:lnTo>
                        <a:pt x="75" y="2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783"/>
                <p:cNvSpPr/>
                <p:nvPr/>
              </p:nvSpPr>
              <p:spPr>
                <a:xfrm>
                  <a:off x="5746680" y="2004840"/>
                  <a:ext cx="1843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784"/>
                <p:cNvSpPr/>
                <p:nvPr/>
              </p:nvSpPr>
              <p:spPr>
                <a:xfrm>
                  <a:off x="5676840" y="2251080"/>
                  <a:ext cx="325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1785"/>
                <p:cNvSpPr/>
                <p:nvPr/>
              </p:nvSpPr>
              <p:spPr>
                <a:xfrm>
                  <a:off x="5815080" y="2138400"/>
                  <a:ext cx="49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786"/>
                <p:cNvSpPr/>
                <p:nvPr/>
              </p:nvSpPr>
              <p:spPr>
                <a:xfrm>
                  <a:off x="5803920" y="2200320"/>
                  <a:ext cx="712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787"/>
                <p:cNvSpPr/>
                <p:nvPr/>
              </p:nvSpPr>
              <p:spPr>
                <a:xfrm>
                  <a:off x="5794200" y="2301840"/>
                  <a:ext cx="90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1788"/>
              <p:cNvGrpSpPr/>
              <p:nvPr/>
            </p:nvGrpSpPr>
            <p:grpSpPr>
              <a:xfrm>
                <a:off x="5505480" y="2141640"/>
                <a:ext cx="1290600" cy="466560"/>
                <a:chOff x="5505480" y="2141640"/>
                <a:chExt cx="1290600" cy="466560"/>
              </a:xfrm>
            </p:grpSpPr>
            <p:grpSp>
              <p:nvGrpSpPr>
                <p:cNvPr id="864" name="Group 1789"/>
                <p:cNvGrpSpPr/>
                <p:nvPr/>
              </p:nvGrpSpPr>
              <p:grpSpPr>
                <a:xfrm>
                  <a:off x="5505480" y="2141640"/>
                  <a:ext cx="1290600" cy="466560"/>
                  <a:chOff x="5505480" y="2141640"/>
                  <a:chExt cx="1290600" cy="466560"/>
                </a:xfrm>
              </p:grpSpPr>
              <p:sp>
                <p:nvSpPr>
                  <p:cNvPr id="865" name="Freeform 1790"/>
                  <p:cNvSpPr/>
                  <p:nvPr/>
                </p:nvSpPr>
                <p:spPr>
                  <a:xfrm>
                    <a:off x="5505480" y="2141640"/>
                    <a:ext cx="1290600" cy="466560"/>
                  </a:xfrm>
                  <a:custGeom>
                    <a:avLst/>
                    <a:gdLst>
                      <a:gd name="textAreaLeft" fmla="*/ 0 w 1290600"/>
                      <a:gd name="textAreaRight" fmla="*/ 1290960 w 129060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813" h="294">
                        <a:moveTo>
                          <a:pt x="6" y="156"/>
                        </a:moveTo>
                        <a:lnTo>
                          <a:pt x="3" y="165"/>
                        </a:lnTo>
                        <a:lnTo>
                          <a:pt x="2" y="172"/>
                        </a:lnTo>
                        <a:lnTo>
                          <a:pt x="0" y="182"/>
                        </a:lnTo>
                        <a:lnTo>
                          <a:pt x="0" y="190"/>
                        </a:lnTo>
                        <a:lnTo>
                          <a:pt x="1" y="200"/>
                        </a:lnTo>
                        <a:lnTo>
                          <a:pt x="2" y="205"/>
                        </a:lnTo>
                        <a:lnTo>
                          <a:pt x="4" y="211"/>
                        </a:lnTo>
                        <a:lnTo>
                          <a:pt x="8" y="216"/>
                        </a:lnTo>
                        <a:lnTo>
                          <a:pt x="13" y="222"/>
                        </a:lnTo>
                        <a:lnTo>
                          <a:pt x="18" y="228"/>
                        </a:lnTo>
                        <a:lnTo>
                          <a:pt x="25" y="234"/>
                        </a:lnTo>
                        <a:lnTo>
                          <a:pt x="34" y="242"/>
                        </a:lnTo>
                        <a:lnTo>
                          <a:pt x="44" y="251"/>
                        </a:lnTo>
                        <a:lnTo>
                          <a:pt x="49" y="256"/>
                        </a:lnTo>
                        <a:lnTo>
                          <a:pt x="54" y="264"/>
                        </a:lnTo>
                        <a:lnTo>
                          <a:pt x="64" y="293"/>
                        </a:lnTo>
                        <a:lnTo>
                          <a:pt x="715" y="293"/>
                        </a:lnTo>
                        <a:lnTo>
                          <a:pt x="773" y="170"/>
                        </a:lnTo>
                        <a:lnTo>
                          <a:pt x="797" y="170"/>
                        </a:lnTo>
                        <a:lnTo>
                          <a:pt x="812" y="156"/>
                        </a:lnTo>
                        <a:lnTo>
                          <a:pt x="641" y="156"/>
                        </a:lnTo>
                        <a:lnTo>
                          <a:pt x="656" y="135"/>
                        </a:lnTo>
                        <a:lnTo>
                          <a:pt x="656" y="126"/>
                        </a:lnTo>
                        <a:lnTo>
                          <a:pt x="511" y="126"/>
                        </a:lnTo>
                        <a:lnTo>
                          <a:pt x="511" y="136"/>
                        </a:lnTo>
                        <a:lnTo>
                          <a:pt x="525" y="154"/>
                        </a:lnTo>
                        <a:lnTo>
                          <a:pt x="495" y="154"/>
                        </a:lnTo>
                        <a:lnTo>
                          <a:pt x="488" y="145"/>
                        </a:lnTo>
                        <a:lnTo>
                          <a:pt x="482" y="139"/>
                        </a:lnTo>
                        <a:lnTo>
                          <a:pt x="473" y="132"/>
                        </a:lnTo>
                        <a:lnTo>
                          <a:pt x="466" y="127"/>
                        </a:lnTo>
                        <a:lnTo>
                          <a:pt x="460" y="123"/>
                        </a:lnTo>
                        <a:lnTo>
                          <a:pt x="452" y="120"/>
                        </a:lnTo>
                        <a:lnTo>
                          <a:pt x="444" y="117"/>
                        </a:lnTo>
                        <a:lnTo>
                          <a:pt x="438" y="115"/>
                        </a:lnTo>
                        <a:lnTo>
                          <a:pt x="438" y="17"/>
                        </a:lnTo>
                        <a:lnTo>
                          <a:pt x="451" y="0"/>
                        </a:lnTo>
                        <a:lnTo>
                          <a:pt x="354" y="0"/>
                        </a:lnTo>
                        <a:lnTo>
                          <a:pt x="369" y="17"/>
                        </a:lnTo>
                        <a:lnTo>
                          <a:pt x="369" y="117"/>
                        </a:lnTo>
                        <a:lnTo>
                          <a:pt x="361" y="120"/>
                        </a:lnTo>
                        <a:lnTo>
                          <a:pt x="355" y="123"/>
                        </a:lnTo>
                        <a:lnTo>
                          <a:pt x="348" y="127"/>
                        </a:lnTo>
                        <a:lnTo>
                          <a:pt x="342" y="131"/>
                        </a:lnTo>
                        <a:lnTo>
                          <a:pt x="334" y="137"/>
                        </a:lnTo>
                        <a:lnTo>
                          <a:pt x="328" y="144"/>
                        </a:lnTo>
                        <a:lnTo>
                          <a:pt x="319" y="154"/>
                        </a:lnTo>
                        <a:lnTo>
                          <a:pt x="275" y="154"/>
                        </a:lnTo>
                        <a:lnTo>
                          <a:pt x="290" y="130"/>
                        </a:lnTo>
                        <a:lnTo>
                          <a:pt x="119" y="130"/>
                        </a:lnTo>
                        <a:lnTo>
                          <a:pt x="135" y="156"/>
                        </a:lnTo>
                        <a:lnTo>
                          <a:pt x="6" y="156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6" name="Group 1791"/>
                  <p:cNvGrpSpPr/>
                  <p:nvPr/>
                </p:nvGrpSpPr>
                <p:grpSpPr>
                  <a:xfrm>
                    <a:off x="5713560" y="2475000"/>
                    <a:ext cx="801720" cy="21960"/>
                    <a:chOff x="5713560" y="2475000"/>
                    <a:chExt cx="801720" cy="21960"/>
                  </a:xfrm>
                </p:grpSpPr>
                <p:grpSp>
                  <p:nvGrpSpPr>
                    <p:cNvPr id="867" name="Group 1792"/>
                    <p:cNvGrpSpPr/>
                    <p:nvPr/>
                  </p:nvGrpSpPr>
                  <p:grpSpPr>
                    <a:xfrm>
                      <a:off x="5713560" y="2475000"/>
                      <a:ext cx="168120" cy="21960"/>
                      <a:chOff x="5713560" y="2475000"/>
                      <a:chExt cx="168120" cy="21960"/>
                    </a:xfrm>
                  </p:grpSpPr>
                  <p:sp>
                    <p:nvSpPr>
                      <p:cNvPr id="868" name="Oval 1793"/>
                      <p:cNvSpPr/>
                      <p:nvPr/>
                    </p:nvSpPr>
                    <p:spPr>
                      <a:xfrm>
                        <a:off x="585936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Oval 1794"/>
                      <p:cNvSpPr/>
                      <p:nvPr/>
                    </p:nvSpPr>
                    <p:spPr>
                      <a:xfrm>
                        <a:off x="578484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Oval 1795"/>
                      <p:cNvSpPr/>
                      <p:nvPr/>
                    </p:nvSpPr>
                    <p:spPr>
                      <a:xfrm>
                        <a:off x="5713560" y="2475000"/>
                        <a:ext cx="2196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1" name="Group 1796"/>
                    <p:cNvGrpSpPr/>
                    <p:nvPr/>
                  </p:nvGrpSpPr>
                  <p:grpSpPr>
                    <a:xfrm>
                      <a:off x="6348240" y="2475000"/>
                      <a:ext cx="167040" cy="21960"/>
                      <a:chOff x="6348240" y="2475000"/>
                      <a:chExt cx="167040" cy="21960"/>
                    </a:xfrm>
                  </p:grpSpPr>
                  <p:sp>
                    <p:nvSpPr>
                      <p:cNvPr id="872" name="Oval 1797"/>
                      <p:cNvSpPr/>
                      <p:nvPr/>
                    </p:nvSpPr>
                    <p:spPr>
                      <a:xfrm>
                        <a:off x="649296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Oval 1798"/>
                      <p:cNvSpPr/>
                      <p:nvPr/>
                    </p:nvSpPr>
                    <p:spPr>
                      <a:xfrm>
                        <a:off x="641988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Oval 1799"/>
                      <p:cNvSpPr/>
                      <p:nvPr/>
                    </p:nvSpPr>
                    <p:spPr>
                      <a:xfrm>
                        <a:off x="634824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5" name="Group 1800"/>
                <p:cNvGrpSpPr/>
                <p:nvPr/>
              </p:nvGrpSpPr>
              <p:grpSpPr>
                <a:xfrm>
                  <a:off x="6026040" y="2362320"/>
                  <a:ext cx="274680" cy="242640"/>
                  <a:chOff x="6026040" y="2362320"/>
                  <a:chExt cx="274680" cy="242640"/>
                </a:xfrm>
              </p:grpSpPr>
              <p:grpSp>
                <p:nvGrpSpPr>
                  <p:cNvPr id="876" name="Group 1801"/>
                  <p:cNvGrpSpPr/>
                  <p:nvPr/>
                </p:nvGrpSpPr>
                <p:grpSpPr>
                  <a:xfrm>
                    <a:off x="6026040" y="2362320"/>
                    <a:ext cx="274680" cy="131760"/>
                    <a:chOff x="6026040" y="2362320"/>
                    <a:chExt cx="274680" cy="131760"/>
                  </a:xfrm>
                </p:grpSpPr>
                <p:sp>
                  <p:nvSpPr>
                    <p:cNvPr id="877" name="Arc 1802"/>
                    <p:cNvSpPr/>
                    <p:nvPr/>
                  </p:nvSpPr>
                  <p:spPr>
                    <a:xfrm>
                      <a:off x="6026040" y="2363760"/>
                      <a:ext cx="274680" cy="13032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30320"/>
                        <a:gd name="textAreaBottom" fmla="*/ 130680 h 130320"/>
                      </a:gdLst>
                      <a:ahLst/>
                      <a:rect l="textAreaLeft" t="textAreaTop" r="textAreaRight" b="textAreaBottom"/>
                      <a:pathLst>
                        <a:path fill="none" w="43143" h="21600">
                          <a:moveTo>
                            <a:pt x="-1" y="20032"/>
                          </a:moveTo>
                          <a:cubicBezTo>
                            <a:pt x="821" y="8741"/>
                            <a:pt x="10221" y="-1"/>
                            <a:pt x="21543" y="0"/>
                          </a:cubicBezTo>
                          <a:cubicBezTo>
                            <a:pt x="33472" y="0"/>
                            <a:pt x="43143" y="9670"/>
                            <a:pt x="43143" y="21600"/>
                          </a:cubicBezTo>
                        </a:path>
                        <a:path stroke="0" w="43143" h="21600">
                          <a:moveTo>
                            <a:pt x="-1" y="20032"/>
                          </a:moveTo>
                          <a:cubicBezTo>
                            <a:pt x="821" y="8741"/>
                            <a:pt x="10221" y="-1"/>
                            <a:pt x="21543" y="0"/>
                          </a:cubicBezTo>
                          <a:cubicBezTo>
                            <a:pt x="33472" y="0"/>
                            <a:pt x="43143" y="9670"/>
                            <a:pt x="43143" y="21600"/>
                          </a:cubicBezTo>
                          <a:lnTo>
                            <a:pt x="21543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Arc 1803"/>
                    <p:cNvSpPr/>
                    <p:nvPr/>
                  </p:nvSpPr>
                  <p:spPr>
                    <a:xfrm>
                      <a:off x="6032520" y="2362320"/>
                      <a:ext cx="266760" cy="131760"/>
                    </a:xfrm>
                    <a:custGeom>
                      <a:avLst/>
                      <a:gdLst>
                        <a:gd name="textAreaLeft" fmla="*/ 0 w 266760"/>
                        <a:gd name="textAreaRight" fmla="*/ 267120 w 266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41645" h="21600">
                          <a:moveTo>
                            <a:pt x="-1" y="13557"/>
                          </a:moveTo>
                          <a:cubicBezTo>
                            <a:pt x="3285" y="5367"/>
                            <a:pt x="11222" y="-1"/>
                            <a:pt x="20047" y="0"/>
                          </a:cubicBezTo>
                          <a:cubicBezTo>
                            <a:pt x="31873" y="0"/>
                            <a:pt x="41501" y="9511"/>
                            <a:pt x="41645" y="21336"/>
                          </a:cubicBezTo>
                        </a:path>
                        <a:path stroke="0" w="41645" h="21600">
                          <a:moveTo>
                            <a:pt x="-1" y="13557"/>
                          </a:moveTo>
                          <a:cubicBezTo>
                            <a:pt x="3285" y="5367"/>
                            <a:pt x="11222" y="-1"/>
                            <a:pt x="20047" y="0"/>
                          </a:cubicBezTo>
                          <a:cubicBezTo>
                            <a:pt x="31873" y="0"/>
                            <a:pt x="41501" y="9511"/>
                            <a:pt x="41645" y="21336"/>
                          </a:cubicBezTo>
                          <a:lnTo>
                            <a:pt x="20047" y="2160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Arc 1804"/>
                    <p:cNvSpPr/>
                    <p:nvPr/>
                  </p:nvSpPr>
                  <p:spPr>
                    <a:xfrm>
                      <a:off x="6060960" y="2362320"/>
                      <a:ext cx="239760" cy="131760"/>
                    </a:xfrm>
                    <a:custGeom>
                      <a:avLst/>
                      <a:gdLst>
                        <a:gd name="textAreaLeft" fmla="*/ 0 w 239760"/>
                        <a:gd name="textAreaRight" fmla="*/ 240120 w 239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37670" h="21600">
                          <a:moveTo>
                            <a:pt x="0" y="7169"/>
                          </a:moveTo>
                          <a:cubicBezTo>
                            <a:pt x="4096" y="2606"/>
                            <a:pt x="9939" y="-1"/>
                            <a:pt x="16072" y="0"/>
                          </a:cubicBezTo>
                          <a:cubicBezTo>
                            <a:pt x="27897" y="0"/>
                            <a:pt x="37525" y="9509"/>
                            <a:pt x="37670" y="21334"/>
                          </a:cubicBezTo>
                        </a:path>
                        <a:path stroke="0" w="37670" h="21600">
                          <a:moveTo>
                            <a:pt x="0" y="7169"/>
                          </a:moveTo>
                          <a:cubicBezTo>
                            <a:pt x="4096" y="2606"/>
                            <a:pt x="9939" y="-1"/>
                            <a:pt x="16072" y="0"/>
                          </a:cubicBezTo>
                          <a:cubicBezTo>
                            <a:pt x="27897" y="0"/>
                            <a:pt x="37525" y="9509"/>
                            <a:pt x="37670" y="21334"/>
                          </a:cubicBezTo>
                          <a:lnTo>
                            <a:pt x="16072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Arc 1805"/>
                    <p:cNvSpPr/>
                    <p:nvPr/>
                  </p:nvSpPr>
                  <p:spPr>
                    <a:xfrm>
                      <a:off x="6095880" y="2362320"/>
                      <a:ext cx="203400" cy="131760"/>
                    </a:xfrm>
                    <a:custGeom>
                      <a:avLst/>
                      <a:gdLst>
                        <a:gd name="textAreaLeft" fmla="*/ 0 w 203400"/>
                        <a:gd name="textAreaRight" fmla="*/ 203760 w 20340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31929" h="21600">
                          <a:moveTo>
                            <a:pt x="-1" y="2630"/>
                          </a:moveTo>
                          <a:cubicBezTo>
                            <a:pt x="3169" y="904"/>
                            <a:pt x="6721" y="-1"/>
                            <a:pt x="10331" y="0"/>
                          </a:cubicBezTo>
                          <a:cubicBezTo>
                            <a:pt x="22156" y="0"/>
                            <a:pt x="31784" y="9509"/>
                            <a:pt x="31929" y="21334"/>
                          </a:cubicBezTo>
                        </a:path>
                        <a:path stroke="0" w="31929" h="21600">
                          <a:moveTo>
                            <a:pt x="-1" y="2630"/>
                          </a:moveTo>
                          <a:cubicBezTo>
                            <a:pt x="3169" y="904"/>
                            <a:pt x="6721" y="-1"/>
                            <a:pt x="10331" y="0"/>
                          </a:cubicBezTo>
                          <a:cubicBezTo>
                            <a:pt x="22156" y="0"/>
                            <a:pt x="31784" y="9509"/>
                            <a:pt x="31929" y="21334"/>
                          </a:cubicBezTo>
                          <a:lnTo>
                            <a:pt x="10331" y="2160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806"/>
                    <p:cNvSpPr/>
                    <p:nvPr/>
                  </p:nvSpPr>
                  <p:spPr>
                    <a:xfrm>
                      <a:off x="6145200" y="2362320"/>
                      <a:ext cx="155520" cy="131760"/>
                    </a:xfrm>
                    <a:custGeom>
                      <a:avLst/>
                      <a:gdLst>
                        <a:gd name="textAreaLeft" fmla="*/ 0 w 155520"/>
                        <a:gd name="textAreaRight" fmla="*/ 155880 w 15552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24583" h="21600">
                          <a:moveTo>
                            <a:pt x="0" y="207"/>
                          </a:moveTo>
                          <a:cubicBezTo>
                            <a:pt x="989" y="69"/>
                            <a:pt x="1986" y="-1"/>
                            <a:pt x="2985" y="0"/>
                          </a:cubicBezTo>
                          <a:cubicBezTo>
                            <a:pt x="14811" y="0"/>
                            <a:pt x="24439" y="9511"/>
                            <a:pt x="24583" y="21336"/>
                          </a:cubicBezTo>
                        </a:path>
                        <a:path stroke="0" w="24583" h="21600">
                          <a:moveTo>
                            <a:pt x="0" y="207"/>
                          </a:moveTo>
                          <a:cubicBezTo>
                            <a:pt x="989" y="69"/>
                            <a:pt x="1986" y="-1"/>
                            <a:pt x="2985" y="0"/>
                          </a:cubicBezTo>
                          <a:cubicBezTo>
                            <a:pt x="14811" y="0"/>
                            <a:pt x="24439" y="9511"/>
                            <a:pt x="24583" y="21336"/>
                          </a:cubicBezTo>
                          <a:lnTo>
                            <a:pt x="2985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807"/>
                    <p:cNvSpPr/>
                    <p:nvPr/>
                  </p:nvSpPr>
                  <p:spPr>
                    <a:xfrm>
                      <a:off x="6154560" y="2365200"/>
                      <a:ext cx="130320" cy="128880"/>
                    </a:xfrm>
                    <a:custGeom>
                      <a:avLst/>
                      <a:gdLst>
                        <a:gd name="textAreaLeft" fmla="*/ 0 w 130320"/>
                        <a:gd name="textAreaRight" fmla="*/ 130680 w 130320"/>
                        <a:gd name="textAreaTop" fmla="*/ 0 h 128880"/>
                        <a:gd name="textAreaBottom" fmla="*/ 129240 h 128880"/>
                      </a:gdLst>
                      <a:ahLst/>
                      <a:rect l="textAreaLeft" t="textAreaTop" r="textAreaRight" b="textAreaBottom"/>
                      <a:pathLst>
                        <a:path fill="none" w="20308" h="21141">
                          <a:moveTo>
                            <a:pt x="4427" y="-1"/>
                          </a:moveTo>
                          <a:cubicBezTo>
                            <a:pt x="11750" y="1533"/>
                            <a:pt x="17759" y="6747"/>
                            <a:pt x="20308" y="13782"/>
                          </a:cubicBezTo>
                        </a:path>
                        <a:path stroke="0" w="20308" h="21141">
                          <a:moveTo>
                            <a:pt x="4427" y="-1"/>
                          </a:moveTo>
                          <a:cubicBezTo>
                            <a:pt x="11750" y="1533"/>
                            <a:pt x="17759" y="6747"/>
                            <a:pt x="20308" y="13782"/>
                          </a:cubicBezTo>
                          <a:lnTo>
                            <a:pt x="0" y="21141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Arc 1808"/>
                    <p:cNvSpPr/>
                    <p:nvPr/>
                  </p:nvSpPr>
                  <p:spPr>
                    <a:xfrm>
                      <a:off x="6154560" y="2379600"/>
                      <a:ext cx="108000" cy="114480"/>
                    </a:xfrm>
                    <a:custGeom>
                      <a:avLst/>
                      <a:gdLst>
                        <a:gd name="textAreaLeft" fmla="*/ 0 w 108000"/>
                        <a:gd name="textAreaRight" fmla="*/ 108360 w 10800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fill="none" w="16697" h="18978">
                          <a:moveTo>
                            <a:pt x="10314" y="0"/>
                          </a:moveTo>
                          <a:cubicBezTo>
                            <a:pt x="12762" y="1330"/>
                            <a:pt x="14929" y="3121"/>
                            <a:pt x="16696" y="5275"/>
                          </a:cubicBezTo>
                        </a:path>
                        <a:path stroke="0" w="16697" h="18978">
                          <a:moveTo>
                            <a:pt x="10314" y="0"/>
                          </a:moveTo>
                          <a:cubicBezTo>
                            <a:pt x="12762" y="1330"/>
                            <a:pt x="14929" y="3121"/>
                            <a:pt x="16696" y="5275"/>
                          </a:cubicBezTo>
                          <a:lnTo>
                            <a:pt x="0" y="1897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4" name="Oval 1809"/>
                  <p:cNvSpPr/>
                  <p:nvPr/>
                </p:nvSpPr>
                <p:spPr>
                  <a:xfrm>
                    <a:off x="6060960" y="2421000"/>
                    <a:ext cx="185760" cy="18396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85" name="Rectangle 1810"/>
          <p:cNvSpPr/>
          <p:nvPr/>
        </p:nvSpPr>
        <p:spPr>
          <a:xfrm>
            <a:off x="3240" y="4375080"/>
            <a:ext cx="15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811"/>
          <p:cNvSpPr/>
          <p:nvPr/>
        </p:nvSpPr>
        <p:spPr>
          <a:xfrm>
            <a:off x="7470720" y="4299120"/>
            <a:ext cx="171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812"/>
          <p:cNvSpPr/>
          <p:nvPr/>
        </p:nvSpPr>
        <p:spPr>
          <a:xfrm>
            <a:off x="6980400" y="3056040"/>
            <a:ext cx="79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1813"/>
          <p:cNvGrpSpPr/>
          <p:nvPr/>
        </p:nvGrpSpPr>
        <p:grpSpPr>
          <a:xfrm>
            <a:off x="3733920" y="838080"/>
            <a:ext cx="1557360" cy="600120"/>
            <a:chOff x="3733920" y="838080"/>
            <a:chExt cx="1557360" cy="600120"/>
          </a:xfrm>
        </p:grpSpPr>
        <p:sp>
          <p:nvSpPr>
            <p:cNvPr id="889" name="Freeform 1814"/>
            <p:cNvSpPr/>
            <p:nvPr/>
          </p:nvSpPr>
          <p:spPr>
            <a:xfrm>
              <a:off x="5059440" y="1209600"/>
              <a:ext cx="231840" cy="367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6" h="23">
                  <a:moveTo>
                    <a:pt x="5" y="1"/>
                  </a:moveTo>
                  <a:lnTo>
                    <a:pt x="145" y="0"/>
                  </a:lnTo>
                  <a:lnTo>
                    <a:pt x="145" y="4"/>
                  </a:lnTo>
                  <a:lnTo>
                    <a:pt x="0" y="22"/>
                  </a:lnTo>
                  <a:lnTo>
                    <a:pt x="5" y="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1815"/>
            <p:cNvGrpSpPr/>
            <p:nvPr/>
          </p:nvGrpSpPr>
          <p:grpSpPr>
            <a:xfrm>
              <a:off x="4984920" y="1249200"/>
              <a:ext cx="169560" cy="114480"/>
              <a:chOff x="4984920" y="1249200"/>
              <a:chExt cx="169560" cy="114480"/>
            </a:xfrm>
          </p:grpSpPr>
          <p:sp>
            <p:nvSpPr>
              <p:cNvPr id="891" name="Freeform 1816"/>
              <p:cNvSpPr/>
              <p:nvPr/>
            </p:nvSpPr>
            <p:spPr>
              <a:xfrm>
                <a:off x="4984920" y="1249200"/>
                <a:ext cx="169560" cy="11448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07" h="72">
                    <a:moveTo>
                      <a:pt x="65" y="3"/>
                    </a:moveTo>
                    <a:lnTo>
                      <a:pt x="78" y="6"/>
                    </a:lnTo>
                    <a:lnTo>
                      <a:pt x="82" y="7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8" y="9"/>
                    </a:lnTo>
                    <a:lnTo>
                      <a:pt x="90" y="10"/>
                    </a:lnTo>
                    <a:lnTo>
                      <a:pt x="92" y="11"/>
                    </a:lnTo>
                    <a:lnTo>
                      <a:pt x="94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9" y="18"/>
                    </a:lnTo>
                    <a:lnTo>
                      <a:pt x="101" y="19"/>
                    </a:lnTo>
                    <a:lnTo>
                      <a:pt x="102" y="21"/>
                    </a:lnTo>
                    <a:lnTo>
                      <a:pt x="103" y="23"/>
                    </a:lnTo>
                    <a:lnTo>
                      <a:pt x="104" y="25"/>
                    </a:lnTo>
                    <a:lnTo>
                      <a:pt x="105" y="28"/>
                    </a:lnTo>
                    <a:lnTo>
                      <a:pt x="106" y="30"/>
                    </a:lnTo>
                    <a:lnTo>
                      <a:pt x="106" y="33"/>
                    </a:lnTo>
                    <a:lnTo>
                      <a:pt x="106" y="36"/>
                    </a:lnTo>
                    <a:lnTo>
                      <a:pt x="106" y="38"/>
                    </a:lnTo>
                    <a:lnTo>
                      <a:pt x="106" y="41"/>
                    </a:lnTo>
                    <a:lnTo>
                      <a:pt x="106" y="44"/>
                    </a:lnTo>
                    <a:lnTo>
                      <a:pt x="105" y="47"/>
                    </a:lnTo>
                    <a:lnTo>
                      <a:pt x="104" y="49"/>
                    </a:lnTo>
                    <a:lnTo>
                      <a:pt x="104" y="51"/>
                    </a:lnTo>
                    <a:lnTo>
                      <a:pt x="102" y="53"/>
                    </a:lnTo>
                    <a:lnTo>
                      <a:pt x="101" y="55"/>
                    </a:lnTo>
                    <a:lnTo>
                      <a:pt x="100" y="57"/>
                    </a:lnTo>
                    <a:lnTo>
                      <a:pt x="99" y="58"/>
                    </a:lnTo>
                    <a:lnTo>
                      <a:pt x="98" y="60"/>
                    </a:lnTo>
                    <a:lnTo>
                      <a:pt x="96" y="61"/>
                    </a:lnTo>
                    <a:lnTo>
                      <a:pt x="94" y="63"/>
                    </a:lnTo>
                    <a:lnTo>
                      <a:pt x="91" y="64"/>
                    </a:lnTo>
                    <a:lnTo>
                      <a:pt x="88" y="66"/>
                    </a:lnTo>
                    <a:lnTo>
                      <a:pt x="85" y="67"/>
                    </a:lnTo>
                    <a:lnTo>
                      <a:pt x="83" y="68"/>
                    </a:lnTo>
                    <a:lnTo>
                      <a:pt x="80" y="68"/>
                    </a:lnTo>
                    <a:lnTo>
                      <a:pt x="76" y="69"/>
                    </a:lnTo>
                    <a:lnTo>
                      <a:pt x="72" y="70"/>
                    </a:lnTo>
                    <a:lnTo>
                      <a:pt x="68" y="70"/>
                    </a:lnTo>
                    <a:lnTo>
                      <a:pt x="63" y="71"/>
                    </a:lnTo>
                    <a:lnTo>
                      <a:pt x="58" y="71"/>
                    </a:lnTo>
                    <a:lnTo>
                      <a:pt x="54" y="71"/>
                    </a:lnTo>
                    <a:lnTo>
                      <a:pt x="50" y="71"/>
                    </a:lnTo>
                    <a:lnTo>
                      <a:pt x="46" y="71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4" y="68"/>
                    </a:lnTo>
                    <a:lnTo>
                      <a:pt x="29" y="67"/>
                    </a:lnTo>
                    <a:lnTo>
                      <a:pt x="27" y="66"/>
                    </a:lnTo>
                    <a:lnTo>
                      <a:pt x="24" y="65"/>
                    </a:lnTo>
                    <a:lnTo>
                      <a:pt x="21" y="63"/>
                    </a:lnTo>
                    <a:lnTo>
                      <a:pt x="18" y="62"/>
                    </a:lnTo>
                    <a:lnTo>
                      <a:pt x="15" y="60"/>
                    </a:lnTo>
                    <a:lnTo>
                      <a:pt x="13" y="58"/>
                    </a:lnTo>
                    <a:lnTo>
                      <a:pt x="10" y="55"/>
                    </a:lnTo>
                    <a:lnTo>
                      <a:pt x="9" y="54"/>
                    </a:lnTo>
                    <a:lnTo>
                      <a:pt x="7" y="52"/>
                    </a:lnTo>
                    <a:lnTo>
                      <a:pt x="5" y="50"/>
                    </a:lnTo>
                    <a:lnTo>
                      <a:pt x="4" y="48"/>
                    </a:lnTo>
                    <a:lnTo>
                      <a:pt x="3" y="46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5" y="14"/>
                    </a:lnTo>
                    <a:lnTo>
                      <a:pt x="15" y="7"/>
                    </a:lnTo>
                    <a:lnTo>
                      <a:pt x="23" y="4"/>
                    </a:lnTo>
                    <a:lnTo>
                      <a:pt x="33" y="1"/>
                    </a:lnTo>
                    <a:lnTo>
                      <a:pt x="46" y="0"/>
                    </a:lnTo>
                    <a:lnTo>
                      <a:pt x="60" y="2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817"/>
              <p:cNvSpPr/>
              <p:nvPr/>
            </p:nvSpPr>
            <p:spPr>
              <a:xfrm>
                <a:off x="5076720" y="1268280"/>
                <a:ext cx="69840" cy="842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818"/>
            <p:cNvGrpSpPr/>
            <p:nvPr/>
          </p:nvGrpSpPr>
          <p:grpSpPr>
            <a:xfrm>
              <a:off x="4775040" y="1325520"/>
              <a:ext cx="198720" cy="96840"/>
              <a:chOff x="4775040" y="1325520"/>
              <a:chExt cx="198720" cy="96840"/>
            </a:xfrm>
          </p:grpSpPr>
          <p:sp>
            <p:nvSpPr>
              <p:cNvPr id="894" name="Freeform 1819"/>
              <p:cNvSpPr/>
              <p:nvPr/>
            </p:nvSpPr>
            <p:spPr>
              <a:xfrm>
                <a:off x="4775040" y="1330200"/>
                <a:ext cx="27000" cy="61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7" h="39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1" y="38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820"/>
              <p:cNvSpPr/>
              <p:nvPr/>
            </p:nvSpPr>
            <p:spPr>
              <a:xfrm>
                <a:off x="4894200" y="1325520"/>
                <a:ext cx="79560" cy="96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61">
                    <a:moveTo>
                      <a:pt x="0" y="0"/>
                    </a:moveTo>
                    <a:lnTo>
                      <a:pt x="49" y="0"/>
                    </a:lnTo>
                    <a:lnTo>
                      <a:pt x="49" y="18"/>
                    </a:lnTo>
                    <a:lnTo>
                      <a:pt x="42" y="18"/>
                    </a:lnTo>
                    <a:lnTo>
                      <a:pt x="26" y="21"/>
                    </a:lnTo>
                    <a:lnTo>
                      <a:pt x="26" y="44"/>
                    </a:lnTo>
                    <a:lnTo>
                      <a:pt x="29" y="47"/>
                    </a:lnTo>
                    <a:lnTo>
                      <a:pt x="29" y="60"/>
                    </a:lnTo>
                    <a:lnTo>
                      <a:pt x="11" y="60"/>
                    </a:lnTo>
                    <a:lnTo>
                      <a:pt x="11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1821"/>
            <p:cNvGrpSpPr/>
            <p:nvPr/>
          </p:nvGrpSpPr>
          <p:grpSpPr>
            <a:xfrm>
              <a:off x="4237200" y="838080"/>
              <a:ext cx="920520" cy="505080"/>
              <a:chOff x="4237200" y="838080"/>
              <a:chExt cx="920520" cy="505080"/>
            </a:xfrm>
          </p:grpSpPr>
          <p:sp>
            <p:nvSpPr>
              <p:cNvPr id="897" name="Freeform 1822"/>
              <p:cNvSpPr/>
              <p:nvPr/>
            </p:nvSpPr>
            <p:spPr>
              <a:xfrm>
                <a:off x="4237200" y="838080"/>
                <a:ext cx="920520" cy="505080"/>
              </a:xfrm>
              <a:custGeom>
                <a:avLst/>
                <a:gdLst>
                  <a:gd name="textAreaLeft" fmla="*/ 0 w 920520"/>
                  <a:gd name="textAreaRight" fmla="*/ 920880 w 9205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580" h="318">
                    <a:moveTo>
                      <a:pt x="54" y="122"/>
                    </a:moveTo>
                    <a:lnTo>
                      <a:pt x="14" y="146"/>
                    </a:lnTo>
                    <a:lnTo>
                      <a:pt x="12" y="147"/>
                    </a:lnTo>
                    <a:lnTo>
                      <a:pt x="11" y="148"/>
                    </a:lnTo>
                    <a:lnTo>
                      <a:pt x="9" y="149"/>
                    </a:lnTo>
                    <a:lnTo>
                      <a:pt x="8" y="150"/>
                    </a:lnTo>
                    <a:lnTo>
                      <a:pt x="7" y="151"/>
                    </a:lnTo>
                    <a:lnTo>
                      <a:pt x="6" y="152"/>
                    </a:lnTo>
                    <a:lnTo>
                      <a:pt x="5" y="154"/>
                    </a:lnTo>
                    <a:lnTo>
                      <a:pt x="4" y="155"/>
                    </a:lnTo>
                    <a:lnTo>
                      <a:pt x="3" y="157"/>
                    </a:lnTo>
                    <a:lnTo>
                      <a:pt x="2" y="158"/>
                    </a:lnTo>
                    <a:lnTo>
                      <a:pt x="2" y="160"/>
                    </a:lnTo>
                    <a:lnTo>
                      <a:pt x="1" y="161"/>
                    </a:lnTo>
                    <a:lnTo>
                      <a:pt x="1" y="163"/>
                    </a:lnTo>
                    <a:lnTo>
                      <a:pt x="1" y="164"/>
                    </a:lnTo>
                    <a:lnTo>
                      <a:pt x="0" y="166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1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0"/>
                    </a:lnTo>
                    <a:lnTo>
                      <a:pt x="3" y="181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6" y="186"/>
                    </a:lnTo>
                    <a:lnTo>
                      <a:pt x="7" y="187"/>
                    </a:lnTo>
                    <a:lnTo>
                      <a:pt x="9" y="189"/>
                    </a:lnTo>
                    <a:lnTo>
                      <a:pt x="11" y="190"/>
                    </a:lnTo>
                    <a:lnTo>
                      <a:pt x="13" y="191"/>
                    </a:lnTo>
                    <a:lnTo>
                      <a:pt x="15" y="191"/>
                    </a:lnTo>
                    <a:lnTo>
                      <a:pt x="17" y="192"/>
                    </a:lnTo>
                    <a:lnTo>
                      <a:pt x="20" y="192"/>
                    </a:lnTo>
                    <a:lnTo>
                      <a:pt x="22" y="192"/>
                    </a:lnTo>
                    <a:lnTo>
                      <a:pt x="24" y="192"/>
                    </a:lnTo>
                    <a:lnTo>
                      <a:pt x="26" y="192"/>
                    </a:lnTo>
                    <a:lnTo>
                      <a:pt x="58" y="182"/>
                    </a:lnTo>
                    <a:lnTo>
                      <a:pt x="60" y="192"/>
                    </a:lnTo>
                    <a:lnTo>
                      <a:pt x="36" y="227"/>
                    </a:lnTo>
                    <a:lnTo>
                      <a:pt x="36" y="239"/>
                    </a:lnTo>
                    <a:lnTo>
                      <a:pt x="40" y="246"/>
                    </a:lnTo>
                    <a:lnTo>
                      <a:pt x="58" y="274"/>
                    </a:lnTo>
                    <a:lnTo>
                      <a:pt x="66" y="285"/>
                    </a:lnTo>
                    <a:lnTo>
                      <a:pt x="70" y="290"/>
                    </a:lnTo>
                    <a:lnTo>
                      <a:pt x="77" y="293"/>
                    </a:lnTo>
                    <a:lnTo>
                      <a:pt x="131" y="315"/>
                    </a:lnTo>
                    <a:lnTo>
                      <a:pt x="138" y="317"/>
                    </a:lnTo>
                    <a:lnTo>
                      <a:pt x="433" y="314"/>
                    </a:lnTo>
                    <a:lnTo>
                      <a:pt x="444" y="313"/>
                    </a:lnTo>
                    <a:lnTo>
                      <a:pt x="457" y="312"/>
                    </a:lnTo>
                    <a:lnTo>
                      <a:pt x="466" y="310"/>
                    </a:lnTo>
                    <a:lnTo>
                      <a:pt x="476" y="306"/>
                    </a:lnTo>
                    <a:lnTo>
                      <a:pt x="488" y="302"/>
                    </a:lnTo>
                    <a:lnTo>
                      <a:pt x="498" y="298"/>
                    </a:lnTo>
                    <a:lnTo>
                      <a:pt x="506" y="293"/>
                    </a:lnTo>
                    <a:lnTo>
                      <a:pt x="514" y="288"/>
                    </a:lnTo>
                    <a:lnTo>
                      <a:pt x="521" y="282"/>
                    </a:lnTo>
                    <a:lnTo>
                      <a:pt x="528" y="276"/>
                    </a:lnTo>
                    <a:lnTo>
                      <a:pt x="534" y="269"/>
                    </a:lnTo>
                    <a:lnTo>
                      <a:pt x="540" y="262"/>
                    </a:lnTo>
                    <a:lnTo>
                      <a:pt x="546" y="254"/>
                    </a:lnTo>
                    <a:lnTo>
                      <a:pt x="552" y="246"/>
                    </a:lnTo>
                    <a:lnTo>
                      <a:pt x="557" y="241"/>
                    </a:lnTo>
                    <a:lnTo>
                      <a:pt x="563" y="234"/>
                    </a:lnTo>
                    <a:lnTo>
                      <a:pt x="569" y="225"/>
                    </a:lnTo>
                    <a:lnTo>
                      <a:pt x="574" y="218"/>
                    </a:lnTo>
                    <a:lnTo>
                      <a:pt x="576" y="214"/>
                    </a:lnTo>
                    <a:lnTo>
                      <a:pt x="577" y="208"/>
                    </a:lnTo>
                    <a:lnTo>
                      <a:pt x="579" y="201"/>
                    </a:lnTo>
                    <a:lnTo>
                      <a:pt x="579" y="195"/>
                    </a:lnTo>
                    <a:lnTo>
                      <a:pt x="579" y="190"/>
                    </a:lnTo>
                    <a:lnTo>
                      <a:pt x="578" y="187"/>
                    </a:lnTo>
                    <a:lnTo>
                      <a:pt x="577" y="183"/>
                    </a:lnTo>
                    <a:lnTo>
                      <a:pt x="575" y="178"/>
                    </a:lnTo>
                    <a:lnTo>
                      <a:pt x="573" y="174"/>
                    </a:lnTo>
                    <a:lnTo>
                      <a:pt x="571" y="171"/>
                    </a:lnTo>
                    <a:lnTo>
                      <a:pt x="569" y="168"/>
                    </a:lnTo>
                    <a:lnTo>
                      <a:pt x="566" y="166"/>
                    </a:lnTo>
                    <a:lnTo>
                      <a:pt x="535" y="133"/>
                    </a:lnTo>
                    <a:lnTo>
                      <a:pt x="531" y="128"/>
                    </a:lnTo>
                    <a:lnTo>
                      <a:pt x="527" y="123"/>
                    </a:lnTo>
                    <a:lnTo>
                      <a:pt x="521" y="118"/>
                    </a:lnTo>
                    <a:lnTo>
                      <a:pt x="516" y="114"/>
                    </a:lnTo>
                    <a:lnTo>
                      <a:pt x="511" y="111"/>
                    </a:lnTo>
                    <a:lnTo>
                      <a:pt x="506" y="108"/>
                    </a:lnTo>
                    <a:lnTo>
                      <a:pt x="501" y="104"/>
                    </a:lnTo>
                    <a:lnTo>
                      <a:pt x="495" y="101"/>
                    </a:lnTo>
                    <a:lnTo>
                      <a:pt x="490" y="99"/>
                    </a:lnTo>
                    <a:lnTo>
                      <a:pt x="484" y="96"/>
                    </a:lnTo>
                    <a:lnTo>
                      <a:pt x="478" y="94"/>
                    </a:lnTo>
                    <a:lnTo>
                      <a:pt x="471" y="93"/>
                    </a:lnTo>
                    <a:lnTo>
                      <a:pt x="464" y="91"/>
                    </a:lnTo>
                    <a:lnTo>
                      <a:pt x="457" y="90"/>
                    </a:lnTo>
                    <a:lnTo>
                      <a:pt x="451" y="89"/>
                    </a:lnTo>
                    <a:lnTo>
                      <a:pt x="445" y="89"/>
                    </a:lnTo>
                    <a:lnTo>
                      <a:pt x="438" y="88"/>
                    </a:lnTo>
                    <a:lnTo>
                      <a:pt x="432" y="89"/>
                    </a:lnTo>
                    <a:lnTo>
                      <a:pt x="426" y="89"/>
                    </a:lnTo>
                    <a:lnTo>
                      <a:pt x="421" y="89"/>
                    </a:lnTo>
                    <a:lnTo>
                      <a:pt x="416" y="90"/>
                    </a:lnTo>
                    <a:lnTo>
                      <a:pt x="411" y="91"/>
                    </a:lnTo>
                    <a:lnTo>
                      <a:pt x="191" y="152"/>
                    </a:lnTo>
                    <a:lnTo>
                      <a:pt x="144" y="163"/>
                    </a:lnTo>
                    <a:lnTo>
                      <a:pt x="144" y="154"/>
                    </a:lnTo>
                    <a:lnTo>
                      <a:pt x="146" y="153"/>
                    </a:lnTo>
                    <a:lnTo>
                      <a:pt x="149" y="151"/>
                    </a:lnTo>
                    <a:lnTo>
                      <a:pt x="151" y="149"/>
                    </a:lnTo>
                    <a:lnTo>
                      <a:pt x="153" y="146"/>
                    </a:lnTo>
                    <a:lnTo>
                      <a:pt x="156" y="141"/>
                    </a:lnTo>
                    <a:lnTo>
                      <a:pt x="158" y="138"/>
                    </a:lnTo>
                    <a:lnTo>
                      <a:pt x="159" y="134"/>
                    </a:lnTo>
                    <a:lnTo>
                      <a:pt x="159" y="131"/>
                    </a:lnTo>
                    <a:lnTo>
                      <a:pt x="159" y="128"/>
                    </a:lnTo>
                    <a:lnTo>
                      <a:pt x="159" y="126"/>
                    </a:lnTo>
                    <a:lnTo>
                      <a:pt x="159" y="123"/>
                    </a:lnTo>
                    <a:lnTo>
                      <a:pt x="158" y="120"/>
                    </a:lnTo>
                    <a:lnTo>
                      <a:pt x="157" y="117"/>
                    </a:lnTo>
                    <a:lnTo>
                      <a:pt x="156" y="113"/>
                    </a:lnTo>
                    <a:lnTo>
                      <a:pt x="154" y="111"/>
                    </a:lnTo>
                    <a:lnTo>
                      <a:pt x="151" y="108"/>
                    </a:lnTo>
                    <a:lnTo>
                      <a:pt x="149" y="105"/>
                    </a:lnTo>
                    <a:lnTo>
                      <a:pt x="147" y="104"/>
                    </a:lnTo>
                    <a:lnTo>
                      <a:pt x="144" y="102"/>
                    </a:lnTo>
                    <a:lnTo>
                      <a:pt x="142" y="101"/>
                    </a:lnTo>
                    <a:lnTo>
                      <a:pt x="139" y="100"/>
                    </a:lnTo>
                    <a:lnTo>
                      <a:pt x="137" y="99"/>
                    </a:lnTo>
                    <a:lnTo>
                      <a:pt x="134" y="98"/>
                    </a:lnTo>
                    <a:lnTo>
                      <a:pt x="131" y="98"/>
                    </a:lnTo>
                    <a:lnTo>
                      <a:pt x="127" y="98"/>
                    </a:lnTo>
                    <a:lnTo>
                      <a:pt x="123" y="98"/>
                    </a:lnTo>
                    <a:lnTo>
                      <a:pt x="120" y="99"/>
                    </a:lnTo>
                    <a:lnTo>
                      <a:pt x="116" y="100"/>
                    </a:lnTo>
                    <a:lnTo>
                      <a:pt x="113" y="101"/>
                    </a:lnTo>
                    <a:lnTo>
                      <a:pt x="110" y="101"/>
                    </a:lnTo>
                    <a:lnTo>
                      <a:pt x="104" y="102"/>
                    </a:lnTo>
                    <a:lnTo>
                      <a:pt x="99" y="97"/>
                    </a:lnTo>
                    <a:lnTo>
                      <a:pt x="88" y="97"/>
                    </a:lnTo>
                    <a:lnTo>
                      <a:pt x="87" y="95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54" y="12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1823"/>
              <p:cNvSpPr/>
              <p:nvPr/>
            </p:nvSpPr>
            <p:spPr>
              <a:xfrm>
                <a:off x="4413240" y="1003320"/>
                <a:ext cx="69840" cy="777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1824"/>
              <p:cNvSpPr/>
              <p:nvPr/>
            </p:nvSpPr>
            <p:spPr>
              <a:xfrm>
                <a:off x="5079960" y="1096920"/>
                <a:ext cx="77760" cy="103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Group 1825"/>
              <p:cNvGrpSpPr/>
              <p:nvPr/>
            </p:nvGrpSpPr>
            <p:grpSpPr>
              <a:xfrm>
                <a:off x="4343400" y="1058760"/>
                <a:ext cx="777960" cy="139680"/>
                <a:chOff x="4343400" y="1058760"/>
                <a:chExt cx="777960" cy="139680"/>
              </a:xfrm>
            </p:grpSpPr>
            <p:sp>
              <p:nvSpPr>
                <p:cNvPr id="901" name="Freeform 1826"/>
                <p:cNvSpPr/>
                <p:nvPr/>
              </p:nvSpPr>
              <p:spPr>
                <a:xfrm>
                  <a:off x="5064120" y="1058760"/>
                  <a:ext cx="57240" cy="288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20" y="0"/>
                      </a:moveTo>
                      <a:lnTo>
                        <a:pt x="35" y="17"/>
                      </a:lnTo>
                      <a:lnTo>
                        <a:pt x="9" y="17"/>
                      </a:lnTo>
                      <a:lnTo>
                        <a:pt x="0" y="0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827"/>
                <p:cNvSpPr/>
                <p:nvPr/>
              </p:nvSpPr>
              <p:spPr>
                <a:xfrm>
                  <a:off x="5000760" y="1058760"/>
                  <a:ext cx="69840" cy="28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44" h="18">
                      <a:moveTo>
                        <a:pt x="1" y="0"/>
                      </a:moveTo>
                      <a:lnTo>
                        <a:pt x="34" y="0"/>
                      </a:lnTo>
                      <a:lnTo>
                        <a:pt x="43" y="17"/>
                      </a:lnTo>
                      <a:lnTo>
                        <a:pt x="0" y="1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1828"/>
                <p:cNvSpPr/>
                <p:nvPr/>
              </p:nvSpPr>
              <p:spPr>
                <a:xfrm>
                  <a:off x="4967280" y="1058760"/>
                  <a:ext cx="28440" cy="2880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2" y="0"/>
                      </a:moveTo>
                      <a:lnTo>
                        <a:pt x="17" y="0"/>
                      </a:lnTo>
                      <a:lnTo>
                        <a:pt x="16" y="17"/>
                      </a:lnTo>
                      <a:lnTo>
                        <a:pt x="0" y="1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829"/>
                <p:cNvSpPr/>
                <p:nvPr/>
              </p:nvSpPr>
              <p:spPr>
                <a:xfrm>
                  <a:off x="4938840" y="1058760"/>
                  <a:ext cx="28440" cy="30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8" h="19">
                      <a:moveTo>
                        <a:pt x="2" y="0"/>
                      </a:moveTo>
                      <a:lnTo>
                        <a:pt x="17" y="0"/>
                      </a:lnTo>
                      <a:lnTo>
                        <a:pt x="15" y="18"/>
                      </a:lnTo>
                      <a:lnTo>
                        <a:pt x="0" y="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830"/>
                <p:cNvSpPr/>
                <p:nvPr/>
              </p:nvSpPr>
              <p:spPr>
                <a:xfrm>
                  <a:off x="4832280" y="1058760"/>
                  <a:ext cx="106560" cy="349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67" h="22">
                      <a:moveTo>
                        <a:pt x="66" y="0"/>
                      </a:moveTo>
                      <a:lnTo>
                        <a:pt x="64" y="17"/>
                      </a:lnTo>
                      <a:lnTo>
                        <a:pt x="46" y="18"/>
                      </a:lnTo>
                      <a:lnTo>
                        <a:pt x="32" y="19"/>
                      </a:lnTo>
                      <a:lnTo>
                        <a:pt x="19" y="20"/>
                      </a:lnTo>
                      <a:lnTo>
                        <a:pt x="0" y="21"/>
                      </a:lnTo>
                      <a:lnTo>
                        <a:pt x="1" y="8"/>
                      </a:lnTo>
                      <a:lnTo>
                        <a:pt x="20" y="6"/>
                      </a:lnTo>
                      <a:lnTo>
                        <a:pt x="31" y="4"/>
                      </a:lnTo>
                      <a:lnTo>
                        <a:pt x="49" y="2"/>
                      </a:lnTo>
                      <a:lnTo>
                        <a:pt x="66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831"/>
                <p:cNvSpPr/>
                <p:nvPr/>
              </p:nvSpPr>
              <p:spPr>
                <a:xfrm>
                  <a:off x="4343400" y="1073160"/>
                  <a:ext cx="485640" cy="1252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125280"/>
                    <a:gd name="textAreaBottom" fmla="*/ 125280 h 125280"/>
                  </a:gdLst>
                  <a:ahLst/>
                  <a:rect l="textAreaLeft" t="textAreaTop" r="textAreaRight" b="textAreaBottom"/>
                  <a:pathLst>
                    <a:path w="306" h="79">
                      <a:moveTo>
                        <a:pt x="0" y="72"/>
                      </a:moveTo>
                      <a:lnTo>
                        <a:pt x="0" y="78"/>
                      </a:lnTo>
                      <a:lnTo>
                        <a:pt x="304" y="13"/>
                      </a:lnTo>
                      <a:lnTo>
                        <a:pt x="3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Group 1832"/>
            <p:cNvGrpSpPr/>
            <p:nvPr/>
          </p:nvGrpSpPr>
          <p:grpSpPr>
            <a:xfrm>
              <a:off x="3733920" y="1225440"/>
              <a:ext cx="811080" cy="212760"/>
              <a:chOff x="3733920" y="1225440"/>
              <a:chExt cx="811080" cy="212760"/>
            </a:xfrm>
          </p:grpSpPr>
          <p:grpSp>
            <p:nvGrpSpPr>
              <p:cNvPr id="908" name="Group 1833"/>
              <p:cNvGrpSpPr/>
              <p:nvPr/>
            </p:nvGrpSpPr>
            <p:grpSpPr>
              <a:xfrm>
                <a:off x="3733920" y="1225440"/>
                <a:ext cx="811080" cy="74880"/>
                <a:chOff x="3733920" y="1225440"/>
                <a:chExt cx="811080" cy="74880"/>
              </a:xfrm>
            </p:grpSpPr>
            <p:sp>
              <p:nvSpPr>
                <p:cNvPr id="909" name="Freeform 1834"/>
                <p:cNvSpPr/>
                <p:nvPr/>
              </p:nvSpPr>
              <p:spPr>
                <a:xfrm>
                  <a:off x="3733920" y="1225440"/>
                  <a:ext cx="811080" cy="20880"/>
                </a:xfrm>
                <a:custGeom>
                  <a:avLst/>
                  <a:gdLst>
                    <a:gd name="textAreaLeft" fmla="*/ 0 w 811080"/>
                    <a:gd name="textAreaRight" fmla="*/ 811440 w 811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511" h="13">
                      <a:moveTo>
                        <a:pt x="44" y="0"/>
                      </a:moveTo>
                      <a:lnTo>
                        <a:pt x="502" y="0"/>
                      </a:lnTo>
                      <a:lnTo>
                        <a:pt x="510" y="12"/>
                      </a:lnTo>
                      <a:lnTo>
                        <a:pt x="0" y="1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835"/>
                <p:cNvSpPr/>
                <p:nvPr/>
              </p:nvSpPr>
              <p:spPr>
                <a:xfrm>
                  <a:off x="3984480" y="1244520"/>
                  <a:ext cx="560520" cy="5580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353" h="35">
                      <a:moveTo>
                        <a:pt x="352" y="0"/>
                      </a:moveTo>
                      <a:lnTo>
                        <a:pt x="328" y="34"/>
                      </a:lnTo>
                      <a:lnTo>
                        <a:pt x="218" y="24"/>
                      </a:lnTo>
                      <a:lnTo>
                        <a:pt x="154" y="18"/>
                      </a:lnTo>
                      <a:lnTo>
                        <a:pt x="72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4" y="0"/>
                      </a:lnTo>
                      <a:lnTo>
                        <a:pt x="352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Freeform 1836"/>
              <p:cNvSpPr/>
              <p:nvPr/>
            </p:nvSpPr>
            <p:spPr>
              <a:xfrm>
                <a:off x="4307040" y="1276200"/>
                <a:ext cx="87120" cy="1620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55" h="102">
                    <a:moveTo>
                      <a:pt x="10" y="0"/>
                    </a:moveTo>
                    <a:lnTo>
                      <a:pt x="21" y="0"/>
                    </a:lnTo>
                    <a:lnTo>
                      <a:pt x="21" y="38"/>
                    </a:lnTo>
                    <a:lnTo>
                      <a:pt x="46" y="14"/>
                    </a:lnTo>
                    <a:lnTo>
                      <a:pt x="54" y="14"/>
                    </a:lnTo>
                    <a:lnTo>
                      <a:pt x="19" y="49"/>
                    </a:lnTo>
                    <a:lnTo>
                      <a:pt x="19" y="78"/>
                    </a:lnTo>
                    <a:lnTo>
                      <a:pt x="26" y="78"/>
                    </a:lnTo>
                    <a:lnTo>
                      <a:pt x="26" y="101"/>
                    </a:lnTo>
                    <a:lnTo>
                      <a:pt x="10" y="101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5" y="18"/>
                    </a:lnTo>
                    <a:lnTo>
                      <a:pt x="10" y="1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2" name="Group 1837"/>
              <p:cNvGrpSpPr/>
              <p:nvPr/>
            </p:nvGrpSpPr>
            <p:grpSpPr>
              <a:xfrm>
                <a:off x="4132440" y="1257480"/>
                <a:ext cx="141120" cy="139680"/>
                <a:chOff x="4132440" y="1257480"/>
                <a:chExt cx="141120" cy="139680"/>
              </a:xfrm>
            </p:grpSpPr>
            <p:sp>
              <p:nvSpPr>
                <p:cNvPr id="913" name="Oval 1838"/>
                <p:cNvSpPr/>
                <p:nvPr/>
              </p:nvSpPr>
              <p:spPr>
                <a:xfrm>
                  <a:off x="4132440" y="1257480"/>
                  <a:ext cx="141120" cy="1396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Oval 1839"/>
                <p:cNvSpPr/>
                <p:nvPr/>
              </p:nvSpPr>
              <p:spPr>
                <a:xfrm>
                  <a:off x="4164120" y="1282680"/>
                  <a:ext cx="88920" cy="874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5" name="Rectangle 1840"/>
          <p:cNvSpPr/>
          <p:nvPr/>
        </p:nvSpPr>
        <p:spPr>
          <a:xfrm>
            <a:off x="5816520" y="2278080"/>
            <a:ext cx="601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841"/>
          <p:cNvSpPr/>
          <p:nvPr/>
        </p:nvSpPr>
        <p:spPr>
          <a:xfrm>
            <a:off x="6643800" y="1295280"/>
            <a:ext cx="2043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842"/>
          <p:cNvSpPr/>
          <p:nvPr/>
        </p:nvSpPr>
        <p:spPr>
          <a:xfrm>
            <a:off x="5076720" y="2781360"/>
            <a:ext cx="200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33"/>
                </a:solidFill>
                <a:latin typeface="Verdana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843"/>
          <p:cNvGrpSpPr/>
          <p:nvPr/>
        </p:nvGrpSpPr>
        <p:grpSpPr>
          <a:xfrm>
            <a:off x="7236000" y="3040200"/>
            <a:ext cx="284040" cy="390240"/>
            <a:chOff x="7236000" y="3040200"/>
            <a:chExt cx="284040" cy="390240"/>
          </a:xfrm>
        </p:grpSpPr>
        <p:grpSp>
          <p:nvGrpSpPr>
            <p:cNvPr id="919" name="Group 1844"/>
            <p:cNvGrpSpPr/>
            <p:nvPr/>
          </p:nvGrpSpPr>
          <p:grpSpPr>
            <a:xfrm>
              <a:off x="7236000" y="3062160"/>
              <a:ext cx="39600" cy="347760"/>
              <a:chOff x="7236000" y="3062160"/>
              <a:chExt cx="39600" cy="347760"/>
            </a:xfrm>
          </p:grpSpPr>
          <p:sp>
            <p:nvSpPr>
              <p:cNvPr id="920" name="Freeform 1845"/>
              <p:cNvSpPr/>
              <p:nvPr/>
            </p:nvSpPr>
            <p:spPr>
              <a:xfrm>
                <a:off x="7236000" y="306216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846"/>
              <p:cNvSpPr/>
              <p:nvPr/>
            </p:nvSpPr>
            <p:spPr>
              <a:xfrm>
                <a:off x="7236000" y="3062160"/>
                <a:ext cx="33120" cy="3477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1847"/>
            <p:cNvGrpSpPr/>
            <p:nvPr/>
          </p:nvGrpSpPr>
          <p:grpSpPr>
            <a:xfrm>
              <a:off x="7240680" y="3040200"/>
              <a:ext cx="279360" cy="390240"/>
              <a:chOff x="7240680" y="3040200"/>
              <a:chExt cx="279360" cy="390240"/>
            </a:xfrm>
          </p:grpSpPr>
          <p:sp>
            <p:nvSpPr>
              <p:cNvPr id="923" name="Freeform 1848"/>
              <p:cNvSpPr/>
              <p:nvPr/>
            </p:nvSpPr>
            <p:spPr>
              <a:xfrm>
                <a:off x="7240680" y="304020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849"/>
              <p:cNvSpPr/>
              <p:nvPr/>
            </p:nvSpPr>
            <p:spPr>
              <a:xfrm>
                <a:off x="7246800" y="3408480"/>
                <a:ext cx="268560" cy="219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850"/>
              <p:cNvSpPr/>
              <p:nvPr/>
            </p:nvSpPr>
            <p:spPr>
              <a:xfrm>
                <a:off x="7251840" y="306216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1851"/>
              <p:cNvSpPr/>
              <p:nvPr/>
            </p:nvSpPr>
            <p:spPr>
              <a:xfrm>
                <a:off x="7280280" y="31780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852"/>
              <p:cNvSpPr/>
              <p:nvPr/>
            </p:nvSpPr>
            <p:spPr>
              <a:xfrm>
                <a:off x="7256520" y="336852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1853"/>
          <p:cNvGrpSpPr/>
          <p:nvPr/>
        </p:nvGrpSpPr>
        <p:grpSpPr>
          <a:xfrm>
            <a:off x="7667640" y="3040200"/>
            <a:ext cx="284040" cy="390240"/>
            <a:chOff x="7667640" y="3040200"/>
            <a:chExt cx="284040" cy="390240"/>
          </a:xfrm>
        </p:grpSpPr>
        <p:grpSp>
          <p:nvGrpSpPr>
            <p:cNvPr id="929" name="Group 1854"/>
            <p:cNvGrpSpPr/>
            <p:nvPr/>
          </p:nvGrpSpPr>
          <p:grpSpPr>
            <a:xfrm>
              <a:off x="7667640" y="3062160"/>
              <a:ext cx="39600" cy="347760"/>
              <a:chOff x="7667640" y="3062160"/>
              <a:chExt cx="39600" cy="347760"/>
            </a:xfrm>
          </p:grpSpPr>
          <p:sp>
            <p:nvSpPr>
              <p:cNvPr id="930" name="Freeform 1855"/>
              <p:cNvSpPr/>
              <p:nvPr/>
            </p:nvSpPr>
            <p:spPr>
              <a:xfrm>
                <a:off x="7667640" y="306216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856"/>
              <p:cNvSpPr/>
              <p:nvPr/>
            </p:nvSpPr>
            <p:spPr>
              <a:xfrm>
                <a:off x="7667640" y="306216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1857"/>
            <p:cNvGrpSpPr/>
            <p:nvPr/>
          </p:nvGrpSpPr>
          <p:grpSpPr>
            <a:xfrm>
              <a:off x="7672320" y="3040200"/>
              <a:ext cx="279360" cy="390240"/>
              <a:chOff x="7672320" y="3040200"/>
              <a:chExt cx="279360" cy="390240"/>
            </a:xfrm>
          </p:grpSpPr>
          <p:sp>
            <p:nvSpPr>
              <p:cNvPr id="933" name="Freeform 1858"/>
              <p:cNvSpPr/>
              <p:nvPr/>
            </p:nvSpPr>
            <p:spPr>
              <a:xfrm>
                <a:off x="7672320" y="304020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859"/>
              <p:cNvSpPr/>
              <p:nvPr/>
            </p:nvSpPr>
            <p:spPr>
              <a:xfrm>
                <a:off x="7678800" y="3408480"/>
                <a:ext cx="268200" cy="219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860"/>
              <p:cNvSpPr/>
              <p:nvPr/>
            </p:nvSpPr>
            <p:spPr>
              <a:xfrm>
                <a:off x="7683480" y="306216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1861"/>
              <p:cNvSpPr/>
              <p:nvPr/>
            </p:nvSpPr>
            <p:spPr>
              <a:xfrm>
                <a:off x="7711920" y="31780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862"/>
              <p:cNvSpPr/>
              <p:nvPr/>
            </p:nvSpPr>
            <p:spPr>
              <a:xfrm>
                <a:off x="7688160" y="336852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Group 1863"/>
          <p:cNvGrpSpPr/>
          <p:nvPr/>
        </p:nvGrpSpPr>
        <p:grpSpPr>
          <a:xfrm>
            <a:off x="7451640" y="2637000"/>
            <a:ext cx="284400" cy="390240"/>
            <a:chOff x="7451640" y="2637000"/>
            <a:chExt cx="284400" cy="390240"/>
          </a:xfrm>
        </p:grpSpPr>
        <p:grpSp>
          <p:nvGrpSpPr>
            <p:cNvPr id="939" name="Group 1864"/>
            <p:cNvGrpSpPr/>
            <p:nvPr/>
          </p:nvGrpSpPr>
          <p:grpSpPr>
            <a:xfrm>
              <a:off x="7451640" y="2658960"/>
              <a:ext cx="39600" cy="346320"/>
              <a:chOff x="7451640" y="2658960"/>
              <a:chExt cx="39600" cy="346320"/>
            </a:xfrm>
          </p:grpSpPr>
          <p:sp>
            <p:nvSpPr>
              <p:cNvPr id="940" name="Freeform 1865"/>
              <p:cNvSpPr/>
              <p:nvPr/>
            </p:nvSpPr>
            <p:spPr>
              <a:xfrm>
                <a:off x="7451640" y="2658960"/>
                <a:ext cx="39600" cy="346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" h="218">
                    <a:moveTo>
                      <a:pt x="10" y="0"/>
                    </a:moveTo>
                    <a:lnTo>
                      <a:pt x="0" y="24"/>
                    </a:lnTo>
                    <a:lnTo>
                      <a:pt x="0" y="193"/>
                    </a:lnTo>
                    <a:lnTo>
                      <a:pt x="14" y="217"/>
                    </a:lnTo>
                    <a:lnTo>
                      <a:pt x="24" y="193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866"/>
              <p:cNvSpPr/>
              <p:nvPr/>
            </p:nvSpPr>
            <p:spPr>
              <a:xfrm>
                <a:off x="7451640" y="2658960"/>
                <a:ext cx="33480" cy="346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1" h="218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3"/>
                    </a:lnTo>
                    <a:lnTo>
                      <a:pt x="13" y="217"/>
                    </a:lnTo>
                    <a:lnTo>
                      <a:pt x="0" y="193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867"/>
            <p:cNvGrpSpPr/>
            <p:nvPr/>
          </p:nvGrpSpPr>
          <p:grpSpPr>
            <a:xfrm>
              <a:off x="7456320" y="2637000"/>
              <a:ext cx="279720" cy="390240"/>
              <a:chOff x="7456320" y="2637000"/>
              <a:chExt cx="279720" cy="390240"/>
            </a:xfrm>
          </p:grpSpPr>
          <p:sp>
            <p:nvSpPr>
              <p:cNvPr id="943" name="Freeform 1868"/>
              <p:cNvSpPr/>
              <p:nvPr/>
            </p:nvSpPr>
            <p:spPr>
              <a:xfrm>
                <a:off x="7456320" y="263700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869"/>
              <p:cNvSpPr/>
              <p:nvPr/>
            </p:nvSpPr>
            <p:spPr>
              <a:xfrm>
                <a:off x="7462800" y="3003480"/>
                <a:ext cx="268200" cy="23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69" h="15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1"/>
                    </a:lnTo>
                    <a:lnTo>
                      <a:pt x="161" y="14"/>
                    </a:lnTo>
                    <a:lnTo>
                      <a:pt x="0" y="1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870"/>
              <p:cNvSpPr/>
              <p:nvPr/>
            </p:nvSpPr>
            <p:spPr>
              <a:xfrm>
                <a:off x="7467480" y="2658960"/>
                <a:ext cx="268560" cy="3463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69" h="218">
                    <a:moveTo>
                      <a:pt x="3" y="217"/>
                    </a:moveTo>
                    <a:lnTo>
                      <a:pt x="154" y="217"/>
                    </a:lnTo>
                    <a:lnTo>
                      <a:pt x="168" y="193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3"/>
                    </a:lnTo>
                    <a:lnTo>
                      <a:pt x="3" y="217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1871"/>
              <p:cNvSpPr/>
              <p:nvPr/>
            </p:nvSpPr>
            <p:spPr>
              <a:xfrm>
                <a:off x="7496280" y="27748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72"/>
              <p:cNvSpPr/>
              <p:nvPr/>
            </p:nvSpPr>
            <p:spPr>
              <a:xfrm>
                <a:off x="7472520" y="2965320"/>
                <a:ext cx="263520" cy="399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6" h="25">
                    <a:moveTo>
                      <a:pt x="10" y="0"/>
                    </a:moveTo>
                    <a:lnTo>
                      <a:pt x="0" y="24"/>
                    </a:lnTo>
                    <a:lnTo>
                      <a:pt x="151" y="24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1873"/>
          <p:cNvGrpSpPr/>
          <p:nvPr/>
        </p:nvGrpSpPr>
        <p:grpSpPr>
          <a:xfrm>
            <a:off x="7961400" y="3789360"/>
            <a:ext cx="822240" cy="585720"/>
            <a:chOff x="7961400" y="3789360"/>
            <a:chExt cx="822240" cy="585720"/>
          </a:xfrm>
        </p:grpSpPr>
        <p:sp>
          <p:nvSpPr>
            <p:cNvPr id="949" name="Line 1874"/>
            <p:cNvSpPr/>
            <p:nvPr/>
          </p:nvSpPr>
          <p:spPr>
            <a:xfrm>
              <a:off x="8035920" y="3946680"/>
              <a:ext cx="67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1875"/>
            <p:cNvGrpSpPr/>
            <p:nvPr/>
          </p:nvGrpSpPr>
          <p:grpSpPr>
            <a:xfrm>
              <a:off x="7961400" y="3789360"/>
              <a:ext cx="822240" cy="585720"/>
              <a:chOff x="7961400" y="3789360"/>
              <a:chExt cx="822240" cy="585720"/>
            </a:xfrm>
          </p:grpSpPr>
          <p:grpSp>
            <p:nvGrpSpPr>
              <p:cNvPr id="951" name="Group 1876"/>
              <p:cNvGrpSpPr/>
              <p:nvPr/>
            </p:nvGrpSpPr>
            <p:grpSpPr>
              <a:xfrm>
                <a:off x="7977240" y="3789360"/>
                <a:ext cx="795240" cy="211680"/>
                <a:chOff x="7977240" y="3789360"/>
                <a:chExt cx="795240" cy="211680"/>
              </a:xfrm>
            </p:grpSpPr>
            <p:sp>
              <p:nvSpPr>
                <p:cNvPr id="952" name="Freeform 1877"/>
                <p:cNvSpPr/>
                <p:nvPr/>
              </p:nvSpPr>
              <p:spPr>
                <a:xfrm>
                  <a:off x="7977240" y="3789360"/>
                  <a:ext cx="793800" cy="17460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00" h="110">
                      <a:moveTo>
                        <a:pt x="0" y="109"/>
                      </a:moveTo>
                      <a:lnTo>
                        <a:pt x="499" y="109"/>
                      </a:lnTo>
                      <a:lnTo>
                        <a:pt x="250" y="0"/>
                      </a:lnTo>
                      <a:lnTo>
                        <a:pt x="0" y="10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878"/>
                <p:cNvSpPr/>
                <p:nvPr/>
              </p:nvSpPr>
              <p:spPr>
                <a:xfrm>
                  <a:off x="8035920" y="3801960"/>
                  <a:ext cx="679320" cy="146160"/>
                </a:xfrm>
                <a:custGeom>
                  <a:avLst/>
                  <a:gdLst>
                    <a:gd name="textAreaLeft" fmla="*/ 0 w 679320"/>
                    <a:gd name="textAreaRight" fmla="*/ 679320 w 6793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428" h="92">
                      <a:moveTo>
                        <a:pt x="0" y="91"/>
                      </a:moveTo>
                      <a:lnTo>
                        <a:pt x="427" y="91"/>
                      </a:lnTo>
                      <a:lnTo>
                        <a:pt x="214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1879"/>
                <p:cNvSpPr/>
                <p:nvPr/>
              </p:nvSpPr>
              <p:spPr>
                <a:xfrm>
                  <a:off x="7978680" y="3978360"/>
                  <a:ext cx="79380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Rectangle 1880"/>
                <p:cNvSpPr/>
                <p:nvPr/>
              </p:nvSpPr>
              <p:spPr>
                <a:xfrm>
                  <a:off x="7989840" y="400068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1881"/>
              <p:cNvGrpSpPr/>
              <p:nvPr/>
            </p:nvGrpSpPr>
            <p:grpSpPr>
              <a:xfrm>
                <a:off x="7961400" y="4313160"/>
                <a:ext cx="822240" cy="61920"/>
                <a:chOff x="7961400" y="4313160"/>
                <a:chExt cx="822240" cy="61920"/>
              </a:xfrm>
            </p:grpSpPr>
            <p:sp>
              <p:nvSpPr>
                <p:cNvPr id="957" name="Rectangle 1882"/>
                <p:cNvSpPr/>
                <p:nvPr/>
              </p:nvSpPr>
              <p:spPr>
                <a:xfrm>
                  <a:off x="8012160" y="4313160"/>
                  <a:ext cx="7207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Rectangle 1883"/>
                <p:cNvSpPr/>
                <p:nvPr/>
              </p:nvSpPr>
              <p:spPr>
                <a:xfrm>
                  <a:off x="7961400" y="4368960"/>
                  <a:ext cx="82224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Rectangle 1884"/>
                <p:cNvSpPr/>
                <p:nvPr/>
              </p:nvSpPr>
              <p:spPr>
                <a:xfrm>
                  <a:off x="7989840" y="433080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Rectangle 1885"/>
                <p:cNvSpPr/>
                <p:nvPr/>
              </p:nvSpPr>
              <p:spPr>
                <a:xfrm>
                  <a:off x="7978680" y="4348080"/>
                  <a:ext cx="78732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886"/>
            <p:cNvGrpSpPr/>
            <p:nvPr/>
          </p:nvGrpSpPr>
          <p:grpSpPr>
            <a:xfrm>
              <a:off x="8029440" y="4014720"/>
              <a:ext cx="681120" cy="287280"/>
              <a:chOff x="8029440" y="4014720"/>
              <a:chExt cx="681120" cy="287280"/>
            </a:xfrm>
          </p:grpSpPr>
          <p:grpSp>
            <p:nvGrpSpPr>
              <p:cNvPr id="962" name="Group 1887"/>
              <p:cNvGrpSpPr/>
              <p:nvPr/>
            </p:nvGrpSpPr>
            <p:grpSpPr>
              <a:xfrm>
                <a:off x="8129520" y="4014720"/>
                <a:ext cx="77760" cy="287280"/>
                <a:chOff x="8129520" y="4014720"/>
                <a:chExt cx="77760" cy="287280"/>
              </a:xfrm>
            </p:grpSpPr>
            <p:sp>
              <p:nvSpPr>
                <p:cNvPr id="963" name="Rectangle 1888"/>
                <p:cNvSpPr/>
                <p:nvPr/>
              </p:nvSpPr>
              <p:spPr>
                <a:xfrm>
                  <a:off x="81295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Rectangle 1889"/>
                <p:cNvSpPr/>
                <p:nvPr/>
              </p:nvSpPr>
              <p:spPr>
                <a:xfrm>
                  <a:off x="81295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5" name="Group 1890"/>
                <p:cNvGrpSpPr/>
                <p:nvPr/>
              </p:nvGrpSpPr>
              <p:grpSpPr>
                <a:xfrm>
                  <a:off x="8145360" y="4030560"/>
                  <a:ext cx="50760" cy="255600"/>
                  <a:chOff x="8145360" y="4030560"/>
                  <a:chExt cx="50760" cy="255600"/>
                </a:xfrm>
              </p:grpSpPr>
              <p:sp>
                <p:nvSpPr>
                  <p:cNvPr id="966" name="Rectangle 1891"/>
                  <p:cNvSpPr/>
                  <p:nvPr/>
                </p:nvSpPr>
                <p:spPr>
                  <a:xfrm>
                    <a:off x="8145360" y="4030560"/>
                    <a:ext cx="507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Rectangle 1892"/>
                  <p:cNvSpPr/>
                  <p:nvPr/>
                </p:nvSpPr>
                <p:spPr>
                  <a:xfrm>
                    <a:off x="81630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Rectangle 1893"/>
                  <p:cNvSpPr/>
                  <p:nvPr/>
                </p:nvSpPr>
                <p:spPr>
                  <a:xfrm>
                    <a:off x="817704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Rectangle 1894"/>
                  <p:cNvSpPr/>
                  <p:nvPr/>
                </p:nvSpPr>
                <p:spPr>
                  <a:xfrm>
                    <a:off x="81900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Rectangle 1895"/>
                  <p:cNvSpPr/>
                  <p:nvPr/>
                </p:nvSpPr>
                <p:spPr>
                  <a:xfrm>
                    <a:off x="81486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1" name="Group 1896"/>
              <p:cNvGrpSpPr/>
              <p:nvPr/>
            </p:nvGrpSpPr>
            <p:grpSpPr>
              <a:xfrm>
                <a:off x="8232840" y="4014720"/>
                <a:ext cx="75960" cy="287280"/>
                <a:chOff x="8232840" y="4014720"/>
                <a:chExt cx="75960" cy="287280"/>
              </a:xfrm>
            </p:grpSpPr>
            <p:sp>
              <p:nvSpPr>
                <p:cNvPr id="972" name="Rectangle 1897"/>
                <p:cNvSpPr/>
                <p:nvPr/>
              </p:nvSpPr>
              <p:spPr>
                <a:xfrm>
                  <a:off x="8232840" y="4299120"/>
                  <a:ext cx="759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Rectangle 1898"/>
                <p:cNvSpPr/>
                <p:nvPr/>
              </p:nvSpPr>
              <p:spPr>
                <a:xfrm>
                  <a:off x="8232840" y="4014720"/>
                  <a:ext cx="759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4" name="Group 1899"/>
                <p:cNvGrpSpPr/>
                <p:nvPr/>
              </p:nvGrpSpPr>
              <p:grpSpPr>
                <a:xfrm>
                  <a:off x="8247240" y="4030560"/>
                  <a:ext cx="52200" cy="255600"/>
                  <a:chOff x="8247240" y="4030560"/>
                  <a:chExt cx="52200" cy="255600"/>
                </a:xfrm>
              </p:grpSpPr>
              <p:sp>
                <p:nvSpPr>
                  <p:cNvPr id="975" name="Rectangle 1900"/>
                  <p:cNvSpPr/>
                  <p:nvPr/>
                </p:nvSpPr>
                <p:spPr>
                  <a:xfrm>
                    <a:off x="824724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Rectangle 1901"/>
                  <p:cNvSpPr/>
                  <p:nvPr/>
                </p:nvSpPr>
                <p:spPr>
                  <a:xfrm>
                    <a:off x="826452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Rectangle 1902"/>
                  <p:cNvSpPr/>
                  <p:nvPr/>
                </p:nvSpPr>
                <p:spPr>
                  <a:xfrm>
                    <a:off x="827892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Rectangle 1903"/>
                  <p:cNvSpPr/>
                  <p:nvPr/>
                </p:nvSpPr>
                <p:spPr>
                  <a:xfrm>
                    <a:off x="829152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Rectangle 1904"/>
                  <p:cNvSpPr/>
                  <p:nvPr/>
                </p:nvSpPr>
                <p:spPr>
                  <a:xfrm>
                    <a:off x="825192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0" name="Group 1905"/>
              <p:cNvGrpSpPr/>
              <p:nvPr/>
            </p:nvGrpSpPr>
            <p:grpSpPr>
              <a:xfrm>
                <a:off x="8331120" y="4014720"/>
                <a:ext cx="77760" cy="287280"/>
                <a:chOff x="8331120" y="4014720"/>
                <a:chExt cx="77760" cy="287280"/>
              </a:xfrm>
            </p:grpSpPr>
            <p:sp>
              <p:nvSpPr>
                <p:cNvPr id="981" name="Rectangle 1906"/>
                <p:cNvSpPr/>
                <p:nvPr/>
              </p:nvSpPr>
              <p:spPr>
                <a:xfrm>
                  <a:off x="83311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1907"/>
                <p:cNvSpPr/>
                <p:nvPr/>
              </p:nvSpPr>
              <p:spPr>
                <a:xfrm>
                  <a:off x="83311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3" name="Group 1908"/>
                <p:cNvGrpSpPr/>
                <p:nvPr/>
              </p:nvGrpSpPr>
              <p:grpSpPr>
                <a:xfrm>
                  <a:off x="8345520" y="4030560"/>
                  <a:ext cx="52200" cy="255600"/>
                  <a:chOff x="8345520" y="4030560"/>
                  <a:chExt cx="52200" cy="255600"/>
                </a:xfrm>
              </p:grpSpPr>
              <p:sp>
                <p:nvSpPr>
                  <p:cNvPr id="984" name="Rectangle 1909"/>
                  <p:cNvSpPr/>
                  <p:nvPr/>
                </p:nvSpPr>
                <p:spPr>
                  <a:xfrm>
                    <a:off x="834552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Rectangle 1910"/>
                  <p:cNvSpPr/>
                  <p:nvPr/>
                </p:nvSpPr>
                <p:spPr>
                  <a:xfrm>
                    <a:off x="83646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Rectangle 1911"/>
                  <p:cNvSpPr/>
                  <p:nvPr/>
                </p:nvSpPr>
                <p:spPr>
                  <a:xfrm>
                    <a:off x="83772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Rectangle 1912"/>
                  <p:cNvSpPr/>
                  <p:nvPr/>
                </p:nvSpPr>
                <p:spPr>
                  <a:xfrm>
                    <a:off x="83916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Rectangle 1913"/>
                  <p:cNvSpPr/>
                  <p:nvPr/>
                </p:nvSpPr>
                <p:spPr>
                  <a:xfrm>
                    <a:off x="835020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Group 1914"/>
              <p:cNvGrpSpPr/>
              <p:nvPr/>
            </p:nvGrpSpPr>
            <p:grpSpPr>
              <a:xfrm>
                <a:off x="8431200" y="4014720"/>
                <a:ext cx="77760" cy="287280"/>
                <a:chOff x="8431200" y="4014720"/>
                <a:chExt cx="77760" cy="287280"/>
              </a:xfrm>
            </p:grpSpPr>
            <p:sp>
              <p:nvSpPr>
                <p:cNvPr id="990" name="Rectangle 1915"/>
                <p:cNvSpPr/>
                <p:nvPr/>
              </p:nvSpPr>
              <p:spPr>
                <a:xfrm>
                  <a:off x="843120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1916"/>
                <p:cNvSpPr/>
                <p:nvPr/>
              </p:nvSpPr>
              <p:spPr>
                <a:xfrm>
                  <a:off x="843120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1917"/>
                <p:cNvGrpSpPr/>
                <p:nvPr/>
              </p:nvGrpSpPr>
              <p:grpSpPr>
                <a:xfrm>
                  <a:off x="8445600" y="4030560"/>
                  <a:ext cx="52200" cy="255600"/>
                  <a:chOff x="8445600" y="4030560"/>
                  <a:chExt cx="52200" cy="255600"/>
                </a:xfrm>
              </p:grpSpPr>
              <p:sp>
                <p:nvSpPr>
                  <p:cNvPr id="993" name="Rectangle 1918"/>
                  <p:cNvSpPr/>
                  <p:nvPr/>
                </p:nvSpPr>
                <p:spPr>
                  <a:xfrm>
                    <a:off x="844560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Rectangle 1919"/>
                  <p:cNvSpPr/>
                  <p:nvPr/>
                </p:nvSpPr>
                <p:spPr>
                  <a:xfrm>
                    <a:off x="8462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Rectangle 1920"/>
                  <p:cNvSpPr/>
                  <p:nvPr/>
                </p:nvSpPr>
                <p:spPr>
                  <a:xfrm>
                    <a:off x="84772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Rectangle 1921"/>
                  <p:cNvSpPr/>
                  <p:nvPr/>
                </p:nvSpPr>
                <p:spPr>
                  <a:xfrm>
                    <a:off x="84916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Rectangle 1922"/>
                  <p:cNvSpPr/>
                  <p:nvPr/>
                </p:nvSpPr>
                <p:spPr>
                  <a:xfrm>
                    <a:off x="8450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1923"/>
              <p:cNvGrpSpPr/>
              <p:nvPr/>
            </p:nvGrpSpPr>
            <p:grpSpPr>
              <a:xfrm>
                <a:off x="8632800" y="4014720"/>
                <a:ext cx="77760" cy="287280"/>
                <a:chOff x="8632800" y="4014720"/>
                <a:chExt cx="77760" cy="287280"/>
              </a:xfrm>
            </p:grpSpPr>
            <p:sp>
              <p:nvSpPr>
                <p:cNvPr id="999" name="Rectangle 1924"/>
                <p:cNvSpPr/>
                <p:nvPr/>
              </p:nvSpPr>
              <p:spPr>
                <a:xfrm>
                  <a:off x="863280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Rectangle 1925"/>
                <p:cNvSpPr/>
                <p:nvPr/>
              </p:nvSpPr>
              <p:spPr>
                <a:xfrm>
                  <a:off x="863280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Group 1926"/>
                <p:cNvGrpSpPr/>
                <p:nvPr/>
              </p:nvGrpSpPr>
              <p:grpSpPr>
                <a:xfrm>
                  <a:off x="8647200" y="4030560"/>
                  <a:ext cx="52200" cy="255600"/>
                  <a:chOff x="8647200" y="4030560"/>
                  <a:chExt cx="52200" cy="255600"/>
                </a:xfrm>
              </p:grpSpPr>
              <p:sp>
                <p:nvSpPr>
                  <p:cNvPr id="1002" name="Rectangle 1927"/>
                  <p:cNvSpPr/>
                  <p:nvPr/>
                </p:nvSpPr>
                <p:spPr>
                  <a:xfrm>
                    <a:off x="864720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Rectangle 1928"/>
                  <p:cNvSpPr/>
                  <p:nvPr/>
                </p:nvSpPr>
                <p:spPr>
                  <a:xfrm>
                    <a:off x="8666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Rectangle 1929"/>
                  <p:cNvSpPr/>
                  <p:nvPr/>
                </p:nvSpPr>
                <p:spPr>
                  <a:xfrm>
                    <a:off x="8678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Rectangle 1930"/>
                  <p:cNvSpPr/>
                  <p:nvPr/>
                </p:nvSpPr>
                <p:spPr>
                  <a:xfrm>
                    <a:off x="8693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1931"/>
                  <p:cNvSpPr/>
                  <p:nvPr/>
                </p:nvSpPr>
                <p:spPr>
                  <a:xfrm>
                    <a:off x="8651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7" name="Group 1932"/>
              <p:cNvGrpSpPr/>
              <p:nvPr/>
            </p:nvGrpSpPr>
            <p:grpSpPr>
              <a:xfrm>
                <a:off x="8029440" y="4014720"/>
                <a:ext cx="76320" cy="287280"/>
                <a:chOff x="8029440" y="4014720"/>
                <a:chExt cx="76320" cy="287280"/>
              </a:xfrm>
            </p:grpSpPr>
            <p:sp>
              <p:nvSpPr>
                <p:cNvPr id="1008" name="Rectangle 1933"/>
                <p:cNvSpPr/>
                <p:nvPr/>
              </p:nvSpPr>
              <p:spPr>
                <a:xfrm>
                  <a:off x="8029440" y="42991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1934"/>
                <p:cNvSpPr/>
                <p:nvPr/>
              </p:nvSpPr>
              <p:spPr>
                <a:xfrm>
                  <a:off x="8029440" y="401472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0" name="Group 1935"/>
                <p:cNvGrpSpPr/>
                <p:nvPr/>
              </p:nvGrpSpPr>
              <p:grpSpPr>
                <a:xfrm>
                  <a:off x="8043840" y="4030560"/>
                  <a:ext cx="52560" cy="255600"/>
                  <a:chOff x="8043840" y="4030560"/>
                  <a:chExt cx="52560" cy="255600"/>
                </a:xfrm>
              </p:grpSpPr>
              <p:sp>
                <p:nvSpPr>
                  <p:cNvPr id="1011" name="Rectangle 1936"/>
                  <p:cNvSpPr/>
                  <p:nvPr/>
                </p:nvSpPr>
                <p:spPr>
                  <a:xfrm>
                    <a:off x="8043840" y="4030560"/>
                    <a:ext cx="525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Rectangle 1937"/>
                  <p:cNvSpPr/>
                  <p:nvPr/>
                </p:nvSpPr>
                <p:spPr>
                  <a:xfrm>
                    <a:off x="8061480" y="403704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Rectangle 1938"/>
                  <p:cNvSpPr/>
                  <p:nvPr/>
                </p:nvSpPr>
                <p:spPr>
                  <a:xfrm>
                    <a:off x="807552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Rectangle 1939"/>
                  <p:cNvSpPr/>
                  <p:nvPr/>
                </p:nvSpPr>
                <p:spPr>
                  <a:xfrm>
                    <a:off x="8088480" y="403704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Rectangle 1940"/>
                  <p:cNvSpPr/>
                  <p:nvPr/>
                </p:nvSpPr>
                <p:spPr>
                  <a:xfrm>
                    <a:off x="804852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6" name="Group 1941"/>
              <p:cNvGrpSpPr/>
              <p:nvPr/>
            </p:nvGrpSpPr>
            <p:grpSpPr>
              <a:xfrm>
                <a:off x="8532720" y="4014720"/>
                <a:ext cx="77760" cy="287280"/>
                <a:chOff x="8532720" y="4014720"/>
                <a:chExt cx="77760" cy="287280"/>
              </a:xfrm>
            </p:grpSpPr>
            <p:sp>
              <p:nvSpPr>
                <p:cNvPr id="1017" name="Rectangle 1942"/>
                <p:cNvSpPr/>
                <p:nvPr/>
              </p:nvSpPr>
              <p:spPr>
                <a:xfrm>
                  <a:off x="85327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1943"/>
                <p:cNvSpPr/>
                <p:nvPr/>
              </p:nvSpPr>
              <p:spPr>
                <a:xfrm>
                  <a:off x="85327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9" name="Group 1944"/>
                <p:cNvGrpSpPr/>
                <p:nvPr/>
              </p:nvGrpSpPr>
              <p:grpSpPr>
                <a:xfrm>
                  <a:off x="8547120" y="4030560"/>
                  <a:ext cx="52200" cy="255600"/>
                  <a:chOff x="8547120" y="4030560"/>
                  <a:chExt cx="52200" cy="255600"/>
                </a:xfrm>
              </p:grpSpPr>
              <p:sp>
                <p:nvSpPr>
                  <p:cNvPr id="1020" name="Rectangle 1945"/>
                  <p:cNvSpPr/>
                  <p:nvPr/>
                </p:nvSpPr>
                <p:spPr>
                  <a:xfrm>
                    <a:off x="854712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Rectangle 1946"/>
                  <p:cNvSpPr/>
                  <p:nvPr/>
                </p:nvSpPr>
                <p:spPr>
                  <a:xfrm>
                    <a:off x="85662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Rectangle 1947"/>
                  <p:cNvSpPr/>
                  <p:nvPr/>
                </p:nvSpPr>
                <p:spPr>
                  <a:xfrm>
                    <a:off x="85788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Rectangle 1948"/>
                  <p:cNvSpPr/>
                  <p:nvPr/>
                </p:nvSpPr>
                <p:spPr>
                  <a:xfrm>
                    <a:off x="85932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Rectangle 1949"/>
                  <p:cNvSpPr/>
                  <p:nvPr/>
                </p:nvSpPr>
                <p:spPr>
                  <a:xfrm>
                    <a:off x="85518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5" name="Rectangle 1950"/>
          <p:cNvSpPr/>
          <p:nvPr/>
        </p:nvSpPr>
        <p:spPr>
          <a:xfrm>
            <a:off x="7391520" y="4495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ADUANA</a:t>
            </a:r>
            <a:r>
              <a:rPr b="1" lang="es-MX" sz="1800" spc="-1" strike="noStrike">
                <a:solidFill>
                  <a:srgbClr val="006633"/>
                </a:solidFill>
                <a:latin typeface="Verdana"/>
              </a:rPr>
              <a:t>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Object 1951"/>
          <p:cNvGraphicFramePr/>
          <p:nvPr/>
        </p:nvGraphicFramePr>
        <p:xfrm>
          <a:off x="7020000" y="5157720"/>
          <a:ext cx="6858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7" name="Object 19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515772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6633"/>
                </a:solidFill>
                <a:latin typeface="Garamond"/>
              </a:rPr>
              <a:t>CADENA LOGISTICA INTERNACIONAL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9" name="Rectangle 1953"/>
          <p:cNvSpPr/>
          <p:nvPr/>
        </p:nvSpPr>
        <p:spPr>
          <a:xfrm>
            <a:off x="6659640" y="5734080"/>
            <a:ext cx="141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33"/>
                </a:solidFill>
                <a:latin typeface="Verdana"/>
              </a:rPr>
              <a:t>E</a:t>
            </a:r>
            <a:r>
              <a:rPr b="1" lang="es-MX" sz="1400" spc="-1" strike="noStrike">
                <a:solidFill>
                  <a:srgbClr val="006633"/>
                </a:solidFill>
                <a:latin typeface="Verdana"/>
              </a:rPr>
              <a:t>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954"/>
          <p:cNvSpPr/>
          <p:nvPr/>
        </p:nvSpPr>
        <p:spPr>
          <a:xfrm>
            <a:off x="5641920" y="5148360"/>
            <a:ext cx="739800" cy="522360"/>
          </a:xfrm>
          <a:prstGeom prst="leftArrow">
            <a:avLst>
              <a:gd name="adj1" fmla="val 50000"/>
              <a:gd name="adj2" fmla="val 35328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ción al Sobreentrenamiento: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artición de los Dato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7" name="Text Box 4"/>
          <p:cNvSpPr/>
          <p:nvPr/>
        </p:nvSpPr>
        <p:spPr>
          <a:xfrm>
            <a:off x="6117840" y="2286000"/>
            <a:ext cx="20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5"/>
          <p:cNvSpPr/>
          <p:nvPr/>
        </p:nvSpPr>
        <p:spPr>
          <a:xfrm>
            <a:off x="6166800" y="413064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AutoShape 6"/>
          <p:cNvSpPr/>
          <p:nvPr/>
        </p:nvSpPr>
        <p:spPr>
          <a:xfrm flipH="1" rot="16200000">
            <a:off x="2322720" y="1257120"/>
            <a:ext cx="2362320" cy="4724280"/>
          </a:xfrm>
          <a:custGeom>
            <a:avLst/>
            <a:gdLst>
              <a:gd name="textAreaLeft" fmla="*/ 729360 w 2362320"/>
              <a:gd name="textAreaRight" fmla="*/ 1632960 w 2362320"/>
              <a:gd name="textAreaTop" fmla="*/ 1458720 h 4724280"/>
              <a:gd name="textAreaBottom" fmla="*/ 32655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40" y="21600"/>
                </a:lnTo>
                <a:lnTo>
                  <a:pt x="1186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7"/>
          <p:cNvSpPr/>
          <p:nvPr/>
        </p:nvSpPr>
        <p:spPr>
          <a:xfrm flipH="1" flipV="1">
            <a:off x="1142280" y="2209680"/>
            <a:ext cx="4724280" cy="10670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8"/>
          <p:cNvSpPr/>
          <p:nvPr/>
        </p:nvSpPr>
        <p:spPr>
          <a:xfrm flipH="1">
            <a:off x="1142280" y="3962520"/>
            <a:ext cx="4724280" cy="10666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9"/>
          <p:cNvSpPr/>
          <p:nvPr/>
        </p:nvSpPr>
        <p:spPr>
          <a:xfrm>
            <a:off x="397080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10"/>
          <p:cNvSpPr/>
          <p:nvPr/>
        </p:nvSpPr>
        <p:spPr>
          <a:xfrm>
            <a:off x="4154040" y="441972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11"/>
          <p:cNvSpPr/>
          <p:nvPr/>
        </p:nvSpPr>
        <p:spPr>
          <a:xfrm>
            <a:off x="2184840" y="330192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tr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5" name="Object 2"/>
          <p:cNvGraphicFramePr/>
          <p:nvPr/>
        </p:nvGraphicFramePr>
        <p:xfrm>
          <a:off x="5867280" y="3200400"/>
          <a:ext cx="22860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00400"/>
                    <a:ext cx="22860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7" name="Group 3"/>
          <p:cNvGrpSpPr/>
          <p:nvPr/>
        </p:nvGrpSpPr>
        <p:grpSpPr>
          <a:xfrm>
            <a:off x="1447920" y="2514600"/>
            <a:ext cx="3198600" cy="3198960"/>
            <a:chOff x="1447920" y="2514600"/>
            <a:chExt cx="3198600" cy="3198960"/>
          </a:xfrm>
        </p:grpSpPr>
        <p:pic>
          <p:nvPicPr>
            <p:cNvPr id="1928" name="Picture 4" descr=""/>
            <p:cNvPicPr/>
            <p:nvPr/>
          </p:nvPicPr>
          <p:blipFill>
            <a:blip r:embed="rId3"/>
            <a:stretch/>
          </p:blipFill>
          <p:spPr>
            <a:xfrm>
              <a:off x="1447920" y="2514600"/>
              <a:ext cx="3198600" cy="3198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29" name="Object 5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30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31" name="Group 6"/>
          <p:cNvGrpSpPr/>
          <p:nvPr/>
        </p:nvGrpSpPr>
        <p:grpSpPr>
          <a:xfrm>
            <a:off x="1447920" y="2514600"/>
            <a:ext cx="4848120" cy="3200400"/>
            <a:chOff x="1447920" y="2514600"/>
            <a:chExt cx="4848120" cy="3200400"/>
          </a:xfrm>
        </p:grpSpPr>
        <p:grpSp>
          <p:nvGrpSpPr>
            <p:cNvPr id="1932" name="Group 7"/>
            <p:cNvGrpSpPr/>
            <p:nvPr/>
          </p:nvGrpSpPr>
          <p:grpSpPr>
            <a:xfrm>
              <a:off x="1449360" y="2516040"/>
              <a:ext cx="4846680" cy="3198960"/>
              <a:chOff x="1449360" y="2516040"/>
              <a:chExt cx="4846680" cy="3198960"/>
            </a:xfrm>
          </p:grpSpPr>
          <p:sp>
            <p:nvSpPr>
              <p:cNvPr id="1933" name="Line 8"/>
              <p:cNvSpPr/>
              <p:nvPr/>
            </p:nvSpPr>
            <p:spPr>
              <a:xfrm>
                <a:off x="5991480" y="3392640"/>
                <a:ext cx="24768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9"/>
              <p:cNvSpPr/>
              <p:nvPr/>
            </p:nvSpPr>
            <p:spPr>
              <a:xfrm>
                <a:off x="6220080" y="408312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Line 10"/>
              <p:cNvSpPr/>
              <p:nvPr/>
            </p:nvSpPr>
            <p:spPr>
              <a:xfrm flipV="1">
                <a:off x="6005520" y="4668480"/>
                <a:ext cx="190440" cy="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11"/>
              <p:cNvSpPr/>
              <p:nvPr/>
            </p:nvSpPr>
            <p:spPr>
              <a:xfrm>
                <a:off x="6195960" y="4611600"/>
                <a:ext cx="76320" cy="7632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7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936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38" name="Object 13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40" name="Group 14"/>
          <p:cNvGrpSpPr/>
          <p:nvPr/>
        </p:nvGrpSpPr>
        <p:grpSpPr>
          <a:xfrm>
            <a:off x="1447920" y="2514600"/>
            <a:ext cx="5147640" cy="3200400"/>
            <a:chOff x="1447920" y="2514600"/>
            <a:chExt cx="5147640" cy="3200400"/>
          </a:xfrm>
        </p:grpSpPr>
        <p:grpSp>
          <p:nvGrpSpPr>
            <p:cNvPr id="1941" name="Group 15"/>
            <p:cNvGrpSpPr/>
            <p:nvPr/>
          </p:nvGrpSpPr>
          <p:grpSpPr>
            <a:xfrm>
              <a:off x="1449360" y="2516040"/>
              <a:ext cx="5146200" cy="3198960"/>
              <a:chOff x="1449360" y="2516040"/>
              <a:chExt cx="5146200" cy="3198960"/>
            </a:xfrm>
          </p:grpSpPr>
          <p:sp>
            <p:nvSpPr>
              <p:cNvPr id="1942" name="Line 16"/>
              <p:cNvSpPr/>
              <p:nvPr/>
            </p:nvSpPr>
            <p:spPr>
              <a:xfrm>
                <a:off x="6281640" y="4133880"/>
                <a:ext cx="22824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Oval 17"/>
              <p:cNvSpPr/>
              <p:nvPr/>
            </p:nvSpPr>
            <p:spPr>
              <a:xfrm>
                <a:off x="6500520" y="416736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18"/>
              <p:cNvSpPr/>
              <p:nvPr/>
            </p:nvSpPr>
            <p:spPr>
              <a:xfrm flipV="1">
                <a:off x="6281640" y="4533840"/>
                <a:ext cx="247320" cy="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Oval 19"/>
              <p:cNvSpPr/>
              <p:nvPr/>
            </p:nvSpPr>
            <p:spPr>
              <a:xfrm>
                <a:off x="6519600" y="448164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6" name="Picture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9360" y="2516040"/>
                <a:ext cx="319860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47" name="Object 21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48" name="Object 21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49" name="Group 22"/>
          <p:cNvGrpSpPr/>
          <p:nvPr/>
        </p:nvGrpSpPr>
        <p:grpSpPr>
          <a:xfrm>
            <a:off x="1447920" y="2514600"/>
            <a:ext cx="5433840" cy="3200400"/>
            <a:chOff x="1447920" y="2514600"/>
            <a:chExt cx="5433840" cy="3200400"/>
          </a:xfrm>
        </p:grpSpPr>
        <p:grpSp>
          <p:nvGrpSpPr>
            <p:cNvPr id="1950" name="Group 23"/>
            <p:cNvGrpSpPr/>
            <p:nvPr/>
          </p:nvGrpSpPr>
          <p:grpSpPr>
            <a:xfrm>
              <a:off x="1447920" y="2516040"/>
              <a:ext cx="5433840" cy="3198960"/>
              <a:chOff x="1447920" y="2516040"/>
              <a:chExt cx="5433840" cy="3198960"/>
            </a:xfrm>
          </p:grpSpPr>
          <p:sp>
            <p:nvSpPr>
              <p:cNvPr id="1951" name="Line 24"/>
              <p:cNvSpPr/>
              <p:nvPr/>
            </p:nvSpPr>
            <p:spPr>
              <a:xfrm flipV="1">
                <a:off x="6572520" y="4205160"/>
                <a:ext cx="23328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Oval 25"/>
              <p:cNvSpPr/>
              <p:nvPr/>
            </p:nvSpPr>
            <p:spPr>
              <a:xfrm>
                <a:off x="6796080" y="4162320"/>
                <a:ext cx="7632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26"/>
              <p:cNvSpPr/>
              <p:nvPr/>
            </p:nvSpPr>
            <p:spPr>
              <a:xfrm flipV="1">
                <a:off x="6596280" y="4485960"/>
                <a:ext cx="233280" cy="2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Oval 27"/>
              <p:cNvSpPr/>
              <p:nvPr/>
            </p:nvSpPr>
            <p:spPr>
              <a:xfrm>
                <a:off x="6805800" y="444348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5" name="Picture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56" name="Object 29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57" name="Object 2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58" name="Group 30"/>
          <p:cNvGrpSpPr/>
          <p:nvPr/>
        </p:nvGrpSpPr>
        <p:grpSpPr>
          <a:xfrm>
            <a:off x="1447920" y="2514600"/>
            <a:ext cx="5743440" cy="3200400"/>
            <a:chOff x="1447920" y="2514600"/>
            <a:chExt cx="5743440" cy="3200400"/>
          </a:xfrm>
        </p:grpSpPr>
        <p:grpSp>
          <p:nvGrpSpPr>
            <p:cNvPr id="1959" name="Group 31"/>
            <p:cNvGrpSpPr/>
            <p:nvPr/>
          </p:nvGrpSpPr>
          <p:grpSpPr>
            <a:xfrm>
              <a:off x="1447920" y="2516040"/>
              <a:ext cx="5743440" cy="3198960"/>
              <a:chOff x="1447920" y="2516040"/>
              <a:chExt cx="5743440" cy="3198960"/>
            </a:xfrm>
          </p:grpSpPr>
          <p:sp>
            <p:nvSpPr>
              <p:cNvPr id="1960" name="Line 32"/>
              <p:cNvSpPr/>
              <p:nvPr/>
            </p:nvSpPr>
            <p:spPr>
              <a:xfrm>
                <a:off x="6863040" y="4195800"/>
                <a:ext cx="2664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33"/>
              <p:cNvSpPr/>
              <p:nvPr/>
            </p:nvSpPr>
            <p:spPr>
              <a:xfrm>
                <a:off x="7115400" y="427680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34"/>
              <p:cNvSpPr/>
              <p:nvPr/>
            </p:nvSpPr>
            <p:spPr>
              <a:xfrm>
                <a:off x="6877080" y="4481640"/>
                <a:ext cx="22392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35"/>
              <p:cNvSpPr/>
              <p:nvPr/>
            </p:nvSpPr>
            <p:spPr>
              <a:xfrm>
                <a:off x="7096320" y="450540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4" name="Picture 36" descr=""/>
              <p:cNvPicPr/>
              <p:nvPr/>
            </p:nvPicPr>
            <p:blipFill>
              <a:blip r:embed="rId15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65" name="Object 37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966" name="Object 3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67" name="Group 38"/>
          <p:cNvGrpSpPr/>
          <p:nvPr/>
        </p:nvGrpSpPr>
        <p:grpSpPr>
          <a:xfrm>
            <a:off x="1447920" y="2514600"/>
            <a:ext cx="6038280" cy="3200400"/>
            <a:chOff x="1447920" y="2514600"/>
            <a:chExt cx="6038280" cy="3200400"/>
          </a:xfrm>
        </p:grpSpPr>
        <p:grpSp>
          <p:nvGrpSpPr>
            <p:cNvPr id="1968" name="Group 39"/>
            <p:cNvGrpSpPr/>
            <p:nvPr/>
          </p:nvGrpSpPr>
          <p:grpSpPr>
            <a:xfrm>
              <a:off x="1449360" y="2516040"/>
              <a:ext cx="6036840" cy="3198960"/>
              <a:chOff x="1449360" y="2516040"/>
              <a:chExt cx="6036840" cy="3198960"/>
            </a:xfrm>
          </p:grpSpPr>
          <p:sp>
            <p:nvSpPr>
              <p:cNvPr id="1969" name="Line 40"/>
              <p:cNvSpPr/>
              <p:nvPr/>
            </p:nvSpPr>
            <p:spPr>
              <a:xfrm flipV="1">
                <a:off x="7186320" y="4271760"/>
                <a:ext cx="218880" cy="3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41"/>
              <p:cNvSpPr/>
              <p:nvPr/>
            </p:nvSpPr>
            <p:spPr>
              <a:xfrm>
                <a:off x="7410240" y="421956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42"/>
              <p:cNvSpPr/>
              <p:nvPr/>
            </p:nvSpPr>
            <p:spPr>
              <a:xfrm flipV="1">
                <a:off x="7176960" y="4514400"/>
                <a:ext cx="218520" cy="3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43"/>
              <p:cNvSpPr/>
              <p:nvPr/>
            </p:nvSpPr>
            <p:spPr>
              <a:xfrm>
                <a:off x="7386480" y="4471920"/>
                <a:ext cx="75600" cy="7632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3" name="Picture 44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49360" y="2516040"/>
                <a:ext cx="319860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74" name="Object 45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75" name="Object 4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76" name="Group 46"/>
          <p:cNvGrpSpPr/>
          <p:nvPr/>
        </p:nvGrpSpPr>
        <p:grpSpPr>
          <a:xfrm>
            <a:off x="1447920" y="2514600"/>
            <a:ext cx="6338880" cy="3198960"/>
            <a:chOff x="1447920" y="2514600"/>
            <a:chExt cx="6338880" cy="3198960"/>
          </a:xfrm>
        </p:grpSpPr>
        <p:grpSp>
          <p:nvGrpSpPr>
            <p:cNvPr id="1977" name="Group 47"/>
            <p:cNvGrpSpPr/>
            <p:nvPr/>
          </p:nvGrpSpPr>
          <p:grpSpPr>
            <a:xfrm>
              <a:off x="1449360" y="2514600"/>
              <a:ext cx="6337440" cy="3198960"/>
              <a:chOff x="1449360" y="2514600"/>
              <a:chExt cx="6337440" cy="3198960"/>
            </a:xfrm>
          </p:grpSpPr>
          <p:sp>
            <p:nvSpPr>
              <p:cNvPr id="1978" name="Line 48"/>
              <p:cNvSpPr/>
              <p:nvPr/>
            </p:nvSpPr>
            <p:spPr>
              <a:xfrm>
                <a:off x="7461360" y="4254480"/>
                <a:ext cx="241200" cy="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49"/>
              <p:cNvSpPr/>
              <p:nvPr/>
            </p:nvSpPr>
            <p:spPr>
              <a:xfrm>
                <a:off x="7701120" y="4267080"/>
                <a:ext cx="7632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50"/>
              <p:cNvSpPr/>
              <p:nvPr/>
            </p:nvSpPr>
            <p:spPr>
              <a:xfrm>
                <a:off x="7467840" y="4495680"/>
                <a:ext cx="237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51"/>
              <p:cNvSpPr/>
              <p:nvPr/>
            </p:nvSpPr>
            <p:spPr>
              <a:xfrm>
                <a:off x="7710480" y="4470480"/>
                <a:ext cx="7632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2" name="Picture 5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449360" y="251460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83" name="Object 53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984" name="Object 5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85" name="Group 54"/>
          <p:cNvGrpSpPr/>
          <p:nvPr/>
        </p:nvGrpSpPr>
        <p:grpSpPr>
          <a:xfrm>
            <a:off x="1447920" y="2514600"/>
            <a:ext cx="6629400" cy="3200400"/>
            <a:chOff x="1447920" y="2514600"/>
            <a:chExt cx="6629400" cy="3200400"/>
          </a:xfrm>
        </p:grpSpPr>
        <p:grpSp>
          <p:nvGrpSpPr>
            <p:cNvPr id="1986" name="Group 55"/>
            <p:cNvGrpSpPr/>
            <p:nvPr/>
          </p:nvGrpSpPr>
          <p:grpSpPr>
            <a:xfrm>
              <a:off x="1447920" y="2516040"/>
              <a:ext cx="6629400" cy="3198960"/>
              <a:chOff x="1447920" y="2516040"/>
              <a:chExt cx="6629400" cy="3198960"/>
            </a:xfrm>
          </p:grpSpPr>
          <p:sp>
            <p:nvSpPr>
              <p:cNvPr id="1987" name="Line 56"/>
              <p:cNvSpPr/>
              <p:nvPr/>
            </p:nvSpPr>
            <p:spPr>
              <a:xfrm>
                <a:off x="7782120" y="4309920"/>
                <a:ext cx="20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57"/>
              <p:cNvSpPr/>
              <p:nvPr/>
            </p:nvSpPr>
            <p:spPr>
              <a:xfrm>
                <a:off x="7986960" y="426708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58"/>
              <p:cNvSpPr/>
              <p:nvPr/>
            </p:nvSpPr>
            <p:spPr>
              <a:xfrm flipV="1">
                <a:off x="7772400" y="4514400"/>
                <a:ext cx="233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59"/>
              <p:cNvSpPr/>
              <p:nvPr/>
            </p:nvSpPr>
            <p:spPr>
              <a:xfrm>
                <a:off x="8001000" y="4481640"/>
                <a:ext cx="7632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91" name="Picture 60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92" name="Object 61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993" name="Object 6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justando una Red Neuro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5" name="Line 63"/>
          <p:cNvSpPr/>
          <p:nvPr/>
        </p:nvSpPr>
        <p:spPr>
          <a:xfrm>
            <a:off x="5943600" y="31240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64"/>
          <p:cNvSpPr/>
          <p:nvPr/>
        </p:nvSpPr>
        <p:spPr>
          <a:xfrm>
            <a:off x="5791320" y="51055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65"/>
          <p:cNvSpPr/>
          <p:nvPr/>
        </p:nvSpPr>
        <p:spPr>
          <a:xfrm>
            <a:off x="5032080" y="3084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66"/>
          <p:cNvSpPr/>
          <p:nvPr/>
        </p:nvSpPr>
        <p:spPr>
          <a:xfrm>
            <a:off x="5171400" y="464832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67"/>
          <p:cNvSpPr/>
          <p:nvPr/>
        </p:nvSpPr>
        <p:spPr>
          <a:xfrm>
            <a:off x="7314480" y="3213000"/>
            <a:ext cx="174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ntren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68"/>
          <p:cNvSpPr/>
          <p:nvPr/>
        </p:nvSpPr>
        <p:spPr>
          <a:xfrm>
            <a:off x="7315560" y="3517920"/>
            <a:ext cx="1291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Valid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Rectangle 69"/>
          <p:cNvSpPr/>
          <p:nvPr/>
        </p:nvSpPr>
        <p:spPr>
          <a:xfrm>
            <a:off x="5992200" y="51814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70"/>
          <p:cNvSpPr/>
          <p:nvPr/>
        </p:nvSpPr>
        <p:spPr>
          <a:xfrm>
            <a:off x="503316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71"/>
          <p:cNvSpPr/>
          <p:nvPr/>
        </p:nvSpPr>
        <p:spPr>
          <a:xfrm>
            <a:off x="1699200" y="5734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os de Entr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Oval 72"/>
          <p:cNvSpPr/>
          <p:nvPr/>
        </p:nvSpPr>
        <p:spPr>
          <a:xfrm>
            <a:off x="5929200" y="3314880"/>
            <a:ext cx="76320" cy="75960"/>
          </a:xfrm>
          <a:prstGeom prst="ellipse">
            <a:avLst/>
          </a:prstGeom>
          <a:solidFill>
            <a:srgbClr val="00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Oval 73"/>
          <p:cNvSpPr/>
          <p:nvPr/>
        </p:nvSpPr>
        <p:spPr>
          <a:xfrm>
            <a:off x="5929200" y="4724280"/>
            <a:ext cx="76320" cy="7632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74"/>
          <p:cNvSpPr/>
          <p:nvPr/>
        </p:nvSpPr>
        <p:spPr>
          <a:xfrm>
            <a:off x="7238880" y="3429000"/>
            <a:ext cx="76320" cy="76320"/>
          </a:xfrm>
          <a:prstGeom prst="ellipse">
            <a:avLst/>
          </a:prstGeom>
          <a:solidFill>
            <a:srgbClr val="00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Oval 75"/>
          <p:cNvSpPr/>
          <p:nvPr/>
        </p:nvSpPr>
        <p:spPr>
          <a:xfrm>
            <a:off x="7238880" y="3733920"/>
            <a:ext cx="76320" cy="7596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2052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1" name="Picture 4" descr="j0180876"/>
          <p:cNvPicPr/>
          <p:nvPr/>
        </p:nvPicPr>
        <p:blipFill>
          <a:blip r:embed="rId1"/>
          <a:stretch/>
        </p:blipFill>
        <p:spPr>
          <a:xfrm>
            <a:off x="6400800" y="2971800"/>
            <a:ext cx="2386080" cy="3200400"/>
          </a:xfrm>
          <a:prstGeom prst="rect">
            <a:avLst/>
          </a:prstGeom>
          <a:ln w="0">
            <a:noFill/>
          </a:ln>
        </p:spPr>
      </p:pic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odelos </a:t>
            </a: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onsiderados en el Proye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Modelo de Subvalor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38752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égimen Importación Defin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Modelo de Mala Clasific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38752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égimen Importación Defin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Freeform 2"/>
          <p:cNvSpPr/>
          <p:nvPr/>
        </p:nvSpPr>
        <p:spPr>
          <a:xfrm>
            <a:off x="3886200" y="1295280"/>
            <a:ext cx="3726000" cy="4654800"/>
          </a:xfrm>
          <a:custGeom>
            <a:avLst/>
            <a:gdLst>
              <a:gd name="textAreaLeft" fmla="*/ 0 w 3726000"/>
              <a:gd name="textAreaRight" fmla="*/ 3726360 w 3726000"/>
              <a:gd name="textAreaTop" fmla="*/ 0 h 4654800"/>
              <a:gd name="textAreaBottom" fmla="*/ 4655160 h 4654800"/>
            </a:gdLst>
            <a:ahLst/>
            <a:rect l="textAreaLeft" t="textAreaTop" r="textAreaRight" b="textAreaBottom"/>
            <a:pathLst>
              <a:path w="2603" h="3840">
                <a:moveTo>
                  <a:pt x="2257" y="3839"/>
                </a:moveTo>
                <a:lnTo>
                  <a:pt x="2211" y="3752"/>
                </a:lnTo>
                <a:lnTo>
                  <a:pt x="2174" y="3702"/>
                </a:lnTo>
                <a:lnTo>
                  <a:pt x="2081" y="3610"/>
                </a:lnTo>
                <a:lnTo>
                  <a:pt x="1979" y="3538"/>
                </a:lnTo>
                <a:lnTo>
                  <a:pt x="1817" y="3448"/>
                </a:lnTo>
                <a:lnTo>
                  <a:pt x="1389" y="3240"/>
                </a:lnTo>
                <a:lnTo>
                  <a:pt x="1198" y="3114"/>
                </a:lnTo>
                <a:lnTo>
                  <a:pt x="1105" y="3000"/>
                </a:lnTo>
                <a:lnTo>
                  <a:pt x="1073" y="2929"/>
                </a:lnTo>
                <a:lnTo>
                  <a:pt x="1067" y="2869"/>
                </a:lnTo>
                <a:lnTo>
                  <a:pt x="1049" y="2813"/>
                </a:lnTo>
                <a:lnTo>
                  <a:pt x="1029" y="2787"/>
                </a:lnTo>
                <a:lnTo>
                  <a:pt x="966" y="2735"/>
                </a:lnTo>
                <a:lnTo>
                  <a:pt x="902" y="2631"/>
                </a:lnTo>
                <a:lnTo>
                  <a:pt x="808" y="2462"/>
                </a:lnTo>
                <a:lnTo>
                  <a:pt x="778" y="2369"/>
                </a:lnTo>
                <a:lnTo>
                  <a:pt x="737" y="2244"/>
                </a:lnTo>
                <a:lnTo>
                  <a:pt x="449" y="1686"/>
                </a:lnTo>
                <a:lnTo>
                  <a:pt x="362" y="1553"/>
                </a:lnTo>
                <a:lnTo>
                  <a:pt x="282" y="1422"/>
                </a:lnTo>
                <a:lnTo>
                  <a:pt x="201" y="1380"/>
                </a:lnTo>
                <a:lnTo>
                  <a:pt x="161" y="1334"/>
                </a:lnTo>
                <a:lnTo>
                  <a:pt x="131" y="1287"/>
                </a:lnTo>
                <a:lnTo>
                  <a:pt x="84" y="1247"/>
                </a:lnTo>
                <a:lnTo>
                  <a:pt x="55" y="1235"/>
                </a:lnTo>
                <a:lnTo>
                  <a:pt x="42" y="1204"/>
                </a:lnTo>
                <a:lnTo>
                  <a:pt x="63" y="1175"/>
                </a:lnTo>
                <a:lnTo>
                  <a:pt x="78" y="1155"/>
                </a:lnTo>
                <a:lnTo>
                  <a:pt x="67" y="1079"/>
                </a:lnTo>
                <a:lnTo>
                  <a:pt x="40" y="1069"/>
                </a:lnTo>
                <a:lnTo>
                  <a:pt x="9" y="1058"/>
                </a:lnTo>
                <a:lnTo>
                  <a:pt x="0" y="1026"/>
                </a:lnTo>
                <a:lnTo>
                  <a:pt x="3" y="981"/>
                </a:lnTo>
                <a:lnTo>
                  <a:pt x="40" y="795"/>
                </a:lnTo>
                <a:lnTo>
                  <a:pt x="106" y="702"/>
                </a:lnTo>
                <a:lnTo>
                  <a:pt x="126" y="702"/>
                </a:lnTo>
                <a:lnTo>
                  <a:pt x="184" y="761"/>
                </a:lnTo>
                <a:lnTo>
                  <a:pt x="208" y="851"/>
                </a:lnTo>
                <a:lnTo>
                  <a:pt x="193" y="953"/>
                </a:lnTo>
                <a:lnTo>
                  <a:pt x="201" y="1003"/>
                </a:lnTo>
                <a:lnTo>
                  <a:pt x="233" y="1023"/>
                </a:lnTo>
                <a:lnTo>
                  <a:pt x="272" y="994"/>
                </a:lnTo>
                <a:lnTo>
                  <a:pt x="321" y="1013"/>
                </a:lnTo>
                <a:lnTo>
                  <a:pt x="349" y="1052"/>
                </a:lnTo>
                <a:lnTo>
                  <a:pt x="371" y="1112"/>
                </a:lnTo>
                <a:lnTo>
                  <a:pt x="415" y="1118"/>
                </a:lnTo>
                <a:lnTo>
                  <a:pt x="488" y="1075"/>
                </a:lnTo>
                <a:lnTo>
                  <a:pt x="540" y="1001"/>
                </a:lnTo>
                <a:lnTo>
                  <a:pt x="575" y="876"/>
                </a:lnTo>
                <a:lnTo>
                  <a:pt x="590" y="740"/>
                </a:lnTo>
                <a:lnTo>
                  <a:pt x="622" y="682"/>
                </a:lnTo>
                <a:lnTo>
                  <a:pt x="659" y="653"/>
                </a:lnTo>
                <a:lnTo>
                  <a:pt x="805" y="589"/>
                </a:lnTo>
                <a:lnTo>
                  <a:pt x="958" y="555"/>
                </a:lnTo>
                <a:lnTo>
                  <a:pt x="999" y="513"/>
                </a:lnTo>
                <a:lnTo>
                  <a:pt x="1022" y="440"/>
                </a:lnTo>
                <a:lnTo>
                  <a:pt x="1058" y="404"/>
                </a:lnTo>
                <a:lnTo>
                  <a:pt x="1122" y="356"/>
                </a:lnTo>
                <a:lnTo>
                  <a:pt x="1153" y="293"/>
                </a:lnTo>
                <a:lnTo>
                  <a:pt x="1155" y="229"/>
                </a:lnTo>
                <a:lnTo>
                  <a:pt x="1131" y="141"/>
                </a:lnTo>
                <a:lnTo>
                  <a:pt x="1092" y="68"/>
                </a:lnTo>
                <a:lnTo>
                  <a:pt x="1107" y="0"/>
                </a:lnTo>
                <a:lnTo>
                  <a:pt x="1297" y="136"/>
                </a:lnTo>
                <a:lnTo>
                  <a:pt x="1478" y="216"/>
                </a:lnTo>
                <a:lnTo>
                  <a:pt x="1540" y="311"/>
                </a:lnTo>
                <a:lnTo>
                  <a:pt x="1583" y="422"/>
                </a:lnTo>
                <a:lnTo>
                  <a:pt x="1622" y="465"/>
                </a:lnTo>
                <a:lnTo>
                  <a:pt x="1658" y="465"/>
                </a:lnTo>
                <a:lnTo>
                  <a:pt x="1729" y="422"/>
                </a:lnTo>
                <a:lnTo>
                  <a:pt x="1809" y="434"/>
                </a:lnTo>
                <a:lnTo>
                  <a:pt x="1873" y="461"/>
                </a:lnTo>
                <a:lnTo>
                  <a:pt x="1909" y="464"/>
                </a:lnTo>
                <a:lnTo>
                  <a:pt x="1944" y="460"/>
                </a:lnTo>
                <a:lnTo>
                  <a:pt x="1977" y="420"/>
                </a:lnTo>
                <a:lnTo>
                  <a:pt x="2037" y="412"/>
                </a:lnTo>
                <a:lnTo>
                  <a:pt x="2084" y="414"/>
                </a:lnTo>
                <a:lnTo>
                  <a:pt x="2121" y="455"/>
                </a:lnTo>
                <a:lnTo>
                  <a:pt x="2182" y="485"/>
                </a:lnTo>
                <a:lnTo>
                  <a:pt x="2298" y="493"/>
                </a:lnTo>
                <a:lnTo>
                  <a:pt x="2301" y="619"/>
                </a:lnTo>
                <a:lnTo>
                  <a:pt x="2270" y="777"/>
                </a:lnTo>
                <a:lnTo>
                  <a:pt x="2226" y="841"/>
                </a:lnTo>
                <a:lnTo>
                  <a:pt x="2199" y="867"/>
                </a:lnTo>
                <a:lnTo>
                  <a:pt x="2169" y="873"/>
                </a:lnTo>
                <a:lnTo>
                  <a:pt x="1998" y="868"/>
                </a:lnTo>
                <a:lnTo>
                  <a:pt x="1911" y="885"/>
                </a:lnTo>
                <a:lnTo>
                  <a:pt x="1837" y="940"/>
                </a:lnTo>
                <a:lnTo>
                  <a:pt x="1777" y="998"/>
                </a:lnTo>
                <a:lnTo>
                  <a:pt x="1691" y="1040"/>
                </a:lnTo>
                <a:lnTo>
                  <a:pt x="1658" y="1134"/>
                </a:lnTo>
                <a:lnTo>
                  <a:pt x="1671" y="1260"/>
                </a:lnTo>
                <a:lnTo>
                  <a:pt x="1704" y="1345"/>
                </a:lnTo>
                <a:lnTo>
                  <a:pt x="1689" y="1373"/>
                </a:lnTo>
                <a:lnTo>
                  <a:pt x="1627" y="1394"/>
                </a:lnTo>
                <a:lnTo>
                  <a:pt x="1546" y="1416"/>
                </a:lnTo>
                <a:lnTo>
                  <a:pt x="1507" y="1486"/>
                </a:lnTo>
                <a:lnTo>
                  <a:pt x="1491" y="1600"/>
                </a:lnTo>
                <a:lnTo>
                  <a:pt x="1520" y="1706"/>
                </a:lnTo>
                <a:lnTo>
                  <a:pt x="1569" y="1767"/>
                </a:lnTo>
                <a:lnTo>
                  <a:pt x="1663" y="1789"/>
                </a:lnTo>
                <a:lnTo>
                  <a:pt x="1680" y="1807"/>
                </a:lnTo>
                <a:lnTo>
                  <a:pt x="1641" y="1892"/>
                </a:lnTo>
                <a:lnTo>
                  <a:pt x="1658" y="1953"/>
                </a:lnTo>
                <a:lnTo>
                  <a:pt x="1711" y="1961"/>
                </a:lnTo>
                <a:lnTo>
                  <a:pt x="1793" y="1974"/>
                </a:lnTo>
                <a:lnTo>
                  <a:pt x="1832" y="2076"/>
                </a:lnTo>
                <a:lnTo>
                  <a:pt x="1902" y="2155"/>
                </a:lnTo>
                <a:lnTo>
                  <a:pt x="2008" y="2161"/>
                </a:lnTo>
                <a:lnTo>
                  <a:pt x="2074" y="2073"/>
                </a:lnTo>
                <a:lnTo>
                  <a:pt x="2113" y="2069"/>
                </a:lnTo>
                <a:lnTo>
                  <a:pt x="2141" y="2090"/>
                </a:lnTo>
                <a:lnTo>
                  <a:pt x="2148" y="2178"/>
                </a:lnTo>
                <a:lnTo>
                  <a:pt x="2186" y="2293"/>
                </a:lnTo>
                <a:lnTo>
                  <a:pt x="2248" y="2346"/>
                </a:lnTo>
                <a:lnTo>
                  <a:pt x="2315" y="2314"/>
                </a:lnTo>
                <a:lnTo>
                  <a:pt x="2398" y="2296"/>
                </a:lnTo>
                <a:lnTo>
                  <a:pt x="2472" y="2380"/>
                </a:lnTo>
                <a:lnTo>
                  <a:pt x="2544" y="2545"/>
                </a:lnTo>
                <a:lnTo>
                  <a:pt x="2548" y="2628"/>
                </a:lnTo>
                <a:lnTo>
                  <a:pt x="2529" y="2694"/>
                </a:lnTo>
                <a:lnTo>
                  <a:pt x="2490" y="2760"/>
                </a:lnTo>
                <a:lnTo>
                  <a:pt x="2527" y="2901"/>
                </a:lnTo>
                <a:lnTo>
                  <a:pt x="2535" y="2980"/>
                </a:lnTo>
                <a:lnTo>
                  <a:pt x="2481" y="3091"/>
                </a:lnTo>
                <a:lnTo>
                  <a:pt x="2475" y="3178"/>
                </a:lnTo>
                <a:lnTo>
                  <a:pt x="2499" y="3268"/>
                </a:lnTo>
                <a:lnTo>
                  <a:pt x="2532" y="3318"/>
                </a:lnTo>
                <a:lnTo>
                  <a:pt x="2584" y="3391"/>
                </a:lnTo>
                <a:lnTo>
                  <a:pt x="2602" y="3461"/>
                </a:lnTo>
                <a:lnTo>
                  <a:pt x="2594" y="3511"/>
                </a:lnTo>
                <a:lnTo>
                  <a:pt x="2583" y="3524"/>
                </a:lnTo>
                <a:lnTo>
                  <a:pt x="2555" y="3537"/>
                </a:lnTo>
                <a:lnTo>
                  <a:pt x="2455" y="3555"/>
                </a:lnTo>
                <a:lnTo>
                  <a:pt x="2455" y="3679"/>
                </a:lnTo>
                <a:lnTo>
                  <a:pt x="2257" y="3839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0"/>
          </a:gradFill>
          <a:ln cap="rnd"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5" name="Picture 5" descr="comercio6"/>
          <p:cNvPicPr/>
          <p:nvPr/>
        </p:nvPicPr>
        <p:blipFill>
          <a:blip r:embed="rId1"/>
          <a:stretch/>
        </p:blipFill>
        <p:spPr>
          <a:xfrm>
            <a:off x="6553080" y="5486400"/>
            <a:ext cx="952560" cy="63504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" descr="comercio5"/>
          <p:cNvPicPr/>
          <p:nvPr/>
        </p:nvPicPr>
        <p:blipFill>
          <a:blip r:embed="rId2"/>
          <a:stretch/>
        </p:blipFill>
        <p:spPr>
          <a:xfrm>
            <a:off x="4876920" y="4343400"/>
            <a:ext cx="990360" cy="798480"/>
          </a:xfrm>
          <a:prstGeom prst="rect">
            <a:avLst/>
          </a:prstGeom>
          <a:ln w="0">
            <a:noFill/>
          </a:ln>
        </p:spPr>
      </p:pic>
      <p:sp>
        <p:nvSpPr>
          <p:cNvPr id="2017" name="Rectangle 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Modelamiento – Realidades Distint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 Box 10"/>
          <p:cNvSpPr/>
          <p:nvPr/>
        </p:nvSpPr>
        <p:spPr>
          <a:xfrm>
            <a:off x="533520" y="2819520"/>
            <a:ext cx="2971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Operadores d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mpresas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Picture 11" descr="avion2"/>
          <p:cNvPicPr/>
          <p:nvPr/>
        </p:nvPicPr>
        <p:blipFill>
          <a:blip r:embed="rId3"/>
          <a:stretch/>
        </p:blipFill>
        <p:spPr>
          <a:xfrm>
            <a:off x="4191120" y="340344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Variables Predictoras </a:t>
            </a: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de la Subvaloración</a:t>
            </a: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identificaron un conjunto de 36 variables predictoras de la subvalo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7 variables se encuentran relacionadas al negocio adua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 variables se encuentran relacionadas a tributos inter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5" descr="j0308880"/>
          <p:cNvPicPr/>
          <p:nvPr/>
        </p:nvPicPr>
        <p:blipFill>
          <a:blip r:embed="rId1"/>
          <a:stretch/>
        </p:blipFill>
        <p:spPr>
          <a:xfrm>
            <a:off x="380880" y="4316400"/>
            <a:ext cx="32004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ambio de Comportamiento Cualitativ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4" name="Picture 3" descr="BD00001_"/>
          <p:cNvPicPr/>
          <p:nvPr/>
        </p:nvPicPr>
        <p:blipFill>
          <a:blip r:embed="rId1"/>
          <a:stretch/>
        </p:blipFill>
        <p:spPr>
          <a:xfrm>
            <a:off x="6400800" y="12952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4" descr="j0189202"/>
          <p:cNvPicPr/>
          <p:nvPr/>
        </p:nvPicPr>
        <p:blipFill>
          <a:blip r:embed="rId2"/>
          <a:stretch/>
        </p:blipFill>
        <p:spPr>
          <a:xfrm>
            <a:off x="4572000" y="167652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26" name="Text Box 5"/>
          <p:cNvSpPr/>
          <p:nvPr/>
        </p:nvSpPr>
        <p:spPr>
          <a:xfrm>
            <a:off x="198108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6"/>
          <p:cNvSpPr/>
          <p:nvPr/>
        </p:nvSpPr>
        <p:spPr>
          <a:xfrm>
            <a:off x="20574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lev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7"/>
          <p:cNvSpPr/>
          <p:nvPr/>
        </p:nvSpPr>
        <p:spPr>
          <a:xfrm>
            <a:off x="21337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8"/>
          <p:cNvSpPr/>
          <p:nvPr/>
        </p:nvSpPr>
        <p:spPr>
          <a:xfrm>
            <a:off x="2133720" y="4952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d321d"/>
                </a:solidFill>
                <a:latin typeface="Arial"/>
              </a:rPr>
              <a:t>Tex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0" name="Picture 9" descr="BD00001_"/>
          <p:cNvPicPr/>
          <p:nvPr/>
        </p:nvPicPr>
        <p:blipFill>
          <a:blip r:embed="rId3"/>
          <a:stretch/>
        </p:blipFill>
        <p:spPr>
          <a:xfrm>
            <a:off x="6400800" y="40384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10" descr="j0189202"/>
          <p:cNvPicPr/>
          <p:nvPr/>
        </p:nvPicPr>
        <p:blipFill>
          <a:blip r:embed="rId4"/>
          <a:stretch/>
        </p:blipFill>
        <p:spPr>
          <a:xfrm>
            <a:off x="4572000" y="434340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32" name="Text Box 11"/>
          <p:cNvSpPr/>
          <p:nvPr/>
        </p:nvSpPr>
        <p:spPr>
          <a:xfrm>
            <a:off x="213372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3" name="Picture 12" descr="BD07304_"/>
          <p:cNvPicPr/>
          <p:nvPr/>
        </p:nvPicPr>
        <p:blipFill>
          <a:blip r:embed="rId5"/>
          <a:stretch/>
        </p:blipFill>
        <p:spPr>
          <a:xfrm>
            <a:off x="380880" y="3886200"/>
            <a:ext cx="182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ambio de Comportamiento Cuantitativ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5" name="Picture 3" descr="BD00001_"/>
          <p:cNvPicPr/>
          <p:nvPr/>
        </p:nvPicPr>
        <p:blipFill>
          <a:blip r:embed="rId1"/>
          <a:stretch/>
        </p:blipFill>
        <p:spPr>
          <a:xfrm>
            <a:off x="6400800" y="12952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4" descr="j0189202"/>
          <p:cNvPicPr/>
          <p:nvPr/>
        </p:nvPicPr>
        <p:blipFill>
          <a:blip r:embed="rId2"/>
          <a:stretch/>
        </p:blipFill>
        <p:spPr>
          <a:xfrm>
            <a:off x="4572000" y="167652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37" name="Text Box 5"/>
          <p:cNvSpPr/>
          <p:nvPr/>
        </p:nvSpPr>
        <p:spPr>
          <a:xfrm>
            <a:off x="205740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 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6"/>
          <p:cNvSpPr/>
          <p:nvPr/>
        </p:nvSpPr>
        <p:spPr>
          <a:xfrm>
            <a:off x="2057400" y="2286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levisores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7"/>
          <p:cNvSpPr/>
          <p:nvPr/>
        </p:nvSpPr>
        <p:spPr>
          <a:xfrm>
            <a:off x="205740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adios 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8" descr="BD00001_"/>
          <p:cNvPicPr/>
          <p:nvPr/>
        </p:nvPicPr>
        <p:blipFill>
          <a:blip r:embed="rId3"/>
          <a:stretch/>
        </p:blipFill>
        <p:spPr>
          <a:xfrm>
            <a:off x="6400800" y="40384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9" descr="j0189202"/>
          <p:cNvPicPr/>
          <p:nvPr/>
        </p:nvPicPr>
        <p:blipFill>
          <a:blip r:embed="rId4"/>
          <a:stretch/>
        </p:blipFill>
        <p:spPr>
          <a:xfrm>
            <a:off x="4572000" y="434340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42" name="Text Box 10"/>
          <p:cNvSpPr/>
          <p:nvPr/>
        </p:nvSpPr>
        <p:spPr>
          <a:xfrm>
            <a:off x="2133720" y="4572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 </a:t>
            </a:r>
            <a:r>
              <a:rPr b="0" lang="es-PE" sz="1800" spc="-1" strike="noStrike">
                <a:solidFill>
                  <a:srgbClr val="fd321d"/>
                </a:solidFill>
                <a:latin typeface="Arial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3" name="Picture 11" descr="BD07304_"/>
          <p:cNvPicPr/>
          <p:nvPr/>
        </p:nvPicPr>
        <p:blipFill>
          <a:blip r:embed="rId5"/>
          <a:stretch/>
        </p:blipFill>
        <p:spPr>
          <a:xfrm>
            <a:off x="380880" y="3886200"/>
            <a:ext cx="182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Proceso de Entren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5" name="AutoShape 3"/>
          <p:cNvSpPr/>
          <p:nvPr/>
        </p:nvSpPr>
        <p:spPr>
          <a:xfrm>
            <a:off x="4419720" y="2895480"/>
            <a:ext cx="1855800" cy="156384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4"/>
          <p:cNvSpPr/>
          <p:nvPr/>
        </p:nvSpPr>
        <p:spPr>
          <a:xfrm>
            <a:off x="6300720" y="371628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AutoShape 7"/>
          <p:cNvSpPr/>
          <p:nvPr/>
        </p:nvSpPr>
        <p:spPr>
          <a:xfrm>
            <a:off x="2514600" y="3048120"/>
            <a:ext cx="515880" cy="3204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8"/>
          <p:cNvSpPr/>
          <p:nvPr/>
        </p:nvSpPr>
        <p:spPr>
          <a:xfrm flipV="1">
            <a:off x="1981080" y="3889440"/>
            <a:ext cx="2341800" cy="14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10"/>
          <p:cNvSpPr/>
          <p:nvPr/>
        </p:nvSpPr>
        <p:spPr>
          <a:xfrm>
            <a:off x="1219320" y="3505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Fi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11"/>
          <p:cNvSpPr/>
          <p:nvPr/>
        </p:nvSpPr>
        <p:spPr>
          <a:xfrm>
            <a:off x="2057400" y="266688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DB Recau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12"/>
          <p:cNvSpPr/>
          <p:nvPr/>
        </p:nvSpPr>
        <p:spPr>
          <a:xfrm>
            <a:off x="2989440" y="3251160"/>
            <a:ext cx="1333440" cy="4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AutoShape 14"/>
          <p:cNvSpPr/>
          <p:nvPr/>
        </p:nvSpPr>
        <p:spPr>
          <a:xfrm>
            <a:off x="1447920" y="3809880"/>
            <a:ext cx="515880" cy="32076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15"/>
          <p:cNvSpPr/>
          <p:nvPr/>
        </p:nvSpPr>
        <p:spPr>
          <a:xfrm flipV="1">
            <a:off x="2133720" y="3965040"/>
            <a:ext cx="2189160" cy="114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6"/>
          <p:cNvSpPr/>
          <p:nvPr/>
        </p:nvSpPr>
        <p:spPr>
          <a:xfrm>
            <a:off x="532800" y="45720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Comercio Exter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AutoShape 17"/>
          <p:cNvSpPr/>
          <p:nvPr/>
        </p:nvSpPr>
        <p:spPr>
          <a:xfrm>
            <a:off x="3589200" y="2411280"/>
            <a:ext cx="516240" cy="32076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8"/>
          <p:cNvSpPr/>
          <p:nvPr/>
        </p:nvSpPr>
        <p:spPr>
          <a:xfrm>
            <a:off x="3277800" y="21337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9"/>
          <p:cNvSpPr/>
          <p:nvPr/>
        </p:nvSpPr>
        <p:spPr>
          <a:xfrm>
            <a:off x="3865680" y="2746440"/>
            <a:ext cx="457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20"/>
          <p:cNvSpPr/>
          <p:nvPr/>
        </p:nvSpPr>
        <p:spPr>
          <a:xfrm>
            <a:off x="7163280" y="436572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Group 21"/>
          <p:cNvGrpSpPr/>
          <p:nvPr/>
        </p:nvGrpSpPr>
        <p:grpSpPr>
          <a:xfrm>
            <a:off x="7020000" y="3213000"/>
            <a:ext cx="1834560" cy="1008000"/>
            <a:chOff x="7020000" y="3213000"/>
            <a:chExt cx="1834560" cy="1008000"/>
          </a:xfrm>
        </p:grpSpPr>
        <p:pic>
          <p:nvPicPr>
            <p:cNvPr id="2060" name="Picture 22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020000" y="3213000"/>
              <a:ext cx="1834560" cy="10080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061" name="Group 23"/>
            <p:cNvGrpSpPr/>
            <p:nvPr/>
          </p:nvGrpSpPr>
          <p:grpSpPr>
            <a:xfrm>
              <a:off x="7188120" y="3213000"/>
              <a:ext cx="1303920" cy="954720"/>
              <a:chOff x="7188120" y="3213000"/>
              <a:chExt cx="1303920" cy="954720"/>
            </a:xfrm>
          </p:grpSpPr>
          <p:sp>
            <p:nvSpPr>
              <p:cNvPr id="2062" name="Oval 24"/>
              <p:cNvSpPr/>
              <p:nvPr/>
            </p:nvSpPr>
            <p:spPr>
              <a:xfrm rot="5400000">
                <a:off x="7802280" y="316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25"/>
              <p:cNvSpPr/>
              <p:nvPr/>
            </p:nvSpPr>
            <p:spPr>
              <a:xfrm rot="5400000">
                <a:off x="7802280" y="329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26"/>
              <p:cNvSpPr/>
              <p:nvPr/>
            </p:nvSpPr>
            <p:spPr>
              <a:xfrm rot="5400000">
                <a:off x="7802280" y="3416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27"/>
              <p:cNvSpPr/>
              <p:nvPr/>
            </p:nvSpPr>
            <p:spPr>
              <a:xfrm rot="5400000">
                <a:off x="7802280" y="35424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28"/>
              <p:cNvSpPr/>
              <p:nvPr/>
            </p:nvSpPr>
            <p:spPr>
              <a:xfrm rot="5400000">
                <a:off x="7802280" y="36680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29"/>
              <p:cNvSpPr/>
              <p:nvPr/>
            </p:nvSpPr>
            <p:spPr>
              <a:xfrm rot="5400000">
                <a:off x="7802280" y="37936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30"/>
              <p:cNvSpPr/>
              <p:nvPr/>
            </p:nvSpPr>
            <p:spPr>
              <a:xfrm rot="5400000">
                <a:off x="7802280" y="39193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31"/>
              <p:cNvSpPr/>
              <p:nvPr/>
            </p:nvSpPr>
            <p:spPr>
              <a:xfrm rot="5400000">
                <a:off x="7802280" y="40449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32"/>
              <p:cNvSpPr/>
              <p:nvPr/>
            </p:nvSpPr>
            <p:spPr>
              <a:xfrm rot="5400000">
                <a:off x="7235280" y="3341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33"/>
              <p:cNvSpPr/>
              <p:nvPr/>
            </p:nvSpPr>
            <p:spPr>
              <a:xfrm rot="5400000">
                <a:off x="7235280" y="3466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34"/>
              <p:cNvSpPr/>
              <p:nvPr/>
            </p:nvSpPr>
            <p:spPr>
              <a:xfrm rot="5400000">
                <a:off x="7235280" y="3592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35"/>
              <p:cNvSpPr/>
              <p:nvPr/>
            </p:nvSpPr>
            <p:spPr>
              <a:xfrm rot="5400000">
                <a:off x="7235280" y="3718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36"/>
              <p:cNvSpPr/>
              <p:nvPr/>
            </p:nvSpPr>
            <p:spPr>
              <a:xfrm rot="5400000">
                <a:off x="7235280" y="3843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37"/>
              <p:cNvSpPr/>
              <p:nvPr/>
            </p:nvSpPr>
            <p:spPr>
              <a:xfrm rot="5400000">
                <a:off x="8369280" y="3466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38"/>
              <p:cNvSpPr/>
              <p:nvPr/>
            </p:nvSpPr>
            <p:spPr>
              <a:xfrm rot="5400000">
                <a:off x="8369280" y="3592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39"/>
              <p:cNvSpPr/>
              <p:nvPr/>
            </p:nvSpPr>
            <p:spPr>
              <a:xfrm rot="5400000">
                <a:off x="8369280" y="3718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8" name="AutoShape 40"/>
              <p:cNvCxnSpPr>
                <a:stCxn id="2070" idx="0"/>
                <a:endCxn id="2064" idx="4"/>
              </p:cNvCxnSpPr>
              <p:nvPr/>
            </p:nvCxnSpPr>
            <p:spPr>
              <a:xfrm>
                <a:off x="7358400" y="342612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79" name="AutoShape 41"/>
              <p:cNvCxnSpPr>
                <a:stCxn id="2071" idx="0"/>
                <a:endCxn id="2065" idx="4"/>
              </p:cNvCxnSpPr>
              <p:nvPr/>
            </p:nvCxnSpPr>
            <p:spPr>
              <a:xfrm>
                <a:off x="7358400" y="355176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0" name="AutoShape 42"/>
              <p:cNvCxnSpPr>
                <a:stCxn id="2071" idx="0"/>
                <a:endCxn id="2066" idx="4"/>
              </p:cNvCxnSpPr>
              <p:nvPr/>
            </p:nvCxnSpPr>
            <p:spPr>
              <a:xfrm>
                <a:off x="7358400" y="355212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1" name="AutoShape 43"/>
              <p:cNvCxnSpPr>
                <a:stCxn id="2072" idx="0"/>
                <a:endCxn id="2066" idx="4"/>
              </p:cNvCxnSpPr>
              <p:nvPr/>
            </p:nvCxnSpPr>
            <p:spPr>
              <a:xfrm>
                <a:off x="7358400" y="367740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2" name="AutoShape 44"/>
              <p:cNvCxnSpPr>
                <a:stCxn id="2072" idx="0"/>
                <a:endCxn id="2065" idx="4"/>
              </p:cNvCxnSpPr>
              <p:nvPr/>
            </p:nvCxnSpPr>
            <p:spPr>
              <a:xfrm flipV="1">
                <a:off x="7358400" y="362664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3" name="AutoShape 45"/>
              <p:cNvCxnSpPr>
                <a:stCxn id="2073" idx="0"/>
                <a:endCxn id="2066" idx="4"/>
              </p:cNvCxnSpPr>
              <p:nvPr/>
            </p:nvCxnSpPr>
            <p:spPr>
              <a:xfrm flipV="1">
                <a:off x="7358400" y="3752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4" name="AutoShape 46"/>
              <p:cNvCxnSpPr>
                <a:stCxn id="2073" idx="0"/>
                <a:endCxn id="2067" idx="4"/>
              </p:cNvCxnSpPr>
              <p:nvPr/>
            </p:nvCxnSpPr>
            <p:spPr>
              <a:xfrm>
                <a:off x="7358400" y="380304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5" name="AutoShape 47"/>
              <p:cNvCxnSpPr>
                <a:stCxn id="2074" idx="0"/>
                <a:endCxn id="2067" idx="4"/>
              </p:cNvCxnSpPr>
              <p:nvPr/>
            </p:nvCxnSpPr>
            <p:spPr>
              <a:xfrm flipV="1">
                <a:off x="7358400" y="3878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6" name="AutoShape 48"/>
              <p:cNvCxnSpPr>
                <a:stCxn id="2070" idx="0"/>
                <a:endCxn id="2065" idx="4"/>
              </p:cNvCxnSpPr>
              <p:nvPr/>
            </p:nvCxnSpPr>
            <p:spPr>
              <a:xfrm>
                <a:off x="7358400" y="342648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7" name="AutoShape 49"/>
              <p:cNvCxnSpPr>
                <a:stCxn id="2074" idx="0"/>
                <a:endCxn id="2069" idx="4"/>
              </p:cNvCxnSpPr>
              <p:nvPr/>
            </p:nvCxnSpPr>
            <p:spPr>
              <a:xfrm>
                <a:off x="7358400" y="392904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8" name="AutoShape 50"/>
              <p:cNvCxnSpPr>
                <a:stCxn id="2072" idx="0"/>
                <a:endCxn id="2067" idx="4"/>
              </p:cNvCxnSpPr>
              <p:nvPr/>
            </p:nvCxnSpPr>
            <p:spPr>
              <a:xfrm>
                <a:off x="7358400" y="367776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9" name="AutoShape 51"/>
              <p:cNvCxnSpPr>
                <a:stCxn id="2073" idx="0"/>
                <a:endCxn id="2065" idx="4"/>
              </p:cNvCxnSpPr>
              <p:nvPr/>
            </p:nvCxnSpPr>
            <p:spPr>
              <a:xfrm flipV="1">
                <a:off x="7358400" y="362700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0" name="AutoShape 52"/>
              <p:cNvCxnSpPr>
                <a:stCxn id="2074" idx="0"/>
                <a:endCxn id="2066" idx="4"/>
              </p:cNvCxnSpPr>
              <p:nvPr/>
            </p:nvCxnSpPr>
            <p:spPr>
              <a:xfrm flipV="1">
                <a:off x="7358400" y="375264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1" name="AutoShape 53"/>
              <p:cNvCxnSpPr>
                <a:stCxn id="2073" idx="0"/>
                <a:endCxn id="2068" idx="4"/>
              </p:cNvCxnSpPr>
              <p:nvPr/>
            </p:nvCxnSpPr>
            <p:spPr>
              <a:xfrm>
                <a:off x="7358400" y="380340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2" name="AutoShape 54"/>
              <p:cNvCxnSpPr>
                <a:stCxn id="2074" idx="0"/>
                <a:endCxn id="2068" idx="4"/>
              </p:cNvCxnSpPr>
              <p:nvPr/>
            </p:nvCxnSpPr>
            <p:spPr>
              <a:xfrm>
                <a:off x="7358400" y="392868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3" name="AutoShape 55"/>
              <p:cNvCxnSpPr>
                <a:stCxn id="2071" idx="0"/>
                <a:endCxn id="2064" idx="4"/>
              </p:cNvCxnSpPr>
              <p:nvPr/>
            </p:nvCxnSpPr>
            <p:spPr>
              <a:xfrm flipV="1">
                <a:off x="7358400" y="350100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4" name="AutoShape 56"/>
              <p:cNvCxnSpPr>
                <a:stCxn id="2070" idx="0"/>
                <a:endCxn id="2066" idx="4"/>
              </p:cNvCxnSpPr>
              <p:nvPr/>
            </p:nvCxnSpPr>
            <p:spPr>
              <a:xfrm>
                <a:off x="7358400" y="342612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5" name="AutoShape 57"/>
              <p:cNvCxnSpPr>
                <a:stCxn id="2072" idx="0"/>
                <a:endCxn id="2068" idx="4"/>
              </p:cNvCxnSpPr>
              <p:nvPr/>
            </p:nvCxnSpPr>
            <p:spPr>
              <a:xfrm>
                <a:off x="7358400" y="367740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6" name="AutoShape 58"/>
              <p:cNvCxnSpPr>
                <a:stCxn id="2073" idx="0"/>
                <a:endCxn id="2064" idx="4"/>
              </p:cNvCxnSpPr>
              <p:nvPr/>
            </p:nvCxnSpPr>
            <p:spPr>
              <a:xfrm flipV="1">
                <a:off x="7358400" y="350100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7" name="AutoShape 59"/>
              <p:cNvCxnSpPr>
                <a:stCxn id="2073" idx="0"/>
                <a:endCxn id="2069" idx="4"/>
              </p:cNvCxnSpPr>
              <p:nvPr/>
            </p:nvCxnSpPr>
            <p:spPr>
              <a:xfrm>
                <a:off x="7358400" y="380304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8" name="AutoShape 60"/>
              <p:cNvCxnSpPr>
                <a:stCxn id="2071" idx="0"/>
                <a:endCxn id="2067" idx="4"/>
              </p:cNvCxnSpPr>
              <p:nvPr/>
            </p:nvCxnSpPr>
            <p:spPr>
              <a:xfrm>
                <a:off x="7358400" y="355176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9" name="AutoShape 61"/>
              <p:cNvCxnSpPr>
                <a:stCxn id="2070" idx="0"/>
                <a:endCxn id="2068" idx="4"/>
              </p:cNvCxnSpPr>
              <p:nvPr/>
            </p:nvCxnSpPr>
            <p:spPr>
              <a:xfrm>
                <a:off x="7358400" y="342612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0" name="AutoShape 62"/>
              <p:cNvCxnSpPr>
                <a:stCxn id="2070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1" name="AutoShape 63"/>
              <p:cNvCxnSpPr>
                <a:stCxn id="2072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2" name="AutoShape 64"/>
              <p:cNvCxnSpPr>
                <a:stCxn id="2063" idx="4"/>
                <a:endCxn id="2074" idx="0"/>
              </p:cNvCxnSpPr>
              <p:nvPr/>
            </p:nvCxnSpPr>
            <p:spPr>
              <a:xfrm flipH="1">
                <a:off x="7358040" y="3375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3" name="AutoShape 65"/>
              <p:cNvCxnSpPr>
                <a:stCxn id="2071" idx="0"/>
                <a:endCxn id="2063" idx="4"/>
              </p:cNvCxnSpPr>
              <p:nvPr/>
            </p:nvCxnSpPr>
            <p:spPr>
              <a:xfrm flipV="1">
                <a:off x="7358400" y="337572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4" name="AutoShape 66"/>
              <p:cNvCxnSpPr>
                <a:stCxn id="2074" idx="0"/>
                <a:endCxn id="2064" idx="4"/>
              </p:cNvCxnSpPr>
              <p:nvPr/>
            </p:nvCxnSpPr>
            <p:spPr>
              <a:xfrm flipV="1">
                <a:off x="7358400" y="350136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5" name="AutoShape 67"/>
              <p:cNvCxnSpPr>
                <a:stCxn id="2074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678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6" name="AutoShape 68"/>
              <p:cNvCxnSpPr>
                <a:stCxn id="2070" idx="0"/>
                <a:endCxn id="2069" idx="4"/>
              </p:cNvCxnSpPr>
              <p:nvPr/>
            </p:nvCxnSpPr>
            <p:spPr>
              <a:xfrm>
                <a:off x="7358400" y="3426480"/>
                <a:ext cx="39744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7" name="AutoShape 69"/>
              <p:cNvCxnSpPr>
                <a:stCxn id="2070" idx="0"/>
                <a:endCxn id="2063" idx="4"/>
              </p:cNvCxnSpPr>
              <p:nvPr/>
            </p:nvCxnSpPr>
            <p:spPr>
              <a:xfrm flipV="1">
                <a:off x="7358400" y="337536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8" name="AutoShape 70"/>
              <p:cNvCxnSpPr>
                <a:stCxn id="2072" idx="0"/>
                <a:endCxn id="2063" idx="4"/>
              </p:cNvCxnSpPr>
              <p:nvPr/>
            </p:nvCxnSpPr>
            <p:spPr>
              <a:xfrm flipV="1">
                <a:off x="7358400" y="337536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9" name="AutoShape 71"/>
              <p:cNvCxnSpPr>
                <a:stCxn id="2071" idx="0"/>
                <a:endCxn id="2062" idx="4"/>
              </p:cNvCxnSpPr>
              <p:nvPr/>
            </p:nvCxnSpPr>
            <p:spPr>
              <a:xfrm flipV="1">
                <a:off x="7358400" y="324972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0" name="AutoShape 72"/>
              <p:cNvCxnSpPr>
                <a:stCxn id="2073" idx="0"/>
                <a:endCxn id="2063" idx="4"/>
              </p:cNvCxnSpPr>
              <p:nvPr/>
            </p:nvCxnSpPr>
            <p:spPr>
              <a:xfrm flipV="1">
                <a:off x="7358400" y="337572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1" name="AutoShape 73"/>
              <p:cNvCxnSpPr>
                <a:stCxn id="2073" idx="0"/>
                <a:endCxn id="2062" idx="4"/>
              </p:cNvCxnSpPr>
              <p:nvPr/>
            </p:nvCxnSpPr>
            <p:spPr>
              <a:xfrm flipV="1">
                <a:off x="7358400" y="3249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2" name="AutoShape 74"/>
              <p:cNvCxnSpPr>
                <a:stCxn id="2074" idx="0"/>
                <a:endCxn id="2065" idx="4"/>
              </p:cNvCxnSpPr>
              <p:nvPr/>
            </p:nvCxnSpPr>
            <p:spPr>
              <a:xfrm flipV="1">
                <a:off x="7358400" y="362664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3" name="AutoShape 75"/>
              <p:cNvCxnSpPr>
                <a:stCxn id="2070" idx="0"/>
                <a:endCxn id="2067" idx="4"/>
              </p:cNvCxnSpPr>
              <p:nvPr/>
            </p:nvCxnSpPr>
            <p:spPr>
              <a:xfrm>
                <a:off x="7358400" y="342648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4" name="AutoShape 76"/>
              <p:cNvCxnSpPr>
                <a:stCxn id="2071" idx="0"/>
                <a:endCxn id="2068" idx="4"/>
              </p:cNvCxnSpPr>
              <p:nvPr/>
            </p:nvCxnSpPr>
            <p:spPr>
              <a:xfrm>
                <a:off x="7358400" y="355212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5" name="AutoShape 77"/>
              <p:cNvCxnSpPr>
                <a:stCxn id="2071" idx="0"/>
                <a:endCxn id="2069" idx="4"/>
              </p:cNvCxnSpPr>
              <p:nvPr/>
            </p:nvCxnSpPr>
            <p:spPr>
              <a:xfrm>
                <a:off x="7358400" y="355176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6" name="AutoShape 78"/>
              <p:cNvCxnSpPr>
                <a:stCxn id="2072" idx="0"/>
                <a:endCxn id="2069" idx="4"/>
              </p:cNvCxnSpPr>
              <p:nvPr/>
            </p:nvCxnSpPr>
            <p:spPr>
              <a:xfrm>
                <a:off x="7358400" y="367776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7" name="AutoShape 79"/>
              <p:cNvCxnSpPr>
                <a:stCxn id="2072" idx="0"/>
                <a:endCxn id="2064" idx="4"/>
              </p:cNvCxnSpPr>
              <p:nvPr/>
            </p:nvCxnSpPr>
            <p:spPr>
              <a:xfrm flipV="1">
                <a:off x="7358400" y="350136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8" name="AutoShape 80"/>
              <p:cNvCxnSpPr>
                <a:stCxn id="2075" idx="4"/>
                <a:endCxn id="2065" idx="0"/>
              </p:cNvCxnSpPr>
              <p:nvPr/>
            </p:nvCxnSpPr>
            <p:spPr>
              <a:xfrm flipH="1">
                <a:off x="7925040" y="355176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9" name="AutoShape 81"/>
              <p:cNvCxnSpPr>
                <a:stCxn id="2075" idx="4"/>
                <a:endCxn id="2066" idx="0"/>
              </p:cNvCxnSpPr>
              <p:nvPr/>
            </p:nvCxnSpPr>
            <p:spPr>
              <a:xfrm flipH="1">
                <a:off x="7925040" y="355212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0" name="AutoShape 82"/>
              <p:cNvCxnSpPr>
                <a:stCxn id="2076" idx="4"/>
                <a:endCxn id="2066" idx="0"/>
              </p:cNvCxnSpPr>
              <p:nvPr/>
            </p:nvCxnSpPr>
            <p:spPr>
              <a:xfrm flipH="1">
                <a:off x="7925040" y="367740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1" name="AutoShape 83"/>
              <p:cNvCxnSpPr>
                <a:stCxn id="2076" idx="4"/>
                <a:endCxn id="2065" idx="0"/>
              </p:cNvCxnSpPr>
              <p:nvPr/>
            </p:nvCxnSpPr>
            <p:spPr>
              <a:xfrm flipH="1" flipV="1">
                <a:off x="7925040" y="362664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2" name="AutoShape 84"/>
              <p:cNvCxnSpPr>
                <a:stCxn id="2077" idx="4"/>
                <a:endCxn id="2066" idx="0"/>
              </p:cNvCxnSpPr>
              <p:nvPr/>
            </p:nvCxnSpPr>
            <p:spPr>
              <a:xfrm flipH="1" flipV="1">
                <a:off x="7925040" y="3752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3" name="AutoShape 85"/>
              <p:cNvCxnSpPr>
                <a:stCxn id="2077" idx="4"/>
                <a:endCxn id="2067" idx="0"/>
              </p:cNvCxnSpPr>
              <p:nvPr/>
            </p:nvCxnSpPr>
            <p:spPr>
              <a:xfrm flipH="1">
                <a:off x="7925040" y="380304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4" name="AutoShape 86"/>
              <p:cNvCxnSpPr>
                <a:stCxn id="2076" idx="4"/>
                <a:endCxn id="2067" idx="0"/>
              </p:cNvCxnSpPr>
              <p:nvPr/>
            </p:nvCxnSpPr>
            <p:spPr>
              <a:xfrm flipH="1">
                <a:off x="7925040" y="367776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5" name="AutoShape 87"/>
              <p:cNvCxnSpPr>
                <a:stCxn id="2077" idx="4"/>
                <a:endCxn id="2065" idx="0"/>
              </p:cNvCxnSpPr>
              <p:nvPr/>
            </p:nvCxnSpPr>
            <p:spPr>
              <a:xfrm flipH="1" flipV="1">
                <a:off x="7925040" y="362700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6" name="AutoShape 88"/>
              <p:cNvCxnSpPr>
                <a:stCxn id="2077" idx="4"/>
              </p:cNvCxnSpPr>
              <p:nvPr/>
            </p:nvCxnSpPr>
            <p:spPr>
              <a:xfrm flipH="1">
                <a:off x="7925040" y="380340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7" name="AutoShape 89"/>
              <p:cNvCxnSpPr>
                <a:stCxn id="2075" idx="4"/>
                <a:endCxn id="2064" idx="0"/>
              </p:cNvCxnSpPr>
              <p:nvPr/>
            </p:nvCxnSpPr>
            <p:spPr>
              <a:xfrm flipH="1" flipV="1">
                <a:off x="7925040" y="350100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8" name="AutoShape 90"/>
              <p:cNvCxnSpPr>
                <a:stCxn id="2076" idx="4"/>
                <a:endCxn id="2068" idx="0"/>
              </p:cNvCxnSpPr>
              <p:nvPr/>
            </p:nvCxnSpPr>
            <p:spPr>
              <a:xfrm flipH="1">
                <a:off x="7925040" y="367740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9" name="AutoShape 91"/>
              <p:cNvCxnSpPr>
                <a:stCxn id="2077" idx="4"/>
                <a:endCxn id="2064" idx="0"/>
              </p:cNvCxnSpPr>
              <p:nvPr/>
            </p:nvCxnSpPr>
            <p:spPr>
              <a:xfrm flipH="1" flipV="1">
                <a:off x="7925040" y="350100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0" name="AutoShape 92"/>
              <p:cNvCxnSpPr>
                <a:stCxn id="2077" idx="4"/>
                <a:endCxn id="2069" idx="0"/>
              </p:cNvCxnSpPr>
              <p:nvPr/>
            </p:nvCxnSpPr>
            <p:spPr>
              <a:xfrm flipH="1">
                <a:off x="7925040" y="380304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1" name="AutoShape 93"/>
              <p:cNvCxnSpPr>
                <a:stCxn id="2075" idx="4"/>
                <a:endCxn id="2067" idx="0"/>
              </p:cNvCxnSpPr>
              <p:nvPr/>
            </p:nvCxnSpPr>
            <p:spPr>
              <a:xfrm flipH="1">
                <a:off x="7925040" y="355176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2" name="AutoShape 94"/>
              <p:cNvCxnSpPr>
                <a:stCxn id="2076" idx="4"/>
                <a:endCxn id="2062" idx="0"/>
              </p:cNvCxnSpPr>
              <p:nvPr/>
            </p:nvCxnSpPr>
            <p:spPr>
              <a:xfrm flipH="1" flipV="1">
                <a:off x="7925040" y="325008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3" name="AutoShape 95"/>
              <p:cNvCxnSpPr>
                <a:stCxn id="2075" idx="4"/>
                <a:endCxn id="2063" idx="0"/>
              </p:cNvCxnSpPr>
              <p:nvPr/>
            </p:nvCxnSpPr>
            <p:spPr>
              <a:xfrm flipH="1" flipV="1">
                <a:off x="7925040" y="337572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4" name="AutoShape 96"/>
              <p:cNvCxnSpPr>
                <a:stCxn id="2076" idx="4"/>
                <a:endCxn id="2063" idx="0"/>
              </p:cNvCxnSpPr>
              <p:nvPr/>
            </p:nvCxnSpPr>
            <p:spPr>
              <a:xfrm flipH="1" flipV="1">
                <a:off x="7925040" y="337536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5" name="AutoShape 97"/>
              <p:cNvCxnSpPr>
                <a:stCxn id="2075" idx="4"/>
                <a:endCxn id="2062" idx="0"/>
              </p:cNvCxnSpPr>
              <p:nvPr/>
            </p:nvCxnSpPr>
            <p:spPr>
              <a:xfrm flipH="1" flipV="1">
                <a:off x="7925040" y="324972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6" name="AutoShape 98"/>
              <p:cNvCxnSpPr>
                <a:stCxn id="2077" idx="4"/>
                <a:endCxn id="2063" idx="0"/>
              </p:cNvCxnSpPr>
              <p:nvPr/>
            </p:nvCxnSpPr>
            <p:spPr>
              <a:xfrm flipH="1" flipV="1">
                <a:off x="7925040" y="337572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7" name="AutoShape 99"/>
              <p:cNvCxnSpPr>
                <a:stCxn id="2077" idx="4"/>
                <a:endCxn id="2062" idx="0"/>
              </p:cNvCxnSpPr>
              <p:nvPr/>
            </p:nvCxnSpPr>
            <p:spPr>
              <a:xfrm flipH="1" flipV="1">
                <a:off x="7925040" y="3249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8" name="AutoShape 100"/>
              <p:cNvCxnSpPr>
                <a:stCxn id="2075" idx="4"/>
                <a:endCxn id="2068" idx="0"/>
              </p:cNvCxnSpPr>
              <p:nvPr/>
            </p:nvCxnSpPr>
            <p:spPr>
              <a:xfrm flipH="1">
                <a:off x="7925040" y="355212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9" name="AutoShape 101"/>
              <p:cNvCxnSpPr>
                <a:stCxn id="2075" idx="4"/>
                <a:endCxn id="2069" idx="0"/>
              </p:cNvCxnSpPr>
              <p:nvPr/>
            </p:nvCxnSpPr>
            <p:spPr>
              <a:xfrm flipH="1">
                <a:off x="7925040" y="355176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40" name="AutoShape 102"/>
              <p:cNvCxnSpPr>
                <a:stCxn id="2076" idx="4"/>
                <a:endCxn id="2069" idx="0"/>
              </p:cNvCxnSpPr>
              <p:nvPr/>
            </p:nvCxnSpPr>
            <p:spPr>
              <a:xfrm flipH="1">
                <a:off x="7925040" y="367776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41" name="AutoShape 103"/>
              <p:cNvCxnSpPr>
                <a:stCxn id="2076" idx="4"/>
                <a:endCxn id="2064" idx="0"/>
              </p:cNvCxnSpPr>
              <p:nvPr/>
            </p:nvCxnSpPr>
            <p:spPr>
              <a:xfrm flipH="1" flipV="1">
                <a:off x="7925040" y="350136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sp>
        <p:nvSpPr>
          <p:cNvPr id="2142" name="AutoShape 235"/>
          <p:cNvSpPr/>
          <p:nvPr/>
        </p:nvSpPr>
        <p:spPr>
          <a:xfrm>
            <a:off x="1676520" y="4876920"/>
            <a:ext cx="515880" cy="3204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Precisión por Nivel de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Asign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4" name="Picture 1033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404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1026"/>
          <p:cNvGrpSpPr/>
          <p:nvPr/>
        </p:nvGrpSpPr>
        <p:grpSpPr>
          <a:xfrm>
            <a:off x="4038480" y="990720"/>
            <a:ext cx="1371600" cy="1675800"/>
            <a:chOff x="4038480" y="990720"/>
            <a:chExt cx="1371600" cy="1675800"/>
          </a:xfrm>
        </p:grpSpPr>
        <p:sp>
          <p:nvSpPr>
            <p:cNvPr id="1032" name="Rectangle 1027"/>
            <p:cNvSpPr/>
            <p:nvPr/>
          </p:nvSpPr>
          <p:spPr>
            <a:xfrm>
              <a:off x="4038480" y="2209680"/>
              <a:ext cx="13716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umera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selec.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Group 1028"/>
            <p:cNvGrpSpPr/>
            <p:nvPr/>
          </p:nvGrpSpPr>
          <p:grpSpPr>
            <a:xfrm>
              <a:off x="4114800" y="990720"/>
              <a:ext cx="1052280" cy="1126440"/>
              <a:chOff x="4114800" y="990720"/>
              <a:chExt cx="1052280" cy="1126440"/>
            </a:xfrm>
          </p:grpSpPr>
          <p:pic>
            <p:nvPicPr>
              <p:cNvPr id="1034" name="Picture 10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1191960"/>
                <a:ext cx="78840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Object 102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6240" y="990720"/>
                <a:ext cx="353520" cy="3996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36" name="Object 1025"/>
              <p:cNvGraphicFramePr/>
              <p:nvPr/>
            </p:nvGraphicFramePr>
            <p:xfrm>
              <a:off x="4863960" y="1594440"/>
              <a:ext cx="303120" cy="522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37" name="Object 102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63960" y="1594440"/>
                        <a:ext cx="303120" cy="52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38" name="Group 1032"/>
          <p:cNvGrpSpPr/>
          <p:nvPr/>
        </p:nvGrpSpPr>
        <p:grpSpPr>
          <a:xfrm>
            <a:off x="6781680" y="2057400"/>
            <a:ext cx="1219320" cy="1371600"/>
            <a:chOff x="6781680" y="2057400"/>
            <a:chExt cx="1219320" cy="1371600"/>
          </a:xfrm>
        </p:grpSpPr>
        <p:sp>
          <p:nvSpPr>
            <p:cNvPr id="1039" name="Rectangle 1033"/>
            <p:cNvSpPr/>
            <p:nvPr/>
          </p:nvSpPr>
          <p:spPr>
            <a:xfrm>
              <a:off x="6781680" y="304812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ancel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0" name="Picture 1034" descr=""/>
            <p:cNvPicPr/>
            <p:nvPr/>
          </p:nvPicPr>
          <p:blipFill>
            <a:blip r:embed="rId5"/>
            <a:stretch/>
          </p:blipFill>
          <p:spPr>
            <a:xfrm>
              <a:off x="6934320" y="2057400"/>
              <a:ext cx="990360" cy="8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1" name="Group 1035"/>
          <p:cNvGrpSpPr/>
          <p:nvPr/>
        </p:nvGrpSpPr>
        <p:grpSpPr>
          <a:xfrm>
            <a:off x="1371600" y="3962520"/>
            <a:ext cx="1371600" cy="1371600"/>
            <a:chOff x="1371600" y="3962520"/>
            <a:chExt cx="1371600" cy="1371600"/>
          </a:xfrm>
        </p:grpSpPr>
        <p:sp>
          <p:nvSpPr>
            <p:cNvPr id="1042" name="Rectangle 1036"/>
            <p:cNvSpPr/>
            <p:nvPr/>
          </p:nvSpPr>
          <p:spPr>
            <a:xfrm>
              <a:off x="1371600" y="48769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resent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de docu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1037"/>
            <p:cNvGrpSpPr/>
            <p:nvPr/>
          </p:nvGrpSpPr>
          <p:grpSpPr>
            <a:xfrm>
              <a:off x="1447920" y="3962520"/>
              <a:ext cx="1065600" cy="837360"/>
              <a:chOff x="1447920" y="3962520"/>
              <a:chExt cx="1065600" cy="837360"/>
            </a:xfrm>
          </p:grpSpPr>
          <p:grpSp>
            <p:nvGrpSpPr>
              <p:cNvPr id="1044" name="Group 1038"/>
              <p:cNvGrpSpPr/>
              <p:nvPr/>
            </p:nvGrpSpPr>
            <p:grpSpPr>
              <a:xfrm>
                <a:off x="1447920" y="3962520"/>
                <a:ext cx="1065600" cy="585720"/>
                <a:chOff x="1447920" y="3962520"/>
                <a:chExt cx="1065600" cy="585720"/>
              </a:xfrm>
            </p:grpSpPr>
            <p:grpSp>
              <p:nvGrpSpPr>
                <p:cNvPr id="1045" name="Group 1039"/>
                <p:cNvGrpSpPr/>
                <p:nvPr/>
              </p:nvGrpSpPr>
              <p:grpSpPr>
                <a:xfrm>
                  <a:off x="1447920" y="4040640"/>
                  <a:ext cx="713880" cy="353880"/>
                  <a:chOff x="1447920" y="4040640"/>
                  <a:chExt cx="713880" cy="353880"/>
                </a:xfrm>
              </p:grpSpPr>
              <p:grpSp>
                <p:nvGrpSpPr>
                  <p:cNvPr id="1046" name="Group 1040"/>
                  <p:cNvGrpSpPr/>
                  <p:nvPr/>
                </p:nvGrpSpPr>
                <p:grpSpPr>
                  <a:xfrm>
                    <a:off x="1447920" y="4040640"/>
                    <a:ext cx="549360" cy="321840"/>
                    <a:chOff x="1447920" y="4040640"/>
                    <a:chExt cx="549360" cy="321840"/>
                  </a:xfrm>
                </p:grpSpPr>
                <p:grpSp>
                  <p:nvGrpSpPr>
                    <p:cNvPr id="1047" name="Group 1041"/>
                    <p:cNvGrpSpPr/>
                    <p:nvPr/>
                  </p:nvGrpSpPr>
                  <p:grpSpPr>
                    <a:xfrm>
                      <a:off x="1447920" y="4040640"/>
                      <a:ext cx="549360" cy="321840"/>
                      <a:chOff x="1447920" y="4040640"/>
                      <a:chExt cx="549360" cy="321840"/>
                    </a:xfrm>
                  </p:grpSpPr>
                  <p:grpSp>
                    <p:nvGrpSpPr>
                      <p:cNvPr id="1048" name="Group 1042"/>
                      <p:cNvGrpSpPr/>
                      <p:nvPr/>
                    </p:nvGrpSpPr>
                    <p:grpSpPr>
                      <a:xfrm>
                        <a:off x="1447920" y="4221360"/>
                        <a:ext cx="549360" cy="141120"/>
                        <a:chOff x="1447920" y="4221360"/>
                        <a:chExt cx="549360" cy="141120"/>
                      </a:xfrm>
                    </p:grpSpPr>
                    <p:sp>
                      <p:nvSpPr>
                        <p:cNvPr id="1049" name="Freeform 1043"/>
                        <p:cNvSpPr/>
                        <p:nvPr/>
                      </p:nvSpPr>
                      <p:spPr>
                        <a:xfrm>
                          <a:off x="1682280" y="4221360"/>
                          <a:ext cx="315000" cy="141120"/>
                        </a:xfrm>
                        <a:custGeom>
                          <a:avLst/>
                          <a:gdLst>
                            <a:gd name="textAreaLeft" fmla="*/ 0 w 315000"/>
                            <a:gd name="textAreaRight" fmla="*/ 315360 w 315000"/>
                            <a:gd name="textAreaTop" fmla="*/ 0 h 141120"/>
                            <a:gd name="textAreaBottom" fmla="*/ 141480 h 141120"/>
                          </a:gdLst>
                          <a:ahLst/>
                          <a:rect l="textAreaLeft" t="textAreaTop" r="textAreaRight" b="textAreaBottom"/>
                          <a:pathLst>
                            <a:path w="140" h="123">
                              <a:moveTo>
                                <a:pt x="0" y="38"/>
                              </a:moveTo>
                              <a:lnTo>
                                <a:pt x="0" y="122"/>
                              </a:lnTo>
                              <a:lnTo>
                                <a:pt x="139" y="60"/>
                              </a:lnTo>
                              <a:lnTo>
                                <a:pt x="139" y="0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0" name="Freeform 1044"/>
                        <p:cNvSpPr/>
                        <p:nvPr/>
                      </p:nvSpPr>
                      <p:spPr>
                        <a:xfrm>
                          <a:off x="1447920" y="4253400"/>
                          <a:ext cx="236160" cy="109080"/>
                        </a:xfrm>
                        <a:custGeom>
                          <a:avLst/>
                          <a:gdLst>
                            <a:gd name="textAreaLeft" fmla="*/ 0 w 236160"/>
                            <a:gd name="textAreaRight" fmla="*/ 236520 w 236160"/>
                            <a:gd name="textAreaTop" fmla="*/ 0 h 109080"/>
                            <a:gd name="textAreaBottom" fmla="*/ 109440 h 109080"/>
                          </a:gdLst>
                          <a:ahLst/>
                          <a:rect l="textAreaLeft" t="textAreaTop" r="textAreaRight" b="textAreaBottom"/>
                          <a:pathLst>
                            <a:path w="105" h="95">
                              <a:moveTo>
                                <a:pt x="104" y="9"/>
                              </a:moveTo>
                              <a:lnTo>
                                <a:pt x="104" y="94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lnTo>
                                <a:pt x="104" y="9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Freeform 1045"/>
                        <p:cNvSpPr/>
                        <p:nvPr/>
                      </p:nvSpPr>
                      <p:spPr>
                        <a:xfrm>
                          <a:off x="1447920" y="4221360"/>
                          <a:ext cx="549360" cy="44640"/>
                        </a:xfrm>
                        <a:custGeom>
                          <a:avLst/>
                          <a:gdLst>
                            <a:gd name="textAreaLeft" fmla="*/ 0 w 549360"/>
                            <a:gd name="textAreaRight" fmla="*/ 549720 w 54936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44" h="39">
                              <a:moveTo>
                                <a:pt x="0" y="29"/>
                              </a:moveTo>
                              <a:lnTo>
                                <a:pt x="105" y="38"/>
                              </a:lnTo>
                              <a:lnTo>
                                <a:pt x="243" y="0"/>
                              </a:lnTo>
                              <a:lnTo>
                                <a:pt x="141" y="0"/>
                              </a:lnTo>
                              <a:lnTo>
                                <a:pt x="0" y="2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52" name="Freeform 1046"/>
                      <p:cNvSpPr/>
                      <p:nvPr/>
                    </p:nvSpPr>
                    <p:spPr>
                      <a:xfrm>
                        <a:off x="1626120" y="4209480"/>
                        <a:ext cx="202680" cy="37800"/>
                      </a:xfrm>
                      <a:custGeom>
                        <a:avLst/>
                        <a:gdLst>
                          <a:gd name="textAreaLeft" fmla="*/ 0 w 202680"/>
                          <a:gd name="textAreaRight" fmla="*/ 203040 w 202680"/>
                          <a:gd name="textAreaTop" fmla="*/ 0 h 37800"/>
                          <a:gd name="textAreaBottom" fmla="*/ 38160 h 37800"/>
                        </a:gdLst>
                        <a:ahLst/>
                        <a:rect l="textAreaLeft" t="textAreaTop" r="textAreaRight" b="textAreaBottom"/>
                        <a:pathLst>
                          <a:path w="90" h="33">
                            <a:moveTo>
                              <a:pt x="0" y="18"/>
                            </a:moveTo>
                            <a:lnTo>
                              <a:pt x="0" y="29"/>
                            </a:lnTo>
                            <a:lnTo>
                              <a:pt x="41" y="32"/>
                            </a:lnTo>
                            <a:lnTo>
                              <a:pt x="89" y="21"/>
                            </a:lnTo>
                            <a:lnTo>
                              <a:pt x="89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53" name="Group 1047"/>
                      <p:cNvGrpSpPr/>
                      <p:nvPr/>
                    </p:nvGrpSpPr>
                    <p:grpSpPr>
                      <a:xfrm>
                        <a:off x="1488600" y="4040640"/>
                        <a:ext cx="445680" cy="200880"/>
                        <a:chOff x="1488600" y="4040640"/>
                        <a:chExt cx="445680" cy="200880"/>
                      </a:xfrm>
                    </p:grpSpPr>
                    <p:sp>
                      <p:nvSpPr>
                        <p:cNvPr id="1054" name="Freeform 1048"/>
                        <p:cNvSpPr/>
                        <p:nvPr/>
                      </p:nvSpPr>
                      <p:spPr>
                        <a:xfrm>
                          <a:off x="1680120" y="4040640"/>
                          <a:ext cx="254160" cy="198720"/>
                        </a:xfrm>
                        <a:custGeom>
                          <a:avLst/>
                          <a:gdLst>
                            <a:gd name="textAreaLeft" fmla="*/ 0 w 254160"/>
                            <a:gd name="textAreaRight" fmla="*/ 254520 w 254160"/>
                            <a:gd name="textAreaTop" fmla="*/ 0 h 198720"/>
                            <a:gd name="textAreaBottom" fmla="*/ 199080 h 198720"/>
                          </a:gdLst>
                          <a:ahLst/>
                          <a:rect l="textAreaLeft" t="textAreaTop" r="textAreaRight" b="textAreaBottom"/>
                          <a:pathLst>
                            <a:path w="113" h="173">
                              <a:moveTo>
                                <a:pt x="16" y="172"/>
                              </a:moveTo>
                              <a:lnTo>
                                <a:pt x="0" y="6"/>
                              </a:lnTo>
                              <a:lnTo>
                                <a:pt x="96" y="0"/>
                              </a:lnTo>
                              <a:lnTo>
                                <a:pt x="112" y="148"/>
                              </a:lnTo>
                              <a:lnTo>
                                <a:pt x="16" y="172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5" name="Freeform 1049"/>
                        <p:cNvSpPr/>
                        <p:nvPr/>
                      </p:nvSpPr>
                      <p:spPr>
                        <a:xfrm>
                          <a:off x="1488600" y="4046040"/>
                          <a:ext cx="229680" cy="195480"/>
                        </a:xfrm>
                        <a:custGeom>
                          <a:avLst/>
                          <a:gdLst>
                            <a:gd name="textAreaLeft" fmla="*/ 0 w 229680"/>
                            <a:gd name="textAreaRight" fmla="*/ 230040 w 229680"/>
                            <a:gd name="textAreaTop" fmla="*/ 0 h 195480"/>
                            <a:gd name="textAreaBottom" fmla="*/ 195840 h 195480"/>
                          </a:gdLst>
                          <a:ahLst/>
                          <a:rect l="textAreaLeft" t="textAreaTop" r="textAreaRight" b="textAreaBottom"/>
                          <a:pathLst>
                            <a:path w="102" h="170">
                              <a:moveTo>
                                <a:pt x="85" y="0"/>
                              </a:moveTo>
                              <a:lnTo>
                                <a:pt x="0" y="38"/>
                              </a:lnTo>
                              <a:lnTo>
                                <a:pt x="12" y="169"/>
                              </a:lnTo>
                              <a:lnTo>
                                <a:pt x="101" y="165"/>
                              </a:lnTo>
                              <a:lnTo>
                                <a:pt x="85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Freeform 1050"/>
                        <p:cNvSpPr/>
                        <p:nvPr/>
                      </p:nvSpPr>
                      <p:spPr>
                        <a:xfrm>
                          <a:off x="1722240" y="4060080"/>
                          <a:ext cx="184680" cy="148320"/>
                        </a:xfrm>
                        <a:custGeom>
                          <a:avLst/>
                          <a:gdLst>
                            <a:gd name="textAreaLeft" fmla="*/ 0 w 184680"/>
                            <a:gd name="textAreaRight" fmla="*/ 185040 w 184680"/>
                            <a:gd name="textAreaTop" fmla="*/ 0 h 148320"/>
                            <a:gd name="textAreaBottom" fmla="*/ 148680 h 148320"/>
                          </a:gdLst>
                          <a:ahLst/>
                          <a:rect l="textAreaLeft" t="textAreaTop" r="textAreaRight" b="textAreaBottom"/>
                          <a:pathLst>
                            <a:path w="82" h="129">
                              <a:moveTo>
                                <a:pt x="0" y="6"/>
                              </a:moveTo>
                              <a:lnTo>
                                <a:pt x="12" y="128"/>
                              </a:lnTo>
                              <a:lnTo>
                                <a:pt x="81" y="113"/>
                              </a:lnTo>
                              <a:lnTo>
                                <a:pt x="69" y="0"/>
                              </a:lnTo>
                              <a:lnTo>
                                <a:pt x="0" y="6"/>
                              </a:lnTo>
                            </a:path>
                          </a:pathLst>
                        </a:custGeom>
                        <a:solidFill>
                          <a:srgbClr val="0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7" name="Group 1051"/>
                    <p:cNvGrpSpPr/>
                    <p:nvPr/>
                  </p:nvGrpSpPr>
                  <p:grpSpPr>
                    <a:xfrm>
                      <a:off x="1794960" y="4238640"/>
                      <a:ext cx="180000" cy="90720"/>
                      <a:chOff x="1794960" y="4238640"/>
                      <a:chExt cx="180000" cy="90720"/>
                    </a:xfrm>
                  </p:grpSpPr>
                  <p:sp>
                    <p:nvSpPr>
                      <p:cNvPr id="1058" name="Freeform 1052"/>
                      <p:cNvSpPr/>
                      <p:nvPr/>
                    </p:nvSpPr>
                    <p:spPr>
                      <a:xfrm>
                        <a:off x="1794960" y="4238640"/>
                        <a:ext cx="180000" cy="90720"/>
                      </a:xfrm>
                      <a:custGeom>
                        <a:avLst/>
                        <a:gdLst>
                          <a:gd name="textAreaLeft" fmla="*/ 0 w 180000"/>
                          <a:gd name="textAreaRight" fmla="*/ 180360 w 180000"/>
                          <a:gd name="textAreaTop" fmla="*/ 0 h 90720"/>
                          <a:gd name="textAreaBottom" fmla="*/ 91080 h 90720"/>
                        </a:gdLst>
                        <a:ahLst/>
                        <a:rect l="textAreaLeft" t="textAreaTop" r="textAreaRight" b="textAreaBottom"/>
                        <a:pathLst>
                          <a:path w="80" h="79">
                            <a:moveTo>
                              <a:pt x="79" y="0"/>
                            </a:moveTo>
                            <a:lnTo>
                              <a:pt x="0" y="23"/>
                            </a:lnTo>
                            <a:lnTo>
                              <a:pt x="0" y="78"/>
                            </a:lnTo>
                            <a:lnTo>
                              <a:pt x="79" y="44"/>
                            </a:lnTo>
                            <a:lnTo>
                              <a:pt x="79" y="0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Line 1053"/>
                      <p:cNvSpPr/>
                      <p:nvPr/>
                    </p:nvSpPr>
                    <p:spPr>
                      <a:xfrm flipV="1">
                        <a:off x="1912320" y="4258800"/>
                        <a:ext cx="46800" cy="46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Line 1054"/>
                      <p:cNvSpPr/>
                      <p:nvPr/>
                    </p:nvSpPr>
                    <p:spPr>
                      <a:xfrm flipH="1">
                        <a:off x="1824480" y="4268160"/>
                        <a:ext cx="60480" cy="136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1" name="Line 1055"/>
                      <p:cNvSpPr/>
                      <p:nvPr/>
                    </p:nvSpPr>
                    <p:spPr>
                      <a:xfrm>
                        <a:off x="1898280" y="4247640"/>
                        <a:ext cx="0" cy="59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2" name="Line 1056"/>
                      <p:cNvSpPr/>
                      <p:nvPr/>
                    </p:nvSpPr>
                    <p:spPr>
                      <a:xfrm>
                        <a:off x="1813320" y="4264920"/>
                        <a:ext cx="0" cy="63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3" name="Line 1057"/>
                      <p:cNvSpPr/>
                      <p:nvPr/>
                    </p:nvSpPr>
                    <p:spPr>
                      <a:xfrm flipH="1">
                        <a:off x="1812960" y="4264920"/>
                        <a:ext cx="159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4" name="Line 1058"/>
                      <p:cNvSpPr/>
                      <p:nvPr/>
                    </p:nvSpPr>
                    <p:spPr>
                      <a:xfrm flipV="1">
                        <a:off x="1813320" y="4249800"/>
                        <a:ext cx="159480" cy="25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5" name="Group 1059"/>
                  <p:cNvGrpSpPr/>
                  <p:nvPr/>
                </p:nvGrpSpPr>
                <p:grpSpPr>
                  <a:xfrm>
                    <a:off x="1730160" y="4240440"/>
                    <a:ext cx="431640" cy="154080"/>
                    <a:chOff x="1730160" y="4240440"/>
                    <a:chExt cx="431640" cy="154080"/>
                  </a:xfrm>
                </p:grpSpPr>
                <p:grpSp>
                  <p:nvGrpSpPr>
                    <p:cNvPr id="1066" name="Group 1060"/>
                    <p:cNvGrpSpPr/>
                    <p:nvPr/>
                  </p:nvGrpSpPr>
                  <p:grpSpPr>
                    <a:xfrm>
                      <a:off x="1756440" y="4324320"/>
                      <a:ext cx="73800" cy="35640"/>
                      <a:chOff x="1756440" y="4324320"/>
                      <a:chExt cx="73800" cy="35640"/>
                    </a:xfrm>
                  </p:grpSpPr>
                  <p:sp>
                    <p:nvSpPr>
                      <p:cNvPr id="1067" name="Freeform 1061"/>
                      <p:cNvSpPr/>
                      <p:nvPr/>
                    </p:nvSpPr>
                    <p:spPr>
                      <a:xfrm>
                        <a:off x="1756440" y="4324320"/>
                        <a:ext cx="38160" cy="35640"/>
                      </a:xfrm>
                      <a:custGeom>
                        <a:avLst/>
                        <a:gdLst>
                          <a:gd name="textAreaLeft" fmla="*/ 0 w 38160"/>
                          <a:gd name="textAreaRight" fmla="*/ 38520 w 38160"/>
                          <a:gd name="textAreaTop" fmla="*/ 0 h 35640"/>
                          <a:gd name="textAreaBottom" fmla="*/ 36000 h 35640"/>
                        </a:gdLst>
                        <a:ahLst/>
                        <a:rect l="textAreaLeft" t="textAreaTop" r="textAreaRight" b="textAreaBottom"/>
                        <a:pathLst>
                          <a:path w="17" h="31">
                            <a:moveTo>
                              <a:pt x="6" y="0"/>
                            </a:moveTo>
                            <a:lnTo>
                              <a:pt x="0" y="28"/>
                            </a:lnTo>
                            <a:lnTo>
                              <a:pt x="12" y="30"/>
                            </a:lnTo>
                            <a:lnTo>
                              <a:pt x="16" y="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8" name="Freeform 1062"/>
                      <p:cNvSpPr/>
                      <p:nvPr/>
                    </p:nvSpPr>
                    <p:spPr>
                      <a:xfrm>
                        <a:off x="1771920" y="4329720"/>
                        <a:ext cx="58320" cy="2988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9880"/>
                          <a:gd name="textAreaBottom" fmla="*/ 30240 h 29880"/>
                        </a:gdLst>
                        <a:ahLst/>
                        <a:rect l="textAreaLeft" t="textAreaTop" r="textAreaRight" b="textAreaBottom"/>
                        <a:pathLst>
                          <a:path w="26" h="26">
                            <a:moveTo>
                              <a:pt x="2" y="1"/>
                            </a:moveTo>
                            <a:lnTo>
                              <a:pt x="0" y="25"/>
                            </a:lnTo>
                            <a:lnTo>
                              <a:pt x="25" y="13"/>
                            </a:lnTo>
                            <a:lnTo>
                              <a:pt x="15" y="9"/>
                            </a:lnTo>
                            <a:lnTo>
                              <a:pt x="6" y="14"/>
                            </a:lnTo>
                            <a:lnTo>
                              <a:pt x="9" y="0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69" name="Group 1063"/>
                    <p:cNvGrpSpPr/>
                    <p:nvPr/>
                  </p:nvGrpSpPr>
                  <p:grpSpPr>
                    <a:xfrm>
                      <a:off x="1730160" y="4240440"/>
                      <a:ext cx="431640" cy="154080"/>
                      <a:chOff x="1730160" y="4240440"/>
                      <a:chExt cx="431640" cy="154080"/>
                    </a:xfrm>
                  </p:grpSpPr>
                  <p:sp>
                    <p:nvSpPr>
                      <p:cNvPr id="1070" name="Freeform 1064"/>
                      <p:cNvSpPr/>
                      <p:nvPr/>
                    </p:nvSpPr>
                    <p:spPr>
                      <a:xfrm>
                        <a:off x="1738800" y="4240440"/>
                        <a:ext cx="421200" cy="134280"/>
                      </a:xfrm>
                      <a:custGeom>
                        <a:avLst/>
                        <a:gdLst>
                          <a:gd name="textAreaLeft" fmla="*/ 0 w 421200"/>
                          <a:gd name="textAreaRight" fmla="*/ 421560 w 421200"/>
                          <a:gd name="textAreaTop" fmla="*/ 0 h 134280"/>
                          <a:gd name="textAreaBottom" fmla="*/ 134640 h 134280"/>
                        </a:gdLst>
                        <a:ahLst/>
                        <a:rect l="textAreaLeft" t="textAreaTop" r="textAreaRight" b="textAreaBottom"/>
                        <a:pathLst>
                          <a:path w="187" h="117">
                            <a:moveTo>
                              <a:pt x="0" y="50"/>
                            </a:moveTo>
                            <a:lnTo>
                              <a:pt x="89" y="116"/>
                            </a:lnTo>
                            <a:lnTo>
                              <a:pt x="186" y="51"/>
                            </a:lnTo>
                            <a:lnTo>
                              <a:pt x="112" y="0"/>
                            </a:lnTo>
                            <a:lnTo>
                              <a:pt x="0" y="5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1" name="Freeform 1065"/>
                      <p:cNvSpPr/>
                      <p:nvPr/>
                    </p:nvSpPr>
                    <p:spPr>
                      <a:xfrm>
                        <a:off x="1730160" y="4295520"/>
                        <a:ext cx="213480" cy="98640"/>
                      </a:xfrm>
                      <a:custGeom>
                        <a:avLst/>
                        <a:gdLst>
                          <a:gd name="textAreaLeft" fmla="*/ 0 w 213480"/>
                          <a:gd name="textAreaRight" fmla="*/ 213840 w 213480"/>
                          <a:gd name="textAreaTop" fmla="*/ 0 h 98640"/>
                          <a:gd name="textAreaBottom" fmla="*/ 99000 h 98640"/>
                        </a:gdLst>
                        <a:ahLst/>
                        <a:rect l="textAreaLeft" t="textAreaTop" r="textAreaRight" b="textAreaBottom"/>
                        <a:pathLst>
                          <a:path w="95" h="86">
                            <a:moveTo>
                              <a:pt x="3" y="0"/>
                            </a:moveTo>
                            <a:lnTo>
                              <a:pt x="94" y="70"/>
                            </a:lnTo>
                            <a:lnTo>
                              <a:pt x="91" y="85"/>
                            </a:lnTo>
                            <a:lnTo>
                              <a:pt x="0" y="1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2" name="Freeform 1066"/>
                      <p:cNvSpPr/>
                      <p:nvPr/>
                    </p:nvSpPr>
                    <p:spPr>
                      <a:xfrm>
                        <a:off x="1932120" y="4298040"/>
                        <a:ext cx="229680" cy="96480"/>
                      </a:xfrm>
                      <a:custGeom>
                        <a:avLst/>
                        <a:gdLst>
                          <a:gd name="textAreaLeft" fmla="*/ 0 w 229680"/>
                          <a:gd name="textAreaRight" fmla="*/ 230040 w 229680"/>
                          <a:gd name="textAreaTop" fmla="*/ 0 h 96480"/>
                          <a:gd name="textAreaBottom" fmla="*/ 96840 h 96480"/>
                        </a:gdLst>
                        <a:ahLst/>
                        <a:rect l="textAreaLeft" t="textAreaTop" r="textAreaRight" b="textAreaBottom"/>
                        <a:pathLst>
                          <a:path w="102" h="84">
                            <a:moveTo>
                              <a:pt x="0" y="83"/>
                            </a:moveTo>
                            <a:lnTo>
                              <a:pt x="3" y="67"/>
                            </a:lnTo>
                            <a:lnTo>
                              <a:pt x="101" y="0"/>
                            </a:lnTo>
                            <a:lnTo>
                              <a:pt x="97" y="12"/>
                            </a:lnTo>
                            <a:lnTo>
                              <a:pt x="0" y="83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3" name="Freeform 1067"/>
                      <p:cNvSpPr/>
                      <p:nvPr/>
                    </p:nvSpPr>
                    <p:spPr>
                      <a:xfrm>
                        <a:off x="1826640" y="4304520"/>
                        <a:ext cx="164160" cy="55080"/>
                      </a:xfrm>
                      <a:custGeom>
                        <a:avLst/>
                        <a:gdLst>
                          <a:gd name="textAreaLeft" fmla="*/ 0 w 164160"/>
                          <a:gd name="textAreaRight" fmla="*/ 164520 w 164160"/>
                          <a:gd name="textAreaTop" fmla="*/ 0 h 55080"/>
                          <a:gd name="textAreaBottom" fmla="*/ 55440 h 55080"/>
                        </a:gdLst>
                        <a:ahLst/>
                        <a:rect l="textAreaLeft" t="textAreaTop" r="textAreaRight" b="textAreaBottom"/>
                        <a:pathLst>
                          <a:path w="73" h="48">
                            <a:moveTo>
                              <a:pt x="0" y="12"/>
                            </a:moveTo>
                            <a:lnTo>
                              <a:pt x="25" y="0"/>
                            </a:lnTo>
                            <a:lnTo>
                              <a:pt x="72" y="33"/>
                            </a:lnTo>
                            <a:lnTo>
                              <a:pt x="48" y="47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Freeform 1068"/>
                      <p:cNvSpPr/>
                      <p:nvPr/>
                    </p:nvSpPr>
                    <p:spPr>
                      <a:xfrm>
                        <a:off x="1896480" y="4263480"/>
                        <a:ext cx="245520" cy="75600"/>
                      </a:xfrm>
                      <a:custGeom>
                        <a:avLst/>
                        <a:gdLst>
                          <a:gd name="textAreaLeft" fmla="*/ 0 w 245520"/>
                          <a:gd name="textAreaRight" fmla="*/ 245880 w 245520"/>
                          <a:gd name="textAreaTop" fmla="*/ 0 h 75600"/>
                          <a:gd name="textAreaBottom" fmla="*/ 75960 h 75600"/>
                        </a:gdLst>
                        <a:ahLst/>
                        <a:rect l="textAreaLeft" t="textAreaTop" r="textAreaRight" b="textAreaBottom"/>
                        <a:pathLst>
                          <a:path w="109" h="66">
                            <a:moveTo>
                              <a:pt x="0" y="32"/>
                            </a:moveTo>
                            <a:lnTo>
                              <a:pt x="47" y="65"/>
                            </a:lnTo>
                            <a:lnTo>
                              <a:pt x="108" y="28"/>
                            </a:lnTo>
                            <a:lnTo>
                              <a:pt x="64" y="0"/>
                            </a:lnTo>
                            <a:lnTo>
                              <a:pt x="0" y="3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Freeform 1069"/>
                      <p:cNvSpPr/>
                      <p:nvPr/>
                    </p:nvSpPr>
                    <p:spPr>
                      <a:xfrm>
                        <a:off x="1763640" y="4244040"/>
                        <a:ext cx="270000" cy="69840"/>
                      </a:xfrm>
                      <a:custGeom>
                        <a:avLst/>
                        <a:gdLst>
                          <a:gd name="textAreaLeft" fmla="*/ 0 w 270000"/>
                          <a:gd name="textAreaRight" fmla="*/ 270360 w 270000"/>
                          <a:gd name="textAreaTop" fmla="*/ 0 h 69840"/>
                          <a:gd name="textAreaBottom" fmla="*/ 70200 h 69840"/>
                        </a:gdLst>
                        <a:ahLst/>
                        <a:rect l="textAreaLeft" t="textAreaTop" r="textAreaRight" b="textAreaBottom"/>
                        <a:pathLst>
                          <a:path w="120" h="61">
                            <a:moveTo>
                              <a:pt x="25" y="60"/>
                            </a:moveTo>
                            <a:lnTo>
                              <a:pt x="0" y="43"/>
                            </a:lnTo>
                            <a:lnTo>
                              <a:pt x="100" y="0"/>
                            </a:lnTo>
                            <a:lnTo>
                              <a:pt x="119" y="13"/>
                            </a:lnTo>
                            <a:lnTo>
                              <a:pt x="25" y="6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Line 1070"/>
                      <p:cNvSpPr/>
                      <p:nvPr/>
                    </p:nvSpPr>
                    <p:spPr>
                      <a:xfrm flipV="1">
                        <a:off x="1765800" y="4245840"/>
                        <a:ext cx="23184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Line 1071"/>
                      <p:cNvSpPr/>
                      <p:nvPr/>
                    </p:nvSpPr>
                    <p:spPr>
                      <a:xfrm flipV="1">
                        <a:off x="1783800" y="4250160"/>
                        <a:ext cx="225000" cy="58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8" name="Line 1072"/>
                      <p:cNvSpPr/>
                      <p:nvPr/>
                    </p:nvSpPr>
                    <p:spPr>
                      <a:xfrm flipV="1">
                        <a:off x="1797480" y="4253760"/>
                        <a:ext cx="222480" cy="60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9" name="Line 1073"/>
                      <p:cNvSpPr/>
                      <p:nvPr/>
                    </p:nvSpPr>
                    <p:spPr>
                      <a:xfrm flipV="1">
                        <a:off x="1833120" y="4264560"/>
                        <a:ext cx="218520" cy="640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0" name="Line 1074"/>
                      <p:cNvSpPr/>
                      <p:nvPr/>
                    </p:nvSpPr>
                    <p:spPr>
                      <a:xfrm flipV="1">
                        <a:off x="1851480" y="4271400"/>
                        <a:ext cx="213840" cy="604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Line 1075"/>
                      <p:cNvSpPr/>
                      <p:nvPr/>
                    </p:nvSpPr>
                    <p:spPr>
                      <a:xfrm flipV="1">
                        <a:off x="1869480" y="4278240"/>
                        <a:ext cx="202680" cy="61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Line 1076"/>
                      <p:cNvSpPr/>
                      <p:nvPr/>
                    </p:nvSpPr>
                    <p:spPr>
                      <a:xfrm flipV="1">
                        <a:off x="1891800" y="4286160"/>
                        <a:ext cx="19332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Line 1077"/>
                      <p:cNvSpPr/>
                      <p:nvPr/>
                    </p:nvSpPr>
                    <p:spPr>
                      <a:xfrm flipV="1">
                        <a:off x="1914480" y="4291920"/>
                        <a:ext cx="18936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4" name="Line 1078"/>
                      <p:cNvSpPr/>
                      <p:nvPr/>
                    </p:nvSpPr>
                    <p:spPr>
                      <a:xfrm>
                        <a:off x="1842480" y="4314240"/>
                        <a:ext cx="1080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5" name="Line 1079"/>
                      <p:cNvSpPr/>
                      <p:nvPr/>
                    </p:nvSpPr>
                    <p:spPr>
                      <a:xfrm>
                        <a:off x="1864800" y="4310280"/>
                        <a:ext cx="105480" cy="403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Line 1080"/>
                      <p:cNvSpPr/>
                      <p:nvPr/>
                    </p:nvSpPr>
                    <p:spPr>
                      <a:xfrm>
                        <a:off x="1917000" y="4294440"/>
                        <a:ext cx="99000" cy="378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Line 1081"/>
                      <p:cNvSpPr/>
                      <p:nvPr/>
                    </p:nvSpPr>
                    <p:spPr>
                      <a:xfrm>
                        <a:off x="1939320" y="4287600"/>
                        <a:ext cx="100800" cy="424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" bIns="-43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8" name="Line 1082"/>
                      <p:cNvSpPr/>
                      <p:nvPr/>
                    </p:nvSpPr>
                    <p:spPr>
                      <a:xfrm>
                        <a:off x="1966680" y="4282920"/>
                        <a:ext cx="99000" cy="378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9" name="Line 1083"/>
                      <p:cNvSpPr/>
                      <p:nvPr/>
                    </p:nvSpPr>
                    <p:spPr>
                      <a:xfrm>
                        <a:off x="1986480" y="4273560"/>
                        <a:ext cx="96840" cy="388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0" name="Line 1084"/>
                      <p:cNvSpPr/>
                      <p:nvPr/>
                    </p:nvSpPr>
                    <p:spPr>
                      <a:xfrm>
                        <a:off x="2008800" y="4266000"/>
                        <a:ext cx="96840" cy="410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1" name="Line 1085"/>
                      <p:cNvSpPr/>
                      <p:nvPr/>
                    </p:nvSpPr>
                    <p:spPr>
                      <a:xfrm>
                        <a:off x="1792800" y="4287600"/>
                        <a:ext cx="51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2" name="Line 1086"/>
                      <p:cNvSpPr/>
                      <p:nvPr/>
                    </p:nvSpPr>
                    <p:spPr>
                      <a:xfrm>
                        <a:off x="1829160" y="4282920"/>
                        <a:ext cx="4680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3" name="Line 1087"/>
                      <p:cNvSpPr/>
                      <p:nvPr/>
                    </p:nvSpPr>
                    <p:spPr>
                      <a:xfrm>
                        <a:off x="1860120" y="4273560"/>
                        <a:ext cx="47160" cy="13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4" name="Line 1088"/>
                      <p:cNvSpPr/>
                      <p:nvPr/>
                    </p:nvSpPr>
                    <p:spPr>
                      <a:xfrm>
                        <a:off x="1891800" y="4266000"/>
                        <a:ext cx="49320" cy="180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5" name="Line 1089"/>
                      <p:cNvSpPr/>
                      <p:nvPr/>
                    </p:nvSpPr>
                    <p:spPr>
                      <a:xfrm>
                        <a:off x="1923480" y="4259880"/>
                        <a:ext cx="4464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6" name="Line 1090"/>
                      <p:cNvSpPr/>
                      <p:nvPr/>
                    </p:nvSpPr>
                    <p:spPr>
                      <a:xfrm>
                        <a:off x="1957320" y="4247280"/>
                        <a:ext cx="4716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97" name="Group 1091"/>
                <p:cNvGrpSpPr/>
                <p:nvPr/>
              </p:nvGrpSpPr>
              <p:grpSpPr>
                <a:xfrm>
                  <a:off x="2215800" y="3973680"/>
                  <a:ext cx="193320" cy="159840"/>
                  <a:chOff x="2215800" y="3973680"/>
                  <a:chExt cx="193320" cy="159840"/>
                </a:xfrm>
              </p:grpSpPr>
              <p:grpSp>
                <p:nvGrpSpPr>
                  <p:cNvPr id="1098" name="Group 1092"/>
                  <p:cNvGrpSpPr/>
                  <p:nvPr/>
                </p:nvGrpSpPr>
                <p:grpSpPr>
                  <a:xfrm>
                    <a:off x="2215800" y="3973680"/>
                    <a:ext cx="193320" cy="159840"/>
                    <a:chOff x="2215800" y="3973680"/>
                    <a:chExt cx="193320" cy="159840"/>
                  </a:xfrm>
                </p:grpSpPr>
                <p:sp>
                  <p:nvSpPr>
                    <p:cNvPr id="1099" name="Freeform 1093"/>
                    <p:cNvSpPr/>
                    <p:nvPr/>
                  </p:nvSpPr>
                  <p:spPr>
                    <a:xfrm>
                      <a:off x="2215800" y="3973680"/>
                      <a:ext cx="193320" cy="159840"/>
                    </a:xfrm>
                    <a:custGeom>
                      <a:avLst/>
                      <a:gdLst>
                        <a:gd name="textAreaLeft" fmla="*/ 0 w 193320"/>
                        <a:gd name="textAreaRight" fmla="*/ 193680 w 193320"/>
                        <a:gd name="textAreaTop" fmla="*/ 0 h 159840"/>
                        <a:gd name="textAreaBottom" fmla="*/ 160200 h 159840"/>
                      </a:gdLst>
                      <a:ahLst/>
                      <a:rect l="textAreaLeft" t="textAreaTop" r="textAreaRight" b="textAreaBottom"/>
                      <a:pathLst>
                        <a:path w="86" h="139">
                          <a:moveTo>
                            <a:pt x="26" y="4"/>
                          </a:moveTo>
                          <a:lnTo>
                            <a:pt x="15" y="10"/>
                          </a:lnTo>
                          <a:lnTo>
                            <a:pt x="11" y="21"/>
                          </a:lnTo>
                          <a:lnTo>
                            <a:pt x="7" y="37"/>
                          </a:lnTo>
                          <a:lnTo>
                            <a:pt x="7" y="43"/>
                          </a:lnTo>
                          <a:lnTo>
                            <a:pt x="7" y="49"/>
                          </a:lnTo>
                          <a:lnTo>
                            <a:pt x="9" y="53"/>
                          </a:lnTo>
                          <a:lnTo>
                            <a:pt x="7" y="62"/>
                          </a:lnTo>
                          <a:lnTo>
                            <a:pt x="4" y="70"/>
                          </a:lnTo>
                          <a:lnTo>
                            <a:pt x="2" y="72"/>
                          </a:lnTo>
                          <a:lnTo>
                            <a:pt x="1" y="75"/>
                          </a:lnTo>
                          <a:lnTo>
                            <a:pt x="0" y="77"/>
                          </a:lnTo>
                          <a:lnTo>
                            <a:pt x="0" y="79"/>
                          </a:lnTo>
                          <a:lnTo>
                            <a:pt x="0" y="82"/>
                          </a:lnTo>
                          <a:lnTo>
                            <a:pt x="2" y="82"/>
                          </a:lnTo>
                          <a:lnTo>
                            <a:pt x="5" y="84"/>
                          </a:lnTo>
                          <a:lnTo>
                            <a:pt x="6" y="85"/>
                          </a:lnTo>
                          <a:lnTo>
                            <a:pt x="7" y="88"/>
                          </a:lnTo>
                          <a:lnTo>
                            <a:pt x="7" y="91"/>
                          </a:lnTo>
                          <a:lnTo>
                            <a:pt x="5" y="96"/>
                          </a:lnTo>
                          <a:lnTo>
                            <a:pt x="6" y="99"/>
                          </a:lnTo>
                          <a:lnTo>
                            <a:pt x="7" y="101"/>
                          </a:lnTo>
                          <a:lnTo>
                            <a:pt x="7" y="103"/>
                          </a:lnTo>
                          <a:lnTo>
                            <a:pt x="7" y="104"/>
                          </a:lnTo>
                          <a:lnTo>
                            <a:pt x="7" y="107"/>
                          </a:lnTo>
                          <a:lnTo>
                            <a:pt x="9" y="107"/>
                          </a:lnTo>
                          <a:lnTo>
                            <a:pt x="10" y="110"/>
                          </a:lnTo>
                          <a:lnTo>
                            <a:pt x="10" y="114"/>
                          </a:lnTo>
                          <a:lnTo>
                            <a:pt x="11" y="117"/>
                          </a:lnTo>
                          <a:lnTo>
                            <a:pt x="12" y="119"/>
                          </a:lnTo>
                          <a:lnTo>
                            <a:pt x="14" y="121"/>
                          </a:lnTo>
                          <a:lnTo>
                            <a:pt x="16" y="122"/>
                          </a:lnTo>
                          <a:lnTo>
                            <a:pt x="18" y="122"/>
                          </a:lnTo>
                          <a:lnTo>
                            <a:pt x="25" y="122"/>
                          </a:lnTo>
                          <a:lnTo>
                            <a:pt x="30" y="121"/>
                          </a:lnTo>
                          <a:lnTo>
                            <a:pt x="39" y="138"/>
                          </a:lnTo>
                          <a:lnTo>
                            <a:pt x="74" y="117"/>
                          </a:lnTo>
                          <a:lnTo>
                            <a:pt x="71" y="110"/>
                          </a:lnTo>
                          <a:lnTo>
                            <a:pt x="69" y="103"/>
                          </a:lnTo>
                          <a:lnTo>
                            <a:pt x="69" y="93"/>
                          </a:lnTo>
                          <a:lnTo>
                            <a:pt x="85" y="73"/>
                          </a:lnTo>
                          <a:lnTo>
                            <a:pt x="85" y="26"/>
                          </a:lnTo>
                          <a:lnTo>
                            <a:pt x="76" y="13"/>
                          </a:lnTo>
                          <a:lnTo>
                            <a:pt x="66" y="6"/>
                          </a:lnTo>
                          <a:lnTo>
                            <a:pt x="54" y="0"/>
                          </a:lnTo>
                          <a:lnTo>
                            <a:pt x="39" y="3"/>
                          </a:lnTo>
                          <a:lnTo>
                            <a:pt x="26" y="4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cap="rnd" w="1260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Freeform 1094"/>
                    <p:cNvSpPr/>
                    <p:nvPr/>
                  </p:nvSpPr>
                  <p:spPr>
                    <a:xfrm>
                      <a:off x="2307600" y="4073760"/>
                      <a:ext cx="38160" cy="2160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17" h="19">
                          <a:moveTo>
                            <a:pt x="16" y="0"/>
                          </a:moveTo>
                          <a:lnTo>
                            <a:pt x="11" y="8"/>
                          </a:lnTo>
                          <a:lnTo>
                            <a:pt x="6" y="13"/>
                          </a:lnTo>
                          <a:lnTo>
                            <a:pt x="0" y="18"/>
                          </a:lnTo>
                          <a:lnTo>
                            <a:pt x="9" y="14"/>
                          </a:lnTo>
                          <a:lnTo>
                            <a:pt x="13" y="8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1" name="Group 1095"/>
                  <p:cNvGrpSpPr/>
                  <p:nvPr/>
                </p:nvGrpSpPr>
                <p:grpSpPr>
                  <a:xfrm>
                    <a:off x="2231640" y="4025520"/>
                    <a:ext cx="57960" cy="76680"/>
                    <a:chOff x="2231640" y="4025520"/>
                    <a:chExt cx="57960" cy="76680"/>
                  </a:xfrm>
                </p:grpSpPr>
                <p:sp>
                  <p:nvSpPr>
                    <p:cNvPr id="1102" name="Freeform 1096"/>
                    <p:cNvSpPr/>
                    <p:nvPr/>
                  </p:nvSpPr>
                  <p:spPr>
                    <a:xfrm>
                      <a:off x="2251440" y="403668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2" y="0"/>
                          </a:moveTo>
                          <a:lnTo>
                            <a:pt x="2" y="2"/>
                          </a:lnTo>
                          <a:lnTo>
                            <a:pt x="0" y="4"/>
                          </a:lnTo>
                          <a:lnTo>
                            <a:pt x="4" y="2"/>
                          </a:lnTo>
                          <a:lnTo>
                            <a:pt x="4" y="9"/>
                          </a:lnTo>
                          <a:lnTo>
                            <a:pt x="2" y="11"/>
                          </a:lnTo>
                          <a:lnTo>
                            <a:pt x="4" y="11"/>
                          </a:lnTo>
                          <a:lnTo>
                            <a:pt x="4" y="16"/>
                          </a:lnTo>
                          <a:lnTo>
                            <a:pt x="6" y="11"/>
                          </a:lnTo>
                          <a:lnTo>
                            <a:pt x="8" y="11"/>
                          </a:lnTo>
                          <a:lnTo>
                            <a:pt x="12" y="9"/>
                          </a:lnTo>
                          <a:lnTo>
                            <a:pt x="16" y="9"/>
                          </a:lnTo>
                          <a:lnTo>
                            <a:pt x="12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Freeform 1097"/>
                    <p:cNvSpPr/>
                    <p:nvPr/>
                  </p:nvSpPr>
                  <p:spPr>
                    <a:xfrm>
                      <a:off x="2246760" y="402552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10"/>
                          </a:moveTo>
                          <a:lnTo>
                            <a:pt x="1" y="16"/>
                          </a:lnTo>
                          <a:lnTo>
                            <a:pt x="2" y="16"/>
                          </a:lnTo>
                          <a:lnTo>
                            <a:pt x="4" y="10"/>
                          </a:lnTo>
                          <a:lnTo>
                            <a:pt x="8" y="10"/>
                          </a:lnTo>
                          <a:lnTo>
                            <a:pt x="13" y="10"/>
                          </a:lnTo>
                          <a:lnTo>
                            <a:pt x="16" y="10"/>
                          </a:lnTo>
                          <a:lnTo>
                            <a:pt x="11" y="5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  <a:lnTo>
                            <a:pt x="4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Freeform 1098"/>
                    <p:cNvSpPr/>
                    <p:nvPr/>
                  </p:nvSpPr>
                  <p:spPr>
                    <a:xfrm>
                      <a:off x="2233440" y="408276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5" y="0"/>
                          </a:lnTo>
                          <a:lnTo>
                            <a:pt x="5" y="2"/>
                          </a:lnTo>
                          <a:lnTo>
                            <a:pt x="10" y="4"/>
                          </a:lnTo>
                          <a:lnTo>
                            <a:pt x="13" y="4"/>
                          </a:lnTo>
                          <a:lnTo>
                            <a:pt x="16" y="6"/>
                          </a:lnTo>
                          <a:lnTo>
                            <a:pt x="16" y="4"/>
                          </a:lnTo>
                          <a:lnTo>
                            <a:pt x="16" y="9"/>
                          </a:lnTo>
                          <a:lnTo>
                            <a:pt x="16" y="11"/>
                          </a:lnTo>
                          <a:lnTo>
                            <a:pt x="16" y="13"/>
                          </a:lnTo>
                          <a:lnTo>
                            <a:pt x="16" y="16"/>
                          </a:lnTo>
                          <a:lnTo>
                            <a:pt x="16" y="11"/>
                          </a:lnTo>
                          <a:lnTo>
                            <a:pt x="13" y="9"/>
                          </a:lnTo>
                          <a:lnTo>
                            <a:pt x="10" y="6"/>
                          </a:lnTo>
                          <a:lnTo>
                            <a:pt x="5" y="9"/>
                          </a:lnTo>
                          <a:lnTo>
                            <a:pt x="2" y="9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Freeform 1099"/>
                    <p:cNvSpPr/>
                    <p:nvPr/>
                  </p:nvSpPr>
                  <p:spPr>
                    <a:xfrm>
                      <a:off x="2240280" y="4093920"/>
                      <a:ext cx="2520" cy="108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1080"/>
                        <a:gd name="textAreaBottom" fmla="*/ 1440 h 1080"/>
                      </a:gdLst>
                      <a:ahLst/>
                      <a:rect l="textAreaLeft" t="textAreaTop" r="textAreaRight" b="textAreaBottom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Freeform 1100"/>
                    <p:cNvSpPr/>
                    <p:nvPr/>
                  </p:nvSpPr>
                  <p:spPr>
                    <a:xfrm>
                      <a:off x="2231640" y="4065480"/>
                      <a:ext cx="37440" cy="19440"/>
                    </a:xfrm>
                    <a:custGeom>
                      <a:avLst/>
                      <a:gdLst>
                        <a:gd name="textAreaLeft" fmla="*/ 0 w 37440"/>
                        <a:gd name="textAreaRight" fmla="*/ 37800 w 3744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Freeform 1101"/>
                    <p:cNvSpPr/>
                    <p:nvPr/>
                  </p:nvSpPr>
                  <p:spPr>
                    <a:xfrm>
                      <a:off x="2240280" y="4065480"/>
                      <a:ext cx="2520" cy="1944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Freeform 1102"/>
                    <p:cNvSpPr/>
                    <p:nvPr/>
                  </p:nvSpPr>
                  <p:spPr>
                    <a:xfrm>
                      <a:off x="2260440" y="4036680"/>
                      <a:ext cx="1800" cy="1944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Group 1103"/>
                  <p:cNvGrpSpPr/>
                  <p:nvPr/>
                </p:nvGrpSpPr>
                <p:grpSpPr>
                  <a:xfrm>
                    <a:off x="2323440" y="4033440"/>
                    <a:ext cx="42120" cy="27360"/>
                    <a:chOff x="2323440" y="4033440"/>
                    <a:chExt cx="42120" cy="27360"/>
                  </a:xfrm>
                </p:grpSpPr>
                <p:sp>
                  <p:nvSpPr>
                    <p:cNvPr id="1110" name="Freeform 1104"/>
                    <p:cNvSpPr/>
                    <p:nvPr/>
                  </p:nvSpPr>
                  <p:spPr>
                    <a:xfrm>
                      <a:off x="2327760" y="4036680"/>
                      <a:ext cx="37800" cy="2160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17" h="19">
                          <a:moveTo>
                            <a:pt x="0" y="3"/>
                          </a:moveTo>
                          <a:lnTo>
                            <a:pt x="6" y="1"/>
                          </a:lnTo>
                          <a:lnTo>
                            <a:pt x="9" y="2"/>
                          </a:lnTo>
                          <a:lnTo>
                            <a:pt x="12" y="5"/>
                          </a:lnTo>
                          <a:lnTo>
                            <a:pt x="16" y="9"/>
                          </a:lnTo>
                          <a:lnTo>
                            <a:pt x="12" y="12"/>
                          </a:lnTo>
                          <a:lnTo>
                            <a:pt x="12" y="15"/>
                          </a:lnTo>
                          <a:lnTo>
                            <a:pt x="9" y="11"/>
                          </a:lnTo>
                          <a:lnTo>
                            <a:pt x="6" y="8"/>
                          </a:lnTo>
                          <a:lnTo>
                            <a:pt x="0" y="7"/>
                          </a:lnTo>
                          <a:lnTo>
                            <a:pt x="6" y="10"/>
                          </a:lnTo>
                          <a:lnTo>
                            <a:pt x="9" y="13"/>
                          </a:lnTo>
                          <a:lnTo>
                            <a:pt x="9" y="15"/>
                          </a:lnTo>
                          <a:lnTo>
                            <a:pt x="9" y="18"/>
                          </a:lnTo>
                          <a:lnTo>
                            <a:pt x="6" y="18"/>
                          </a:lnTo>
                          <a:lnTo>
                            <a:pt x="12" y="17"/>
                          </a:lnTo>
                          <a:lnTo>
                            <a:pt x="16" y="13"/>
                          </a:lnTo>
                          <a:lnTo>
                            <a:pt x="16" y="9"/>
                          </a:lnTo>
                          <a:lnTo>
                            <a:pt x="16" y="4"/>
                          </a:lnTo>
                          <a:lnTo>
                            <a:pt x="12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1105"/>
                    <p:cNvSpPr/>
                    <p:nvPr/>
                  </p:nvSpPr>
                  <p:spPr>
                    <a:xfrm>
                      <a:off x="2323440" y="4033440"/>
                      <a:ext cx="37800" cy="2736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27360"/>
                        <a:gd name="textAreaBottom" fmla="*/ 27720 h 27360"/>
                      </a:gdLst>
                      <a:ahLst/>
                      <a:rect l="textAreaLeft" t="textAreaTop" r="textAreaRight" b="textAreaBottom"/>
                      <a:pathLst>
                        <a:path w="17" h="24">
                          <a:moveTo>
                            <a:pt x="0" y="6"/>
                          </a:moveTo>
                          <a:lnTo>
                            <a:pt x="1" y="2"/>
                          </a:lnTo>
                          <a:lnTo>
                            <a:pt x="7" y="1"/>
                          </a:lnTo>
                          <a:lnTo>
                            <a:pt x="12" y="2"/>
                          </a:lnTo>
                          <a:lnTo>
                            <a:pt x="14" y="4"/>
                          </a:lnTo>
                          <a:lnTo>
                            <a:pt x="16" y="7"/>
                          </a:lnTo>
                          <a:lnTo>
                            <a:pt x="16" y="10"/>
                          </a:lnTo>
                          <a:lnTo>
                            <a:pt x="14" y="12"/>
                          </a:lnTo>
                          <a:lnTo>
                            <a:pt x="14" y="15"/>
                          </a:lnTo>
                          <a:lnTo>
                            <a:pt x="14" y="18"/>
                          </a:lnTo>
                          <a:lnTo>
                            <a:pt x="10" y="21"/>
                          </a:lnTo>
                          <a:lnTo>
                            <a:pt x="7" y="21"/>
                          </a:lnTo>
                          <a:lnTo>
                            <a:pt x="5" y="21"/>
                          </a:lnTo>
                          <a:lnTo>
                            <a:pt x="5" y="22"/>
                          </a:lnTo>
                          <a:lnTo>
                            <a:pt x="7" y="23"/>
                          </a:lnTo>
                          <a:lnTo>
                            <a:pt x="8" y="23"/>
                          </a:lnTo>
                          <a:lnTo>
                            <a:pt x="12" y="22"/>
                          </a:lnTo>
                          <a:lnTo>
                            <a:pt x="16" y="18"/>
                          </a:lnTo>
                          <a:lnTo>
                            <a:pt x="16" y="13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  <a:lnTo>
                            <a:pt x="14" y="3"/>
                          </a:lnTo>
                          <a:lnTo>
                            <a:pt x="12" y="1"/>
                          </a:lnTo>
                          <a:lnTo>
                            <a:pt x="8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2" name="Freeform 1106"/>
                <p:cNvSpPr/>
                <p:nvPr/>
              </p:nvSpPr>
              <p:spPr>
                <a:xfrm>
                  <a:off x="1953720" y="4098240"/>
                  <a:ext cx="501120" cy="450000"/>
                </a:xfrm>
                <a:custGeom>
                  <a:avLst/>
                  <a:gdLst>
                    <a:gd name="textAreaLeft" fmla="*/ 0 w 501120"/>
                    <a:gd name="textAreaRight" fmla="*/ 501480 w 501120"/>
                    <a:gd name="textAreaTop" fmla="*/ 0 h 450000"/>
                    <a:gd name="textAreaBottom" fmla="*/ 450360 h 450000"/>
                  </a:gdLst>
                  <a:ahLst/>
                  <a:rect l="textAreaLeft" t="textAreaTop" r="textAreaRight" b="textAreaBottom"/>
                  <a:pathLst>
                    <a:path w="222" h="391">
                      <a:moveTo>
                        <a:pt x="193" y="20"/>
                      </a:moveTo>
                      <a:lnTo>
                        <a:pt x="188" y="0"/>
                      </a:lnTo>
                      <a:lnTo>
                        <a:pt x="151" y="25"/>
                      </a:lnTo>
                      <a:lnTo>
                        <a:pt x="155" y="41"/>
                      </a:lnTo>
                      <a:lnTo>
                        <a:pt x="150" y="57"/>
                      </a:lnTo>
                      <a:lnTo>
                        <a:pt x="144" y="71"/>
                      </a:lnTo>
                      <a:lnTo>
                        <a:pt x="136" y="96"/>
                      </a:lnTo>
                      <a:lnTo>
                        <a:pt x="125" y="118"/>
                      </a:lnTo>
                      <a:lnTo>
                        <a:pt x="122" y="130"/>
                      </a:lnTo>
                      <a:lnTo>
                        <a:pt x="121" y="138"/>
                      </a:lnTo>
                      <a:lnTo>
                        <a:pt x="121" y="148"/>
                      </a:lnTo>
                      <a:lnTo>
                        <a:pt x="122" y="157"/>
                      </a:lnTo>
                      <a:lnTo>
                        <a:pt x="124" y="164"/>
                      </a:lnTo>
                      <a:lnTo>
                        <a:pt x="124" y="174"/>
                      </a:lnTo>
                      <a:lnTo>
                        <a:pt x="88" y="186"/>
                      </a:lnTo>
                      <a:lnTo>
                        <a:pt x="68" y="189"/>
                      </a:lnTo>
                      <a:lnTo>
                        <a:pt x="54" y="188"/>
                      </a:lnTo>
                      <a:lnTo>
                        <a:pt x="52" y="195"/>
                      </a:lnTo>
                      <a:lnTo>
                        <a:pt x="50" y="203"/>
                      </a:lnTo>
                      <a:lnTo>
                        <a:pt x="49" y="212"/>
                      </a:lnTo>
                      <a:lnTo>
                        <a:pt x="64" y="219"/>
                      </a:lnTo>
                      <a:lnTo>
                        <a:pt x="81" y="222"/>
                      </a:lnTo>
                      <a:lnTo>
                        <a:pt x="95" y="222"/>
                      </a:lnTo>
                      <a:lnTo>
                        <a:pt x="112" y="224"/>
                      </a:lnTo>
                      <a:lnTo>
                        <a:pt x="122" y="222"/>
                      </a:lnTo>
                      <a:lnTo>
                        <a:pt x="122" y="241"/>
                      </a:lnTo>
                      <a:lnTo>
                        <a:pt x="126" y="252"/>
                      </a:lnTo>
                      <a:lnTo>
                        <a:pt x="124" y="263"/>
                      </a:lnTo>
                      <a:lnTo>
                        <a:pt x="126" y="271"/>
                      </a:lnTo>
                      <a:lnTo>
                        <a:pt x="120" y="271"/>
                      </a:lnTo>
                      <a:lnTo>
                        <a:pt x="116" y="275"/>
                      </a:lnTo>
                      <a:lnTo>
                        <a:pt x="106" y="277"/>
                      </a:lnTo>
                      <a:lnTo>
                        <a:pt x="99" y="284"/>
                      </a:lnTo>
                      <a:lnTo>
                        <a:pt x="92" y="286"/>
                      </a:lnTo>
                      <a:lnTo>
                        <a:pt x="47" y="308"/>
                      </a:lnTo>
                      <a:lnTo>
                        <a:pt x="32" y="316"/>
                      </a:lnTo>
                      <a:lnTo>
                        <a:pt x="22" y="322"/>
                      </a:lnTo>
                      <a:lnTo>
                        <a:pt x="16" y="335"/>
                      </a:lnTo>
                      <a:lnTo>
                        <a:pt x="8" y="356"/>
                      </a:lnTo>
                      <a:lnTo>
                        <a:pt x="0" y="390"/>
                      </a:lnTo>
                      <a:lnTo>
                        <a:pt x="85" y="390"/>
                      </a:lnTo>
                      <a:lnTo>
                        <a:pt x="111" y="380"/>
                      </a:lnTo>
                      <a:lnTo>
                        <a:pt x="149" y="378"/>
                      </a:lnTo>
                      <a:lnTo>
                        <a:pt x="173" y="379"/>
                      </a:lnTo>
                      <a:lnTo>
                        <a:pt x="187" y="380"/>
                      </a:lnTo>
                      <a:lnTo>
                        <a:pt x="202" y="374"/>
                      </a:lnTo>
                      <a:lnTo>
                        <a:pt x="208" y="370"/>
                      </a:lnTo>
                      <a:lnTo>
                        <a:pt x="216" y="360"/>
                      </a:lnTo>
                      <a:lnTo>
                        <a:pt x="217" y="352"/>
                      </a:lnTo>
                      <a:lnTo>
                        <a:pt x="220" y="336"/>
                      </a:lnTo>
                      <a:lnTo>
                        <a:pt x="218" y="322"/>
                      </a:lnTo>
                      <a:lnTo>
                        <a:pt x="213" y="297"/>
                      </a:lnTo>
                      <a:lnTo>
                        <a:pt x="206" y="272"/>
                      </a:lnTo>
                      <a:lnTo>
                        <a:pt x="205" y="263"/>
                      </a:lnTo>
                      <a:lnTo>
                        <a:pt x="207" y="256"/>
                      </a:lnTo>
                      <a:lnTo>
                        <a:pt x="206" y="236"/>
                      </a:lnTo>
                      <a:lnTo>
                        <a:pt x="204" y="228"/>
                      </a:lnTo>
                      <a:lnTo>
                        <a:pt x="206" y="210"/>
                      </a:lnTo>
                      <a:lnTo>
                        <a:pt x="210" y="185"/>
                      </a:lnTo>
                      <a:lnTo>
                        <a:pt x="218" y="151"/>
                      </a:lnTo>
                      <a:lnTo>
                        <a:pt x="221" y="120"/>
                      </a:lnTo>
                      <a:lnTo>
                        <a:pt x="221" y="94"/>
                      </a:lnTo>
                      <a:lnTo>
                        <a:pt x="219" y="75"/>
                      </a:lnTo>
                      <a:lnTo>
                        <a:pt x="216" y="64"/>
                      </a:lnTo>
                      <a:lnTo>
                        <a:pt x="212" y="51"/>
                      </a:lnTo>
                      <a:lnTo>
                        <a:pt x="208" y="37"/>
                      </a:lnTo>
                      <a:lnTo>
                        <a:pt x="193" y="20"/>
                      </a:lnTo>
                    </a:path>
                  </a:pathLst>
                </a:custGeom>
                <a:solidFill>
                  <a:srgbClr val="000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Group 1107"/>
                <p:cNvGrpSpPr/>
                <p:nvPr/>
              </p:nvGrpSpPr>
              <p:grpSpPr>
                <a:xfrm>
                  <a:off x="1942560" y="4287240"/>
                  <a:ext cx="148320" cy="56160"/>
                  <a:chOff x="1942560" y="4287240"/>
                  <a:chExt cx="148320" cy="56160"/>
                </a:xfrm>
              </p:grpSpPr>
              <p:sp>
                <p:nvSpPr>
                  <p:cNvPr id="1114" name="Freeform 1108"/>
                  <p:cNvSpPr/>
                  <p:nvPr/>
                </p:nvSpPr>
                <p:spPr>
                  <a:xfrm>
                    <a:off x="1942560" y="4287240"/>
                    <a:ext cx="148320" cy="56160"/>
                  </a:xfrm>
                  <a:custGeom>
                    <a:avLst/>
                    <a:gdLst>
                      <a:gd name="textAreaLeft" fmla="*/ 0 w 148320"/>
                      <a:gd name="textAreaRight" fmla="*/ 148680 w 148320"/>
                      <a:gd name="textAreaTop" fmla="*/ 0 h 56160"/>
                      <a:gd name="textAreaBottom" fmla="*/ 56520 h 56160"/>
                    </a:gdLst>
                    <a:ahLst/>
                    <a:rect l="textAreaLeft" t="textAreaTop" r="textAreaRight" b="textAreaBottom"/>
                    <a:pathLst>
                      <a:path w="66" h="49">
                        <a:moveTo>
                          <a:pt x="65" y="28"/>
                        </a:moveTo>
                        <a:lnTo>
                          <a:pt x="57" y="26"/>
                        </a:lnTo>
                        <a:lnTo>
                          <a:pt x="54" y="25"/>
                        </a:lnTo>
                        <a:lnTo>
                          <a:pt x="52" y="23"/>
                        </a:lnTo>
                        <a:lnTo>
                          <a:pt x="50" y="20"/>
                        </a:lnTo>
                        <a:lnTo>
                          <a:pt x="46" y="16"/>
                        </a:lnTo>
                        <a:lnTo>
                          <a:pt x="40" y="9"/>
                        </a:lnTo>
                        <a:lnTo>
                          <a:pt x="38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21" y="1"/>
                        </a:lnTo>
                        <a:lnTo>
                          <a:pt x="18" y="0"/>
                        </a:lnTo>
                        <a:lnTo>
                          <a:pt x="15" y="2"/>
                        </a:lnTo>
                        <a:lnTo>
                          <a:pt x="14" y="3"/>
                        </a:lnTo>
                        <a:lnTo>
                          <a:pt x="10" y="5"/>
                        </a:lnTo>
                        <a:lnTo>
                          <a:pt x="8" y="6"/>
                        </a:lnTo>
                        <a:lnTo>
                          <a:pt x="6" y="7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1" y="17"/>
                        </a:lnTo>
                        <a:lnTo>
                          <a:pt x="0" y="19"/>
                        </a:lnTo>
                        <a:lnTo>
                          <a:pt x="1" y="20"/>
                        </a:lnTo>
                        <a:lnTo>
                          <a:pt x="2" y="21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4" y="17"/>
                        </a:lnTo>
                        <a:lnTo>
                          <a:pt x="16" y="17"/>
                        </a:lnTo>
                        <a:lnTo>
                          <a:pt x="19" y="19"/>
                        </a:lnTo>
                        <a:lnTo>
                          <a:pt x="14" y="20"/>
                        </a:lnTo>
                        <a:lnTo>
                          <a:pt x="10" y="21"/>
                        </a:lnTo>
                        <a:lnTo>
                          <a:pt x="6" y="23"/>
                        </a:lnTo>
                        <a:lnTo>
                          <a:pt x="5" y="25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7" y="28"/>
                        </a:lnTo>
                        <a:lnTo>
                          <a:pt x="8" y="28"/>
                        </a:lnTo>
                        <a:lnTo>
                          <a:pt x="14" y="26"/>
                        </a:lnTo>
                        <a:lnTo>
                          <a:pt x="19" y="26"/>
                        </a:lnTo>
                        <a:lnTo>
                          <a:pt x="23" y="26"/>
                        </a:lnTo>
                        <a:lnTo>
                          <a:pt x="26" y="28"/>
                        </a:lnTo>
                        <a:lnTo>
                          <a:pt x="28" y="31"/>
                        </a:lnTo>
                        <a:lnTo>
                          <a:pt x="30" y="34"/>
                        </a:lnTo>
                        <a:lnTo>
                          <a:pt x="32" y="37"/>
                        </a:lnTo>
                        <a:lnTo>
                          <a:pt x="35" y="40"/>
                        </a:lnTo>
                        <a:lnTo>
                          <a:pt x="37" y="42"/>
                        </a:lnTo>
                        <a:lnTo>
                          <a:pt x="40" y="42"/>
                        </a:lnTo>
                        <a:lnTo>
                          <a:pt x="43" y="42"/>
                        </a:lnTo>
                        <a:lnTo>
                          <a:pt x="47" y="43"/>
                        </a:lnTo>
                        <a:lnTo>
                          <a:pt x="51" y="43"/>
                        </a:lnTo>
                        <a:lnTo>
                          <a:pt x="55" y="45"/>
                        </a:lnTo>
                        <a:lnTo>
                          <a:pt x="65" y="48"/>
                        </a:lnTo>
                        <a:lnTo>
                          <a:pt x="65" y="2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Freeform 1109"/>
                  <p:cNvSpPr/>
                  <p:nvPr/>
                </p:nvSpPr>
                <p:spPr>
                  <a:xfrm>
                    <a:off x="1953720" y="4296240"/>
                    <a:ext cx="44640" cy="194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0" y="16"/>
                        </a:move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9" y="8"/>
                        </a:lnTo>
                        <a:lnTo>
                          <a:pt x="12" y="0"/>
                        </a:lnTo>
                        <a:lnTo>
                          <a:pt x="16" y="8"/>
                        </a:lnTo>
                        <a:lnTo>
                          <a:pt x="19" y="8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6" y="8"/>
                        </a:lnTo>
                        <a:lnTo>
                          <a:pt x="3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Freeform 1110"/>
                  <p:cNvSpPr/>
                  <p:nvPr/>
                </p:nvSpPr>
                <p:spPr>
                  <a:xfrm>
                    <a:off x="1980720" y="428724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1111"/>
                  <p:cNvSpPr/>
                  <p:nvPr/>
                </p:nvSpPr>
                <p:spPr>
                  <a:xfrm>
                    <a:off x="1987200" y="430524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8"/>
                        </a:moveTo>
                        <a:lnTo>
                          <a:pt x="4" y="16"/>
                        </a:lnTo>
                        <a:lnTo>
                          <a:pt x="8" y="16"/>
                        </a:lnTo>
                        <a:lnTo>
                          <a:pt x="12" y="16"/>
                        </a:lnTo>
                        <a:lnTo>
                          <a:pt x="16" y="0"/>
                        </a:lnTo>
                        <a:lnTo>
                          <a:pt x="12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Freeform 1112"/>
                  <p:cNvSpPr/>
                  <p:nvPr/>
                </p:nvSpPr>
                <p:spPr>
                  <a:xfrm>
                    <a:off x="1962720" y="430992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16" y="0"/>
                        </a:moveTo>
                        <a:lnTo>
                          <a:pt x="16" y="5"/>
                        </a:lnTo>
                        <a:lnTo>
                          <a:pt x="0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1113"/>
                  <p:cNvSpPr/>
                  <p:nvPr/>
                </p:nvSpPr>
                <p:spPr>
                  <a:xfrm>
                    <a:off x="2017080" y="429840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Freeform 1114"/>
                  <p:cNvSpPr/>
                  <p:nvPr/>
                </p:nvSpPr>
                <p:spPr>
                  <a:xfrm>
                    <a:off x="2007720" y="430992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Freeform 1115"/>
                  <p:cNvSpPr/>
                  <p:nvPr/>
                </p:nvSpPr>
                <p:spPr>
                  <a:xfrm>
                    <a:off x="1951560" y="4305240"/>
                    <a:ext cx="1800" cy="194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" h="17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1116"/>
                <p:cNvGrpSpPr/>
                <p:nvPr/>
              </p:nvGrpSpPr>
              <p:grpSpPr>
                <a:xfrm>
                  <a:off x="1974240" y="4252680"/>
                  <a:ext cx="164520" cy="52560"/>
                  <a:chOff x="1974240" y="4252680"/>
                  <a:chExt cx="164520" cy="52560"/>
                </a:xfrm>
              </p:grpSpPr>
              <p:sp>
                <p:nvSpPr>
                  <p:cNvPr id="1123" name="Freeform 1117"/>
                  <p:cNvSpPr/>
                  <p:nvPr/>
                </p:nvSpPr>
                <p:spPr>
                  <a:xfrm>
                    <a:off x="1974240" y="4252680"/>
                    <a:ext cx="158040" cy="5256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70" h="46">
                        <a:moveTo>
                          <a:pt x="62" y="45"/>
                        </a:moveTo>
                        <a:lnTo>
                          <a:pt x="59" y="44"/>
                        </a:lnTo>
                        <a:lnTo>
                          <a:pt x="55" y="41"/>
                        </a:lnTo>
                        <a:lnTo>
                          <a:pt x="51" y="41"/>
                        </a:lnTo>
                        <a:lnTo>
                          <a:pt x="46" y="42"/>
                        </a:lnTo>
                        <a:lnTo>
                          <a:pt x="41" y="41"/>
                        </a:lnTo>
                        <a:lnTo>
                          <a:pt x="39" y="40"/>
                        </a:lnTo>
                        <a:lnTo>
                          <a:pt x="36" y="38"/>
                        </a:lnTo>
                        <a:lnTo>
                          <a:pt x="34" y="37"/>
                        </a:lnTo>
                        <a:lnTo>
                          <a:pt x="31" y="36"/>
                        </a:lnTo>
                        <a:lnTo>
                          <a:pt x="29" y="33"/>
                        </a:lnTo>
                        <a:lnTo>
                          <a:pt x="26" y="31"/>
                        </a:lnTo>
                        <a:lnTo>
                          <a:pt x="24" y="30"/>
                        </a:lnTo>
                        <a:lnTo>
                          <a:pt x="21" y="29"/>
                        </a:lnTo>
                        <a:lnTo>
                          <a:pt x="19" y="29"/>
                        </a:lnTo>
                        <a:lnTo>
                          <a:pt x="17" y="29"/>
                        </a:lnTo>
                        <a:lnTo>
                          <a:pt x="16" y="27"/>
                        </a:lnTo>
                        <a:lnTo>
                          <a:pt x="15" y="26"/>
                        </a:lnTo>
                        <a:lnTo>
                          <a:pt x="16" y="25"/>
                        </a:lnTo>
                        <a:lnTo>
                          <a:pt x="17" y="24"/>
                        </a:lnTo>
                        <a:lnTo>
                          <a:pt x="19" y="24"/>
                        </a:lnTo>
                        <a:lnTo>
                          <a:pt x="21" y="23"/>
                        </a:lnTo>
                        <a:lnTo>
                          <a:pt x="24" y="23"/>
                        </a:lnTo>
                        <a:lnTo>
                          <a:pt x="26" y="24"/>
                        </a:lnTo>
                        <a:lnTo>
                          <a:pt x="31" y="24"/>
                        </a:lnTo>
                        <a:lnTo>
                          <a:pt x="27" y="20"/>
                        </a:lnTo>
                        <a:lnTo>
                          <a:pt x="23" y="16"/>
                        </a:lnTo>
                        <a:lnTo>
                          <a:pt x="19" y="14"/>
                        </a:lnTo>
                        <a:lnTo>
                          <a:pt x="15" y="14"/>
                        </a:lnTo>
                        <a:lnTo>
                          <a:pt x="10" y="13"/>
                        </a:lnTo>
                        <a:lnTo>
                          <a:pt x="8" y="14"/>
                        </a:lnTo>
                        <a:lnTo>
                          <a:pt x="6" y="15"/>
                        </a:lnTo>
                        <a:lnTo>
                          <a:pt x="5" y="15"/>
                        </a:lnTo>
                        <a:lnTo>
                          <a:pt x="4" y="14"/>
                        </a:lnTo>
                        <a:lnTo>
                          <a:pt x="3" y="14"/>
                        </a:lnTo>
                        <a:lnTo>
                          <a:pt x="3" y="12"/>
                        </a:ln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7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18" y="1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6" y="2"/>
                        </a:lnTo>
                        <a:lnTo>
                          <a:pt x="33" y="5"/>
                        </a:lnTo>
                        <a:lnTo>
                          <a:pt x="37" y="6"/>
                        </a:lnTo>
                        <a:lnTo>
                          <a:pt x="40" y="10"/>
                        </a:lnTo>
                        <a:lnTo>
                          <a:pt x="49" y="18"/>
                        </a:lnTo>
                        <a:lnTo>
                          <a:pt x="52" y="21"/>
                        </a:lnTo>
                        <a:lnTo>
                          <a:pt x="55" y="25"/>
                        </a:lnTo>
                        <a:lnTo>
                          <a:pt x="59" y="27"/>
                        </a:lnTo>
                        <a:lnTo>
                          <a:pt x="69" y="27"/>
                        </a:lnTo>
                        <a:lnTo>
                          <a:pt x="62" y="4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118"/>
                  <p:cNvSpPr/>
                  <p:nvPr/>
                </p:nvSpPr>
                <p:spPr>
                  <a:xfrm>
                    <a:off x="1985400" y="425916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6"/>
                        </a:moveTo>
                        <a:lnTo>
                          <a:pt x="2" y="16"/>
                        </a:lnTo>
                        <a:lnTo>
                          <a:pt x="4" y="12"/>
                        </a:lnTo>
                        <a:lnTo>
                          <a:pt x="8" y="8"/>
                        </a:lnTo>
                        <a:lnTo>
                          <a:pt x="8" y="4"/>
                        </a:lnTo>
                        <a:lnTo>
                          <a:pt x="10" y="4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8" y="4"/>
                        </a:lnTo>
                        <a:lnTo>
                          <a:pt x="6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1119"/>
                  <p:cNvSpPr/>
                  <p:nvPr/>
                </p:nvSpPr>
                <p:spPr>
                  <a:xfrm>
                    <a:off x="2100600" y="428688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16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Freeform 1120"/>
                  <p:cNvSpPr/>
                  <p:nvPr/>
                </p:nvSpPr>
                <p:spPr>
                  <a:xfrm>
                    <a:off x="2012400" y="425916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Freeform 1121"/>
                  <p:cNvSpPr/>
                  <p:nvPr/>
                </p:nvSpPr>
                <p:spPr>
                  <a:xfrm>
                    <a:off x="2019240" y="427644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0"/>
                        </a:moveTo>
                        <a:lnTo>
                          <a:pt x="16" y="8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1122"/>
                  <p:cNvSpPr/>
                  <p:nvPr/>
                </p:nvSpPr>
                <p:spPr>
                  <a:xfrm>
                    <a:off x="1987200" y="4263840"/>
                    <a:ext cx="2520" cy="194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" h="17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Freeform 1123"/>
                  <p:cNvSpPr/>
                  <p:nvPr/>
                </p:nvSpPr>
                <p:spPr>
                  <a:xfrm>
                    <a:off x="1980720" y="425916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6"/>
                        </a:moveTo>
                        <a:lnTo>
                          <a:pt x="0" y="4"/>
                        </a:lnTo>
                        <a:lnTo>
                          <a:pt x="16" y="4"/>
                        </a:lnTo>
                        <a:lnTo>
                          <a:pt x="16" y="0"/>
                        </a:lnTo>
                        <a:lnTo>
                          <a:pt x="16" y="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Freeform 1124"/>
                  <p:cNvSpPr/>
                  <p:nvPr/>
                </p:nvSpPr>
                <p:spPr>
                  <a:xfrm>
                    <a:off x="2050920" y="427320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0"/>
                        </a:moveTo>
                        <a:lnTo>
                          <a:pt x="0" y="16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6" y="10"/>
                        </a:lnTo>
                        <a:lnTo>
                          <a:pt x="16" y="16"/>
                        </a:lnTo>
                        <a:lnTo>
                          <a:pt x="10" y="10"/>
                        </a:lnTo>
                        <a:lnTo>
                          <a:pt x="10" y="5"/>
                        </a:lnTo>
                        <a:lnTo>
                          <a:pt x="5" y="0"/>
                        </a:lnTo>
                        <a:lnTo>
                          <a:pt x="5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1" name="Freeform 1125"/>
                <p:cNvSpPr/>
                <p:nvPr/>
              </p:nvSpPr>
              <p:spPr>
                <a:xfrm>
                  <a:off x="2105280" y="4271040"/>
                  <a:ext cx="153000" cy="51840"/>
                </a:xfrm>
                <a:custGeom>
                  <a:avLst/>
                  <a:gdLst>
                    <a:gd name="textAreaLeft" fmla="*/ 0 w 153000"/>
                    <a:gd name="textAreaRight" fmla="*/ 153360 w 1530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68" h="45">
                      <a:moveTo>
                        <a:pt x="58" y="4"/>
                      </a:moveTo>
                      <a:lnTo>
                        <a:pt x="40" y="7"/>
                      </a:lnTo>
                      <a:lnTo>
                        <a:pt x="26" y="9"/>
                      </a:lnTo>
                      <a:lnTo>
                        <a:pt x="19" y="8"/>
                      </a:lnTo>
                      <a:lnTo>
                        <a:pt x="6" y="8"/>
                      </a:lnTo>
                      <a:lnTo>
                        <a:pt x="2" y="16"/>
                      </a:lnTo>
                      <a:lnTo>
                        <a:pt x="0" y="28"/>
                      </a:lnTo>
                      <a:lnTo>
                        <a:pt x="9" y="30"/>
                      </a:lnTo>
                      <a:lnTo>
                        <a:pt x="28" y="37"/>
                      </a:lnTo>
                      <a:lnTo>
                        <a:pt x="65" y="44"/>
                      </a:lnTo>
                      <a:lnTo>
                        <a:pt x="67" y="0"/>
                      </a:lnTo>
                      <a:lnTo>
                        <a:pt x="58" y="4"/>
                      </a:lnTo>
                    </a:path>
                  </a:pathLst>
                </a:custGeom>
                <a:solidFill>
                  <a:srgbClr val="000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1126"/>
                <p:cNvSpPr/>
                <p:nvPr/>
              </p:nvSpPr>
              <p:spPr>
                <a:xfrm>
                  <a:off x="2116440" y="4276800"/>
                  <a:ext cx="137520" cy="3420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61" h="30">
                      <a:moveTo>
                        <a:pt x="53" y="0"/>
                      </a:moveTo>
                      <a:lnTo>
                        <a:pt x="39" y="3"/>
                      </a:lnTo>
                      <a:lnTo>
                        <a:pt x="21" y="4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1" y="9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3" y="17"/>
                      </a:lnTo>
                      <a:lnTo>
                        <a:pt x="10" y="11"/>
                      </a:lnTo>
                      <a:lnTo>
                        <a:pt x="14" y="17"/>
                      </a:lnTo>
                      <a:lnTo>
                        <a:pt x="20" y="23"/>
                      </a:lnTo>
                      <a:lnTo>
                        <a:pt x="35" y="29"/>
                      </a:lnTo>
                      <a:lnTo>
                        <a:pt x="46" y="29"/>
                      </a:lnTo>
                      <a:lnTo>
                        <a:pt x="31" y="23"/>
                      </a:lnTo>
                      <a:lnTo>
                        <a:pt x="22" y="15"/>
                      </a:lnTo>
                      <a:lnTo>
                        <a:pt x="34" y="21"/>
                      </a:lnTo>
                      <a:lnTo>
                        <a:pt x="45" y="25"/>
                      </a:lnTo>
                      <a:lnTo>
                        <a:pt x="60" y="29"/>
                      </a:lnTo>
                      <a:lnTo>
                        <a:pt x="59" y="11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1127"/>
                <p:cNvSpPr/>
                <p:nvPr/>
              </p:nvSpPr>
              <p:spPr>
                <a:xfrm>
                  <a:off x="2078280" y="4143240"/>
                  <a:ext cx="322560" cy="209160"/>
                </a:xfrm>
                <a:custGeom>
                  <a:avLst/>
                  <a:gdLst>
                    <a:gd name="textAreaLeft" fmla="*/ 0 w 322560"/>
                    <a:gd name="textAreaRight" fmla="*/ 322920 w 32256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143" h="182">
                      <a:moveTo>
                        <a:pt x="128" y="0"/>
                      </a:moveTo>
                      <a:lnTo>
                        <a:pt x="120" y="2"/>
                      </a:lnTo>
                      <a:lnTo>
                        <a:pt x="112" y="9"/>
                      </a:lnTo>
                      <a:lnTo>
                        <a:pt x="109" y="19"/>
                      </a:lnTo>
                      <a:lnTo>
                        <a:pt x="108" y="32"/>
                      </a:lnTo>
                      <a:lnTo>
                        <a:pt x="105" y="51"/>
                      </a:lnTo>
                      <a:lnTo>
                        <a:pt x="100" y="68"/>
                      </a:lnTo>
                      <a:lnTo>
                        <a:pt x="95" y="88"/>
                      </a:lnTo>
                      <a:lnTo>
                        <a:pt x="91" y="104"/>
                      </a:lnTo>
                      <a:lnTo>
                        <a:pt x="87" y="120"/>
                      </a:lnTo>
                      <a:lnTo>
                        <a:pt x="100" y="127"/>
                      </a:lnTo>
                      <a:lnTo>
                        <a:pt x="86" y="124"/>
                      </a:lnTo>
                      <a:lnTo>
                        <a:pt x="82" y="131"/>
                      </a:lnTo>
                      <a:lnTo>
                        <a:pt x="89" y="138"/>
                      </a:lnTo>
                      <a:lnTo>
                        <a:pt x="80" y="133"/>
                      </a:lnTo>
                      <a:lnTo>
                        <a:pt x="70" y="138"/>
                      </a:lnTo>
                      <a:lnTo>
                        <a:pt x="56" y="143"/>
                      </a:lnTo>
                      <a:lnTo>
                        <a:pt x="40" y="148"/>
                      </a:lnTo>
                      <a:lnTo>
                        <a:pt x="28" y="150"/>
                      </a:lnTo>
                      <a:lnTo>
                        <a:pt x="13" y="152"/>
                      </a:lnTo>
                      <a:lnTo>
                        <a:pt x="3" y="151"/>
                      </a:lnTo>
                      <a:lnTo>
                        <a:pt x="2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10" y="176"/>
                      </a:lnTo>
                      <a:lnTo>
                        <a:pt x="12" y="171"/>
                      </a:lnTo>
                      <a:lnTo>
                        <a:pt x="14" y="176"/>
                      </a:lnTo>
                      <a:lnTo>
                        <a:pt x="29" y="178"/>
                      </a:lnTo>
                      <a:lnTo>
                        <a:pt x="57" y="181"/>
                      </a:lnTo>
                      <a:lnTo>
                        <a:pt x="92" y="172"/>
                      </a:lnTo>
                      <a:lnTo>
                        <a:pt x="100" y="169"/>
                      </a:lnTo>
                      <a:lnTo>
                        <a:pt x="111" y="145"/>
                      </a:lnTo>
                      <a:lnTo>
                        <a:pt x="126" y="103"/>
                      </a:lnTo>
                      <a:lnTo>
                        <a:pt x="137" y="56"/>
                      </a:lnTo>
                      <a:lnTo>
                        <a:pt x="142" y="38"/>
                      </a:lnTo>
                      <a:lnTo>
                        <a:pt x="140" y="19"/>
                      </a:lnTo>
                      <a:lnTo>
                        <a:pt x="135" y="6"/>
                      </a:lnTo>
                      <a:lnTo>
                        <a:pt x="128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1128"/>
                <p:cNvSpPr/>
                <p:nvPr/>
              </p:nvSpPr>
              <p:spPr>
                <a:xfrm>
                  <a:off x="2240280" y="4137480"/>
                  <a:ext cx="119520" cy="15768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53" h="137">
                      <a:moveTo>
                        <a:pt x="45" y="0"/>
                      </a:moveTo>
                      <a:lnTo>
                        <a:pt x="52" y="7"/>
                      </a:lnTo>
                      <a:lnTo>
                        <a:pt x="48" y="10"/>
                      </a:lnTo>
                      <a:lnTo>
                        <a:pt x="44" y="19"/>
                      </a:lnTo>
                      <a:lnTo>
                        <a:pt x="37" y="26"/>
                      </a:lnTo>
                      <a:lnTo>
                        <a:pt x="32" y="50"/>
                      </a:lnTo>
                      <a:lnTo>
                        <a:pt x="28" y="64"/>
                      </a:lnTo>
                      <a:lnTo>
                        <a:pt x="22" y="75"/>
                      </a:lnTo>
                      <a:lnTo>
                        <a:pt x="17" y="85"/>
                      </a:lnTo>
                      <a:lnTo>
                        <a:pt x="24" y="77"/>
                      </a:lnTo>
                      <a:lnTo>
                        <a:pt x="29" y="65"/>
                      </a:lnTo>
                      <a:lnTo>
                        <a:pt x="24" y="84"/>
                      </a:lnTo>
                      <a:lnTo>
                        <a:pt x="20" y="100"/>
                      </a:lnTo>
                      <a:lnTo>
                        <a:pt x="16" y="116"/>
                      </a:lnTo>
                      <a:lnTo>
                        <a:pt x="14" y="124"/>
                      </a:lnTo>
                      <a:lnTo>
                        <a:pt x="11" y="129"/>
                      </a:lnTo>
                      <a:lnTo>
                        <a:pt x="8" y="134"/>
                      </a:lnTo>
                      <a:lnTo>
                        <a:pt x="3" y="136"/>
                      </a:lnTo>
                      <a:lnTo>
                        <a:pt x="2" y="128"/>
                      </a:lnTo>
                      <a:lnTo>
                        <a:pt x="2" y="118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2" y="87"/>
                      </a:lnTo>
                      <a:lnTo>
                        <a:pt x="6" y="78"/>
                      </a:lnTo>
                      <a:lnTo>
                        <a:pt x="10" y="72"/>
                      </a:lnTo>
                      <a:lnTo>
                        <a:pt x="16" y="65"/>
                      </a:lnTo>
                      <a:lnTo>
                        <a:pt x="22" y="54"/>
                      </a:lnTo>
                      <a:lnTo>
                        <a:pt x="28" y="40"/>
                      </a:lnTo>
                      <a:lnTo>
                        <a:pt x="23" y="47"/>
                      </a:lnTo>
                      <a:lnTo>
                        <a:pt x="18" y="57"/>
                      </a:lnTo>
                      <a:lnTo>
                        <a:pt x="12" y="68"/>
                      </a:lnTo>
                      <a:lnTo>
                        <a:pt x="18" y="53"/>
                      </a:lnTo>
                      <a:lnTo>
                        <a:pt x="24" y="34"/>
                      </a:lnTo>
                      <a:lnTo>
                        <a:pt x="31" y="14"/>
                      </a:lnTo>
                      <a:lnTo>
                        <a:pt x="35" y="8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1129"/>
                <p:cNvSpPr/>
                <p:nvPr/>
              </p:nvSpPr>
              <p:spPr>
                <a:xfrm>
                  <a:off x="1967400" y="4121280"/>
                  <a:ext cx="485280" cy="421200"/>
                </a:xfrm>
                <a:custGeom>
                  <a:avLst/>
                  <a:gdLst>
                    <a:gd name="textAreaLeft" fmla="*/ 0 w 485280"/>
                    <a:gd name="textAreaRight" fmla="*/ 485640 w 485280"/>
                    <a:gd name="textAreaTop" fmla="*/ 0 h 421200"/>
                    <a:gd name="textAreaBottom" fmla="*/ 421560 h 421200"/>
                  </a:gdLst>
                  <a:ahLst/>
                  <a:rect l="textAreaLeft" t="textAreaTop" r="textAreaRight" b="textAreaBottom"/>
                  <a:pathLst>
                    <a:path w="215" h="366">
                      <a:moveTo>
                        <a:pt x="168" y="8"/>
                      </a:moveTo>
                      <a:lnTo>
                        <a:pt x="174" y="16"/>
                      </a:lnTo>
                      <a:lnTo>
                        <a:pt x="181" y="20"/>
                      </a:lnTo>
                      <a:lnTo>
                        <a:pt x="189" y="32"/>
                      </a:lnTo>
                      <a:lnTo>
                        <a:pt x="190" y="41"/>
                      </a:lnTo>
                      <a:lnTo>
                        <a:pt x="190" y="52"/>
                      </a:lnTo>
                      <a:lnTo>
                        <a:pt x="190" y="62"/>
                      </a:lnTo>
                      <a:lnTo>
                        <a:pt x="192" y="79"/>
                      </a:lnTo>
                      <a:lnTo>
                        <a:pt x="194" y="96"/>
                      </a:lnTo>
                      <a:lnTo>
                        <a:pt x="195" y="115"/>
                      </a:lnTo>
                      <a:lnTo>
                        <a:pt x="192" y="95"/>
                      </a:lnTo>
                      <a:lnTo>
                        <a:pt x="191" y="81"/>
                      </a:lnTo>
                      <a:lnTo>
                        <a:pt x="189" y="72"/>
                      </a:lnTo>
                      <a:lnTo>
                        <a:pt x="186" y="88"/>
                      </a:lnTo>
                      <a:lnTo>
                        <a:pt x="182" y="105"/>
                      </a:lnTo>
                      <a:lnTo>
                        <a:pt x="180" y="115"/>
                      </a:lnTo>
                      <a:lnTo>
                        <a:pt x="181" y="132"/>
                      </a:lnTo>
                      <a:lnTo>
                        <a:pt x="181" y="152"/>
                      </a:lnTo>
                      <a:lnTo>
                        <a:pt x="181" y="170"/>
                      </a:lnTo>
                      <a:lnTo>
                        <a:pt x="180" y="149"/>
                      </a:lnTo>
                      <a:lnTo>
                        <a:pt x="179" y="135"/>
                      </a:lnTo>
                      <a:lnTo>
                        <a:pt x="178" y="123"/>
                      </a:lnTo>
                      <a:lnTo>
                        <a:pt x="169" y="152"/>
                      </a:lnTo>
                      <a:lnTo>
                        <a:pt x="161" y="170"/>
                      </a:lnTo>
                      <a:lnTo>
                        <a:pt x="158" y="177"/>
                      </a:lnTo>
                      <a:lnTo>
                        <a:pt x="153" y="189"/>
                      </a:lnTo>
                      <a:lnTo>
                        <a:pt x="135" y="196"/>
                      </a:lnTo>
                      <a:lnTo>
                        <a:pt x="126" y="198"/>
                      </a:lnTo>
                      <a:lnTo>
                        <a:pt x="129" y="204"/>
                      </a:lnTo>
                      <a:lnTo>
                        <a:pt x="134" y="210"/>
                      </a:lnTo>
                      <a:lnTo>
                        <a:pt x="153" y="225"/>
                      </a:lnTo>
                      <a:lnTo>
                        <a:pt x="137" y="217"/>
                      </a:lnTo>
                      <a:lnTo>
                        <a:pt x="128" y="208"/>
                      </a:lnTo>
                      <a:lnTo>
                        <a:pt x="120" y="199"/>
                      </a:lnTo>
                      <a:lnTo>
                        <a:pt x="121" y="218"/>
                      </a:lnTo>
                      <a:lnTo>
                        <a:pt x="124" y="227"/>
                      </a:lnTo>
                      <a:lnTo>
                        <a:pt x="133" y="234"/>
                      </a:lnTo>
                      <a:lnTo>
                        <a:pt x="123" y="234"/>
                      </a:lnTo>
                      <a:lnTo>
                        <a:pt x="123" y="240"/>
                      </a:lnTo>
                      <a:lnTo>
                        <a:pt x="124" y="247"/>
                      </a:lnTo>
                      <a:lnTo>
                        <a:pt x="128" y="252"/>
                      </a:lnTo>
                      <a:lnTo>
                        <a:pt x="143" y="262"/>
                      </a:lnTo>
                      <a:lnTo>
                        <a:pt x="123" y="253"/>
                      </a:lnTo>
                      <a:lnTo>
                        <a:pt x="118" y="251"/>
                      </a:lnTo>
                      <a:lnTo>
                        <a:pt x="114" y="253"/>
                      </a:lnTo>
                      <a:lnTo>
                        <a:pt x="115" y="258"/>
                      </a:lnTo>
                      <a:lnTo>
                        <a:pt x="119" y="264"/>
                      </a:lnTo>
                      <a:lnTo>
                        <a:pt x="131" y="272"/>
                      </a:lnTo>
                      <a:lnTo>
                        <a:pt x="114" y="264"/>
                      </a:lnTo>
                      <a:lnTo>
                        <a:pt x="110" y="256"/>
                      </a:lnTo>
                      <a:lnTo>
                        <a:pt x="105" y="257"/>
                      </a:lnTo>
                      <a:lnTo>
                        <a:pt x="101" y="260"/>
                      </a:lnTo>
                      <a:lnTo>
                        <a:pt x="102" y="265"/>
                      </a:lnTo>
                      <a:lnTo>
                        <a:pt x="106" y="270"/>
                      </a:lnTo>
                      <a:lnTo>
                        <a:pt x="115" y="278"/>
                      </a:lnTo>
                      <a:lnTo>
                        <a:pt x="102" y="272"/>
                      </a:lnTo>
                      <a:lnTo>
                        <a:pt x="96" y="264"/>
                      </a:lnTo>
                      <a:lnTo>
                        <a:pt x="87" y="267"/>
                      </a:lnTo>
                      <a:lnTo>
                        <a:pt x="60" y="280"/>
                      </a:lnTo>
                      <a:lnTo>
                        <a:pt x="38" y="292"/>
                      </a:lnTo>
                      <a:lnTo>
                        <a:pt x="21" y="302"/>
                      </a:lnTo>
                      <a:lnTo>
                        <a:pt x="15" y="314"/>
                      </a:lnTo>
                      <a:lnTo>
                        <a:pt x="8" y="332"/>
                      </a:lnTo>
                      <a:lnTo>
                        <a:pt x="0" y="365"/>
                      </a:lnTo>
                      <a:lnTo>
                        <a:pt x="78" y="365"/>
                      </a:lnTo>
                      <a:lnTo>
                        <a:pt x="84" y="363"/>
                      </a:lnTo>
                      <a:lnTo>
                        <a:pt x="64" y="357"/>
                      </a:lnTo>
                      <a:lnTo>
                        <a:pt x="33" y="340"/>
                      </a:lnTo>
                      <a:lnTo>
                        <a:pt x="70" y="356"/>
                      </a:lnTo>
                      <a:lnTo>
                        <a:pt x="86" y="361"/>
                      </a:lnTo>
                      <a:lnTo>
                        <a:pt x="99" y="357"/>
                      </a:lnTo>
                      <a:lnTo>
                        <a:pt x="80" y="353"/>
                      </a:lnTo>
                      <a:lnTo>
                        <a:pt x="41" y="335"/>
                      </a:lnTo>
                      <a:lnTo>
                        <a:pt x="83" y="351"/>
                      </a:lnTo>
                      <a:lnTo>
                        <a:pt x="102" y="356"/>
                      </a:lnTo>
                      <a:lnTo>
                        <a:pt x="104" y="354"/>
                      </a:lnTo>
                      <a:lnTo>
                        <a:pt x="88" y="346"/>
                      </a:lnTo>
                      <a:lnTo>
                        <a:pt x="59" y="327"/>
                      </a:lnTo>
                      <a:lnTo>
                        <a:pt x="92" y="346"/>
                      </a:lnTo>
                      <a:lnTo>
                        <a:pt x="110" y="353"/>
                      </a:lnTo>
                      <a:lnTo>
                        <a:pt x="183" y="352"/>
                      </a:lnTo>
                      <a:lnTo>
                        <a:pt x="192" y="349"/>
                      </a:lnTo>
                      <a:lnTo>
                        <a:pt x="201" y="345"/>
                      </a:lnTo>
                      <a:lnTo>
                        <a:pt x="209" y="334"/>
                      </a:lnTo>
                      <a:lnTo>
                        <a:pt x="211" y="321"/>
                      </a:lnTo>
                      <a:lnTo>
                        <a:pt x="212" y="311"/>
                      </a:lnTo>
                      <a:lnTo>
                        <a:pt x="210" y="294"/>
                      </a:lnTo>
                      <a:lnTo>
                        <a:pt x="205" y="273"/>
                      </a:lnTo>
                      <a:lnTo>
                        <a:pt x="200" y="257"/>
                      </a:lnTo>
                      <a:lnTo>
                        <a:pt x="198" y="242"/>
                      </a:lnTo>
                      <a:lnTo>
                        <a:pt x="192" y="240"/>
                      </a:lnTo>
                      <a:lnTo>
                        <a:pt x="187" y="250"/>
                      </a:lnTo>
                      <a:lnTo>
                        <a:pt x="170" y="267"/>
                      </a:lnTo>
                      <a:lnTo>
                        <a:pt x="185" y="249"/>
                      </a:lnTo>
                      <a:lnTo>
                        <a:pt x="189" y="239"/>
                      </a:lnTo>
                      <a:lnTo>
                        <a:pt x="187" y="227"/>
                      </a:lnTo>
                      <a:lnTo>
                        <a:pt x="168" y="220"/>
                      </a:lnTo>
                      <a:lnTo>
                        <a:pt x="155" y="210"/>
                      </a:lnTo>
                      <a:lnTo>
                        <a:pt x="171" y="219"/>
                      </a:lnTo>
                      <a:lnTo>
                        <a:pt x="187" y="224"/>
                      </a:lnTo>
                      <a:lnTo>
                        <a:pt x="186" y="208"/>
                      </a:lnTo>
                      <a:lnTo>
                        <a:pt x="179" y="198"/>
                      </a:lnTo>
                      <a:lnTo>
                        <a:pt x="174" y="181"/>
                      </a:lnTo>
                      <a:lnTo>
                        <a:pt x="181" y="196"/>
                      </a:lnTo>
                      <a:lnTo>
                        <a:pt x="189" y="206"/>
                      </a:lnTo>
                      <a:lnTo>
                        <a:pt x="196" y="205"/>
                      </a:lnTo>
                      <a:lnTo>
                        <a:pt x="200" y="177"/>
                      </a:lnTo>
                      <a:lnTo>
                        <a:pt x="206" y="148"/>
                      </a:lnTo>
                      <a:lnTo>
                        <a:pt x="210" y="129"/>
                      </a:lnTo>
                      <a:lnTo>
                        <a:pt x="209" y="111"/>
                      </a:lnTo>
                      <a:lnTo>
                        <a:pt x="207" y="90"/>
                      </a:lnTo>
                      <a:lnTo>
                        <a:pt x="210" y="101"/>
                      </a:lnTo>
                      <a:lnTo>
                        <a:pt x="211" y="115"/>
                      </a:lnTo>
                      <a:lnTo>
                        <a:pt x="211" y="125"/>
                      </a:lnTo>
                      <a:lnTo>
                        <a:pt x="213" y="107"/>
                      </a:lnTo>
                      <a:lnTo>
                        <a:pt x="214" y="93"/>
                      </a:lnTo>
                      <a:lnTo>
                        <a:pt x="214" y="83"/>
                      </a:lnTo>
                      <a:lnTo>
                        <a:pt x="211" y="69"/>
                      </a:lnTo>
                      <a:lnTo>
                        <a:pt x="206" y="56"/>
                      </a:lnTo>
                      <a:lnTo>
                        <a:pt x="200" y="43"/>
                      </a:lnTo>
                      <a:lnTo>
                        <a:pt x="207" y="53"/>
                      </a:lnTo>
                      <a:lnTo>
                        <a:pt x="210" y="62"/>
                      </a:lnTo>
                      <a:lnTo>
                        <a:pt x="214" y="79"/>
                      </a:lnTo>
                      <a:lnTo>
                        <a:pt x="213" y="67"/>
                      </a:lnTo>
                      <a:lnTo>
                        <a:pt x="211" y="52"/>
                      </a:lnTo>
                      <a:lnTo>
                        <a:pt x="206" y="35"/>
                      </a:lnTo>
                      <a:lnTo>
                        <a:pt x="201" y="18"/>
                      </a:lnTo>
                      <a:lnTo>
                        <a:pt x="195" y="10"/>
                      </a:lnTo>
                      <a:lnTo>
                        <a:pt x="186" y="0"/>
                      </a:lnTo>
                      <a:lnTo>
                        <a:pt x="177" y="2"/>
                      </a:lnTo>
                      <a:lnTo>
                        <a:pt x="168" y="8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1130"/>
                <p:cNvSpPr/>
                <p:nvPr/>
              </p:nvSpPr>
              <p:spPr>
                <a:xfrm>
                  <a:off x="2398680" y="436212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7" h="29">
                      <a:moveTo>
                        <a:pt x="12" y="0"/>
                      </a:move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25"/>
                      </a:lnTo>
                      <a:lnTo>
                        <a:pt x="14" y="28"/>
                      </a:lnTo>
                      <a:lnTo>
                        <a:pt x="16" y="23"/>
                      </a:lnTo>
                      <a:lnTo>
                        <a:pt x="16" y="7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1131"/>
                <p:cNvSpPr/>
                <p:nvPr/>
              </p:nvSpPr>
              <p:spPr>
                <a:xfrm>
                  <a:off x="2158920" y="4480560"/>
                  <a:ext cx="228240" cy="2052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1" h="18">
                      <a:moveTo>
                        <a:pt x="0" y="0"/>
                      </a:moveTo>
                      <a:lnTo>
                        <a:pt x="27" y="8"/>
                      </a:lnTo>
                      <a:lnTo>
                        <a:pt x="48" y="12"/>
                      </a:lnTo>
                      <a:lnTo>
                        <a:pt x="69" y="14"/>
                      </a:lnTo>
                      <a:lnTo>
                        <a:pt x="85" y="15"/>
                      </a:lnTo>
                      <a:lnTo>
                        <a:pt x="100" y="14"/>
                      </a:lnTo>
                      <a:lnTo>
                        <a:pt x="85" y="17"/>
                      </a:lnTo>
                      <a:lnTo>
                        <a:pt x="61" y="17"/>
                      </a:lnTo>
                      <a:lnTo>
                        <a:pt x="35" y="13"/>
                      </a:lnTo>
                      <a:lnTo>
                        <a:pt x="2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132"/>
                <p:cNvSpPr/>
                <p:nvPr/>
              </p:nvSpPr>
              <p:spPr>
                <a:xfrm>
                  <a:off x="2229120" y="3962520"/>
                  <a:ext cx="203040" cy="20232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90" h="176">
                      <a:moveTo>
                        <a:pt x="40" y="68"/>
                      </a:moveTo>
                      <a:lnTo>
                        <a:pt x="43" y="60"/>
                      </a:lnTo>
                      <a:lnTo>
                        <a:pt x="47" y="59"/>
                      </a:lnTo>
                      <a:lnTo>
                        <a:pt x="50" y="61"/>
                      </a:lnTo>
                      <a:lnTo>
                        <a:pt x="52" y="66"/>
                      </a:lnTo>
                      <a:lnTo>
                        <a:pt x="52" y="71"/>
                      </a:lnTo>
                      <a:lnTo>
                        <a:pt x="51" y="81"/>
                      </a:lnTo>
                      <a:lnTo>
                        <a:pt x="49" y="87"/>
                      </a:lnTo>
                      <a:lnTo>
                        <a:pt x="49" y="93"/>
                      </a:lnTo>
                      <a:lnTo>
                        <a:pt x="47" y="102"/>
                      </a:lnTo>
                      <a:lnTo>
                        <a:pt x="45" y="111"/>
                      </a:lnTo>
                      <a:lnTo>
                        <a:pt x="40" y="124"/>
                      </a:lnTo>
                      <a:lnTo>
                        <a:pt x="36" y="136"/>
                      </a:lnTo>
                      <a:lnTo>
                        <a:pt x="31" y="152"/>
                      </a:lnTo>
                      <a:lnTo>
                        <a:pt x="28" y="164"/>
                      </a:lnTo>
                      <a:lnTo>
                        <a:pt x="28" y="175"/>
                      </a:lnTo>
                      <a:lnTo>
                        <a:pt x="39" y="159"/>
                      </a:lnTo>
                      <a:lnTo>
                        <a:pt x="50" y="149"/>
                      </a:lnTo>
                      <a:lnTo>
                        <a:pt x="56" y="144"/>
                      </a:lnTo>
                      <a:lnTo>
                        <a:pt x="63" y="140"/>
                      </a:lnTo>
                      <a:lnTo>
                        <a:pt x="72" y="141"/>
                      </a:lnTo>
                      <a:lnTo>
                        <a:pt x="80" y="148"/>
                      </a:lnTo>
                      <a:lnTo>
                        <a:pt x="88" y="161"/>
                      </a:lnTo>
                      <a:lnTo>
                        <a:pt x="89" y="150"/>
                      </a:lnTo>
                      <a:lnTo>
                        <a:pt x="85" y="137"/>
                      </a:lnTo>
                      <a:lnTo>
                        <a:pt x="79" y="122"/>
                      </a:lnTo>
                      <a:lnTo>
                        <a:pt x="76" y="111"/>
                      </a:lnTo>
                      <a:lnTo>
                        <a:pt x="76" y="100"/>
                      </a:lnTo>
                      <a:lnTo>
                        <a:pt x="78" y="91"/>
                      </a:lnTo>
                      <a:lnTo>
                        <a:pt x="81" y="85"/>
                      </a:lnTo>
                      <a:lnTo>
                        <a:pt x="83" y="74"/>
                      </a:lnTo>
                      <a:lnTo>
                        <a:pt x="84" y="66"/>
                      </a:lnTo>
                      <a:lnTo>
                        <a:pt x="86" y="57"/>
                      </a:lnTo>
                      <a:lnTo>
                        <a:pt x="86" y="46"/>
                      </a:lnTo>
                      <a:lnTo>
                        <a:pt x="85" y="38"/>
                      </a:lnTo>
                      <a:lnTo>
                        <a:pt x="82" y="30"/>
                      </a:lnTo>
                      <a:lnTo>
                        <a:pt x="79" y="21"/>
                      </a:lnTo>
                      <a:lnTo>
                        <a:pt x="74" y="12"/>
                      </a:lnTo>
                      <a:lnTo>
                        <a:pt x="69" y="7"/>
                      </a:lnTo>
                      <a:lnTo>
                        <a:pt x="60" y="3"/>
                      </a:lnTo>
                      <a:lnTo>
                        <a:pt x="51" y="0"/>
                      </a:lnTo>
                      <a:lnTo>
                        <a:pt x="36" y="0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3" y="9"/>
                      </a:lnTo>
                      <a:lnTo>
                        <a:pt x="9" y="14"/>
                      </a:lnTo>
                      <a:lnTo>
                        <a:pt x="3" y="22"/>
                      </a:lnTo>
                      <a:lnTo>
                        <a:pt x="1" y="33"/>
                      </a:lnTo>
                      <a:lnTo>
                        <a:pt x="0" y="42"/>
                      </a:lnTo>
                      <a:lnTo>
                        <a:pt x="2" y="50"/>
                      </a:lnTo>
                      <a:lnTo>
                        <a:pt x="8" y="42"/>
                      </a:lnTo>
                      <a:lnTo>
                        <a:pt x="15" y="38"/>
                      </a:lnTo>
                      <a:lnTo>
                        <a:pt x="25" y="36"/>
                      </a:lnTo>
                      <a:lnTo>
                        <a:pt x="23" y="50"/>
                      </a:lnTo>
                      <a:lnTo>
                        <a:pt x="34" y="45"/>
                      </a:lnTo>
                      <a:lnTo>
                        <a:pt x="31" y="57"/>
                      </a:lnTo>
                      <a:lnTo>
                        <a:pt x="39" y="56"/>
                      </a:lnTo>
                      <a:lnTo>
                        <a:pt x="40" y="6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9" name="Group 1133"/>
                <p:cNvGrpSpPr/>
                <p:nvPr/>
              </p:nvGrpSpPr>
              <p:grpSpPr>
                <a:xfrm>
                  <a:off x="2351160" y="4282560"/>
                  <a:ext cx="162360" cy="212760"/>
                  <a:chOff x="2351160" y="4282560"/>
                  <a:chExt cx="162360" cy="212760"/>
                </a:xfrm>
              </p:grpSpPr>
              <p:sp>
                <p:nvSpPr>
                  <p:cNvPr id="1140" name="Freeform 1134"/>
                  <p:cNvSpPr/>
                  <p:nvPr/>
                </p:nvSpPr>
                <p:spPr>
                  <a:xfrm>
                    <a:off x="2351160" y="4282560"/>
                    <a:ext cx="162360" cy="212760"/>
                  </a:xfrm>
                  <a:custGeom>
                    <a:avLst/>
                    <a:gdLst>
                      <a:gd name="textAreaLeft" fmla="*/ 0 w 162360"/>
                      <a:gd name="textAreaRight" fmla="*/ 162720 w 1623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72" h="185">
                        <a:moveTo>
                          <a:pt x="31" y="27"/>
                        </a:moveTo>
                        <a:lnTo>
                          <a:pt x="44" y="25"/>
                        </a:lnTo>
                        <a:lnTo>
                          <a:pt x="52" y="21"/>
                        </a:lnTo>
                        <a:lnTo>
                          <a:pt x="55" y="14"/>
                        </a:lnTo>
                        <a:lnTo>
                          <a:pt x="55" y="8"/>
                        </a:lnTo>
                        <a:lnTo>
                          <a:pt x="57" y="3"/>
                        </a:lnTo>
                        <a:lnTo>
                          <a:pt x="64" y="0"/>
                        </a:lnTo>
                        <a:lnTo>
                          <a:pt x="71" y="1"/>
                        </a:lnTo>
                        <a:lnTo>
                          <a:pt x="63" y="143"/>
                        </a:lnTo>
                        <a:lnTo>
                          <a:pt x="57" y="156"/>
                        </a:lnTo>
                        <a:lnTo>
                          <a:pt x="50" y="169"/>
                        </a:lnTo>
                        <a:lnTo>
                          <a:pt x="39" y="179"/>
                        </a:lnTo>
                        <a:lnTo>
                          <a:pt x="28" y="182"/>
                        </a:lnTo>
                        <a:lnTo>
                          <a:pt x="11" y="184"/>
                        </a:lnTo>
                        <a:lnTo>
                          <a:pt x="2" y="181"/>
                        </a:lnTo>
                        <a:lnTo>
                          <a:pt x="0" y="171"/>
                        </a:lnTo>
                        <a:lnTo>
                          <a:pt x="1" y="158"/>
                        </a:lnTo>
                        <a:lnTo>
                          <a:pt x="8" y="119"/>
                        </a:lnTo>
                        <a:lnTo>
                          <a:pt x="13" y="78"/>
                        </a:lnTo>
                        <a:lnTo>
                          <a:pt x="16" y="49"/>
                        </a:lnTo>
                        <a:lnTo>
                          <a:pt x="16" y="41"/>
                        </a:lnTo>
                        <a:lnTo>
                          <a:pt x="20" y="30"/>
                        </a:lnTo>
                        <a:lnTo>
                          <a:pt x="24" y="27"/>
                        </a:lnTo>
                        <a:lnTo>
                          <a:pt x="31" y="27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Freeform 1135"/>
                  <p:cNvSpPr/>
                  <p:nvPr/>
                </p:nvSpPr>
                <p:spPr>
                  <a:xfrm>
                    <a:off x="2376000" y="4287240"/>
                    <a:ext cx="132840" cy="196560"/>
                  </a:xfrm>
                  <a:custGeom>
                    <a:avLst/>
                    <a:gdLst>
                      <a:gd name="textAreaLeft" fmla="*/ 0 w 132840"/>
                      <a:gd name="textAreaRight" fmla="*/ 133200 w 1328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59" h="171">
                        <a:moveTo>
                          <a:pt x="20" y="34"/>
                        </a:moveTo>
                        <a:lnTo>
                          <a:pt x="31" y="33"/>
                        </a:lnTo>
                        <a:lnTo>
                          <a:pt x="42" y="29"/>
                        </a:lnTo>
                        <a:lnTo>
                          <a:pt x="49" y="22"/>
                        </a:lnTo>
                        <a:lnTo>
                          <a:pt x="53" y="16"/>
                        </a:lnTo>
                        <a:lnTo>
                          <a:pt x="58" y="0"/>
                        </a:lnTo>
                        <a:lnTo>
                          <a:pt x="51" y="131"/>
                        </a:lnTo>
                        <a:lnTo>
                          <a:pt x="46" y="143"/>
                        </a:lnTo>
                        <a:lnTo>
                          <a:pt x="40" y="154"/>
                        </a:lnTo>
                        <a:lnTo>
                          <a:pt x="34" y="162"/>
                        </a:lnTo>
                        <a:lnTo>
                          <a:pt x="27" y="166"/>
                        </a:lnTo>
                        <a:lnTo>
                          <a:pt x="20" y="168"/>
                        </a:lnTo>
                        <a:lnTo>
                          <a:pt x="13" y="170"/>
                        </a:lnTo>
                        <a:lnTo>
                          <a:pt x="5" y="170"/>
                        </a:lnTo>
                        <a:lnTo>
                          <a:pt x="2" y="168"/>
                        </a:lnTo>
                        <a:lnTo>
                          <a:pt x="0" y="162"/>
                        </a:lnTo>
                        <a:lnTo>
                          <a:pt x="1" y="152"/>
                        </a:lnTo>
                        <a:lnTo>
                          <a:pt x="6" y="129"/>
                        </a:lnTo>
                        <a:lnTo>
                          <a:pt x="14" y="51"/>
                        </a:lnTo>
                        <a:lnTo>
                          <a:pt x="16" y="40"/>
                        </a:lnTo>
                        <a:lnTo>
                          <a:pt x="20" y="34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2" name="Group 1136"/>
              <p:cNvGrpSpPr/>
              <p:nvPr/>
            </p:nvGrpSpPr>
            <p:grpSpPr>
              <a:xfrm>
                <a:off x="1820520" y="4438080"/>
                <a:ext cx="583920" cy="361800"/>
                <a:chOff x="1820520" y="4438080"/>
                <a:chExt cx="583920" cy="361800"/>
              </a:xfrm>
            </p:grpSpPr>
            <p:grpSp>
              <p:nvGrpSpPr>
                <p:cNvPr id="1143" name="Group 1137"/>
                <p:cNvGrpSpPr/>
                <p:nvPr/>
              </p:nvGrpSpPr>
              <p:grpSpPr>
                <a:xfrm>
                  <a:off x="1820520" y="4438080"/>
                  <a:ext cx="583920" cy="279000"/>
                  <a:chOff x="1820520" y="4438080"/>
                  <a:chExt cx="583920" cy="279000"/>
                </a:xfrm>
              </p:grpSpPr>
              <p:sp>
                <p:nvSpPr>
                  <p:cNvPr id="1144" name="Freeform 1138"/>
                  <p:cNvSpPr/>
                  <p:nvPr/>
                </p:nvSpPr>
                <p:spPr>
                  <a:xfrm>
                    <a:off x="1849680" y="4618440"/>
                    <a:ext cx="383760" cy="9864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98640"/>
                      <a:gd name="textAreaBottom" fmla="*/ 99000 h 98640"/>
                    </a:gdLst>
                    <a:ahLst/>
                    <a:rect l="textAreaLeft" t="textAreaTop" r="textAreaRight" b="textAreaBottom"/>
                    <a:pathLst>
                      <a:path w="170" h="86">
                        <a:moveTo>
                          <a:pt x="169" y="44"/>
                        </a:moveTo>
                        <a:lnTo>
                          <a:pt x="165" y="85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69" y="4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Freeform 1139"/>
                  <p:cNvSpPr/>
                  <p:nvPr/>
                </p:nvSpPr>
                <p:spPr>
                  <a:xfrm>
                    <a:off x="1847520" y="4471200"/>
                    <a:ext cx="76680" cy="38880"/>
                  </a:xfrm>
                  <a:custGeom>
                    <a:avLst/>
                    <a:gdLst>
                      <a:gd name="textAreaLeft" fmla="*/ 0 w 76680"/>
                      <a:gd name="textAreaRight" fmla="*/ 77040 w 766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0" y="1"/>
                        </a:moveTo>
                        <a:lnTo>
                          <a:pt x="0" y="21"/>
                        </a:lnTo>
                        <a:lnTo>
                          <a:pt x="33" y="33"/>
                        </a:lnTo>
                        <a:lnTo>
                          <a:pt x="3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Freeform 1140"/>
                  <p:cNvSpPr/>
                  <p:nvPr/>
                </p:nvSpPr>
                <p:spPr>
                  <a:xfrm>
                    <a:off x="1879200" y="4480560"/>
                    <a:ext cx="38160" cy="15408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17" h="134">
                        <a:moveTo>
                          <a:pt x="16" y="0"/>
                        </a:moveTo>
                        <a:lnTo>
                          <a:pt x="10" y="1"/>
                        </a:lnTo>
                        <a:lnTo>
                          <a:pt x="0" y="70"/>
                        </a:lnTo>
                        <a:lnTo>
                          <a:pt x="0" y="133"/>
                        </a:lnTo>
                        <a:lnTo>
                          <a:pt x="10" y="129"/>
                        </a:lnTo>
                        <a:lnTo>
                          <a:pt x="14" y="5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1141"/>
                  <p:cNvSpPr/>
                  <p:nvPr/>
                </p:nvSpPr>
                <p:spPr>
                  <a:xfrm>
                    <a:off x="1840680" y="4476600"/>
                    <a:ext cx="58320" cy="1944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26" h="17">
                        <a:moveTo>
                          <a:pt x="22" y="16"/>
                        </a:moveTo>
                        <a:lnTo>
                          <a:pt x="25" y="12"/>
                        </a:lnTo>
                        <a:lnTo>
                          <a:pt x="3" y="0"/>
                        </a:lnTo>
                        <a:lnTo>
                          <a:pt x="0" y="6"/>
                        </a:lnTo>
                        <a:lnTo>
                          <a:pt x="22" y="16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Freeform 1142"/>
                  <p:cNvSpPr/>
                  <p:nvPr/>
                </p:nvSpPr>
                <p:spPr>
                  <a:xfrm>
                    <a:off x="1820520" y="4478040"/>
                    <a:ext cx="74160" cy="15624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33" h="136">
                        <a:moveTo>
                          <a:pt x="32" y="5"/>
                        </a:moveTo>
                        <a:lnTo>
                          <a:pt x="32" y="6"/>
                        </a:lnTo>
                        <a:lnTo>
                          <a:pt x="32" y="8"/>
                        </a:lnTo>
                        <a:lnTo>
                          <a:pt x="26" y="72"/>
                        </a:lnTo>
                        <a:lnTo>
                          <a:pt x="26" y="135"/>
                        </a:lnTo>
                        <a:lnTo>
                          <a:pt x="0" y="126"/>
                        </a:lnTo>
                        <a:lnTo>
                          <a:pt x="0" y="69"/>
                        </a:lnTo>
                        <a:lnTo>
                          <a:pt x="8" y="4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31" y="4"/>
                        </a:lnTo>
                        <a:lnTo>
                          <a:pt x="32" y="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Freeform 1143"/>
                  <p:cNvSpPr/>
                  <p:nvPr/>
                </p:nvSpPr>
                <p:spPr>
                  <a:xfrm>
                    <a:off x="2219400" y="4566600"/>
                    <a:ext cx="169200" cy="150480"/>
                  </a:xfrm>
                  <a:custGeom>
                    <a:avLst/>
                    <a:gdLst>
                      <a:gd name="textAreaLeft" fmla="*/ 0 w 169200"/>
                      <a:gd name="textAreaRight" fmla="*/ 169560 w 169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75" h="131">
                        <a:moveTo>
                          <a:pt x="0" y="130"/>
                        </a:moveTo>
                        <a:lnTo>
                          <a:pt x="3" y="98"/>
                        </a:lnTo>
                        <a:lnTo>
                          <a:pt x="74" y="0"/>
                        </a:lnTo>
                        <a:lnTo>
                          <a:pt x="70" y="29"/>
                        </a:lnTo>
                        <a:lnTo>
                          <a:pt x="0" y="13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Freeform 1144"/>
                  <p:cNvSpPr/>
                  <p:nvPr/>
                </p:nvSpPr>
                <p:spPr>
                  <a:xfrm>
                    <a:off x="1887840" y="4439880"/>
                    <a:ext cx="510120" cy="79560"/>
                  </a:xfrm>
                  <a:custGeom>
                    <a:avLst/>
                    <a:gdLst>
                      <a:gd name="textAreaLeft" fmla="*/ 0 w 510120"/>
                      <a:gd name="textAreaRight" fmla="*/ 510480 w 51012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26" h="69">
                        <a:moveTo>
                          <a:pt x="156" y="68"/>
                        </a:moveTo>
                        <a:lnTo>
                          <a:pt x="225" y="18"/>
                        </a:lnTo>
                        <a:lnTo>
                          <a:pt x="66" y="0"/>
                        </a:lnTo>
                        <a:lnTo>
                          <a:pt x="0" y="32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7" y="36"/>
                        </a:lnTo>
                        <a:lnTo>
                          <a:pt x="1" y="40"/>
                        </a:lnTo>
                        <a:lnTo>
                          <a:pt x="156" y="68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Freeform 1145"/>
                  <p:cNvSpPr/>
                  <p:nvPr/>
                </p:nvSpPr>
                <p:spPr>
                  <a:xfrm>
                    <a:off x="2242440" y="4459680"/>
                    <a:ext cx="162000" cy="10224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72" h="89">
                        <a:moveTo>
                          <a:pt x="1" y="88"/>
                        </a:moveTo>
                        <a:lnTo>
                          <a:pt x="1" y="55"/>
                        </a:lnTo>
                        <a:lnTo>
                          <a:pt x="0" y="52"/>
                        </a:lnTo>
                        <a:lnTo>
                          <a:pt x="69" y="0"/>
                        </a:ln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1" y="4"/>
                        </a:lnTo>
                        <a:lnTo>
                          <a:pt x="71" y="21"/>
                        </a:lnTo>
                        <a:lnTo>
                          <a:pt x="1" y="88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Freeform 1146"/>
                  <p:cNvSpPr/>
                  <p:nvPr/>
                </p:nvSpPr>
                <p:spPr>
                  <a:xfrm>
                    <a:off x="1887840" y="4520520"/>
                    <a:ext cx="356400" cy="16560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165600"/>
                      <a:gd name="textAreaBottom" fmla="*/ 165960 h 165600"/>
                    </a:gdLst>
                    <a:ahLst/>
                    <a:rect l="textAreaLeft" t="textAreaTop" r="textAreaRight" b="textAreaBottom"/>
                    <a:pathLst>
                      <a:path w="158" h="144">
                        <a:moveTo>
                          <a:pt x="157" y="32"/>
                        </a:moveTo>
                        <a:lnTo>
                          <a:pt x="157" y="143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lnTo>
                          <a:pt x="157" y="3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Freeform 1147"/>
                  <p:cNvSpPr/>
                  <p:nvPr/>
                </p:nvSpPr>
                <p:spPr>
                  <a:xfrm>
                    <a:off x="1887840" y="4486320"/>
                    <a:ext cx="356400" cy="7236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72360"/>
                      <a:gd name="textAreaBottom" fmla="*/ 72720 h 72360"/>
                    </a:gdLst>
                    <a:ahLst/>
                    <a:rect l="textAreaLeft" t="textAreaTop" r="textAreaRight" b="textAreaBottom"/>
                    <a:pathLst>
                      <a:path w="158" h="63">
                        <a:moveTo>
                          <a:pt x="157" y="31"/>
                        </a:moveTo>
                        <a:lnTo>
                          <a:pt x="157" y="32"/>
                        </a:lnTo>
                        <a:lnTo>
                          <a:pt x="157" y="62"/>
                        </a:lnTo>
                        <a:lnTo>
                          <a:pt x="0" y="30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155" y="28"/>
                        </a:lnTo>
                        <a:lnTo>
                          <a:pt x="156" y="28"/>
                        </a:lnTo>
                        <a:lnTo>
                          <a:pt x="157" y="3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Freeform 1148"/>
                  <p:cNvSpPr/>
                  <p:nvPr/>
                </p:nvSpPr>
                <p:spPr>
                  <a:xfrm>
                    <a:off x="2089080" y="4512600"/>
                    <a:ext cx="101160" cy="2412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45" h="21">
                        <a:moveTo>
                          <a:pt x="44" y="8"/>
                        </a:moveTo>
                        <a:lnTo>
                          <a:pt x="44" y="20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44" y="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Group 1149"/>
                  <p:cNvGrpSpPr/>
                  <p:nvPr/>
                </p:nvGrpSpPr>
                <p:grpSpPr>
                  <a:xfrm>
                    <a:off x="2201760" y="4518360"/>
                    <a:ext cx="48240" cy="35640"/>
                    <a:chOff x="2201760" y="4518360"/>
                    <a:chExt cx="48240" cy="35640"/>
                  </a:xfrm>
                </p:grpSpPr>
                <p:sp>
                  <p:nvSpPr>
                    <p:cNvPr id="1156" name="Freeform 1150"/>
                    <p:cNvSpPr/>
                    <p:nvPr/>
                  </p:nvSpPr>
                  <p:spPr>
                    <a:xfrm>
                      <a:off x="2201760" y="4518360"/>
                      <a:ext cx="37800" cy="3564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35640"/>
                        <a:gd name="textAreaBottom" fmla="*/ 36000 h 35640"/>
                      </a:gdLst>
                      <a:ahLst/>
                      <a:rect l="textAreaLeft" t="textAreaTop" r="textAreaRight" b="textAreaBottom"/>
                      <a:pathLst>
                        <a:path w="17" h="31">
                          <a:moveTo>
                            <a:pt x="16" y="3"/>
                          </a:moveTo>
                          <a:lnTo>
                            <a:pt x="16" y="30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57" name="Group 1151"/>
                    <p:cNvGrpSpPr/>
                    <p:nvPr/>
                  </p:nvGrpSpPr>
                  <p:grpSpPr>
                    <a:xfrm>
                      <a:off x="2206080" y="4526280"/>
                      <a:ext cx="43920" cy="24840"/>
                      <a:chOff x="2206080" y="4526280"/>
                      <a:chExt cx="43920" cy="24840"/>
                    </a:xfrm>
                  </p:grpSpPr>
                  <p:sp>
                    <p:nvSpPr>
                      <p:cNvPr id="1158" name="Freeform 1152"/>
                      <p:cNvSpPr/>
                      <p:nvPr/>
                    </p:nvSpPr>
                    <p:spPr>
                      <a:xfrm>
                        <a:off x="2212560" y="4531680"/>
                        <a:ext cx="37440" cy="19440"/>
                      </a:xfrm>
                      <a:custGeom>
                        <a:avLst/>
                        <a:gdLst>
                          <a:gd name="textAreaLeft" fmla="*/ 0 w 37440"/>
                          <a:gd name="textAreaRight" fmla="*/ 37800 w 3744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1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9" name="Freeform 1153"/>
                      <p:cNvSpPr/>
                      <p:nvPr/>
                    </p:nvSpPr>
                    <p:spPr>
                      <a:xfrm>
                        <a:off x="2206080" y="4526280"/>
                        <a:ext cx="37440" cy="20520"/>
                      </a:xfrm>
                      <a:custGeom>
                        <a:avLst/>
                        <a:gdLst>
                          <a:gd name="textAreaLeft" fmla="*/ 0 w 37440"/>
                          <a:gd name="textAreaRight" fmla="*/ 37800 w 3744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7" h="18">
                            <a:moveTo>
                              <a:pt x="16" y="1"/>
                            </a:moveTo>
                            <a:lnTo>
                              <a:pt x="0" y="0"/>
                            </a:lnTo>
                            <a:lnTo>
                              <a:pt x="0" y="15"/>
                            </a:lnTo>
                            <a:lnTo>
                              <a:pt x="16" y="1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60" name="Freeform 1154"/>
                  <p:cNvSpPr/>
                  <p:nvPr/>
                </p:nvSpPr>
                <p:spPr>
                  <a:xfrm>
                    <a:off x="2242440" y="4486320"/>
                    <a:ext cx="162000" cy="2023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72" h="176">
                        <a:moveTo>
                          <a:pt x="0" y="64"/>
                        </a:moveTo>
                        <a:lnTo>
                          <a:pt x="0" y="175"/>
                        </a:lnTo>
                        <a:lnTo>
                          <a:pt x="71" y="74"/>
                        </a:lnTo>
                        <a:lnTo>
                          <a:pt x="71" y="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1155"/>
                  <p:cNvSpPr/>
                  <p:nvPr/>
                </p:nvSpPr>
                <p:spPr>
                  <a:xfrm>
                    <a:off x="2257920" y="4554000"/>
                    <a:ext cx="0" cy="1274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2" name="Group 1156"/>
                  <p:cNvGrpSpPr/>
                  <p:nvPr/>
                </p:nvGrpSpPr>
                <p:grpSpPr>
                  <a:xfrm>
                    <a:off x="1829520" y="4492080"/>
                    <a:ext cx="73800" cy="62640"/>
                    <a:chOff x="1829520" y="4492080"/>
                    <a:chExt cx="73800" cy="62640"/>
                  </a:xfrm>
                </p:grpSpPr>
                <p:sp>
                  <p:nvSpPr>
                    <p:cNvPr id="1163" name="Freeform 1157"/>
                    <p:cNvSpPr/>
                    <p:nvPr/>
                  </p:nvSpPr>
                  <p:spPr>
                    <a:xfrm>
                      <a:off x="1829520" y="4492080"/>
                      <a:ext cx="57960" cy="6192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6" h="54">
                          <a:moveTo>
                            <a:pt x="25" y="3"/>
                          </a:moveTo>
                          <a:lnTo>
                            <a:pt x="6" y="0"/>
                          </a:lnTo>
                          <a:lnTo>
                            <a:pt x="0" y="48"/>
                          </a:lnTo>
                          <a:lnTo>
                            <a:pt x="20" y="53"/>
                          </a:lnTo>
                          <a:lnTo>
                            <a:pt x="25" y="3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1158"/>
                    <p:cNvSpPr/>
                    <p:nvPr/>
                  </p:nvSpPr>
                  <p:spPr>
                    <a:xfrm>
                      <a:off x="1865160" y="452304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2" y="16"/>
                          </a:lnTo>
                          <a:lnTo>
                            <a:pt x="0" y="14"/>
                          </a:lnTo>
                          <a:lnTo>
                            <a:pt x="3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Freeform 1159"/>
                    <p:cNvSpPr/>
                    <p:nvPr/>
                  </p:nvSpPr>
                  <p:spPr>
                    <a:xfrm>
                      <a:off x="1851840" y="452304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2" y="1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Freeform 1160"/>
                    <p:cNvSpPr/>
                    <p:nvPr/>
                  </p:nvSpPr>
                  <p:spPr>
                    <a:xfrm>
                      <a:off x="1840680" y="452052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0" y="16"/>
                          </a:lnTo>
                          <a:lnTo>
                            <a:pt x="0" y="14"/>
                          </a:lnTo>
                          <a:lnTo>
                            <a:pt x="5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67" name="Group 1161"/>
                    <p:cNvGrpSpPr/>
                    <p:nvPr/>
                  </p:nvGrpSpPr>
                  <p:grpSpPr>
                    <a:xfrm>
                      <a:off x="1838160" y="4534560"/>
                      <a:ext cx="64440" cy="20160"/>
                      <a:chOff x="1838160" y="4534560"/>
                      <a:chExt cx="64440" cy="20160"/>
                    </a:xfrm>
                  </p:grpSpPr>
                  <p:sp>
                    <p:nvSpPr>
                      <p:cNvPr id="1168" name="Freeform 1162"/>
                      <p:cNvSpPr/>
                      <p:nvPr/>
                    </p:nvSpPr>
                    <p:spPr>
                      <a:xfrm>
                        <a:off x="1864800" y="4535280"/>
                        <a:ext cx="37800" cy="19440"/>
                      </a:xfrm>
                      <a:custGeom>
                        <a:avLst/>
                        <a:gdLst>
                          <a:gd name="textAreaLeft" fmla="*/ 0 w 37800"/>
                          <a:gd name="textAreaRight" fmla="*/ 38160 w 3780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2" y="16"/>
                            </a:lnTo>
                            <a:lnTo>
                              <a:pt x="0" y="12"/>
                            </a:lnTo>
                            <a:lnTo>
                              <a:pt x="3" y="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9" name="Freeform 1163"/>
                      <p:cNvSpPr/>
                      <p:nvPr/>
                    </p:nvSpPr>
                    <p:spPr>
                      <a:xfrm>
                        <a:off x="1858320" y="4535280"/>
                        <a:ext cx="37800" cy="19440"/>
                      </a:xfrm>
                      <a:custGeom>
                        <a:avLst/>
                        <a:gdLst>
                          <a:gd name="textAreaLeft" fmla="*/ 0 w 37800"/>
                          <a:gd name="textAreaRight" fmla="*/ 38160 w 3780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16" y="4"/>
                            </a:moveTo>
                            <a:lnTo>
                              <a:pt x="10" y="16"/>
                            </a:lnTo>
                            <a:lnTo>
                              <a:pt x="0" y="12"/>
                            </a:lnTo>
                            <a:lnTo>
                              <a:pt x="5" y="0"/>
                            </a:lnTo>
                            <a:lnTo>
                              <a:pt x="16" y="4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70" name="Group 1164"/>
                      <p:cNvGrpSpPr/>
                      <p:nvPr/>
                    </p:nvGrpSpPr>
                    <p:grpSpPr>
                      <a:xfrm>
                        <a:off x="1838160" y="4534560"/>
                        <a:ext cx="46800" cy="19440"/>
                        <a:chOff x="1838160" y="4534560"/>
                        <a:chExt cx="46800" cy="19440"/>
                      </a:xfrm>
                    </p:grpSpPr>
                    <p:sp>
                      <p:nvSpPr>
                        <p:cNvPr id="1171" name="Freeform 1165"/>
                        <p:cNvSpPr/>
                        <p:nvPr/>
                      </p:nvSpPr>
                      <p:spPr>
                        <a:xfrm>
                          <a:off x="1847160" y="4535280"/>
                          <a:ext cx="37800" cy="1080"/>
                        </a:xfrm>
                        <a:custGeom>
                          <a:avLst/>
                          <a:gdLst>
                            <a:gd name="textAreaLeft" fmla="*/ 0 w 37800"/>
                            <a:gd name="textAreaRight" fmla="*/ 38160 w 37800"/>
                            <a:gd name="textAreaTop" fmla="*/ 0 h 1080"/>
                            <a:gd name="textAreaBottom" fmla="*/ 1440 h 1080"/>
                          </a:gdLst>
                          <a:ahLst/>
                          <a:rect l="textAreaLeft" t="textAreaTop" r="textAreaRight" b="textAreaBottom"/>
                          <a:pathLst>
                            <a:path w="17" h="1">
                              <a:moveTo>
                                <a:pt x="16" y="0"/>
                              </a:moveTo>
                              <a:lnTo>
                                <a:pt x="16" y="0"/>
                              </a:lnTo>
                              <a:lnTo>
                                <a:pt x="0" y="0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Freeform 1166"/>
                        <p:cNvSpPr/>
                        <p:nvPr/>
                      </p:nvSpPr>
                      <p:spPr>
                        <a:xfrm>
                          <a:off x="1838160" y="4534560"/>
                          <a:ext cx="37800" cy="19440"/>
                        </a:xfrm>
                        <a:custGeom>
                          <a:avLst/>
                          <a:gdLst>
                            <a:gd name="textAreaLeft" fmla="*/ 0 w 37800"/>
                            <a:gd name="textAreaRight" fmla="*/ 38160 w 37800"/>
                            <a:gd name="textAreaTop" fmla="*/ 0 h 19440"/>
                            <a:gd name="textAreaBottom" fmla="*/ 19800 h 19440"/>
                          </a:gdLst>
                          <a:ahLst/>
                          <a:rect l="textAreaLeft" t="textAreaTop" r="textAreaRight" b="textAreaBottom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16" y="16"/>
                              </a:lnTo>
                              <a:lnTo>
                                <a:pt x="0" y="16"/>
                              </a:lnTo>
                              <a:lnTo>
                                <a:pt x="0" y="0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73" name="Freeform 1167"/>
                    <p:cNvSpPr/>
                    <p:nvPr/>
                  </p:nvSpPr>
                  <p:spPr>
                    <a:xfrm>
                      <a:off x="1844640" y="449748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3"/>
                          </a:moveTo>
                          <a:lnTo>
                            <a:pt x="15" y="16"/>
                          </a:lnTo>
                          <a:lnTo>
                            <a:pt x="0" y="12"/>
                          </a:lnTo>
                          <a:lnTo>
                            <a:pt x="1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Freeform 1168"/>
                  <p:cNvSpPr/>
                  <p:nvPr/>
                </p:nvSpPr>
                <p:spPr>
                  <a:xfrm>
                    <a:off x="1847520" y="4438080"/>
                    <a:ext cx="189360" cy="41040"/>
                  </a:xfrm>
                  <a:custGeom>
                    <a:avLst/>
                    <a:gdLst>
                      <a:gd name="textAreaLeft" fmla="*/ 0 w 189360"/>
                      <a:gd name="textAreaRight" fmla="*/ 189720 w 1893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84" h="36">
                        <a:moveTo>
                          <a:pt x="83" y="1"/>
                        </a:moveTo>
                        <a:lnTo>
                          <a:pt x="17" y="35"/>
                        </a:lnTo>
                        <a:lnTo>
                          <a:pt x="0" y="31"/>
                        </a:lnTo>
                        <a:lnTo>
                          <a:pt x="67" y="0"/>
                        </a:lnTo>
                        <a:lnTo>
                          <a:pt x="83" y="1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Group 1169"/>
                  <p:cNvGrpSpPr/>
                  <p:nvPr/>
                </p:nvGrpSpPr>
                <p:grpSpPr>
                  <a:xfrm>
                    <a:off x="1937520" y="4601160"/>
                    <a:ext cx="202680" cy="58320"/>
                    <a:chOff x="1937520" y="4601160"/>
                    <a:chExt cx="202680" cy="58320"/>
                  </a:xfrm>
                </p:grpSpPr>
                <p:sp>
                  <p:nvSpPr>
                    <p:cNvPr id="1176" name="Freeform 1170"/>
                    <p:cNvSpPr/>
                    <p:nvPr/>
                  </p:nvSpPr>
                  <p:spPr>
                    <a:xfrm>
                      <a:off x="1937520" y="4601160"/>
                      <a:ext cx="202680" cy="33120"/>
                    </a:xfrm>
                    <a:custGeom>
                      <a:avLst/>
                      <a:gdLst>
                        <a:gd name="textAreaLeft" fmla="*/ 0 w 202680"/>
                        <a:gd name="textAreaRight" fmla="*/ 203040 w 202680"/>
                        <a:gd name="textAreaTop" fmla="*/ 0 h 33120"/>
                        <a:gd name="textAreaBottom" fmla="*/ 33480 h 33120"/>
                      </a:gdLst>
                      <a:ahLst/>
                      <a:rect l="textAreaLeft" t="textAreaTop" r="textAreaRight" b="textAreaBottom"/>
                      <a:pathLst>
                        <a:path w="90" h="29">
                          <a:moveTo>
                            <a:pt x="89" y="28"/>
                          </a:moveTo>
                          <a:lnTo>
                            <a:pt x="1" y="7"/>
                          </a:lnTo>
                          <a:lnTo>
                            <a:pt x="0" y="0"/>
                          </a:lnTo>
                          <a:lnTo>
                            <a:pt x="89" y="20"/>
                          </a:lnTo>
                          <a:lnTo>
                            <a:pt x="89" y="2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Freeform 1171"/>
                    <p:cNvSpPr/>
                    <p:nvPr/>
                  </p:nvSpPr>
                  <p:spPr>
                    <a:xfrm>
                      <a:off x="1937520" y="4627440"/>
                      <a:ext cx="202680" cy="32040"/>
                    </a:xfrm>
                    <a:custGeom>
                      <a:avLst/>
                      <a:gdLst>
                        <a:gd name="textAreaLeft" fmla="*/ 0 w 202680"/>
                        <a:gd name="textAreaRight" fmla="*/ 203040 w 20268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90" h="28">
                          <a:moveTo>
                            <a:pt x="89" y="20"/>
                          </a:moveTo>
                          <a:lnTo>
                            <a:pt x="89" y="2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89" y="2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Freeform 1172"/>
                    <p:cNvSpPr/>
                    <p:nvPr/>
                  </p:nvSpPr>
                  <p:spPr>
                    <a:xfrm>
                      <a:off x="1937520" y="4601160"/>
                      <a:ext cx="2520" cy="2952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29520"/>
                        <a:gd name="textAreaBottom" fmla="*/ 29880 h 29520"/>
                      </a:gdLst>
                      <a:ahLst/>
                      <a:rect l="textAreaLeft" t="textAreaTop" r="textAreaRight" b="textAreaBottom"/>
                      <a:pathLst>
                        <a:path w="1" h="26">
                          <a:moveTo>
                            <a:pt x="0" y="0"/>
                          </a:move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1173"/>
                    <p:cNvSpPr/>
                    <p:nvPr/>
                  </p:nvSpPr>
                  <p:spPr>
                    <a:xfrm>
                      <a:off x="1941840" y="4610160"/>
                      <a:ext cx="198000" cy="41400"/>
                    </a:xfrm>
                    <a:custGeom>
                      <a:avLst/>
                      <a:gdLst>
                        <a:gd name="textAreaLeft" fmla="*/ 0 w 198000"/>
                        <a:gd name="textAreaRight" fmla="*/ 198360 w 198000"/>
                        <a:gd name="textAreaTop" fmla="*/ 0 h 41400"/>
                        <a:gd name="textAreaBottom" fmla="*/ 41760 h 41400"/>
                      </a:gdLst>
                      <a:ahLst/>
                      <a:rect l="textAreaLeft" t="textAreaTop" r="textAreaRight" b="textAreaBottom"/>
                      <a:pathLst>
                        <a:path w="88" h="36">
                          <a:moveTo>
                            <a:pt x="87" y="20"/>
                          </a:moveTo>
                          <a:lnTo>
                            <a:pt x="87" y="35"/>
                          </a:lnTo>
                          <a:lnTo>
                            <a:pt x="0" y="13"/>
                          </a:lnTo>
                          <a:lnTo>
                            <a:pt x="0" y="0"/>
                          </a:lnTo>
                          <a:lnTo>
                            <a:pt x="87" y="2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0" name="Group 1174"/>
                <p:cNvGrpSpPr/>
                <p:nvPr/>
              </p:nvGrpSpPr>
              <p:grpSpPr>
                <a:xfrm>
                  <a:off x="1887840" y="4626720"/>
                  <a:ext cx="272520" cy="173160"/>
                  <a:chOff x="1887840" y="4626720"/>
                  <a:chExt cx="272520" cy="173160"/>
                </a:xfrm>
              </p:grpSpPr>
              <p:sp>
                <p:nvSpPr>
                  <p:cNvPr id="1181" name="Freeform 1175"/>
                  <p:cNvSpPr/>
                  <p:nvPr/>
                </p:nvSpPr>
                <p:spPr>
                  <a:xfrm>
                    <a:off x="1887840" y="4626720"/>
                    <a:ext cx="252360" cy="165240"/>
                  </a:xfrm>
                  <a:custGeom>
                    <a:avLst/>
                    <a:gdLst>
                      <a:gd name="textAreaLeft" fmla="*/ 0 w 252360"/>
                      <a:gd name="textAreaRight" fmla="*/ 252720 w 252360"/>
                      <a:gd name="textAreaTop" fmla="*/ 0 h 165240"/>
                      <a:gd name="textAreaBottom" fmla="*/ 165600 h 1652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111" y="22"/>
                        </a:moveTo>
                        <a:lnTo>
                          <a:pt x="107" y="32"/>
                        </a:lnTo>
                        <a:lnTo>
                          <a:pt x="103" y="42"/>
                        </a:lnTo>
                        <a:lnTo>
                          <a:pt x="101" y="53"/>
                        </a:lnTo>
                        <a:lnTo>
                          <a:pt x="99" y="62"/>
                        </a:lnTo>
                        <a:lnTo>
                          <a:pt x="98" y="73"/>
                        </a:lnTo>
                        <a:lnTo>
                          <a:pt x="91" y="143"/>
                        </a:lnTo>
                        <a:lnTo>
                          <a:pt x="0" y="108"/>
                        </a:lnTo>
                        <a:lnTo>
                          <a:pt x="8" y="44"/>
                        </a:lnTo>
                        <a:lnTo>
                          <a:pt x="10" y="36"/>
                        </a:lnTo>
                        <a:lnTo>
                          <a:pt x="13" y="26"/>
                        </a:lnTo>
                        <a:lnTo>
                          <a:pt x="15" y="18"/>
                        </a:lnTo>
                        <a:lnTo>
                          <a:pt x="19" y="10"/>
                        </a:lnTo>
                        <a:lnTo>
                          <a:pt x="21" y="4"/>
                        </a:lnTo>
                        <a:lnTo>
                          <a:pt x="24" y="0"/>
                        </a:lnTo>
                        <a:lnTo>
                          <a:pt x="111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2" name="Group 1176"/>
                  <p:cNvGrpSpPr/>
                  <p:nvPr/>
                </p:nvGrpSpPr>
                <p:grpSpPr>
                  <a:xfrm>
                    <a:off x="2088720" y="4653000"/>
                    <a:ext cx="71640" cy="146880"/>
                    <a:chOff x="2088720" y="4653000"/>
                    <a:chExt cx="71640" cy="146880"/>
                  </a:xfrm>
                </p:grpSpPr>
                <p:sp>
                  <p:nvSpPr>
                    <p:cNvPr id="1183" name="Oval 1177"/>
                    <p:cNvSpPr/>
                    <p:nvPr/>
                  </p:nvSpPr>
                  <p:spPr>
                    <a:xfrm>
                      <a:off x="2124360" y="465300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Oval 1178"/>
                    <p:cNvSpPr/>
                    <p:nvPr/>
                  </p:nvSpPr>
                  <p:spPr>
                    <a:xfrm>
                      <a:off x="2117520" y="466776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Oval 1179"/>
                    <p:cNvSpPr/>
                    <p:nvPr/>
                  </p:nvSpPr>
                  <p:spPr>
                    <a:xfrm>
                      <a:off x="2111040" y="467568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Oval 1180"/>
                    <p:cNvSpPr/>
                    <p:nvPr/>
                  </p:nvSpPr>
                  <p:spPr>
                    <a:xfrm>
                      <a:off x="2106360" y="468720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Oval 1181"/>
                    <p:cNvSpPr/>
                    <p:nvPr/>
                  </p:nvSpPr>
                  <p:spPr>
                    <a:xfrm>
                      <a:off x="2104200" y="470232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Oval 1182"/>
                    <p:cNvSpPr/>
                    <p:nvPr/>
                  </p:nvSpPr>
                  <p:spPr>
                    <a:xfrm>
                      <a:off x="2099880" y="471960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Oval 1183"/>
                    <p:cNvSpPr/>
                    <p:nvPr/>
                  </p:nvSpPr>
                  <p:spPr>
                    <a:xfrm>
                      <a:off x="2097360" y="474156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Oval 1184"/>
                    <p:cNvSpPr/>
                    <p:nvPr/>
                  </p:nvSpPr>
                  <p:spPr>
                    <a:xfrm>
                      <a:off x="2093040" y="475956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Oval 1185"/>
                    <p:cNvSpPr/>
                    <p:nvPr/>
                  </p:nvSpPr>
                  <p:spPr>
                    <a:xfrm>
                      <a:off x="2088720" y="478152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2" name="Group 1186"/>
                  <p:cNvGrpSpPr/>
                  <p:nvPr/>
                </p:nvGrpSpPr>
                <p:grpSpPr>
                  <a:xfrm>
                    <a:off x="1896840" y="4629960"/>
                    <a:ext cx="82800" cy="132840"/>
                    <a:chOff x="1896840" y="4629960"/>
                    <a:chExt cx="82800" cy="132840"/>
                  </a:xfrm>
                </p:grpSpPr>
                <p:sp>
                  <p:nvSpPr>
                    <p:cNvPr id="1193" name="Oval 1187"/>
                    <p:cNvSpPr/>
                    <p:nvPr/>
                  </p:nvSpPr>
                  <p:spPr>
                    <a:xfrm>
                      <a:off x="1943640" y="462996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Oval 1188"/>
                    <p:cNvSpPr/>
                    <p:nvPr/>
                  </p:nvSpPr>
                  <p:spPr>
                    <a:xfrm>
                      <a:off x="1935000" y="463788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Oval 1189"/>
                    <p:cNvSpPr/>
                    <p:nvPr/>
                  </p:nvSpPr>
                  <p:spPr>
                    <a:xfrm>
                      <a:off x="1928160" y="465048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Oval 1190"/>
                    <p:cNvSpPr/>
                    <p:nvPr/>
                  </p:nvSpPr>
                  <p:spPr>
                    <a:xfrm>
                      <a:off x="1920960" y="466164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Oval 1191"/>
                    <p:cNvSpPr/>
                    <p:nvPr/>
                  </p:nvSpPr>
                  <p:spPr>
                    <a:xfrm>
                      <a:off x="1914480" y="467352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Oval 1192"/>
                    <p:cNvSpPr/>
                    <p:nvPr/>
                  </p:nvSpPr>
                  <p:spPr>
                    <a:xfrm>
                      <a:off x="1909800" y="469296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Oval 1193"/>
                    <p:cNvSpPr/>
                    <p:nvPr/>
                  </p:nvSpPr>
                  <p:spPr>
                    <a:xfrm>
                      <a:off x="1905840" y="470772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Oval 1194"/>
                    <p:cNvSpPr/>
                    <p:nvPr/>
                  </p:nvSpPr>
                  <p:spPr>
                    <a:xfrm>
                      <a:off x="1901160" y="472500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Oval 1195"/>
                    <p:cNvSpPr/>
                    <p:nvPr/>
                  </p:nvSpPr>
                  <p:spPr>
                    <a:xfrm>
                      <a:off x="1896840" y="474444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02" name="Group 1196"/>
          <p:cNvGrpSpPr/>
          <p:nvPr/>
        </p:nvGrpSpPr>
        <p:grpSpPr>
          <a:xfrm>
            <a:off x="6477120" y="4343400"/>
            <a:ext cx="1980720" cy="1471320"/>
            <a:chOff x="6477120" y="4343400"/>
            <a:chExt cx="1980720" cy="1471320"/>
          </a:xfrm>
        </p:grpSpPr>
        <p:sp>
          <p:nvSpPr>
            <p:cNvPr id="1203" name="Rectangle 1197"/>
            <p:cNvSpPr/>
            <p:nvPr/>
          </p:nvSpPr>
          <p:spPr>
            <a:xfrm>
              <a:off x="7238880" y="5433840"/>
              <a:ext cx="106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Lev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4" name="Picture 1198" descr=""/>
            <p:cNvPicPr/>
            <p:nvPr/>
          </p:nvPicPr>
          <p:blipFill>
            <a:blip r:embed="rId6"/>
            <a:stretch/>
          </p:blipFill>
          <p:spPr>
            <a:xfrm>
              <a:off x="7162560" y="4572000"/>
              <a:ext cx="12952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1199" descr=""/>
            <p:cNvPicPr/>
            <p:nvPr/>
          </p:nvPicPr>
          <p:blipFill>
            <a:blip r:embed="rId7"/>
            <a:stretch/>
          </p:blipFill>
          <p:spPr>
            <a:xfrm>
              <a:off x="6477120" y="4343400"/>
              <a:ext cx="990360" cy="74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6" name="Group 1200"/>
          <p:cNvGrpSpPr/>
          <p:nvPr/>
        </p:nvGrpSpPr>
        <p:grpSpPr>
          <a:xfrm>
            <a:off x="4038480" y="4648320"/>
            <a:ext cx="1600200" cy="1547640"/>
            <a:chOff x="4038480" y="4648320"/>
            <a:chExt cx="1600200" cy="1547640"/>
          </a:xfrm>
        </p:grpSpPr>
        <p:sp>
          <p:nvSpPr>
            <p:cNvPr id="1207" name="Rectangle 1201"/>
            <p:cNvSpPr/>
            <p:nvPr/>
          </p:nvSpPr>
          <p:spPr>
            <a:xfrm>
              <a:off x="4343400" y="5815080"/>
              <a:ext cx="1143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Dili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8" name="Picture 1202" descr="C:\Almacen.jpg"/>
            <p:cNvPicPr/>
            <p:nvPr/>
          </p:nvPicPr>
          <p:blipFill>
            <a:blip r:embed="rId8"/>
            <a:stretch/>
          </p:blipFill>
          <p:spPr>
            <a:xfrm>
              <a:off x="4038480" y="4648320"/>
              <a:ext cx="160020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Group 1203"/>
          <p:cNvGrpSpPr/>
          <p:nvPr/>
        </p:nvGrpSpPr>
        <p:grpSpPr>
          <a:xfrm>
            <a:off x="533520" y="990720"/>
            <a:ext cx="1828800" cy="2361600"/>
            <a:chOff x="533520" y="990720"/>
            <a:chExt cx="1828800" cy="2361600"/>
          </a:xfrm>
        </p:grpSpPr>
        <p:sp>
          <p:nvSpPr>
            <p:cNvPr id="1210" name="Rectangle 1204"/>
            <p:cNvSpPr/>
            <p:nvPr/>
          </p:nvSpPr>
          <p:spPr>
            <a:xfrm>
              <a:off x="685800" y="2819160"/>
              <a:ext cx="1523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Recep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ntrol de car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1" name="Picture 1205" descr=""/>
            <p:cNvPicPr/>
            <p:nvPr/>
          </p:nvPicPr>
          <p:blipFill>
            <a:blip r:embed="rId9"/>
            <a:srcRect l="5149" t="9040" r="7397" b="6345"/>
            <a:stretch/>
          </p:blipFill>
          <p:spPr>
            <a:xfrm>
              <a:off x="1066680" y="1599840"/>
              <a:ext cx="129564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1206" descr=""/>
            <p:cNvPicPr/>
            <p:nvPr/>
          </p:nvPicPr>
          <p:blipFill>
            <a:blip r:embed="rId10"/>
            <a:srcRect l="0" t="0" r="0" b="18853"/>
            <a:stretch/>
          </p:blipFill>
          <p:spPr>
            <a:xfrm>
              <a:off x="533520" y="990720"/>
              <a:ext cx="119520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3" name="Line 1207"/>
          <p:cNvSpPr/>
          <p:nvPr/>
        </p:nvSpPr>
        <p:spPr>
          <a:xfrm flipV="1">
            <a:off x="2438280" y="2590560"/>
            <a:ext cx="1371600" cy="53316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208"/>
          <p:cNvSpPr/>
          <p:nvPr/>
        </p:nvSpPr>
        <p:spPr>
          <a:xfrm>
            <a:off x="5638680" y="2590920"/>
            <a:ext cx="914400" cy="60948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209"/>
          <p:cNvSpPr/>
          <p:nvPr/>
        </p:nvSpPr>
        <p:spPr>
          <a:xfrm flipH="1">
            <a:off x="2895480" y="3352680"/>
            <a:ext cx="3733920" cy="137160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210"/>
          <p:cNvSpPr/>
          <p:nvPr/>
        </p:nvSpPr>
        <p:spPr>
          <a:xfrm>
            <a:off x="7620120" y="3657600"/>
            <a:ext cx="0" cy="5335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211"/>
          <p:cNvSpPr/>
          <p:nvPr/>
        </p:nvSpPr>
        <p:spPr>
          <a:xfrm>
            <a:off x="2438280" y="5562720"/>
            <a:ext cx="1600200" cy="38088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212"/>
          <p:cNvSpPr/>
          <p:nvPr/>
        </p:nvSpPr>
        <p:spPr>
          <a:xfrm flipV="1">
            <a:off x="5715000" y="5638680"/>
            <a:ext cx="1371600" cy="45720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213"/>
          <p:cNvSpPr/>
          <p:nvPr/>
        </p:nvSpPr>
        <p:spPr>
          <a:xfrm>
            <a:off x="1600200" y="303480"/>
            <a:ext cx="64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Verdana"/>
              </a:rPr>
              <a:t>DESPACHO ADUA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Porcentaje de todos los fraudes Identificado por Nivel de Asign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6" name="Picture 6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1976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Beneficio del modelo respecto de la Selección Aleato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8" name="Picture 4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478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Proceso de </a:t>
            </a: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E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aluación (scoring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0" name="Picture 4" descr="aerea"/>
          <p:cNvPicPr/>
          <p:nvPr/>
        </p:nvPicPr>
        <p:blipFill>
          <a:blip r:embed="rId1"/>
          <a:stretch/>
        </p:blipFill>
        <p:spPr>
          <a:xfrm>
            <a:off x="4114800" y="3200400"/>
            <a:ext cx="1981080" cy="118908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" descr="marittima"/>
          <p:cNvPicPr/>
          <p:nvPr/>
        </p:nvPicPr>
        <p:blipFill>
          <a:blip r:embed="rId2"/>
          <a:stretch/>
        </p:blipFill>
        <p:spPr>
          <a:xfrm>
            <a:off x="4114800" y="1498680"/>
            <a:ext cx="1981080" cy="129996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9" descr="ilo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4114800" y="4724280"/>
            <a:ext cx="1905120" cy="1219320"/>
          </a:xfrm>
          <a:prstGeom prst="rect">
            <a:avLst/>
          </a:prstGeom>
          <a:ln w="0">
            <a:noFill/>
          </a:ln>
        </p:spPr>
      </p:pic>
      <p:sp>
        <p:nvSpPr>
          <p:cNvPr id="2153" name="AutoShape 8"/>
          <p:cNvSpPr/>
          <p:nvPr/>
        </p:nvSpPr>
        <p:spPr>
          <a:xfrm>
            <a:off x="685800" y="3124080"/>
            <a:ext cx="1565280" cy="13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4" name="AutoShape 12"/>
          <p:cNvCxnSpPr>
            <a:endCxn id="2153" idx="4"/>
          </p:cNvCxnSpPr>
          <p:nvPr/>
        </p:nvCxnSpPr>
        <p:spPr>
          <a:xfrm flipV="1" rot="10800000">
            <a:off x="2250360" y="3794760"/>
            <a:ext cx="1864440" cy="540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5" name="AutoShape 13"/>
          <p:cNvCxnSpPr>
            <a:endCxn id="2153" idx="4"/>
          </p:cNvCxnSpPr>
          <p:nvPr/>
        </p:nvCxnSpPr>
        <p:spPr>
          <a:xfrm flipV="1" rot="10800000">
            <a:off x="2250360" y="2149200"/>
            <a:ext cx="1864440" cy="165168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6" name="AutoShape 14"/>
          <p:cNvCxnSpPr>
            <a:endCxn id="2153" idx="4"/>
          </p:cNvCxnSpPr>
          <p:nvPr/>
        </p:nvCxnSpPr>
        <p:spPr>
          <a:xfrm rot="10800000">
            <a:off x="2250360" y="3799800"/>
            <a:ext cx="1864440" cy="153432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7" name="AutoShape 22"/>
          <p:cNvCxnSpPr/>
          <p:nvPr/>
        </p:nvCxnSpPr>
        <p:spPr>
          <a:xfrm flipV="1">
            <a:off x="6095880" y="1826640"/>
            <a:ext cx="1372320" cy="32292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8" name="AutoShape 23"/>
          <p:cNvCxnSpPr/>
          <p:nvPr/>
        </p:nvCxnSpPr>
        <p:spPr>
          <a:xfrm>
            <a:off x="6095880" y="2149560"/>
            <a:ext cx="1372320" cy="36432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9" name="AutoShape 24"/>
          <p:cNvCxnSpPr/>
          <p:nvPr/>
        </p:nvCxnSpPr>
        <p:spPr>
          <a:xfrm flipV="1">
            <a:off x="6095880" y="3426840"/>
            <a:ext cx="1372320" cy="36900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0" name="AutoShape 25"/>
          <p:cNvCxnSpPr/>
          <p:nvPr/>
        </p:nvCxnSpPr>
        <p:spPr>
          <a:xfrm>
            <a:off x="6095880" y="3795840"/>
            <a:ext cx="1372320" cy="31788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1" name="AutoShape 26"/>
          <p:cNvCxnSpPr/>
          <p:nvPr/>
        </p:nvCxnSpPr>
        <p:spPr>
          <a:xfrm flipV="1">
            <a:off x="6019560" y="4950720"/>
            <a:ext cx="1448280" cy="38340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2" name="AutoShape 27"/>
          <p:cNvCxnSpPr/>
          <p:nvPr/>
        </p:nvCxnSpPr>
        <p:spPr>
          <a:xfrm>
            <a:off x="6019560" y="5334120"/>
            <a:ext cx="1448280" cy="30384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sp>
        <p:nvSpPr>
          <p:cNvPr id="2163" name="AutoShape 28"/>
          <p:cNvSpPr/>
          <p:nvPr/>
        </p:nvSpPr>
        <p:spPr>
          <a:xfrm>
            <a:off x="685800" y="2209680"/>
            <a:ext cx="5158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AutoShape 30"/>
          <p:cNvSpPr/>
          <p:nvPr/>
        </p:nvSpPr>
        <p:spPr>
          <a:xfrm>
            <a:off x="1752480" y="2205000"/>
            <a:ext cx="5158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AutoShape 31"/>
          <p:cNvSpPr/>
          <p:nvPr/>
        </p:nvSpPr>
        <p:spPr>
          <a:xfrm>
            <a:off x="838080" y="5105520"/>
            <a:ext cx="515880" cy="320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6" name="AutoShape 34"/>
          <p:cNvCxnSpPr>
            <a:stCxn id="2163" idx="3"/>
            <a:endCxn id="2153" idx="1"/>
          </p:cNvCxnSpPr>
          <p:nvPr/>
        </p:nvCxnSpPr>
        <p:spPr>
          <a:xfrm>
            <a:off x="944280" y="2530080"/>
            <a:ext cx="524160" cy="59436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7" name="AutoShape 36"/>
          <p:cNvCxnSpPr>
            <a:stCxn id="2164" idx="3"/>
            <a:endCxn id="2153" idx="1"/>
          </p:cNvCxnSpPr>
          <p:nvPr/>
        </p:nvCxnSpPr>
        <p:spPr>
          <a:xfrm flipH="1">
            <a:off x="1468080" y="2525760"/>
            <a:ext cx="543600" cy="59868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8" name="AutoShape 37"/>
          <p:cNvCxnSpPr>
            <a:stCxn id="2165" idx="1"/>
            <a:endCxn id="2153" idx="3"/>
          </p:cNvCxnSpPr>
          <p:nvPr/>
        </p:nvCxnSpPr>
        <p:spPr>
          <a:xfrm flipV="1">
            <a:off x="1096920" y="4474440"/>
            <a:ext cx="372240" cy="63108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9" name="AutoShape 39"/>
          <p:cNvCxnSpPr>
            <a:endCxn id="2153" idx="3"/>
          </p:cNvCxnSpPr>
          <p:nvPr/>
        </p:nvCxnSpPr>
        <p:spPr>
          <a:xfrm flipH="1" flipV="1">
            <a:off x="1468080" y="4474440"/>
            <a:ext cx="695520" cy="68652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sp>
        <p:nvSpPr>
          <p:cNvPr id="2170" name="Text Box 40"/>
          <p:cNvSpPr/>
          <p:nvPr/>
        </p:nvSpPr>
        <p:spPr>
          <a:xfrm>
            <a:off x="685800" y="175248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42"/>
          <p:cNvSpPr/>
          <p:nvPr/>
        </p:nvSpPr>
        <p:spPr>
          <a:xfrm>
            <a:off x="1515960" y="162864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43"/>
          <p:cNvSpPr/>
          <p:nvPr/>
        </p:nvSpPr>
        <p:spPr>
          <a:xfrm>
            <a:off x="1676520" y="5486400"/>
            <a:ext cx="11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is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 Box 44"/>
          <p:cNvSpPr/>
          <p:nvPr/>
        </p:nvSpPr>
        <p:spPr>
          <a:xfrm>
            <a:off x="380880" y="54864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Recaudación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46"/>
          <p:cNvSpPr/>
          <p:nvPr/>
        </p:nvSpPr>
        <p:spPr>
          <a:xfrm>
            <a:off x="7315200" y="1143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Ag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AutoShape 51"/>
          <p:cNvSpPr/>
          <p:nvPr/>
        </p:nvSpPr>
        <p:spPr>
          <a:xfrm>
            <a:off x="1905120" y="5105520"/>
            <a:ext cx="515880" cy="320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6" name="Picture 52" descr="j0289506"/>
          <p:cNvPicPr/>
          <p:nvPr/>
        </p:nvPicPr>
        <p:blipFill>
          <a:blip r:embed="rId4"/>
          <a:stretch/>
        </p:blipFill>
        <p:spPr>
          <a:xfrm>
            <a:off x="7467480" y="15238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54" descr="j0289506"/>
          <p:cNvPicPr/>
          <p:nvPr/>
        </p:nvPicPr>
        <p:blipFill>
          <a:blip r:embed="rId5"/>
          <a:stretch/>
        </p:blipFill>
        <p:spPr>
          <a:xfrm>
            <a:off x="7467480" y="22096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55" descr="j0289506"/>
          <p:cNvPicPr/>
          <p:nvPr/>
        </p:nvPicPr>
        <p:blipFill>
          <a:blip r:embed="rId6"/>
          <a:stretch/>
        </p:blipFill>
        <p:spPr>
          <a:xfrm>
            <a:off x="7467480" y="31240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56" descr="j0289506"/>
          <p:cNvPicPr/>
          <p:nvPr/>
        </p:nvPicPr>
        <p:blipFill>
          <a:blip r:embed="rId7"/>
          <a:stretch/>
        </p:blipFill>
        <p:spPr>
          <a:xfrm>
            <a:off x="7467480" y="38098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57" descr="j0289506"/>
          <p:cNvPicPr/>
          <p:nvPr/>
        </p:nvPicPr>
        <p:blipFill>
          <a:blip r:embed="rId8"/>
          <a:stretch/>
        </p:blipFill>
        <p:spPr>
          <a:xfrm>
            <a:off x="7467480" y="464832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58" descr="j0289506"/>
          <p:cNvPicPr/>
          <p:nvPr/>
        </p:nvPicPr>
        <p:blipFill>
          <a:blip r:embed="rId9"/>
          <a:stretch/>
        </p:blipFill>
        <p:spPr>
          <a:xfrm>
            <a:off x="7467480" y="5334120"/>
            <a:ext cx="914400" cy="604800"/>
          </a:xfrm>
          <a:prstGeom prst="rect">
            <a:avLst/>
          </a:prstGeom>
          <a:ln w="0">
            <a:noFill/>
          </a:ln>
        </p:spPr>
      </p:pic>
      <p:sp>
        <p:nvSpPr>
          <p:cNvPr id="2182" name="Text Box 59"/>
          <p:cNvSpPr/>
          <p:nvPr/>
        </p:nvSpPr>
        <p:spPr>
          <a:xfrm>
            <a:off x="4115160" y="1447920"/>
            <a:ext cx="18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Marítima del Cal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60"/>
          <p:cNvSpPr/>
          <p:nvPr/>
        </p:nvSpPr>
        <p:spPr>
          <a:xfrm>
            <a:off x="4114080" y="32004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Aérea del Cal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61"/>
          <p:cNvSpPr/>
          <p:nvPr/>
        </p:nvSpPr>
        <p:spPr>
          <a:xfrm>
            <a:off x="4201200" y="47242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de Tac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Proceso del Eval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86" name="Group 3"/>
          <p:cNvGrpSpPr/>
          <p:nvPr/>
        </p:nvGrpSpPr>
        <p:grpSpPr>
          <a:xfrm>
            <a:off x="2514600" y="2209680"/>
            <a:ext cx="1834920" cy="1008360"/>
            <a:chOff x="2514600" y="2209680"/>
            <a:chExt cx="1834920" cy="1008360"/>
          </a:xfrm>
        </p:grpSpPr>
        <p:pic>
          <p:nvPicPr>
            <p:cNvPr id="2187" name="Picture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2514600" y="2209680"/>
              <a:ext cx="1834920" cy="10083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188" name="Group 5"/>
            <p:cNvGrpSpPr/>
            <p:nvPr/>
          </p:nvGrpSpPr>
          <p:grpSpPr>
            <a:xfrm>
              <a:off x="2683080" y="2209680"/>
              <a:ext cx="1304280" cy="955080"/>
              <a:chOff x="2683080" y="2209680"/>
              <a:chExt cx="1304280" cy="955080"/>
            </a:xfrm>
          </p:grpSpPr>
          <p:sp>
            <p:nvSpPr>
              <p:cNvPr id="2189" name="Oval 6"/>
              <p:cNvSpPr/>
              <p:nvPr/>
            </p:nvSpPr>
            <p:spPr>
              <a:xfrm rot="5400000">
                <a:off x="3297600" y="2162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Oval 7"/>
              <p:cNvSpPr/>
              <p:nvPr/>
            </p:nvSpPr>
            <p:spPr>
              <a:xfrm rot="5400000">
                <a:off x="3297600" y="2287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Oval 8"/>
              <p:cNvSpPr/>
              <p:nvPr/>
            </p:nvSpPr>
            <p:spPr>
              <a:xfrm rot="5400000">
                <a:off x="3297600" y="2413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Oval 9"/>
              <p:cNvSpPr/>
              <p:nvPr/>
            </p:nvSpPr>
            <p:spPr>
              <a:xfrm rot="5400000">
                <a:off x="3297600" y="2539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Oval 10"/>
              <p:cNvSpPr/>
              <p:nvPr/>
            </p:nvSpPr>
            <p:spPr>
              <a:xfrm rot="5400000">
                <a:off x="3297600" y="2664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Oval 11"/>
              <p:cNvSpPr/>
              <p:nvPr/>
            </p:nvSpPr>
            <p:spPr>
              <a:xfrm rot="5400000">
                <a:off x="3297600" y="27903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Oval 12"/>
              <p:cNvSpPr/>
              <p:nvPr/>
            </p:nvSpPr>
            <p:spPr>
              <a:xfrm rot="5400000">
                <a:off x="3297600" y="2916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Oval 13"/>
              <p:cNvSpPr/>
              <p:nvPr/>
            </p:nvSpPr>
            <p:spPr>
              <a:xfrm rot="5400000">
                <a:off x="3297600" y="3042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Oval 14"/>
              <p:cNvSpPr/>
              <p:nvPr/>
            </p:nvSpPr>
            <p:spPr>
              <a:xfrm rot="5400000">
                <a:off x="2730240" y="23378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Oval 15"/>
              <p:cNvSpPr/>
              <p:nvPr/>
            </p:nvSpPr>
            <p:spPr>
              <a:xfrm rot="5400000">
                <a:off x="2730240" y="2463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16"/>
              <p:cNvSpPr/>
              <p:nvPr/>
            </p:nvSpPr>
            <p:spPr>
              <a:xfrm rot="5400000">
                <a:off x="2730240" y="258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Oval 17"/>
              <p:cNvSpPr/>
              <p:nvPr/>
            </p:nvSpPr>
            <p:spPr>
              <a:xfrm rot="5400000">
                <a:off x="2730240" y="2715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Oval 18"/>
              <p:cNvSpPr/>
              <p:nvPr/>
            </p:nvSpPr>
            <p:spPr>
              <a:xfrm rot="5400000">
                <a:off x="2730240" y="2840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Oval 19"/>
              <p:cNvSpPr/>
              <p:nvPr/>
            </p:nvSpPr>
            <p:spPr>
              <a:xfrm rot="5400000">
                <a:off x="3864600" y="2463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Oval 20"/>
              <p:cNvSpPr/>
              <p:nvPr/>
            </p:nvSpPr>
            <p:spPr>
              <a:xfrm rot="5400000">
                <a:off x="3864600" y="258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Oval 21"/>
              <p:cNvSpPr/>
              <p:nvPr/>
            </p:nvSpPr>
            <p:spPr>
              <a:xfrm rot="5400000">
                <a:off x="3864600" y="2715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05" name="AutoShape 22"/>
              <p:cNvCxnSpPr>
                <a:stCxn id="2197" idx="0"/>
                <a:endCxn id="2191" idx="4"/>
              </p:cNvCxnSpPr>
              <p:nvPr/>
            </p:nvCxnSpPr>
            <p:spPr>
              <a:xfrm>
                <a:off x="2853360" y="242280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6" name="AutoShape 23"/>
              <p:cNvCxnSpPr>
                <a:stCxn id="2198" idx="0"/>
                <a:endCxn id="2192" idx="4"/>
              </p:cNvCxnSpPr>
              <p:nvPr/>
            </p:nvCxnSpPr>
            <p:spPr>
              <a:xfrm>
                <a:off x="2853360" y="2548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7" name="AutoShape 24"/>
              <p:cNvCxnSpPr>
                <a:stCxn id="2198" idx="0"/>
                <a:endCxn id="2193" idx="4"/>
              </p:cNvCxnSpPr>
              <p:nvPr/>
            </p:nvCxnSpPr>
            <p:spPr>
              <a:xfrm>
                <a:off x="2853360" y="2548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8" name="AutoShape 25"/>
              <p:cNvCxnSpPr>
                <a:stCxn id="2199" idx="0"/>
                <a:endCxn id="2193" idx="4"/>
              </p:cNvCxnSpPr>
              <p:nvPr/>
            </p:nvCxnSpPr>
            <p:spPr>
              <a:xfrm>
                <a:off x="2853360" y="2674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9" name="AutoShape 26"/>
              <p:cNvCxnSpPr>
                <a:stCxn id="2199" idx="0"/>
                <a:endCxn id="2192" idx="4"/>
              </p:cNvCxnSpPr>
              <p:nvPr/>
            </p:nvCxnSpPr>
            <p:spPr>
              <a:xfrm flipV="1">
                <a:off x="2853360" y="2623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0" name="AutoShape 27"/>
              <p:cNvCxnSpPr>
                <a:stCxn id="2200" idx="0"/>
                <a:endCxn id="2193" idx="4"/>
              </p:cNvCxnSpPr>
              <p:nvPr/>
            </p:nvCxnSpPr>
            <p:spPr>
              <a:xfrm flipV="1">
                <a:off x="2853360" y="2749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1" name="AutoShape 28"/>
              <p:cNvCxnSpPr>
                <a:stCxn id="2200" idx="0"/>
                <a:endCxn id="2194" idx="4"/>
              </p:cNvCxnSpPr>
              <p:nvPr/>
            </p:nvCxnSpPr>
            <p:spPr>
              <a:xfrm>
                <a:off x="2853360" y="280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2" name="AutoShape 29"/>
              <p:cNvCxnSpPr>
                <a:stCxn id="2201" idx="0"/>
                <a:endCxn id="2194" idx="4"/>
              </p:cNvCxnSpPr>
              <p:nvPr/>
            </p:nvCxnSpPr>
            <p:spPr>
              <a:xfrm flipV="1">
                <a:off x="2853360" y="287496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3" name="AutoShape 30"/>
              <p:cNvCxnSpPr>
                <a:stCxn id="2197" idx="0"/>
                <a:endCxn id="2192" idx="4"/>
              </p:cNvCxnSpPr>
              <p:nvPr/>
            </p:nvCxnSpPr>
            <p:spPr>
              <a:xfrm>
                <a:off x="2853360" y="242316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4" name="AutoShape 31"/>
              <p:cNvCxnSpPr>
                <a:stCxn id="2201" idx="0"/>
                <a:endCxn id="2196" idx="4"/>
              </p:cNvCxnSpPr>
              <p:nvPr/>
            </p:nvCxnSpPr>
            <p:spPr>
              <a:xfrm>
                <a:off x="2853360" y="292608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5" name="AutoShape 32"/>
              <p:cNvCxnSpPr>
                <a:stCxn id="2199" idx="0"/>
                <a:endCxn id="2194" idx="4"/>
              </p:cNvCxnSpPr>
              <p:nvPr/>
            </p:nvCxnSpPr>
            <p:spPr>
              <a:xfrm>
                <a:off x="2853360" y="2674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6" name="AutoShape 33"/>
              <p:cNvCxnSpPr>
                <a:stCxn id="2200" idx="0"/>
                <a:endCxn id="2192" idx="4"/>
              </p:cNvCxnSpPr>
              <p:nvPr/>
            </p:nvCxnSpPr>
            <p:spPr>
              <a:xfrm flipV="1">
                <a:off x="2853360" y="2624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7" name="AutoShape 34"/>
              <p:cNvCxnSpPr>
                <a:stCxn id="2201" idx="0"/>
                <a:endCxn id="2193" idx="4"/>
              </p:cNvCxnSpPr>
              <p:nvPr/>
            </p:nvCxnSpPr>
            <p:spPr>
              <a:xfrm flipV="1">
                <a:off x="2853360" y="274968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8" name="AutoShape 35"/>
              <p:cNvCxnSpPr>
                <a:stCxn id="2200" idx="0"/>
                <a:endCxn id="2195" idx="4"/>
              </p:cNvCxnSpPr>
              <p:nvPr/>
            </p:nvCxnSpPr>
            <p:spPr>
              <a:xfrm>
                <a:off x="2853360" y="280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9" name="AutoShape 36"/>
              <p:cNvCxnSpPr>
                <a:stCxn id="2201" idx="0"/>
                <a:endCxn id="2195" idx="4"/>
              </p:cNvCxnSpPr>
              <p:nvPr/>
            </p:nvCxnSpPr>
            <p:spPr>
              <a:xfrm>
                <a:off x="2853360" y="292572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0" name="AutoShape 37"/>
              <p:cNvCxnSpPr>
                <a:stCxn id="2198" idx="0"/>
                <a:endCxn id="2191" idx="4"/>
              </p:cNvCxnSpPr>
              <p:nvPr/>
            </p:nvCxnSpPr>
            <p:spPr>
              <a:xfrm flipV="1">
                <a:off x="2853360" y="249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1" name="AutoShape 38"/>
              <p:cNvCxnSpPr>
                <a:stCxn id="2197" idx="0"/>
                <a:endCxn id="2193" idx="4"/>
              </p:cNvCxnSpPr>
              <p:nvPr/>
            </p:nvCxnSpPr>
            <p:spPr>
              <a:xfrm>
                <a:off x="2853360" y="242280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2" name="AutoShape 39"/>
              <p:cNvCxnSpPr>
                <a:stCxn id="2199" idx="0"/>
                <a:endCxn id="2195" idx="4"/>
              </p:cNvCxnSpPr>
              <p:nvPr/>
            </p:nvCxnSpPr>
            <p:spPr>
              <a:xfrm>
                <a:off x="2853360" y="2674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3" name="AutoShape 40"/>
              <p:cNvCxnSpPr>
                <a:stCxn id="2200" idx="0"/>
                <a:endCxn id="2191" idx="4"/>
              </p:cNvCxnSpPr>
              <p:nvPr/>
            </p:nvCxnSpPr>
            <p:spPr>
              <a:xfrm flipV="1">
                <a:off x="2853360" y="249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4" name="AutoShape 41"/>
              <p:cNvCxnSpPr>
                <a:stCxn id="2200" idx="0"/>
                <a:endCxn id="2196" idx="4"/>
              </p:cNvCxnSpPr>
              <p:nvPr/>
            </p:nvCxnSpPr>
            <p:spPr>
              <a:xfrm>
                <a:off x="2853360" y="280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5" name="AutoShape 42"/>
              <p:cNvCxnSpPr>
                <a:stCxn id="2198" idx="0"/>
                <a:endCxn id="2194" idx="4"/>
              </p:cNvCxnSpPr>
              <p:nvPr/>
            </p:nvCxnSpPr>
            <p:spPr>
              <a:xfrm>
                <a:off x="2853360" y="2548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6" name="AutoShape 43"/>
              <p:cNvCxnSpPr>
                <a:stCxn id="2197" idx="0"/>
                <a:endCxn id="2195" idx="4"/>
              </p:cNvCxnSpPr>
              <p:nvPr/>
            </p:nvCxnSpPr>
            <p:spPr>
              <a:xfrm>
                <a:off x="2853360" y="242280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7" name="AutoShape 44"/>
              <p:cNvCxnSpPr>
                <a:stCxn id="2197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8" name="AutoShape 45"/>
              <p:cNvCxnSpPr>
                <a:stCxn id="2199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9" name="AutoShape 46"/>
              <p:cNvCxnSpPr>
                <a:stCxn id="2190" idx="4"/>
                <a:endCxn id="2201" idx="0"/>
              </p:cNvCxnSpPr>
              <p:nvPr/>
            </p:nvCxnSpPr>
            <p:spPr>
              <a:xfrm flipH="1">
                <a:off x="2853000" y="237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0" name="AutoShape 47"/>
              <p:cNvCxnSpPr>
                <a:stCxn id="2198" idx="0"/>
                <a:endCxn id="2190" idx="4"/>
              </p:cNvCxnSpPr>
              <p:nvPr/>
            </p:nvCxnSpPr>
            <p:spPr>
              <a:xfrm flipV="1">
                <a:off x="2853360" y="2372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1" name="AutoShape 48"/>
              <p:cNvCxnSpPr>
                <a:stCxn id="2201" idx="0"/>
                <a:endCxn id="2191" idx="4"/>
              </p:cNvCxnSpPr>
              <p:nvPr/>
            </p:nvCxnSpPr>
            <p:spPr>
              <a:xfrm flipV="1">
                <a:off x="2853360" y="249840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2" name="AutoShape 49"/>
              <p:cNvCxnSpPr>
                <a:stCxn id="2201" idx="0"/>
                <a:endCxn id="2189" idx="4"/>
              </p:cNvCxnSpPr>
              <p:nvPr/>
            </p:nvCxnSpPr>
            <p:spPr>
              <a:xfrm flipV="1">
                <a:off x="2853360" y="2246400"/>
                <a:ext cx="397800" cy="679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3" name="AutoShape 50"/>
              <p:cNvCxnSpPr>
                <a:stCxn id="2197" idx="0"/>
                <a:endCxn id="2196" idx="4"/>
              </p:cNvCxnSpPr>
              <p:nvPr/>
            </p:nvCxnSpPr>
            <p:spPr>
              <a:xfrm>
                <a:off x="2853360" y="2423160"/>
                <a:ext cx="39780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4" name="AutoShape 51"/>
              <p:cNvCxnSpPr>
                <a:stCxn id="2197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5" name="AutoShape 52"/>
              <p:cNvCxnSpPr>
                <a:stCxn id="2199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6" name="AutoShape 53"/>
              <p:cNvCxnSpPr>
                <a:stCxn id="2198" idx="0"/>
                <a:endCxn id="2189" idx="4"/>
              </p:cNvCxnSpPr>
              <p:nvPr/>
            </p:nvCxnSpPr>
            <p:spPr>
              <a:xfrm flipV="1">
                <a:off x="2853360" y="2246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7" name="AutoShape 54"/>
              <p:cNvCxnSpPr>
                <a:stCxn id="2200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8" name="AutoShape 55"/>
              <p:cNvCxnSpPr>
                <a:stCxn id="2200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9" name="AutoShape 56"/>
              <p:cNvCxnSpPr>
                <a:stCxn id="2201" idx="0"/>
                <a:endCxn id="2192" idx="4"/>
              </p:cNvCxnSpPr>
              <p:nvPr/>
            </p:nvCxnSpPr>
            <p:spPr>
              <a:xfrm flipV="1">
                <a:off x="2853360" y="262368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0" name="AutoShape 57"/>
              <p:cNvCxnSpPr>
                <a:stCxn id="2197" idx="0"/>
                <a:endCxn id="2194" idx="4"/>
              </p:cNvCxnSpPr>
              <p:nvPr/>
            </p:nvCxnSpPr>
            <p:spPr>
              <a:xfrm>
                <a:off x="2853360" y="242316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1" name="AutoShape 58"/>
              <p:cNvCxnSpPr>
                <a:stCxn id="2198" idx="0"/>
                <a:endCxn id="2195" idx="4"/>
              </p:cNvCxnSpPr>
              <p:nvPr/>
            </p:nvCxnSpPr>
            <p:spPr>
              <a:xfrm>
                <a:off x="2853360" y="2548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2" name="AutoShape 59"/>
              <p:cNvCxnSpPr>
                <a:stCxn id="2198" idx="0"/>
                <a:endCxn id="2196" idx="4"/>
              </p:cNvCxnSpPr>
              <p:nvPr/>
            </p:nvCxnSpPr>
            <p:spPr>
              <a:xfrm>
                <a:off x="2853360" y="2548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3" name="AutoShape 60"/>
              <p:cNvCxnSpPr>
                <a:stCxn id="2199" idx="0"/>
                <a:endCxn id="2196" idx="4"/>
              </p:cNvCxnSpPr>
              <p:nvPr/>
            </p:nvCxnSpPr>
            <p:spPr>
              <a:xfrm>
                <a:off x="2853360" y="2674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4" name="AutoShape 61"/>
              <p:cNvCxnSpPr>
                <a:stCxn id="2199" idx="0"/>
                <a:endCxn id="2191" idx="4"/>
              </p:cNvCxnSpPr>
              <p:nvPr/>
            </p:nvCxnSpPr>
            <p:spPr>
              <a:xfrm flipV="1">
                <a:off x="2853360" y="249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5" name="AutoShape 62"/>
              <p:cNvCxnSpPr>
                <a:stCxn id="2202" idx="4"/>
                <a:endCxn id="2192" idx="0"/>
              </p:cNvCxnSpPr>
              <p:nvPr/>
            </p:nvCxnSpPr>
            <p:spPr>
              <a:xfrm flipH="1">
                <a:off x="3420360" y="2548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6" name="AutoShape 63"/>
              <p:cNvCxnSpPr>
                <a:stCxn id="2202" idx="4"/>
                <a:endCxn id="2193" idx="0"/>
              </p:cNvCxnSpPr>
              <p:nvPr/>
            </p:nvCxnSpPr>
            <p:spPr>
              <a:xfrm flipH="1">
                <a:off x="3420360" y="2548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7" name="AutoShape 64"/>
              <p:cNvCxnSpPr>
                <a:stCxn id="2203" idx="4"/>
                <a:endCxn id="2193" idx="0"/>
              </p:cNvCxnSpPr>
              <p:nvPr/>
            </p:nvCxnSpPr>
            <p:spPr>
              <a:xfrm flipH="1">
                <a:off x="3420360" y="2674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8" name="AutoShape 65"/>
              <p:cNvCxnSpPr>
                <a:stCxn id="2203" idx="4"/>
                <a:endCxn id="2192" idx="0"/>
              </p:cNvCxnSpPr>
              <p:nvPr/>
            </p:nvCxnSpPr>
            <p:spPr>
              <a:xfrm flipH="1" flipV="1">
                <a:off x="3420360" y="2623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9" name="AutoShape 66"/>
              <p:cNvCxnSpPr>
                <a:stCxn id="2204" idx="4"/>
                <a:endCxn id="2193" idx="0"/>
              </p:cNvCxnSpPr>
              <p:nvPr/>
            </p:nvCxnSpPr>
            <p:spPr>
              <a:xfrm flipH="1" flipV="1">
                <a:off x="3420360" y="2749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0" name="AutoShape 67"/>
              <p:cNvCxnSpPr>
                <a:stCxn id="2204" idx="4"/>
                <a:endCxn id="2194" idx="0"/>
              </p:cNvCxnSpPr>
              <p:nvPr/>
            </p:nvCxnSpPr>
            <p:spPr>
              <a:xfrm flipH="1">
                <a:off x="3420360" y="280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1" name="AutoShape 68"/>
              <p:cNvCxnSpPr>
                <a:stCxn id="2203" idx="4"/>
                <a:endCxn id="2194" idx="0"/>
              </p:cNvCxnSpPr>
              <p:nvPr/>
            </p:nvCxnSpPr>
            <p:spPr>
              <a:xfrm flipH="1">
                <a:off x="3420360" y="2674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2" name="AutoShape 69"/>
              <p:cNvCxnSpPr>
                <a:stCxn id="2204" idx="4"/>
                <a:endCxn id="2192" idx="0"/>
              </p:cNvCxnSpPr>
              <p:nvPr/>
            </p:nvCxnSpPr>
            <p:spPr>
              <a:xfrm flipH="1" flipV="1">
                <a:off x="3420360" y="2624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3" name="AutoShape 70"/>
              <p:cNvCxnSpPr>
                <a:stCxn id="2204" idx="4"/>
              </p:cNvCxnSpPr>
              <p:nvPr/>
            </p:nvCxnSpPr>
            <p:spPr>
              <a:xfrm flipH="1">
                <a:off x="3420360" y="280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4" name="AutoShape 71"/>
              <p:cNvCxnSpPr>
                <a:stCxn id="2202" idx="4"/>
                <a:endCxn id="2191" idx="0"/>
              </p:cNvCxnSpPr>
              <p:nvPr/>
            </p:nvCxnSpPr>
            <p:spPr>
              <a:xfrm flipH="1" flipV="1">
                <a:off x="3420360" y="249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5" name="AutoShape 72"/>
              <p:cNvCxnSpPr>
                <a:stCxn id="2203" idx="4"/>
                <a:endCxn id="2195" idx="0"/>
              </p:cNvCxnSpPr>
              <p:nvPr/>
            </p:nvCxnSpPr>
            <p:spPr>
              <a:xfrm flipH="1">
                <a:off x="3420360" y="2674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6" name="AutoShape 73"/>
              <p:cNvCxnSpPr>
                <a:stCxn id="2204" idx="4"/>
                <a:endCxn id="2191" idx="0"/>
              </p:cNvCxnSpPr>
              <p:nvPr/>
            </p:nvCxnSpPr>
            <p:spPr>
              <a:xfrm flipH="1" flipV="1">
                <a:off x="3420360" y="249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7" name="AutoShape 74"/>
              <p:cNvCxnSpPr>
                <a:stCxn id="2204" idx="4"/>
                <a:endCxn id="2196" idx="0"/>
              </p:cNvCxnSpPr>
              <p:nvPr/>
            </p:nvCxnSpPr>
            <p:spPr>
              <a:xfrm flipH="1">
                <a:off x="3420360" y="280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8" name="AutoShape 75"/>
              <p:cNvCxnSpPr>
                <a:stCxn id="2202" idx="4"/>
                <a:endCxn id="2194" idx="0"/>
              </p:cNvCxnSpPr>
              <p:nvPr/>
            </p:nvCxnSpPr>
            <p:spPr>
              <a:xfrm flipH="1">
                <a:off x="3420360" y="2548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9" name="AutoShape 76"/>
              <p:cNvCxnSpPr>
                <a:stCxn id="2203" idx="4"/>
                <a:endCxn id="2189" idx="0"/>
              </p:cNvCxnSpPr>
              <p:nvPr/>
            </p:nvCxnSpPr>
            <p:spPr>
              <a:xfrm flipH="1" flipV="1">
                <a:off x="3420360" y="2246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0" name="AutoShape 77"/>
              <p:cNvCxnSpPr>
                <a:stCxn id="2202" idx="4"/>
                <a:endCxn id="2190" idx="0"/>
              </p:cNvCxnSpPr>
              <p:nvPr/>
            </p:nvCxnSpPr>
            <p:spPr>
              <a:xfrm flipH="1" flipV="1">
                <a:off x="3420360" y="2372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1" name="AutoShape 78"/>
              <p:cNvCxnSpPr>
                <a:stCxn id="2203" idx="4"/>
                <a:endCxn id="2190" idx="0"/>
              </p:cNvCxnSpPr>
              <p:nvPr/>
            </p:nvCxnSpPr>
            <p:spPr>
              <a:xfrm flipH="1" flipV="1">
                <a:off x="3420360" y="2372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2" name="AutoShape 79"/>
              <p:cNvCxnSpPr>
                <a:stCxn id="2202" idx="4"/>
                <a:endCxn id="2189" idx="0"/>
              </p:cNvCxnSpPr>
              <p:nvPr/>
            </p:nvCxnSpPr>
            <p:spPr>
              <a:xfrm flipH="1" flipV="1">
                <a:off x="3420360" y="2246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3" name="AutoShape 80"/>
              <p:cNvCxnSpPr>
                <a:stCxn id="2204" idx="4"/>
                <a:endCxn id="2190" idx="0"/>
              </p:cNvCxnSpPr>
              <p:nvPr/>
            </p:nvCxnSpPr>
            <p:spPr>
              <a:xfrm flipH="1" flipV="1">
                <a:off x="3420360" y="2372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4" name="AutoShape 81"/>
              <p:cNvCxnSpPr>
                <a:stCxn id="2204" idx="4"/>
                <a:endCxn id="2189" idx="0"/>
              </p:cNvCxnSpPr>
              <p:nvPr/>
            </p:nvCxnSpPr>
            <p:spPr>
              <a:xfrm flipH="1" flipV="1">
                <a:off x="3420360" y="2246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5" name="AutoShape 82"/>
              <p:cNvCxnSpPr>
                <a:stCxn id="2202" idx="4"/>
                <a:endCxn id="2195" idx="0"/>
              </p:cNvCxnSpPr>
              <p:nvPr/>
            </p:nvCxnSpPr>
            <p:spPr>
              <a:xfrm flipH="1">
                <a:off x="3420360" y="2548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6" name="AutoShape 83"/>
              <p:cNvCxnSpPr>
                <a:stCxn id="2202" idx="4"/>
                <a:endCxn id="2196" idx="0"/>
              </p:cNvCxnSpPr>
              <p:nvPr/>
            </p:nvCxnSpPr>
            <p:spPr>
              <a:xfrm flipH="1">
                <a:off x="3420360" y="2548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7" name="AutoShape 84"/>
              <p:cNvCxnSpPr>
                <a:stCxn id="2203" idx="4"/>
                <a:endCxn id="2196" idx="0"/>
              </p:cNvCxnSpPr>
              <p:nvPr/>
            </p:nvCxnSpPr>
            <p:spPr>
              <a:xfrm flipH="1">
                <a:off x="3420360" y="2674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8" name="AutoShape 85"/>
              <p:cNvCxnSpPr>
                <a:stCxn id="2203" idx="4"/>
                <a:endCxn id="2191" idx="0"/>
              </p:cNvCxnSpPr>
              <p:nvPr/>
            </p:nvCxnSpPr>
            <p:spPr>
              <a:xfrm flipH="1" flipV="1">
                <a:off x="3420360" y="249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grpSp>
        <p:nvGrpSpPr>
          <p:cNvPr id="2269" name="Group 86"/>
          <p:cNvGrpSpPr/>
          <p:nvPr/>
        </p:nvGrpSpPr>
        <p:grpSpPr>
          <a:xfrm>
            <a:off x="2514600" y="4495680"/>
            <a:ext cx="1834920" cy="1008360"/>
            <a:chOff x="2514600" y="4495680"/>
            <a:chExt cx="1834920" cy="1008360"/>
          </a:xfrm>
        </p:grpSpPr>
        <p:pic>
          <p:nvPicPr>
            <p:cNvPr id="2270" name="Picture 87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2514600" y="4495680"/>
              <a:ext cx="1834920" cy="10083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271" name="Group 88"/>
            <p:cNvGrpSpPr/>
            <p:nvPr/>
          </p:nvGrpSpPr>
          <p:grpSpPr>
            <a:xfrm>
              <a:off x="2683080" y="4495680"/>
              <a:ext cx="1304280" cy="955080"/>
              <a:chOff x="2683080" y="4495680"/>
              <a:chExt cx="1304280" cy="955080"/>
            </a:xfrm>
          </p:grpSpPr>
          <p:sp>
            <p:nvSpPr>
              <p:cNvPr id="2272" name="Oval 89"/>
              <p:cNvSpPr/>
              <p:nvPr/>
            </p:nvSpPr>
            <p:spPr>
              <a:xfrm rot="5400000">
                <a:off x="3297600" y="4448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Oval 90"/>
              <p:cNvSpPr/>
              <p:nvPr/>
            </p:nvSpPr>
            <p:spPr>
              <a:xfrm rot="5400000">
                <a:off x="3297600" y="4573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Oval 91"/>
              <p:cNvSpPr/>
              <p:nvPr/>
            </p:nvSpPr>
            <p:spPr>
              <a:xfrm rot="5400000">
                <a:off x="3297600" y="4699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Oval 92"/>
              <p:cNvSpPr/>
              <p:nvPr/>
            </p:nvSpPr>
            <p:spPr>
              <a:xfrm rot="5400000">
                <a:off x="3297600" y="4825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Oval 93"/>
              <p:cNvSpPr/>
              <p:nvPr/>
            </p:nvSpPr>
            <p:spPr>
              <a:xfrm rot="5400000">
                <a:off x="3297600" y="4950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Oval 94"/>
              <p:cNvSpPr/>
              <p:nvPr/>
            </p:nvSpPr>
            <p:spPr>
              <a:xfrm rot="5400000">
                <a:off x="3297600" y="50763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Oval 95"/>
              <p:cNvSpPr/>
              <p:nvPr/>
            </p:nvSpPr>
            <p:spPr>
              <a:xfrm rot="5400000">
                <a:off x="3297600" y="5202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Oval 96"/>
              <p:cNvSpPr/>
              <p:nvPr/>
            </p:nvSpPr>
            <p:spPr>
              <a:xfrm rot="5400000">
                <a:off x="3297600" y="5328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Oval 97"/>
              <p:cNvSpPr/>
              <p:nvPr/>
            </p:nvSpPr>
            <p:spPr>
              <a:xfrm rot="5400000">
                <a:off x="2730240" y="46238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Oval 98"/>
              <p:cNvSpPr/>
              <p:nvPr/>
            </p:nvSpPr>
            <p:spPr>
              <a:xfrm rot="5400000">
                <a:off x="2730240" y="474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Oval 99"/>
              <p:cNvSpPr/>
              <p:nvPr/>
            </p:nvSpPr>
            <p:spPr>
              <a:xfrm rot="5400000">
                <a:off x="2730240" y="487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Oval 100"/>
              <p:cNvSpPr/>
              <p:nvPr/>
            </p:nvSpPr>
            <p:spPr>
              <a:xfrm rot="5400000">
                <a:off x="2730240" y="500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Oval 101"/>
              <p:cNvSpPr/>
              <p:nvPr/>
            </p:nvSpPr>
            <p:spPr>
              <a:xfrm rot="5400000">
                <a:off x="2730240" y="5126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Oval 102"/>
              <p:cNvSpPr/>
              <p:nvPr/>
            </p:nvSpPr>
            <p:spPr>
              <a:xfrm rot="5400000">
                <a:off x="3864600" y="474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Oval 103"/>
              <p:cNvSpPr/>
              <p:nvPr/>
            </p:nvSpPr>
            <p:spPr>
              <a:xfrm rot="5400000">
                <a:off x="3864600" y="487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Oval 104"/>
              <p:cNvSpPr/>
              <p:nvPr/>
            </p:nvSpPr>
            <p:spPr>
              <a:xfrm rot="5400000">
                <a:off x="3864600" y="500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8" name="AutoShape 105"/>
              <p:cNvCxnSpPr>
                <a:stCxn id="2280" idx="0"/>
                <a:endCxn id="2274" idx="4"/>
              </p:cNvCxnSpPr>
              <p:nvPr/>
            </p:nvCxnSpPr>
            <p:spPr>
              <a:xfrm>
                <a:off x="2853360" y="470880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89" name="AutoShape 106"/>
              <p:cNvCxnSpPr>
                <a:stCxn id="2281" idx="0"/>
                <a:endCxn id="2275" idx="4"/>
              </p:cNvCxnSpPr>
              <p:nvPr/>
            </p:nvCxnSpPr>
            <p:spPr>
              <a:xfrm>
                <a:off x="2853360" y="4834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0" name="AutoShape 107"/>
              <p:cNvCxnSpPr>
                <a:stCxn id="2281" idx="0"/>
                <a:endCxn id="2276" idx="4"/>
              </p:cNvCxnSpPr>
              <p:nvPr/>
            </p:nvCxnSpPr>
            <p:spPr>
              <a:xfrm>
                <a:off x="2853360" y="4834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1" name="AutoShape 108"/>
              <p:cNvCxnSpPr>
                <a:stCxn id="2282" idx="0"/>
                <a:endCxn id="2276" idx="4"/>
              </p:cNvCxnSpPr>
              <p:nvPr/>
            </p:nvCxnSpPr>
            <p:spPr>
              <a:xfrm>
                <a:off x="2853360" y="496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2" name="AutoShape 109"/>
              <p:cNvCxnSpPr>
                <a:stCxn id="2282" idx="0"/>
                <a:endCxn id="2275" idx="4"/>
              </p:cNvCxnSpPr>
              <p:nvPr/>
            </p:nvCxnSpPr>
            <p:spPr>
              <a:xfrm flipV="1">
                <a:off x="2853360" y="4909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3" name="AutoShape 110"/>
              <p:cNvCxnSpPr>
                <a:stCxn id="2283" idx="0"/>
                <a:endCxn id="2276" idx="4"/>
              </p:cNvCxnSpPr>
              <p:nvPr/>
            </p:nvCxnSpPr>
            <p:spPr>
              <a:xfrm flipV="1">
                <a:off x="2853360" y="5035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4" name="AutoShape 111"/>
              <p:cNvCxnSpPr>
                <a:stCxn id="2283" idx="0"/>
                <a:endCxn id="2277" idx="4"/>
              </p:cNvCxnSpPr>
              <p:nvPr/>
            </p:nvCxnSpPr>
            <p:spPr>
              <a:xfrm>
                <a:off x="2853360" y="5086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5" name="AutoShape 112"/>
              <p:cNvCxnSpPr>
                <a:stCxn id="2284" idx="0"/>
                <a:endCxn id="2277" idx="4"/>
              </p:cNvCxnSpPr>
              <p:nvPr/>
            </p:nvCxnSpPr>
            <p:spPr>
              <a:xfrm flipV="1">
                <a:off x="2853360" y="516096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6" name="AutoShape 113"/>
              <p:cNvCxnSpPr>
                <a:stCxn id="2280" idx="0"/>
                <a:endCxn id="2275" idx="4"/>
              </p:cNvCxnSpPr>
              <p:nvPr/>
            </p:nvCxnSpPr>
            <p:spPr>
              <a:xfrm>
                <a:off x="2853360" y="470916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7" name="AutoShape 114"/>
              <p:cNvCxnSpPr>
                <a:stCxn id="2284" idx="0"/>
                <a:endCxn id="2279" idx="4"/>
              </p:cNvCxnSpPr>
              <p:nvPr/>
            </p:nvCxnSpPr>
            <p:spPr>
              <a:xfrm>
                <a:off x="2853360" y="521208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8" name="AutoShape 115"/>
              <p:cNvCxnSpPr>
                <a:stCxn id="2282" idx="0"/>
                <a:endCxn id="2277" idx="4"/>
              </p:cNvCxnSpPr>
              <p:nvPr/>
            </p:nvCxnSpPr>
            <p:spPr>
              <a:xfrm>
                <a:off x="2853360" y="496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9" name="AutoShape 116"/>
              <p:cNvCxnSpPr>
                <a:stCxn id="2283" idx="0"/>
                <a:endCxn id="2275" idx="4"/>
              </p:cNvCxnSpPr>
              <p:nvPr/>
            </p:nvCxnSpPr>
            <p:spPr>
              <a:xfrm flipV="1">
                <a:off x="2853360" y="4910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0" name="AutoShape 117"/>
              <p:cNvCxnSpPr>
                <a:stCxn id="2284" idx="0"/>
                <a:endCxn id="2276" idx="4"/>
              </p:cNvCxnSpPr>
              <p:nvPr/>
            </p:nvCxnSpPr>
            <p:spPr>
              <a:xfrm flipV="1">
                <a:off x="2853360" y="503568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1" name="AutoShape 118"/>
              <p:cNvCxnSpPr>
                <a:stCxn id="2283" idx="0"/>
                <a:endCxn id="2278" idx="4"/>
              </p:cNvCxnSpPr>
              <p:nvPr/>
            </p:nvCxnSpPr>
            <p:spPr>
              <a:xfrm>
                <a:off x="2853360" y="5086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2" name="AutoShape 119"/>
              <p:cNvCxnSpPr>
                <a:stCxn id="2284" idx="0"/>
                <a:endCxn id="2278" idx="4"/>
              </p:cNvCxnSpPr>
              <p:nvPr/>
            </p:nvCxnSpPr>
            <p:spPr>
              <a:xfrm>
                <a:off x="2853360" y="521172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3" name="AutoShape 120"/>
              <p:cNvCxnSpPr>
                <a:stCxn id="2281" idx="0"/>
                <a:endCxn id="2274" idx="4"/>
              </p:cNvCxnSpPr>
              <p:nvPr/>
            </p:nvCxnSpPr>
            <p:spPr>
              <a:xfrm flipV="1">
                <a:off x="2853360" y="4784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4" name="AutoShape 121"/>
              <p:cNvCxnSpPr>
                <a:stCxn id="2280" idx="0"/>
                <a:endCxn id="2276" idx="4"/>
              </p:cNvCxnSpPr>
              <p:nvPr/>
            </p:nvCxnSpPr>
            <p:spPr>
              <a:xfrm>
                <a:off x="2853360" y="470880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5" name="AutoShape 122"/>
              <p:cNvCxnSpPr>
                <a:stCxn id="2282" idx="0"/>
                <a:endCxn id="2278" idx="4"/>
              </p:cNvCxnSpPr>
              <p:nvPr/>
            </p:nvCxnSpPr>
            <p:spPr>
              <a:xfrm>
                <a:off x="2853360" y="496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6" name="AutoShape 123"/>
              <p:cNvCxnSpPr>
                <a:stCxn id="2283" idx="0"/>
                <a:endCxn id="2274" idx="4"/>
              </p:cNvCxnSpPr>
              <p:nvPr/>
            </p:nvCxnSpPr>
            <p:spPr>
              <a:xfrm flipV="1">
                <a:off x="2853360" y="4784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7" name="AutoShape 124"/>
              <p:cNvCxnSpPr>
                <a:stCxn id="2283" idx="0"/>
                <a:endCxn id="2279" idx="4"/>
              </p:cNvCxnSpPr>
              <p:nvPr/>
            </p:nvCxnSpPr>
            <p:spPr>
              <a:xfrm>
                <a:off x="2853360" y="5086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8" name="AutoShape 125"/>
              <p:cNvCxnSpPr>
                <a:stCxn id="2281" idx="0"/>
                <a:endCxn id="2277" idx="4"/>
              </p:cNvCxnSpPr>
              <p:nvPr/>
            </p:nvCxnSpPr>
            <p:spPr>
              <a:xfrm>
                <a:off x="2853360" y="4834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9" name="AutoShape 126"/>
              <p:cNvCxnSpPr>
                <a:stCxn id="2280" idx="0"/>
                <a:endCxn id="2278" idx="4"/>
              </p:cNvCxnSpPr>
              <p:nvPr/>
            </p:nvCxnSpPr>
            <p:spPr>
              <a:xfrm>
                <a:off x="2853360" y="470880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0" name="AutoShape 127"/>
              <p:cNvCxnSpPr>
                <a:stCxn id="2280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1" name="AutoShape 128"/>
              <p:cNvCxnSpPr>
                <a:stCxn id="2282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2" name="AutoShape 129"/>
              <p:cNvCxnSpPr>
                <a:stCxn id="2273" idx="4"/>
                <a:endCxn id="2284" idx="0"/>
              </p:cNvCxnSpPr>
              <p:nvPr/>
            </p:nvCxnSpPr>
            <p:spPr>
              <a:xfrm flipH="1">
                <a:off x="2853000" y="4658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3" name="AutoShape 130"/>
              <p:cNvCxnSpPr>
                <a:stCxn id="2281" idx="0"/>
                <a:endCxn id="2273" idx="4"/>
              </p:cNvCxnSpPr>
              <p:nvPr/>
            </p:nvCxnSpPr>
            <p:spPr>
              <a:xfrm flipV="1">
                <a:off x="2853360" y="465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4" name="AutoShape 131"/>
              <p:cNvCxnSpPr>
                <a:stCxn id="2284" idx="0"/>
                <a:endCxn id="2274" idx="4"/>
              </p:cNvCxnSpPr>
              <p:nvPr/>
            </p:nvCxnSpPr>
            <p:spPr>
              <a:xfrm flipV="1">
                <a:off x="2853360" y="478440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5" name="AutoShape 132"/>
              <p:cNvCxnSpPr>
                <a:stCxn id="2284" idx="0"/>
                <a:endCxn id="2272" idx="4"/>
              </p:cNvCxnSpPr>
              <p:nvPr/>
            </p:nvCxnSpPr>
            <p:spPr>
              <a:xfrm flipV="1">
                <a:off x="2853360" y="4532400"/>
                <a:ext cx="397800" cy="679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6" name="AutoShape 133"/>
              <p:cNvCxnSpPr>
                <a:stCxn id="2280" idx="0"/>
                <a:endCxn id="2279" idx="4"/>
              </p:cNvCxnSpPr>
              <p:nvPr/>
            </p:nvCxnSpPr>
            <p:spPr>
              <a:xfrm>
                <a:off x="2853360" y="4709160"/>
                <a:ext cx="39780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7" name="AutoShape 134"/>
              <p:cNvCxnSpPr>
                <a:stCxn id="2280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8" name="AutoShape 135"/>
              <p:cNvCxnSpPr>
                <a:stCxn id="2282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9" name="AutoShape 136"/>
              <p:cNvCxnSpPr>
                <a:stCxn id="2281" idx="0"/>
                <a:endCxn id="2272" idx="4"/>
              </p:cNvCxnSpPr>
              <p:nvPr/>
            </p:nvCxnSpPr>
            <p:spPr>
              <a:xfrm flipV="1">
                <a:off x="2853360" y="4532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0" name="AutoShape 137"/>
              <p:cNvCxnSpPr>
                <a:stCxn id="2283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1" name="AutoShape 138"/>
              <p:cNvCxnSpPr>
                <a:stCxn id="2283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2" name="AutoShape 139"/>
              <p:cNvCxnSpPr>
                <a:stCxn id="2284" idx="0"/>
                <a:endCxn id="2275" idx="4"/>
              </p:cNvCxnSpPr>
              <p:nvPr/>
            </p:nvCxnSpPr>
            <p:spPr>
              <a:xfrm flipV="1">
                <a:off x="2853360" y="490968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3" name="AutoShape 140"/>
              <p:cNvCxnSpPr>
                <a:stCxn id="2280" idx="0"/>
                <a:endCxn id="2277" idx="4"/>
              </p:cNvCxnSpPr>
              <p:nvPr/>
            </p:nvCxnSpPr>
            <p:spPr>
              <a:xfrm>
                <a:off x="2853360" y="470916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4" name="AutoShape 141"/>
              <p:cNvCxnSpPr>
                <a:stCxn id="2281" idx="0"/>
                <a:endCxn id="2278" idx="4"/>
              </p:cNvCxnSpPr>
              <p:nvPr/>
            </p:nvCxnSpPr>
            <p:spPr>
              <a:xfrm>
                <a:off x="2853360" y="4834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5" name="AutoShape 142"/>
              <p:cNvCxnSpPr>
                <a:stCxn id="2281" idx="0"/>
                <a:endCxn id="2279" idx="4"/>
              </p:cNvCxnSpPr>
              <p:nvPr/>
            </p:nvCxnSpPr>
            <p:spPr>
              <a:xfrm>
                <a:off x="2853360" y="4834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6" name="AutoShape 143"/>
              <p:cNvCxnSpPr>
                <a:stCxn id="2282" idx="0"/>
                <a:endCxn id="2279" idx="4"/>
              </p:cNvCxnSpPr>
              <p:nvPr/>
            </p:nvCxnSpPr>
            <p:spPr>
              <a:xfrm>
                <a:off x="2853360" y="4960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7" name="AutoShape 144"/>
              <p:cNvCxnSpPr>
                <a:stCxn id="2282" idx="0"/>
                <a:endCxn id="2274" idx="4"/>
              </p:cNvCxnSpPr>
              <p:nvPr/>
            </p:nvCxnSpPr>
            <p:spPr>
              <a:xfrm flipV="1">
                <a:off x="2853360" y="4784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8" name="AutoShape 145"/>
              <p:cNvCxnSpPr>
                <a:stCxn id="2285" idx="4"/>
                <a:endCxn id="2275" idx="0"/>
              </p:cNvCxnSpPr>
              <p:nvPr/>
            </p:nvCxnSpPr>
            <p:spPr>
              <a:xfrm flipH="1">
                <a:off x="3420360" y="4834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9" name="AutoShape 146"/>
              <p:cNvCxnSpPr>
                <a:stCxn id="2285" idx="4"/>
                <a:endCxn id="2276" idx="0"/>
              </p:cNvCxnSpPr>
              <p:nvPr/>
            </p:nvCxnSpPr>
            <p:spPr>
              <a:xfrm flipH="1">
                <a:off x="3420360" y="4834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0" name="AutoShape 147"/>
              <p:cNvCxnSpPr>
                <a:stCxn id="2286" idx="4"/>
                <a:endCxn id="2276" idx="0"/>
              </p:cNvCxnSpPr>
              <p:nvPr/>
            </p:nvCxnSpPr>
            <p:spPr>
              <a:xfrm flipH="1">
                <a:off x="3420360" y="496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1" name="AutoShape 148"/>
              <p:cNvCxnSpPr>
                <a:stCxn id="2286" idx="4"/>
                <a:endCxn id="2275" idx="0"/>
              </p:cNvCxnSpPr>
              <p:nvPr/>
            </p:nvCxnSpPr>
            <p:spPr>
              <a:xfrm flipH="1" flipV="1">
                <a:off x="3420360" y="4909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2" name="AutoShape 149"/>
              <p:cNvCxnSpPr>
                <a:stCxn id="2287" idx="4"/>
                <a:endCxn id="2276" idx="0"/>
              </p:cNvCxnSpPr>
              <p:nvPr/>
            </p:nvCxnSpPr>
            <p:spPr>
              <a:xfrm flipH="1" flipV="1">
                <a:off x="3420360" y="5035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3" name="AutoShape 150"/>
              <p:cNvCxnSpPr>
                <a:stCxn id="2287" idx="4"/>
                <a:endCxn id="2277" idx="0"/>
              </p:cNvCxnSpPr>
              <p:nvPr/>
            </p:nvCxnSpPr>
            <p:spPr>
              <a:xfrm flipH="1">
                <a:off x="3420360" y="5086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4" name="AutoShape 151"/>
              <p:cNvCxnSpPr>
                <a:stCxn id="2286" idx="4"/>
                <a:endCxn id="2277" idx="0"/>
              </p:cNvCxnSpPr>
              <p:nvPr/>
            </p:nvCxnSpPr>
            <p:spPr>
              <a:xfrm flipH="1">
                <a:off x="3420360" y="496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5" name="AutoShape 152"/>
              <p:cNvCxnSpPr>
                <a:stCxn id="2287" idx="4"/>
                <a:endCxn id="2275" idx="0"/>
              </p:cNvCxnSpPr>
              <p:nvPr/>
            </p:nvCxnSpPr>
            <p:spPr>
              <a:xfrm flipH="1" flipV="1">
                <a:off x="3420360" y="4910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6" name="AutoShape 153"/>
              <p:cNvCxnSpPr>
                <a:stCxn id="2287" idx="4"/>
              </p:cNvCxnSpPr>
              <p:nvPr/>
            </p:nvCxnSpPr>
            <p:spPr>
              <a:xfrm flipH="1">
                <a:off x="3420360" y="5086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7" name="AutoShape 154"/>
              <p:cNvCxnSpPr>
                <a:stCxn id="2285" idx="4"/>
                <a:endCxn id="2274" idx="0"/>
              </p:cNvCxnSpPr>
              <p:nvPr/>
            </p:nvCxnSpPr>
            <p:spPr>
              <a:xfrm flipH="1" flipV="1">
                <a:off x="3420360" y="4784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8" name="AutoShape 155"/>
              <p:cNvCxnSpPr>
                <a:stCxn id="2286" idx="4"/>
                <a:endCxn id="2278" idx="0"/>
              </p:cNvCxnSpPr>
              <p:nvPr/>
            </p:nvCxnSpPr>
            <p:spPr>
              <a:xfrm flipH="1">
                <a:off x="3420360" y="496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9" name="AutoShape 156"/>
              <p:cNvCxnSpPr>
                <a:stCxn id="2287" idx="4"/>
                <a:endCxn id="2274" idx="0"/>
              </p:cNvCxnSpPr>
              <p:nvPr/>
            </p:nvCxnSpPr>
            <p:spPr>
              <a:xfrm flipH="1" flipV="1">
                <a:off x="3420360" y="4784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0" name="AutoShape 157"/>
              <p:cNvCxnSpPr>
                <a:stCxn id="2287" idx="4"/>
                <a:endCxn id="2279" idx="0"/>
              </p:cNvCxnSpPr>
              <p:nvPr/>
            </p:nvCxnSpPr>
            <p:spPr>
              <a:xfrm flipH="1">
                <a:off x="3420360" y="5086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1" name="AutoShape 158"/>
              <p:cNvCxnSpPr>
                <a:stCxn id="2285" idx="4"/>
                <a:endCxn id="2277" idx="0"/>
              </p:cNvCxnSpPr>
              <p:nvPr/>
            </p:nvCxnSpPr>
            <p:spPr>
              <a:xfrm flipH="1">
                <a:off x="3420360" y="4834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2" name="AutoShape 159"/>
              <p:cNvCxnSpPr>
                <a:stCxn id="2286" idx="4"/>
                <a:endCxn id="2272" idx="0"/>
              </p:cNvCxnSpPr>
              <p:nvPr/>
            </p:nvCxnSpPr>
            <p:spPr>
              <a:xfrm flipH="1" flipV="1">
                <a:off x="3420360" y="4532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3" name="AutoShape 160"/>
              <p:cNvCxnSpPr>
                <a:stCxn id="2285" idx="4"/>
                <a:endCxn id="2273" idx="0"/>
              </p:cNvCxnSpPr>
              <p:nvPr/>
            </p:nvCxnSpPr>
            <p:spPr>
              <a:xfrm flipH="1" flipV="1">
                <a:off x="3420360" y="465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4" name="AutoShape 161"/>
              <p:cNvCxnSpPr>
                <a:stCxn id="2286" idx="4"/>
                <a:endCxn id="2273" idx="0"/>
              </p:cNvCxnSpPr>
              <p:nvPr/>
            </p:nvCxnSpPr>
            <p:spPr>
              <a:xfrm flipH="1" flipV="1">
                <a:off x="3420360" y="465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5" name="AutoShape 162"/>
              <p:cNvCxnSpPr>
                <a:stCxn id="2285" idx="4"/>
                <a:endCxn id="2272" idx="0"/>
              </p:cNvCxnSpPr>
              <p:nvPr/>
            </p:nvCxnSpPr>
            <p:spPr>
              <a:xfrm flipH="1" flipV="1">
                <a:off x="3420360" y="4532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6" name="AutoShape 163"/>
              <p:cNvCxnSpPr>
                <a:stCxn id="2287" idx="4"/>
                <a:endCxn id="2273" idx="0"/>
              </p:cNvCxnSpPr>
              <p:nvPr/>
            </p:nvCxnSpPr>
            <p:spPr>
              <a:xfrm flipH="1" flipV="1">
                <a:off x="3420360" y="4658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7" name="AutoShape 164"/>
              <p:cNvCxnSpPr>
                <a:stCxn id="2287" idx="4"/>
                <a:endCxn id="2272" idx="0"/>
              </p:cNvCxnSpPr>
              <p:nvPr/>
            </p:nvCxnSpPr>
            <p:spPr>
              <a:xfrm flipH="1" flipV="1">
                <a:off x="3420360" y="453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8" name="AutoShape 165"/>
              <p:cNvCxnSpPr>
                <a:stCxn id="2285" idx="4"/>
                <a:endCxn id="2278" idx="0"/>
              </p:cNvCxnSpPr>
              <p:nvPr/>
            </p:nvCxnSpPr>
            <p:spPr>
              <a:xfrm flipH="1">
                <a:off x="3420360" y="4834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9" name="AutoShape 166"/>
              <p:cNvCxnSpPr>
                <a:stCxn id="2285" idx="4"/>
                <a:endCxn id="2279" idx="0"/>
              </p:cNvCxnSpPr>
              <p:nvPr/>
            </p:nvCxnSpPr>
            <p:spPr>
              <a:xfrm flipH="1">
                <a:off x="3420360" y="4834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50" name="AutoShape 167"/>
              <p:cNvCxnSpPr>
                <a:stCxn id="2286" idx="4"/>
                <a:endCxn id="2279" idx="0"/>
              </p:cNvCxnSpPr>
              <p:nvPr/>
            </p:nvCxnSpPr>
            <p:spPr>
              <a:xfrm flipH="1">
                <a:off x="3420360" y="4960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51" name="AutoShape 168"/>
              <p:cNvCxnSpPr>
                <a:stCxn id="2286" idx="4"/>
                <a:endCxn id="2274" idx="0"/>
              </p:cNvCxnSpPr>
              <p:nvPr/>
            </p:nvCxnSpPr>
            <p:spPr>
              <a:xfrm flipH="1" flipV="1">
                <a:off x="3420360" y="4784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sp>
        <p:nvSpPr>
          <p:cNvPr id="2352" name="Text Box 169"/>
          <p:cNvSpPr/>
          <p:nvPr/>
        </p:nvSpPr>
        <p:spPr>
          <a:xfrm>
            <a:off x="2286000" y="12952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Modelo de Estimación de la Probabilidad de Fr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Text Box 170"/>
          <p:cNvSpPr/>
          <p:nvPr/>
        </p:nvSpPr>
        <p:spPr>
          <a:xfrm>
            <a:off x="2286000" y="3886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Modelo de Estimación del Monto Aco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171"/>
          <p:cNvSpPr/>
          <p:nvPr/>
        </p:nvSpPr>
        <p:spPr>
          <a:xfrm>
            <a:off x="4419720" y="2666880"/>
            <a:ext cx="1447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172"/>
          <p:cNvSpPr/>
          <p:nvPr/>
        </p:nvSpPr>
        <p:spPr>
          <a:xfrm flipV="1">
            <a:off x="6781680" y="2895120"/>
            <a:ext cx="838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Line 173"/>
          <p:cNvSpPr/>
          <p:nvPr/>
        </p:nvSpPr>
        <p:spPr>
          <a:xfrm>
            <a:off x="6781680" y="3854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174"/>
          <p:cNvSpPr/>
          <p:nvPr/>
        </p:nvSpPr>
        <p:spPr>
          <a:xfrm>
            <a:off x="7620120" y="4768920"/>
            <a:ext cx="106668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Text Box 175"/>
          <p:cNvSpPr/>
          <p:nvPr/>
        </p:nvSpPr>
        <p:spPr>
          <a:xfrm>
            <a:off x="7620120" y="3549600"/>
            <a:ext cx="10666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Text Box 176"/>
          <p:cNvSpPr/>
          <p:nvPr/>
        </p:nvSpPr>
        <p:spPr>
          <a:xfrm>
            <a:off x="7620120" y="2558880"/>
            <a:ext cx="10666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177"/>
          <p:cNvSpPr/>
          <p:nvPr/>
        </p:nvSpPr>
        <p:spPr>
          <a:xfrm>
            <a:off x="533520" y="2540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178"/>
          <p:cNvSpPr/>
          <p:nvPr/>
        </p:nvSpPr>
        <p:spPr>
          <a:xfrm>
            <a:off x="533520" y="481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179"/>
          <p:cNvSpPr/>
          <p:nvPr/>
        </p:nvSpPr>
        <p:spPr>
          <a:xfrm flipV="1">
            <a:off x="4343400" y="4114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Text Box 180"/>
          <p:cNvSpPr/>
          <p:nvPr/>
        </p:nvSpPr>
        <p:spPr>
          <a:xfrm>
            <a:off x="5867280" y="2101680"/>
            <a:ext cx="1295640" cy="300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Valor Esperado por  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181"/>
          <p:cNvSpPr/>
          <p:nvPr/>
        </p:nvSpPr>
        <p:spPr>
          <a:xfrm>
            <a:off x="6781680" y="4387680"/>
            <a:ext cx="838440" cy="6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182"/>
          <p:cNvSpPr/>
          <p:nvPr/>
        </p:nvSpPr>
        <p:spPr>
          <a:xfrm>
            <a:off x="6172200" y="339732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183"/>
          <p:cNvSpPr/>
          <p:nvPr/>
        </p:nvSpPr>
        <p:spPr>
          <a:xfrm>
            <a:off x="6172200" y="3625920"/>
            <a:ext cx="60948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184"/>
          <p:cNvSpPr/>
          <p:nvPr/>
        </p:nvSpPr>
        <p:spPr>
          <a:xfrm>
            <a:off x="6172200" y="3930480"/>
            <a:ext cx="6094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8" name="AutoShape 185"/>
          <p:cNvCxnSpPr>
            <a:stCxn id="2360" idx="3"/>
          </p:cNvCxnSpPr>
          <p:nvPr/>
        </p:nvCxnSpPr>
        <p:spPr>
          <a:xfrm flipV="1">
            <a:off x="1523880" y="2714400"/>
            <a:ext cx="991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9" name="AutoShape 186"/>
          <p:cNvCxnSpPr>
            <a:stCxn id="2361" idx="3"/>
          </p:cNvCxnSpPr>
          <p:nvPr/>
        </p:nvCxnSpPr>
        <p:spPr>
          <a:xfrm>
            <a:off x="1523880" y="4997160"/>
            <a:ext cx="991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4" descr="j0289732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713320"/>
          </a:xfrm>
          <a:prstGeom prst="rect">
            <a:avLst/>
          </a:prstGeom>
          <a:ln w="0">
            <a:noFill/>
          </a:ln>
        </p:spPr>
      </p:pic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Proceso de Evaluación: Información a Proporcionar  al Negoc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098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Canal de control de la DUA más adecuado identificando el/los fraude(s) más prob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dentificación de las series con mayor Probabilidad de fra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Resultados del Pilo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74" name="Object 8"/>
          <p:cNvGraphicFramePr/>
          <p:nvPr/>
        </p:nvGraphicFramePr>
        <p:xfrm>
          <a:off x="990720" y="1523880"/>
          <a:ext cx="7800840" cy="433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80084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70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006633"/>
                </a:solidFill>
                <a:latin typeface="Garamond"/>
              </a:rPr>
              <a:t>Aplicación de Redes Neuronales en la Aduana del Perú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7" name="Text Box 3"/>
          <p:cNvSpPr/>
          <p:nvPr/>
        </p:nvSpPr>
        <p:spPr>
          <a:xfrm>
            <a:off x="4039560" y="57164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6633"/>
                </a:solidFill>
                <a:latin typeface="Times New Roman"/>
              </a:rPr>
              <a:t>Juli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8" name="Object 4"/>
          <p:cNvGraphicFramePr/>
          <p:nvPr/>
        </p:nvGraphicFramePr>
        <p:xfrm>
          <a:off x="3048120" y="4114800"/>
          <a:ext cx="3429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11480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 de la Gestión de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1" name="Oval 11"/>
          <p:cNvSpPr/>
          <p:nvPr/>
        </p:nvSpPr>
        <p:spPr>
          <a:xfrm>
            <a:off x="1908000" y="4221000"/>
            <a:ext cx="6480360" cy="1657440"/>
          </a:xfrm>
          <a:prstGeom prst="ellipse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9"/>
          <p:cNvSpPr/>
          <p:nvPr/>
        </p:nvSpPr>
        <p:spPr>
          <a:xfrm>
            <a:off x="539640" y="177336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las transacciones con alta posibilidad de incumpl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77"/>
          <p:cNvGrpSpPr/>
          <p:nvPr/>
        </p:nvGrpSpPr>
        <p:grpSpPr>
          <a:xfrm>
            <a:off x="4267080" y="1676520"/>
            <a:ext cx="4079520" cy="3575880"/>
            <a:chOff x="4267080" y="1676520"/>
            <a:chExt cx="4079520" cy="3575880"/>
          </a:xfrm>
        </p:grpSpPr>
        <p:sp>
          <p:nvSpPr>
            <p:cNvPr id="1224" name="Oval 12"/>
            <p:cNvSpPr/>
            <p:nvPr/>
          </p:nvSpPr>
          <p:spPr>
            <a:xfrm flipH="1">
              <a:off x="6804000" y="4653000"/>
              <a:ext cx="1511280" cy="504720"/>
            </a:xfrm>
            <a:prstGeom prst="ellipse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31"/>
            <p:cNvSpPr/>
            <p:nvPr/>
          </p:nvSpPr>
          <p:spPr>
            <a:xfrm rot="21178800">
              <a:off x="6732720" y="4581360"/>
              <a:ext cx="1584360" cy="576360"/>
            </a:xfrm>
            <a:prstGeom prst="ellipse">
              <a:avLst/>
            </a:prstGeom>
            <a:gradFill rotWithShape="0">
              <a:gsLst>
                <a:gs pos="0">
                  <a:srgbClr val="5e7676"/>
                </a:gs>
                <a:gs pos="50000">
                  <a:srgbClr val="ccffff"/>
                </a:gs>
                <a:gs pos="100000">
                  <a:srgbClr val="5e7676"/>
                </a:gs>
              </a:gsLst>
              <a:lin ang="5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32"/>
            <p:cNvGrpSpPr/>
            <p:nvPr/>
          </p:nvGrpSpPr>
          <p:grpSpPr>
            <a:xfrm>
              <a:off x="4267080" y="1676520"/>
              <a:ext cx="3503520" cy="1145880"/>
              <a:chOff x="4267080" y="1676520"/>
              <a:chExt cx="3503520" cy="1145880"/>
            </a:xfrm>
          </p:grpSpPr>
          <p:sp>
            <p:nvSpPr>
              <p:cNvPr id="1227" name="Freeform 33"/>
              <p:cNvSpPr/>
              <p:nvPr/>
            </p:nvSpPr>
            <p:spPr>
              <a:xfrm>
                <a:off x="4403520" y="1863720"/>
                <a:ext cx="292320" cy="4438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84" h="280">
                    <a:moveTo>
                      <a:pt x="184" y="134"/>
                    </a:moveTo>
                    <a:lnTo>
                      <a:pt x="184" y="162"/>
                    </a:lnTo>
                    <a:lnTo>
                      <a:pt x="180" y="189"/>
                    </a:lnTo>
                    <a:lnTo>
                      <a:pt x="173" y="213"/>
                    </a:lnTo>
                    <a:lnTo>
                      <a:pt x="163" y="235"/>
                    </a:lnTo>
                    <a:lnTo>
                      <a:pt x="151" y="253"/>
                    </a:lnTo>
                    <a:lnTo>
                      <a:pt x="136" y="267"/>
                    </a:lnTo>
                    <a:lnTo>
                      <a:pt x="128" y="272"/>
                    </a:lnTo>
                    <a:lnTo>
                      <a:pt x="119" y="276"/>
                    </a:lnTo>
                    <a:lnTo>
                      <a:pt x="110" y="279"/>
                    </a:lnTo>
                    <a:lnTo>
                      <a:pt x="101" y="280"/>
                    </a:lnTo>
                    <a:lnTo>
                      <a:pt x="91" y="280"/>
                    </a:lnTo>
                    <a:lnTo>
                      <a:pt x="82" y="279"/>
                    </a:lnTo>
                    <a:lnTo>
                      <a:pt x="73" y="276"/>
                    </a:lnTo>
                    <a:lnTo>
                      <a:pt x="64" y="272"/>
                    </a:lnTo>
                    <a:lnTo>
                      <a:pt x="48" y="260"/>
                    </a:lnTo>
                    <a:lnTo>
                      <a:pt x="33" y="244"/>
                    </a:lnTo>
                    <a:lnTo>
                      <a:pt x="20" y="224"/>
                    </a:lnTo>
                    <a:lnTo>
                      <a:pt x="10" y="201"/>
                    </a:lnTo>
                    <a:lnTo>
                      <a:pt x="3" y="175"/>
                    </a:lnTo>
                    <a:lnTo>
                      <a:pt x="0" y="147"/>
                    </a:lnTo>
                    <a:lnTo>
                      <a:pt x="0" y="119"/>
                    </a:lnTo>
                    <a:lnTo>
                      <a:pt x="3" y="92"/>
                    </a:lnTo>
                    <a:lnTo>
                      <a:pt x="10" y="68"/>
                    </a:lnTo>
                    <a:lnTo>
                      <a:pt x="20" y="46"/>
                    </a:lnTo>
                    <a:lnTo>
                      <a:pt x="32" y="28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2"/>
                    </a:lnTo>
                    <a:lnTo>
                      <a:pt x="110" y="5"/>
                    </a:lnTo>
                    <a:lnTo>
                      <a:pt x="119" y="9"/>
                    </a:lnTo>
                    <a:lnTo>
                      <a:pt x="136" y="21"/>
                    </a:lnTo>
                    <a:lnTo>
                      <a:pt x="150" y="37"/>
                    </a:lnTo>
                    <a:lnTo>
                      <a:pt x="163" y="57"/>
                    </a:lnTo>
                    <a:lnTo>
                      <a:pt x="173" y="80"/>
                    </a:lnTo>
                    <a:lnTo>
                      <a:pt x="180" y="106"/>
                    </a:lnTo>
                    <a:lnTo>
                      <a:pt x="184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4"/>
              <p:cNvSpPr/>
              <p:nvPr/>
            </p:nvSpPr>
            <p:spPr>
              <a:xfrm>
                <a:off x="4403520" y="1863720"/>
                <a:ext cx="293760" cy="44388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85" h="280">
                    <a:moveTo>
                      <a:pt x="185" y="134"/>
                    </a:moveTo>
                    <a:lnTo>
                      <a:pt x="185" y="162"/>
                    </a:lnTo>
                    <a:lnTo>
                      <a:pt x="180" y="190"/>
                    </a:lnTo>
                    <a:lnTo>
                      <a:pt x="173" y="213"/>
                    </a:lnTo>
                    <a:lnTo>
                      <a:pt x="164" y="234"/>
                    </a:lnTo>
                    <a:lnTo>
                      <a:pt x="150" y="252"/>
                    </a:lnTo>
                    <a:lnTo>
                      <a:pt x="136" y="266"/>
                    </a:lnTo>
                    <a:lnTo>
                      <a:pt x="127" y="273"/>
                    </a:lnTo>
                    <a:lnTo>
                      <a:pt x="120" y="275"/>
                    </a:lnTo>
                    <a:lnTo>
                      <a:pt x="111" y="280"/>
                    </a:lnTo>
                    <a:lnTo>
                      <a:pt x="101" y="280"/>
                    </a:lnTo>
                    <a:lnTo>
                      <a:pt x="92" y="280"/>
                    </a:lnTo>
                    <a:lnTo>
                      <a:pt x="83" y="280"/>
                    </a:lnTo>
                    <a:lnTo>
                      <a:pt x="74" y="275"/>
                    </a:lnTo>
                    <a:lnTo>
                      <a:pt x="64" y="273"/>
                    </a:lnTo>
                    <a:lnTo>
                      <a:pt x="48" y="261"/>
                    </a:lnTo>
                    <a:lnTo>
                      <a:pt x="32" y="245"/>
                    </a:lnTo>
                    <a:lnTo>
                      <a:pt x="20" y="224"/>
                    </a:lnTo>
                    <a:lnTo>
                      <a:pt x="11" y="201"/>
                    </a:lnTo>
                    <a:lnTo>
                      <a:pt x="4" y="17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4" y="92"/>
                    </a:lnTo>
                    <a:lnTo>
                      <a:pt x="11" y="67"/>
                    </a:lnTo>
                    <a:lnTo>
                      <a:pt x="20" y="46"/>
                    </a:lnTo>
                    <a:lnTo>
                      <a:pt x="32" y="28"/>
                    </a:lnTo>
                    <a:lnTo>
                      <a:pt x="48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2"/>
                    </a:lnTo>
                    <a:lnTo>
                      <a:pt x="83" y="0"/>
                    </a:lnTo>
                    <a:lnTo>
                      <a:pt x="92" y="0"/>
                    </a:lnTo>
                    <a:lnTo>
                      <a:pt x="101" y="2"/>
                    </a:lnTo>
                    <a:lnTo>
                      <a:pt x="111" y="5"/>
                    </a:lnTo>
                    <a:lnTo>
                      <a:pt x="120" y="9"/>
                    </a:lnTo>
                    <a:lnTo>
                      <a:pt x="136" y="21"/>
                    </a:lnTo>
                    <a:lnTo>
                      <a:pt x="150" y="37"/>
                    </a:lnTo>
                    <a:lnTo>
                      <a:pt x="164" y="58"/>
                    </a:lnTo>
                    <a:lnTo>
                      <a:pt x="173" y="81"/>
                    </a:lnTo>
                    <a:lnTo>
                      <a:pt x="180" y="106"/>
                    </a:lnTo>
                    <a:lnTo>
                      <a:pt x="185" y="134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5"/>
              <p:cNvSpPr/>
              <p:nvPr/>
            </p:nvSpPr>
            <p:spPr>
              <a:xfrm>
                <a:off x="4275000" y="1677960"/>
                <a:ext cx="2633760" cy="1142640"/>
              </a:xfrm>
              <a:custGeom>
                <a:avLst/>
                <a:gdLst>
                  <a:gd name="textAreaLeft" fmla="*/ 0 w 2633760"/>
                  <a:gd name="textAreaRight" fmla="*/ 2634120 w 2633760"/>
                  <a:gd name="textAreaTop" fmla="*/ 0 h 1142640"/>
                  <a:gd name="textAreaBottom" fmla="*/ 1143000 h 1142640"/>
                </a:gdLst>
                <a:ahLst/>
                <a:rect l="textAreaLeft" t="textAreaTop" r="textAreaRight" b="textAreaBottom"/>
                <a:pathLst>
                  <a:path w="1659" h="720">
                    <a:moveTo>
                      <a:pt x="564" y="387"/>
                    </a:moveTo>
                    <a:lnTo>
                      <a:pt x="787" y="549"/>
                    </a:lnTo>
                    <a:lnTo>
                      <a:pt x="825" y="576"/>
                    </a:lnTo>
                    <a:lnTo>
                      <a:pt x="840" y="586"/>
                    </a:lnTo>
                    <a:lnTo>
                      <a:pt x="986" y="643"/>
                    </a:lnTo>
                    <a:lnTo>
                      <a:pt x="1119" y="679"/>
                    </a:lnTo>
                    <a:lnTo>
                      <a:pt x="1151" y="686"/>
                    </a:lnTo>
                    <a:lnTo>
                      <a:pt x="1183" y="692"/>
                    </a:lnTo>
                    <a:lnTo>
                      <a:pt x="1334" y="712"/>
                    </a:lnTo>
                    <a:lnTo>
                      <a:pt x="1416" y="717"/>
                    </a:lnTo>
                    <a:lnTo>
                      <a:pt x="1466" y="720"/>
                    </a:lnTo>
                    <a:lnTo>
                      <a:pt x="1509" y="719"/>
                    </a:lnTo>
                    <a:lnTo>
                      <a:pt x="1538" y="716"/>
                    </a:lnTo>
                    <a:lnTo>
                      <a:pt x="1573" y="711"/>
                    </a:lnTo>
                    <a:lnTo>
                      <a:pt x="1617" y="700"/>
                    </a:lnTo>
                    <a:lnTo>
                      <a:pt x="1632" y="695"/>
                    </a:lnTo>
                    <a:lnTo>
                      <a:pt x="1643" y="688"/>
                    </a:lnTo>
                    <a:lnTo>
                      <a:pt x="1650" y="682"/>
                    </a:lnTo>
                    <a:lnTo>
                      <a:pt x="1655" y="675"/>
                    </a:lnTo>
                    <a:lnTo>
                      <a:pt x="1659" y="666"/>
                    </a:lnTo>
                    <a:lnTo>
                      <a:pt x="1659" y="657"/>
                    </a:lnTo>
                    <a:lnTo>
                      <a:pt x="1656" y="650"/>
                    </a:lnTo>
                    <a:lnTo>
                      <a:pt x="1653" y="644"/>
                    </a:lnTo>
                    <a:lnTo>
                      <a:pt x="1649" y="637"/>
                    </a:lnTo>
                    <a:lnTo>
                      <a:pt x="1640" y="629"/>
                    </a:lnTo>
                    <a:lnTo>
                      <a:pt x="1528" y="549"/>
                    </a:lnTo>
                    <a:lnTo>
                      <a:pt x="1418" y="441"/>
                    </a:lnTo>
                    <a:lnTo>
                      <a:pt x="1402" y="423"/>
                    </a:lnTo>
                    <a:lnTo>
                      <a:pt x="1390" y="412"/>
                    </a:lnTo>
                    <a:lnTo>
                      <a:pt x="1378" y="403"/>
                    </a:lnTo>
                    <a:lnTo>
                      <a:pt x="1365" y="394"/>
                    </a:lnTo>
                    <a:lnTo>
                      <a:pt x="1355" y="389"/>
                    </a:lnTo>
                    <a:lnTo>
                      <a:pt x="1340" y="384"/>
                    </a:lnTo>
                    <a:lnTo>
                      <a:pt x="1324" y="377"/>
                    </a:lnTo>
                    <a:lnTo>
                      <a:pt x="1313" y="373"/>
                    </a:lnTo>
                    <a:lnTo>
                      <a:pt x="1301" y="369"/>
                    </a:lnTo>
                    <a:lnTo>
                      <a:pt x="1154" y="330"/>
                    </a:lnTo>
                    <a:lnTo>
                      <a:pt x="1145" y="324"/>
                    </a:lnTo>
                    <a:lnTo>
                      <a:pt x="1129" y="310"/>
                    </a:lnTo>
                    <a:lnTo>
                      <a:pt x="1120" y="296"/>
                    </a:lnTo>
                    <a:lnTo>
                      <a:pt x="1116" y="284"/>
                    </a:lnTo>
                    <a:lnTo>
                      <a:pt x="1119" y="280"/>
                    </a:lnTo>
                    <a:lnTo>
                      <a:pt x="1120" y="276"/>
                    </a:lnTo>
                    <a:lnTo>
                      <a:pt x="1120" y="270"/>
                    </a:lnTo>
                    <a:lnTo>
                      <a:pt x="1115" y="264"/>
                    </a:lnTo>
                    <a:lnTo>
                      <a:pt x="1109" y="260"/>
                    </a:lnTo>
                    <a:lnTo>
                      <a:pt x="1098" y="257"/>
                    </a:lnTo>
                    <a:lnTo>
                      <a:pt x="1079" y="254"/>
                    </a:lnTo>
                    <a:lnTo>
                      <a:pt x="1058" y="251"/>
                    </a:lnTo>
                    <a:lnTo>
                      <a:pt x="1009" y="249"/>
                    </a:lnTo>
                    <a:lnTo>
                      <a:pt x="971" y="247"/>
                    </a:lnTo>
                    <a:lnTo>
                      <a:pt x="918" y="244"/>
                    </a:lnTo>
                    <a:lnTo>
                      <a:pt x="852" y="242"/>
                    </a:lnTo>
                    <a:lnTo>
                      <a:pt x="805" y="240"/>
                    </a:lnTo>
                    <a:lnTo>
                      <a:pt x="622" y="291"/>
                    </a:lnTo>
                    <a:lnTo>
                      <a:pt x="192" y="222"/>
                    </a:lnTo>
                    <a:lnTo>
                      <a:pt x="75" y="6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9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19" y="31"/>
                    </a:lnTo>
                    <a:lnTo>
                      <a:pt x="105" y="264"/>
                    </a:lnTo>
                    <a:lnTo>
                      <a:pt x="185" y="289"/>
                    </a:lnTo>
                    <a:lnTo>
                      <a:pt x="564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6"/>
              <p:cNvSpPr/>
              <p:nvPr/>
            </p:nvSpPr>
            <p:spPr>
              <a:xfrm>
                <a:off x="4275000" y="1676520"/>
                <a:ext cx="2631960" cy="1145880"/>
              </a:xfrm>
              <a:custGeom>
                <a:avLst/>
                <a:gdLst/>
                <a:ahLst/>
                <a:rect l="l" t="t" r="r" b="b"/>
                <a:pathLst>
                  <a:path w="1658" h="722">
                    <a:moveTo>
                      <a:pt x="564" y="389"/>
                    </a:moveTo>
                    <a:lnTo>
                      <a:pt x="786" y="550"/>
                    </a:lnTo>
                    <a:lnTo>
                      <a:pt x="825" y="576"/>
                    </a:lnTo>
                    <a:lnTo>
                      <a:pt x="839" y="587"/>
                    </a:lnTo>
                    <a:lnTo>
                      <a:pt x="985" y="645"/>
                    </a:lnTo>
                    <a:lnTo>
                      <a:pt x="1119" y="680"/>
                    </a:lnTo>
                    <a:lnTo>
                      <a:pt x="1152" y="687"/>
                    </a:lnTo>
                    <a:lnTo>
                      <a:pt x="1182" y="694"/>
                    </a:lnTo>
                    <a:lnTo>
                      <a:pt x="1334" y="712"/>
                    </a:lnTo>
                    <a:lnTo>
                      <a:pt x="1415" y="717"/>
                    </a:lnTo>
                    <a:lnTo>
                      <a:pt x="1466" y="722"/>
                    </a:lnTo>
                    <a:lnTo>
                      <a:pt x="1508" y="719"/>
                    </a:lnTo>
                    <a:lnTo>
                      <a:pt x="1538" y="717"/>
                    </a:lnTo>
                    <a:lnTo>
                      <a:pt x="1573" y="712"/>
                    </a:lnTo>
                    <a:lnTo>
                      <a:pt x="1617" y="701"/>
                    </a:lnTo>
                    <a:lnTo>
                      <a:pt x="1633" y="696"/>
                    </a:lnTo>
                    <a:lnTo>
                      <a:pt x="1644" y="689"/>
                    </a:lnTo>
                    <a:lnTo>
                      <a:pt x="1649" y="682"/>
                    </a:lnTo>
                    <a:lnTo>
                      <a:pt x="1656" y="675"/>
                    </a:lnTo>
                    <a:lnTo>
                      <a:pt x="1658" y="666"/>
                    </a:lnTo>
                    <a:lnTo>
                      <a:pt x="1658" y="659"/>
                    </a:lnTo>
                    <a:lnTo>
                      <a:pt x="1656" y="652"/>
                    </a:lnTo>
                    <a:lnTo>
                      <a:pt x="1654" y="645"/>
                    </a:lnTo>
                    <a:lnTo>
                      <a:pt x="1649" y="638"/>
                    </a:lnTo>
                    <a:lnTo>
                      <a:pt x="1640" y="629"/>
                    </a:lnTo>
                    <a:lnTo>
                      <a:pt x="1529" y="550"/>
                    </a:lnTo>
                    <a:lnTo>
                      <a:pt x="1418" y="442"/>
                    </a:lnTo>
                    <a:lnTo>
                      <a:pt x="1401" y="423"/>
                    </a:lnTo>
                    <a:lnTo>
                      <a:pt x="1390" y="414"/>
                    </a:lnTo>
                    <a:lnTo>
                      <a:pt x="1378" y="405"/>
                    </a:lnTo>
                    <a:lnTo>
                      <a:pt x="1364" y="395"/>
                    </a:lnTo>
                    <a:lnTo>
                      <a:pt x="1355" y="391"/>
                    </a:lnTo>
                    <a:lnTo>
                      <a:pt x="1339" y="384"/>
                    </a:lnTo>
                    <a:lnTo>
                      <a:pt x="1325" y="377"/>
                    </a:lnTo>
                    <a:lnTo>
                      <a:pt x="1314" y="375"/>
                    </a:lnTo>
                    <a:lnTo>
                      <a:pt x="1300" y="370"/>
                    </a:lnTo>
                    <a:lnTo>
                      <a:pt x="1154" y="331"/>
                    </a:lnTo>
                    <a:lnTo>
                      <a:pt x="1145" y="324"/>
                    </a:lnTo>
                    <a:lnTo>
                      <a:pt x="1129" y="310"/>
                    </a:lnTo>
                    <a:lnTo>
                      <a:pt x="1119" y="296"/>
                    </a:lnTo>
                    <a:lnTo>
                      <a:pt x="1115" y="284"/>
                    </a:lnTo>
                    <a:lnTo>
                      <a:pt x="1119" y="282"/>
                    </a:lnTo>
                    <a:lnTo>
                      <a:pt x="1119" y="278"/>
                    </a:lnTo>
                    <a:lnTo>
                      <a:pt x="1119" y="271"/>
                    </a:lnTo>
                    <a:lnTo>
                      <a:pt x="1115" y="266"/>
                    </a:lnTo>
                    <a:lnTo>
                      <a:pt x="1110" y="261"/>
                    </a:lnTo>
                    <a:lnTo>
                      <a:pt x="1098" y="257"/>
                    </a:lnTo>
                    <a:lnTo>
                      <a:pt x="1080" y="254"/>
                    </a:lnTo>
                    <a:lnTo>
                      <a:pt x="1059" y="252"/>
                    </a:lnTo>
                    <a:lnTo>
                      <a:pt x="1008" y="250"/>
                    </a:lnTo>
                    <a:lnTo>
                      <a:pt x="971" y="247"/>
                    </a:lnTo>
                    <a:lnTo>
                      <a:pt x="918" y="245"/>
                    </a:lnTo>
                    <a:lnTo>
                      <a:pt x="853" y="243"/>
                    </a:lnTo>
                    <a:lnTo>
                      <a:pt x="805" y="241"/>
                    </a:lnTo>
                    <a:lnTo>
                      <a:pt x="622" y="291"/>
                    </a:lnTo>
                    <a:lnTo>
                      <a:pt x="192" y="224"/>
                    </a:lnTo>
                    <a:lnTo>
                      <a:pt x="76" y="7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14" y="9"/>
                    </a:lnTo>
                    <a:lnTo>
                      <a:pt x="16" y="23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8" y="32"/>
                    </a:lnTo>
                    <a:lnTo>
                      <a:pt x="106" y="264"/>
                    </a:lnTo>
                    <a:lnTo>
                      <a:pt x="185" y="289"/>
                    </a:lnTo>
                    <a:lnTo>
                      <a:pt x="564" y="389"/>
                    </a:lnTo>
                    <a:lnTo>
                      <a:pt x="564" y="389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7"/>
              <p:cNvSpPr/>
              <p:nvPr/>
            </p:nvSpPr>
            <p:spPr>
              <a:xfrm>
                <a:off x="6387840" y="2243160"/>
                <a:ext cx="106560" cy="471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" h="30">
                    <a:moveTo>
                      <a:pt x="0" y="11"/>
                    </a:moveTo>
                    <a:lnTo>
                      <a:pt x="1" y="6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67" y="4"/>
                    </a:lnTo>
                    <a:lnTo>
                      <a:pt x="65" y="11"/>
                    </a:lnTo>
                    <a:lnTo>
                      <a:pt x="17" y="7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7" y="30"/>
                    </a:lnTo>
                    <a:lnTo>
                      <a:pt x="0" y="3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8"/>
              <p:cNvSpPr/>
              <p:nvPr/>
            </p:nvSpPr>
            <p:spPr>
              <a:xfrm>
                <a:off x="6389640" y="2244600"/>
                <a:ext cx="102960" cy="48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5" h="31">
                    <a:moveTo>
                      <a:pt x="0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65" y="3"/>
                    </a:lnTo>
                    <a:lnTo>
                      <a:pt x="65" y="10"/>
                    </a:lnTo>
                    <a:lnTo>
                      <a:pt x="16" y="7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7" y="3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9"/>
              <p:cNvSpPr/>
              <p:nvPr/>
            </p:nvSpPr>
            <p:spPr>
              <a:xfrm>
                <a:off x="4911480" y="1939680"/>
                <a:ext cx="293760" cy="18396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85" h="116">
                    <a:moveTo>
                      <a:pt x="88" y="55"/>
                    </a:moveTo>
                    <a:lnTo>
                      <a:pt x="104" y="56"/>
                    </a:lnTo>
                    <a:lnTo>
                      <a:pt x="91" y="0"/>
                    </a:lnTo>
                    <a:lnTo>
                      <a:pt x="124" y="0"/>
                    </a:lnTo>
                    <a:lnTo>
                      <a:pt x="185" y="89"/>
                    </a:lnTo>
                    <a:lnTo>
                      <a:pt x="124" y="116"/>
                    </a:lnTo>
                    <a:lnTo>
                      <a:pt x="0" y="95"/>
                    </a:lnTo>
                    <a:lnTo>
                      <a:pt x="8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40"/>
              <p:cNvSpPr/>
              <p:nvPr/>
            </p:nvSpPr>
            <p:spPr>
              <a:xfrm>
                <a:off x="4910040" y="1941480"/>
                <a:ext cx="293760" cy="18216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85" h="115">
                    <a:moveTo>
                      <a:pt x="88" y="55"/>
                    </a:moveTo>
                    <a:lnTo>
                      <a:pt x="104" y="55"/>
                    </a:lnTo>
                    <a:lnTo>
                      <a:pt x="92" y="0"/>
                    </a:lnTo>
                    <a:lnTo>
                      <a:pt x="125" y="0"/>
                    </a:lnTo>
                    <a:lnTo>
                      <a:pt x="185" y="87"/>
                    </a:lnTo>
                    <a:lnTo>
                      <a:pt x="125" y="115"/>
                    </a:lnTo>
                    <a:lnTo>
                      <a:pt x="0" y="94"/>
                    </a:lnTo>
                    <a:lnTo>
                      <a:pt x="88" y="55"/>
                    </a:lnTo>
                    <a:lnTo>
                      <a:pt x="88" y="5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41"/>
              <p:cNvSpPr/>
              <p:nvPr/>
            </p:nvSpPr>
            <p:spPr>
              <a:xfrm>
                <a:off x="4356000" y="1865160"/>
                <a:ext cx="1239840" cy="39960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781" h="252">
                    <a:moveTo>
                      <a:pt x="91" y="11"/>
                    </a:moveTo>
                    <a:lnTo>
                      <a:pt x="0" y="0"/>
                    </a:lnTo>
                    <a:lnTo>
                      <a:pt x="51" y="137"/>
                    </a:lnTo>
                    <a:lnTo>
                      <a:pt x="13" y="193"/>
                    </a:lnTo>
                    <a:lnTo>
                      <a:pt x="45" y="234"/>
                    </a:lnTo>
                    <a:lnTo>
                      <a:pt x="159" y="158"/>
                    </a:lnTo>
                    <a:lnTo>
                      <a:pt x="576" y="243"/>
                    </a:lnTo>
                    <a:lnTo>
                      <a:pt x="609" y="251"/>
                    </a:lnTo>
                    <a:lnTo>
                      <a:pt x="623" y="252"/>
                    </a:lnTo>
                    <a:lnTo>
                      <a:pt x="629" y="251"/>
                    </a:lnTo>
                    <a:lnTo>
                      <a:pt x="632" y="249"/>
                    </a:lnTo>
                    <a:lnTo>
                      <a:pt x="635" y="244"/>
                    </a:lnTo>
                    <a:lnTo>
                      <a:pt x="639" y="236"/>
                    </a:lnTo>
                    <a:lnTo>
                      <a:pt x="654" y="206"/>
                    </a:lnTo>
                    <a:lnTo>
                      <a:pt x="672" y="182"/>
                    </a:lnTo>
                    <a:lnTo>
                      <a:pt x="682" y="173"/>
                    </a:lnTo>
                    <a:lnTo>
                      <a:pt x="706" y="154"/>
                    </a:lnTo>
                    <a:lnTo>
                      <a:pt x="719" y="146"/>
                    </a:lnTo>
                    <a:lnTo>
                      <a:pt x="742" y="134"/>
                    </a:lnTo>
                    <a:lnTo>
                      <a:pt x="755" y="129"/>
                    </a:lnTo>
                    <a:lnTo>
                      <a:pt x="781" y="122"/>
                    </a:lnTo>
                    <a:lnTo>
                      <a:pt x="763" y="122"/>
                    </a:lnTo>
                    <a:lnTo>
                      <a:pt x="743" y="122"/>
                    </a:lnTo>
                    <a:lnTo>
                      <a:pt x="722" y="124"/>
                    </a:lnTo>
                    <a:lnTo>
                      <a:pt x="695" y="127"/>
                    </a:lnTo>
                    <a:lnTo>
                      <a:pt x="657" y="134"/>
                    </a:lnTo>
                    <a:lnTo>
                      <a:pt x="615" y="143"/>
                    </a:lnTo>
                    <a:lnTo>
                      <a:pt x="585" y="151"/>
                    </a:lnTo>
                    <a:lnTo>
                      <a:pt x="567" y="155"/>
                    </a:lnTo>
                    <a:lnTo>
                      <a:pt x="553" y="158"/>
                    </a:lnTo>
                    <a:lnTo>
                      <a:pt x="538" y="158"/>
                    </a:lnTo>
                    <a:lnTo>
                      <a:pt x="491" y="154"/>
                    </a:lnTo>
                    <a:lnTo>
                      <a:pt x="141" y="103"/>
                    </a:lnTo>
                    <a:lnTo>
                      <a:pt x="9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42"/>
              <p:cNvSpPr/>
              <p:nvPr/>
            </p:nvSpPr>
            <p:spPr>
              <a:xfrm>
                <a:off x="4356000" y="1866960"/>
                <a:ext cx="1239840" cy="39636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781" h="250">
                    <a:moveTo>
                      <a:pt x="90" y="10"/>
                    </a:moveTo>
                    <a:lnTo>
                      <a:pt x="0" y="0"/>
                    </a:lnTo>
                    <a:lnTo>
                      <a:pt x="50" y="137"/>
                    </a:lnTo>
                    <a:lnTo>
                      <a:pt x="13" y="192"/>
                    </a:lnTo>
                    <a:lnTo>
                      <a:pt x="46" y="234"/>
                    </a:lnTo>
                    <a:lnTo>
                      <a:pt x="159" y="158"/>
                    </a:lnTo>
                    <a:lnTo>
                      <a:pt x="576" y="243"/>
                    </a:lnTo>
                    <a:lnTo>
                      <a:pt x="608" y="250"/>
                    </a:lnTo>
                    <a:lnTo>
                      <a:pt x="624" y="250"/>
                    </a:lnTo>
                    <a:lnTo>
                      <a:pt x="629" y="250"/>
                    </a:lnTo>
                    <a:lnTo>
                      <a:pt x="631" y="248"/>
                    </a:lnTo>
                    <a:lnTo>
                      <a:pt x="636" y="243"/>
                    </a:lnTo>
                    <a:lnTo>
                      <a:pt x="638" y="236"/>
                    </a:lnTo>
                    <a:lnTo>
                      <a:pt x="654" y="206"/>
                    </a:lnTo>
                    <a:lnTo>
                      <a:pt x="673" y="181"/>
                    </a:lnTo>
                    <a:lnTo>
                      <a:pt x="682" y="171"/>
                    </a:lnTo>
                    <a:lnTo>
                      <a:pt x="705" y="153"/>
                    </a:lnTo>
                    <a:lnTo>
                      <a:pt x="719" y="146"/>
                    </a:lnTo>
                    <a:lnTo>
                      <a:pt x="742" y="134"/>
                    </a:lnTo>
                    <a:lnTo>
                      <a:pt x="756" y="127"/>
                    </a:lnTo>
                    <a:lnTo>
                      <a:pt x="781" y="121"/>
                    </a:lnTo>
                    <a:lnTo>
                      <a:pt x="763" y="121"/>
                    </a:lnTo>
                    <a:lnTo>
                      <a:pt x="742" y="121"/>
                    </a:lnTo>
                    <a:lnTo>
                      <a:pt x="721" y="123"/>
                    </a:lnTo>
                    <a:lnTo>
                      <a:pt x="696" y="125"/>
                    </a:lnTo>
                    <a:lnTo>
                      <a:pt x="656" y="134"/>
                    </a:lnTo>
                    <a:lnTo>
                      <a:pt x="615" y="141"/>
                    </a:lnTo>
                    <a:lnTo>
                      <a:pt x="585" y="151"/>
                    </a:lnTo>
                    <a:lnTo>
                      <a:pt x="566" y="153"/>
                    </a:lnTo>
                    <a:lnTo>
                      <a:pt x="552" y="158"/>
                    </a:lnTo>
                    <a:lnTo>
                      <a:pt x="539" y="158"/>
                    </a:lnTo>
                    <a:lnTo>
                      <a:pt x="490" y="153"/>
                    </a:lnTo>
                    <a:lnTo>
                      <a:pt x="141" y="102"/>
                    </a:lnTo>
                    <a:lnTo>
                      <a:pt x="90" y="10"/>
                    </a:lnTo>
                    <a:lnTo>
                      <a:pt x="90" y="1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43"/>
              <p:cNvSpPr/>
              <p:nvPr/>
            </p:nvSpPr>
            <p:spPr>
              <a:xfrm>
                <a:off x="5518080" y="2063520"/>
                <a:ext cx="689040" cy="35856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434" h="226">
                    <a:moveTo>
                      <a:pt x="157" y="3"/>
                    </a:moveTo>
                    <a:lnTo>
                      <a:pt x="126" y="10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3" y="34"/>
                    </a:lnTo>
                    <a:lnTo>
                      <a:pt x="68" y="48"/>
                    </a:lnTo>
                    <a:lnTo>
                      <a:pt x="56" y="61"/>
                    </a:lnTo>
                    <a:lnTo>
                      <a:pt x="43" y="80"/>
                    </a:lnTo>
                    <a:lnTo>
                      <a:pt x="32" y="108"/>
                    </a:lnTo>
                    <a:lnTo>
                      <a:pt x="26" y="138"/>
                    </a:lnTo>
                    <a:lnTo>
                      <a:pt x="26" y="147"/>
                    </a:lnTo>
                    <a:lnTo>
                      <a:pt x="27" y="153"/>
                    </a:lnTo>
                    <a:lnTo>
                      <a:pt x="30" y="157"/>
                    </a:lnTo>
                    <a:lnTo>
                      <a:pt x="35" y="161"/>
                    </a:lnTo>
                    <a:lnTo>
                      <a:pt x="43" y="163"/>
                    </a:lnTo>
                    <a:lnTo>
                      <a:pt x="434" y="226"/>
                    </a:lnTo>
                    <a:lnTo>
                      <a:pt x="15" y="169"/>
                    </a:lnTo>
                    <a:lnTo>
                      <a:pt x="7" y="166"/>
                    </a:lnTo>
                    <a:lnTo>
                      <a:pt x="3" y="161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1" y="137"/>
                    </a:lnTo>
                    <a:lnTo>
                      <a:pt x="3" y="123"/>
                    </a:lnTo>
                    <a:lnTo>
                      <a:pt x="8" y="103"/>
                    </a:lnTo>
                    <a:lnTo>
                      <a:pt x="13" y="89"/>
                    </a:lnTo>
                    <a:lnTo>
                      <a:pt x="20" y="75"/>
                    </a:lnTo>
                    <a:lnTo>
                      <a:pt x="38" y="50"/>
                    </a:lnTo>
                    <a:lnTo>
                      <a:pt x="60" y="31"/>
                    </a:lnTo>
                    <a:lnTo>
                      <a:pt x="83" y="16"/>
                    </a:lnTo>
                    <a:lnTo>
                      <a:pt x="106" y="7"/>
                    </a:lnTo>
                    <a:lnTo>
                      <a:pt x="131" y="1"/>
                    </a:lnTo>
                    <a:lnTo>
                      <a:pt x="152" y="0"/>
                    </a:lnTo>
                    <a:lnTo>
                      <a:pt x="177" y="1"/>
                    </a:lnTo>
                    <a:lnTo>
                      <a:pt x="157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44"/>
              <p:cNvSpPr/>
              <p:nvPr/>
            </p:nvSpPr>
            <p:spPr>
              <a:xfrm>
                <a:off x="6392880" y="2415960"/>
                <a:ext cx="249120" cy="232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32920"/>
                  <a:gd name="textAreaBottom" fmla="*/ 232920 h 232920"/>
                </a:gdLst>
                <a:ahLst/>
                <a:rect l="textAreaLeft" t="textAreaTop" r="textAreaRight" b="textAreaBottom"/>
                <a:pathLst>
                  <a:path w="157" h="147">
                    <a:moveTo>
                      <a:pt x="47" y="147"/>
                    </a:moveTo>
                    <a:lnTo>
                      <a:pt x="57" y="147"/>
                    </a:lnTo>
                    <a:lnTo>
                      <a:pt x="74" y="145"/>
                    </a:lnTo>
                    <a:lnTo>
                      <a:pt x="89" y="142"/>
                    </a:lnTo>
                    <a:lnTo>
                      <a:pt x="109" y="134"/>
                    </a:lnTo>
                    <a:lnTo>
                      <a:pt x="121" y="128"/>
                    </a:lnTo>
                    <a:lnTo>
                      <a:pt x="134" y="119"/>
                    </a:lnTo>
                    <a:lnTo>
                      <a:pt x="143" y="112"/>
                    </a:lnTo>
                    <a:lnTo>
                      <a:pt x="154" y="103"/>
                    </a:lnTo>
                    <a:lnTo>
                      <a:pt x="157" y="98"/>
                    </a:lnTo>
                    <a:lnTo>
                      <a:pt x="156" y="94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1" y="11"/>
                    </a:lnTo>
                    <a:lnTo>
                      <a:pt x="43" y="15"/>
                    </a:lnTo>
                    <a:lnTo>
                      <a:pt x="33" y="18"/>
                    </a:lnTo>
                    <a:lnTo>
                      <a:pt x="20" y="20"/>
                    </a:lnTo>
                    <a:lnTo>
                      <a:pt x="0" y="24"/>
                    </a:lnTo>
                    <a:lnTo>
                      <a:pt x="47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45"/>
              <p:cNvSpPr/>
              <p:nvPr/>
            </p:nvSpPr>
            <p:spPr>
              <a:xfrm>
                <a:off x="6392880" y="2417760"/>
                <a:ext cx="250560" cy="23112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58" h="146">
                    <a:moveTo>
                      <a:pt x="47" y="146"/>
                    </a:moveTo>
                    <a:lnTo>
                      <a:pt x="58" y="146"/>
                    </a:lnTo>
                    <a:lnTo>
                      <a:pt x="74" y="144"/>
                    </a:lnTo>
                    <a:lnTo>
                      <a:pt x="88" y="141"/>
                    </a:lnTo>
                    <a:lnTo>
                      <a:pt x="109" y="134"/>
                    </a:lnTo>
                    <a:lnTo>
                      <a:pt x="121" y="127"/>
                    </a:lnTo>
                    <a:lnTo>
                      <a:pt x="135" y="118"/>
                    </a:lnTo>
                    <a:lnTo>
                      <a:pt x="144" y="111"/>
                    </a:lnTo>
                    <a:lnTo>
                      <a:pt x="153" y="102"/>
                    </a:lnTo>
                    <a:lnTo>
                      <a:pt x="158" y="97"/>
                    </a:lnTo>
                    <a:lnTo>
                      <a:pt x="155" y="93"/>
                    </a:lnTo>
                    <a:lnTo>
                      <a:pt x="67" y="0"/>
                    </a:lnTo>
                    <a:lnTo>
                      <a:pt x="61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3" y="16"/>
                    </a:lnTo>
                    <a:lnTo>
                      <a:pt x="21" y="19"/>
                    </a:lnTo>
                    <a:lnTo>
                      <a:pt x="0" y="23"/>
                    </a:lnTo>
                    <a:lnTo>
                      <a:pt x="47" y="146"/>
                    </a:lnTo>
                    <a:lnTo>
                      <a:pt x="47" y="146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46"/>
              <p:cNvSpPr/>
              <p:nvPr/>
            </p:nvSpPr>
            <p:spPr>
              <a:xfrm>
                <a:off x="6513480" y="2377800"/>
                <a:ext cx="174600" cy="182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0" h="115">
                    <a:moveTo>
                      <a:pt x="6" y="7"/>
                    </a:moveTo>
                    <a:lnTo>
                      <a:pt x="5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87" y="114"/>
                    </a:lnTo>
                    <a:lnTo>
                      <a:pt x="93" y="115"/>
                    </a:lnTo>
                    <a:lnTo>
                      <a:pt x="97" y="114"/>
                    </a:lnTo>
                    <a:lnTo>
                      <a:pt x="105" y="112"/>
                    </a:lnTo>
                    <a:lnTo>
                      <a:pt x="110" y="104"/>
                    </a:lnTo>
                    <a:lnTo>
                      <a:pt x="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47"/>
              <p:cNvSpPr/>
              <p:nvPr/>
            </p:nvSpPr>
            <p:spPr>
              <a:xfrm>
                <a:off x="6510240" y="2377800"/>
                <a:ext cx="176040" cy="1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1" h="115">
                    <a:moveTo>
                      <a:pt x="7" y="7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0" y="21"/>
                    </a:lnTo>
                    <a:lnTo>
                      <a:pt x="88" y="113"/>
                    </a:lnTo>
                    <a:lnTo>
                      <a:pt x="95" y="115"/>
                    </a:lnTo>
                    <a:lnTo>
                      <a:pt x="100" y="113"/>
                    </a:lnTo>
                    <a:lnTo>
                      <a:pt x="107" y="111"/>
                    </a:lnTo>
                    <a:lnTo>
                      <a:pt x="111" y="104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48"/>
              <p:cNvSpPr/>
              <p:nvPr/>
            </p:nvSpPr>
            <p:spPr>
              <a:xfrm>
                <a:off x="6315120" y="2278080"/>
                <a:ext cx="104760" cy="48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6" h="31">
                    <a:moveTo>
                      <a:pt x="0" y="12"/>
                    </a:moveTo>
                    <a:lnTo>
                      <a:pt x="1" y="6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66" y="4"/>
                    </a:lnTo>
                    <a:lnTo>
                      <a:pt x="65" y="12"/>
                    </a:lnTo>
                    <a:lnTo>
                      <a:pt x="17" y="8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7" y="31"/>
                    </a:lnTo>
                    <a:lnTo>
                      <a:pt x="0" y="3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49"/>
              <p:cNvSpPr/>
              <p:nvPr/>
            </p:nvSpPr>
            <p:spPr>
              <a:xfrm>
                <a:off x="5811840" y="1944720"/>
                <a:ext cx="199800" cy="1692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26" h="107">
                    <a:moveTo>
                      <a:pt x="0" y="101"/>
                    </a:moveTo>
                    <a:lnTo>
                      <a:pt x="91" y="107"/>
                    </a:lnTo>
                    <a:lnTo>
                      <a:pt x="103" y="107"/>
                    </a:lnTo>
                    <a:lnTo>
                      <a:pt x="113" y="107"/>
                    </a:lnTo>
                    <a:lnTo>
                      <a:pt x="120" y="106"/>
                    </a:lnTo>
                    <a:lnTo>
                      <a:pt x="124" y="103"/>
                    </a:lnTo>
                    <a:lnTo>
                      <a:pt x="126" y="98"/>
                    </a:lnTo>
                    <a:lnTo>
                      <a:pt x="124" y="93"/>
                    </a:lnTo>
                    <a:lnTo>
                      <a:pt x="118" y="91"/>
                    </a:lnTo>
                    <a:lnTo>
                      <a:pt x="110" y="89"/>
                    </a:lnTo>
                    <a:lnTo>
                      <a:pt x="103" y="87"/>
                    </a:lnTo>
                    <a:lnTo>
                      <a:pt x="103" y="64"/>
                    </a:lnTo>
                    <a:lnTo>
                      <a:pt x="110" y="62"/>
                    </a:lnTo>
                    <a:lnTo>
                      <a:pt x="110" y="54"/>
                    </a:lnTo>
                    <a:lnTo>
                      <a:pt x="104" y="54"/>
                    </a:lnTo>
                    <a:lnTo>
                      <a:pt x="104" y="18"/>
                    </a:lnTo>
                    <a:lnTo>
                      <a:pt x="106" y="15"/>
                    </a:lnTo>
                    <a:lnTo>
                      <a:pt x="106" y="5"/>
                    </a:lnTo>
                    <a:lnTo>
                      <a:pt x="99" y="5"/>
                    </a:lnTo>
                    <a:lnTo>
                      <a:pt x="99" y="15"/>
                    </a:lnTo>
                    <a:lnTo>
                      <a:pt x="101" y="18"/>
                    </a:lnTo>
                    <a:lnTo>
                      <a:pt x="101" y="54"/>
                    </a:lnTo>
                    <a:lnTo>
                      <a:pt x="88" y="54"/>
                    </a:lnTo>
                    <a:lnTo>
                      <a:pt x="85" y="38"/>
                    </a:lnTo>
                    <a:lnTo>
                      <a:pt x="76" y="36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9" y="36"/>
                    </a:lnTo>
                    <a:lnTo>
                      <a:pt x="59" y="37"/>
                    </a:lnTo>
                    <a:lnTo>
                      <a:pt x="57" y="54"/>
                    </a:lnTo>
                    <a:lnTo>
                      <a:pt x="42" y="54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5" y="5"/>
                    </a:lnTo>
                    <a:lnTo>
                      <a:pt x="36" y="4"/>
                    </a:lnTo>
                    <a:lnTo>
                      <a:pt x="36" y="16"/>
                    </a:lnTo>
                    <a:lnTo>
                      <a:pt x="38" y="18"/>
                    </a:lnTo>
                    <a:lnTo>
                      <a:pt x="38" y="54"/>
                    </a:lnTo>
                    <a:lnTo>
                      <a:pt x="33" y="55"/>
                    </a:lnTo>
                    <a:lnTo>
                      <a:pt x="33" y="64"/>
                    </a:lnTo>
                    <a:lnTo>
                      <a:pt x="43" y="66"/>
                    </a:lnTo>
                    <a:lnTo>
                      <a:pt x="43" y="84"/>
                    </a:lnTo>
                    <a:lnTo>
                      <a:pt x="26" y="8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0"/>
              <p:cNvSpPr/>
              <p:nvPr/>
            </p:nvSpPr>
            <p:spPr>
              <a:xfrm>
                <a:off x="5813280" y="1944720"/>
                <a:ext cx="198360" cy="1677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25" h="106">
                    <a:moveTo>
                      <a:pt x="0" y="102"/>
                    </a:moveTo>
                    <a:lnTo>
                      <a:pt x="90" y="106"/>
                    </a:lnTo>
                    <a:lnTo>
                      <a:pt x="102" y="106"/>
                    </a:lnTo>
                    <a:lnTo>
                      <a:pt x="111" y="106"/>
                    </a:lnTo>
                    <a:lnTo>
                      <a:pt x="120" y="106"/>
                    </a:lnTo>
                    <a:lnTo>
                      <a:pt x="122" y="104"/>
                    </a:lnTo>
                    <a:lnTo>
                      <a:pt x="125" y="97"/>
                    </a:lnTo>
                    <a:lnTo>
                      <a:pt x="122" y="92"/>
                    </a:lnTo>
                    <a:lnTo>
                      <a:pt x="118" y="90"/>
                    </a:lnTo>
                    <a:lnTo>
                      <a:pt x="109" y="90"/>
                    </a:lnTo>
                    <a:lnTo>
                      <a:pt x="102" y="88"/>
                    </a:lnTo>
                    <a:lnTo>
                      <a:pt x="102" y="65"/>
                    </a:lnTo>
                    <a:lnTo>
                      <a:pt x="109" y="62"/>
                    </a:lnTo>
                    <a:lnTo>
                      <a:pt x="109" y="53"/>
                    </a:lnTo>
                    <a:lnTo>
                      <a:pt x="104" y="53"/>
                    </a:lnTo>
                    <a:lnTo>
                      <a:pt x="104" y="18"/>
                    </a:lnTo>
                    <a:lnTo>
                      <a:pt x="106" y="16"/>
                    </a:lnTo>
                    <a:lnTo>
                      <a:pt x="106" y="4"/>
                    </a:lnTo>
                    <a:lnTo>
                      <a:pt x="97" y="4"/>
                    </a:lnTo>
                    <a:lnTo>
                      <a:pt x="97" y="16"/>
                    </a:lnTo>
                    <a:lnTo>
                      <a:pt x="99" y="18"/>
                    </a:lnTo>
                    <a:lnTo>
                      <a:pt x="99" y="53"/>
                    </a:lnTo>
                    <a:lnTo>
                      <a:pt x="88" y="53"/>
                    </a:lnTo>
                    <a:lnTo>
                      <a:pt x="85" y="39"/>
                    </a:lnTo>
                    <a:lnTo>
                      <a:pt x="74" y="37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7" y="37"/>
                    </a:lnTo>
                    <a:lnTo>
                      <a:pt x="58" y="37"/>
                    </a:lnTo>
                    <a:lnTo>
                      <a:pt x="55" y="53"/>
                    </a:lnTo>
                    <a:lnTo>
                      <a:pt x="42" y="55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4"/>
                    </a:lnTo>
                    <a:lnTo>
                      <a:pt x="35" y="4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7" y="53"/>
                    </a:lnTo>
                    <a:lnTo>
                      <a:pt x="32" y="55"/>
                    </a:lnTo>
                    <a:lnTo>
                      <a:pt x="32" y="65"/>
                    </a:lnTo>
                    <a:lnTo>
                      <a:pt x="42" y="67"/>
                    </a:lnTo>
                    <a:lnTo>
                      <a:pt x="42" y="85"/>
                    </a:lnTo>
                    <a:lnTo>
                      <a:pt x="25" y="85"/>
                    </a:ln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1"/>
              <p:cNvSpPr/>
              <p:nvPr/>
            </p:nvSpPr>
            <p:spPr>
              <a:xfrm>
                <a:off x="5403600" y="1885680"/>
                <a:ext cx="773280" cy="85680"/>
              </a:xfrm>
              <a:custGeom>
                <a:avLst/>
                <a:gdLst>
                  <a:gd name="textAreaLeft" fmla="*/ 0 w 773280"/>
                  <a:gd name="textAreaRight" fmla="*/ 773640 w 7732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87" h="54">
                    <a:moveTo>
                      <a:pt x="178" y="38"/>
                    </a:moveTo>
                    <a:lnTo>
                      <a:pt x="184" y="41"/>
                    </a:lnTo>
                    <a:lnTo>
                      <a:pt x="192" y="43"/>
                    </a:lnTo>
                    <a:lnTo>
                      <a:pt x="206" y="43"/>
                    </a:lnTo>
                    <a:lnTo>
                      <a:pt x="216" y="41"/>
                    </a:lnTo>
                    <a:lnTo>
                      <a:pt x="225" y="41"/>
                    </a:lnTo>
                    <a:lnTo>
                      <a:pt x="271" y="45"/>
                    </a:lnTo>
                    <a:lnTo>
                      <a:pt x="280" y="42"/>
                    </a:lnTo>
                    <a:lnTo>
                      <a:pt x="299" y="46"/>
                    </a:lnTo>
                    <a:lnTo>
                      <a:pt x="319" y="42"/>
                    </a:lnTo>
                    <a:lnTo>
                      <a:pt x="332" y="41"/>
                    </a:lnTo>
                    <a:lnTo>
                      <a:pt x="343" y="43"/>
                    </a:lnTo>
                    <a:lnTo>
                      <a:pt x="359" y="48"/>
                    </a:lnTo>
                    <a:lnTo>
                      <a:pt x="431" y="54"/>
                    </a:lnTo>
                    <a:lnTo>
                      <a:pt x="445" y="54"/>
                    </a:lnTo>
                    <a:lnTo>
                      <a:pt x="459" y="53"/>
                    </a:lnTo>
                    <a:lnTo>
                      <a:pt x="477" y="48"/>
                    </a:lnTo>
                    <a:lnTo>
                      <a:pt x="484" y="44"/>
                    </a:lnTo>
                    <a:lnTo>
                      <a:pt x="487" y="20"/>
                    </a:lnTo>
                    <a:lnTo>
                      <a:pt x="479" y="11"/>
                    </a:lnTo>
                    <a:lnTo>
                      <a:pt x="372" y="18"/>
                    </a:lnTo>
                    <a:lnTo>
                      <a:pt x="350" y="17"/>
                    </a:lnTo>
                    <a:lnTo>
                      <a:pt x="341" y="9"/>
                    </a:lnTo>
                    <a:lnTo>
                      <a:pt x="332" y="6"/>
                    </a:lnTo>
                    <a:lnTo>
                      <a:pt x="324" y="5"/>
                    </a:lnTo>
                    <a:lnTo>
                      <a:pt x="314" y="8"/>
                    </a:lnTo>
                    <a:lnTo>
                      <a:pt x="307" y="14"/>
                    </a:lnTo>
                    <a:lnTo>
                      <a:pt x="299" y="14"/>
                    </a:lnTo>
                    <a:lnTo>
                      <a:pt x="192" y="1"/>
                    </a:lnTo>
                    <a:lnTo>
                      <a:pt x="166" y="0"/>
                    </a:lnTo>
                    <a:lnTo>
                      <a:pt x="0" y="35"/>
                    </a:lnTo>
                    <a:lnTo>
                      <a:pt x="17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"/>
              <p:cNvSpPr/>
              <p:nvPr/>
            </p:nvSpPr>
            <p:spPr>
              <a:xfrm>
                <a:off x="5402160" y="1885680"/>
                <a:ext cx="774720" cy="8388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88" h="53">
                    <a:moveTo>
                      <a:pt x="178" y="37"/>
                    </a:moveTo>
                    <a:lnTo>
                      <a:pt x="185" y="41"/>
                    </a:lnTo>
                    <a:lnTo>
                      <a:pt x="194" y="44"/>
                    </a:lnTo>
                    <a:lnTo>
                      <a:pt x="208" y="44"/>
                    </a:lnTo>
                    <a:lnTo>
                      <a:pt x="217" y="41"/>
                    </a:lnTo>
                    <a:lnTo>
                      <a:pt x="227" y="41"/>
                    </a:lnTo>
                    <a:lnTo>
                      <a:pt x="270" y="46"/>
                    </a:lnTo>
                    <a:lnTo>
                      <a:pt x="280" y="41"/>
                    </a:lnTo>
                    <a:lnTo>
                      <a:pt x="301" y="46"/>
                    </a:lnTo>
                    <a:lnTo>
                      <a:pt x="319" y="41"/>
                    </a:lnTo>
                    <a:lnTo>
                      <a:pt x="333" y="41"/>
                    </a:lnTo>
                    <a:lnTo>
                      <a:pt x="344" y="41"/>
                    </a:lnTo>
                    <a:lnTo>
                      <a:pt x="361" y="48"/>
                    </a:lnTo>
                    <a:lnTo>
                      <a:pt x="432" y="53"/>
                    </a:lnTo>
                    <a:lnTo>
                      <a:pt x="446" y="53"/>
                    </a:lnTo>
                    <a:lnTo>
                      <a:pt x="460" y="53"/>
                    </a:lnTo>
                    <a:lnTo>
                      <a:pt x="479" y="48"/>
                    </a:lnTo>
                    <a:lnTo>
                      <a:pt x="486" y="44"/>
                    </a:lnTo>
                    <a:lnTo>
                      <a:pt x="488" y="21"/>
                    </a:lnTo>
                    <a:lnTo>
                      <a:pt x="481" y="11"/>
                    </a:lnTo>
                    <a:lnTo>
                      <a:pt x="375" y="18"/>
                    </a:lnTo>
                    <a:lnTo>
                      <a:pt x="351" y="16"/>
                    </a:lnTo>
                    <a:lnTo>
                      <a:pt x="342" y="9"/>
                    </a:lnTo>
                    <a:lnTo>
                      <a:pt x="333" y="7"/>
                    </a:lnTo>
                    <a:lnTo>
                      <a:pt x="326" y="4"/>
                    </a:lnTo>
                    <a:lnTo>
                      <a:pt x="314" y="7"/>
                    </a:lnTo>
                    <a:lnTo>
                      <a:pt x="307" y="14"/>
                    </a:lnTo>
                    <a:lnTo>
                      <a:pt x="301" y="14"/>
                    </a:lnTo>
                    <a:lnTo>
                      <a:pt x="194" y="2"/>
                    </a:lnTo>
                    <a:lnTo>
                      <a:pt x="166" y="0"/>
                    </a:lnTo>
                    <a:lnTo>
                      <a:pt x="0" y="35"/>
                    </a:lnTo>
                    <a:lnTo>
                      <a:pt x="178" y="37"/>
                    </a:lnTo>
                    <a:lnTo>
                      <a:pt x="178" y="37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"/>
              <p:cNvSpPr/>
              <p:nvPr/>
            </p:nvSpPr>
            <p:spPr>
              <a:xfrm>
                <a:off x="6108480" y="1866960"/>
                <a:ext cx="1660680" cy="163080"/>
              </a:xfrm>
              <a:custGeom>
                <a:avLst/>
                <a:gdLst>
                  <a:gd name="textAreaLeft" fmla="*/ 0 w 1660680"/>
                  <a:gd name="textAreaRight" fmla="*/ 1661040 w 166068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046" h="103">
                    <a:moveTo>
                      <a:pt x="36" y="36"/>
                    </a:moveTo>
                    <a:lnTo>
                      <a:pt x="27" y="42"/>
                    </a:lnTo>
                    <a:lnTo>
                      <a:pt x="13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1033" y="103"/>
                    </a:lnTo>
                    <a:lnTo>
                      <a:pt x="1041" y="102"/>
                    </a:lnTo>
                    <a:lnTo>
                      <a:pt x="1046" y="99"/>
                    </a:lnTo>
                    <a:lnTo>
                      <a:pt x="1045" y="93"/>
                    </a:lnTo>
                    <a:lnTo>
                      <a:pt x="1042" y="90"/>
                    </a:lnTo>
                    <a:lnTo>
                      <a:pt x="1024" y="81"/>
                    </a:lnTo>
                    <a:lnTo>
                      <a:pt x="1004" y="70"/>
                    </a:lnTo>
                    <a:lnTo>
                      <a:pt x="967" y="55"/>
                    </a:lnTo>
                    <a:lnTo>
                      <a:pt x="924" y="40"/>
                    </a:lnTo>
                    <a:lnTo>
                      <a:pt x="882" y="27"/>
                    </a:lnTo>
                    <a:lnTo>
                      <a:pt x="793" y="0"/>
                    </a:lnTo>
                    <a:lnTo>
                      <a:pt x="882" y="32"/>
                    </a:lnTo>
                    <a:lnTo>
                      <a:pt x="895" y="39"/>
                    </a:lnTo>
                    <a:lnTo>
                      <a:pt x="900" y="45"/>
                    </a:lnTo>
                    <a:lnTo>
                      <a:pt x="900" y="48"/>
                    </a:lnTo>
                    <a:lnTo>
                      <a:pt x="895" y="53"/>
                    </a:lnTo>
                    <a:lnTo>
                      <a:pt x="887" y="54"/>
                    </a:lnTo>
                    <a:lnTo>
                      <a:pt x="873" y="54"/>
                    </a:lnTo>
                    <a:lnTo>
                      <a:pt x="42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4"/>
              <p:cNvSpPr/>
              <p:nvPr/>
            </p:nvSpPr>
            <p:spPr>
              <a:xfrm>
                <a:off x="6107040" y="1866960"/>
                <a:ext cx="1663560" cy="164520"/>
              </a:xfrm>
              <a:custGeom>
                <a:avLst/>
                <a:gdLst>
                  <a:gd name="textAreaLeft" fmla="*/ 0 w 1663560"/>
                  <a:gd name="textAreaRight" fmla="*/ 1663920 w 16635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048" h="104">
                    <a:moveTo>
                      <a:pt x="37" y="35"/>
                    </a:moveTo>
                    <a:lnTo>
                      <a:pt x="28" y="42"/>
                    </a:lnTo>
                    <a:lnTo>
                      <a:pt x="14" y="47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034" y="104"/>
                    </a:lnTo>
                    <a:lnTo>
                      <a:pt x="1043" y="102"/>
                    </a:lnTo>
                    <a:lnTo>
                      <a:pt x="1048" y="100"/>
                    </a:lnTo>
                    <a:lnTo>
                      <a:pt x="1046" y="93"/>
                    </a:lnTo>
                    <a:lnTo>
                      <a:pt x="1043" y="90"/>
                    </a:lnTo>
                    <a:lnTo>
                      <a:pt x="1025" y="81"/>
                    </a:lnTo>
                    <a:lnTo>
                      <a:pt x="1006" y="70"/>
                    </a:lnTo>
                    <a:lnTo>
                      <a:pt x="967" y="56"/>
                    </a:lnTo>
                    <a:lnTo>
                      <a:pt x="925" y="40"/>
                    </a:lnTo>
                    <a:lnTo>
                      <a:pt x="884" y="28"/>
                    </a:lnTo>
                    <a:lnTo>
                      <a:pt x="793" y="0"/>
                    </a:lnTo>
                    <a:lnTo>
                      <a:pt x="884" y="33"/>
                    </a:lnTo>
                    <a:lnTo>
                      <a:pt x="897" y="40"/>
                    </a:lnTo>
                    <a:lnTo>
                      <a:pt x="900" y="44"/>
                    </a:lnTo>
                    <a:lnTo>
                      <a:pt x="900" y="49"/>
                    </a:lnTo>
                    <a:lnTo>
                      <a:pt x="897" y="53"/>
                    </a:lnTo>
                    <a:lnTo>
                      <a:pt x="888" y="53"/>
                    </a:lnTo>
                    <a:lnTo>
                      <a:pt x="874" y="53"/>
                    </a:lnTo>
                    <a:lnTo>
                      <a:pt x="44" y="30"/>
                    </a:lnTo>
                    <a:lnTo>
                      <a:pt x="37" y="35"/>
                    </a:lnTo>
                    <a:lnTo>
                      <a:pt x="37" y="3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55"/>
              <p:cNvSpPr/>
              <p:nvPr/>
            </p:nvSpPr>
            <p:spPr>
              <a:xfrm>
                <a:off x="4268520" y="1746000"/>
                <a:ext cx="1492560" cy="195120"/>
              </a:xfrm>
              <a:custGeom>
                <a:avLst/>
                <a:gdLst>
                  <a:gd name="textAreaLeft" fmla="*/ 0 w 1492560"/>
                  <a:gd name="textAreaRight" fmla="*/ 1492920 w 1492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940" h="123">
                    <a:moveTo>
                      <a:pt x="909" y="83"/>
                    </a:moveTo>
                    <a:lnTo>
                      <a:pt x="904" y="85"/>
                    </a:lnTo>
                    <a:lnTo>
                      <a:pt x="899" y="90"/>
                    </a:lnTo>
                    <a:lnTo>
                      <a:pt x="893" y="99"/>
                    </a:lnTo>
                    <a:lnTo>
                      <a:pt x="897" y="88"/>
                    </a:lnTo>
                    <a:lnTo>
                      <a:pt x="72" y="0"/>
                    </a:lnTo>
                    <a:lnTo>
                      <a:pt x="59" y="3"/>
                    </a:lnTo>
                    <a:lnTo>
                      <a:pt x="47" y="8"/>
                    </a:lnTo>
                    <a:lnTo>
                      <a:pt x="30" y="18"/>
                    </a:lnTo>
                    <a:lnTo>
                      <a:pt x="18" y="28"/>
                    </a:lnTo>
                    <a:lnTo>
                      <a:pt x="10" y="36"/>
                    </a:lnTo>
                    <a:lnTo>
                      <a:pt x="4" y="46"/>
                    </a:lnTo>
                    <a:lnTo>
                      <a:pt x="1" y="57"/>
                    </a:lnTo>
                    <a:lnTo>
                      <a:pt x="0" y="66"/>
                    </a:lnTo>
                    <a:lnTo>
                      <a:pt x="1" y="79"/>
                    </a:lnTo>
                    <a:lnTo>
                      <a:pt x="5" y="90"/>
                    </a:lnTo>
                    <a:lnTo>
                      <a:pt x="16" y="109"/>
                    </a:lnTo>
                    <a:lnTo>
                      <a:pt x="7" y="85"/>
                    </a:lnTo>
                    <a:lnTo>
                      <a:pt x="6" y="74"/>
                    </a:lnTo>
                    <a:lnTo>
                      <a:pt x="6" y="66"/>
                    </a:lnTo>
                    <a:lnTo>
                      <a:pt x="8" y="58"/>
                    </a:lnTo>
                    <a:lnTo>
                      <a:pt x="13" y="49"/>
                    </a:lnTo>
                    <a:lnTo>
                      <a:pt x="19" y="42"/>
                    </a:lnTo>
                    <a:lnTo>
                      <a:pt x="714" y="123"/>
                    </a:lnTo>
                    <a:lnTo>
                      <a:pt x="815" y="121"/>
                    </a:lnTo>
                    <a:lnTo>
                      <a:pt x="870" y="119"/>
                    </a:lnTo>
                    <a:lnTo>
                      <a:pt x="877" y="117"/>
                    </a:lnTo>
                    <a:lnTo>
                      <a:pt x="883" y="113"/>
                    </a:lnTo>
                    <a:lnTo>
                      <a:pt x="891" y="103"/>
                    </a:lnTo>
                    <a:lnTo>
                      <a:pt x="891" y="113"/>
                    </a:lnTo>
                    <a:lnTo>
                      <a:pt x="901" y="108"/>
                    </a:lnTo>
                    <a:lnTo>
                      <a:pt x="908" y="108"/>
                    </a:lnTo>
                    <a:lnTo>
                      <a:pt x="913" y="112"/>
                    </a:lnTo>
                    <a:lnTo>
                      <a:pt x="917" y="117"/>
                    </a:lnTo>
                    <a:lnTo>
                      <a:pt x="928" y="117"/>
                    </a:lnTo>
                    <a:lnTo>
                      <a:pt x="926" y="110"/>
                    </a:lnTo>
                    <a:lnTo>
                      <a:pt x="929" y="102"/>
                    </a:lnTo>
                    <a:lnTo>
                      <a:pt x="933" y="95"/>
                    </a:lnTo>
                    <a:lnTo>
                      <a:pt x="940" y="93"/>
                    </a:lnTo>
                    <a:lnTo>
                      <a:pt x="934" y="86"/>
                    </a:lnTo>
                    <a:lnTo>
                      <a:pt x="927" y="83"/>
                    </a:lnTo>
                    <a:lnTo>
                      <a:pt x="915" y="83"/>
                    </a:lnTo>
                    <a:lnTo>
                      <a:pt x="909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6"/>
              <p:cNvSpPr/>
              <p:nvPr/>
            </p:nvSpPr>
            <p:spPr>
              <a:xfrm>
                <a:off x="4267080" y="1746000"/>
                <a:ext cx="1495440" cy="195120"/>
              </a:xfrm>
              <a:custGeom>
                <a:avLst/>
                <a:gdLst>
                  <a:gd name="textAreaLeft" fmla="*/ 0 w 1495440"/>
                  <a:gd name="textAreaRight" fmla="*/ 1495800 w 14954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942" h="123">
                    <a:moveTo>
                      <a:pt x="909" y="83"/>
                    </a:moveTo>
                    <a:lnTo>
                      <a:pt x="904" y="86"/>
                    </a:lnTo>
                    <a:lnTo>
                      <a:pt x="900" y="90"/>
                    </a:lnTo>
                    <a:lnTo>
                      <a:pt x="893" y="99"/>
                    </a:lnTo>
                    <a:lnTo>
                      <a:pt x="898" y="88"/>
                    </a:lnTo>
                    <a:lnTo>
                      <a:pt x="72" y="0"/>
                    </a:lnTo>
                    <a:lnTo>
                      <a:pt x="60" y="2"/>
                    </a:lnTo>
                    <a:lnTo>
                      <a:pt x="49" y="7"/>
                    </a:lnTo>
                    <a:lnTo>
                      <a:pt x="32" y="18"/>
                    </a:lnTo>
                    <a:lnTo>
                      <a:pt x="19" y="28"/>
                    </a:lnTo>
                    <a:lnTo>
                      <a:pt x="12" y="37"/>
                    </a:lnTo>
                    <a:lnTo>
                      <a:pt x="5" y="46"/>
                    </a:lnTo>
                    <a:lnTo>
                      <a:pt x="2" y="58"/>
                    </a:lnTo>
                    <a:lnTo>
                      <a:pt x="0" y="67"/>
                    </a:lnTo>
                    <a:lnTo>
                      <a:pt x="2" y="79"/>
                    </a:lnTo>
                    <a:lnTo>
                      <a:pt x="7" y="90"/>
                    </a:lnTo>
                    <a:lnTo>
                      <a:pt x="19" y="109"/>
                    </a:lnTo>
                    <a:lnTo>
                      <a:pt x="9" y="86"/>
                    </a:lnTo>
                    <a:lnTo>
                      <a:pt x="7" y="74"/>
                    </a:lnTo>
                    <a:lnTo>
                      <a:pt x="7" y="65"/>
                    </a:lnTo>
                    <a:lnTo>
                      <a:pt x="9" y="58"/>
                    </a:lnTo>
                    <a:lnTo>
                      <a:pt x="14" y="49"/>
                    </a:lnTo>
                    <a:lnTo>
                      <a:pt x="21" y="42"/>
                    </a:lnTo>
                    <a:lnTo>
                      <a:pt x="715" y="123"/>
                    </a:lnTo>
                    <a:lnTo>
                      <a:pt x="817" y="120"/>
                    </a:lnTo>
                    <a:lnTo>
                      <a:pt x="870" y="118"/>
                    </a:lnTo>
                    <a:lnTo>
                      <a:pt x="877" y="118"/>
                    </a:lnTo>
                    <a:lnTo>
                      <a:pt x="884" y="113"/>
                    </a:lnTo>
                    <a:lnTo>
                      <a:pt x="893" y="104"/>
                    </a:lnTo>
                    <a:lnTo>
                      <a:pt x="893" y="113"/>
                    </a:lnTo>
                    <a:lnTo>
                      <a:pt x="902" y="109"/>
                    </a:lnTo>
                    <a:lnTo>
                      <a:pt x="909" y="109"/>
                    </a:lnTo>
                    <a:lnTo>
                      <a:pt x="914" y="111"/>
                    </a:lnTo>
                    <a:lnTo>
                      <a:pt x="918" y="118"/>
                    </a:lnTo>
                    <a:lnTo>
                      <a:pt x="928" y="118"/>
                    </a:lnTo>
                    <a:lnTo>
                      <a:pt x="928" y="109"/>
                    </a:lnTo>
                    <a:lnTo>
                      <a:pt x="930" y="102"/>
                    </a:lnTo>
                    <a:lnTo>
                      <a:pt x="935" y="95"/>
                    </a:lnTo>
                    <a:lnTo>
                      <a:pt x="942" y="92"/>
                    </a:lnTo>
                    <a:lnTo>
                      <a:pt x="935" y="86"/>
                    </a:lnTo>
                    <a:lnTo>
                      <a:pt x="928" y="83"/>
                    </a:lnTo>
                    <a:lnTo>
                      <a:pt x="916" y="83"/>
                    </a:lnTo>
                    <a:lnTo>
                      <a:pt x="909" y="83"/>
                    </a:lnTo>
                    <a:lnTo>
                      <a:pt x="909" y="83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7"/>
              <p:cNvSpPr/>
              <p:nvPr/>
            </p:nvSpPr>
            <p:spPr>
              <a:xfrm>
                <a:off x="5500440" y="2552760"/>
                <a:ext cx="436680" cy="18504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75" h="117">
                    <a:moveTo>
                      <a:pt x="173" y="0"/>
                    </a:moveTo>
                    <a:lnTo>
                      <a:pt x="158" y="2"/>
                    </a:lnTo>
                    <a:lnTo>
                      <a:pt x="144" y="5"/>
                    </a:lnTo>
                    <a:lnTo>
                      <a:pt x="132" y="8"/>
                    </a:lnTo>
                    <a:lnTo>
                      <a:pt x="3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85" y="108"/>
                    </a:lnTo>
                    <a:lnTo>
                      <a:pt x="95" y="112"/>
                    </a:lnTo>
                    <a:lnTo>
                      <a:pt x="107" y="114"/>
                    </a:lnTo>
                    <a:lnTo>
                      <a:pt x="123" y="116"/>
                    </a:lnTo>
                    <a:lnTo>
                      <a:pt x="136" y="117"/>
                    </a:lnTo>
                    <a:lnTo>
                      <a:pt x="149" y="116"/>
                    </a:lnTo>
                    <a:lnTo>
                      <a:pt x="161" y="114"/>
                    </a:lnTo>
                    <a:lnTo>
                      <a:pt x="174" y="111"/>
                    </a:lnTo>
                    <a:lnTo>
                      <a:pt x="187" y="106"/>
                    </a:lnTo>
                    <a:lnTo>
                      <a:pt x="266" y="72"/>
                    </a:lnTo>
                    <a:lnTo>
                      <a:pt x="270" y="67"/>
                    </a:lnTo>
                    <a:lnTo>
                      <a:pt x="273" y="62"/>
                    </a:lnTo>
                    <a:lnTo>
                      <a:pt x="274" y="57"/>
                    </a:lnTo>
                    <a:lnTo>
                      <a:pt x="275" y="48"/>
                    </a:lnTo>
                    <a:lnTo>
                      <a:pt x="273" y="38"/>
                    </a:lnTo>
                    <a:lnTo>
                      <a:pt x="271" y="31"/>
                    </a:lnTo>
                    <a:lnTo>
                      <a:pt x="265" y="22"/>
                    </a:lnTo>
                    <a:lnTo>
                      <a:pt x="256" y="14"/>
                    </a:lnTo>
                    <a:lnTo>
                      <a:pt x="245" y="9"/>
                    </a:lnTo>
                    <a:lnTo>
                      <a:pt x="231" y="5"/>
                    </a:lnTo>
                    <a:lnTo>
                      <a:pt x="206" y="2"/>
                    </a:lnTo>
                    <a:lnTo>
                      <a:pt x="188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58"/>
              <p:cNvSpPr/>
              <p:nvPr/>
            </p:nvSpPr>
            <p:spPr>
              <a:xfrm>
                <a:off x="5500440" y="2554200"/>
                <a:ext cx="438120" cy="1821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76" h="115">
                    <a:moveTo>
                      <a:pt x="174" y="0"/>
                    </a:moveTo>
                    <a:lnTo>
                      <a:pt x="158" y="0"/>
                    </a:lnTo>
                    <a:lnTo>
                      <a:pt x="144" y="4"/>
                    </a:lnTo>
                    <a:lnTo>
                      <a:pt x="132" y="7"/>
                    </a:lnTo>
                    <a:lnTo>
                      <a:pt x="3" y="65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3" y="74"/>
                    </a:lnTo>
                    <a:lnTo>
                      <a:pt x="86" y="106"/>
                    </a:lnTo>
                    <a:lnTo>
                      <a:pt x="95" y="111"/>
                    </a:lnTo>
                    <a:lnTo>
                      <a:pt x="107" y="113"/>
                    </a:lnTo>
                    <a:lnTo>
                      <a:pt x="123" y="115"/>
                    </a:lnTo>
                    <a:lnTo>
                      <a:pt x="137" y="115"/>
                    </a:lnTo>
                    <a:lnTo>
                      <a:pt x="148" y="115"/>
                    </a:lnTo>
                    <a:lnTo>
                      <a:pt x="160" y="113"/>
                    </a:lnTo>
                    <a:lnTo>
                      <a:pt x="174" y="111"/>
                    </a:lnTo>
                    <a:lnTo>
                      <a:pt x="188" y="106"/>
                    </a:lnTo>
                    <a:lnTo>
                      <a:pt x="266" y="71"/>
                    </a:lnTo>
                    <a:lnTo>
                      <a:pt x="271" y="67"/>
                    </a:lnTo>
                    <a:lnTo>
                      <a:pt x="273" y="62"/>
                    </a:lnTo>
                    <a:lnTo>
                      <a:pt x="273" y="55"/>
                    </a:lnTo>
                    <a:lnTo>
                      <a:pt x="276" y="48"/>
                    </a:lnTo>
                    <a:lnTo>
                      <a:pt x="273" y="37"/>
                    </a:lnTo>
                    <a:lnTo>
                      <a:pt x="271" y="30"/>
                    </a:lnTo>
                    <a:lnTo>
                      <a:pt x="266" y="21"/>
                    </a:lnTo>
                    <a:lnTo>
                      <a:pt x="255" y="14"/>
                    </a:lnTo>
                    <a:lnTo>
                      <a:pt x="245" y="9"/>
                    </a:lnTo>
                    <a:lnTo>
                      <a:pt x="232" y="4"/>
                    </a:lnTo>
                    <a:lnTo>
                      <a:pt x="206" y="0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9"/>
              <p:cNvSpPr/>
              <p:nvPr/>
            </p:nvSpPr>
            <p:spPr>
              <a:xfrm>
                <a:off x="5769000" y="2419200"/>
                <a:ext cx="126720" cy="997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0" h="63">
                    <a:moveTo>
                      <a:pt x="36" y="0"/>
                    </a:moveTo>
                    <a:lnTo>
                      <a:pt x="29" y="1"/>
                    </a:lnTo>
                    <a:lnTo>
                      <a:pt x="24" y="3"/>
                    </a:lnTo>
                    <a:lnTo>
                      <a:pt x="19" y="8"/>
                    </a:lnTo>
                    <a:lnTo>
                      <a:pt x="14" y="14"/>
                    </a:lnTo>
                    <a:lnTo>
                      <a:pt x="9" y="23"/>
                    </a:lnTo>
                    <a:lnTo>
                      <a:pt x="4" y="3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5" y="53"/>
                    </a:lnTo>
                    <a:lnTo>
                      <a:pt x="66" y="63"/>
                    </a:lnTo>
                    <a:lnTo>
                      <a:pt x="70" y="63"/>
                    </a:lnTo>
                    <a:lnTo>
                      <a:pt x="72" y="61"/>
                    </a:lnTo>
                    <a:lnTo>
                      <a:pt x="73" y="57"/>
                    </a:lnTo>
                    <a:lnTo>
                      <a:pt x="74" y="48"/>
                    </a:lnTo>
                    <a:lnTo>
                      <a:pt x="75" y="38"/>
                    </a:lnTo>
                    <a:lnTo>
                      <a:pt x="76" y="27"/>
                    </a:lnTo>
                    <a:lnTo>
                      <a:pt x="79" y="17"/>
                    </a:lnTo>
                    <a:lnTo>
                      <a:pt x="80" y="9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0"/>
              <p:cNvSpPr/>
              <p:nvPr/>
            </p:nvSpPr>
            <p:spPr>
              <a:xfrm>
                <a:off x="5769000" y="2417760"/>
                <a:ext cx="128520" cy="1026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81" h="65">
                    <a:moveTo>
                      <a:pt x="35" y="0"/>
                    </a:moveTo>
                    <a:lnTo>
                      <a:pt x="28" y="3"/>
                    </a:lnTo>
                    <a:lnTo>
                      <a:pt x="23" y="5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9" y="23"/>
                    </a:lnTo>
                    <a:lnTo>
                      <a:pt x="5" y="35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5" y="53"/>
                    </a:lnTo>
                    <a:lnTo>
                      <a:pt x="67" y="65"/>
                    </a:lnTo>
                    <a:lnTo>
                      <a:pt x="70" y="63"/>
                    </a:lnTo>
                    <a:lnTo>
                      <a:pt x="72" y="63"/>
                    </a:lnTo>
                    <a:lnTo>
                      <a:pt x="74" y="58"/>
                    </a:lnTo>
                    <a:lnTo>
                      <a:pt x="74" y="49"/>
                    </a:lnTo>
                    <a:lnTo>
                      <a:pt x="74" y="40"/>
                    </a:lnTo>
                    <a:lnTo>
                      <a:pt x="76" y="28"/>
                    </a:lnTo>
                    <a:lnTo>
                      <a:pt x="79" y="19"/>
                    </a:lnTo>
                    <a:lnTo>
                      <a:pt x="81" y="9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1"/>
              <p:cNvSpPr/>
              <p:nvPr/>
            </p:nvSpPr>
            <p:spPr>
              <a:xfrm>
                <a:off x="5970600" y="2444760"/>
                <a:ext cx="153720" cy="1296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17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4" y="15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3" y="62"/>
                    </a:lnTo>
                    <a:lnTo>
                      <a:pt x="7" y="63"/>
                    </a:lnTo>
                    <a:lnTo>
                      <a:pt x="83" y="82"/>
                    </a:lnTo>
                    <a:lnTo>
                      <a:pt x="89" y="82"/>
                    </a:lnTo>
                    <a:lnTo>
                      <a:pt x="93" y="81"/>
                    </a:lnTo>
                    <a:lnTo>
                      <a:pt x="95" y="79"/>
                    </a:lnTo>
                    <a:lnTo>
                      <a:pt x="96" y="75"/>
                    </a:lnTo>
                    <a:lnTo>
                      <a:pt x="96" y="59"/>
                    </a:lnTo>
                    <a:lnTo>
                      <a:pt x="95" y="47"/>
                    </a:lnTo>
                    <a:lnTo>
                      <a:pt x="95" y="35"/>
                    </a:lnTo>
                    <a:lnTo>
                      <a:pt x="97" y="22"/>
                    </a:lnTo>
                    <a:lnTo>
                      <a:pt x="97" y="16"/>
                    </a:lnTo>
                    <a:lnTo>
                      <a:pt x="94" y="12"/>
                    </a:lnTo>
                    <a:lnTo>
                      <a:pt x="88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2"/>
              <p:cNvSpPr/>
              <p:nvPr/>
            </p:nvSpPr>
            <p:spPr>
              <a:xfrm>
                <a:off x="5970600" y="2442960"/>
                <a:ext cx="155520" cy="1332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8" h="84">
                    <a:moveTo>
                      <a:pt x="17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17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3" y="63"/>
                    </a:lnTo>
                    <a:lnTo>
                      <a:pt x="7" y="65"/>
                    </a:lnTo>
                    <a:lnTo>
                      <a:pt x="84" y="84"/>
                    </a:lnTo>
                    <a:lnTo>
                      <a:pt x="88" y="84"/>
                    </a:lnTo>
                    <a:lnTo>
                      <a:pt x="93" y="81"/>
                    </a:lnTo>
                    <a:lnTo>
                      <a:pt x="95" y="79"/>
                    </a:lnTo>
                    <a:lnTo>
                      <a:pt x="95" y="77"/>
                    </a:lnTo>
                    <a:lnTo>
                      <a:pt x="95" y="61"/>
                    </a:lnTo>
                    <a:lnTo>
                      <a:pt x="95" y="49"/>
                    </a:lnTo>
                    <a:lnTo>
                      <a:pt x="95" y="35"/>
                    </a:lnTo>
                    <a:lnTo>
                      <a:pt x="98" y="24"/>
                    </a:lnTo>
                    <a:lnTo>
                      <a:pt x="98" y="17"/>
                    </a:lnTo>
                    <a:lnTo>
                      <a:pt x="95" y="12"/>
                    </a:lnTo>
                    <a:lnTo>
                      <a:pt x="88" y="1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3"/>
              <p:cNvSpPr/>
              <p:nvPr/>
            </p:nvSpPr>
            <p:spPr>
              <a:xfrm>
                <a:off x="6264000" y="2482560"/>
                <a:ext cx="125640" cy="1681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9" h="106">
                    <a:moveTo>
                      <a:pt x="10" y="0"/>
                    </a:moveTo>
                    <a:lnTo>
                      <a:pt x="7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7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69"/>
                    </a:lnTo>
                    <a:lnTo>
                      <a:pt x="4" y="78"/>
                    </a:lnTo>
                    <a:lnTo>
                      <a:pt x="7" y="84"/>
                    </a:lnTo>
                    <a:lnTo>
                      <a:pt x="12" y="88"/>
                    </a:lnTo>
                    <a:lnTo>
                      <a:pt x="26" y="95"/>
                    </a:lnTo>
                    <a:lnTo>
                      <a:pt x="42" y="101"/>
                    </a:lnTo>
                    <a:lnTo>
                      <a:pt x="54" y="104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7" y="105"/>
                    </a:lnTo>
                    <a:lnTo>
                      <a:pt x="79" y="101"/>
                    </a:lnTo>
                    <a:lnTo>
                      <a:pt x="77" y="95"/>
                    </a:lnTo>
                    <a:lnTo>
                      <a:pt x="75" y="85"/>
                    </a:lnTo>
                    <a:lnTo>
                      <a:pt x="69" y="68"/>
                    </a:lnTo>
                    <a:lnTo>
                      <a:pt x="52" y="18"/>
                    </a:lnTo>
                    <a:lnTo>
                      <a:pt x="49" y="11"/>
                    </a:lnTo>
                    <a:lnTo>
                      <a:pt x="46" y="7"/>
                    </a:lnTo>
                    <a:lnTo>
                      <a:pt x="4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4"/>
              <p:cNvSpPr/>
              <p:nvPr/>
            </p:nvSpPr>
            <p:spPr>
              <a:xfrm>
                <a:off x="6264000" y="2484360"/>
                <a:ext cx="125640" cy="16776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79" h="106">
                    <a:moveTo>
                      <a:pt x="10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0" y="16"/>
                    </a:lnTo>
                    <a:lnTo>
                      <a:pt x="0" y="37"/>
                    </a:lnTo>
                    <a:lnTo>
                      <a:pt x="3" y="53"/>
                    </a:lnTo>
                    <a:lnTo>
                      <a:pt x="3" y="67"/>
                    </a:lnTo>
                    <a:lnTo>
                      <a:pt x="5" y="76"/>
                    </a:lnTo>
                    <a:lnTo>
                      <a:pt x="7" y="83"/>
                    </a:lnTo>
                    <a:lnTo>
                      <a:pt x="12" y="88"/>
                    </a:lnTo>
                    <a:lnTo>
                      <a:pt x="26" y="95"/>
                    </a:lnTo>
                    <a:lnTo>
                      <a:pt x="42" y="99"/>
                    </a:lnTo>
                    <a:lnTo>
                      <a:pt x="54" y="102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7" y="104"/>
                    </a:lnTo>
                    <a:lnTo>
                      <a:pt x="79" y="99"/>
                    </a:lnTo>
                    <a:lnTo>
                      <a:pt x="77" y="95"/>
                    </a:lnTo>
                    <a:lnTo>
                      <a:pt x="74" y="85"/>
                    </a:lnTo>
                    <a:lnTo>
                      <a:pt x="70" y="67"/>
                    </a:lnTo>
                    <a:lnTo>
                      <a:pt x="51" y="18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2" y="2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5"/>
              <p:cNvSpPr/>
              <p:nvPr/>
            </p:nvSpPr>
            <p:spPr>
              <a:xfrm>
                <a:off x="4782960" y="2149200"/>
                <a:ext cx="203400" cy="9036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28" h="57">
                    <a:moveTo>
                      <a:pt x="128" y="0"/>
                    </a:moveTo>
                    <a:lnTo>
                      <a:pt x="128" y="7"/>
                    </a:lnTo>
                    <a:lnTo>
                      <a:pt x="5" y="57"/>
                    </a:lnTo>
                    <a:lnTo>
                      <a:pt x="0" y="47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6"/>
              <p:cNvSpPr/>
              <p:nvPr/>
            </p:nvSpPr>
            <p:spPr>
              <a:xfrm>
                <a:off x="4781520" y="2149200"/>
                <a:ext cx="204840" cy="8856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29" h="56">
                    <a:moveTo>
                      <a:pt x="129" y="0"/>
                    </a:moveTo>
                    <a:lnTo>
                      <a:pt x="129" y="7"/>
                    </a:lnTo>
                    <a:lnTo>
                      <a:pt x="5" y="56"/>
                    </a:lnTo>
                    <a:lnTo>
                      <a:pt x="0" y="47"/>
                    </a:lnTo>
                    <a:lnTo>
                      <a:pt x="129" y="0"/>
                    </a:lnTo>
                    <a:lnTo>
                      <a:pt x="129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7"/>
              <p:cNvSpPr/>
              <p:nvPr/>
            </p:nvSpPr>
            <p:spPr>
              <a:xfrm>
                <a:off x="4695840" y="2124000"/>
                <a:ext cx="293400" cy="1202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85" h="76">
                    <a:moveTo>
                      <a:pt x="0" y="36"/>
                    </a:moveTo>
                    <a:lnTo>
                      <a:pt x="33" y="76"/>
                    </a:lnTo>
                    <a:lnTo>
                      <a:pt x="185" y="14"/>
                    </a:lnTo>
                    <a:lnTo>
                      <a:pt x="10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"/>
              <p:cNvSpPr/>
              <p:nvPr/>
            </p:nvSpPr>
            <p:spPr>
              <a:xfrm>
                <a:off x="4697280" y="2124000"/>
                <a:ext cx="293760" cy="1202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85" h="76">
                    <a:moveTo>
                      <a:pt x="0" y="35"/>
                    </a:moveTo>
                    <a:lnTo>
                      <a:pt x="32" y="76"/>
                    </a:lnTo>
                    <a:lnTo>
                      <a:pt x="185" y="14"/>
                    </a:lnTo>
                    <a:lnTo>
                      <a:pt x="99" y="0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"/>
              <p:cNvSpPr/>
              <p:nvPr/>
            </p:nvSpPr>
            <p:spPr>
              <a:xfrm>
                <a:off x="4660920" y="2136600"/>
                <a:ext cx="152280" cy="1807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6" h="114">
                    <a:moveTo>
                      <a:pt x="36" y="0"/>
                    </a:moveTo>
                    <a:lnTo>
                      <a:pt x="96" y="83"/>
                    </a:lnTo>
                    <a:lnTo>
                      <a:pt x="71" y="114"/>
                    </a:lnTo>
                    <a:lnTo>
                      <a:pt x="0" y="7"/>
                    </a:lnTo>
                    <a:lnTo>
                      <a:pt x="2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0"/>
              <p:cNvSpPr/>
              <p:nvPr/>
            </p:nvSpPr>
            <p:spPr>
              <a:xfrm>
                <a:off x="4660920" y="2139840"/>
                <a:ext cx="144360" cy="1821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91" h="115">
                    <a:moveTo>
                      <a:pt x="34" y="0"/>
                    </a:moveTo>
                    <a:lnTo>
                      <a:pt x="91" y="87"/>
                    </a:lnTo>
                    <a:lnTo>
                      <a:pt x="68" y="115"/>
                    </a:lnTo>
                    <a:lnTo>
                      <a:pt x="17" y="106"/>
                    </a:lnTo>
                    <a:lnTo>
                      <a:pt x="0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1"/>
              <p:cNvSpPr/>
              <p:nvPr/>
            </p:nvSpPr>
            <p:spPr>
              <a:xfrm>
                <a:off x="4660920" y="2138400"/>
                <a:ext cx="142560" cy="1836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90" h="116">
                    <a:moveTo>
                      <a:pt x="34" y="0"/>
                    </a:moveTo>
                    <a:lnTo>
                      <a:pt x="90" y="88"/>
                    </a:lnTo>
                    <a:lnTo>
                      <a:pt x="67" y="116"/>
                    </a:lnTo>
                    <a:lnTo>
                      <a:pt x="18" y="107"/>
                    </a:lnTo>
                    <a:lnTo>
                      <a:pt x="0" y="3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2"/>
              <p:cNvSpPr/>
              <p:nvPr/>
            </p:nvSpPr>
            <p:spPr>
              <a:xfrm>
                <a:off x="5667120" y="2597040"/>
                <a:ext cx="268560" cy="1123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69" h="71">
                    <a:moveTo>
                      <a:pt x="109" y="68"/>
                    </a:moveTo>
                    <a:lnTo>
                      <a:pt x="111" y="67"/>
                    </a:lnTo>
                    <a:lnTo>
                      <a:pt x="115" y="65"/>
                    </a:lnTo>
                    <a:lnTo>
                      <a:pt x="120" y="63"/>
                    </a:lnTo>
                    <a:lnTo>
                      <a:pt x="126" y="60"/>
                    </a:lnTo>
                    <a:lnTo>
                      <a:pt x="133" y="57"/>
                    </a:lnTo>
                    <a:lnTo>
                      <a:pt x="138" y="55"/>
                    </a:lnTo>
                    <a:lnTo>
                      <a:pt x="142" y="53"/>
                    </a:lnTo>
                    <a:lnTo>
                      <a:pt x="143" y="52"/>
                    </a:lnTo>
                    <a:lnTo>
                      <a:pt x="142" y="50"/>
                    </a:lnTo>
                    <a:lnTo>
                      <a:pt x="137" y="45"/>
                    </a:lnTo>
                    <a:lnTo>
                      <a:pt x="127" y="38"/>
                    </a:lnTo>
                    <a:lnTo>
                      <a:pt x="113" y="29"/>
                    </a:lnTo>
                    <a:lnTo>
                      <a:pt x="94" y="20"/>
                    </a:lnTo>
                    <a:lnTo>
                      <a:pt x="69" y="12"/>
                    </a:lnTo>
                    <a:lnTo>
                      <a:pt x="38" y="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2" y="1"/>
                    </a:lnTo>
                    <a:lnTo>
                      <a:pt x="60" y="3"/>
                    </a:lnTo>
                    <a:lnTo>
                      <a:pt x="77" y="6"/>
                    </a:lnTo>
                    <a:lnTo>
                      <a:pt x="106" y="14"/>
                    </a:lnTo>
                    <a:lnTo>
                      <a:pt x="130" y="23"/>
                    </a:lnTo>
                    <a:lnTo>
                      <a:pt x="147" y="33"/>
                    </a:lnTo>
                    <a:lnTo>
                      <a:pt x="160" y="42"/>
                    </a:lnTo>
                    <a:lnTo>
                      <a:pt x="167" y="48"/>
                    </a:lnTo>
                    <a:lnTo>
                      <a:pt x="169" y="51"/>
                    </a:lnTo>
                    <a:lnTo>
                      <a:pt x="167" y="52"/>
                    </a:lnTo>
                    <a:lnTo>
                      <a:pt x="162" y="54"/>
                    </a:lnTo>
                    <a:lnTo>
                      <a:pt x="155" y="57"/>
                    </a:lnTo>
                    <a:lnTo>
                      <a:pt x="147" y="61"/>
                    </a:lnTo>
                    <a:lnTo>
                      <a:pt x="138" y="65"/>
                    </a:lnTo>
                    <a:lnTo>
                      <a:pt x="131" y="68"/>
                    </a:lnTo>
                    <a:lnTo>
                      <a:pt x="126" y="70"/>
                    </a:lnTo>
                    <a:lnTo>
                      <a:pt x="124" y="71"/>
                    </a:lnTo>
                    <a:lnTo>
                      <a:pt x="124" y="71"/>
                    </a:lnTo>
                    <a:lnTo>
                      <a:pt x="122" y="70"/>
                    </a:lnTo>
                    <a:lnTo>
                      <a:pt x="120" y="70"/>
                    </a:lnTo>
                    <a:lnTo>
                      <a:pt x="117" y="69"/>
                    </a:lnTo>
                    <a:lnTo>
                      <a:pt x="114" y="69"/>
                    </a:lnTo>
                    <a:lnTo>
                      <a:pt x="112" y="68"/>
                    </a:lnTo>
                    <a:lnTo>
                      <a:pt x="110" y="68"/>
                    </a:lnTo>
                    <a:lnTo>
                      <a:pt x="10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Oval 76"/>
          <p:cNvSpPr/>
          <p:nvPr/>
        </p:nvSpPr>
        <p:spPr>
          <a:xfrm rot="21178800">
            <a:off x="6705720" y="4572000"/>
            <a:ext cx="1584360" cy="576360"/>
          </a:xfrm>
          <a:prstGeom prst="ellipse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Fra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 de la Gestión de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2. Dirigir los recursos disponibles a l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 objetivos identificad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4" descr="PE01482_"/>
          <p:cNvPicPr/>
          <p:nvPr/>
        </p:nvPicPr>
        <p:blipFill>
          <a:blip r:embed="rId1"/>
          <a:stretch/>
        </p:blipFill>
        <p:spPr>
          <a:xfrm>
            <a:off x="4788000" y="2130480"/>
            <a:ext cx="3759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 del Proye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2" name="Oval 3"/>
          <p:cNvSpPr/>
          <p:nvPr/>
        </p:nvSpPr>
        <p:spPr>
          <a:xfrm>
            <a:off x="1908000" y="4221000"/>
            <a:ext cx="6480360" cy="1657440"/>
          </a:xfrm>
          <a:prstGeom prst="ellipse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4"/>
          <p:cNvSpPr/>
          <p:nvPr/>
        </p:nvSpPr>
        <p:spPr>
          <a:xfrm flipH="1">
            <a:off x="6732720" y="4653000"/>
            <a:ext cx="1511280" cy="50472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A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5" descr="j0156105"/>
          <p:cNvPicPr/>
          <p:nvPr/>
        </p:nvPicPr>
        <p:blipFill>
          <a:blip r:embed="rId1"/>
          <a:stretch/>
        </p:blipFill>
        <p:spPr>
          <a:xfrm rot="349200">
            <a:off x="4571640" y="2133360"/>
            <a:ext cx="2340000" cy="67284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6"/>
          <p:cNvSpPr/>
          <p:nvPr/>
        </p:nvSpPr>
        <p:spPr>
          <a:xfrm>
            <a:off x="762120" y="1523880"/>
            <a:ext cx="352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ión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transacciones con alta posibilidad de incumplimiento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en el control concurrente del Régimen de Importación Defin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Herramientas para la Identificación en el Control Concurrent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orm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Métodos Probabil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Métodos Determin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tapas de la obtención del Mode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dentificación de variable objetivo y atribu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dentificación de indicadores de las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tamiento a valores per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nsformación de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lección de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alanceo de observ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terminación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namiento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mplementación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Transformación de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bjetivo es facilitar al modelo la utilización de la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 objetivo es evitar la distorsión en los datos debido a la esca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tamientos diferentes dependiendo del tipo de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5"/>
          <p:cNvSpPr/>
          <p:nvPr/>
        </p:nvSpPr>
        <p:spPr>
          <a:xfrm rot="21442800">
            <a:off x="5219280" y="1196640"/>
            <a:ext cx="3097440" cy="1042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951" h="657">
                <a:moveTo>
                  <a:pt x="0" y="551"/>
                </a:moveTo>
                <a:cubicBezTo>
                  <a:pt x="166" y="574"/>
                  <a:pt x="333" y="597"/>
                  <a:pt x="499" y="506"/>
                </a:cubicBezTo>
                <a:cubicBezTo>
                  <a:pt x="665" y="415"/>
                  <a:pt x="839" y="0"/>
                  <a:pt x="998" y="7"/>
                </a:cubicBezTo>
                <a:cubicBezTo>
                  <a:pt x="1157" y="14"/>
                  <a:pt x="1293" y="445"/>
                  <a:pt x="1452" y="551"/>
                </a:cubicBezTo>
                <a:cubicBezTo>
                  <a:pt x="1611" y="657"/>
                  <a:pt x="1868" y="627"/>
                  <a:pt x="1951" y="6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6"/>
          <p:cNvSpPr/>
          <p:nvPr/>
        </p:nvSpPr>
        <p:spPr>
          <a:xfrm>
            <a:off x="5364000" y="2205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7"/>
          <p:cNvSpPr/>
          <p:nvPr/>
        </p:nvSpPr>
        <p:spPr>
          <a:xfrm>
            <a:off x="1403280" y="2276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8"/>
          <p:cNvSpPr/>
          <p:nvPr/>
        </p:nvSpPr>
        <p:spPr>
          <a:xfrm>
            <a:off x="1403280" y="1197000"/>
            <a:ext cx="2808360" cy="11160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1769" h="703">
                <a:moveTo>
                  <a:pt x="0" y="680"/>
                </a:moveTo>
                <a:cubicBezTo>
                  <a:pt x="79" y="691"/>
                  <a:pt x="159" y="703"/>
                  <a:pt x="227" y="590"/>
                </a:cubicBezTo>
                <a:cubicBezTo>
                  <a:pt x="295" y="477"/>
                  <a:pt x="287" y="0"/>
                  <a:pt x="408" y="0"/>
                </a:cubicBezTo>
                <a:cubicBezTo>
                  <a:pt x="529" y="0"/>
                  <a:pt x="726" y="477"/>
                  <a:pt x="953" y="590"/>
                </a:cubicBezTo>
                <a:cubicBezTo>
                  <a:pt x="1180" y="703"/>
                  <a:pt x="1633" y="665"/>
                  <a:pt x="1769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9"/>
          <p:cNvSpPr/>
          <p:nvPr/>
        </p:nvSpPr>
        <p:spPr>
          <a:xfrm>
            <a:off x="450072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7:43:20Z</dcterms:created>
  <dc:creator> Virgilio Cachay Montalvàn</dc:creator>
  <dc:description/>
  <dc:language>en-US</dc:language>
  <cp:lastModifiedBy>Richard</cp:lastModifiedBy>
  <dcterms:modified xsi:type="dcterms:W3CDTF">2011-07-19T18:07:13Z</dcterms:modified>
  <cp:revision>107</cp:revision>
  <dc:subject/>
  <dc:title>Aplicación de Redes Neuronales en la evaluación de las DUAS de Importación Definitiva</dc:title>
</cp:coreProperties>
</file>