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9139-70C3-4EDC-8C06-4835B28A2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16D6-1C0B-439F-9627-9A053F502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3AE3-F982-441F-BFAC-DEDE5B6D3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E985-C25F-4DB0-97A4-77BEBFCD2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CF0AB-2A8C-441F-9922-3B5D8AE9D2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EA6FC-F139-456F-BDD0-FDF3A43593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81C1C-B2A3-4EFF-B865-AD1209893A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1290D-8C16-466E-80EB-B24233E53A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972F-D3D3-46DF-959F-A1A263C689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835A0-92A1-4613-B67D-D3E8464645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634F0-8726-4031-AB28-EBC97499C4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9FE5-35CF-4A58-9CFF-8CE47D63C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D84CB-6337-46BC-9605-C597FAB104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4DDE-7B46-4E3A-87D0-2021D5C4C4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8671B-42A3-482D-B3BC-06E5AA61C7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75E9-3D1E-40E2-BBC5-55741D821F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24D5F-E61F-44F0-A117-83DD696563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FBF9-EA4E-4AA4-B296-0F6D5B151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6D94-E771-40C9-9143-60BA526BA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5660-D3C4-4553-9AC1-B74AA6FC3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0E2E-A766-4E0D-B9B9-27A4D2FA2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D468-424B-4074-AEBA-5E94BF291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8398-2CB4-4CC9-AAC4-3230C0E2E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7F03-08C2-4D1E-881C-F453253CB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Group 5"/>
          <p:cNvGrpSpPr/>
          <p:nvPr/>
        </p:nvGrpSpPr>
        <p:grpSpPr>
          <a:xfrm>
            <a:off x="324000" y="981000"/>
            <a:ext cx="8424360" cy="72720"/>
            <a:chOff x="324000" y="981000"/>
            <a:chExt cx="8424360" cy="72720"/>
          </a:xfrm>
        </p:grpSpPr>
        <p:sp>
          <p:nvSpPr>
            <p:cNvPr id="3" name="Line 6"/>
            <p:cNvSpPr/>
            <p:nvPr/>
          </p:nvSpPr>
          <p:spPr>
            <a:xfrm>
              <a:off x="324000" y="1053720"/>
              <a:ext cx="8424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7"/>
            <p:cNvSpPr/>
            <p:nvPr/>
          </p:nvSpPr>
          <p:spPr>
            <a:xfrm>
              <a:off x="324000" y="981000"/>
              <a:ext cx="842436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62560" y="6381360"/>
            <a:ext cx="19047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6189-8DEB-4E3E-BACC-F93170E046BF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0" y="6491160"/>
            <a:ext cx="121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www.igt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162560" y="6453360"/>
            <a:ext cx="1904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04FC-9C4A-42DB-9598-7C08D8919FB7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D94D-FE9C-46E4-97BB-65113A1FA396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Desafí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793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esafío 1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: Mejorar la convivencia escolar en los colegios y liceos de las unidades educativas de la comuna, de manera de disminuir en un X% los eventos negativos graves como…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esafío 2 :¿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Cómo mejorar el intercambio de buenas prácticas y la gestión del conocimiento entre los docentes y equipos académicos de las unidades educativas de la comuna para mejorar los resultados académicos en ….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esafío 3: 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Lograr retener en la comunidad los X alumnos que tenemos en las escuelas municipalizadas (año 2010) y lograr aumentar en un 5% anual, principalmente en 1º básico, las matrículas para el 2011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esafío 4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: Aumentar en un 20% el porcentaje de motivación en los docentes de escuela, con el fin de favorecer el logro de los aprendizaj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esafío 5: 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Imprimir un sello institucional (o marca) de la unidad educativa que le permita ser reconocido y valorada por toda la población, aumentando en un 25% la matrícul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F259-A731-4490-A354-28CD7796BC24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Desafí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793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esafío 6: 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Aumentar el porcentaje de docentes que ejerzan LIDERAZGO efectivo en el aula en 5 puntos porcentuales, incentivando el desarrollo de habilidades sociales y afectivas en los estudiantes lo que incide en un clima adecuado para el aprendizaj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esafío 7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: Desarrollar una propuesta comunal a mediano plazo que estimule la asistencia escolar en forma continua y persistente en los alumnos a las distintas Unidades Educativas Municipal Comunal, de manera de aumentar la asistencia en un x%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9:34:48Z</dcterms:created>
  <dc:creator>Patricio Aguilera</dc:creator>
  <dc:description/>
  <dc:language>en-US</dc:language>
  <cp:lastModifiedBy>Patricio Aguilera</cp:lastModifiedBy>
  <cp:lastPrinted>2002-12-20T00:24:57Z</cp:lastPrinted>
  <dcterms:modified xsi:type="dcterms:W3CDTF">2011-03-14T12:56:39Z</dcterms:modified>
  <cp:revision>1101</cp:revision>
  <dc:subject/>
  <dc:title>Presentación de PowerPoint</dc:title>
</cp:coreProperties>
</file>