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D57F-89D7-4D45-94D1-86D125D66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D46B-CDF1-401D-B500-9B71043A2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95AE-C985-433E-84E0-FD77CA597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5940-BC8E-4A29-8BB6-E9507123A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E88D-7F4F-42A4-AE20-9134C6EBC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B827-2339-485F-B036-3804F4F7C7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84A2-AEFC-46DA-B31E-EC13AC184F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FC10-21EB-43C6-BA32-603D5A2DB6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9969-1BE3-4306-A0EA-97A7E0B0AB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B571-6705-4115-8787-1E369B791C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B614-9BFF-4A41-BA1B-58949E077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A36C-D9E2-4522-9C5A-79DFAFE57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E2ED-B510-4191-8A34-175971C05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BA34-7EDA-4032-A26E-3026F7771F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EBF7-9E34-48F4-95FA-69DB3DA8A5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98C0-9766-4CD0-9F2A-D3E4169CC4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F137-9A0F-4E37-A646-DBC79F767B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7E0-01FB-4ED2-BF84-9F6D06FB8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4226-F1EC-4958-8CCF-71676BF8C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D6F9-403E-440B-A030-7C79B04FC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734C-490A-43B4-9A01-956A9288B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326A-A745-4E13-8548-760D81471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E482-6A49-4230-BD01-EDC3BB81F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AAC1-C854-4DDC-8D99-30AD5BCCF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461F-DCBB-4313-84AE-A671A5DC06B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E90-D8A5-4DEC-94CD-9B12007441A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E253-2183-4F46-BBE9-3B4A3FCABC0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esafí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793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1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: Mejorar la convivencia escolar en los colegios y liceos de las unidades educativas de la comuna, de manera de disminuir en un X% los eventos negativos graves como…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2 :¿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Cómo mejorar el intercambio de buenas prácticas y la gestión del conocimiento entre los docentes y equipos académicos de las unidades educativas de la comuna para mejorar los resultados académicos en ….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3: 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Lograr retener en la comunidad los X alumnos que tenemos en las escuelas municipalizadas (año 2010) y lograr aumentar en un 5% anual, principalmente en 1º básico, las matrículas para el 2011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4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: Aumentar en un 20% el porcentaje de motivación en los docentes de escuela, con el fin de favorecer el logro de los aprendizaj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5: 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Imprimir un sello institucional (o marca) de la unidad educativa que le permita ser reconocido y valorada por toda la población, aumentando en un 25% la matrícu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C61-4704-4048-A271-D0B21AFB5D4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esafí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793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6: 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Aumentar el porcentaje de docentes que ejerzan LIDERAZGO efectivo en el aula en 5 puntos porcentuales, incentivando el desarrollo de habilidades sociales y afectivas en los estudiantes lo que incide en un clima adecuado para el aprendizaj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esafío 7</a:t>
            </a: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: Desarrollar una propuesta comunal a mediano plazo que estimule la asistencia escolar en forma continua y persistente en los alumnos a las distintas Unidades Educativas Municipal Comunal, de manera de aumentar la asistencia en un x%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Patricio Aguilera</dc:creator>
  <dc:description/>
  <dc:language>en-US</dc:language>
  <cp:lastModifiedBy>Patricio Aguilera</cp:lastModifiedBy>
  <cp:lastPrinted>2002-12-20T00:24:57Z</cp:lastPrinted>
  <dcterms:modified xsi:type="dcterms:W3CDTF">2011-03-14T12:56:39Z</dcterms:modified>
  <cp:revision>1101</cp:revision>
  <dc:subject/>
  <dc:title>Presentación de PowerPoint</dc:title>
</cp:coreProperties>
</file>