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A94-02EB-4201-9FE9-486239BB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CFF-F66A-4F7A-AA8F-B04A5ED3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C33-9C1A-46ED-9205-D4B7068B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2E9-AE0D-4AFF-9218-31A1BDE0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4DA-6B20-4AE4-B930-DE04BC38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F86-3AF8-403D-986C-5410D368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519-6384-4649-A720-4A00EAB5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490-2EB8-4366-87D4-0F645EC1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354-60A4-4332-B122-1A7ABFB7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CB8-45DC-490B-BF09-5D0BA57F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889-5C2C-4CA0-A30F-2EBA08A2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751-3E32-4F48-A46D-DDC763A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8B42-5C82-4520-B7AC-C6342761598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PLOMADO EN GESTION ESTRATEGICA EDUC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TALLER: FINANZAS EN LA GESTION EDUCATIVA MUNICIP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Tercera Se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3760"/>
                <a:gridCol w="1465200"/>
                <a:gridCol w="1463760"/>
              </a:tblGrid>
              <a:tr h="68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ícula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ción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ícula La Gr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ción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 La Gr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70.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0.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2.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01.9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53.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80.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5.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27.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4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volución Ingr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1 Gráfico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volución Ingr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n el período 2001 a 2009 los ingresos totales de educación han crecido en forma real desde los $ 910 a $ 1.441 mil millones, es decir en un 58,4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os ingresos por subvención pasaron desde los $ 725  a $ 992 mil millones, se incrementaron en un 36,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os aportes municipales subieron desde los $65 a los $ 121 mil millones, aumentando un 85,6%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l aporte municipal es del 10% de sus 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os Gastos de Edu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gastos han crecido aparejados con el aumento de los ingre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 gasto más relevante, como veremos a continuación corresponde a personal que varia entre el 80 y 8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24000" y="189000"/>
          <a:ext cx="8569080" cy="6408720"/>
        </p:xfrm>
        <a:graphic>
          <a:graphicData uri="http://schemas.openxmlformats.org/drawingml/2006/table">
            <a:tbl>
              <a:tblPr/>
              <a:tblGrid>
                <a:gridCol w="1427040"/>
                <a:gridCol w="2095560"/>
                <a:gridCol w="2522520"/>
                <a:gridCol w="2523960"/>
              </a:tblGrid>
              <a:tr h="67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Total (MM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(MM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Gasto en 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19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36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9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5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48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48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09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5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4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56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75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93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5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0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98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 Gasto vrs Sub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18 Gráfico" descr=""/>
          <p:cNvPicPr/>
          <p:nvPr/>
        </p:nvPicPr>
        <p:blipFill>
          <a:blip r:embed="rId1"/>
          <a:stretch/>
        </p:blipFill>
        <p:spPr>
          <a:xfrm>
            <a:off x="304920" y="1584360"/>
            <a:ext cx="86072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lación Subvención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vrs Gasto en Pers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21 Gráfico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pic>
        <p:nvPicPr>
          <p:cNvPr id="70" name="21 Gráfico" descr=""/>
          <p:cNvPicPr/>
          <p:nvPr/>
        </p:nvPicPr>
        <p:blipFill>
          <a:blip r:embed="rId2"/>
          <a:stretch/>
        </p:blipFill>
        <p:spPr>
          <a:xfrm>
            <a:off x="590400" y="173664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lación entre gast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 y subvención, por  alumn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Gasto total,  subvención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 y gasto en pers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30 Gráfico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Gasto total, en personal,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n funcionamiento e invers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31 Gráfico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jercicio de la Clase A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mo acordáramos en la sesión anterior, yo quedé de traer un comparado de los 2 municipios a los que creen se parece La Granja y a los 2 que les gustaría se pareci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los era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l Bosque y San Ram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Macul y Ñuñ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lgo sobre Do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Mirada a la Déc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 Docentes y Asist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1 Gráfico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lación Docentes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 Asistentes y con Estudia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Docentes/A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,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2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,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,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4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,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5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,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,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,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1,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1,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Alumnos/Doc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7,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2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2,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3,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4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0,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5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1,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0,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20,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19,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= 18,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jercicio de la Clase A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es pido, en grupos miren los datos del cuadro y saquen sus conclusiones que comentaremos conjunta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8000" y="189000"/>
          <a:ext cx="8856720" cy="6352920"/>
        </p:xfrm>
        <a:graphic>
          <a:graphicData uri="http://schemas.openxmlformats.org/drawingml/2006/table">
            <a:tbl>
              <a:tblPr/>
              <a:tblGrid>
                <a:gridCol w="3959280"/>
                <a:gridCol w="995400"/>
                <a:gridCol w="974520"/>
                <a:gridCol w="976320"/>
                <a:gridCol w="974880"/>
                <a:gridCol w="97632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Bos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Ram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r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Ñuñ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l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9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.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200.4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14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35.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54.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405.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Cáp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82.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94.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79.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14.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30.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F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957.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78.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56.7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56.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15.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cia F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P (recaudación propi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81.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5.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93.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97.8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06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(IPP+FC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39.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74.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50.1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54.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21.7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o X Contribu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8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7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.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93.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ecias a Salud y Edu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6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7.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16.7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88.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Transferencias a E y S de los I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s a la Comun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25.5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3.32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61.7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82.2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44.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SC sobre los I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erden el Per Cápita Nacional Municipal es   de $ 125.000 al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Ñuñoa transfiere a Salud más de 1.333 millones, equivale a $ 18.000 por benefic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vance del trabajo gru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557360"/>
            <a:ext cx="815652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ntes de mirar las finanzas en la educación municipal me interesa saber como han avanzado en el trabajo que debían tener para ho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Financiamiento de la Edu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Una mirada al período 2001 -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bjetiv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ocer en general la situación del financiamiento de la Educación Municip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visar las finanzas del sistema de educación de la municipalidad de La G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proximarnos a la realidad de cada una de los establecimientos municipales de esta Com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istema de Fina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mo sabemos el Mineduc paga una subvención escolar por alumno-alumna 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matriculado que concurre a clases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, de acuerdo  a las modalidades y niveles de enseñanza, la subvención base es complementada por un conjunto de otros aportes relacionados con asistencia y por estudiantes en situación especial (Integración – SE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istema de Fina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 un sostenedor municipal tiene costos mayores de los ingresos percibidos, debe financiar el diferen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 un sostenedor privado tiene costos mayores o quiere aumentar sus ganancias puede establecer un canon para cobrar a los apoderados (financiamiento comparti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establecimientos municipales no pueden cobrar a los apoderad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0:30:31Z</dcterms:created>
  <dc:creator>fernando echeverria</dc:creator>
  <dc:description/>
  <dc:language>en-US</dc:language>
  <cp:lastModifiedBy>.</cp:lastModifiedBy>
  <dcterms:modified xsi:type="dcterms:W3CDTF">2011-04-05T19:49:37Z</dcterms:modified>
  <cp:revision>19</cp:revision>
  <dc:subject/>
  <dc:title>DIPLOMADO EN GESTION ESTRATEGICA EDUCATIVA</dc:title>
</cp:coreProperties>
</file>