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88D6-0D9E-4BFF-8AFD-FDED19FC6D8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27A9-9DF1-4264-9A84-7CB653B3CA1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56A-4061-464C-907B-FA49894E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823-89D7-4A21-9382-EA07CA73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B4E-ED0F-4346-8F57-62C0F1F3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917-4E1F-4E05-94C5-29AD34FA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6DF-72A2-471B-ADD7-952FC2B0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1AD-7795-4D98-8178-B076EE8E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3B3-F6D8-41D5-9B79-8879ACCA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9AB-D826-4533-85A5-56B3DFCB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129-8108-465D-9667-DC473A19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763-64D5-4F87-ACB6-BEFAA754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BAF-89F0-4BBD-89AF-65FDE7A5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8AD-F982-447A-A30D-B4ADB10A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FF18-6A52-4281-9B28-7FDBC0F4C33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inim.gov.cl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PLOMADO EN GESTION ESTRATEGICA EDUC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TALLER: FINANZAS EN LA GESTION EDUCATIVA MUNICIP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Segunda Se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Trabajo Grupal próxima sesión 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(5 de abr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onsulta a grupo apoderados sobre aspectos que consideran debe mejorar el coleg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Ubicar a 2 o 3 apoderados que han retirado sus hijos en los últimos 3 años (que no sea por cambio de domicilio) para conocer las razo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Ubicar un PS para observarlo y establecer diferencias.  Si se puede hablar con algunos apoderados para conocer sus percepciones y aspectos  que mas valoran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EGUNDA PA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Finanzas Municip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La importancia de las finanzas municip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Hay dos datos claves que nos obligan a mirar las finanzas municipa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subvención escolar que cancela Mineduc no cubre siquiera los gastos de remuneraciones del pers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s municipios aportan una cifra muy importante de sus presupuestos para cofinanciar la educ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La importancia de las finanzas municip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ara realizar la tarea educativa hay tres componentes claves sin los cuales no es posible llevar adelante la mis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oc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studia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cursos económicos, financia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Un primer dato para entrar en materia: </a:t>
            </a: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la subvención cubre solo el 85% de las remuneraciones del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INIM.GOV.CL/</a:t>
            </a:r>
            <a:r>
              <a:rPr b="1" lang="es-CL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781360"/>
            <a:ext cx="77724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98989"/>
                </a:solidFill>
                <a:latin typeface="Calibri"/>
              </a:rPr>
              <a:t>LAS FINANZAS MUNICIPALES: INGRESOS Y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incipales Compon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l año 2009 los municipios del país administraron casi M$ 2.000.000.000 (o 2 billones), compuestos por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no incluye aporte Mineduc y Minsal para educación y salud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M$ 1.500.000.000 de Ingresos Propi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M$    500.000.000 de Transferencias del Nivel Centr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alibri"/>
              </a:rPr>
              <a:t>Aproximadamente 125 mil pesos año por habitante de nuestro país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Los cuadros que sigue presenta la evolución en el tiempo (20 años) de los ingresos Municip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3516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stinción en los Ingr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Los Ingresos Totales suman MM$ 2.000, de los cuales MM$ 1.500 son </a:t>
            </a: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gresos propios</a:t>
            </a: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; ¿qué son los IP? y MM$ 500 corresponden a aportes del nivel central para financiar inversiones o programas socia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mo se ve en la imagen durante las 2 décadas se ha mantenido un crecimiento persistent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Los ingresos municipales son aproximadamente el 10% de los ingresos fisc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Ingresos Propios (IP) se componen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- Ingresos Propios Permanentes (IPP): Patentes, Permisos,   Contribuciones, Concesiones, Rentas. Suman MM$ 8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- Fondo Común Municipal, sistema redistributivo intra-municipal, se constituye con parte de los IPP y un casi miserable aporte Estatal.  Suman MM$ 63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incipales Fuentes de Ingr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mpuesto Territorial = Contribu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atentes Municip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ermiso de Circul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Otros Derechos (urbanización y construcciones, propaganda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rechos de Explot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rechos de As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tomado la sesión a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Presentam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Objetivo General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- Incorporar las dimensiones financieras -ingresos-gastos- , a la gestión de administración de los establecimientos de educación de la Municipalidad de La Granj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Objetivos específic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- Conocer las fuentes de financiamient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- Informarse sobre estructura financiera del Municipi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- Identificar los costos de cada establecimient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- Reconocer la importancia de diferentes variables en los resultados fina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obre Impuesto Terri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s la principal recaudación = MM$ 6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 Chile hay 5,7 millones de predios (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grícolas y no agrícolas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 de los cuales están afectos al I.T. poco menos de 2 millones (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el 65% está exento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entras en las 8 comunas de mayor desarrollo el 89% paga, en las otras 437 comunas el promedio exento supera el 7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obre la Recaud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 los cuadros siguientes veremos una situación sorprendente, la gran concentración de la recaudación de los tributos y como el FCM opera para amortiguar el impa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s municipios en Chile son tremendamente desigu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388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oncentración de la Recaud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l 50% de la recaudación de los Ingresos Propios Permanentes lo hacen 14 Municipios. El Fondo Común Municipal aminora la tremenda concentración de los ingres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Condes, Santiago y Providencia son los que encabezan el grupo de mayores ingre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Fondo Común Municipal (F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s un fondo solidario, redistributivo que se constituye con los aportes de parte de la recaudación de todos los municip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s componentes del fondo son: Impuesto Territorial, Permisos de Circulación y Patentes Comerciales de 4 comun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u distribución está relacionada con variables como: pobreza, ruralidad, población, escolarid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24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Nivel de Dependencia FC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Ba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as Condes            =   1,3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 Barnechea        =   3,4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an Miguel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=   8,0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Ñuñoa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=   8,3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acul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= 16,0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Al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a Pintana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 = 78,4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uente Alto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 = 71,5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La Granja</a:t>
            </a: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            = 64,3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 Prado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 = 55,6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AC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 = 53,8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a Florida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 = 52,7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Variable determinan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reo que coincidimos en la Matrícula como la variable determinante en el financiamiento actual de la educació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ntre el 2001 y 2009 la matrícula disminuyo en un 25%. Uno de cada Cuatro alumnos ya no están en nuestros establecimient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n los últimos años se han perdido 500 alumnos por añ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ambién hablamos de la asistencia como fac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ducación y Sal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s aportes globales a estos 2 sectores alcanzaron al 13% del total de ingresos propios municipales el año 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autoridades municipales desde hace varios años vienen indicando que estos servicios, si bien son centrales en sus gestiones,  conllevan un cargo financiero muy al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incipales Ga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unicipalidad de La Gr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Cifras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omunas Compar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Las igu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is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Las que aspira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is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Los Ingr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1844640"/>
          <a:ext cx="8209080" cy="4537080"/>
        </p:xfrm>
        <a:graphic>
          <a:graphicData uri="http://schemas.openxmlformats.org/drawingml/2006/table">
            <a:tbl>
              <a:tblPr/>
              <a:tblGrid>
                <a:gridCol w="5575320"/>
                <a:gridCol w="2633760"/>
              </a:tblGrid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(M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35.2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93.3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56.7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(IPP + F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50.1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s Nivel Cent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85.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cia F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er cáp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La Granja municipio po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sde el punto de vista municipal La Granja es pobre, como dijimos anteriormente el Per Cápita nacional era de $ 125.000 anuales, mientras el de esta comuna alcanza a solo $ 79.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Los Ga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009 (M$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Gastos en Bienes y Serv. Consumo $ 4.072.3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ersonal Municipal y Programas     $ 3.029.1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ransferencia a Educación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  $    650.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ransferencia a Salud                        $    385.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orcentaje  Transfl. a educación  y salud = 13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Financiamiento de la Edu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Hablar de matrícula y asistencia es hablar del financiamiento de la educ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mo dije en la clase anterior, La Granja dejó de percibir aproximadamente 25 millones mensuales por la caída de 500 alumnos respecto del año anteri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 igual manera pierden muchos recursos por la baja asist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ervicios a la Comun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lectricidad (alumbrado público) $ 1.232.6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seo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$ 1.333.5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gua y Mantención Jardines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$    234.1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antención alumbrado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$    113.15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antención semáforos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$      19.3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ñalética de tránsito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$      28.8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ver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Granja tuvo una disponibilidad presupuestaria durante el año 2009 algo inferior al 8% para realizar inversiones, es decir poco menos de $ 800 mill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odos sabemos que la inversión es la palanca del crec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 dicho porcentaje debe ser muy difícil de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ar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atisfacción a la demandas de progreso de los distintos barrios y segmentos de la com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aldo Presupuest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ero ($ 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óxim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xaminaremos las finanzas del sector educación, tanto para el sistema municipal en su conjunto como para La Gr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provecharemos de mirar cifras comparativas entre esta comuna y las que ustedes mencionaron como parecidas o les gustaría parecer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ara terminar sobre Trabajo Fi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s por estableci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atos duros: matrícula y asistencia últimos 5 años; ingresos por subvención 2010; gastos en personal 2010; otros gastos (luz, agua, fono, caja chica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lan de incremento de ingresos (matrícula, asistencia, otr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juste de Gas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os vemos el Martes 5 de abr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La población como factor explica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n la sesión anterior se habló del tema demográfic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l Censo 2002 determinó para La Granja una población de 132.520 personas y una proyección de disminución que el 2009 alcanzarían los 126.125 personas.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l 2009 la población escolar que estudiaba en La Granja eran aproximadamente 21.200 alumnos; de ellos en los establecimientos municipales lo hacían solo 8.3000 (el 39%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Un dato reciente me indica que en diciembre pasado quedaban 7.508 estudiant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egunta cl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odas las escuelas-liceos están afectadas de la misma form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scucharemos las presentaciones que acordamos la semana pasada, de la escuela Sanitas y del liceo Frías Valenzue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Quiero aclarar que no se trata de un ejercicio para culpabilizar  o ensalzar a nadie, sino para mirar con otros oj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íntesis factores diferenci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Posi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Nega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incipal factores en la matríc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in lugar a dudas hay una disminución de población en edad escolar, en Chile cada vez nacen menos personas y la población se enveje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ero, el factor principal es la </a:t>
            </a: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competencias;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uestro (vuestro) problema son los colegios particulares subvencionados que hoy (2009) tienen casi 13.000 estudian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onocer la compet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abemos cuales son nuestras fortalezas y cuales son los aspectos de nuestras prácticas que debemos modifi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ero una mirada a como lo hacen los otros, la competencia, nos puede ayudar recoger aspectos que nos sirvan para mejorar aún mas lo nuest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íntesis trabajo Culagovski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0:30:02Z</dcterms:created>
  <dc:creator>fernando echeverria</dc:creator>
  <dc:description/>
  <dc:language>en-US</dc:language>
  <cp:lastModifiedBy>.</cp:lastModifiedBy>
  <dcterms:modified xsi:type="dcterms:W3CDTF">2011-03-22T18:56:19Z</dcterms:modified>
  <cp:revision>61</cp:revision>
  <dc:subject/>
  <dc:title>DIPLOMADO EN GESTION ESTRATEGICA EDUCATIVA</dc:title>
</cp:coreProperties>
</file>