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4BDBB-A780-4865-8F67-C2734509A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795E-EF93-4705-9E3D-8E37A9E7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6A7DC-7AA3-4FD4-A78B-3839406D6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BB5BD-B4B8-4A84-84B6-CF8D8692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1899-6E8A-4630-814A-660A3C58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E712-743D-401B-8B98-14AA04A9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D572-B08C-40DB-A7A7-89270FA7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8671-064D-4CF5-910A-EAFBF7B2F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2148-8A4F-4549-B5E3-92ECB49BA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3609-F275-4119-9B02-6253045F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D531-8D4E-4ED2-B49A-17261702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5AD5-891F-4A08-80FF-83502D5E2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6C8E-93E7-4644-866A-E61BC49F33A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DIPLOMADO EN GESTION ESTRATEGICA EDUCATIV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solidFill>
            <a:srgbClr val="ffffff"/>
          </a:solidFill>
          <a:ln w="25560">
            <a:solidFill>
              <a:srgbClr val="c0504d"/>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TALLER: FINANZAS EN LA GESTION EDUCATIVA MUNICIP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LA GRANJA,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actor Matrícula</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el 2001 y 2009 han perdido 1 de cada 4 alumnos, pasando de poco más de 11.000 a 8.300, pero atención, en los últimos  años el promedio de perdida es de 500 estudiantes por añ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igue esta tendencia el 2015 la matrícula sería de 5.000 alum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actor Matrícula</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agino, el año pasado se propusieron un plan de acción para enfrentar el problema de la matrícula; por establecimiento, describan las principales acciones desarroll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a llevan 2 semana desde el inicio del año escolar y saben el resultado del plan propuesto, cuál es el bal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actor Matrícula</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grupo escuela-liceo, quiero que se pongan de acuerdo en los tres principales factores que explican el deterioro de la matrícula es su escuela o lice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 las conclus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actor Matrícul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 un papelito, sin poner el nombre, describa las acciones que Usted (cada uno de ustedes) personalmente realizó para mejorar la situación de matrícula de su establecimiento para el presente añ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Si no realizó ninguna, ponga ningu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mpacto de la Matrícu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ño 2009 en La Granja recibieron por subvención  por cada alumno-alumna un promedio mensual de $ 51.300, a pesar del promedio de asistencia que alcanzó al 8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Granja el año 2009  dejó de percibir más de 25 millones mensuales respecto del año 2008 por efectos de las 500 matrículas que perdió.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sostiene el sistema con este deter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dagando las causa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s hemos preguntado las razones para que los apoderados se lleven a los alumnos-alumnas de nuestros establecimien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grupo escuela-liceo pónganse de acuerdo en las que creen son las principales causas y luego las comentam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Competenci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entre las causas aparece con peso los colegios particulares subvencionados, la pregunta es: ¿qué tienen ellos que no tenemos nosotr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er un breve listado de las diferencias, luego lo comentamo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sistenci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Art. 51 del Estatuto se ha incorporado la asistencia como factor para determinar el monto de la Bonificación para Director, Jefe Técnico y Directiv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jemplo, con + de 400 matriculados se podría acceder al 37,5% de bonificación, siempre y cuando el promedio de asistencia del año anterior sea tal que el resultado no baje de los 400 la asistencia an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Granja se ve difícil este benefici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sistencia</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Granja el año 2009 cada punto de asistencia fue equivalente a unos $ 4.30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a asistencia cercana al 90% debería ser una meta alcanz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 anterior podría implicar recursos adicionales por 17 millones al m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sistencia</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bien la asistencia tiene una muy importante relación con el financiamiento del siste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 más importante es la dimensión ética. Es sabido con el único lugar donde aprenden los niños, niñas y jóvenes de sectores vulnerables es la escuela. QUIEN NO VA A CLASES NO APREN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OBJETIVO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bjetivo Gener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Incorporar las dimensiones financieras -ingresos-gastos- , a la gestión de administración de los establecimientos de educación de la Municipalidad de La Gran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íntesis de lo trabajado</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futuro de la educación pública está radicado en la posibilidad de revertir o al menos detener el dramático éxodo de nuestros alumnos-alumna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pende de la cuantía de estudiantes la posibilidad de hacer viable el sistema de educación municipal (público), esta batalla la estamos perdiendo. NO HAY NADA QUE NO SE PUEDA SI NOS LO PROPONEMOS Y REALIZAMOS UN TRABAJO CONSISTENTE CON ESE OBJETIV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ntido del Taller</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me ha encomendado trabajar con ustedes sobre la estructura financiera: lo harem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un datos es lo deficitario del siste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aller no tiene por propósito decir lo que ya sabemos, lo que buscamos es que en conjunto tratemos de dar una respuesta positiva que inicie un camino en el sentido contrar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ntido del Tall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yo realizaré en las próximas 3 sesiones será presentar información sobre financiamiento Municipal y de Educación con el propósito que ustedes sepan las posibilidades y límites del  siste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stedes se dedicarán a indagar, diagnosticar y formular propuestas para revertir la situación en los niveles que les toca actu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última sesión estará dedicada a la presentación de vuestros Plan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ntido del Taller</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ra los Directores y sus equipos directivos la responsabilidad desde ahora será cada vez may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án medidos no solo por los resultados de aprendizajes, lo que ya es una gran responsabilidad; sino que también, por las consecuencias financieras de sus unidades educativ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rabajos Grupales del Taller</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o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1. Una investigación a fondo que les explique las causas del deterioro de la matrícula, la que debe conten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ntecedentes del establecimient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Opiniones de apoderados que sacaron a sus pupil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ercepción de los apoderados de establecimientos P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trevistas a docentes y directivos de P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Observación que explique las diferencias entre los tipos de establecimien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ferencias institucionales, etc.</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rabajos Grupales del Taller</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 Formulación de una propuesta para hacer viables sus escuelas-lice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de la Investigación les permitirá plantearse un Plan de Trabajo que se haga cargo de la realidad financiera de los establecimient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 pediremos al DAEM que les prepare un set de información de cada establecimiento como centro de co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óxima Sesió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óximo Martes examinaremos la institución municipal y el municipio La Granja desde la perspectiva de sus finanz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ambién veremos como van avanzando en el trabajo que tienen que desarroll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OBJETIVO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bjetivos Específ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ocer las fuentes de financiami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formarse sobre estructura financiera del Municip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dentificar los costos de cada establecimi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conocer la importancia de diferentes variables en los resultados fina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r un Plan de Trabaj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ller consistirá e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cifras, muchos números, estadística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terminación de indicadores claves para la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sobretodo, desarrollar una mirada crítica a las prácticas instaladas, para reafirmar las positivas y cambiar las que frenan el progreso de la institución escuela-lice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 Final</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mulación de un Plan de Mejora Institucional que responda al diagnóstico de cada establecimien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n que se trabajará por el equipo de cada establecimiento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final dependerá de la consistencia del Pl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rabajo sobre la modificación legal</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Trabajo individual con el texto de la nueva Ley de Calidad y Equidad publicada a fines de Febrer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Debate grupal sobre las principales conclusiones de la Le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Tiempo ½ ho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rabajo Grupal</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Establecer las tres (3) principales fortalezas y las tres principales debilidades de la educación municipal de La Granj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hora, lo mismo pero de su establecimien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Presentación de trabajo grupal y debate para la jerarquización de los problemas defini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atrícula: factor clave</a:t>
            </a:r>
            <a:endParaRPr b="0" lang="en-US" sz="4400" spc="-1" strike="noStrike">
              <a:solidFill>
                <a:srgbClr val="000000"/>
              </a:solidFill>
              <a:latin typeface="Calibri"/>
            </a:endParaRPr>
          </a:p>
        </p:txBody>
      </p:sp>
      <p:pic>
        <p:nvPicPr>
          <p:cNvPr id="56" name="1 Gráfico"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ffffff"/>
          </a:solidFill>
          <a:ln w="255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atrícula comparada</a:t>
            </a:r>
            <a:endParaRPr b="0" lang="en-US" sz="4400" spc="-1" strike="noStrike">
              <a:solidFill>
                <a:srgbClr val="000000"/>
              </a:solidFill>
              <a:latin typeface="Calibri"/>
            </a:endParaRPr>
          </a:p>
        </p:txBody>
      </p:sp>
      <p:pic>
        <p:nvPicPr>
          <p:cNvPr id="58" name="5 Gráfico"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9:05:41Z</dcterms:created>
  <dc:creator>fernando echeverria</dc:creator>
  <dc:description/>
  <dc:language>en-US</dc:language>
  <cp:lastModifiedBy>.</cp:lastModifiedBy>
  <dcterms:modified xsi:type="dcterms:W3CDTF">2011-03-15T13:20:03Z</dcterms:modified>
  <cp:revision>25</cp:revision>
  <dc:subject/>
  <dc:title>DIPLOMADO EN GESTION ESTRATEGICA EDUCATIVA</dc:title>
</cp:coreProperties>
</file>