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693-326D-462E-9559-EEC6C955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F30-5969-4A73-99D2-42456EED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A1D-09C4-4E90-B13D-159968F4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C4E-6C9F-424F-A0F7-A7965D85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0CA-AE17-4010-A6AB-DBC03D4A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FFEB-65A1-4463-A129-DCAFA5B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F9B-259B-4EFC-8ADD-9BABD16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4B3D-51F1-4A20-B572-0E5CC06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61E1-A4B1-46DA-94ED-2171AC9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084-FC41-4FD8-87FC-9B1A509C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B788-E62E-4085-BC06-3522F74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7DD-238C-49F3-8895-2B88964B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4B7B-0C5D-49AF-B61C-A582A6B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3CFF-BFFC-41D4-B33E-254580A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DC7-5262-4E64-AB86-D764778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34CB-5797-4215-A785-D347EDA5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C21-F6C5-4FD7-97C6-42BC4A0B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06870-FB75-4ABD-9D66-4E5D9D23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F718F-3CDA-47C1-8CD9-69EA447E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3D221-F677-4E8D-A854-46F063A6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7EC5B-A29F-49C6-A7BF-68FC1C8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17C7E-AF3D-4538-BE25-DDA6F792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95F-5468-4BDC-B2C4-A3D4B5F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2C528-C236-45F4-B6C3-701DDAA3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AC542-1FD4-497D-BB60-2ACB6DA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E2730-ABBB-4FA8-9362-3B1162A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87F4D-1BF8-4361-9328-2A4E39D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38FAB-FD9D-4010-9B56-B1B68A18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AADDA-9839-44B8-92CA-2EA02496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AB699-555D-4C08-8CEE-A0D17151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4F32-4DE6-41D8-B497-AB02634F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C38B-666E-4D70-BC27-68B47F4D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F885-B563-416B-A693-45C0079F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C2A-BA5F-4F2A-8BBD-7AD3D4A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AD40-0BEB-4AF5-8638-986E55F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5301-A110-480A-A29A-8586362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0330-7B04-4198-9BD5-9355A923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8083-F817-42E9-8EC9-4EA9414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937CA-217D-4143-9710-6BE1567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D07A-BD92-4DCF-BF61-36006C6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0742-735E-41A1-9580-3DCDD66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A096-9D58-4287-89D0-3ABE6167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092F3-2AB9-4396-A2D5-736A4A94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C46BB-0FA4-46EA-A5BA-BFDE1955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E87-53A9-40B8-95D4-71B4954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8B99F-383F-463B-B458-82C41F4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D3098-924C-4507-9082-549CB969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6B02D-5D27-4FFB-93A8-BB3D765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4EEE5-0D51-4D7B-80BB-5E7EB0CA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38418-2D17-4CD7-B00F-81FD69C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536E3-58E0-4958-B266-83C7F2C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F2155-4C4A-4DC0-89B5-03EED20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3A091-A278-429F-BBA2-896EC0B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DABC1-0C81-42B2-AE4E-0CC059D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040B8-FD12-45AA-906E-733F1413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963-504A-42F7-92BA-00FBCF2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C9040-03C3-4C69-9532-83E26BB9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71B6F-A788-45E3-B5E7-18989BB2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390E1-5322-4FAF-B687-083B3DD5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10A0F-8164-4C5B-889A-A8CF9258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780F9-3BF4-43D6-96F2-32E47411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3C339-BB18-4FC8-9253-891B561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E36A2-6CAA-43E1-8F0E-2E40D1C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E614A-F466-4C54-8580-2A07B3C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89254-9DCD-4E75-AEB2-1F6138F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B92E7-7AEB-4984-9E2A-E22C34D6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330-4067-4339-82AF-2936E57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82547-436E-4648-B7D3-6C0BC02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2CC82-DA10-4527-8042-AD014E3D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783F9-691D-4CD8-AEEA-D2ED4142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4903A-9806-4A1C-AFCB-1963C607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C1D66-F047-49E6-B650-0BBB561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3D30F-A234-4799-9DCF-EEC5786A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CA55A-220B-4469-9B96-998C008B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3507E-7106-438B-8019-93503E85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77714-09EC-40B1-8B5B-D33A6E76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98BD4-AE76-45BE-B9AD-384CC9F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D39-8ACC-4733-BF08-89FCA1F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D66F1-BBCE-4B09-B26A-1723A50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91248-1911-4361-A7F3-89B7303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01217-5FA4-4911-ACEA-3B05576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E3EB7-001D-48A4-B584-CA61D35A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0B917-CFE2-499C-B6B1-4D81A6E3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567-585D-4483-A105-BDD2C46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D71-D1AB-43F0-B39B-67D9C9574EF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990-AA68-40D4-BE08-A493772AC73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A3CC-D1C8-4F8E-802D-77AD227C1BAB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0B4-95B6-4BC7-AFAA-774FFFC18F1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601E-F149-4D10-AD89-9D11E4D4C257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7886-685F-40E1-8B90-34DED6E4400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3B4A-522A-4CB7-BD32-99F2CA346FF4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430-EE76-4ECF-9A9A-EA71A7B4F6A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44D-5D9D-4D47-A4DF-0A0CEF0A5CC4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7A0-D835-455C-A262-21DA89B1784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B6B-5CC2-4914-8F33-E079899AF85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F66-D25F-4BFE-877E-1F3AD894206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F0A-5A50-4BD5-A00D-EC3209DB7867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FF65-5AC2-4F43-80F0-4AD680A52F4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Concentrars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lo que eres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excel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hacerlo con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asió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ser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ersist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A58-72F2-4F49-AA2D-F0102614CB8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marca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 sob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Factores emocion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sultados tangib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entury Schoolbook"/>
              </a:rPr>
              <a:t>Crear esto permite desencadenar un círculo virtuoso en donde más gente interesada te apoyará con recurs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B340-8343-4E75-A34D-5A6EDF92A37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librar el éxito sin métricas de nego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r capaz de lograr resultados en una estructura de poder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aber subir la gente correcta al carro dentro de las restricciones de los sectores so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struir un motor de recursos sustentable en un ambiente sin fines de luc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rear un círculo virtuoso de sustentabilidad construyendo la mar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DC2-2FE5-4049-BE6E-08ABB634AC3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La excelencia no es función de las circunstancias, sino un tema de elección y disciplin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BD6-E0E1-47A8-809D-0FDBB75A0A3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Personas con pasión por lo que hacen, liderazgo, rigor y obsesión por la calidad hacen la gran diferenci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902-24EF-46E5-9C46-39BF931D0B4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TITUCIONES EXCELENTES DESTACAN POR SU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2204640"/>
            <a:ext cx="648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Disciplina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371-802F-41A5-8CF7-4D8CAA531C6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8" name="2 Marcador de contenido"/>
          <p:cNvSpPr/>
          <p:nvPr/>
        </p:nvSpPr>
        <p:spPr>
          <a:xfrm>
            <a:off x="1959120" y="3429000"/>
            <a:ext cx="7829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Rigurosidad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2 Marcador de contenido"/>
          <p:cNvSpPr/>
          <p:nvPr/>
        </p:nvSpPr>
        <p:spPr>
          <a:xfrm>
            <a:off x="4230720" y="4724280"/>
            <a:ext cx="5737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Pasión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ALIBRAR EL ÉXI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onocer inputs y outpu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dir impacto y monitorear rigurosamente los avan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entury Schoolbook"/>
              </a:rPr>
              <a:t>Todo siempre con </a:t>
            </a:r>
            <a:r>
              <a:rPr b="1" i="1" lang="es-CL" sz="32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320C-EFAD-4F45-8457-F0C82F992E0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IDERAZGO PARA LOGRAR RESULTA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960560"/>
            <a:ext cx="72104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ideres son fuertes tomadores de decis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 ambición por el cumplimiento de la misión de la organización. Poseen una suma de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ers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volunt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rofesi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Hacer que las cosas pasen, sin importar lo difíciles que puedan s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Schoolbook"/>
              </a:rPr>
              <a:t>El liderazgo es real sólo cuando la gente te sigue aún cuando tenga la libertad de no hacerlo</a:t>
            </a:r>
            <a:r>
              <a:rPr b="0" i="1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B49-4A34-44C2-B35B-013821854A1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RABAJAR CON LA GENTE CORREC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960560"/>
            <a:ext cx="7210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canismos de evaluación tempra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oco en obtener y retener a la gente correc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Obsesivamente productiv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Más que lamentarse por no poder hacer algo con los malos profesionales hay que concentrarse en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potenciar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 a los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mejores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E827-5B08-4D92-A623-4178CBBC0D7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GESTIONAR RECURSOS Y SER AUTO SUSTENTAB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000000"/>
                </a:solidFill>
                <a:latin typeface="Century Schoolbook"/>
              </a:rPr>
              <a:t>¿Cómo podemos diseñar un motor de recursos sustentable para alcanzar un desempeño superior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252A-F5ED-4623-8247-634805F22EC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WinuE</cp:lastModifiedBy>
  <dcterms:modified xsi:type="dcterms:W3CDTF">2010-10-07T07:44:25Z</dcterms:modified>
  <cp:revision>21</cp:revision>
  <dc:subject/>
  <dc:title>Introducción a la Gestión Pública</dc:title>
</cp:coreProperties>
</file>