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8E3-A4CF-47F4-868D-18F0B73F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938-70A9-4A53-9209-20627BFC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6EA-8125-4C5B-A4EE-24642062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7EF-BC2D-412F-8263-FF64E76D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F67B-F056-41D9-95C7-8E6893D5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7651-4D0E-4A0A-AE8E-ADB89C39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05B1-7B61-4AC9-8473-ECE69F54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3E2D-9392-4038-A6F0-26E1131A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66C4-FD96-4591-B28C-CE9A60A1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485C-1043-47AF-B39F-C11FAE0A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F56E-87B8-4301-AA39-FB348F06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64A-1962-41A9-91F0-270EE421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B901-10A9-4BB2-9DB7-E34DCB26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6CBD-07BD-4624-8BBA-7E67806B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7AB1-0481-48B6-B205-C571907C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BE22-D8CC-468A-88E0-C117907E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9A63-21FA-4C32-AAD6-18647D38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A526B-FC82-4C63-9C16-6227D966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A033F-C2A6-4A3B-A4DF-AC69C0FC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3C3BC-53F8-4A5F-84AC-1EEB5B35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FEB3F-AB9D-4D6D-BEF4-DE06CF50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49BAD-5CBE-49BF-88D6-0065D517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F82-344C-46B8-BEF0-EEBCDE15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6391D-D0D4-4151-B711-3E7682C0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178FB-E79D-4BA4-B7E6-E19546A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73DEF-BBB3-4E13-BA0B-989E1AF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D2400-2277-4543-B840-C83739AC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B6DFC-7C8C-4980-9B45-99DD0B05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F83C4-65EE-49CA-99A2-34F46AC4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1892B-906E-443F-8BF6-2C9D9B64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8C56-FF92-4849-87E7-5BC3921A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A0D1-153A-4923-AD81-5F0CEA21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E5B5C-4C16-4D54-ABEE-440138A9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BCC-1342-40C6-8A2D-53AD37F9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2FBC-460C-4302-A025-9068A6F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5C31-9829-48FD-96E6-B90E8DBE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75CDE-7E43-4659-83A5-F31E0303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C369-11AF-4140-A0E0-5F69DED4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16495-44E8-4D09-A58A-BB0D865B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54E40-4011-4990-B1C8-D7807C9F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8613-712A-49C6-B421-E489C173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43F23-A1CE-45E7-8D89-96D14EC8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D0FC5-E81E-4240-8941-EA6DF575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0CD77-7495-4E9B-839E-D2C11333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B31-4350-49CB-B85D-46133389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ABC99-5AA4-4EEC-A22F-2B3EA7B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9C170-D33E-44C7-AF97-DE2D5352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C0E6E-AA27-4B9F-9C51-85553BC8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F377D-806E-4FDB-95A8-7FE55310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30248-ADA2-44F0-BECF-4F05785D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70799-B9A4-4D1A-96B0-541CD9CC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98B2E-C6A5-47C5-BCCA-9072154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121DC-5EC9-4AF4-875E-1165CACC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8E2DD-231C-43EF-B4B9-F41C5212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643A4-A445-47B8-B968-2291E6CD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73B-2224-474C-867F-1D8C2FB2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0F418-C9DE-4FFB-9177-C26D37C1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A585F-28F1-4C88-800C-27FE4406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79C6E-C8AE-49BA-90BE-3E1A2AFA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E7E9BC-6659-44A5-BC08-93224938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B39D0-C1A1-4F06-95BF-A37FB02D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202FD-33FB-48EC-BD4E-B603F997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A0AC6-B389-45FE-B3B9-29C4F029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9BCA8-D2C8-47DA-86BF-5A6E961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AD44B-F216-40C8-AD82-DDAE9165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B6919-021F-452A-B446-87AC46C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270-1256-4169-8462-E5B1353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5F85C-72FD-4437-9375-8A9B8FA1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0AB21-DD1B-48F2-B5AE-A2B912E4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B6068-3B8F-45BB-919B-1770C455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63AD4-6BAC-46C5-8462-A25701DC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A0B2B-193A-44B1-8C9E-8AF889CC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FCCD8-F292-4C6E-A634-C8F08C05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6E4F67-A793-4055-A059-168BE9A8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AEBBC-F40B-4F99-8DAB-A719D8B5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BC6E2-F3A2-4711-AFBD-A2603CDB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8E6AF-BF1A-4EFC-8A72-BC97C05C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D816-ED2A-404B-95C3-1A2D8BF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C96262-8852-4D3F-9E5E-89A9A8E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C07D2-CF89-46F3-90B9-9BD03DC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CCDB5-4C22-49AD-AB9D-7D55901B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43907-6B8C-495A-9D10-718417E6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8ADEE-F823-4FB9-8350-CD1BA0BF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B98-24C8-4DAE-9A84-22DA756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EA30-0EDF-410C-B259-0F1571795660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3456-C49C-4792-8BE0-2BD886524B2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AC9A-1B57-424F-849A-A0E12518D997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FDDC-A0CC-4FAA-B084-E4F2321F252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CB2-D1C0-4A13-9085-4398A3B7458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6B22-E4A8-4ABE-8BA2-EC567FD81E0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caa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8cb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8cb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4e7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caa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4e7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caa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caa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F1BE-9FC4-4E3C-A1C5-A04DF89B81E9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970B-BECE-4765-B20B-13470074651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0025-CDDA-4602-9E25-C626B20A33ED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4BB5-A726-47A3-A802-5E1FEF721DE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8036-B2A4-4749-A696-EF21716AE102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B54C-C500-41CD-B892-D20053BB26C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30D6-C61A-4C36-A321-A41D245EAC66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9DF0-3733-401F-A692-3E7718EBDDA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La complejidad de la Gestión Públic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sistemas, tal como sus partes, son dinámic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volucionan en el tiempo y tienen una histor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Cada parte del sistema ignora el funcionamiento general de es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l pasar a un nuevo estado, es muy difícil volver al anterio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artes pueden agruparse y cada una puede estar en distintos grupo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iversidad razonable y capacidad de sobreponers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imilitud y escalabilidad para adaptarse a los cambios y así sobrevivir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A942-06BF-4982-B3EB-7EA70E2305F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Análi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es el proceso de </a:t>
            </a:r>
            <a:r>
              <a:rPr b="0" lang="es-CL" sz="4800" spc="-1" strike="noStrike">
                <a:solidFill>
                  <a:srgbClr val="b32c16"/>
                </a:solidFill>
                <a:latin typeface="Century Schoolbook"/>
              </a:rPr>
              <a:t>separar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algo en sus elementos constituyente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No existen curas mágicas para problemas puntuales si no se considera el sistema como un tod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448E-F2E2-4D18-96A5-9E601FA4C8C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Sínte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es el proceso que </a:t>
            </a:r>
            <a:r>
              <a:rPr b="0" lang="es-CL" sz="4800" spc="-1" strike="noStrike">
                <a:solidFill>
                  <a:srgbClr val="b32c16"/>
                </a:solidFill>
                <a:latin typeface="Century Schoolbook"/>
              </a:rPr>
              <a:t>junta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dos o más partes para producir un nuevo resultado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773D-C268-41E3-AB0C-7C9CFA3EB86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análisi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debe ser un </a:t>
            </a:r>
            <a:r>
              <a:rPr b="1" lang="es-CL" sz="4000" spc="-1" strike="noStrike">
                <a:solidFill>
                  <a:srgbClr val="000000"/>
                </a:solidFill>
                <a:latin typeface="Century Schoolbook"/>
              </a:rPr>
              <a:t>insumo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 para la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síntesi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0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1F89-A02F-472A-85A9-CC03DD626C7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directivo deb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Juntar cosas diversas en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visiones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coherent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prender a rescatar la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información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relevante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Construi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organizaciones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unificad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Resolve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conflicto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iseñar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sistema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integrado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Vincular la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organización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a las redes del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entorno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omar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decision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Century Schoolbook"/>
              </a:rPr>
              <a:t>difíciles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con poca informa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420D-DD33-4566-AAA5-B1FD31F3D5B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NÁLISIS V/S SÍNT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pic>
        <p:nvPicPr>
          <p:cNvPr id="415" name="5 Marcador de contenido" descr="cerebro.gif"/>
          <p:cNvPicPr/>
          <p:nvPr/>
        </p:nvPicPr>
        <p:blipFill>
          <a:blip r:embed="rId2"/>
          <a:stretch/>
        </p:blipFill>
        <p:spPr>
          <a:xfrm>
            <a:off x="468360" y="1608120"/>
            <a:ext cx="7632720" cy="4268880"/>
          </a:xfrm>
          <a:prstGeom prst="rect">
            <a:avLst/>
          </a:prstGeom>
          <a:ln w="0">
            <a:noFill/>
          </a:ln>
        </p:spPr>
      </p:pic>
      <p:sp>
        <p:nvSpPr>
          <p:cNvPr id="41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F672-777C-41AF-A525-F2E777D549F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PIEDADES EMERGEN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Cuando numerosos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lementos</a:t>
            </a: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del sistema están en un ciert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stado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, e interactúan de una cierta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forma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,  se crean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círculos viciosos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virtuosos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enorme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magnitu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9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s-CL" sz="2900" spc="-1" strike="noStrike">
                <a:solidFill>
                  <a:srgbClr val="000000"/>
                </a:solidFill>
                <a:latin typeface="Century Schoolbook"/>
              </a:rPr>
              <a:t>¿Quien lo hubiera dicho?”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9E1-95F6-42F5-80D6-0869AD5D998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CESOS BÁSICOS DE UNA ORGAN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pic>
        <p:nvPicPr>
          <p:cNvPr id="423" name="6 Marcador de contenido" descr="Real_Madrid.jpg"/>
          <p:cNvPicPr/>
          <p:nvPr/>
        </p:nvPicPr>
        <p:blipFill>
          <a:blip r:embed="rId2"/>
          <a:stretch/>
        </p:blipFill>
        <p:spPr>
          <a:xfrm>
            <a:off x="534960" y="1968480"/>
            <a:ext cx="5000760" cy="3332160"/>
          </a:xfrm>
          <a:prstGeom prst="rect">
            <a:avLst/>
          </a:prstGeom>
          <a:ln w="0">
            <a:noFill/>
          </a:ln>
        </p:spPr>
      </p:pic>
      <p:sp>
        <p:nvSpPr>
          <p:cNvPr id="424" name="7 CuadroTexto"/>
          <p:cNvSpPr/>
          <p:nvPr/>
        </p:nvSpPr>
        <p:spPr>
          <a:xfrm>
            <a:off x="6084720" y="2276640"/>
            <a:ext cx="20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¿Por qué el Madrid no logra ganar la Champions si tiene constantemente el mejor plantel del mundo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8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D21F-2E47-4353-9F3C-4912828ECC3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ROCESOS BÁSICOS DE UNA ORGANIZ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da organización debe hacer de la mejor manera posible los siguientes punt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odo de producir valor agregad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Procedimiento de toma de decision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Mecanismos de aprendizaje y contro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La forma de generar membresía entre los actores de la organizació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Los mecanismos de resolución de conflicto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700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9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B8CD-DE35-4114-8E39-6B44E57ECDA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ÓGICA DIFU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Si hacemos afirmaciones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precisa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, van a ser poco </a:t>
            </a:r>
            <a:r>
              <a:rPr b="1" lang="es-CL" sz="4000" spc="-1" strike="noStrike">
                <a:solidFill>
                  <a:srgbClr val="b32c16"/>
                </a:solidFill>
                <a:latin typeface="Century Schoolbook"/>
              </a:rPr>
              <a:t>significativas</a:t>
            </a: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, y si hacemos afirmaciones significativas, van a ser poco precisa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70EB-6F73-458B-BBF4-A91587F339E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istemas complicados y sistemas complej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nálisis vs Sínte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piedades emerg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cesos básicos de una organ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ógica difu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bordando la complej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sular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tologías frecu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5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E6D4-C258-4FB9-8070-0402F125C39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LÓGICA DIFU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6840" y="160020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irigir una organización compleja, como una escuela, requiere utilizar un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conjunto reducido de indicadores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ntitativos y cualitativos relevantes, olvidarse de las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cuantificaciones excesivas y absurda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y aprender a navegar en las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confusas aguas organizacionale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políticas y gerenciales aceptando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 contradiccione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, fronteras conceptuales y organizacionales difusas, y la </a:t>
            </a:r>
            <a:r>
              <a:rPr b="1" lang="es-CL" sz="2800" spc="-1" strike="noStrike">
                <a:solidFill>
                  <a:srgbClr val="b32c16"/>
                </a:solidFill>
                <a:latin typeface="Century Schoolbook"/>
              </a:rPr>
              <a:t>sabiduría poco precisa pero muy significativa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 colectivos de informantes calificad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070A-F014-4276-BE57-63AC6241A1F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Por donde empezar cuando todo se ve tan difícil y pareciera imposible lograr algo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1" name="4 Imagen" descr="terremoto chile.jpg"/>
          <p:cNvPicPr/>
          <p:nvPr/>
        </p:nvPicPr>
        <p:blipFill>
          <a:blip r:embed="rId2"/>
          <a:stretch/>
        </p:blipFill>
        <p:spPr>
          <a:xfrm>
            <a:off x="2333520" y="2716200"/>
            <a:ext cx="5478480" cy="3521160"/>
          </a:xfrm>
          <a:prstGeom prst="rect">
            <a:avLst/>
          </a:prstGeom>
          <a:ln w="0">
            <a:noFill/>
          </a:ln>
        </p:spPr>
      </p:pic>
      <p:sp>
        <p:nvSpPr>
          <p:cNvPr id="44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CC9D-1894-4B51-A18C-BB8B24186CE3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tender y ordenar el despelot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5 CuadroTexto"/>
          <p:cNvSpPr/>
          <p:nvPr/>
        </p:nvSpPr>
        <p:spPr>
          <a:xfrm>
            <a:off x="4716360" y="2924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b32c16"/>
                </a:solidFill>
                <a:latin typeface="Century Schoolbook"/>
              </a:rPr>
              <a:t>Desesperanza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6 CuadroTexto"/>
          <p:cNvSpPr/>
          <p:nvPr/>
        </p:nvSpPr>
        <p:spPr>
          <a:xfrm>
            <a:off x="5803920" y="385272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b32c16"/>
                </a:solidFill>
                <a:latin typeface="Century Schoolbook"/>
              </a:rPr>
              <a:t>Todo es un desorde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7 CuadroTexto"/>
          <p:cNvSpPr/>
          <p:nvPr/>
        </p:nvSpPr>
        <p:spPr>
          <a:xfrm>
            <a:off x="4211640" y="514836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Las cosas n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están clara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9 CuadroTexto"/>
          <p:cNvSpPr/>
          <p:nvPr/>
        </p:nvSpPr>
        <p:spPr>
          <a:xfrm>
            <a:off x="2340000" y="4653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Impotenc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10 CuadroTexto"/>
          <p:cNvSpPr/>
          <p:nvPr/>
        </p:nvSpPr>
        <p:spPr>
          <a:xfrm>
            <a:off x="539640" y="3573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entury Schoolbook"/>
              </a:rPr>
              <a:t>Resignación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11 CuadroTexto"/>
          <p:cNvSpPr/>
          <p:nvPr/>
        </p:nvSpPr>
        <p:spPr>
          <a:xfrm>
            <a:off x="250920" y="551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b32c16"/>
                </a:solidFill>
                <a:latin typeface="Century Schoolbook"/>
              </a:rPr>
              <a:t>Es lo que ha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12 CuadroTexto"/>
          <p:cNvSpPr/>
          <p:nvPr/>
        </p:nvSpPr>
        <p:spPr>
          <a:xfrm>
            <a:off x="611280" y="2349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Qué despelote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1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7135-C158-42DC-BC4F-784361869F5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entury Schoolbook"/>
              </a:rPr>
              <a:t>Diagnóstico (ordenado)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Análisis de todos los componentes del sistema (sin hacer juicios de valor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Análisis de las obstrucciones y dificultades existent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550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Entender interacciones entre las variables críticas del sistema y su entorn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B8D8-FC2C-4BAC-8F22-B525152359A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905800" cy="3743280"/>
          </a:xfrm>
          <a:prstGeom prst="rect">
            <a:avLst/>
          </a:prstGeom>
          <a:ln w="0">
            <a:noFill/>
          </a:ln>
        </p:spPr>
      </p:pic>
      <p:sp>
        <p:nvSpPr>
          <p:cNvPr id="462" name="5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EA12-03FB-4058-A37C-7AA1E1208BA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BORDANDO LA COMPLEJ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entury Schoolbook"/>
              </a:rPr>
              <a:t>Ejercici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Diagnóstico (ordenado) de su escuel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Schoolbook"/>
              </a:rPr>
              <a:t>Recuerde: Ciencia, Arte y Oficio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6BD3-30A0-4E8D-8BB3-B53D3DE2E08C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8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69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D825-CC06-4BC9-AEEA-48F25DDAB35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tendencia generalizada de organizaciones y sistemas, particularmente públicos, a generar en su interior “</a:t>
            </a:r>
            <a:r>
              <a:rPr b="0" lang="es-CL" sz="2400" spc="-1" strike="noStrike">
                <a:solidFill>
                  <a:srgbClr val="b32c16"/>
                </a:solidFill>
                <a:latin typeface="Century Schoolbook"/>
              </a:rPr>
              <a:t>islas autónomas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” con agendas propias, con las consecuentes falencias derivadas de la </a:t>
            </a:r>
            <a:r>
              <a:rPr b="1" lang="es-CL" sz="2400" spc="-1" strike="noStrike">
                <a:solidFill>
                  <a:srgbClr val="b32c16"/>
                </a:solidFill>
                <a:latin typeface="Century Schoolbook"/>
              </a:rPr>
              <a:t>ausencia de coordinación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y propósitos superiores comu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(Propiedad emergente de sistemas complej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73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36D5-E6AF-4FDA-A188-65A6017BA902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Forma y periodicidad de las cúpulas de los organismos públic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Burocracias profesionales y la recurrente comparación entre “carga administrativa” y “gestión”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Schoolbook"/>
              </a:rPr>
              <a:t>Desarrollo de agendas propia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INSULAR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7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77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DDE7-1CED-4639-80C8-3FE2A15EE54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entury Schoolbook"/>
              </a:rPr>
              <a:t>Paliativos para combatirl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Profesionalización de designacion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Ajuste de las tareas de la organización como último recurso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Tomar conciencia que existe insularidad en la organiz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Interés del líder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Establecimiento de prácticas de coordin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Metas estratégicas concordada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79480" indent="-51444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Tecnologías que faciliten el uso de la información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ATOLOGÍAS FRECUEN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81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D616-B44A-4739-9CFC-01B16AAC585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2"/>
          <a:stretch/>
        </p:blipFill>
        <p:spPr>
          <a:xfrm>
            <a:off x="216000" y="1657440"/>
            <a:ext cx="7956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0" name="5 Rectángulo redondeado"/>
          <p:cNvSpPr/>
          <p:nvPr/>
        </p:nvSpPr>
        <p:spPr>
          <a:xfrm>
            <a:off x="3276720" y="2637000"/>
            <a:ext cx="2193840" cy="1511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10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3AC8-A13E-430F-97FE-4EFB6EE4A08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¡VAMOS QUE SE PUEDE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5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486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847D-2CF5-4551-9E34-3242F529E541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hay que desalentarse, porque sí se pued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8" name="7 Imagen" descr="luis_tisne.jpg"/>
          <p:cNvPicPr/>
          <p:nvPr/>
        </p:nvPicPr>
        <p:blipFill>
          <a:blip r:embed="rId2"/>
          <a:stretch/>
        </p:blipFill>
        <p:spPr>
          <a:xfrm>
            <a:off x="1476360" y="2133720"/>
            <a:ext cx="568800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INTRODUCCIÓN A LA GESTIÓN PÚBL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ódulo: La complejidad de la Gestión Pública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rio Waissbluth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waissbluth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Matías Reeves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575f6d"/>
                </a:solidFill>
                <a:latin typeface="Century Schoolbook"/>
              </a:rPr>
              <a:t>(mreeves@dii.uchile.cl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1" name="4 Imagen" descr=""/>
          <p:cNvPicPr/>
          <p:nvPr/>
        </p:nvPicPr>
        <p:blipFill>
          <a:blip r:embed="rId1"/>
          <a:stretch/>
        </p:blipFill>
        <p:spPr>
          <a:xfrm>
            <a:off x="5996160" y="333360"/>
            <a:ext cx="2752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65" name="6 Rectángulo redondeado"/>
          <p:cNvSpPr/>
          <p:nvPr/>
        </p:nvSpPr>
        <p:spPr>
          <a:xfrm>
            <a:off x="5076720" y="1484280"/>
            <a:ext cx="3024360" cy="2521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7 Rectángulo redondeado"/>
          <p:cNvSpPr/>
          <p:nvPr/>
        </p:nvSpPr>
        <p:spPr>
          <a:xfrm>
            <a:off x="755640" y="2421000"/>
            <a:ext cx="2914560" cy="3024000"/>
          </a:xfrm>
          <a:custGeom>
            <a:avLst/>
            <a:gdLst>
              <a:gd name="textAreaLeft" fmla="*/ 142200 w 2914560"/>
              <a:gd name="textAreaRight" fmla="*/ 2772360 w 2914560"/>
              <a:gd name="textAreaTop" fmla="*/ 142200 h 3024000"/>
              <a:gd name="textAreaBottom" fmla="*/ 2881800 h 3024000"/>
            </a:gdLst>
            <a:ahLst/>
            <a:rect l="textAreaLeft" t="textAreaTop" r="textAreaRight" b="textAreaBottom"/>
            <a:pathLst>
              <a:path w="21600" h="22411">
                <a:moveTo>
                  <a:pt x="3600" y="0"/>
                </a:moveTo>
                <a:arcTo wR="3600" hR="3600" stAng="16200000" swAng="-5400000"/>
                <a:lnTo>
                  <a:pt x="0" y="18811"/>
                </a:lnTo>
                <a:arcTo wR="3600" hR="3600" stAng="10800000" swAng="-5400000"/>
                <a:lnTo>
                  <a:pt x="18000" y="22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11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mplicad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8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39F0-DA06-423D-8E15-32A248A6A7B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71" name="8 Rectángulo redondeado"/>
          <p:cNvSpPr/>
          <p:nvPr/>
        </p:nvSpPr>
        <p:spPr>
          <a:xfrm>
            <a:off x="395280" y="2276640"/>
            <a:ext cx="3130560" cy="30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11 CuadroTexto"/>
          <p:cNvSpPr/>
          <p:nvPr/>
        </p:nvSpPr>
        <p:spPr>
          <a:xfrm>
            <a:off x="3924360" y="47242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mplej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13 Rectángulo redondeado"/>
          <p:cNvSpPr/>
          <p:nvPr/>
        </p:nvSpPr>
        <p:spPr>
          <a:xfrm>
            <a:off x="4427640" y="1844640"/>
            <a:ext cx="3529080" cy="2664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56DA-738C-48D7-A60E-BAD9C5F8C07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77" name="9 Rectángulo redondeado"/>
          <p:cNvSpPr/>
          <p:nvPr/>
        </p:nvSpPr>
        <p:spPr>
          <a:xfrm>
            <a:off x="395280" y="2349360"/>
            <a:ext cx="3240000" cy="23749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10 CuadroTexto"/>
          <p:cNvSpPr/>
          <p:nvPr/>
        </p:nvSpPr>
        <p:spPr>
          <a:xfrm>
            <a:off x="3924360" y="4724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entury Schoolbook"/>
              </a:rPr>
              <a:t>Complejo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6 Imagen" descr="profesores_clases.JPG"/>
          <p:cNvPicPr/>
          <p:nvPr/>
        </p:nvPicPr>
        <p:blipFill>
          <a:blip r:embed="rId3"/>
          <a:stretch/>
        </p:blipFill>
        <p:spPr>
          <a:xfrm>
            <a:off x="4211640" y="1628640"/>
            <a:ext cx="3246480" cy="2162160"/>
          </a:xfrm>
          <a:prstGeom prst="rect">
            <a:avLst/>
          </a:prstGeom>
          <a:ln w="0">
            <a:noFill/>
          </a:ln>
        </p:spPr>
      </p:pic>
      <p:sp>
        <p:nvSpPr>
          <p:cNvPr id="380" name="7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6F2E-A904-4592-A57E-29AB8BF6367E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entury Schoolbook"/>
              </a:rPr>
              <a:t>Es necesario tener un pensamiento sistémico para controlar la tendencia a auto organizarse de las partes de un sistema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72BD-25D9-40B0-A8E0-89B91C4519B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Schoolbook"/>
              </a:rPr>
              <a:t>¿Podemos encontrar las características de un sistema complejo en una escuela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CD2D-8E09-4B9A-B998-94573DDBA0C7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SISTEMAS COMPLEJ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3 Imagen" descr=""/>
          <p:cNvPicPr/>
          <p:nvPr/>
        </p:nvPicPr>
        <p:blipFill>
          <a:blip r:embed="rId1"/>
          <a:stretch/>
        </p:blipFill>
        <p:spPr>
          <a:xfrm>
            <a:off x="3132000" y="6367320"/>
            <a:ext cx="2751120" cy="446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oseen muchas partes y es muy difícil predecir su comportamient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artes interactúan de manera dinámica, sobre todo con intercambio de inform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interacciones son múltiples entre las part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Una pequeña modificación de una de las partes puede causar grandes cambios en todo el sist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Aunque parezcan de corto alcance, las interacciones pueden afectar muchas cos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interacciones tienen retroaliment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sistemas complejos interactúan con un entorn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c00000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4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A8D6-CFDA-458C-8E31-FF1AD33CEE7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0:59:54Z</dcterms:created>
  <dc:creator>Matías</dc:creator>
  <dc:description/>
  <dc:language>en-US</dc:language>
  <cp:lastModifiedBy>Matías</cp:lastModifiedBy>
  <dcterms:modified xsi:type="dcterms:W3CDTF">2010-09-12T22:15:48Z</dcterms:modified>
  <cp:revision>39</cp:revision>
  <dc:subject/>
  <dc:title>Introducción a la Gestión Pública</dc:title>
</cp:coreProperties>
</file>