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22.wmf" ContentType="image/x-wmf"/>
  <Override PartName="/ppt/media/image19.jpeg" ContentType="image/jpeg"/>
  <Override PartName="/ppt/media/image18.jpeg" ContentType="image/jpeg"/>
  <Override PartName="/ppt/media/image7.jpeg" ContentType="image/jpeg"/>
  <Override PartName="/ppt/media/image5.jpeg" ContentType="image/jpeg"/>
  <Override PartName="/ppt/media/image8.jpeg" ContentType="image/jpeg"/>
  <Override PartName="/ppt/media/image6.jpeg" ContentType="image/jpeg"/>
  <Override PartName="/ppt/media/image10.jpeg" ContentType="image/jpeg"/>
  <Override PartName="/ppt/media/CASHREG.WAV" ContentType="audio/x-wav"/>
  <Override PartName="/ppt/media/DRUMROLL.WAV" ContentType="audio/x-wav"/>
  <Override PartName="/ppt/media/image17.jpeg" ContentType="image/jpeg"/>
  <Override PartName="/ppt/media/APPLAUSE.WAV" ContentType="audio/x-wav"/>
  <Override PartName="/ppt/media/CAMERA.WAV" ContentType="audio/x-wav"/>
  <Override PartName="/ppt/media/image11.jpeg" ContentType="image/jpeg"/>
  <Override PartName="/ppt/media/image9.jpeg" ContentType="image/jpeg"/>
  <Override PartName="/ppt/media/DRIVEBY.WAV" ContentType="audio/x-wav"/>
  <Override PartName="/ppt/media/image23.jpeg" ContentType="image/jpeg"/>
  <Override PartName="/ppt/media/image2.jpeg" ContentType="image/jpeg"/>
  <Override PartName="/ppt/media/image24.jpeg" ContentType="image/jpeg"/>
  <Override PartName="/ppt/media/CHIMES.WAV" ContentType="audio/x-wav"/>
  <Override PartName="/ppt/media/image3.jpeg" ContentType="image/jpeg"/>
  <Override PartName="/ppt/media/image25.jpeg" ContentType="image/jpeg"/>
  <Override PartName="/ppt/media/image4.jpeg" ContentType="image/jpeg"/>
  <Override PartName="/ppt/media/image1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WHOOSH.WAV" ContentType="audio/x-wav"/>
  <Override PartName="/ppt/media/GUNSHOT.WAV" ContentType="audio/x-wav"/>
  <Override PartName="/ppt/media/image21.jpeg" ContentType="image/jpeg"/>
  <Override PartName="/ppt/media/image15.jpeg" ContentType="image/jpeg"/>
  <Override PartName="/ppt/media/LASER.WAV" ContentType="audio/x-wav"/>
  <Override PartName="/ppt/media/TYPE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88a"/>
                </a:solidFill>
                <a:latin typeface="UnitOT-Regular"/>
              </a:rPr>
              <a:t>Click to move the slide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916840"/>
            <a:ext cx="307800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F4DA76-2076-49DD-A02A-9F973C9C3E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1CA068-279A-417E-BEC3-162B89411FA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ED25276-8F1C-4173-BBE0-1E75E5DB35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AF2FE7C-39AE-46C9-8E2D-816CEC50F0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F3DC526-1734-486A-8E51-B53AFF9F69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D76BAA6-6123-45E7-A722-4C2AD85191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398D688-F91F-4BB2-A918-4EB3B2E311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3CA8C53-176B-4C37-BF67-580C3FAD2D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558620E-CD69-4C2E-B647-C08FAE1196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D39F1AE-B124-4B41-ACB2-CD6C8298EB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6E8E2BE-821D-47D8-8D63-0F275E9827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D0DD035-1542-4A2F-8789-9E1101B862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1AD1E07-8BA1-47A7-9860-54ED2AABFD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DA08831-B599-4DD2-AFA7-7B91A5697F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94A7E51-5C55-4AC7-9EE8-C794F0AD9A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DC11642-DAF1-4E4F-A206-D3EF1FCE48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F73782C-AD79-4F8C-A957-B10AC5B782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05A245A-D713-4CDF-B732-57B651333D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6A62A27-E9BA-43A1-851B-7734815590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200" y="4460760"/>
            <a:ext cx="5683320" cy="4222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D48FC03-BBF3-4E10-8A9C-BC90C10C41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53A37D6-0FCD-48CD-B474-764F923809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E1936AA-7DF6-445B-99F6-F6E5BBCA23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BB60F17-B50D-463D-8D7E-E1B20074EB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8711E0A-9B13-4AE2-BA27-76C06A63FE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769CE7D-E6EA-41A7-8912-E5424AB5B26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BF286A8-B6F9-4D62-84F4-890C7184CB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AB47026-8270-4AD8-830F-14583184DC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FDB4968-893C-4284-8888-897A491FB8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C87B492-ADC0-4EE4-9F5B-776D3A1B1E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9A5CCE-8BDC-4CC9-BD0D-61473F3BA64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962A4BA-B717-4E05-80F2-ADBDBDB3B9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5C3C61-98A2-46FA-99D3-734F05A547F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4" name="Rectangle 3"/>
          <p:cNvSpPr/>
          <p:nvPr/>
        </p:nvSpPr>
        <p:spPr>
          <a:xfrm>
            <a:off x="1025640" y="4616280"/>
            <a:ext cx="520848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5B7D1CF-6178-487F-B9C3-5598EF3221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A30C682-E6E1-41C4-BEDE-6FD8AA3CD3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8BBD923-9CFF-47A0-9B0A-D29AB38C6F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90F22D4-833B-489A-84E7-B0CA2054AD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C7A-F3F5-43FA-B64A-D14C4FEB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752-4C1B-4B8B-A505-6DA618C0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125-D7DC-4093-9AA4-100B5C72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9EE-C0A4-42B3-B21E-683A41EA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96C-70F3-424C-A0D0-D50CF6A9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EEF-90BA-4078-81A3-4C355868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D9E-66E6-4B9B-94B7-F975F346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A06-50EE-40D5-880A-4E416D93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87640" y="274320"/>
            <a:ext cx="468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935-F4FD-4B96-A53D-C8027CCD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AC51-3950-4D67-926C-9DE961DD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179-392C-4C5C-B1CC-A78FB93D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52D-C178-4A70-9956-DB8CB07D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FONDO PH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88a"/>
                </a:solidFill>
                <a:latin typeface="UnitOT-Regular"/>
              </a:rPr>
              <a:t>Click to edit the title text format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Click to edit the outline text format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econd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2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Third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3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Four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4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Fif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UnitOT-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ix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UnitOT-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even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99"/>
                </a:solidFill>
                <a:latin typeface="UnitOT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2373-4C98-400B-B011-EDAB9906EBFA}" type="slidenum">
              <a:rPr b="0" lang="es-ES" sz="1400" spc="-1" strike="noStrike">
                <a:solidFill>
                  <a:srgbClr val="333399"/>
                </a:solidFill>
                <a:latin typeface="UnitOT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audio" Target="../media/APPLAUS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067280" y="51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Ener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ROSELY"/>
          <p:cNvPicPr/>
          <p:nvPr/>
        </p:nvPicPr>
        <p:blipFill>
          <a:blip r:embed="rId2"/>
          <a:stretch/>
        </p:blipFill>
        <p:spPr>
          <a:xfrm>
            <a:off x="214200" y="1989000"/>
            <a:ext cx="2125800" cy="2125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Trebuchet MS"/>
              </a:rPr>
              <a:t>Habilidades Directiv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rograma en Gestión Estratégica Educ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 </a:t>
            </a: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ara Directivos de la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42920" y="15192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  <a:ea typeface="Arial"/>
              </a:rPr>
              <a:t>Las 3 habilidades de un </a:t>
            </a:r>
            <a:br>
              <a:rPr sz="2800"/>
            </a:br>
            <a:r>
              <a:rPr b="1" lang="es-CL" sz="2800" spc="-1" strike="noStrike">
                <a:solidFill>
                  <a:srgbClr val="333399"/>
                </a:solidFill>
                <a:latin typeface="Arial"/>
                <a:ea typeface="Arial"/>
              </a:rPr>
              <a:t>Líder Situacional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1. Diagnosticar: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 determinar las necesidades de desarroll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. Flexibilidad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: utilizar una variedad de estilos de liderazg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3. Alianza para el desempeño/Acuerdo sobre el estilo de liderazgo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: lograr acuerdos con los colaboradores acerca del estilo de liderazgo a utiliza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225440" y="404640"/>
            <a:ext cx="716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Diagnosti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22360" y="14749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798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ver"/>
          <p:cNvPicPr/>
          <p:nvPr/>
        </p:nvPicPr>
        <p:blipFill>
          <a:blip r:embed="rId1"/>
          <a:stretch/>
        </p:blipFill>
        <p:spPr>
          <a:xfrm>
            <a:off x="5599080" y="3808440"/>
            <a:ext cx="2789280" cy="27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Nivel de Desarroll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7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30b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30bb1"/>
                </a:solidFill>
                <a:latin typeface="Arial"/>
              </a:rPr>
              <a:t>Compromiso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40" name="Picture 10" descr="Fotolia_7829651_M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7"/>
          <p:cNvPicPr/>
          <p:nvPr/>
        </p:nvPicPr>
        <p:blipFill>
          <a:blip r:embed="rId1"/>
          <a:stretch/>
        </p:blipFill>
        <p:spPr>
          <a:xfrm>
            <a:off x="5786280" y="174960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080" y="1886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887480"/>
            <a:ext cx="62755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imientos y habilidades para la tarea o meta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imientos y habilidades transferibles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280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333399"/>
                </a:solidFill>
                <a:latin typeface="Arial"/>
              </a:rPr>
              <a:t>Compromis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0" y="23590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Motivación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fianza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46" name="Picture 6" descr="15"/>
          <p:cNvPicPr/>
          <p:nvPr/>
        </p:nvPicPr>
        <p:blipFill>
          <a:blip r:embed="rId1"/>
          <a:stretch/>
        </p:blipFill>
        <p:spPr>
          <a:xfrm>
            <a:off x="324000" y="1916280"/>
            <a:ext cx="3952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32 Grupo"/>
          <p:cNvGrpSpPr/>
          <p:nvPr/>
        </p:nvGrpSpPr>
        <p:grpSpPr>
          <a:xfrm>
            <a:off x="755640" y="1773360"/>
            <a:ext cx="7416720" cy="4176720"/>
            <a:chOff x="755640" y="1773360"/>
            <a:chExt cx="7416720" cy="4176720"/>
          </a:xfrm>
        </p:grpSpPr>
        <p:sp>
          <p:nvSpPr>
            <p:cNvPr id="148" name="Rectangle 7"/>
            <p:cNvSpPr/>
            <p:nvPr/>
          </p:nvSpPr>
          <p:spPr>
            <a:xfrm>
              <a:off x="6317640" y="4159440"/>
              <a:ext cx="185472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4465080" y="4159440"/>
              <a:ext cx="185256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>
              <a:off x="2610360" y="4159440"/>
              <a:ext cx="1854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>
              <a:off x="755640" y="4159440"/>
              <a:ext cx="1854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6317640" y="2614680"/>
              <a:ext cx="185472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4465080" y="2614680"/>
              <a:ext cx="185256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2610360" y="2614680"/>
              <a:ext cx="1854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755640" y="2614680"/>
              <a:ext cx="1854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6317640" y="1773360"/>
              <a:ext cx="1854720" cy="841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UT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NO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4465080" y="1773360"/>
              <a:ext cx="1852560" cy="841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INSEGU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7"/>
            <p:cNvSpPr/>
            <p:nvPr/>
          </p:nvSpPr>
          <p:spPr>
            <a:xfrm>
              <a:off x="2610360" y="1773360"/>
              <a:ext cx="1854720" cy="841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ESILUSIO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755640" y="1773360"/>
              <a:ext cx="1854720" cy="841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ENTUSIAS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755640" y="261468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755640" y="415944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61036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446508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3"/>
            <p:cNvSpPr/>
            <p:nvPr/>
          </p:nvSpPr>
          <p:spPr>
            <a:xfrm>
              <a:off x="631764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755640" y="1773360"/>
              <a:ext cx="74167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75564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6"/>
            <p:cNvSpPr/>
            <p:nvPr/>
          </p:nvSpPr>
          <p:spPr>
            <a:xfrm>
              <a:off x="817236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755640" y="5950080"/>
              <a:ext cx="74167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8"/>
            <p:cNvSpPr/>
            <p:nvPr/>
          </p:nvSpPr>
          <p:spPr>
            <a:xfrm rot="19528200">
              <a:off x="4322160" y="4149360"/>
              <a:ext cx="257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99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 rot="19643400">
              <a:off x="3209760" y="3090960"/>
              <a:ext cx="231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COMPETE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0"/>
            <p:cNvSpPr/>
            <p:nvPr/>
          </p:nvSpPr>
          <p:spPr>
            <a:xfrm>
              <a:off x="755640" y="2863800"/>
              <a:ext cx="7332480" cy="2324160"/>
            </a:xfrm>
            <a:custGeom>
              <a:avLst/>
              <a:gdLst>
                <a:gd name="textAreaLeft" fmla="*/ 0 w 7332480"/>
                <a:gd name="textAreaRight" fmla="*/ 7332840 w 733248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1"/>
            <p:cNvSpPr/>
            <p:nvPr/>
          </p:nvSpPr>
          <p:spPr>
            <a:xfrm>
              <a:off x="796680" y="2614680"/>
              <a:ext cx="7291080" cy="2766960"/>
            </a:xfrm>
            <a:custGeom>
              <a:avLst/>
              <a:gdLst>
                <a:gd name="textAreaLeft" fmla="*/ 0 w 7291080"/>
                <a:gd name="textAreaRight" fmla="*/ 7291440 w 7291080"/>
                <a:gd name="textAreaTop" fmla="*/ 0 h 2766960"/>
                <a:gd name="textAreaBottom" fmla="*/ 2767320 h 276696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63640" y="124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Colaboradores y Tareas / Metas</a:t>
            </a:r>
            <a:br>
              <a:rPr sz="3000"/>
            </a:b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7021440" y="4159080"/>
            <a:ext cx="1565280" cy="1791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021440" y="2614680"/>
            <a:ext cx="1565280" cy="154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021440" y="1773360"/>
            <a:ext cx="1565280" cy="8413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ESMOTI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3(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32 Grupo"/>
          <p:cNvGrpSpPr/>
          <p:nvPr/>
        </p:nvGrpSpPr>
        <p:grpSpPr>
          <a:xfrm>
            <a:off x="755640" y="1773360"/>
            <a:ext cx="7632720" cy="4176720"/>
            <a:chOff x="755640" y="1773360"/>
            <a:chExt cx="7632720" cy="4176720"/>
          </a:xfrm>
        </p:grpSpPr>
        <p:sp>
          <p:nvSpPr>
            <p:cNvPr id="178" name="Rectangle 7"/>
            <p:cNvSpPr/>
            <p:nvPr/>
          </p:nvSpPr>
          <p:spPr>
            <a:xfrm>
              <a:off x="5454720" y="4159440"/>
              <a:ext cx="156672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3889440" y="4159440"/>
              <a:ext cx="156528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2322360" y="4159440"/>
              <a:ext cx="1566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0"/>
            <p:cNvSpPr/>
            <p:nvPr/>
          </p:nvSpPr>
          <p:spPr>
            <a:xfrm>
              <a:off x="755640" y="4159440"/>
              <a:ext cx="1566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1"/>
            <p:cNvSpPr/>
            <p:nvPr/>
          </p:nvSpPr>
          <p:spPr>
            <a:xfrm>
              <a:off x="5454720" y="2614680"/>
              <a:ext cx="156672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3889440" y="2614680"/>
              <a:ext cx="156528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3"/>
            <p:cNvSpPr/>
            <p:nvPr/>
          </p:nvSpPr>
          <p:spPr>
            <a:xfrm>
              <a:off x="2322360" y="2614680"/>
              <a:ext cx="1566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"/>
            <p:cNvSpPr/>
            <p:nvPr/>
          </p:nvSpPr>
          <p:spPr>
            <a:xfrm>
              <a:off x="755640" y="2614680"/>
              <a:ext cx="1566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"/>
            <p:cNvSpPr/>
            <p:nvPr/>
          </p:nvSpPr>
          <p:spPr>
            <a:xfrm>
              <a:off x="5454720" y="1773360"/>
              <a:ext cx="1566720" cy="841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UT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NO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6"/>
            <p:cNvSpPr/>
            <p:nvPr/>
          </p:nvSpPr>
          <p:spPr>
            <a:xfrm>
              <a:off x="3889440" y="1773360"/>
              <a:ext cx="1565280" cy="841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INSEGU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7"/>
            <p:cNvSpPr/>
            <p:nvPr/>
          </p:nvSpPr>
          <p:spPr>
            <a:xfrm>
              <a:off x="2322360" y="1773360"/>
              <a:ext cx="1566720" cy="841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ESILUSIO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8"/>
            <p:cNvSpPr/>
            <p:nvPr/>
          </p:nvSpPr>
          <p:spPr>
            <a:xfrm>
              <a:off x="755640" y="1773360"/>
              <a:ext cx="1566720" cy="841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ENTUSIAS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755640" y="2614680"/>
              <a:ext cx="626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0"/>
            <p:cNvSpPr/>
            <p:nvPr/>
          </p:nvSpPr>
          <p:spPr>
            <a:xfrm>
              <a:off x="755640" y="4159440"/>
              <a:ext cx="626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32236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388944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545472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4"/>
            <p:cNvSpPr/>
            <p:nvPr/>
          </p:nvSpPr>
          <p:spPr>
            <a:xfrm>
              <a:off x="755640" y="1773360"/>
              <a:ext cx="62661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5"/>
            <p:cNvSpPr/>
            <p:nvPr/>
          </p:nvSpPr>
          <p:spPr>
            <a:xfrm>
              <a:off x="75564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6"/>
            <p:cNvSpPr/>
            <p:nvPr/>
          </p:nvSpPr>
          <p:spPr>
            <a:xfrm>
              <a:off x="702180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7"/>
            <p:cNvSpPr/>
            <p:nvPr/>
          </p:nvSpPr>
          <p:spPr>
            <a:xfrm>
              <a:off x="755640" y="5950080"/>
              <a:ext cx="62661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8"/>
            <p:cNvSpPr/>
            <p:nvPr/>
          </p:nvSpPr>
          <p:spPr>
            <a:xfrm rot="19528200">
              <a:off x="3769200" y="4149360"/>
              <a:ext cx="21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99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9"/>
            <p:cNvSpPr/>
            <p:nvPr/>
          </p:nvSpPr>
          <p:spPr>
            <a:xfrm rot="19643400">
              <a:off x="2828880" y="3500280"/>
              <a:ext cx="195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COMPETE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0"/>
            <p:cNvSpPr/>
            <p:nvPr/>
          </p:nvSpPr>
          <p:spPr>
            <a:xfrm>
              <a:off x="755640" y="2863800"/>
              <a:ext cx="6194520" cy="2324160"/>
            </a:xfrm>
            <a:custGeom>
              <a:avLst/>
              <a:gdLst>
                <a:gd name="textAreaLeft" fmla="*/ 0 w 6194520"/>
                <a:gd name="textAreaRight" fmla="*/ 6194880 w 619452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1"/>
            <p:cNvSpPr/>
            <p:nvPr/>
          </p:nvSpPr>
          <p:spPr>
            <a:xfrm>
              <a:off x="790560" y="2614680"/>
              <a:ext cx="7597800" cy="2766960"/>
            </a:xfrm>
            <a:custGeom>
              <a:avLst/>
              <a:gdLst>
                <a:gd name="textAreaLeft" fmla="*/ 0 w 7597800"/>
                <a:gd name="textAreaRight" fmla="*/ 7598160 w 7597800"/>
                <a:gd name="textAreaTop" fmla="*/ 0 h 2766960"/>
                <a:gd name="textAreaBottom" fmla="*/ 2767320 h 276696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Line 32"/>
          <p:cNvSpPr/>
          <p:nvPr/>
        </p:nvSpPr>
        <p:spPr>
          <a:xfrm flipH="1" flipV="1">
            <a:off x="6927480" y="2997000"/>
            <a:ext cx="1460520" cy="259236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63640" y="124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Colaboradores y Tareas / Metas</a:t>
            </a:r>
            <a:br>
              <a:rPr sz="3000"/>
            </a:b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El Ciclo Regresiv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1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06" name="Picture 4" descr="2365514672_60a54f915c"/>
          <p:cNvPicPr/>
          <p:nvPr/>
        </p:nvPicPr>
        <p:blipFill>
          <a:blip r:embed="rId1"/>
          <a:stretch/>
        </p:blipFill>
        <p:spPr>
          <a:xfrm>
            <a:off x="7093080" y="2708280"/>
            <a:ext cx="1954080" cy="4038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Normas que definan qué es un trabajo bien hech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Información sobre la tarea y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2364682039_b5bac31669"/>
          <p:cNvPicPr/>
          <p:nvPr/>
        </p:nvPicPr>
        <p:blipFill>
          <a:blip r:embed="rId1"/>
          <a:stretch/>
        </p:blipFill>
        <p:spPr>
          <a:xfrm>
            <a:off x="4788000" y="2421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0560" y="1519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2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Perspectiv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troalimentación frecuente sobre los result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Elogio ante el progreso manifiest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Sentir que los errores son comprendi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49640" y="151920"/>
            <a:ext cx="6426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3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12" name="Picture 4" descr="2365498558_25b23fee5f"/>
          <p:cNvPicPr/>
          <p:nvPr/>
        </p:nvPicPr>
        <p:blipFill>
          <a:blip r:embed="rId1"/>
          <a:stretch/>
        </p:blipFill>
        <p:spPr>
          <a:xfrm>
            <a:off x="5219640" y="2779560"/>
            <a:ext cx="3889440" cy="38894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3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Un consejero o asesor accesibl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Oportunidades para expresar las preocupac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54160" y="1886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Objetivos de la asignatura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Entregar a los participantes distinciones y modelos teóricos que les permitan comprender  los fenómenos involucrados en su gestión, así como en la de sus equip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Incrementar las habilidades y destrezas de los participantes para conducir y motivar personas, así como liderar procesos organizativos, colocando especial énfasis en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iderazgo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Trabajo en Equipo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Comunicación y estilos de administración de conflictos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2365515172_dfd88da3f7"/>
          <p:cNvPicPr/>
          <p:nvPr/>
        </p:nvPicPr>
        <p:blipFill>
          <a:blip r:embed="rId1"/>
          <a:stretch/>
        </p:blipFill>
        <p:spPr>
          <a:xfrm>
            <a:off x="4854600" y="2637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77640" y="151920"/>
            <a:ext cx="64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4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Diversidad y desafí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Un líder que sea un consejero y colega más que un jef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conocimiento de sus contribuciones. 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Autonomía y autoridad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Confianz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68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333399"/>
                </a:solidFill>
                <a:latin typeface="Arial"/>
              </a:rPr>
              <a:t>Flexibilidad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570800" cy="27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La habilidad para utilizar con naturalidad una variedad de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estilos de liderazgo.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19" name="Picture 4" descr="2137737248_e9f3e429d1"/>
          <p:cNvPicPr/>
          <p:nvPr/>
        </p:nvPicPr>
        <p:blipFill>
          <a:blip r:embed="rId1"/>
          <a:stretch/>
        </p:blipFill>
        <p:spPr>
          <a:xfrm>
            <a:off x="5457960" y="3524400"/>
            <a:ext cx="3217680" cy="321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516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DIRECCIÓN</a:t>
            </a:r>
            <a:r>
              <a:rPr b="1" lang="es-ES_tradnl" sz="2800" spc="-1" strike="noStrike">
                <a:solidFill>
                  <a:srgbClr val="0e08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POYO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22" name="Picture 4" descr="Fotolia_7829651_M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71640" y="151920"/>
            <a:ext cx="5275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mportamiento </a:t>
            </a:r>
            <a:r>
              <a:rPr b="1" lang="es-CL" sz="3000" spc="-1" strike="noStrike">
                <a:solidFill>
                  <a:srgbClr val="ff0000"/>
                </a:solidFill>
                <a:latin typeface="Arial"/>
              </a:rPr>
              <a:t>Directiv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24" name="Picture 10" descr="2364683065_f769bc7caf"/>
          <p:cNvPicPr/>
          <p:nvPr/>
        </p:nvPicPr>
        <p:blipFill>
          <a:blip r:embed="rId1"/>
          <a:stretch/>
        </p:blipFill>
        <p:spPr>
          <a:xfrm>
            <a:off x="4997520" y="2774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  <a:ea typeface="Arial"/>
              </a:rPr>
              <a:t>Es el grado en que un líder: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Arial"/>
              </a:rPr>
              <a:t>Le dice al colaborador qué hacer, cuándo y cómo hacerl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Arial"/>
              </a:rPr>
              <a:t>Define los papeles del líder y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Arial"/>
              </a:rPr>
              <a:t>Supervisa de cerca 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7128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mportamiento de </a:t>
            </a:r>
            <a:r>
              <a:rPr b="1" lang="es-CL" sz="3000" spc="-1" strike="noStrike">
                <a:solidFill>
                  <a:srgbClr val="333399"/>
                </a:solidFill>
                <a:latin typeface="Arial"/>
              </a:rPr>
              <a:t>Apoy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27" name="Picture 7" descr="2364665429_fefa9e071e"/>
          <p:cNvPicPr/>
          <p:nvPr/>
        </p:nvPicPr>
        <p:blipFill>
          <a:blip r:embed="rId1"/>
          <a:stretch/>
        </p:blipFill>
        <p:spPr>
          <a:xfrm>
            <a:off x="6443640" y="4510080"/>
            <a:ext cx="2592360" cy="2303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14280" y="1197000"/>
            <a:ext cx="8794800" cy="338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  <a:ea typeface="Arial"/>
              </a:rPr>
              <a:t>Es el grado en que un líder: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Se compromete más en la comunicación bilateral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Escucha y proporciona apoyo y estímul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Involucra al colaborador en la toma de decis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Estimula y facilita la autonomía en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84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Estilo de liderazg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6920" y="1495440"/>
            <a:ext cx="73663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3498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e088a"/>
                </a:solidFill>
                <a:latin typeface="Arial"/>
              </a:rPr>
              <a:t>Percepción de sus colaboradores respecto al patrón de comportamientos que usted utiliza con ellos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31" name="Picture 4" descr="lider_3"/>
          <p:cNvPicPr/>
          <p:nvPr/>
        </p:nvPicPr>
        <p:blipFill>
          <a:blip r:embed="rId1"/>
          <a:stretch/>
        </p:blipFill>
        <p:spPr>
          <a:xfrm>
            <a:off x="2629080" y="3922560"/>
            <a:ext cx="40384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2771640" y="380880"/>
            <a:ext cx="6164280" cy="600120"/>
            <a:chOff x="2771640" y="380880"/>
            <a:chExt cx="6164280" cy="600120"/>
          </a:xfrm>
        </p:grpSpPr>
        <p:sp>
          <p:nvSpPr>
            <p:cNvPr id="233" name="Rectangle 3"/>
            <p:cNvSpPr/>
            <p:nvPr/>
          </p:nvSpPr>
          <p:spPr>
            <a:xfrm>
              <a:off x="2771640" y="404640"/>
              <a:ext cx="6164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Los 4 Estilos de Liderazg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4" name="Object 4"/>
            <p:cNvGraphicFramePr/>
            <p:nvPr/>
          </p:nvGraphicFramePr>
          <p:xfrm>
            <a:off x="7552800" y="380880"/>
            <a:ext cx="657000" cy="114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2800" y="380880"/>
                      <a:ext cx="657000" cy="11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6" name="Line 15"/>
          <p:cNvSpPr/>
          <p:nvPr/>
        </p:nvSpPr>
        <p:spPr>
          <a:xfrm flipV="1">
            <a:off x="2058840" y="1846440"/>
            <a:ext cx="0" cy="4146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2327400" y="6237360"/>
            <a:ext cx="3979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 flipV="1">
            <a:off x="1473120" y="1942920"/>
            <a:ext cx="4680" cy="4081320"/>
          </a:xfrm>
          <a:prstGeom prst="line">
            <a:avLst/>
          </a:prstGeom>
          <a:ln w="25560">
            <a:solidFill>
              <a:srgbClr val="130b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1795320" y="3719520"/>
            <a:ext cx="2698920" cy="2521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1806480" y="1222200"/>
            <a:ext cx="2687760" cy="2459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4471920" y="1235160"/>
            <a:ext cx="2751120" cy="245880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2157480" y="6473880"/>
            <a:ext cx="4987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832680" y="6299280"/>
            <a:ext cx="7286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Baj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7688160" y="614520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2977920" y="6497640"/>
            <a:ext cx="254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ahoma"/>
              </a:rPr>
              <a:t>COMPORTAMIENTO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774720" y="129384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9"/>
          <p:cNvSpPr/>
          <p:nvPr/>
        </p:nvSpPr>
        <p:spPr>
          <a:xfrm rot="16200000">
            <a:off x="-149400" y="3867120"/>
            <a:ext cx="249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130bb1"/>
                </a:solidFill>
                <a:latin typeface="Tahoma"/>
              </a:rPr>
              <a:t>COMPORTAMIENTO</a:t>
            </a: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130bb1"/>
                </a:solidFill>
                <a:latin typeface="Tahoma"/>
              </a:rPr>
              <a:t>DE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7"/>
          <p:cNvSpPr/>
          <p:nvPr/>
        </p:nvSpPr>
        <p:spPr>
          <a:xfrm>
            <a:off x="4486320" y="3679920"/>
            <a:ext cx="2736720" cy="25225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8"/>
          <p:cNvSpPr/>
          <p:nvPr/>
        </p:nvSpPr>
        <p:spPr>
          <a:xfrm>
            <a:off x="1773360" y="1197000"/>
            <a:ext cx="5446440" cy="5013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9"/>
          <p:cNvSpPr/>
          <p:nvPr/>
        </p:nvSpPr>
        <p:spPr>
          <a:xfrm>
            <a:off x="2413080" y="5078520"/>
            <a:ext cx="18871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apoy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4666320" y="5078520"/>
            <a:ext cx="20592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mpor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lto en direc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bajo en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3"/>
          <p:cNvSpPr/>
          <p:nvPr/>
        </p:nvSpPr>
        <p:spPr>
          <a:xfrm>
            <a:off x="4427640" y="1574640"/>
            <a:ext cx="2714400" cy="3603960"/>
          </a:xfrm>
          <a:custGeom>
            <a:avLst/>
            <a:gdLst>
              <a:gd name="textAreaLeft" fmla="*/ 0 w 2714400"/>
              <a:gd name="textAreaRight" fmla="*/ 2714760 w 2714400"/>
              <a:gd name="textAreaTop" fmla="*/ 0 h 3603960"/>
              <a:gd name="textAreaBottom" fmla="*/ 3604320 h 3603960"/>
            </a:gdLst>
            <a:ahLst/>
            <a:rect l="textAreaLeft" t="textAreaTop" r="textAreaRight" b="textAreaBottom"/>
            <a:pathLst>
              <a:path w="1348" h="1959">
                <a:moveTo>
                  <a:pt x="0" y="120"/>
                </a:moveTo>
                <a:lnTo>
                  <a:pt x="25" y="121"/>
                </a:lnTo>
                <a:lnTo>
                  <a:pt x="41" y="124"/>
                </a:lnTo>
                <a:lnTo>
                  <a:pt x="52" y="125"/>
                </a:lnTo>
                <a:lnTo>
                  <a:pt x="63" y="128"/>
                </a:lnTo>
                <a:lnTo>
                  <a:pt x="71" y="131"/>
                </a:lnTo>
                <a:lnTo>
                  <a:pt x="82" y="135"/>
                </a:lnTo>
                <a:lnTo>
                  <a:pt x="92" y="140"/>
                </a:lnTo>
                <a:lnTo>
                  <a:pt x="103" y="146"/>
                </a:lnTo>
                <a:lnTo>
                  <a:pt x="122" y="154"/>
                </a:lnTo>
                <a:lnTo>
                  <a:pt x="141" y="166"/>
                </a:lnTo>
                <a:lnTo>
                  <a:pt x="159" y="177"/>
                </a:lnTo>
                <a:lnTo>
                  <a:pt x="180" y="191"/>
                </a:lnTo>
                <a:lnTo>
                  <a:pt x="197" y="202"/>
                </a:lnTo>
                <a:lnTo>
                  <a:pt x="231" y="230"/>
                </a:lnTo>
                <a:lnTo>
                  <a:pt x="265" y="264"/>
                </a:lnTo>
                <a:lnTo>
                  <a:pt x="295" y="298"/>
                </a:lnTo>
                <a:lnTo>
                  <a:pt x="333" y="350"/>
                </a:lnTo>
                <a:lnTo>
                  <a:pt x="361" y="397"/>
                </a:lnTo>
                <a:lnTo>
                  <a:pt x="391" y="446"/>
                </a:lnTo>
                <a:lnTo>
                  <a:pt x="409" y="493"/>
                </a:lnTo>
                <a:lnTo>
                  <a:pt x="425" y="538"/>
                </a:lnTo>
                <a:lnTo>
                  <a:pt x="447" y="590"/>
                </a:lnTo>
                <a:lnTo>
                  <a:pt x="463" y="640"/>
                </a:lnTo>
                <a:lnTo>
                  <a:pt x="483" y="718"/>
                </a:lnTo>
                <a:lnTo>
                  <a:pt x="500" y="790"/>
                </a:lnTo>
                <a:lnTo>
                  <a:pt x="511" y="860"/>
                </a:lnTo>
                <a:lnTo>
                  <a:pt x="524" y="946"/>
                </a:lnTo>
                <a:lnTo>
                  <a:pt x="532" y="1004"/>
                </a:lnTo>
                <a:lnTo>
                  <a:pt x="542" y="1072"/>
                </a:lnTo>
                <a:lnTo>
                  <a:pt x="551" y="1117"/>
                </a:lnTo>
                <a:lnTo>
                  <a:pt x="556" y="1158"/>
                </a:lnTo>
                <a:lnTo>
                  <a:pt x="567" y="1210"/>
                </a:lnTo>
                <a:lnTo>
                  <a:pt x="581" y="1262"/>
                </a:lnTo>
                <a:lnTo>
                  <a:pt x="591" y="1304"/>
                </a:lnTo>
                <a:lnTo>
                  <a:pt x="604" y="1354"/>
                </a:lnTo>
                <a:lnTo>
                  <a:pt x="618" y="1402"/>
                </a:lnTo>
                <a:lnTo>
                  <a:pt x="630" y="1443"/>
                </a:lnTo>
                <a:lnTo>
                  <a:pt x="648" y="1480"/>
                </a:lnTo>
                <a:lnTo>
                  <a:pt x="661" y="1510"/>
                </a:lnTo>
                <a:lnTo>
                  <a:pt x="675" y="1541"/>
                </a:lnTo>
                <a:lnTo>
                  <a:pt x="696" y="1574"/>
                </a:lnTo>
                <a:lnTo>
                  <a:pt x="718" y="1612"/>
                </a:lnTo>
                <a:lnTo>
                  <a:pt x="743" y="1647"/>
                </a:lnTo>
                <a:lnTo>
                  <a:pt x="776" y="1691"/>
                </a:lnTo>
                <a:lnTo>
                  <a:pt x="809" y="1728"/>
                </a:lnTo>
                <a:lnTo>
                  <a:pt x="844" y="1763"/>
                </a:lnTo>
                <a:lnTo>
                  <a:pt x="883" y="1793"/>
                </a:lnTo>
                <a:lnTo>
                  <a:pt x="912" y="1812"/>
                </a:lnTo>
                <a:lnTo>
                  <a:pt x="935" y="1826"/>
                </a:lnTo>
                <a:lnTo>
                  <a:pt x="959" y="1838"/>
                </a:lnTo>
                <a:lnTo>
                  <a:pt x="988" y="1853"/>
                </a:lnTo>
                <a:lnTo>
                  <a:pt x="1021" y="1868"/>
                </a:lnTo>
                <a:lnTo>
                  <a:pt x="1056" y="1882"/>
                </a:lnTo>
                <a:lnTo>
                  <a:pt x="1094" y="1898"/>
                </a:lnTo>
                <a:lnTo>
                  <a:pt x="1129" y="1908"/>
                </a:lnTo>
                <a:lnTo>
                  <a:pt x="1161" y="1918"/>
                </a:lnTo>
                <a:lnTo>
                  <a:pt x="1193" y="1927"/>
                </a:lnTo>
                <a:lnTo>
                  <a:pt x="1228" y="1936"/>
                </a:lnTo>
                <a:lnTo>
                  <a:pt x="1260" y="1944"/>
                </a:lnTo>
                <a:lnTo>
                  <a:pt x="1304" y="1951"/>
                </a:lnTo>
                <a:lnTo>
                  <a:pt x="1347" y="1958"/>
                </a:lnTo>
                <a:lnTo>
                  <a:pt x="1347" y="1829"/>
                </a:lnTo>
                <a:lnTo>
                  <a:pt x="1315" y="1819"/>
                </a:lnTo>
                <a:lnTo>
                  <a:pt x="1270" y="1811"/>
                </a:lnTo>
                <a:lnTo>
                  <a:pt x="1237" y="1804"/>
                </a:lnTo>
                <a:lnTo>
                  <a:pt x="1199" y="1793"/>
                </a:lnTo>
                <a:lnTo>
                  <a:pt x="1171" y="1785"/>
                </a:lnTo>
                <a:lnTo>
                  <a:pt x="1149" y="1775"/>
                </a:lnTo>
                <a:lnTo>
                  <a:pt x="1122" y="1767"/>
                </a:lnTo>
                <a:lnTo>
                  <a:pt x="1090" y="1758"/>
                </a:lnTo>
                <a:lnTo>
                  <a:pt x="1063" y="1747"/>
                </a:lnTo>
                <a:lnTo>
                  <a:pt x="1038" y="1736"/>
                </a:lnTo>
                <a:lnTo>
                  <a:pt x="1019" y="1724"/>
                </a:lnTo>
                <a:lnTo>
                  <a:pt x="992" y="1709"/>
                </a:lnTo>
                <a:lnTo>
                  <a:pt x="957" y="1685"/>
                </a:lnTo>
                <a:lnTo>
                  <a:pt x="931" y="1669"/>
                </a:lnTo>
                <a:lnTo>
                  <a:pt x="907" y="1649"/>
                </a:lnTo>
                <a:lnTo>
                  <a:pt x="880" y="1623"/>
                </a:lnTo>
                <a:lnTo>
                  <a:pt x="851" y="1587"/>
                </a:lnTo>
                <a:lnTo>
                  <a:pt x="826" y="1551"/>
                </a:lnTo>
                <a:lnTo>
                  <a:pt x="795" y="1500"/>
                </a:lnTo>
                <a:lnTo>
                  <a:pt x="767" y="1450"/>
                </a:lnTo>
                <a:lnTo>
                  <a:pt x="745" y="1401"/>
                </a:lnTo>
                <a:lnTo>
                  <a:pt x="732" y="1365"/>
                </a:lnTo>
                <a:lnTo>
                  <a:pt x="720" y="1322"/>
                </a:lnTo>
                <a:lnTo>
                  <a:pt x="710" y="1290"/>
                </a:lnTo>
                <a:lnTo>
                  <a:pt x="699" y="1233"/>
                </a:lnTo>
                <a:lnTo>
                  <a:pt x="687" y="1176"/>
                </a:lnTo>
                <a:lnTo>
                  <a:pt x="678" y="1134"/>
                </a:lnTo>
                <a:lnTo>
                  <a:pt x="668" y="1075"/>
                </a:lnTo>
                <a:lnTo>
                  <a:pt x="660" y="1016"/>
                </a:lnTo>
                <a:lnTo>
                  <a:pt x="650" y="951"/>
                </a:lnTo>
                <a:lnTo>
                  <a:pt x="641" y="890"/>
                </a:lnTo>
                <a:lnTo>
                  <a:pt x="627" y="809"/>
                </a:lnTo>
                <a:lnTo>
                  <a:pt x="619" y="758"/>
                </a:lnTo>
                <a:lnTo>
                  <a:pt x="609" y="704"/>
                </a:lnTo>
                <a:lnTo>
                  <a:pt x="598" y="657"/>
                </a:lnTo>
                <a:lnTo>
                  <a:pt x="584" y="601"/>
                </a:lnTo>
                <a:lnTo>
                  <a:pt x="570" y="565"/>
                </a:lnTo>
                <a:lnTo>
                  <a:pt x="556" y="525"/>
                </a:lnTo>
                <a:lnTo>
                  <a:pt x="532" y="471"/>
                </a:lnTo>
                <a:lnTo>
                  <a:pt x="518" y="440"/>
                </a:lnTo>
                <a:lnTo>
                  <a:pt x="502" y="397"/>
                </a:lnTo>
                <a:lnTo>
                  <a:pt x="468" y="339"/>
                </a:lnTo>
                <a:lnTo>
                  <a:pt x="443" y="294"/>
                </a:lnTo>
                <a:lnTo>
                  <a:pt x="423" y="266"/>
                </a:lnTo>
                <a:lnTo>
                  <a:pt x="397" y="236"/>
                </a:lnTo>
                <a:lnTo>
                  <a:pt x="352" y="184"/>
                </a:lnTo>
                <a:lnTo>
                  <a:pt x="323" y="151"/>
                </a:lnTo>
                <a:lnTo>
                  <a:pt x="295" y="127"/>
                </a:lnTo>
                <a:lnTo>
                  <a:pt x="257" y="97"/>
                </a:lnTo>
                <a:lnTo>
                  <a:pt x="219" y="74"/>
                </a:lnTo>
                <a:lnTo>
                  <a:pt x="169" y="49"/>
                </a:lnTo>
                <a:lnTo>
                  <a:pt x="154" y="41"/>
                </a:lnTo>
                <a:lnTo>
                  <a:pt x="136" y="33"/>
                </a:lnTo>
                <a:lnTo>
                  <a:pt x="124" y="29"/>
                </a:lnTo>
                <a:lnTo>
                  <a:pt x="110" y="25"/>
                </a:lnTo>
                <a:lnTo>
                  <a:pt x="98" y="19"/>
                </a:lnTo>
                <a:lnTo>
                  <a:pt x="87" y="15"/>
                </a:lnTo>
                <a:lnTo>
                  <a:pt x="74" y="14"/>
                </a:lnTo>
                <a:lnTo>
                  <a:pt x="53" y="8"/>
                </a:lnTo>
                <a:lnTo>
                  <a:pt x="36" y="5"/>
                </a:lnTo>
                <a:lnTo>
                  <a:pt x="22" y="3"/>
                </a:lnTo>
                <a:lnTo>
                  <a:pt x="0" y="0"/>
                </a:lnTo>
                <a:lnTo>
                  <a:pt x="0" y="12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4"/>
          <p:cNvSpPr/>
          <p:nvPr/>
        </p:nvSpPr>
        <p:spPr>
          <a:xfrm>
            <a:off x="1857240" y="1574640"/>
            <a:ext cx="2641680" cy="36039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3603960"/>
              <a:gd name="textAreaBottom" fmla="*/ 3604320 h 3603960"/>
            </a:gdLst>
            <a:ahLst/>
            <a:rect l="textAreaLeft" t="textAreaTop" r="textAreaRight" b="textAreaBottom"/>
            <a:pathLst>
              <a:path w="1348" h="1959">
                <a:moveTo>
                  <a:pt x="1347" y="120"/>
                </a:moveTo>
                <a:lnTo>
                  <a:pt x="1320" y="121"/>
                </a:lnTo>
                <a:lnTo>
                  <a:pt x="1306" y="124"/>
                </a:lnTo>
                <a:lnTo>
                  <a:pt x="1295" y="125"/>
                </a:lnTo>
                <a:lnTo>
                  <a:pt x="1284" y="128"/>
                </a:lnTo>
                <a:lnTo>
                  <a:pt x="1276" y="131"/>
                </a:lnTo>
                <a:lnTo>
                  <a:pt x="1264" y="135"/>
                </a:lnTo>
                <a:lnTo>
                  <a:pt x="1255" y="140"/>
                </a:lnTo>
                <a:lnTo>
                  <a:pt x="1243" y="146"/>
                </a:lnTo>
                <a:lnTo>
                  <a:pt x="1225" y="154"/>
                </a:lnTo>
                <a:lnTo>
                  <a:pt x="1206" y="166"/>
                </a:lnTo>
                <a:lnTo>
                  <a:pt x="1188" y="177"/>
                </a:lnTo>
                <a:lnTo>
                  <a:pt x="1167" y="191"/>
                </a:lnTo>
                <a:lnTo>
                  <a:pt x="1150" y="202"/>
                </a:lnTo>
                <a:lnTo>
                  <a:pt x="1115" y="230"/>
                </a:lnTo>
                <a:lnTo>
                  <a:pt x="1081" y="264"/>
                </a:lnTo>
                <a:lnTo>
                  <a:pt x="1052" y="298"/>
                </a:lnTo>
                <a:lnTo>
                  <a:pt x="1013" y="350"/>
                </a:lnTo>
                <a:lnTo>
                  <a:pt x="988" y="397"/>
                </a:lnTo>
                <a:lnTo>
                  <a:pt x="955" y="446"/>
                </a:lnTo>
                <a:lnTo>
                  <a:pt x="937" y="493"/>
                </a:lnTo>
                <a:lnTo>
                  <a:pt x="922" y="538"/>
                </a:lnTo>
                <a:lnTo>
                  <a:pt x="899" y="590"/>
                </a:lnTo>
                <a:lnTo>
                  <a:pt x="885" y="640"/>
                </a:lnTo>
                <a:lnTo>
                  <a:pt x="863" y="718"/>
                </a:lnTo>
                <a:lnTo>
                  <a:pt x="848" y="790"/>
                </a:lnTo>
                <a:lnTo>
                  <a:pt x="834" y="860"/>
                </a:lnTo>
                <a:lnTo>
                  <a:pt x="822" y="946"/>
                </a:lnTo>
                <a:lnTo>
                  <a:pt x="814" y="1004"/>
                </a:lnTo>
                <a:lnTo>
                  <a:pt x="804" y="1072"/>
                </a:lnTo>
                <a:lnTo>
                  <a:pt x="796" y="1117"/>
                </a:lnTo>
                <a:lnTo>
                  <a:pt x="790" y="1158"/>
                </a:lnTo>
                <a:lnTo>
                  <a:pt x="781" y="1210"/>
                </a:lnTo>
                <a:lnTo>
                  <a:pt x="767" y="1262"/>
                </a:lnTo>
                <a:lnTo>
                  <a:pt x="755" y="1304"/>
                </a:lnTo>
                <a:lnTo>
                  <a:pt x="743" y="1354"/>
                </a:lnTo>
                <a:lnTo>
                  <a:pt x="729" y="1402"/>
                </a:lnTo>
                <a:lnTo>
                  <a:pt x="716" y="1443"/>
                </a:lnTo>
                <a:lnTo>
                  <a:pt x="699" y="1480"/>
                </a:lnTo>
                <a:lnTo>
                  <a:pt x="685" y="1510"/>
                </a:lnTo>
                <a:lnTo>
                  <a:pt x="671" y="1541"/>
                </a:lnTo>
                <a:lnTo>
                  <a:pt x="650" y="1574"/>
                </a:lnTo>
                <a:lnTo>
                  <a:pt x="629" y="1612"/>
                </a:lnTo>
                <a:lnTo>
                  <a:pt x="603" y="1647"/>
                </a:lnTo>
                <a:lnTo>
                  <a:pt x="572" y="1691"/>
                </a:lnTo>
                <a:lnTo>
                  <a:pt x="539" y="1728"/>
                </a:lnTo>
                <a:lnTo>
                  <a:pt x="502" y="1763"/>
                </a:lnTo>
                <a:lnTo>
                  <a:pt x="463" y="1793"/>
                </a:lnTo>
                <a:lnTo>
                  <a:pt x="434" y="1812"/>
                </a:lnTo>
                <a:lnTo>
                  <a:pt x="413" y="1826"/>
                </a:lnTo>
                <a:lnTo>
                  <a:pt x="387" y="1838"/>
                </a:lnTo>
                <a:lnTo>
                  <a:pt x="359" y="1853"/>
                </a:lnTo>
                <a:lnTo>
                  <a:pt x="326" y="1868"/>
                </a:lnTo>
                <a:lnTo>
                  <a:pt x="291" y="1882"/>
                </a:lnTo>
                <a:lnTo>
                  <a:pt x="252" y="1898"/>
                </a:lnTo>
                <a:lnTo>
                  <a:pt x="218" y="1908"/>
                </a:lnTo>
                <a:lnTo>
                  <a:pt x="186" y="1918"/>
                </a:lnTo>
                <a:lnTo>
                  <a:pt x="154" y="1927"/>
                </a:lnTo>
                <a:lnTo>
                  <a:pt x="119" y="1936"/>
                </a:lnTo>
                <a:lnTo>
                  <a:pt x="87" y="1944"/>
                </a:lnTo>
                <a:lnTo>
                  <a:pt x="43" y="1951"/>
                </a:lnTo>
                <a:lnTo>
                  <a:pt x="0" y="1958"/>
                </a:lnTo>
                <a:lnTo>
                  <a:pt x="0" y="1829"/>
                </a:lnTo>
                <a:lnTo>
                  <a:pt x="34" y="1819"/>
                </a:lnTo>
                <a:lnTo>
                  <a:pt x="77" y="1811"/>
                </a:lnTo>
                <a:lnTo>
                  <a:pt x="109" y="1804"/>
                </a:lnTo>
                <a:lnTo>
                  <a:pt x="148" y="1793"/>
                </a:lnTo>
                <a:lnTo>
                  <a:pt x="176" y="1785"/>
                </a:lnTo>
                <a:lnTo>
                  <a:pt x="200" y="1775"/>
                </a:lnTo>
                <a:lnTo>
                  <a:pt x="227" y="1767"/>
                </a:lnTo>
                <a:lnTo>
                  <a:pt x="256" y="1758"/>
                </a:lnTo>
                <a:lnTo>
                  <a:pt x="283" y="1747"/>
                </a:lnTo>
                <a:lnTo>
                  <a:pt x="309" y="1736"/>
                </a:lnTo>
                <a:lnTo>
                  <a:pt x="329" y="1724"/>
                </a:lnTo>
                <a:lnTo>
                  <a:pt x="355" y="1709"/>
                </a:lnTo>
                <a:lnTo>
                  <a:pt x="390" y="1685"/>
                </a:lnTo>
                <a:lnTo>
                  <a:pt x="417" y="1669"/>
                </a:lnTo>
                <a:lnTo>
                  <a:pt x="441" y="1649"/>
                </a:lnTo>
                <a:lnTo>
                  <a:pt x="467" y="1623"/>
                </a:lnTo>
                <a:lnTo>
                  <a:pt x="497" y="1587"/>
                </a:lnTo>
                <a:lnTo>
                  <a:pt x="522" y="1551"/>
                </a:lnTo>
                <a:lnTo>
                  <a:pt x="553" y="1500"/>
                </a:lnTo>
                <a:lnTo>
                  <a:pt x="579" y="1450"/>
                </a:lnTo>
                <a:lnTo>
                  <a:pt x="601" y="1401"/>
                </a:lnTo>
                <a:lnTo>
                  <a:pt x="615" y="1365"/>
                </a:lnTo>
                <a:lnTo>
                  <a:pt x="627" y="1322"/>
                </a:lnTo>
                <a:lnTo>
                  <a:pt x="635" y="1290"/>
                </a:lnTo>
                <a:lnTo>
                  <a:pt x="648" y="1233"/>
                </a:lnTo>
                <a:lnTo>
                  <a:pt x="660" y="1176"/>
                </a:lnTo>
                <a:lnTo>
                  <a:pt x="669" y="1134"/>
                </a:lnTo>
                <a:lnTo>
                  <a:pt x="680" y="1075"/>
                </a:lnTo>
                <a:lnTo>
                  <a:pt x="688" y="1016"/>
                </a:lnTo>
                <a:lnTo>
                  <a:pt x="697" y="951"/>
                </a:lnTo>
                <a:lnTo>
                  <a:pt x="706" y="890"/>
                </a:lnTo>
                <a:lnTo>
                  <a:pt x="719" y="809"/>
                </a:lnTo>
                <a:lnTo>
                  <a:pt x="727" y="758"/>
                </a:lnTo>
                <a:lnTo>
                  <a:pt x="739" y="704"/>
                </a:lnTo>
                <a:lnTo>
                  <a:pt x="750" y="657"/>
                </a:lnTo>
                <a:lnTo>
                  <a:pt x="762" y="601"/>
                </a:lnTo>
                <a:lnTo>
                  <a:pt x="776" y="565"/>
                </a:lnTo>
                <a:lnTo>
                  <a:pt x="790" y="525"/>
                </a:lnTo>
                <a:lnTo>
                  <a:pt x="814" y="471"/>
                </a:lnTo>
                <a:lnTo>
                  <a:pt x="828" y="440"/>
                </a:lnTo>
                <a:lnTo>
                  <a:pt x="846" y="397"/>
                </a:lnTo>
                <a:lnTo>
                  <a:pt x="878" y="339"/>
                </a:lnTo>
                <a:lnTo>
                  <a:pt x="904" y="294"/>
                </a:lnTo>
                <a:lnTo>
                  <a:pt x="923" y="266"/>
                </a:lnTo>
                <a:lnTo>
                  <a:pt x="950" y="236"/>
                </a:lnTo>
                <a:lnTo>
                  <a:pt x="995" y="184"/>
                </a:lnTo>
                <a:lnTo>
                  <a:pt x="1024" y="151"/>
                </a:lnTo>
                <a:lnTo>
                  <a:pt x="1052" y="127"/>
                </a:lnTo>
                <a:lnTo>
                  <a:pt x="1091" y="97"/>
                </a:lnTo>
                <a:lnTo>
                  <a:pt x="1127" y="74"/>
                </a:lnTo>
                <a:lnTo>
                  <a:pt x="1178" y="49"/>
                </a:lnTo>
                <a:lnTo>
                  <a:pt x="1193" y="41"/>
                </a:lnTo>
                <a:lnTo>
                  <a:pt x="1211" y="33"/>
                </a:lnTo>
                <a:lnTo>
                  <a:pt x="1224" y="29"/>
                </a:lnTo>
                <a:lnTo>
                  <a:pt x="1236" y="25"/>
                </a:lnTo>
                <a:lnTo>
                  <a:pt x="1250" y="19"/>
                </a:lnTo>
                <a:lnTo>
                  <a:pt x="1260" y="15"/>
                </a:lnTo>
                <a:lnTo>
                  <a:pt x="1273" y="14"/>
                </a:lnTo>
                <a:lnTo>
                  <a:pt x="1294" y="8"/>
                </a:lnTo>
                <a:lnTo>
                  <a:pt x="1309" y="5"/>
                </a:lnTo>
                <a:lnTo>
                  <a:pt x="1323" y="3"/>
                </a:lnTo>
                <a:lnTo>
                  <a:pt x="1347" y="0"/>
                </a:lnTo>
                <a:lnTo>
                  <a:pt x="1347" y="12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2278080" y="25765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Apo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6"/>
          <p:cNvSpPr/>
          <p:nvPr/>
        </p:nvSpPr>
        <p:spPr>
          <a:xfrm>
            <a:off x="5038560" y="42163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ri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7"/>
          <p:cNvSpPr/>
          <p:nvPr/>
        </p:nvSpPr>
        <p:spPr>
          <a:xfrm>
            <a:off x="4932360" y="2576520"/>
            <a:ext cx="180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Ori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8"/>
          <p:cNvSpPr/>
          <p:nvPr/>
        </p:nvSpPr>
        <p:spPr>
          <a:xfrm>
            <a:off x="2166840" y="4216320"/>
            <a:ext cx="181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Dele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153400" y="1231920"/>
            <a:ext cx="2005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dirección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1783440" y="1220760"/>
            <a:ext cx="19404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apoyo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val 2"/>
          <p:cNvSpPr/>
          <p:nvPr/>
        </p:nvSpPr>
        <p:spPr>
          <a:xfrm>
            <a:off x="6378480" y="3211560"/>
            <a:ext cx="20952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"/>
          <p:cNvSpPr/>
          <p:nvPr/>
        </p:nvSpPr>
        <p:spPr>
          <a:xfrm>
            <a:off x="6491160" y="2403360"/>
            <a:ext cx="14940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"/>
          <p:cNvSpPr/>
          <p:nvPr/>
        </p:nvSpPr>
        <p:spPr>
          <a:xfrm>
            <a:off x="7716960" y="2665440"/>
            <a:ext cx="1108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65280" y="43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  <a:ea typeface="Arial"/>
              </a:rPr>
              <a:t>EL MODELO INTEGRADO</a:t>
            </a:r>
            <a:endParaRPr b="1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64" name="Marcador de número de diapositiva 3"/>
          <p:cNvSpPr/>
          <p:nvPr/>
        </p:nvSpPr>
        <p:spPr>
          <a:xfrm>
            <a:off x="6438960" y="6292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0EF4-9C2D-467F-A16B-CE1A2DAB8E2B}" type="slidenum">
              <a:rPr b="0" lang="es-ES" sz="900" spc="-1" strike="noStrike">
                <a:solidFill>
                  <a:srgbClr val="808080"/>
                </a:solidFill>
                <a:latin typeface="UnitOT-Regular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"/>
          <p:cNvGrpSpPr/>
          <p:nvPr/>
        </p:nvGrpSpPr>
        <p:grpSpPr>
          <a:xfrm>
            <a:off x="250920" y="1612800"/>
            <a:ext cx="4200480" cy="2824200"/>
            <a:chOff x="250920" y="1612800"/>
            <a:chExt cx="4200480" cy="2824200"/>
          </a:xfrm>
        </p:grpSpPr>
        <p:sp>
          <p:nvSpPr>
            <p:cNvPr id="266" name="Rectangle 8"/>
            <p:cNvSpPr/>
            <p:nvPr/>
          </p:nvSpPr>
          <p:spPr>
            <a:xfrm>
              <a:off x="340200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"/>
            <p:cNvSpPr/>
            <p:nvPr/>
          </p:nvSpPr>
          <p:spPr>
            <a:xfrm>
              <a:off x="235116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130176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>
              <a:off x="25092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340200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3"/>
            <p:cNvSpPr/>
            <p:nvPr/>
          </p:nvSpPr>
          <p:spPr>
            <a:xfrm>
              <a:off x="235116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4"/>
            <p:cNvSpPr/>
            <p:nvPr/>
          </p:nvSpPr>
          <p:spPr>
            <a:xfrm>
              <a:off x="130176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"/>
            <p:cNvSpPr/>
            <p:nvPr/>
          </p:nvSpPr>
          <p:spPr>
            <a:xfrm>
              <a:off x="25092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6"/>
            <p:cNvSpPr/>
            <p:nvPr/>
          </p:nvSpPr>
          <p:spPr>
            <a:xfrm>
              <a:off x="3402000" y="1612800"/>
              <a:ext cx="1049400" cy="540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AUTÓNOM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7"/>
            <p:cNvSpPr/>
            <p:nvPr/>
          </p:nvSpPr>
          <p:spPr>
            <a:xfrm>
              <a:off x="2351160" y="1612800"/>
              <a:ext cx="1050840" cy="54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INSEGU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D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8"/>
            <p:cNvSpPr/>
            <p:nvPr/>
          </p:nvSpPr>
          <p:spPr>
            <a:xfrm>
              <a:off x="1301760" y="1612800"/>
              <a:ext cx="1049400" cy="540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"/>
                </a:rPr>
                <a:t>DESILUSION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"/>
                </a:rPr>
                <a:t>D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"/>
            <p:cNvSpPr/>
            <p:nvPr/>
          </p:nvSpPr>
          <p:spPr>
            <a:xfrm>
              <a:off x="250920" y="1612800"/>
              <a:ext cx="1050840" cy="54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APRENDI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ENTUSIAST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D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>
              <a:off x="250920" y="215352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1"/>
            <p:cNvSpPr/>
            <p:nvPr/>
          </p:nvSpPr>
          <p:spPr>
            <a:xfrm>
              <a:off x="250920" y="321084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2"/>
            <p:cNvSpPr/>
            <p:nvPr/>
          </p:nvSpPr>
          <p:spPr>
            <a:xfrm>
              <a:off x="13017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3"/>
            <p:cNvSpPr/>
            <p:nvPr/>
          </p:nvSpPr>
          <p:spPr>
            <a:xfrm>
              <a:off x="23511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4"/>
            <p:cNvSpPr/>
            <p:nvPr/>
          </p:nvSpPr>
          <p:spPr>
            <a:xfrm>
              <a:off x="340200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5"/>
            <p:cNvSpPr/>
            <p:nvPr/>
          </p:nvSpPr>
          <p:spPr>
            <a:xfrm>
              <a:off x="250920" y="16128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6"/>
            <p:cNvSpPr/>
            <p:nvPr/>
          </p:nvSpPr>
          <p:spPr>
            <a:xfrm>
              <a:off x="25092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445140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8"/>
            <p:cNvSpPr/>
            <p:nvPr/>
          </p:nvSpPr>
          <p:spPr>
            <a:xfrm>
              <a:off x="250920" y="44370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9"/>
            <p:cNvSpPr/>
            <p:nvPr/>
          </p:nvSpPr>
          <p:spPr>
            <a:xfrm rot="19528200">
              <a:off x="1862640" y="3494520"/>
              <a:ext cx="14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COMPROMI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0"/>
            <p:cNvSpPr/>
            <p:nvPr/>
          </p:nvSpPr>
          <p:spPr>
            <a:xfrm rot="19643400">
              <a:off x="1263960" y="2710440"/>
              <a:ext cx="14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COMPETENCI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1"/>
            <p:cNvSpPr/>
            <p:nvPr/>
          </p:nvSpPr>
          <p:spPr>
            <a:xfrm>
              <a:off x="289080" y="2363400"/>
              <a:ext cx="4152600" cy="1590480"/>
            </a:xfrm>
            <a:custGeom>
              <a:avLst/>
              <a:gdLst>
                <a:gd name="textAreaLeft" fmla="*/ 0 w 4152600"/>
                <a:gd name="textAreaRight" fmla="*/ 4152960 w 4152600"/>
                <a:gd name="textAreaTop" fmla="*/ 0 h 1590480"/>
                <a:gd name="textAreaBottom" fmla="*/ 1590840 h 159048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2"/>
            <p:cNvSpPr/>
            <p:nvPr/>
          </p:nvSpPr>
          <p:spPr>
            <a:xfrm>
              <a:off x="281160" y="2189880"/>
              <a:ext cx="4155840" cy="1841040"/>
            </a:xfrm>
            <a:custGeom>
              <a:avLst/>
              <a:gdLst>
                <a:gd name="textAreaLeft" fmla="*/ 0 w 4155840"/>
                <a:gd name="textAreaRight" fmla="*/ 4156200 w 4155840"/>
                <a:gd name="textAreaTop" fmla="*/ 0 h 1841040"/>
                <a:gd name="textAreaBottom" fmla="*/ 1841400 h 184104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33"/>
          <p:cNvSpPr/>
          <p:nvPr/>
        </p:nvSpPr>
        <p:spPr>
          <a:xfrm>
            <a:off x="31428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Niveles de Madurez </a:t>
            </a:r>
            <a:br>
              <a:rPr sz="1600"/>
            </a:b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de los Colaboradores por Tarea o Me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4"/>
          <p:cNvGrpSpPr/>
          <p:nvPr/>
        </p:nvGrpSpPr>
        <p:grpSpPr>
          <a:xfrm>
            <a:off x="5013000" y="1573200"/>
            <a:ext cx="4116960" cy="3223800"/>
            <a:chOff x="5013000" y="1573200"/>
            <a:chExt cx="4116960" cy="3223800"/>
          </a:xfrm>
        </p:grpSpPr>
        <p:sp>
          <p:nvSpPr>
            <p:cNvPr id="293" name="Line 35"/>
            <p:cNvSpPr/>
            <p:nvPr/>
          </p:nvSpPr>
          <p:spPr>
            <a:xfrm flipV="1">
              <a:off x="5734080" y="1944360"/>
              <a:ext cx="0" cy="2327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6"/>
            <p:cNvSpPr/>
            <p:nvPr/>
          </p:nvSpPr>
          <p:spPr>
            <a:xfrm>
              <a:off x="5886360" y="4410000"/>
              <a:ext cx="2244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7"/>
            <p:cNvSpPr/>
            <p:nvPr/>
          </p:nvSpPr>
          <p:spPr>
            <a:xfrm flipV="1">
              <a:off x="5403960" y="1998000"/>
              <a:ext cx="1440" cy="229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5584680" y="2966760"/>
              <a:ext cx="1524240" cy="1415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5591160" y="1611000"/>
              <a:ext cx="1517760" cy="13809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7095960" y="1601640"/>
              <a:ext cx="1551240" cy="1379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1"/>
            <p:cNvSpPr/>
            <p:nvPr/>
          </p:nvSpPr>
          <p:spPr>
            <a:xfrm>
              <a:off x="5789520" y="4543200"/>
              <a:ext cx="2814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5046840" y="4443120"/>
              <a:ext cx="5853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Baj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8567640" y="438120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270480" y="4555800"/>
              <a:ext cx="2133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Tahoma"/>
                  <a:ea typeface="ＭＳ Ｐゴシック"/>
                </a:rPr>
                <a:t>COMPORTAMIENTO DIREC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5013000" y="163188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46"/>
            <p:cNvGrpSpPr/>
            <p:nvPr/>
          </p:nvGrpSpPr>
          <p:grpSpPr>
            <a:xfrm>
              <a:off x="5573880" y="1573200"/>
              <a:ext cx="3073320" cy="2828520"/>
              <a:chOff x="5573880" y="1573200"/>
              <a:chExt cx="3073320" cy="2828520"/>
            </a:xfrm>
          </p:grpSpPr>
          <p:sp>
            <p:nvSpPr>
              <p:cNvPr id="305" name="Rectangle 47"/>
              <p:cNvSpPr/>
              <p:nvPr/>
            </p:nvSpPr>
            <p:spPr>
              <a:xfrm>
                <a:off x="7104240" y="2985840"/>
                <a:ext cx="1542960" cy="14158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48"/>
              <p:cNvSpPr/>
              <p:nvPr/>
            </p:nvSpPr>
            <p:spPr>
              <a:xfrm>
                <a:off x="5573880" y="1573200"/>
                <a:ext cx="3071520" cy="2814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49"/>
              <p:cNvSpPr/>
              <p:nvPr/>
            </p:nvSpPr>
            <p:spPr>
              <a:xfrm>
                <a:off x="5765040" y="3814560"/>
                <a:ext cx="12348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apoyo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0"/>
              <p:cNvSpPr/>
              <p:nvPr/>
            </p:nvSpPr>
            <p:spPr>
              <a:xfrm>
                <a:off x="5581800" y="1585800"/>
                <a:ext cx="13032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alto en apoyo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1"/>
              <p:cNvSpPr/>
              <p:nvPr/>
            </p:nvSpPr>
            <p:spPr>
              <a:xfrm>
                <a:off x="7304760" y="1591920"/>
                <a:ext cx="130968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dirección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2"/>
              <p:cNvSpPr/>
              <p:nvPr/>
            </p:nvSpPr>
            <p:spPr>
              <a:xfrm>
                <a:off x="7200000" y="3812760"/>
                <a:ext cx="13431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dirección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3"/>
              <p:cNvSpPr/>
              <p:nvPr/>
            </p:nvSpPr>
            <p:spPr>
              <a:xfrm>
                <a:off x="7070760" y="1785600"/>
                <a:ext cx="1531800" cy="2022120"/>
              </a:xfrm>
              <a:custGeom>
                <a:avLst/>
                <a:gdLst>
                  <a:gd name="textAreaLeft" fmla="*/ 0 w 1531800"/>
                  <a:gd name="textAreaRight" fmla="*/ 1532160 w 153180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1348" h="1959">
                    <a:moveTo>
                      <a:pt x="0" y="120"/>
                    </a:moveTo>
                    <a:lnTo>
                      <a:pt x="25" y="121"/>
                    </a:lnTo>
                    <a:lnTo>
                      <a:pt x="41" y="124"/>
                    </a:lnTo>
                    <a:lnTo>
                      <a:pt x="52" y="125"/>
                    </a:lnTo>
                    <a:lnTo>
                      <a:pt x="63" y="128"/>
                    </a:lnTo>
                    <a:lnTo>
                      <a:pt x="71" y="131"/>
                    </a:lnTo>
                    <a:lnTo>
                      <a:pt x="82" y="135"/>
                    </a:lnTo>
                    <a:lnTo>
                      <a:pt x="92" y="140"/>
                    </a:lnTo>
                    <a:lnTo>
                      <a:pt x="103" y="146"/>
                    </a:lnTo>
                    <a:lnTo>
                      <a:pt x="122" y="154"/>
                    </a:lnTo>
                    <a:lnTo>
                      <a:pt x="141" y="166"/>
                    </a:lnTo>
                    <a:lnTo>
                      <a:pt x="159" y="177"/>
                    </a:lnTo>
                    <a:lnTo>
                      <a:pt x="180" y="191"/>
                    </a:lnTo>
                    <a:lnTo>
                      <a:pt x="197" y="202"/>
                    </a:lnTo>
                    <a:lnTo>
                      <a:pt x="231" y="230"/>
                    </a:lnTo>
                    <a:lnTo>
                      <a:pt x="265" y="264"/>
                    </a:lnTo>
                    <a:lnTo>
                      <a:pt x="295" y="298"/>
                    </a:lnTo>
                    <a:lnTo>
                      <a:pt x="333" y="350"/>
                    </a:lnTo>
                    <a:lnTo>
                      <a:pt x="361" y="397"/>
                    </a:lnTo>
                    <a:lnTo>
                      <a:pt x="391" y="446"/>
                    </a:lnTo>
                    <a:lnTo>
                      <a:pt x="409" y="493"/>
                    </a:lnTo>
                    <a:lnTo>
                      <a:pt x="425" y="538"/>
                    </a:lnTo>
                    <a:lnTo>
                      <a:pt x="447" y="590"/>
                    </a:lnTo>
                    <a:lnTo>
                      <a:pt x="463" y="640"/>
                    </a:lnTo>
                    <a:lnTo>
                      <a:pt x="483" y="718"/>
                    </a:lnTo>
                    <a:lnTo>
                      <a:pt x="500" y="790"/>
                    </a:lnTo>
                    <a:lnTo>
                      <a:pt x="511" y="860"/>
                    </a:lnTo>
                    <a:lnTo>
                      <a:pt x="524" y="946"/>
                    </a:lnTo>
                    <a:lnTo>
                      <a:pt x="532" y="1004"/>
                    </a:lnTo>
                    <a:lnTo>
                      <a:pt x="542" y="1072"/>
                    </a:lnTo>
                    <a:lnTo>
                      <a:pt x="551" y="1117"/>
                    </a:lnTo>
                    <a:lnTo>
                      <a:pt x="556" y="1158"/>
                    </a:lnTo>
                    <a:lnTo>
                      <a:pt x="567" y="1210"/>
                    </a:lnTo>
                    <a:lnTo>
                      <a:pt x="581" y="1262"/>
                    </a:lnTo>
                    <a:lnTo>
                      <a:pt x="591" y="1304"/>
                    </a:lnTo>
                    <a:lnTo>
                      <a:pt x="604" y="1354"/>
                    </a:lnTo>
                    <a:lnTo>
                      <a:pt x="618" y="1402"/>
                    </a:lnTo>
                    <a:lnTo>
                      <a:pt x="630" y="1443"/>
                    </a:lnTo>
                    <a:lnTo>
                      <a:pt x="648" y="1480"/>
                    </a:lnTo>
                    <a:lnTo>
                      <a:pt x="661" y="1510"/>
                    </a:lnTo>
                    <a:lnTo>
                      <a:pt x="675" y="1541"/>
                    </a:lnTo>
                    <a:lnTo>
                      <a:pt x="696" y="1574"/>
                    </a:lnTo>
                    <a:lnTo>
                      <a:pt x="718" y="1612"/>
                    </a:lnTo>
                    <a:lnTo>
                      <a:pt x="743" y="1647"/>
                    </a:lnTo>
                    <a:lnTo>
                      <a:pt x="776" y="1691"/>
                    </a:lnTo>
                    <a:lnTo>
                      <a:pt x="809" y="1728"/>
                    </a:lnTo>
                    <a:lnTo>
                      <a:pt x="844" y="1763"/>
                    </a:lnTo>
                    <a:lnTo>
                      <a:pt x="883" y="1793"/>
                    </a:lnTo>
                    <a:lnTo>
                      <a:pt x="912" y="1812"/>
                    </a:lnTo>
                    <a:lnTo>
                      <a:pt x="935" y="1826"/>
                    </a:lnTo>
                    <a:lnTo>
                      <a:pt x="959" y="1838"/>
                    </a:lnTo>
                    <a:lnTo>
                      <a:pt x="988" y="1853"/>
                    </a:lnTo>
                    <a:lnTo>
                      <a:pt x="1021" y="1868"/>
                    </a:lnTo>
                    <a:lnTo>
                      <a:pt x="1056" y="1882"/>
                    </a:lnTo>
                    <a:lnTo>
                      <a:pt x="1094" y="1898"/>
                    </a:lnTo>
                    <a:lnTo>
                      <a:pt x="1129" y="1908"/>
                    </a:lnTo>
                    <a:lnTo>
                      <a:pt x="1161" y="1918"/>
                    </a:lnTo>
                    <a:lnTo>
                      <a:pt x="1193" y="1927"/>
                    </a:lnTo>
                    <a:lnTo>
                      <a:pt x="1228" y="1936"/>
                    </a:lnTo>
                    <a:lnTo>
                      <a:pt x="1260" y="1944"/>
                    </a:lnTo>
                    <a:lnTo>
                      <a:pt x="1304" y="1951"/>
                    </a:lnTo>
                    <a:lnTo>
                      <a:pt x="1347" y="1958"/>
                    </a:lnTo>
                    <a:lnTo>
                      <a:pt x="1347" y="1829"/>
                    </a:lnTo>
                    <a:lnTo>
                      <a:pt x="1315" y="1819"/>
                    </a:lnTo>
                    <a:lnTo>
                      <a:pt x="1270" y="1811"/>
                    </a:lnTo>
                    <a:lnTo>
                      <a:pt x="1237" y="1804"/>
                    </a:lnTo>
                    <a:lnTo>
                      <a:pt x="1199" y="1793"/>
                    </a:lnTo>
                    <a:lnTo>
                      <a:pt x="1171" y="1785"/>
                    </a:lnTo>
                    <a:lnTo>
                      <a:pt x="1149" y="1775"/>
                    </a:lnTo>
                    <a:lnTo>
                      <a:pt x="1122" y="1767"/>
                    </a:lnTo>
                    <a:lnTo>
                      <a:pt x="1090" y="1758"/>
                    </a:lnTo>
                    <a:lnTo>
                      <a:pt x="1063" y="1747"/>
                    </a:lnTo>
                    <a:lnTo>
                      <a:pt x="1038" y="1736"/>
                    </a:lnTo>
                    <a:lnTo>
                      <a:pt x="1019" y="1724"/>
                    </a:lnTo>
                    <a:lnTo>
                      <a:pt x="992" y="1709"/>
                    </a:lnTo>
                    <a:lnTo>
                      <a:pt x="957" y="1685"/>
                    </a:lnTo>
                    <a:lnTo>
                      <a:pt x="931" y="1669"/>
                    </a:lnTo>
                    <a:lnTo>
                      <a:pt x="907" y="1649"/>
                    </a:lnTo>
                    <a:lnTo>
                      <a:pt x="880" y="1623"/>
                    </a:lnTo>
                    <a:lnTo>
                      <a:pt x="851" y="1587"/>
                    </a:lnTo>
                    <a:lnTo>
                      <a:pt x="826" y="1551"/>
                    </a:lnTo>
                    <a:lnTo>
                      <a:pt x="795" y="1500"/>
                    </a:lnTo>
                    <a:lnTo>
                      <a:pt x="767" y="1450"/>
                    </a:lnTo>
                    <a:lnTo>
                      <a:pt x="745" y="1401"/>
                    </a:lnTo>
                    <a:lnTo>
                      <a:pt x="732" y="1365"/>
                    </a:lnTo>
                    <a:lnTo>
                      <a:pt x="720" y="1322"/>
                    </a:lnTo>
                    <a:lnTo>
                      <a:pt x="710" y="1290"/>
                    </a:lnTo>
                    <a:lnTo>
                      <a:pt x="699" y="1233"/>
                    </a:lnTo>
                    <a:lnTo>
                      <a:pt x="687" y="1176"/>
                    </a:lnTo>
                    <a:lnTo>
                      <a:pt x="678" y="1134"/>
                    </a:lnTo>
                    <a:lnTo>
                      <a:pt x="668" y="1075"/>
                    </a:lnTo>
                    <a:lnTo>
                      <a:pt x="660" y="1016"/>
                    </a:lnTo>
                    <a:lnTo>
                      <a:pt x="650" y="951"/>
                    </a:lnTo>
                    <a:lnTo>
                      <a:pt x="641" y="890"/>
                    </a:lnTo>
                    <a:lnTo>
                      <a:pt x="627" y="809"/>
                    </a:lnTo>
                    <a:lnTo>
                      <a:pt x="619" y="758"/>
                    </a:lnTo>
                    <a:lnTo>
                      <a:pt x="609" y="704"/>
                    </a:lnTo>
                    <a:lnTo>
                      <a:pt x="598" y="657"/>
                    </a:lnTo>
                    <a:lnTo>
                      <a:pt x="584" y="601"/>
                    </a:lnTo>
                    <a:lnTo>
                      <a:pt x="570" y="565"/>
                    </a:lnTo>
                    <a:lnTo>
                      <a:pt x="556" y="525"/>
                    </a:lnTo>
                    <a:lnTo>
                      <a:pt x="532" y="471"/>
                    </a:lnTo>
                    <a:lnTo>
                      <a:pt x="518" y="440"/>
                    </a:lnTo>
                    <a:lnTo>
                      <a:pt x="502" y="397"/>
                    </a:lnTo>
                    <a:lnTo>
                      <a:pt x="468" y="339"/>
                    </a:lnTo>
                    <a:lnTo>
                      <a:pt x="443" y="294"/>
                    </a:lnTo>
                    <a:lnTo>
                      <a:pt x="423" y="266"/>
                    </a:lnTo>
                    <a:lnTo>
                      <a:pt x="397" y="236"/>
                    </a:lnTo>
                    <a:lnTo>
                      <a:pt x="352" y="184"/>
                    </a:lnTo>
                    <a:lnTo>
                      <a:pt x="323" y="151"/>
                    </a:lnTo>
                    <a:lnTo>
                      <a:pt x="295" y="127"/>
                    </a:lnTo>
                    <a:lnTo>
                      <a:pt x="257" y="97"/>
                    </a:lnTo>
                    <a:lnTo>
                      <a:pt x="219" y="74"/>
                    </a:lnTo>
                    <a:lnTo>
                      <a:pt x="169" y="49"/>
                    </a:lnTo>
                    <a:lnTo>
                      <a:pt x="154" y="41"/>
                    </a:lnTo>
                    <a:lnTo>
                      <a:pt x="136" y="33"/>
                    </a:lnTo>
                    <a:lnTo>
                      <a:pt x="124" y="29"/>
                    </a:lnTo>
                    <a:lnTo>
                      <a:pt x="110" y="25"/>
                    </a:lnTo>
                    <a:lnTo>
                      <a:pt x="98" y="19"/>
                    </a:lnTo>
                    <a:lnTo>
                      <a:pt x="87" y="15"/>
                    </a:lnTo>
                    <a:lnTo>
                      <a:pt x="74" y="14"/>
                    </a:lnTo>
                    <a:lnTo>
                      <a:pt x="53" y="8"/>
                    </a:lnTo>
                    <a:lnTo>
                      <a:pt x="36" y="5"/>
                    </a:lnTo>
                    <a:lnTo>
                      <a:pt x="22" y="3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4"/>
              <p:cNvSpPr/>
              <p:nvPr/>
            </p:nvSpPr>
            <p:spPr>
              <a:xfrm>
                <a:off x="5621400" y="1785600"/>
                <a:ext cx="1488960" cy="2022120"/>
              </a:xfrm>
              <a:custGeom>
                <a:avLst/>
                <a:gdLst>
                  <a:gd name="textAreaLeft" fmla="*/ 0 w 1488960"/>
                  <a:gd name="textAreaRight" fmla="*/ 1489320 w 148896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1348" h="1959">
                    <a:moveTo>
                      <a:pt x="1347" y="120"/>
                    </a:moveTo>
                    <a:lnTo>
                      <a:pt x="1320" y="121"/>
                    </a:lnTo>
                    <a:lnTo>
                      <a:pt x="1306" y="124"/>
                    </a:lnTo>
                    <a:lnTo>
                      <a:pt x="1295" y="125"/>
                    </a:lnTo>
                    <a:lnTo>
                      <a:pt x="1284" y="128"/>
                    </a:lnTo>
                    <a:lnTo>
                      <a:pt x="1276" y="131"/>
                    </a:lnTo>
                    <a:lnTo>
                      <a:pt x="1264" y="135"/>
                    </a:lnTo>
                    <a:lnTo>
                      <a:pt x="1255" y="140"/>
                    </a:lnTo>
                    <a:lnTo>
                      <a:pt x="1243" y="146"/>
                    </a:lnTo>
                    <a:lnTo>
                      <a:pt x="1225" y="154"/>
                    </a:lnTo>
                    <a:lnTo>
                      <a:pt x="1206" y="166"/>
                    </a:lnTo>
                    <a:lnTo>
                      <a:pt x="1188" y="177"/>
                    </a:lnTo>
                    <a:lnTo>
                      <a:pt x="1167" y="191"/>
                    </a:lnTo>
                    <a:lnTo>
                      <a:pt x="1150" y="202"/>
                    </a:lnTo>
                    <a:lnTo>
                      <a:pt x="1115" y="230"/>
                    </a:lnTo>
                    <a:lnTo>
                      <a:pt x="1081" y="264"/>
                    </a:lnTo>
                    <a:lnTo>
                      <a:pt x="1052" y="298"/>
                    </a:lnTo>
                    <a:lnTo>
                      <a:pt x="1013" y="350"/>
                    </a:lnTo>
                    <a:lnTo>
                      <a:pt x="988" y="397"/>
                    </a:lnTo>
                    <a:lnTo>
                      <a:pt x="955" y="446"/>
                    </a:lnTo>
                    <a:lnTo>
                      <a:pt x="937" y="493"/>
                    </a:lnTo>
                    <a:lnTo>
                      <a:pt x="922" y="538"/>
                    </a:lnTo>
                    <a:lnTo>
                      <a:pt x="899" y="590"/>
                    </a:lnTo>
                    <a:lnTo>
                      <a:pt x="885" y="640"/>
                    </a:lnTo>
                    <a:lnTo>
                      <a:pt x="863" y="718"/>
                    </a:lnTo>
                    <a:lnTo>
                      <a:pt x="848" y="790"/>
                    </a:lnTo>
                    <a:lnTo>
                      <a:pt x="834" y="860"/>
                    </a:lnTo>
                    <a:lnTo>
                      <a:pt x="822" y="946"/>
                    </a:lnTo>
                    <a:lnTo>
                      <a:pt x="814" y="1004"/>
                    </a:lnTo>
                    <a:lnTo>
                      <a:pt x="804" y="1072"/>
                    </a:lnTo>
                    <a:lnTo>
                      <a:pt x="796" y="1117"/>
                    </a:lnTo>
                    <a:lnTo>
                      <a:pt x="790" y="1158"/>
                    </a:lnTo>
                    <a:lnTo>
                      <a:pt x="781" y="1210"/>
                    </a:lnTo>
                    <a:lnTo>
                      <a:pt x="767" y="1262"/>
                    </a:lnTo>
                    <a:lnTo>
                      <a:pt x="755" y="1304"/>
                    </a:lnTo>
                    <a:lnTo>
                      <a:pt x="743" y="1354"/>
                    </a:lnTo>
                    <a:lnTo>
                      <a:pt x="729" y="1402"/>
                    </a:lnTo>
                    <a:lnTo>
                      <a:pt x="716" y="1443"/>
                    </a:lnTo>
                    <a:lnTo>
                      <a:pt x="699" y="1480"/>
                    </a:lnTo>
                    <a:lnTo>
                      <a:pt x="685" y="1510"/>
                    </a:lnTo>
                    <a:lnTo>
                      <a:pt x="671" y="1541"/>
                    </a:lnTo>
                    <a:lnTo>
                      <a:pt x="650" y="1574"/>
                    </a:lnTo>
                    <a:lnTo>
                      <a:pt x="629" y="1612"/>
                    </a:lnTo>
                    <a:lnTo>
                      <a:pt x="603" y="1647"/>
                    </a:lnTo>
                    <a:lnTo>
                      <a:pt x="572" y="1691"/>
                    </a:lnTo>
                    <a:lnTo>
                      <a:pt x="539" y="1728"/>
                    </a:lnTo>
                    <a:lnTo>
                      <a:pt x="502" y="1763"/>
                    </a:lnTo>
                    <a:lnTo>
                      <a:pt x="463" y="1793"/>
                    </a:lnTo>
                    <a:lnTo>
                      <a:pt x="434" y="1812"/>
                    </a:lnTo>
                    <a:lnTo>
                      <a:pt x="413" y="1826"/>
                    </a:lnTo>
                    <a:lnTo>
                      <a:pt x="387" y="1838"/>
                    </a:lnTo>
                    <a:lnTo>
                      <a:pt x="359" y="1853"/>
                    </a:lnTo>
                    <a:lnTo>
                      <a:pt x="326" y="1868"/>
                    </a:lnTo>
                    <a:lnTo>
                      <a:pt x="291" y="1882"/>
                    </a:lnTo>
                    <a:lnTo>
                      <a:pt x="252" y="1898"/>
                    </a:lnTo>
                    <a:lnTo>
                      <a:pt x="218" y="1908"/>
                    </a:lnTo>
                    <a:lnTo>
                      <a:pt x="186" y="1918"/>
                    </a:lnTo>
                    <a:lnTo>
                      <a:pt x="154" y="1927"/>
                    </a:lnTo>
                    <a:lnTo>
                      <a:pt x="119" y="1936"/>
                    </a:lnTo>
                    <a:lnTo>
                      <a:pt x="87" y="1944"/>
                    </a:lnTo>
                    <a:lnTo>
                      <a:pt x="43" y="1951"/>
                    </a:lnTo>
                    <a:lnTo>
                      <a:pt x="0" y="1958"/>
                    </a:lnTo>
                    <a:lnTo>
                      <a:pt x="0" y="1829"/>
                    </a:lnTo>
                    <a:lnTo>
                      <a:pt x="34" y="1819"/>
                    </a:lnTo>
                    <a:lnTo>
                      <a:pt x="77" y="1811"/>
                    </a:lnTo>
                    <a:lnTo>
                      <a:pt x="109" y="1804"/>
                    </a:lnTo>
                    <a:lnTo>
                      <a:pt x="148" y="1793"/>
                    </a:lnTo>
                    <a:lnTo>
                      <a:pt x="176" y="1785"/>
                    </a:lnTo>
                    <a:lnTo>
                      <a:pt x="200" y="1775"/>
                    </a:lnTo>
                    <a:lnTo>
                      <a:pt x="227" y="1767"/>
                    </a:lnTo>
                    <a:lnTo>
                      <a:pt x="256" y="1758"/>
                    </a:lnTo>
                    <a:lnTo>
                      <a:pt x="283" y="1747"/>
                    </a:lnTo>
                    <a:lnTo>
                      <a:pt x="309" y="1736"/>
                    </a:lnTo>
                    <a:lnTo>
                      <a:pt x="329" y="1724"/>
                    </a:lnTo>
                    <a:lnTo>
                      <a:pt x="355" y="1709"/>
                    </a:lnTo>
                    <a:lnTo>
                      <a:pt x="390" y="1685"/>
                    </a:lnTo>
                    <a:lnTo>
                      <a:pt x="417" y="1669"/>
                    </a:lnTo>
                    <a:lnTo>
                      <a:pt x="441" y="1649"/>
                    </a:lnTo>
                    <a:lnTo>
                      <a:pt x="467" y="1623"/>
                    </a:lnTo>
                    <a:lnTo>
                      <a:pt x="497" y="1587"/>
                    </a:lnTo>
                    <a:lnTo>
                      <a:pt x="522" y="1551"/>
                    </a:lnTo>
                    <a:lnTo>
                      <a:pt x="553" y="1500"/>
                    </a:lnTo>
                    <a:lnTo>
                      <a:pt x="579" y="1450"/>
                    </a:lnTo>
                    <a:lnTo>
                      <a:pt x="601" y="1401"/>
                    </a:lnTo>
                    <a:lnTo>
                      <a:pt x="615" y="1365"/>
                    </a:lnTo>
                    <a:lnTo>
                      <a:pt x="627" y="1322"/>
                    </a:lnTo>
                    <a:lnTo>
                      <a:pt x="635" y="1290"/>
                    </a:lnTo>
                    <a:lnTo>
                      <a:pt x="648" y="1233"/>
                    </a:lnTo>
                    <a:lnTo>
                      <a:pt x="660" y="1176"/>
                    </a:lnTo>
                    <a:lnTo>
                      <a:pt x="669" y="1134"/>
                    </a:lnTo>
                    <a:lnTo>
                      <a:pt x="680" y="1075"/>
                    </a:lnTo>
                    <a:lnTo>
                      <a:pt x="688" y="1016"/>
                    </a:lnTo>
                    <a:lnTo>
                      <a:pt x="697" y="951"/>
                    </a:lnTo>
                    <a:lnTo>
                      <a:pt x="706" y="890"/>
                    </a:lnTo>
                    <a:lnTo>
                      <a:pt x="719" y="809"/>
                    </a:lnTo>
                    <a:lnTo>
                      <a:pt x="727" y="758"/>
                    </a:lnTo>
                    <a:lnTo>
                      <a:pt x="739" y="704"/>
                    </a:lnTo>
                    <a:lnTo>
                      <a:pt x="750" y="657"/>
                    </a:lnTo>
                    <a:lnTo>
                      <a:pt x="762" y="601"/>
                    </a:lnTo>
                    <a:lnTo>
                      <a:pt x="776" y="565"/>
                    </a:lnTo>
                    <a:lnTo>
                      <a:pt x="790" y="525"/>
                    </a:lnTo>
                    <a:lnTo>
                      <a:pt x="814" y="471"/>
                    </a:lnTo>
                    <a:lnTo>
                      <a:pt x="828" y="440"/>
                    </a:lnTo>
                    <a:lnTo>
                      <a:pt x="846" y="397"/>
                    </a:lnTo>
                    <a:lnTo>
                      <a:pt x="878" y="339"/>
                    </a:lnTo>
                    <a:lnTo>
                      <a:pt x="904" y="294"/>
                    </a:lnTo>
                    <a:lnTo>
                      <a:pt x="923" y="266"/>
                    </a:lnTo>
                    <a:lnTo>
                      <a:pt x="950" y="236"/>
                    </a:lnTo>
                    <a:lnTo>
                      <a:pt x="995" y="184"/>
                    </a:lnTo>
                    <a:lnTo>
                      <a:pt x="1024" y="151"/>
                    </a:lnTo>
                    <a:lnTo>
                      <a:pt x="1052" y="127"/>
                    </a:lnTo>
                    <a:lnTo>
                      <a:pt x="1091" y="97"/>
                    </a:lnTo>
                    <a:lnTo>
                      <a:pt x="1127" y="74"/>
                    </a:lnTo>
                    <a:lnTo>
                      <a:pt x="1178" y="49"/>
                    </a:lnTo>
                    <a:lnTo>
                      <a:pt x="1193" y="41"/>
                    </a:lnTo>
                    <a:lnTo>
                      <a:pt x="1211" y="33"/>
                    </a:lnTo>
                    <a:lnTo>
                      <a:pt x="1224" y="29"/>
                    </a:lnTo>
                    <a:lnTo>
                      <a:pt x="1236" y="25"/>
                    </a:lnTo>
                    <a:lnTo>
                      <a:pt x="1250" y="19"/>
                    </a:lnTo>
                    <a:lnTo>
                      <a:pt x="1260" y="15"/>
                    </a:lnTo>
                    <a:lnTo>
                      <a:pt x="1273" y="14"/>
                    </a:lnTo>
                    <a:lnTo>
                      <a:pt x="1294" y="8"/>
                    </a:lnTo>
                    <a:lnTo>
                      <a:pt x="1309" y="5"/>
                    </a:lnTo>
                    <a:lnTo>
                      <a:pt x="1323" y="3"/>
                    </a:lnTo>
                    <a:lnTo>
                      <a:pt x="1347" y="0"/>
                    </a:lnTo>
                    <a:lnTo>
                      <a:pt x="1347" y="12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55"/>
              <p:cNvSpPr/>
              <p:nvPr/>
            </p:nvSpPr>
            <p:spPr>
              <a:xfrm>
                <a:off x="5857920" y="234756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Apoy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56"/>
              <p:cNvSpPr/>
              <p:nvPr/>
            </p:nvSpPr>
            <p:spPr>
              <a:xfrm>
                <a:off x="7415280" y="326844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Dirigi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57"/>
              <p:cNvSpPr/>
              <p:nvPr/>
            </p:nvSpPr>
            <p:spPr>
              <a:xfrm>
                <a:off x="7307280" y="2347560"/>
                <a:ext cx="1177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Orient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58"/>
              <p:cNvSpPr/>
              <p:nvPr/>
            </p:nvSpPr>
            <p:spPr>
              <a:xfrm>
                <a:off x="5794200" y="3268440"/>
                <a:ext cx="1025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Deleg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Rectangle 59"/>
            <p:cNvSpPr/>
            <p:nvPr/>
          </p:nvSpPr>
          <p:spPr>
            <a:xfrm rot="16200000">
              <a:off x="4189320" y="2666880"/>
              <a:ext cx="2095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ff"/>
                  </a:solidFill>
                  <a:latin typeface="Tahoma"/>
                  <a:ea typeface="ＭＳ Ｐゴシック"/>
                </a:rPr>
                <a:t>COMPORTAMIENTO DE 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60"/>
          <p:cNvSpPr/>
          <p:nvPr/>
        </p:nvSpPr>
        <p:spPr>
          <a:xfrm>
            <a:off x="108000" y="616572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Habilidad Diagnós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1"/>
          <p:cNvSpPr/>
          <p:nvPr/>
        </p:nvSpPr>
        <p:spPr>
          <a:xfrm rot="5400000">
            <a:off x="1992240" y="5860800"/>
            <a:ext cx="431640" cy="463680"/>
          </a:xfrm>
          <a:custGeom>
            <a:avLst/>
            <a:gdLst>
              <a:gd name="textAreaLeft" fmla="*/ 67320 w 431640"/>
              <a:gd name="textAreaRight" fmla="*/ 378000 w 431640"/>
              <a:gd name="textAreaTop" fmla="*/ 115920 h 463680"/>
              <a:gd name="textAreaBottom" fmla="*/ 347760 h 463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2"/>
          <p:cNvSpPr/>
          <p:nvPr/>
        </p:nvSpPr>
        <p:spPr>
          <a:xfrm>
            <a:off x="506556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Los cuatro</a:t>
            </a:r>
            <a:br>
              <a:rPr sz="1600"/>
            </a:b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Estilos de Lideraz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3"/>
          <p:cNvSpPr/>
          <p:nvPr/>
        </p:nvSpPr>
        <p:spPr>
          <a:xfrm>
            <a:off x="5138640" y="616572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Habilidad Flexibil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4"/>
          <p:cNvSpPr/>
          <p:nvPr/>
        </p:nvSpPr>
        <p:spPr>
          <a:xfrm rot="5400000">
            <a:off x="6879960" y="5861160"/>
            <a:ext cx="431640" cy="463320"/>
          </a:xfrm>
          <a:custGeom>
            <a:avLst/>
            <a:gdLst>
              <a:gd name="textAreaLeft" fmla="*/ 67320 w 431640"/>
              <a:gd name="textAreaRight" fmla="*/ 378000 w 431640"/>
              <a:gd name="textAreaTop" fmla="*/ 115920 h 463320"/>
              <a:gd name="textAreaBottom" fmla="*/ 347760 h 463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5"/>
          <p:cNvSpPr/>
          <p:nvPr/>
        </p:nvSpPr>
        <p:spPr>
          <a:xfrm>
            <a:off x="3841920" y="5950080"/>
            <a:ext cx="1954080" cy="415800"/>
          </a:xfrm>
          <a:custGeom>
            <a:avLst/>
            <a:gdLst>
              <a:gd name="textAreaLeft" fmla="*/ 342000 w 1954080"/>
              <a:gd name="textAreaRight" fmla="*/ 1416960 w 1954080"/>
              <a:gd name="textAreaTop" fmla="*/ 55440 h 415800"/>
              <a:gd name="textAreaBottom" fmla="*/ 3603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AutoShape 66"/>
          <p:cNvCxnSpPr>
            <a:stCxn id="277" idx="2"/>
            <a:endCxn id="311" idx="34"/>
          </p:cNvCxnSpPr>
          <p:nvPr/>
        </p:nvCxnSpPr>
        <p:spPr>
          <a:xfrm flipH="1" rot="16200000">
            <a:off x="3832920" y="-902880"/>
            <a:ext cx="1456560" cy="7570080"/>
          </a:xfrm>
          <a:prstGeom prst="curvedConnector5">
            <a:avLst>
              <a:gd name="adj1" fmla="val 143164"/>
              <a:gd name="adj2" fmla="val 49997"/>
              <a:gd name="adj3" fmla="val 14316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5" name="AutoShape 67"/>
          <p:cNvCxnSpPr>
            <a:stCxn id="276" idx="2"/>
            <a:endCxn id="262" idx="3"/>
          </p:cNvCxnSpPr>
          <p:nvPr/>
        </p:nvCxnSpPr>
        <p:spPr>
          <a:xfrm flipH="1" rot="16200000">
            <a:off x="4428360" y="-447120"/>
            <a:ext cx="704160" cy="5906160"/>
          </a:xfrm>
          <a:prstGeom prst="curvedConnector5">
            <a:avLst>
              <a:gd name="adj1" fmla="val 137237"/>
              <a:gd name="adj2" fmla="val 49996"/>
              <a:gd name="adj3" fmla="val 137237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26" name="AutoShape 68"/>
          <p:cNvCxnSpPr>
            <a:stCxn id="275" idx="2"/>
            <a:endCxn id="261" idx="3"/>
          </p:cNvCxnSpPr>
          <p:nvPr/>
        </p:nvCxnSpPr>
        <p:spPr>
          <a:xfrm flipH="1" rot="16200000">
            <a:off x="4531320" y="498240"/>
            <a:ext cx="326160" cy="3637800"/>
          </a:xfrm>
          <a:prstGeom prst="curvedConnector5">
            <a:avLst>
              <a:gd name="adj1" fmla="val 174143"/>
              <a:gd name="adj2" fmla="val 50000"/>
              <a:gd name="adj3" fmla="val 174143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7" name="AutoShape 69"/>
          <p:cNvCxnSpPr>
            <a:stCxn id="274" idx="2"/>
            <a:endCxn id="260" idx="2"/>
          </p:cNvCxnSpPr>
          <p:nvPr/>
        </p:nvCxnSpPr>
        <p:spPr>
          <a:xfrm flipH="1" rot="16200000">
            <a:off x="4595760" y="1485720"/>
            <a:ext cx="1115280" cy="2451600"/>
          </a:xfrm>
          <a:prstGeom prst="curvedConnector2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328" name="Rectangle 70"/>
          <p:cNvSpPr/>
          <p:nvPr/>
        </p:nvSpPr>
        <p:spPr>
          <a:xfrm>
            <a:off x="2690640" y="623736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Adec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1"/>
          <p:cNvSpPr/>
          <p:nvPr/>
        </p:nvSpPr>
        <p:spPr>
          <a:xfrm>
            <a:off x="250920" y="4956120"/>
            <a:ext cx="418608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Competencias: Conocimientos y 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       </a:t>
            </a:r>
            <a:r>
              <a:rPr b="1" lang="es-MX" sz="1400" spc="-1" strike="noStrike">
                <a:solidFill>
                  <a:srgbClr val="333399"/>
                </a:solidFill>
                <a:latin typeface="Arial Narrow"/>
              </a:rPr>
              <a:t>Compromiso: Motivación y Auto-conf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2"/>
          <p:cNvSpPr/>
          <p:nvPr/>
        </p:nvSpPr>
        <p:spPr>
          <a:xfrm>
            <a:off x="250920" y="5121360"/>
            <a:ext cx="28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3"/>
          <p:cNvSpPr/>
          <p:nvPr/>
        </p:nvSpPr>
        <p:spPr>
          <a:xfrm>
            <a:off x="250920" y="5435640"/>
            <a:ext cx="2887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4"/>
          <p:cNvSpPr/>
          <p:nvPr/>
        </p:nvSpPr>
        <p:spPr>
          <a:xfrm>
            <a:off x="4859280" y="4956120"/>
            <a:ext cx="410544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Dirección: Genera conocimientos y 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 Narrow"/>
              </a:rPr>
              <a:t>Apoyo: Genera motivación y auto-conf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 el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estilo de liderazgo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IRIGI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5892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Reconoce el entusiasmo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Reconoce las habilidades transferibles del colaborador y su progreso hasta la fech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Identifica los resultados, objetivos y plazos dese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fine que es un buen trabajo y como se registrara y controlara 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sarrolla un plan para que el colaborador aprenda nuevas habilidad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irige la planificación de acc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Toma la mayoría de las decisiones relacionadas con que hacer , cuando y con quie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directrices e instrucciones especific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irige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0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3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30872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 el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 de liderazgo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trena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129528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Involucra al colaborador en identificación de problemas y en fijar met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apoyo, seguridad y elogi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scucha, brinda al colaborador oportunidad para discuti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Involucra al colaborador en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Toma de decisiones finales luego de escuchar las ideas y los sentimientos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dirección y adiestramiento  para continuar  desarrollando y perfeccionando las habilidad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xplica la razón para tomar un enfoque particula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fine que es un trajo bien hecho y como el desempeño será controla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Continua haciendo seguimiento y proporcionando retroalimentación frecuente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G_0156"/>
          <p:cNvPicPr/>
          <p:nvPr/>
        </p:nvPicPr>
        <p:blipFill>
          <a:blip r:embed="rId1"/>
          <a:stretch/>
        </p:blipFill>
        <p:spPr>
          <a:xfrm>
            <a:off x="2050920" y="3857760"/>
            <a:ext cx="144324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IMG_0152"/>
          <p:cNvPicPr/>
          <p:nvPr/>
        </p:nvPicPr>
        <p:blipFill>
          <a:blip r:embed="rId2"/>
          <a:stretch/>
        </p:blipFill>
        <p:spPr>
          <a:xfrm>
            <a:off x="5369040" y="3933720"/>
            <a:ext cx="1939680" cy="1511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IMG_0153"/>
          <p:cNvPicPr/>
          <p:nvPr/>
        </p:nvPicPr>
        <p:blipFill>
          <a:blip r:embed="rId3"/>
          <a:stretch/>
        </p:blipFill>
        <p:spPr>
          <a:xfrm>
            <a:off x="1619280" y="1773360"/>
            <a:ext cx="2235240" cy="149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Fotolia_4599026_XS"/>
          <p:cNvPicPr/>
          <p:nvPr/>
        </p:nvPicPr>
        <p:blipFill>
          <a:blip r:embed="rId4"/>
          <a:stretch/>
        </p:blipFill>
        <p:spPr>
          <a:xfrm>
            <a:off x="4932360" y="1628640"/>
            <a:ext cx="2697120" cy="1513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762200" y="33228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VENTANA DE JOH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49080" y="13017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OCIDO POR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734000" y="130176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SCONOCIDO POR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 rot="16200000">
            <a:off x="-233640" y="227664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O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 rot="16200000">
            <a:off x="-432360" y="447228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SCONO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476360" y="308772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B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4643280" y="3087720"/>
            <a:ext cx="32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I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619280" y="5175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ER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716360" y="517536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SCONOC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116000" y="1700280"/>
            <a:ext cx="6840360" cy="4248000"/>
            <a:chOff x="1116000" y="1700280"/>
            <a:chExt cx="6840360" cy="4248000"/>
          </a:xfrm>
        </p:grpSpPr>
        <p:sp>
          <p:nvSpPr>
            <p:cNvPr id="69" name="Rectangle 16"/>
            <p:cNvSpPr/>
            <p:nvPr/>
          </p:nvSpPr>
          <p:spPr>
            <a:xfrm>
              <a:off x="1116000" y="1700280"/>
              <a:ext cx="6840360" cy="424800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7"/>
            <p:cNvSpPr/>
            <p:nvPr/>
          </p:nvSpPr>
          <p:spPr>
            <a:xfrm>
              <a:off x="1116000" y="3823200"/>
              <a:ext cx="684036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4536000" y="1700280"/>
              <a:ext cx="0" cy="4248000"/>
            </a:xfrm>
            <a:prstGeom prst="line">
              <a:avLst/>
            </a:prstGeom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37920" y="4392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 el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 de liderazgo 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poya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Comparte con  el colaborador tomar la iniciativa en la planificación de acciones y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Sirve como elemento de reflexión, estimulando al colaborador a discutir sus preocupaciones e ide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scucha y estimula al colaborador a resolver problemas y tomar decisiones autónoma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seguridad, apoyo, estímulo y elogio a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xplica maneras para hacer la meta o tarea mas interesante y desafiante, cuando la motivación es baj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ayuda en la solución de problemas compartiendo ideas, cuando se la solicita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Trabaja con el colaborador en la evaluación de su problem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el estilo de liderazgo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elega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24000" y="1542600"/>
            <a:ext cx="84960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ermite al colaborador hacerse carg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fine con el colaborador los problemas y los resultados dese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stimula al colaborador a evaluar su propio  trabaj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oportunidades para que el colaborador comparta y celebre éxitos y prepare a otr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Reconoce, valora y premia las contribuciones del colaborador a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safía al colaborador a alcanzar niveles de desempeño aun mas alt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000" y="53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s de toma de decisiones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1187280" y="1197000"/>
            <a:ext cx="5832360" cy="4959000"/>
            <a:chOff x="1187280" y="1197000"/>
            <a:chExt cx="5832360" cy="4959000"/>
          </a:xfrm>
        </p:grpSpPr>
        <p:sp>
          <p:nvSpPr>
            <p:cNvPr id="343" name="Rectangle 3"/>
            <p:cNvSpPr/>
            <p:nvPr/>
          </p:nvSpPr>
          <p:spPr>
            <a:xfrm>
              <a:off x="1233360" y="1896120"/>
              <a:ext cx="2811960" cy="12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Apoy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Hablemos, ambos decidi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"/>
            <p:cNvSpPr/>
            <p:nvPr/>
          </p:nvSpPr>
          <p:spPr>
            <a:xfrm>
              <a:off x="4117320" y="1874880"/>
              <a:ext cx="28119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Entre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Hablemos, yo de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5"/>
            <p:cNvSpPr/>
            <p:nvPr/>
          </p:nvSpPr>
          <p:spPr>
            <a:xfrm>
              <a:off x="1233360" y="4065840"/>
              <a:ext cx="28119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Dele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Tú dec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6"/>
            <p:cNvSpPr/>
            <p:nvPr/>
          </p:nvSpPr>
          <p:spPr>
            <a:xfrm>
              <a:off x="4117320" y="4045320"/>
              <a:ext cx="28119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Diri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Yo de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187280" y="1197000"/>
              <a:ext cx="5832360" cy="495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4025520" y="1197000"/>
              <a:ext cx="1800" cy="4959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>
              <a:off x="1187280" y="3506040"/>
              <a:ext cx="583236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 líder tiene tres opciones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63720" y="1773000"/>
            <a:ext cx="764064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</a:rPr>
              <a:t>Utilizar el estilo requeri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</a:rPr>
              <a:t>Supervisar excesiva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</a:rPr>
              <a:t>Supervisar insuficiente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771280" y="1519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Consecuencias de la </a:t>
            </a:r>
            <a:br>
              <a:rPr sz="3400"/>
            </a:b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supervisión excesiva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Participación disminuid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Frustrac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sentimient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nor iniciativ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nor autonomía en el desempeñ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Consecuencias de l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supervisión insuficien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332000" y="155736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Las </a:t>
            </a:r>
            <a:r>
              <a:rPr b="1" lang="es-CL" sz="3800" spc="-1" strike="noStrike">
                <a:solidFill>
                  <a:srgbClr val="003399"/>
                </a:solidFill>
                <a:latin typeface="Verdana"/>
              </a:rPr>
              <a:t>3</a:t>
            </a: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 habilidades de un </a:t>
            </a:r>
            <a:br>
              <a:rPr sz="3000"/>
            </a:b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Líder Situacional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3828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Arial"/>
              </a:rPr>
              <a:t>Diagnosticar:</a:t>
            </a: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 determinar las necesidades de desarrollo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Arial"/>
              </a:rPr>
              <a:t>2. Flexibilidad</a:t>
            </a: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: utilizar una variedad de estilos de Liderazgo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Arial"/>
              </a:rPr>
              <a:t>3. Alianza para el desempeño/Acuerdo sobre el estilo de liderazgo</a:t>
            </a: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: lograr acuerdos con los colaboradores acerca del estilo de liderazgo a utilizar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358" name="Picture 4" descr="Fotolia_tickman"/>
          <p:cNvPicPr/>
          <p:nvPr/>
        </p:nvPicPr>
        <p:blipFill>
          <a:blip r:embed="rId1"/>
          <a:stretch/>
        </p:blipFill>
        <p:spPr>
          <a:xfrm>
            <a:off x="179280" y="141300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Fotolia_tickman"/>
          <p:cNvPicPr/>
          <p:nvPr/>
        </p:nvPicPr>
        <p:blipFill>
          <a:blip r:embed="rId2"/>
          <a:stretch/>
        </p:blipFill>
        <p:spPr>
          <a:xfrm>
            <a:off x="119160" y="2276640"/>
            <a:ext cx="636480" cy="6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3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92000" y="151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Alianza para el desempeño/</a:t>
            </a:r>
            <a:br>
              <a:rPr sz="3200"/>
            </a:b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Acuerdo sobre el Estilo de Liderazgo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0120" y="1557360"/>
            <a:ext cx="7859520" cy="230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362" name="Picture 14" descr="2365568058_8defeeaf3a"/>
          <p:cNvPicPr/>
          <p:nvPr/>
        </p:nvPicPr>
        <p:blipFill>
          <a:blip r:embed="rId1"/>
          <a:stretch/>
        </p:blipFill>
        <p:spPr>
          <a:xfrm>
            <a:off x="5796000" y="378936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2136953861_1b91ecbba2"/>
          <p:cNvPicPr/>
          <p:nvPr/>
        </p:nvPicPr>
        <p:blipFill>
          <a:blip r:embed="rId1"/>
          <a:stretch/>
        </p:blipFill>
        <p:spPr>
          <a:xfrm>
            <a:off x="4789440" y="2637000"/>
            <a:ext cx="4103640" cy="41036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El Proceso de</a:t>
            </a:r>
            <a:br>
              <a:rPr sz="3200"/>
            </a:b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 Administración del Desempeño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7640" y="1484280"/>
            <a:ext cx="8867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Planificación d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Asesoría día a día utilizando el estilo de liderazgo acorda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Evaluación d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Alianza para el desempeño/Acuerdo</a:t>
            </a:r>
            <a:br>
              <a:rPr sz="3200"/>
            </a:b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sobre el estilo de liderazgo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067680" cy="29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Enseñe a sus colaboradores el modelo del Liderazgo Situacional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Identifique las áreas claves de responsabilidad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Defina las met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3204720" y="387504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067280" y="51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Marz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ROSELY"/>
          <p:cNvPicPr/>
          <p:nvPr/>
        </p:nvPicPr>
        <p:blipFill>
          <a:blip r:embed="rId2"/>
          <a:stretch/>
        </p:blipFill>
        <p:spPr>
          <a:xfrm>
            <a:off x="214200" y="1989000"/>
            <a:ext cx="2125800" cy="2125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Trebuchet MS"/>
              </a:rPr>
              <a:t>Habilidades Directiv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rograma en Gestión Estratégica Educ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 </a:t>
            </a: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ara Directivos de la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Alianza para el desempeño/Acuerdo</a:t>
            </a:r>
            <a:br>
              <a:rPr sz="3000"/>
            </a:b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sobre el estilo de liderazg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4. Evalúe el nivel de desarrollo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767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e088a"/>
                </a:solidFill>
                <a:latin typeface="Arial"/>
              </a:rPr>
              <a:t>¿ Qué hace un líder cuando utiliza el estilo Dirigir?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Arial"/>
              </a:rPr>
              <a:t>Cuando un líder utiliza el estilo de liderazgo Dirigi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Reconoce el entusiasmo de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Reconoce las habilidades transferibles del colaborador y sus progres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Identifica los resultados, objetivos y plazos dese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efine que es un buen trabajo y como se registrara el desempeñ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esarrolla un plan para que el colaborador aprenda nuevas habilidad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irige la planificación de accion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Toma la mayoría de las decisiones relacionadas con qué hacer, cuándo y con quié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Proporciona directrices e instrucciones especific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irige la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e088a"/>
                </a:solidFill>
                <a:latin typeface="Arial"/>
              </a:rPr>
              <a:t>¿Qué hace un líder cuando utiliza el estilo Orientar?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Arial"/>
              </a:rPr>
              <a:t>Cuando un líder utiliza el estilo de liderazgo Orienta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Involucra al  colaborador en identificar problemas y en fijar met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Proporciona apoyo, seguridad y elogi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Escucha : brinda al colaborador una oportunidad para discutir ide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Involucra al colaborador en la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Toma de decisiones finales relativas a los planes de ac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Proporciona dirección para continuar  desarrollando las habilidad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Explica la razón para tomar un enfoque particula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efine que es un trabajo bien hecho y cómo será controlad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Continua haciendo seguimiento y proporcionando retroaliment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e088a"/>
                </a:solidFill>
                <a:latin typeface="Arial"/>
              </a:rPr>
              <a:t>¿ Qué hace un líder cuando utiliza el estilo Apoyar?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UnitOT-Regular"/>
              </a:rPr>
              <a:t>Cuando un líder utiliza el estilo de liderazgo Apoya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Comparte con  el colaborador acciones y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Sirve como elemento de reflexión, estimulando al colaborador a discutir sus preocupaciones e ide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scucha y estimula al colaborador a resolver problemas y tomar decisiones autónomament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roporciona seguridad, apoyo, estímulo y elogio a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xplica maneras para hacer la meta o tarea mas interesante y desafiante, cuando la motivación es baj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roporciona ayuda en la solución de problemas compartiendo ideas, cuando se la solicita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Trabaja con el colaborador en la evaluación de su problem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l colaborador toma la iniciativa en la planific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71360" y="27432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e088a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e088a"/>
                </a:solidFill>
                <a:latin typeface="Arial"/>
              </a:rPr>
              <a:t>¿Qué hace un líder cuando utiliza el estilo Delegar?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UnitOT-Regular"/>
              </a:rPr>
              <a:t>Cuando un líder utiliza el estilo de liderazgo Delega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ermite al colaborador hacerse carg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Define con el colaborador los problemas y los resultados dese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stimula al colaborador a evaluar su propio  trabaj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roporciona oportunidades para que el colaborador comparta y celebre éxitos y prepare a otr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Reconoce, valora y premia las contribuciones del colaborador a la organiz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Desafía al colaborador a alcanzar niveles de desempeño aun mas alt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77760" y="1698480"/>
            <a:ext cx="88362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os líderes efic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justan su estilo para proporcion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l grupo lo que éste no pu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onseguir por sí 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2387520" y="1854360"/>
            <a:ext cx="4488840" cy="4527000"/>
            <a:chOff x="2387520" y="1854360"/>
            <a:chExt cx="4488840" cy="4527000"/>
          </a:xfrm>
        </p:grpSpPr>
        <p:sp>
          <p:nvSpPr>
            <p:cNvPr id="381" name="Line 3"/>
            <p:cNvSpPr/>
            <p:nvPr/>
          </p:nvSpPr>
          <p:spPr>
            <a:xfrm>
              <a:off x="4672080" y="1854360"/>
              <a:ext cx="0" cy="4527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4"/>
            <p:cNvGrpSpPr/>
            <p:nvPr/>
          </p:nvGrpSpPr>
          <p:grpSpPr>
            <a:xfrm>
              <a:off x="2387520" y="1854360"/>
              <a:ext cx="4488840" cy="4526280"/>
              <a:chOff x="2387520" y="1854360"/>
              <a:chExt cx="4488840" cy="4526280"/>
            </a:xfrm>
          </p:grpSpPr>
          <p:grpSp>
            <p:nvGrpSpPr>
              <p:cNvPr id="383" name="Group 5"/>
              <p:cNvGrpSpPr/>
              <p:nvPr/>
            </p:nvGrpSpPr>
            <p:grpSpPr>
              <a:xfrm>
                <a:off x="2387520" y="1854360"/>
                <a:ext cx="4488480" cy="4526280"/>
                <a:chOff x="2387520" y="1854360"/>
                <a:chExt cx="4488480" cy="4526280"/>
              </a:xfrm>
            </p:grpSpPr>
            <p:grpSp>
              <p:nvGrpSpPr>
                <p:cNvPr id="384" name="Group 6"/>
                <p:cNvGrpSpPr/>
                <p:nvPr/>
              </p:nvGrpSpPr>
              <p:grpSpPr>
                <a:xfrm>
                  <a:off x="2425680" y="2413080"/>
                  <a:ext cx="4395240" cy="3296520"/>
                  <a:chOff x="2425680" y="2413080"/>
                  <a:chExt cx="4395240" cy="3296520"/>
                </a:xfrm>
              </p:grpSpPr>
              <p:sp>
                <p:nvSpPr>
                  <p:cNvPr id="385" name="Rectangle 7"/>
                  <p:cNvSpPr/>
                  <p:nvPr/>
                </p:nvSpPr>
                <p:spPr>
                  <a:xfrm>
                    <a:off x="2425680" y="2413080"/>
                    <a:ext cx="2164320" cy="142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Apoy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Hablemos, ambos decidim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Rectangle 8"/>
                  <p:cNvSpPr/>
                  <p:nvPr/>
                </p:nvSpPr>
                <p:spPr>
                  <a:xfrm>
                    <a:off x="4656240" y="2413080"/>
                    <a:ext cx="2164680" cy="142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Orient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Hablemos, yo deci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Rectangle 9"/>
                  <p:cNvSpPr/>
                  <p:nvPr/>
                </p:nvSpPr>
                <p:spPr>
                  <a:xfrm>
                    <a:off x="2425680" y="4502520"/>
                    <a:ext cx="2164320" cy="12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Deleg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Tú decid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Rectangle 10"/>
                  <p:cNvSpPr/>
                  <p:nvPr/>
                </p:nvSpPr>
                <p:spPr>
                  <a:xfrm>
                    <a:off x="4656240" y="4503960"/>
                    <a:ext cx="2164680" cy="12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Dirig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 </a:t>
                    </a: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Yo deci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9" name="Rectangle 11"/>
                <p:cNvSpPr/>
                <p:nvPr/>
              </p:nvSpPr>
              <p:spPr>
                <a:xfrm>
                  <a:off x="2387520" y="1854360"/>
                  <a:ext cx="4488480" cy="4526280"/>
                </a:xfrm>
                <a:prstGeom prst="rect">
                  <a:avLst/>
                </a:prstGeom>
                <a:noFill/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Line 12"/>
              <p:cNvSpPr/>
              <p:nvPr/>
            </p:nvSpPr>
            <p:spPr>
              <a:xfrm>
                <a:off x="2387520" y="4077720"/>
                <a:ext cx="4488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518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Arial"/>
              </a:rPr>
              <a:t>Estilo de toma de decisiones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4211640" y="55958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Marzo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Arial"/>
              </a:rPr>
              <a:t>Habilidades Directivas</a:t>
            </a:r>
            <a:br>
              <a:rPr sz="2800"/>
            </a:br>
            <a:r>
              <a:rPr b="1" lang="es-ES" sz="2800" spc="-1" strike="noStrike">
                <a:solidFill>
                  <a:srgbClr val="0e088a"/>
                </a:solidFill>
                <a:latin typeface="Arial"/>
              </a:rPr>
              <a:t>Diploma en Gerencia Públ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95680" y="426600"/>
            <a:ext cx="334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onflict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ncepción negativa del Conflict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nflicto como parte inherente del ser humano y por ende de los grup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conflicto puede ser positivo dependiendo de la forma en que se administr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42920" y="475920"/>
            <a:ext cx="4513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Definición de Conflict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“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Situación en la que sus intereses son diferentes a los de otra (s) persona (s)”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31640" y="417600"/>
            <a:ext cx="446436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UnitOT-Regular"/>
              </a:rPr>
              <a:t>OBJETIVOS ESPECÍFICO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UnitOT-Regular"/>
              </a:rPr>
              <a:t>DEL MODULO</a:t>
            </a:r>
            <a:endParaRPr b="1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nsibilizar respecto a  la necesidad de ser flexible y adaptable en relación al estilo de liderazgo, a fin de lograr los objetivos en un ambiente de participación, cambio y diversidad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ender las consecuencias del uso inapropiado de los estilos de liderazgo y cómo afectan el logro de los objetivos, sensibilizando respecto al proceso de la delegación y generación de autonomía en los colaborador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os cinco modos de Administración de Conflictos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92360" y="2057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es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vas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laborac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mpromis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"/>
          <p:cNvSpPr/>
          <p:nvPr/>
        </p:nvSpPr>
        <p:spPr>
          <a:xfrm rot="16245000">
            <a:off x="775800" y="1669320"/>
            <a:ext cx="22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1600" spc="-1" strike="noStrike">
                <a:solidFill>
                  <a:srgbClr val="333399"/>
                </a:solidFill>
                <a:latin typeface="Times New Roman"/>
              </a:rPr>
              <a:t>MAX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5"/>
          <p:cNvSpPr/>
          <p:nvPr/>
        </p:nvSpPr>
        <p:spPr>
          <a:xfrm>
            <a:off x="7237440" y="1836720"/>
            <a:ext cx="144360" cy="142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54"/>
          <p:cNvGrpSpPr/>
          <p:nvPr/>
        </p:nvGrpSpPr>
        <p:grpSpPr>
          <a:xfrm>
            <a:off x="1127160" y="1843200"/>
            <a:ext cx="6757920" cy="4898880"/>
            <a:chOff x="1127160" y="1843200"/>
            <a:chExt cx="6757920" cy="4898880"/>
          </a:xfrm>
        </p:grpSpPr>
        <p:sp>
          <p:nvSpPr>
            <p:cNvPr id="405" name="Line 8"/>
            <p:cNvSpPr/>
            <p:nvPr/>
          </p:nvSpPr>
          <p:spPr>
            <a:xfrm>
              <a:off x="7310520" y="2185920"/>
              <a:ext cx="0" cy="358308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9"/>
            <p:cNvSpPr/>
            <p:nvPr/>
          </p:nvSpPr>
          <p:spPr>
            <a:xfrm>
              <a:off x="2411280" y="5292720"/>
              <a:ext cx="24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EVA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0"/>
            <p:cNvSpPr/>
            <p:nvPr/>
          </p:nvSpPr>
          <p:spPr>
            <a:xfrm flipV="1">
              <a:off x="2349360" y="2188800"/>
              <a:ext cx="0" cy="358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>
              <a:off x="2408400" y="5772240"/>
              <a:ext cx="4902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2"/>
            <p:cNvSpPr/>
            <p:nvPr/>
          </p:nvSpPr>
          <p:spPr>
            <a:xfrm>
              <a:off x="1127160" y="2075400"/>
              <a:ext cx="397080" cy="32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3788280" y="6319080"/>
              <a:ext cx="1919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OP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4"/>
            <p:cNvSpPr/>
            <p:nvPr/>
          </p:nvSpPr>
          <p:spPr>
            <a:xfrm>
              <a:off x="2411280" y="1843200"/>
              <a:ext cx="24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MPET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5"/>
            <p:cNvSpPr/>
            <p:nvPr/>
          </p:nvSpPr>
          <p:spPr>
            <a:xfrm>
              <a:off x="5076720" y="1843200"/>
              <a:ext cx="24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LAB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6"/>
            <p:cNvSpPr/>
            <p:nvPr/>
          </p:nvSpPr>
          <p:spPr>
            <a:xfrm>
              <a:off x="3787920" y="3540240"/>
              <a:ext cx="24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MPROMI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7"/>
            <p:cNvSpPr/>
            <p:nvPr/>
          </p:nvSpPr>
          <p:spPr>
            <a:xfrm>
              <a:off x="2349360" y="2189160"/>
              <a:ext cx="496116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8"/>
            <p:cNvSpPr/>
            <p:nvPr/>
          </p:nvSpPr>
          <p:spPr>
            <a:xfrm>
              <a:off x="7237440" y="5700600"/>
              <a:ext cx="144360" cy="142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9"/>
            <p:cNvSpPr/>
            <p:nvPr/>
          </p:nvSpPr>
          <p:spPr>
            <a:xfrm>
              <a:off x="4649760" y="3908520"/>
              <a:ext cx="144360" cy="144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0"/>
            <p:cNvSpPr/>
            <p:nvPr/>
          </p:nvSpPr>
          <p:spPr>
            <a:xfrm>
              <a:off x="6087960" y="529272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E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1"/>
            <p:cNvSpPr/>
            <p:nvPr/>
          </p:nvSpPr>
          <p:spPr>
            <a:xfrm flipV="1">
              <a:off x="1917720" y="3263760"/>
              <a:ext cx="0" cy="164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2"/>
            <p:cNvSpPr/>
            <p:nvPr/>
          </p:nvSpPr>
          <p:spPr>
            <a:xfrm>
              <a:off x="3859200" y="6058080"/>
              <a:ext cx="1654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3"/>
            <p:cNvSpPr/>
            <p:nvPr/>
          </p:nvSpPr>
          <p:spPr>
            <a:xfrm>
              <a:off x="2349360" y="5893560"/>
              <a:ext cx="23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MIN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4"/>
            <p:cNvSpPr/>
            <p:nvPr/>
          </p:nvSpPr>
          <p:spPr>
            <a:xfrm rot="16226400">
              <a:off x="776520" y="4884840"/>
              <a:ext cx="229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MIN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5"/>
            <p:cNvSpPr/>
            <p:nvPr/>
          </p:nvSpPr>
          <p:spPr>
            <a:xfrm>
              <a:off x="5584680" y="5893560"/>
              <a:ext cx="23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MAX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Oval 26"/>
          <p:cNvSpPr/>
          <p:nvPr/>
        </p:nvSpPr>
        <p:spPr>
          <a:xfrm>
            <a:off x="2203560" y="57038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os cinco modos de Administración de Conflictos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25" name="Oval 53"/>
          <p:cNvSpPr/>
          <p:nvPr/>
        </p:nvSpPr>
        <p:spPr>
          <a:xfrm>
            <a:off x="2203560" y="184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771280" y="412920"/>
            <a:ext cx="5040360" cy="11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tilo Competencia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21840" y="1265400"/>
            <a:ext cx="86425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la acción rápida y decidida es vital. Por ejemplo, en emergencias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n temas esenciales para los intereses de la compañía en los que se sabe que se está en la posición correcta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Esta rodeado de incondicional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us subordinados temen admitir ignorancia o incertidumbre frente a usted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siente frecuentemente impotente frente a determinadas situacion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Tiene dificultades para adoptar una posición firme, aún cuando percibe que es necesario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30592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encontrar una solución cuando los intereses de ambas partes son demasiado importantes para ser negoci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combinar los puntos de vista de personas con distintas perspectivas sobre un problem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Gasta tiempo en discutir en profundidad temas que no parecen justificarlo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u conducta de colaboración no recibe como respuesta una actitud en igual sentido por parte de los otro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 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resulta difícil considerar las diferencias como oportunidades para lograr beneficios mutuos, para aprender o resolver problema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us subordinados demuestran falta de compromiso con sus decisiones o política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125800" y="47304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Colaboración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15328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obtener acuerdos temporales en temas complej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llegar a soluciones expeditas cuando el tiempo apremi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concentra tanto en los detalles y tácticas del compromiso que a veces pierde de vista los grandes temas, tales como principios, valores, objetivos a largo plazo, intereses de la compañía?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El énfasis en la negociación ha creado un negativo clima donde las transacciones se han convertido en una especie de deporte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encuentra demasiado susceptible o incómodo para ser eficaz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resulta difícil hacer concesion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2125800" y="47304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Compromis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un problema es trivial, o cuando urgen temas más important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los beneficios potenciales de afrontar un conflicto sobrepasan los beneficios de su resolu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a coordinación de su organización se ve perjudicada a causa de que otras personas tienen dificultades para conocer sus opinion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toman decisiones sobre temas importantes por defecto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ocurre frecuentemente que lastima los sentimiento de otras personas, o despierta hostilidad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siente a menudo acosado o sobrepasado por una multitud de problema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2052720" y="47628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Evasión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07696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se percibe que se está en una posición equivocada; para permitir que una postura mejor sea escuchada, aprender de otros, o demostrar que se es razonabl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preservar la armonía y evitar controversias es especialmente important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iente que sus ideas y objetivos no obtienen la atención que merecen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Existe un relajamiento de la disciplina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resulta difícil lograr la buena voluntad de otro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os otros lo consideran una persona poco razonable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2052720" y="47304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Cesión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5256360" cy="9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reencias acerca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l Rol del Líder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79" name="Picture 4" descr="IMG_0165"/>
          <p:cNvPicPr/>
          <p:nvPr/>
        </p:nvPicPr>
        <p:blipFill>
          <a:blip r:embed="rId1"/>
          <a:stretch/>
        </p:blipFill>
        <p:spPr>
          <a:xfrm>
            <a:off x="755640" y="3429000"/>
            <a:ext cx="2184480" cy="28591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2771640" y="1773360"/>
            <a:ext cx="5256360" cy="2376360"/>
          </a:xfrm>
          <a:prstGeom prst="cloudCallout">
            <a:avLst>
              <a:gd name="adj1" fmla="val -47555"/>
              <a:gd name="adj2" fmla="val 50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¿Qué le pediría a un líder id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73080" y="304560"/>
            <a:ext cx="579456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iderazgo eficaz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64920" y="3705120"/>
            <a:ext cx="154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84" name="Group 5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85" name="Oval 6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7"/>
              <p:cNvSpPr/>
              <p:nvPr/>
            </p:nvSpPr>
            <p:spPr>
              <a:xfrm>
                <a:off x="492120" y="4268880"/>
                <a:ext cx="298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8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88" name="Oval 9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2076480" y="4268880"/>
                <a:ext cx="298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Line 11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2"/>
          <p:cNvGrpSpPr/>
          <p:nvPr/>
        </p:nvGrpSpPr>
        <p:grpSpPr>
          <a:xfrm>
            <a:off x="5967360" y="1382760"/>
            <a:ext cx="2549520" cy="3974040"/>
            <a:chOff x="5967360" y="1382760"/>
            <a:chExt cx="2549520" cy="3974040"/>
          </a:xfrm>
        </p:grpSpPr>
        <p:sp>
          <p:nvSpPr>
            <p:cNvPr id="92" name="Rectangle 13"/>
            <p:cNvSpPr/>
            <p:nvPr/>
          </p:nvSpPr>
          <p:spPr>
            <a:xfrm>
              <a:off x="7146720" y="1382760"/>
              <a:ext cx="8784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FIC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4"/>
            <p:cNvSpPr/>
            <p:nvPr/>
          </p:nvSpPr>
          <p:spPr>
            <a:xfrm>
              <a:off x="6964200" y="5040360"/>
              <a:ext cx="10810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INEFIC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5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95" name="AutoShape 16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4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5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6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7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8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9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0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Rectangle 31"/>
            <p:cNvSpPr/>
            <p:nvPr/>
          </p:nvSpPr>
          <p:spPr>
            <a:xfrm>
              <a:off x="6554880" y="2967120"/>
              <a:ext cx="166788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CTITU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SENTIMI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32"/>
          <p:cNvSpPr/>
          <p:nvPr/>
        </p:nvSpPr>
        <p:spPr>
          <a:xfrm>
            <a:off x="3795120" y="2525760"/>
            <a:ext cx="1261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853080" y="6021360"/>
            <a:ext cx="1149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N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5"/>
          <p:cNvSpPr/>
          <p:nvPr/>
        </p:nvSpPr>
        <p:spPr>
          <a:xfrm rot="16200000">
            <a:off x="2844360" y="3236400"/>
            <a:ext cx="3046680" cy="2471760"/>
          </a:xfrm>
          <a:prstGeom prst="triangle">
            <a:avLst>
              <a:gd name="adj" fmla="val 5062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6"/>
          <p:cNvSpPr/>
          <p:nvPr/>
        </p:nvSpPr>
        <p:spPr>
          <a:xfrm>
            <a:off x="5567400" y="2790720"/>
            <a:ext cx="0" cy="330228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7"/>
          <p:cNvSpPr/>
          <p:nvPr/>
        </p:nvSpPr>
        <p:spPr>
          <a:xfrm>
            <a:off x="5592600" y="294948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8"/>
          <p:cNvSpPr/>
          <p:nvPr/>
        </p:nvSpPr>
        <p:spPr>
          <a:xfrm>
            <a:off x="5592600" y="59961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>
            <a:off x="5603760" y="320364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0"/>
          <p:cNvSpPr/>
          <p:nvPr/>
        </p:nvSpPr>
        <p:spPr>
          <a:xfrm>
            <a:off x="5613480" y="345744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1"/>
          <p:cNvSpPr/>
          <p:nvPr/>
        </p:nvSpPr>
        <p:spPr>
          <a:xfrm>
            <a:off x="5603760" y="37101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2"/>
          <p:cNvSpPr/>
          <p:nvPr/>
        </p:nvSpPr>
        <p:spPr>
          <a:xfrm>
            <a:off x="5592600" y="39639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3"/>
          <p:cNvSpPr/>
          <p:nvPr/>
        </p:nvSpPr>
        <p:spPr>
          <a:xfrm>
            <a:off x="5603760" y="421812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4"/>
          <p:cNvSpPr/>
          <p:nvPr/>
        </p:nvSpPr>
        <p:spPr>
          <a:xfrm>
            <a:off x="5603760" y="447192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5"/>
          <p:cNvSpPr/>
          <p:nvPr/>
        </p:nvSpPr>
        <p:spPr>
          <a:xfrm>
            <a:off x="5603760" y="472608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6"/>
          <p:cNvSpPr/>
          <p:nvPr/>
        </p:nvSpPr>
        <p:spPr>
          <a:xfrm>
            <a:off x="5613480" y="497988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7"/>
          <p:cNvSpPr/>
          <p:nvPr/>
        </p:nvSpPr>
        <p:spPr>
          <a:xfrm>
            <a:off x="5603760" y="523404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8"/>
          <p:cNvSpPr/>
          <p:nvPr/>
        </p:nvSpPr>
        <p:spPr>
          <a:xfrm>
            <a:off x="5613480" y="548784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9"/>
          <p:cNvSpPr/>
          <p:nvPr/>
        </p:nvSpPr>
        <p:spPr>
          <a:xfrm>
            <a:off x="5613480" y="574200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3317400" y="4110120"/>
            <a:ext cx="211572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trabajando"/>
          <p:cNvPicPr/>
          <p:nvPr/>
        </p:nvPicPr>
        <p:blipFill>
          <a:blip r:embed="rId1"/>
          <a:stretch/>
        </p:blipFill>
        <p:spPr>
          <a:xfrm>
            <a:off x="684360" y="4076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14200" y="1197000"/>
            <a:ext cx="734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Lo importante como líder no es lo que sucede cuando usted está supervisando; es lo que sucede cuando usted no está presente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87640" y="391680"/>
            <a:ext cx="3672000" cy="8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333399"/>
                </a:solidFill>
                <a:latin typeface="Arial"/>
              </a:rPr>
              <a:t>Liderazg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486080"/>
            <a:ext cx="8686800" cy="20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l liderazgo es un proceso de influencia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s trabajar con los colaboradores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ara alcanzar sus </a:t>
            </a:r>
            <a:r>
              <a:rPr b="1" i="1" lang="es-CL" sz="2800" spc="-1" strike="noStrike">
                <a:solidFill>
                  <a:srgbClr val="333399"/>
                </a:solidFill>
                <a:latin typeface="Arial"/>
              </a:rPr>
              <a:t>metas personales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 y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333399"/>
                </a:solidFill>
                <a:latin typeface="Arial"/>
              </a:rPr>
              <a:t>las metas de la organización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1</cp:lastModifiedBy>
  <dcterms:modified xsi:type="dcterms:W3CDTF">2012-03-02T21:32:49Z</dcterms:modified>
  <cp:revision>320</cp:revision>
  <dc:subject/>
  <dc:title>Título</dc:title>
</cp:coreProperties>
</file>