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0.jpeg" ContentType="image/jpeg"/>
  <Override PartName="/ppt/media/image22.wmf" ContentType="image/x-wmf"/>
  <Override PartName="/ppt/media/image19.jpeg" ContentType="image/jpeg"/>
  <Override PartName="/ppt/media/image18.jpeg" ContentType="image/jpeg"/>
  <Override PartName="/ppt/media/image7.jpeg" ContentType="image/jpeg"/>
  <Override PartName="/ppt/media/image5.jpeg" ContentType="image/jpeg"/>
  <Override PartName="/ppt/media/image8.jpeg" ContentType="image/jpeg"/>
  <Override PartName="/ppt/media/image6.jpeg" ContentType="image/jpeg"/>
  <Override PartName="/ppt/media/image10.jpeg" ContentType="image/jpeg"/>
  <Override PartName="/ppt/media/CASHREG.WAV" ContentType="audio/x-wav"/>
  <Override PartName="/ppt/media/DRUMROLL.WAV" ContentType="audio/x-wav"/>
  <Override PartName="/ppt/media/image17.jpeg" ContentType="image/jpeg"/>
  <Override PartName="/ppt/media/APPLAUSE.WAV" ContentType="audio/x-wav"/>
  <Override PartName="/ppt/media/CAMERA.WAV" ContentType="audio/x-wav"/>
  <Override PartName="/ppt/media/image11.jpeg" ContentType="image/jpeg"/>
  <Override PartName="/ppt/media/image9.jpeg" ContentType="image/jpeg"/>
  <Override PartName="/ppt/media/DRIVEBY.WAV" ContentType="audio/x-wav"/>
  <Override PartName="/ppt/media/image23.jpeg" ContentType="image/jpeg"/>
  <Override PartName="/ppt/media/image2.jpeg" ContentType="image/jpeg"/>
  <Override PartName="/ppt/media/image24.jpeg" ContentType="image/jpeg"/>
  <Override PartName="/ppt/media/CHIMES.WAV" ContentType="audio/x-wav"/>
  <Override PartName="/ppt/media/image3.jpeg" ContentType="image/jpeg"/>
  <Override PartName="/ppt/media/image25.jpeg" ContentType="image/jpeg"/>
  <Override PartName="/ppt/media/image4.jpeg" ContentType="image/jpeg"/>
  <Override PartName="/ppt/media/image1.jpeg" ContentType="image/jpeg"/>
  <Override PartName="/ppt/media/image12.jpeg" ContentType="image/jpeg"/>
  <Override PartName="/ppt/media/image13.jpeg" ContentType="image/jpeg"/>
  <Override PartName="/ppt/media/image14.jpeg" ContentType="image/jpeg"/>
  <Override PartName="/ppt/media/WHOOSH.WAV" ContentType="audio/x-wav"/>
  <Override PartName="/ppt/media/GUNSHOT.WAV" ContentType="audio/x-wav"/>
  <Override PartName="/ppt/media/image21.jpeg" ContentType="image/jpeg"/>
  <Override PartName="/ppt/media/image15.jpeg" ContentType="image/jpeg"/>
  <Override PartName="/ppt/media/LASER.WAV" ContentType="audio/x-wav"/>
  <Override PartName="/ppt/media/TYPE.WAV" ContentType="audio/x-wav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102800" cy="9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800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022280" y="-360"/>
            <a:ext cx="307836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04560" y="704880"/>
            <a:ext cx="4692600" cy="351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088a"/>
                </a:solidFill>
                <a:latin typeface="UnitOT-Regular"/>
              </a:rPr>
              <a:t>Click to move the slide</a:t>
            </a: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3320" cy="4224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916840"/>
            <a:ext cx="3078000" cy="4701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02228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D2D08B9-53D6-45BE-B2C4-A849F05387B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4022640" y="8918640"/>
            <a:ext cx="30783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0566CC4-0457-4537-8D09-6BB6942CA41A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33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1FB48DB6-1161-4735-BEE7-AB989151CC4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68B0CE70-E0FE-47A7-8895-EB64C40DD12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6F8602C7-B6AF-4D16-8A3A-FCC7D509406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DF20D815-1E70-4582-BC87-1EB8DD0C6E8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8F8FE8AD-E11E-4DA1-9912-AC0B7FDC942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01529335-F2BF-4EA9-9EAC-2EE4A3EEE5C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5395783E-DE2E-4F86-94CD-5C39998A555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9E1CA49D-F525-4FC7-80A7-80645C3DC76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0AB905CC-32D9-4791-BDEC-D10481C5FA0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78EB28F2-B756-4671-A804-6D2922BB8CA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45256DBA-8A22-4D41-83DF-511771EE69D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53F5BA06-206D-426A-9ABB-228DFB8C40D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C0B8F750-5F9D-40C4-8B90-CADFE061B8E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12126524-E959-4028-BDFE-4540C051DDE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93359F3C-FF6D-4F89-8943-FCF5EE31760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203480" y="704880"/>
            <a:ext cx="4695840" cy="352116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33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46D08C3F-947B-4E9B-9B59-2A0D27828E0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203480" y="704880"/>
            <a:ext cx="4695840" cy="35211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9C016E12-591F-4A94-96AD-0E5D664A11B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9200" y="4460760"/>
            <a:ext cx="5683320" cy="4222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B1F4B882-3DA6-41F7-AB7D-88A5AB5D339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9AD73160-55A9-4776-B0F6-EAE024D03C4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B371D761-2588-4FB0-BEFA-EFB35283761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E3E6A6E2-E3F6-4CA2-8408-41D4465EFF2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D343F85A-B0E0-42FC-A0B6-76EE2514837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828D5D79-DD12-4BC1-BA6B-E99AB5F6DD8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8F653724-21EC-4663-9B70-D33DD3D84B9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DC7A6A53-6A6E-4B4C-9D99-98AD3FF79FD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7580193A-ABCB-44F9-ADB3-3FEA4059393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1A0248E1-A5BB-4E3E-B183-2B63E3E38ED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22640" y="8918640"/>
            <a:ext cx="30783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D3FE435-553A-40A6-B5F2-A589416A71C3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33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44CAC806-7D28-4BD6-8D23-DC74BBE4F9A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4022640" y="8918640"/>
            <a:ext cx="30783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27F9AF3-98FA-43B2-B08B-EE9BD4B75361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33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544" name="Rectangle 3"/>
          <p:cNvSpPr/>
          <p:nvPr/>
        </p:nvSpPr>
        <p:spPr>
          <a:xfrm>
            <a:off x="1025640" y="4616280"/>
            <a:ext cx="5208480" cy="42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9337A37C-3126-49E6-B727-69636655C2B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5053FCB9-F3B4-4E0D-A5DE-88D88AE2FDF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3D7C98FF-13E4-4CDC-991C-4669255BD32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65D90731-DE8E-4E95-BDC3-2309CFB67D5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D71E-E5E3-4095-AD5F-33D56873A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987640" y="274320"/>
            <a:ext cx="468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E56B-10C7-4CED-B418-8F198497B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987640" y="274320"/>
            <a:ext cx="468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B7C4-8125-482F-B97D-3500A8BE1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987640" y="274320"/>
            <a:ext cx="468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8327-3A0D-4542-AE20-269935676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987640" y="274320"/>
            <a:ext cx="468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5AD3-FC7D-40D3-8872-48584BFAC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987640" y="274320"/>
            <a:ext cx="468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EF0D-0821-47E6-A036-5F7D25527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987640" y="274320"/>
            <a:ext cx="468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F06B-3C22-4D0D-B631-B2BEB28BD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987640" y="274320"/>
            <a:ext cx="468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136B-FFAE-4975-B5F7-A9926C467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987640" y="274320"/>
            <a:ext cx="4687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AFE8-0491-4AEA-A956-67978D636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87640" y="274320"/>
            <a:ext cx="468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8FF6-9758-47EA-9134-42C1FF4B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87640" y="274320"/>
            <a:ext cx="468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5360-76B3-424D-8080-E98763C4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987640" y="274320"/>
            <a:ext cx="468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D839-4203-4326-8595-33A383D7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FONDO PHD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987640" y="274320"/>
            <a:ext cx="468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088a"/>
                </a:solidFill>
                <a:latin typeface="UnitOT-Regular"/>
              </a:rPr>
              <a:t>Click to edit the title text format</a:t>
            </a: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e088a"/>
                </a:solidFill>
                <a:latin typeface="UnitOT-Regular"/>
              </a:rPr>
              <a:t>Click to edit the outline text format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lvl="1" marL="343080" indent="-343080">
              <a:spcBef>
                <a:spcPts val="700"/>
              </a:spcBef>
              <a:buClr>
                <a:srgbClr val="0e088a"/>
              </a:buClr>
              <a:buFont typeface="UnitOT-Regular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e088a"/>
                </a:solidFill>
                <a:latin typeface="UnitOT-Regular"/>
              </a:rPr>
              <a:t>Second Outline Level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lvl="2" marL="343080" indent="-343080">
              <a:spcBef>
                <a:spcPts val="700"/>
              </a:spcBef>
              <a:buClr>
                <a:srgbClr val="0e088a"/>
              </a:buClr>
              <a:buFont typeface="UnitOT-Regula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e088a"/>
                </a:solidFill>
                <a:latin typeface="UnitOT-Regular"/>
              </a:rPr>
              <a:t>Third Outline Level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lvl="3" marL="343080" indent="-343080">
              <a:spcBef>
                <a:spcPts val="700"/>
              </a:spcBef>
              <a:buClr>
                <a:srgbClr val="0e088a"/>
              </a:buClr>
              <a:buFont typeface="UnitOT-Regular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e088a"/>
                </a:solidFill>
                <a:latin typeface="UnitOT-Regular"/>
              </a:rPr>
              <a:t>Fourth Outline Level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lvl="4" marL="343080" indent="-343080">
              <a:spcBef>
                <a:spcPts val="700"/>
              </a:spcBef>
              <a:buClr>
                <a:srgbClr val="0e088a"/>
              </a:buClr>
              <a:buFont typeface="UnitOT-Regular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e088a"/>
                </a:solidFill>
                <a:latin typeface="UnitOT-Regular"/>
              </a:rPr>
              <a:t>Fifth Outline Level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UnitOT-Regular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e088a"/>
                </a:solidFill>
                <a:latin typeface="UnitOT-Regular"/>
              </a:rPr>
              <a:t>Sixth Outline Level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UnitOT-Regular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e088a"/>
                </a:solidFill>
                <a:latin typeface="UnitOT-Regular"/>
              </a:rPr>
              <a:t>Seventh Outline Level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99"/>
                </a:solidFill>
                <a:latin typeface="UnitOT-Regular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A842F-331C-4CC0-905B-B99C1CD07B39}" type="slidenum">
              <a:rPr b="0" lang="es-ES" sz="1400" spc="-1" strike="noStrike">
                <a:solidFill>
                  <a:srgbClr val="333399"/>
                </a:solidFill>
                <a:latin typeface="UnitOT-Regula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audio" Target="../media/GUNSHOT.WAV"/><Relationship Id="rId4" Type="http://schemas.openxmlformats.org/officeDocument/2006/relationships/audio" Target="../media/GUNSHOT.WAV"/><Relationship Id="rId5" Type="http://schemas.openxmlformats.org/officeDocument/2006/relationships/audio" Target="../media/GUNSHOT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audio" Target="../media/GUNSHOT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audio" Target="../media/APPLAUSE.WAV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HIMES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DRIVEBY.WAV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GUNSHOT.WAV"/><Relationship Id="rId4" Type="http://schemas.openxmlformats.org/officeDocument/2006/relationships/audio" Target="../media/GUNSHOT.WAV"/><Relationship Id="rId5" Type="http://schemas.openxmlformats.org/officeDocument/2006/relationships/audio" Target="../media/GUNSHOT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audio" Target="../media/GUNSHOT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audio" Target="../media/APPLAUSE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DRIVEBY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4067280" y="515772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Enero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pie copia"/>
          <p:cNvPicPr/>
          <p:nvPr/>
        </p:nvPicPr>
        <p:blipFill>
          <a:blip r:embed="rId1"/>
          <a:stretch/>
        </p:blipFill>
        <p:spPr>
          <a:xfrm>
            <a:off x="1116000" y="6283440"/>
            <a:ext cx="7201080" cy="458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ROSELY"/>
          <p:cNvPicPr/>
          <p:nvPr/>
        </p:nvPicPr>
        <p:blipFill>
          <a:blip r:embed="rId2"/>
          <a:stretch/>
        </p:blipFill>
        <p:spPr>
          <a:xfrm>
            <a:off x="214200" y="1989000"/>
            <a:ext cx="2125800" cy="21258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6"/>
          <p:cNvSpPr/>
          <p:nvPr/>
        </p:nvSpPr>
        <p:spPr>
          <a:xfrm>
            <a:off x="1330200" y="2246400"/>
            <a:ext cx="87138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e088a"/>
                </a:solidFill>
                <a:latin typeface="Trebuchet MS"/>
              </a:rPr>
              <a:t>Habilidades Directiva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e088a"/>
                </a:solidFill>
                <a:latin typeface="Trebuchet MS"/>
              </a:rPr>
              <a:t>Programa en Gestión Estratégica Educ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e088a"/>
                </a:solidFill>
                <a:latin typeface="Trebuchet MS"/>
              </a:rPr>
              <a:t> </a:t>
            </a:r>
            <a:r>
              <a:rPr b="1" lang="es-CL" sz="2400" spc="-1" strike="noStrike">
                <a:solidFill>
                  <a:srgbClr val="0e088a"/>
                </a:solidFill>
                <a:latin typeface="Trebuchet MS"/>
              </a:rPr>
              <a:t>para Directivos de la Edu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42920" y="151920"/>
            <a:ext cx="4537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s-CL" sz="2800" spc="-1" strike="noStrike">
                <a:solidFill>
                  <a:srgbClr val="333399"/>
                </a:solidFill>
                <a:latin typeface="Arial"/>
                <a:ea typeface="Arial"/>
              </a:rPr>
              <a:t>Las 3 habilidades de un </a:t>
            </a:r>
            <a:br>
              <a:rPr sz="2800"/>
            </a:br>
            <a:r>
              <a:rPr b="1" lang="es-CL" sz="2800" spc="-1" strike="noStrike">
                <a:solidFill>
                  <a:srgbClr val="333399"/>
                </a:solidFill>
                <a:latin typeface="Arial"/>
                <a:ea typeface="Arial"/>
              </a:rPr>
              <a:t>Líder Situacional</a:t>
            </a:r>
            <a:endParaRPr b="1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3640" y="1371600"/>
            <a:ext cx="8569080" cy="493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1. Diagnosticar:</a:t>
            </a: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 determinar las necesidades de desarrollo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0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2. Flexibilidad</a:t>
            </a: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: utilizar una variedad de estilos de liderazgo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0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3. Alianza para el desempeño/Acuerdo sobre el estilo de liderazgo</a:t>
            </a: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: lograr acuerdos con los colaboradores acerca del estilo de liderazgo a utilizar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0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5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1225440" y="404640"/>
            <a:ext cx="7162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99"/>
                </a:solidFill>
                <a:latin typeface="Arial"/>
              </a:rPr>
              <a:t>Diagnostic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522360" y="14749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ts val="3798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Es la disposición y habilidad para observar una situación y evaluar las necesidades de desarrollo de los colaboradores, con el fin de decidir qué estilo de liderazgo utiliz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ver"/>
          <p:cNvPicPr/>
          <p:nvPr/>
        </p:nvPicPr>
        <p:blipFill>
          <a:blip r:embed="rId1"/>
          <a:stretch/>
        </p:blipFill>
        <p:spPr>
          <a:xfrm>
            <a:off x="5599080" y="3808440"/>
            <a:ext cx="2789280" cy="278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3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3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987640" y="274320"/>
            <a:ext cx="468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0000"/>
                </a:solidFill>
                <a:latin typeface="Arial"/>
              </a:rPr>
              <a:t>Nivel de Desarrollo</a:t>
            </a:r>
            <a:endParaRPr b="1" lang="en-US" sz="3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067280" y="1197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 algn="ctr">
              <a:lnSpc>
                <a:spcPts val="4799"/>
              </a:lnSpc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Competencia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 algn="ctr">
              <a:lnSpc>
                <a:spcPts val="4799"/>
              </a:lnSpc>
              <a:spcBef>
                <a:spcPts val="1100"/>
              </a:spcBef>
              <a:buClr>
                <a:srgbClr val="130b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130bb1"/>
                </a:solidFill>
                <a:latin typeface="Arial"/>
              </a:rPr>
              <a:t>Compromiso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pic>
        <p:nvPicPr>
          <p:cNvPr id="140" name="Picture 10" descr="Fotolia_7829651_M"/>
          <p:cNvPicPr/>
          <p:nvPr/>
        </p:nvPicPr>
        <p:blipFill>
          <a:blip r:embed="rId1"/>
          <a:stretch/>
        </p:blipFill>
        <p:spPr>
          <a:xfrm>
            <a:off x="684360" y="1773360"/>
            <a:ext cx="360036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7"/>
          <p:cNvPicPr/>
          <p:nvPr/>
        </p:nvPicPr>
        <p:blipFill>
          <a:blip r:embed="rId1"/>
          <a:stretch/>
        </p:blipFill>
        <p:spPr>
          <a:xfrm>
            <a:off x="5786280" y="1749600"/>
            <a:ext cx="3357720" cy="335736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24080" y="18864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0000"/>
                </a:solidFill>
                <a:latin typeface="Arial"/>
              </a:rPr>
              <a:t>Competencia</a:t>
            </a:r>
            <a:endParaRPr b="1" lang="en-US" sz="3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41200" y="1887480"/>
            <a:ext cx="6275520" cy="29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Conocimientos y habilidades para la tarea o meta.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Conocimientos y habilidades transferibles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52800" y="274320"/>
            <a:ext cx="468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333399"/>
                </a:solidFill>
                <a:latin typeface="Arial"/>
              </a:rPr>
              <a:t>Compromiso</a:t>
            </a:r>
            <a:endParaRPr b="1" lang="en-US" sz="3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0" y="2359080"/>
            <a:ext cx="4038480" cy="32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Motivación</a:t>
            </a:r>
            <a:endParaRPr b="0" lang="en-US" sz="32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0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Confianza</a:t>
            </a:r>
            <a:endParaRPr b="0" lang="en-US" sz="32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0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pic>
        <p:nvPicPr>
          <p:cNvPr id="146" name="Picture 6" descr="15"/>
          <p:cNvPicPr/>
          <p:nvPr/>
        </p:nvPicPr>
        <p:blipFill>
          <a:blip r:embed="rId1"/>
          <a:stretch/>
        </p:blipFill>
        <p:spPr>
          <a:xfrm>
            <a:off x="324000" y="1916280"/>
            <a:ext cx="395280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32 Grupo"/>
          <p:cNvGrpSpPr/>
          <p:nvPr/>
        </p:nvGrpSpPr>
        <p:grpSpPr>
          <a:xfrm>
            <a:off x="755640" y="1773360"/>
            <a:ext cx="7416720" cy="4176720"/>
            <a:chOff x="755640" y="1773360"/>
            <a:chExt cx="7416720" cy="4176720"/>
          </a:xfrm>
        </p:grpSpPr>
        <p:sp>
          <p:nvSpPr>
            <p:cNvPr id="148" name="Rectangle 7"/>
            <p:cNvSpPr/>
            <p:nvPr/>
          </p:nvSpPr>
          <p:spPr>
            <a:xfrm>
              <a:off x="6317640" y="4159440"/>
              <a:ext cx="1854720" cy="179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8"/>
            <p:cNvSpPr/>
            <p:nvPr/>
          </p:nvSpPr>
          <p:spPr>
            <a:xfrm>
              <a:off x="4465080" y="4159440"/>
              <a:ext cx="1852560" cy="179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9"/>
            <p:cNvSpPr/>
            <p:nvPr/>
          </p:nvSpPr>
          <p:spPr>
            <a:xfrm>
              <a:off x="2610360" y="4159440"/>
              <a:ext cx="1854720" cy="179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0"/>
            <p:cNvSpPr/>
            <p:nvPr/>
          </p:nvSpPr>
          <p:spPr>
            <a:xfrm>
              <a:off x="755640" y="4159440"/>
              <a:ext cx="1854720" cy="179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11"/>
            <p:cNvSpPr/>
            <p:nvPr/>
          </p:nvSpPr>
          <p:spPr>
            <a:xfrm>
              <a:off x="6317640" y="2614680"/>
              <a:ext cx="1854720" cy="154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2"/>
            <p:cNvSpPr/>
            <p:nvPr/>
          </p:nvSpPr>
          <p:spPr>
            <a:xfrm>
              <a:off x="4465080" y="2614680"/>
              <a:ext cx="1852560" cy="154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13"/>
            <p:cNvSpPr/>
            <p:nvPr/>
          </p:nvSpPr>
          <p:spPr>
            <a:xfrm>
              <a:off x="2610360" y="2614680"/>
              <a:ext cx="1854720" cy="15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4"/>
            <p:cNvSpPr/>
            <p:nvPr/>
          </p:nvSpPr>
          <p:spPr>
            <a:xfrm>
              <a:off x="755640" y="2614680"/>
              <a:ext cx="1854720" cy="15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5"/>
            <p:cNvSpPr/>
            <p:nvPr/>
          </p:nvSpPr>
          <p:spPr>
            <a:xfrm>
              <a:off x="6317640" y="1773360"/>
              <a:ext cx="1854720" cy="8413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rebuchet MS"/>
                </a:rPr>
                <a:t>COMPETE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rebuchet MS"/>
                </a:rPr>
                <a:t>AUT</a:t>
              </a: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Ó</a:t>
              </a:r>
              <a:r>
                <a:rPr b="1" lang="es-ES" sz="1400" spc="-1" strike="noStrike">
                  <a:solidFill>
                    <a:srgbClr val="ffffff"/>
                  </a:solidFill>
                  <a:latin typeface="Trebuchet MS"/>
                </a:rPr>
                <a:t>NOM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rebuchet MS"/>
                </a:rPr>
                <a:t>D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6"/>
            <p:cNvSpPr/>
            <p:nvPr/>
          </p:nvSpPr>
          <p:spPr>
            <a:xfrm>
              <a:off x="4465080" y="1773360"/>
              <a:ext cx="1852560" cy="8413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rebuchet MS"/>
                </a:rPr>
                <a:t>COMPETE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rebuchet MS"/>
                </a:rPr>
                <a:t>INSEGUR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rebuchet MS"/>
                </a:rPr>
                <a:t>D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7"/>
            <p:cNvSpPr/>
            <p:nvPr/>
          </p:nvSpPr>
          <p:spPr>
            <a:xfrm>
              <a:off x="2610360" y="1773360"/>
              <a:ext cx="1854720" cy="8413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rebuchet MS"/>
                </a:rPr>
                <a:t>APRENDI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rebuchet MS"/>
                </a:rPr>
                <a:t>DESILUSION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rebuchet MS"/>
                </a:rPr>
                <a:t>D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8"/>
            <p:cNvSpPr/>
            <p:nvPr/>
          </p:nvSpPr>
          <p:spPr>
            <a:xfrm>
              <a:off x="755640" y="1773360"/>
              <a:ext cx="1854720" cy="841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rebuchet MS"/>
                </a:rPr>
                <a:t>APRENDI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rebuchet MS"/>
                </a:rPr>
                <a:t>ENTUSIAST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rebuchet MS"/>
                </a:rPr>
                <a:t>D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19"/>
            <p:cNvSpPr/>
            <p:nvPr/>
          </p:nvSpPr>
          <p:spPr>
            <a:xfrm>
              <a:off x="755640" y="2614680"/>
              <a:ext cx="741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0"/>
            <p:cNvSpPr/>
            <p:nvPr/>
          </p:nvSpPr>
          <p:spPr>
            <a:xfrm>
              <a:off x="755640" y="4159440"/>
              <a:ext cx="741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1"/>
            <p:cNvSpPr/>
            <p:nvPr/>
          </p:nvSpPr>
          <p:spPr>
            <a:xfrm>
              <a:off x="2610360" y="1773360"/>
              <a:ext cx="0" cy="417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22"/>
            <p:cNvSpPr/>
            <p:nvPr/>
          </p:nvSpPr>
          <p:spPr>
            <a:xfrm>
              <a:off x="4465080" y="1773360"/>
              <a:ext cx="0" cy="417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23"/>
            <p:cNvSpPr/>
            <p:nvPr/>
          </p:nvSpPr>
          <p:spPr>
            <a:xfrm>
              <a:off x="6317640" y="1773360"/>
              <a:ext cx="0" cy="417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24"/>
            <p:cNvSpPr/>
            <p:nvPr/>
          </p:nvSpPr>
          <p:spPr>
            <a:xfrm>
              <a:off x="755640" y="1773360"/>
              <a:ext cx="741672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5"/>
            <p:cNvSpPr/>
            <p:nvPr/>
          </p:nvSpPr>
          <p:spPr>
            <a:xfrm>
              <a:off x="755640" y="1773360"/>
              <a:ext cx="0" cy="417672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6"/>
            <p:cNvSpPr/>
            <p:nvPr/>
          </p:nvSpPr>
          <p:spPr>
            <a:xfrm>
              <a:off x="8172360" y="1773360"/>
              <a:ext cx="0" cy="417672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755640" y="5950080"/>
              <a:ext cx="741672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28"/>
            <p:cNvSpPr/>
            <p:nvPr/>
          </p:nvSpPr>
          <p:spPr>
            <a:xfrm rot="19528200">
              <a:off x="4322160" y="4149360"/>
              <a:ext cx="257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3399"/>
                  </a:solidFill>
                  <a:latin typeface="Arial"/>
                </a:rPr>
                <a:t>COMPROMIS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29"/>
            <p:cNvSpPr/>
            <p:nvPr/>
          </p:nvSpPr>
          <p:spPr>
            <a:xfrm rot="19643400">
              <a:off x="3209760" y="3090960"/>
              <a:ext cx="231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ff0000"/>
                  </a:solidFill>
                  <a:latin typeface="Arial"/>
                </a:rPr>
                <a:t>COMPETENC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30"/>
            <p:cNvSpPr/>
            <p:nvPr/>
          </p:nvSpPr>
          <p:spPr>
            <a:xfrm>
              <a:off x="755640" y="2863800"/>
              <a:ext cx="7332480" cy="2324160"/>
            </a:xfrm>
            <a:custGeom>
              <a:avLst/>
              <a:gdLst>
                <a:gd name="textAreaLeft" fmla="*/ 0 w 7332480"/>
                <a:gd name="textAreaRight" fmla="*/ 7332840 w 7332480"/>
                <a:gd name="textAreaTop" fmla="*/ 0 h 2324160"/>
                <a:gd name="textAreaBottom" fmla="*/ 2324520 h 2324160"/>
              </a:gdLst>
              <a:ahLst/>
              <a:rect l="textAreaLeft" t="textAreaTop" r="textAreaRight" b="textAreaBottom"/>
              <a:pathLst>
                <a:path w="4698" h="1636">
                  <a:moveTo>
                    <a:pt x="0" y="124"/>
                  </a:moveTo>
                  <a:cubicBezTo>
                    <a:pt x="15" y="118"/>
                    <a:pt x="64" y="94"/>
                    <a:pt x="92" y="85"/>
                  </a:cubicBezTo>
                  <a:cubicBezTo>
                    <a:pt x="120" y="76"/>
                    <a:pt x="127" y="70"/>
                    <a:pt x="170" y="72"/>
                  </a:cubicBezTo>
                  <a:cubicBezTo>
                    <a:pt x="213" y="74"/>
                    <a:pt x="283" y="70"/>
                    <a:pt x="353" y="98"/>
                  </a:cubicBezTo>
                  <a:cubicBezTo>
                    <a:pt x="423" y="126"/>
                    <a:pt x="502" y="172"/>
                    <a:pt x="589" y="242"/>
                  </a:cubicBezTo>
                  <a:cubicBezTo>
                    <a:pt x="676" y="312"/>
                    <a:pt x="805" y="439"/>
                    <a:pt x="877" y="517"/>
                  </a:cubicBezTo>
                  <a:cubicBezTo>
                    <a:pt x="949" y="595"/>
                    <a:pt x="984" y="665"/>
                    <a:pt x="1021" y="713"/>
                  </a:cubicBezTo>
                  <a:cubicBezTo>
                    <a:pt x="1058" y="761"/>
                    <a:pt x="1070" y="761"/>
                    <a:pt x="1100" y="805"/>
                  </a:cubicBezTo>
                  <a:cubicBezTo>
                    <a:pt x="1130" y="849"/>
                    <a:pt x="1160" y="901"/>
                    <a:pt x="1204" y="975"/>
                  </a:cubicBezTo>
                  <a:cubicBezTo>
                    <a:pt x="1248" y="1049"/>
                    <a:pt x="1300" y="1148"/>
                    <a:pt x="1361" y="1250"/>
                  </a:cubicBezTo>
                  <a:cubicBezTo>
                    <a:pt x="1422" y="1352"/>
                    <a:pt x="1486" y="1544"/>
                    <a:pt x="1571" y="1590"/>
                  </a:cubicBezTo>
                  <a:cubicBezTo>
                    <a:pt x="1656" y="1636"/>
                    <a:pt x="1722" y="1606"/>
                    <a:pt x="1872" y="1525"/>
                  </a:cubicBezTo>
                  <a:cubicBezTo>
                    <a:pt x="2022" y="1444"/>
                    <a:pt x="2376" y="1206"/>
                    <a:pt x="2474" y="1106"/>
                  </a:cubicBezTo>
                  <a:cubicBezTo>
                    <a:pt x="2572" y="1006"/>
                    <a:pt x="2417" y="929"/>
                    <a:pt x="2461" y="923"/>
                  </a:cubicBezTo>
                  <a:cubicBezTo>
                    <a:pt x="2505" y="917"/>
                    <a:pt x="2721" y="1087"/>
                    <a:pt x="2736" y="1067"/>
                  </a:cubicBezTo>
                  <a:cubicBezTo>
                    <a:pt x="2751" y="1047"/>
                    <a:pt x="2533" y="809"/>
                    <a:pt x="2553" y="805"/>
                  </a:cubicBezTo>
                  <a:cubicBezTo>
                    <a:pt x="2573" y="801"/>
                    <a:pt x="2830" y="1046"/>
                    <a:pt x="2854" y="1040"/>
                  </a:cubicBezTo>
                  <a:cubicBezTo>
                    <a:pt x="2878" y="1034"/>
                    <a:pt x="2677" y="783"/>
                    <a:pt x="2697" y="766"/>
                  </a:cubicBezTo>
                  <a:cubicBezTo>
                    <a:pt x="2717" y="749"/>
                    <a:pt x="2959" y="949"/>
                    <a:pt x="2972" y="936"/>
                  </a:cubicBezTo>
                  <a:cubicBezTo>
                    <a:pt x="2985" y="923"/>
                    <a:pt x="2758" y="707"/>
                    <a:pt x="2775" y="687"/>
                  </a:cubicBezTo>
                  <a:cubicBezTo>
                    <a:pt x="2792" y="667"/>
                    <a:pt x="3052" y="829"/>
                    <a:pt x="3076" y="818"/>
                  </a:cubicBezTo>
                  <a:cubicBezTo>
                    <a:pt x="3100" y="807"/>
                    <a:pt x="2904" y="646"/>
                    <a:pt x="2919" y="622"/>
                  </a:cubicBezTo>
                  <a:cubicBezTo>
                    <a:pt x="2934" y="598"/>
                    <a:pt x="3120" y="689"/>
                    <a:pt x="3168" y="674"/>
                  </a:cubicBezTo>
                  <a:cubicBezTo>
                    <a:pt x="3216" y="659"/>
                    <a:pt x="3096" y="619"/>
                    <a:pt x="3207" y="530"/>
                  </a:cubicBezTo>
                  <a:cubicBezTo>
                    <a:pt x="3318" y="441"/>
                    <a:pt x="3611" y="224"/>
                    <a:pt x="3836" y="137"/>
                  </a:cubicBezTo>
                  <a:cubicBezTo>
                    <a:pt x="4061" y="50"/>
                    <a:pt x="4414" y="12"/>
                    <a:pt x="4556" y="6"/>
                  </a:cubicBezTo>
                  <a:cubicBezTo>
                    <a:pt x="4698" y="0"/>
                    <a:pt x="4660" y="79"/>
                    <a:pt x="4687" y="98"/>
                  </a:cubicBezTo>
                </a:path>
              </a:pathLst>
            </a:custGeom>
            <a:noFill/>
            <a:ln w="572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31"/>
            <p:cNvSpPr/>
            <p:nvPr/>
          </p:nvSpPr>
          <p:spPr>
            <a:xfrm>
              <a:off x="796680" y="2614680"/>
              <a:ext cx="7291080" cy="2766960"/>
            </a:xfrm>
            <a:custGeom>
              <a:avLst/>
              <a:gdLst>
                <a:gd name="textAreaLeft" fmla="*/ 0 w 7291080"/>
                <a:gd name="textAreaRight" fmla="*/ 7291440 w 7291080"/>
                <a:gd name="textAreaTop" fmla="*/ 0 h 2766960"/>
                <a:gd name="textAreaBottom" fmla="*/ 2767320 h 2766960"/>
              </a:gdLst>
              <a:ahLst/>
              <a:rect l="textAreaLeft" t="textAreaTop" r="textAreaRight" b="textAreaBottom"/>
              <a:pathLst>
                <a:path w="4700" h="1894">
                  <a:moveTo>
                    <a:pt x="0" y="1894"/>
                  </a:moveTo>
                  <a:cubicBezTo>
                    <a:pt x="144" y="1846"/>
                    <a:pt x="559" y="1754"/>
                    <a:pt x="864" y="1593"/>
                  </a:cubicBezTo>
                  <a:cubicBezTo>
                    <a:pt x="1169" y="1432"/>
                    <a:pt x="1593" y="1092"/>
                    <a:pt x="1833" y="926"/>
                  </a:cubicBezTo>
                  <a:cubicBezTo>
                    <a:pt x="2073" y="760"/>
                    <a:pt x="2112" y="711"/>
                    <a:pt x="2304" y="598"/>
                  </a:cubicBezTo>
                  <a:cubicBezTo>
                    <a:pt x="2496" y="485"/>
                    <a:pt x="2697" y="341"/>
                    <a:pt x="2985" y="245"/>
                  </a:cubicBezTo>
                  <a:cubicBezTo>
                    <a:pt x="3273" y="149"/>
                    <a:pt x="3746" y="44"/>
                    <a:pt x="4032" y="22"/>
                  </a:cubicBezTo>
                  <a:cubicBezTo>
                    <a:pt x="4318" y="0"/>
                    <a:pt x="4561" y="95"/>
                    <a:pt x="4700" y="114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63640" y="1249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3399"/>
                </a:solidFill>
                <a:latin typeface="UnitOT-Regular"/>
              </a:rPr>
              <a:t>Niveles de Madurez </a:t>
            </a:r>
            <a:br>
              <a:rPr sz="3000"/>
            </a:br>
            <a:r>
              <a:rPr b="0" lang="es-ES" sz="3000" spc="-1" strike="noStrike">
                <a:solidFill>
                  <a:srgbClr val="003399"/>
                </a:solidFill>
                <a:latin typeface="UnitOT-Regular"/>
              </a:rPr>
              <a:t>Colaboradores y Tareas / Metas</a:t>
            </a:r>
            <a:br>
              <a:rPr sz="3000"/>
            </a:br>
            <a:endParaRPr b="1" lang="en-US" sz="30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3"/>
          <p:cNvSpPr/>
          <p:nvPr/>
        </p:nvSpPr>
        <p:spPr>
          <a:xfrm>
            <a:off x="7021440" y="4159080"/>
            <a:ext cx="1565280" cy="1791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7021440" y="2614680"/>
            <a:ext cx="1565280" cy="154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7021440" y="1773360"/>
            <a:ext cx="1565280" cy="841320"/>
          </a:xfrm>
          <a:prstGeom prst="rect">
            <a:avLst/>
          </a:prstGeom>
          <a:solidFill>
            <a:srgbClr val="ffff66"/>
          </a:solidFill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rebuchet MS"/>
              </a:rPr>
              <a:t>COMPET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rebuchet MS"/>
              </a:rPr>
              <a:t>DESMOTIV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rebuchet MS"/>
              </a:rPr>
              <a:t>D3(C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32 Grupo"/>
          <p:cNvGrpSpPr/>
          <p:nvPr/>
        </p:nvGrpSpPr>
        <p:grpSpPr>
          <a:xfrm>
            <a:off x="755640" y="1773360"/>
            <a:ext cx="7632720" cy="4176720"/>
            <a:chOff x="755640" y="1773360"/>
            <a:chExt cx="7632720" cy="4176720"/>
          </a:xfrm>
        </p:grpSpPr>
        <p:sp>
          <p:nvSpPr>
            <p:cNvPr id="178" name="Rectangle 7"/>
            <p:cNvSpPr/>
            <p:nvPr/>
          </p:nvSpPr>
          <p:spPr>
            <a:xfrm>
              <a:off x="5454720" y="4159440"/>
              <a:ext cx="1566720" cy="179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8"/>
            <p:cNvSpPr/>
            <p:nvPr/>
          </p:nvSpPr>
          <p:spPr>
            <a:xfrm>
              <a:off x="3889440" y="4159440"/>
              <a:ext cx="1565280" cy="179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9"/>
            <p:cNvSpPr/>
            <p:nvPr/>
          </p:nvSpPr>
          <p:spPr>
            <a:xfrm>
              <a:off x="2322360" y="4159440"/>
              <a:ext cx="1566720" cy="179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0"/>
            <p:cNvSpPr/>
            <p:nvPr/>
          </p:nvSpPr>
          <p:spPr>
            <a:xfrm>
              <a:off x="755640" y="4159440"/>
              <a:ext cx="1566720" cy="179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11"/>
            <p:cNvSpPr/>
            <p:nvPr/>
          </p:nvSpPr>
          <p:spPr>
            <a:xfrm>
              <a:off x="5454720" y="2614680"/>
              <a:ext cx="1566720" cy="154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2"/>
            <p:cNvSpPr/>
            <p:nvPr/>
          </p:nvSpPr>
          <p:spPr>
            <a:xfrm>
              <a:off x="3889440" y="2614680"/>
              <a:ext cx="1565280" cy="154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3"/>
            <p:cNvSpPr/>
            <p:nvPr/>
          </p:nvSpPr>
          <p:spPr>
            <a:xfrm>
              <a:off x="2322360" y="2614680"/>
              <a:ext cx="1566720" cy="15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4"/>
            <p:cNvSpPr/>
            <p:nvPr/>
          </p:nvSpPr>
          <p:spPr>
            <a:xfrm>
              <a:off x="755640" y="2614680"/>
              <a:ext cx="1566720" cy="15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5"/>
            <p:cNvSpPr/>
            <p:nvPr/>
          </p:nvSpPr>
          <p:spPr>
            <a:xfrm>
              <a:off x="5454720" y="1773360"/>
              <a:ext cx="1566720" cy="8413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rebuchet MS"/>
                </a:rPr>
                <a:t>COMPETE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rebuchet MS"/>
                </a:rPr>
                <a:t>AUT</a:t>
              </a: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Ó</a:t>
              </a:r>
              <a:r>
                <a:rPr b="1" lang="es-ES" sz="1400" spc="-1" strike="noStrike">
                  <a:solidFill>
                    <a:srgbClr val="ffffff"/>
                  </a:solidFill>
                  <a:latin typeface="Trebuchet MS"/>
                </a:rPr>
                <a:t>NOM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rebuchet MS"/>
                </a:rPr>
                <a:t>D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16"/>
            <p:cNvSpPr/>
            <p:nvPr/>
          </p:nvSpPr>
          <p:spPr>
            <a:xfrm>
              <a:off x="3889440" y="1773360"/>
              <a:ext cx="1565280" cy="8413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rebuchet MS"/>
                </a:rPr>
                <a:t>COMPETE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rebuchet MS"/>
                </a:rPr>
                <a:t>INSEGUR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rebuchet MS"/>
                </a:rPr>
                <a:t>D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17"/>
            <p:cNvSpPr/>
            <p:nvPr/>
          </p:nvSpPr>
          <p:spPr>
            <a:xfrm>
              <a:off x="2322360" y="1773360"/>
              <a:ext cx="1566720" cy="8413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rebuchet MS"/>
                </a:rPr>
                <a:t>APRENDI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rebuchet MS"/>
                </a:rPr>
                <a:t>DESILUSION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rebuchet MS"/>
                </a:rPr>
                <a:t>D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18"/>
            <p:cNvSpPr/>
            <p:nvPr/>
          </p:nvSpPr>
          <p:spPr>
            <a:xfrm>
              <a:off x="755640" y="1773360"/>
              <a:ext cx="1566720" cy="841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rebuchet MS"/>
                </a:rPr>
                <a:t>APRENDI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rebuchet MS"/>
                </a:rPr>
                <a:t>ENTUSIAST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rebuchet MS"/>
                </a:rPr>
                <a:t>D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9"/>
            <p:cNvSpPr/>
            <p:nvPr/>
          </p:nvSpPr>
          <p:spPr>
            <a:xfrm>
              <a:off x="755640" y="2614680"/>
              <a:ext cx="626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20"/>
            <p:cNvSpPr/>
            <p:nvPr/>
          </p:nvSpPr>
          <p:spPr>
            <a:xfrm>
              <a:off x="755640" y="4159440"/>
              <a:ext cx="626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21"/>
            <p:cNvSpPr/>
            <p:nvPr/>
          </p:nvSpPr>
          <p:spPr>
            <a:xfrm>
              <a:off x="2322360" y="1773360"/>
              <a:ext cx="0" cy="417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22"/>
            <p:cNvSpPr/>
            <p:nvPr/>
          </p:nvSpPr>
          <p:spPr>
            <a:xfrm>
              <a:off x="3889440" y="1773360"/>
              <a:ext cx="0" cy="417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23"/>
            <p:cNvSpPr/>
            <p:nvPr/>
          </p:nvSpPr>
          <p:spPr>
            <a:xfrm>
              <a:off x="5454720" y="1773360"/>
              <a:ext cx="0" cy="417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4"/>
            <p:cNvSpPr/>
            <p:nvPr/>
          </p:nvSpPr>
          <p:spPr>
            <a:xfrm>
              <a:off x="755640" y="1773360"/>
              <a:ext cx="626616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25"/>
            <p:cNvSpPr/>
            <p:nvPr/>
          </p:nvSpPr>
          <p:spPr>
            <a:xfrm>
              <a:off x="755640" y="1773360"/>
              <a:ext cx="0" cy="417672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26"/>
            <p:cNvSpPr/>
            <p:nvPr/>
          </p:nvSpPr>
          <p:spPr>
            <a:xfrm>
              <a:off x="7021800" y="1773360"/>
              <a:ext cx="0" cy="417672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7"/>
            <p:cNvSpPr/>
            <p:nvPr/>
          </p:nvSpPr>
          <p:spPr>
            <a:xfrm>
              <a:off x="755640" y="5950080"/>
              <a:ext cx="626616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28"/>
            <p:cNvSpPr/>
            <p:nvPr/>
          </p:nvSpPr>
          <p:spPr>
            <a:xfrm rot="19528200">
              <a:off x="3769200" y="4149360"/>
              <a:ext cx="217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0099"/>
                  </a:solidFill>
                  <a:latin typeface="Arial"/>
                </a:rPr>
                <a:t>COMPROMIS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29"/>
            <p:cNvSpPr/>
            <p:nvPr/>
          </p:nvSpPr>
          <p:spPr>
            <a:xfrm rot="19643400">
              <a:off x="2828880" y="3500280"/>
              <a:ext cx="195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ff0000"/>
                  </a:solidFill>
                  <a:latin typeface="Arial"/>
                </a:rPr>
                <a:t>COMPETENC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30"/>
            <p:cNvSpPr/>
            <p:nvPr/>
          </p:nvSpPr>
          <p:spPr>
            <a:xfrm>
              <a:off x="755640" y="2863800"/>
              <a:ext cx="6194520" cy="2324160"/>
            </a:xfrm>
            <a:custGeom>
              <a:avLst/>
              <a:gdLst>
                <a:gd name="textAreaLeft" fmla="*/ 0 w 6194520"/>
                <a:gd name="textAreaRight" fmla="*/ 6194880 w 6194520"/>
                <a:gd name="textAreaTop" fmla="*/ 0 h 2324160"/>
                <a:gd name="textAreaBottom" fmla="*/ 2324520 h 2324160"/>
              </a:gdLst>
              <a:ahLst/>
              <a:rect l="textAreaLeft" t="textAreaTop" r="textAreaRight" b="textAreaBottom"/>
              <a:pathLst>
                <a:path w="4698" h="1636">
                  <a:moveTo>
                    <a:pt x="0" y="124"/>
                  </a:moveTo>
                  <a:cubicBezTo>
                    <a:pt x="15" y="118"/>
                    <a:pt x="64" y="94"/>
                    <a:pt x="92" y="85"/>
                  </a:cubicBezTo>
                  <a:cubicBezTo>
                    <a:pt x="120" y="76"/>
                    <a:pt x="127" y="70"/>
                    <a:pt x="170" y="72"/>
                  </a:cubicBezTo>
                  <a:cubicBezTo>
                    <a:pt x="213" y="74"/>
                    <a:pt x="283" y="70"/>
                    <a:pt x="353" y="98"/>
                  </a:cubicBezTo>
                  <a:cubicBezTo>
                    <a:pt x="423" y="126"/>
                    <a:pt x="502" y="172"/>
                    <a:pt x="589" y="242"/>
                  </a:cubicBezTo>
                  <a:cubicBezTo>
                    <a:pt x="676" y="312"/>
                    <a:pt x="805" y="439"/>
                    <a:pt x="877" y="517"/>
                  </a:cubicBezTo>
                  <a:cubicBezTo>
                    <a:pt x="949" y="595"/>
                    <a:pt x="984" y="665"/>
                    <a:pt x="1021" y="713"/>
                  </a:cubicBezTo>
                  <a:cubicBezTo>
                    <a:pt x="1058" y="761"/>
                    <a:pt x="1070" y="761"/>
                    <a:pt x="1100" y="805"/>
                  </a:cubicBezTo>
                  <a:cubicBezTo>
                    <a:pt x="1130" y="849"/>
                    <a:pt x="1160" y="901"/>
                    <a:pt x="1204" y="975"/>
                  </a:cubicBezTo>
                  <a:cubicBezTo>
                    <a:pt x="1248" y="1049"/>
                    <a:pt x="1300" y="1148"/>
                    <a:pt x="1361" y="1250"/>
                  </a:cubicBezTo>
                  <a:cubicBezTo>
                    <a:pt x="1422" y="1352"/>
                    <a:pt x="1486" y="1544"/>
                    <a:pt x="1571" y="1590"/>
                  </a:cubicBezTo>
                  <a:cubicBezTo>
                    <a:pt x="1656" y="1636"/>
                    <a:pt x="1722" y="1606"/>
                    <a:pt x="1872" y="1525"/>
                  </a:cubicBezTo>
                  <a:cubicBezTo>
                    <a:pt x="2022" y="1444"/>
                    <a:pt x="2376" y="1206"/>
                    <a:pt x="2474" y="1106"/>
                  </a:cubicBezTo>
                  <a:cubicBezTo>
                    <a:pt x="2572" y="1006"/>
                    <a:pt x="2417" y="929"/>
                    <a:pt x="2461" y="923"/>
                  </a:cubicBezTo>
                  <a:cubicBezTo>
                    <a:pt x="2505" y="917"/>
                    <a:pt x="2721" y="1087"/>
                    <a:pt x="2736" y="1067"/>
                  </a:cubicBezTo>
                  <a:cubicBezTo>
                    <a:pt x="2751" y="1047"/>
                    <a:pt x="2533" y="809"/>
                    <a:pt x="2553" y="805"/>
                  </a:cubicBezTo>
                  <a:cubicBezTo>
                    <a:pt x="2573" y="801"/>
                    <a:pt x="2830" y="1046"/>
                    <a:pt x="2854" y="1040"/>
                  </a:cubicBezTo>
                  <a:cubicBezTo>
                    <a:pt x="2878" y="1034"/>
                    <a:pt x="2677" y="783"/>
                    <a:pt x="2697" y="766"/>
                  </a:cubicBezTo>
                  <a:cubicBezTo>
                    <a:pt x="2717" y="749"/>
                    <a:pt x="2959" y="949"/>
                    <a:pt x="2972" y="936"/>
                  </a:cubicBezTo>
                  <a:cubicBezTo>
                    <a:pt x="2985" y="923"/>
                    <a:pt x="2758" y="707"/>
                    <a:pt x="2775" y="687"/>
                  </a:cubicBezTo>
                  <a:cubicBezTo>
                    <a:pt x="2792" y="667"/>
                    <a:pt x="3052" y="829"/>
                    <a:pt x="3076" y="818"/>
                  </a:cubicBezTo>
                  <a:cubicBezTo>
                    <a:pt x="3100" y="807"/>
                    <a:pt x="2904" y="646"/>
                    <a:pt x="2919" y="622"/>
                  </a:cubicBezTo>
                  <a:cubicBezTo>
                    <a:pt x="2934" y="598"/>
                    <a:pt x="3120" y="689"/>
                    <a:pt x="3168" y="674"/>
                  </a:cubicBezTo>
                  <a:cubicBezTo>
                    <a:pt x="3216" y="659"/>
                    <a:pt x="3096" y="619"/>
                    <a:pt x="3207" y="530"/>
                  </a:cubicBezTo>
                  <a:cubicBezTo>
                    <a:pt x="3318" y="441"/>
                    <a:pt x="3611" y="224"/>
                    <a:pt x="3836" y="137"/>
                  </a:cubicBezTo>
                  <a:cubicBezTo>
                    <a:pt x="4061" y="50"/>
                    <a:pt x="4414" y="12"/>
                    <a:pt x="4556" y="6"/>
                  </a:cubicBezTo>
                  <a:cubicBezTo>
                    <a:pt x="4698" y="0"/>
                    <a:pt x="4660" y="79"/>
                    <a:pt x="4687" y="98"/>
                  </a:cubicBezTo>
                </a:path>
              </a:pathLst>
            </a:custGeom>
            <a:noFill/>
            <a:ln w="572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31"/>
            <p:cNvSpPr/>
            <p:nvPr/>
          </p:nvSpPr>
          <p:spPr>
            <a:xfrm>
              <a:off x="790560" y="2614680"/>
              <a:ext cx="7597800" cy="2766960"/>
            </a:xfrm>
            <a:custGeom>
              <a:avLst/>
              <a:gdLst>
                <a:gd name="textAreaLeft" fmla="*/ 0 w 7597800"/>
                <a:gd name="textAreaRight" fmla="*/ 7598160 w 7597800"/>
                <a:gd name="textAreaTop" fmla="*/ 0 h 2766960"/>
                <a:gd name="textAreaBottom" fmla="*/ 2767320 h 2766960"/>
              </a:gdLst>
              <a:ahLst/>
              <a:rect l="textAreaLeft" t="textAreaTop" r="textAreaRight" b="textAreaBottom"/>
              <a:pathLst>
                <a:path w="4700" h="1894">
                  <a:moveTo>
                    <a:pt x="0" y="1894"/>
                  </a:moveTo>
                  <a:cubicBezTo>
                    <a:pt x="144" y="1846"/>
                    <a:pt x="559" y="1754"/>
                    <a:pt x="864" y="1593"/>
                  </a:cubicBezTo>
                  <a:cubicBezTo>
                    <a:pt x="1169" y="1432"/>
                    <a:pt x="1593" y="1092"/>
                    <a:pt x="1833" y="926"/>
                  </a:cubicBezTo>
                  <a:cubicBezTo>
                    <a:pt x="2073" y="760"/>
                    <a:pt x="2112" y="711"/>
                    <a:pt x="2304" y="598"/>
                  </a:cubicBezTo>
                  <a:cubicBezTo>
                    <a:pt x="2496" y="485"/>
                    <a:pt x="2697" y="341"/>
                    <a:pt x="2985" y="245"/>
                  </a:cubicBezTo>
                  <a:cubicBezTo>
                    <a:pt x="3273" y="149"/>
                    <a:pt x="3746" y="44"/>
                    <a:pt x="4032" y="22"/>
                  </a:cubicBezTo>
                  <a:cubicBezTo>
                    <a:pt x="4318" y="0"/>
                    <a:pt x="4561" y="95"/>
                    <a:pt x="4700" y="114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Line 32"/>
          <p:cNvSpPr/>
          <p:nvPr/>
        </p:nvSpPr>
        <p:spPr>
          <a:xfrm flipH="1" flipV="1">
            <a:off x="6927480" y="2997000"/>
            <a:ext cx="1460520" cy="259236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63640" y="1249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3399"/>
                </a:solidFill>
                <a:latin typeface="UnitOT-Regular"/>
              </a:rPr>
              <a:t>Niveles de Madurez </a:t>
            </a:r>
            <a:br>
              <a:rPr sz="3000"/>
            </a:br>
            <a:r>
              <a:rPr b="0" lang="es-ES" sz="3000" spc="-1" strike="noStrike">
                <a:solidFill>
                  <a:srgbClr val="003399"/>
                </a:solidFill>
                <a:latin typeface="UnitOT-Regular"/>
              </a:rPr>
              <a:t>Colaboradores y Tareas / Metas</a:t>
            </a:r>
            <a:br>
              <a:rPr sz="3000"/>
            </a:br>
            <a:r>
              <a:rPr b="0" lang="es-ES" sz="3000" spc="-1" strike="noStrike">
                <a:solidFill>
                  <a:srgbClr val="003399"/>
                </a:solidFill>
                <a:latin typeface="UnitOT-Regular"/>
              </a:rPr>
              <a:t>El Ciclo Regresivo</a:t>
            </a:r>
            <a:endParaRPr b="1" lang="en-US" sz="30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835280" y="1519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Arial"/>
              </a:rPr>
              <a:t>Las necesidades de un D1</a:t>
            </a:r>
            <a:endParaRPr b="1" lang="en-US" sz="3600" spc="-1" strike="noStrike">
              <a:solidFill>
                <a:srgbClr val="0e088a"/>
              </a:solidFill>
              <a:latin typeface="UnitOT-Regular"/>
            </a:endParaRPr>
          </a:p>
        </p:txBody>
      </p:sp>
      <p:pic>
        <p:nvPicPr>
          <p:cNvPr id="206" name="Picture 4" descr="2365514672_60a54f915c"/>
          <p:cNvPicPr/>
          <p:nvPr/>
        </p:nvPicPr>
        <p:blipFill>
          <a:blip r:embed="rId1"/>
          <a:stretch/>
        </p:blipFill>
        <p:spPr>
          <a:xfrm>
            <a:off x="7093080" y="2708280"/>
            <a:ext cx="1954080" cy="403848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8000" y="1268280"/>
            <a:ext cx="8578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Reconocimiento del entusiasmo y de las habilidades transferible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Metas clara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Normas que definan qué es un trabajo bien hecho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Información acerca de cómo se registrarán y comunicarán los datos relativos al desempeño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Conocimiento de las reglas no escritas sobre “cómo funcionan las cosas por aquí”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Información sobre la tarea y la organización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4" descr="2364682039_b5bac31669"/>
          <p:cNvPicPr/>
          <p:nvPr/>
        </p:nvPicPr>
        <p:blipFill>
          <a:blip r:embed="rId1"/>
          <a:stretch/>
        </p:blipFill>
        <p:spPr>
          <a:xfrm>
            <a:off x="4788000" y="242100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050560" y="151920"/>
            <a:ext cx="6775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Arial"/>
              </a:rPr>
              <a:t>Las necesidades de un D2</a:t>
            </a:r>
            <a:endParaRPr b="1" lang="en-US" sz="36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278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Metas clara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Perspectiva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Retroalimentación frecuente sobre los resultado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Elogio ante el progreso manifiesto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Sentir que los errores son comprendido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49640" y="151920"/>
            <a:ext cx="6426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Arial"/>
              </a:rPr>
              <a:t>Las necesidades de un D3</a:t>
            </a:r>
            <a:endParaRPr b="1" lang="en-US" sz="3600" spc="-1" strike="noStrike">
              <a:solidFill>
                <a:srgbClr val="0e088a"/>
              </a:solidFill>
              <a:latin typeface="UnitOT-Regular"/>
            </a:endParaRPr>
          </a:p>
        </p:txBody>
      </p:sp>
      <p:pic>
        <p:nvPicPr>
          <p:cNvPr id="212" name="Picture 4" descr="2365498558_25b23fee5f"/>
          <p:cNvPicPr/>
          <p:nvPr/>
        </p:nvPicPr>
        <p:blipFill>
          <a:blip r:embed="rId1"/>
          <a:stretch/>
        </p:blipFill>
        <p:spPr>
          <a:xfrm>
            <a:off x="5219640" y="2779560"/>
            <a:ext cx="3889440" cy="388944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33200" y="1341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Un consejero o asesor accesible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Oportunidades para expresar las preocupacione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Apoyo y estímulo para desarrollar habilidades para la solución de problema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954160" y="188640"/>
            <a:ext cx="48578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Objetivos de la asignatura</a:t>
            </a:r>
            <a:endParaRPr b="1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Entregar a los participantes distinciones y modelos teóricos que les permitan comprender  los fenómenos involucrados en su gestión, así como en la de sus equipo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Incrementar las habilidades y destrezas de los participantes para conducir y motivar personas, así como liderar procesos organizativos, colocando especial énfasis en: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Liderazgo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Trabajo en Equipo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Comunicación y estilos de administración de conflictos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990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533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533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2365515172_dfd88da3f7"/>
          <p:cNvPicPr/>
          <p:nvPr/>
        </p:nvPicPr>
        <p:blipFill>
          <a:blip r:embed="rId1"/>
          <a:stretch/>
        </p:blipFill>
        <p:spPr>
          <a:xfrm>
            <a:off x="4854600" y="263700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77640" y="151920"/>
            <a:ext cx="6426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Arial"/>
              </a:rPr>
              <a:t>Las necesidades de un D4</a:t>
            </a:r>
            <a:endParaRPr b="1" lang="en-US" sz="36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Diversidad y desafío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Un líder que sea un consejero y colega más que un jefe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Reconocimiento de sus contribuciones. 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Autonomía y autoridad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Confianza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6836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333399"/>
                </a:solidFill>
                <a:latin typeface="Arial"/>
              </a:rPr>
              <a:t>Flexibilidad</a:t>
            </a:r>
            <a:endParaRPr b="1" lang="en-US" sz="3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55640" y="1341360"/>
            <a:ext cx="7570800" cy="273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Arial"/>
              </a:rPr>
              <a:t>La habilidad para utilizar con naturalidad una variedad de</a:t>
            </a:r>
            <a:endParaRPr b="0" lang="en-US" sz="32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333399"/>
                </a:solidFill>
                <a:latin typeface="Arial"/>
              </a:rPr>
              <a:t>estilos de liderazgo.</a:t>
            </a:r>
            <a:endParaRPr b="0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pic>
        <p:nvPicPr>
          <p:cNvPr id="219" name="Picture 4" descr="2137737248_e9f3e429d1"/>
          <p:cNvPicPr/>
          <p:nvPr/>
        </p:nvPicPr>
        <p:blipFill>
          <a:blip r:embed="rId1"/>
          <a:stretch/>
        </p:blipFill>
        <p:spPr>
          <a:xfrm>
            <a:off x="5457960" y="3524400"/>
            <a:ext cx="3217680" cy="3217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987640" y="274320"/>
            <a:ext cx="468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COMPORTAMIENTO</a:t>
            </a:r>
            <a:endParaRPr b="1" lang="en-US" sz="36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5160" y="11970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DIRECCIÓN</a:t>
            </a:r>
            <a:r>
              <a:rPr b="1" lang="es-ES_tradnl" sz="2800" spc="-1" strike="noStrike">
                <a:solidFill>
                  <a:srgbClr val="0e088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APOYO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pic>
        <p:nvPicPr>
          <p:cNvPr id="222" name="Picture 4" descr="Fotolia_7829651_M"/>
          <p:cNvPicPr/>
          <p:nvPr/>
        </p:nvPicPr>
        <p:blipFill>
          <a:blip r:embed="rId1"/>
          <a:stretch/>
        </p:blipFill>
        <p:spPr>
          <a:xfrm>
            <a:off x="684360" y="1773360"/>
            <a:ext cx="360036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771640" y="151920"/>
            <a:ext cx="5275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000000"/>
                </a:solidFill>
                <a:latin typeface="Arial"/>
              </a:rPr>
              <a:t>Comportamiento </a:t>
            </a:r>
            <a:r>
              <a:rPr b="1" lang="es-CL" sz="3000" spc="-1" strike="noStrike">
                <a:solidFill>
                  <a:srgbClr val="ff0000"/>
                </a:solidFill>
                <a:latin typeface="Arial"/>
              </a:rPr>
              <a:t>Directivo</a:t>
            </a:r>
            <a:endParaRPr b="1" lang="en-US" sz="3000" spc="-1" strike="noStrike">
              <a:solidFill>
                <a:srgbClr val="0e088a"/>
              </a:solidFill>
              <a:latin typeface="UnitOT-Regular"/>
            </a:endParaRPr>
          </a:p>
        </p:txBody>
      </p:sp>
      <p:pic>
        <p:nvPicPr>
          <p:cNvPr id="224" name="Picture 10" descr="2364683065_f769bc7caf"/>
          <p:cNvPicPr/>
          <p:nvPr/>
        </p:nvPicPr>
        <p:blipFill>
          <a:blip r:embed="rId1"/>
          <a:stretch/>
        </p:blipFill>
        <p:spPr>
          <a:xfrm>
            <a:off x="4997520" y="2774880"/>
            <a:ext cx="4038480" cy="403884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e088a"/>
                </a:solidFill>
                <a:latin typeface="Arial"/>
                <a:ea typeface="Arial"/>
              </a:rPr>
              <a:t>Es el grado en que un líder: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Arial"/>
                <a:ea typeface="Arial"/>
              </a:rPr>
              <a:t>Le dice al colaborador qué hacer, cuándo y cómo hacerlo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Arial"/>
                <a:ea typeface="Arial"/>
              </a:rPr>
              <a:t>Define los papeles del líder y del colaborador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Arial"/>
                <a:ea typeface="Arial"/>
              </a:rPr>
              <a:t>Supervisa de cerca el desempeño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ransition>
    <p:dissolve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4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7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0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3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771280" y="15192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000000"/>
                </a:solidFill>
                <a:latin typeface="Arial"/>
              </a:rPr>
              <a:t>Comportamiento de </a:t>
            </a:r>
            <a:r>
              <a:rPr b="1" lang="es-CL" sz="3000" spc="-1" strike="noStrike">
                <a:solidFill>
                  <a:srgbClr val="333399"/>
                </a:solidFill>
                <a:latin typeface="Arial"/>
              </a:rPr>
              <a:t>Apoyo</a:t>
            </a:r>
            <a:endParaRPr b="1" lang="en-US" sz="3000" spc="-1" strike="noStrike">
              <a:solidFill>
                <a:srgbClr val="0e088a"/>
              </a:solidFill>
              <a:latin typeface="UnitOT-Regular"/>
            </a:endParaRPr>
          </a:p>
        </p:txBody>
      </p:sp>
      <p:pic>
        <p:nvPicPr>
          <p:cNvPr id="227" name="Picture 7" descr="2364665429_fefa9e071e"/>
          <p:cNvPicPr/>
          <p:nvPr/>
        </p:nvPicPr>
        <p:blipFill>
          <a:blip r:embed="rId1"/>
          <a:stretch/>
        </p:blipFill>
        <p:spPr>
          <a:xfrm>
            <a:off x="6443640" y="4510080"/>
            <a:ext cx="2592360" cy="230364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14280" y="1197000"/>
            <a:ext cx="8794800" cy="338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e088a"/>
                </a:solidFill>
                <a:latin typeface="Arial"/>
                <a:ea typeface="Arial"/>
              </a:rPr>
              <a:t>Es el grado en que un líder: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  <a:ea typeface="Arial"/>
              </a:rPr>
              <a:t>Se compromete más en la comunicación bilateral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  <a:ea typeface="Arial"/>
              </a:rPr>
              <a:t>Escucha y proporciona apoyo y estímulo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  <a:ea typeface="Arial"/>
              </a:rPr>
              <a:t>Involucra al colaborador en la toma de decisione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  <a:ea typeface="Arial"/>
              </a:rPr>
              <a:t>Estimula y facilita la autonomía en la solución de problema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ransition>
    <p:dissolve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6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9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2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5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8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48436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ct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Arial"/>
              </a:rPr>
              <a:t>Estilo de liderazgo</a:t>
            </a:r>
            <a:endParaRPr b="1" lang="en-US" sz="3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6920" y="1495440"/>
            <a:ext cx="736632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ts val="3498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e088a"/>
                </a:solidFill>
                <a:latin typeface="Arial"/>
              </a:rPr>
              <a:t>Percepción de sus colaboradores respecto al patrón de comportamientos que usted utiliza con ellos.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pic>
        <p:nvPicPr>
          <p:cNvPr id="231" name="Picture 4" descr="lider_3"/>
          <p:cNvPicPr/>
          <p:nvPr/>
        </p:nvPicPr>
        <p:blipFill>
          <a:blip r:embed="rId1"/>
          <a:stretch/>
        </p:blipFill>
        <p:spPr>
          <a:xfrm>
            <a:off x="2629080" y="3922560"/>
            <a:ext cx="4038480" cy="220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Group 2"/>
          <p:cNvGrpSpPr/>
          <p:nvPr/>
        </p:nvGrpSpPr>
        <p:grpSpPr>
          <a:xfrm>
            <a:off x="2771640" y="380880"/>
            <a:ext cx="6164280" cy="600120"/>
            <a:chOff x="2771640" y="380880"/>
            <a:chExt cx="6164280" cy="600120"/>
          </a:xfrm>
        </p:grpSpPr>
        <p:sp>
          <p:nvSpPr>
            <p:cNvPr id="233" name="Rectangle 3"/>
            <p:cNvSpPr/>
            <p:nvPr/>
          </p:nvSpPr>
          <p:spPr>
            <a:xfrm>
              <a:off x="2771640" y="404640"/>
              <a:ext cx="61642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Los 4 Estilos de Liderazg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34" name="Object 4"/>
            <p:cNvGraphicFramePr/>
            <p:nvPr/>
          </p:nvGraphicFramePr>
          <p:xfrm>
            <a:off x="7552800" y="380880"/>
            <a:ext cx="657000" cy="11484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35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552800" y="380880"/>
                      <a:ext cx="657000" cy="114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36" name="Line 15"/>
          <p:cNvSpPr/>
          <p:nvPr/>
        </p:nvSpPr>
        <p:spPr>
          <a:xfrm flipV="1">
            <a:off x="2058840" y="1846440"/>
            <a:ext cx="0" cy="41464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6"/>
          <p:cNvSpPr/>
          <p:nvPr/>
        </p:nvSpPr>
        <p:spPr>
          <a:xfrm>
            <a:off x="2327400" y="6237360"/>
            <a:ext cx="39798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7"/>
          <p:cNvSpPr/>
          <p:nvPr/>
        </p:nvSpPr>
        <p:spPr>
          <a:xfrm flipV="1">
            <a:off x="1473120" y="1942920"/>
            <a:ext cx="4680" cy="4081320"/>
          </a:xfrm>
          <a:prstGeom prst="line">
            <a:avLst/>
          </a:prstGeom>
          <a:ln w="25560">
            <a:solidFill>
              <a:srgbClr val="130bb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8"/>
          <p:cNvSpPr/>
          <p:nvPr/>
        </p:nvSpPr>
        <p:spPr>
          <a:xfrm>
            <a:off x="1795320" y="3719520"/>
            <a:ext cx="2698920" cy="25210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9"/>
          <p:cNvSpPr/>
          <p:nvPr/>
        </p:nvSpPr>
        <p:spPr>
          <a:xfrm>
            <a:off x="1806480" y="1222200"/>
            <a:ext cx="2687760" cy="24591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20"/>
          <p:cNvSpPr/>
          <p:nvPr/>
        </p:nvSpPr>
        <p:spPr>
          <a:xfrm>
            <a:off x="4471920" y="1235160"/>
            <a:ext cx="2751120" cy="2458800"/>
          </a:xfrm>
          <a:prstGeom prst="rect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1"/>
          <p:cNvSpPr/>
          <p:nvPr/>
        </p:nvSpPr>
        <p:spPr>
          <a:xfrm>
            <a:off x="2157480" y="6473880"/>
            <a:ext cx="49878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22"/>
          <p:cNvSpPr/>
          <p:nvPr/>
        </p:nvSpPr>
        <p:spPr>
          <a:xfrm>
            <a:off x="832680" y="6299280"/>
            <a:ext cx="7286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ahoma"/>
              </a:rPr>
              <a:t>(Bajo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23"/>
          <p:cNvSpPr/>
          <p:nvPr/>
        </p:nvSpPr>
        <p:spPr>
          <a:xfrm>
            <a:off x="7688160" y="6145200"/>
            <a:ext cx="698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ahoma"/>
              </a:rPr>
              <a:t>(Alto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4"/>
          <p:cNvSpPr/>
          <p:nvPr/>
        </p:nvSpPr>
        <p:spPr>
          <a:xfrm>
            <a:off x="2977920" y="6497640"/>
            <a:ext cx="2541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ahoma"/>
              </a:rPr>
              <a:t>COMPORTAMIENTO DIREC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5"/>
          <p:cNvSpPr/>
          <p:nvPr/>
        </p:nvSpPr>
        <p:spPr>
          <a:xfrm>
            <a:off x="774720" y="1293840"/>
            <a:ext cx="698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ahoma"/>
              </a:rPr>
              <a:t>(Alto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39"/>
          <p:cNvSpPr/>
          <p:nvPr/>
        </p:nvSpPr>
        <p:spPr>
          <a:xfrm rot="16200000">
            <a:off x="-149400" y="3867120"/>
            <a:ext cx="2494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130bb1"/>
                </a:solidFill>
                <a:latin typeface="Tahoma"/>
              </a:rPr>
              <a:t>COMPORTAMIENTO</a:t>
            </a: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1200" spc="-1" strike="noStrike">
                <a:solidFill>
                  <a:srgbClr val="130bb1"/>
                </a:solidFill>
                <a:latin typeface="Tahoma"/>
              </a:rPr>
              <a:t>DE AP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27"/>
          <p:cNvSpPr/>
          <p:nvPr/>
        </p:nvSpPr>
        <p:spPr>
          <a:xfrm>
            <a:off x="4486320" y="3679920"/>
            <a:ext cx="2736720" cy="25225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8"/>
          <p:cNvSpPr/>
          <p:nvPr/>
        </p:nvSpPr>
        <p:spPr>
          <a:xfrm>
            <a:off x="1773360" y="1197000"/>
            <a:ext cx="5446440" cy="50133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29"/>
          <p:cNvSpPr/>
          <p:nvPr/>
        </p:nvSpPr>
        <p:spPr>
          <a:xfrm>
            <a:off x="2413080" y="5078520"/>
            <a:ext cx="188712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4520" rIns="74520" tIns="36360" bIns="36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Tahoma"/>
              </a:rPr>
              <a:t>Comporta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Tahoma"/>
              </a:rPr>
              <a:t>bajo en apoyo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Tahoma"/>
              </a:rPr>
              <a:t>bajo en dire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32"/>
          <p:cNvSpPr/>
          <p:nvPr/>
        </p:nvSpPr>
        <p:spPr>
          <a:xfrm>
            <a:off x="4666320" y="5078520"/>
            <a:ext cx="205920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4520" rIns="7452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Comportamien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alto en dirección 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bajo en apoy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33"/>
          <p:cNvSpPr/>
          <p:nvPr/>
        </p:nvSpPr>
        <p:spPr>
          <a:xfrm>
            <a:off x="4427640" y="1574640"/>
            <a:ext cx="2714400" cy="3603960"/>
          </a:xfrm>
          <a:custGeom>
            <a:avLst/>
            <a:gdLst>
              <a:gd name="textAreaLeft" fmla="*/ 0 w 2714400"/>
              <a:gd name="textAreaRight" fmla="*/ 2714760 w 2714400"/>
              <a:gd name="textAreaTop" fmla="*/ 0 h 3603960"/>
              <a:gd name="textAreaBottom" fmla="*/ 3604320 h 3603960"/>
            </a:gdLst>
            <a:ahLst/>
            <a:rect l="textAreaLeft" t="textAreaTop" r="textAreaRight" b="textAreaBottom"/>
            <a:pathLst>
              <a:path w="1348" h="1959">
                <a:moveTo>
                  <a:pt x="0" y="120"/>
                </a:moveTo>
                <a:lnTo>
                  <a:pt x="25" y="121"/>
                </a:lnTo>
                <a:lnTo>
                  <a:pt x="41" y="124"/>
                </a:lnTo>
                <a:lnTo>
                  <a:pt x="52" y="125"/>
                </a:lnTo>
                <a:lnTo>
                  <a:pt x="63" y="128"/>
                </a:lnTo>
                <a:lnTo>
                  <a:pt x="71" y="131"/>
                </a:lnTo>
                <a:lnTo>
                  <a:pt x="82" y="135"/>
                </a:lnTo>
                <a:lnTo>
                  <a:pt x="92" y="140"/>
                </a:lnTo>
                <a:lnTo>
                  <a:pt x="103" y="146"/>
                </a:lnTo>
                <a:lnTo>
                  <a:pt x="122" y="154"/>
                </a:lnTo>
                <a:lnTo>
                  <a:pt x="141" y="166"/>
                </a:lnTo>
                <a:lnTo>
                  <a:pt x="159" y="177"/>
                </a:lnTo>
                <a:lnTo>
                  <a:pt x="180" y="191"/>
                </a:lnTo>
                <a:lnTo>
                  <a:pt x="197" y="202"/>
                </a:lnTo>
                <a:lnTo>
                  <a:pt x="231" y="230"/>
                </a:lnTo>
                <a:lnTo>
                  <a:pt x="265" y="264"/>
                </a:lnTo>
                <a:lnTo>
                  <a:pt x="295" y="298"/>
                </a:lnTo>
                <a:lnTo>
                  <a:pt x="333" y="350"/>
                </a:lnTo>
                <a:lnTo>
                  <a:pt x="361" y="397"/>
                </a:lnTo>
                <a:lnTo>
                  <a:pt x="391" y="446"/>
                </a:lnTo>
                <a:lnTo>
                  <a:pt x="409" y="493"/>
                </a:lnTo>
                <a:lnTo>
                  <a:pt x="425" y="538"/>
                </a:lnTo>
                <a:lnTo>
                  <a:pt x="447" y="590"/>
                </a:lnTo>
                <a:lnTo>
                  <a:pt x="463" y="640"/>
                </a:lnTo>
                <a:lnTo>
                  <a:pt x="483" y="718"/>
                </a:lnTo>
                <a:lnTo>
                  <a:pt x="500" y="790"/>
                </a:lnTo>
                <a:lnTo>
                  <a:pt x="511" y="860"/>
                </a:lnTo>
                <a:lnTo>
                  <a:pt x="524" y="946"/>
                </a:lnTo>
                <a:lnTo>
                  <a:pt x="532" y="1004"/>
                </a:lnTo>
                <a:lnTo>
                  <a:pt x="542" y="1072"/>
                </a:lnTo>
                <a:lnTo>
                  <a:pt x="551" y="1117"/>
                </a:lnTo>
                <a:lnTo>
                  <a:pt x="556" y="1158"/>
                </a:lnTo>
                <a:lnTo>
                  <a:pt x="567" y="1210"/>
                </a:lnTo>
                <a:lnTo>
                  <a:pt x="581" y="1262"/>
                </a:lnTo>
                <a:lnTo>
                  <a:pt x="591" y="1304"/>
                </a:lnTo>
                <a:lnTo>
                  <a:pt x="604" y="1354"/>
                </a:lnTo>
                <a:lnTo>
                  <a:pt x="618" y="1402"/>
                </a:lnTo>
                <a:lnTo>
                  <a:pt x="630" y="1443"/>
                </a:lnTo>
                <a:lnTo>
                  <a:pt x="648" y="1480"/>
                </a:lnTo>
                <a:lnTo>
                  <a:pt x="661" y="1510"/>
                </a:lnTo>
                <a:lnTo>
                  <a:pt x="675" y="1541"/>
                </a:lnTo>
                <a:lnTo>
                  <a:pt x="696" y="1574"/>
                </a:lnTo>
                <a:lnTo>
                  <a:pt x="718" y="1612"/>
                </a:lnTo>
                <a:lnTo>
                  <a:pt x="743" y="1647"/>
                </a:lnTo>
                <a:lnTo>
                  <a:pt x="776" y="1691"/>
                </a:lnTo>
                <a:lnTo>
                  <a:pt x="809" y="1728"/>
                </a:lnTo>
                <a:lnTo>
                  <a:pt x="844" y="1763"/>
                </a:lnTo>
                <a:lnTo>
                  <a:pt x="883" y="1793"/>
                </a:lnTo>
                <a:lnTo>
                  <a:pt x="912" y="1812"/>
                </a:lnTo>
                <a:lnTo>
                  <a:pt x="935" y="1826"/>
                </a:lnTo>
                <a:lnTo>
                  <a:pt x="959" y="1838"/>
                </a:lnTo>
                <a:lnTo>
                  <a:pt x="988" y="1853"/>
                </a:lnTo>
                <a:lnTo>
                  <a:pt x="1021" y="1868"/>
                </a:lnTo>
                <a:lnTo>
                  <a:pt x="1056" y="1882"/>
                </a:lnTo>
                <a:lnTo>
                  <a:pt x="1094" y="1898"/>
                </a:lnTo>
                <a:lnTo>
                  <a:pt x="1129" y="1908"/>
                </a:lnTo>
                <a:lnTo>
                  <a:pt x="1161" y="1918"/>
                </a:lnTo>
                <a:lnTo>
                  <a:pt x="1193" y="1927"/>
                </a:lnTo>
                <a:lnTo>
                  <a:pt x="1228" y="1936"/>
                </a:lnTo>
                <a:lnTo>
                  <a:pt x="1260" y="1944"/>
                </a:lnTo>
                <a:lnTo>
                  <a:pt x="1304" y="1951"/>
                </a:lnTo>
                <a:lnTo>
                  <a:pt x="1347" y="1958"/>
                </a:lnTo>
                <a:lnTo>
                  <a:pt x="1347" y="1829"/>
                </a:lnTo>
                <a:lnTo>
                  <a:pt x="1315" y="1819"/>
                </a:lnTo>
                <a:lnTo>
                  <a:pt x="1270" y="1811"/>
                </a:lnTo>
                <a:lnTo>
                  <a:pt x="1237" y="1804"/>
                </a:lnTo>
                <a:lnTo>
                  <a:pt x="1199" y="1793"/>
                </a:lnTo>
                <a:lnTo>
                  <a:pt x="1171" y="1785"/>
                </a:lnTo>
                <a:lnTo>
                  <a:pt x="1149" y="1775"/>
                </a:lnTo>
                <a:lnTo>
                  <a:pt x="1122" y="1767"/>
                </a:lnTo>
                <a:lnTo>
                  <a:pt x="1090" y="1758"/>
                </a:lnTo>
                <a:lnTo>
                  <a:pt x="1063" y="1747"/>
                </a:lnTo>
                <a:lnTo>
                  <a:pt x="1038" y="1736"/>
                </a:lnTo>
                <a:lnTo>
                  <a:pt x="1019" y="1724"/>
                </a:lnTo>
                <a:lnTo>
                  <a:pt x="992" y="1709"/>
                </a:lnTo>
                <a:lnTo>
                  <a:pt x="957" y="1685"/>
                </a:lnTo>
                <a:lnTo>
                  <a:pt x="931" y="1669"/>
                </a:lnTo>
                <a:lnTo>
                  <a:pt x="907" y="1649"/>
                </a:lnTo>
                <a:lnTo>
                  <a:pt x="880" y="1623"/>
                </a:lnTo>
                <a:lnTo>
                  <a:pt x="851" y="1587"/>
                </a:lnTo>
                <a:lnTo>
                  <a:pt x="826" y="1551"/>
                </a:lnTo>
                <a:lnTo>
                  <a:pt x="795" y="1500"/>
                </a:lnTo>
                <a:lnTo>
                  <a:pt x="767" y="1450"/>
                </a:lnTo>
                <a:lnTo>
                  <a:pt x="745" y="1401"/>
                </a:lnTo>
                <a:lnTo>
                  <a:pt x="732" y="1365"/>
                </a:lnTo>
                <a:lnTo>
                  <a:pt x="720" y="1322"/>
                </a:lnTo>
                <a:lnTo>
                  <a:pt x="710" y="1290"/>
                </a:lnTo>
                <a:lnTo>
                  <a:pt x="699" y="1233"/>
                </a:lnTo>
                <a:lnTo>
                  <a:pt x="687" y="1176"/>
                </a:lnTo>
                <a:lnTo>
                  <a:pt x="678" y="1134"/>
                </a:lnTo>
                <a:lnTo>
                  <a:pt x="668" y="1075"/>
                </a:lnTo>
                <a:lnTo>
                  <a:pt x="660" y="1016"/>
                </a:lnTo>
                <a:lnTo>
                  <a:pt x="650" y="951"/>
                </a:lnTo>
                <a:lnTo>
                  <a:pt x="641" y="890"/>
                </a:lnTo>
                <a:lnTo>
                  <a:pt x="627" y="809"/>
                </a:lnTo>
                <a:lnTo>
                  <a:pt x="619" y="758"/>
                </a:lnTo>
                <a:lnTo>
                  <a:pt x="609" y="704"/>
                </a:lnTo>
                <a:lnTo>
                  <a:pt x="598" y="657"/>
                </a:lnTo>
                <a:lnTo>
                  <a:pt x="584" y="601"/>
                </a:lnTo>
                <a:lnTo>
                  <a:pt x="570" y="565"/>
                </a:lnTo>
                <a:lnTo>
                  <a:pt x="556" y="525"/>
                </a:lnTo>
                <a:lnTo>
                  <a:pt x="532" y="471"/>
                </a:lnTo>
                <a:lnTo>
                  <a:pt x="518" y="440"/>
                </a:lnTo>
                <a:lnTo>
                  <a:pt x="502" y="397"/>
                </a:lnTo>
                <a:lnTo>
                  <a:pt x="468" y="339"/>
                </a:lnTo>
                <a:lnTo>
                  <a:pt x="443" y="294"/>
                </a:lnTo>
                <a:lnTo>
                  <a:pt x="423" y="266"/>
                </a:lnTo>
                <a:lnTo>
                  <a:pt x="397" y="236"/>
                </a:lnTo>
                <a:lnTo>
                  <a:pt x="352" y="184"/>
                </a:lnTo>
                <a:lnTo>
                  <a:pt x="323" y="151"/>
                </a:lnTo>
                <a:lnTo>
                  <a:pt x="295" y="127"/>
                </a:lnTo>
                <a:lnTo>
                  <a:pt x="257" y="97"/>
                </a:lnTo>
                <a:lnTo>
                  <a:pt x="219" y="74"/>
                </a:lnTo>
                <a:lnTo>
                  <a:pt x="169" y="49"/>
                </a:lnTo>
                <a:lnTo>
                  <a:pt x="154" y="41"/>
                </a:lnTo>
                <a:lnTo>
                  <a:pt x="136" y="33"/>
                </a:lnTo>
                <a:lnTo>
                  <a:pt x="124" y="29"/>
                </a:lnTo>
                <a:lnTo>
                  <a:pt x="110" y="25"/>
                </a:lnTo>
                <a:lnTo>
                  <a:pt x="98" y="19"/>
                </a:lnTo>
                <a:lnTo>
                  <a:pt x="87" y="15"/>
                </a:lnTo>
                <a:lnTo>
                  <a:pt x="74" y="14"/>
                </a:lnTo>
                <a:lnTo>
                  <a:pt x="53" y="8"/>
                </a:lnTo>
                <a:lnTo>
                  <a:pt x="36" y="5"/>
                </a:lnTo>
                <a:lnTo>
                  <a:pt x="22" y="3"/>
                </a:lnTo>
                <a:lnTo>
                  <a:pt x="0" y="0"/>
                </a:lnTo>
                <a:lnTo>
                  <a:pt x="0" y="120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34"/>
          <p:cNvSpPr/>
          <p:nvPr/>
        </p:nvSpPr>
        <p:spPr>
          <a:xfrm>
            <a:off x="1857240" y="1574640"/>
            <a:ext cx="2641680" cy="3603960"/>
          </a:xfrm>
          <a:custGeom>
            <a:avLst/>
            <a:gdLst>
              <a:gd name="textAreaLeft" fmla="*/ 0 w 2641680"/>
              <a:gd name="textAreaRight" fmla="*/ 2642040 w 2641680"/>
              <a:gd name="textAreaTop" fmla="*/ 0 h 3603960"/>
              <a:gd name="textAreaBottom" fmla="*/ 3604320 h 3603960"/>
            </a:gdLst>
            <a:ahLst/>
            <a:rect l="textAreaLeft" t="textAreaTop" r="textAreaRight" b="textAreaBottom"/>
            <a:pathLst>
              <a:path w="1348" h="1959">
                <a:moveTo>
                  <a:pt x="1347" y="120"/>
                </a:moveTo>
                <a:lnTo>
                  <a:pt x="1320" y="121"/>
                </a:lnTo>
                <a:lnTo>
                  <a:pt x="1306" y="124"/>
                </a:lnTo>
                <a:lnTo>
                  <a:pt x="1295" y="125"/>
                </a:lnTo>
                <a:lnTo>
                  <a:pt x="1284" y="128"/>
                </a:lnTo>
                <a:lnTo>
                  <a:pt x="1276" y="131"/>
                </a:lnTo>
                <a:lnTo>
                  <a:pt x="1264" y="135"/>
                </a:lnTo>
                <a:lnTo>
                  <a:pt x="1255" y="140"/>
                </a:lnTo>
                <a:lnTo>
                  <a:pt x="1243" y="146"/>
                </a:lnTo>
                <a:lnTo>
                  <a:pt x="1225" y="154"/>
                </a:lnTo>
                <a:lnTo>
                  <a:pt x="1206" y="166"/>
                </a:lnTo>
                <a:lnTo>
                  <a:pt x="1188" y="177"/>
                </a:lnTo>
                <a:lnTo>
                  <a:pt x="1167" y="191"/>
                </a:lnTo>
                <a:lnTo>
                  <a:pt x="1150" y="202"/>
                </a:lnTo>
                <a:lnTo>
                  <a:pt x="1115" y="230"/>
                </a:lnTo>
                <a:lnTo>
                  <a:pt x="1081" y="264"/>
                </a:lnTo>
                <a:lnTo>
                  <a:pt x="1052" y="298"/>
                </a:lnTo>
                <a:lnTo>
                  <a:pt x="1013" y="350"/>
                </a:lnTo>
                <a:lnTo>
                  <a:pt x="988" y="397"/>
                </a:lnTo>
                <a:lnTo>
                  <a:pt x="955" y="446"/>
                </a:lnTo>
                <a:lnTo>
                  <a:pt x="937" y="493"/>
                </a:lnTo>
                <a:lnTo>
                  <a:pt x="922" y="538"/>
                </a:lnTo>
                <a:lnTo>
                  <a:pt x="899" y="590"/>
                </a:lnTo>
                <a:lnTo>
                  <a:pt x="885" y="640"/>
                </a:lnTo>
                <a:lnTo>
                  <a:pt x="863" y="718"/>
                </a:lnTo>
                <a:lnTo>
                  <a:pt x="848" y="790"/>
                </a:lnTo>
                <a:lnTo>
                  <a:pt x="834" y="860"/>
                </a:lnTo>
                <a:lnTo>
                  <a:pt x="822" y="946"/>
                </a:lnTo>
                <a:lnTo>
                  <a:pt x="814" y="1004"/>
                </a:lnTo>
                <a:lnTo>
                  <a:pt x="804" y="1072"/>
                </a:lnTo>
                <a:lnTo>
                  <a:pt x="796" y="1117"/>
                </a:lnTo>
                <a:lnTo>
                  <a:pt x="790" y="1158"/>
                </a:lnTo>
                <a:lnTo>
                  <a:pt x="781" y="1210"/>
                </a:lnTo>
                <a:lnTo>
                  <a:pt x="767" y="1262"/>
                </a:lnTo>
                <a:lnTo>
                  <a:pt x="755" y="1304"/>
                </a:lnTo>
                <a:lnTo>
                  <a:pt x="743" y="1354"/>
                </a:lnTo>
                <a:lnTo>
                  <a:pt x="729" y="1402"/>
                </a:lnTo>
                <a:lnTo>
                  <a:pt x="716" y="1443"/>
                </a:lnTo>
                <a:lnTo>
                  <a:pt x="699" y="1480"/>
                </a:lnTo>
                <a:lnTo>
                  <a:pt x="685" y="1510"/>
                </a:lnTo>
                <a:lnTo>
                  <a:pt x="671" y="1541"/>
                </a:lnTo>
                <a:lnTo>
                  <a:pt x="650" y="1574"/>
                </a:lnTo>
                <a:lnTo>
                  <a:pt x="629" y="1612"/>
                </a:lnTo>
                <a:lnTo>
                  <a:pt x="603" y="1647"/>
                </a:lnTo>
                <a:lnTo>
                  <a:pt x="572" y="1691"/>
                </a:lnTo>
                <a:lnTo>
                  <a:pt x="539" y="1728"/>
                </a:lnTo>
                <a:lnTo>
                  <a:pt x="502" y="1763"/>
                </a:lnTo>
                <a:lnTo>
                  <a:pt x="463" y="1793"/>
                </a:lnTo>
                <a:lnTo>
                  <a:pt x="434" y="1812"/>
                </a:lnTo>
                <a:lnTo>
                  <a:pt x="413" y="1826"/>
                </a:lnTo>
                <a:lnTo>
                  <a:pt x="387" y="1838"/>
                </a:lnTo>
                <a:lnTo>
                  <a:pt x="359" y="1853"/>
                </a:lnTo>
                <a:lnTo>
                  <a:pt x="326" y="1868"/>
                </a:lnTo>
                <a:lnTo>
                  <a:pt x="291" y="1882"/>
                </a:lnTo>
                <a:lnTo>
                  <a:pt x="252" y="1898"/>
                </a:lnTo>
                <a:lnTo>
                  <a:pt x="218" y="1908"/>
                </a:lnTo>
                <a:lnTo>
                  <a:pt x="186" y="1918"/>
                </a:lnTo>
                <a:lnTo>
                  <a:pt x="154" y="1927"/>
                </a:lnTo>
                <a:lnTo>
                  <a:pt x="119" y="1936"/>
                </a:lnTo>
                <a:lnTo>
                  <a:pt x="87" y="1944"/>
                </a:lnTo>
                <a:lnTo>
                  <a:pt x="43" y="1951"/>
                </a:lnTo>
                <a:lnTo>
                  <a:pt x="0" y="1958"/>
                </a:lnTo>
                <a:lnTo>
                  <a:pt x="0" y="1829"/>
                </a:lnTo>
                <a:lnTo>
                  <a:pt x="34" y="1819"/>
                </a:lnTo>
                <a:lnTo>
                  <a:pt x="77" y="1811"/>
                </a:lnTo>
                <a:lnTo>
                  <a:pt x="109" y="1804"/>
                </a:lnTo>
                <a:lnTo>
                  <a:pt x="148" y="1793"/>
                </a:lnTo>
                <a:lnTo>
                  <a:pt x="176" y="1785"/>
                </a:lnTo>
                <a:lnTo>
                  <a:pt x="200" y="1775"/>
                </a:lnTo>
                <a:lnTo>
                  <a:pt x="227" y="1767"/>
                </a:lnTo>
                <a:lnTo>
                  <a:pt x="256" y="1758"/>
                </a:lnTo>
                <a:lnTo>
                  <a:pt x="283" y="1747"/>
                </a:lnTo>
                <a:lnTo>
                  <a:pt x="309" y="1736"/>
                </a:lnTo>
                <a:lnTo>
                  <a:pt x="329" y="1724"/>
                </a:lnTo>
                <a:lnTo>
                  <a:pt x="355" y="1709"/>
                </a:lnTo>
                <a:lnTo>
                  <a:pt x="390" y="1685"/>
                </a:lnTo>
                <a:lnTo>
                  <a:pt x="417" y="1669"/>
                </a:lnTo>
                <a:lnTo>
                  <a:pt x="441" y="1649"/>
                </a:lnTo>
                <a:lnTo>
                  <a:pt x="467" y="1623"/>
                </a:lnTo>
                <a:lnTo>
                  <a:pt x="497" y="1587"/>
                </a:lnTo>
                <a:lnTo>
                  <a:pt x="522" y="1551"/>
                </a:lnTo>
                <a:lnTo>
                  <a:pt x="553" y="1500"/>
                </a:lnTo>
                <a:lnTo>
                  <a:pt x="579" y="1450"/>
                </a:lnTo>
                <a:lnTo>
                  <a:pt x="601" y="1401"/>
                </a:lnTo>
                <a:lnTo>
                  <a:pt x="615" y="1365"/>
                </a:lnTo>
                <a:lnTo>
                  <a:pt x="627" y="1322"/>
                </a:lnTo>
                <a:lnTo>
                  <a:pt x="635" y="1290"/>
                </a:lnTo>
                <a:lnTo>
                  <a:pt x="648" y="1233"/>
                </a:lnTo>
                <a:lnTo>
                  <a:pt x="660" y="1176"/>
                </a:lnTo>
                <a:lnTo>
                  <a:pt x="669" y="1134"/>
                </a:lnTo>
                <a:lnTo>
                  <a:pt x="680" y="1075"/>
                </a:lnTo>
                <a:lnTo>
                  <a:pt x="688" y="1016"/>
                </a:lnTo>
                <a:lnTo>
                  <a:pt x="697" y="951"/>
                </a:lnTo>
                <a:lnTo>
                  <a:pt x="706" y="890"/>
                </a:lnTo>
                <a:lnTo>
                  <a:pt x="719" y="809"/>
                </a:lnTo>
                <a:lnTo>
                  <a:pt x="727" y="758"/>
                </a:lnTo>
                <a:lnTo>
                  <a:pt x="739" y="704"/>
                </a:lnTo>
                <a:lnTo>
                  <a:pt x="750" y="657"/>
                </a:lnTo>
                <a:lnTo>
                  <a:pt x="762" y="601"/>
                </a:lnTo>
                <a:lnTo>
                  <a:pt x="776" y="565"/>
                </a:lnTo>
                <a:lnTo>
                  <a:pt x="790" y="525"/>
                </a:lnTo>
                <a:lnTo>
                  <a:pt x="814" y="471"/>
                </a:lnTo>
                <a:lnTo>
                  <a:pt x="828" y="440"/>
                </a:lnTo>
                <a:lnTo>
                  <a:pt x="846" y="397"/>
                </a:lnTo>
                <a:lnTo>
                  <a:pt x="878" y="339"/>
                </a:lnTo>
                <a:lnTo>
                  <a:pt x="904" y="294"/>
                </a:lnTo>
                <a:lnTo>
                  <a:pt x="923" y="266"/>
                </a:lnTo>
                <a:lnTo>
                  <a:pt x="950" y="236"/>
                </a:lnTo>
                <a:lnTo>
                  <a:pt x="995" y="184"/>
                </a:lnTo>
                <a:lnTo>
                  <a:pt x="1024" y="151"/>
                </a:lnTo>
                <a:lnTo>
                  <a:pt x="1052" y="127"/>
                </a:lnTo>
                <a:lnTo>
                  <a:pt x="1091" y="97"/>
                </a:lnTo>
                <a:lnTo>
                  <a:pt x="1127" y="74"/>
                </a:lnTo>
                <a:lnTo>
                  <a:pt x="1178" y="49"/>
                </a:lnTo>
                <a:lnTo>
                  <a:pt x="1193" y="41"/>
                </a:lnTo>
                <a:lnTo>
                  <a:pt x="1211" y="33"/>
                </a:lnTo>
                <a:lnTo>
                  <a:pt x="1224" y="29"/>
                </a:lnTo>
                <a:lnTo>
                  <a:pt x="1236" y="25"/>
                </a:lnTo>
                <a:lnTo>
                  <a:pt x="1250" y="19"/>
                </a:lnTo>
                <a:lnTo>
                  <a:pt x="1260" y="15"/>
                </a:lnTo>
                <a:lnTo>
                  <a:pt x="1273" y="14"/>
                </a:lnTo>
                <a:lnTo>
                  <a:pt x="1294" y="8"/>
                </a:lnTo>
                <a:lnTo>
                  <a:pt x="1309" y="5"/>
                </a:lnTo>
                <a:lnTo>
                  <a:pt x="1323" y="3"/>
                </a:lnTo>
                <a:lnTo>
                  <a:pt x="1347" y="0"/>
                </a:lnTo>
                <a:lnTo>
                  <a:pt x="1347" y="120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5"/>
          <p:cNvSpPr/>
          <p:nvPr/>
        </p:nvSpPr>
        <p:spPr>
          <a:xfrm>
            <a:off x="2278080" y="2576520"/>
            <a:ext cx="1812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ahoma"/>
              </a:rPr>
              <a:t>Apoy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6"/>
          <p:cNvSpPr/>
          <p:nvPr/>
        </p:nvSpPr>
        <p:spPr>
          <a:xfrm>
            <a:off x="5038560" y="4216320"/>
            <a:ext cx="1812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irig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37"/>
          <p:cNvSpPr/>
          <p:nvPr/>
        </p:nvSpPr>
        <p:spPr>
          <a:xfrm>
            <a:off x="4932360" y="2576520"/>
            <a:ext cx="1809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ahoma"/>
              </a:rPr>
              <a:t>Orien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8"/>
          <p:cNvSpPr/>
          <p:nvPr/>
        </p:nvSpPr>
        <p:spPr>
          <a:xfrm>
            <a:off x="2166840" y="4216320"/>
            <a:ext cx="1814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ahoma"/>
              </a:rPr>
              <a:t>Deleg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31"/>
          <p:cNvSpPr/>
          <p:nvPr/>
        </p:nvSpPr>
        <p:spPr>
          <a:xfrm>
            <a:off x="5153400" y="1231920"/>
            <a:ext cx="200592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4520" rIns="74520" tIns="36360" bIns="36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Tahoma"/>
              </a:rPr>
              <a:t>Comporta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Tahoma"/>
              </a:rPr>
              <a:t>alto en dirección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Tahoma"/>
              </a:rPr>
              <a:t>alto en apoy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1783440" y="1220760"/>
            <a:ext cx="194040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4520" rIns="7452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Tahoma"/>
              </a:rPr>
              <a:t>Comportamien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Tahoma"/>
              </a:rPr>
              <a:t>alto en apoyo 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Tahoma"/>
              </a:rPr>
              <a:t>bajo en dire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Oval 2"/>
          <p:cNvSpPr/>
          <p:nvPr/>
        </p:nvSpPr>
        <p:spPr>
          <a:xfrm>
            <a:off x="6378480" y="3211560"/>
            <a:ext cx="209520" cy="112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3"/>
          <p:cNvSpPr/>
          <p:nvPr/>
        </p:nvSpPr>
        <p:spPr>
          <a:xfrm>
            <a:off x="6491160" y="2403360"/>
            <a:ext cx="149400" cy="88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4"/>
          <p:cNvSpPr/>
          <p:nvPr/>
        </p:nvSpPr>
        <p:spPr>
          <a:xfrm>
            <a:off x="7716960" y="2665440"/>
            <a:ext cx="110880" cy="225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465280" y="43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  <a:ea typeface="Arial"/>
              </a:rPr>
              <a:t>EL MODELO INTEGRADO</a:t>
            </a:r>
            <a:endParaRPr b="1" lang="en-US" sz="20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264" name="Marcador de número de diapositiva 3"/>
          <p:cNvSpPr/>
          <p:nvPr/>
        </p:nvSpPr>
        <p:spPr>
          <a:xfrm>
            <a:off x="6438960" y="6292800"/>
            <a:ext cx="213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6BADE-5D2E-4894-882A-F1BAA09AA894}" type="slidenum">
              <a:rPr b="0" lang="es-ES" sz="900" spc="-1" strike="noStrike">
                <a:solidFill>
                  <a:srgbClr val="808080"/>
                </a:solidFill>
                <a:latin typeface="UnitOT-Regular"/>
                <a:ea typeface="ＭＳ Ｐゴシック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7"/>
          <p:cNvGrpSpPr/>
          <p:nvPr/>
        </p:nvGrpSpPr>
        <p:grpSpPr>
          <a:xfrm>
            <a:off x="250920" y="1612800"/>
            <a:ext cx="4200480" cy="2824200"/>
            <a:chOff x="250920" y="1612800"/>
            <a:chExt cx="4200480" cy="2824200"/>
          </a:xfrm>
        </p:grpSpPr>
        <p:sp>
          <p:nvSpPr>
            <p:cNvPr id="266" name="Rectangle 8"/>
            <p:cNvSpPr/>
            <p:nvPr/>
          </p:nvSpPr>
          <p:spPr>
            <a:xfrm>
              <a:off x="3402000" y="3210840"/>
              <a:ext cx="1049400" cy="122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9"/>
            <p:cNvSpPr/>
            <p:nvPr/>
          </p:nvSpPr>
          <p:spPr>
            <a:xfrm>
              <a:off x="2351160" y="3210840"/>
              <a:ext cx="1050840" cy="122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0"/>
            <p:cNvSpPr/>
            <p:nvPr/>
          </p:nvSpPr>
          <p:spPr>
            <a:xfrm>
              <a:off x="1301760" y="3210840"/>
              <a:ext cx="1049400" cy="122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1"/>
            <p:cNvSpPr/>
            <p:nvPr/>
          </p:nvSpPr>
          <p:spPr>
            <a:xfrm>
              <a:off x="250920" y="3210840"/>
              <a:ext cx="1050840" cy="122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2"/>
            <p:cNvSpPr/>
            <p:nvPr/>
          </p:nvSpPr>
          <p:spPr>
            <a:xfrm>
              <a:off x="3402000" y="2153520"/>
              <a:ext cx="1049400" cy="105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3"/>
            <p:cNvSpPr/>
            <p:nvPr/>
          </p:nvSpPr>
          <p:spPr>
            <a:xfrm>
              <a:off x="2351160" y="2153520"/>
              <a:ext cx="1050840" cy="105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4"/>
            <p:cNvSpPr/>
            <p:nvPr/>
          </p:nvSpPr>
          <p:spPr>
            <a:xfrm>
              <a:off x="1301760" y="2153520"/>
              <a:ext cx="1049400" cy="105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5"/>
            <p:cNvSpPr/>
            <p:nvPr/>
          </p:nvSpPr>
          <p:spPr>
            <a:xfrm>
              <a:off x="250920" y="2153520"/>
              <a:ext cx="1050840" cy="105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6"/>
            <p:cNvSpPr/>
            <p:nvPr/>
          </p:nvSpPr>
          <p:spPr>
            <a:xfrm>
              <a:off x="3402000" y="1612800"/>
              <a:ext cx="1049400" cy="5407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800" spc="-1" strike="noStrike">
                  <a:solidFill>
                    <a:srgbClr val="003399"/>
                  </a:solidFill>
                  <a:latin typeface="Arial"/>
                </a:rPr>
                <a:t>COMPETEN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800" spc="-1" strike="noStrike">
                  <a:solidFill>
                    <a:srgbClr val="003399"/>
                  </a:solidFill>
                  <a:latin typeface="Arial"/>
                </a:rPr>
                <a:t>AUTÓNOM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800" spc="-1" strike="noStrike">
                  <a:solidFill>
                    <a:srgbClr val="003399"/>
                  </a:solidFill>
                  <a:latin typeface="Arial"/>
                </a:rPr>
                <a:t>D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17"/>
            <p:cNvSpPr/>
            <p:nvPr/>
          </p:nvSpPr>
          <p:spPr>
            <a:xfrm>
              <a:off x="2351160" y="1612800"/>
              <a:ext cx="1050840" cy="5407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800" spc="-1" strike="noStrike">
                  <a:solidFill>
                    <a:srgbClr val="003399"/>
                  </a:solidFill>
                  <a:latin typeface="Arial"/>
                </a:rPr>
                <a:t>COMPETEN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800" spc="-1" strike="noStrike">
                  <a:solidFill>
                    <a:srgbClr val="003399"/>
                  </a:solidFill>
                  <a:latin typeface="Arial"/>
                </a:rPr>
                <a:t>INSEGUR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800" spc="-1" strike="noStrike">
                  <a:solidFill>
                    <a:srgbClr val="003399"/>
                  </a:solidFill>
                  <a:latin typeface="Arial"/>
                </a:rPr>
                <a:t>D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18"/>
            <p:cNvSpPr/>
            <p:nvPr/>
          </p:nvSpPr>
          <p:spPr>
            <a:xfrm>
              <a:off x="1301760" y="1612800"/>
              <a:ext cx="1049400" cy="5407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Arial"/>
                </a:rPr>
                <a:t>APRENDIZ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Arial"/>
                </a:rPr>
                <a:t>DESILUSIONAD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Arial"/>
                </a:rPr>
                <a:t>D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19"/>
            <p:cNvSpPr/>
            <p:nvPr/>
          </p:nvSpPr>
          <p:spPr>
            <a:xfrm>
              <a:off x="250920" y="1612800"/>
              <a:ext cx="1050840" cy="540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Arial"/>
                </a:rPr>
                <a:t>APRENDIZ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Arial"/>
                </a:rPr>
                <a:t>ENTUSIASTA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Arial"/>
                </a:rPr>
                <a:t>D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20"/>
            <p:cNvSpPr/>
            <p:nvPr/>
          </p:nvSpPr>
          <p:spPr>
            <a:xfrm>
              <a:off x="250920" y="2153520"/>
              <a:ext cx="420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1"/>
            <p:cNvSpPr/>
            <p:nvPr/>
          </p:nvSpPr>
          <p:spPr>
            <a:xfrm>
              <a:off x="250920" y="3210840"/>
              <a:ext cx="420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22"/>
            <p:cNvSpPr/>
            <p:nvPr/>
          </p:nvSpPr>
          <p:spPr>
            <a:xfrm>
              <a:off x="1301760" y="1612800"/>
              <a:ext cx="0" cy="282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3"/>
            <p:cNvSpPr/>
            <p:nvPr/>
          </p:nvSpPr>
          <p:spPr>
            <a:xfrm>
              <a:off x="2351160" y="1612800"/>
              <a:ext cx="0" cy="282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4"/>
            <p:cNvSpPr/>
            <p:nvPr/>
          </p:nvSpPr>
          <p:spPr>
            <a:xfrm>
              <a:off x="3402000" y="1612800"/>
              <a:ext cx="0" cy="282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5"/>
            <p:cNvSpPr/>
            <p:nvPr/>
          </p:nvSpPr>
          <p:spPr>
            <a:xfrm>
              <a:off x="250920" y="1612800"/>
              <a:ext cx="420048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6"/>
            <p:cNvSpPr/>
            <p:nvPr/>
          </p:nvSpPr>
          <p:spPr>
            <a:xfrm>
              <a:off x="250920" y="1612800"/>
              <a:ext cx="0" cy="282420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4451400" y="1612800"/>
              <a:ext cx="0" cy="282420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8"/>
            <p:cNvSpPr/>
            <p:nvPr/>
          </p:nvSpPr>
          <p:spPr>
            <a:xfrm>
              <a:off x="250920" y="4437000"/>
              <a:ext cx="420048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29"/>
            <p:cNvSpPr/>
            <p:nvPr/>
          </p:nvSpPr>
          <p:spPr>
            <a:xfrm rot="19528200">
              <a:off x="1862640" y="3494520"/>
              <a:ext cx="145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200" spc="-1" strike="noStrike">
                  <a:solidFill>
                    <a:srgbClr val="003399"/>
                  </a:solidFill>
                  <a:latin typeface="Arial"/>
                  <a:ea typeface="ＭＳ Ｐゴシック"/>
                </a:rPr>
                <a:t>COMPROMIS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30"/>
            <p:cNvSpPr/>
            <p:nvPr/>
          </p:nvSpPr>
          <p:spPr>
            <a:xfrm rot="19643400">
              <a:off x="1263960" y="2710440"/>
              <a:ext cx="145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200" spc="-1" strike="noStrike">
                  <a:solidFill>
                    <a:srgbClr val="003399"/>
                  </a:solidFill>
                  <a:latin typeface="Arial"/>
                  <a:ea typeface="ＭＳ Ｐゴシック"/>
                </a:rPr>
                <a:t>COMPETENCIA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31"/>
            <p:cNvSpPr/>
            <p:nvPr/>
          </p:nvSpPr>
          <p:spPr>
            <a:xfrm>
              <a:off x="289080" y="2363400"/>
              <a:ext cx="4152600" cy="1590480"/>
            </a:xfrm>
            <a:custGeom>
              <a:avLst/>
              <a:gdLst>
                <a:gd name="textAreaLeft" fmla="*/ 0 w 4152600"/>
                <a:gd name="textAreaRight" fmla="*/ 4152960 w 4152600"/>
                <a:gd name="textAreaTop" fmla="*/ 0 h 1590480"/>
                <a:gd name="textAreaBottom" fmla="*/ 1590840 h 1590480"/>
              </a:gdLst>
              <a:ahLst/>
              <a:rect l="textAreaLeft" t="textAreaTop" r="textAreaRight" b="textAreaBottom"/>
              <a:pathLst>
                <a:path w="4698" h="1636">
                  <a:moveTo>
                    <a:pt x="0" y="124"/>
                  </a:moveTo>
                  <a:cubicBezTo>
                    <a:pt x="15" y="118"/>
                    <a:pt x="64" y="94"/>
                    <a:pt x="92" y="85"/>
                  </a:cubicBezTo>
                  <a:cubicBezTo>
                    <a:pt x="120" y="76"/>
                    <a:pt x="127" y="70"/>
                    <a:pt x="170" y="72"/>
                  </a:cubicBezTo>
                  <a:cubicBezTo>
                    <a:pt x="213" y="74"/>
                    <a:pt x="283" y="70"/>
                    <a:pt x="353" y="98"/>
                  </a:cubicBezTo>
                  <a:cubicBezTo>
                    <a:pt x="423" y="126"/>
                    <a:pt x="502" y="172"/>
                    <a:pt x="589" y="242"/>
                  </a:cubicBezTo>
                  <a:cubicBezTo>
                    <a:pt x="676" y="312"/>
                    <a:pt x="805" y="439"/>
                    <a:pt x="877" y="517"/>
                  </a:cubicBezTo>
                  <a:cubicBezTo>
                    <a:pt x="949" y="595"/>
                    <a:pt x="984" y="665"/>
                    <a:pt x="1021" y="713"/>
                  </a:cubicBezTo>
                  <a:cubicBezTo>
                    <a:pt x="1058" y="761"/>
                    <a:pt x="1070" y="761"/>
                    <a:pt x="1100" y="805"/>
                  </a:cubicBezTo>
                  <a:cubicBezTo>
                    <a:pt x="1130" y="849"/>
                    <a:pt x="1160" y="901"/>
                    <a:pt x="1204" y="975"/>
                  </a:cubicBezTo>
                  <a:cubicBezTo>
                    <a:pt x="1248" y="1049"/>
                    <a:pt x="1300" y="1148"/>
                    <a:pt x="1361" y="1250"/>
                  </a:cubicBezTo>
                  <a:cubicBezTo>
                    <a:pt x="1422" y="1352"/>
                    <a:pt x="1486" y="1544"/>
                    <a:pt x="1571" y="1590"/>
                  </a:cubicBezTo>
                  <a:cubicBezTo>
                    <a:pt x="1656" y="1636"/>
                    <a:pt x="1722" y="1606"/>
                    <a:pt x="1872" y="1525"/>
                  </a:cubicBezTo>
                  <a:cubicBezTo>
                    <a:pt x="2022" y="1444"/>
                    <a:pt x="2376" y="1206"/>
                    <a:pt x="2474" y="1106"/>
                  </a:cubicBezTo>
                  <a:cubicBezTo>
                    <a:pt x="2572" y="1006"/>
                    <a:pt x="2417" y="929"/>
                    <a:pt x="2461" y="923"/>
                  </a:cubicBezTo>
                  <a:cubicBezTo>
                    <a:pt x="2505" y="917"/>
                    <a:pt x="2721" y="1087"/>
                    <a:pt x="2736" y="1067"/>
                  </a:cubicBezTo>
                  <a:cubicBezTo>
                    <a:pt x="2751" y="1047"/>
                    <a:pt x="2533" y="809"/>
                    <a:pt x="2553" y="805"/>
                  </a:cubicBezTo>
                  <a:cubicBezTo>
                    <a:pt x="2573" y="801"/>
                    <a:pt x="2830" y="1046"/>
                    <a:pt x="2854" y="1040"/>
                  </a:cubicBezTo>
                  <a:cubicBezTo>
                    <a:pt x="2878" y="1034"/>
                    <a:pt x="2677" y="783"/>
                    <a:pt x="2697" y="766"/>
                  </a:cubicBezTo>
                  <a:cubicBezTo>
                    <a:pt x="2717" y="749"/>
                    <a:pt x="2959" y="949"/>
                    <a:pt x="2972" y="936"/>
                  </a:cubicBezTo>
                  <a:cubicBezTo>
                    <a:pt x="2985" y="923"/>
                    <a:pt x="2758" y="707"/>
                    <a:pt x="2775" y="687"/>
                  </a:cubicBezTo>
                  <a:cubicBezTo>
                    <a:pt x="2792" y="667"/>
                    <a:pt x="3052" y="829"/>
                    <a:pt x="3076" y="818"/>
                  </a:cubicBezTo>
                  <a:cubicBezTo>
                    <a:pt x="3100" y="807"/>
                    <a:pt x="2904" y="646"/>
                    <a:pt x="2919" y="622"/>
                  </a:cubicBezTo>
                  <a:cubicBezTo>
                    <a:pt x="2934" y="598"/>
                    <a:pt x="3120" y="689"/>
                    <a:pt x="3168" y="674"/>
                  </a:cubicBezTo>
                  <a:cubicBezTo>
                    <a:pt x="3216" y="659"/>
                    <a:pt x="3096" y="619"/>
                    <a:pt x="3207" y="530"/>
                  </a:cubicBezTo>
                  <a:cubicBezTo>
                    <a:pt x="3318" y="441"/>
                    <a:pt x="3611" y="224"/>
                    <a:pt x="3836" y="137"/>
                  </a:cubicBezTo>
                  <a:cubicBezTo>
                    <a:pt x="4061" y="50"/>
                    <a:pt x="4414" y="12"/>
                    <a:pt x="4556" y="6"/>
                  </a:cubicBezTo>
                  <a:cubicBezTo>
                    <a:pt x="4698" y="0"/>
                    <a:pt x="4660" y="79"/>
                    <a:pt x="4687" y="98"/>
                  </a:cubicBezTo>
                </a:path>
              </a:pathLst>
            </a:custGeom>
            <a:noFill/>
            <a:ln w="57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32"/>
            <p:cNvSpPr/>
            <p:nvPr/>
          </p:nvSpPr>
          <p:spPr>
            <a:xfrm>
              <a:off x="281160" y="2189880"/>
              <a:ext cx="4155840" cy="1841040"/>
            </a:xfrm>
            <a:custGeom>
              <a:avLst/>
              <a:gdLst>
                <a:gd name="textAreaLeft" fmla="*/ 0 w 4155840"/>
                <a:gd name="textAreaRight" fmla="*/ 4156200 w 4155840"/>
                <a:gd name="textAreaTop" fmla="*/ 0 h 1841040"/>
                <a:gd name="textAreaBottom" fmla="*/ 1841400 h 1841040"/>
              </a:gdLst>
              <a:ahLst/>
              <a:rect l="textAreaLeft" t="textAreaTop" r="textAreaRight" b="textAreaBottom"/>
              <a:pathLst>
                <a:path w="4700" h="1894">
                  <a:moveTo>
                    <a:pt x="0" y="1894"/>
                  </a:moveTo>
                  <a:cubicBezTo>
                    <a:pt x="144" y="1846"/>
                    <a:pt x="559" y="1754"/>
                    <a:pt x="864" y="1593"/>
                  </a:cubicBezTo>
                  <a:cubicBezTo>
                    <a:pt x="1169" y="1432"/>
                    <a:pt x="1593" y="1092"/>
                    <a:pt x="1833" y="926"/>
                  </a:cubicBezTo>
                  <a:cubicBezTo>
                    <a:pt x="2073" y="760"/>
                    <a:pt x="2112" y="711"/>
                    <a:pt x="2304" y="598"/>
                  </a:cubicBezTo>
                  <a:cubicBezTo>
                    <a:pt x="2496" y="485"/>
                    <a:pt x="2697" y="341"/>
                    <a:pt x="2985" y="245"/>
                  </a:cubicBezTo>
                  <a:cubicBezTo>
                    <a:pt x="3273" y="149"/>
                    <a:pt x="3746" y="44"/>
                    <a:pt x="4032" y="22"/>
                  </a:cubicBezTo>
                  <a:cubicBezTo>
                    <a:pt x="4318" y="0"/>
                    <a:pt x="4561" y="95"/>
                    <a:pt x="4700" y="114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Rectangle 33"/>
          <p:cNvSpPr/>
          <p:nvPr/>
        </p:nvSpPr>
        <p:spPr>
          <a:xfrm>
            <a:off x="314280" y="1052640"/>
            <a:ext cx="4186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99"/>
                </a:solidFill>
                <a:latin typeface="Arial"/>
              </a:rPr>
              <a:t>Niveles de Madurez </a:t>
            </a:r>
            <a:br>
              <a:rPr sz="1600"/>
            </a:br>
            <a:r>
              <a:rPr b="1" lang="es-ES" sz="1600" spc="-1" strike="noStrike">
                <a:solidFill>
                  <a:srgbClr val="003399"/>
                </a:solidFill>
                <a:latin typeface="Arial"/>
              </a:rPr>
              <a:t>de los Colaboradores por Tarea o Me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34"/>
          <p:cNvGrpSpPr/>
          <p:nvPr/>
        </p:nvGrpSpPr>
        <p:grpSpPr>
          <a:xfrm>
            <a:off x="5013000" y="1573200"/>
            <a:ext cx="4116960" cy="3223800"/>
            <a:chOff x="5013000" y="1573200"/>
            <a:chExt cx="4116960" cy="3223800"/>
          </a:xfrm>
        </p:grpSpPr>
        <p:sp>
          <p:nvSpPr>
            <p:cNvPr id="293" name="Line 35"/>
            <p:cNvSpPr/>
            <p:nvPr/>
          </p:nvSpPr>
          <p:spPr>
            <a:xfrm flipV="1">
              <a:off x="5734080" y="1944360"/>
              <a:ext cx="0" cy="23270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36"/>
            <p:cNvSpPr/>
            <p:nvPr/>
          </p:nvSpPr>
          <p:spPr>
            <a:xfrm>
              <a:off x="5886360" y="4410000"/>
              <a:ext cx="22449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37"/>
            <p:cNvSpPr/>
            <p:nvPr/>
          </p:nvSpPr>
          <p:spPr>
            <a:xfrm flipV="1">
              <a:off x="5403960" y="1998000"/>
              <a:ext cx="1440" cy="22921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38"/>
            <p:cNvSpPr/>
            <p:nvPr/>
          </p:nvSpPr>
          <p:spPr>
            <a:xfrm>
              <a:off x="5584680" y="2966760"/>
              <a:ext cx="1524240" cy="141588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39"/>
            <p:cNvSpPr/>
            <p:nvPr/>
          </p:nvSpPr>
          <p:spPr>
            <a:xfrm>
              <a:off x="5591160" y="1611000"/>
              <a:ext cx="1517760" cy="138096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40"/>
            <p:cNvSpPr/>
            <p:nvPr/>
          </p:nvSpPr>
          <p:spPr>
            <a:xfrm>
              <a:off x="7095960" y="1601640"/>
              <a:ext cx="1551240" cy="137916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41"/>
            <p:cNvSpPr/>
            <p:nvPr/>
          </p:nvSpPr>
          <p:spPr>
            <a:xfrm>
              <a:off x="5789520" y="4543200"/>
              <a:ext cx="28148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42"/>
            <p:cNvSpPr/>
            <p:nvPr/>
          </p:nvSpPr>
          <p:spPr>
            <a:xfrm>
              <a:off x="5046840" y="4443120"/>
              <a:ext cx="58536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78040"/>
                  <a:tab algn="l" pos="1755720"/>
                  <a:tab algn="l" pos="2633760"/>
                  <a:tab algn="l" pos="3511440"/>
                  <a:tab algn="l" pos="4389480"/>
                  <a:tab algn="l" pos="5267160"/>
                  <a:tab algn="l" pos="6145200"/>
                  <a:tab algn="l" pos="7023240"/>
                  <a:tab algn="l" pos="7900920"/>
                  <a:tab algn="l" pos="8778960"/>
                  <a:tab algn="l" pos="9656640"/>
                  <a:tab algn="l" pos="10534680"/>
                </a:tabLst>
              </a:pPr>
              <a:r>
                <a:rPr b="1" lang="es-ES_tradnl" sz="1100" spc="-1" strike="noStrike">
                  <a:solidFill>
                    <a:srgbClr val="130bb1"/>
                  </a:solidFill>
                  <a:latin typeface="Tahoma"/>
                  <a:ea typeface="ＭＳ Ｐゴシック"/>
                </a:rPr>
                <a:t>(Bajo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43"/>
            <p:cNvSpPr/>
            <p:nvPr/>
          </p:nvSpPr>
          <p:spPr>
            <a:xfrm>
              <a:off x="8567640" y="4381200"/>
              <a:ext cx="5623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78040"/>
                  <a:tab algn="l" pos="1755720"/>
                  <a:tab algn="l" pos="2633760"/>
                  <a:tab algn="l" pos="3511440"/>
                  <a:tab algn="l" pos="4389480"/>
                  <a:tab algn="l" pos="5267160"/>
                  <a:tab algn="l" pos="6145200"/>
                  <a:tab algn="l" pos="7023240"/>
                  <a:tab algn="l" pos="7900920"/>
                  <a:tab algn="l" pos="8778960"/>
                  <a:tab algn="l" pos="9656640"/>
                  <a:tab algn="l" pos="10534680"/>
                </a:tabLst>
              </a:pPr>
              <a:r>
                <a:rPr b="1" lang="es-ES_tradnl" sz="1100" spc="-1" strike="noStrike">
                  <a:solidFill>
                    <a:srgbClr val="130bb1"/>
                  </a:solidFill>
                  <a:latin typeface="Tahoma"/>
                  <a:ea typeface="ＭＳ Ｐゴシック"/>
                </a:rPr>
                <a:t>(Alto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44"/>
            <p:cNvSpPr/>
            <p:nvPr/>
          </p:nvSpPr>
          <p:spPr>
            <a:xfrm>
              <a:off x="6270480" y="4555800"/>
              <a:ext cx="21337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0000"/>
                  </a:solidFill>
                  <a:latin typeface="Tahoma"/>
                  <a:ea typeface="ＭＳ Ｐゴシック"/>
                </a:rPr>
                <a:t>COMPORTAMIENTO DIRECTIV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45"/>
            <p:cNvSpPr/>
            <p:nvPr/>
          </p:nvSpPr>
          <p:spPr>
            <a:xfrm>
              <a:off x="5013000" y="1631880"/>
              <a:ext cx="5623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78040"/>
                  <a:tab algn="l" pos="1755720"/>
                  <a:tab algn="l" pos="2633760"/>
                  <a:tab algn="l" pos="3511440"/>
                  <a:tab algn="l" pos="4389480"/>
                  <a:tab algn="l" pos="5267160"/>
                  <a:tab algn="l" pos="6145200"/>
                  <a:tab algn="l" pos="7023240"/>
                  <a:tab algn="l" pos="7900920"/>
                  <a:tab algn="l" pos="8778960"/>
                  <a:tab algn="l" pos="9656640"/>
                  <a:tab algn="l" pos="10534680"/>
                </a:tabLst>
              </a:pPr>
              <a:r>
                <a:rPr b="1" lang="es-ES_tradnl" sz="1100" spc="-1" strike="noStrike">
                  <a:solidFill>
                    <a:srgbClr val="130bb1"/>
                  </a:solidFill>
                  <a:latin typeface="Tahoma"/>
                  <a:ea typeface="ＭＳ Ｐゴシック"/>
                </a:rPr>
                <a:t>(Alto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4" name="Group 46"/>
            <p:cNvGrpSpPr/>
            <p:nvPr/>
          </p:nvGrpSpPr>
          <p:grpSpPr>
            <a:xfrm>
              <a:off x="5573880" y="1573200"/>
              <a:ext cx="3073320" cy="2828520"/>
              <a:chOff x="5573880" y="1573200"/>
              <a:chExt cx="3073320" cy="2828520"/>
            </a:xfrm>
          </p:grpSpPr>
          <p:sp>
            <p:nvSpPr>
              <p:cNvPr id="305" name="Rectangle 47"/>
              <p:cNvSpPr/>
              <p:nvPr/>
            </p:nvSpPr>
            <p:spPr>
              <a:xfrm>
                <a:off x="7104240" y="2985840"/>
                <a:ext cx="1542960" cy="1415880"/>
              </a:xfrm>
              <a:prstGeom prst="rect">
                <a:avLst/>
              </a:prstGeom>
              <a:solidFill>
                <a:srgbClr val="ff33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Rectangle 48"/>
              <p:cNvSpPr/>
              <p:nvPr/>
            </p:nvSpPr>
            <p:spPr>
              <a:xfrm>
                <a:off x="5573880" y="1573200"/>
                <a:ext cx="3071520" cy="2814480"/>
              </a:xfrm>
              <a:prstGeom prst="rect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Rectangle 49"/>
              <p:cNvSpPr/>
              <p:nvPr/>
            </p:nvSpPr>
            <p:spPr>
              <a:xfrm>
                <a:off x="5765040" y="3814560"/>
                <a:ext cx="1234800" cy="52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4520" rIns="74520" tIns="36360" bIns="3636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ffffff"/>
                    </a:solidFill>
                    <a:latin typeface="Tahoma"/>
                    <a:ea typeface="ＭＳ Ｐゴシック"/>
                  </a:rPr>
                  <a:t>Comportamient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ffffff"/>
                    </a:solidFill>
                    <a:latin typeface="Tahoma"/>
                    <a:ea typeface="ＭＳ Ｐゴシック"/>
                  </a:rPr>
                  <a:t>bajo en apoyo 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ffffff"/>
                    </a:solidFill>
                    <a:latin typeface="Tahoma"/>
                    <a:ea typeface="ＭＳ Ｐゴシック"/>
                  </a:rPr>
                  <a:t>bajo en direcció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50"/>
              <p:cNvSpPr/>
              <p:nvPr/>
            </p:nvSpPr>
            <p:spPr>
              <a:xfrm>
                <a:off x="5581800" y="1585800"/>
                <a:ext cx="1303200" cy="52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520" rIns="7452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333399"/>
                    </a:solidFill>
                    <a:latin typeface="Tahoma"/>
                    <a:ea typeface="ＭＳ Ｐゴシック"/>
                  </a:rPr>
                  <a:t>Comportamiento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333399"/>
                    </a:solidFill>
                    <a:latin typeface="Tahoma"/>
                    <a:ea typeface="ＭＳ Ｐゴシック"/>
                  </a:rPr>
                  <a:t>alto en apoyo y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333399"/>
                    </a:solidFill>
                    <a:latin typeface="Tahoma"/>
                    <a:ea typeface="ＭＳ Ｐゴシック"/>
                  </a:rPr>
                  <a:t>bajo en direcció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Rectangle 51"/>
              <p:cNvSpPr/>
              <p:nvPr/>
            </p:nvSpPr>
            <p:spPr>
              <a:xfrm>
                <a:off x="7304760" y="1591920"/>
                <a:ext cx="1309680" cy="52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4520" rIns="74520" tIns="36360" bIns="3636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ffffff"/>
                    </a:solidFill>
                    <a:latin typeface="Tahoma"/>
                    <a:ea typeface="ＭＳ Ｐゴシック"/>
                  </a:rPr>
                  <a:t>Comportamient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ffffff"/>
                    </a:solidFill>
                    <a:latin typeface="Tahoma"/>
                    <a:ea typeface="ＭＳ Ｐゴシック"/>
                  </a:rPr>
                  <a:t>alto en dirección 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ffffff"/>
                    </a:solidFill>
                    <a:latin typeface="Tahoma"/>
                    <a:ea typeface="ＭＳ Ｐゴシック"/>
                  </a:rPr>
                  <a:t>alto en apoy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Rectangle 52"/>
              <p:cNvSpPr/>
              <p:nvPr/>
            </p:nvSpPr>
            <p:spPr>
              <a:xfrm>
                <a:off x="7200000" y="3812760"/>
                <a:ext cx="1343160" cy="52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4520" rIns="7452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ffffff"/>
                    </a:solidFill>
                    <a:latin typeface="Tahoma"/>
                    <a:ea typeface="ＭＳ Ｐゴシック"/>
                  </a:rPr>
                  <a:t>Comportamiento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ffffff"/>
                    </a:solidFill>
                    <a:latin typeface="Tahoma"/>
                    <a:ea typeface="ＭＳ Ｐゴシック"/>
                  </a:rPr>
                  <a:t>alto en dirección y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ffffff"/>
                    </a:solidFill>
                    <a:latin typeface="Tahoma"/>
                    <a:ea typeface="ＭＳ Ｐゴシック"/>
                  </a:rPr>
                  <a:t>bajo en apoy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53"/>
              <p:cNvSpPr/>
              <p:nvPr/>
            </p:nvSpPr>
            <p:spPr>
              <a:xfrm>
                <a:off x="7070760" y="1785600"/>
                <a:ext cx="1531800" cy="2022120"/>
              </a:xfrm>
              <a:custGeom>
                <a:avLst/>
                <a:gdLst>
                  <a:gd name="textAreaLeft" fmla="*/ 0 w 1531800"/>
                  <a:gd name="textAreaRight" fmla="*/ 1532160 w 1531800"/>
                  <a:gd name="textAreaTop" fmla="*/ 0 h 2022120"/>
                  <a:gd name="textAreaBottom" fmla="*/ 2022480 h 2022120"/>
                </a:gdLst>
                <a:ahLst/>
                <a:rect l="textAreaLeft" t="textAreaTop" r="textAreaRight" b="textAreaBottom"/>
                <a:pathLst>
                  <a:path w="1348" h="1959">
                    <a:moveTo>
                      <a:pt x="0" y="120"/>
                    </a:moveTo>
                    <a:lnTo>
                      <a:pt x="25" y="121"/>
                    </a:lnTo>
                    <a:lnTo>
                      <a:pt x="41" y="124"/>
                    </a:lnTo>
                    <a:lnTo>
                      <a:pt x="52" y="125"/>
                    </a:lnTo>
                    <a:lnTo>
                      <a:pt x="63" y="128"/>
                    </a:lnTo>
                    <a:lnTo>
                      <a:pt x="71" y="131"/>
                    </a:lnTo>
                    <a:lnTo>
                      <a:pt x="82" y="135"/>
                    </a:lnTo>
                    <a:lnTo>
                      <a:pt x="92" y="140"/>
                    </a:lnTo>
                    <a:lnTo>
                      <a:pt x="103" y="146"/>
                    </a:lnTo>
                    <a:lnTo>
                      <a:pt x="122" y="154"/>
                    </a:lnTo>
                    <a:lnTo>
                      <a:pt x="141" y="166"/>
                    </a:lnTo>
                    <a:lnTo>
                      <a:pt x="159" y="177"/>
                    </a:lnTo>
                    <a:lnTo>
                      <a:pt x="180" y="191"/>
                    </a:lnTo>
                    <a:lnTo>
                      <a:pt x="197" y="202"/>
                    </a:lnTo>
                    <a:lnTo>
                      <a:pt x="231" y="230"/>
                    </a:lnTo>
                    <a:lnTo>
                      <a:pt x="265" y="264"/>
                    </a:lnTo>
                    <a:lnTo>
                      <a:pt x="295" y="298"/>
                    </a:lnTo>
                    <a:lnTo>
                      <a:pt x="333" y="350"/>
                    </a:lnTo>
                    <a:lnTo>
                      <a:pt x="361" y="397"/>
                    </a:lnTo>
                    <a:lnTo>
                      <a:pt x="391" y="446"/>
                    </a:lnTo>
                    <a:lnTo>
                      <a:pt x="409" y="493"/>
                    </a:lnTo>
                    <a:lnTo>
                      <a:pt x="425" y="538"/>
                    </a:lnTo>
                    <a:lnTo>
                      <a:pt x="447" y="590"/>
                    </a:lnTo>
                    <a:lnTo>
                      <a:pt x="463" y="640"/>
                    </a:lnTo>
                    <a:lnTo>
                      <a:pt x="483" y="718"/>
                    </a:lnTo>
                    <a:lnTo>
                      <a:pt x="500" y="790"/>
                    </a:lnTo>
                    <a:lnTo>
                      <a:pt x="511" y="860"/>
                    </a:lnTo>
                    <a:lnTo>
                      <a:pt x="524" y="946"/>
                    </a:lnTo>
                    <a:lnTo>
                      <a:pt x="532" y="1004"/>
                    </a:lnTo>
                    <a:lnTo>
                      <a:pt x="542" y="1072"/>
                    </a:lnTo>
                    <a:lnTo>
                      <a:pt x="551" y="1117"/>
                    </a:lnTo>
                    <a:lnTo>
                      <a:pt x="556" y="1158"/>
                    </a:lnTo>
                    <a:lnTo>
                      <a:pt x="567" y="1210"/>
                    </a:lnTo>
                    <a:lnTo>
                      <a:pt x="581" y="1262"/>
                    </a:lnTo>
                    <a:lnTo>
                      <a:pt x="591" y="1304"/>
                    </a:lnTo>
                    <a:lnTo>
                      <a:pt x="604" y="1354"/>
                    </a:lnTo>
                    <a:lnTo>
                      <a:pt x="618" y="1402"/>
                    </a:lnTo>
                    <a:lnTo>
                      <a:pt x="630" y="1443"/>
                    </a:lnTo>
                    <a:lnTo>
                      <a:pt x="648" y="1480"/>
                    </a:lnTo>
                    <a:lnTo>
                      <a:pt x="661" y="1510"/>
                    </a:lnTo>
                    <a:lnTo>
                      <a:pt x="675" y="1541"/>
                    </a:lnTo>
                    <a:lnTo>
                      <a:pt x="696" y="1574"/>
                    </a:lnTo>
                    <a:lnTo>
                      <a:pt x="718" y="1612"/>
                    </a:lnTo>
                    <a:lnTo>
                      <a:pt x="743" y="1647"/>
                    </a:lnTo>
                    <a:lnTo>
                      <a:pt x="776" y="1691"/>
                    </a:lnTo>
                    <a:lnTo>
                      <a:pt x="809" y="1728"/>
                    </a:lnTo>
                    <a:lnTo>
                      <a:pt x="844" y="1763"/>
                    </a:lnTo>
                    <a:lnTo>
                      <a:pt x="883" y="1793"/>
                    </a:lnTo>
                    <a:lnTo>
                      <a:pt x="912" y="1812"/>
                    </a:lnTo>
                    <a:lnTo>
                      <a:pt x="935" y="1826"/>
                    </a:lnTo>
                    <a:lnTo>
                      <a:pt x="959" y="1838"/>
                    </a:lnTo>
                    <a:lnTo>
                      <a:pt x="988" y="1853"/>
                    </a:lnTo>
                    <a:lnTo>
                      <a:pt x="1021" y="1868"/>
                    </a:lnTo>
                    <a:lnTo>
                      <a:pt x="1056" y="1882"/>
                    </a:lnTo>
                    <a:lnTo>
                      <a:pt x="1094" y="1898"/>
                    </a:lnTo>
                    <a:lnTo>
                      <a:pt x="1129" y="1908"/>
                    </a:lnTo>
                    <a:lnTo>
                      <a:pt x="1161" y="1918"/>
                    </a:lnTo>
                    <a:lnTo>
                      <a:pt x="1193" y="1927"/>
                    </a:lnTo>
                    <a:lnTo>
                      <a:pt x="1228" y="1936"/>
                    </a:lnTo>
                    <a:lnTo>
                      <a:pt x="1260" y="1944"/>
                    </a:lnTo>
                    <a:lnTo>
                      <a:pt x="1304" y="1951"/>
                    </a:lnTo>
                    <a:lnTo>
                      <a:pt x="1347" y="1958"/>
                    </a:lnTo>
                    <a:lnTo>
                      <a:pt x="1347" y="1829"/>
                    </a:lnTo>
                    <a:lnTo>
                      <a:pt x="1315" y="1819"/>
                    </a:lnTo>
                    <a:lnTo>
                      <a:pt x="1270" y="1811"/>
                    </a:lnTo>
                    <a:lnTo>
                      <a:pt x="1237" y="1804"/>
                    </a:lnTo>
                    <a:lnTo>
                      <a:pt x="1199" y="1793"/>
                    </a:lnTo>
                    <a:lnTo>
                      <a:pt x="1171" y="1785"/>
                    </a:lnTo>
                    <a:lnTo>
                      <a:pt x="1149" y="1775"/>
                    </a:lnTo>
                    <a:lnTo>
                      <a:pt x="1122" y="1767"/>
                    </a:lnTo>
                    <a:lnTo>
                      <a:pt x="1090" y="1758"/>
                    </a:lnTo>
                    <a:lnTo>
                      <a:pt x="1063" y="1747"/>
                    </a:lnTo>
                    <a:lnTo>
                      <a:pt x="1038" y="1736"/>
                    </a:lnTo>
                    <a:lnTo>
                      <a:pt x="1019" y="1724"/>
                    </a:lnTo>
                    <a:lnTo>
                      <a:pt x="992" y="1709"/>
                    </a:lnTo>
                    <a:lnTo>
                      <a:pt x="957" y="1685"/>
                    </a:lnTo>
                    <a:lnTo>
                      <a:pt x="931" y="1669"/>
                    </a:lnTo>
                    <a:lnTo>
                      <a:pt x="907" y="1649"/>
                    </a:lnTo>
                    <a:lnTo>
                      <a:pt x="880" y="1623"/>
                    </a:lnTo>
                    <a:lnTo>
                      <a:pt x="851" y="1587"/>
                    </a:lnTo>
                    <a:lnTo>
                      <a:pt x="826" y="1551"/>
                    </a:lnTo>
                    <a:lnTo>
                      <a:pt x="795" y="1500"/>
                    </a:lnTo>
                    <a:lnTo>
                      <a:pt x="767" y="1450"/>
                    </a:lnTo>
                    <a:lnTo>
                      <a:pt x="745" y="1401"/>
                    </a:lnTo>
                    <a:lnTo>
                      <a:pt x="732" y="1365"/>
                    </a:lnTo>
                    <a:lnTo>
                      <a:pt x="720" y="1322"/>
                    </a:lnTo>
                    <a:lnTo>
                      <a:pt x="710" y="1290"/>
                    </a:lnTo>
                    <a:lnTo>
                      <a:pt x="699" y="1233"/>
                    </a:lnTo>
                    <a:lnTo>
                      <a:pt x="687" y="1176"/>
                    </a:lnTo>
                    <a:lnTo>
                      <a:pt x="678" y="1134"/>
                    </a:lnTo>
                    <a:lnTo>
                      <a:pt x="668" y="1075"/>
                    </a:lnTo>
                    <a:lnTo>
                      <a:pt x="660" y="1016"/>
                    </a:lnTo>
                    <a:lnTo>
                      <a:pt x="650" y="951"/>
                    </a:lnTo>
                    <a:lnTo>
                      <a:pt x="641" y="890"/>
                    </a:lnTo>
                    <a:lnTo>
                      <a:pt x="627" y="809"/>
                    </a:lnTo>
                    <a:lnTo>
                      <a:pt x="619" y="758"/>
                    </a:lnTo>
                    <a:lnTo>
                      <a:pt x="609" y="704"/>
                    </a:lnTo>
                    <a:lnTo>
                      <a:pt x="598" y="657"/>
                    </a:lnTo>
                    <a:lnTo>
                      <a:pt x="584" y="601"/>
                    </a:lnTo>
                    <a:lnTo>
                      <a:pt x="570" y="565"/>
                    </a:lnTo>
                    <a:lnTo>
                      <a:pt x="556" y="525"/>
                    </a:lnTo>
                    <a:lnTo>
                      <a:pt x="532" y="471"/>
                    </a:lnTo>
                    <a:lnTo>
                      <a:pt x="518" y="440"/>
                    </a:lnTo>
                    <a:lnTo>
                      <a:pt x="502" y="397"/>
                    </a:lnTo>
                    <a:lnTo>
                      <a:pt x="468" y="339"/>
                    </a:lnTo>
                    <a:lnTo>
                      <a:pt x="443" y="294"/>
                    </a:lnTo>
                    <a:lnTo>
                      <a:pt x="423" y="266"/>
                    </a:lnTo>
                    <a:lnTo>
                      <a:pt x="397" y="236"/>
                    </a:lnTo>
                    <a:lnTo>
                      <a:pt x="352" y="184"/>
                    </a:lnTo>
                    <a:lnTo>
                      <a:pt x="323" y="151"/>
                    </a:lnTo>
                    <a:lnTo>
                      <a:pt x="295" y="127"/>
                    </a:lnTo>
                    <a:lnTo>
                      <a:pt x="257" y="97"/>
                    </a:lnTo>
                    <a:lnTo>
                      <a:pt x="219" y="74"/>
                    </a:lnTo>
                    <a:lnTo>
                      <a:pt x="169" y="49"/>
                    </a:lnTo>
                    <a:lnTo>
                      <a:pt x="154" y="41"/>
                    </a:lnTo>
                    <a:lnTo>
                      <a:pt x="136" y="33"/>
                    </a:lnTo>
                    <a:lnTo>
                      <a:pt x="124" y="29"/>
                    </a:lnTo>
                    <a:lnTo>
                      <a:pt x="110" y="25"/>
                    </a:lnTo>
                    <a:lnTo>
                      <a:pt x="98" y="19"/>
                    </a:lnTo>
                    <a:lnTo>
                      <a:pt x="87" y="15"/>
                    </a:lnTo>
                    <a:lnTo>
                      <a:pt x="74" y="14"/>
                    </a:lnTo>
                    <a:lnTo>
                      <a:pt x="53" y="8"/>
                    </a:lnTo>
                    <a:lnTo>
                      <a:pt x="36" y="5"/>
                    </a:lnTo>
                    <a:lnTo>
                      <a:pt x="22" y="3"/>
                    </a:lnTo>
                    <a:lnTo>
                      <a:pt x="0" y="0"/>
                    </a:lnTo>
                    <a:lnTo>
                      <a:pt x="0" y="120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54"/>
              <p:cNvSpPr/>
              <p:nvPr/>
            </p:nvSpPr>
            <p:spPr>
              <a:xfrm>
                <a:off x="5621400" y="1785600"/>
                <a:ext cx="1488960" cy="2022120"/>
              </a:xfrm>
              <a:custGeom>
                <a:avLst/>
                <a:gdLst>
                  <a:gd name="textAreaLeft" fmla="*/ 0 w 1488960"/>
                  <a:gd name="textAreaRight" fmla="*/ 1489320 w 1488960"/>
                  <a:gd name="textAreaTop" fmla="*/ 0 h 2022120"/>
                  <a:gd name="textAreaBottom" fmla="*/ 2022480 h 2022120"/>
                </a:gdLst>
                <a:ahLst/>
                <a:rect l="textAreaLeft" t="textAreaTop" r="textAreaRight" b="textAreaBottom"/>
                <a:pathLst>
                  <a:path w="1348" h="1959">
                    <a:moveTo>
                      <a:pt x="1347" y="120"/>
                    </a:moveTo>
                    <a:lnTo>
                      <a:pt x="1320" y="121"/>
                    </a:lnTo>
                    <a:lnTo>
                      <a:pt x="1306" y="124"/>
                    </a:lnTo>
                    <a:lnTo>
                      <a:pt x="1295" y="125"/>
                    </a:lnTo>
                    <a:lnTo>
                      <a:pt x="1284" y="128"/>
                    </a:lnTo>
                    <a:lnTo>
                      <a:pt x="1276" y="131"/>
                    </a:lnTo>
                    <a:lnTo>
                      <a:pt x="1264" y="135"/>
                    </a:lnTo>
                    <a:lnTo>
                      <a:pt x="1255" y="140"/>
                    </a:lnTo>
                    <a:lnTo>
                      <a:pt x="1243" y="146"/>
                    </a:lnTo>
                    <a:lnTo>
                      <a:pt x="1225" y="154"/>
                    </a:lnTo>
                    <a:lnTo>
                      <a:pt x="1206" y="166"/>
                    </a:lnTo>
                    <a:lnTo>
                      <a:pt x="1188" y="177"/>
                    </a:lnTo>
                    <a:lnTo>
                      <a:pt x="1167" y="191"/>
                    </a:lnTo>
                    <a:lnTo>
                      <a:pt x="1150" y="202"/>
                    </a:lnTo>
                    <a:lnTo>
                      <a:pt x="1115" y="230"/>
                    </a:lnTo>
                    <a:lnTo>
                      <a:pt x="1081" y="264"/>
                    </a:lnTo>
                    <a:lnTo>
                      <a:pt x="1052" y="298"/>
                    </a:lnTo>
                    <a:lnTo>
                      <a:pt x="1013" y="350"/>
                    </a:lnTo>
                    <a:lnTo>
                      <a:pt x="988" y="397"/>
                    </a:lnTo>
                    <a:lnTo>
                      <a:pt x="955" y="446"/>
                    </a:lnTo>
                    <a:lnTo>
                      <a:pt x="937" y="493"/>
                    </a:lnTo>
                    <a:lnTo>
                      <a:pt x="922" y="538"/>
                    </a:lnTo>
                    <a:lnTo>
                      <a:pt x="899" y="590"/>
                    </a:lnTo>
                    <a:lnTo>
                      <a:pt x="885" y="640"/>
                    </a:lnTo>
                    <a:lnTo>
                      <a:pt x="863" y="718"/>
                    </a:lnTo>
                    <a:lnTo>
                      <a:pt x="848" y="790"/>
                    </a:lnTo>
                    <a:lnTo>
                      <a:pt x="834" y="860"/>
                    </a:lnTo>
                    <a:lnTo>
                      <a:pt x="822" y="946"/>
                    </a:lnTo>
                    <a:lnTo>
                      <a:pt x="814" y="1004"/>
                    </a:lnTo>
                    <a:lnTo>
                      <a:pt x="804" y="1072"/>
                    </a:lnTo>
                    <a:lnTo>
                      <a:pt x="796" y="1117"/>
                    </a:lnTo>
                    <a:lnTo>
                      <a:pt x="790" y="1158"/>
                    </a:lnTo>
                    <a:lnTo>
                      <a:pt x="781" y="1210"/>
                    </a:lnTo>
                    <a:lnTo>
                      <a:pt x="767" y="1262"/>
                    </a:lnTo>
                    <a:lnTo>
                      <a:pt x="755" y="1304"/>
                    </a:lnTo>
                    <a:lnTo>
                      <a:pt x="743" y="1354"/>
                    </a:lnTo>
                    <a:lnTo>
                      <a:pt x="729" y="1402"/>
                    </a:lnTo>
                    <a:lnTo>
                      <a:pt x="716" y="1443"/>
                    </a:lnTo>
                    <a:lnTo>
                      <a:pt x="699" y="1480"/>
                    </a:lnTo>
                    <a:lnTo>
                      <a:pt x="685" y="1510"/>
                    </a:lnTo>
                    <a:lnTo>
                      <a:pt x="671" y="1541"/>
                    </a:lnTo>
                    <a:lnTo>
                      <a:pt x="650" y="1574"/>
                    </a:lnTo>
                    <a:lnTo>
                      <a:pt x="629" y="1612"/>
                    </a:lnTo>
                    <a:lnTo>
                      <a:pt x="603" y="1647"/>
                    </a:lnTo>
                    <a:lnTo>
                      <a:pt x="572" y="1691"/>
                    </a:lnTo>
                    <a:lnTo>
                      <a:pt x="539" y="1728"/>
                    </a:lnTo>
                    <a:lnTo>
                      <a:pt x="502" y="1763"/>
                    </a:lnTo>
                    <a:lnTo>
                      <a:pt x="463" y="1793"/>
                    </a:lnTo>
                    <a:lnTo>
                      <a:pt x="434" y="1812"/>
                    </a:lnTo>
                    <a:lnTo>
                      <a:pt x="413" y="1826"/>
                    </a:lnTo>
                    <a:lnTo>
                      <a:pt x="387" y="1838"/>
                    </a:lnTo>
                    <a:lnTo>
                      <a:pt x="359" y="1853"/>
                    </a:lnTo>
                    <a:lnTo>
                      <a:pt x="326" y="1868"/>
                    </a:lnTo>
                    <a:lnTo>
                      <a:pt x="291" y="1882"/>
                    </a:lnTo>
                    <a:lnTo>
                      <a:pt x="252" y="1898"/>
                    </a:lnTo>
                    <a:lnTo>
                      <a:pt x="218" y="1908"/>
                    </a:lnTo>
                    <a:lnTo>
                      <a:pt x="186" y="1918"/>
                    </a:lnTo>
                    <a:lnTo>
                      <a:pt x="154" y="1927"/>
                    </a:lnTo>
                    <a:lnTo>
                      <a:pt x="119" y="1936"/>
                    </a:lnTo>
                    <a:lnTo>
                      <a:pt x="87" y="1944"/>
                    </a:lnTo>
                    <a:lnTo>
                      <a:pt x="43" y="1951"/>
                    </a:lnTo>
                    <a:lnTo>
                      <a:pt x="0" y="1958"/>
                    </a:lnTo>
                    <a:lnTo>
                      <a:pt x="0" y="1829"/>
                    </a:lnTo>
                    <a:lnTo>
                      <a:pt x="34" y="1819"/>
                    </a:lnTo>
                    <a:lnTo>
                      <a:pt x="77" y="1811"/>
                    </a:lnTo>
                    <a:lnTo>
                      <a:pt x="109" y="1804"/>
                    </a:lnTo>
                    <a:lnTo>
                      <a:pt x="148" y="1793"/>
                    </a:lnTo>
                    <a:lnTo>
                      <a:pt x="176" y="1785"/>
                    </a:lnTo>
                    <a:lnTo>
                      <a:pt x="200" y="1775"/>
                    </a:lnTo>
                    <a:lnTo>
                      <a:pt x="227" y="1767"/>
                    </a:lnTo>
                    <a:lnTo>
                      <a:pt x="256" y="1758"/>
                    </a:lnTo>
                    <a:lnTo>
                      <a:pt x="283" y="1747"/>
                    </a:lnTo>
                    <a:lnTo>
                      <a:pt x="309" y="1736"/>
                    </a:lnTo>
                    <a:lnTo>
                      <a:pt x="329" y="1724"/>
                    </a:lnTo>
                    <a:lnTo>
                      <a:pt x="355" y="1709"/>
                    </a:lnTo>
                    <a:lnTo>
                      <a:pt x="390" y="1685"/>
                    </a:lnTo>
                    <a:lnTo>
                      <a:pt x="417" y="1669"/>
                    </a:lnTo>
                    <a:lnTo>
                      <a:pt x="441" y="1649"/>
                    </a:lnTo>
                    <a:lnTo>
                      <a:pt x="467" y="1623"/>
                    </a:lnTo>
                    <a:lnTo>
                      <a:pt x="497" y="1587"/>
                    </a:lnTo>
                    <a:lnTo>
                      <a:pt x="522" y="1551"/>
                    </a:lnTo>
                    <a:lnTo>
                      <a:pt x="553" y="1500"/>
                    </a:lnTo>
                    <a:lnTo>
                      <a:pt x="579" y="1450"/>
                    </a:lnTo>
                    <a:lnTo>
                      <a:pt x="601" y="1401"/>
                    </a:lnTo>
                    <a:lnTo>
                      <a:pt x="615" y="1365"/>
                    </a:lnTo>
                    <a:lnTo>
                      <a:pt x="627" y="1322"/>
                    </a:lnTo>
                    <a:lnTo>
                      <a:pt x="635" y="1290"/>
                    </a:lnTo>
                    <a:lnTo>
                      <a:pt x="648" y="1233"/>
                    </a:lnTo>
                    <a:lnTo>
                      <a:pt x="660" y="1176"/>
                    </a:lnTo>
                    <a:lnTo>
                      <a:pt x="669" y="1134"/>
                    </a:lnTo>
                    <a:lnTo>
                      <a:pt x="680" y="1075"/>
                    </a:lnTo>
                    <a:lnTo>
                      <a:pt x="688" y="1016"/>
                    </a:lnTo>
                    <a:lnTo>
                      <a:pt x="697" y="951"/>
                    </a:lnTo>
                    <a:lnTo>
                      <a:pt x="706" y="890"/>
                    </a:lnTo>
                    <a:lnTo>
                      <a:pt x="719" y="809"/>
                    </a:lnTo>
                    <a:lnTo>
                      <a:pt x="727" y="758"/>
                    </a:lnTo>
                    <a:lnTo>
                      <a:pt x="739" y="704"/>
                    </a:lnTo>
                    <a:lnTo>
                      <a:pt x="750" y="657"/>
                    </a:lnTo>
                    <a:lnTo>
                      <a:pt x="762" y="601"/>
                    </a:lnTo>
                    <a:lnTo>
                      <a:pt x="776" y="565"/>
                    </a:lnTo>
                    <a:lnTo>
                      <a:pt x="790" y="525"/>
                    </a:lnTo>
                    <a:lnTo>
                      <a:pt x="814" y="471"/>
                    </a:lnTo>
                    <a:lnTo>
                      <a:pt x="828" y="440"/>
                    </a:lnTo>
                    <a:lnTo>
                      <a:pt x="846" y="397"/>
                    </a:lnTo>
                    <a:lnTo>
                      <a:pt x="878" y="339"/>
                    </a:lnTo>
                    <a:lnTo>
                      <a:pt x="904" y="294"/>
                    </a:lnTo>
                    <a:lnTo>
                      <a:pt x="923" y="266"/>
                    </a:lnTo>
                    <a:lnTo>
                      <a:pt x="950" y="236"/>
                    </a:lnTo>
                    <a:lnTo>
                      <a:pt x="995" y="184"/>
                    </a:lnTo>
                    <a:lnTo>
                      <a:pt x="1024" y="151"/>
                    </a:lnTo>
                    <a:lnTo>
                      <a:pt x="1052" y="127"/>
                    </a:lnTo>
                    <a:lnTo>
                      <a:pt x="1091" y="97"/>
                    </a:lnTo>
                    <a:lnTo>
                      <a:pt x="1127" y="74"/>
                    </a:lnTo>
                    <a:lnTo>
                      <a:pt x="1178" y="49"/>
                    </a:lnTo>
                    <a:lnTo>
                      <a:pt x="1193" y="41"/>
                    </a:lnTo>
                    <a:lnTo>
                      <a:pt x="1211" y="33"/>
                    </a:lnTo>
                    <a:lnTo>
                      <a:pt x="1224" y="29"/>
                    </a:lnTo>
                    <a:lnTo>
                      <a:pt x="1236" y="25"/>
                    </a:lnTo>
                    <a:lnTo>
                      <a:pt x="1250" y="19"/>
                    </a:lnTo>
                    <a:lnTo>
                      <a:pt x="1260" y="15"/>
                    </a:lnTo>
                    <a:lnTo>
                      <a:pt x="1273" y="14"/>
                    </a:lnTo>
                    <a:lnTo>
                      <a:pt x="1294" y="8"/>
                    </a:lnTo>
                    <a:lnTo>
                      <a:pt x="1309" y="5"/>
                    </a:lnTo>
                    <a:lnTo>
                      <a:pt x="1323" y="3"/>
                    </a:lnTo>
                    <a:lnTo>
                      <a:pt x="1347" y="0"/>
                    </a:lnTo>
                    <a:lnTo>
                      <a:pt x="1347" y="120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55"/>
              <p:cNvSpPr/>
              <p:nvPr/>
            </p:nvSpPr>
            <p:spPr>
              <a:xfrm>
                <a:off x="5857920" y="2347560"/>
                <a:ext cx="102240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333399"/>
                    </a:solidFill>
                    <a:latin typeface="Tahoma"/>
                    <a:ea typeface="ＭＳ Ｐゴシック"/>
                  </a:rPr>
                  <a:t>Apoya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Rectangle 56"/>
              <p:cNvSpPr/>
              <p:nvPr/>
            </p:nvSpPr>
            <p:spPr>
              <a:xfrm>
                <a:off x="7415280" y="3268440"/>
                <a:ext cx="102240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333399"/>
                    </a:solidFill>
                    <a:latin typeface="Tahoma"/>
                    <a:ea typeface="ＭＳ Ｐゴシック"/>
                  </a:rPr>
                  <a:t>Dirigi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Rectangle 57"/>
              <p:cNvSpPr/>
              <p:nvPr/>
            </p:nvSpPr>
            <p:spPr>
              <a:xfrm>
                <a:off x="7307280" y="2347560"/>
                <a:ext cx="11779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333399"/>
                    </a:solidFill>
                    <a:latin typeface="Tahoma"/>
                    <a:ea typeface="ＭＳ Ｐゴシック"/>
                  </a:rPr>
                  <a:t>Orienta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angle 58"/>
              <p:cNvSpPr/>
              <p:nvPr/>
            </p:nvSpPr>
            <p:spPr>
              <a:xfrm>
                <a:off x="5794200" y="3268440"/>
                <a:ext cx="10256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333399"/>
                    </a:solidFill>
                    <a:latin typeface="Tahoma"/>
                    <a:ea typeface="ＭＳ Ｐゴシック"/>
                  </a:rPr>
                  <a:t>Delega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7" name="Rectangle 59"/>
            <p:cNvSpPr/>
            <p:nvPr/>
          </p:nvSpPr>
          <p:spPr>
            <a:xfrm rot="16200000">
              <a:off x="4189320" y="2666880"/>
              <a:ext cx="20955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ff"/>
                  </a:solidFill>
                  <a:latin typeface="Tahoma"/>
                  <a:ea typeface="ＭＳ Ｐゴシック"/>
                </a:rPr>
                <a:t>COMPORTAMIENTO DE APOY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Rectangle 60"/>
          <p:cNvSpPr/>
          <p:nvPr/>
        </p:nvSpPr>
        <p:spPr>
          <a:xfrm>
            <a:off x="108000" y="6165720"/>
            <a:ext cx="4186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99"/>
                </a:solidFill>
                <a:latin typeface="Arial"/>
              </a:rPr>
              <a:t>Habilidad Diagnóstic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61"/>
          <p:cNvSpPr/>
          <p:nvPr/>
        </p:nvSpPr>
        <p:spPr>
          <a:xfrm rot="5400000">
            <a:off x="1992240" y="5860800"/>
            <a:ext cx="431640" cy="463680"/>
          </a:xfrm>
          <a:custGeom>
            <a:avLst/>
            <a:gdLst>
              <a:gd name="textAreaLeft" fmla="*/ 67320 w 431640"/>
              <a:gd name="textAreaRight" fmla="*/ 378000 w 431640"/>
              <a:gd name="textAreaTop" fmla="*/ 115920 h 463680"/>
              <a:gd name="textAreaBottom" fmla="*/ 347760 h 463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62"/>
          <p:cNvSpPr/>
          <p:nvPr/>
        </p:nvSpPr>
        <p:spPr>
          <a:xfrm>
            <a:off x="5065560" y="1052640"/>
            <a:ext cx="4186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99"/>
                </a:solidFill>
                <a:latin typeface="Arial"/>
              </a:rPr>
              <a:t>Los cuatro</a:t>
            </a:r>
            <a:br>
              <a:rPr sz="1600"/>
            </a:br>
            <a:r>
              <a:rPr b="1" lang="es-MX" sz="1600" spc="-1" strike="noStrike">
                <a:solidFill>
                  <a:srgbClr val="003399"/>
                </a:solidFill>
                <a:latin typeface="Arial"/>
              </a:rPr>
              <a:t>Estilos de Lideraz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63"/>
          <p:cNvSpPr/>
          <p:nvPr/>
        </p:nvSpPr>
        <p:spPr>
          <a:xfrm>
            <a:off x="5138640" y="6165720"/>
            <a:ext cx="4186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99"/>
                </a:solidFill>
                <a:latin typeface="Arial"/>
              </a:rPr>
              <a:t>Habilidad Flexibilida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64"/>
          <p:cNvSpPr/>
          <p:nvPr/>
        </p:nvSpPr>
        <p:spPr>
          <a:xfrm rot="5400000">
            <a:off x="6879960" y="5861160"/>
            <a:ext cx="431640" cy="463320"/>
          </a:xfrm>
          <a:custGeom>
            <a:avLst/>
            <a:gdLst>
              <a:gd name="textAreaLeft" fmla="*/ 67320 w 431640"/>
              <a:gd name="textAreaRight" fmla="*/ 378000 w 431640"/>
              <a:gd name="textAreaTop" fmla="*/ 115920 h 463320"/>
              <a:gd name="textAreaBottom" fmla="*/ 347760 h 4633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65"/>
          <p:cNvSpPr/>
          <p:nvPr/>
        </p:nvSpPr>
        <p:spPr>
          <a:xfrm>
            <a:off x="3841920" y="5950080"/>
            <a:ext cx="1954080" cy="415800"/>
          </a:xfrm>
          <a:custGeom>
            <a:avLst/>
            <a:gdLst>
              <a:gd name="textAreaLeft" fmla="*/ 342000 w 1954080"/>
              <a:gd name="textAreaRight" fmla="*/ 1416960 w 1954080"/>
              <a:gd name="textAreaTop" fmla="*/ 55440 h 415800"/>
              <a:gd name="textAreaBottom" fmla="*/ 360360 h 41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4" name="AutoShape 66"/>
          <p:cNvCxnSpPr>
            <a:stCxn id="277" idx="2"/>
            <a:endCxn id="311" idx="34"/>
          </p:cNvCxnSpPr>
          <p:nvPr/>
        </p:nvCxnSpPr>
        <p:spPr>
          <a:xfrm flipH="1" rot="16200000">
            <a:off x="3832920" y="-902880"/>
            <a:ext cx="1456560" cy="7570080"/>
          </a:xfrm>
          <a:prstGeom prst="curvedConnector5">
            <a:avLst>
              <a:gd name="adj1" fmla="val 143164"/>
              <a:gd name="adj2" fmla="val 49997"/>
              <a:gd name="adj3" fmla="val 143164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25" name="AutoShape 67"/>
          <p:cNvCxnSpPr>
            <a:stCxn id="276" idx="2"/>
            <a:endCxn id="262" idx="3"/>
          </p:cNvCxnSpPr>
          <p:nvPr/>
        </p:nvCxnSpPr>
        <p:spPr>
          <a:xfrm flipH="1" rot="16200000">
            <a:off x="4428360" y="-447120"/>
            <a:ext cx="704160" cy="5906160"/>
          </a:xfrm>
          <a:prstGeom prst="curvedConnector5">
            <a:avLst>
              <a:gd name="adj1" fmla="val 137237"/>
              <a:gd name="adj2" fmla="val 49996"/>
              <a:gd name="adj3" fmla="val 137237"/>
            </a:avLst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326" name="AutoShape 68"/>
          <p:cNvCxnSpPr>
            <a:stCxn id="275" idx="2"/>
            <a:endCxn id="261" idx="3"/>
          </p:cNvCxnSpPr>
          <p:nvPr/>
        </p:nvCxnSpPr>
        <p:spPr>
          <a:xfrm flipH="1" rot="16200000">
            <a:off x="4531320" y="498240"/>
            <a:ext cx="326160" cy="3637800"/>
          </a:xfrm>
          <a:prstGeom prst="curvedConnector5">
            <a:avLst>
              <a:gd name="adj1" fmla="val 174143"/>
              <a:gd name="adj2" fmla="val 50000"/>
              <a:gd name="adj3" fmla="val 174143"/>
            </a:avLst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327" name="AutoShape 69"/>
          <p:cNvCxnSpPr>
            <a:stCxn id="274" idx="2"/>
            <a:endCxn id="260" idx="2"/>
          </p:cNvCxnSpPr>
          <p:nvPr/>
        </p:nvCxnSpPr>
        <p:spPr>
          <a:xfrm flipH="1" rot="16200000">
            <a:off x="4595760" y="1485720"/>
            <a:ext cx="1115280" cy="2451600"/>
          </a:xfrm>
          <a:prstGeom prst="curvedConnector2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</p:cxnSp>
      <p:sp>
        <p:nvSpPr>
          <p:cNvPr id="328" name="Rectangle 70"/>
          <p:cNvSpPr/>
          <p:nvPr/>
        </p:nvSpPr>
        <p:spPr>
          <a:xfrm>
            <a:off x="2690640" y="6237360"/>
            <a:ext cx="4186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99"/>
                </a:solidFill>
                <a:latin typeface="Arial"/>
              </a:rPr>
              <a:t>Adecu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71"/>
          <p:cNvSpPr/>
          <p:nvPr/>
        </p:nvSpPr>
        <p:spPr>
          <a:xfrm>
            <a:off x="250920" y="4956120"/>
            <a:ext cx="4186080" cy="63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lang="es-MX" sz="1400" spc="-1" strike="noStrike">
                <a:solidFill>
                  <a:srgbClr val="ff0000"/>
                </a:solidFill>
                <a:latin typeface="Arial Narrow"/>
              </a:rPr>
              <a:t>Competencias: Conocimientos y Habili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0000"/>
                </a:solidFill>
                <a:latin typeface="Arial Narrow"/>
              </a:rPr>
              <a:t>       </a:t>
            </a:r>
            <a:r>
              <a:rPr b="1" lang="es-MX" sz="1400" spc="-1" strike="noStrike">
                <a:solidFill>
                  <a:srgbClr val="333399"/>
                </a:solidFill>
                <a:latin typeface="Arial Narrow"/>
              </a:rPr>
              <a:t>Compromiso: Motivación y Auto-confian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72"/>
          <p:cNvSpPr/>
          <p:nvPr/>
        </p:nvSpPr>
        <p:spPr>
          <a:xfrm>
            <a:off x="250920" y="5121360"/>
            <a:ext cx="288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73"/>
          <p:cNvSpPr/>
          <p:nvPr/>
        </p:nvSpPr>
        <p:spPr>
          <a:xfrm>
            <a:off x="250920" y="5435640"/>
            <a:ext cx="28872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74"/>
          <p:cNvSpPr/>
          <p:nvPr/>
        </p:nvSpPr>
        <p:spPr>
          <a:xfrm>
            <a:off x="4859280" y="4956120"/>
            <a:ext cx="4105440" cy="63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MX" sz="1400" spc="-1" strike="noStrike">
                <a:solidFill>
                  <a:srgbClr val="ff0000"/>
                </a:solidFill>
                <a:latin typeface="Arial Narrow"/>
              </a:rPr>
              <a:t>Dirección: Genera conocimientos y habili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99"/>
                </a:solidFill>
                <a:latin typeface="Arial Narrow"/>
              </a:rPr>
              <a:t>Apoyo: Genera motivación y auto-confian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93560" y="260280"/>
            <a:ext cx="9118800" cy="7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Cuando un líder utiliza el</a:t>
            </a:r>
            <a:br>
              <a:rPr sz="3200"/>
            </a:b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 estilo de liderazgo </a:t>
            </a:r>
            <a:r>
              <a:rPr b="1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DIRIGIR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58920" y="1341360"/>
            <a:ext cx="842472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lvl="1" marL="525600" indent="-34992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Reconoce el entusiasmo del colaborador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525600" indent="-34992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Reconoce las habilidades transferibles del colaborador y su progreso hasta la fecha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525600" indent="-34992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Identifica los resultados, objetivos y plazos deseado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525600" indent="-34992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Define que es un buen trabajo y como se registrara y controlara el desempeño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525600" indent="-34992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Desarrolla un plan para que el colaborador aprenda nuevas habilidade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525600" indent="-34992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Dirige la planificación de accione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525600" indent="-34992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Toma la mayoría de las decisiones relacionadas con que hacer , cuando y con quien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525600" indent="-34992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Proporciona directrices e instrucciones especifica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525600" indent="-34992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Dirige la solución de problema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ransition>
    <p:dissolve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2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5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8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1" dur="500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4" dur="500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7" dur="500"/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0" dur="500"/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3" dur="500"/>
                                        <p:tgtEl>
                                          <p:spTgt spid="3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6" dur="500"/>
                                        <p:tgtEl>
                                          <p:spTgt spid="3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835280" y="189000"/>
            <a:ext cx="7308720" cy="78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Cuando un líder utiliza el </a:t>
            </a:r>
            <a:br>
              <a:rPr sz="3200"/>
            </a:b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stilo de liderazgo </a:t>
            </a:r>
            <a:r>
              <a:rPr b="1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Entrenar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3200"/>
            </a:b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79280" y="1295280"/>
            <a:ext cx="8785440" cy="522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lvl="1" marL="520200" indent="-2613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Involucra al colaborador en identificación de problemas y en fijar meta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520200" indent="-2613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Proporciona apoyo, seguridad y elogio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520200" indent="-2613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Escucha, brinda al colaborador oportunidad para discutir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520200" indent="-2613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Involucra al colaborador en la solución de problema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520200" indent="-2613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Toma de decisiones finales luego de escuchar las ideas y los sentimientos del colaborador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520200" indent="-2613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Proporciona dirección y adiestramiento  para continuar  desarrollando y perfeccionando las habilidade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520200" indent="-2613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Explica la razón para tomar un enfoque particular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520200" indent="-2613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Define que es un trajo bien hecho y como el desempeño será controlado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520200" indent="-2613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Continua haciendo seguimiento y proporcionando retroalimentación frecuentemente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IMG_0156"/>
          <p:cNvPicPr/>
          <p:nvPr/>
        </p:nvPicPr>
        <p:blipFill>
          <a:blip r:embed="rId1"/>
          <a:stretch/>
        </p:blipFill>
        <p:spPr>
          <a:xfrm>
            <a:off x="2050920" y="3857760"/>
            <a:ext cx="1443240" cy="1442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IMG_0152"/>
          <p:cNvPicPr/>
          <p:nvPr/>
        </p:nvPicPr>
        <p:blipFill>
          <a:blip r:embed="rId2"/>
          <a:stretch/>
        </p:blipFill>
        <p:spPr>
          <a:xfrm>
            <a:off x="5369040" y="3933720"/>
            <a:ext cx="1939680" cy="1511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IMG_0153"/>
          <p:cNvPicPr/>
          <p:nvPr/>
        </p:nvPicPr>
        <p:blipFill>
          <a:blip r:embed="rId3"/>
          <a:stretch/>
        </p:blipFill>
        <p:spPr>
          <a:xfrm>
            <a:off x="1619280" y="1773360"/>
            <a:ext cx="2235240" cy="1498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Fotolia_4599026_XS"/>
          <p:cNvPicPr/>
          <p:nvPr/>
        </p:nvPicPr>
        <p:blipFill>
          <a:blip r:embed="rId4"/>
          <a:stretch/>
        </p:blipFill>
        <p:spPr>
          <a:xfrm>
            <a:off x="4932360" y="1628640"/>
            <a:ext cx="2697120" cy="15130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1762200" y="332280"/>
            <a:ext cx="60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VENTANA DE JOHA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1549080" y="1301760"/>
            <a:ext cx="25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CONOCIDO POR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4734000" y="1301760"/>
            <a:ext cx="307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DESCONOCIDO POR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 rot="16200000">
            <a:off x="-233640" y="227664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CONOCI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POR OT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 rot="16200000">
            <a:off x="-432360" y="4472280"/>
            <a:ext cx="210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DESCONOC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POR OT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1476360" y="3087720"/>
            <a:ext cx="252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VENTA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ABIE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4643280" y="3087720"/>
            <a:ext cx="32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VENTA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CIE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1619280" y="5175360"/>
            <a:ext cx="230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VENTA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CER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4"/>
          <p:cNvSpPr/>
          <p:nvPr/>
        </p:nvSpPr>
        <p:spPr>
          <a:xfrm>
            <a:off x="4716360" y="5175360"/>
            <a:ext cx="324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VENTA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DESCONOC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15"/>
          <p:cNvGrpSpPr/>
          <p:nvPr/>
        </p:nvGrpSpPr>
        <p:grpSpPr>
          <a:xfrm>
            <a:off x="1116000" y="1700280"/>
            <a:ext cx="6840360" cy="4248000"/>
            <a:chOff x="1116000" y="1700280"/>
            <a:chExt cx="6840360" cy="4248000"/>
          </a:xfrm>
        </p:grpSpPr>
        <p:sp>
          <p:nvSpPr>
            <p:cNvPr id="69" name="Rectangle 16"/>
            <p:cNvSpPr/>
            <p:nvPr/>
          </p:nvSpPr>
          <p:spPr>
            <a:xfrm>
              <a:off x="1116000" y="1700280"/>
              <a:ext cx="6840360" cy="4248000"/>
            </a:xfrm>
            <a:prstGeom prst="rect">
              <a:avLst/>
            </a:prstGeom>
            <a:noFill/>
            <a:ln w="28440">
              <a:solidFill>
                <a:srgbClr val="333399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17"/>
            <p:cNvSpPr/>
            <p:nvPr/>
          </p:nvSpPr>
          <p:spPr>
            <a:xfrm>
              <a:off x="1116000" y="3823200"/>
              <a:ext cx="6840360" cy="0"/>
            </a:xfrm>
            <a:prstGeom prst="line">
              <a:avLst/>
            </a:prstGeom>
            <a:ln w="28440">
              <a:solidFill>
                <a:srgbClr val="333399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8"/>
            <p:cNvSpPr/>
            <p:nvPr/>
          </p:nvSpPr>
          <p:spPr>
            <a:xfrm flipV="1">
              <a:off x="4536000" y="1700280"/>
              <a:ext cx="0" cy="4248000"/>
            </a:xfrm>
            <a:prstGeom prst="line">
              <a:avLst/>
            </a:prstGeom>
            <a:ln w="28440">
              <a:solidFill>
                <a:srgbClr val="333399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animClr clrSpc="rgb">
                                      <p:cBhvr>
                                        <p:cTn id="4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set>
                                      <p:cBhvr>
                                        <p:cTn id="5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5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5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set>
                                      <p:cBhvr>
                                        <p:cTn id="5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5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37920" y="43920"/>
            <a:ext cx="9118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Cuando un líder utiliza el </a:t>
            </a:r>
            <a:br>
              <a:rPr sz="3200"/>
            </a:b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stilo de liderazgo  </a:t>
            </a:r>
            <a:r>
              <a:rPr b="1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Apoyar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8713800" cy="483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lvl="1" marL="440280" indent="-178560" algn="just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Comparte con  el colaborador tomar la iniciativa en la planificación de acciones y solución de problema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440280" indent="-178560" algn="just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Sirve como elemento de reflexión, estimulando al colaborador a discutir sus preocupaciones e idea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440280" indent="-178560" algn="just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Escucha y estimula al colaborador a resolver problemas y tomar decisiones autónomamente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440280" indent="-178560" algn="just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Proporciona seguridad, apoyo, estímulo y elogio al colaborador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440280" indent="-178560" algn="just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Explica maneras para hacer la meta o tarea mas interesante y desafiante, cuando la motivación es baja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440280" indent="-178560" algn="just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Proporciona ayuda en la solución de problemas compartiendo ideas, cuando se la solicitan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440280" indent="-178560" algn="just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Trabaja con el colaborador en la evaluación de su problema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4560" y="115560"/>
            <a:ext cx="9118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Cuando un líder utiliza</a:t>
            </a:r>
            <a:br>
              <a:rPr sz="3200"/>
            </a:b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 el estilo de liderazgo </a:t>
            </a:r>
            <a:r>
              <a:rPr b="1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Delegar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24000" y="1542600"/>
            <a:ext cx="8496000" cy="483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449280" indent="-182520" algn="just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Permite al colaborador hacerse cargo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449280" indent="-182520" algn="just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Define con el colaborador los problemas y los resultados deseado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449280" indent="-182520" algn="just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Estimula al colaborador a evaluar su propio  trabajo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449280" indent="-182520" algn="just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Proporciona oportunidades para que el colaborador comparta y celebre éxitos y prepare a otro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449280" indent="-182520" algn="just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Reconoce, valora y premia las contribuciones del colaborador a la organización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449280" indent="-182520" algn="just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Desafía al colaborador a alcanzar niveles de desempeño aun mas alto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692000" y="5364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stilos de toma de decisiones</a:t>
            </a: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grpSp>
        <p:nvGrpSpPr>
          <p:cNvPr id="342" name="Group 3"/>
          <p:cNvGrpSpPr/>
          <p:nvPr/>
        </p:nvGrpSpPr>
        <p:grpSpPr>
          <a:xfrm>
            <a:off x="1187280" y="1197000"/>
            <a:ext cx="5832360" cy="4959000"/>
            <a:chOff x="1187280" y="1197000"/>
            <a:chExt cx="5832360" cy="4959000"/>
          </a:xfrm>
        </p:grpSpPr>
        <p:sp>
          <p:nvSpPr>
            <p:cNvPr id="343" name="Rectangle 3"/>
            <p:cNvSpPr/>
            <p:nvPr/>
          </p:nvSpPr>
          <p:spPr>
            <a:xfrm>
              <a:off x="1233360" y="1896120"/>
              <a:ext cx="2811960" cy="12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ts val="1698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"/>
                </a:rPr>
                <a:t>El líder en el estilo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698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000000"/>
                  </a:solidFill>
                  <a:latin typeface="Arial"/>
                </a:rPr>
                <a:t>Apoy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698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2000" spc="-1" strike="noStrike">
                  <a:solidFill>
                    <a:srgbClr val="000000"/>
                  </a:solidFill>
                  <a:latin typeface="Arial"/>
                </a:rPr>
                <a:t>Hablemos, ambos decidim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4"/>
            <p:cNvSpPr/>
            <p:nvPr/>
          </p:nvSpPr>
          <p:spPr>
            <a:xfrm>
              <a:off x="4117320" y="1874880"/>
              <a:ext cx="2811960" cy="99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ts val="1698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"/>
                </a:rPr>
                <a:t>El líder en el estilo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698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000000"/>
                  </a:solidFill>
                  <a:latin typeface="Arial"/>
                </a:rPr>
                <a:t>Entren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698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2000" spc="-1" strike="noStrike">
                  <a:solidFill>
                    <a:srgbClr val="000000"/>
                  </a:solidFill>
                  <a:latin typeface="Arial"/>
                </a:rPr>
                <a:t>Hablemos, yo decid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5"/>
            <p:cNvSpPr/>
            <p:nvPr/>
          </p:nvSpPr>
          <p:spPr>
            <a:xfrm>
              <a:off x="1233360" y="4065840"/>
              <a:ext cx="2811960" cy="99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ts val="1698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"/>
                </a:rPr>
                <a:t>El líder en el estilo 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698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000000"/>
                  </a:solidFill>
                  <a:latin typeface="Arial"/>
                </a:rPr>
                <a:t>Deleg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698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2000" spc="-1" strike="noStrike">
                  <a:solidFill>
                    <a:srgbClr val="000000"/>
                  </a:solidFill>
                  <a:latin typeface="Arial"/>
                </a:rPr>
                <a:t>Tú dec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6"/>
            <p:cNvSpPr/>
            <p:nvPr/>
          </p:nvSpPr>
          <p:spPr>
            <a:xfrm>
              <a:off x="4117320" y="4045320"/>
              <a:ext cx="2811960" cy="99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ts val="1698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"/>
                </a:rPr>
                <a:t>El líder en el estilo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698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000000"/>
                  </a:solidFill>
                  <a:latin typeface="Arial"/>
                </a:rPr>
                <a:t>Dirig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698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s-CL" sz="2000" spc="-1" strike="noStrike">
                  <a:solidFill>
                    <a:srgbClr val="000000"/>
                  </a:solidFill>
                  <a:latin typeface="Arial"/>
                </a:rPr>
                <a:t>Yo decid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7"/>
            <p:cNvSpPr/>
            <p:nvPr/>
          </p:nvSpPr>
          <p:spPr>
            <a:xfrm>
              <a:off x="1187280" y="1197000"/>
              <a:ext cx="5832360" cy="4959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8"/>
            <p:cNvSpPr/>
            <p:nvPr/>
          </p:nvSpPr>
          <p:spPr>
            <a:xfrm>
              <a:off x="4025520" y="1197000"/>
              <a:ext cx="1800" cy="49590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9"/>
            <p:cNvSpPr/>
            <p:nvPr/>
          </p:nvSpPr>
          <p:spPr>
            <a:xfrm>
              <a:off x="1187280" y="3506040"/>
              <a:ext cx="5832360" cy="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6984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Un líder tiene tres opciones</a:t>
            </a: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63720" y="1773000"/>
            <a:ext cx="764064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e088a"/>
                </a:solidFill>
                <a:latin typeface="Arial"/>
              </a:rPr>
              <a:t>Utilizar el estilo requerido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e088a"/>
                </a:solidFill>
                <a:latin typeface="Arial"/>
              </a:rPr>
              <a:t>Supervisar excesivamente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e088a"/>
                </a:solidFill>
                <a:latin typeface="Arial"/>
              </a:rPr>
              <a:t>Supervisar insuficientemente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771280" y="151920"/>
            <a:ext cx="59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0000"/>
                </a:solidFill>
                <a:latin typeface="Arial"/>
              </a:rPr>
              <a:t>Consecuencias de la </a:t>
            </a:r>
            <a:br>
              <a:rPr sz="3400"/>
            </a:br>
            <a:r>
              <a:rPr b="1" lang="es-CL" sz="3400" spc="-1" strike="noStrike">
                <a:solidFill>
                  <a:srgbClr val="000000"/>
                </a:solidFill>
                <a:latin typeface="Arial"/>
              </a:rPr>
              <a:t>supervisión excesiva</a:t>
            </a:r>
            <a:endParaRPr b="1" lang="en-US" sz="34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064880" y="1925280"/>
            <a:ext cx="6985080" cy="418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Participación disminuida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Frustración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Resentimiento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Menor iniciativa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Menor autonomía en el desempeño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2"/>
          <p:cNvSpPr/>
          <p:nvPr/>
        </p:nvSpPr>
        <p:spPr>
          <a:xfrm>
            <a:off x="126360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0000"/>
                </a:solidFill>
                <a:latin typeface="Arial"/>
              </a:rPr>
              <a:t>Consecuencias de la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0000"/>
                </a:solidFill>
                <a:latin typeface="Arial"/>
              </a:rPr>
              <a:t>supervisión insuficien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1332000" y="1557360"/>
            <a:ext cx="71294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57200" indent="-457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enor éx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rust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sent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enor inici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acciones de rechazo o eva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enor eficiencia en el desemp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987640" y="274320"/>
            <a:ext cx="4687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3000" spc="-1" strike="noStrike">
                <a:solidFill>
                  <a:srgbClr val="003399"/>
                </a:solidFill>
                <a:latin typeface="Arial"/>
              </a:rPr>
              <a:t>Las </a:t>
            </a:r>
            <a:r>
              <a:rPr b="1" lang="es-CL" sz="3800" spc="-1" strike="noStrike">
                <a:solidFill>
                  <a:srgbClr val="003399"/>
                </a:solidFill>
                <a:latin typeface="Verdana"/>
              </a:rPr>
              <a:t>3</a:t>
            </a:r>
            <a:r>
              <a:rPr b="1" lang="es-CL" sz="3000" spc="-1" strike="noStrike">
                <a:solidFill>
                  <a:srgbClr val="003399"/>
                </a:solidFill>
                <a:latin typeface="Arial"/>
              </a:rPr>
              <a:t> habilidades de un </a:t>
            </a:r>
            <a:br>
              <a:rPr sz="3000"/>
            </a:br>
            <a:r>
              <a:rPr b="1" lang="es-CL" sz="3000" spc="-1" strike="noStrike">
                <a:solidFill>
                  <a:srgbClr val="003399"/>
                </a:solidFill>
                <a:latin typeface="Arial"/>
              </a:rPr>
              <a:t>Líder Situacional</a:t>
            </a:r>
            <a:endParaRPr b="1" lang="en-US" sz="30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38280" y="1341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99"/>
                </a:solidFill>
                <a:latin typeface="Arial"/>
              </a:rPr>
              <a:t>Diagnosticar:</a:t>
            </a:r>
            <a:r>
              <a:rPr b="0" lang="es-CL" sz="1800" spc="-1" strike="noStrike">
                <a:solidFill>
                  <a:srgbClr val="003399"/>
                </a:solidFill>
                <a:latin typeface="Arial"/>
              </a:rPr>
              <a:t> determinar las necesidades de desarrollo.</a:t>
            </a:r>
            <a:endParaRPr b="0" lang="en-US" sz="1800" spc="-1" strike="noStrike">
              <a:solidFill>
                <a:srgbClr val="0e088a"/>
              </a:solidFill>
              <a:latin typeface="UnitOT-Regular"/>
            </a:endParaRPr>
          </a:p>
          <a:p>
            <a:pPr marL="533520" indent="0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99"/>
                </a:solidFill>
                <a:latin typeface="Arial"/>
              </a:rPr>
              <a:t>2. Flexibilidad</a:t>
            </a:r>
            <a:r>
              <a:rPr b="0" lang="es-CL" sz="1800" spc="-1" strike="noStrike">
                <a:solidFill>
                  <a:srgbClr val="003399"/>
                </a:solidFill>
                <a:latin typeface="Arial"/>
              </a:rPr>
              <a:t>: utilizar una variedad de estilos de Liderazgo.</a:t>
            </a:r>
            <a:endParaRPr b="0" lang="en-US" sz="1800" spc="-1" strike="noStrike">
              <a:solidFill>
                <a:srgbClr val="0e088a"/>
              </a:solidFill>
              <a:latin typeface="UnitOT-Regular"/>
            </a:endParaRPr>
          </a:p>
          <a:p>
            <a:pPr marL="533520" indent="0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99"/>
                </a:solidFill>
                <a:latin typeface="Arial"/>
              </a:rPr>
              <a:t>3. Alianza para el desempeño/Acuerdo sobre el estilo de liderazgo</a:t>
            </a:r>
            <a:r>
              <a:rPr b="0" lang="es-CL" sz="1800" spc="-1" strike="noStrike">
                <a:solidFill>
                  <a:srgbClr val="003399"/>
                </a:solidFill>
                <a:latin typeface="Arial"/>
              </a:rPr>
              <a:t>: lograr acuerdos con los colaboradores acerca del estilo de liderazgo a utilizar.</a:t>
            </a:r>
            <a:endParaRPr b="0" lang="en-US" sz="1800" spc="-1" strike="noStrike">
              <a:solidFill>
                <a:srgbClr val="0e088a"/>
              </a:solidFill>
              <a:latin typeface="UnitOT-Regular"/>
            </a:endParaRPr>
          </a:p>
          <a:p>
            <a:pPr marL="533520" indent="0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088a"/>
              </a:solidFill>
              <a:latin typeface="UnitOT-Regular"/>
            </a:endParaRPr>
          </a:p>
        </p:txBody>
      </p:sp>
      <p:pic>
        <p:nvPicPr>
          <p:cNvPr id="358" name="Picture 4" descr="Fotolia_tickman"/>
          <p:cNvPicPr/>
          <p:nvPr/>
        </p:nvPicPr>
        <p:blipFill>
          <a:blip r:embed="rId1"/>
          <a:stretch/>
        </p:blipFill>
        <p:spPr>
          <a:xfrm>
            <a:off x="179280" y="1413000"/>
            <a:ext cx="636840" cy="6364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9" descr="Fotolia_tickman"/>
          <p:cNvPicPr/>
          <p:nvPr/>
        </p:nvPicPr>
        <p:blipFill>
          <a:blip r:embed="rId2"/>
          <a:stretch/>
        </p:blipFill>
        <p:spPr>
          <a:xfrm>
            <a:off x="119160" y="2276640"/>
            <a:ext cx="636480" cy="63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8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3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8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692000" y="151920"/>
            <a:ext cx="7451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3399"/>
                </a:solidFill>
                <a:latin typeface="Arial"/>
              </a:rPr>
              <a:t>Alianza para el desempeño/</a:t>
            </a:r>
            <a:br>
              <a:rPr sz="3200"/>
            </a:br>
            <a:r>
              <a:rPr b="1" lang="es-CL" sz="3200" spc="-1" strike="noStrike">
                <a:solidFill>
                  <a:srgbClr val="003399"/>
                </a:solidFill>
                <a:latin typeface="Arial"/>
              </a:rPr>
              <a:t>Acuerdo sobre el Estilo de Liderazgo</a:t>
            </a: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00120" y="1557360"/>
            <a:ext cx="7859520" cy="230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Comunicarse con sus colaboradores y llegar a acuerdos sobre el estilo de liderazgo a utilizar, para ayudarles a desarrollar su competencia y compromiso; y a alcanzar sus metas personales y las de la organización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</p:txBody>
      </p:sp>
      <p:pic>
        <p:nvPicPr>
          <p:cNvPr id="362" name="Picture 14" descr="2365568058_8defeeaf3a"/>
          <p:cNvPicPr/>
          <p:nvPr/>
        </p:nvPicPr>
        <p:blipFill>
          <a:blip r:embed="rId1"/>
          <a:stretch/>
        </p:blipFill>
        <p:spPr>
          <a:xfrm>
            <a:off x="5796000" y="378936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6" descr="2136953861_1b91ecbba2"/>
          <p:cNvPicPr/>
          <p:nvPr/>
        </p:nvPicPr>
        <p:blipFill>
          <a:blip r:embed="rId1"/>
          <a:stretch/>
        </p:blipFill>
        <p:spPr>
          <a:xfrm>
            <a:off x="4789440" y="2637000"/>
            <a:ext cx="4103640" cy="410364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835280" y="15192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3399"/>
                </a:solidFill>
                <a:latin typeface="Arial"/>
              </a:rPr>
              <a:t>El Proceso de</a:t>
            </a:r>
            <a:br>
              <a:rPr sz="3200"/>
            </a:br>
            <a:r>
              <a:rPr b="1" lang="es-CL" sz="3200" spc="-1" strike="noStrike">
                <a:solidFill>
                  <a:srgbClr val="003399"/>
                </a:solidFill>
                <a:latin typeface="Arial"/>
              </a:rPr>
              <a:t> Administración del Desempeño</a:t>
            </a: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07640" y="1484280"/>
            <a:ext cx="88678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6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1.</a:t>
            </a: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Planificación del desempeño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406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2.</a:t>
            </a: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Asesoría día a día utilizando el estilo de liderazgo acordado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406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3.</a:t>
            </a: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Evaluación del desempeño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7448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3399"/>
                </a:solidFill>
                <a:latin typeface="Arial"/>
              </a:rPr>
              <a:t>Alianza para el desempeño/Acuerdo</a:t>
            </a:r>
            <a:br>
              <a:rPr sz="3200"/>
            </a:br>
            <a:r>
              <a:rPr b="1" lang="es-CL" sz="3200" spc="-1" strike="noStrike">
                <a:solidFill>
                  <a:srgbClr val="003399"/>
                </a:solidFill>
                <a:latin typeface="Arial"/>
              </a:rPr>
              <a:t>sobre el estilo de liderazgo</a:t>
            </a: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9067680" cy="29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Enseñe a sus colaboradores el modelo del Liderazgo Situacional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Identifique las áreas claves de responsabilidad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3. </a:t>
            </a: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Defina las meta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3204720" y="3875040"/>
            <a:ext cx="265176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ts val="2999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M—Motivad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E—Específ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T—Trascend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A—Alcanz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S—Segu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4067280" y="515772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Marzo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pie copia"/>
          <p:cNvPicPr/>
          <p:nvPr/>
        </p:nvPicPr>
        <p:blipFill>
          <a:blip r:embed="rId1"/>
          <a:stretch/>
        </p:blipFill>
        <p:spPr>
          <a:xfrm>
            <a:off x="1116000" y="6283440"/>
            <a:ext cx="7201080" cy="458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ROSELY"/>
          <p:cNvPicPr/>
          <p:nvPr/>
        </p:nvPicPr>
        <p:blipFill>
          <a:blip r:embed="rId2"/>
          <a:stretch/>
        </p:blipFill>
        <p:spPr>
          <a:xfrm>
            <a:off x="214200" y="1989000"/>
            <a:ext cx="2125800" cy="21258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6"/>
          <p:cNvSpPr/>
          <p:nvPr/>
        </p:nvSpPr>
        <p:spPr>
          <a:xfrm>
            <a:off x="1330200" y="2246400"/>
            <a:ext cx="87138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e088a"/>
                </a:solidFill>
                <a:latin typeface="Trebuchet MS"/>
              </a:rPr>
              <a:t>Habilidades Directiva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e088a"/>
                </a:solidFill>
                <a:latin typeface="Trebuchet MS"/>
              </a:rPr>
              <a:t>Programa en Gestión Estratégica Educ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e088a"/>
                </a:solidFill>
                <a:latin typeface="Trebuchet MS"/>
              </a:rPr>
              <a:t> </a:t>
            </a:r>
            <a:r>
              <a:rPr b="1" lang="es-CL" sz="2400" spc="-1" strike="noStrike">
                <a:solidFill>
                  <a:srgbClr val="0e088a"/>
                </a:solidFill>
                <a:latin typeface="Trebuchet MS"/>
              </a:rPr>
              <a:t>para Directivos de la Edu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003399"/>
                </a:solidFill>
                <a:latin typeface="Arial"/>
              </a:rPr>
              <a:t>Alianza para el desempeño/Acuerdo</a:t>
            </a:r>
            <a:br>
              <a:rPr sz="3000"/>
            </a:br>
            <a:r>
              <a:rPr b="1" lang="es-CL" sz="3000" spc="-1" strike="noStrike">
                <a:solidFill>
                  <a:srgbClr val="003399"/>
                </a:solidFill>
                <a:latin typeface="Arial"/>
              </a:rPr>
              <a:t>sobre el estilo de liderazgo</a:t>
            </a:r>
            <a:endParaRPr b="1" lang="en-US" sz="30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43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4. Evalúe el nivel de desarrollo del colaborador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0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5. Discuta con el colaborador el estilo de liderazgo utilizado anteriormente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0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6. Llegue a un acuerdo sobre el estilo de liderazgo a utilizar en el futuro y especifique las acciones que tomará, como líder, para dirigir y apoyar los esfuerzos del colaborador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0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7. Sea consistente en la utilización del estilo de liderazgo acordado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907640" y="274320"/>
            <a:ext cx="5767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e088a"/>
                </a:solidFill>
                <a:latin typeface="Arial"/>
              </a:rPr>
              <a:t>¿ Qué hace un líder cuando utiliza el estilo Dirigir?</a:t>
            </a:r>
            <a:endParaRPr b="1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e088a"/>
                </a:solidFill>
                <a:latin typeface="Arial"/>
              </a:rPr>
              <a:t>Cuando un líder utiliza el estilo de liderazgo Dirigir: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e08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Arial"/>
              </a:rPr>
              <a:t>Reconoce el entusiasmo del colaborador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e08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Arial"/>
              </a:rPr>
              <a:t>Reconoce las habilidades transferibles del colaborador y sus progreso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e08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Arial"/>
              </a:rPr>
              <a:t>Identifica los resultados, objetivos y plazos deseado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e08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Arial"/>
              </a:rPr>
              <a:t>Define que es un buen trabajo y como se registrara el desempeño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e08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Arial"/>
              </a:rPr>
              <a:t>Desarrolla un plan para que el colaborador aprenda nuevas habilidade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e08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Arial"/>
              </a:rPr>
              <a:t>Dirige la planificación de accione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e08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Arial"/>
              </a:rPr>
              <a:t>Toma la mayoría de las decisiones relacionadas con qué hacer, cuándo y con quién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e08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Arial"/>
              </a:rPr>
              <a:t>Proporciona directrices e instrucciones especifica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e08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Arial"/>
              </a:rPr>
              <a:t>Dirige la solución de problema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700360" y="274320"/>
            <a:ext cx="4975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e088a"/>
                </a:solidFill>
                <a:latin typeface="Arial"/>
              </a:rPr>
              <a:t>¿Qué hace un líder cuando utiliza el estilo Orientar?</a:t>
            </a:r>
            <a:endParaRPr b="1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e088a"/>
                </a:solidFill>
                <a:latin typeface="Arial"/>
              </a:rPr>
              <a:t>Cuando un líder utiliza el estilo de liderazgo Orientar: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e08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Arial"/>
              </a:rPr>
              <a:t>Involucra al  colaborador en identificar problemas y en fijar meta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e08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Arial"/>
              </a:rPr>
              <a:t>Proporciona apoyo, seguridad y elogio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e08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Arial"/>
              </a:rPr>
              <a:t>Escucha : brinda al colaborador una oportunidad para discutir idea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e08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Arial"/>
              </a:rPr>
              <a:t>Involucra al colaborador en la solución de problema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e08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Arial"/>
              </a:rPr>
              <a:t>Toma de decisiones finales relativas a los planes de acción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e08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Arial"/>
              </a:rPr>
              <a:t>Proporciona dirección para continuar  desarrollando las habilidade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e08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Arial"/>
              </a:rPr>
              <a:t>Explica la razón para tomar un enfoque particular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e08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Arial"/>
              </a:rPr>
              <a:t>Define que es un trabajo bien hecho y cómo será controlado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e08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Arial"/>
              </a:rPr>
              <a:t>Continua haciendo seguimiento y proporcionando retroalimentación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700360" y="274320"/>
            <a:ext cx="4975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e088a"/>
                </a:solidFill>
                <a:latin typeface="Arial"/>
              </a:rPr>
              <a:t>¿ Qué hace un líder cuando utiliza el estilo Apoyar?</a:t>
            </a:r>
            <a:endParaRPr b="1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e088a"/>
                </a:solidFill>
                <a:latin typeface="UnitOT-Regular"/>
              </a:rPr>
              <a:t>Cuando un líder utiliza el estilo de liderazgo Apoyar: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e088a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UnitOT-Regular"/>
              </a:rPr>
              <a:t>Comparte con  el colaborador acciones y solución de problema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e088a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UnitOT-Regular"/>
              </a:rPr>
              <a:t>Sirve como elemento de reflexión, estimulando al colaborador a discutir sus preocupaciones e idea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e088a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UnitOT-Regular"/>
              </a:rPr>
              <a:t>Escucha y estimula al colaborador a resolver problemas y tomar decisiones autónomamente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e088a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UnitOT-Regular"/>
              </a:rPr>
              <a:t>Proporciona seguridad, apoyo, estímulo y elogio al colaborador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e088a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UnitOT-Regular"/>
              </a:rPr>
              <a:t>Explica maneras para hacer la meta o tarea mas interesante y desafiante, cuando la motivación es baja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e088a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UnitOT-Regular"/>
              </a:rPr>
              <a:t>Proporciona ayuda en la solución de problemas compartiendo ideas, cuando se la solicitan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e088a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UnitOT-Regular"/>
              </a:rPr>
              <a:t>Trabaja con el colaborador en la evaluación de su problema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e088a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UnitOT-Regular"/>
              </a:rPr>
              <a:t>El colaborador toma la iniciativa en la planificación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71360" y="274320"/>
            <a:ext cx="58402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e088a"/>
                </a:solidFill>
                <a:latin typeface="Arial"/>
              </a:rPr>
              <a:t> </a:t>
            </a:r>
            <a:r>
              <a:rPr b="1" lang="es-CL" sz="3200" spc="-1" strike="noStrike">
                <a:solidFill>
                  <a:srgbClr val="0e088a"/>
                </a:solidFill>
                <a:latin typeface="Arial"/>
              </a:rPr>
              <a:t>¿Qué hace un líder cuando utiliza el estilo Delegar?</a:t>
            </a: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e088a"/>
                </a:solidFill>
                <a:latin typeface="UnitOT-Regular"/>
              </a:rPr>
              <a:t>Cuando un líder utiliza el estilo de liderazgo Delegar: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e088a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UnitOT-Regular"/>
              </a:rPr>
              <a:t>Permite al colaborador hacerse cargo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e088a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UnitOT-Regular"/>
              </a:rPr>
              <a:t>Define con el colaborador los problemas y los resultados deseado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e088a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UnitOT-Regular"/>
              </a:rPr>
              <a:t>Estimula al colaborador a evaluar su propio  trabajo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e088a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UnitOT-Regular"/>
              </a:rPr>
              <a:t>Proporciona oportunidades para que el colaborador comparta y celebre éxitos y prepare a otro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e088a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UnitOT-Regular"/>
              </a:rPr>
              <a:t>Reconoce, valora y premia las contribuciones del colaborador a la organización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e088a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UnitOT-Regular"/>
              </a:rPr>
              <a:t>Desafía al colaborador a alcanzar niveles de desempeño aun mas alto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2"/>
          <p:cNvSpPr/>
          <p:nvPr/>
        </p:nvSpPr>
        <p:spPr>
          <a:xfrm>
            <a:off x="77760" y="1698480"/>
            <a:ext cx="8836200" cy="19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5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Los líderes efic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ajustan su estilo para proporcion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al grupo lo que éste no pue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conseguir por sí mis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Group 2"/>
          <p:cNvGrpSpPr/>
          <p:nvPr/>
        </p:nvGrpSpPr>
        <p:grpSpPr>
          <a:xfrm>
            <a:off x="2387520" y="1854360"/>
            <a:ext cx="4488840" cy="4527000"/>
            <a:chOff x="2387520" y="1854360"/>
            <a:chExt cx="4488840" cy="4527000"/>
          </a:xfrm>
        </p:grpSpPr>
        <p:sp>
          <p:nvSpPr>
            <p:cNvPr id="381" name="Line 3"/>
            <p:cNvSpPr/>
            <p:nvPr/>
          </p:nvSpPr>
          <p:spPr>
            <a:xfrm>
              <a:off x="4672080" y="1854360"/>
              <a:ext cx="0" cy="45270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" name="Group 4"/>
            <p:cNvGrpSpPr/>
            <p:nvPr/>
          </p:nvGrpSpPr>
          <p:grpSpPr>
            <a:xfrm>
              <a:off x="2387520" y="1854360"/>
              <a:ext cx="4488840" cy="4526280"/>
              <a:chOff x="2387520" y="1854360"/>
              <a:chExt cx="4488840" cy="4526280"/>
            </a:xfrm>
          </p:grpSpPr>
          <p:grpSp>
            <p:nvGrpSpPr>
              <p:cNvPr id="383" name="Group 5"/>
              <p:cNvGrpSpPr/>
              <p:nvPr/>
            </p:nvGrpSpPr>
            <p:grpSpPr>
              <a:xfrm>
                <a:off x="2387520" y="1854360"/>
                <a:ext cx="4488480" cy="4526280"/>
                <a:chOff x="2387520" y="1854360"/>
                <a:chExt cx="4488480" cy="4526280"/>
              </a:xfrm>
            </p:grpSpPr>
            <p:grpSp>
              <p:nvGrpSpPr>
                <p:cNvPr id="384" name="Group 6"/>
                <p:cNvGrpSpPr/>
                <p:nvPr/>
              </p:nvGrpSpPr>
              <p:grpSpPr>
                <a:xfrm>
                  <a:off x="2425680" y="2413080"/>
                  <a:ext cx="4395240" cy="3296520"/>
                  <a:chOff x="2425680" y="2413080"/>
                  <a:chExt cx="4395240" cy="3296520"/>
                </a:xfrm>
              </p:grpSpPr>
              <p:sp>
                <p:nvSpPr>
                  <p:cNvPr id="385" name="Rectangle 7"/>
                  <p:cNvSpPr/>
                  <p:nvPr/>
                </p:nvSpPr>
                <p:spPr>
                  <a:xfrm>
                    <a:off x="2425680" y="2413080"/>
                    <a:ext cx="2164320" cy="142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44280" bIns="44280" anchor="t">
                    <a:spAutoFit/>
                  </a:bodyPr>
                  <a:p>
                    <a:pPr algn="ctr">
                      <a:lnSpc>
                        <a:spcPts val="1698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800" spc="-1" strike="noStrike">
                        <a:solidFill>
                          <a:srgbClr val="666699"/>
                        </a:solidFill>
                        <a:latin typeface="UnitOT-Regular"/>
                      </a:rPr>
                      <a:t>El líder en el estilo 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ts val="1698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800" spc="-1" strike="noStrike">
                        <a:solidFill>
                          <a:srgbClr val="666699"/>
                        </a:solidFill>
                        <a:latin typeface="UnitOT-Regular"/>
                      </a:rPr>
                      <a:t>Apoy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ts val="1698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CL" sz="1800" spc="-1" strike="noStrike">
                        <a:solidFill>
                          <a:srgbClr val="666699"/>
                        </a:solidFill>
                        <a:latin typeface="UnitOT-Regular"/>
                      </a:rPr>
                      <a:t>Hablemos, ambos decidimos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Rectangle 8"/>
                  <p:cNvSpPr/>
                  <p:nvPr/>
                </p:nvSpPr>
                <p:spPr>
                  <a:xfrm>
                    <a:off x="4656240" y="2413080"/>
                    <a:ext cx="2164680" cy="142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44280" bIns="44280" anchor="t">
                    <a:spAutoFit/>
                  </a:bodyPr>
                  <a:p>
                    <a:pPr algn="ctr">
                      <a:lnSpc>
                        <a:spcPts val="1698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800" spc="-1" strike="noStrike">
                        <a:solidFill>
                          <a:srgbClr val="666699"/>
                        </a:solidFill>
                        <a:latin typeface="UnitOT-Regular"/>
                      </a:rPr>
                      <a:t>El líder en el estilo 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ts val="1698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800" spc="-1" strike="noStrike">
                        <a:solidFill>
                          <a:srgbClr val="666699"/>
                        </a:solidFill>
                        <a:latin typeface="UnitOT-Regular"/>
                      </a:rPr>
                      <a:t>Orient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ts val="1698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CL" sz="1800" spc="-1" strike="noStrike">
                        <a:solidFill>
                          <a:srgbClr val="666699"/>
                        </a:solidFill>
                        <a:latin typeface="UnitOT-Regular"/>
                      </a:rPr>
                      <a:t>Hablemos, yo decid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Rectangle 9"/>
                  <p:cNvSpPr/>
                  <p:nvPr/>
                </p:nvSpPr>
                <p:spPr>
                  <a:xfrm>
                    <a:off x="2425680" y="4502520"/>
                    <a:ext cx="2164320" cy="120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44280" bIns="44280" anchor="t">
                    <a:spAutoFit/>
                  </a:bodyPr>
                  <a:p>
                    <a:pPr algn="ctr">
                      <a:lnSpc>
                        <a:spcPts val="1698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800" spc="-1" strike="noStrike">
                        <a:solidFill>
                          <a:srgbClr val="666699"/>
                        </a:solidFill>
                        <a:latin typeface="UnitOT-Regular"/>
                      </a:rPr>
                      <a:t>El líder en el estilo 4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ts val="1698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800" spc="-1" strike="noStrike">
                        <a:solidFill>
                          <a:srgbClr val="666699"/>
                        </a:solidFill>
                        <a:latin typeface="UnitOT-Regular"/>
                      </a:rPr>
                      <a:t>Deleg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ts val="1698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CL" sz="1800" spc="-1" strike="noStrike">
                        <a:solidFill>
                          <a:srgbClr val="666699"/>
                        </a:solidFill>
                        <a:latin typeface="UnitOT-Regular"/>
                      </a:rPr>
                      <a:t>Tú decides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Rectangle 10"/>
                  <p:cNvSpPr/>
                  <p:nvPr/>
                </p:nvSpPr>
                <p:spPr>
                  <a:xfrm>
                    <a:off x="4656240" y="4503960"/>
                    <a:ext cx="2164680" cy="120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44280" bIns="44280" anchor="t">
                    <a:spAutoFit/>
                  </a:bodyPr>
                  <a:p>
                    <a:pPr algn="ctr">
                      <a:lnSpc>
                        <a:spcPts val="1698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800" spc="-1" strike="noStrike">
                        <a:solidFill>
                          <a:srgbClr val="666699"/>
                        </a:solidFill>
                        <a:latin typeface="UnitOT-Regular"/>
                      </a:rPr>
                      <a:t>El líder en el estilo 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ts val="1698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800" spc="-1" strike="noStrike">
                        <a:solidFill>
                          <a:srgbClr val="666699"/>
                        </a:solidFill>
                        <a:latin typeface="UnitOT-Regular"/>
                      </a:rPr>
                      <a:t>Dirige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ts val="1698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CL" sz="1800" spc="-1" strike="noStrike">
                        <a:solidFill>
                          <a:srgbClr val="666699"/>
                        </a:solidFill>
                        <a:latin typeface="UnitOT-Regular"/>
                      </a:rPr>
                      <a:t> </a:t>
                    </a:r>
                    <a:r>
                      <a:rPr b="1" i="1" lang="es-CL" sz="1800" spc="-1" strike="noStrike">
                        <a:solidFill>
                          <a:srgbClr val="666699"/>
                        </a:solidFill>
                        <a:latin typeface="UnitOT-Regular"/>
                      </a:rPr>
                      <a:t>Yo decid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9" name="Rectangle 11"/>
                <p:cNvSpPr/>
                <p:nvPr/>
              </p:nvSpPr>
              <p:spPr>
                <a:xfrm>
                  <a:off x="2387520" y="1854360"/>
                  <a:ext cx="4488480" cy="4526280"/>
                </a:xfrm>
                <a:prstGeom prst="rect">
                  <a:avLst/>
                </a:prstGeom>
                <a:noFill/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0" name="Line 12"/>
              <p:cNvSpPr/>
              <p:nvPr/>
            </p:nvSpPr>
            <p:spPr>
              <a:xfrm>
                <a:off x="2387520" y="4077720"/>
                <a:ext cx="448884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700360" y="274320"/>
            <a:ext cx="5184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e088a"/>
                </a:solidFill>
                <a:latin typeface="Arial"/>
              </a:rPr>
              <a:t>Estilo de toma de decisiones</a:t>
            </a:r>
            <a:endParaRPr b="1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2"/>
          <p:cNvSpPr/>
          <p:nvPr/>
        </p:nvSpPr>
        <p:spPr>
          <a:xfrm>
            <a:off x="4211640" y="55958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Marzo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4" descr="pie copia"/>
          <p:cNvPicPr/>
          <p:nvPr/>
        </p:nvPicPr>
        <p:blipFill>
          <a:blip r:embed="rId1"/>
          <a:stretch/>
        </p:blipFill>
        <p:spPr>
          <a:xfrm>
            <a:off x="1116000" y="6283440"/>
            <a:ext cx="7201080" cy="4586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5" descr="ROSELY"/>
          <p:cNvPicPr/>
          <p:nvPr/>
        </p:nvPicPr>
        <p:blipFill>
          <a:blip r:embed="rId2"/>
          <a:stretch/>
        </p:blipFill>
        <p:spPr>
          <a:xfrm>
            <a:off x="468360" y="1989000"/>
            <a:ext cx="2125440" cy="212580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5"/>
          <p:cNvSpPr/>
          <p:nvPr/>
        </p:nvSpPr>
        <p:spPr>
          <a:xfrm>
            <a:off x="1330200" y="2246400"/>
            <a:ext cx="87138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e088a"/>
                </a:solidFill>
                <a:latin typeface="Arial"/>
              </a:rPr>
              <a:t>Habilidades Directivas</a:t>
            </a:r>
            <a:br>
              <a:rPr sz="2800"/>
            </a:br>
            <a:r>
              <a:rPr b="1" lang="es-ES" sz="2800" spc="-1" strike="noStrike">
                <a:solidFill>
                  <a:srgbClr val="0e088a"/>
                </a:solidFill>
                <a:latin typeface="Arial"/>
              </a:rPr>
              <a:t>Diploma en Gerencia Públ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595680" y="426600"/>
            <a:ext cx="33415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Conflicto</a:t>
            </a:r>
            <a:endParaRPr b="1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77724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Concepción negativa del Conflicto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Conflicto como parte inherente del ser humano y por ende de los grupo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El conflicto puede ser positivo dependiendo de la forma en que se administra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842920" y="475920"/>
            <a:ext cx="45133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Definición de Conflicto</a:t>
            </a:r>
            <a:endParaRPr b="1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80880" y="21333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“ </a:t>
            </a: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Situación en la que sus intereses son diferentes a los de otra (s) persona (s)”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31640" y="417600"/>
            <a:ext cx="4464360" cy="49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UnitOT-Regular"/>
              </a:rPr>
              <a:t>OBJETIVOS ESPECÍFICOS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UnitOT-Regular"/>
              </a:rPr>
              <a:t>DEL MODULO</a:t>
            </a:r>
            <a:endParaRPr b="1" lang="en-US" sz="24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nsibilizar respecto a  la necesidad de ser flexible y adaptable en relación al estilo de liderazgo, a fin de lograr los objetivos en un ambiente de participación, cambio y diversidad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prender las consecuencias del uso inapropiado de los estilos de liderazgo y cómo afectan el logro de los objetivos, sensibilizando respecto al proceso de la delegación y generación de autonomía en los colaboradore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124000" y="259920"/>
            <a:ext cx="583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Los cinco modos de Administración de Conflictos </a:t>
            </a:r>
            <a:endParaRPr b="1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692360" y="2057400"/>
            <a:ext cx="4556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Competencia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Cesión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Evasión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Colaboración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Compromiso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3"/>
          <p:cNvSpPr/>
          <p:nvPr/>
        </p:nvSpPr>
        <p:spPr>
          <a:xfrm rot="16245000">
            <a:off x="775800" y="1669320"/>
            <a:ext cx="229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s-ES_tradnl" sz="1600" spc="-1" strike="noStrike">
                <a:solidFill>
                  <a:srgbClr val="333399"/>
                </a:solidFill>
                <a:latin typeface="Times New Roman"/>
              </a:rPr>
              <a:t>MAXI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5"/>
          <p:cNvSpPr/>
          <p:nvPr/>
        </p:nvSpPr>
        <p:spPr>
          <a:xfrm>
            <a:off x="7237440" y="1836720"/>
            <a:ext cx="144360" cy="142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Group 54"/>
          <p:cNvGrpSpPr/>
          <p:nvPr/>
        </p:nvGrpSpPr>
        <p:grpSpPr>
          <a:xfrm>
            <a:off x="1127160" y="1843200"/>
            <a:ext cx="6757920" cy="4898880"/>
            <a:chOff x="1127160" y="1843200"/>
            <a:chExt cx="6757920" cy="4898880"/>
          </a:xfrm>
        </p:grpSpPr>
        <p:sp>
          <p:nvSpPr>
            <p:cNvPr id="405" name="Line 8"/>
            <p:cNvSpPr/>
            <p:nvPr/>
          </p:nvSpPr>
          <p:spPr>
            <a:xfrm>
              <a:off x="7310520" y="2185920"/>
              <a:ext cx="0" cy="3583080"/>
            </a:xfrm>
            <a:prstGeom prst="line">
              <a:avLst/>
            </a:prstGeom>
            <a:ln w="381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9"/>
            <p:cNvSpPr/>
            <p:nvPr/>
          </p:nvSpPr>
          <p:spPr>
            <a:xfrm>
              <a:off x="2411280" y="5292720"/>
              <a:ext cx="244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Times New Roman"/>
                </a:rPr>
                <a:t>EVAS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10"/>
            <p:cNvSpPr/>
            <p:nvPr/>
          </p:nvSpPr>
          <p:spPr>
            <a:xfrm flipV="1">
              <a:off x="2349360" y="2188800"/>
              <a:ext cx="0" cy="3583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11"/>
            <p:cNvSpPr/>
            <p:nvPr/>
          </p:nvSpPr>
          <p:spPr>
            <a:xfrm>
              <a:off x="2408400" y="5772240"/>
              <a:ext cx="49021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12"/>
            <p:cNvSpPr/>
            <p:nvPr/>
          </p:nvSpPr>
          <p:spPr>
            <a:xfrm>
              <a:off x="1127160" y="2075400"/>
              <a:ext cx="397080" cy="329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Times New Roman"/>
                </a:rPr>
                <a:t>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Text Box 13"/>
            <p:cNvSpPr/>
            <p:nvPr/>
          </p:nvSpPr>
          <p:spPr>
            <a:xfrm>
              <a:off x="3788280" y="6319080"/>
              <a:ext cx="19195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Times New Roman"/>
                </a:rPr>
                <a:t>COOPER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14"/>
            <p:cNvSpPr/>
            <p:nvPr/>
          </p:nvSpPr>
          <p:spPr>
            <a:xfrm>
              <a:off x="2411280" y="1843200"/>
              <a:ext cx="244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Times New Roman"/>
                </a:rPr>
                <a:t>COMPETENC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15"/>
            <p:cNvSpPr/>
            <p:nvPr/>
          </p:nvSpPr>
          <p:spPr>
            <a:xfrm>
              <a:off x="5076720" y="1843200"/>
              <a:ext cx="244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r>
                <a:rPr b="1" lang="es-ES_tradnl" sz="1800" spc="-1" strike="noStrike">
                  <a:solidFill>
                    <a:srgbClr val="333399"/>
                  </a:solidFill>
                  <a:latin typeface="Times New Roman"/>
                </a:rPr>
                <a:t>COLABOR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16"/>
            <p:cNvSpPr/>
            <p:nvPr/>
          </p:nvSpPr>
          <p:spPr>
            <a:xfrm>
              <a:off x="3787920" y="3540240"/>
              <a:ext cx="244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Times New Roman"/>
                </a:rPr>
                <a:t>COMPROMIS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17"/>
            <p:cNvSpPr/>
            <p:nvPr/>
          </p:nvSpPr>
          <p:spPr>
            <a:xfrm>
              <a:off x="2349360" y="2189160"/>
              <a:ext cx="4961160" cy="0"/>
            </a:xfrm>
            <a:prstGeom prst="line">
              <a:avLst/>
            </a:prstGeom>
            <a:ln w="381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18"/>
            <p:cNvSpPr/>
            <p:nvPr/>
          </p:nvSpPr>
          <p:spPr>
            <a:xfrm>
              <a:off x="7237440" y="5700600"/>
              <a:ext cx="144360" cy="1429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19"/>
            <p:cNvSpPr/>
            <p:nvPr/>
          </p:nvSpPr>
          <p:spPr>
            <a:xfrm>
              <a:off x="4649760" y="3908520"/>
              <a:ext cx="144360" cy="1443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20"/>
            <p:cNvSpPr/>
            <p:nvPr/>
          </p:nvSpPr>
          <p:spPr>
            <a:xfrm>
              <a:off x="6087960" y="5292720"/>
              <a:ext cx="143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Times New Roman"/>
                </a:rPr>
                <a:t>CES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Line 21"/>
            <p:cNvSpPr/>
            <p:nvPr/>
          </p:nvSpPr>
          <p:spPr>
            <a:xfrm flipV="1">
              <a:off x="1917720" y="3263760"/>
              <a:ext cx="0" cy="1648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22"/>
            <p:cNvSpPr/>
            <p:nvPr/>
          </p:nvSpPr>
          <p:spPr>
            <a:xfrm>
              <a:off x="3859200" y="6058080"/>
              <a:ext cx="165420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23"/>
            <p:cNvSpPr/>
            <p:nvPr/>
          </p:nvSpPr>
          <p:spPr>
            <a:xfrm>
              <a:off x="2349360" y="5893560"/>
              <a:ext cx="230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333399"/>
                  </a:solidFill>
                  <a:latin typeface="Times New Roman"/>
                </a:rPr>
                <a:t>     </a:t>
              </a:r>
              <a:r>
                <a:rPr b="1" lang="es-ES_tradnl" sz="1600" spc="-1" strike="noStrike">
                  <a:solidFill>
                    <a:srgbClr val="333399"/>
                  </a:solidFill>
                  <a:latin typeface="Times New Roman"/>
                </a:rPr>
                <a:t>MINIM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24"/>
            <p:cNvSpPr/>
            <p:nvPr/>
          </p:nvSpPr>
          <p:spPr>
            <a:xfrm rot="16226400">
              <a:off x="776520" y="4884840"/>
              <a:ext cx="229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333399"/>
                  </a:solidFill>
                  <a:latin typeface="Times New Roman"/>
                </a:rPr>
                <a:t>     </a:t>
              </a:r>
              <a:r>
                <a:rPr b="1" lang="es-ES_tradnl" sz="1600" spc="-1" strike="noStrike">
                  <a:solidFill>
                    <a:srgbClr val="333399"/>
                  </a:solidFill>
                  <a:latin typeface="Times New Roman"/>
                </a:rPr>
                <a:t>MINIM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25"/>
            <p:cNvSpPr/>
            <p:nvPr/>
          </p:nvSpPr>
          <p:spPr>
            <a:xfrm>
              <a:off x="5584680" y="5893560"/>
              <a:ext cx="230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333399"/>
                  </a:solidFill>
                  <a:latin typeface="Times New Roman"/>
                </a:rPr>
                <a:t>     </a:t>
              </a:r>
              <a:r>
                <a:rPr b="1" lang="es-ES_tradnl" sz="1600" spc="-1" strike="noStrike">
                  <a:solidFill>
                    <a:srgbClr val="333399"/>
                  </a:solidFill>
                  <a:latin typeface="Times New Roman"/>
                </a:rPr>
                <a:t>MAXIM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Oval 26"/>
          <p:cNvSpPr/>
          <p:nvPr/>
        </p:nvSpPr>
        <p:spPr>
          <a:xfrm>
            <a:off x="2203560" y="5703840"/>
            <a:ext cx="144360" cy="144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124000" y="259920"/>
            <a:ext cx="583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Los cinco modos de Administración de Conflictos </a:t>
            </a:r>
            <a:endParaRPr b="1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425" name="Oval 53"/>
          <p:cNvSpPr/>
          <p:nvPr/>
        </p:nvSpPr>
        <p:spPr>
          <a:xfrm>
            <a:off x="2203560" y="1844640"/>
            <a:ext cx="144360" cy="144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771280" y="412920"/>
            <a:ext cx="5040360" cy="11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Arial"/>
              </a:rPr>
              <a:t>Estilo Competencia</a:t>
            </a:r>
            <a:endParaRPr b="1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21840" y="1265400"/>
            <a:ext cx="864252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Usos: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Cuando la acción rápida y decidida es vital. Por ejemplo, en emergencias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En temas esenciales para los intereses de la compañía en los que se sabe que se está en la posición correcta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Si su resultado fue alto: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¿Esta rodeado de incondicionales?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¿Sus subordinados temen admitir ignorancia o incertidumbre frente a usted?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Si su resultado fue bajo: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¿Se siente frecuentemente impotente frente a determinadas situaciones?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¿Tiene dificultades para adoptar una posición firme, aún cuando percibe que es necesario?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395280" y="1267920"/>
            <a:ext cx="8305920" cy="476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Usos: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Para encontrar una solución cuando los intereses de ambas partes son demasiado importantes para ser negociado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Para combinar los puntos de vista de personas con distintas perspectivas sobre un problema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Si su resultado fue alto: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¿Gasta tiempo en discutir en profundidad temas que no parecen justificarlo?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¿Su conducta de colaboración no recibe como respuesta una actitud en igual sentido por parte de los otros?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Si su resultado fue bajo: 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¿Le resulta difícil considerar las diferencias como oportunidades para lograr beneficios mutuos, para aprender o resolver problemas?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¿Sus subordinados demuestran falta de compromiso con sus decisiones o políticas?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title"/>
          </p:nvPr>
        </p:nvSpPr>
        <p:spPr>
          <a:xfrm>
            <a:off x="2125800" y="473040"/>
            <a:ext cx="57592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stilo Colaboración</a:t>
            </a:r>
            <a:endParaRPr b="1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153280" cy="46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Usos: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Para obtener acuerdos temporales en temas complejo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Para llegar a soluciones expeditas cuando el tiempo apremia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Si su resultado fue alto: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¿Se concentra tanto en los detalles y tácticas del compromiso que a veces pierde de vista los grandes temas, tales como principios, valores, objetivos a largo plazo, intereses de la compañía?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¿El énfasis en la negociación ha creado un negativo clima donde las transacciones se han convertido en una especie de deporte?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Si su resultado fue bajo: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¿Se encuentra demasiado susceptible o incómodo para ser eficaz?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¿Le resulta difícil hacer concesiones?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2125800" y="473040"/>
            <a:ext cx="57592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stilo Compromiso</a:t>
            </a:r>
            <a:endParaRPr b="1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684360" y="1341000"/>
            <a:ext cx="777240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Usos: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Cuando un problema es trivial, o cuando urgen temas más importante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Cuando los beneficios potenciales de afrontar un conflicto sobrepasan los beneficios de su resolución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Si su resultado fue alto: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¿La coordinación de su organización se ve perjudicada a causa de que otras personas tienen dificultades para conocer sus opiniones?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¿Se toman decisiones sobre temas importantes por defecto?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Si su resultado fue bajo: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¿Le ocurre frecuentemente que lastima los sentimiento de otras personas, o despierta hostilidades?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¿Se siente a menudo acosado o sobrepasado por una multitud de problemas?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title"/>
          </p:nvPr>
        </p:nvSpPr>
        <p:spPr>
          <a:xfrm>
            <a:off x="2052720" y="476280"/>
            <a:ext cx="57592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stilo Evasión</a:t>
            </a:r>
            <a:endParaRPr b="1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/>
          </p:nvPr>
        </p:nvSpPr>
        <p:spPr>
          <a:xfrm>
            <a:off x="611280" y="1341360"/>
            <a:ext cx="8076960" cy="474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Usos: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Cuando se percibe que se está en una posición equivocada; para permitir que una postura mejor sea escuchada, aprender de otros, o demostrar que se es razonable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Cuando preservar la armonía y evitar controversias es especialmente importante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Si su resultado fue alto: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¿Siente que sus ideas y objetivos no obtienen la atención que merecen?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¿Existe un relajamiento de la disciplina?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Si su resultado fue bajo: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¿Le resulta difícil lograr la buena voluntad de otros?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¿Los otros lo consideran una persona poco razonable?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title"/>
          </p:nvPr>
        </p:nvSpPr>
        <p:spPr>
          <a:xfrm>
            <a:off x="2052720" y="473040"/>
            <a:ext cx="57592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stilo Cesión</a:t>
            </a:r>
            <a:endParaRPr b="1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771280" y="404640"/>
            <a:ext cx="5256360" cy="93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reencias acerca </a:t>
            </a:r>
            <a:br>
              <a:rPr sz="2800"/>
            </a:b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del Rol del Líder </a:t>
            </a:r>
            <a:endParaRPr b="1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pic>
        <p:nvPicPr>
          <p:cNvPr id="79" name="Picture 4" descr="IMG_0165"/>
          <p:cNvPicPr/>
          <p:nvPr/>
        </p:nvPicPr>
        <p:blipFill>
          <a:blip r:embed="rId1"/>
          <a:stretch/>
        </p:blipFill>
        <p:spPr>
          <a:xfrm>
            <a:off x="755640" y="3429000"/>
            <a:ext cx="2184480" cy="285912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6"/>
          <p:cNvSpPr/>
          <p:nvPr/>
        </p:nvSpPr>
        <p:spPr>
          <a:xfrm>
            <a:off x="2771640" y="1773360"/>
            <a:ext cx="5256360" cy="2376360"/>
          </a:xfrm>
          <a:prstGeom prst="cloudCallout">
            <a:avLst>
              <a:gd name="adj1" fmla="val -47555"/>
              <a:gd name="adj2" fmla="val 5013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¿Qué le pediría a un líder ide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873080" y="304560"/>
            <a:ext cx="5794560" cy="74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0000"/>
                </a:solidFill>
                <a:latin typeface="Arial"/>
              </a:rPr>
              <a:t>Liderazgo eficaz</a:t>
            </a:r>
            <a:endParaRPr b="1" lang="en-US" sz="34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664920" y="3705120"/>
            <a:ext cx="1540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FLUYE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4"/>
          <p:cNvGrpSpPr/>
          <p:nvPr/>
        </p:nvGrpSpPr>
        <p:grpSpPr>
          <a:xfrm>
            <a:off x="441360" y="4205160"/>
            <a:ext cx="2011320" cy="427320"/>
            <a:chOff x="441360" y="4205160"/>
            <a:chExt cx="2011320" cy="427320"/>
          </a:xfrm>
        </p:grpSpPr>
        <p:grpSp>
          <p:nvGrpSpPr>
            <p:cNvPr id="84" name="Group 5"/>
            <p:cNvGrpSpPr/>
            <p:nvPr/>
          </p:nvGrpSpPr>
          <p:grpSpPr>
            <a:xfrm>
              <a:off x="441360" y="4205160"/>
              <a:ext cx="426960" cy="427320"/>
              <a:chOff x="441360" y="4205160"/>
              <a:chExt cx="426960" cy="427320"/>
            </a:xfrm>
          </p:grpSpPr>
          <p:sp>
            <p:nvSpPr>
              <p:cNvPr id="85" name="Oval 6"/>
              <p:cNvSpPr/>
              <p:nvPr/>
            </p:nvSpPr>
            <p:spPr>
              <a:xfrm>
                <a:off x="441360" y="4205160"/>
                <a:ext cx="426960" cy="427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Rectangle 7"/>
              <p:cNvSpPr/>
              <p:nvPr/>
            </p:nvSpPr>
            <p:spPr>
              <a:xfrm>
                <a:off x="492120" y="4268880"/>
                <a:ext cx="2984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6600" rIns="66600" tIns="33480" bIns="33480" anchor="t">
                <a:spAutoFit/>
              </a:bodyPr>
              <a:p>
                <a:pPr algn="ctr">
                  <a:tabLst>
                    <a:tab algn="l" pos="0"/>
                    <a:tab algn="l" pos="473040"/>
                    <a:tab algn="l" pos="946080"/>
                    <a:tab algn="l" pos="1419120"/>
                    <a:tab algn="l" pos="1892160"/>
                    <a:tab algn="l" pos="2365200"/>
                    <a:tab algn="l" pos="2838600"/>
                    <a:tab algn="l" pos="3311640"/>
                    <a:tab algn="l" pos="3784680"/>
                    <a:tab algn="l" pos="4257720"/>
                    <a:tab algn="l" pos="4730760"/>
                    <a:tab algn="l" pos="5203800"/>
                    <a:tab algn="l" pos="5676840"/>
                    <a:tab algn="l" pos="6149880"/>
                    <a:tab algn="l" pos="6622920"/>
                    <a:tab algn="l" pos="7095960"/>
                    <a:tab algn="l" pos="7569360"/>
                    <a:tab algn="l" pos="8042400"/>
                    <a:tab algn="l" pos="8515440"/>
                    <a:tab algn="l" pos="8988480"/>
                    <a:tab algn="l" pos="9461520"/>
                  </a:tabLst>
                </a:pPr>
                <a:r>
                  <a:rPr b="1" lang="es-CL" sz="1800" spc="-1" strike="noStrike">
                    <a:solidFill>
                      <a:srgbClr val="003399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Group 8"/>
            <p:cNvGrpSpPr/>
            <p:nvPr/>
          </p:nvGrpSpPr>
          <p:grpSpPr>
            <a:xfrm>
              <a:off x="2025720" y="4205160"/>
              <a:ext cx="426960" cy="427320"/>
              <a:chOff x="2025720" y="4205160"/>
              <a:chExt cx="426960" cy="427320"/>
            </a:xfrm>
          </p:grpSpPr>
          <p:sp>
            <p:nvSpPr>
              <p:cNvPr id="88" name="Oval 9"/>
              <p:cNvSpPr/>
              <p:nvPr/>
            </p:nvSpPr>
            <p:spPr>
              <a:xfrm>
                <a:off x="2025720" y="4205160"/>
                <a:ext cx="426960" cy="427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Rectangle 10"/>
              <p:cNvSpPr/>
              <p:nvPr/>
            </p:nvSpPr>
            <p:spPr>
              <a:xfrm>
                <a:off x="2076480" y="4268880"/>
                <a:ext cx="2984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6600" rIns="66600" tIns="33480" bIns="33480" anchor="t">
                <a:spAutoFit/>
              </a:bodyPr>
              <a:p>
                <a:pPr algn="ctr">
                  <a:tabLst>
                    <a:tab algn="l" pos="0"/>
                    <a:tab algn="l" pos="473040"/>
                    <a:tab algn="l" pos="946080"/>
                    <a:tab algn="l" pos="1419120"/>
                    <a:tab algn="l" pos="1892160"/>
                    <a:tab algn="l" pos="2365200"/>
                    <a:tab algn="l" pos="2838600"/>
                    <a:tab algn="l" pos="3311640"/>
                    <a:tab algn="l" pos="3784680"/>
                    <a:tab algn="l" pos="4257720"/>
                    <a:tab algn="l" pos="4730760"/>
                    <a:tab algn="l" pos="5203800"/>
                    <a:tab algn="l" pos="5676840"/>
                    <a:tab algn="l" pos="6149880"/>
                    <a:tab algn="l" pos="6622920"/>
                    <a:tab algn="l" pos="7095960"/>
                    <a:tab algn="l" pos="7569360"/>
                    <a:tab algn="l" pos="8042400"/>
                    <a:tab algn="l" pos="8515440"/>
                    <a:tab algn="l" pos="8988480"/>
                    <a:tab algn="l" pos="9461520"/>
                  </a:tabLst>
                </a:pPr>
                <a:r>
                  <a:rPr b="1" lang="es-CL" sz="1800" spc="-1" strike="noStrike">
                    <a:solidFill>
                      <a:srgbClr val="003399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" name="Line 11"/>
            <p:cNvSpPr/>
            <p:nvPr/>
          </p:nvSpPr>
          <p:spPr>
            <a:xfrm>
              <a:off x="971640" y="4419720"/>
              <a:ext cx="950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12"/>
          <p:cNvGrpSpPr/>
          <p:nvPr/>
        </p:nvGrpSpPr>
        <p:grpSpPr>
          <a:xfrm>
            <a:off x="5967360" y="1382760"/>
            <a:ext cx="2549520" cy="3974040"/>
            <a:chOff x="5967360" y="1382760"/>
            <a:chExt cx="2549520" cy="3974040"/>
          </a:xfrm>
        </p:grpSpPr>
        <p:sp>
          <p:nvSpPr>
            <p:cNvPr id="92" name="Rectangle 13"/>
            <p:cNvSpPr/>
            <p:nvPr/>
          </p:nvSpPr>
          <p:spPr>
            <a:xfrm>
              <a:off x="7146720" y="1382760"/>
              <a:ext cx="87840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EFICA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4"/>
            <p:cNvSpPr/>
            <p:nvPr/>
          </p:nvSpPr>
          <p:spPr>
            <a:xfrm>
              <a:off x="6964200" y="5040360"/>
              <a:ext cx="108108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INEFICA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Group 15"/>
            <p:cNvGrpSpPr/>
            <p:nvPr/>
          </p:nvGrpSpPr>
          <p:grpSpPr>
            <a:xfrm>
              <a:off x="5967360" y="1671480"/>
              <a:ext cx="2549520" cy="3302280"/>
              <a:chOff x="5967360" y="1671480"/>
              <a:chExt cx="2549520" cy="3302280"/>
            </a:xfrm>
          </p:grpSpPr>
          <p:sp>
            <p:nvSpPr>
              <p:cNvPr id="95" name="AutoShape 16"/>
              <p:cNvSpPr/>
              <p:nvPr/>
            </p:nvSpPr>
            <p:spPr>
              <a:xfrm rot="16200000">
                <a:off x="5540400" y="2201400"/>
                <a:ext cx="3095640" cy="2241720"/>
              </a:xfrm>
              <a:prstGeom prst="triangle">
                <a:avLst>
                  <a:gd name="adj" fmla="val 50625"/>
                </a:avLst>
              </a:prstGeom>
              <a:solidFill>
                <a:srgbClr val="bbe0e3"/>
              </a:solidFill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17"/>
              <p:cNvSpPr/>
              <p:nvPr/>
            </p:nvSpPr>
            <p:spPr>
              <a:xfrm>
                <a:off x="8217000" y="1671480"/>
                <a:ext cx="0" cy="330228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18"/>
              <p:cNvSpPr/>
              <p:nvPr/>
            </p:nvSpPr>
            <p:spPr>
              <a:xfrm>
                <a:off x="8242200" y="183024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19"/>
              <p:cNvSpPr/>
              <p:nvPr/>
            </p:nvSpPr>
            <p:spPr>
              <a:xfrm>
                <a:off x="8242200" y="487692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20"/>
              <p:cNvSpPr/>
              <p:nvPr/>
            </p:nvSpPr>
            <p:spPr>
              <a:xfrm>
                <a:off x="8253360" y="208440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21"/>
              <p:cNvSpPr/>
              <p:nvPr/>
            </p:nvSpPr>
            <p:spPr>
              <a:xfrm>
                <a:off x="8263080" y="2338560"/>
                <a:ext cx="25380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22"/>
              <p:cNvSpPr/>
              <p:nvPr/>
            </p:nvSpPr>
            <p:spPr>
              <a:xfrm>
                <a:off x="8253360" y="259092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23"/>
              <p:cNvSpPr/>
              <p:nvPr/>
            </p:nvSpPr>
            <p:spPr>
              <a:xfrm>
                <a:off x="8242200" y="284472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24"/>
              <p:cNvSpPr/>
              <p:nvPr/>
            </p:nvSpPr>
            <p:spPr>
              <a:xfrm>
                <a:off x="8253360" y="309888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Line 25"/>
              <p:cNvSpPr/>
              <p:nvPr/>
            </p:nvSpPr>
            <p:spPr>
              <a:xfrm>
                <a:off x="8253360" y="335268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26"/>
              <p:cNvSpPr/>
              <p:nvPr/>
            </p:nvSpPr>
            <p:spPr>
              <a:xfrm>
                <a:off x="8253360" y="360684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27"/>
              <p:cNvSpPr/>
              <p:nvPr/>
            </p:nvSpPr>
            <p:spPr>
              <a:xfrm>
                <a:off x="8263080" y="3860640"/>
                <a:ext cx="25380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28"/>
              <p:cNvSpPr/>
              <p:nvPr/>
            </p:nvSpPr>
            <p:spPr>
              <a:xfrm>
                <a:off x="8253360" y="411480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Line 29"/>
              <p:cNvSpPr/>
              <p:nvPr/>
            </p:nvSpPr>
            <p:spPr>
              <a:xfrm>
                <a:off x="8263080" y="4368960"/>
                <a:ext cx="25380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30"/>
              <p:cNvSpPr/>
              <p:nvPr/>
            </p:nvSpPr>
            <p:spPr>
              <a:xfrm>
                <a:off x="8263080" y="4622760"/>
                <a:ext cx="25380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Rectangle 31"/>
            <p:cNvSpPr/>
            <p:nvPr/>
          </p:nvSpPr>
          <p:spPr>
            <a:xfrm>
              <a:off x="6554880" y="2967120"/>
              <a:ext cx="1667880" cy="104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r"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ACTITUD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COMPROMIS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SENTIMIENT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Rectangle 32"/>
          <p:cNvSpPr/>
          <p:nvPr/>
        </p:nvSpPr>
        <p:spPr>
          <a:xfrm>
            <a:off x="3795120" y="2525760"/>
            <a:ext cx="126108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ON ÉXI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3"/>
          <p:cNvSpPr/>
          <p:nvPr/>
        </p:nvSpPr>
        <p:spPr>
          <a:xfrm>
            <a:off x="3853080" y="6021360"/>
            <a:ext cx="114984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SIN ÉXI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35"/>
          <p:cNvSpPr/>
          <p:nvPr/>
        </p:nvSpPr>
        <p:spPr>
          <a:xfrm rot="16200000">
            <a:off x="2844360" y="3236400"/>
            <a:ext cx="3046680" cy="2471760"/>
          </a:xfrm>
          <a:prstGeom prst="triangle">
            <a:avLst>
              <a:gd name="adj" fmla="val 50625"/>
            </a:avLst>
          </a:prstGeom>
          <a:solidFill>
            <a:srgbClr val="bbe0e3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6"/>
          <p:cNvSpPr/>
          <p:nvPr/>
        </p:nvSpPr>
        <p:spPr>
          <a:xfrm>
            <a:off x="5567400" y="2790720"/>
            <a:ext cx="0" cy="330228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7"/>
          <p:cNvSpPr/>
          <p:nvPr/>
        </p:nvSpPr>
        <p:spPr>
          <a:xfrm>
            <a:off x="5592600" y="2949480"/>
            <a:ext cx="25416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8"/>
          <p:cNvSpPr/>
          <p:nvPr/>
        </p:nvSpPr>
        <p:spPr>
          <a:xfrm>
            <a:off x="5592600" y="5996160"/>
            <a:ext cx="25416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39"/>
          <p:cNvSpPr/>
          <p:nvPr/>
        </p:nvSpPr>
        <p:spPr>
          <a:xfrm>
            <a:off x="5603760" y="3203640"/>
            <a:ext cx="25416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40"/>
          <p:cNvSpPr/>
          <p:nvPr/>
        </p:nvSpPr>
        <p:spPr>
          <a:xfrm>
            <a:off x="5613480" y="3457440"/>
            <a:ext cx="25380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41"/>
          <p:cNvSpPr/>
          <p:nvPr/>
        </p:nvSpPr>
        <p:spPr>
          <a:xfrm>
            <a:off x="5603760" y="3710160"/>
            <a:ext cx="25416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42"/>
          <p:cNvSpPr/>
          <p:nvPr/>
        </p:nvSpPr>
        <p:spPr>
          <a:xfrm>
            <a:off x="5592600" y="3963960"/>
            <a:ext cx="25416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43"/>
          <p:cNvSpPr/>
          <p:nvPr/>
        </p:nvSpPr>
        <p:spPr>
          <a:xfrm>
            <a:off x="5603760" y="4218120"/>
            <a:ext cx="25416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44"/>
          <p:cNvSpPr/>
          <p:nvPr/>
        </p:nvSpPr>
        <p:spPr>
          <a:xfrm>
            <a:off x="5603760" y="4471920"/>
            <a:ext cx="25416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45"/>
          <p:cNvSpPr/>
          <p:nvPr/>
        </p:nvSpPr>
        <p:spPr>
          <a:xfrm>
            <a:off x="5603760" y="4726080"/>
            <a:ext cx="25416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46"/>
          <p:cNvSpPr/>
          <p:nvPr/>
        </p:nvSpPr>
        <p:spPr>
          <a:xfrm>
            <a:off x="5613480" y="4979880"/>
            <a:ext cx="25380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47"/>
          <p:cNvSpPr/>
          <p:nvPr/>
        </p:nvSpPr>
        <p:spPr>
          <a:xfrm>
            <a:off x="5603760" y="5234040"/>
            <a:ext cx="25416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48"/>
          <p:cNvSpPr/>
          <p:nvPr/>
        </p:nvSpPr>
        <p:spPr>
          <a:xfrm>
            <a:off x="5613480" y="5487840"/>
            <a:ext cx="25380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49"/>
          <p:cNvSpPr/>
          <p:nvPr/>
        </p:nvSpPr>
        <p:spPr>
          <a:xfrm>
            <a:off x="5613480" y="5742000"/>
            <a:ext cx="25380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0"/>
          <p:cNvSpPr/>
          <p:nvPr/>
        </p:nvSpPr>
        <p:spPr>
          <a:xfrm>
            <a:off x="3317400" y="4110120"/>
            <a:ext cx="2115720" cy="9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r"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OMPORTA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DESEMPEÑ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trabajando"/>
          <p:cNvPicPr/>
          <p:nvPr/>
        </p:nvPicPr>
        <p:blipFill>
          <a:blip r:embed="rId1"/>
          <a:stretch/>
        </p:blipFill>
        <p:spPr>
          <a:xfrm>
            <a:off x="684360" y="4076640"/>
            <a:ext cx="2305080" cy="23050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114200" y="1197000"/>
            <a:ext cx="7345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99"/>
                </a:solidFill>
                <a:latin typeface="Arial"/>
              </a:rPr>
              <a:t>Lo importante como líder no es lo que sucede cuando usted está supervisando; es lo que sucede cuando usted no está presente</a:t>
            </a:r>
            <a:r>
              <a:rPr b="0" lang="es-CL" sz="32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987640" y="391680"/>
            <a:ext cx="3672000" cy="85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333399"/>
                </a:solidFill>
                <a:latin typeface="Arial"/>
              </a:rPr>
              <a:t>Liderazgo</a:t>
            </a:r>
            <a:endParaRPr b="1" lang="en-US" sz="3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9280" y="1486080"/>
            <a:ext cx="8686800" cy="20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ts val="22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El liderazgo es un proceso de influencia.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0" algn="ctr">
              <a:lnSpc>
                <a:spcPts val="22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Es trabajar con los colaboradores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0" algn="ctr">
              <a:lnSpc>
                <a:spcPts val="22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para alcanzar sus </a:t>
            </a:r>
            <a:r>
              <a:rPr b="1" i="1" lang="es-CL" sz="2800" spc="-1" strike="noStrike">
                <a:solidFill>
                  <a:srgbClr val="333399"/>
                </a:solidFill>
                <a:latin typeface="Arial"/>
              </a:rPr>
              <a:t>metas personales</a:t>
            </a: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 y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0" algn="ctr">
              <a:lnSpc>
                <a:spcPts val="22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333399"/>
                </a:solidFill>
                <a:latin typeface="Arial"/>
              </a:rPr>
              <a:t>las metas de la organización</a:t>
            </a: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20:51:25Z</dcterms:created>
  <dc:creator>usuario</dc:creator>
  <dc:description/>
  <dc:language>en-US</dc:language>
  <cp:lastModifiedBy>usuario1</cp:lastModifiedBy>
  <dcterms:modified xsi:type="dcterms:W3CDTF">2012-03-02T21:32:49Z</dcterms:modified>
  <cp:revision>320</cp:revision>
  <dc:subject/>
  <dc:title>Título</dc:title>
</cp:coreProperties>
</file>