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7.jpeg" ContentType="image/jpeg"/>
  <Override PartName="/ppt/media/image5.jpeg" ContentType="image/jpeg"/>
  <Override PartName="/ppt/media/image8.jpeg" ContentType="image/jpeg"/>
  <Override PartName="/ppt/media/image6.jpeg" ContentType="image/jpeg"/>
  <Override PartName="/ppt/media/image10.jpeg" ContentType="image/jpeg"/>
  <Override PartName="/ppt/media/CASHREG.WAV" ContentType="audio/x-wav"/>
  <Override PartName="/ppt/media/DRUMROLL.WAV" ContentType="audio/x-wav"/>
  <Override PartName="/ppt/media/image17.jpeg" ContentType="image/jpeg"/>
  <Override PartName="/ppt/media/APPLAUSE.WAV" ContentType="audio/x-wav"/>
  <Override PartName="/ppt/media/CAMERA.WAV" ContentType="audio/x-wav"/>
  <Override PartName="/ppt/media/image11.jpeg" ContentType="image/jpeg"/>
  <Override PartName="/ppt/media/image9.jpeg" ContentType="image/jpeg"/>
  <Override PartName="/ppt/media/DRIVEBY.WAV" ContentType="audio/x-wav"/>
  <Override PartName="/ppt/media/image23.jpeg" ContentType="image/jpeg"/>
  <Override PartName="/ppt/media/image2.jpeg" ContentType="image/jpeg"/>
  <Override PartName="/ppt/media/image24.jpeg" ContentType="image/jpeg"/>
  <Override PartName="/ppt/media/CHIMES.WAV" ContentType="audio/x-wav"/>
  <Override PartName="/ppt/media/image3.jpeg" ContentType="image/jpeg"/>
  <Override PartName="/ppt/media/image25.jpeg" ContentType="image/jpeg"/>
  <Override PartName="/ppt/media/image4.jpeg" ContentType="image/jpeg"/>
  <Override PartName="/ppt/media/image1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media/WHOOSH.WAV" ContentType="audio/x-wav"/>
  <Override PartName="/ppt/media/GUNSHOT.WAV" ContentType="audio/x-wav"/>
  <Override PartName="/ppt/media/image21.jpeg" ContentType="image/jpeg"/>
  <Override PartName="/ppt/media/image15.jpeg" ContentType="image/jpeg"/>
  <Override PartName="/ppt/media/LASER.WAV" ContentType="audio/x-wav"/>
  <Override PartName="/ppt/media/TYPE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800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-360"/>
            <a:ext cx="3078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4560" y="70488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move the slide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916840"/>
            <a:ext cx="307800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D53518-9BD6-4292-9791-E1E9595B1A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BCDE32-CC79-4AB4-B4B4-732BBADE33F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F6DF403-BF3A-4D13-B84F-6289AEDAED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847D6DA-C770-4F70-B1B2-5325BFDBB0F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AA39F51-2F05-4732-9E5F-12B7DA1F45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2A20E31-36B3-4473-920E-4177271B26F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F94AFA1-D170-4DE9-B4F5-FADCEB83EA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3C507E1-8D45-450C-A670-7E59120C342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C6DCAB4-89FA-49D2-9682-C30D724E0DB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D803B33-D165-4B5C-9004-C2009DF2D1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D10747D-4AD3-408B-89E5-9C6226DB35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B228B77-3EF8-489A-9A65-423A8F562C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CFEF4BC-E6F4-428C-8C6F-C8B743DACA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28DC018-3867-47A9-95E7-4C34E5DAB9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AC5851B-1B48-49FF-A8D8-1E329364EC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BC44022-EE5A-434D-B48D-91C295C311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72D634A-532C-479E-8FC8-0387E4B819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82A6EA0-B74E-44C2-922C-442D28B22D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95840" cy="3521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ECDDCF7-64AB-4B62-8E50-89CBCF63C3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200" y="4460760"/>
            <a:ext cx="5683320" cy="4222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C5181BD-394B-43B8-9A57-D9C8D6157B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9F22911-BFDC-49BB-95C9-B5208548CD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81600CE-754C-48B1-ACDD-8C9CC870CF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036053A-5D81-47CA-8693-B0ECFCDF52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C7F13AF-B4C7-49F4-8C25-2B2B8304EA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40A571-A209-46E0-B5D9-3AAD092E082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ECA7086-134D-402B-992B-14980F9F64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8FE92E9-B60F-4C05-93EF-2C034CE279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415F464-A298-4919-BAAD-DB2B61EFE8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1C42550-D0FB-4B47-BE23-AFB8AE5EE16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9B14D-C46D-4239-A2AD-9C41A162944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85B53A-06E9-4F04-962B-540A0A2209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022640" y="8918640"/>
            <a:ext cx="307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350241-7ABC-46D5-BF72-D9A07F48D050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09200" y="4459320"/>
            <a:ext cx="56833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4" name="Rectangle 3"/>
          <p:cNvSpPr/>
          <p:nvPr/>
        </p:nvSpPr>
        <p:spPr>
          <a:xfrm>
            <a:off x="1025640" y="4616280"/>
            <a:ext cx="5208480" cy="42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0492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F4CF87C-4801-4802-BDDA-0789FF7F83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78150D2-9D3A-4501-B875-0612410640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601D333-1963-4C81-86A4-ADA28E65EDD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22640" y="8916840"/>
            <a:ext cx="3078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B62A84C-A956-44F3-854D-2AE00AF39B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12840" y="711360"/>
            <a:ext cx="4678200" cy="3508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7520" y="4459320"/>
            <a:ext cx="520668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805-98C2-4A07-8FDF-9B8936BE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3A8-EB3C-4250-90C3-6C466C2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54A-78E8-4B7E-82A9-5C860C4E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687-B13D-4008-B3C1-C6810F9F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33E-EFF2-4CFB-BEDB-E29897E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3744-93EC-4C75-9118-495EED4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EA18-9A95-4399-8C75-B4BCBAF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F11-6C05-4951-8803-C83DCF9A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87640" y="274320"/>
            <a:ext cx="4687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DF8-86B1-485D-9DDD-3219C25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93C-5C42-46D3-A6A4-05998D6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6A7-1F45-4859-9C11-3749173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079-DA9D-4B9F-8128-B5BBAD8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FONDO PHD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088a"/>
                </a:solidFill>
                <a:latin typeface="UnitOT-Regular"/>
              </a:rPr>
              <a:t>Click to edit the title text format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Click to edit the outline text format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1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con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2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Third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3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our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4" marL="343080" indent="-343080">
              <a:spcBef>
                <a:spcPts val="700"/>
              </a:spcBef>
              <a:buClr>
                <a:srgbClr val="0e088a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Fif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ix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UnitOT-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e088a"/>
                </a:solidFill>
                <a:latin typeface="UnitOT-Regular"/>
              </a:rPr>
              <a:t>Seventh Outline Level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99"/>
                </a:solidFill>
                <a:latin typeface="UnitOT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2388-E644-4A27-AC4D-CBBD15D6E36B}" type="slidenum">
              <a:rPr b="0" lang="es-ES" sz="1400" spc="-1" strike="noStrike">
                <a:solidFill>
                  <a:srgbClr val="333399"/>
                </a:solidFill>
                <a:latin typeface="UnitOT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audio" Target="../media/APPLAUS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Ener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42920" y="15192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as 3 habilidades de un 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Arial"/>
                <a:ea typeface="Arial"/>
              </a:rPr>
              <a:t>Líder Situacional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. Diagnosticar: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determinar las necesidades de desarroll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. Flexibilidad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utilizar una variedad de estilos de lideraz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3. Alianza para el desempeño/Acuerdo sobre el estilo de liderazgo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25440" y="404640"/>
            <a:ext cx="7162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Diagnosti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ver"/>
          <p:cNvPicPr/>
          <p:nvPr/>
        </p:nvPicPr>
        <p:blipFill>
          <a:blip r:embed="rId1"/>
          <a:stretch/>
        </p:blipFill>
        <p:spPr>
          <a:xfrm>
            <a:off x="5599080" y="3808440"/>
            <a:ext cx="2789280" cy="27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Nivel de Desarroll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30b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30bb1"/>
                </a:solidFill>
                <a:latin typeface="Arial"/>
              </a:rPr>
              <a:t>Compromis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0" name="Picture 10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7"/>
          <p:cNvPicPr/>
          <p:nvPr/>
        </p:nvPicPr>
        <p:blipFill>
          <a:blip r:embed="rId1"/>
          <a:stretch/>
        </p:blipFill>
        <p:spPr>
          <a:xfrm>
            <a:off x="5786280" y="17496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1886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0000"/>
                </a:solidFill>
                <a:latin typeface="Arial"/>
              </a:rPr>
              <a:t>Competencia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887480"/>
            <a:ext cx="62755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280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Motivación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fianza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146" name="Picture 6" descr="15"/>
          <p:cNvPicPr/>
          <p:nvPr/>
        </p:nvPicPr>
        <p:blipFill>
          <a:blip r:embed="rId1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32 Grupo"/>
          <p:cNvGrpSpPr/>
          <p:nvPr/>
        </p:nvGrpSpPr>
        <p:grpSpPr>
          <a:xfrm>
            <a:off x="755640" y="1773360"/>
            <a:ext cx="7416720" cy="4176720"/>
            <a:chOff x="755640" y="1773360"/>
            <a:chExt cx="7416720" cy="4176720"/>
          </a:xfrm>
        </p:grpSpPr>
        <p:sp>
          <p:nvSpPr>
            <p:cNvPr id="148" name="Rectangle 7"/>
            <p:cNvSpPr/>
            <p:nvPr/>
          </p:nvSpPr>
          <p:spPr>
            <a:xfrm>
              <a:off x="6317640" y="4159440"/>
              <a:ext cx="1854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4465080" y="4159440"/>
              <a:ext cx="185256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261036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755640" y="4159440"/>
              <a:ext cx="1854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6317640" y="2614680"/>
              <a:ext cx="1854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465080" y="2614680"/>
              <a:ext cx="185256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261036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755640" y="2614680"/>
              <a:ext cx="1854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6317640" y="1773360"/>
              <a:ext cx="1854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4465080" y="1773360"/>
              <a:ext cx="185256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2610360" y="1773360"/>
              <a:ext cx="1854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755640" y="1773360"/>
              <a:ext cx="1854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755640" y="26146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55640" y="41594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2610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446508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>
              <a:off x="63176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>
              <a:off x="755640" y="177336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6"/>
            <p:cNvSpPr/>
            <p:nvPr/>
          </p:nvSpPr>
          <p:spPr>
            <a:xfrm>
              <a:off x="817236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55640" y="5950080"/>
              <a:ext cx="74167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 rot="19528200">
              <a:off x="4322160" y="4149360"/>
              <a:ext cx="257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 rot="19643400">
              <a:off x="3209760" y="3090960"/>
              <a:ext cx="23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0"/>
            <p:cNvSpPr/>
            <p:nvPr/>
          </p:nvSpPr>
          <p:spPr>
            <a:xfrm>
              <a:off x="755640" y="2863800"/>
              <a:ext cx="7332480" cy="2324160"/>
            </a:xfrm>
            <a:custGeom>
              <a:avLst/>
              <a:gdLst>
                <a:gd name="textAreaLeft" fmla="*/ 0 w 7332480"/>
                <a:gd name="textAreaRight" fmla="*/ 7332840 w 733248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1"/>
            <p:cNvSpPr/>
            <p:nvPr/>
          </p:nvSpPr>
          <p:spPr>
            <a:xfrm>
              <a:off x="796680" y="2614680"/>
              <a:ext cx="7291080" cy="2766960"/>
            </a:xfrm>
            <a:custGeom>
              <a:avLst/>
              <a:gdLst>
                <a:gd name="textAreaLeft" fmla="*/ 0 w 7291080"/>
                <a:gd name="textAreaRight" fmla="*/ 7291440 w 729108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32 Grupo"/>
          <p:cNvGrpSpPr/>
          <p:nvPr/>
        </p:nvGrpSpPr>
        <p:grpSpPr>
          <a:xfrm>
            <a:off x="755640" y="1773360"/>
            <a:ext cx="7632720" cy="4176720"/>
            <a:chOff x="755640" y="1773360"/>
            <a:chExt cx="7632720" cy="4176720"/>
          </a:xfrm>
        </p:grpSpPr>
        <p:sp>
          <p:nvSpPr>
            <p:cNvPr id="178" name="Rectangle 7"/>
            <p:cNvSpPr/>
            <p:nvPr/>
          </p:nvSpPr>
          <p:spPr>
            <a:xfrm>
              <a:off x="5454720" y="4159440"/>
              <a:ext cx="156672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889440" y="4159440"/>
              <a:ext cx="1565280" cy="17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232236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755640" y="4159440"/>
              <a:ext cx="1566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5454720" y="2614680"/>
              <a:ext cx="156672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889440" y="2614680"/>
              <a:ext cx="1565280" cy="15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232236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755640" y="2614680"/>
              <a:ext cx="156672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54720" y="1773360"/>
              <a:ext cx="1566720" cy="841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UT</a:t>
              </a: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N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3889440" y="1773360"/>
              <a:ext cx="1565280" cy="8413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COMPET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INSEGU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2322360" y="1773360"/>
              <a:ext cx="1566720" cy="841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ESILUSIO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8"/>
            <p:cNvSpPr/>
            <p:nvPr/>
          </p:nvSpPr>
          <p:spPr>
            <a:xfrm>
              <a:off x="755640" y="1773360"/>
              <a:ext cx="1566720" cy="841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APRENDI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ENTUS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rebuchet MS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755640" y="261468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755640" y="4159440"/>
              <a:ext cx="626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32236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388944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5454720" y="1773360"/>
              <a:ext cx="0" cy="417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4"/>
            <p:cNvSpPr/>
            <p:nvPr/>
          </p:nvSpPr>
          <p:spPr>
            <a:xfrm>
              <a:off x="755640" y="177336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>
              <a:off x="75564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7021800" y="1773360"/>
              <a:ext cx="0" cy="41767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7"/>
            <p:cNvSpPr/>
            <p:nvPr/>
          </p:nvSpPr>
          <p:spPr>
            <a:xfrm>
              <a:off x="755640" y="5950080"/>
              <a:ext cx="626616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8"/>
            <p:cNvSpPr/>
            <p:nvPr/>
          </p:nvSpPr>
          <p:spPr>
            <a:xfrm rot="19528200">
              <a:off x="3769200" y="4149360"/>
              <a:ext cx="2171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0099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9"/>
            <p:cNvSpPr/>
            <p:nvPr/>
          </p:nvSpPr>
          <p:spPr>
            <a:xfrm rot="19643400">
              <a:off x="2828880" y="3500280"/>
              <a:ext cx="195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ff0000"/>
                  </a:solidFill>
                  <a:latin typeface="Arial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755640" y="2863800"/>
              <a:ext cx="6194520" cy="2324160"/>
            </a:xfrm>
            <a:custGeom>
              <a:avLst/>
              <a:gdLst>
                <a:gd name="textAreaLeft" fmla="*/ 0 w 6194520"/>
                <a:gd name="textAreaRight" fmla="*/ 6194880 w 6194520"/>
                <a:gd name="textAreaTop" fmla="*/ 0 h 2324160"/>
                <a:gd name="textAreaBottom" fmla="*/ 2324520 h 232416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1"/>
            <p:cNvSpPr/>
            <p:nvPr/>
          </p:nvSpPr>
          <p:spPr>
            <a:xfrm>
              <a:off x="790560" y="2614680"/>
              <a:ext cx="7597800" cy="2766960"/>
            </a:xfrm>
            <a:custGeom>
              <a:avLst/>
              <a:gdLst>
                <a:gd name="textAreaLeft" fmla="*/ 0 w 7597800"/>
                <a:gd name="textAreaRight" fmla="*/ 7598160 w 7597800"/>
                <a:gd name="textAreaTop" fmla="*/ 0 h 2766960"/>
                <a:gd name="textAreaBottom" fmla="*/ 2767320 h 276696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63640" y="124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003399"/>
                </a:solidFill>
                <a:latin typeface="UnitOT-Regular"/>
              </a:rPr>
              <a:t>El Ciclo Regres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1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06" name="Picture 4" descr="2365514672_60a54f915c"/>
          <p:cNvPicPr/>
          <p:nvPr/>
        </p:nvPicPr>
        <p:blipFill>
          <a:blip r:embed="rId1"/>
          <a:stretch/>
        </p:blipFill>
        <p:spPr>
          <a:xfrm>
            <a:off x="7093080" y="2708280"/>
            <a:ext cx="1954080" cy="40384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2364682039_b5bac31669"/>
          <p:cNvPicPr/>
          <p:nvPr/>
        </p:nvPicPr>
        <p:blipFill>
          <a:blip r:embed="rId1"/>
          <a:stretch/>
        </p:blipFill>
        <p:spPr>
          <a:xfrm>
            <a:off x="4788000" y="2421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0560" y="151920"/>
            <a:ext cx="6775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2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49640" y="151920"/>
            <a:ext cx="6426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3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2" name="Picture 4" descr="2365498558_25b23fee5f"/>
          <p:cNvPicPr/>
          <p:nvPr/>
        </p:nvPicPr>
        <p:blipFill>
          <a:blip r:embed="rId1"/>
          <a:stretch/>
        </p:blipFill>
        <p:spPr>
          <a:xfrm>
            <a:off x="5219640" y="2779560"/>
            <a:ext cx="3889440" cy="38894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54160" y="1886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bjetivos de la asignatur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Entregar a los participantes distinciones y modelos teóricos que les permitan comprender  los fenómenos involucrados en su gestión, así como en la de sus equip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Incrementar las habilidades y destrezas de los participantes para conducir y motivar personas, así como liderar procesos organizativos, colocando especial énfasis en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Trabajo en Equipo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Comunicación y estilos de administración de conflicto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2365515172_dfd88da3f7"/>
          <p:cNvPicPr/>
          <p:nvPr/>
        </p:nvPicPr>
        <p:blipFill>
          <a:blip r:embed="rId1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77640" y="151920"/>
            <a:ext cx="64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Las necesidades de un D4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Flexibilidad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570800" cy="27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La habilidad para utilizar con naturalidad una variedad de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stilos de liderazgo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19" name="Picture 4" descr="2137737248_e9f3e429d1"/>
          <p:cNvPicPr/>
          <p:nvPr/>
        </p:nvPicPr>
        <p:blipFill>
          <a:blip r:embed="rId1"/>
          <a:stretch/>
        </p:blipFill>
        <p:spPr>
          <a:xfrm>
            <a:off x="5457960" y="3524400"/>
            <a:ext cx="3217680" cy="32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1" lang="en-US" sz="36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516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RECCIÓN</a:t>
            </a:r>
            <a:r>
              <a:rPr b="1" lang="es-ES_tradnl" sz="2800" spc="-1" strike="noStrike">
                <a:solidFill>
                  <a:srgbClr val="0e08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2" name="Picture 4" descr="Fotolia_7829651_M"/>
          <p:cNvPicPr/>
          <p:nvPr/>
        </p:nvPicPr>
        <p:blipFill>
          <a:blip r:embed="rId1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71640" y="151920"/>
            <a:ext cx="5275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1" lang="es-CL" sz="3000" spc="-1" strike="noStrike">
                <a:solidFill>
                  <a:srgbClr val="ff0000"/>
                </a:solidFill>
                <a:latin typeface="Arial"/>
              </a:rPr>
              <a:t>Directiv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4" name="Picture 10" descr="2364683065_f769bc7caf"/>
          <p:cNvPicPr/>
          <p:nvPr/>
        </p:nvPicPr>
        <p:blipFill>
          <a:blip r:embed="rId1"/>
          <a:stretch/>
        </p:blipFill>
        <p:spPr>
          <a:xfrm>
            <a:off x="4997520" y="2774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Le dice al colaborador qué hacer, cuándo y cómo hacer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Define los papeles del líder y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Arial"/>
              </a:rPr>
              <a:t>Supervisa de cerc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Comportamiento de </a:t>
            </a: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Apoy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27" name="Picture 7" descr="2364665429_fefa9e071e"/>
          <p:cNvPicPr/>
          <p:nvPr/>
        </p:nvPicPr>
        <p:blipFill>
          <a:blip r:embed="rId1"/>
          <a:stretch/>
        </p:blipFill>
        <p:spPr>
          <a:xfrm>
            <a:off x="6443640" y="4510080"/>
            <a:ext cx="2592360" cy="2303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  <a:ea typeface="Arial"/>
              </a:rPr>
              <a:t>Es el grado en que un líder: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Se compromete más en la comunicación bilater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cucha y proporciona apoyo y estímul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Involucra al colaborador en la toma de decis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  <a:ea typeface="Arial"/>
              </a:rPr>
              <a:t>Estimula y facilita la autonomía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484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ilo de 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3498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e088a"/>
                </a:solidFill>
                <a:latin typeface="Arial"/>
              </a:rPr>
              <a:t>Percepción de sus colaboradores respecto al patrón de comportamientos que usted utiliza con ellos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231" name="Picture 4" descr="lider_3"/>
          <p:cNvPicPr/>
          <p:nvPr/>
        </p:nvPicPr>
        <p:blipFill>
          <a:blip r:embed="rId1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2771640" y="380880"/>
            <a:ext cx="6164280" cy="600120"/>
            <a:chOff x="2771640" y="380880"/>
            <a:chExt cx="6164280" cy="600120"/>
          </a:xfrm>
        </p:grpSpPr>
        <p:sp>
          <p:nvSpPr>
            <p:cNvPr id="233" name="Rectangle 3"/>
            <p:cNvSpPr/>
            <p:nvPr/>
          </p:nvSpPr>
          <p:spPr>
            <a:xfrm>
              <a:off x="2771640" y="404640"/>
              <a:ext cx="6164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4" name="Object 4"/>
            <p:cNvGraphicFramePr/>
            <p:nvPr/>
          </p:nvGraphicFramePr>
          <p:xfrm>
            <a:off x="7552800" y="380880"/>
            <a:ext cx="657000" cy="114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52800" y="380880"/>
                      <a:ext cx="65700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6" name="Line 15"/>
          <p:cNvSpPr/>
          <p:nvPr/>
        </p:nvSpPr>
        <p:spPr>
          <a:xfrm flipV="1">
            <a:off x="2058840" y="1846440"/>
            <a:ext cx="0" cy="4146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2327400" y="6237360"/>
            <a:ext cx="3979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V="1">
            <a:off x="1473120" y="1942920"/>
            <a:ext cx="4680" cy="408132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1795320" y="3719520"/>
            <a:ext cx="2698920" cy="2521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1806480" y="1222200"/>
            <a:ext cx="2687760" cy="24591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4471920" y="1235160"/>
            <a:ext cx="2751120" cy="24588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2157480" y="6473880"/>
            <a:ext cx="4987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832680" y="629928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7688160" y="614520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977920" y="649764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774720" y="129384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9"/>
          <p:cNvSpPr/>
          <p:nvPr/>
        </p:nvSpPr>
        <p:spPr>
          <a:xfrm rot="16200000">
            <a:off x="-149400" y="386712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COMPORTAMIENTO</a:t>
            </a: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130bb1"/>
                </a:solidFill>
                <a:latin typeface="Tahoma"/>
              </a:rPr>
              <a:t>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4486320" y="3679920"/>
            <a:ext cx="2736720" cy="25225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1773360" y="1197000"/>
            <a:ext cx="5446440" cy="5013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9"/>
          <p:cNvSpPr/>
          <p:nvPr/>
        </p:nvSpPr>
        <p:spPr>
          <a:xfrm>
            <a:off x="2413080" y="5078520"/>
            <a:ext cx="1887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apoy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4666320" y="5078520"/>
            <a:ext cx="20592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lto en dirección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baj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3"/>
          <p:cNvSpPr/>
          <p:nvPr/>
        </p:nvSpPr>
        <p:spPr>
          <a:xfrm>
            <a:off x="4427640" y="1574640"/>
            <a:ext cx="2714400" cy="3603960"/>
          </a:xfrm>
          <a:custGeom>
            <a:avLst/>
            <a:gdLst>
              <a:gd name="textAreaLeft" fmla="*/ 0 w 2714400"/>
              <a:gd name="textAreaRight" fmla="*/ 2714760 w 271440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0" y="120"/>
                </a:moveTo>
                <a:lnTo>
                  <a:pt x="25" y="121"/>
                </a:lnTo>
                <a:lnTo>
                  <a:pt x="41" y="124"/>
                </a:lnTo>
                <a:lnTo>
                  <a:pt x="52" y="125"/>
                </a:lnTo>
                <a:lnTo>
                  <a:pt x="63" y="128"/>
                </a:lnTo>
                <a:lnTo>
                  <a:pt x="71" y="131"/>
                </a:lnTo>
                <a:lnTo>
                  <a:pt x="82" y="135"/>
                </a:lnTo>
                <a:lnTo>
                  <a:pt x="92" y="140"/>
                </a:lnTo>
                <a:lnTo>
                  <a:pt x="103" y="146"/>
                </a:lnTo>
                <a:lnTo>
                  <a:pt x="122" y="154"/>
                </a:lnTo>
                <a:lnTo>
                  <a:pt x="141" y="166"/>
                </a:lnTo>
                <a:lnTo>
                  <a:pt x="159" y="177"/>
                </a:lnTo>
                <a:lnTo>
                  <a:pt x="180" y="191"/>
                </a:lnTo>
                <a:lnTo>
                  <a:pt x="197" y="202"/>
                </a:lnTo>
                <a:lnTo>
                  <a:pt x="231" y="230"/>
                </a:lnTo>
                <a:lnTo>
                  <a:pt x="265" y="264"/>
                </a:lnTo>
                <a:lnTo>
                  <a:pt x="295" y="298"/>
                </a:lnTo>
                <a:lnTo>
                  <a:pt x="333" y="350"/>
                </a:lnTo>
                <a:lnTo>
                  <a:pt x="361" y="397"/>
                </a:lnTo>
                <a:lnTo>
                  <a:pt x="391" y="446"/>
                </a:lnTo>
                <a:lnTo>
                  <a:pt x="409" y="493"/>
                </a:lnTo>
                <a:lnTo>
                  <a:pt x="425" y="538"/>
                </a:lnTo>
                <a:lnTo>
                  <a:pt x="447" y="590"/>
                </a:lnTo>
                <a:lnTo>
                  <a:pt x="463" y="640"/>
                </a:lnTo>
                <a:lnTo>
                  <a:pt x="483" y="718"/>
                </a:lnTo>
                <a:lnTo>
                  <a:pt x="500" y="790"/>
                </a:lnTo>
                <a:lnTo>
                  <a:pt x="511" y="860"/>
                </a:lnTo>
                <a:lnTo>
                  <a:pt x="524" y="946"/>
                </a:lnTo>
                <a:lnTo>
                  <a:pt x="532" y="1004"/>
                </a:lnTo>
                <a:lnTo>
                  <a:pt x="542" y="1072"/>
                </a:lnTo>
                <a:lnTo>
                  <a:pt x="551" y="1117"/>
                </a:lnTo>
                <a:lnTo>
                  <a:pt x="556" y="1158"/>
                </a:lnTo>
                <a:lnTo>
                  <a:pt x="567" y="1210"/>
                </a:lnTo>
                <a:lnTo>
                  <a:pt x="581" y="1262"/>
                </a:lnTo>
                <a:lnTo>
                  <a:pt x="591" y="1304"/>
                </a:lnTo>
                <a:lnTo>
                  <a:pt x="604" y="1354"/>
                </a:lnTo>
                <a:lnTo>
                  <a:pt x="618" y="1402"/>
                </a:lnTo>
                <a:lnTo>
                  <a:pt x="630" y="1443"/>
                </a:lnTo>
                <a:lnTo>
                  <a:pt x="648" y="1480"/>
                </a:lnTo>
                <a:lnTo>
                  <a:pt x="661" y="1510"/>
                </a:lnTo>
                <a:lnTo>
                  <a:pt x="675" y="1541"/>
                </a:lnTo>
                <a:lnTo>
                  <a:pt x="696" y="1574"/>
                </a:lnTo>
                <a:lnTo>
                  <a:pt x="718" y="1612"/>
                </a:lnTo>
                <a:lnTo>
                  <a:pt x="743" y="1647"/>
                </a:lnTo>
                <a:lnTo>
                  <a:pt x="776" y="1691"/>
                </a:lnTo>
                <a:lnTo>
                  <a:pt x="809" y="1728"/>
                </a:lnTo>
                <a:lnTo>
                  <a:pt x="844" y="1763"/>
                </a:lnTo>
                <a:lnTo>
                  <a:pt x="883" y="1793"/>
                </a:lnTo>
                <a:lnTo>
                  <a:pt x="912" y="1812"/>
                </a:lnTo>
                <a:lnTo>
                  <a:pt x="935" y="1826"/>
                </a:lnTo>
                <a:lnTo>
                  <a:pt x="959" y="1838"/>
                </a:lnTo>
                <a:lnTo>
                  <a:pt x="988" y="1853"/>
                </a:lnTo>
                <a:lnTo>
                  <a:pt x="1021" y="1868"/>
                </a:lnTo>
                <a:lnTo>
                  <a:pt x="1056" y="1882"/>
                </a:lnTo>
                <a:lnTo>
                  <a:pt x="1094" y="1898"/>
                </a:lnTo>
                <a:lnTo>
                  <a:pt x="1129" y="1908"/>
                </a:lnTo>
                <a:lnTo>
                  <a:pt x="1161" y="1918"/>
                </a:lnTo>
                <a:lnTo>
                  <a:pt x="1193" y="1927"/>
                </a:lnTo>
                <a:lnTo>
                  <a:pt x="1228" y="1936"/>
                </a:lnTo>
                <a:lnTo>
                  <a:pt x="1260" y="1944"/>
                </a:lnTo>
                <a:lnTo>
                  <a:pt x="1304" y="1951"/>
                </a:lnTo>
                <a:lnTo>
                  <a:pt x="1347" y="1958"/>
                </a:lnTo>
                <a:lnTo>
                  <a:pt x="1347" y="1829"/>
                </a:lnTo>
                <a:lnTo>
                  <a:pt x="1315" y="1819"/>
                </a:lnTo>
                <a:lnTo>
                  <a:pt x="1270" y="1811"/>
                </a:lnTo>
                <a:lnTo>
                  <a:pt x="1237" y="1804"/>
                </a:lnTo>
                <a:lnTo>
                  <a:pt x="1199" y="1793"/>
                </a:lnTo>
                <a:lnTo>
                  <a:pt x="1171" y="1785"/>
                </a:lnTo>
                <a:lnTo>
                  <a:pt x="1149" y="1775"/>
                </a:lnTo>
                <a:lnTo>
                  <a:pt x="1122" y="1767"/>
                </a:lnTo>
                <a:lnTo>
                  <a:pt x="1090" y="1758"/>
                </a:lnTo>
                <a:lnTo>
                  <a:pt x="1063" y="1747"/>
                </a:lnTo>
                <a:lnTo>
                  <a:pt x="1038" y="1736"/>
                </a:lnTo>
                <a:lnTo>
                  <a:pt x="1019" y="1724"/>
                </a:lnTo>
                <a:lnTo>
                  <a:pt x="992" y="1709"/>
                </a:lnTo>
                <a:lnTo>
                  <a:pt x="957" y="1685"/>
                </a:lnTo>
                <a:lnTo>
                  <a:pt x="931" y="1669"/>
                </a:lnTo>
                <a:lnTo>
                  <a:pt x="907" y="1649"/>
                </a:lnTo>
                <a:lnTo>
                  <a:pt x="880" y="1623"/>
                </a:lnTo>
                <a:lnTo>
                  <a:pt x="851" y="1587"/>
                </a:lnTo>
                <a:lnTo>
                  <a:pt x="826" y="1551"/>
                </a:lnTo>
                <a:lnTo>
                  <a:pt x="795" y="1500"/>
                </a:lnTo>
                <a:lnTo>
                  <a:pt x="767" y="1450"/>
                </a:lnTo>
                <a:lnTo>
                  <a:pt x="745" y="1401"/>
                </a:lnTo>
                <a:lnTo>
                  <a:pt x="732" y="1365"/>
                </a:lnTo>
                <a:lnTo>
                  <a:pt x="720" y="1322"/>
                </a:lnTo>
                <a:lnTo>
                  <a:pt x="710" y="1290"/>
                </a:lnTo>
                <a:lnTo>
                  <a:pt x="699" y="1233"/>
                </a:lnTo>
                <a:lnTo>
                  <a:pt x="687" y="1176"/>
                </a:lnTo>
                <a:lnTo>
                  <a:pt x="678" y="1134"/>
                </a:lnTo>
                <a:lnTo>
                  <a:pt x="668" y="1075"/>
                </a:lnTo>
                <a:lnTo>
                  <a:pt x="660" y="1016"/>
                </a:lnTo>
                <a:lnTo>
                  <a:pt x="650" y="951"/>
                </a:lnTo>
                <a:lnTo>
                  <a:pt x="641" y="890"/>
                </a:lnTo>
                <a:lnTo>
                  <a:pt x="627" y="809"/>
                </a:lnTo>
                <a:lnTo>
                  <a:pt x="619" y="758"/>
                </a:lnTo>
                <a:lnTo>
                  <a:pt x="609" y="704"/>
                </a:lnTo>
                <a:lnTo>
                  <a:pt x="598" y="657"/>
                </a:lnTo>
                <a:lnTo>
                  <a:pt x="584" y="601"/>
                </a:lnTo>
                <a:lnTo>
                  <a:pt x="570" y="565"/>
                </a:lnTo>
                <a:lnTo>
                  <a:pt x="556" y="525"/>
                </a:lnTo>
                <a:lnTo>
                  <a:pt x="532" y="471"/>
                </a:lnTo>
                <a:lnTo>
                  <a:pt x="518" y="440"/>
                </a:lnTo>
                <a:lnTo>
                  <a:pt x="502" y="397"/>
                </a:lnTo>
                <a:lnTo>
                  <a:pt x="468" y="339"/>
                </a:lnTo>
                <a:lnTo>
                  <a:pt x="443" y="294"/>
                </a:lnTo>
                <a:lnTo>
                  <a:pt x="423" y="266"/>
                </a:lnTo>
                <a:lnTo>
                  <a:pt x="397" y="236"/>
                </a:lnTo>
                <a:lnTo>
                  <a:pt x="352" y="184"/>
                </a:lnTo>
                <a:lnTo>
                  <a:pt x="323" y="151"/>
                </a:lnTo>
                <a:lnTo>
                  <a:pt x="295" y="127"/>
                </a:lnTo>
                <a:lnTo>
                  <a:pt x="257" y="97"/>
                </a:lnTo>
                <a:lnTo>
                  <a:pt x="219" y="74"/>
                </a:lnTo>
                <a:lnTo>
                  <a:pt x="169" y="49"/>
                </a:lnTo>
                <a:lnTo>
                  <a:pt x="154" y="41"/>
                </a:lnTo>
                <a:lnTo>
                  <a:pt x="136" y="33"/>
                </a:lnTo>
                <a:lnTo>
                  <a:pt x="124" y="29"/>
                </a:lnTo>
                <a:lnTo>
                  <a:pt x="110" y="25"/>
                </a:lnTo>
                <a:lnTo>
                  <a:pt x="98" y="19"/>
                </a:lnTo>
                <a:lnTo>
                  <a:pt x="87" y="15"/>
                </a:lnTo>
                <a:lnTo>
                  <a:pt x="74" y="14"/>
                </a:lnTo>
                <a:lnTo>
                  <a:pt x="53" y="8"/>
                </a:lnTo>
                <a:lnTo>
                  <a:pt x="36" y="5"/>
                </a:lnTo>
                <a:lnTo>
                  <a:pt x="22" y="3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4"/>
          <p:cNvSpPr/>
          <p:nvPr/>
        </p:nvSpPr>
        <p:spPr>
          <a:xfrm>
            <a:off x="1857240" y="1574640"/>
            <a:ext cx="2641680" cy="36039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3603960"/>
              <a:gd name="textAreaBottom" fmla="*/ 3604320 h 3603960"/>
            </a:gdLst>
            <a:ahLst/>
            <a:rect l="textAreaLeft" t="textAreaTop" r="textAreaRight" b="textAreaBottom"/>
            <a:pathLst>
              <a:path w="1348" h="1959">
                <a:moveTo>
                  <a:pt x="1347" y="120"/>
                </a:moveTo>
                <a:lnTo>
                  <a:pt x="1320" y="121"/>
                </a:lnTo>
                <a:lnTo>
                  <a:pt x="1306" y="124"/>
                </a:lnTo>
                <a:lnTo>
                  <a:pt x="1295" y="125"/>
                </a:lnTo>
                <a:lnTo>
                  <a:pt x="1284" y="128"/>
                </a:lnTo>
                <a:lnTo>
                  <a:pt x="1276" y="131"/>
                </a:lnTo>
                <a:lnTo>
                  <a:pt x="1264" y="135"/>
                </a:lnTo>
                <a:lnTo>
                  <a:pt x="1255" y="140"/>
                </a:lnTo>
                <a:lnTo>
                  <a:pt x="1243" y="146"/>
                </a:lnTo>
                <a:lnTo>
                  <a:pt x="1225" y="154"/>
                </a:lnTo>
                <a:lnTo>
                  <a:pt x="1206" y="166"/>
                </a:lnTo>
                <a:lnTo>
                  <a:pt x="1188" y="177"/>
                </a:lnTo>
                <a:lnTo>
                  <a:pt x="1167" y="191"/>
                </a:lnTo>
                <a:lnTo>
                  <a:pt x="1150" y="202"/>
                </a:lnTo>
                <a:lnTo>
                  <a:pt x="1115" y="230"/>
                </a:lnTo>
                <a:lnTo>
                  <a:pt x="1081" y="264"/>
                </a:lnTo>
                <a:lnTo>
                  <a:pt x="1052" y="298"/>
                </a:lnTo>
                <a:lnTo>
                  <a:pt x="1013" y="350"/>
                </a:lnTo>
                <a:lnTo>
                  <a:pt x="988" y="397"/>
                </a:lnTo>
                <a:lnTo>
                  <a:pt x="955" y="446"/>
                </a:lnTo>
                <a:lnTo>
                  <a:pt x="937" y="493"/>
                </a:lnTo>
                <a:lnTo>
                  <a:pt x="922" y="538"/>
                </a:lnTo>
                <a:lnTo>
                  <a:pt x="899" y="590"/>
                </a:lnTo>
                <a:lnTo>
                  <a:pt x="885" y="640"/>
                </a:lnTo>
                <a:lnTo>
                  <a:pt x="863" y="718"/>
                </a:lnTo>
                <a:lnTo>
                  <a:pt x="848" y="790"/>
                </a:lnTo>
                <a:lnTo>
                  <a:pt x="834" y="860"/>
                </a:lnTo>
                <a:lnTo>
                  <a:pt x="822" y="946"/>
                </a:lnTo>
                <a:lnTo>
                  <a:pt x="814" y="1004"/>
                </a:lnTo>
                <a:lnTo>
                  <a:pt x="804" y="1072"/>
                </a:lnTo>
                <a:lnTo>
                  <a:pt x="796" y="1117"/>
                </a:lnTo>
                <a:lnTo>
                  <a:pt x="790" y="1158"/>
                </a:lnTo>
                <a:lnTo>
                  <a:pt x="781" y="1210"/>
                </a:lnTo>
                <a:lnTo>
                  <a:pt x="767" y="1262"/>
                </a:lnTo>
                <a:lnTo>
                  <a:pt x="755" y="1304"/>
                </a:lnTo>
                <a:lnTo>
                  <a:pt x="743" y="1354"/>
                </a:lnTo>
                <a:lnTo>
                  <a:pt x="729" y="1402"/>
                </a:lnTo>
                <a:lnTo>
                  <a:pt x="716" y="1443"/>
                </a:lnTo>
                <a:lnTo>
                  <a:pt x="699" y="1480"/>
                </a:lnTo>
                <a:lnTo>
                  <a:pt x="685" y="1510"/>
                </a:lnTo>
                <a:lnTo>
                  <a:pt x="671" y="1541"/>
                </a:lnTo>
                <a:lnTo>
                  <a:pt x="650" y="1574"/>
                </a:lnTo>
                <a:lnTo>
                  <a:pt x="629" y="1612"/>
                </a:lnTo>
                <a:lnTo>
                  <a:pt x="603" y="1647"/>
                </a:lnTo>
                <a:lnTo>
                  <a:pt x="572" y="1691"/>
                </a:lnTo>
                <a:lnTo>
                  <a:pt x="539" y="1728"/>
                </a:lnTo>
                <a:lnTo>
                  <a:pt x="502" y="1763"/>
                </a:lnTo>
                <a:lnTo>
                  <a:pt x="463" y="1793"/>
                </a:lnTo>
                <a:lnTo>
                  <a:pt x="434" y="1812"/>
                </a:lnTo>
                <a:lnTo>
                  <a:pt x="413" y="1826"/>
                </a:lnTo>
                <a:lnTo>
                  <a:pt x="387" y="1838"/>
                </a:lnTo>
                <a:lnTo>
                  <a:pt x="359" y="1853"/>
                </a:lnTo>
                <a:lnTo>
                  <a:pt x="326" y="1868"/>
                </a:lnTo>
                <a:lnTo>
                  <a:pt x="291" y="1882"/>
                </a:lnTo>
                <a:lnTo>
                  <a:pt x="252" y="1898"/>
                </a:lnTo>
                <a:lnTo>
                  <a:pt x="218" y="1908"/>
                </a:lnTo>
                <a:lnTo>
                  <a:pt x="186" y="1918"/>
                </a:lnTo>
                <a:lnTo>
                  <a:pt x="154" y="1927"/>
                </a:lnTo>
                <a:lnTo>
                  <a:pt x="119" y="1936"/>
                </a:lnTo>
                <a:lnTo>
                  <a:pt x="87" y="1944"/>
                </a:lnTo>
                <a:lnTo>
                  <a:pt x="43" y="1951"/>
                </a:lnTo>
                <a:lnTo>
                  <a:pt x="0" y="1958"/>
                </a:lnTo>
                <a:lnTo>
                  <a:pt x="0" y="1829"/>
                </a:lnTo>
                <a:lnTo>
                  <a:pt x="34" y="1819"/>
                </a:lnTo>
                <a:lnTo>
                  <a:pt x="77" y="1811"/>
                </a:lnTo>
                <a:lnTo>
                  <a:pt x="109" y="1804"/>
                </a:lnTo>
                <a:lnTo>
                  <a:pt x="148" y="1793"/>
                </a:lnTo>
                <a:lnTo>
                  <a:pt x="176" y="1785"/>
                </a:lnTo>
                <a:lnTo>
                  <a:pt x="200" y="1775"/>
                </a:lnTo>
                <a:lnTo>
                  <a:pt x="227" y="1767"/>
                </a:lnTo>
                <a:lnTo>
                  <a:pt x="256" y="1758"/>
                </a:lnTo>
                <a:lnTo>
                  <a:pt x="283" y="1747"/>
                </a:lnTo>
                <a:lnTo>
                  <a:pt x="309" y="1736"/>
                </a:lnTo>
                <a:lnTo>
                  <a:pt x="329" y="1724"/>
                </a:lnTo>
                <a:lnTo>
                  <a:pt x="355" y="1709"/>
                </a:lnTo>
                <a:lnTo>
                  <a:pt x="390" y="1685"/>
                </a:lnTo>
                <a:lnTo>
                  <a:pt x="417" y="1669"/>
                </a:lnTo>
                <a:lnTo>
                  <a:pt x="441" y="1649"/>
                </a:lnTo>
                <a:lnTo>
                  <a:pt x="467" y="1623"/>
                </a:lnTo>
                <a:lnTo>
                  <a:pt x="497" y="1587"/>
                </a:lnTo>
                <a:lnTo>
                  <a:pt x="522" y="1551"/>
                </a:lnTo>
                <a:lnTo>
                  <a:pt x="553" y="1500"/>
                </a:lnTo>
                <a:lnTo>
                  <a:pt x="579" y="1450"/>
                </a:lnTo>
                <a:lnTo>
                  <a:pt x="601" y="1401"/>
                </a:lnTo>
                <a:lnTo>
                  <a:pt x="615" y="1365"/>
                </a:lnTo>
                <a:lnTo>
                  <a:pt x="627" y="1322"/>
                </a:lnTo>
                <a:lnTo>
                  <a:pt x="635" y="1290"/>
                </a:lnTo>
                <a:lnTo>
                  <a:pt x="648" y="1233"/>
                </a:lnTo>
                <a:lnTo>
                  <a:pt x="660" y="1176"/>
                </a:lnTo>
                <a:lnTo>
                  <a:pt x="669" y="1134"/>
                </a:lnTo>
                <a:lnTo>
                  <a:pt x="680" y="1075"/>
                </a:lnTo>
                <a:lnTo>
                  <a:pt x="688" y="1016"/>
                </a:lnTo>
                <a:lnTo>
                  <a:pt x="697" y="951"/>
                </a:lnTo>
                <a:lnTo>
                  <a:pt x="706" y="890"/>
                </a:lnTo>
                <a:lnTo>
                  <a:pt x="719" y="809"/>
                </a:lnTo>
                <a:lnTo>
                  <a:pt x="727" y="758"/>
                </a:lnTo>
                <a:lnTo>
                  <a:pt x="739" y="704"/>
                </a:lnTo>
                <a:lnTo>
                  <a:pt x="750" y="657"/>
                </a:lnTo>
                <a:lnTo>
                  <a:pt x="762" y="601"/>
                </a:lnTo>
                <a:lnTo>
                  <a:pt x="776" y="565"/>
                </a:lnTo>
                <a:lnTo>
                  <a:pt x="790" y="525"/>
                </a:lnTo>
                <a:lnTo>
                  <a:pt x="814" y="471"/>
                </a:lnTo>
                <a:lnTo>
                  <a:pt x="828" y="440"/>
                </a:lnTo>
                <a:lnTo>
                  <a:pt x="846" y="397"/>
                </a:lnTo>
                <a:lnTo>
                  <a:pt x="878" y="339"/>
                </a:lnTo>
                <a:lnTo>
                  <a:pt x="904" y="294"/>
                </a:lnTo>
                <a:lnTo>
                  <a:pt x="923" y="266"/>
                </a:lnTo>
                <a:lnTo>
                  <a:pt x="950" y="236"/>
                </a:lnTo>
                <a:lnTo>
                  <a:pt x="995" y="184"/>
                </a:lnTo>
                <a:lnTo>
                  <a:pt x="1024" y="151"/>
                </a:lnTo>
                <a:lnTo>
                  <a:pt x="1052" y="127"/>
                </a:lnTo>
                <a:lnTo>
                  <a:pt x="1091" y="97"/>
                </a:lnTo>
                <a:lnTo>
                  <a:pt x="1127" y="74"/>
                </a:lnTo>
                <a:lnTo>
                  <a:pt x="1178" y="49"/>
                </a:lnTo>
                <a:lnTo>
                  <a:pt x="1193" y="41"/>
                </a:lnTo>
                <a:lnTo>
                  <a:pt x="1211" y="33"/>
                </a:lnTo>
                <a:lnTo>
                  <a:pt x="1224" y="29"/>
                </a:lnTo>
                <a:lnTo>
                  <a:pt x="1236" y="25"/>
                </a:lnTo>
                <a:lnTo>
                  <a:pt x="1250" y="19"/>
                </a:lnTo>
                <a:lnTo>
                  <a:pt x="1260" y="15"/>
                </a:lnTo>
                <a:lnTo>
                  <a:pt x="1273" y="14"/>
                </a:lnTo>
                <a:lnTo>
                  <a:pt x="1294" y="8"/>
                </a:lnTo>
                <a:lnTo>
                  <a:pt x="1309" y="5"/>
                </a:lnTo>
                <a:lnTo>
                  <a:pt x="1323" y="3"/>
                </a:lnTo>
                <a:lnTo>
                  <a:pt x="1347" y="0"/>
                </a:lnTo>
                <a:lnTo>
                  <a:pt x="1347" y="120"/>
                </a:lnTo>
              </a:path>
            </a:pathLst>
          </a:custGeom>
          <a:solidFill>
            <a:srgbClr val="cecece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2278080" y="25765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6"/>
          <p:cNvSpPr/>
          <p:nvPr/>
        </p:nvSpPr>
        <p:spPr>
          <a:xfrm>
            <a:off x="5038560" y="4216320"/>
            <a:ext cx="181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ri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4932360" y="2576520"/>
            <a:ext cx="180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Ori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8"/>
          <p:cNvSpPr/>
          <p:nvPr/>
        </p:nvSpPr>
        <p:spPr>
          <a:xfrm>
            <a:off x="2166840" y="4216320"/>
            <a:ext cx="181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Dele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153400" y="1231920"/>
            <a:ext cx="20059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direcció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783440" y="1220760"/>
            <a:ext cx="194040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Comport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alto en apoy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ahoma"/>
              </a:rPr>
              <a:t>bajo en di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5280" y="43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  <a:ea typeface="Arial"/>
              </a:rPr>
              <a:t>EL MODELO INTEGRADO</a:t>
            </a:r>
            <a:endParaRPr b="1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264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755-B795-45C0-B415-BC453B5C111F}" type="slidenum">
              <a:rPr b="0" lang="es-ES" sz="900" spc="-1" strike="noStrike">
                <a:solidFill>
                  <a:srgbClr val="808080"/>
                </a:solidFill>
                <a:latin typeface="UnitOT-Regular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266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00339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APRENDIZ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ENTUSIAST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D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3399"/>
                  </a:solidFill>
                  <a:latin typeface="Arial"/>
                  <a:ea typeface="ＭＳ Ｐゴシック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>
              <a:off x="289080" y="2363400"/>
              <a:ext cx="4152600" cy="1590480"/>
            </a:xfrm>
            <a:custGeom>
              <a:avLst/>
              <a:gdLst>
                <a:gd name="textAreaLeft" fmla="*/ 0 w 4152600"/>
                <a:gd name="textAreaRight" fmla="*/ 4152960 w 4152600"/>
                <a:gd name="textAreaTop" fmla="*/ 0 h 1590480"/>
                <a:gd name="textAreaBottom" fmla="*/ 1590840 h 1590480"/>
              </a:gdLst>
              <a:ahLst/>
              <a:rect l="textAreaLeft" t="textAreaTop" r="textAreaRight" b="textAreaBottom"/>
              <a:pathLst>
                <a:path w="4698" h="1636">
                  <a:moveTo>
                    <a:pt x="0" y="124"/>
                  </a:moveTo>
                  <a:cubicBezTo>
                    <a:pt x="15" y="118"/>
                    <a:pt x="64" y="94"/>
                    <a:pt x="92" y="85"/>
                  </a:cubicBezTo>
                  <a:cubicBezTo>
                    <a:pt x="120" y="76"/>
                    <a:pt x="127" y="70"/>
                    <a:pt x="170" y="72"/>
                  </a:cubicBezTo>
                  <a:cubicBezTo>
                    <a:pt x="213" y="74"/>
                    <a:pt x="283" y="70"/>
                    <a:pt x="353" y="98"/>
                  </a:cubicBezTo>
                  <a:cubicBezTo>
                    <a:pt x="423" y="126"/>
                    <a:pt x="502" y="172"/>
                    <a:pt x="589" y="242"/>
                  </a:cubicBezTo>
                  <a:cubicBezTo>
                    <a:pt x="676" y="312"/>
                    <a:pt x="805" y="439"/>
                    <a:pt x="877" y="517"/>
                  </a:cubicBezTo>
                  <a:cubicBezTo>
                    <a:pt x="949" y="595"/>
                    <a:pt x="984" y="665"/>
                    <a:pt x="1021" y="713"/>
                  </a:cubicBezTo>
                  <a:cubicBezTo>
                    <a:pt x="1058" y="761"/>
                    <a:pt x="1070" y="761"/>
                    <a:pt x="1100" y="805"/>
                  </a:cubicBezTo>
                  <a:cubicBezTo>
                    <a:pt x="1130" y="849"/>
                    <a:pt x="1160" y="901"/>
                    <a:pt x="1204" y="975"/>
                  </a:cubicBezTo>
                  <a:cubicBezTo>
                    <a:pt x="1248" y="1049"/>
                    <a:pt x="1300" y="1148"/>
                    <a:pt x="1361" y="1250"/>
                  </a:cubicBezTo>
                  <a:cubicBezTo>
                    <a:pt x="1422" y="1352"/>
                    <a:pt x="1486" y="1544"/>
                    <a:pt x="1571" y="1590"/>
                  </a:cubicBezTo>
                  <a:cubicBezTo>
                    <a:pt x="1656" y="1636"/>
                    <a:pt x="1722" y="1606"/>
                    <a:pt x="1872" y="1525"/>
                  </a:cubicBezTo>
                  <a:cubicBezTo>
                    <a:pt x="2022" y="1444"/>
                    <a:pt x="2376" y="1206"/>
                    <a:pt x="2474" y="1106"/>
                  </a:cubicBezTo>
                  <a:cubicBezTo>
                    <a:pt x="2572" y="1006"/>
                    <a:pt x="2417" y="929"/>
                    <a:pt x="2461" y="923"/>
                  </a:cubicBezTo>
                  <a:cubicBezTo>
                    <a:pt x="2505" y="917"/>
                    <a:pt x="2721" y="1087"/>
                    <a:pt x="2736" y="1067"/>
                  </a:cubicBezTo>
                  <a:cubicBezTo>
                    <a:pt x="2751" y="1047"/>
                    <a:pt x="2533" y="809"/>
                    <a:pt x="2553" y="805"/>
                  </a:cubicBezTo>
                  <a:cubicBezTo>
                    <a:pt x="2573" y="801"/>
                    <a:pt x="2830" y="1046"/>
                    <a:pt x="2854" y="1040"/>
                  </a:cubicBezTo>
                  <a:cubicBezTo>
                    <a:pt x="2878" y="1034"/>
                    <a:pt x="2677" y="783"/>
                    <a:pt x="2697" y="766"/>
                  </a:cubicBezTo>
                  <a:cubicBezTo>
                    <a:pt x="2717" y="749"/>
                    <a:pt x="2959" y="949"/>
                    <a:pt x="2972" y="936"/>
                  </a:cubicBezTo>
                  <a:cubicBezTo>
                    <a:pt x="2985" y="923"/>
                    <a:pt x="2758" y="707"/>
                    <a:pt x="2775" y="687"/>
                  </a:cubicBezTo>
                  <a:cubicBezTo>
                    <a:pt x="2792" y="667"/>
                    <a:pt x="3052" y="829"/>
                    <a:pt x="3076" y="818"/>
                  </a:cubicBezTo>
                  <a:cubicBezTo>
                    <a:pt x="3100" y="807"/>
                    <a:pt x="2904" y="646"/>
                    <a:pt x="2919" y="622"/>
                  </a:cubicBezTo>
                  <a:cubicBezTo>
                    <a:pt x="2934" y="598"/>
                    <a:pt x="3120" y="689"/>
                    <a:pt x="3168" y="674"/>
                  </a:cubicBezTo>
                  <a:cubicBezTo>
                    <a:pt x="3216" y="659"/>
                    <a:pt x="3096" y="619"/>
                    <a:pt x="3207" y="530"/>
                  </a:cubicBezTo>
                  <a:cubicBezTo>
                    <a:pt x="3318" y="441"/>
                    <a:pt x="3611" y="224"/>
                    <a:pt x="3836" y="137"/>
                  </a:cubicBezTo>
                  <a:cubicBezTo>
                    <a:pt x="4061" y="50"/>
                    <a:pt x="4414" y="12"/>
                    <a:pt x="4556" y="6"/>
                  </a:cubicBezTo>
                  <a:cubicBezTo>
                    <a:pt x="4698" y="0"/>
                    <a:pt x="4660" y="79"/>
                    <a:pt x="4687" y="9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>
              <a:off x="281160" y="2189880"/>
              <a:ext cx="4155840" cy="1841040"/>
            </a:xfrm>
            <a:custGeom>
              <a:avLst/>
              <a:gdLst>
                <a:gd name="textAreaLeft" fmla="*/ 0 w 4155840"/>
                <a:gd name="textAreaRight" fmla="*/ 4156200 w 4155840"/>
                <a:gd name="textAreaTop" fmla="*/ 0 h 1841040"/>
                <a:gd name="textAreaBottom" fmla="*/ 1841400 h 1841040"/>
              </a:gdLst>
              <a:ahLst/>
              <a:rect l="textAreaLeft" t="textAreaTop" r="textAreaRight" b="textAreaBottom"/>
              <a:pathLst>
                <a:path w="4700" h="1894">
                  <a:moveTo>
                    <a:pt x="0" y="1894"/>
                  </a:moveTo>
                  <a:cubicBezTo>
                    <a:pt x="144" y="1846"/>
                    <a:pt x="559" y="1754"/>
                    <a:pt x="864" y="1593"/>
                  </a:cubicBezTo>
                  <a:cubicBezTo>
                    <a:pt x="1169" y="1432"/>
                    <a:pt x="1593" y="1092"/>
                    <a:pt x="1833" y="926"/>
                  </a:cubicBezTo>
                  <a:cubicBezTo>
                    <a:pt x="2073" y="760"/>
                    <a:pt x="2112" y="711"/>
                    <a:pt x="2304" y="598"/>
                  </a:cubicBezTo>
                  <a:cubicBezTo>
                    <a:pt x="2496" y="485"/>
                    <a:pt x="2697" y="341"/>
                    <a:pt x="2985" y="245"/>
                  </a:cubicBezTo>
                  <a:cubicBezTo>
                    <a:pt x="3273" y="149"/>
                    <a:pt x="3746" y="44"/>
                    <a:pt x="4032" y="22"/>
                  </a:cubicBezTo>
                  <a:cubicBezTo>
                    <a:pt x="4318" y="0"/>
                    <a:pt x="4561" y="95"/>
                    <a:pt x="4700" y="11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de los Colaboradores por Tarea o Me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293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504684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0000"/>
                  </a:solidFill>
                  <a:latin typeface="Tahoma"/>
                  <a:ea typeface="ＭＳ Ｐゴシック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130bb1"/>
                  </a:solidFill>
                  <a:latin typeface="Tahoma"/>
                  <a:ea typeface="ＭＳ Ｐゴシック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305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49"/>
              <p:cNvSpPr/>
              <p:nvPr/>
            </p:nvSpPr>
            <p:spPr>
              <a:xfrm>
                <a:off x="57650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1"/>
              <p:cNvSpPr/>
              <p:nvPr/>
            </p:nvSpPr>
            <p:spPr>
              <a:xfrm>
                <a:off x="730476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ffffff"/>
                    </a:solidFill>
                    <a:latin typeface="Tahoma"/>
                    <a:ea typeface="ＭＳ Ｐゴシック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custGeom>
                <a:avLst/>
                <a:gdLst>
                  <a:gd name="textAreaLeft" fmla="*/ 0 w 1531800"/>
                  <a:gd name="textAreaRight" fmla="*/ 1532160 w 153180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0" y="120"/>
                    </a:moveTo>
                    <a:lnTo>
                      <a:pt x="25" y="121"/>
                    </a:lnTo>
                    <a:lnTo>
                      <a:pt x="41" y="124"/>
                    </a:lnTo>
                    <a:lnTo>
                      <a:pt x="52" y="125"/>
                    </a:lnTo>
                    <a:lnTo>
                      <a:pt x="63" y="128"/>
                    </a:lnTo>
                    <a:lnTo>
                      <a:pt x="71" y="131"/>
                    </a:lnTo>
                    <a:lnTo>
                      <a:pt x="82" y="135"/>
                    </a:lnTo>
                    <a:lnTo>
                      <a:pt x="92" y="140"/>
                    </a:lnTo>
                    <a:lnTo>
                      <a:pt x="103" y="146"/>
                    </a:lnTo>
                    <a:lnTo>
                      <a:pt x="122" y="154"/>
                    </a:lnTo>
                    <a:lnTo>
                      <a:pt x="141" y="166"/>
                    </a:lnTo>
                    <a:lnTo>
                      <a:pt x="159" y="177"/>
                    </a:lnTo>
                    <a:lnTo>
                      <a:pt x="180" y="191"/>
                    </a:lnTo>
                    <a:lnTo>
                      <a:pt x="197" y="202"/>
                    </a:lnTo>
                    <a:lnTo>
                      <a:pt x="231" y="230"/>
                    </a:lnTo>
                    <a:lnTo>
                      <a:pt x="265" y="264"/>
                    </a:lnTo>
                    <a:lnTo>
                      <a:pt x="295" y="298"/>
                    </a:lnTo>
                    <a:lnTo>
                      <a:pt x="333" y="350"/>
                    </a:lnTo>
                    <a:lnTo>
                      <a:pt x="361" y="397"/>
                    </a:lnTo>
                    <a:lnTo>
                      <a:pt x="391" y="446"/>
                    </a:lnTo>
                    <a:lnTo>
                      <a:pt x="409" y="493"/>
                    </a:lnTo>
                    <a:lnTo>
                      <a:pt x="425" y="538"/>
                    </a:lnTo>
                    <a:lnTo>
                      <a:pt x="447" y="590"/>
                    </a:lnTo>
                    <a:lnTo>
                      <a:pt x="463" y="640"/>
                    </a:lnTo>
                    <a:lnTo>
                      <a:pt x="483" y="718"/>
                    </a:lnTo>
                    <a:lnTo>
                      <a:pt x="500" y="790"/>
                    </a:lnTo>
                    <a:lnTo>
                      <a:pt x="511" y="860"/>
                    </a:lnTo>
                    <a:lnTo>
                      <a:pt x="524" y="946"/>
                    </a:lnTo>
                    <a:lnTo>
                      <a:pt x="532" y="1004"/>
                    </a:lnTo>
                    <a:lnTo>
                      <a:pt x="542" y="1072"/>
                    </a:lnTo>
                    <a:lnTo>
                      <a:pt x="551" y="1117"/>
                    </a:lnTo>
                    <a:lnTo>
                      <a:pt x="556" y="1158"/>
                    </a:lnTo>
                    <a:lnTo>
                      <a:pt x="567" y="1210"/>
                    </a:lnTo>
                    <a:lnTo>
                      <a:pt x="581" y="1262"/>
                    </a:lnTo>
                    <a:lnTo>
                      <a:pt x="591" y="1304"/>
                    </a:lnTo>
                    <a:lnTo>
                      <a:pt x="604" y="1354"/>
                    </a:lnTo>
                    <a:lnTo>
                      <a:pt x="618" y="1402"/>
                    </a:lnTo>
                    <a:lnTo>
                      <a:pt x="630" y="1443"/>
                    </a:lnTo>
                    <a:lnTo>
                      <a:pt x="648" y="1480"/>
                    </a:lnTo>
                    <a:lnTo>
                      <a:pt x="661" y="1510"/>
                    </a:lnTo>
                    <a:lnTo>
                      <a:pt x="675" y="1541"/>
                    </a:lnTo>
                    <a:lnTo>
                      <a:pt x="696" y="1574"/>
                    </a:lnTo>
                    <a:lnTo>
                      <a:pt x="718" y="1612"/>
                    </a:lnTo>
                    <a:lnTo>
                      <a:pt x="743" y="1647"/>
                    </a:lnTo>
                    <a:lnTo>
                      <a:pt x="776" y="1691"/>
                    </a:lnTo>
                    <a:lnTo>
                      <a:pt x="809" y="1728"/>
                    </a:lnTo>
                    <a:lnTo>
                      <a:pt x="844" y="1763"/>
                    </a:lnTo>
                    <a:lnTo>
                      <a:pt x="883" y="1793"/>
                    </a:lnTo>
                    <a:lnTo>
                      <a:pt x="912" y="1812"/>
                    </a:lnTo>
                    <a:lnTo>
                      <a:pt x="935" y="1826"/>
                    </a:lnTo>
                    <a:lnTo>
                      <a:pt x="959" y="1838"/>
                    </a:lnTo>
                    <a:lnTo>
                      <a:pt x="988" y="1853"/>
                    </a:lnTo>
                    <a:lnTo>
                      <a:pt x="1021" y="1868"/>
                    </a:lnTo>
                    <a:lnTo>
                      <a:pt x="1056" y="1882"/>
                    </a:lnTo>
                    <a:lnTo>
                      <a:pt x="1094" y="1898"/>
                    </a:lnTo>
                    <a:lnTo>
                      <a:pt x="1129" y="1908"/>
                    </a:lnTo>
                    <a:lnTo>
                      <a:pt x="1161" y="1918"/>
                    </a:lnTo>
                    <a:lnTo>
                      <a:pt x="1193" y="1927"/>
                    </a:lnTo>
                    <a:lnTo>
                      <a:pt x="1228" y="1936"/>
                    </a:lnTo>
                    <a:lnTo>
                      <a:pt x="1260" y="1944"/>
                    </a:lnTo>
                    <a:lnTo>
                      <a:pt x="1304" y="1951"/>
                    </a:lnTo>
                    <a:lnTo>
                      <a:pt x="1347" y="1958"/>
                    </a:lnTo>
                    <a:lnTo>
                      <a:pt x="1347" y="1829"/>
                    </a:lnTo>
                    <a:lnTo>
                      <a:pt x="1315" y="1819"/>
                    </a:lnTo>
                    <a:lnTo>
                      <a:pt x="1270" y="1811"/>
                    </a:lnTo>
                    <a:lnTo>
                      <a:pt x="1237" y="1804"/>
                    </a:lnTo>
                    <a:lnTo>
                      <a:pt x="1199" y="1793"/>
                    </a:lnTo>
                    <a:lnTo>
                      <a:pt x="1171" y="1785"/>
                    </a:lnTo>
                    <a:lnTo>
                      <a:pt x="1149" y="1775"/>
                    </a:lnTo>
                    <a:lnTo>
                      <a:pt x="1122" y="1767"/>
                    </a:lnTo>
                    <a:lnTo>
                      <a:pt x="1090" y="1758"/>
                    </a:lnTo>
                    <a:lnTo>
                      <a:pt x="1063" y="1747"/>
                    </a:lnTo>
                    <a:lnTo>
                      <a:pt x="1038" y="1736"/>
                    </a:lnTo>
                    <a:lnTo>
                      <a:pt x="1019" y="1724"/>
                    </a:lnTo>
                    <a:lnTo>
                      <a:pt x="992" y="1709"/>
                    </a:lnTo>
                    <a:lnTo>
                      <a:pt x="957" y="1685"/>
                    </a:lnTo>
                    <a:lnTo>
                      <a:pt x="931" y="1669"/>
                    </a:lnTo>
                    <a:lnTo>
                      <a:pt x="907" y="1649"/>
                    </a:lnTo>
                    <a:lnTo>
                      <a:pt x="880" y="1623"/>
                    </a:lnTo>
                    <a:lnTo>
                      <a:pt x="851" y="1587"/>
                    </a:lnTo>
                    <a:lnTo>
                      <a:pt x="826" y="1551"/>
                    </a:lnTo>
                    <a:lnTo>
                      <a:pt x="795" y="1500"/>
                    </a:lnTo>
                    <a:lnTo>
                      <a:pt x="767" y="1450"/>
                    </a:lnTo>
                    <a:lnTo>
                      <a:pt x="745" y="1401"/>
                    </a:lnTo>
                    <a:lnTo>
                      <a:pt x="732" y="1365"/>
                    </a:lnTo>
                    <a:lnTo>
                      <a:pt x="720" y="1322"/>
                    </a:lnTo>
                    <a:lnTo>
                      <a:pt x="710" y="1290"/>
                    </a:lnTo>
                    <a:lnTo>
                      <a:pt x="699" y="1233"/>
                    </a:lnTo>
                    <a:lnTo>
                      <a:pt x="687" y="1176"/>
                    </a:lnTo>
                    <a:lnTo>
                      <a:pt x="678" y="1134"/>
                    </a:lnTo>
                    <a:lnTo>
                      <a:pt x="668" y="1075"/>
                    </a:lnTo>
                    <a:lnTo>
                      <a:pt x="660" y="1016"/>
                    </a:lnTo>
                    <a:lnTo>
                      <a:pt x="650" y="951"/>
                    </a:lnTo>
                    <a:lnTo>
                      <a:pt x="641" y="890"/>
                    </a:lnTo>
                    <a:lnTo>
                      <a:pt x="627" y="809"/>
                    </a:lnTo>
                    <a:lnTo>
                      <a:pt x="619" y="758"/>
                    </a:lnTo>
                    <a:lnTo>
                      <a:pt x="609" y="704"/>
                    </a:lnTo>
                    <a:lnTo>
                      <a:pt x="598" y="657"/>
                    </a:lnTo>
                    <a:lnTo>
                      <a:pt x="584" y="601"/>
                    </a:lnTo>
                    <a:lnTo>
                      <a:pt x="570" y="565"/>
                    </a:lnTo>
                    <a:lnTo>
                      <a:pt x="556" y="525"/>
                    </a:lnTo>
                    <a:lnTo>
                      <a:pt x="532" y="471"/>
                    </a:lnTo>
                    <a:lnTo>
                      <a:pt x="518" y="440"/>
                    </a:lnTo>
                    <a:lnTo>
                      <a:pt x="502" y="397"/>
                    </a:lnTo>
                    <a:lnTo>
                      <a:pt x="468" y="339"/>
                    </a:lnTo>
                    <a:lnTo>
                      <a:pt x="443" y="294"/>
                    </a:lnTo>
                    <a:lnTo>
                      <a:pt x="423" y="266"/>
                    </a:lnTo>
                    <a:lnTo>
                      <a:pt x="397" y="236"/>
                    </a:lnTo>
                    <a:lnTo>
                      <a:pt x="352" y="184"/>
                    </a:lnTo>
                    <a:lnTo>
                      <a:pt x="323" y="151"/>
                    </a:lnTo>
                    <a:lnTo>
                      <a:pt x="295" y="127"/>
                    </a:lnTo>
                    <a:lnTo>
                      <a:pt x="257" y="97"/>
                    </a:lnTo>
                    <a:lnTo>
                      <a:pt x="219" y="74"/>
                    </a:lnTo>
                    <a:lnTo>
                      <a:pt x="169" y="49"/>
                    </a:lnTo>
                    <a:lnTo>
                      <a:pt x="154" y="41"/>
                    </a:lnTo>
                    <a:lnTo>
                      <a:pt x="136" y="33"/>
                    </a:lnTo>
                    <a:lnTo>
                      <a:pt x="124" y="29"/>
                    </a:lnTo>
                    <a:lnTo>
                      <a:pt x="110" y="25"/>
                    </a:lnTo>
                    <a:lnTo>
                      <a:pt x="98" y="19"/>
                    </a:lnTo>
                    <a:lnTo>
                      <a:pt x="87" y="15"/>
                    </a:lnTo>
                    <a:lnTo>
                      <a:pt x="74" y="14"/>
                    </a:lnTo>
                    <a:lnTo>
                      <a:pt x="53" y="8"/>
                    </a:lnTo>
                    <a:lnTo>
                      <a:pt x="36" y="5"/>
                    </a:lnTo>
                    <a:lnTo>
                      <a:pt x="22" y="3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022120"/>
                  <a:gd name="textAreaBottom" fmla="*/ 2022480 h 2022120"/>
                </a:gdLst>
                <a:ahLst/>
                <a:rect l="textAreaLeft" t="textAreaTop" r="textAreaRight" b="textAreaBottom"/>
                <a:pathLst>
                  <a:path w="1348" h="1959">
                    <a:moveTo>
                      <a:pt x="1347" y="120"/>
                    </a:moveTo>
                    <a:lnTo>
                      <a:pt x="1320" y="121"/>
                    </a:lnTo>
                    <a:lnTo>
                      <a:pt x="1306" y="124"/>
                    </a:lnTo>
                    <a:lnTo>
                      <a:pt x="1295" y="125"/>
                    </a:lnTo>
                    <a:lnTo>
                      <a:pt x="1284" y="128"/>
                    </a:lnTo>
                    <a:lnTo>
                      <a:pt x="1276" y="131"/>
                    </a:lnTo>
                    <a:lnTo>
                      <a:pt x="1264" y="135"/>
                    </a:lnTo>
                    <a:lnTo>
                      <a:pt x="1255" y="140"/>
                    </a:lnTo>
                    <a:lnTo>
                      <a:pt x="1243" y="146"/>
                    </a:lnTo>
                    <a:lnTo>
                      <a:pt x="1225" y="154"/>
                    </a:lnTo>
                    <a:lnTo>
                      <a:pt x="1206" y="166"/>
                    </a:lnTo>
                    <a:lnTo>
                      <a:pt x="1188" y="177"/>
                    </a:lnTo>
                    <a:lnTo>
                      <a:pt x="1167" y="191"/>
                    </a:lnTo>
                    <a:lnTo>
                      <a:pt x="1150" y="202"/>
                    </a:lnTo>
                    <a:lnTo>
                      <a:pt x="1115" y="230"/>
                    </a:lnTo>
                    <a:lnTo>
                      <a:pt x="1081" y="264"/>
                    </a:lnTo>
                    <a:lnTo>
                      <a:pt x="1052" y="298"/>
                    </a:lnTo>
                    <a:lnTo>
                      <a:pt x="1013" y="350"/>
                    </a:lnTo>
                    <a:lnTo>
                      <a:pt x="988" y="397"/>
                    </a:lnTo>
                    <a:lnTo>
                      <a:pt x="955" y="446"/>
                    </a:lnTo>
                    <a:lnTo>
                      <a:pt x="937" y="493"/>
                    </a:lnTo>
                    <a:lnTo>
                      <a:pt x="922" y="538"/>
                    </a:lnTo>
                    <a:lnTo>
                      <a:pt x="899" y="590"/>
                    </a:lnTo>
                    <a:lnTo>
                      <a:pt x="885" y="640"/>
                    </a:lnTo>
                    <a:lnTo>
                      <a:pt x="863" y="718"/>
                    </a:lnTo>
                    <a:lnTo>
                      <a:pt x="848" y="790"/>
                    </a:lnTo>
                    <a:lnTo>
                      <a:pt x="834" y="860"/>
                    </a:lnTo>
                    <a:lnTo>
                      <a:pt x="822" y="946"/>
                    </a:lnTo>
                    <a:lnTo>
                      <a:pt x="814" y="1004"/>
                    </a:lnTo>
                    <a:lnTo>
                      <a:pt x="804" y="1072"/>
                    </a:lnTo>
                    <a:lnTo>
                      <a:pt x="796" y="1117"/>
                    </a:lnTo>
                    <a:lnTo>
                      <a:pt x="790" y="1158"/>
                    </a:lnTo>
                    <a:lnTo>
                      <a:pt x="781" y="1210"/>
                    </a:lnTo>
                    <a:lnTo>
                      <a:pt x="767" y="1262"/>
                    </a:lnTo>
                    <a:lnTo>
                      <a:pt x="755" y="1304"/>
                    </a:lnTo>
                    <a:lnTo>
                      <a:pt x="743" y="1354"/>
                    </a:lnTo>
                    <a:lnTo>
                      <a:pt x="729" y="1402"/>
                    </a:lnTo>
                    <a:lnTo>
                      <a:pt x="716" y="1443"/>
                    </a:lnTo>
                    <a:lnTo>
                      <a:pt x="699" y="1480"/>
                    </a:lnTo>
                    <a:lnTo>
                      <a:pt x="685" y="1510"/>
                    </a:lnTo>
                    <a:lnTo>
                      <a:pt x="671" y="1541"/>
                    </a:lnTo>
                    <a:lnTo>
                      <a:pt x="650" y="1574"/>
                    </a:lnTo>
                    <a:lnTo>
                      <a:pt x="629" y="1612"/>
                    </a:lnTo>
                    <a:lnTo>
                      <a:pt x="603" y="1647"/>
                    </a:lnTo>
                    <a:lnTo>
                      <a:pt x="572" y="1691"/>
                    </a:lnTo>
                    <a:lnTo>
                      <a:pt x="539" y="1728"/>
                    </a:lnTo>
                    <a:lnTo>
                      <a:pt x="502" y="1763"/>
                    </a:lnTo>
                    <a:lnTo>
                      <a:pt x="463" y="1793"/>
                    </a:lnTo>
                    <a:lnTo>
                      <a:pt x="434" y="1812"/>
                    </a:lnTo>
                    <a:lnTo>
                      <a:pt x="413" y="1826"/>
                    </a:lnTo>
                    <a:lnTo>
                      <a:pt x="387" y="1838"/>
                    </a:lnTo>
                    <a:lnTo>
                      <a:pt x="359" y="1853"/>
                    </a:lnTo>
                    <a:lnTo>
                      <a:pt x="326" y="1868"/>
                    </a:lnTo>
                    <a:lnTo>
                      <a:pt x="291" y="1882"/>
                    </a:lnTo>
                    <a:lnTo>
                      <a:pt x="252" y="1898"/>
                    </a:lnTo>
                    <a:lnTo>
                      <a:pt x="218" y="1908"/>
                    </a:lnTo>
                    <a:lnTo>
                      <a:pt x="186" y="1918"/>
                    </a:lnTo>
                    <a:lnTo>
                      <a:pt x="154" y="1927"/>
                    </a:lnTo>
                    <a:lnTo>
                      <a:pt x="119" y="1936"/>
                    </a:lnTo>
                    <a:lnTo>
                      <a:pt x="87" y="1944"/>
                    </a:lnTo>
                    <a:lnTo>
                      <a:pt x="43" y="1951"/>
                    </a:lnTo>
                    <a:lnTo>
                      <a:pt x="0" y="1958"/>
                    </a:lnTo>
                    <a:lnTo>
                      <a:pt x="0" y="1829"/>
                    </a:lnTo>
                    <a:lnTo>
                      <a:pt x="34" y="1819"/>
                    </a:lnTo>
                    <a:lnTo>
                      <a:pt x="77" y="1811"/>
                    </a:lnTo>
                    <a:lnTo>
                      <a:pt x="109" y="1804"/>
                    </a:lnTo>
                    <a:lnTo>
                      <a:pt x="148" y="1793"/>
                    </a:lnTo>
                    <a:lnTo>
                      <a:pt x="176" y="1785"/>
                    </a:lnTo>
                    <a:lnTo>
                      <a:pt x="200" y="1775"/>
                    </a:lnTo>
                    <a:lnTo>
                      <a:pt x="227" y="1767"/>
                    </a:lnTo>
                    <a:lnTo>
                      <a:pt x="256" y="1758"/>
                    </a:lnTo>
                    <a:lnTo>
                      <a:pt x="283" y="1747"/>
                    </a:lnTo>
                    <a:lnTo>
                      <a:pt x="309" y="1736"/>
                    </a:lnTo>
                    <a:lnTo>
                      <a:pt x="329" y="1724"/>
                    </a:lnTo>
                    <a:lnTo>
                      <a:pt x="355" y="1709"/>
                    </a:lnTo>
                    <a:lnTo>
                      <a:pt x="390" y="1685"/>
                    </a:lnTo>
                    <a:lnTo>
                      <a:pt x="417" y="1669"/>
                    </a:lnTo>
                    <a:lnTo>
                      <a:pt x="441" y="1649"/>
                    </a:lnTo>
                    <a:lnTo>
                      <a:pt x="467" y="1623"/>
                    </a:lnTo>
                    <a:lnTo>
                      <a:pt x="497" y="1587"/>
                    </a:lnTo>
                    <a:lnTo>
                      <a:pt x="522" y="1551"/>
                    </a:lnTo>
                    <a:lnTo>
                      <a:pt x="553" y="1500"/>
                    </a:lnTo>
                    <a:lnTo>
                      <a:pt x="579" y="1450"/>
                    </a:lnTo>
                    <a:lnTo>
                      <a:pt x="601" y="1401"/>
                    </a:lnTo>
                    <a:lnTo>
                      <a:pt x="615" y="1365"/>
                    </a:lnTo>
                    <a:lnTo>
                      <a:pt x="627" y="1322"/>
                    </a:lnTo>
                    <a:lnTo>
                      <a:pt x="635" y="1290"/>
                    </a:lnTo>
                    <a:lnTo>
                      <a:pt x="648" y="1233"/>
                    </a:lnTo>
                    <a:lnTo>
                      <a:pt x="660" y="1176"/>
                    </a:lnTo>
                    <a:lnTo>
                      <a:pt x="669" y="1134"/>
                    </a:lnTo>
                    <a:lnTo>
                      <a:pt x="680" y="1075"/>
                    </a:lnTo>
                    <a:lnTo>
                      <a:pt x="688" y="1016"/>
                    </a:lnTo>
                    <a:lnTo>
                      <a:pt x="697" y="951"/>
                    </a:lnTo>
                    <a:lnTo>
                      <a:pt x="706" y="890"/>
                    </a:lnTo>
                    <a:lnTo>
                      <a:pt x="719" y="809"/>
                    </a:lnTo>
                    <a:lnTo>
                      <a:pt x="727" y="758"/>
                    </a:lnTo>
                    <a:lnTo>
                      <a:pt x="739" y="704"/>
                    </a:lnTo>
                    <a:lnTo>
                      <a:pt x="750" y="657"/>
                    </a:lnTo>
                    <a:lnTo>
                      <a:pt x="762" y="601"/>
                    </a:lnTo>
                    <a:lnTo>
                      <a:pt x="776" y="565"/>
                    </a:lnTo>
                    <a:lnTo>
                      <a:pt x="790" y="525"/>
                    </a:lnTo>
                    <a:lnTo>
                      <a:pt x="814" y="471"/>
                    </a:lnTo>
                    <a:lnTo>
                      <a:pt x="828" y="440"/>
                    </a:lnTo>
                    <a:lnTo>
                      <a:pt x="846" y="397"/>
                    </a:lnTo>
                    <a:lnTo>
                      <a:pt x="878" y="339"/>
                    </a:lnTo>
                    <a:lnTo>
                      <a:pt x="904" y="294"/>
                    </a:lnTo>
                    <a:lnTo>
                      <a:pt x="923" y="266"/>
                    </a:lnTo>
                    <a:lnTo>
                      <a:pt x="950" y="236"/>
                    </a:lnTo>
                    <a:lnTo>
                      <a:pt x="995" y="184"/>
                    </a:lnTo>
                    <a:lnTo>
                      <a:pt x="1024" y="151"/>
                    </a:lnTo>
                    <a:lnTo>
                      <a:pt x="1052" y="127"/>
                    </a:lnTo>
                    <a:lnTo>
                      <a:pt x="1091" y="97"/>
                    </a:lnTo>
                    <a:lnTo>
                      <a:pt x="1127" y="74"/>
                    </a:lnTo>
                    <a:lnTo>
                      <a:pt x="1178" y="49"/>
                    </a:lnTo>
                    <a:lnTo>
                      <a:pt x="1193" y="41"/>
                    </a:lnTo>
                    <a:lnTo>
                      <a:pt x="1211" y="33"/>
                    </a:lnTo>
                    <a:lnTo>
                      <a:pt x="1224" y="29"/>
                    </a:lnTo>
                    <a:lnTo>
                      <a:pt x="1236" y="25"/>
                    </a:lnTo>
                    <a:lnTo>
                      <a:pt x="1250" y="19"/>
                    </a:lnTo>
                    <a:lnTo>
                      <a:pt x="1260" y="15"/>
                    </a:lnTo>
                    <a:lnTo>
                      <a:pt x="1273" y="14"/>
                    </a:lnTo>
                    <a:lnTo>
                      <a:pt x="1294" y="8"/>
                    </a:lnTo>
                    <a:lnTo>
                      <a:pt x="1309" y="5"/>
                    </a:lnTo>
                    <a:lnTo>
                      <a:pt x="1323" y="3"/>
                    </a:lnTo>
                    <a:lnTo>
                      <a:pt x="1347" y="0"/>
                    </a:lnTo>
                    <a:lnTo>
                      <a:pt x="1347" y="12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5"/>
              <p:cNvSpPr/>
              <p:nvPr/>
            </p:nvSpPr>
            <p:spPr>
              <a:xfrm>
                <a:off x="5857920" y="234756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i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8"/>
              <p:cNvSpPr/>
              <p:nvPr/>
            </p:nvSpPr>
            <p:spPr>
              <a:xfrm>
                <a:off x="5794200" y="3268440"/>
                <a:ext cx="10256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Tahoma"/>
                    <a:ea typeface="ＭＳ Ｐゴシック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ff"/>
                  </a:solidFill>
                  <a:latin typeface="Tahoma"/>
                  <a:ea typeface="ＭＳ Ｐゴシック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60"/>
          <p:cNvSpPr/>
          <p:nvPr/>
        </p:nvSpPr>
        <p:spPr>
          <a:xfrm>
            <a:off x="108000" y="616572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Diagnós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61"/>
          <p:cNvSpPr/>
          <p:nvPr/>
        </p:nvSpPr>
        <p:spPr>
          <a:xfrm rot="5400000">
            <a:off x="1992240" y="5860800"/>
            <a:ext cx="431640" cy="46368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680"/>
              <a:gd name="textAreaBottom" fmla="*/ 347760 h 463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2"/>
          <p:cNvSpPr/>
          <p:nvPr/>
        </p:nvSpPr>
        <p:spPr>
          <a:xfrm>
            <a:off x="506556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00339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138640" y="61657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Habilidad Flexibilid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4"/>
          <p:cNvSpPr/>
          <p:nvPr/>
        </p:nvSpPr>
        <p:spPr>
          <a:xfrm rot="5400000">
            <a:off x="6879960" y="5861160"/>
            <a:ext cx="431640" cy="463320"/>
          </a:xfrm>
          <a:custGeom>
            <a:avLst/>
            <a:gdLst>
              <a:gd name="textAreaLeft" fmla="*/ 67320 w 431640"/>
              <a:gd name="textAreaRight" fmla="*/ 378000 w 431640"/>
              <a:gd name="textAreaTop" fmla="*/ 115920 h 463320"/>
              <a:gd name="textAreaBottom" fmla="*/ 347760 h 463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5"/>
          <p:cNvSpPr/>
          <p:nvPr/>
        </p:nvSpPr>
        <p:spPr>
          <a:xfrm>
            <a:off x="3841920" y="5950080"/>
            <a:ext cx="1954080" cy="415800"/>
          </a:xfrm>
          <a:custGeom>
            <a:avLst/>
            <a:gdLst>
              <a:gd name="textAreaLeft" fmla="*/ 342000 w 1954080"/>
              <a:gd name="textAreaRight" fmla="*/ 1416960 w 1954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66"/>
          <p:cNvCxnSpPr>
            <a:stCxn id="277" idx="2"/>
            <a:endCxn id="311" idx="34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43164"/>
              <a:gd name="adj2" fmla="val 49997"/>
              <a:gd name="adj3" fmla="val 14316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67"/>
          <p:cNvCxnSpPr>
            <a:stCxn id="276" idx="2"/>
            <a:endCxn id="262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26" name="AutoShape 68"/>
          <p:cNvCxnSpPr>
            <a:stCxn id="275" idx="2"/>
            <a:endCxn id="261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327" name="AutoShape 69"/>
          <p:cNvCxnSpPr>
            <a:stCxn id="274" idx="2"/>
            <a:endCxn id="260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328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1"/>
          <p:cNvSpPr/>
          <p:nvPr/>
        </p:nvSpPr>
        <p:spPr>
          <a:xfrm>
            <a:off x="250920" y="4956120"/>
            <a:ext cx="41860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Competencias: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Compromiso: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72"/>
          <p:cNvSpPr/>
          <p:nvPr/>
        </p:nvSpPr>
        <p:spPr>
          <a:xfrm>
            <a:off x="250920" y="5121360"/>
            <a:ext cx="28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73"/>
          <p:cNvSpPr/>
          <p:nvPr/>
        </p:nvSpPr>
        <p:spPr>
          <a:xfrm>
            <a:off x="250920" y="5435640"/>
            <a:ext cx="288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4"/>
          <p:cNvSpPr/>
          <p:nvPr/>
        </p:nvSpPr>
        <p:spPr>
          <a:xfrm>
            <a:off x="4859280" y="4956120"/>
            <a:ext cx="410544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1400" spc="-1" strike="noStrike">
                <a:solidFill>
                  <a:srgbClr val="ff0000"/>
                </a:solidFill>
                <a:latin typeface="Arial Narrow"/>
              </a:rPr>
              <a:t>Dirección: Genera conocimientos y ha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99"/>
                </a:solidFill>
                <a:latin typeface="Arial Narrow"/>
              </a:rPr>
              <a:t>Apoyo: Genera motivación y auto-confia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IRIGI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el entusiasm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dentifica los resultados, objetivos y plaz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planificación de accion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trices e instrucciones especific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5600" indent="-3499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irige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30872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Entren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129528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identificación de problemas y en fijar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poyo, seguridad y elogi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, brinda al colaborador oportunidad para discuti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Involucra al colaborador en la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oma de decisiones finales luego de escuchar las ideas y los sentimient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la razón para tomar un enfoque particula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520200" indent="-26136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G_0156"/>
          <p:cNvPicPr/>
          <p:nvPr/>
        </p:nvPicPr>
        <p:blipFill>
          <a:blip r:embed="rId1"/>
          <a:stretch/>
        </p:blipFill>
        <p:spPr>
          <a:xfrm>
            <a:off x="2050920" y="3857760"/>
            <a:ext cx="14432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IMG_0152"/>
          <p:cNvPicPr/>
          <p:nvPr/>
        </p:nvPicPr>
        <p:blipFill>
          <a:blip r:embed="rId2"/>
          <a:stretch/>
        </p:blipFill>
        <p:spPr>
          <a:xfrm>
            <a:off x="5369040" y="3933720"/>
            <a:ext cx="19396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IMG_0153"/>
          <p:cNvPicPr/>
          <p:nvPr/>
        </p:nvPicPr>
        <p:blipFill>
          <a:blip r:embed="rId3"/>
          <a:stretch/>
        </p:blipFill>
        <p:spPr>
          <a:xfrm>
            <a:off x="1619280" y="1773360"/>
            <a:ext cx="2235240" cy="149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Fotolia_4599026_XS"/>
          <p:cNvPicPr/>
          <p:nvPr/>
        </p:nvPicPr>
        <p:blipFill>
          <a:blip r:embed="rId4"/>
          <a:stretch/>
        </p:blipFill>
        <p:spPr>
          <a:xfrm>
            <a:off x="4932360" y="1628640"/>
            <a:ext cx="269712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762200" y="33228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VENTANA DE JO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549080" y="13017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4734000" y="130176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 POR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 rot="16200000">
            <a:off x="-233640" y="2276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ONOCI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 rot="16200000">
            <a:off x="-432360" y="44722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476360" y="308772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4643280" y="308772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19280" y="5175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CER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716360" y="5175360"/>
            <a:ext cx="32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NT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ESCONO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116000" y="1700280"/>
            <a:ext cx="6840360" cy="4248000"/>
            <a:chOff x="1116000" y="1700280"/>
            <a:chExt cx="6840360" cy="4248000"/>
          </a:xfrm>
        </p:grpSpPr>
        <p:sp>
          <p:nvSpPr>
            <p:cNvPr id="69" name="Rectangle 16"/>
            <p:cNvSpPr/>
            <p:nvPr/>
          </p:nvSpPr>
          <p:spPr>
            <a:xfrm>
              <a:off x="1116000" y="1700280"/>
              <a:ext cx="6840360" cy="424800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1116000" y="3823200"/>
              <a:ext cx="6840360" cy="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4536000" y="1700280"/>
              <a:ext cx="0" cy="4248000"/>
            </a:xfrm>
            <a:prstGeom prst="line">
              <a:avLst/>
            </a:prstGeom>
            <a:ln w="28440">
              <a:solidFill>
                <a:srgbClr val="3333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37920" y="4392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 el 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 de liderazgo 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Apoy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0280" indent="-178560" algn="just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uando un líder utiliza</a:t>
            </a:r>
            <a:br>
              <a:rPr sz="3200"/>
            </a:b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el estilo de liderazgo </a:t>
            </a:r>
            <a:r>
              <a:rPr b="1" lang="es-CL" sz="3200" spc="-1" strike="noStrike" u="sng">
                <a:solidFill>
                  <a:srgbClr val="000000"/>
                </a:solidFill>
                <a:uFillTx/>
                <a:latin typeface="Arial"/>
              </a:rPr>
              <a:t>Delegar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24000" y="1542600"/>
            <a:ext cx="849600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000" y="53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stilos de toma de decis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1187280" y="1197000"/>
            <a:ext cx="5832360" cy="4959000"/>
            <a:chOff x="1187280" y="1197000"/>
            <a:chExt cx="5832360" cy="4959000"/>
          </a:xfrm>
        </p:grpSpPr>
        <p:sp>
          <p:nvSpPr>
            <p:cNvPr id="343" name="Rectangle 3"/>
            <p:cNvSpPr/>
            <p:nvPr/>
          </p:nvSpPr>
          <p:spPr>
            <a:xfrm>
              <a:off x="1233360" y="1896120"/>
              <a:ext cx="2811960" cy="12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Apoy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ambos decidi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4"/>
            <p:cNvSpPr/>
            <p:nvPr/>
          </p:nvSpPr>
          <p:spPr>
            <a:xfrm>
              <a:off x="4117320" y="187488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Entre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Hablemos, 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5"/>
            <p:cNvSpPr/>
            <p:nvPr/>
          </p:nvSpPr>
          <p:spPr>
            <a:xfrm>
              <a:off x="1233360" y="406584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ele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Tú dec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6"/>
            <p:cNvSpPr/>
            <p:nvPr/>
          </p:nvSpPr>
          <p:spPr>
            <a:xfrm>
              <a:off x="4117320" y="4045320"/>
              <a:ext cx="2811960" cy="99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El líder en el estilo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800" spc="-1" strike="noStrike">
                  <a:solidFill>
                    <a:srgbClr val="000000"/>
                  </a:solidFill>
                  <a:latin typeface="Arial"/>
                </a:rPr>
                <a:t>Diri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6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s-CL" sz="2000" spc="-1" strike="noStrike">
                  <a:solidFill>
                    <a:srgbClr val="000000"/>
                  </a:solidFill>
                  <a:latin typeface="Arial"/>
                </a:rPr>
                <a:t>Yo dec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7"/>
            <p:cNvSpPr/>
            <p:nvPr/>
          </p:nvSpPr>
          <p:spPr>
            <a:xfrm>
              <a:off x="1187280" y="1197000"/>
              <a:ext cx="5832360" cy="4959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8"/>
            <p:cNvSpPr/>
            <p:nvPr/>
          </p:nvSpPr>
          <p:spPr>
            <a:xfrm>
              <a:off x="4025520" y="1197000"/>
              <a:ext cx="1800" cy="495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9"/>
            <p:cNvSpPr/>
            <p:nvPr/>
          </p:nvSpPr>
          <p:spPr>
            <a:xfrm>
              <a:off x="1187280" y="3506040"/>
              <a:ext cx="583236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Un líder tiene tres opciones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63720" y="1773000"/>
            <a:ext cx="764064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Utilizar el estilo requeri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excesiva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Arial"/>
              </a:rPr>
              <a:t>Supervisar insuficiente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771280" y="1519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br>
              <a:rPr sz="3400"/>
            </a:b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excesiva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Participación disminuid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Frust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Resentimient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iniciativ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e088a"/>
                </a:solidFill>
                <a:latin typeface="Arial"/>
              </a:rPr>
              <a:t>Menor autonomía en el desempeñ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Consecuencias de l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supervisión insuficie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332000" y="155736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87640" y="274320"/>
            <a:ext cx="4687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as </a:t>
            </a:r>
            <a:r>
              <a:rPr b="1" lang="es-CL" sz="3800" spc="-1" strike="noStrike">
                <a:solidFill>
                  <a:srgbClr val="003399"/>
                </a:solidFill>
                <a:latin typeface="Verdana"/>
              </a:rPr>
              <a:t>3</a:t>
            </a: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 habilidades de un 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Líder Situacional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828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Diagnosticar: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 determinar las necesidades de desarroll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2. Flexibilidad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utilizar una variedad de estilos de Liderazgo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Arial"/>
              </a:rPr>
              <a:t>3. Alianza para el desempeño/Acuerdo sobre el estilo de liderazgo</a:t>
            </a:r>
            <a:r>
              <a:rPr b="0" lang="es-CL" sz="1800" spc="-1" strike="noStrike">
                <a:solidFill>
                  <a:srgbClr val="003399"/>
                </a:solidFill>
                <a:latin typeface="Arial"/>
              </a:rPr>
              <a:t>: lograr acuerdos con los colaboradores acerca del estilo de liderazgo a utilizar.</a:t>
            </a: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  <a:p>
            <a:pPr marL="53352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58" name="Picture 4" descr="Fotolia_tickman"/>
          <p:cNvPicPr/>
          <p:nvPr/>
        </p:nvPicPr>
        <p:blipFill>
          <a:blip r:embed="rId1"/>
          <a:stretch/>
        </p:blipFill>
        <p:spPr>
          <a:xfrm>
            <a:off x="179280" y="14130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Fotolia_tickman"/>
          <p:cNvPicPr/>
          <p:nvPr/>
        </p:nvPicPr>
        <p:blipFill>
          <a:blip r:embed="rId2"/>
          <a:stretch/>
        </p:blipFill>
        <p:spPr>
          <a:xfrm>
            <a:off x="119160" y="22766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3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8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92000" y="1519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cuerdo 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0120" y="1557360"/>
            <a:ext cx="7859520" cy="230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362" name="Picture 14" descr="2365568058_8defeeaf3a"/>
          <p:cNvPicPr/>
          <p:nvPr/>
        </p:nvPicPr>
        <p:blipFill>
          <a:blip r:embed="rId1"/>
          <a:stretch/>
        </p:blipFill>
        <p:spPr>
          <a:xfrm>
            <a:off x="5796000" y="378936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2136953861_1b91ecbba2"/>
          <p:cNvPicPr/>
          <p:nvPr/>
        </p:nvPicPr>
        <p:blipFill>
          <a:blip r:embed="rId1"/>
          <a:stretch/>
        </p:blipFill>
        <p:spPr>
          <a:xfrm>
            <a:off x="4789440" y="2637000"/>
            <a:ext cx="4103640" cy="41036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35280" y="151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El Proceso de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 Administración del Desempeñ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7640" y="1484280"/>
            <a:ext cx="8867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Planific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Asesoría día a día utilizando 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406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valuación del desempeñ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200"/>
            </a:br>
            <a:r>
              <a:rPr b="1" lang="es-CL" sz="32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067680" cy="29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Enseñe a sus colaboradores el modelo del Liderazgo Situacional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Defina las meta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067280" y="5157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ROSELY"/>
          <p:cNvPicPr/>
          <p:nvPr/>
        </p:nvPicPr>
        <p:blipFill>
          <a:blip r:embed="rId2"/>
          <a:stretch/>
        </p:blipFill>
        <p:spPr>
          <a:xfrm>
            <a:off x="214200" y="1989000"/>
            <a:ext cx="2125800" cy="212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Trebuchet MS"/>
              </a:rPr>
              <a:t>Habilidades Directiv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rograma en Gestión Estratégica Educ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 </a:t>
            </a:r>
            <a:r>
              <a:rPr b="1" lang="es-CL" sz="2400" spc="-1" strike="noStrike">
                <a:solidFill>
                  <a:srgbClr val="0e088a"/>
                </a:solidFill>
                <a:latin typeface="Trebuchet MS"/>
              </a:rPr>
              <a:t>para Directivos de la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1" lang="es-CL" sz="3000" spc="-1" strike="noStrike">
                <a:solidFill>
                  <a:srgbClr val="003399"/>
                </a:solidFill>
                <a:latin typeface="Arial"/>
              </a:rPr>
              <a:t>sobre el estilo de liderazgo</a:t>
            </a:r>
            <a:endParaRPr b="1" lang="en-US" sz="3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767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Dirigi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Dirigi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el entusiasmo de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Reconoce las habilidades transferibles del colaborador y sus progres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dentifica los resultados, objetivos y plaz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buen trabajo y como se registrara el desempeñ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planificación de accion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la mayoría de las decisiones relacionadas con qué hacer, cuándo y con quié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trices e instrucciones especific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irige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Qué hace un líder cuando utiliza el estilo Orient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Arial"/>
              </a:rPr>
              <a:t>Cuando un líder utiliza el estilo de liderazgo Orient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 colaborador en identificar problemas y en fijar met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apoyo, seguridad y elogi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scucha : brinda al colaborador una oportunidad para discutir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Involucra al colaborador en la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Toma de decisiones finales relativas a los planes de ac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Proporciona dirección para continuar  desarrollando las habilidad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Explica la razón para tomar un enfoque particula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Define que es un trabajo bien hecho y cómo será controlad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Arial"/>
              </a:rPr>
              <a:t>Continua haciendo seguimiento y proporcionando retroaliment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e088a"/>
                </a:solidFill>
                <a:latin typeface="Arial"/>
              </a:rPr>
              <a:t>¿ Qué hace un líder cuando utiliza el estilo Apoyar?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Apoy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Comparte con  el colaborador acciones y solución de problem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Trabaja con el colaborador en la evaluación de su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l colaborador toma la iniciativa en la planific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71360" y="27432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e088a"/>
                </a:solidFill>
                <a:latin typeface="Arial"/>
              </a:rPr>
              <a:t>¿Qué hace un líder cuando utiliza el estilo Delegar?</a:t>
            </a:r>
            <a:endParaRPr b="1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e088a"/>
                </a:solidFill>
                <a:latin typeface="UnitOT-Regular"/>
              </a:rPr>
              <a:t>Cuando un líder utiliza el estilo de liderazgo Delegar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ermite al colaborador hacerse carg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Estimula al colaborador a evaluar su propio  trabajo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88a"/>
              </a:buClr>
              <a:buFont typeface="UnitOT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e088a"/>
                </a:solidFill>
                <a:latin typeface="UnitOT-Regular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77760" y="1698480"/>
            <a:ext cx="88362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líderes efic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justan su estilo para proporcion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al grupo lo que éste no pu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seguir por sí m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2387520" y="1854360"/>
            <a:ext cx="4488840" cy="4527000"/>
            <a:chOff x="2387520" y="1854360"/>
            <a:chExt cx="4488840" cy="4527000"/>
          </a:xfrm>
        </p:grpSpPr>
        <p:sp>
          <p:nvSpPr>
            <p:cNvPr id="381" name="Line 3"/>
            <p:cNvSpPr/>
            <p:nvPr/>
          </p:nvSpPr>
          <p:spPr>
            <a:xfrm>
              <a:off x="4672080" y="1854360"/>
              <a:ext cx="0" cy="4527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2387520" y="1854360"/>
              <a:ext cx="4488840" cy="4526280"/>
              <a:chOff x="2387520" y="1854360"/>
              <a:chExt cx="4488840" cy="4526280"/>
            </a:xfrm>
          </p:grpSpPr>
          <p:grpSp>
            <p:nvGrpSpPr>
              <p:cNvPr id="383" name="Group 5"/>
              <p:cNvGrpSpPr/>
              <p:nvPr/>
            </p:nvGrpSpPr>
            <p:grpSpPr>
              <a:xfrm>
                <a:off x="2387520" y="1854360"/>
                <a:ext cx="4488480" cy="4526280"/>
                <a:chOff x="2387520" y="1854360"/>
                <a:chExt cx="4488480" cy="4526280"/>
              </a:xfrm>
            </p:grpSpPr>
            <p:grpSp>
              <p:nvGrpSpPr>
                <p:cNvPr id="384" name="Group 6"/>
                <p:cNvGrpSpPr/>
                <p:nvPr/>
              </p:nvGrpSpPr>
              <p:grpSpPr>
                <a:xfrm>
                  <a:off x="2425680" y="2413080"/>
                  <a:ext cx="4395240" cy="3296520"/>
                  <a:chOff x="2425680" y="2413080"/>
                  <a:chExt cx="4395240" cy="3296520"/>
                </a:xfrm>
              </p:grpSpPr>
              <p:sp>
                <p:nvSpPr>
                  <p:cNvPr id="385" name="Rectangle 7"/>
                  <p:cNvSpPr/>
                  <p:nvPr/>
                </p:nvSpPr>
                <p:spPr>
                  <a:xfrm>
                    <a:off x="2425680" y="2413080"/>
                    <a:ext cx="216432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Apoy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ambos decidimo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Rectangle 8"/>
                  <p:cNvSpPr/>
                  <p:nvPr/>
                </p:nvSpPr>
                <p:spPr>
                  <a:xfrm>
                    <a:off x="4656240" y="2413080"/>
                    <a:ext cx="2164680" cy="142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Orient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Hablemos, 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9"/>
                  <p:cNvSpPr/>
                  <p:nvPr/>
                </p:nvSpPr>
                <p:spPr>
                  <a:xfrm>
                    <a:off x="2425680" y="4502520"/>
                    <a:ext cx="216432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eleg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Tú decid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0"/>
                  <p:cNvSpPr/>
                  <p:nvPr/>
                </p:nvSpPr>
                <p:spPr>
                  <a:xfrm>
                    <a:off x="4656240" y="4503960"/>
                    <a:ext cx="2164680" cy="120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El líder en el estilo 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Dirig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ts val="1698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 </a:t>
                    </a:r>
                    <a:r>
                      <a:rPr b="1" i="1" lang="es-CL" sz="1800" spc="-1" strike="noStrike">
                        <a:solidFill>
                          <a:srgbClr val="666699"/>
                        </a:solidFill>
                        <a:latin typeface="UnitOT-Regular"/>
                      </a:rPr>
                      <a:t>Yo deci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Rectangle 11"/>
                <p:cNvSpPr/>
                <p:nvPr/>
              </p:nvSpPr>
              <p:spPr>
                <a:xfrm>
                  <a:off x="2387520" y="1854360"/>
                  <a:ext cx="4488480" cy="452628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Line 12"/>
              <p:cNvSpPr/>
              <p:nvPr/>
            </p:nvSpPr>
            <p:spPr>
              <a:xfrm>
                <a:off x="2387520" y="4077720"/>
                <a:ext cx="4488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0360" y="27432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Estilo de toma de decisiones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4211640" y="55958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Marzo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pie copia"/>
          <p:cNvPicPr/>
          <p:nvPr/>
        </p:nvPicPr>
        <p:blipFill>
          <a:blip r:embed="rId1"/>
          <a:stretch/>
        </p:blipFill>
        <p:spPr>
          <a:xfrm>
            <a:off x="1116000" y="6283440"/>
            <a:ext cx="7201080" cy="458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ROSELY"/>
          <p:cNvPicPr/>
          <p:nvPr/>
        </p:nvPicPr>
        <p:blipFill>
          <a:blip r:embed="rId2"/>
          <a:stretch/>
        </p:blipFill>
        <p:spPr>
          <a:xfrm>
            <a:off x="468360" y="1989000"/>
            <a:ext cx="2125440" cy="2125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330200" y="2246400"/>
            <a:ext cx="871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Habilidades Directivas</a:t>
            </a:r>
            <a:br>
              <a:rPr sz="2800"/>
            </a:br>
            <a:r>
              <a:rPr b="1" lang="es-ES" sz="2800" spc="-1" strike="noStrike">
                <a:solidFill>
                  <a:srgbClr val="0e088a"/>
                </a:solidFill>
                <a:latin typeface="Arial"/>
              </a:rPr>
              <a:t>Diploma en Gerencia Públ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95680" y="426600"/>
            <a:ext cx="334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cepción negativa del Conflicto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flicto como parte inherente del ser humano y por ende de los grupos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conflicto puede ser positivo dependiendo de la forma en que se administra.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842920" y="475920"/>
            <a:ext cx="4513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Definición de Conflict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“ 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Situación en la que sus intereses son diferentes a los de otra (s) persona (s)”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1640" y="417600"/>
            <a:ext cx="44643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OBJETIVOS ESPECÍFIC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UnitOT-Regular"/>
              </a:rPr>
              <a:t>DEL MODULO</a:t>
            </a:r>
            <a:endParaRPr b="1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nsibilizar respecto a  la necesidad de ser flexible y adaptable en relación al estilo de liderazgo, a fin de lograr los objetivos en un ambiente de participación, cambio y diversidad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ender las consecuencias del uso inapropiado de los estilos de liderazgo y cómo afectan el logro de los objetivos, sensibilizando respecto al proceso de la delegación y generación de autonomía en los colaborador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692360" y="2057400"/>
            <a:ext cx="455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e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vas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laboración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mpromiso</a:t>
            </a:r>
            <a:endParaRPr b="0" lang="en-US" sz="24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3"/>
          <p:cNvSpPr/>
          <p:nvPr/>
        </p:nvSpPr>
        <p:spPr>
          <a:xfrm rot="16245000">
            <a:off x="775800" y="1669320"/>
            <a:ext cx="22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1600" spc="-1" strike="noStrike">
                <a:solidFill>
                  <a:srgbClr val="333399"/>
                </a:solidFill>
                <a:latin typeface="Times New Roman"/>
              </a:rPr>
              <a:t>MAX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5"/>
          <p:cNvSpPr/>
          <p:nvPr/>
        </p:nvSpPr>
        <p:spPr>
          <a:xfrm>
            <a:off x="7237440" y="1836720"/>
            <a:ext cx="144360" cy="142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54"/>
          <p:cNvGrpSpPr/>
          <p:nvPr/>
        </p:nvGrpSpPr>
        <p:grpSpPr>
          <a:xfrm>
            <a:off x="1127160" y="1843200"/>
            <a:ext cx="6757920" cy="4898880"/>
            <a:chOff x="1127160" y="1843200"/>
            <a:chExt cx="6757920" cy="4898880"/>
          </a:xfrm>
        </p:grpSpPr>
        <p:sp>
          <p:nvSpPr>
            <p:cNvPr id="405" name="Line 8"/>
            <p:cNvSpPr/>
            <p:nvPr/>
          </p:nvSpPr>
          <p:spPr>
            <a:xfrm>
              <a:off x="7310520" y="218592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411280" y="529272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VA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 flipV="1">
              <a:off x="2349360" y="2188800"/>
              <a:ext cx="0" cy="358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>
              <a:off x="2408400" y="5772240"/>
              <a:ext cx="490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1127160" y="2075400"/>
              <a:ext cx="39708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3"/>
            <p:cNvSpPr/>
            <p:nvPr/>
          </p:nvSpPr>
          <p:spPr>
            <a:xfrm>
              <a:off x="3788280" y="6319080"/>
              <a:ext cx="1919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4"/>
            <p:cNvSpPr/>
            <p:nvPr/>
          </p:nvSpPr>
          <p:spPr>
            <a:xfrm>
              <a:off x="241128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ET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5076720" y="1843200"/>
              <a:ext cx="24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LABO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3787920" y="3540240"/>
              <a:ext cx="24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OMPROMI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349360" y="2189160"/>
              <a:ext cx="496116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"/>
            <p:cNvSpPr/>
            <p:nvPr/>
          </p:nvSpPr>
          <p:spPr>
            <a:xfrm>
              <a:off x="7237440" y="5700600"/>
              <a:ext cx="144360" cy="142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"/>
            <p:cNvSpPr/>
            <p:nvPr/>
          </p:nvSpPr>
          <p:spPr>
            <a:xfrm>
              <a:off x="4649760" y="3908520"/>
              <a:ext cx="14436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6087960" y="52927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Times New Roman"/>
                </a:rPr>
                <a:t>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 flipV="1">
              <a:off x="1917720" y="3263760"/>
              <a:ext cx="0" cy="164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3859200" y="6058080"/>
              <a:ext cx="165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3"/>
            <p:cNvSpPr/>
            <p:nvPr/>
          </p:nvSpPr>
          <p:spPr>
            <a:xfrm>
              <a:off x="234936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4"/>
            <p:cNvSpPr/>
            <p:nvPr/>
          </p:nvSpPr>
          <p:spPr>
            <a:xfrm rot="16226400">
              <a:off x="776520" y="4884840"/>
              <a:ext cx="229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I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25"/>
            <p:cNvSpPr/>
            <p:nvPr/>
          </p:nvSpPr>
          <p:spPr>
            <a:xfrm>
              <a:off x="5584680" y="5893560"/>
              <a:ext cx="23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     </a:t>
              </a:r>
              <a:r>
                <a:rPr b="1" lang="es-ES_tradnl" sz="1600" spc="-1" strike="noStrike">
                  <a:solidFill>
                    <a:srgbClr val="333399"/>
                  </a:solidFill>
                  <a:latin typeface="Times New Roman"/>
                </a:rPr>
                <a:t>MAX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Oval 26"/>
          <p:cNvSpPr/>
          <p:nvPr/>
        </p:nvSpPr>
        <p:spPr>
          <a:xfrm>
            <a:off x="2203560" y="57038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Los cinco modos de Administración de Conflictos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5" name="Oval 53"/>
          <p:cNvSpPr/>
          <p:nvPr/>
        </p:nvSpPr>
        <p:spPr>
          <a:xfrm>
            <a:off x="2203560" y="184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71280" y="412920"/>
            <a:ext cx="5040360" cy="11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Estilo Competencia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1840" y="1265400"/>
            <a:ext cx="86425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a acción rápida y decidida es vital. Por ejemplo, en emergencias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n temas esenciales para los intereses de la compañía en los que se sabe que se está en la posición correcta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sta rodeado de incondicional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temen admitir ignorancia o incertidumbre frente a usted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frecuentemente impotente frente a determinadas situac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Tiene dificultades para adoptar una posición firme, aún cuando percibe que es necesari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30592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encontrar una solución cuando los intereses de ambas partes son demasiado importantes para ser negociad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combinar los puntos de vista de personas con distintas perspectivas sobre un problem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Gasta tiempo en discutir en profundidad temas que no parecen justificarl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 conducta de colaboración no recibe como respuesta una actitud en igual sentido por parte de los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 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considerar las diferencias como oportunidades para lograr beneficios mutuos, para aprender o resolver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us subordinados demuestran falta de compromiso con sus decisiones o polític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laborac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1532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obtener acuerdos temporales en temas complejo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Para llegar a soluciones expeditas cuando el tiempo apremia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concentra tanto en los detalles y tácticas del compromiso que a veces pierde de vista los grandes temas, tales como principios, valores, objetivos a largo plazo, intereses de la compañía?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l énfasis en la negociación ha creado un negativo clima donde las transacciones se han convertido en una especie de deport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encuentra demasiado susceptible o incómodo para ser eficaz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hacer conces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212580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ompromiso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un problema es trivial, o cuando urgen temas más importantes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los beneficios potenciales de afrontar un conflicto sobrepasan los beneficios de su resolución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a coordinación de su organización se ve perjudicada a causa de que otras personas tienen dificultades para conocer sus opinion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toman decisiones sobre temas importantes por defecto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ocurre frecuentemente que lastima los sentimiento de otras personas, o despierta hostilidade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e siente a menudo acosado o sobrepasado por una multitud de problema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052720" y="47628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Eva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07696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Usos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se percibe que se está en una posición equivocada; para permitir que una postura mejor sea escuchada, aprender de otros, o demostrar que se es razonabl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Cuando preservar la armonía y evitar controversias es especialmente importante.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alt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Siente que sus ideas y objetivos no obtienen la atención que merecen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Existe un relajamiento de la disciplina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 su resultado fue bajo: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e resulta difícil lograr la buena voluntad de otros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  <a:p>
            <a:pPr marL="609480" indent="-609480">
              <a:lnSpc>
                <a:spcPct val="7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¿Los otros lo consideran una persona poco razonable?</a:t>
            </a:r>
            <a:endParaRPr b="0" lang="en-US" sz="20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2052720" y="473040"/>
            <a:ext cx="5759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stilo Cesión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5256360" cy="93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reencias acerca </a:t>
            </a:r>
            <a:br>
              <a:rPr sz="2800"/>
            </a:b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l Rol del Líder </a:t>
            </a:r>
            <a:endParaRPr b="1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  <p:pic>
        <p:nvPicPr>
          <p:cNvPr id="79" name="Picture 4" descr="IMG_0165"/>
          <p:cNvPicPr/>
          <p:nvPr/>
        </p:nvPicPr>
        <p:blipFill>
          <a:blip r:embed="rId1"/>
          <a:stretch/>
        </p:blipFill>
        <p:spPr>
          <a:xfrm>
            <a:off x="755640" y="3429000"/>
            <a:ext cx="2184480" cy="28591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771640" y="1773360"/>
            <a:ext cx="5256360" cy="2376360"/>
          </a:xfrm>
          <a:prstGeom prst="cloudCallout">
            <a:avLst>
              <a:gd name="adj1" fmla="val -47555"/>
              <a:gd name="adj2" fmla="val 50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¿Qué le pediría a un líder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73080" y="304560"/>
            <a:ext cx="579456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Liderazgo eficaz</a:t>
            </a:r>
            <a:endParaRPr b="1" lang="en-US" sz="34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664920" y="370512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84" name="Group 5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85" name="Oval 6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7"/>
              <p:cNvSpPr/>
              <p:nvPr/>
            </p:nvSpPr>
            <p:spPr>
              <a:xfrm>
                <a:off x="49212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8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88" name="Oval 9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2076480" y="4268880"/>
                <a:ext cx="298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1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2"/>
          <p:cNvGrpSpPr/>
          <p:nvPr/>
        </p:nvGrpSpPr>
        <p:grpSpPr>
          <a:xfrm>
            <a:off x="5967360" y="1382760"/>
            <a:ext cx="2549520" cy="3974040"/>
            <a:chOff x="5967360" y="1382760"/>
            <a:chExt cx="2549520" cy="3974040"/>
          </a:xfrm>
        </p:grpSpPr>
        <p:sp>
          <p:nvSpPr>
            <p:cNvPr id="92" name="Rectangle 13"/>
            <p:cNvSpPr/>
            <p:nvPr/>
          </p:nvSpPr>
          <p:spPr>
            <a:xfrm>
              <a:off x="7146720" y="1382760"/>
              <a:ext cx="8784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4"/>
            <p:cNvSpPr/>
            <p:nvPr/>
          </p:nvSpPr>
          <p:spPr>
            <a:xfrm>
              <a:off x="6964200" y="5040360"/>
              <a:ext cx="10810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INEFICA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5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95" name="AutoShape 16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5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6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8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0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Rectangle 31"/>
            <p:cNvSpPr/>
            <p:nvPr/>
          </p:nvSpPr>
          <p:spPr>
            <a:xfrm>
              <a:off x="6554880" y="2967120"/>
              <a:ext cx="166788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CTITU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ENTIMIENT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2"/>
          <p:cNvSpPr/>
          <p:nvPr/>
        </p:nvSpPr>
        <p:spPr>
          <a:xfrm>
            <a:off x="3795120" y="2525760"/>
            <a:ext cx="1261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853080" y="6021360"/>
            <a:ext cx="11498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IN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5"/>
          <p:cNvSpPr/>
          <p:nvPr/>
        </p:nvSpPr>
        <p:spPr>
          <a:xfrm rot="16200000">
            <a:off x="2844360" y="3236400"/>
            <a:ext cx="3046680" cy="2471760"/>
          </a:xfrm>
          <a:prstGeom prst="triangle">
            <a:avLst>
              <a:gd name="adj" fmla="val 5062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5567400" y="2790720"/>
            <a:ext cx="0" cy="330228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592600" y="29494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8"/>
          <p:cNvSpPr/>
          <p:nvPr/>
        </p:nvSpPr>
        <p:spPr>
          <a:xfrm>
            <a:off x="5592600" y="5996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>
            <a:off x="5603760" y="32036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5613480" y="34574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5603760" y="37101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2"/>
          <p:cNvSpPr/>
          <p:nvPr/>
        </p:nvSpPr>
        <p:spPr>
          <a:xfrm>
            <a:off x="5592600" y="396396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>
            <a:off x="5603760" y="42181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4"/>
          <p:cNvSpPr/>
          <p:nvPr/>
        </p:nvSpPr>
        <p:spPr>
          <a:xfrm>
            <a:off x="5603760" y="447192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5"/>
          <p:cNvSpPr/>
          <p:nvPr/>
        </p:nvSpPr>
        <p:spPr>
          <a:xfrm>
            <a:off x="5603760" y="472608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>
            <a:off x="5613480" y="497988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7"/>
          <p:cNvSpPr/>
          <p:nvPr/>
        </p:nvSpPr>
        <p:spPr>
          <a:xfrm>
            <a:off x="5603760" y="5234040"/>
            <a:ext cx="25416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8"/>
          <p:cNvSpPr/>
          <p:nvPr/>
        </p:nvSpPr>
        <p:spPr>
          <a:xfrm>
            <a:off x="5613480" y="548784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9"/>
          <p:cNvSpPr/>
          <p:nvPr/>
        </p:nvSpPr>
        <p:spPr>
          <a:xfrm>
            <a:off x="5613480" y="5742000"/>
            <a:ext cx="25380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317400" y="4110120"/>
            <a:ext cx="211572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ESEMP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14200" y="1197000"/>
            <a:ext cx="734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87640" y="391680"/>
            <a:ext cx="3672000" cy="8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333399"/>
                </a:solidFill>
                <a:latin typeface="Arial"/>
              </a:rPr>
              <a:t>Liderazgo</a:t>
            </a:r>
            <a:endParaRPr b="1" lang="en-US" sz="3800" spc="-1" strike="noStrike">
              <a:solidFill>
                <a:srgbClr val="0e088a"/>
              </a:solidFill>
              <a:latin typeface="UnitOT-Regular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s trabajar con los colaboradores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 y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  <a:p>
            <a:pPr marL="285840" indent="0" algn="ctr">
              <a:lnSpc>
                <a:spcPts val="22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e088a"/>
              </a:solidFill>
              <a:latin typeface="UnitOT-Regular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1</cp:lastModifiedBy>
  <dcterms:modified xsi:type="dcterms:W3CDTF">2012-03-02T21:32:49Z</dcterms:modified>
  <cp:revision>320</cp:revision>
  <dc:subject/>
  <dc:title>Título</dc:title>
</cp:coreProperties>
</file>