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FD4E2E-7D0E-488C-941B-5E63C6910B7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B8EDF9-19C8-4EC4-B271-6F633232384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6E544F-B753-44AE-A91F-5B72B652044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7147A1-F65F-4DE1-BAF0-2297D7B93E4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911D28-E376-4900-BCE8-91E2C91D6F8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AD54A7-3895-40E4-9C60-6FD31F40098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60AC92-4D8F-4FFD-8BBE-E74813472BC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18192D-F0B0-4AB0-982D-E5BE7098438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AF5DEF-3D1C-49F5-ACA6-64FAC05B6A1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A8D47D-797B-4E45-A4FF-C512CF6C8AF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F7520A-5906-4520-8542-1E0BCB294C5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0873BB-1CCF-40FB-BDD2-D5DD28CC2DD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56B220-4C7C-4F20-85AA-47F8EE998FD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65395E-F7F9-460A-8256-87786F819EA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66D302-34FB-4913-BAD8-33C420186C3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325EAD-79F7-4E5C-BABD-FDD7672634B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A21550-8C01-4A02-BFDF-64607822F1C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B7B1D8-18D3-405F-9AF3-4512306BF82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654013-8755-432F-A16C-6BC3D34F169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C7B40C-1580-4012-9DD9-3A0BA2BCB2E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84AD71-D2E5-4E7C-B642-E214DC327B0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AA4AC9-5A26-46B0-B0C7-F7A5944C4AA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377031-F153-4863-AA54-F8077A33C92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61DAEC-0098-4826-A77B-420B8C44C85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9AB713-AE18-42E1-A697-D59C0C33D6D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B81716-5F14-4199-B7BF-084DB6DE387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22530E-587B-44D0-BD00-0C62198F195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9A5889-77CB-4F79-9430-FBDD307140B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5E664B-B490-41A8-BF96-C733EAEC4B7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778F9D-DE85-42BD-B347-5D342B5F2FC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0B4392-47DC-478C-B1A0-9A17ABA463E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D4F7A3-FA68-469C-B4F7-D9119665B86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EFFFBD-C8FD-4A8D-B0EB-F6E109E6E3D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456D4E-1CCE-4DC5-97D1-C3E4607350F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861C6F-88BD-4C78-920F-47652E90A69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904476-AB4A-492D-B7A5-166BA693F7D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AD38A2-21B6-456E-9803-B55CEEBD1A5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7C3DEA-F2B0-49ED-8B93-E7A0E2E89F2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976CA5-4AE3-4DDF-902B-2239BCF5058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505766-2B5F-4E5E-927D-622DCC09D41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D7AE85-AF8E-496A-92C1-47753DA70DB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641A51-42F4-4609-9A92-F45D45DF781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19D017-B341-4FA6-8AC6-DD5C10729F4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FD15F8-6C4B-4D29-9E18-F27246D8CEC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949F94-C220-476B-B651-F770C204B76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69C646-D2F7-4D09-8351-38D13A724BA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867343-64D4-48F2-AEC7-764AC7E60EE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67F715-C502-4811-94A0-BC8B65E9D87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B2C41C-A8DC-4968-AF87-F977329DFC4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F537FE-3560-4650-B983-CBF5D0CD8C2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E14E3F-8E30-4684-A53C-87263F7B9A2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03D89D-2CDB-4859-BD76-8366D60663E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9D04B5-67D7-4C5F-A279-FE0554D1A33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14F03B-5ADB-4FB9-86BA-D5DAE55171B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AA5187-921F-47E3-8568-F27214A2887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6E6-325B-41D6-8E61-7C00A20C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263-B7C0-4CA0-AB54-C133296C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181-E356-4677-A822-9D0C71E5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562-1DCE-4BD7-9317-CF1ED776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A0B-5178-440D-BC97-8EA9C7D5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8EF-CFDA-4C88-A9EF-6CEB7000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033-3E8C-4089-B1B8-A9293003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86A-AFF1-44B9-8A8D-B99378FA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125-FF96-4A41-88D1-906741CA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EF5-74A8-4D38-A8D9-F8EC6A20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0F9-AE5A-4736-AE36-54FB74AE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F9C-0DE7-4EF3-B4E3-AE760DC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8AFA-5C1E-430B-BFC1-379E63C14A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nkedin.com/in/joseinostroza" TargetMode="External"/><Relationship Id="rId2" Type="http://schemas.openxmlformats.org/officeDocument/2006/relationships/hyperlink" Target="http://www.linkedin.com/in/joseinostroza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nsis_Liker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6920" y="2205000"/>
            <a:ext cx="5959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PLOMA EN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RENCIA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ÚBLICA Primavera 2010 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Taller de Análisis Organizacional </a:t>
            </a:r>
            <a:br>
              <a:rPr sz="3000"/>
            </a:b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www.sistemaspublicos.cl</a:t>
            </a:r>
            <a:br>
              <a:rPr sz="28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Profesor:</a:t>
            </a: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José Inostroza Lara</a:t>
            </a:r>
            <a:br>
              <a:rPr sz="16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Profesora Auxiliar: </a:t>
            </a: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Natalie González; Alexis Acevedo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Cj04042730000[1]"/>
          <p:cNvPicPr/>
          <p:nvPr/>
        </p:nvPicPr>
        <p:blipFill>
          <a:blip r:embed="rId1"/>
          <a:stretch/>
        </p:blipFill>
        <p:spPr>
          <a:xfrm>
            <a:off x="6699240" y="5486400"/>
            <a:ext cx="2225520" cy="927000"/>
          </a:xfrm>
          <a:prstGeom prst="rect">
            <a:avLst/>
          </a:prstGeom>
          <a:ln w="0">
            <a:noFill/>
          </a:ln>
        </p:spPr>
      </p:pic>
      <p:pic>
        <p:nvPicPr>
          <p:cNvPr id="50" name="8 Imagen" descr="CSP-color+bajada small.bmp"/>
          <p:cNvPicPr/>
          <p:nvPr/>
        </p:nvPicPr>
        <p:blipFill>
          <a:blip r:embed="rId2"/>
          <a:stretch/>
        </p:blipFill>
        <p:spPr>
          <a:xfrm>
            <a:off x="3708360" y="549360"/>
            <a:ext cx="304812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22320" y="-27000"/>
            <a:ext cx="22906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puede ser útil para (e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POCO TIEMPO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gerente público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llega a hacerse cargo de un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o un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onsultora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asesora en un proceso d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modernización o transformación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general o parci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ara que los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formuladores de las políticas y programas público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tengan mayor conocimiento sobre las características institucionales de las organizaciones involucradas en la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 útil para hacer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nálisis de riesgo de una organización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entendido el riesgo en un contexto amplio: político, estratégico, operacional, financiero, y de probidad.</a:t>
            </a:r>
            <a:r>
              <a:rPr b="0" lang="es-ES" sz="9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B59C-5C6A-4EDB-A438-04EC802AF6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debe advertir qu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la guía NO reempla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alta de sentido común ni la falta de un </a:t>
            </a: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REFLEXION PROFUNDA y DELIBERATIVA en el equi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alta de expertizaje profesion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 la perspicacia del analista para leer entre líneas o “mirar debajo del agua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0B6F-7411-4976-81E7-B18361EA17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PROCESO COMPLETO </a:t>
            </a:r>
            <a:br>
              <a:rPr sz="4400"/>
            </a:br>
            <a:r>
              <a:rPr b="1" lang="es-ES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DEL AO .</a:t>
            </a: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MCj04042730000[1]"/>
          <p:cNvPicPr/>
          <p:nvPr/>
        </p:nvPicPr>
        <p:blipFill>
          <a:blip r:embed="rId2"/>
          <a:stretch/>
        </p:blipFill>
        <p:spPr>
          <a:xfrm>
            <a:off x="6699240" y="5486400"/>
            <a:ext cx="2225520" cy="92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7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E75F-3FCA-4A84-B8D3-7330B1F002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13C2-31A3-42F7-93A6-7BCD1804B6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7FFE-9467-4194-A340-89E33525FA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0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8179-C196-49C4-8DF4-B1EE3B7FDC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FFBA-AF76-41C5-83F6-C4EA07F30E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4AA2-CE75-450C-A2A6-5229A0EBC9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4981-8859-421F-97AF-DCF20FDC9F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c00000"/>
                </a:solidFill>
                <a:latin typeface="Arial"/>
              </a:rPr>
              <a:t>OBJETIVOS DE LA 1ª SE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esent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xponer Metodología de AO (aprox. 1½ Hr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Formar Grupos (Organización Bás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r Entregables/Produ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r criterios de Eval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949D-2D56-4D11-AAD9-B4F000CF6F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9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3ED5-D76A-4F18-A4B4-D8BE8D265F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9B10-DECA-486D-91A0-A55B48EDDB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29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8709-82EA-4D31-8776-6EB4708148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339840" y="4751280"/>
            <a:ext cx="1919160" cy="88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unión de consenso sobre el diagnóstico/Model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>
            <a:off x="1300320" y="3876840"/>
            <a:ext cx="0" cy="87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9F27-E07A-4337-AE68-1B49879779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339840" y="4751280"/>
            <a:ext cx="1919160" cy="88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unión de consenso sobre el diagnóstico/Model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3540240" y="5102280"/>
            <a:ext cx="2000160" cy="77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final del Diagnó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7"/>
          <p:cNvSpPr/>
          <p:nvPr/>
        </p:nvSpPr>
        <p:spPr>
          <a:xfrm>
            <a:off x="1300320" y="3876840"/>
            <a:ext cx="0" cy="87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8"/>
          <p:cNvSpPr/>
          <p:nvPr/>
        </p:nvSpPr>
        <p:spPr>
          <a:xfrm>
            <a:off x="2259000" y="5451480"/>
            <a:ext cx="128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3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4E82-EBB1-463F-9C32-5E6A576DF7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1: Revisión de Información Secundaria.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Documentos que describan la Política Pública (páginas Webs, leyes, discursos, documentos técnico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Documentos y planes estratégicos (en Chile, los BGI son una buena fu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Memorias an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es de control de gestión (Ver documentos internos, Documentos de DIPRE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valuaciones externas (Ver DIPRES y su gama de evaluaciones de programas y de impa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stadísticas Descriptivas (miden los tamaños, de insumos, productos, infraestructu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dicadores de Desempeño (miden cómo lo hace la organiz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Normas (Leyes, Decretos, Resolucio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iteratura académica o especializada sobre alguna materia relacionada a la organización (Universidades, Organismos internacionales, ONGs y </a:t>
            </a:r>
            <a:r>
              <a:rPr b="1" i="1" lang="es-ES" sz="1600" spc="-1" strike="noStrike">
                <a:solidFill>
                  <a:srgbClr val="333399"/>
                </a:solidFill>
                <a:latin typeface="Arial"/>
              </a:rPr>
              <a:t>Think Tanks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onsultorías previas relev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es de auditoría interna (“Matrices de Riesgo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ación de Pren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-92160" y="5589720"/>
            <a:ext cx="91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24B4-C596-4629-9EBD-2EBC2D468E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2: Identificación de actores relevantes 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n general,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preguntas se debieran realizar en función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grupos de 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stakeholder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to, sin perjuicio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preguntas mínimas comunes para todo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los entrevi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Para la detección de los </a:t>
            </a:r>
            <a:r>
              <a:rPr b="0" i="1" lang="es-ES" sz="2800" spc="-1" strike="noStrike">
                <a:solidFill>
                  <a:srgbClr val="333399"/>
                </a:solidFill>
                <a:latin typeface="Arial"/>
              </a:rPr>
              <a:t>stakeholders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e recomienda pensar en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tres nivele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político-estratégico,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el técnico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(personal de la organización, contratistas, consultores, entidades que tengan una opinión técnica autónoma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y un tercero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relacionado con los beneficiario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653D-4C21-4A19-8AB3-860E615CE6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2: Identificación de actores relevantes 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Directivos Princip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jecutivos que toman dec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Nivel Técnico Operativo con altos conocimientos de los procesos sustantivos y cifras relev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Contrapartes de instituciones relacio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Usu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ctores clave del En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sociación Gre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E22-5465-434F-AEB5-FE0B33725B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4121280"/>
            <a:ext cx="2219400" cy="92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Ej. Mapa de A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3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24C6-251B-402C-8CE1-1C986A2B25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"/>
          <p:cNvGrpSpPr/>
          <p:nvPr/>
        </p:nvGrpSpPr>
        <p:grpSpPr>
          <a:xfrm>
            <a:off x="755640" y="836640"/>
            <a:ext cx="7227720" cy="4881600"/>
            <a:chOff x="755640" y="836640"/>
            <a:chExt cx="7227720" cy="4881600"/>
          </a:xfrm>
        </p:grpSpPr>
        <p:sp>
          <p:nvSpPr>
            <p:cNvPr id="331" name="AutoShape 5"/>
            <p:cNvSpPr/>
            <p:nvPr/>
          </p:nvSpPr>
          <p:spPr>
            <a:xfrm>
              <a:off x="755640" y="836640"/>
              <a:ext cx="7227720" cy="488160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6"/>
            <p:cNvSpPr/>
            <p:nvPr/>
          </p:nvSpPr>
          <p:spPr>
            <a:xfrm>
              <a:off x="1787760" y="1305720"/>
              <a:ext cx="5538240" cy="4131000"/>
            </a:xfrm>
            <a:prstGeom prst="ellipse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"/>
            <p:cNvSpPr/>
            <p:nvPr/>
          </p:nvSpPr>
          <p:spPr>
            <a:xfrm>
              <a:off x="3547800" y="3183840"/>
              <a:ext cx="750240" cy="75132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Serv.     Adm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G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8"/>
            <p:cNvSpPr/>
            <p:nvPr/>
          </p:nvSpPr>
          <p:spPr>
            <a:xfrm>
              <a:off x="4510440" y="3351240"/>
              <a:ext cx="702000" cy="65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C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4065840" y="2505960"/>
              <a:ext cx="1032120" cy="84492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Ejecutivo del GORE </a:t>
              </a: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(Intendente)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0"/>
            <p:cNvSpPr/>
            <p:nvPr/>
          </p:nvSpPr>
          <p:spPr>
            <a:xfrm>
              <a:off x="1506600" y="1681560"/>
              <a:ext cx="1220040" cy="75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DIPRES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UBD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1"/>
            <p:cNvSpPr/>
            <p:nvPr/>
          </p:nvSpPr>
          <p:spPr>
            <a:xfrm>
              <a:off x="6669000" y="3652920"/>
              <a:ext cx="1286280" cy="72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MINISTERIOS SECTORI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2"/>
            <p:cNvSpPr/>
            <p:nvPr/>
          </p:nvSpPr>
          <p:spPr>
            <a:xfrm>
              <a:off x="6387120" y="2160000"/>
              <a:ext cx="1225080" cy="73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ORGANS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EJECUTO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3"/>
            <p:cNvSpPr/>
            <p:nvPr/>
          </p:nvSpPr>
          <p:spPr>
            <a:xfrm>
              <a:off x="1224720" y="3935160"/>
              <a:ext cx="1314000" cy="74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ECTOR EMPRESAR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4"/>
            <p:cNvSpPr/>
            <p:nvPr/>
          </p:nvSpPr>
          <p:spPr>
            <a:xfrm rot="18061800">
              <a:off x="4919040" y="3073320"/>
              <a:ext cx="457200" cy="326880"/>
            </a:xfrm>
            <a:custGeom>
              <a:avLst/>
              <a:gdLst>
                <a:gd name="textAreaLeft" fmla="*/ 113400 w 457200"/>
                <a:gd name="textAreaRight" fmla="*/ 402840 w 457200"/>
                <a:gd name="textAreaTop" fmla="*/ 178920 h 326880"/>
                <a:gd name="textAreaBottom" fmla="*/ 287640 h 32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9257"/>
                  </a:lnTo>
                  <a:lnTo>
                    <a:pt x="11845" y="9257"/>
                  </a:lnTo>
                  <a:lnTo>
                    <a:pt x="11845" y="11845"/>
                  </a:lnTo>
                  <a:lnTo>
                    <a:pt x="9257" y="11845"/>
                  </a:lnTo>
                  <a:lnTo>
                    <a:pt x="9257" y="9257"/>
                  </a:lnTo>
                  <a:lnTo>
                    <a:pt x="0" y="15429"/>
                  </a:lnTo>
                  <a:lnTo>
                    <a:pt x="9257" y="21600"/>
                  </a:lnTo>
                  <a:lnTo>
                    <a:pt x="9257" y="19012"/>
                  </a:lnTo>
                  <a:lnTo>
                    <a:pt x="19012" y="19012"/>
                  </a:lnTo>
                  <a:lnTo>
                    <a:pt x="19012" y="9257"/>
                  </a:lnTo>
                  <a:lnTo>
                    <a:pt x="21600" y="92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5"/>
            <p:cNvSpPr/>
            <p:nvPr/>
          </p:nvSpPr>
          <p:spPr>
            <a:xfrm rot="10800000">
              <a:off x="3726720" y="2665440"/>
              <a:ext cx="342720" cy="457200"/>
            </a:xfrm>
            <a:custGeom>
              <a:avLst/>
              <a:gdLst>
                <a:gd name="textAreaLeft" fmla="*/ 48600 w 342720"/>
                <a:gd name="textAreaRight" fmla="*/ 294120 w 342720"/>
                <a:gd name="textAreaTop" fmla="*/ 261000 h 457200"/>
                <a:gd name="textAreaBottom" fmla="*/ 3920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6171"/>
                  </a:lnTo>
                  <a:lnTo>
                    <a:pt x="12343" y="6171"/>
                  </a:lnTo>
                  <a:lnTo>
                    <a:pt x="12343" y="12343"/>
                  </a:lnTo>
                  <a:lnTo>
                    <a:pt x="6171" y="12343"/>
                  </a:lnTo>
                  <a:lnTo>
                    <a:pt x="6171" y="9257"/>
                  </a:lnTo>
                  <a:lnTo>
                    <a:pt x="0" y="15429"/>
                  </a:lnTo>
                  <a:lnTo>
                    <a:pt x="6171" y="21600"/>
                  </a:lnTo>
                  <a:lnTo>
                    <a:pt x="6171" y="18514"/>
                  </a:lnTo>
                  <a:lnTo>
                    <a:pt x="18514" y="18514"/>
                  </a:lnTo>
                  <a:lnTo>
                    <a:pt x="18514" y="6171"/>
                  </a:lnTo>
                  <a:lnTo>
                    <a:pt x="21600" y="6171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6"/>
            <p:cNvSpPr/>
            <p:nvPr/>
          </p:nvSpPr>
          <p:spPr>
            <a:xfrm rot="3861600">
              <a:off x="4209120" y="3641760"/>
              <a:ext cx="281880" cy="342720"/>
            </a:xfrm>
            <a:custGeom>
              <a:avLst/>
              <a:gdLst>
                <a:gd name="textAreaLeft" fmla="*/ 39960 w 281880"/>
                <a:gd name="textAreaRight" fmla="*/ 241920 w 281880"/>
                <a:gd name="textAreaTop" fmla="*/ 196200 h 342720"/>
                <a:gd name="textAreaBottom" fmla="*/ 29412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6171"/>
                  </a:lnTo>
                  <a:lnTo>
                    <a:pt x="12343" y="6171"/>
                  </a:lnTo>
                  <a:lnTo>
                    <a:pt x="12343" y="12343"/>
                  </a:lnTo>
                  <a:lnTo>
                    <a:pt x="6171" y="12343"/>
                  </a:lnTo>
                  <a:lnTo>
                    <a:pt x="6171" y="9257"/>
                  </a:lnTo>
                  <a:lnTo>
                    <a:pt x="0" y="15429"/>
                  </a:lnTo>
                  <a:lnTo>
                    <a:pt x="6171" y="21600"/>
                  </a:lnTo>
                  <a:lnTo>
                    <a:pt x="6171" y="18514"/>
                  </a:lnTo>
                  <a:lnTo>
                    <a:pt x="18514" y="18514"/>
                  </a:lnTo>
                  <a:lnTo>
                    <a:pt x="18514" y="6171"/>
                  </a:lnTo>
                  <a:lnTo>
                    <a:pt x="21600" y="61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7"/>
            <p:cNvSpPr/>
            <p:nvPr/>
          </p:nvSpPr>
          <p:spPr>
            <a:xfrm>
              <a:off x="4135320" y="4967640"/>
              <a:ext cx="1031760" cy="750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FUERZAS POLITIC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8"/>
            <p:cNvSpPr/>
            <p:nvPr/>
          </p:nvSpPr>
          <p:spPr>
            <a:xfrm>
              <a:off x="3384000" y="2338560"/>
              <a:ext cx="2158560" cy="197172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9"/>
            <p:cNvSpPr/>
            <p:nvPr/>
          </p:nvSpPr>
          <p:spPr>
            <a:xfrm>
              <a:off x="3726720" y="886680"/>
              <a:ext cx="1031760" cy="74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OCIEDAD CIV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20"/>
            <p:cNvSpPr/>
            <p:nvPr/>
          </p:nvSpPr>
          <p:spPr>
            <a:xfrm rot="1863000">
              <a:off x="2682360" y="2312280"/>
              <a:ext cx="799200" cy="288720"/>
            </a:xfrm>
            <a:prstGeom prst="leftRightArrow">
              <a:avLst>
                <a:gd name="adj1" fmla="val 50000"/>
                <a:gd name="adj2" fmla="val 55105"/>
              </a:avLst>
            </a:prstGeom>
            <a:solidFill>
              <a:srgbClr val="ffffff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21"/>
            <p:cNvSpPr/>
            <p:nvPr/>
          </p:nvSpPr>
          <p:spPr>
            <a:xfrm rot="20178000">
              <a:off x="2520360" y="3728880"/>
              <a:ext cx="844200" cy="302040"/>
            </a:xfrm>
            <a:prstGeom prst="leftRightArrow">
              <a:avLst>
                <a:gd name="adj1" fmla="val 50000"/>
                <a:gd name="adj2" fmla="val 55641"/>
              </a:avLst>
            </a:prstGeom>
            <a:solidFill>
              <a:srgbClr val="ffffff"/>
            </a:solidFill>
            <a:ln w="1260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22"/>
            <p:cNvSpPr/>
            <p:nvPr/>
          </p:nvSpPr>
          <p:spPr>
            <a:xfrm rot="16200000">
              <a:off x="4355280" y="4437360"/>
              <a:ext cx="495360" cy="378360"/>
            </a:xfrm>
            <a:prstGeom prst="leftRightArrow">
              <a:avLst>
                <a:gd name="adj1" fmla="val 50000"/>
                <a:gd name="adj2" fmla="val 26063"/>
              </a:avLst>
            </a:prstGeom>
            <a:solidFill>
              <a:srgbClr val="ffffff"/>
            </a:solidFill>
            <a:ln w="1260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942000">
              <a:off x="5327280" y="3607920"/>
              <a:ext cx="1369800" cy="397440"/>
            </a:xfrm>
            <a:prstGeom prst="leftRightArrow">
              <a:avLst>
                <a:gd name="adj1" fmla="val 50000"/>
                <a:gd name="adj2" fmla="val 68612"/>
              </a:avLst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24"/>
            <p:cNvSpPr/>
            <p:nvPr/>
          </p:nvSpPr>
          <p:spPr>
            <a:xfrm rot="16021200">
              <a:off x="4050000" y="1814760"/>
              <a:ext cx="563760" cy="296280"/>
            </a:xfrm>
            <a:prstGeom prst="leftRightArrow">
              <a:avLst>
                <a:gd name="adj1" fmla="val 50000"/>
                <a:gd name="adj2" fmla="val 37879"/>
              </a:avLst>
            </a:prstGeom>
            <a:solidFill>
              <a:srgbClr val="ffffff"/>
            </a:solidFill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20896800">
              <a:off x="5439600" y="2715480"/>
              <a:ext cx="914040" cy="280440"/>
            </a:xfrm>
            <a:prstGeom prst="leftRightArrow">
              <a:avLst>
                <a:gd name="adj1" fmla="val 50000"/>
                <a:gd name="adj2" fmla="val 64884"/>
              </a:avLst>
            </a:prstGeom>
            <a:solidFill>
              <a:srgbClr val="ffffff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26"/>
            <p:cNvSpPr/>
            <p:nvPr/>
          </p:nvSpPr>
          <p:spPr>
            <a:xfrm>
              <a:off x="3946680" y="3935160"/>
              <a:ext cx="75096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800000"/>
                  </a:solidFill>
                  <a:latin typeface="Arial"/>
                </a:rPr>
                <a:t>G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7"/>
            <p:cNvSpPr/>
            <p:nvPr/>
          </p:nvSpPr>
          <p:spPr>
            <a:xfrm rot="16728600">
              <a:off x="1693800" y="3088800"/>
              <a:ext cx="281880" cy="9396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28"/>
            <p:cNvSpPr/>
            <p:nvPr/>
          </p:nvSpPr>
          <p:spPr>
            <a:xfrm rot="20266800">
              <a:off x="3155400" y="152208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29"/>
            <p:cNvSpPr/>
            <p:nvPr/>
          </p:nvSpPr>
          <p:spPr>
            <a:xfrm rot="12423600">
              <a:off x="3101760" y="5154480"/>
              <a:ext cx="281880" cy="94320"/>
            </a:xfrm>
            <a:prstGeom prst="rightArrow">
              <a:avLst>
                <a:gd name="adj1" fmla="val 50000"/>
                <a:gd name="adj2" fmla="val 74714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30"/>
            <p:cNvSpPr/>
            <p:nvPr/>
          </p:nvSpPr>
          <p:spPr>
            <a:xfrm rot="5099400">
              <a:off x="7138080" y="299556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31"/>
            <p:cNvSpPr/>
            <p:nvPr/>
          </p:nvSpPr>
          <p:spPr>
            <a:xfrm rot="8536800">
              <a:off x="6199200" y="487404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32"/>
            <p:cNvSpPr/>
            <p:nvPr/>
          </p:nvSpPr>
          <p:spPr>
            <a:xfrm rot="813000">
              <a:off x="4983840" y="1293480"/>
              <a:ext cx="281160" cy="93600"/>
            </a:xfrm>
            <a:prstGeom prst="rightArrow">
              <a:avLst>
                <a:gd name="adj1" fmla="val 50000"/>
                <a:gd name="adj2" fmla="val 75096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33"/>
            <p:cNvSpPr/>
            <p:nvPr/>
          </p:nvSpPr>
          <p:spPr>
            <a:xfrm rot="12249600">
              <a:off x="3946320" y="421668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34"/>
            <p:cNvSpPr/>
            <p:nvPr/>
          </p:nvSpPr>
          <p:spPr>
            <a:xfrm rot="17244600">
              <a:off x="3290040" y="299520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35"/>
            <p:cNvSpPr/>
            <p:nvPr/>
          </p:nvSpPr>
          <p:spPr>
            <a:xfrm rot="4920000">
              <a:off x="5367240" y="327816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6"/>
            <p:cNvSpPr/>
            <p:nvPr/>
          </p:nvSpPr>
          <p:spPr>
            <a:xfrm rot="190200">
              <a:off x="4416480" y="2338560"/>
              <a:ext cx="281160" cy="94320"/>
            </a:xfrm>
            <a:prstGeom prst="rightArrow">
              <a:avLst>
                <a:gd name="adj1" fmla="val 50000"/>
                <a:gd name="adj2" fmla="val 74523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5555520" y="3465720"/>
              <a:ext cx="7999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00" spc="-1" strike="noStrike">
                  <a:solidFill>
                    <a:srgbClr val="800000"/>
                  </a:solidFill>
                  <a:latin typeface="Arial"/>
                </a:rPr>
                <a:t>      </a:t>
              </a:r>
              <a:r>
                <a:rPr b="1" lang="es-ES" sz="700" spc="-1" strike="noStrike">
                  <a:solidFill>
                    <a:srgbClr val="800000"/>
                  </a:solidFill>
                  <a:latin typeface="Arial"/>
                </a:rPr>
                <a:t>SEREMI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38"/>
            <p:cNvSpPr/>
            <p:nvPr/>
          </p:nvSpPr>
          <p:spPr>
            <a:xfrm>
              <a:off x="5555520" y="1179360"/>
              <a:ext cx="1142640" cy="93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MUNICIP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9"/>
            <p:cNvSpPr/>
            <p:nvPr/>
          </p:nvSpPr>
          <p:spPr>
            <a:xfrm rot="18916800">
              <a:off x="4984200" y="2155680"/>
              <a:ext cx="685440" cy="280440"/>
            </a:xfrm>
            <a:prstGeom prst="leftRightArrow">
              <a:avLst>
                <a:gd name="adj1" fmla="val 50000"/>
                <a:gd name="adj2" fmla="val 48656"/>
              </a:avLst>
            </a:prstGeom>
            <a:solidFill>
              <a:srgbClr val="ffffff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3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230B-A4E9-488D-BE33-F466114362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00000"/>
                </a:solidFill>
                <a:latin typeface="Arial"/>
              </a:rPr>
              <a:t>Presentación Profe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José Inostroz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Abogado, U.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Magister en Gestión y Políticas Públicas, DII. U-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Director Ejecutivo, Profesor e Investigador, Centro de Sistemas Públicos, DII, U.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Especialización: Análisis Organizacional, Gestión Pública, Reforma del Estado, Diseño de Sistemas Públicos, Descentr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+ información en: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inkedin.com/in/joseinostr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Natalie Gonzále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o Civil Industrial, U.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irectora del Diplomas, Cursos y Extensión del Centro de Sistema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a de Proyectos del Centro de Sistemas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B771-8B91-4C03-AC95-AE1326395F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8 Imagen" descr="CSP-color+bajada small.bmp"/>
          <p:cNvPicPr/>
          <p:nvPr/>
        </p:nvPicPr>
        <p:blipFill>
          <a:blip r:embed="rId3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r>
              <a:rPr b="0" lang="es-E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l cuestionario base, 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CB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necesariamente se debe adaptar a la organización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pecífica que se estud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ta es una de las actividades esenciales de la metodología. </a:t>
            </a:r>
            <a:r>
              <a:rPr b="1" lang="es-ES" sz="2800" spc="-1" strike="noStrike" u="sng">
                <a:solidFill>
                  <a:srgbClr val="c00000"/>
                </a:solidFill>
                <a:uFillTx/>
                <a:latin typeface="Arial"/>
              </a:rPr>
              <a:t>Buena parte del valor agregado del analista se realiza en esta fase.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99"/>
                </a:solidFill>
                <a:latin typeface="Arial"/>
              </a:rPr>
              <a:t>Hacerse las preguntas correctas es más importante que responder las preguntas equivocadas o inneces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9781-A91C-4907-B49D-2206BE7376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Temas a indagar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que están formuladas como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afirmaciones en sentido positiv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n cada uno de los ámbitos/secciones a eval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Valoración del Nivel de acuerd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on las afirmaciones. Se usa una escala (Likert) de 1 a 5, con el siguiente crite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1:   Completamente en desacuerdo (calificación nega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2:   Des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3:   Ni en desacuerdo ni en acuer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4:   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5:   Completamente de acuerdo (calificación posi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Comentarios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Registro de los comentarios del(los) Stakeholder entrevistados, fundamentalmente en aquellas afirmaciones mal evaluadas (1 o 2).</a:t>
            </a:r>
            <a:br>
              <a:rPr sz="2000"/>
            </a:b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(*) </a:t>
            </a: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kert, Rensi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1932). "A Technique for the Measurement of Attitudes".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rchives of Psycholog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F843-A577-470A-9AA9-86B9A58A19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ajuste puede consistir en todas o alguna de las siguientes accion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) eliminación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de afirmaciones del cuestionario ba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b) 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agregación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de afirmacion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) 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ajuste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en la red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C797-B0E9-4080-B777-6A0FD4D35D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3902040"/>
            <a:ext cx="2219400" cy="9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¿Cómo agregar ítems relevantes al Cuestionario Base (CB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endiendo de modo general cómo funciona 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“Modelo de agregación de Valor”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 organización y cuáles son los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procesos principales o sustan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 identificar las alianzas, los segmentos de usuarios y stakeholders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 relevantes.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7CFF-8B5E-4847-B816-48CEC1BD65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-181080" y="-674640"/>
            <a:ext cx="9577440" cy="753264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8EC3-859A-4BC4-B27B-7C56DE133D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8 Imagen" descr="CSP-color+bajada small.bmp"/>
          <p:cNvPicPr/>
          <p:nvPr/>
        </p:nvPicPr>
        <p:blipFill>
          <a:blip r:embed="rId2"/>
          <a:stretch/>
        </p:blipFill>
        <p:spPr>
          <a:xfrm>
            <a:off x="8028000" y="-49536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debe indagar al menos cada uno de los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procesos o (actividades claves) de negocio principal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j.  </a:t>
            </a: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“Los estándares de calidad/eficiencia de los servicios entregados por XXX en relación al servicio del certificado XXX/inversión/entrega de subsidios/ regulación/fiscalización…… son satisfactori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07B1-7D5A-436C-A001-5C0732B1F0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181080" y="449280"/>
            <a:ext cx="9118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EMAS INDAG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ocesos (“sustantivos o de negocio” y “de soporte/apoy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istemas 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ersonas (no es clima, cantidades y competencias adecuadas; procesos de contrat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ructura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rategia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odo de toma de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ntrol de Gestión (estratégico y oper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ormas y Políticas In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lima Organizacional, Cultura, Valores y  Práctica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s de Aprendizaje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nfra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oductos y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de Ali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arketing/Posicionamiento de la Imagen/Marca Corporativa 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Riesgos (políticos, financieros y  de prob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lación con los Usuarios/Clientes/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uncionamientos de las Unidades Desconcentradas o Descentralizadas territorialmente (Ej. Seremis, Direcciones Regional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de Adquisi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9850-E3EF-410B-A4A9-C747A446CD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3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24760"/>
          </a:xfrm>
          <a:prstGeom prst="rect">
            <a:avLst/>
          </a:prstGeom>
          <a:ln w="0">
            <a:noFill/>
          </a:ln>
        </p:spPr>
      </p:pic>
      <p:sp>
        <p:nvSpPr>
          <p:cNvPr id="397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0B63-27BE-45E7-B982-A56D2B74CB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62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general, la cantidad de preguntas o ítemes a indagar deben tener ciert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roporcionalidad en relación a la importancia de los tema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asociados a la organización y/o al presu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os ítems del cuestionario deben ser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redactados  de un modo muy claro y en pocas palabra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expresando un idea básica a la vez (se recomienda que no tenga más de 20 palabr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os ítems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NO deben ser ambiguo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lo cual significa que calificar con por ejemplo, una nota 5, equivale inequívocamente a decir que en ese ámbito las cosas funcionan muy bi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OMITIR del cuestionario temas no pertinente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e incluso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640-6344-4AAD-BD19-1B590D1D0D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demás… elaborar un conjunto de </a:t>
            </a: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preguntas abierta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 más frecuente es </a:t>
            </a: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solicitar una síntesis de las mayores fortalezas, debilidades, amenazas y oportunidad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ADB2-63B6-45A4-845D-AD76AC9E8E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00000"/>
                </a:solidFill>
                <a:latin typeface="Arial"/>
              </a:rPr>
              <a:t>Presentación Profe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exis Aceve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o Civil Industrial, U. de Chile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Magister en Gestión y Políticas Públicas, DII. U- de Chile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yudante de Proyecto Construyendo Mis Sueños, D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laborador Académico del Centro de Sistemas Públ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C99F-9147-467B-944C-963B906099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4: Entrevista a “stakeholder” principal, elaboración de agenda y entrevistas con  otros “stakeholder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1a entrevista debiera lograr del </a:t>
            </a: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 stakeholder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principal su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sión sintética sobre cuál es el “modelo de agregación de valor de la organización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segundo propósito  debe ser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“pilotear”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el cuestionario con su primer aju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s probable que se agreguen temas o el entrevistado ayude ajustar algunos temas, o a corregir por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sensibilidades instituciona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090C-10E2-451C-AFD6-6AD976B0FF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26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5: Entrevistas a </a:t>
            </a:r>
            <a:r>
              <a:rPr b="1" i="1" lang="es-ES" sz="32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(aplicación del Instru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s entrevistas deberían durar mínimo 30 mins y como máximo 2 h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nificar y asegurar la ejecución de las entrevistas con los “stakeholder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Arial"/>
              </a:rPr>
              <a:t>Evitar una atmósfera de “auditoría”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y generar un ambiente de cooperación y de aportes constru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segurar desde el inicio de la entrevista la </a:t>
            </a:r>
            <a:r>
              <a:rPr b="1" lang="es-ES" sz="3500" spc="-1" strike="noStrike">
                <a:solidFill>
                  <a:srgbClr val="cc3300"/>
                </a:solidFill>
                <a:latin typeface="Arial"/>
              </a:rPr>
              <a:t>confidencialidad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s opiniones de los entrevi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centrarse en lo medular y evitar caer en los detalles men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3BCA-BB9D-47FE-B28D-5D23A566FA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3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6: Identificación de los Problemas Sustantivos  y Secund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ara identificar los problemas más relevantes se requiere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procesar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los resultados de las planillas de las entrev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s resultados se pueden agrupar del siguiente mo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B1CD-FDAA-4E00-874B-03EDC7DB9F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MCj04042730000[1]"/>
          <p:cNvPicPr/>
          <p:nvPr/>
        </p:nvPicPr>
        <p:blipFill>
          <a:blip r:embed="rId2"/>
          <a:stretch/>
        </p:blipFill>
        <p:spPr>
          <a:xfrm>
            <a:off x="-30240" y="5486400"/>
            <a:ext cx="2219400" cy="92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345440" cy="2690640"/>
          </a:xfrm>
          <a:prstGeom prst="rect">
            <a:avLst/>
          </a:prstGeom>
          <a:ln w="0">
            <a:noFill/>
          </a:ln>
        </p:spPr>
      </p:pic>
      <p:sp>
        <p:nvSpPr>
          <p:cNvPr id="4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7678-A8D3-4533-A21A-F64DA2C4C3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539640" y="722160"/>
            <a:ext cx="8136000" cy="541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41C6-E90C-4096-9653-FF94658726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Paso 7: Indagación en Profundidad</a:t>
            </a: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n caso de detectarse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roblemas relevantes, cuyas causas no sean clara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o que estén poco precisados, se deben usar herramientas de indagación/investigación para profundiz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ntre estas herramientas se encuentran: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ntrevistas, encuestas, análisis de información numérica y cualitativa, grupos focale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etc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63DD-9C56-4300-B834-BCE4C3FBFA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8: Elaboración del Diagrama Sisté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Cuando se entiende algo en su esencia, deja de verse caótico o complejo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pero si se permanece en las expresiones superficiales, se tendrá que lidiar con el "enredo" durante mucho tiemp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xplicar el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enredo” en términos de sus raíces y patrones profundo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aclara la “película”, mientras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quedarse en una lista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rga de síntomas o problemas superficiales sólo incrementará la confu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CA9F-63E6-4C33-91D8-CCFCEE1305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8: Elaboración del Diagrama Sisté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ementos resultantes d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nálisis de las entrevistas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y otras fuentes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a s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takeholders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oblema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ortalezas y Debilidad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lementos resultantes d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entendimiento de la esencia del problema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(visualización de patrones e interdependencias o interaccion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ausas raíz de los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mpactos relevantes para la consecución del objetivo(s)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onectores unidireccionales o bidireccionales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orresponden a la graficación de interacciones entre causas raíz, problemas e impacto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39BA-72F0-4F22-B5C1-B4E89A98D3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5"/>
          <p:cNvGrpSpPr/>
          <p:nvPr/>
        </p:nvGrpSpPr>
        <p:grpSpPr>
          <a:xfrm>
            <a:off x="250920" y="476280"/>
            <a:ext cx="8642160" cy="5761080"/>
            <a:chOff x="250920" y="476280"/>
            <a:chExt cx="8642160" cy="5761080"/>
          </a:xfrm>
        </p:grpSpPr>
        <p:sp>
          <p:nvSpPr>
            <p:cNvPr id="441" name="AutoShape 46"/>
            <p:cNvSpPr/>
            <p:nvPr/>
          </p:nvSpPr>
          <p:spPr>
            <a:xfrm>
              <a:off x="250920" y="476280"/>
              <a:ext cx="8642160" cy="5761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7"/>
            <p:cNvSpPr/>
            <p:nvPr/>
          </p:nvSpPr>
          <p:spPr>
            <a:xfrm>
              <a:off x="1081800" y="1410120"/>
              <a:ext cx="1537200" cy="77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adecuado Sistema de Evalu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 Incentiv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48"/>
            <p:cNvSpPr/>
            <p:nvPr/>
          </p:nvSpPr>
          <p:spPr>
            <a:xfrm>
              <a:off x="1081800" y="4524480"/>
              <a:ext cx="1317600" cy="42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No Acredit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oc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9"/>
            <p:cNvSpPr/>
            <p:nvPr/>
          </p:nvSpPr>
          <p:spPr>
            <a:xfrm>
              <a:off x="2883240" y="4524480"/>
              <a:ext cx="1356120" cy="59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adecuada Cal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ocente P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50"/>
            <p:cNvSpPr/>
            <p:nvPr/>
          </p:nvSpPr>
          <p:spPr>
            <a:xfrm>
              <a:off x="1819440" y="2341800"/>
              <a:ext cx="1537200" cy="532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al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Rendición de Cuenta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Adecuado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1"/>
            <p:cNvSpPr/>
            <p:nvPr/>
          </p:nvSpPr>
          <p:spPr>
            <a:xfrm>
              <a:off x="915480" y="5459040"/>
              <a:ext cx="1830960" cy="61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suficien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estión Doc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2"/>
            <p:cNvSpPr/>
            <p:nvPr/>
          </p:nvSpPr>
          <p:spPr>
            <a:xfrm>
              <a:off x="1096560" y="3020400"/>
              <a:ext cx="1356120" cy="725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Excesiva centralización en el 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53"/>
            <p:cNvSpPr/>
            <p:nvPr/>
          </p:nvSpPr>
          <p:spPr>
            <a:xfrm>
              <a:off x="5346360" y="4799520"/>
              <a:ext cx="1356120" cy="50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aja Puntaje 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4"/>
            <p:cNvSpPr/>
            <p:nvPr/>
          </p:nvSpPr>
          <p:spPr>
            <a:xfrm>
              <a:off x="3899520" y="2854800"/>
              <a:ext cx="1170720" cy="7621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epreci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rca Educ. Sup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AutoShape 55"/>
            <p:cNvCxnSpPr/>
            <p:nvPr/>
          </p:nvCxnSpPr>
          <p:spPr>
            <a:xfrm>
              <a:off x="4313880" y="4572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Rectangle 56"/>
            <p:cNvSpPr/>
            <p:nvPr/>
          </p:nvSpPr>
          <p:spPr>
            <a:xfrm>
              <a:off x="7223760" y="2511720"/>
              <a:ext cx="1337040" cy="59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Capac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Emprendedo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57"/>
            <p:cNvSpPr/>
            <p:nvPr/>
          </p:nvSpPr>
          <p:spPr>
            <a:xfrm>
              <a:off x="5688360" y="2430360"/>
              <a:ext cx="1160280" cy="677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Fortaleza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Técnicas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Investigació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58"/>
            <p:cNvSpPr/>
            <p:nvPr/>
          </p:nvSpPr>
          <p:spPr>
            <a:xfrm>
              <a:off x="5735160" y="1254600"/>
              <a:ext cx="1107720" cy="736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80"/>
                  </a:solidFill>
                  <a:latin typeface="Arial"/>
                </a:rPr>
                <a:t>Desequilibri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80"/>
                  </a:solidFill>
                  <a:latin typeface="Arial"/>
                </a:rPr>
                <a:t>Financier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59"/>
            <p:cNvSpPr/>
            <p:nvPr/>
          </p:nvSpPr>
          <p:spPr>
            <a:xfrm>
              <a:off x="6996600" y="4887720"/>
              <a:ext cx="1084680" cy="59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aja Rentabil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0"/>
            <p:cNvSpPr/>
            <p:nvPr/>
          </p:nvSpPr>
          <p:spPr>
            <a:xfrm>
              <a:off x="5346360" y="3901680"/>
              <a:ext cx="1265760" cy="55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la  Gest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e Carre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1"/>
            <p:cNvSpPr/>
            <p:nvPr/>
          </p:nvSpPr>
          <p:spPr>
            <a:xfrm>
              <a:off x="6996600" y="3956400"/>
              <a:ext cx="994320" cy="59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Ausenci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rketing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7" name="AutoShape 62"/>
            <p:cNvCxnSpPr>
              <a:stCxn id="456" idx="2"/>
              <a:endCxn id="454" idx="0"/>
            </p:cNvCxnSpPr>
            <p:nvPr/>
          </p:nvCxnSpPr>
          <p:spPr>
            <a:xfrm>
              <a:off x="7493760" y="4549320"/>
              <a:ext cx="45720" cy="338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8" name="AutoShape 63"/>
            <p:cNvCxnSpPr>
              <a:stCxn id="455" idx="3"/>
              <a:endCxn id="456" idx="1"/>
            </p:cNvCxnSpPr>
            <p:nvPr/>
          </p:nvCxnSpPr>
          <p:spPr>
            <a:xfrm>
              <a:off x="6612120" y="4181040"/>
              <a:ext cx="384840" cy="72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9" name="AutoShape 64"/>
            <p:cNvCxnSpPr>
              <a:stCxn id="454" idx="3"/>
              <a:endCxn id="453" idx="3"/>
            </p:cNvCxnSpPr>
            <p:nvPr/>
          </p:nvCxnSpPr>
          <p:spPr>
            <a:xfrm flipH="1" flipV="1">
              <a:off x="6842520" y="1622520"/>
              <a:ext cx="1238760" cy="3562200"/>
            </a:xfrm>
            <a:prstGeom prst="bentConnector3">
              <a:avLst>
                <a:gd name="adj1" fmla="val -26744"/>
              </a:avLst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0" name="AutoShape 65"/>
            <p:cNvCxnSpPr>
              <a:endCxn id="449" idx="1"/>
            </p:cNvCxnSpPr>
            <p:nvPr/>
          </p:nvCxnSpPr>
          <p:spPr>
            <a:xfrm flipH="1" flipV="1" rot="5400000">
              <a:off x="2995920" y="3647880"/>
              <a:ext cx="1288440" cy="46404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1" name="AutoShape 66"/>
            <p:cNvCxnSpPr/>
            <p:nvPr/>
          </p:nvCxnSpPr>
          <p:spPr>
            <a:xfrm flipH="1" flipV="1" rot="5400000">
              <a:off x="4570920" y="1794240"/>
              <a:ext cx="1006560" cy="108540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2" name="AutoShape 67"/>
            <p:cNvCxnSpPr>
              <a:stCxn id="444" idx="1"/>
              <a:endCxn id="443" idx="3"/>
            </p:cNvCxnSpPr>
            <p:nvPr/>
          </p:nvCxnSpPr>
          <p:spPr>
            <a:xfrm flipH="1" flipV="1">
              <a:off x="2398680" y="4736160"/>
              <a:ext cx="484200" cy="85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3" name="AutoShape 68"/>
            <p:cNvCxnSpPr>
              <a:stCxn id="451" idx="0"/>
            </p:cNvCxnSpPr>
            <p:nvPr/>
          </p:nvCxnSpPr>
          <p:spPr>
            <a:xfrm flipV="1" rot="16200000">
              <a:off x="7148160" y="1767240"/>
              <a:ext cx="677880" cy="810360"/>
            </a:xfrm>
            <a:prstGeom prst="bentConnector2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64" name="AutoShape 69"/>
            <p:cNvCxnSpPr>
              <a:endCxn id="448" idx="2"/>
            </p:cNvCxnSpPr>
            <p:nvPr/>
          </p:nvCxnSpPr>
          <p:spPr>
            <a:xfrm flipV="1">
              <a:off x="2725200" y="5307480"/>
              <a:ext cx="3300480" cy="8460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5" name="AutoShape 70"/>
            <p:cNvCxnSpPr>
              <a:stCxn id="452" idx="2"/>
              <a:endCxn id="449" idx="3"/>
            </p:cNvCxnSpPr>
            <p:nvPr/>
          </p:nvCxnSpPr>
          <p:spPr>
            <a:xfrm rot="5400000">
              <a:off x="5619240" y="2586600"/>
              <a:ext cx="128520" cy="1171440"/>
            </a:xfrm>
            <a:prstGeom prst="bentConnector2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66" name="AutoShape 71"/>
            <p:cNvCxnSpPr>
              <a:stCxn id="446" idx="0"/>
              <a:endCxn id="443" idx="2"/>
            </p:cNvCxnSpPr>
            <p:nvPr/>
          </p:nvCxnSpPr>
          <p:spPr>
            <a:xfrm flipV="1" rot="16200000">
              <a:off x="1530000" y="5157720"/>
              <a:ext cx="511920" cy="91080"/>
            </a:xfrm>
            <a:prstGeom prst="bentConnector3">
              <a:avLst>
                <a:gd name="adj1" fmla="val 50035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7" name="AutoShape 72"/>
            <p:cNvCxnSpPr>
              <a:stCxn id="445" idx="2"/>
            </p:cNvCxnSpPr>
            <p:nvPr/>
          </p:nvCxnSpPr>
          <p:spPr>
            <a:xfrm flipH="1" rot="16200000">
              <a:off x="3421440" y="2041920"/>
              <a:ext cx="1137960" cy="280368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8" name="AutoShape 73"/>
            <p:cNvCxnSpPr>
              <a:stCxn id="455" idx="2"/>
              <a:endCxn id="454" idx="0"/>
            </p:cNvCxnSpPr>
            <p:nvPr/>
          </p:nvCxnSpPr>
          <p:spPr>
            <a:xfrm>
              <a:off x="5979600" y="4460760"/>
              <a:ext cx="1559880" cy="427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9" name="AutoShape 74"/>
            <p:cNvCxnSpPr>
              <a:stCxn id="442" idx="3"/>
            </p:cNvCxnSpPr>
            <p:nvPr/>
          </p:nvCxnSpPr>
          <p:spPr>
            <a:xfrm flipV="1">
              <a:off x="2618640" y="1553400"/>
              <a:ext cx="3020760" cy="246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0" name="AutoShape 75"/>
            <p:cNvCxnSpPr>
              <a:stCxn id="446" idx="3"/>
              <a:endCxn id="444" idx="2"/>
            </p:cNvCxnSpPr>
            <p:nvPr/>
          </p:nvCxnSpPr>
          <p:spPr>
            <a:xfrm flipV="1">
              <a:off x="2746440" y="5118840"/>
              <a:ext cx="815760" cy="64836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1" name="AutoShape 76"/>
            <p:cNvCxnSpPr>
              <a:stCxn id="442" idx="1"/>
              <a:endCxn id="446" idx="1"/>
            </p:cNvCxnSpPr>
            <p:nvPr/>
          </p:nvCxnSpPr>
          <p:spPr>
            <a:xfrm flipV="1" rot="10800000">
              <a:off x="914760" y="1799280"/>
              <a:ext cx="166680" cy="3968640"/>
            </a:xfrm>
            <a:prstGeom prst="bentConnector3">
              <a:avLst>
                <a:gd name="adj1" fmla="val 300000"/>
              </a:avLst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72" name="AutoShape 77"/>
            <p:cNvCxnSpPr>
              <a:stCxn id="447" idx="2"/>
            </p:cNvCxnSpPr>
            <p:nvPr/>
          </p:nvCxnSpPr>
          <p:spPr>
            <a:xfrm flipH="1" rot="16200000">
              <a:off x="3245760" y="2273760"/>
              <a:ext cx="600120" cy="354348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3" name="AutoShape 78"/>
            <p:cNvCxnSpPr>
              <a:stCxn id="455" idx="2"/>
            </p:cNvCxnSpPr>
            <p:nvPr/>
          </p:nvCxnSpPr>
          <p:spPr>
            <a:xfrm flipH="1">
              <a:off x="5946120" y="4460400"/>
              <a:ext cx="33480" cy="4035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74" name="Text Box 79"/>
            <p:cNvSpPr/>
            <p:nvPr/>
          </p:nvSpPr>
          <p:spPr>
            <a:xfrm>
              <a:off x="5978880" y="3278880"/>
              <a:ext cx="20826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Gestión Departamentos/Carre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80"/>
            <p:cNvSpPr/>
            <p:nvPr/>
          </p:nvSpPr>
          <p:spPr>
            <a:xfrm>
              <a:off x="1414080" y="787320"/>
              <a:ext cx="232668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Sistemas Generales de Gest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6" name="AutoShape 81"/>
            <p:cNvCxnSpPr>
              <a:stCxn id="451" idx="1"/>
              <a:endCxn id="452" idx="3"/>
            </p:cNvCxnSpPr>
            <p:nvPr/>
          </p:nvCxnSpPr>
          <p:spPr>
            <a:xfrm flipH="1" flipV="1">
              <a:off x="6848280" y="2768760"/>
              <a:ext cx="375480" cy="3924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77" name="AutoShape 82"/>
            <p:cNvCxnSpPr/>
            <p:nvPr/>
          </p:nvCxnSpPr>
          <p:spPr>
            <a:xfrm>
              <a:off x="2577600" y="1877400"/>
              <a:ext cx="2689920" cy="2245680"/>
            </a:xfrm>
            <a:prstGeom prst="bentConnector3">
              <a:avLst>
                <a:gd name="adj1" fmla="val 38027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8" name="AutoShape 83"/>
            <p:cNvCxnSpPr>
              <a:stCxn id="442" idx="2"/>
              <a:endCxn id="445" idx="1"/>
            </p:cNvCxnSpPr>
            <p:nvPr/>
          </p:nvCxnSpPr>
          <p:spPr>
            <a:xfrm rot="5400000">
              <a:off x="1624680" y="2382840"/>
              <a:ext cx="420120" cy="31680"/>
            </a:xfrm>
            <a:prstGeom prst="bentConnector4">
              <a:avLst>
                <a:gd name="adj1" fmla="val 18096"/>
                <a:gd name="adj2" fmla="val 1171264"/>
              </a:avLst>
            </a:prstGeom>
            <a:ln w="57240">
              <a:solidFill>
                <a:srgbClr val="c0c0c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79" name="AutoShape 84"/>
            <p:cNvCxnSpPr>
              <a:stCxn id="443" idx="3"/>
              <a:endCxn id="449" idx="2"/>
            </p:cNvCxnSpPr>
            <p:nvPr/>
          </p:nvCxnSpPr>
          <p:spPr>
            <a:xfrm flipV="1">
              <a:off x="2399040" y="3642480"/>
              <a:ext cx="2086200" cy="10940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80" name="AutoShape 85"/>
            <p:cNvCxnSpPr>
              <a:stCxn id="449" idx="2"/>
              <a:endCxn id="448" idx="1"/>
            </p:cNvCxnSpPr>
            <p:nvPr/>
          </p:nvCxnSpPr>
          <p:spPr>
            <a:xfrm flipH="1" rot="16200000">
              <a:off x="4210200" y="3917520"/>
              <a:ext cx="1411560" cy="86184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81" name="4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3F69-FEBE-4181-A770-B4483CE8A0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9: Validación de los resultados preliminares del AO con lo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s resultados preliminares del AO deberán ser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presentados a los “stakeholder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”, de manera gráfica y didác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punto clave del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éxito de la validación es llegar al máximo grado de consenso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políticamente posible entre los principales “stakeholders” y el analista respecto al 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A788-DEB4-4F9E-B08A-3B557D586A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Arial"/>
              </a:rPr>
              <a:t>1. Presentación General del Taller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Taller de AO sirve para 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“aplicar” 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/enfoques del Diploma y 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“conocer y practicar una herramien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método será intensivo en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 trabajo de grupo, revisión documental, preparación de instrumento, investigación de campo y sesiones tutoriales 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esenciales/</a:t>
            </a:r>
            <a:r>
              <a:rPr b="1" i="1" lang="es-CL" sz="2400" spc="-1" strike="noStrike">
                <a:solidFill>
                  <a:srgbClr val="333399"/>
                </a:solidFill>
                <a:latin typeface="Arial"/>
              </a:rPr>
              <a:t>on line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ECCF-B414-4458-A35D-629DF915CC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FACTORES CRÍTICOS PARA LA APLICACIÓN DEL 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a relevancia de los resultados del AO depende de l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selección adecuada que se haga de los ámbito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de indagación importantes para el programa u organización en cuest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3300"/>
                </a:solidFill>
                <a:latin typeface="Arial"/>
              </a:rPr>
              <a:t>Calidad Instr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alidad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 aplicación de entrevistas a los beneficiarios directos del programa u organización aporta con percepciones directas sobre los principales problemas y riesg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nálisis y síntesi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de conclusiones… en un ELEVADO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PROCESO REFLEXIVO Y GRUPAL, CON TIEMP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, permite concentrarse en lo medular y evitar caer en los detalles men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l Diagram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NO debe hacerse apurado a ultima hora, debe MADURARSE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16D3-F873-4103-B80A-D7E61A84F3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Arial"/>
              </a:rPr>
              <a:t>Contenido de la Presentación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8560" y="1196640"/>
            <a:ext cx="878508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Presentación Formal y datos básicos (2 lámin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Modelo de Negocio (2 lámi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3. Principales Hallazgos de Fuentes Secunda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4. Principales Hallazgos de Instrumento-encuesta (3 lámi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5  Identificación de Problemas Principales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6. “Diagrama Sistémico”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7. Conclusiones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8. Recomendaciones de Mejoría (Proyecto, líneas de acción, Rediseños de Procesos) (2 lám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333399"/>
                </a:solidFill>
                <a:latin typeface="Calibri"/>
              </a:rPr>
              <a:t>**Pueden escribir notas en el pp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ANEX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Listado de Entrevistad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y Fuentes Revisadas </a:t>
            </a:r>
            <a:r>
              <a:rPr b="1" lang="es-CL" sz="1600" spc="-1" strike="noStrike">
                <a:solidFill>
                  <a:srgbClr val="cc3300"/>
                </a:solidFill>
                <a:latin typeface="Calibri"/>
              </a:rPr>
              <a:t>(subir a U-Curs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ENTREGABL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PPT en U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Base de Datos en EXCEL con microdatos (anonimiza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416F-4AF3-4AB0-8E5C-6D5E772D56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Dimensiones a Evaluar.</a:t>
            </a:r>
            <a:br>
              <a:rPr sz="44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Este Módulo vale el </a:t>
            </a:r>
            <a:r>
              <a:rPr b="0" lang="es-CL" sz="2000" spc="-1" strike="noStrike">
                <a:solidFill>
                  <a:srgbClr val="cc3300"/>
                </a:solidFill>
                <a:latin typeface="Arial"/>
              </a:rPr>
              <a:t>dobl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los otros Módul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Proceso de Trabajo (20%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Presentación (80%)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laridad Expos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Uso adecuado de la 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Utilización Adecuada de Concep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de la mirada sisté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de las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3A2A-7833-45C7-8EDF-0F9978A0BD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4913280"/>
            <a:ext cx="2219400" cy="9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c00000"/>
                </a:solidFill>
                <a:latin typeface="Arial"/>
              </a:rPr>
              <a:t>Recomendaciones Prác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Uso intensivo de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U-CURSO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: colocar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TODA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las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pregunta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, mirar respuestas para otros grup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Consultar a ayudante y profesor vía U-Curso.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TODA DUDA ES V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Solicitar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reuniones con anticipación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(en SEC) Se estima asesoría presencial de 2 ½ por grupo en promedio (extra clas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Usar intensivamente herramientas TICs de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coordinación intergrupal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(SKYPE AUDIO/Video, TALK, googledocs, googlegroups,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QUE LOS GRUPOS COLABOREN ENTRE SÍ (no es competencia) compartan información ideas, experiencia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E646-D69F-4D09-9F72-564E48FA3D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c00000"/>
                </a:solidFill>
                <a:latin typeface="Arial"/>
              </a:rPr>
              <a:t>Formación de GRUP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1E20-EF96-4099-A43B-8E94D89206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UÍA DE METODOLÓGICA PARA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ÁNALISIS DE ORGANIZACIONES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” </a:t>
            </a:r>
            <a:br>
              <a:rPr sz="4000"/>
            </a:br>
            <a:br>
              <a:rPr sz="2000"/>
            </a:b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Documento para fines Docentes</a:t>
            </a:r>
            <a:br>
              <a:rPr sz="4000"/>
            </a:b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Versión Abril 2010 </a:t>
            </a:r>
            <a:r>
              <a:rPr b="0" i="1" lang="es-ES" sz="2400" spc="-1" strike="noStrike">
                <a:solidFill>
                  <a:srgbClr val="cc3300"/>
                </a:solidFill>
                <a:latin typeface="Arial"/>
              </a:rPr>
              <a:t>(puede ser mejorada en el transcurso del Taller)</a:t>
            </a:r>
            <a:br>
              <a:rPr sz="4000"/>
            </a:b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(bajar de U-CURSO)</a:t>
            </a:r>
            <a:br>
              <a:rPr sz="1600"/>
            </a:br>
            <a:br>
              <a:rPr sz="4000"/>
            </a:b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utores: </a:t>
            </a: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Mario Waissbluth y José Inostroza</a:t>
            </a:r>
            <a:br>
              <a:rPr sz="1600"/>
            </a:b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con la colaboración de Natalie Gonzál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7740720" y="551664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</a:t>
            </a:r>
            <a:r>
              <a:rPr b="1" lang="es-ES" sz="4000" spc="-1" strike="noStrike">
                <a:solidFill>
                  <a:srgbClr val="000080"/>
                </a:solidFill>
                <a:latin typeface="Calibri"/>
                <a:ea typeface="Times New Roman"/>
              </a:rPr>
              <a:t>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 análisis organizacional (AO) es un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herramienta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irve para hacer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diagnósticos sobre la gestión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s organizaciones y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os sustentos teóricos de esta metodología son, por una parte, la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visión de las organizaciones como sistemas complejos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 uso de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lógica difusa, y el concepto  MUY IMPORTANTE de VALOR PÚBLICO (MO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ólo recordaremos que la teoría de sistemas complejos señala que las organizaciones tienen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múltiples variables asociadas a su desempeño que interactúan entre sí,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 de maneras típicamente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no lineales, con subunidades autónomas,  generando “propiedades emergente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E66E-3327-441D-85D6-048FD2DFDF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93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Guía de AO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formaliza los pasos de un proceso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“diagnóstico sistémico” (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lado derecho del cerebro!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) ,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especialmente pensando en organizacione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sultado debería ser  una compren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l modo de funcionamiento general de una organización públ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 sus principales problemas, fortalezas,  debilidad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y un análisis las relaciones entre los distintos factores que influyen en gest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67A4-62B8-47B0-8288-C622309B75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La guía se focaliza más en los aspectos de la gestión/implementación,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“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cómo hacer”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in embargo, el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unto de partida del  diagnosticador debe ser una 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comprensión plena del “qué hacer”(política pública) y su context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C553-5B55-4CFA-AE2D-868C592F2A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2:33:51Z</dcterms:created>
  <dc:creator>Jinostroza</dc:creator>
  <dc:description/>
  <dc:language>en-US</dc:language>
  <cp:lastModifiedBy>Esteli</cp:lastModifiedBy>
  <dcterms:modified xsi:type="dcterms:W3CDTF">2010-11-19T13:16:17Z</dcterms:modified>
  <cp:revision>26</cp:revision>
  <dc:subject/>
  <dc:title>Método de Diagnóstico Institucional Curso: Tópicos de Gestión Pública MGPP</dc:title>
</cp:coreProperties>
</file>