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25090F-8E79-47FF-9F74-588F70E832E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310957-3E33-41A0-9D54-0C018593D2B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648BB2-EC7B-4B9B-B59B-9735EF5423F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37230A-E625-4F9A-9CE9-FF82FB51F54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8292CE-DBF5-4EB4-B98D-1F8E2CD2AAF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251F71-50C9-4F96-93B9-D734CC1FE0F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DD6A4E-2A29-4B3A-BAB9-F2991A359A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17334C-E6F0-4846-BE3E-39AB54B4BE9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3916EB-4CD2-42B0-AFD2-70C1A992B3F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4681ED-42A5-4A54-BECE-219933B912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350928-823A-46AB-B2A0-F34F418224A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CE473A-A70B-4386-99BB-DE7DF21C25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796958-AA43-45B3-AB25-6C92BC8686D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CFF21-655F-4705-80EC-677E1A180B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2E9463-F93B-4236-BB04-417C732037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0CD72D-CDD5-4DCB-B229-4A8BE957018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196585-DD25-40F2-AAC4-3FEA3C5020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77EEA9-F3E9-468A-9C85-F6379F332F0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2E881D-FE7A-463E-B2F7-6DAA359743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D76132-1FFA-46AD-BE55-62798409DBF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CB5461-2F3D-4583-90B5-14D9C9157F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3990C4-7625-4F13-81BD-E34BE3B74FB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E6C1E7-F08C-49D7-9D07-D85C4E54EBA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BE152D-A150-4BB1-825D-FCAAE5DD353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E5EC2B-B240-4141-A34B-3CEB7D2D30F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C32E06-5653-4315-9519-9FEC15D6410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A0C830-8C2D-4781-AA51-46EF2288F4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28777C-3104-4FC6-8A00-AFDC58BF5F8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C8F69E-E8FC-42E6-864E-95EC5FC676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D5BADB-7514-4167-9768-72426E6FE0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3D56D3-F74A-4D84-B12B-46EC3AC5F72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198F2B-2DBE-44A5-A86D-A1DC2C5FC73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A4F7A8-824D-49BD-823C-5558365CA7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461244-FC50-4CC8-8383-87F5895EFE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052E6E-C291-443E-A9D6-E901DC11964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8C6521-8B1F-4496-A2CF-DE4B6A28A68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50D6D9-DCE2-47CC-96AD-7A3F633D83D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8FCBA1-6DC8-4FB7-9957-E579D7D2C9E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9ED909-5D2E-4566-9E7A-CAD553A1264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1E2083-1CB3-409C-90D8-2163B6D6D4F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AD1D6B-787A-46E5-807F-B9C5B5927E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2073C8-BF7C-4AB0-8D9F-9EE97EACECA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C8CE06-01C4-4439-BDB3-88B532D9801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DF0810-EF07-4680-A1EB-A397DF2415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A0A8BD-4114-4264-91CD-CACD267F45D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51525C-3DC5-4AAC-90CB-00B52D0450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E75BA9-FE6B-48A0-8737-4833982CF3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50A8DD-1097-4EBB-A9C2-55CAC6634F6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344E30-5282-4BF9-BEB8-04F8B227DDC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047FC3-97F7-43DF-8C71-38C29C412A2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1E2D1-817D-49D7-A8E9-C7087B359FC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3E21B9-6D5E-41C5-AA56-CFA225210B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60BD20-2344-4119-9236-24EE17E3B0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F3F716-9F48-49E4-B69A-BE4FB9B9A51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9F96B8-FEC9-4A66-AE04-B6B6F97C59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BC4-0C2D-4E9A-A179-CA5350F6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A91-153E-47C4-BE8D-3172C97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57B-E6BE-4EBC-BE37-DE49521C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E8F-9EB3-4A75-AA21-175C36C6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1D2-F6ED-4340-9586-F20F25A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E46-4CFD-45AF-BE21-89C8FDC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29C-C3A6-4E6A-8632-A3FEB4C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6CD-D8DE-4C4C-B3A1-1593F22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66C-31E0-4F95-80B5-48E43DD0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52F-0FAE-4103-8C13-56151BAC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87E-99EC-49FF-84A0-2D4B72A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EC6-A216-4A2D-B860-BB4C62C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36B-BE25-4458-B867-D103168F5E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kedin.com/in/joseinostroza" TargetMode="External"/><Relationship Id="rId2" Type="http://schemas.openxmlformats.org/officeDocument/2006/relationships/hyperlink" Target="http://www.linkedin.com/in/joseinostroza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sis_Like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6920" y="2205000"/>
            <a:ext cx="595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PLOMA EN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RENCIA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ÚBLICA Primavera 2010 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Taller de Análisis Organizacional </a:t>
            </a:r>
            <a:br>
              <a:rPr sz="3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www.sistemaspublicos.cl</a:t>
            </a:r>
            <a:br>
              <a:rPr sz="2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:</a:t>
            </a: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José Inostroza Lara</a:t>
            </a:r>
            <a:br>
              <a:rPr sz="16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a Auxiliar: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atalie González; Alexis Acevedo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Cj04042730000[1]"/>
          <p:cNvPicPr/>
          <p:nvPr/>
        </p:nvPicPr>
        <p:blipFill>
          <a:blip r:embed="rId1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  <p:pic>
        <p:nvPicPr>
          <p:cNvPr id="50" name="8 Imagen" descr="CSP-color+bajada small.bmp"/>
          <p:cNvPicPr/>
          <p:nvPr/>
        </p:nvPicPr>
        <p:blipFill>
          <a:blip r:embed="rId2"/>
          <a:stretch/>
        </p:blipFill>
        <p:spPr>
          <a:xfrm>
            <a:off x="3708360" y="549360"/>
            <a:ext cx="304812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22320" y="-27000"/>
            <a:ext cx="2290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puede ser útil para (e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CO TIEMPO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erente público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llega a hacerse cargo de un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sultor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asesora en un proceso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odernización o transformac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general o parci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a que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ormuladores de las políticas y programas público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tengan mayor conocimiento sobre las características institucionales de las organizaciones involucradas en la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 útil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riesgo de una organ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entendido el riesgo en un contexto amplio: político, estratégico, operacional, financiero, y de probidad.</a:t>
            </a:r>
            <a:r>
              <a:rPr b="0" lang="es-ES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1AC-EDB0-460A-AFD5-64D96F867F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advertir qu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la guía NO reempla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sentido común ni la falta de un 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REFLEXION PROFUNDA y DELIBERATIVA en el equ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expertizaje profes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 la perspicacia del analista para leer entre líneas o “mirar debajo del agua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781-2B13-4B0A-8AB1-CDF4E4BE57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PROCESO COMPLETO 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DEL AO .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042730000[1]"/>
          <p:cNvPicPr/>
          <p:nvPr/>
        </p:nvPicPr>
        <p:blipFill>
          <a:blip r:embed="rId2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7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5AE3-F411-41BF-9A26-8774420AAD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0F1-C62C-40C3-AC7D-E02A796B95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20D-1134-44BD-A3C9-FDA8B54013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CF7D-6EC8-414D-A413-AAC07080F6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CDE-D935-41FF-A508-11F526EA0E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47C-C3CD-4E0B-BEA5-A6C93AFC25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A1DE-0301-41D7-8A30-AD168150EA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00000"/>
                </a:solidFill>
                <a:latin typeface="Arial"/>
              </a:rPr>
              <a:t>OBJETIVOS DE LA 1ª S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esen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xponer Metodología de AO (aprox. 1½ H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Formar Grupos (Organización Bá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Entregables/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criterios de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B20F-7685-4268-AB6E-8C47A0F8BD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C19-9FEA-47BB-B5AE-BBA3116713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366-A3D8-493D-B34C-C1E23837B7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839-CEE8-4A5C-9197-0217B245A5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A1B8-3ABE-442A-A376-1C0D649710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3540240" y="5102280"/>
            <a:ext cx="2000160" cy="77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final del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2259000" y="5451480"/>
            <a:ext cx="12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C8B-07F7-4717-91F3-8A8A766D3E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1: Revisión de Información Secundaria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que describan la Política Pública (páginas Webs, leyes, discursos, documentos técnico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y planes estratégicos (en Chile, los BGI son una buena fu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emoria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control de gestión (Ver documentos internos, Documentos de DIPR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valuaciones externas (Ver DIPRES y su gama de evaluaciones de programas y de impa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tadísticas Descriptivas (miden los tamaños, de insumos, productos, infraestructu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dicadores de Desempeño (miden cómo lo hace la organiz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Normas (Leyes, Decretos, Resolucio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iteratura académica o especializada sobre alguna materia relacionada a la organización (Universidades, Organismos internacionales, ONGs y 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Think Tanks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onsultorías previas relev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auditoría interna (“Matrices de Riesgo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ación de Pr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-92160" y="5589720"/>
            <a:ext cx="91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67A-458F-4FC0-92C9-59DDFC6D84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n general,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reguntas se debieran realizar en función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grupos de 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stakeholder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o, sin perjuicio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eguntas mínimas comunes para tod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los 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Para la detección de los </a:t>
            </a: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stakeholders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recomienda pensar en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tres nivele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político-estratégico,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técnic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(personal de la organización, contratistas, consultores, entidades que tengan una opinión técnica autónoma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y un tercer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relacionado con los beneficiari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361-63F7-432F-880F-13CA88DD93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Directivo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jecutivos que toman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ivel Técnico Operativo con altos conocimientos de los procesos sustantivos y cifra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trapartes de instituciones relacio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res clave del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sociación Gre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E79-BE8F-40BB-891C-EA61EA72F1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121280"/>
            <a:ext cx="2219400" cy="92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Ej. Mapa de 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3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126-B3B9-42B3-97CF-5AAFA7579A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755640" y="836640"/>
            <a:ext cx="7227720" cy="4881600"/>
            <a:chOff x="755640" y="836640"/>
            <a:chExt cx="7227720" cy="4881600"/>
          </a:xfrm>
        </p:grpSpPr>
        <p:sp>
          <p:nvSpPr>
            <p:cNvPr id="331" name="AutoShape 5"/>
            <p:cNvSpPr/>
            <p:nvPr/>
          </p:nvSpPr>
          <p:spPr>
            <a:xfrm>
              <a:off x="755640" y="836640"/>
              <a:ext cx="7227720" cy="48816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>
              <a:off x="1787760" y="1305720"/>
              <a:ext cx="5538240" cy="413100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>
              <a:off x="3547800" y="3183840"/>
              <a:ext cx="750240" cy="7513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Serv.     Adm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>
              <a:off x="4510440" y="3351240"/>
              <a:ext cx="70200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4065840" y="2505960"/>
              <a:ext cx="1032120" cy="8449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Ejecutivo del GORE </a:t>
              </a: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(Intendente)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1506600" y="1681560"/>
              <a:ext cx="1220040" cy="75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DIPRE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UBD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6669000" y="3652920"/>
              <a:ext cx="1286280" cy="72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INISTERIOS SECTORI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6387120" y="2160000"/>
              <a:ext cx="1225080" cy="73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ORGAN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EJECUTO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3"/>
            <p:cNvSpPr/>
            <p:nvPr/>
          </p:nvSpPr>
          <p:spPr>
            <a:xfrm>
              <a:off x="1224720" y="3935160"/>
              <a:ext cx="131400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ECTOR EMPRESAR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4"/>
            <p:cNvSpPr/>
            <p:nvPr/>
          </p:nvSpPr>
          <p:spPr>
            <a:xfrm rot="18061800">
              <a:off x="4919040" y="3073320"/>
              <a:ext cx="457200" cy="326880"/>
            </a:xfrm>
            <a:custGeom>
              <a:avLst/>
              <a:gdLst>
                <a:gd name="textAreaLeft" fmla="*/ 113400 w 457200"/>
                <a:gd name="textAreaRight" fmla="*/ 402840 w 457200"/>
                <a:gd name="textAreaTop" fmla="*/ 178920 h 326880"/>
                <a:gd name="textAreaBottom" fmla="*/ 2876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1845" y="9257"/>
                  </a:lnTo>
                  <a:lnTo>
                    <a:pt x="11845" y="11845"/>
                  </a:lnTo>
                  <a:lnTo>
                    <a:pt x="9257" y="11845"/>
                  </a:lnTo>
                  <a:lnTo>
                    <a:pt x="9257" y="9257"/>
                  </a:lnTo>
                  <a:lnTo>
                    <a:pt x="0" y="15429"/>
                  </a:lnTo>
                  <a:lnTo>
                    <a:pt x="9257" y="21600"/>
                  </a:lnTo>
                  <a:lnTo>
                    <a:pt x="9257" y="19012"/>
                  </a:lnTo>
                  <a:lnTo>
                    <a:pt x="19012" y="19012"/>
                  </a:lnTo>
                  <a:lnTo>
                    <a:pt x="19012" y="9257"/>
                  </a:lnTo>
                  <a:lnTo>
                    <a:pt x="21600" y="9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5"/>
            <p:cNvSpPr/>
            <p:nvPr/>
          </p:nvSpPr>
          <p:spPr>
            <a:xfrm rot="10800000">
              <a:off x="3726720" y="2665440"/>
              <a:ext cx="342720" cy="457200"/>
            </a:xfrm>
            <a:custGeom>
              <a:avLst/>
              <a:gdLst>
                <a:gd name="textAreaLeft" fmla="*/ 48600 w 342720"/>
                <a:gd name="textAreaRight" fmla="*/ 294120 w 342720"/>
                <a:gd name="textAreaTop" fmla="*/ 261000 h 457200"/>
                <a:gd name="textAreaBottom" fmla="*/ 392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6"/>
            <p:cNvSpPr/>
            <p:nvPr/>
          </p:nvSpPr>
          <p:spPr>
            <a:xfrm rot="3861600">
              <a:off x="4209120" y="3641760"/>
              <a:ext cx="281880" cy="342720"/>
            </a:xfrm>
            <a:custGeom>
              <a:avLst/>
              <a:gdLst>
                <a:gd name="textAreaLeft" fmla="*/ 39960 w 281880"/>
                <a:gd name="textAreaRight" fmla="*/ 241920 w 281880"/>
                <a:gd name="textAreaTop" fmla="*/ 196200 h 342720"/>
                <a:gd name="textAreaBottom" fmla="*/ 29412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4135320" y="4967640"/>
              <a:ext cx="1031760" cy="75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FUERZAS POLITIC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3384000" y="2338560"/>
              <a:ext cx="2158560" cy="19717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726720" y="886680"/>
              <a:ext cx="103176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OCIEDAD CIV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0"/>
            <p:cNvSpPr/>
            <p:nvPr/>
          </p:nvSpPr>
          <p:spPr>
            <a:xfrm rot="1863000">
              <a:off x="2682360" y="2312280"/>
              <a:ext cx="799200" cy="288720"/>
            </a:xfrm>
            <a:prstGeom prst="leftRightArrow">
              <a:avLst>
                <a:gd name="adj1" fmla="val 50000"/>
                <a:gd name="adj2" fmla="val 55105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rot="20178000">
              <a:off x="2520360" y="3728880"/>
              <a:ext cx="844200" cy="302040"/>
            </a:xfrm>
            <a:prstGeom prst="leftRightArrow">
              <a:avLst>
                <a:gd name="adj1" fmla="val 50000"/>
                <a:gd name="adj2" fmla="val 55641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2"/>
            <p:cNvSpPr/>
            <p:nvPr/>
          </p:nvSpPr>
          <p:spPr>
            <a:xfrm rot="16200000">
              <a:off x="4355280" y="4437360"/>
              <a:ext cx="495360" cy="378360"/>
            </a:xfrm>
            <a:prstGeom prst="leftRightArrow">
              <a:avLst>
                <a:gd name="adj1" fmla="val 50000"/>
                <a:gd name="adj2" fmla="val 26063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942000">
              <a:off x="5327280" y="3607920"/>
              <a:ext cx="1369800" cy="397440"/>
            </a:xfrm>
            <a:prstGeom prst="leftRightArrow">
              <a:avLst>
                <a:gd name="adj1" fmla="val 50000"/>
                <a:gd name="adj2" fmla="val 68612"/>
              </a:avLst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4"/>
            <p:cNvSpPr/>
            <p:nvPr/>
          </p:nvSpPr>
          <p:spPr>
            <a:xfrm rot="16021200">
              <a:off x="4050000" y="1814760"/>
              <a:ext cx="563760" cy="296280"/>
            </a:xfrm>
            <a:prstGeom prst="leftRightArrow">
              <a:avLst>
                <a:gd name="adj1" fmla="val 50000"/>
                <a:gd name="adj2" fmla="val 37879"/>
              </a:avLst>
            </a:prstGeom>
            <a:solidFill>
              <a:srgbClr val="ffffff"/>
            </a:solidFill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20896800">
              <a:off x="5439600" y="2715480"/>
              <a:ext cx="914040" cy="280440"/>
            </a:xfrm>
            <a:prstGeom prst="leftRightArrow">
              <a:avLst>
                <a:gd name="adj1" fmla="val 50000"/>
                <a:gd name="adj2" fmla="val 64884"/>
              </a:avLst>
            </a:pr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6"/>
            <p:cNvSpPr/>
            <p:nvPr/>
          </p:nvSpPr>
          <p:spPr>
            <a:xfrm>
              <a:off x="3946680" y="3935160"/>
              <a:ext cx="7509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rot="16728600">
              <a:off x="1693800" y="3088800"/>
              <a:ext cx="281880" cy="939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8"/>
            <p:cNvSpPr/>
            <p:nvPr/>
          </p:nvSpPr>
          <p:spPr>
            <a:xfrm rot="20266800">
              <a:off x="3155400" y="152208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9"/>
            <p:cNvSpPr/>
            <p:nvPr/>
          </p:nvSpPr>
          <p:spPr>
            <a:xfrm rot="12423600">
              <a:off x="3101760" y="5154480"/>
              <a:ext cx="281880" cy="94320"/>
            </a:xfrm>
            <a:prstGeom prst="rightArrow">
              <a:avLst>
                <a:gd name="adj1" fmla="val 50000"/>
                <a:gd name="adj2" fmla="val 74714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rot="5099400">
              <a:off x="7138080" y="299556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1"/>
            <p:cNvSpPr/>
            <p:nvPr/>
          </p:nvSpPr>
          <p:spPr>
            <a:xfrm rot="8536800">
              <a:off x="6199200" y="487404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2"/>
            <p:cNvSpPr/>
            <p:nvPr/>
          </p:nvSpPr>
          <p:spPr>
            <a:xfrm rot="813000">
              <a:off x="4983840" y="1293480"/>
              <a:ext cx="281160" cy="93600"/>
            </a:xfrm>
            <a:prstGeom prst="rightArrow">
              <a:avLst>
                <a:gd name="adj1" fmla="val 50000"/>
                <a:gd name="adj2" fmla="val 75096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rot="12249600">
              <a:off x="3946320" y="421668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4"/>
            <p:cNvSpPr/>
            <p:nvPr/>
          </p:nvSpPr>
          <p:spPr>
            <a:xfrm rot="17244600">
              <a:off x="3290040" y="299520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5"/>
            <p:cNvSpPr/>
            <p:nvPr/>
          </p:nvSpPr>
          <p:spPr>
            <a:xfrm rot="4920000">
              <a:off x="5367240" y="327816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6"/>
            <p:cNvSpPr/>
            <p:nvPr/>
          </p:nvSpPr>
          <p:spPr>
            <a:xfrm rot="190200">
              <a:off x="4416480" y="2338560"/>
              <a:ext cx="281160" cy="94320"/>
            </a:xfrm>
            <a:prstGeom prst="rightArrow">
              <a:avLst>
                <a:gd name="adj1" fmla="val 50000"/>
                <a:gd name="adj2" fmla="val 74523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5555520" y="3465720"/>
              <a:ext cx="7999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      </a:t>
              </a: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SEREM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8"/>
            <p:cNvSpPr/>
            <p:nvPr/>
          </p:nvSpPr>
          <p:spPr>
            <a:xfrm>
              <a:off x="5555520" y="1179360"/>
              <a:ext cx="1142640" cy="93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UNICIP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rot="18916800">
              <a:off x="4984200" y="2155680"/>
              <a:ext cx="685440" cy="280440"/>
            </a:xfrm>
            <a:prstGeom prst="leftRightArrow">
              <a:avLst>
                <a:gd name="adj1" fmla="val 50000"/>
                <a:gd name="adj2" fmla="val 48656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3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3A9-C327-400A-B85D-7A512CADAA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José Inostroz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Abogado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Director Ejecutivo, Profesor e Investigador, Centro de Sistemas Públicos, DII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Especialización: Análisis Organizacional, Gestión Pública, Reforma del Estado, Diseño de Sistemas Públicos, Descentr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+ información en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inkedin.com/in/joseinostr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talie Gonzále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 del Diplomas, Cursos y Extensión del Centro de Siste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a de Proyectos del Centro de Sistemas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4A49-C50A-44C5-84EE-5053A6B510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8 Imagen" descr="CSP-color+bajada small.bmp"/>
          <p:cNvPicPr/>
          <p:nvPr/>
        </p:nvPicPr>
        <p:blipFill>
          <a:blip r:embed="rId3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r>
              <a:rPr b="0" lang="es-E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cuestionario base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CB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necesariamente se debe adaptar a la organiz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pecífica que se estu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a es una de las actividades esenciales de la metodología. 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Buena parte del valor agregado del analista se realiza en esta fase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Hacerse las preguntas correctas es más importante que responder las preguntas equivocadas o inneces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8D1-E07B-49BF-963D-C728C04EDB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Temas a indagar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que están formuladas como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firmaciones en sentido positiv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n cada uno de los ámbitos/secciones a 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Valoración del Nivel de acuerd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 las afirmaciones. Se usa una escala (Likert) de 1 a 5, con el siguiente crite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1:   Completamente en desacuerdo (calificación neg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2:   Des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3:   Ni en desacuerdo ni en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4:  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5:   Completamente de acuerdo (calificación pos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mentarios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Registro de los comentarios del(los) Stakeholder entrevistados, fundamentalmente en aquellas afirmaciones mal evaluadas (1 o 2).</a:t>
            </a:r>
            <a:br>
              <a:rPr sz="2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(*)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kert, Rensi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1932). "A Technique for the Measurement of Attitudes"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rchives of Psycholog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AE2-ED6C-430C-9FEE-A7AFB201FF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ajuste puede consistir en todas o alguna de las siguientes accion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) elimin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 del cuestionario b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greg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juste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en la red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85E-D200-4059-8C35-FC53F6247C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3902040"/>
            <a:ext cx="221940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¿Cómo agregar ítems relevantes al Cuestionario Base (C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endiendo de modo general cómo funciona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“Modelo de agregación de Valor”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 organización y cuáles son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rocesos principales o susta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identificar las alianzas, los segmentos de usuarios y stakeholders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 relevantes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8BD1-D984-4785-8092-A93FDC0C1E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9577440" cy="753264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456-A8B7-4C8E-9F91-A6614B2790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8028000" y="-49536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indagar al menos cada uno de los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ocesos o (actividades claves) de negocio princip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. 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“Los estándares de calidad/eficiencia de los servicios entregados por XXX en relación al servicio del certificado XXX/inversión/entrega de subsidios/ regulación/fiscalización…… son satisfactori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91C-8AEE-4766-A1CB-5C98215B21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181080" y="449280"/>
            <a:ext cx="911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EMAS INDA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cesos (“sustantivos o de negocio” y “de soporte/apoy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stemas 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ersonas (no es clima, cantidades y competencias adecuadas; procesos de contra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ategi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o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ol de Gestión (estratégico y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rmas y Políticas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lima Organizacional, Cultura, Valores y  Práctica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s de Aprendizaj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ductos y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arketing/Posicionamiento de la Imagen/Marca Corporativa 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Riesgos (políticos, financieros y  de prob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lación con los Usuarios/Clientes/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uncionamientos de las Unidades Desconcentradas o Descentralizadas territorialmente (Ej. Seremis, Direcciones Regional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dquis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F25-1ACB-48EA-9E2F-FA7CAA9978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4760"/>
          </a:xfrm>
          <a:prstGeom prst="rect">
            <a:avLst/>
          </a:prstGeom>
          <a:ln w="0">
            <a:noFill/>
          </a:ln>
        </p:spPr>
      </p:pic>
      <p:sp>
        <p:nvSpPr>
          <p:cNvPr id="39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389-B722-4246-BC23-98976BDA7D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general, la cantidad de preguntas o ítemes a indagar deben tener ciert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oporcionalidad en relación a la importancia de los tem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asociados a la organización y/o a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del cuestionario deben ser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edactados  de un modo muy claro y en pocas palabr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xpresando un idea básica a la vez (se recomienda que no tenga más de 20 palab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NO deben ser ambigu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lo cual significa que calificar con por ejemplo, una nota 5, equivale inequívocamente a decir que en ese ámbito las cosas funcionan muy bi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OMITIR del cuestionario temas no pertinente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 incluso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15E-4FA7-4DAD-8D35-AC882DFD80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demás… elaborar un conjunto de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eguntas abierta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 más frecuente es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solicitar una síntesis de las mayores fortalezas, debilidades, amenazas y oportunida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4B2-07E2-45CA-ACF8-B0CCD762F5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exis Aceve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yudante de Proyecto Construyendo Mis Sueños, 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laborador Académico del Centro de Sistema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4E8-37CD-41C3-B090-EBA35F6BAD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4: Entrevista a “stakeholder” principal, elaboración de agenda y entrevistas con  otros “stakehold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1a entrevista debiera lograr del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 stakeholder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principal su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sión sintética sobre cuál es el “modelo de agregación de valor de la organizació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segundo propósito  debe ser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pilotear”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l cuestionario con su primer aju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 probable que se agreguen temas o el entrevistado ayude ajustar algunos temas, o a corregir por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sensibilidades institucion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885-AC73-47EA-B3C6-6183283954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26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5: Entrevistas a </a:t>
            </a:r>
            <a:r>
              <a:rPr b="1" i="1" lang="es-ES" sz="32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(aplicación del Instru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entrevistas deberían durar mínimo 30 mins y como máximo 2 h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nificar y asegurar la ejecución de las entrevistas con los “stakeholde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Arial"/>
              </a:rPr>
              <a:t>Evitar una atmósfera de “auditoría”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enerar un ambiente de cooperación y de aportes constru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segurar desde el inicio de la entrevista la </a:t>
            </a:r>
            <a:r>
              <a:rPr b="1" lang="es-ES" sz="3500" spc="-1" strike="noStrike">
                <a:solidFill>
                  <a:srgbClr val="cc3300"/>
                </a:solidFill>
                <a:latin typeface="Arial"/>
              </a:rPr>
              <a:t>confidencial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piniones de los entrevi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centrarse en lo medular y evitar caer en los detall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9CC-9020-4180-9294-DA633CEFB6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6: Identificación de los Problemas Sustantivos  y Secund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ara identificar los problemas más relevantes se requier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ocesar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los resultados de las planillas de las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se pueden agrupar del siguiente m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04A-34CC-4C9A-ABC1-C2D3851A0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4042730000[1]"/>
          <p:cNvPicPr/>
          <p:nvPr/>
        </p:nvPicPr>
        <p:blipFill>
          <a:blip r:embed="rId2"/>
          <a:stretch/>
        </p:blipFill>
        <p:spPr>
          <a:xfrm>
            <a:off x="-30240" y="5486400"/>
            <a:ext cx="221940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269064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1179-F654-4605-B2B1-9A752EF2AF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39640" y="722160"/>
            <a:ext cx="8136000" cy="541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768-5EE3-4D62-977C-FBCC6726A0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Paso 7: Indagación en Profundidad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 caso de detectars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oblemas relevantes, cuyas causas no sean clara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o que estén poco precisados, se deben usar herramientas de indagación/investigación para profundiz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tre estas herramientas se encuentran: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ntrevistas, encuestas, análisis de información numérica y cualitativa, grupos focal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etc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C438-3AE9-4817-B9E8-E00707CFAA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uando se entiende algo en su esencia, deja de verse caótico o complej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pero si se permanece en las expresiones superficiales, se tendrá que lidiar con el "enredo" durante mucho tiemp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licar el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enredo” en términos de sus raíces y patrones profundo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aclara la “película”, mientras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quedarse en una lista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rga de síntomas o problemas superficiales sólo incrementará la conf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AB5E-AFF5-40E3-977D-789E2D81F7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las entrevista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y otras fuente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 s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takeholder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blema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zas y Debilidad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tendimiento de la esencia del problema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(visualización de patrones e interdependencias o interaccion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usas raíz de l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mpactos relevantes para la consecución del objetivo(s)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ectores unidireccionales o bidireccionale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rresponden a la graficación de interacciones entre causas raíz, problemas e impac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A55-0AF9-4ED1-9A27-A8C0F02F5A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5"/>
          <p:cNvGrpSpPr/>
          <p:nvPr/>
        </p:nvGrpSpPr>
        <p:grpSpPr>
          <a:xfrm>
            <a:off x="250920" y="476280"/>
            <a:ext cx="8642160" cy="5761080"/>
            <a:chOff x="250920" y="476280"/>
            <a:chExt cx="8642160" cy="5761080"/>
          </a:xfrm>
        </p:grpSpPr>
        <p:sp>
          <p:nvSpPr>
            <p:cNvPr id="441" name="AutoShape 46"/>
            <p:cNvSpPr/>
            <p:nvPr/>
          </p:nvSpPr>
          <p:spPr>
            <a:xfrm>
              <a:off x="250920" y="476280"/>
              <a:ext cx="8642160" cy="576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7"/>
            <p:cNvSpPr/>
            <p:nvPr/>
          </p:nvSpPr>
          <p:spPr>
            <a:xfrm>
              <a:off x="1081800" y="1410120"/>
              <a:ext cx="1537200" cy="77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o Sistema de Evalu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 Incentiv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8"/>
            <p:cNvSpPr/>
            <p:nvPr/>
          </p:nvSpPr>
          <p:spPr>
            <a:xfrm>
              <a:off x="1081800" y="4524480"/>
              <a:ext cx="1317600" cy="42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 Acredi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9"/>
            <p:cNvSpPr/>
            <p:nvPr/>
          </p:nvSpPr>
          <p:spPr>
            <a:xfrm>
              <a:off x="2883240" y="4524480"/>
              <a:ext cx="1356120" cy="59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a Ca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te 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0"/>
            <p:cNvSpPr/>
            <p:nvPr/>
          </p:nvSpPr>
          <p:spPr>
            <a:xfrm>
              <a:off x="1819440" y="2341800"/>
              <a:ext cx="1537200" cy="53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l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Rendición de Cuent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decuado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1"/>
            <p:cNvSpPr/>
            <p:nvPr/>
          </p:nvSpPr>
          <p:spPr>
            <a:xfrm>
              <a:off x="915480" y="5459040"/>
              <a:ext cx="1830960" cy="61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suficien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estión Doc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2"/>
            <p:cNvSpPr/>
            <p:nvPr/>
          </p:nvSpPr>
          <p:spPr>
            <a:xfrm>
              <a:off x="1096560" y="3020400"/>
              <a:ext cx="135612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Excesiva centralización en el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53"/>
            <p:cNvSpPr/>
            <p:nvPr/>
          </p:nvSpPr>
          <p:spPr>
            <a:xfrm>
              <a:off x="5346360" y="4799520"/>
              <a:ext cx="1356120" cy="50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Puntaje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4"/>
            <p:cNvSpPr/>
            <p:nvPr/>
          </p:nvSpPr>
          <p:spPr>
            <a:xfrm>
              <a:off x="3899520" y="2854800"/>
              <a:ext cx="1170720" cy="762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preci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ca Educ. Sup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AutoShape 55"/>
            <p:cNvCxnSpPr/>
            <p:nvPr/>
          </p:nvCxnSpPr>
          <p:spPr>
            <a:xfrm>
              <a:off x="4313880" y="4572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Rectangle 56"/>
            <p:cNvSpPr/>
            <p:nvPr/>
          </p:nvSpPr>
          <p:spPr>
            <a:xfrm>
              <a:off x="7223760" y="2511720"/>
              <a:ext cx="1337040" cy="59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Capac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Emprendedo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7"/>
            <p:cNvSpPr/>
            <p:nvPr/>
          </p:nvSpPr>
          <p:spPr>
            <a:xfrm>
              <a:off x="5688360" y="2430360"/>
              <a:ext cx="1160280" cy="677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Fortalez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Técnicas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Investigació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8"/>
            <p:cNvSpPr/>
            <p:nvPr/>
          </p:nvSpPr>
          <p:spPr>
            <a:xfrm>
              <a:off x="5735160" y="1254600"/>
              <a:ext cx="1107720" cy="73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Desequilibri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Financier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9"/>
            <p:cNvSpPr/>
            <p:nvPr/>
          </p:nvSpPr>
          <p:spPr>
            <a:xfrm>
              <a:off x="6996600" y="4887720"/>
              <a:ext cx="108468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Rentabi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0"/>
            <p:cNvSpPr/>
            <p:nvPr/>
          </p:nvSpPr>
          <p:spPr>
            <a:xfrm>
              <a:off x="5346360" y="3901680"/>
              <a:ext cx="126576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la  Gest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 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1"/>
            <p:cNvSpPr/>
            <p:nvPr/>
          </p:nvSpPr>
          <p:spPr>
            <a:xfrm>
              <a:off x="6996600" y="3956400"/>
              <a:ext cx="99432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usenci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AutoShape 62"/>
            <p:cNvCxnSpPr>
              <a:stCxn id="456" idx="2"/>
              <a:endCxn id="454" idx="0"/>
            </p:cNvCxnSpPr>
            <p:nvPr/>
          </p:nvCxnSpPr>
          <p:spPr>
            <a:xfrm>
              <a:off x="7493760" y="4549320"/>
              <a:ext cx="45720" cy="338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8" name="AutoShape 63"/>
            <p:cNvCxnSpPr>
              <a:stCxn id="455" idx="3"/>
              <a:endCxn id="456" idx="1"/>
            </p:cNvCxnSpPr>
            <p:nvPr/>
          </p:nvCxnSpPr>
          <p:spPr>
            <a:xfrm>
              <a:off x="6612120" y="4181040"/>
              <a:ext cx="384840" cy="72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9" name="AutoShape 64"/>
            <p:cNvCxnSpPr>
              <a:stCxn id="454" idx="3"/>
              <a:endCxn id="453" idx="3"/>
            </p:cNvCxnSpPr>
            <p:nvPr/>
          </p:nvCxnSpPr>
          <p:spPr>
            <a:xfrm flipH="1" flipV="1">
              <a:off x="6842520" y="1622520"/>
              <a:ext cx="1238760" cy="3562200"/>
            </a:xfrm>
            <a:prstGeom prst="bentConnector3">
              <a:avLst>
                <a:gd name="adj1" fmla="val -26744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0" name="AutoShape 65"/>
            <p:cNvCxnSpPr>
              <a:endCxn id="449" idx="1"/>
            </p:cNvCxnSpPr>
            <p:nvPr/>
          </p:nvCxnSpPr>
          <p:spPr>
            <a:xfrm flipH="1" flipV="1" rot="5400000">
              <a:off x="2995920" y="3647880"/>
              <a:ext cx="1288440" cy="4640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1" name="AutoShape 66"/>
            <p:cNvCxnSpPr/>
            <p:nvPr/>
          </p:nvCxnSpPr>
          <p:spPr>
            <a:xfrm flipH="1" flipV="1" rot="5400000">
              <a:off x="4570920" y="1794240"/>
              <a:ext cx="1006560" cy="10854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2" name="AutoShape 67"/>
            <p:cNvCxnSpPr>
              <a:stCxn id="444" idx="1"/>
              <a:endCxn id="443" idx="3"/>
            </p:cNvCxnSpPr>
            <p:nvPr/>
          </p:nvCxnSpPr>
          <p:spPr>
            <a:xfrm flipH="1" flipV="1">
              <a:off x="2398680" y="4736160"/>
              <a:ext cx="484200" cy="85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3" name="AutoShape 68"/>
            <p:cNvCxnSpPr>
              <a:stCxn id="451" idx="0"/>
            </p:cNvCxnSpPr>
            <p:nvPr/>
          </p:nvCxnSpPr>
          <p:spPr>
            <a:xfrm flipV="1" rot="16200000">
              <a:off x="7148160" y="1767240"/>
              <a:ext cx="677880" cy="81036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4" name="AutoShape 69"/>
            <p:cNvCxnSpPr>
              <a:endCxn id="448" idx="2"/>
            </p:cNvCxnSpPr>
            <p:nvPr/>
          </p:nvCxnSpPr>
          <p:spPr>
            <a:xfrm flipV="1">
              <a:off x="2725200" y="5307480"/>
              <a:ext cx="3300480" cy="846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5" name="AutoShape 70"/>
            <p:cNvCxnSpPr>
              <a:stCxn id="452" idx="2"/>
              <a:endCxn id="449" idx="3"/>
            </p:cNvCxnSpPr>
            <p:nvPr/>
          </p:nvCxnSpPr>
          <p:spPr>
            <a:xfrm rot="5400000">
              <a:off x="5619240" y="2586600"/>
              <a:ext cx="128520" cy="117144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6" name="AutoShape 71"/>
            <p:cNvCxnSpPr>
              <a:stCxn id="446" idx="0"/>
              <a:endCxn id="443" idx="2"/>
            </p:cNvCxnSpPr>
            <p:nvPr/>
          </p:nvCxnSpPr>
          <p:spPr>
            <a:xfrm flipV="1" rot="16200000">
              <a:off x="1530000" y="5157720"/>
              <a:ext cx="511920" cy="91080"/>
            </a:xfrm>
            <a:prstGeom prst="bentConnector3">
              <a:avLst>
                <a:gd name="adj1" fmla="val 50035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7" name="AutoShape 72"/>
            <p:cNvCxnSpPr>
              <a:stCxn id="445" idx="2"/>
            </p:cNvCxnSpPr>
            <p:nvPr/>
          </p:nvCxnSpPr>
          <p:spPr>
            <a:xfrm flipH="1" rot="16200000">
              <a:off x="3421440" y="2041920"/>
              <a:ext cx="1137960" cy="28036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8" name="AutoShape 73"/>
            <p:cNvCxnSpPr>
              <a:stCxn id="455" idx="2"/>
              <a:endCxn id="454" idx="0"/>
            </p:cNvCxnSpPr>
            <p:nvPr/>
          </p:nvCxnSpPr>
          <p:spPr>
            <a:xfrm>
              <a:off x="5979600" y="4460760"/>
              <a:ext cx="1559880" cy="42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9" name="AutoShape 74"/>
            <p:cNvCxnSpPr>
              <a:stCxn id="442" idx="3"/>
            </p:cNvCxnSpPr>
            <p:nvPr/>
          </p:nvCxnSpPr>
          <p:spPr>
            <a:xfrm flipV="1">
              <a:off x="2618640" y="1553400"/>
              <a:ext cx="3020760" cy="246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0" name="AutoShape 75"/>
            <p:cNvCxnSpPr>
              <a:stCxn id="446" idx="3"/>
              <a:endCxn id="444" idx="2"/>
            </p:cNvCxnSpPr>
            <p:nvPr/>
          </p:nvCxnSpPr>
          <p:spPr>
            <a:xfrm flipV="1">
              <a:off x="2746440" y="5118840"/>
              <a:ext cx="815760" cy="64836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1" name="AutoShape 76"/>
            <p:cNvCxnSpPr>
              <a:stCxn id="442" idx="1"/>
              <a:endCxn id="446" idx="1"/>
            </p:cNvCxnSpPr>
            <p:nvPr/>
          </p:nvCxnSpPr>
          <p:spPr>
            <a:xfrm flipV="1" rot="10800000">
              <a:off x="914760" y="1799280"/>
              <a:ext cx="166680" cy="3968640"/>
            </a:xfrm>
            <a:prstGeom prst="bentConnector3">
              <a:avLst>
                <a:gd name="adj1" fmla="val 300000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2" name="AutoShape 77"/>
            <p:cNvCxnSpPr>
              <a:stCxn id="447" idx="2"/>
            </p:cNvCxnSpPr>
            <p:nvPr/>
          </p:nvCxnSpPr>
          <p:spPr>
            <a:xfrm flipH="1" rot="16200000">
              <a:off x="3245760" y="2273760"/>
              <a:ext cx="600120" cy="35434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3" name="AutoShape 78"/>
            <p:cNvCxnSpPr>
              <a:stCxn id="455" idx="2"/>
            </p:cNvCxnSpPr>
            <p:nvPr/>
          </p:nvCxnSpPr>
          <p:spPr>
            <a:xfrm flipH="1">
              <a:off x="5946120" y="4460400"/>
              <a:ext cx="33480" cy="403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4" name="Text Box 79"/>
            <p:cNvSpPr/>
            <p:nvPr/>
          </p:nvSpPr>
          <p:spPr>
            <a:xfrm>
              <a:off x="5978880" y="3278880"/>
              <a:ext cx="20826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Gestión Departamentos/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80"/>
            <p:cNvSpPr/>
            <p:nvPr/>
          </p:nvSpPr>
          <p:spPr>
            <a:xfrm>
              <a:off x="1414080" y="787320"/>
              <a:ext cx="23266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istemas Generales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AutoShape 81"/>
            <p:cNvCxnSpPr>
              <a:stCxn id="451" idx="1"/>
              <a:endCxn id="452" idx="3"/>
            </p:cNvCxnSpPr>
            <p:nvPr/>
          </p:nvCxnSpPr>
          <p:spPr>
            <a:xfrm flipH="1" flipV="1">
              <a:off x="6848280" y="2768760"/>
              <a:ext cx="375480" cy="3924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77" name="AutoShape 82"/>
            <p:cNvCxnSpPr/>
            <p:nvPr/>
          </p:nvCxnSpPr>
          <p:spPr>
            <a:xfrm>
              <a:off x="2577600" y="1877400"/>
              <a:ext cx="2689920" cy="2245680"/>
            </a:xfrm>
            <a:prstGeom prst="bentConnector3">
              <a:avLst>
                <a:gd name="adj1" fmla="val 38027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8" name="AutoShape 83"/>
            <p:cNvCxnSpPr>
              <a:stCxn id="442" idx="2"/>
              <a:endCxn id="445" idx="1"/>
            </p:cNvCxnSpPr>
            <p:nvPr/>
          </p:nvCxnSpPr>
          <p:spPr>
            <a:xfrm rot="5400000">
              <a:off x="1624680" y="2382840"/>
              <a:ext cx="420120" cy="31680"/>
            </a:xfrm>
            <a:prstGeom prst="bentConnector4">
              <a:avLst>
                <a:gd name="adj1" fmla="val 18096"/>
                <a:gd name="adj2" fmla="val 1171264"/>
              </a:avLst>
            </a:prstGeom>
            <a:ln w="57240">
              <a:solidFill>
                <a:srgbClr val="c0c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9" name="AutoShape 84"/>
            <p:cNvCxnSpPr>
              <a:stCxn id="443" idx="3"/>
              <a:endCxn id="449" idx="2"/>
            </p:cNvCxnSpPr>
            <p:nvPr/>
          </p:nvCxnSpPr>
          <p:spPr>
            <a:xfrm flipV="1">
              <a:off x="2399040" y="3642480"/>
              <a:ext cx="2086200" cy="10940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0" name="AutoShape 85"/>
            <p:cNvCxnSpPr>
              <a:stCxn id="449" idx="2"/>
              <a:endCxn id="448" idx="1"/>
            </p:cNvCxnSpPr>
            <p:nvPr/>
          </p:nvCxnSpPr>
          <p:spPr>
            <a:xfrm flipH="1" rot="16200000">
              <a:off x="4210200" y="3917520"/>
              <a:ext cx="1411560" cy="8618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1" name="4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57D1-0573-422A-8822-D9294FB696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9: Validación de los resultados preliminares del AO con lo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preliminares del AO deberán ser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esentados a los “stakeholder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”, de manera gráfica y didác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punto clave del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éxito de la validación es llegar al máximo grado de consenso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políticamente posible entre los principales “stakeholders” y el analista respecto al 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BC9-9426-480B-8370-EE3AC16877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1. Presentación General del Talle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Taller de AO sirve para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aplicar”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/enfoques del Diploma y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conocer y practicar una herramien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método será intensivo en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 trabajo de grupo, revisión documental, preparación de instrumento, investigación de campo y sesiones tutoriales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senciales/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on line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61A5-66FB-4E79-983A-4DC00D2A51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FACTORES CRÍTICOS PARA LA APLICACIÓN DEL 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relevancia de los resultados del AO depende de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selección adecuada que se haga de los ámbit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indagación importantes para el programa u organización en cu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3300"/>
                </a:solidFill>
                <a:latin typeface="Arial"/>
              </a:rPr>
              <a:t>Calidad Instr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lidad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 aplicación de entrevistas a los beneficiarios directos del programa u organización aporta con percepciones directas sobre los principales problemas y riesg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álisis y síntesi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conclusiones… en un ELEVADO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PROCESO REFLEXIVO Y GRUPAL, CON TIEMP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, permite concentrarse en lo medular y evitar caer en los detalles men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Diagram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O debe hacerse apurado a ultima hora, debe MADURARS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4DB-D072-4EAF-ADD8-8AF31FBF1D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Contenido de la Presentación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8560" y="1196640"/>
            <a:ext cx="87850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Presentación Formal y datos básicos (2 lámin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Modelo de Negocio (2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3. Principales Hallazgos de Fuentes Secunda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4. Principales Hallazgos de Instrumento-encuesta (3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5  Identificación de Problemas Principal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6. “Diagrama Sistémico”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7. Conclusion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99"/>
                </a:solidFill>
                <a:latin typeface="Calibri"/>
              </a:rPr>
              <a:t>**Pueden escribir notas en el p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ANEX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Listado de Entrevis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y Fuentes Revisadas </a:t>
            </a:r>
            <a:r>
              <a:rPr b="1" lang="es-CL" sz="1600" spc="-1" strike="noStrike">
                <a:solidFill>
                  <a:srgbClr val="cc3300"/>
                </a:solidFill>
                <a:latin typeface="Calibri"/>
              </a:rPr>
              <a:t>(subir a U-Curs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ENTREGAB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PPT en U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5CA5-85D8-4E39-9044-3368A2E2DE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Dimensiones a Evaluar.</a:t>
            </a:r>
            <a:br>
              <a:rPr sz="44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ste Módulo vale el </a:t>
            </a:r>
            <a:r>
              <a:rPr b="0" lang="es-CL" sz="2000" spc="-1" strike="noStrike">
                <a:solidFill>
                  <a:srgbClr val="cc3300"/>
                </a:solidFill>
                <a:latin typeface="Arial"/>
              </a:rPr>
              <a:t>dobl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otros Módu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oceso de Trabajo (20%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esentación (80%)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laridad Ex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so adecuado de la 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tilización Adecuad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 mirada sisté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s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0AAA-C0ED-4179-BD2C-CF3DC1BAA9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913280"/>
            <a:ext cx="2219400" cy="9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Recomendaciones Prác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o intensivo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U-CURSO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: coloc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pregunt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, mirar respuestas para otros grup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Consultar a ayudante y profesor vía U-Curso.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 DUDA ES V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Solicit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reuniones con anticipación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en SEC) Se estima asesoría presencial de 2 ½ por grupo en promedio (extra cla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ar intensivamente herramientas TICs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coordinación intergrupal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SKYPE AUDIO/Video, TALK, googledocs, googlegroups,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QUE LOS GRUPOS COLABOREN ENTRE SÍ (no es competencia) compartan información ideas, experienci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304-129D-4B38-BDD2-407CABB5E5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Formación de GRUP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EFE0-D463-4D2A-88AD-D8F52C0003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UÍA DE METODOLÓGICA PARA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ÁNALISIS DE ORGANIZACIONES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” </a:t>
            </a:r>
            <a:br>
              <a:rPr sz="4000"/>
            </a:b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ocumento para fines Docentes</a:t>
            </a:r>
            <a:br>
              <a:rPr sz="4000"/>
            </a:b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Versión Abril 2010 </a:t>
            </a:r>
            <a:r>
              <a:rPr b="0" i="1" lang="es-ES" sz="2400" spc="-1" strike="noStrike">
                <a:solidFill>
                  <a:srgbClr val="cc3300"/>
                </a:solidFill>
                <a:latin typeface="Arial"/>
              </a:rPr>
              <a:t>(puede ser mejorada en el transcurso del Taller)</a:t>
            </a:r>
            <a:br>
              <a:rPr sz="4000"/>
            </a:b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(bajar de U-CURSO)</a:t>
            </a:r>
            <a:br>
              <a:rPr sz="1600"/>
            </a:br>
            <a:br>
              <a:rPr sz="4000"/>
            </a:b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res: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Mario Waissbluth y José Inostroza</a:t>
            </a:r>
            <a:br>
              <a:rPr sz="1600"/>
            </a:b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con la colaboración de Natali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</a:t>
            </a:r>
            <a:r>
              <a:rPr b="1" lang="es-ES" sz="4000" spc="-1" strike="noStrike">
                <a:solidFill>
                  <a:srgbClr val="000080"/>
                </a:solidFill>
                <a:latin typeface="Calibri"/>
                <a:ea typeface="Times New Roman"/>
              </a:rPr>
              <a:t>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análisis organizacional (AO) es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erramient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irve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iagnósticos sobre la gest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rganizaciones y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sustentos teóricos de esta metodología son, por una parte, la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visión de las organizaciones como sistemas complejos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uso d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lógica difusa, y el concepto  MUY IMPORTANTE de VALOR PÚBLICO (MO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ólo recordaremos que la teoría de sistemas complejos señala que las organizaciones tienen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múltiples variables asociadas a su desempeño que interactúan entre sí,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de maneras típicament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no lineales, con subunidades autónomas,  generando “propiedades emergente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3AA-BE7A-4426-A053-F1DEDD8C40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uía de AO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formaliza los pasos de un proces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diagnóstico sistémico” (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lado derecho del cerebro!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) ,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specialmente pensando en organizacione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sultado debería ser  una compren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modo de funcionamiento general de una organización públ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sus principales problemas, fortalezas,  debil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y un análisis las relaciones entre los distintos factores que influyen en 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B65-F5B0-441E-982D-A84F82BA71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La guía se focaliza más en los aspectos de la gestión/implementación,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ómo hacer”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in embargo, el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unto de partida del  diagnosticador debe ser una 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omprensión plena del “qué hacer”(política pública) y su context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2C91-2FE1-4DAF-896C-91D2DBC9A2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2:33:51Z</dcterms:created>
  <dc:creator>Jinostroza</dc:creator>
  <dc:description/>
  <dc:language>en-US</dc:language>
  <cp:lastModifiedBy>Esteli</cp:lastModifiedBy>
  <dcterms:modified xsi:type="dcterms:W3CDTF">2010-11-19T13:16:17Z</dcterms:modified>
  <cp:revision>26</cp:revision>
  <dc:subject/>
  <dc:title>Método de Diagnóstico Institucional Curso: Tópicos de Gestión Pública MGPP</dc:title>
</cp:coreProperties>
</file>