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MT Condensed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Bodoni MT Condensed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Bodoni MT Condense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C05FAB1-3894-4297-B3EE-CEFAC6571B23}" type="slidenum">
              <a:rPr b="0" lang="es-ES" sz="1300" spc="-1" strike="noStrike">
                <a:solidFill>
                  <a:srgbClr val="000000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31579F1-F7AE-4835-98FD-2FA7F74CFB82}" type="slidenum">
              <a:rPr b="0" lang="es-ES" sz="1300" spc="-1" strike="noStrike">
                <a:solidFill>
                  <a:srgbClr val="003366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Bodoni MT Condense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9CADB12-644D-49C0-9583-BF85861D83E7}" type="slidenum">
              <a:rPr b="0" lang="es-ES" sz="1300" spc="-1" strike="noStrike">
                <a:solidFill>
                  <a:srgbClr val="003366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Bodoni MT Condense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CBA54CB-041E-479A-B779-276548A4817E}" type="slidenum">
              <a:rPr b="0" lang="es-ES" sz="1300" spc="-1" strike="noStrike">
                <a:solidFill>
                  <a:srgbClr val="003366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Bodoni MT Condense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E193F4E-57E0-4A80-8A91-1372F5759703}" type="slidenum">
              <a:rPr b="0" lang="es-ES" sz="1300" spc="-1" strike="noStrike">
                <a:solidFill>
                  <a:srgbClr val="003366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Bodoni MT Condense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7E69824-CC17-41F5-B6E8-B115720DD2A4}" type="slidenum">
              <a:rPr b="0" lang="es-ES" sz="1300" spc="-1" strike="noStrike">
                <a:solidFill>
                  <a:srgbClr val="003366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Bodoni MT Condense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142A014-96D3-407E-92A1-009C00D0C02C}" type="slidenum">
              <a:rPr b="0" lang="es-ES" sz="1300" spc="-1" strike="noStrike">
                <a:solidFill>
                  <a:srgbClr val="003366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Bodoni MT Condense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C699167-4483-426F-B2DF-370DAFF3A49C}" type="slidenum">
              <a:rPr b="0" lang="es-ES" sz="1300" spc="-1" strike="noStrike">
                <a:solidFill>
                  <a:srgbClr val="003366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Bodoni MT Condense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EA865F6-83D8-4D7B-A108-A9B7BC3D09A1}" type="slidenum">
              <a:rPr b="0" lang="es-ES" sz="1300" spc="-1" strike="noStrike">
                <a:solidFill>
                  <a:srgbClr val="003366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Bodoni MT Condense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7D18EFF-B5CC-4B3E-8D6D-0550FA757883}" type="slidenum">
              <a:rPr b="0" lang="es-ES" sz="1300" spc="-1" strike="noStrike">
                <a:solidFill>
                  <a:srgbClr val="003366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Bodoni MT Condensed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0F07BCD-443C-45FA-91E0-02B05C8F6CEC}" type="slidenum">
              <a:rPr b="0" lang="es-ES" sz="1300" spc="-1" strike="noStrike">
                <a:solidFill>
                  <a:srgbClr val="003366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Bodoni MT Condensed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CFE3F54-8342-4FA9-AC6D-64079294AC0F}" type="slidenum">
              <a:rPr b="0" lang="es-ES" sz="1300" spc="-1" strike="noStrike">
                <a:solidFill>
                  <a:srgbClr val="003366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Bodoni MT Condense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B0A17B1-8DE9-46A2-AC70-A277740EE02F}" type="slidenum">
              <a:rPr b="0" lang="es-ES" sz="1300" spc="-1" strike="noStrike">
                <a:solidFill>
                  <a:srgbClr val="003366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Bodoni MT Condensed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DD4E12A-6230-40B9-9965-658561708437}" type="slidenum">
              <a:rPr b="0" lang="es-ES" sz="1300" spc="-1" strike="noStrike">
                <a:solidFill>
                  <a:srgbClr val="003366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Bodoni MT Condensed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8268D22-9965-405D-804C-B4157DE6258F}" type="slidenum">
              <a:rPr b="0" lang="es-ES" sz="1300" spc="-1" strike="noStrike">
                <a:solidFill>
                  <a:srgbClr val="003366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Bodoni MT Condensed"/>
              </a:rPr>
              <a:t>i.      En síntesis, cuál era el desafío relevante y prioritario de Ruckelshaus.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Bodoni MT Condensed"/>
              </a:rPr>
              <a:t>i.      Identifique el listado de actores, sus intereses  y sus posiciones relativas, que están en el entorno relevante de la EPA y señale cómo  determinan a las definiciones estratégicas.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Bodoni MT Condensed"/>
              </a:rPr>
              <a:t>iii.      ¿Cuáles fueron las amenazas-restricciones y las oportunidades observadas?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Bodoni MT Condensed"/>
              </a:rPr>
              <a:t>iv.      En síntesis, explique cuál fue la estrategia y sus atributos (ventajas, desventajas) de la misma.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Bodoni MT Condensed"/>
              </a:rPr>
              <a:t>v.      ¿Qué ventajas/desventajas desde el punto de vista de los ecologistas, industriales, organización, gobierno?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Bodoni MT Condensed"/>
              </a:rPr>
              <a:t>vi.      ¿Qué otra misión habría usted señalado?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Bodoni MT Condensed"/>
              </a:rPr>
              <a:t>viii.      ¿Qué hizo R. respecto a los siguiente atributos deseables (como señala el texto) de una estrategia en el sector público?)</a:t>
            </a:r>
            <a:br>
              <a:rPr sz="1200"/>
            </a:b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Bodoni MT Condensed"/>
              </a:rPr>
              <a:t>1.      Sustantivamente relevante</a:t>
            </a:r>
            <a:br>
              <a:rPr sz="1200"/>
            </a:b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Bodoni MT Condensed"/>
              </a:rPr>
              <a:t>2.      Viable políticamente</a:t>
            </a:r>
            <a:br>
              <a:rPr sz="1200"/>
            </a:b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Bodoni MT Condensed"/>
              </a:rPr>
              <a:t>3.      Operativamente factible y suficientemente clara </a:t>
            </a:r>
            <a:endParaRPr b="0" lang="en-US" sz="1200" spc="-1" strike="noStrike">
              <a:solidFill>
                <a:srgbClr val="000000"/>
              </a:solidFill>
              <a:latin typeface="Bodoni MT Condensed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4701FD6-0F68-4F4C-B49F-670704B9D854}" type="slidenum">
              <a:rPr b="0" lang="es-ES" sz="1300" spc="-1" strike="noStrike">
                <a:solidFill>
                  <a:srgbClr val="003366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Bodoni MT Condensed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72E14EC-4556-4219-BDD3-D2099261C9FA}" type="slidenum">
              <a:rPr b="0" lang="es-ES" sz="1300" spc="-1" strike="noStrike">
                <a:solidFill>
                  <a:srgbClr val="003366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Bodoni MT Condensed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50EFCB7-1606-400B-BB58-909A5E3C7542}" type="slidenum">
              <a:rPr b="0" lang="es-ES" sz="1300" spc="-1" strike="noStrike">
                <a:solidFill>
                  <a:srgbClr val="003366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Bodoni MT Condensed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8DD7F89-18CB-4B9B-9377-D67C9A0EAE5D}" type="slidenum">
              <a:rPr b="0" lang="es-ES" sz="1300" spc="-1" strike="noStrike">
                <a:solidFill>
                  <a:srgbClr val="003366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Bodoni MT Condensed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09A30EA-0B9F-4B0B-A692-E78981093BDC}" type="slidenum">
              <a:rPr b="0" lang="es-ES" sz="1300" spc="-1" strike="noStrike">
                <a:solidFill>
                  <a:srgbClr val="003366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Bodoni MT Condensed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3B419E6-A87D-4D27-B1B3-9276A3BC583A}" type="slidenum">
              <a:rPr b="0" lang="es-ES" sz="1300" spc="-1" strike="noStrike">
                <a:solidFill>
                  <a:srgbClr val="003366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Bodoni MT Condensed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D6FB9F0-5E0A-4718-BE10-EC9048F46D32}" type="slidenum">
              <a:rPr b="0" lang="es-ES" sz="1300" spc="-1" strike="noStrike">
                <a:solidFill>
                  <a:srgbClr val="003366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Bodoni MT Condensed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AEC09C9-D389-433B-8312-980C4F02EBF9}" type="slidenum">
              <a:rPr b="0" lang="es-ES" sz="1300" spc="-1" strike="noStrike">
                <a:solidFill>
                  <a:srgbClr val="003366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Bodoni MT Condense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5F81132-0914-4116-91F0-014CC6D2C2E2}" type="slidenum">
              <a:rPr b="0" lang="es-ES" sz="1300" spc="-1" strike="noStrike">
                <a:solidFill>
                  <a:srgbClr val="003366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Bodoni MT Condensed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9D1090C-7EC5-4CEC-8FBC-E91F1E4E3EBC}" type="slidenum">
              <a:rPr b="0" lang="es-ES" sz="1300" spc="-1" strike="noStrike">
                <a:solidFill>
                  <a:srgbClr val="003366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Bodoni MT Condensed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9D3F873-83AE-4F60-8D62-E7BAE5CC2D75}" type="slidenum">
              <a:rPr b="0" lang="es-ES" sz="1300" spc="-1" strike="noStrike">
                <a:solidFill>
                  <a:srgbClr val="003366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Bodoni MT Condensed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C416517-140A-4E40-86C3-2F1B88828D90}" type="slidenum">
              <a:rPr b="0" lang="es-ES" sz="1300" spc="-1" strike="noStrike">
                <a:solidFill>
                  <a:srgbClr val="003366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Bodoni MT Condensed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33B6E58-AB26-4184-9BC3-A3B10074BEEE}" type="slidenum">
              <a:rPr b="0" lang="es-ES" sz="1300" spc="-1" strike="noStrike">
                <a:solidFill>
                  <a:srgbClr val="003366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Bodoni MT Condensed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9967A29-0C6A-42D0-B275-C937C66200CB}" type="slidenum">
              <a:rPr b="0" lang="es-ES" sz="1300" spc="-1" strike="noStrike">
                <a:solidFill>
                  <a:srgbClr val="003366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Bodoni MT Condensed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92AC845-0DF7-47A2-93D3-AFC04B97E50F}" type="slidenum">
              <a:rPr b="0" lang="es-ES" sz="1300" spc="-1" strike="noStrike">
                <a:solidFill>
                  <a:srgbClr val="003366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Bodoni MT Condensed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B8A8E78-87B6-4C7C-87AD-F9B9BBD872E4}" type="slidenum">
              <a:rPr b="0" lang="es-ES" sz="1300" spc="-1" strike="noStrike">
                <a:solidFill>
                  <a:srgbClr val="003366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Bodoni MT Condense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5764EDF-0755-4F73-A8AB-913321E65D48}" type="slidenum">
              <a:rPr b="0" lang="es-ES" sz="1300" spc="-1" strike="noStrike">
                <a:solidFill>
                  <a:srgbClr val="003366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Bodoni MT Condense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1CB8F9A-EC0D-41A1-8E3C-9B9313C38073}" type="slidenum">
              <a:rPr b="0" lang="es-ES" sz="1300" spc="-1" strike="noStrike">
                <a:solidFill>
                  <a:srgbClr val="003366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Bodoni MT Condense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E94EE7A-A3DB-4D9C-8DED-0FA785798B3B}" type="slidenum">
              <a:rPr b="0" lang="es-ES" sz="1300" spc="-1" strike="noStrike">
                <a:solidFill>
                  <a:srgbClr val="003366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Bodoni MT Condense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C2228E6-95F4-4DC1-8DE3-5A15439DAE09}" type="slidenum">
              <a:rPr b="0" lang="es-ES" sz="1300" spc="-1" strike="noStrike">
                <a:solidFill>
                  <a:srgbClr val="003366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Bodoni MT Condense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8D67BF1-764A-4559-883B-920EE3D33B75}" type="slidenum">
              <a:rPr b="0" lang="es-ES" sz="1300" spc="-1" strike="noStrike">
                <a:solidFill>
                  <a:srgbClr val="003366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Bodoni MT Condense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DB334A3-9E8A-4EBE-93EA-583B39BB3665}" type="slidenum">
              <a:rPr b="0" lang="es-ES" sz="1300" spc="-1" strike="noStrike">
                <a:solidFill>
                  <a:srgbClr val="003366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Bodoni MT Condense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AA9E-FBD6-409F-B099-67AB5BFF5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39F4-BE8C-4719-9EBC-D5B3CBD33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2111-1653-48A0-88DF-FA1A8AD1C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F37B-28F1-477D-9BA1-0FE70C8EA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0EA72-6D02-48DD-9BB0-013AA5F9F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2FEF1-111C-4AD8-B053-06083F52C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F0455-1795-46F6-9114-9F443413C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F5C47-21F2-4C10-B7A2-B5728AEBE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970AA-93AD-41CB-B297-A9C0E4BA6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14B05-D048-427E-84ED-61282287D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8D6D6-A399-42C2-90DC-0D78A3FFF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3549-E8E2-4770-B0DB-C04140CFE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4F0E4-0713-4F66-A6FA-C750A251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3EA6E-F1BE-4D9E-AC5F-F06A0982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99F80-BE23-4113-AF15-02FE72B00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543AF-0547-4C4B-8B33-F4B4B93C5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80756-717D-4136-8280-D1D74A1D0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09E9-0801-4F97-9EE1-639CF584B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BBBA-946D-4010-92AD-639E0ED26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707F-CFBF-49EF-B826-11489E766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053C-9D2D-423C-AE6B-70A2796B3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6D98-8B81-41D9-A055-DB1A3FA6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FB3F-3336-44F0-BE72-C06F1C5D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63D3-B277-4247-9710-0992D9E0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www.sistemaspublicos.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64E78-0089-43EF-BE65-D45F96037E1C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www.sistemaspublicos.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45734-8199-4A72-B3A6-B9E76CBB465D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690200" y="907920"/>
            <a:ext cx="6626520" cy="1730880"/>
          </a:xfrm>
          <a:prstGeom prst="rect">
            <a:avLst/>
          </a:prstGeom>
          <a:solidFill>
            <a:srgbClr val="85e0e0"/>
          </a:solidFill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Arial"/>
              </a:rPr>
              <a:t>Creación de Valor en el Sector Público, Nuevo Paradigma, Nueva Doctrina</a:t>
            </a:r>
            <a:br>
              <a:rPr sz="4400"/>
            </a:br>
            <a:r>
              <a:rPr b="1" i="1" lang="es-CL" sz="3200" spc="-1" strike="noStrike">
                <a:solidFill>
                  <a:srgbClr val="003f80"/>
                </a:solidFill>
                <a:latin typeface="Arial"/>
              </a:rPr>
              <a:t>Clase 1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476360" y="5157720"/>
            <a:ext cx="691200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6666"/>
                </a:solidFill>
                <a:latin typeface="Arial"/>
              </a:rPr>
              <a:t>a) Moore, Mark: “Gestión Estratégica y Creación de Valor en el Sector Público”. Paidos, 1998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6666"/>
                </a:solidFill>
                <a:latin typeface="Arial"/>
              </a:rPr>
              <a:t>b) Kelly, G. y Muers, S., “Creating Public Value. An analytical framework for public service reform”, Strategy Unit, Cabinet Office UK, 2002</a:t>
            </a:r>
            <a:br>
              <a:rPr sz="1400"/>
            </a:b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04" name="Text Box 5"/>
          <p:cNvGrpSpPr/>
          <p:nvPr/>
        </p:nvGrpSpPr>
        <p:grpSpPr>
          <a:xfrm>
            <a:off x="1530360" y="3456000"/>
            <a:ext cx="7016760" cy="1603440"/>
            <a:chOff x="1530360" y="3456000"/>
            <a:chExt cx="7016760" cy="1603440"/>
          </a:xfrm>
        </p:grpSpPr>
        <p:pic>
          <p:nvPicPr>
            <p:cNvPr id="105" name="Text Box 5" descr=""/>
            <p:cNvPicPr/>
            <p:nvPr/>
          </p:nvPicPr>
          <p:blipFill>
            <a:blip r:embed="rId1"/>
            <a:stretch/>
          </p:blipFill>
          <p:spPr>
            <a:xfrm>
              <a:off x="1530360" y="3456000"/>
              <a:ext cx="701676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1547640" y="3475080"/>
              <a:ext cx="698508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3366"/>
                  </a:solidFill>
                  <a:latin typeface="Arial"/>
                </a:rPr>
                <a:t>Diploma en Gerencia Pública-Superintendencia de Electricidad y Combustibles 2010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 u="sng">
                  <a:solidFill>
                    <a:srgbClr val="003366"/>
                  </a:solidFill>
                  <a:uFillTx/>
                  <a:latin typeface="Arial"/>
                </a:rPr>
                <a:t>Módulo: </a:t>
              </a:r>
              <a:r>
                <a:rPr b="1" i="1" lang="es-ES_tradnl" sz="1600" spc="-1" strike="noStrike">
                  <a:solidFill>
                    <a:srgbClr val="003366"/>
                  </a:solidFill>
                  <a:latin typeface="Arial"/>
                </a:rPr>
                <a:t>Tópicos Aplicados de Gestión Pública: Enfoques Clave para Gestión Estratégica y Creación de Valor en el Sector Público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66"/>
                  </a:solidFill>
                  <a:latin typeface="Arial"/>
                </a:rPr>
                <a:t>Profesor: José Inostroza, jinostro@dii.uchile.cl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3036960" y="44280"/>
            <a:ext cx="2830320" cy="576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1258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514800" y="533880"/>
            <a:ext cx="8114400" cy="792720"/>
          </a:xfrm>
          <a:prstGeom prst="rect">
            <a:avLst/>
          </a:prstGeom>
          <a:solidFill>
            <a:srgbClr val="b9d5b9"/>
          </a:solidFill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VALOR PÚBLICO: CONCEPTO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-360" y="1483920"/>
            <a:ext cx="889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 algn="just">
              <a:lnSpc>
                <a:spcPct val="10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Los </a:t>
            </a: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beneficios pueden darse a nivel</a:t>
            </a: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 d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1168560" indent="-711360" algn="just">
              <a:lnSpc>
                <a:spcPct val="100000"/>
              </a:lnSpc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Productos o servicios</a:t>
            </a: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  (outputs): Ej .Vacun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1168560" indent="-711360" algn="just">
              <a:lnSpc>
                <a:spcPct val="100000"/>
              </a:lnSpc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Impactos o resultados</a:t>
            </a: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 (outcomes) Ej. Tasa de enfermedad específic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1168560" indent="-711360" algn="just">
              <a:lnSpc>
                <a:spcPct val="100000"/>
              </a:lnSpc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Confianza:</a:t>
            </a: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 (Ejs. </a:t>
            </a:r>
            <a:r>
              <a:rPr b="1" lang="es-CL" sz="2400" spc="-1" strike="noStrike">
                <a:solidFill>
                  <a:srgbClr val="003366"/>
                </a:solidFill>
                <a:latin typeface="Calibri"/>
              </a:rPr>
              <a:t>Filtración de info en Banco Central, Caso CORFO/Inverlink,  Crisis sanitarias (ESB/´vaca loca’), Corrupción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812880" indent="-812880" algn="just">
              <a:lnSpc>
                <a:spcPct val="10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Calibri"/>
              </a:rPr>
              <a:t>Componentes de la Confianza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1168560" indent="-711360" algn="just">
              <a:lnSpc>
                <a:spcPct val="100000"/>
              </a:lnSpc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Calibri"/>
              </a:rPr>
              <a:t>Percepción de eficacia/desempeño (aunque causalidad es compleja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1168560" indent="-711360" algn="just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Calibri"/>
              </a:rPr>
              <a:t>Percepción de integridad, ética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1168560" indent="-711360" algn="just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Calibri"/>
              </a:rPr>
              <a:t>Percepción de transparencia/sinceridad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6588000" y="44280"/>
            <a:ext cx="2543400" cy="500400"/>
          </a:xfrm>
          <a:prstGeom prst="rect">
            <a:avLst/>
          </a:prstGeom>
          <a:ln w="0">
            <a:noFill/>
          </a:ln>
        </p:spPr>
      </p:pic>
      <p:sp>
        <p:nvSpPr>
          <p:cNvPr id="166" name="6 Marcador de número de diapositiva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9DF9B-61BF-43C7-BDD5-08CB53E310C0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7 Marcador de pie de página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www.sistemaspublicos.c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b9d5b9"/>
          </a:solidFill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VALOR PÚBLICO: CONCEPTO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0" y="2060640"/>
            <a:ext cx="8820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 algn="just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En los </a:t>
            </a: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costos,</a:t>
            </a: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 también se refiere a 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1168560" indent="-711360" algn="just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Costos monetarios y NO monetarios.</a:t>
            </a: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 Ejs. de NO monetarios:  pérdida de confianza, pérdida de libertad, medidas coercitivas, perdida de intimida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1168560" indent="-711360" algn="just">
              <a:lnSpc>
                <a:spcPct val="12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Directos, Indirectos y de Oportunidad </a:t>
            </a: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(¿Qué se podría hacer alternativamente con los recursos utilizados?)</a:t>
            </a:r>
            <a:r>
              <a:rPr b="1" lang="es-ES" sz="2000" spc="-1" strike="noStrike">
                <a:solidFill>
                  <a:srgbClr val="003366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52388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6588000" y="44280"/>
            <a:ext cx="2543400" cy="500400"/>
          </a:xfrm>
          <a:prstGeom prst="rect">
            <a:avLst/>
          </a:prstGeom>
          <a:ln w="0">
            <a:noFill/>
          </a:ln>
        </p:spPr>
      </p:pic>
      <p:sp>
        <p:nvSpPr>
          <p:cNvPr id="171" name="6 Marcador de número de diapositiva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6ADDF-2A91-4CC4-8181-AAD8B441E0B3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7 Marcador de pie de página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www.sistemaspublicos.c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b9d5b9"/>
          </a:solidFill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VALOR PÚBLICO: CONCEPTO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08000" y="1628280"/>
            <a:ext cx="88200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523880" indent="0" algn="just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812880" indent="-812880" algn="just">
              <a:lnSpc>
                <a:spcPct val="14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En ambos casos  -beneficios y costos - el criterio para su definición son las </a:t>
            </a: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“preferencias públicas”</a:t>
            </a: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 generadas en procesos colectivos (Ej. ley, grupo de ciudadanos, medios de comunicación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812880" indent="-812880" algn="just">
              <a:lnSpc>
                <a:spcPct val="14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y también las </a:t>
            </a: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“preferencias privadas”</a:t>
            </a: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 expresadas por los usuarios/clientes/beneficiarios de los servicios públic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1"/>
          <a:stretch/>
        </p:blipFill>
        <p:spPr>
          <a:xfrm>
            <a:off x="6588000" y="44280"/>
            <a:ext cx="2543400" cy="500400"/>
          </a:xfrm>
          <a:prstGeom prst="rect">
            <a:avLst/>
          </a:prstGeom>
          <a:ln w="0">
            <a:noFill/>
          </a:ln>
        </p:spPr>
      </p:pic>
      <p:sp>
        <p:nvSpPr>
          <p:cNvPr id="176" name="6 Marcador de número de diapositiva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79151-FA96-476B-B655-0CE82191148E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7 Marcador de pie de página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www.sistemaspublicos.c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8" name="Picture 4" descr="j0233018"/>
          <p:cNvPicPr/>
          <p:nvPr/>
        </p:nvPicPr>
        <p:blipFill>
          <a:blip r:embed="rId2"/>
          <a:stretch/>
        </p:blipFill>
        <p:spPr>
          <a:xfrm>
            <a:off x="0" y="260280"/>
            <a:ext cx="2093760" cy="16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" dur="1" fill="hold"/>
                                  <p:tgtEl>
                                    <p:spTgt spid="17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b9d5b9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Calibri"/>
              </a:rPr>
              <a:t>ORIGEN DE LAS PREFERENCI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826560" y="26272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81" name="Rectangle 4"/>
          <p:cNvGrpSpPr/>
          <p:nvPr/>
        </p:nvGrpSpPr>
        <p:grpSpPr>
          <a:xfrm>
            <a:off x="5602320" y="2779560"/>
            <a:ext cx="3120840" cy="1756080"/>
            <a:chOff x="5602320" y="2779560"/>
            <a:chExt cx="3120840" cy="1756080"/>
          </a:xfrm>
        </p:grpSpPr>
        <p:pic>
          <p:nvPicPr>
            <p:cNvPr id="182" name="Rectangle 4" descr=""/>
            <p:cNvPicPr/>
            <p:nvPr/>
          </p:nvPicPr>
          <p:blipFill>
            <a:blip r:embed="rId1"/>
            <a:stretch/>
          </p:blipFill>
          <p:spPr>
            <a:xfrm>
              <a:off x="5602320" y="2779560"/>
              <a:ext cx="3120840" cy="17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5638680" y="2819520"/>
              <a:ext cx="2971800" cy="16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66"/>
                  </a:solidFill>
                  <a:latin typeface="Arial"/>
                  <a:ea typeface="Arial"/>
                </a:rPr>
                <a:t>Valor Públic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84" name="Oval 5"/>
          <p:cNvGrpSpPr/>
          <p:nvPr/>
        </p:nvGrpSpPr>
        <p:grpSpPr>
          <a:xfrm>
            <a:off x="652320" y="2603520"/>
            <a:ext cx="2279880" cy="2438280"/>
            <a:chOff x="652320" y="2603520"/>
            <a:chExt cx="2279880" cy="2438280"/>
          </a:xfrm>
        </p:grpSpPr>
        <p:pic>
          <p:nvPicPr>
            <p:cNvPr id="185" name="Oval 5" descr=""/>
            <p:cNvPicPr/>
            <p:nvPr/>
          </p:nvPicPr>
          <p:blipFill>
            <a:blip r:embed="rId2"/>
            <a:stretch/>
          </p:blipFill>
          <p:spPr>
            <a:xfrm>
              <a:off x="652320" y="2603520"/>
              <a:ext cx="22798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990720" y="2973240"/>
              <a:ext cx="1474560" cy="16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66"/>
                  </a:solidFill>
                  <a:latin typeface="Arial"/>
                  <a:ea typeface="Arial"/>
                </a:rPr>
                <a:t>Clientes/Usuarios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87" name="Oval 6"/>
          <p:cNvGrpSpPr/>
          <p:nvPr/>
        </p:nvGrpSpPr>
        <p:grpSpPr>
          <a:xfrm>
            <a:off x="3316320" y="2603520"/>
            <a:ext cx="1938240" cy="2444760"/>
            <a:chOff x="3316320" y="2603520"/>
            <a:chExt cx="1938240" cy="2444760"/>
          </a:xfrm>
        </p:grpSpPr>
        <p:pic>
          <p:nvPicPr>
            <p:cNvPr id="188" name="Oval 6" descr=""/>
            <p:cNvPicPr/>
            <p:nvPr/>
          </p:nvPicPr>
          <p:blipFill>
            <a:blip r:embed="rId3"/>
            <a:stretch/>
          </p:blipFill>
          <p:spPr>
            <a:xfrm>
              <a:off x="3316320" y="2603520"/>
              <a:ext cx="1938240" cy="244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3611520" y="2975040"/>
              <a:ext cx="1273320" cy="162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66"/>
                  </a:solidFill>
                  <a:latin typeface="Arial"/>
                  <a:ea typeface="Arial"/>
                </a:rPr>
                <a:t>Comunidad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66"/>
                  </a:solidFill>
                  <a:latin typeface="Arial"/>
                  <a:ea typeface="Arial"/>
                </a:rPr>
                <a:t>Mandant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0" name="Text Box 7"/>
          <p:cNvSpPr/>
          <p:nvPr/>
        </p:nvSpPr>
        <p:spPr>
          <a:xfrm>
            <a:off x="5181480" y="342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Tahoma"/>
                <a:ea typeface="Arial"/>
              </a:rPr>
              <a:t>=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2819520" y="33526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Tahoma"/>
                <a:ea typeface="Arial"/>
              </a:rPr>
              <a:t>+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92" name="AutoShape 9"/>
          <p:cNvGrpSpPr/>
          <p:nvPr/>
        </p:nvGrpSpPr>
        <p:grpSpPr>
          <a:xfrm>
            <a:off x="1450800" y="5132520"/>
            <a:ext cx="6546960" cy="841320"/>
            <a:chOff x="1450800" y="5132520"/>
            <a:chExt cx="6546960" cy="841320"/>
          </a:xfrm>
        </p:grpSpPr>
        <p:pic>
          <p:nvPicPr>
            <p:cNvPr id="193" name="AutoShape 9" descr=""/>
            <p:cNvPicPr/>
            <p:nvPr/>
          </p:nvPicPr>
          <p:blipFill>
            <a:blip r:embed="rId4"/>
            <a:stretch/>
          </p:blipFill>
          <p:spPr>
            <a:xfrm>
              <a:off x="1450800" y="5132520"/>
              <a:ext cx="65469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1476360" y="5337000"/>
              <a:ext cx="5607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195" name="Picture 4" descr=""/>
          <p:cNvPicPr/>
          <p:nvPr/>
        </p:nvPicPr>
        <p:blipFill>
          <a:blip r:embed="rId5"/>
          <a:stretch/>
        </p:blipFill>
        <p:spPr>
          <a:xfrm>
            <a:off x="6588000" y="44280"/>
            <a:ext cx="2543400" cy="500400"/>
          </a:xfrm>
          <a:prstGeom prst="rect">
            <a:avLst/>
          </a:prstGeom>
          <a:ln w="0">
            <a:noFill/>
          </a:ln>
        </p:spPr>
      </p:pic>
      <p:sp>
        <p:nvSpPr>
          <p:cNvPr id="196" name="12 Marcador de número de diapositiva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B258D-AB48-4347-AA04-DDB39630B873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13 Marcador de pie de página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www.sistemaspublicos.c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545040" y="87480"/>
            <a:ext cx="8053920" cy="1208520"/>
          </a:xfrm>
          <a:prstGeom prst="rect">
            <a:avLst/>
          </a:prstGeom>
          <a:solidFill>
            <a:srgbClr val="b9d5b9"/>
          </a:solidFill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VALOR PÚBLICO: CONCEPTO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68000" y="1483920"/>
            <a:ext cx="80643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 algn="just">
              <a:lnSpc>
                <a:spcPct val="10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Fuerte componente subjetivo (preferencias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81288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812880" indent="-812880" algn="just">
              <a:lnSpc>
                <a:spcPct val="10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Valor final NO se define en gabinete, sino por ciudadanos/usuarios/clientes</a:t>
            </a: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81288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812880" indent="-812880" algn="just">
              <a:lnSpc>
                <a:spcPct val="10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Mayores esfuerzos en “procesos de identificación y valoración” de preferencias públicas (profundiza la democracia) y las preferencias privada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1168560" indent="-711360" algn="just">
              <a:lnSpc>
                <a:spcPct val="100000"/>
              </a:lnSpc>
              <a:buClr>
                <a:srgbClr val="003366"/>
              </a:buClr>
              <a:buSzPct val="75000"/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Calibri"/>
              </a:rPr>
              <a:t>focus groups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1168560" indent="-711360" algn="just">
              <a:lnSpc>
                <a:spcPct val="100000"/>
              </a:lnSpc>
              <a:buClr>
                <a:srgbClr val="003366"/>
              </a:buClr>
              <a:buSzPct val="75000"/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Calibri"/>
              </a:rPr>
              <a:t>consejos consultivos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1168560" indent="-711360" algn="just">
              <a:lnSpc>
                <a:spcPct val="100000"/>
              </a:lnSpc>
              <a:buClr>
                <a:srgbClr val="003366"/>
              </a:buClr>
              <a:buSzPct val="75000"/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Calibri"/>
              </a:rPr>
              <a:t>páginas web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1168560" indent="-711360" algn="just">
              <a:lnSpc>
                <a:spcPct val="100000"/>
              </a:lnSpc>
              <a:buClr>
                <a:srgbClr val="003366"/>
              </a:buClr>
              <a:buSzPct val="75000"/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Calibri"/>
              </a:rPr>
              <a:t>comunicación con las autoridades políticas y representantes de las comunidad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1168560" indent="-711360" algn="just">
              <a:lnSpc>
                <a:spcPct val="100000"/>
              </a:lnSpc>
              <a:buClr>
                <a:srgbClr val="003366"/>
              </a:buClr>
              <a:buSzPct val="75000"/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Calibri"/>
              </a:rPr>
              <a:t>encuestas de satisfacción de usuarios..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6588000" y="44280"/>
            <a:ext cx="2543400" cy="500400"/>
          </a:xfrm>
          <a:prstGeom prst="rect">
            <a:avLst/>
          </a:prstGeom>
          <a:ln w="0">
            <a:noFill/>
          </a:ln>
        </p:spPr>
      </p:pic>
      <p:sp>
        <p:nvSpPr>
          <p:cNvPr id="201" name="6 Marcador de número de diapositiva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37624-5047-4B4B-9476-123E8028BE7C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7 Marcador de pie de página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www.sistemaspublicos.c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2" dur="1" fill="hold"/>
                                  <p:tgtEl>
                                    <p:spTgt spid="19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  <p:animClr clrSpc="rgb">
                                <p:cBhvr>
                                  <p:cTn id="63" dur="1" fill="hold"/>
                                  <p:tgtEl>
                                    <p:spTgt spid="19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  <p:animClr clrSpc="rgb">
                                <p:cBhvr>
                                  <p:cTn id="64" dur="1" fill="hold"/>
                                  <p:tgtEl>
                                    <p:spTgt spid="19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  <p:animClr clrSpc="rgb">
                                <p:cBhvr>
                                  <p:cTn id="65" dur="1" fill="hold"/>
                                  <p:tgtEl>
                                    <p:spTgt spid="19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  <p:animClr clrSpc="rgb">
                                <p:cBhvr>
                                  <p:cTn id="66" dur="1" fill="hold"/>
                                  <p:tgtEl>
                                    <p:spTgt spid="199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  <p:animClr clrSpc="rgb">
                                <p:cBhvr>
                                  <p:cTn id="67" dur="1" fill="hold"/>
                                  <p:tgtEl>
                                    <p:spTgt spid="199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899280" y="332280"/>
            <a:ext cx="7780320" cy="998280"/>
          </a:xfrm>
          <a:prstGeom prst="rect">
            <a:avLst/>
          </a:prstGeom>
          <a:solidFill>
            <a:srgbClr val="b9d5b9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ÁMBITOS BÁSICOS DÓNDE MEDIR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04" name="Rectangle 3"/>
          <p:cNvGrpSpPr/>
          <p:nvPr/>
        </p:nvGrpSpPr>
        <p:grpSpPr>
          <a:xfrm>
            <a:off x="2938320" y="4896000"/>
            <a:ext cx="3919680" cy="1822320"/>
            <a:chOff x="2938320" y="4896000"/>
            <a:chExt cx="3919680" cy="1822320"/>
          </a:xfrm>
        </p:grpSpPr>
        <p:pic>
          <p:nvPicPr>
            <p:cNvPr id="205" name="Rectangle 3" descr=""/>
            <p:cNvPicPr/>
            <p:nvPr/>
          </p:nvPicPr>
          <p:blipFill>
            <a:blip r:embed="rId1"/>
            <a:stretch/>
          </p:blipFill>
          <p:spPr>
            <a:xfrm>
              <a:off x="2938320" y="4896000"/>
              <a:ext cx="3919680" cy="18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2987640" y="4941720"/>
              <a:ext cx="3745080" cy="165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3366"/>
                  </a:solidFill>
                  <a:latin typeface="Arial"/>
                  <a:ea typeface="Arial"/>
                </a:rPr>
                <a:t>VALOR PÚBLICO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07" name="Oval 4"/>
          <p:cNvGrpSpPr/>
          <p:nvPr/>
        </p:nvGrpSpPr>
        <p:grpSpPr>
          <a:xfrm>
            <a:off x="195120" y="1523880"/>
            <a:ext cx="3102120" cy="2225880"/>
            <a:chOff x="195120" y="1523880"/>
            <a:chExt cx="3102120" cy="2225880"/>
          </a:xfrm>
        </p:grpSpPr>
        <p:pic>
          <p:nvPicPr>
            <p:cNvPr id="208" name="Oval 4" descr=""/>
            <p:cNvPicPr/>
            <p:nvPr/>
          </p:nvPicPr>
          <p:blipFill>
            <a:blip r:embed="rId2"/>
            <a:stretch/>
          </p:blipFill>
          <p:spPr>
            <a:xfrm>
              <a:off x="195120" y="1523880"/>
              <a:ext cx="3102120" cy="222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652320" y="1863720"/>
              <a:ext cx="2048040" cy="147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66"/>
                  </a:solidFill>
                  <a:latin typeface="Arial"/>
                  <a:ea typeface="Arial"/>
                </a:rPr>
                <a:t>PRODUCTOS/SERVICIOS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10" name="Oval 5"/>
          <p:cNvGrpSpPr/>
          <p:nvPr/>
        </p:nvGrpSpPr>
        <p:grpSpPr>
          <a:xfrm>
            <a:off x="3316320" y="1523880"/>
            <a:ext cx="3035160" cy="2225880"/>
            <a:chOff x="3316320" y="1523880"/>
            <a:chExt cx="3035160" cy="2225880"/>
          </a:xfrm>
        </p:grpSpPr>
        <p:pic>
          <p:nvPicPr>
            <p:cNvPr id="211" name="Oval 5" descr=""/>
            <p:cNvPicPr/>
            <p:nvPr/>
          </p:nvPicPr>
          <p:blipFill>
            <a:blip r:embed="rId3"/>
            <a:stretch/>
          </p:blipFill>
          <p:spPr>
            <a:xfrm>
              <a:off x="3316320" y="1523880"/>
              <a:ext cx="3035160" cy="222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3773520" y="1863720"/>
              <a:ext cx="2049480" cy="147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66"/>
                  </a:solidFill>
                  <a:latin typeface="Arial"/>
                  <a:ea typeface="Arial"/>
                </a:rPr>
                <a:t>IMPACT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13" name="Oval 6"/>
          <p:cNvGrpSpPr/>
          <p:nvPr/>
        </p:nvGrpSpPr>
        <p:grpSpPr>
          <a:xfrm>
            <a:off x="6351480" y="1414440"/>
            <a:ext cx="2792520" cy="2408400"/>
            <a:chOff x="6351480" y="1414440"/>
            <a:chExt cx="2792520" cy="2408400"/>
          </a:xfrm>
        </p:grpSpPr>
        <p:pic>
          <p:nvPicPr>
            <p:cNvPr id="214" name="Oval 6" descr=""/>
            <p:cNvPicPr/>
            <p:nvPr/>
          </p:nvPicPr>
          <p:blipFill>
            <a:blip r:embed="rId4"/>
            <a:stretch/>
          </p:blipFill>
          <p:spPr>
            <a:xfrm>
              <a:off x="6351480" y="1414440"/>
              <a:ext cx="2792520" cy="24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6762600" y="1779480"/>
              <a:ext cx="1886040" cy="160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66"/>
                  </a:solidFill>
                  <a:latin typeface="Arial"/>
                  <a:ea typeface="Arial"/>
                </a:rPr>
                <a:t>CONFIANZA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16" name="Line 7"/>
          <p:cNvSpPr/>
          <p:nvPr/>
        </p:nvSpPr>
        <p:spPr>
          <a:xfrm>
            <a:off x="2195640" y="3789360"/>
            <a:ext cx="1461960" cy="1011240"/>
          </a:xfrm>
          <a:prstGeom prst="line">
            <a:avLst/>
          </a:prstGeom>
          <a:ln w="130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Line 8"/>
          <p:cNvSpPr/>
          <p:nvPr/>
        </p:nvSpPr>
        <p:spPr>
          <a:xfrm flipH="1">
            <a:off x="4952520" y="3809880"/>
            <a:ext cx="1800" cy="1081080"/>
          </a:xfrm>
          <a:prstGeom prst="line">
            <a:avLst/>
          </a:prstGeom>
          <a:ln w="130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Line 9"/>
          <p:cNvSpPr/>
          <p:nvPr/>
        </p:nvSpPr>
        <p:spPr>
          <a:xfrm flipH="1">
            <a:off x="6372360" y="3716280"/>
            <a:ext cx="699840" cy="1143000"/>
          </a:xfrm>
          <a:prstGeom prst="line">
            <a:avLst/>
          </a:prstGeom>
          <a:ln w="130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9" name="Picture 4" descr=""/>
          <p:cNvPicPr/>
          <p:nvPr/>
        </p:nvPicPr>
        <p:blipFill>
          <a:blip r:embed="rId5"/>
          <a:stretch/>
        </p:blipFill>
        <p:spPr>
          <a:xfrm>
            <a:off x="6588000" y="44280"/>
            <a:ext cx="2543400" cy="500400"/>
          </a:xfrm>
          <a:prstGeom prst="rect">
            <a:avLst/>
          </a:prstGeom>
          <a:ln w="0">
            <a:noFill/>
          </a:ln>
        </p:spPr>
      </p:pic>
      <p:sp>
        <p:nvSpPr>
          <p:cNvPr id="220" name="12 Marcador de número de diapositiva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4D7C3-C762-4948-A2AA-708838DC8882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13 Marcador de pie de página"/>
          <p:cNvSpPr/>
          <p:nvPr/>
        </p:nvSpPr>
        <p:spPr>
          <a:xfrm>
            <a:off x="6499080" y="6383160"/>
            <a:ext cx="2897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www.sistemaspublicos.c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b9d5b9"/>
          </a:solidFill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VALOR PÚBLICO: CONCEPTO</a:t>
            </a:r>
            <a:br>
              <a:rPr sz="3200"/>
            </a:b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VALOR PRIVADO VS PÚBLICO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0" y="1989000"/>
            <a:ext cx="8820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772200" indent="-772200" algn="just">
              <a:lnSpc>
                <a:spcPct val="12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Análogamente a como ocurre en el sector privado se podría hacer un esfuerzo de </a:t>
            </a:r>
            <a:r>
              <a:rPr b="1" i="1" lang="es-ES" sz="2400" spc="-1" strike="noStrike">
                <a:solidFill>
                  <a:srgbClr val="003366"/>
                </a:solidFill>
                <a:latin typeface="Calibri"/>
              </a:rPr>
              <a:t>estimación en un periodo futuro</a:t>
            </a:r>
            <a:r>
              <a:rPr b="1" i="1" lang="es-ES" sz="2400" spc="-1" strike="noStrike">
                <a:solidFill>
                  <a:srgbClr val="003366"/>
                </a:solidFill>
                <a:latin typeface="Calibri"/>
              </a:rPr>
              <a:t> y </a:t>
            </a:r>
            <a:r>
              <a:rPr b="1" i="1" lang="es-ES" sz="2400" spc="-1" strike="noStrike">
                <a:solidFill>
                  <a:srgbClr val="003366"/>
                </a:solidFill>
                <a:latin typeface="Calibri"/>
              </a:rPr>
              <a:t>traerlo a valor presente</a:t>
            </a: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772200" indent="-772200" algn="just">
              <a:lnSpc>
                <a:spcPct val="12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¿Cuánto vale una organización pública?= flujo de beneficios-costos, a valor presente 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772200" indent="-772200" algn="just">
              <a:lnSpc>
                <a:spcPct val="12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En muchos casos los beneficios y costos, no pueden ser medidos monetariamente, pero es intrínseco a esta aproximación generar </a:t>
            </a:r>
            <a:r>
              <a:rPr b="1" i="1" lang="es-ES" sz="2400" spc="-1" strike="noStrike">
                <a:solidFill>
                  <a:srgbClr val="003366"/>
                </a:solidFill>
                <a:latin typeface="Calibri"/>
              </a:rPr>
              <a:t>esfuerzos crecientes</a:t>
            </a: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 de cuantificación</a:t>
            </a: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  en aquellos ámbitos donde sea posible. Con el tiempo se crearán indicado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1109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4" name="Picture 4" descr=""/>
          <p:cNvPicPr/>
          <p:nvPr/>
        </p:nvPicPr>
        <p:blipFill>
          <a:blip r:embed="rId1"/>
          <a:stretch/>
        </p:blipFill>
        <p:spPr>
          <a:xfrm>
            <a:off x="6588000" y="44280"/>
            <a:ext cx="2543400" cy="500400"/>
          </a:xfrm>
          <a:prstGeom prst="rect">
            <a:avLst/>
          </a:prstGeom>
          <a:ln w="0">
            <a:noFill/>
          </a:ln>
        </p:spPr>
      </p:pic>
      <p:sp>
        <p:nvSpPr>
          <p:cNvPr id="225" name="6 Marcador de número de diapositiva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F8FA6-0805-4615-9A6A-09BD4CC8EC40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7 Marcador de pie de página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www.sistemaspublicos.c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7" name="Picture 4" descr="j0233018"/>
          <p:cNvPicPr/>
          <p:nvPr/>
        </p:nvPicPr>
        <p:blipFill>
          <a:blip r:embed="rId2"/>
          <a:stretch/>
        </p:blipFill>
        <p:spPr>
          <a:xfrm>
            <a:off x="0" y="260280"/>
            <a:ext cx="2093760" cy="16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747720" y="756000"/>
            <a:ext cx="7797240" cy="880560"/>
          </a:xfrm>
          <a:prstGeom prst="rect">
            <a:avLst/>
          </a:prstGeom>
          <a:solidFill>
            <a:srgbClr val="b9d5b9"/>
          </a:solidFill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VALOR PÚBLICO: CONCEPTO</a:t>
            </a:r>
            <a:br>
              <a:rPr sz="24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0" y="1699920"/>
            <a:ext cx="8748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772200" indent="-772200" algn="just">
              <a:lnSpc>
                <a:spcPct val="14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El concepto de VP es </a:t>
            </a: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análogo al de Valor Privado</a:t>
            </a: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: valor para dueños y valor para client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772200" indent="-772200" algn="just">
              <a:lnSpc>
                <a:spcPct val="14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Pero difiere de manera importante por la </a:t>
            </a: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dificultad de la métrica</a:t>
            </a: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. El valor público no es completamente reducible a $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772200" indent="-772200" algn="just">
              <a:lnSpc>
                <a:spcPct val="14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Además el VP en rigor debiera considerar el </a:t>
            </a: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efecto coordinación y descoordinación interagencias</a:t>
            </a: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 (varios servicios actuando: “una gran empresa”)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1"/>
          <a:stretch/>
        </p:blipFill>
        <p:spPr>
          <a:xfrm>
            <a:off x="6588000" y="44280"/>
            <a:ext cx="2543400" cy="500400"/>
          </a:xfrm>
          <a:prstGeom prst="rect">
            <a:avLst/>
          </a:prstGeom>
          <a:ln w="0">
            <a:noFill/>
          </a:ln>
        </p:spPr>
      </p:pic>
      <p:sp>
        <p:nvSpPr>
          <p:cNvPr id="231" name="6 Marcador de número de diapositiva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2A0DB-4E77-4CFE-ACD8-367597389327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7 Marcador de pie de página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www.sistemaspublicos.c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820800" y="895320"/>
            <a:ext cx="7806600" cy="816840"/>
          </a:xfrm>
          <a:prstGeom prst="rect">
            <a:avLst/>
          </a:prstGeom>
          <a:solidFill>
            <a:srgbClr val="b9d5b9"/>
          </a:solidFill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VALOR PÚBLICO: CONCEPTO</a:t>
            </a:r>
            <a:br>
              <a:rPr sz="24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324000" y="1773000"/>
            <a:ext cx="84960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 algn="just">
              <a:lnSpc>
                <a:spcPct val="14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Por otra parte, en el caso del VP los </a:t>
            </a: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ciudadanos (dueños) son clientes y usuarios también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812880" indent="-812880" algn="just">
              <a:lnSpc>
                <a:spcPct val="14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También son </a:t>
            </a: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proveedores y empleados</a:t>
            </a: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 (ej. Funcionarios de salud y educación)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812880" indent="-812880" algn="just">
              <a:lnSpc>
                <a:spcPct val="14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La comunidad de dueños también considera a las </a:t>
            </a: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generaciones futur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8128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1"/>
          <a:stretch/>
        </p:blipFill>
        <p:spPr>
          <a:xfrm>
            <a:off x="6588000" y="44280"/>
            <a:ext cx="2543400" cy="500400"/>
          </a:xfrm>
          <a:prstGeom prst="rect">
            <a:avLst/>
          </a:prstGeom>
          <a:ln w="0">
            <a:noFill/>
          </a:ln>
        </p:spPr>
      </p:pic>
      <p:sp>
        <p:nvSpPr>
          <p:cNvPr id="236" name="6 Marcador de número de diapositiva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0927D-F072-416C-9DCB-3DF48F4288D8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7 Marcador de pie de página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www.sistemaspublicos.c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833040" y="691920"/>
            <a:ext cx="7782120" cy="981360"/>
          </a:xfrm>
          <a:prstGeom prst="rect">
            <a:avLst/>
          </a:prstGeom>
          <a:solidFill>
            <a:srgbClr val="b9d5b9"/>
          </a:solidFill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VALOR PÚBLICO: CONCEPTO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0" y="1773360"/>
            <a:ext cx="8820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168560" indent="-711360" algn="just">
              <a:lnSpc>
                <a:spcPct val="100000"/>
              </a:lnSpc>
              <a:buClr>
                <a:srgbClr val="003366"/>
              </a:buClr>
              <a:buSzPct val="75000"/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En el sector público el </a:t>
            </a: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trato equitativo es muy relevante</a:t>
            </a: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. Es decir, la valoración de los usuarios depende también del trato a otr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1168560" indent="-711360" algn="just">
              <a:lnSpc>
                <a:spcPct val="100000"/>
              </a:lnSpc>
              <a:buClr>
                <a:srgbClr val="003366"/>
              </a:buClr>
              <a:buSzPct val="75000"/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66"/>
                </a:solidFill>
                <a:latin typeface="Calibri"/>
              </a:rPr>
              <a:t>El VP es </a:t>
            </a:r>
            <a:r>
              <a:rPr b="1" lang="es-CL" sz="2800" spc="-1" strike="noStrike">
                <a:solidFill>
                  <a:srgbClr val="003366"/>
                </a:solidFill>
                <a:latin typeface="Calibri"/>
              </a:rPr>
              <a:t>más intensivo en demandar cambios en normas sociales y códigos de comportamiento </a:t>
            </a:r>
            <a:r>
              <a:rPr b="1" lang="es-CL" sz="2800" spc="-1" strike="noStrike">
                <a:solidFill>
                  <a:srgbClr val="003366"/>
                </a:solidFill>
                <a:latin typeface="Calibri"/>
              </a:rPr>
              <a:t>(COPRODUCCION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523880" indent="-609480" algn="just">
              <a:lnSpc>
                <a:spcPct val="100000"/>
              </a:lnSpc>
              <a:buClr>
                <a:srgbClr val="003366"/>
              </a:buClr>
              <a:buSzPct val="75000"/>
              <a:buFont typeface="Wingdings" charset="2"/>
              <a:buChar char="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Calibri"/>
              </a:rPr>
              <a:t>conducción bajo alcoho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523880" indent="-609480" algn="just">
              <a:lnSpc>
                <a:spcPct val="100000"/>
              </a:lnSpc>
              <a:buClr>
                <a:srgbClr val="003366"/>
              </a:buClr>
              <a:buSzPct val="75000"/>
              <a:buFont typeface="Wingdings" charset="2"/>
              <a:buChar char="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Calibri"/>
              </a:rPr>
              <a:t>higiene y prevención (salud pública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523880" indent="-609480" algn="just">
              <a:lnSpc>
                <a:spcPct val="100000"/>
              </a:lnSpc>
              <a:buClr>
                <a:srgbClr val="003366"/>
              </a:buClr>
              <a:buSzPct val="75000"/>
              <a:buFont typeface="Wingdings" charset="2"/>
              <a:buChar char="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Calibri"/>
              </a:rPr>
              <a:t>lactancia materna y salud infanti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523880" indent="-609480" algn="just">
              <a:lnSpc>
                <a:spcPct val="100000"/>
              </a:lnSpc>
              <a:buClr>
                <a:srgbClr val="003366"/>
              </a:buClr>
              <a:buSzPct val="75000"/>
              <a:buFont typeface="Wingdings" charset="2"/>
              <a:buChar char="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Calibri"/>
              </a:rPr>
              <a:t>Programas contra la pobrez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6588000" y="44280"/>
            <a:ext cx="2543400" cy="500400"/>
          </a:xfrm>
          <a:prstGeom prst="rect">
            <a:avLst/>
          </a:prstGeom>
          <a:ln w="0">
            <a:noFill/>
          </a:ln>
        </p:spPr>
      </p:pic>
      <p:sp>
        <p:nvSpPr>
          <p:cNvPr id="241" name="6 Marcador de número de diapositiva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7B88A-57E4-4C97-B85D-E506AB517604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7 Marcador de pie de página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www.sistemaspublicos.c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3" name="Picture 4" descr="j0233018"/>
          <p:cNvPicPr/>
          <p:nvPr/>
        </p:nvPicPr>
        <p:blipFill>
          <a:blip r:embed="rId2"/>
          <a:stretch/>
        </p:blipFill>
        <p:spPr>
          <a:xfrm>
            <a:off x="0" y="260280"/>
            <a:ext cx="20937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9" dur="1" fill="hold"/>
                                  <p:tgtEl>
                                    <p:spTgt spid="23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  <p:animClr clrSpc="rgb">
                                <p:cBhvr>
                                  <p:cTn id="90" dur="1" fill="hold"/>
                                  <p:tgtEl>
                                    <p:spTgt spid="23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  <p:animClr clrSpc="rgb">
                                <p:cBhvr>
                                  <p:cTn id="91" dur="1" fill="hold"/>
                                  <p:tgtEl>
                                    <p:spTgt spid="23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  <p:animClr clrSpc="rgb">
                                <p:cBhvr>
                                  <p:cTn id="92" dur="1" fill="hold"/>
                                  <p:tgtEl>
                                    <p:spTgt spid="23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  <p:animClr clrSpc="rgb">
                                <p:cBhvr>
                                  <p:cTn id="93" dur="1" fill="hold"/>
                                  <p:tgtEl>
                                    <p:spTgt spid="23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11" name="AutoShape 4"/>
          <p:cNvGrpSpPr/>
          <p:nvPr/>
        </p:nvGrpSpPr>
        <p:grpSpPr>
          <a:xfrm>
            <a:off x="920880" y="4462560"/>
            <a:ext cx="2382840" cy="1798560"/>
            <a:chOff x="920880" y="4462560"/>
            <a:chExt cx="2382840" cy="1798560"/>
          </a:xfrm>
        </p:grpSpPr>
        <p:pic>
          <p:nvPicPr>
            <p:cNvPr id="112" name="AutoShape 4" descr=""/>
            <p:cNvPicPr/>
            <p:nvPr/>
          </p:nvPicPr>
          <p:blipFill>
            <a:blip r:embed="rId1"/>
            <a:stretch/>
          </p:blipFill>
          <p:spPr>
            <a:xfrm>
              <a:off x="920880" y="4462560"/>
              <a:ext cx="238284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1052640" y="4589640"/>
              <a:ext cx="2070000" cy="14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3366"/>
                  </a:solidFill>
                  <a:latin typeface="Arial Black"/>
                </a:rPr>
                <a:t>Desmontando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3366"/>
                  </a:solidFill>
                  <a:latin typeface="Arial Black"/>
                </a:rPr>
                <a:t>Paradigmas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114" name="AutoShape 5" descr=""/>
          <p:cNvPicPr/>
          <p:nvPr/>
        </p:nvPicPr>
        <p:blipFill>
          <a:blip r:embed="rId2"/>
          <a:stretch/>
        </p:blipFill>
        <p:spPr>
          <a:xfrm>
            <a:off x="3413160" y="3865680"/>
            <a:ext cx="3554280" cy="1541520"/>
          </a:xfrm>
          <a:prstGeom prst="rect">
            <a:avLst/>
          </a:prstGeom>
          <a:ln w="0">
            <a:noFill/>
          </a:ln>
        </p:spPr>
      </p:pic>
      <p:grpSp>
        <p:nvGrpSpPr>
          <p:cNvPr id="115" name="AutoShape 6"/>
          <p:cNvGrpSpPr/>
          <p:nvPr/>
        </p:nvGrpSpPr>
        <p:grpSpPr>
          <a:xfrm>
            <a:off x="4498920" y="1878120"/>
            <a:ext cx="4243320" cy="2522520"/>
            <a:chOff x="4498920" y="1878120"/>
            <a:chExt cx="4243320" cy="2522520"/>
          </a:xfrm>
        </p:grpSpPr>
        <p:pic>
          <p:nvPicPr>
            <p:cNvPr id="116" name="AutoShape 6" descr=""/>
            <p:cNvPicPr/>
            <p:nvPr/>
          </p:nvPicPr>
          <p:blipFill>
            <a:blip r:embed="rId3"/>
            <a:stretch/>
          </p:blipFill>
          <p:spPr>
            <a:xfrm>
              <a:off x="4498920" y="1878120"/>
              <a:ext cx="4243320" cy="25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4687920" y="2033640"/>
              <a:ext cx="3871800" cy="21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3366"/>
                  </a:solidFill>
                  <a:latin typeface="Arial Black"/>
                </a:rPr>
                <a:t>Nuevo Enfoque, Nuevo Rol: 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3366"/>
                  </a:solidFill>
                  <a:latin typeface="Arial Black"/>
                </a:rPr>
                <a:t>Creación de Valor Público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118" name="Picture 4" descr=""/>
          <p:cNvPicPr/>
          <p:nvPr/>
        </p:nvPicPr>
        <p:blipFill>
          <a:blip r:embed="rId4"/>
          <a:stretch/>
        </p:blipFill>
        <p:spPr>
          <a:xfrm>
            <a:off x="6588000" y="44280"/>
            <a:ext cx="2543400" cy="500400"/>
          </a:xfrm>
          <a:prstGeom prst="rect">
            <a:avLst/>
          </a:prstGeom>
          <a:ln w="0">
            <a:noFill/>
          </a:ln>
        </p:spPr>
      </p:pic>
      <p:sp>
        <p:nvSpPr>
          <p:cNvPr id="119" name="18 Marcador de número de diapositiva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2529D-CE53-4948-B555-2949F5730FB7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19 Marcador de pie de página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www.sistemaspublicos.c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solidFill>
            <a:srgbClr val="63c8c8"/>
          </a:solidFill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66"/>
                </a:solidFill>
                <a:latin typeface="Arial"/>
              </a:rPr>
              <a:t>La Estrategia Organizativa en el Sector Público</a:t>
            </a:r>
            <a:br>
              <a:rPr sz="3600"/>
            </a:br>
            <a:r>
              <a:rPr b="1" i="1" lang="es-CL" sz="3600" spc="-1" strike="noStrike">
                <a:solidFill>
                  <a:srgbClr val="ff0000"/>
                </a:solidFill>
                <a:latin typeface="Arial"/>
              </a:rPr>
              <a:t>Clase 2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99"/>
                </a:solidFill>
                <a:latin typeface="Arial"/>
              </a:rPr>
              <a:t>Enfoque ESTRATEGICO de Creación de Valor Públic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6588000" y="44280"/>
            <a:ext cx="2543400" cy="5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90720" y="206280"/>
            <a:ext cx="8962560" cy="1248840"/>
          </a:xfrm>
          <a:prstGeom prst="rect">
            <a:avLst/>
          </a:prstGeom>
          <a:solidFill>
            <a:srgbClr val="b9d5b9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66"/>
                </a:solidFill>
                <a:latin typeface="Arial"/>
              </a:rPr>
              <a:t>Caso 2: “William Ruckelshaus y la Agencia de Protección Ambiental” </a:t>
            </a:r>
            <a:br>
              <a:rPr sz="3200"/>
            </a:br>
            <a:r>
              <a:rPr b="1" lang="es-CL" sz="2000" spc="-1" strike="noStrike">
                <a:solidFill>
                  <a:srgbClr val="006666"/>
                </a:solidFill>
                <a:latin typeface="Arial"/>
              </a:rPr>
              <a:t>( Moore, 1998; p 108 y ss)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Arial"/>
              </a:rPr>
              <a:t>Se arman grupos (proyecto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Arial"/>
              </a:rPr>
              <a:t>Lectura individual (20´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Arial"/>
              </a:rPr>
              <a:t>Discusión del caso en grupo (30´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3366"/>
                </a:solidFill>
                <a:latin typeface="Arial"/>
              </a:rPr>
              <a:t>¿Cuáles son los antecedentes básicos? (actores/intereses/tendencia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3366"/>
                </a:solidFill>
                <a:latin typeface="Arial"/>
              </a:rPr>
              <a:t>¿Cuál es el valor público asociado a la agencia de la EPA? (aplique conceptos clase pasada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3366"/>
                </a:solidFill>
                <a:latin typeface="Arial"/>
              </a:rPr>
              <a:t>¿Cuáles son las motivaciones del gobierno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3366"/>
                </a:solidFill>
                <a:latin typeface="Arial"/>
              </a:rPr>
              <a:t>¿Cuáles son los “desafíos clave” de Ruckleshaus? ¿Cuáles son los “ámbitos donde debe gestionar” R.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3366"/>
                </a:solidFill>
                <a:latin typeface="Arial"/>
              </a:rPr>
              <a:t>¿Cuáles son las estratégicas que adopta? ¿Qué características/ventajas tien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3366"/>
                </a:solidFill>
                <a:latin typeface="Arial"/>
              </a:rPr>
              <a:t>¿Agrega Valor Público la gestión de R., cómo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6600960" y="836640"/>
            <a:ext cx="2543040" cy="500040"/>
          </a:xfrm>
          <a:prstGeom prst="rect">
            <a:avLst/>
          </a:prstGeom>
          <a:ln w="0">
            <a:noFill/>
          </a:ln>
        </p:spPr>
      </p:pic>
      <p:sp>
        <p:nvSpPr>
          <p:cNvPr id="250" name="6 Marcador de número de diapositiva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8DD45-65EB-43C4-A323-C63A7427DF81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7 Marcador de pie de página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www.sistemaspublicos.c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3432960" y="659160"/>
            <a:ext cx="8269200" cy="1171800"/>
          </a:xfrm>
          <a:prstGeom prst="rect">
            <a:avLst/>
          </a:prstGeom>
          <a:solidFill>
            <a:srgbClr val="b9d5b9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odelo Analítico Básico (Mark Moore)</a:t>
            </a:r>
            <a:br>
              <a:rPr sz="24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iagnóstico de la Posición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stratégica de una Organización.</a:t>
            </a:r>
            <a:br>
              <a:rPr sz="2000"/>
            </a:b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3" name="Oval 3"/>
          <p:cNvSpPr/>
          <p:nvPr/>
        </p:nvSpPr>
        <p:spPr>
          <a:xfrm>
            <a:off x="1763640" y="3068640"/>
            <a:ext cx="2675160" cy="2279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6451560" y="1878120"/>
            <a:ext cx="25131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1. Propósito/Val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Calibri"/>
              </a:rPr>
              <a:t>Vis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Calibri"/>
              </a:rPr>
              <a:t>Valor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Calibri"/>
              </a:rPr>
              <a:t>Mis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Text Box 7"/>
          <p:cNvSpPr/>
          <p:nvPr/>
        </p:nvSpPr>
        <p:spPr>
          <a:xfrm>
            <a:off x="179280" y="1341360"/>
            <a:ext cx="2116080" cy="192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2. Entorn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Client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E. Polític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Supervisió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E. Económic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Tecnologí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Text Box 8"/>
          <p:cNvSpPr/>
          <p:nvPr/>
        </p:nvSpPr>
        <p:spPr>
          <a:xfrm>
            <a:off x="6616800" y="3889440"/>
            <a:ext cx="2376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3. Capacidad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alibri"/>
              </a:rPr>
              <a:t>Estructur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alibri"/>
              </a:rPr>
              <a:t>Procesos Sustantivos y de Apoy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alibri"/>
              </a:rPr>
              <a:t>Sistemas de evaluación y contro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alibri"/>
              </a:rPr>
              <a:t>RRH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alibri"/>
              </a:rPr>
              <a:t>Finanz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alibri"/>
              </a:rPr>
              <a:t>TIC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Text Box 9"/>
          <p:cNvSpPr/>
          <p:nvPr/>
        </p:nvSpPr>
        <p:spPr>
          <a:xfrm>
            <a:off x="841320" y="5888160"/>
            <a:ext cx="3743280" cy="36828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Maximizar Valor Público que cre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Line 10"/>
          <p:cNvSpPr/>
          <p:nvPr/>
        </p:nvSpPr>
        <p:spPr>
          <a:xfrm flipV="1">
            <a:off x="1914480" y="3852360"/>
            <a:ext cx="2266920" cy="1962360"/>
          </a:xfrm>
          <a:prstGeom prst="line">
            <a:avLst/>
          </a:prstGeom>
          <a:ln w="572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59" name="Group 14"/>
          <p:cNvGrpSpPr/>
          <p:nvPr/>
        </p:nvGrpSpPr>
        <p:grpSpPr>
          <a:xfrm>
            <a:off x="2879640" y="2392200"/>
            <a:ext cx="2732040" cy="2189160"/>
            <a:chOff x="2879640" y="2392200"/>
            <a:chExt cx="2732040" cy="2189160"/>
          </a:xfrm>
        </p:grpSpPr>
        <p:sp>
          <p:nvSpPr>
            <p:cNvPr id="260" name="Oval 4"/>
            <p:cNvSpPr/>
            <p:nvPr/>
          </p:nvSpPr>
          <p:spPr>
            <a:xfrm>
              <a:off x="2879640" y="2392200"/>
              <a:ext cx="2732040" cy="2189160"/>
            </a:xfrm>
            <a:prstGeom prst="ellipse">
              <a:avLst/>
            </a:prstGeom>
            <a:noFill/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1" name="Text Box 12"/>
            <p:cNvSpPr/>
            <p:nvPr/>
          </p:nvSpPr>
          <p:spPr>
            <a:xfrm>
              <a:off x="4142160" y="2781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33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62" name="Group 15"/>
          <p:cNvGrpSpPr/>
          <p:nvPr/>
        </p:nvGrpSpPr>
        <p:grpSpPr>
          <a:xfrm>
            <a:off x="3610080" y="3371760"/>
            <a:ext cx="2917800" cy="1889280"/>
            <a:chOff x="3610080" y="3371760"/>
            <a:chExt cx="2917800" cy="1889280"/>
          </a:xfrm>
        </p:grpSpPr>
        <p:sp>
          <p:nvSpPr>
            <p:cNvPr id="263" name="Oval 5"/>
            <p:cNvSpPr/>
            <p:nvPr/>
          </p:nvSpPr>
          <p:spPr>
            <a:xfrm>
              <a:off x="3610080" y="3371760"/>
              <a:ext cx="2917800" cy="188928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4" name="Text Box 13"/>
            <p:cNvSpPr/>
            <p:nvPr/>
          </p:nvSpPr>
          <p:spPr>
            <a:xfrm>
              <a:off x="5345280" y="42400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33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65" name="Text Box 16"/>
          <p:cNvSpPr/>
          <p:nvPr/>
        </p:nvSpPr>
        <p:spPr>
          <a:xfrm>
            <a:off x="2268360" y="1982880"/>
            <a:ext cx="424836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66" name="Picture 4" descr=""/>
          <p:cNvPicPr/>
          <p:nvPr/>
        </p:nvPicPr>
        <p:blipFill>
          <a:blip r:embed="rId1"/>
          <a:stretch/>
        </p:blipFill>
        <p:spPr>
          <a:xfrm>
            <a:off x="6588000" y="44280"/>
            <a:ext cx="2543400" cy="500400"/>
          </a:xfrm>
          <a:prstGeom prst="rect">
            <a:avLst/>
          </a:prstGeom>
          <a:ln w="0">
            <a:noFill/>
          </a:ln>
        </p:spPr>
      </p:pic>
      <p:sp>
        <p:nvSpPr>
          <p:cNvPr id="267" name="18 Marcador de número de diapositiva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EFBB2-2897-4F03-927A-09051622178C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19 Marcador de pie de página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www.sistemaspublicos.c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1055520" y="1655640"/>
            <a:ext cx="7845840" cy="1173600"/>
          </a:xfrm>
          <a:prstGeom prst="rect">
            <a:avLst/>
          </a:prstGeom>
          <a:solidFill>
            <a:srgbClr val="85e0e0"/>
          </a:solidFill>
          <a:ln w="0">
            <a:noFill/>
          </a:ln>
        </p:spPr>
        <p:txBody>
          <a:bodyPr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s-CL" sz="3600" spc="-1" strike="noStrike">
                <a:solidFill>
                  <a:srgbClr val="ff0000"/>
                </a:solidFill>
                <a:latin typeface="Calibri"/>
              </a:rPr>
              <a:t>Del análisis anterior, la estrategia de la organización debe ser esencialmente, según Moore…</a:t>
            </a:r>
            <a:br>
              <a:rPr sz="3600"/>
            </a:br>
            <a:br>
              <a:rPr sz="3600"/>
            </a:br>
            <a:r>
              <a:rPr b="1" lang="es-CL" sz="3000" spc="-1" strike="noStrike">
                <a:solidFill>
                  <a:srgbClr val="003366"/>
                </a:solidFill>
                <a:latin typeface="Calibri"/>
              </a:rPr>
              <a:t>(A) Sustantivamente valiosa</a:t>
            </a:r>
            <a:br>
              <a:rPr sz="3000"/>
            </a:br>
            <a:r>
              <a:rPr b="1" lang="es-CL" sz="3000" spc="-1" strike="noStrike">
                <a:solidFill>
                  <a:srgbClr val="003366"/>
                </a:solidFill>
                <a:latin typeface="Calibri"/>
              </a:rPr>
              <a:t>(B) Políticamente Sustentable</a:t>
            </a:r>
            <a:br>
              <a:rPr sz="3000"/>
            </a:br>
            <a:r>
              <a:rPr b="1" lang="es-CL" sz="3000" spc="-1" strike="noStrike">
                <a:solidFill>
                  <a:srgbClr val="003366"/>
                </a:solidFill>
                <a:latin typeface="Calibri"/>
              </a:rPr>
              <a:t>(C) Técnicamente Factible</a:t>
            </a:r>
            <a:endParaRPr b="1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70" name="Picture 4" descr=""/>
          <p:cNvPicPr/>
          <p:nvPr/>
        </p:nvPicPr>
        <p:blipFill>
          <a:blip r:embed="rId1"/>
          <a:stretch/>
        </p:blipFill>
        <p:spPr>
          <a:xfrm>
            <a:off x="6588000" y="44280"/>
            <a:ext cx="2543400" cy="5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b9d5b9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Preguntas clave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Calibri"/>
              </a:rPr>
              <a:t>¿De que se trata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Calibri"/>
              </a:rPr>
              <a:t>¿Cual es el valor público que la organización genera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Calibri"/>
              </a:rPr>
              <a:t>¿Cuál es Visión de la Organización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Calibri"/>
              </a:rPr>
              <a:t>¿Cuáles son los Valores / Historia e ideas clav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Calibri"/>
              </a:rPr>
              <a:t>¿Son la Misión y las metas específicas las adecuada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1"/>
          <a:stretch/>
        </p:blipFill>
        <p:spPr>
          <a:xfrm>
            <a:off x="6588000" y="44280"/>
            <a:ext cx="2543400" cy="500400"/>
          </a:xfrm>
          <a:prstGeom prst="rect">
            <a:avLst/>
          </a:prstGeom>
          <a:ln w="0">
            <a:noFill/>
          </a:ln>
        </p:spPr>
      </p:pic>
      <p:sp>
        <p:nvSpPr>
          <p:cNvPr id="274" name="6 Marcador de número de diapositiva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47E20-AF9C-423B-ADBE-F7FCE2335E75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7 Marcador de pie de página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www.sistemaspublicos.c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179280" y="549360"/>
            <a:ext cx="8640720" cy="533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5000"/>
          </a:bodyPr>
          <a:p>
            <a:pPr marL="29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Calibri"/>
              </a:rPr>
              <a:t>La </a:t>
            </a:r>
            <a:r>
              <a:rPr b="1" lang="es-ES" sz="2400" spc="-1" strike="noStrike">
                <a:solidFill>
                  <a:srgbClr val="ff3300"/>
                </a:solidFill>
                <a:latin typeface="Calibri"/>
              </a:rPr>
              <a:t>tarea central del ejecutivo público es crear </a:t>
            </a:r>
            <a:r>
              <a:rPr b="1" i="1" lang="es-ES" sz="2400" spc="-1" strike="noStrike">
                <a:solidFill>
                  <a:srgbClr val="ff3300"/>
                </a:solidFill>
                <a:latin typeface="Calibri"/>
              </a:rPr>
              <a:t>Valor público...</a:t>
            </a:r>
            <a:r>
              <a:rPr b="1" lang="es-ES" sz="2400" spc="-1" strike="noStrike">
                <a:solidFill>
                  <a:srgbClr val="ff33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.... pero ello demanda primero identificar cuál es ese </a:t>
            </a:r>
            <a:r>
              <a:rPr b="1" i="1" lang="es-ES" sz="2400" spc="-1" strike="noStrike">
                <a:solidFill>
                  <a:srgbClr val="003366"/>
                </a:solidFill>
                <a:latin typeface="Calibri"/>
              </a:rPr>
              <a:t>Valor...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3366"/>
                </a:solidFill>
                <a:latin typeface="Calibri"/>
              </a:rPr>
              <a:t>.... </a:t>
            </a: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y ese </a:t>
            </a:r>
            <a:r>
              <a:rPr b="1" i="1" lang="es-ES" sz="2400" spc="-1" strike="noStrike">
                <a:solidFill>
                  <a:srgbClr val="003366"/>
                </a:solidFill>
                <a:latin typeface="Calibri"/>
              </a:rPr>
              <a:t>Valor</a:t>
            </a: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, a diferencia del caso de las organizaciones privadas no necesariamente es unidimensional, no es fácil de medir...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.... de hecho existen serias dificultades traducir las preferencias de los mandantes en un mandato claro e incontrovertible...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.... y por otra parte los clientes o receptores de los “servicios de la organización”  tampoco tienen formas simples y directas de manifestar sus preferencias ...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Calibri"/>
              </a:rPr>
              <a:t>De modo que </a:t>
            </a:r>
            <a:r>
              <a:rPr b="1" lang="es-ES" sz="2400" spc="-1" strike="noStrike">
                <a:solidFill>
                  <a:srgbClr val="ff3300"/>
                </a:solidFill>
                <a:latin typeface="Calibri"/>
              </a:rPr>
              <a:t>el ejecutivo público NO tiene alternativa que formular un concepto de </a:t>
            </a:r>
            <a:r>
              <a:rPr b="1" i="1" lang="es-ES" sz="2400" spc="-1" strike="noStrike">
                <a:solidFill>
                  <a:srgbClr val="ff3300"/>
                </a:solidFill>
                <a:latin typeface="Calibri"/>
              </a:rPr>
              <a:t>Valor Público</a:t>
            </a:r>
            <a:r>
              <a:rPr b="1" lang="es-ES" sz="2400" spc="-1" strike="noStrike">
                <a:solidFill>
                  <a:srgbClr val="000099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Calibri"/>
              </a:rPr>
              <a:t>…</a:t>
            </a: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a partir de múltiples </a:t>
            </a:r>
            <a:r>
              <a:rPr b="1" i="1" lang="es-ES" sz="2400" spc="-1" strike="noStrike">
                <a:solidFill>
                  <a:srgbClr val="003366"/>
                </a:solidFill>
                <a:latin typeface="Calibri"/>
              </a:rPr>
              <a:t>fuentes imperfectas</a:t>
            </a: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 (mandatos estatutarios, técnicas analíticas, consultas a clientes, etc.), entre las cuales el proceso de deliberación política es probablemente la más importante, e ir ajustándolo a través de un proceso de prueba y erro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03366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7" name="Picture 4" descr=""/>
          <p:cNvPicPr/>
          <p:nvPr/>
        </p:nvPicPr>
        <p:blipFill>
          <a:blip r:embed="rId1"/>
          <a:stretch/>
        </p:blipFill>
        <p:spPr>
          <a:xfrm>
            <a:off x="6588000" y="44280"/>
            <a:ext cx="2543400" cy="500400"/>
          </a:xfrm>
          <a:prstGeom prst="rect">
            <a:avLst/>
          </a:prstGeom>
          <a:ln w="0">
            <a:noFill/>
          </a:ln>
        </p:spPr>
      </p:pic>
      <p:sp>
        <p:nvSpPr>
          <p:cNvPr id="278" name="5 Marcador de número de diapositiva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E6453-60F3-4CD8-B37D-4A665FD6D34A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6 Marcador de pie de página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www.sistemaspublicos.c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798840" y="879840"/>
            <a:ext cx="7837560" cy="600120"/>
          </a:xfrm>
          <a:prstGeom prst="rect">
            <a:avLst/>
          </a:prstGeom>
          <a:solidFill>
            <a:srgbClr val="b9d5b9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Pero, hay pistas..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0" y="1557000"/>
            <a:ext cx="9144000" cy="59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El </a:t>
            </a:r>
            <a:r>
              <a:rPr b="1" lang="es-ES" sz="2400" spc="-1" strike="noStrike">
                <a:solidFill>
                  <a:srgbClr val="ff3300"/>
                </a:solidFill>
                <a:latin typeface="Calibri"/>
              </a:rPr>
              <a:t>valor público está enraizado en los valores y preferencias</a:t>
            </a:r>
            <a:r>
              <a:rPr b="1" lang="es-ES" sz="24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de los individuo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Las múltiples preferencias de los ciudadanos son mediadas por el</a:t>
            </a:r>
            <a:r>
              <a:rPr b="1" lang="es-ES" sz="24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es-ES" sz="2400" spc="-1" strike="noStrike">
                <a:solidFill>
                  <a:srgbClr val="ff3300"/>
                </a:solidFill>
                <a:latin typeface="Calibri"/>
              </a:rPr>
              <a:t>sistema representativo</a:t>
            </a:r>
            <a:r>
              <a:rPr b="1" lang="es-ES" sz="2400" spc="-1" strike="noStrike">
                <a:solidFill>
                  <a:srgbClr val="000099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Interesa tanto la producción de bienes públicos (orientado a grupos específicos), como el que la producción se haga de manera ordenada, equitativa y confiable (trust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La </a:t>
            </a:r>
            <a:r>
              <a:rPr b="1" lang="es-ES" sz="2400" spc="-1" strike="noStrike">
                <a:solidFill>
                  <a:srgbClr val="ff3300"/>
                </a:solidFill>
                <a:latin typeface="Calibri"/>
              </a:rPr>
              <a:t>eficiencia y la calidad del servicio</a:t>
            </a:r>
            <a:r>
              <a:rPr b="1" lang="es-ES" sz="24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son altamente</a:t>
            </a:r>
            <a:r>
              <a:rPr b="1" lang="es-ES" sz="24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valorada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Es deseable la utilización de métodos analíticos para evidenciar la generación de valor ( especialmente ante agentes representativos relevantes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El carácter cambiante del mundo demanda capacidad de adaptació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82" name="Picture 4" descr=""/>
          <p:cNvPicPr/>
          <p:nvPr/>
        </p:nvPicPr>
        <p:blipFill>
          <a:blip r:embed="rId1"/>
          <a:stretch/>
        </p:blipFill>
        <p:spPr>
          <a:xfrm>
            <a:off x="6588000" y="44280"/>
            <a:ext cx="2543400" cy="500400"/>
          </a:xfrm>
          <a:prstGeom prst="rect">
            <a:avLst/>
          </a:prstGeom>
          <a:ln w="0">
            <a:noFill/>
          </a:ln>
        </p:spPr>
      </p:pic>
      <p:sp>
        <p:nvSpPr>
          <p:cNvPr id="283" name="6 Marcador de número de diapositiva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7DC80-2FAD-40B8-BA05-0B99CBA1A899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7 Marcador de pie de página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www.sistemaspublicos.c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807480" y="807840"/>
            <a:ext cx="7833240" cy="630720"/>
          </a:xfrm>
          <a:prstGeom prst="rect">
            <a:avLst/>
          </a:prstGeom>
          <a:solidFill>
            <a:srgbClr val="b9d5b9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Arial"/>
              </a:rPr>
              <a:t>Preguntas clave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395280" y="1699920"/>
            <a:ext cx="853272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¿Qué se perdería si esta organización no existiera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¿Qué otras formas existen para hacer lo que esta organización hoy día hace?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¿A quién realmente sirvo? (Focalización)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¿Cuál es la causalidad de la generación de valor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¿Qué espacios de ganancia en materias de calidad de servicio existen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¿Qué espacios de ganancia de confianza existen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87" name="Picture 4" descr=""/>
          <p:cNvPicPr/>
          <p:nvPr/>
        </p:nvPicPr>
        <p:blipFill>
          <a:blip r:embed="rId1"/>
          <a:stretch/>
        </p:blipFill>
        <p:spPr>
          <a:xfrm>
            <a:off x="6588000" y="44280"/>
            <a:ext cx="2543400" cy="500400"/>
          </a:xfrm>
          <a:prstGeom prst="rect">
            <a:avLst/>
          </a:prstGeom>
          <a:ln w="0">
            <a:noFill/>
          </a:ln>
        </p:spPr>
      </p:pic>
      <p:sp>
        <p:nvSpPr>
          <p:cNvPr id="288" name="6 Marcador de número de diapositiva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8BF92-3444-4957-82C1-53BF40F5F2BC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7 Marcador de pie de página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www.sistemaspublicos.c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902520" y="1409040"/>
            <a:ext cx="7796160" cy="104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ff0000"/>
                </a:solidFill>
                <a:latin typeface="Arial"/>
              </a:rPr>
              <a:t>Entorno.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1" name="Oval 3"/>
          <p:cNvSpPr/>
          <p:nvPr/>
        </p:nvSpPr>
        <p:spPr>
          <a:xfrm>
            <a:off x="5292720" y="2679840"/>
            <a:ext cx="1828800" cy="1828800"/>
          </a:xfrm>
          <a:prstGeom prst="ellipse">
            <a:avLst/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4978080" y="475632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Calibri"/>
              </a:rPr>
              <a:t>Entorn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93" name="Picture 4" descr=""/>
          <p:cNvPicPr/>
          <p:nvPr/>
        </p:nvPicPr>
        <p:blipFill>
          <a:blip r:embed="rId1"/>
          <a:stretch/>
        </p:blipFill>
        <p:spPr>
          <a:xfrm>
            <a:off x="6588000" y="44280"/>
            <a:ext cx="2543400" cy="5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817920" y="466920"/>
            <a:ext cx="7650360" cy="862200"/>
          </a:xfrm>
          <a:prstGeom prst="rect">
            <a:avLst/>
          </a:prstGeom>
          <a:solidFill>
            <a:srgbClr val="b9d5b9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Arial"/>
              </a:rPr>
              <a:t>Preguntas clave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178920" y="1562040"/>
            <a:ext cx="8713800" cy="453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Calibri"/>
              </a:rPr>
              <a:t>¿Cuáles son las implicaciones del estado actual (o cambios anticipados) en el entorno de la organización?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Calibri"/>
              </a:rPr>
              <a:t>¿cómo afecta el entorno las capacidades de la organización para alcanzar su propósito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Calibri"/>
              </a:rPr>
              <a:t>¿Debe la organización adaptar o revisar sus metas y propósito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Calibri"/>
              </a:rPr>
              <a:t>¿cómo deben adaptarse las capacidades organizacionales para reflejar los cambios del entorno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Calibri"/>
              </a:rPr>
              <a:t>¿cómo debe la organización vincularse con actores externos clave, instituciones y electores?</a:t>
            </a: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96" name="Picture 4" descr=""/>
          <p:cNvPicPr/>
          <p:nvPr/>
        </p:nvPicPr>
        <p:blipFill>
          <a:blip r:embed="rId1"/>
          <a:stretch/>
        </p:blipFill>
        <p:spPr>
          <a:xfrm>
            <a:off x="6588000" y="44280"/>
            <a:ext cx="2543400" cy="500400"/>
          </a:xfrm>
          <a:prstGeom prst="rect">
            <a:avLst/>
          </a:prstGeom>
          <a:ln w="0">
            <a:noFill/>
          </a:ln>
        </p:spPr>
      </p:pic>
      <p:sp>
        <p:nvSpPr>
          <p:cNvPr id="297" name="6 Marcador de número de diapositiva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267EC-CCB2-4B74-BA59-F33430F74222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7 Marcador de pie de página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www.sistemaspublicos.c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77000" y="342000"/>
            <a:ext cx="8337600" cy="1123920"/>
          </a:xfrm>
          <a:prstGeom prst="rect">
            <a:avLst/>
          </a:prstGeom>
          <a:solidFill>
            <a:srgbClr val="d0e3d0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0000"/>
                </a:solidFill>
                <a:latin typeface="Arial"/>
              </a:rPr>
              <a:t>Un caso de imaginación (innovación) gerencial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50560" y="1557000"/>
            <a:ext cx="889308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66"/>
                </a:solidFill>
                <a:latin typeface="Arial"/>
              </a:rPr>
              <a:t>¿Cuáles son los hechos básicos?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66"/>
                </a:solidFill>
                <a:latin typeface="Arial"/>
              </a:rPr>
              <a:t>¿Cuál es el problema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66"/>
                </a:solidFill>
                <a:latin typeface="Arial"/>
              </a:rPr>
              <a:t>¿Cuáles fueron las primeras aproximaciones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66"/>
                </a:solidFill>
                <a:latin typeface="Arial"/>
              </a:rPr>
              <a:t>¿Cuáles son las restricciones/dificultades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66"/>
                </a:solidFill>
                <a:latin typeface="Arial"/>
              </a:rPr>
              <a:t>¿Cómo se solucionó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66"/>
                </a:solidFill>
                <a:latin typeface="Arial"/>
              </a:rPr>
              <a:t>¿Cuál es al aprendizaje general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6588000" y="44280"/>
            <a:ext cx="2543400" cy="500400"/>
          </a:xfrm>
          <a:prstGeom prst="rect">
            <a:avLst/>
          </a:prstGeom>
          <a:ln w="0">
            <a:noFill/>
          </a:ln>
        </p:spPr>
      </p:pic>
      <p:sp>
        <p:nvSpPr>
          <p:cNvPr id="124" name="6 Marcador de número de diapositiva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892CB-DE56-42B4-8BFC-377A3A518D45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7 Marcador de pie de página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www.sistemaspublicos.c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852120" y="794880"/>
            <a:ext cx="8201160" cy="1248120"/>
          </a:xfrm>
          <a:prstGeom prst="rect">
            <a:avLst/>
          </a:prstGeom>
          <a:solidFill>
            <a:srgbClr val="b9d5b9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¿Cuáles  son los roles, posiciones e intereses de los distintos actores (</a:t>
            </a:r>
            <a:r>
              <a:rPr b="1" i="1" lang="es-ES_tradnl" sz="3200" spc="-1" strike="noStrike">
                <a:solidFill>
                  <a:srgbClr val="ff0000"/>
                </a:solidFill>
                <a:latin typeface="Arial"/>
              </a:rPr>
              <a:t>stakeholders</a:t>
            </a: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) y sus implicancias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468000" y="2361960"/>
            <a:ext cx="82803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Calibri"/>
              </a:rPr>
              <a:t>Clien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Calibri"/>
              </a:rPr>
              <a:t>Proveedo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Calibri"/>
              </a:rPr>
              <a:t>Poder legislativ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Calibri"/>
              </a:rPr>
              <a:t>Agencias evaluadoras/supervisor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Calibri"/>
              </a:rPr>
              <a:t>Grupos asociados o defensores (“advocates”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Calibri"/>
              </a:rPr>
              <a:t>Grupos de emplead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Calibri"/>
              </a:rPr>
              <a:t>Prens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Calibri"/>
              </a:rPr>
              <a:t>Otros actores influyen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01" name="Picture 4" descr=""/>
          <p:cNvPicPr/>
          <p:nvPr/>
        </p:nvPicPr>
        <p:blipFill>
          <a:blip r:embed="rId1"/>
          <a:stretch/>
        </p:blipFill>
        <p:spPr>
          <a:xfrm>
            <a:off x="6588000" y="44280"/>
            <a:ext cx="2543400" cy="500400"/>
          </a:xfrm>
          <a:prstGeom prst="rect">
            <a:avLst/>
          </a:prstGeom>
          <a:ln w="0">
            <a:noFill/>
          </a:ln>
        </p:spPr>
      </p:pic>
      <p:sp>
        <p:nvSpPr>
          <p:cNvPr id="302" name="6 Marcador de número de diapositiva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488FF-186A-4403-9A13-595C613B6450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3" name="7 Marcador de pie de página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www.sistemaspublicos.c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848520" y="848880"/>
            <a:ext cx="7751160" cy="1198080"/>
          </a:xfrm>
          <a:prstGeom prst="rect">
            <a:avLst/>
          </a:prstGeom>
          <a:solidFill>
            <a:srgbClr val="b9d5b9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¿Cuáles son las tendencias actuales y de mediano plazo que pueden afectar a la organización en el futuro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Arial"/>
              </a:rPr>
              <a:t>Tecnologí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Arial"/>
              </a:rPr>
              <a:t>Leyes/Polític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Arial"/>
              </a:rPr>
              <a:t>Valor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Arial"/>
              </a:rPr>
              <a:t>Factores económico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06" name="Picture 4" descr=""/>
          <p:cNvPicPr/>
          <p:nvPr/>
        </p:nvPicPr>
        <p:blipFill>
          <a:blip r:embed="rId1"/>
          <a:stretch/>
        </p:blipFill>
        <p:spPr>
          <a:xfrm>
            <a:off x="6588000" y="44280"/>
            <a:ext cx="2543400" cy="500400"/>
          </a:xfrm>
          <a:prstGeom prst="rect">
            <a:avLst/>
          </a:prstGeom>
          <a:ln w="0">
            <a:noFill/>
          </a:ln>
        </p:spPr>
      </p:pic>
      <p:sp>
        <p:nvSpPr>
          <p:cNvPr id="307" name="6 Marcador de número de diapositiva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759C9-E669-4A6D-B934-4EE66F2B1E6E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8" name="7 Marcador de pie de página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www.sistemaspublicos.c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902520" y="1409040"/>
            <a:ext cx="7796160" cy="1047600"/>
          </a:xfrm>
          <a:prstGeom prst="rect">
            <a:avLst/>
          </a:prstGeom>
          <a:solidFill>
            <a:srgbClr val="b9d5b9"/>
          </a:solidFill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Arial"/>
              </a:rPr>
              <a:t>El Entorno Polític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1" name="Picture 4" descr=""/>
          <p:cNvPicPr/>
          <p:nvPr/>
        </p:nvPicPr>
        <p:blipFill>
          <a:blip r:embed="rId1"/>
          <a:stretch/>
        </p:blipFill>
        <p:spPr>
          <a:xfrm>
            <a:off x="6588000" y="44280"/>
            <a:ext cx="2543400" cy="5004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4" descr="j0233018"/>
          <p:cNvPicPr/>
          <p:nvPr/>
        </p:nvPicPr>
        <p:blipFill>
          <a:blip r:embed="rId2"/>
          <a:stretch/>
        </p:blipFill>
        <p:spPr>
          <a:xfrm>
            <a:off x="0" y="5226120"/>
            <a:ext cx="2093760" cy="163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27640" y="548280"/>
            <a:ext cx="7779960" cy="998280"/>
          </a:xfrm>
          <a:prstGeom prst="rect">
            <a:avLst/>
          </a:prstGeom>
          <a:solidFill>
            <a:srgbClr val="d0e3d0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66"/>
                </a:solidFill>
                <a:latin typeface="Arial"/>
              </a:rPr>
              <a:t>Es necesario hacer </a:t>
            </a:r>
            <a:r>
              <a:rPr b="1" lang="es-ES_tradnl" sz="3200" spc="-1" strike="noStrike">
                <a:solidFill>
                  <a:srgbClr val="ff3300"/>
                </a:solidFill>
                <a:latin typeface="Arial"/>
              </a:rPr>
              <a:t>gestión activa</a:t>
            </a:r>
            <a:r>
              <a:rPr b="1" lang="es-ES_tradnl" sz="3200" spc="-1" strike="noStrike">
                <a:solidFill>
                  <a:srgbClr val="006666"/>
                </a:solidFill>
                <a:latin typeface="Arial"/>
              </a:rPr>
              <a:t> del entorno político cuando ....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324000" y="1573200"/>
            <a:ext cx="8496000" cy="528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lang="es-ES_tradnl" sz="2600" spc="-1" strike="noStrike">
                <a:solidFill>
                  <a:srgbClr val="003366"/>
                </a:solidFill>
                <a:latin typeface="Calibri"/>
              </a:rPr>
              <a:t>Se </a:t>
            </a:r>
            <a:r>
              <a:rPr b="1" lang="en-US" sz="2600" spc="-1" strike="noStrike">
                <a:solidFill>
                  <a:srgbClr val="003366"/>
                </a:solidFill>
                <a:latin typeface="Calibri"/>
              </a:rPr>
              <a:t>efectúa rendición de cuentas rutinaria (reportes a DIPRES o SEGPRES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Calibri"/>
              </a:rPr>
              <a:t>Se necesita apoyo para innovaciones o </a:t>
            </a:r>
            <a:r>
              <a:rPr b="1" lang="es-CL" sz="2600" spc="-1" strike="noStrike">
                <a:solidFill>
                  <a:srgbClr val="003366"/>
                </a:solidFill>
                <a:latin typeface="Calibri"/>
              </a:rPr>
              <a:t>cambios</a:t>
            </a:r>
            <a:r>
              <a:rPr b="1" lang="en-US" sz="2600" spc="-1" strike="noStrike">
                <a:solidFill>
                  <a:srgbClr val="003366"/>
                </a:solidFill>
                <a:latin typeface="Calibri"/>
              </a:rPr>
              <a:t>: lo que implica mostrar que la iniciativa se ajusta a las concepciones de valor público del agente externo respectivo. En general aquí se abre la necesidad de gestionar la activación de grupos de apoyo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Calibri"/>
              </a:rPr>
              <a:t>Se requiere alcanzar coordinación interagencia. Ejemplos: CORFO-PYME o CORFO-Prochile. Otro ejemplo reciente: CORFO - Banco del Estado. Coordinación vía un superior, lo que no siempre es posible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3366"/>
                </a:solidFill>
                <a:latin typeface="Calibri"/>
              </a:rPr>
              <a:t>Se requiere coproducción descentralizada (persuación masiva</a:t>
            </a: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15" name="Picture 4" descr=""/>
          <p:cNvPicPr/>
          <p:nvPr/>
        </p:nvPicPr>
        <p:blipFill>
          <a:blip r:embed="rId1"/>
          <a:stretch/>
        </p:blipFill>
        <p:spPr>
          <a:xfrm>
            <a:off x="6588000" y="44280"/>
            <a:ext cx="2543400" cy="500400"/>
          </a:xfrm>
          <a:prstGeom prst="rect">
            <a:avLst/>
          </a:prstGeom>
          <a:ln w="0">
            <a:noFill/>
          </a:ln>
        </p:spPr>
      </p:pic>
      <p:sp>
        <p:nvSpPr>
          <p:cNvPr id="316" name="6 Marcador de número de diapositiva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DCCED-494F-4A6B-9A53-85AEF859CA05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7" name="7 Marcador de pie de página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www.sistemaspublicos.c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843840" y="843840"/>
            <a:ext cx="7760520" cy="1134360"/>
          </a:xfrm>
          <a:prstGeom prst="rect">
            <a:avLst/>
          </a:prstGeom>
          <a:solidFill>
            <a:srgbClr val="b9d5b9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Gestión política se refiere a la tarea de construir apoyo y legitimidad para ciertos propósito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395280" y="2361960"/>
            <a:ext cx="8136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Calibri"/>
                <a:ea typeface="Arial"/>
              </a:rPr>
              <a:t>Ello involucra construir un clima de tolerancia, apoyo activo o asistencia operativa para un gestor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Calibri"/>
                <a:ea typeface="Arial"/>
              </a:rPr>
              <a:t>una política o una estrategia integral entre aquellos que, estando fuera del alcance de la autoridad del ejecutivo, son necesarios para aportar asistencia o proveer de apoyo o autoridad a la iniciativa del directivo públic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20" name="Picture 4" descr=""/>
          <p:cNvPicPr/>
          <p:nvPr/>
        </p:nvPicPr>
        <p:blipFill>
          <a:blip r:embed="rId1"/>
          <a:stretch/>
        </p:blipFill>
        <p:spPr>
          <a:xfrm>
            <a:off x="6588000" y="44280"/>
            <a:ext cx="2543400" cy="500400"/>
          </a:xfrm>
          <a:prstGeom prst="rect">
            <a:avLst/>
          </a:prstGeom>
          <a:ln w="0">
            <a:noFill/>
          </a:ln>
        </p:spPr>
      </p:pic>
      <p:sp>
        <p:nvSpPr>
          <p:cNvPr id="321" name="6 Marcador de número de diapositiva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FC0FB-0EC0-4280-A33A-5F79EC45E075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7 Marcador de pie de página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www.sistemaspublicos.c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824040" y="970200"/>
            <a:ext cx="7800120" cy="856800"/>
          </a:xfrm>
          <a:prstGeom prst="rect">
            <a:avLst/>
          </a:prstGeom>
          <a:solidFill>
            <a:srgbClr val="b9d5b9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ctores Políticos</a:t>
            </a:r>
            <a:br>
              <a:rPr sz="24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250560" y="1773000"/>
            <a:ext cx="8569080" cy="464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Ejecutivos políticos: aquellos que contratan a los gerentes (ministros y subsecretarios, etc.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Supervisores legislativ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Ministerio de Hacienda, Contraloría, SEGPRE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¡¡¡Y LOS ASESORES DE TODOS ELLOS!!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Medios de Comunicación: son quienes dibujan la cancha en que la discusión se va a dar. Ejemplo: CASO Seremi de Educación, Hospital Curep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Grupos de Interé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Partidos Polític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Otros grupos organizados (empresarios, org. de trabajadores, etc.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Tribuna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25" name="Picture 4" descr=""/>
          <p:cNvPicPr/>
          <p:nvPr/>
        </p:nvPicPr>
        <p:blipFill>
          <a:blip r:embed="rId1"/>
          <a:stretch/>
        </p:blipFill>
        <p:spPr>
          <a:xfrm>
            <a:off x="6588000" y="44280"/>
            <a:ext cx="2543400" cy="500400"/>
          </a:xfrm>
          <a:prstGeom prst="rect">
            <a:avLst/>
          </a:prstGeom>
          <a:ln w="0">
            <a:noFill/>
          </a:ln>
        </p:spPr>
      </p:pic>
      <p:sp>
        <p:nvSpPr>
          <p:cNvPr id="326" name="6 Marcador de número de diapositiva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53F12-8D7D-44B7-B7E0-763C199FA9F9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7 Marcador de pie de página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www.sistemaspublicos.c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b9d5b9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Arial"/>
              </a:rPr>
              <a:t>Técnicas de Gestión Polític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Calibri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Arial"/>
              </a:rPr>
              <a:t>Promoción activa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60240" indent="-66024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Calibri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Calibri"/>
              </a:rPr>
              <a:t>Gestión del Desarrollo de la polític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60240" indent="-66024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Calibri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Arial"/>
              </a:rPr>
              <a:t>Negociación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60240" indent="-6602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Calibri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Calibri"/>
              </a:rPr>
              <a:t>Deliberación pública, aprendizaje social y liderazg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60240" indent="-6602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Calibri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Calibri"/>
              </a:rPr>
              <a:t>Marketing y Comunicación Estratégic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60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30" name="Picture 4" descr=""/>
          <p:cNvPicPr/>
          <p:nvPr/>
        </p:nvPicPr>
        <p:blipFill>
          <a:blip r:embed="rId1"/>
          <a:stretch/>
        </p:blipFill>
        <p:spPr>
          <a:xfrm>
            <a:off x="6588000" y="44280"/>
            <a:ext cx="2543400" cy="500400"/>
          </a:xfrm>
          <a:prstGeom prst="rect">
            <a:avLst/>
          </a:prstGeom>
          <a:ln w="0">
            <a:noFill/>
          </a:ln>
        </p:spPr>
      </p:pic>
      <p:sp>
        <p:nvSpPr>
          <p:cNvPr id="331" name="6 Marcador de número de diapositiva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AD4F2-CFD6-476F-8010-853DE9D012A9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2" name="7 Marcador de pie de página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www.sistemaspublicos.c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539280" y="1197000"/>
            <a:ext cx="860436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3366"/>
                </a:solidFill>
                <a:latin typeface="Arial"/>
              </a:rPr>
              <a:t>¿Cuál es el principal supuesto de la doctrina tradicional de las funciones del sector público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0" y="3860640"/>
            <a:ext cx="9144000" cy="2997360"/>
          </a:xfrm>
          <a:prstGeom prst="wedgeRectCallout">
            <a:avLst>
              <a:gd name="adj1" fmla="val -518"/>
              <a:gd name="adj2" fmla="val -77699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666699"/>
                </a:solidFill>
                <a:latin typeface="Arial Black"/>
              </a:rPr>
              <a:t>(1)El funcionario debe hacer lo que está mandatado expresamente por las normas, y esto es siempre muy claro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666699"/>
                </a:solidFill>
                <a:latin typeface="Arial Black"/>
              </a:rPr>
              <a:t>(2) La misión es ser fiel al mandato formal y producirlo eficientement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6588000" y="44280"/>
            <a:ext cx="2543400" cy="500400"/>
          </a:xfrm>
          <a:prstGeom prst="rect">
            <a:avLst/>
          </a:prstGeom>
          <a:ln w="0">
            <a:noFill/>
          </a:ln>
        </p:spPr>
      </p:pic>
      <p:sp>
        <p:nvSpPr>
          <p:cNvPr id="130" name="7 Marcador de número de diapositiva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2C6E4-0F44-4649-933A-883712D0988A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8 Marcador de pie de página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www.sistemaspublicos.c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785520" y="64260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Moore rebate una tendencia reduccionista o simplificadora de esta doctrin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Propone un transito de un enfoque (A) burocrático a uno (B)  de “emprendedor público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33" name="AutoShape 4"/>
          <p:cNvGrpSpPr/>
          <p:nvPr/>
        </p:nvGrpSpPr>
        <p:grpSpPr>
          <a:xfrm>
            <a:off x="957240" y="3187800"/>
            <a:ext cx="3151080" cy="3402000"/>
            <a:chOff x="957240" y="3187800"/>
            <a:chExt cx="3151080" cy="3402000"/>
          </a:xfrm>
        </p:grpSpPr>
        <p:pic>
          <p:nvPicPr>
            <p:cNvPr id="134" name="AutoShape 4" descr=""/>
            <p:cNvPicPr/>
            <p:nvPr/>
          </p:nvPicPr>
          <p:blipFill>
            <a:blip r:embed="rId1"/>
            <a:stretch/>
          </p:blipFill>
          <p:spPr>
            <a:xfrm>
              <a:off x="957240" y="3187800"/>
              <a:ext cx="3151080" cy="340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1768320" y="3214800"/>
              <a:ext cx="1535400" cy="28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666699"/>
                  </a:solidFill>
                  <a:latin typeface="Arial Black"/>
                </a:rPr>
                <a:t>Enfoque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666699"/>
                  </a:solidFill>
                  <a:latin typeface="Arial Black"/>
                </a:rPr>
                <a:t>descendent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36" name="AutoShape 5"/>
          <p:cNvGrpSpPr/>
          <p:nvPr/>
        </p:nvGrpSpPr>
        <p:grpSpPr>
          <a:xfrm>
            <a:off x="5035680" y="2687760"/>
            <a:ext cx="3028680" cy="3616200"/>
            <a:chOff x="5035680" y="2687760"/>
            <a:chExt cx="3028680" cy="3616200"/>
          </a:xfrm>
        </p:grpSpPr>
        <p:pic>
          <p:nvPicPr>
            <p:cNvPr id="137" name="AutoShape 5" descr=""/>
            <p:cNvPicPr/>
            <p:nvPr/>
          </p:nvPicPr>
          <p:blipFill>
            <a:blip r:embed="rId2"/>
            <a:stretch/>
          </p:blipFill>
          <p:spPr>
            <a:xfrm>
              <a:off x="5035680" y="2687760"/>
              <a:ext cx="3028680" cy="36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5813280" y="3267000"/>
              <a:ext cx="1481400" cy="301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666699"/>
                  </a:solidFill>
                  <a:latin typeface="Arial Black"/>
                </a:rPr>
                <a:t>Enfoque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666699"/>
                  </a:solidFill>
                  <a:latin typeface="Arial Black"/>
                </a:rPr>
                <a:t>ascendent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139" name="Picture 4" descr=""/>
          <p:cNvPicPr/>
          <p:nvPr/>
        </p:nvPicPr>
        <p:blipFill>
          <a:blip r:embed="rId3"/>
          <a:stretch/>
        </p:blipFill>
        <p:spPr>
          <a:xfrm>
            <a:off x="6588000" y="44280"/>
            <a:ext cx="2543400" cy="500400"/>
          </a:xfrm>
          <a:prstGeom prst="rect">
            <a:avLst/>
          </a:prstGeom>
          <a:ln w="0">
            <a:noFill/>
          </a:ln>
        </p:spPr>
      </p:pic>
      <p:sp>
        <p:nvSpPr>
          <p:cNvPr id="140" name="8 Marcador de número de diapositiva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D61A0-F440-4818-8228-5A1B80269FF3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9 Marcador de pie de página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www.sistemaspublicos.c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545400" y="769680"/>
            <a:ext cx="8279640" cy="1069200"/>
          </a:xfrm>
          <a:prstGeom prst="rect">
            <a:avLst/>
          </a:prstGeom>
          <a:solidFill>
            <a:srgbClr val="d0e3d0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Calibri"/>
              </a:rPr>
              <a:t>MODELO TRADICION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0" y="1844280"/>
            <a:ext cx="9036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66"/>
                </a:solidFill>
                <a:latin typeface="Calibri"/>
              </a:rPr>
              <a:t>Describe </a:t>
            </a:r>
            <a:r>
              <a:rPr b="1" lang="es-ES" sz="3200" spc="-1" strike="noStrike">
                <a:solidFill>
                  <a:srgbClr val="003366"/>
                </a:solidFill>
                <a:latin typeface="Calibri"/>
              </a:rPr>
              <a:t>cómo deben entender</a:t>
            </a:r>
            <a:r>
              <a:rPr b="1" lang="es-ES" sz="3200" spc="-1" strike="noStrike">
                <a:solidFill>
                  <a:srgbClr val="003366"/>
                </a:solidFill>
                <a:latin typeface="Calibri"/>
              </a:rPr>
              <a:t> y </a:t>
            </a:r>
            <a:r>
              <a:rPr b="1" lang="es-ES" sz="3200" spc="-1" strike="noStrike">
                <a:solidFill>
                  <a:srgbClr val="003366"/>
                </a:solidFill>
                <a:latin typeface="Calibri"/>
              </a:rPr>
              <a:t>llevar a cabo su trabajo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66"/>
                </a:solidFill>
                <a:latin typeface="Calibri"/>
              </a:rPr>
              <a:t>Enfrenta el </a:t>
            </a:r>
            <a:r>
              <a:rPr b="1" lang="es-ES" sz="3200" spc="-1" strike="noStrike">
                <a:solidFill>
                  <a:srgbClr val="003366"/>
                </a:solidFill>
                <a:latin typeface="Calibri"/>
              </a:rPr>
              <a:t>riesgo </a:t>
            </a:r>
            <a:r>
              <a:rPr b="1" lang="es-ES" sz="3200" spc="-1" strike="noStrike">
                <a:solidFill>
                  <a:srgbClr val="003366"/>
                </a:solidFill>
                <a:latin typeface="Calibri"/>
              </a:rPr>
              <a:t>que los directivos públicos conduzcan la administración según intereses distinto a los públicos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66"/>
                </a:solidFill>
                <a:latin typeface="Calibri"/>
              </a:rPr>
              <a:t>Pone énfasis en el </a:t>
            </a:r>
            <a:r>
              <a:rPr b="1" lang="es-ES" sz="3200" spc="-1" strike="noStrike">
                <a:solidFill>
                  <a:srgbClr val="003366"/>
                </a:solidFill>
                <a:latin typeface="Calibri"/>
              </a:rPr>
              <a:t>control de procedimientos y la verticalida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6588000" y="44280"/>
            <a:ext cx="2543400" cy="500400"/>
          </a:xfrm>
          <a:prstGeom prst="rect">
            <a:avLst/>
          </a:prstGeom>
          <a:ln w="0">
            <a:noFill/>
          </a:ln>
        </p:spPr>
      </p:pic>
      <p:sp>
        <p:nvSpPr>
          <p:cNvPr id="145" name="6 Marcador de número de diapositiva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59A20-0B21-40E1-91D4-F7AC70978B1C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7 Marcador de pie de página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www.sistemaspublicos.c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12520" y="1014120"/>
            <a:ext cx="7823160" cy="701640"/>
          </a:xfrm>
          <a:prstGeom prst="rect">
            <a:avLst/>
          </a:prstGeom>
          <a:solidFill>
            <a:srgbClr val="b9d5b9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MODELO TRADICION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721800" y="2193840"/>
            <a:ext cx="84582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66"/>
                </a:solidFill>
                <a:latin typeface="Calibri"/>
              </a:rPr>
              <a:t>Supone que los propósitos son nítidos</a:t>
            </a:r>
            <a:r>
              <a:rPr b="1" lang="es-ES" sz="3200" spc="-1" strike="noStrike">
                <a:solidFill>
                  <a:srgbClr val="003366"/>
                </a:solidFill>
                <a:latin typeface="Calibri"/>
              </a:rPr>
              <a:t> en las pautas normativas (Leyes, discursos o declaraciones de las “autoridades”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66"/>
                </a:solidFill>
                <a:latin typeface="Calibri"/>
              </a:rPr>
              <a:t>Enfatiza más en la </a:t>
            </a:r>
            <a:r>
              <a:rPr b="1" lang="es-ES" sz="3200" spc="-1" strike="noStrike">
                <a:solidFill>
                  <a:srgbClr val="003366"/>
                </a:solidFill>
                <a:latin typeface="Calibri"/>
              </a:rPr>
              <a:t>“administración”</a:t>
            </a:r>
            <a:r>
              <a:rPr b="1" lang="es-ES" sz="3200" spc="-1" strike="noStrike">
                <a:solidFill>
                  <a:srgbClr val="003366"/>
                </a:solidFill>
                <a:latin typeface="Calibri"/>
              </a:rPr>
              <a:t> (objetivos y procedimientos definidos)</a:t>
            </a:r>
            <a:r>
              <a:rPr b="1" lang="es-ES" sz="32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lang="es-ES" sz="3200" spc="-1" strike="noStrike">
                <a:solidFill>
                  <a:srgbClr val="003366"/>
                </a:solidFill>
                <a:latin typeface="Calibri"/>
              </a:rPr>
              <a:t> que en </a:t>
            </a:r>
            <a:r>
              <a:rPr b="1" lang="es-ES" sz="3200" spc="-1" strike="noStrike">
                <a:solidFill>
                  <a:srgbClr val="003366"/>
                </a:solidFill>
                <a:latin typeface="Calibri"/>
              </a:rPr>
              <a:t>“la gestión”</a:t>
            </a:r>
            <a:r>
              <a:rPr b="1" lang="es-ES" sz="3200" spc="-1" strike="noStrike">
                <a:solidFill>
                  <a:srgbClr val="003366"/>
                </a:solidFill>
                <a:latin typeface="Calibri"/>
              </a:rPr>
              <a:t> (respuesta a objetivos declarados, procedimientos amplios)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6588000" y="44280"/>
            <a:ext cx="2543400" cy="500400"/>
          </a:xfrm>
          <a:prstGeom prst="rect">
            <a:avLst/>
          </a:prstGeom>
          <a:ln w="0">
            <a:noFill/>
          </a:ln>
        </p:spPr>
      </p:pic>
      <p:sp>
        <p:nvSpPr>
          <p:cNvPr id="150" name="6 Marcador de número de diapositiva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8E3F1-559C-4982-9357-1546451F9054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7 Marcador de pie de página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www.sistemaspublicos.c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b9d5b9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MODELO TRADICION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250560" y="1844640"/>
            <a:ext cx="9001080" cy="40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66"/>
                </a:solidFill>
                <a:latin typeface="Calibri"/>
              </a:rPr>
              <a:t>El directivo debe cumplir sus mandatos con eficacia y eficiencia, tiende a </a:t>
            </a:r>
            <a:r>
              <a:rPr b="1" lang="es-ES" sz="3200" spc="-1" strike="noStrike">
                <a:solidFill>
                  <a:srgbClr val="003366"/>
                </a:solidFill>
                <a:latin typeface="Calibri"/>
              </a:rPr>
              <a:t>suponer conocimiento experto</a:t>
            </a:r>
            <a:r>
              <a:rPr b="1" lang="es-ES" sz="3200" spc="-1" strike="noStrike">
                <a:solidFill>
                  <a:srgbClr val="003366"/>
                </a:solidFill>
                <a:latin typeface="Calibri"/>
              </a:rPr>
              <a:t> (se conocen la respuestas, no requiere participación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66"/>
                </a:solidFill>
                <a:latin typeface="Calibri"/>
              </a:rPr>
              <a:t>Más “burocracia”,  menos “emprendimiento”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66"/>
                </a:solidFill>
                <a:latin typeface="Calibri"/>
              </a:rPr>
              <a:t>Las fuerzas son:</a:t>
            </a:r>
            <a:r>
              <a:rPr b="1" lang="es-ES" sz="32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lang="es-ES" sz="3200" spc="-1" strike="noStrike">
                <a:solidFill>
                  <a:srgbClr val="003366"/>
                </a:solidFill>
                <a:latin typeface="Calibri"/>
              </a:rPr>
              <a:t>descendentes y hacia adentro</a:t>
            </a:r>
            <a:r>
              <a:rPr b="1" lang="es-ES" sz="3200" spc="-1" strike="noStrike">
                <a:solidFill>
                  <a:srgbClr val="003366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66"/>
                </a:solidFill>
                <a:latin typeface="Calibri"/>
              </a:rPr>
              <a:t>Tiende a no abrir reflexión sobre propósitos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6588000" y="44280"/>
            <a:ext cx="2543400" cy="500400"/>
          </a:xfrm>
          <a:prstGeom prst="rect">
            <a:avLst/>
          </a:prstGeom>
          <a:ln w="0">
            <a:noFill/>
          </a:ln>
        </p:spPr>
      </p:pic>
      <p:sp>
        <p:nvSpPr>
          <p:cNvPr id="155" name="6 Marcador de número de diapositiva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49879-59BA-4C3C-A2FD-CEC31FF75F68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7 Marcador de pie de página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www.sistemaspublicos.c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88800" y="387000"/>
            <a:ext cx="8342640" cy="1157760"/>
          </a:xfrm>
          <a:prstGeom prst="rect">
            <a:avLst/>
          </a:prstGeom>
          <a:solidFill>
            <a:srgbClr val="b9d5b9"/>
          </a:solidFill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Calibri"/>
              </a:rPr>
              <a:t>VALOR PÚBLICO: CONCEPT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0" y="1915920"/>
            <a:ext cx="9036000" cy="58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Calibri"/>
              </a:rPr>
              <a:t> “ </a:t>
            </a:r>
            <a:r>
              <a:rPr b="1" lang="es-ES" sz="3600" spc="-1" strike="noStrike">
                <a:solidFill>
                  <a:srgbClr val="003366"/>
                </a:solidFill>
                <a:latin typeface="Calibri"/>
              </a:rPr>
              <a:t>Valor agregado que produce el sector público”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Calibri"/>
              </a:rPr>
              <a:t>proveniente de los  </a:t>
            </a:r>
            <a:r>
              <a:rPr b="1" lang="es-ES" sz="3600" spc="-1" strike="noStrike">
                <a:solidFill>
                  <a:srgbClr val="003366"/>
                </a:solidFill>
                <a:latin typeface="Calibri"/>
              </a:rPr>
              <a:t>“beneficios percibidos”</a:t>
            </a:r>
            <a:r>
              <a:rPr b="1" lang="es-ES" sz="3600" spc="-1" strike="noStrike">
                <a:solidFill>
                  <a:srgbClr val="003366"/>
                </a:solidFill>
                <a:latin typeface="Calibri"/>
              </a:rPr>
              <a:t> por a) ciudadanos/comunidad y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1" lang="es-ES" sz="3600" spc="-1" strike="noStrike">
                <a:solidFill>
                  <a:srgbClr val="003366"/>
                </a:solidFill>
                <a:latin typeface="Calibri"/>
              </a:rPr>
              <a:t>b) usuarios/consumidores /clientes,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Calibri"/>
              </a:rPr>
              <a:t>“</a:t>
            </a:r>
            <a:r>
              <a:rPr b="1" lang="es-ES" sz="3600" spc="-1" strike="noStrike">
                <a:solidFill>
                  <a:srgbClr val="003366"/>
                </a:solidFill>
                <a:latin typeface="Calibri"/>
              </a:rPr>
              <a:t>descontando los costos”</a:t>
            </a:r>
            <a:r>
              <a:rPr b="1" lang="es-ES" sz="3600" spc="-1" strike="noStrike">
                <a:solidFill>
                  <a:srgbClr val="003366"/>
                </a:solidFill>
                <a:latin typeface="Calibri"/>
              </a:rPr>
              <a:t> en los que se incurre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66"/>
                </a:solidFill>
                <a:latin typeface="Calibri"/>
              </a:rPr>
              <a:t>a </a:t>
            </a:r>
            <a:r>
              <a:rPr b="1" lang="es-CL" sz="3600" spc="-1" strike="noStrike">
                <a:solidFill>
                  <a:srgbClr val="003366"/>
                </a:solidFill>
                <a:latin typeface="Calibri"/>
              </a:rPr>
              <a:t>“Valor Presente”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6588000" y="44280"/>
            <a:ext cx="2543400" cy="500400"/>
          </a:xfrm>
          <a:prstGeom prst="rect">
            <a:avLst/>
          </a:prstGeom>
          <a:ln w="0">
            <a:noFill/>
          </a:ln>
        </p:spPr>
      </p:pic>
      <p:sp>
        <p:nvSpPr>
          <p:cNvPr id="160" name="6 Marcador de número de diapositiva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318FA-0340-45F6-BDB4-E9A4FCCD732C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7 Marcador de pie de página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www.sistemaspublicos.c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2"/>
          <a:stretch/>
        </p:blipFill>
        <p:spPr>
          <a:xfrm>
            <a:off x="115920" y="158760"/>
            <a:ext cx="1835280" cy="17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3:33:58Z</dcterms:created>
  <dc:creator>Jinostroza</dc:creator>
  <dc:description/>
  <dc:language>en-US</dc:language>
  <cp:lastModifiedBy>Your User Name</cp:lastModifiedBy>
  <dcterms:modified xsi:type="dcterms:W3CDTF">2010-11-11T21:03:12Z</dcterms:modified>
  <cp:revision>12</cp:revision>
  <dc:subject/>
  <dc:title>Creación de Valor en el sector Público, Nuevo Paradigma, Nueva Doctrina</dc:title>
</cp:coreProperties>
</file>