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MT Condense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doni MT Condense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Bodoni MT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DCE7FF-1494-4FA6-9444-AF9B6C252053}" type="slidenum">
              <a:rPr b="0" lang="es-ES" sz="1300" spc="-1" strike="noStrike">
                <a:solidFill>
                  <a:srgbClr val="000000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7EC41D-4587-4AF5-9DB7-C9ACC57EB435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2E9BB7-132F-4B64-9FC2-55777E094415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2AE888-7FAA-4EA7-B27E-A276EF22B611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5154AA-A674-4D67-903B-013EA2AD3AD4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FC079F-891F-45A8-8569-34A954DB9BBA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0B73B7-94FA-4DDC-B1F5-C525E488A8F7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E21BA2-7109-47B0-8580-8B8B8C1A9F6F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1D8C1E-0BF4-4709-A56A-B776616EDC95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CA3FA3-D35A-4A08-8545-4E5CCE5760AA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DABC6F-A313-448F-BDD7-B7CF0DDCD35C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192166-94FE-460D-92B0-2A49F18C4AB9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29F663-FF95-4E71-A86A-C4F1BCB0B242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E6458C-D8DB-4622-B36C-2318F24DE3FB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E89B8C-9CFB-43B3-B29E-620BDB8D9E5E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i.      En síntesis, cuál era el desafío relevante y prioritario de Ruckelshaus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i.      Identifique el listado de actores, sus intereses  y sus posiciones relativas, que están en el entorno relevante de la EPA y señale cómo  determinan a las definiciones estratégicas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iii.      ¿Cuáles fueron las amenazas-restricciones y las oportunidades observadas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iv.      En síntesis, explique cuál fue la estrategia y sus atributos (ventajas, desventajas) de la misma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v.      ¿Qué ventajas/desventajas desde el punto de vista de los ecologistas, industriales, organización, gobierno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vi.      ¿Qué otra misión habría usted señalado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viii.      ¿Qué hizo R. respecto a los siguiente atributos deseables (como señala el texto) de una estrategia en el sector público?)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1.      Sustantivamente relevante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2.      Viable políticamente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3.      Operativamente factible y suficientemente clara </a:t>
            </a:r>
            <a:endParaRPr b="0" lang="en-US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21B2E6-ADE1-4D19-8DDD-496434210374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DB3FAD-627F-47B0-BFCC-3D95A963B9E7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2FE2B8-8555-43D5-9CB9-0777EFE5C31F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4D25D0-29BD-4695-B32F-CAE653A17808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5D8224-5308-4948-94CD-B4CC15B86B93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D45394-B431-45D2-B2FE-69DFA935225A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754679-59FB-4596-BDA5-BD89BC7812D6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364315-716D-4DDA-A869-F00A3732F28F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B296EC-4964-4A69-B742-915EA68A3A8F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ABC6A9-164E-4BDE-B5DD-8E9114A4059F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14BF7C-6645-4820-BD78-BA48B95D73E6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E624A5-88D1-482D-A2E6-9CB11A76DB78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F7E87E-6D99-4512-B57B-F8BC02E5DF4B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7C4903-0B86-4019-B7B5-D2E76E3F161D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712FBC-B38B-4210-829F-65C84B91E68E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AD8A0F-08E1-46A9-863C-98DC9D1C5468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452F72-C94F-40A7-94C6-364F6D720402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B12A04-5BFF-4B14-A251-BB50DAD03E06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1E00EE-888C-4BC2-9ADE-CD714B64B330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7E16EF-2AB7-4D2E-B08B-8D2D2035155F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0A3BC4-7C4D-427C-A97C-640F5C98C0B0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2F0E98-2706-4805-AEC4-E8E474BF3603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989-7A50-4FE5-B815-0889F2BD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DC7B-8D13-44F9-8027-35BCA1E3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67E-D1E4-47D0-9E8F-389FB52D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562-FCC9-4FE3-AF77-2138288D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1F5F-4B25-438F-87C3-8C8B28CF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FA11-2A71-4EFD-84B7-453344CA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C6CB-1AC0-4B46-97D6-961E33CF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CE24-31A8-48CA-A217-BC73C3B0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B754-3EC4-4529-87CE-FCDD539F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F19F-A4FF-4887-B3CE-2B5C8CE7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653A-2DEB-4729-B844-BD59C37C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976-C6C5-48CF-AD02-B121C305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FD65-ECD1-4E67-B3C5-8E7F8B9C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1A6E-0FC0-44DB-8D48-14D907D5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3DD1-AC71-4CAD-8ADA-2BE0B605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4FA5-1DE9-460A-B061-48925EBD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7E5C-8C25-49A9-84A2-B8C8DAA3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7FB-C469-4F9A-9CA2-13919C2A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FA7-7585-4F05-8057-DE007F3E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88F-C09C-435A-BE41-9A85A3C9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A1E-9C9A-4455-AC28-BED2A6B3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A21-2868-4A96-86A1-E18E733B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784-48FE-44A3-BEC3-782B39D2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8516-3133-4AB6-A71D-EA5B9651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www.sistemaspublicos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1E6C-7B96-431E-ABED-4233AE55FDC8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www.sistemaspublicos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9B43-34A2-4D78-A94D-EBE0B318B054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90200" y="907920"/>
            <a:ext cx="6626520" cy="1730880"/>
          </a:xfrm>
          <a:prstGeom prst="rect">
            <a:avLst/>
          </a:prstGeom>
          <a:solidFill>
            <a:srgbClr val="85e0e0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</a:rPr>
              <a:t>Creación de Valor en el Sector Público, Nuevo Paradigma, Nueva Doctrina</a:t>
            </a:r>
            <a:br>
              <a:rPr sz="4400"/>
            </a:br>
            <a:r>
              <a:rPr b="1" i="1" lang="es-CL" sz="3200" spc="-1" strike="noStrike">
                <a:solidFill>
                  <a:srgbClr val="003f80"/>
                </a:solidFill>
                <a:latin typeface="Arial"/>
              </a:rPr>
              <a:t>Clase 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76360" y="5157720"/>
            <a:ext cx="691200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6666"/>
                </a:solidFill>
                <a:latin typeface="Arial"/>
              </a:rPr>
              <a:t>a) Moore, Mark: “Gestión Estratégica y Creación de Valor en el Sector Público”. Paidos, 1998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6666"/>
                </a:solidFill>
                <a:latin typeface="Arial"/>
              </a:rPr>
              <a:t>b) Kelly, G. y Muers, S., “Creating Public Value. An analytical framework for public service reform”, Strategy Unit, Cabinet Office UK, 2002</a:t>
            </a:r>
            <a:br>
              <a:rPr sz="1400"/>
            </a:b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4" name="Text Box 5"/>
          <p:cNvGrpSpPr/>
          <p:nvPr/>
        </p:nvGrpSpPr>
        <p:grpSpPr>
          <a:xfrm>
            <a:off x="1530360" y="3456000"/>
            <a:ext cx="7016760" cy="1603440"/>
            <a:chOff x="1530360" y="3456000"/>
            <a:chExt cx="7016760" cy="1603440"/>
          </a:xfrm>
        </p:grpSpPr>
        <p:pic>
          <p:nvPicPr>
            <p:cNvPr id="105" name="Text Box 5" descr=""/>
            <p:cNvPicPr/>
            <p:nvPr/>
          </p:nvPicPr>
          <p:blipFill>
            <a:blip r:embed="rId1"/>
            <a:stretch/>
          </p:blipFill>
          <p:spPr>
            <a:xfrm>
              <a:off x="1530360" y="3456000"/>
              <a:ext cx="70167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547640" y="3475080"/>
              <a:ext cx="6985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3366"/>
                  </a:solidFill>
                  <a:latin typeface="Arial"/>
                </a:rPr>
                <a:t>Diploma en Gerencia Pública-Superintendencia de Electricidad y Combustibles 2010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3366"/>
                  </a:solidFill>
                  <a:uFillTx/>
                  <a:latin typeface="Arial"/>
                </a:rPr>
                <a:t>Módulo: </a:t>
              </a:r>
              <a:r>
                <a:rPr b="1" i="1" lang="es-ES_tradnl" sz="1600" spc="-1" strike="noStrike">
                  <a:solidFill>
                    <a:srgbClr val="003366"/>
                  </a:solidFill>
                  <a:latin typeface="Arial"/>
                </a:rPr>
                <a:t>Tópicos Aplicados de Gestión Pública: Enfoques Clave para Gestión Estratégica y Creación de Valor en el Sector Públic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Profesor: José Inostroza, jinostro@dii.uchile.cl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3036960" y="44280"/>
            <a:ext cx="2830320" cy="576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14800" y="533880"/>
            <a:ext cx="8114400" cy="79272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148392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Los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beneficios pueden darse a nivel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Productos o servicios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 (outputs): Ej .Vacu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Impactos o resultados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(outcomes) Ej. Tasa de enfermedad específ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Confianza: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(Ejs. </a:t>
            </a: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Filtración de info en Banco Central, Caso CORFO/Inverlink,  Crisis sanitarias (ESB/´vaca loca’), Corrup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Componentes de la Confianza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Percepción de eficacia/desempeño (aunque causalidad es complej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Percepción de integridad, étic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Percepción de transparencia/sincerida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66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BECB-0107-44B8-A39D-EDBA34292508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8820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En los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costos,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 también se refiere a 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Costos monetarios y NO monetarios.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 Ejs. de NO monetarios:  pérdida de confianza, pérdida de libertad, medidas coercitivas, perdida de intimida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Directos, Indirectos y de Oportunidad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(¿Qué se podría hacer alternativamente con los recursos utilizados?)</a:t>
            </a:r>
            <a:r>
              <a:rPr b="1" lang="es-ES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5238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71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BD9F-8A77-4A17-BE68-C108926C3EFD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8000" y="1628280"/>
            <a:ext cx="8820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5238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En ambos casos  -beneficios y costos - el criterio para su definición son las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“preferencias públicas”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 generadas en procesos colectivos (Ej. ley, grupo de ciudadanos, medios de comunicación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y también las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“preferencias privadas”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 expresadas por los usuarios/clientes/beneficiarios de los servicios públ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76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EB8E-8E80-4549-AFAC-6851624F4658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Picture 4" descr="j0233018"/>
          <p:cNvPicPr/>
          <p:nvPr/>
        </p:nvPicPr>
        <p:blipFill>
          <a:blip r:embed="rId2"/>
          <a:stretch/>
        </p:blipFill>
        <p:spPr>
          <a:xfrm>
            <a:off x="0" y="260280"/>
            <a:ext cx="20937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1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Calibri"/>
              </a:rPr>
              <a:t>ORIGEN DE LAS PREFERENC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560" y="2627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1" name="Rectangle 4"/>
          <p:cNvGrpSpPr/>
          <p:nvPr/>
        </p:nvGrpSpPr>
        <p:grpSpPr>
          <a:xfrm>
            <a:off x="5602320" y="2779560"/>
            <a:ext cx="3120840" cy="1756080"/>
            <a:chOff x="5602320" y="2779560"/>
            <a:chExt cx="3120840" cy="1756080"/>
          </a:xfrm>
        </p:grpSpPr>
        <p:pic>
          <p:nvPicPr>
            <p:cNvPr id="182" name="Rectangle 4" descr=""/>
            <p:cNvPicPr/>
            <p:nvPr/>
          </p:nvPicPr>
          <p:blipFill>
            <a:blip r:embed="rId1"/>
            <a:stretch/>
          </p:blipFill>
          <p:spPr>
            <a:xfrm>
              <a:off x="5602320" y="2779560"/>
              <a:ext cx="312084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638680" y="2819520"/>
              <a:ext cx="2971800" cy="16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Valor Públic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4" name="Oval 5"/>
          <p:cNvGrpSpPr/>
          <p:nvPr/>
        </p:nvGrpSpPr>
        <p:grpSpPr>
          <a:xfrm>
            <a:off x="652320" y="2603520"/>
            <a:ext cx="2279880" cy="2438280"/>
            <a:chOff x="652320" y="2603520"/>
            <a:chExt cx="2279880" cy="2438280"/>
          </a:xfrm>
        </p:grpSpPr>
        <p:pic>
          <p:nvPicPr>
            <p:cNvPr id="185" name="Oval 5" descr=""/>
            <p:cNvPicPr/>
            <p:nvPr/>
          </p:nvPicPr>
          <p:blipFill>
            <a:blip r:embed="rId2"/>
            <a:stretch/>
          </p:blipFill>
          <p:spPr>
            <a:xfrm>
              <a:off x="652320" y="2603520"/>
              <a:ext cx="22798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990720" y="2973240"/>
              <a:ext cx="147456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Clientes/Usuario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7" name="Oval 6"/>
          <p:cNvGrpSpPr/>
          <p:nvPr/>
        </p:nvGrpSpPr>
        <p:grpSpPr>
          <a:xfrm>
            <a:off x="3316320" y="2603520"/>
            <a:ext cx="1938240" cy="2444760"/>
            <a:chOff x="3316320" y="2603520"/>
            <a:chExt cx="1938240" cy="2444760"/>
          </a:xfrm>
        </p:grpSpPr>
        <p:pic>
          <p:nvPicPr>
            <p:cNvPr id="188" name="Oval 6" descr=""/>
            <p:cNvPicPr/>
            <p:nvPr/>
          </p:nvPicPr>
          <p:blipFill>
            <a:blip r:embed="rId3"/>
            <a:stretch/>
          </p:blipFill>
          <p:spPr>
            <a:xfrm>
              <a:off x="3316320" y="2603520"/>
              <a:ext cx="193824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611520" y="2975040"/>
              <a:ext cx="1273320" cy="16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Comunidad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Mandant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0" name="Text Box 7"/>
          <p:cNvSpPr/>
          <p:nvPr/>
        </p:nvSpPr>
        <p:spPr>
          <a:xfrm>
            <a:off x="518148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ahoma"/>
                <a:ea typeface="Arial"/>
              </a:rPr>
              <a:t>=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819520" y="3352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ahoma"/>
                <a:ea typeface="Arial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2" name="AutoShape 9"/>
          <p:cNvGrpSpPr/>
          <p:nvPr/>
        </p:nvGrpSpPr>
        <p:grpSpPr>
          <a:xfrm>
            <a:off x="1450800" y="5132520"/>
            <a:ext cx="6546960" cy="841320"/>
            <a:chOff x="1450800" y="5132520"/>
            <a:chExt cx="6546960" cy="841320"/>
          </a:xfrm>
        </p:grpSpPr>
        <p:pic>
          <p:nvPicPr>
            <p:cNvPr id="193" name="AutoShape 9" descr=""/>
            <p:cNvPicPr/>
            <p:nvPr/>
          </p:nvPicPr>
          <p:blipFill>
            <a:blip r:embed="rId4"/>
            <a:stretch/>
          </p:blipFill>
          <p:spPr>
            <a:xfrm>
              <a:off x="1450800" y="5132520"/>
              <a:ext cx="65469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76360" y="5337000"/>
              <a:ext cx="5607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95" name="Picture 4" descr=""/>
          <p:cNvPicPr/>
          <p:nvPr/>
        </p:nvPicPr>
        <p:blipFill>
          <a:blip r:embed="rId5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96" name="12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E5EB-0886-491F-B50B-560D2E4E3812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13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45040" y="87480"/>
            <a:ext cx="8053920" cy="120852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06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Fuerte componente subjetivo (preferencias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128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Valor final NO se define en gabinete, sino por ciudadanos/usuarios/clientes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128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Mayores esfuerzos en “procesos de identificación y valoración” de preferencias públicas (profundiza la democracia) y las preferencias privada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Calibri"/>
              </a:rPr>
              <a:t>focus groups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Calibri"/>
              </a:rPr>
              <a:t>consejos consultivos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Calibri"/>
              </a:rPr>
              <a:t>páginas web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Calibri"/>
              </a:rPr>
              <a:t>comunicación con las autoridades políticas y representantes de las comunidad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Calibri"/>
              </a:rPr>
              <a:t>encuestas de satisfacción de usuarios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01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78BE-DD1A-468C-91A7-4E7B4BE566C1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3" dur="1" fill="hold"/>
                                  <p:tgtEl>
                                    <p:spTgt spid="1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4" dur="1" fill="hold"/>
                                  <p:tgtEl>
                                    <p:spTgt spid="19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5" dur="1" fill="hold"/>
                                  <p:tgtEl>
                                    <p:spTgt spid="19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6" dur="1" fill="hold"/>
                                  <p:tgtEl>
                                    <p:spTgt spid="19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7" dur="1" fill="hold"/>
                                  <p:tgtEl>
                                    <p:spTgt spid="19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99280" y="332280"/>
            <a:ext cx="778032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ÁMBITOS BÁSICOS DÓNDE MEDI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04" name="Rectangle 3"/>
          <p:cNvGrpSpPr/>
          <p:nvPr/>
        </p:nvGrpSpPr>
        <p:grpSpPr>
          <a:xfrm>
            <a:off x="2938320" y="4896000"/>
            <a:ext cx="3919680" cy="1822320"/>
            <a:chOff x="2938320" y="4896000"/>
            <a:chExt cx="3919680" cy="1822320"/>
          </a:xfrm>
        </p:grpSpPr>
        <p:pic>
          <p:nvPicPr>
            <p:cNvPr id="205" name="Rectangle 3" descr=""/>
            <p:cNvPicPr/>
            <p:nvPr/>
          </p:nvPicPr>
          <p:blipFill>
            <a:blip r:embed="rId1"/>
            <a:stretch/>
          </p:blipFill>
          <p:spPr>
            <a:xfrm>
              <a:off x="2938320" y="4896000"/>
              <a:ext cx="391968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987640" y="4941720"/>
              <a:ext cx="37450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3366"/>
                  </a:solidFill>
                  <a:latin typeface="Arial"/>
                  <a:ea typeface="Arial"/>
                </a:rPr>
                <a:t>VALOR PÚBLICO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7" name="Oval 4"/>
          <p:cNvGrpSpPr/>
          <p:nvPr/>
        </p:nvGrpSpPr>
        <p:grpSpPr>
          <a:xfrm>
            <a:off x="195120" y="1523880"/>
            <a:ext cx="3102120" cy="2225880"/>
            <a:chOff x="195120" y="1523880"/>
            <a:chExt cx="3102120" cy="2225880"/>
          </a:xfrm>
        </p:grpSpPr>
        <p:pic>
          <p:nvPicPr>
            <p:cNvPr id="208" name="Oval 4" descr=""/>
            <p:cNvPicPr/>
            <p:nvPr/>
          </p:nvPicPr>
          <p:blipFill>
            <a:blip r:embed="rId2"/>
            <a:stretch/>
          </p:blipFill>
          <p:spPr>
            <a:xfrm>
              <a:off x="195120" y="1523880"/>
              <a:ext cx="310212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52320" y="1863720"/>
              <a:ext cx="204804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PRODUCTOS/SERVICIO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0" name="Oval 5"/>
          <p:cNvGrpSpPr/>
          <p:nvPr/>
        </p:nvGrpSpPr>
        <p:grpSpPr>
          <a:xfrm>
            <a:off x="3316320" y="1523880"/>
            <a:ext cx="3035160" cy="2225880"/>
            <a:chOff x="3316320" y="1523880"/>
            <a:chExt cx="3035160" cy="2225880"/>
          </a:xfrm>
        </p:grpSpPr>
        <p:pic>
          <p:nvPicPr>
            <p:cNvPr id="211" name="Oval 5" descr=""/>
            <p:cNvPicPr/>
            <p:nvPr/>
          </p:nvPicPr>
          <p:blipFill>
            <a:blip r:embed="rId3"/>
            <a:stretch/>
          </p:blipFill>
          <p:spPr>
            <a:xfrm>
              <a:off x="3316320" y="1523880"/>
              <a:ext cx="303516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773520" y="1863720"/>
              <a:ext cx="204948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IMPACT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3" name="Oval 6"/>
          <p:cNvGrpSpPr/>
          <p:nvPr/>
        </p:nvGrpSpPr>
        <p:grpSpPr>
          <a:xfrm>
            <a:off x="6351480" y="1414440"/>
            <a:ext cx="2792520" cy="2408400"/>
            <a:chOff x="6351480" y="1414440"/>
            <a:chExt cx="2792520" cy="2408400"/>
          </a:xfrm>
        </p:grpSpPr>
        <p:pic>
          <p:nvPicPr>
            <p:cNvPr id="214" name="Oval 6" descr=""/>
            <p:cNvPicPr/>
            <p:nvPr/>
          </p:nvPicPr>
          <p:blipFill>
            <a:blip r:embed="rId4"/>
            <a:stretch/>
          </p:blipFill>
          <p:spPr>
            <a:xfrm>
              <a:off x="6351480" y="1414440"/>
              <a:ext cx="279252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6762600" y="1779480"/>
              <a:ext cx="1886040" cy="16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CONFIANZ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6" name="Line 7"/>
          <p:cNvSpPr/>
          <p:nvPr/>
        </p:nvSpPr>
        <p:spPr>
          <a:xfrm>
            <a:off x="2195640" y="3789360"/>
            <a:ext cx="1461960" cy="1011240"/>
          </a:xfrm>
          <a:prstGeom prst="line">
            <a:avLst/>
          </a:prstGeom>
          <a:ln w="130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 flipH="1">
            <a:off x="4952520" y="3809880"/>
            <a:ext cx="1800" cy="1081080"/>
          </a:xfrm>
          <a:prstGeom prst="line">
            <a:avLst/>
          </a:prstGeom>
          <a:ln w="130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 flipH="1">
            <a:off x="6372360" y="3716280"/>
            <a:ext cx="699840" cy="1143000"/>
          </a:xfrm>
          <a:prstGeom prst="line">
            <a:avLst/>
          </a:prstGeom>
          <a:ln w="130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5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20" name="12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AEB7-E3D8-4BFF-A93A-430A02322BC8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13 Marcador de pie de página"/>
          <p:cNvSpPr/>
          <p:nvPr/>
        </p:nvSpPr>
        <p:spPr>
          <a:xfrm>
            <a:off x="6499080" y="6383160"/>
            <a:ext cx="289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RIVADO VS PÚBLIC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8820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72200" indent="-772200" algn="just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Análogamente a como ocurre en el sector privado se podría hacer un esfuerzo de 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estimación en un periodo futuro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 y 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traerlo a valor presente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772200" indent="-772200" algn="just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¿Cuánto vale una organización pública?= flujo de beneficios-costos, a valor presente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772200" indent="-772200" algn="just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En muchos casos los beneficios y costos, no pueden ser medidos monetariamente, pero es intrínseco a esta aproximación generar 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esfuerzos crecientes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de cuantificación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 en aquellos ámbitos donde sea posible. Con el tiempo se crearán indica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09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25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2E16-B500-4402-9B12-F98834769B0F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Picture 4" descr="j0233018"/>
          <p:cNvPicPr/>
          <p:nvPr/>
        </p:nvPicPr>
        <p:blipFill>
          <a:blip r:embed="rId2"/>
          <a:stretch/>
        </p:blipFill>
        <p:spPr>
          <a:xfrm>
            <a:off x="0" y="260280"/>
            <a:ext cx="20937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47720" y="756000"/>
            <a:ext cx="7797240" cy="88056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72200" indent="-77220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El concepto de VP es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análogo al de Valor Privado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: valor para dueños y valor para client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2200" indent="-77220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Pero difiere de manera importante por la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dificultad de la métrica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. El valor público no es completamente reducible a $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2200" indent="-77220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Además el VP en rigor debiera considerar el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efecto coordinación y descoordinación interagencias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 (varios servicios actuando: “una gran empresa”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31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3B3A-1E72-4890-9447-ED0FB7BCD963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20800" y="895320"/>
            <a:ext cx="7806600" cy="81684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49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Por otra parte, en el caso del VP los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ciudadanos (dueños) son clientes y usuarios tambié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También son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proveedores y empleados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 (ej. Funcionarios de salud y educación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La comunidad de dueños también considera a las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generaciones futur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128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36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1011-E846-4BF8-93B1-BB82D8A24102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3040" y="691920"/>
            <a:ext cx="7782120" cy="98136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En el sector público el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trato equitativo es muy relevante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. Es decir, la valoración de los usuarios depende también del trato a otr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Calibri"/>
              </a:rPr>
              <a:t>El VP es </a:t>
            </a:r>
            <a:r>
              <a:rPr b="1" lang="es-CL" sz="2800" spc="-1" strike="noStrike">
                <a:solidFill>
                  <a:srgbClr val="003366"/>
                </a:solidFill>
                <a:latin typeface="Calibri"/>
              </a:rPr>
              <a:t>más intensivo en demandar cambios en normas sociales y códigos de comportamiento </a:t>
            </a:r>
            <a:r>
              <a:rPr b="1" lang="es-CL" sz="2800" spc="-1" strike="noStrike">
                <a:solidFill>
                  <a:srgbClr val="003366"/>
                </a:solidFill>
                <a:latin typeface="Calibri"/>
              </a:rPr>
              <a:t>(COPRODUCCION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conducción bajo alcoh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higiene y prevención (salud públic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lactancia materna y salud infant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Programas contra la pobre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41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112E-FE6C-4057-8EF6-CA4D08D58354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Picture 4" descr="j0233018"/>
          <p:cNvPicPr/>
          <p:nvPr/>
        </p:nvPicPr>
        <p:blipFill>
          <a:blip r:embed="rId2"/>
          <a:stretch/>
        </p:blipFill>
        <p:spPr>
          <a:xfrm>
            <a:off x="0" y="260280"/>
            <a:ext cx="2093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2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90" dur="1" fill="hold"/>
                                  <p:tgtEl>
                                    <p:spTgt spid="2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91" dur="1" fill="hold"/>
                                  <p:tgtEl>
                                    <p:spTgt spid="2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92" dur="1" fill="hold"/>
                                  <p:tgtEl>
                                    <p:spTgt spid="23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93" dur="1" fill="hold"/>
                                  <p:tgtEl>
                                    <p:spTgt spid="23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1" name="AutoShape 4"/>
          <p:cNvGrpSpPr/>
          <p:nvPr/>
        </p:nvGrpSpPr>
        <p:grpSpPr>
          <a:xfrm>
            <a:off x="920880" y="4462560"/>
            <a:ext cx="2382840" cy="1798560"/>
            <a:chOff x="920880" y="4462560"/>
            <a:chExt cx="2382840" cy="1798560"/>
          </a:xfrm>
        </p:grpSpPr>
        <p:pic>
          <p:nvPicPr>
            <p:cNvPr id="112" name="AutoShape 4" descr=""/>
            <p:cNvPicPr/>
            <p:nvPr/>
          </p:nvPicPr>
          <p:blipFill>
            <a:blip r:embed="rId1"/>
            <a:stretch/>
          </p:blipFill>
          <p:spPr>
            <a:xfrm>
              <a:off x="920880" y="4462560"/>
              <a:ext cx="2382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052640" y="4589640"/>
              <a:ext cx="2070000" cy="14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3366"/>
                  </a:solidFill>
                  <a:latin typeface="Arial Black"/>
                </a:rPr>
                <a:t>Desmontando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3366"/>
                  </a:solidFill>
                  <a:latin typeface="Arial Black"/>
                </a:rPr>
                <a:t>Paradigma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14" name="AutoShape 5" descr=""/>
          <p:cNvPicPr/>
          <p:nvPr/>
        </p:nvPicPr>
        <p:blipFill>
          <a:blip r:embed="rId2"/>
          <a:stretch/>
        </p:blipFill>
        <p:spPr>
          <a:xfrm>
            <a:off x="3413160" y="3865680"/>
            <a:ext cx="3554280" cy="1541520"/>
          </a:xfrm>
          <a:prstGeom prst="rect">
            <a:avLst/>
          </a:prstGeom>
          <a:ln w="0">
            <a:noFill/>
          </a:ln>
        </p:spPr>
      </p:pic>
      <p:grpSp>
        <p:nvGrpSpPr>
          <p:cNvPr id="115" name="AutoShape 6"/>
          <p:cNvGrpSpPr/>
          <p:nvPr/>
        </p:nvGrpSpPr>
        <p:grpSpPr>
          <a:xfrm>
            <a:off x="4498920" y="1878120"/>
            <a:ext cx="4243320" cy="2522520"/>
            <a:chOff x="4498920" y="1878120"/>
            <a:chExt cx="4243320" cy="2522520"/>
          </a:xfrm>
        </p:grpSpPr>
        <p:pic>
          <p:nvPicPr>
            <p:cNvPr id="116" name="AutoShape 6" descr=""/>
            <p:cNvPicPr/>
            <p:nvPr/>
          </p:nvPicPr>
          <p:blipFill>
            <a:blip r:embed="rId3"/>
            <a:stretch/>
          </p:blipFill>
          <p:spPr>
            <a:xfrm>
              <a:off x="4498920" y="1878120"/>
              <a:ext cx="42433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687920" y="2033640"/>
              <a:ext cx="38718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Arial Black"/>
                </a:rPr>
                <a:t>Nuevo Enfoque, Nuevo Rol: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Arial Black"/>
                </a:rPr>
                <a:t>Creación de Valor Público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18" name="Picture 4" descr=""/>
          <p:cNvPicPr/>
          <p:nvPr/>
        </p:nvPicPr>
        <p:blipFill>
          <a:blip r:embed="rId4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19" name="18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4E4A-35B3-48D9-B4B5-3E67C73ABAE6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19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solidFill>
            <a:srgbClr val="63c8c8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La Estrategia Organizativa en el Sector Público</a:t>
            </a:r>
            <a:br>
              <a:rPr sz="3600"/>
            </a:b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Clase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Enfoque ESTRATEGICO de Creación de Valor Públ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90720" y="206280"/>
            <a:ext cx="8962560" cy="124884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Caso 2: “William Ruckelshaus y la Agencia de Protección Ambiental” </a:t>
            </a:r>
            <a:br>
              <a:rPr sz="3200"/>
            </a:br>
            <a:r>
              <a:rPr b="1" lang="es-CL" sz="2000" spc="-1" strike="noStrike">
                <a:solidFill>
                  <a:srgbClr val="006666"/>
                </a:solidFill>
                <a:latin typeface="Arial"/>
              </a:rPr>
              <a:t>( Moore, 1998; p 108 y ss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Se arman grupos (proyec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Lectura individual (20´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Discusión del caso en grupo (30´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¿Cuáles son los antecedentes básicos? (actores/intereses/tendenci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¿Cuál es el valor público asociado a la agencia de la EPA? (aplique conceptos clase pasad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¿Cuáles son las motivaciones del gobierno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¿Cuáles son los “desafíos clave” de Ruckleshaus? ¿Cuáles son los “ámbitos donde debe gestionar” R.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¿Cuáles son las estratégicas que adopta? ¿Qué características/ventajas tien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¿Agrega Valor Público la gestión de R., cómo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600960" y="836640"/>
            <a:ext cx="2543040" cy="500040"/>
          </a:xfrm>
          <a:prstGeom prst="rect">
            <a:avLst/>
          </a:prstGeom>
          <a:ln w="0">
            <a:noFill/>
          </a:ln>
        </p:spPr>
      </p:pic>
      <p:sp>
        <p:nvSpPr>
          <p:cNvPr id="250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9144-5C12-4BA1-A237-FE93A0D61A29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432960" y="659160"/>
            <a:ext cx="8269200" cy="117180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delo Analítico Básico (Mark Moore)</a:t>
            </a:r>
            <a:br>
              <a:rPr sz="24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agnóstico de la Posición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ratégica de una Organización.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1763640" y="3068640"/>
            <a:ext cx="2675160" cy="2279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6451560" y="1878120"/>
            <a:ext cx="2513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1. Propósito/Val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Vis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Valo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Mis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179280" y="1341360"/>
            <a:ext cx="211608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2. Entor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Clien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E. Políti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Supervis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E. Económi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Tecnolog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6616800" y="3889440"/>
            <a:ext cx="237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3. Capac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Estructu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Procesos Sustantivos y de Apoy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Sistemas de evaluación y contro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RRH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Finanz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TIC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841320" y="5888160"/>
            <a:ext cx="3743280" cy="3682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aximizar Valor Público que cre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Line 10"/>
          <p:cNvSpPr/>
          <p:nvPr/>
        </p:nvSpPr>
        <p:spPr>
          <a:xfrm flipV="1">
            <a:off x="1914480" y="3852360"/>
            <a:ext cx="2266920" cy="196236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9" name="Group 14"/>
          <p:cNvGrpSpPr/>
          <p:nvPr/>
        </p:nvGrpSpPr>
        <p:grpSpPr>
          <a:xfrm>
            <a:off x="2879640" y="2392200"/>
            <a:ext cx="2732040" cy="2189160"/>
            <a:chOff x="2879640" y="2392200"/>
            <a:chExt cx="2732040" cy="2189160"/>
          </a:xfrm>
        </p:grpSpPr>
        <p:sp>
          <p:nvSpPr>
            <p:cNvPr id="260" name="Oval 4"/>
            <p:cNvSpPr/>
            <p:nvPr/>
          </p:nvSpPr>
          <p:spPr>
            <a:xfrm>
              <a:off x="2879640" y="2392200"/>
              <a:ext cx="2732040" cy="2189160"/>
            </a:xfrm>
            <a:prstGeom prst="ellipse">
              <a:avLst/>
            </a:pr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Text Box 12"/>
            <p:cNvSpPr/>
            <p:nvPr/>
          </p:nvSpPr>
          <p:spPr>
            <a:xfrm>
              <a:off x="4142160" y="2781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2" name="Group 15"/>
          <p:cNvGrpSpPr/>
          <p:nvPr/>
        </p:nvGrpSpPr>
        <p:grpSpPr>
          <a:xfrm>
            <a:off x="3610080" y="3371760"/>
            <a:ext cx="2917800" cy="1889280"/>
            <a:chOff x="3610080" y="3371760"/>
            <a:chExt cx="2917800" cy="1889280"/>
          </a:xfrm>
        </p:grpSpPr>
        <p:sp>
          <p:nvSpPr>
            <p:cNvPr id="263" name="Oval 5"/>
            <p:cNvSpPr/>
            <p:nvPr/>
          </p:nvSpPr>
          <p:spPr>
            <a:xfrm>
              <a:off x="3610080" y="3371760"/>
              <a:ext cx="2917800" cy="18892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Text Box 13"/>
            <p:cNvSpPr/>
            <p:nvPr/>
          </p:nvSpPr>
          <p:spPr>
            <a:xfrm>
              <a:off x="5345280" y="4240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33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5" name="Text Box 16"/>
          <p:cNvSpPr/>
          <p:nvPr/>
        </p:nvSpPr>
        <p:spPr>
          <a:xfrm>
            <a:off x="2268360" y="1982880"/>
            <a:ext cx="4248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67" name="18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E9BE-D505-4D53-BF3A-C12C483B731E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19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055520" y="1655640"/>
            <a:ext cx="7845840" cy="1173600"/>
          </a:xfrm>
          <a:prstGeom prst="rect">
            <a:avLst/>
          </a:prstGeom>
          <a:solidFill>
            <a:srgbClr val="85e0e0"/>
          </a:solidFill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Calibri"/>
              </a:rPr>
              <a:t>Del análisis anterior, la estrategia de la organización debe ser esencialmente, según Moore…</a:t>
            </a:r>
            <a:br>
              <a:rPr sz="3600"/>
            </a:br>
            <a:br>
              <a:rPr sz="3600"/>
            </a:br>
            <a:r>
              <a:rPr b="1" lang="es-CL" sz="3000" spc="-1" strike="noStrike">
                <a:solidFill>
                  <a:srgbClr val="003366"/>
                </a:solidFill>
                <a:latin typeface="Calibri"/>
              </a:rPr>
              <a:t>(A) Sustantivamente valiosa</a:t>
            </a:r>
            <a:br>
              <a:rPr sz="3000"/>
            </a:br>
            <a:r>
              <a:rPr b="1" lang="es-CL" sz="3000" spc="-1" strike="noStrike">
                <a:solidFill>
                  <a:srgbClr val="003366"/>
                </a:solidFill>
                <a:latin typeface="Calibri"/>
              </a:rPr>
              <a:t>(B) Políticamente Sustentable</a:t>
            </a:r>
            <a:br>
              <a:rPr sz="3000"/>
            </a:br>
            <a:r>
              <a:rPr b="1" lang="es-CL" sz="3000" spc="-1" strike="noStrike">
                <a:solidFill>
                  <a:srgbClr val="003366"/>
                </a:solidFill>
                <a:latin typeface="Calibri"/>
              </a:rPr>
              <a:t>(C) Técnicamente Factible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Preguntas clav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alibri"/>
              </a:rPr>
              <a:t>¿De que se trat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alibri"/>
              </a:rPr>
              <a:t>¿Cual es el valor público que la organización gener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alibri"/>
              </a:rPr>
              <a:t>¿Cuál es Visión de la Organizació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alibri"/>
              </a:rPr>
              <a:t>¿Cuáles son los Valores / Historia e ideas clav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alibri"/>
              </a:rPr>
              <a:t>¿Son la Misión y las metas específicas las adecuada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74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833D-2E0A-49EF-B47E-C9149FFD7E84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64072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La </a:t>
            </a: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tarea central del ejecutivo público es crear </a:t>
            </a:r>
            <a:r>
              <a:rPr b="1" i="1" lang="es-ES" sz="2400" spc="-1" strike="noStrike">
                <a:solidFill>
                  <a:srgbClr val="ff3300"/>
                </a:solidFill>
                <a:latin typeface="Calibri"/>
              </a:rPr>
              <a:t>Valor público...</a:t>
            </a: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.... pero ello demanda primero identificar cuál es ese 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Valor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....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y ese 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Valor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, a diferencia del caso de las organizaciones privadas no necesariamente es unidimensional, no es fácil de medir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.... de hecho existen serias dificultades traducir las preferencias de los mandantes en un mandato claro e incontrovertible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.... y por otra parte los clientes o receptores de los “servicios de la organización”  tampoco tienen formas simples y directas de manifestar sus preferencias 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De modo que </a:t>
            </a: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el ejecutivo público NO tiene alternativa que formular un concepto de </a:t>
            </a:r>
            <a:r>
              <a:rPr b="1" i="1" lang="es-ES" sz="2400" spc="-1" strike="noStrike">
                <a:solidFill>
                  <a:srgbClr val="ff3300"/>
                </a:solidFill>
                <a:latin typeface="Calibri"/>
              </a:rPr>
              <a:t>Valor Público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…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a partir de múltiples 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fuentes imperfectas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(mandatos estatutarios, técnicas analíticas, consultas a clientes, etc.), entre las cuales el proceso de deliberación política es probablemente la más importante, e ir ajustándolo a través de un proceso de prueba y err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78" name="5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41F9-E3F3-4D74-8CED-2A8E865D9B64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6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798840" y="879840"/>
            <a:ext cx="7837560" cy="60012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Pero, hay pistas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El </a:t>
            </a: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valor público está enraizado en los valores y preferencias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de los individu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Las múltiples preferencias de los ciudadanos son mediadas por el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sistema representativo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Interesa tanto la producción de bienes públicos (orientado a grupos específicos), como el que la producción se haga de manera ordenada, equitativa y confiable (trust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La </a:t>
            </a: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eficiencia y la calidad del servicio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son altamente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valorad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Es deseable la utilización de métodos analíticos para evidenciar la generación de valor ( especialmente ante agentes representativos relevantes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El carácter cambiante del mundo demanda capacidad de adapta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83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D3F6-EE51-4753-ABDF-274879FADD84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Preguntas clav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532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¿Qué se perdería si esta organización no existier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¿Qué otras formas existen para hacer lo que esta organización hoy día hace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¿A quién realmente sirvo? (Focalización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¿Cuál es la causalidad de la generación de valo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¿Qué espacios de ganancia en materias de calidad de servicio existe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¿Qué espacios de ganancia de confianza existe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88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35D2-792F-412E-9021-D8873603566F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902520" y="1409040"/>
            <a:ext cx="779616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0000"/>
                </a:solidFill>
                <a:latin typeface="Arial"/>
              </a:rPr>
              <a:t>Entorno.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Oval 3"/>
          <p:cNvSpPr/>
          <p:nvPr/>
        </p:nvSpPr>
        <p:spPr>
          <a:xfrm>
            <a:off x="5292720" y="2679840"/>
            <a:ext cx="1828800" cy="182880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4978080" y="47563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alibri"/>
              </a:rPr>
              <a:t>En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817920" y="466920"/>
            <a:ext cx="7650360" cy="86220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Preguntas clave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78920" y="1562040"/>
            <a:ext cx="8713800" cy="453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¿Cuáles son las implicaciones del estado actual (o cambios anticipados) en el entorno de la organización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¿cómo afecta el entorno las capacidades de la organización para alcanzar su propósit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¿Debe la organización adaptar o revisar sus metas y propósito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¿cómo deben adaptarse las capacidades organizacionales para reflejar los cambios del entorn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¿cómo debe la organización vincularse con actores externos clave, instituciones y electores?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97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FC8F-D384-4E74-94E4-AB4CEEEB2FD1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77000" y="342000"/>
            <a:ext cx="8337600" cy="1123920"/>
          </a:xfrm>
          <a:prstGeom prst="rect">
            <a:avLst/>
          </a:prstGeom>
          <a:solidFill>
            <a:srgbClr val="d0e3d0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</a:rPr>
              <a:t>Un caso de imaginación (innovación) gerencial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88930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¿Cuáles son los hechos básicos?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¿Cuál es el problema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¿Cuáles fueron las primeras aproximaciones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¿Cuáles son las restricciones/dificultades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¿Cómo se solucionó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¿Cuál es al aprendizaje general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24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35A7-923C-42FE-BE6C-D1ED42E9838F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852120" y="794880"/>
            <a:ext cx="8201160" cy="124812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¿Cuáles  son los roles, posiciones e intereses de los distintos actores (</a:t>
            </a:r>
            <a:r>
              <a:rPr b="1" i="1" lang="es-ES_tradnl" sz="3200" spc="-1" strike="noStrike">
                <a:solidFill>
                  <a:srgbClr val="ff0000"/>
                </a:solidFill>
                <a:latin typeface="Arial"/>
              </a:rPr>
              <a:t>stakeholders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) y sus implicancia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68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Cli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Proveed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Poder legisl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Agencias evaluadoras/supervisor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Grupos asociados o defensores (“advocates”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Grupos de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Pren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Otros actores influy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302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0627-C41C-4DFF-9D1C-A8BCF178209B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848520" y="848880"/>
            <a:ext cx="7751160" cy="11980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¿Cuáles son las tendencias actuales y de mediano plazo que pueden afectar a la organización en el futuro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Tecnologí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Leyes/Polític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Valor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Factores económic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307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667C-AED4-475B-96BB-935AF8277060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902520" y="1409040"/>
            <a:ext cx="7796160" cy="104760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El Entorno Políti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j0233018"/>
          <p:cNvPicPr/>
          <p:nvPr/>
        </p:nvPicPr>
        <p:blipFill>
          <a:blip r:embed="rId2"/>
          <a:stretch/>
        </p:blipFill>
        <p:spPr>
          <a:xfrm>
            <a:off x="0" y="5226120"/>
            <a:ext cx="209376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27640" y="548280"/>
            <a:ext cx="7779960" cy="998280"/>
          </a:xfrm>
          <a:prstGeom prst="rect">
            <a:avLst/>
          </a:prstGeom>
          <a:solidFill>
            <a:srgbClr val="d0e3d0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Es necesario hacer </a:t>
            </a: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gestión activa</a:t>
            </a: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 del entorno político cuando ....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496000" cy="528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s-ES_tradnl" sz="2600" spc="-1" strike="noStrike">
                <a:solidFill>
                  <a:srgbClr val="003366"/>
                </a:solidFill>
                <a:latin typeface="Calibri"/>
              </a:rPr>
              <a:t>Se </a:t>
            </a: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efectúa rendición de cuentas rutinaria (reportes a DIPRES o SEGPRES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 necesita apoyo para innovaciones o </a:t>
            </a:r>
            <a:r>
              <a:rPr b="1" lang="es-CL" sz="2600" spc="-1" strike="noStrike">
                <a:solidFill>
                  <a:srgbClr val="003366"/>
                </a:solidFill>
                <a:latin typeface="Calibri"/>
              </a:rPr>
              <a:t>cambios</a:t>
            </a: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: lo que implica mostrar que la iniciativa se ajusta a las concepciones de valor público del agente externo respectivo. En general aquí se abre la necesidad de gestionar la activación de grupos de apoyo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 requiere alcanzar coordinación interagencia. Ejemplos: CORFO-PYME o CORFO-Prochile. Otro ejemplo reciente: CORFO - Banco del Estado. Coordinación vía un superior, lo que no siempre es posibl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 requiere coproducción descentralizada (persuación masiva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316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FBD5-70E5-4878-8828-0BACB08F00B3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43840" y="843840"/>
            <a:ext cx="7760520" cy="113436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Gestión política se refiere a la tarea de construir apoyo y legitimidad para ciertos propósito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5280" y="2361960"/>
            <a:ext cx="8136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  <a:ea typeface="Arial"/>
              </a:rPr>
              <a:t>Ello involucra construir un clima de tolerancia, apoyo activo o asistencia operativa para un gestor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  <a:ea typeface="Arial"/>
              </a:rPr>
              <a:t>una política o una estrategia integral entre aquellos que, estando fuera del alcance de la autoridad del ejecutivo, son necesarios para aportar asistencia o proveer de apoyo o autoridad a la iniciativa del directivo públic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321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C2E2-B372-4271-A084-F8CE2D69E577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24040" y="970200"/>
            <a:ext cx="7800120" cy="85680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ores Políticos</a:t>
            </a: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jecutivos políticos: aquellos que contratan a los gerentes (ministros y subsecretarios, etc.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Supervisores legislativ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inisterio de Hacienda, Contraloría, SEGPR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¡¡¡Y LOS ASESORES DE TODOS ELLOS!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edios de Comunicación: son quienes dibujan la cancha en que la discusión se va a dar. Ejemplo: CASO Seremi de Educación, Hospital Curep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Grupos de Interé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artidos Polític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Otros grupos organizados (empresarios, org. de trabajadores, etc.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Tribu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326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E53E-B415-467A-9307-BC2C88307493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Técnicas de Gestión Polí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Arial"/>
              </a:rPr>
              <a:t>Promoción activa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Calibri"/>
              </a:rPr>
              <a:t>Gestión del Desarrollo de la polític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Arial"/>
              </a:rPr>
              <a:t>Negociació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Deliberación pública, aprendizaje social y lideraz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Marketing y Comunicación Estratég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331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0F05-6C65-469D-B08C-1FE22C1AC903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280" y="1197000"/>
            <a:ext cx="86043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3860640"/>
            <a:ext cx="9144000" cy="2997360"/>
          </a:xfrm>
          <a:prstGeom prst="wedgeRectCallout">
            <a:avLst>
              <a:gd name="adj1" fmla="val -518"/>
              <a:gd name="adj2" fmla="val -77699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66699"/>
                </a:solidFill>
                <a:latin typeface="Arial Black"/>
              </a:rPr>
              <a:t>(1)El funcionario debe hacer lo que está mandatado expresamente por las normas, y esto es siempre muy clar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66699"/>
                </a:solidFill>
                <a:latin typeface="Arial Black"/>
              </a:rPr>
              <a:t>(2) La misión es ser fiel al mandato formal y producirlo eficientemen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30" name="7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6D06-E1B6-4BBB-9D63-B88B2A621486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8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85520" y="6426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 de “emprendedor público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3" name="AutoShape 4"/>
          <p:cNvGrpSpPr/>
          <p:nvPr/>
        </p:nvGrpSpPr>
        <p:grpSpPr>
          <a:xfrm>
            <a:off x="957240" y="3187800"/>
            <a:ext cx="3151080" cy="3402000"/>
            <a:chOff x="957240" y="3187800"/>
            <a:chExt cx="3151080" cy="3402000"/>
          </a:xfrm>
        </p:grpSpPr>
        <p:pic>
          <p:nvPicPr>
            <p:cNvPr id="134" name="AutoShape 4" descr=""/>
            <p:cNvPicPr/>
            <p:nvPr/>
          </p:nvPicPr>
          <p:blipFill>
            <a:blip r:embed="rId1"/>
            <a:stretch/>
          </p:blipFill>
          <p:spPr>
            <a:xfrm>
              <a:off x="957240" y="3187800"/>
              <a:ext cx="3151080" cy="34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768320" y="3214800"/>
              <a:ext cx="1535400" cy="28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666699"/>
                  </a:solidFill>
                  <a:latin typeface="Arial Black"/>
                </a:rPr>
                <a:t>Enfoque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666699"/>
                  </a:solidFill>
                  <a:latin typeface="Arial Black"/>
                </a:rPr>
                <a:t>descendent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6" name="AutoShape 5"/>
          <p:cNvGrpSpPr/>
          <p:nvPr/>
        </p:nvGrpSpPr>
        <p:grpSpPr>
          <a:xfrm>
            <a:off x="5035680" y="2687760"/>
            <a:ext cx="3028680" cy="3616200"/>
            <a:chOff x="5035680" y="2687760"/>
            <a:chExt cx="3028680" cy="3616200"/>
          </a:xfrm>
        </p:grpSpPr>
        <p:pic>
          <p:nvPicPr>
            <p:cNvPr id="137" name="AutoShape 5" descr=""/>
            <p:cNvPicPr/>
            <p:nvPr/>
          </p:nvPicPr>
          <p:blipFill>
            <a:blip r:embed="rId2"/>
            <a:stretch/>
          </p:blipFill>
          <p:spPr>
            <a:xfrm>
              <a:off x="5035680" y="2687760"/>
              <a:ext cx="3028680" cy="36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813280" y="3267000"/>
              <a:ext cx="1481400" cy="30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666699"/>
                  </a:solidFill>
                  <a:latin typeface="Arial Black"/>
                </a:rPr>
                <a:t>Enfoque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666699"/>
                  </a:solidFill>
                  <a:latin typeface="Arial Black"/>
                </a:rPr>
                <a:t>ascendent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40" name="8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FB69-77D1-4D78-BBE6-38E1F79769D6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9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45400" y="769680"/>
            <a:ext cx="8279640" cy="1069200"/>
          </a:xfrm>
          <a:prstGeom prst="rect">
            <a:avLst/>
          </a:prstGeom>
          <a:solidFill>
            <a:srgbClr val="d0e3d0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MODELO TRADIC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844280"/>
            <a:ext cx="903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Describe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cómo deben entender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y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llevar a cabo su trabajo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Enfrenta el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riesgo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que los directivos públicos conduzcan la administración según intereses distinto a los público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Pone énfasis en el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control de procedimientos y la verticalida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45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7376-0FB6-4AA5-936A-01CBF9D8EA4F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12520" y="1014120"/>
            <a:ext cx="7823160" cy="70164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MODELO TRADI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21800" y="219384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Supone que los propósitos son nítidos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en las pautas normativas (Leyes, discursos o declaraciones de las “autoridades”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Enfatiza más en la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“administración”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(objetivos y procedimientos definidos)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que en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“la gestión”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(respuesta a objetivos declarados, procedimientos amplios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50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291C-124B-423E-B812-11CA2FF2C3E5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MODELO TRADI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560" y="1844640"/>
            <a:ext cx="900108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El directivo debe cumplir sus mandatos con eficacia y eficiencia, tiende a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suponer conocimiento experto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(se conocen la respuestas, no requiere participación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Más “burocracia”,  menos “emprendimiento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Las fuerzas son: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descendentes y hacia adentro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Tiende a no abrir reflexión sobre propósito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55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E9A6-61F6-4C8E-BBBD-52C186C09CEF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800" y="387000"/>
            <a:ext cx="8342640" cy="115776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03600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 “ </a:t>
            </a: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Valor agregado que produce el sector público”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proveniente de los  </a:t>
            </a: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“beneficios percibidos”</a:t>
            </a: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 por a) ciudadanos/comunidad y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b) usuarios/consumidores /clientes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“</a:t>
            </a: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descontando los costos”</a:t>
            </a: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 en los que se incurre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Calibri"/>
              </a:rPr>
              <a:t>a </a:t>
            </a:r>
            <a:r>
              <a:rPr b="1" lang="es-CL" sz="3600" spc="-1" strike="noStrike">
                <a:solidFill>
                  <a:srgbClr val="003366"/>
                </a:solidFill>
                <a:latin typeface="Calibri"/>
              </a:rPr>
              <a:t>“Valor Presente”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60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83D3-1513-4ADA-A5E6-D68E56C5F7A4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115920" y="158760"/>
            <a:ext cx="183528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3:33:58Z</dcterms:created>
  <dc:creator>Jinostroza</dc:creator>
  <dc:description/>
  <dc:language>en-US</dc:language>
  <cp:lastModifiedBy>Your User Name</cp:lastModifiedBy>
  <dcterms:modified xsi:type="dcterms:W3CDTF">2010-11-11T21:03:12Z</dcterms:modified>
  <cp:revision>12</cp:revision>
  <dc:subject/>
  <dc:title>Creación de Valor en el sector Público, Nuevo Paradigma, Nueva Doctrina</dc:title>
</cp:coreProperties>
</file>