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doni MT Condense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doni MT Condense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Bodoni MT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71EAE2-A069-40CE-9C34-C042CFF5E2FC}" type="slidenum">
              <a:rPr b="0" lang="es-ES" sz="1300" spc="-1" strike="noStrike">
                <a:solidFill>
                  <a:srgbClr val="000000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CE840A-141C-4718-BD31-9E6EEDFC9707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D6ED7E-A7FC-43A6-B5A0-875490045B01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B6D7A0-F5EC-45B1-AA13-429C18C943D6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1E3012-8E77-4DE5-BE1F-CAF215DF254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24FE4E-A7F5-433F-B72F-9D1E1CA0A751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F5F76E-0034-4657-BFB0-8147934370A6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5B8C50-8798-4837-876A-78CADBF9D0A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DFAAC9-EBC2-4156-81D3-6B2699E26005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5E6C0B-C11C-4ED6-9DB2-E99CAF3AAFE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4CBA35-8BF2-4AA4-B76A-9DB2C3F30605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61B97B-71A9-4C3F-8DD3-E1BCA5BAF088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CE7549-2AF2-4C2B-B31A-282EA1BFA4BA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08E7A9-7DE0-4A79-A755-2C3C28849B27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A410FB-834B-48C5-B406-781C25791781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.      En síntesis, cuál era el desafío relevante y prioritario de Ruckelshau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ii.      ¿Cuáles fueron las amenazas-restricciones y las oportunidades observadas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iv.      En síntesis, explique cuál fue la estrategia y sus atributos (ventajas, desventajas) de la misma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v.      ¿Qué ventajas/desventajas desde el punto de vista de los ecologistas, industriales, organización, gobiern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vi.      ¿Qué otra misión habría usted señalado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viii.      ¿Qué hizo R. respecto a los siguiente atributos deseables (como señala el texto) de una estrategia en el sector público?)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1.      Sustantivamente releva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2.      Viable políticamente</a:t>
            </a:r>
            <a:br>
              <a:rPr sz="1200"/>
            </a:b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Bodoni MT Condensed"/>
              </a:rPr>
              <a:t>3.      Operativamente factible y suficientemente clara </a:t>
            </a:r>
            <a:endParaRPr b="0" lang="en-US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7C7400-E598-4850-AE36-3B7254B93659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044341-4D71-40C3-913A-0C10B49A22A6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DE5B25-29E1-4E62-8A0D-A4B8BD38E45C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D13FA3-AD42-47E8-9547-790C7AA0A585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FC37B1-F071-4E8E-A6D0-7E56887A094D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3241B5-2F6A-4EF6-8238-CC82F5D5B78C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9E7A1E-E742-473E-B234-399142FC6F0B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BEF82C-4259-425B-AD1E-D8403F7CD3E2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58340D-185E-4704-B29D-8D6C83577D38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C1546D-57D1-44D8-941D-BEA321BE690D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63393A-7DEE-4F88-9B42-C31BF4E2ADB6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493EAA-2545-46BA-ABE2-BB9E5ECA4B6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7DD800-0081-4279-95E5-7F349BD54A0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EA2CB4-CABF-42B1-9D90-6C6DB113BE63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F80E9E-90AC-4658-AB2F-C827340E3EFB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092A30-D9D7-44A4-8446-0D0CD562C9E7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C71C52-F3A1-46D6-AB51-B249ED4A9007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053441-C179-4187-89B9-9D49460C130C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1262C1-0F76-492B-A267-4FE286EEA5AB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ED9980-454A-4CA5-957F-BAD15E7FA53F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18D4AF-1050-40CD-9090-8E3DD4C50D49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7E9450-EE43-41CC-80D4-5A86BDB2485D}" type="slidenum">
              <a:rPr b="0" lang="es-ES" sz="1300" spc="-1" strike="noStrike">
                <a:solidFill>
                  <a:srgbClr val="003366"/>
                </a:solidFill>
                <a:latin typeface="Bodoni MT Condensed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Bodoni MT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ED5-5134-476A-965E-832011EE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154-AD03-4FA7-8F6F-A3757C3A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EC4-08D2-446D-91AF-4882B3D6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DC9-7D06-4039-9929-967C8936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F4B5-9ECA-40C7-BAFF-82D3C794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A7DA-67E0-46ED-BF7E-B898625C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2A87-6D56-4EBE-BC7E-1AAD9DAE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D724-EBFC-4824-B5F6-BEEF4C6C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3D8E-AAE1-4903-ABEF-15FAE34C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A98D-E8F3-498F-A719-378DD794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4D00-A4A0-4D65-A4C7-65113E54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703-40BC-49AC-B7CB-BA8DE21A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B461-25DF-42FA-B790-CB29144E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71FC-A79B-41AC-B085-D821EAF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B76F-AC25-45E0-A466-F9EE02CB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871C-73E9-461B-8E8E-6F734206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B1DE-9BDB-4F74-B9FF-AFC1A8B2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6AF-CD87-46C1-8FC5-9B2DFE5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616-05DE-4859-8089-4740601B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010-1F85-4AE1-A8E5-B3114F3A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6DB-ECFC-4105-8C80-7DEEE91B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025-2996-4C6E-866B-A1BFB19D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4AF-8404-40E3-B271-446844D4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7B0-D018-4D93-9C31-C913CB3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21C6-DC10-400B-9456-2B187DC258AE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www.sistemaspublicos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D8C0-6FC0-4B65-8BB0-7D5BE288D54B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90200" y="907920"/>
            <a:ext cx="6626520" cy="1730880"/>
          </a:xfrm>
          <a:prstGeom prst="rect">
            <a:avLst/>
          </a:prstGeom>
          <a:solidFill>
            <a:srgbClr val="85e0e0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Arial"/>
              </a:rPr>
              <a:t>Creación de Valor en el Sector Público, Nuevo Paradigma, Nueva Doctrina</a:t>
            </a:r>
            <a:br>
              <a:rPr sz="4400"/>
            </a:br>
            <a:r>
              <a:rPr b="1" i="1" lang="es-CL" sz="3200" spc="-1" strike="noStrike">
                <a:solidFill>
                  <a:srgbClr val="003f80"/>
                </a:solidFill>
                <a:latin typeface="Arial"/>
              </a:rPr>
              <a:t>Clase 1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91200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br>
              <a:rPr sz="1400"/>
            </a:b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4" name="Text Box 5"/>
          <p:cNvGrpSpPr/>
          <p:nvPr/>
        </p:nvGrpSpPr>
        <p:grpSpPr>
          <a:xfrm>
            <a:off x="1530360" y="3456000"/>
            <a:ext cx="7016760" cy="1603440"/>
            <a:chOff x="1530360" y="3456000"/>
            <a:chExt cx="7016760" cy="1603440"/>
          </a:xfrm>
        </p:grpSpPr>
        <p:pic>
          <p:nvPicPr>
            <p:cNvPr id="105" name="Text Box 5" descr=""/>
            <p:cNvPicPr/>
            <p:nvPr/>
          </p:nvPicPr>
          <p:blipFill>
            <a:blip r:embed="rId1"/>
            <a:stretch/>
          </p:blipFill>
          <p:spPr>
            <a:xfrm>
              <a:off x="1530360" y="3456000"/>
              <a:ext cx="70167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547640" y="3475080"/>
              <a:ext cx="6985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3366"/>
                  </a:solidFill>
                  <a:latin typeface="Arial"/>
                </a:rPr>
                <a:t>Diploma en Gerencia Pública-Superintendencia de Electricidad y Combustibles 2010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3366"/>
                  </a:solidFill>
                  <a:uFillTx/>
                  <a:latin typeface="Arial"/>
                </a:rPr>
                <a:t>Módulo: </a:t>
              </a:r>
              <a:r>
                <a:rPr b="1" i="1" lang="es-ES_tradnl" sz="1600" spc="-1" strike="noStrike">
                  <a:solidFill>
                    <a:srgbClr val="003366"/>
                  </a:solidFill>
                  <a:latin typeface="Arial"/>
                </a:rPr>
                <a:t>Tópicos Aplicados de Gestión Pública: Enfoques Clave para Gestión Estratégica y Creación de Valor en el Sector Públic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Profesor: José Inostroza, jinostro@dii.uchile.cl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3036960" y="44280"/>
            <a:ext cx="2830320" cy="5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25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14800" y="533880"/>
            <a:ext cx="8114400" cy="7927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148392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Los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beneficios pueden darse a nivel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Productos o servicio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 (outputs): Ej .Vacu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Impactos o resultado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(outcomes) Ej. Tasa de enfermedad específ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Confianza: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(Ejs. </a:t>
            </a: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Filtración de info en Banco Central, Caso CORFO/Inverlink,  Crisis sanitarias (ESB/´vaca loca’), Corru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Componentes de la Confianza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ercepción de eficacia/desempeño (aunque causalidad es complej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ercepción de integridad, étic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ercepción de transparencia/sincerida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6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82CD-42DB-4444-BF96-DC51D9734FCA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8820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n lo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costos,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también se refiere a 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Costos monetarios y NO monetarios.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Ejs. de NO monetarios:  pérdida de confianza, pérdida de libertad, medidas coercitivas, perdida de intimi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Directos, Indirectos y de Oportunidad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(¿Qué se podría hacer alternativamente con los recursos utilizados?)</a:t>
            </a: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7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6E4A-2980-4EA1-8775-E656FAC0CD0F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5238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n ambos casos  -beneficios y costos - el criterio para su definición son la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“preferencias públicas”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generadas en procesos colectivos (Ej. ley, grupo de ciudadanos, medios de comunicación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y también la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“preferencias privadas”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expresadas por los usuarios/clientes/beneficiarios de los servicios públ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7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1953-4DC7-4582-9132-7A6C552DDBF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4" descr="j0233018"/>
          <p:cNvPicPr/>
          <p:nvPr/>
        </p:nvPicPr>
        <p:blipFill>
          <a:blip r:embed="rId2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1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Calibri"/>
              </a:rPr>
              <a:t>ORIGEN DE LAS PREFERE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560" y="2627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1" name="Rectangle 4"/>
          <p:cNvGrpSpPr/>
          <p:nvPr/>
        </p:nvGrpSpPr>
        <p:grpSpPr>
          <a:xfrm>
            <a:off x="5602320" y="2779560"/>
            <a:ext cx="3120840" cy="1756080"/>
            <a:chOff x="5602320" y="2779560"/>
            <a:chExt cx="3120840" cy="1756080"/>
          </a:xfrm>
        </p:grpSpPr>
        <p:pic>
          <p:nvPicPr>
            <p:cNvPr id="182" name="Rectangle 4" descr=""/>
            <p:cNvPicPr/>
            <p:nvPr/>
          </p:nvPicPr>
          <p:blipFill>
            <a:blip r:embed="rId1"/>
            <a:stretch/>
          </p:blipFill>
          <p:spPr>
            <a:xfrm>
              <a:off x="5602320" y="2779560"/>
              <a:ext cx="312084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638680" y="2819520"/>
              <a:ext cx="297180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Valor Públic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4" name="Oval 5"/>
          <p:cNvGrpSpPr/>
          <p:nvPr/>
        </p:nvGrpSpPr>
        <p:grpSpPr>
          <a:xfrm>
            <a:off x="652320" y="2603520"/>
            <a:ext cx="2279880" cy="2438280"/>
            <a:chOff x="652320" y="2603520"/>
            <a:chExt cx="2279880" cy="2438280"/>
          </a:xfrm>
        </p:grpSpPr>
        <p:pic>
          <p:nvPicPr>
            <p:cNvPr id="185" name="Oval 5" descr=""/>
            <p:cNvPicPr/>
            <p:nvPr/>
          </p:nvPicPr>
          <p:blipFill>
            <a:blip r:embed="rId2"/>
            <a:stretch/>
          </p:blipFill>
          <p:spPr>
            <a:xfrm>
              <a:off x="652320" y="2603520"/>
              <a:ext cx="22798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990720" y="2973240"/>
              <a:ext cx="147456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lientes/Usuari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7" name="Oval 6"/>
          <p:cNvGrpSpPr/>
          <p:nvPr/>
        </p:nvGrpSpPr>
        <p:grpSpPr>
          <a:xfrm>
            <a:off x="3316320" y="2603520"/>
            <a:ext cx="1938240" cy="2444760"/>
            <a:chOff x="3316320" y="2603520"/>
            <a:chExt cx="1938240" cy="2444760"/>
          </a:xfrm>
        </p:grpSpPr>
        <p:pic>
          <p:nvPicPr>
            <p:cNvPr id="188" name="Oval 6" descr=""/>
            <p:cNvPicPr/>
            <p:nvPr/>
          </p:nvPicPr>
          <p:blipFill>
            <a:blip r:embed="rId3"/>
            <a:stretch/>
          </p:blipFill>
          <p:spPr>
            <a:xfrm>
              <a:off x="3316320" y="2603520"/>
              <a:ext cx="1938240" cy="24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611520" y="2975040"/>
              <a:ext cx="1273320" cy="16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omunidad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Mandan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0" name="Text Box 7"/>
          <p:cNvSpPr/>
          <p:nvPr/>
        </p:nvSpPr>
        <p:spPr>
          <a:xfrm>
            <a:off x="518148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ahoma"/>
                <a:ea typeface="Arial"/>
              </a:rPr>
              <a:t>=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819520" y="3352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ahoma"/>
                <a:ea typeface="Arial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2" name="AutoShape 9"/>
          <p:cNvGrpSpPr/>
          <p:nvPr/>
        </p:nvGrpSpPr>
        <p:grpSpPr>
          <a:xfrm>
            <a:off x="1450800" y="5132520"/>
            <a:ext cx="6546960" cy="841320"/>
            <a:chOff x="1450800" y="5132520"/>
            <a:chExt cx="6546960" cy="841320"/>
          </a:xfrm>
        </p:grpSpPr>
        <p:pic>
          <p:nvPicPr>
            <p:cNvPr id="193" name="AutoShape 9" descr=""/>
            <p:cNvPicPr/>
            <p:nvPr/>
          </p:nvPicPr>
          <p:blipFill>
            <a:blip r:embed="rId4"/>
            <a:stretch/>
          </p:blipFill>
          <p:spPr>
            <a:xfrm>
              <a:off x="1450800" y="5132520"/>
              <a:ext cx="65469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76360" y="5337000"/>
              <a:ext cx="5607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95" name="Picture 4" descr=""/>
          <p:cNvPicPr/>
          <p:nvPr/>
        </p:nvPicPr>
        <p:blipFill>
          <a:blip r:embed="rId5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96" name="12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530F-86FA-49BE-BED4-DB77D504945B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13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45040" y="87480"/>
            <a:ext cx="8053920" cy="12085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064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Fuerte componente subjetivo (preferencias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Valor final NO se define en gabinete, sino por ciudadanos/usuarios/cliente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Mayores esfuerzos en “procesos de identificación y valoración” de preferencias públicas (profundiza la democracia) y las preferencias privad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focus group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consejos consultivo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páginas web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comunicación con las autoridades políticas y representantes de las comunidad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Calibri"/>
              </a:rPr>
              <a:t>encuestas de satisfacción de usuarios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0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505C-22A4-4384-BA4C-B97FB0C98DC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3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4" dur="1" fill="hold"/>
                                  <p:tgtEl>
                                    <p:spTgt spid="19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5" dur="1" fill="hold"/>
                                  <p:tgtEl>
                                    <p:spTgt spid="19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6" dur="1" fill="hold"/>
                                  <p:tgtEl>
                                    <p:spTgt spid="19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7" dur="1" fill="hold"/>
                                  <p:tgtEl>
                                    <p:spTgt spid="19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99280" y="332280"/>
            <a:ext cx="778032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ÁMBITOS BÁSICOS DÓNDE MEDI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4" name="Rectangle 3"/>
          <p:cNvGrpSpPr/>
          <p:nvPr/>
        </p:nvGrpSpPr>
        <p:grpSpPr>
          <a:xfrm>
            <a:off x="2938320" y="4896000"/>
            <a:ext cx="3919680" cy="1822320"/>
            <a:chOff x="2938320" y="4896000"/>
            <a:chExt cx="3919680" cy="1822320"/>
          </a:xfrm>
        </p:grpSpPr>
        <p:pic>
          <p:nvPicPr>
            <p:cNvPr id="205" name="Rectangle 3" descr=""/>
            <p:cNvPicPr/>
            <p:nvPr/>
          </p:nvPicPr>
          <p:blipFill>
            <a:blip r:embed="rId1"/>
            <a:stretch/>
          </p:blipFill>
          <p:spPr>
            <a:xfrm>
              <a:off x="2938320" y="4896000"/>
              <a:ext cx="391968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987640" y="4941720"/>
              <a:ext cx="37450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3366"/>
                  </a:solidFill>
                  <a:latin typeface="Arial"/>
                  <a:ea typeface="Arial"/>
                </a:rPr>
                <a:t>VALOR PÚBLICO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7" name="Oval 4"/>
          <p:cNvGrpSpPr/>
          <p:nvPr/>
        </p:nvGrpSpPr>
        <p:grpSpPr>
          <a:xfrm>
            <a:off x="195120" y="1523880"/>
            <a:ext cx="3102120" cy="2225880"/>
            <a:chOff x="195120" y="1523880"/>
            <a:chExt cx="3102120" cy="2225880"/>
          </a:xfrm>
        </p:grpSpPr>
        <p:pic>
          <p:nvPicPr>
            <p:cNvPr id="208" name="Oval 4" descr=""/>
            <p:cNvPicPr/>
            <p:nvPr/>
          </p:nvPicPr>
          <p:blipFill>
            <a:blip r:embed="rId2"/>
            <a:stretch/>
          </p:blipFill>
          <p:spPr>
            <a:xfrm>
              <a:off x="195120" y="1523880"/>
              <a:ext cx="310212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52320" y="1863720"/>
              <a:ext cx="204804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PRODUCTOS/SERVICI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0" name="Oval 5"/>
          <p:cNvGrpSpPr/>
          <p:nvPr/>
        </p:nvGrpSpPr>
        <p:grpSpPr>
          <a:xfrm>
            <a:off x="3316320" y="1523880"/>
            <a:ext cx="3035160" cy="2225880"/>
            <a:chOff x="3316320" y="1523880"/>
            <a:chExt cx="3035160" cy="2225880"/>
          </a:xfrm>
        </p:grpSpPr>
        <p:pic>
          <p:nvPicPr>
            <p:cNvPr id="211" name="Oval 5" descr=""/>
            <p:cNvPicPr/>
            <p:nvPr/>
          </p:nvPicPr>
          <p:blipFill>
            <a:blip r:embed="rId3"/>
            <a:stretch/>
          </p:blipFill>
          <p:spPr>
            <a:xfrm>
              <a:off x="3316320" y="1523880"/>
              <a:ext cx="30351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773520" y="1863720"/>
              <a:ext cx="204948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IMPACT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13" name="Oval 6"/>
          <p:cNvGrpSpPr/>
          <p:nvPr/>
        </p:nvGrpSpPr>
        <p:grpSpPr>
          <a:xfrm>
            <a:off x="6351480" y="1414440"/>
            <a:ext cx="2792520" cy="2408400"/>
            <a:chOff x="6351480" y="1414440"/>
            <a:chExt cx="2792520" cy="2408400"/>
          </a:xfrm>
        </p:grpSpPr>
        <p:pic>
          <p:nvPicPr>
            <p:cNvPr id="214" name="Oval 6" descr=""/>
            <p:cNvPicPr/>
            <p:nvPr/>
          </p:nvPicPr>
          <p:blipFill>
            <a:blip r:embed="rId4"/>
            <a:stretch/>
          </p:blipFill>
          <p:spPr>
            <a:xfrm>
              <a:off x="6351480" y="1414440"/>
              <a:ext cx="279252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762600" y="1779480"/>
              <a:ext cx="1886040" cy="16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  <a:ea typeface="Arial"/>
                </a:rPr>
                <a:t>CONFIANZ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6" name="Line 7"/>
          <p:cNvSpPr/>
          <p:nvPr/>
        </p:nvSpPr>
        <p:spPr>
          <a:xfrm>
            <a:off x="2195640" y="3789360"/>
            <a:ext cx="1461960" cy="1011240"/>
          </a:xfrm>
          <a:prstGeom prst="line">
            <a:avLst/>
          </a:prstGeom>
          <a:ln w="130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 flipH="1">
            <a:off x="4952520" y="3809880"/>
            <a:ext cx="1800" cy="1081080"/>
          </a:xfrm>
          <a:prstGeom prst="line">
            <a:avLst/>
          </a:prstGeom>
          <a:ln w="130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H="1">
            <a:off x="6372360" y="3716280"/>
            <a:ext cx="699840" cy="1143000"/>
          </a:xfrm>
          <a:prstGeom prst="line">
            <a:avLst/>
          </a:prstGeom>
          <a:ln w="130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20" name="12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CE7E-69D5-40B2-BBB3-7899A879149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13 Marcador de pie de página"/>
          <p:cNvSpPr/>
          <p:nvPr/>
        </p:nvSpPr>
        <p:spPr>
          <a:xfrm>
            <a:off x="649908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RIVADO VS PÚBLIC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-77220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Análogamente a como ocurre en el sector privado se podría hacer un esfuerzo de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estimación en un periodo futuro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 y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traerlo a valor presente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¿Cuánto vale una organización pública?= flujo de beneficios-costos, a valor presente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n muchos casos los beneficios y costos, no pueden ser medidos monetariamente, pero es intrínseco a esta aproximación generar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esfuerzos creciente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de cuantificación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 en aquellos ámbitos donde sea posible. Con el tiempo se crearán indica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0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25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976D-9EC7-48E9-888A-9D67F4465B7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4" descr="j0233018"/>
          <p:cNvPicPr/>
          <p:nvPr/>
        </p:nvPicPr>
        <p:blipFill>
          <a:blip r:embed="rId2"/>
          <a:stretch/>
        </p:blipFill>
        <p:spPr>
          <a:xfrm>
            <a:off x="0" y="260280"/>
            <a:ext cx="209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47720" y="756000"/>
            <a:ext cx="7797240" cy="8805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-77220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l concepto de VP e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análogo al de Valor Privado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: valor para dueños y valor para client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Pero difiere de manera importante por la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dificultad de la métrica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. El valor público no es completamente reducible a $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2200" indent="-77220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Además el VP en rigor debiera considerar el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fecto coordinación y descoordinación interagencias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(varios servicios actuando: “una gran empresa”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3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8E9B-D297-4E37-92C0-9D6F536EE83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20800" y="895320"/>
            <a:ext cx="7806600" cy="81684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4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Por otra parte, en el caso del VP lo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ciudadanos (dueños) son clientes y usuarios tambié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También son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proveedores y empleados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 (ej. Funcionarios de salud y educación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-812880" algn="just">
              <a:lnSpc>
                <a:spcPct val="1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La comunidad de dueños también considera a las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generaciones futur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8128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3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7FE1-1108-4BA0-9E93-8963E6CA567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3040" y="691920"/>
            <a:ext cx="7782120" cy="9813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En el sector público el 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trato equitativo es muy relevante</a:t>
            </a: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. Es decir, la valoración de los usuarios depende también del trato a ot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1168560" indent="-711360" algn="just">
              <a:lnSpc>
                <a:spcPct val="100000"/>
              </a:lnSpc>
              <a:buClr>
                <a:srgbClr val="003366"/>
              </a:buClr>
              <a:buSzPct val="75000"/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66"/>
                </a:solidFill>
                <a:latin typeface="Calibri"/>
              </a:rPr>
              <a:t>El VP es </a:t>
            </a:r>
            <a:r>
              <a:rPr b="1" lang="es-CL" sz="2800" spc="-1" strike="noStrike">
                <a:solidFill>
                  <a:srgbClr val="003366"/>
                </a:solidFill>
                <a:latin typeface="Calibri"/>
              </a:rPr>
              <a:t>más intensivo en demandar cambios en normas sociales y códigos de comportamiento </a:t>
            </a:r>
            <a:r>
              <a:rPr b="1" lang="es-CL" sz="2800" spc="-1" strike="noStrike">
                <a:solidFill>
                  <a:srgbClr val="003366"/>
                </a:solidFill>
                <a:latin typeface="Calibri"/>
              </a:rPr>
              <a:t>(COPRODUCCION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conducción bajo alcoh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higiene y prevención (salud públi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lactancia materna y salud infant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5238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Calibri"/>
              </a:rPr>
              <a:t>Programas contra la pobre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4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ED4D-2989-4CE2-A697-592DF6C31969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4" descr="j0233018"/>
          <p:cNvPicPr/>
          <p:nvPr/>
        </p:nvPicPr>
        <p:blipFill>
          <a:blip r:embed="rId2"/>
          <a:stretch/>
        </p:blipFill>
        <p:spPr>
          <a:xfrm>
            <a:off x="0" y="260280"/>
            <a:ext cx="2093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2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0" dur="1" fill="hold"/>
                                  <p:tgtEl>
                                    <p:spTgt spid="2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1" dur="1" fill="hold"/>
                                  <p:tgtEl>
                                    <p:spTgt spid="2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2" dur="1" fill="hold"/>
                                  <p:tgtEl>
                                    <p:spTgt spid="2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2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AutoShape 4"/>
          <p:cNvGrpSpPr/>
          <p:nvPr/>
        </p:nvGrpSpPr>
        <p:grpSpPr>
          <a:xfrm>
            <a:off x="920880" y="4462560"/>
            <a:ext cx="2382840" cy="1798560"/>
            <a:chOff x="920880" y="4462560"/>
            <a:chExt cx="2382840" cy="1798560"/>
          </a:xfrm>
        </p:grpSpPr>
        <p:pic>
          <p:nvPicPr>
            <p:cNvPr id="112" name="AutoShape 4" descr=""/>
            <p:cNvPicPr/>
            <p:nvPr/>
          </p:nvPicPr>
          <p:blipFill>
            <a:blip r:embed="rId1"/>
            <a:stretch/>
          </p:blipFill>
          <p:spPr>
            <a:xfrm>
              <a:off x="920880" y="4462560"/>
              <a:ext cx="2382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052640" y="4589640"/>
              <a:ext cx="207000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3366"/>
                  </a:solidFill>
                  <a:latin typeface="Arial Black"/>
                </a:rPr>
                <a:t>Desmontando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3366"/>
                  </a:solidFill>
                  <a:latin typeface="Arial Black"/>
                </a:rPr>
                <a:t>Paradigma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4" name="AutoShape 5" descr=""/>
          <p:cNvPicPr/>
          <p:nvPr/>
        </p:nvPicPr>
        <p:blipFill>
          <a:blip r:embed="rId2"/>
          <a:stretch/>
        </p:blipFill>
        <p:spPr>
          <a:xfrm>
            <a:off x="3413160" y="3865680"/>
            <a:ext cx="3554280" cy="1541520"/>
          </a:xfrm>
          <a:prstGeom prst="rect">
            <a:avLst/>
          </a:prstGeom>
          <a:ln w="0">
            <a:noFill/>
          </a:ln>
        </p:spPr>
      </p:pic>
      <p:grpSp>
        <p:nvGrpSpPr>
          <p:cNvPr id="115" name="AutoShape 6"/>
          <p:cNvGrpSpPr/>
          <p:nvPr/>
        </p:nvGrpSpPr>
        <p:grpSpPr>
          <a:xfrm>
            <a:off x="4498920" y="1878120"/>
            <a:ext cx="4243320" cy="2522520"/>
            <a:chOff x="4498920" y="1878120"/>
            <a:chExt cx="4243320" cy="2522520"/>
          </a:xfrm>
        </p:grpSpPr>
        <p:pic>
          <p:nvPicPr>
            <p:cNvPr id="116" name="AutoShape 6" descr=""/>
            <p:cNvPicPr/>
            <p:nvPr/>
          </p:nvPicPr>
          <p:blipFill>
            <a:blip r:embed="rId3"/>
            <a:stretch/>
          </p:blipFill>
          <p:spPr>
            <a:xfrm>
              <a:off x="4498920" y="1878120"/>
              <a:ext cx="4243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687920" y="2033640"/>
              <a:ext cx="38718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Arial Black"/>
                </a:rPr>
                <a:t>Nuevo Enfoque, Nuevo Rol: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Arial Black"/>
                </a:rPr>
                <a:t>Creación de Valor Público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19" name="18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A178-77D6-4524-8D62-93560F40F7B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19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63c8c8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br>
              <a:rPr sz="3600"/>
            </a:br>
            <a:r>
              <a:rPr b="1" i="1" lang="es-CL" sz="3600" spc="-1" strike="noStrike">
                <a:solidFill>
                  <a:srgbClr val="ff0000"/>
                </a:solidFill>
                <a:latin typeface="Arial"/>
              </a:rPr>
              <a:t>Clas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90720" y="206280"/>
            <a:ext cx="8962560" cy="124884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Caso 2: “William Ruckelshaus y la Agencia de Protección Ambiental” </a:t>
            </a:r>
            <a:br>
              <a:rPr sz="3200"/>
            </a:br>
            <a:r>
              <a:rPr b="1" lang="es-CL" sz="20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Se arman grupos (proye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Lectura individual (20´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Discusión del caso en grupo (30´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(aplique conceptos clase pasa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600960" y="836640"/>
            <a:ext cx="2543040" cy="500040"/>
          </a:xfrm>
          <a:prstGeom prst="rect">
            <a:avLst/>
          </a:prstGeom>
          <a:ln w="0">
            <a:noFill/>
          </a:ln>
        </p:spPr>
      </p:pic>
      <p:sp>
        <p:nvSpPr>
          <p:cNvPr id="250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BB1D-7D17-43DC-97F4-A90D5BB9C352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432960" y="659160"/>
            <a:ext cx="8269200" cy="11718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elo Analítico Básico (Mark Moore)</a:t>
            </a:r>
            <a:br>
              <a:rPr sz="24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agnóstico de la Posición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ratégica de una Organización.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1763640" y="3068640"/>
            <a:ext cx="2675160" cy="2279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451560" y="1878120"/>
            <a:ext cx="2513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1. Propósito/Val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V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Valo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M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179280" y="1341360"/>
            <a:ext cx="21160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2. Entor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lie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Polít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Supervis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E. Económ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6616800" y="3889440"/>
            <a:ext cx="237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alibri"/>
              </a:rPr>
              <a:t>3. Capac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Estruc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Procesos Sustantivos y de Apoy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Sistemas de evaluación y contr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RRH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Finanz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T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841320" y="5888160"/>
            <a:ext cx="3743280" cy="3682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 flipV="1">
            <a:off x="1914480" y="3852360"/>
            <a:ext cx="2266920" cy="19623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9" name="Group 14"/>
          <p:cNvGrpSpPr/>
          <p:nvPr/>
        </p:nvGrpSpPr>
        <p:grpSpPr>
          <a:xfrm>
            <a:off x="2879640" y="2392200"/>
            <a:ext cx="2732040" cy="2189160"/>
            <a:chOff x="2879640" y="2392200"/>
            <a:chExt cx="2732040" cy="2189160"/>
          </a:xfrm>
        </p:grpSpPr>
        <p:sp>
          <p:nvSpPr>
            <p:cNvPr id="260" name="Oval 4"/>
            <p:cNvSpPr/>
            <p:nvPr/>
          </p:nvSpPr>
          <p:spPr>
            <a:xfrm>
              <a:off x="2879640" y="2392200"/>
              <a:ext cx="2732040" cy="2189160"/>
            </a:xfrm>
            <a:prstGeom prst="ellipse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Text Box 12"/>
            <p:cNvSpPr/>
            <p:nvPr/>
          </p:nvSpPr>
          <p:spPr>
            <a:xfrm>
              <a:off x="4142160" y="278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3610080" y="3371760"/>
            <a:ext cx="2917800" cy="1889280"/>
            <a:chOff x="3610080" y="3371760"/>
            <a:chExt cx="2917800" cy="1889280"/>
          </a:xfrm>
        </p:grpSpPr>
        <p:sp>
          <p:nvSpPr>
            <p:cNvPr id="263" name="Oval 5"/>
            <p:cNvSpPr/>
            <p:nvPr/>
          </p:nvSpPr>
          <p:spPr>
            <a:xfrm>
              <a:off x="3610080" y="3371760"/>
              <a:ext cx="2917800" cy="1889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5345280" y="424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5" name="Text Box 16"/>
          <p:cNvSpPr/>
          <p:nvPr/>
        </p:nvSpPr>
        <p:spPr>
          <a:xfrm>
            <a:off x="2268360" y="1982880"/>
            <a:ext cx="4248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67" name="18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8A7-A036-4165-AC05-82DA9D55FAD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19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055520" y="1655640"/>
            <a:ext cx="7845840" cy="1173600"/>
          </a:xfrm>
          <a:prstGeom prst="rect">
            <a:avLst/>
          </a:prstGeom>
          <a:solidFill>
            <a:srgbClr val="85e0e0"/>
          </a:solidFill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Calibri"/>
              </a:rPr>
              <a:t>Del análisis anterior, la estrategia de la organización debe ser esencialmente, según Moore…</a:t>
            </a:r>
            <a:br>
              <a:rPr sz="3600"/>
            </a:br>
            <a:br>
              <a:rPr sz="3600"/>
            </a:br>
            <a:r>
              <a:rPr b="1" lang="es-CL" sz="3000" spc="-1" strike="noStrike">
                <a:solidFill>
                  <a:srgbClr val="003366"/>
                </a:solidFill>
                <a:latin typeface="Calibri"/>
              </a:rPr>
              <a:t>(A) Sustantivamente valiosa</a:t>
            </a:r>
            <a:br>
              <a:rPr sz="3000"/>
            </a:br>
            <a:r>
              <a:rPr b="1" lang="es-CL" sz="3000" spc="-1" strike="noStrike">
                <a:solidFill>
                  <a:srgbClr val="003366"/>
                </a:solidFill>
                <a:latin typeface="Calibri"/>
              </a:rPr>
              <a:t>(B) Políticamente Sustentable</a:t>
            </a:r>
            <a:br>
              <a:rPr sz="3000"/>
            </a:br>
            <a:r>
              <a:rPr b="1" lang="es-CL" sz="3000" spc="-1" strike="noStrike">
                <a:solidFill>
                  <a:srgbClr val="003366"/>
                </a:solidFill>
                <a:latin typeface="Calibri"/>
              </a:rPr>
              <a:t>(C) Técnicamente Factible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reguntas clav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De que se trat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Cual es el valor público que la organización gene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Cuál es Visión de la Organizació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Cuáles son los Valores / Historia e ideas cla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</a:rPr>
              <a:t>¿Son la Misión y las metas específicas las adecuada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74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5DCD-849E-456C-AF6B-AA67E6FA2E99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La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tarea central del ejecutivo público es crear </a:t>
            </a:r>
            <a:r>
              <a:rPr b="1" i="1" lang="es-ES" sz="2400" spc="-1" strike="noStrike">
                <a:solidFill>
                  <a:srgbClr val="ff3300"/>
                </a:solidFill>
                <a:latin typeface="Calibri"/>
              </a:rPr>
              <a:t>Valor público...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... pero ello demanda primero identificar cuál es ese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Valor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....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y ese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Valor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, a diferencia del caso de las organizaciones privadas no necesariamente es unidimensional, no es fácil de medir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... de hecho existen serias dificultades traducir las preferencias de los mandantes en un mandato claro e incontrovertible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.... y por otra parte los clientes o receptores de los “servicios de la organización”  tampoco tienen formas simples y directas de manifestar sus preferencias 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De modo que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el ejecutivo público NO tiene alternativa que formular un concepto de </a:t>
            </a:r>
            <a:r>
              <a:rPr b="1" i="1" lang="es-ES" sz="2400" spc="-1" strike="noStrike">
                <a:solidFill>
                  <a:srgbClr val="ff3300"/>
                </a:solidFill>
                <a:latin typeface="Calibri"/>
              </a:rPr>
              <a:t>Valor Público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…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a partir de múltiples </a:t>
            </a:r>
            <a:r>
              <a:rPr b="1" i="1" lang="es-ES" sz="2400" spc="-1" strike="noStrike">
                <a:solidFill>
                  <a:srgbClr val="003366"/>
                </a:solidFill>
                <a:latin typeface="Calibri"/>
              </a:rPr>
              <a:t>fuentes imperfectas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 (mandatos estatutarios, técnicas analíticas, consultas a clientes, etc.), entre las cuales el proceso de deliberación política es probablemente la más importante, e ir ajustándolo a través de un proceso de prueba y err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78" name="5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8309-B4AB-468F-9FF7-CDAF87CEB034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6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798840" y="879840"/>
            <a:ext cx="7837560" cy="6001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Pero, hay pistas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l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valor público está enraizado en los valores y preferencias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de los individu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Las múltiples preferencias de los ciudadanos son mediadas por el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sistema representativo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Interesa tanto la producción de bienes públicos (orientado a grupos específicos), como el que la producción se haga de manera ordenada, equitativa y confiable (trust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La </a:t>
            </a:r>
            <a:r>
              <a:rPr b="1" lang="es-ES" sz="2400" spc="-1" strike="noStrike">
                <a:solidFill>
                  <a:srgbClr val="ff3300"/>
                </a:solidFill>
                <a:latin typeface="Calibri"/>
              </a:rPr>
              <a:t>eficiencia y la calidad del servicio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son altamente</a:t>
            </a: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valorad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s deseable la utilización de métodos analíticos para evidenciar la generación de valor ( especialmente ante agentes representativos relevante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Calibri"/>
              </a:rPr>
              <a:t>El carácter cambiante del mundo demanda capacidad de adapt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83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BDA8-2722-45D2-90BF-B976EA5EFB7B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Preguntas clav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5327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se perdería si esta organización no existie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otras formas existen para hacer lo que esta organización hoy día hace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A quién realmente sirvo? (Focalización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Cuál es la causalidad de la generación de val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espacios de ganancia en materias de calidad de servicio exist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Calibri"/>
              </a:rPr>
              <a:t>¿Qué espacios de ganancia de confianza exist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88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A901-9791-4E85-8B38-CBB6833A3C9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0000"/>
                </a:solidFill>
                <a:latin typeface="Arial"/>
              </a:rPr>
              <a:t>Entorno.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Oval 3"/>
          <p:cNvSpPr/>
          <p:nvPr/>
        </p:nvSpPr>
        <p:spPr>
          <a:xfrm>
            <a:off x="5292720" y="2679840"/>
            <a:ext cx="1828800" cy="182880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978080" y="47563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alibri"/>
              </a:rPr>
              <a:t>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17920" y="466920"/>
            <a:ext cx="7650360" cy="8622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Preguntas clave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78920" y="1562040"/>
            <a:ext cx="8713800" cy="45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uáles son las implicaciones del estado actual (o cambios anticipados) en el entorno de la organización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ómo afecta el entorno las capacidades de la organización para alcanzar su propósit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Debe la organización adaptar o revisar sus metas y propósi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ómo deben adaptarse las capacidades organizacionales para reflejar los cambios del entorn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¿cómo debe la organización vincularse con actores externos clave, instituciones y electores?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297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4C38-64F4-45F5-B97C-66DF6F7D841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77000" y="342000"/>
            <a:ext cx="8337600" cy="1123920"/>
          </a:xfrm>
          <a:prstGeom prst="rect">
            <a:avLst/>
          </a:prstGeom>
          <a:solidFill>
            <a:srgbClr val="d0e3d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Un caso de imaginación (innovación) gerencial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88930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es son los hechos básicos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 es el problema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es fueron las primeras aproximacion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es son las restricciones/dificultad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ómo se solucionó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¿Cuál es al aprendizaje general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24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C3BE-AD6B-4533-B2E1-2CB69C21EBF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52120" y="794880"/>
            <a:ext cx="8201160" cy="124812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¿Cuáles  son los roles, posiciones e intereses de los distintos actores (</a:t>
            </a:r>
            <a:r>
              <a:rPr b="1" i="1" lang="es-ES_tradnl" sz="3200" spc="-1" strike="noStrike">
                <a:solidFill>
                  <a:srgbClr val="ff0000"/>
                </a:solidFill>
                <a:latin typeface="Arial"/>
              </a:rPr>
              <a:t>stakeholders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) y sus implicancia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Provee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Poder legisl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Agencias evaluadoras/supervisor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Grupos asociados o defensores (“advocates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Grupos de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Pren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Otros actores influy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02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F011-A2E6-40A5-A16E-DC829C38F73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¿Cuáles son las tendencias actuales y de mediano plazo que pueden afectar a la organización en el futuro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Leyes/Polític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Valo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Factores económic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07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D3F0-2475-4F04-8A90-1DE91559A84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El Entorno Políti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j0233018"/>
          <p:cNvPicPr/>
          <p:nvPr/>
        </p:nvPicPr>
        <p:blipFill>
          <a:blip r:embed="rId2"/>
          <a:stretch/>
        </p:blipFill>
        <p:spPr>
          <a:xfrm>
            <a:off x="0" y="5226120"/>
            <a:ext cx="209376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27640" y="548280"/>
            <a:ext cx="7779960" cy="998280"/>
          </a:xfrm>
          <a:prstGeom prst="rect">
            <a:avLst/>
          </a:prstGeom>
          <a:solidFill>
            <a:srgbClr val="d0e3d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Es necesario hacer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gestión activa</a:t>
            </a: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 del entorno político cuando ....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24000" y="1573200"/>
            <a:ext cx="8496000" cy="52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Calibri"/>
              </a:rPr>
              <a:t>Se </a:t>
            </a: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efectúa rendición de cuentas rutinaria (reportes a DIPRES o SEGPRES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 necesita apoyo para innovaciones o </a:t>
            </a:r>
            <a:r>
              <a:rPr b="1" lang="es-CL" sz="2600" spc="-1" strike="noStrike">
                <a:solidFill>
                  <a:srgbClr val="003366"/>
                </a:solidFill>
                <a:latin typeface="Calibri"/>
              </a:rPr>
              <a:t>cambios</a:t>
            </a: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: lo que implica mostrar que la iniciativa se ajusta a las concepciones de valor público del agente externo respectivo. En general aquí se abre la necesidad de gestionar la activación de grupos de apoyo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 requiere alcanzar coordinación interagencia. Ejemplos: CORFO-PYME o CORFO-Prochile. Otro ejemplo reciente: CORFO - Banco del Estado. Coordinación vía un superior, lo que no siempre es posible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 requiere coproducción descentralizada (persuación masiva</a:t>
            </a: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1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510E-E215-41EA-931F-810A0329E8C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43840" y="843840"/>
            <a:ext cx="7760520" cy="11343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Gestión política se refiere a la tarea de construir apoyo y legitimidad para ciertos propósito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2361960"/>
            <a:ext cx="8136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Arial"/>
              </a:rPr>
              <a:t>Ello involucra construir un clima de tolerancia, apoyo activo o asistencia operativa para un gestor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alibri"/>
                <a:ea typeface="Arial"/>
              </a:rPr>
              <a:t>una política o una estrategia integral entre aquellos que, estando fuera del alcance de la autoridad del ejecutivo, son necesarios para aportar asistencia o proveer de apoyo o autoridad a la iniciativa del directivo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2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CE91-3EF0-46E8-B7E4-9445F70B64C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24040" y="970200"/>
            <a:ext cx="7800120" cy="85680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ores Político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Ejecutivos políticos: aquellos que contratan a los gerentes (ministros y subsecretarios, etc.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Supervisores legisla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inisterio de Hacienda, Contraloría, SEGPR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¡¡¡Y LOS ASESORES DE TODOS ELLOS!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Medios de Comunicación: son quienes dibujan la cancha en que la discusión se va a dar. Ejemplo: CASO Seremi de Educación, Hospital Curep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Grupos de Interé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Partidos Polít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Otros grupos organizados (empresarios, org. de trabajadores, etc.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alibri"/>
              </a:rPr>
              <a:t>Tribu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26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E1E2-ADD2-488E-AF44-9ED3B5BBF0E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Técnicas de Gestión Polí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Arial"/>
              </a:rPr>
              <a:t>Promoción activa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alibri"/>
              </a:rPr>
              <a:t>Gestión del Desarrollo de la polític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alibri"/>
                <a:ea typeface="Arial"/>
              </a:rPr>
              <a:t>Negociació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Deliberación pública, aprendizaje social y lideraz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Calibri"/>
              </a:rPr>
              <a:t>Marketing y Comunicación Estratég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331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98F5-6293-465E-83F2-20652CE951F8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6043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3860640"/>
            <a:ext cx="9144000" cy="2997360"/>
          </a:xfrm>
          <a:prstGeom prst="wedgeRectCallout">
            <a:avLst>
              <a:gd name="adj1" fmla="val -518"/>
              <a:gd name="adj2" fmla="val -77699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6699"/>
                </a:solidFill>
                <a:latin typeface="Arial Black"/>
              </a:rPr>
              <a:t>(1)El funcionario debe hacer lo que está mandatado expresamente por las normas, y esto es siempre muy clar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66699"/>
                </a:solidFill>
                <a:latin typeface="Arial Black"/>
              </a:rPr>
              <a:t>(2) La misión es ser fiel al mandato formal y producirlo eficientemen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30" name="7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ED78-8E66-4C75-BE78-5B6DF3E7884A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8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85520" y="6426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 de “emprendedor público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3" name="AutoShape 4"/>
          <p:cNvGrpSpPr/>
          <p:nvPr/>
        </p:nvGrpSpPr>
        <p:grpSpPr>
          <a:xfrm>
            <a:off x="957240" y="3187800"/>
            <a:ext cx="3151080" cy="3402000"/>
            <a:chOff x="957240" y="3187800"/>
            <a:chExt cx="3151080" cy="3402000"/>
          </a:xfrm>
        </p:grpSpPr>
        <p:pic>
          <p:nvPicPr>
            <p:cNvPr id="134" name="AutoShape 4" descr=""/>
            <p:cNvPicPr/>
            <p:nvPr/>
          </p:nvPicPr>
          <p:blipFill>
            <a:blip r:embed="rId1"/>
            <a:stretch/>
          </p:blipFill>
          <p:spPr>
            <a:xfrm>
              <a:off x="957240" y="3187800"/>
              <a:ext cx="315108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768320" y="3214800"/>
              <a:ext cx="153540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Enfoque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descenden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AutoShape 5"/>
          <p:cNvGrpSpPr/>
          <p:nvPr/>
        </p:nvGrpSpPr>
        <p:grpSpPr>
          <a:xfrm>
            <a:off x="5035680" y="2687760"/>
            <a:ext cx="3028680" cy="3616200"/>
            <a:chOff x="5035680" y="2687760"/>
            <a:chExt cx="3028680" cy="3616200"/>
          </a:xfrm>
        </p:grpSpPr>
        <p:pic>
          <p:nvPicPr>
            <p:cNvPr id="137" name="AutoShape 5" descr=""/>
            <p:cNvPicPr/>
            <p:nvPr/>
          </p:nvPicPr>
          <p:blipFill>
            <a:blip r:embed="rId2"/>
            <a:stretch/>
          </p:blipFill>
          <p:spPr>
            <a:xfrm>
              <a:off x="5035680" y="2687760"/>
              <a:ext cx="3028680" cy="36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813280" y="3267000"/>
              <a:ext cx="1481400" cy="30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Enfoque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666699"/>
                  </a:solidFill>
                  <a:latin typeface="Arial Black"/>
                </a:rPr>
                <a:t>ascenden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40" name="8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1908-C2B8-4F6E-BDA4-4668F9BCF317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9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45400" y="769680"/>
            <a:ext cx="8279640" cy="1069200"/>
          </a:xfrm>
          <a:prstGeom prst="rect">
            <a:avLst/>
          </a:prstGeom>
          <a:solidFill>
            <a:srgbClr val="d0e3d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MODELO TRADIC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0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Describe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cómo deben entender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y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llevar a cabo su trabaj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Enfrenta el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riesgo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que los directivos públicos conduzcan la administración según intereses distinto a los público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Pone énfasis en el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control de procedimientos y la verticalida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45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D6E2-C754-4A72-8099-8887205C6546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12520" y="1014120"/>
            <a:ext cx="7823160" cy="70164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MODELO TRADI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1800" y="219384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Supone que los propósitos son nítidos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en las pautas normativas (Leyes, discursos o declaraciones de las “autoridades”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Enfatiza más en la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“administración”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(objetivos y procedimientos definidos)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que en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“la gestión”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(respuesta a objetivos declarados, procedimientos amplios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50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9529-BD86-482B-ACE8-7D1E5E92C9AC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Calibri"/>
              </a:rPr>
              <a:t>MODELO TRADI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900108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El directivo debe cumplir sus mandatos con eficacia y eficiencia, tiende a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suponer conocimiento experto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(se conocen la respuestas, no requiere participació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Más “burocracia”,  menos “emprendimiento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Las fuerzas son: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descendentes y hacia adentro</a:t>
            </a: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</a:rPr>
              <a:t>Tiende a no abrir reflexión sobre propósito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55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4F6D-0844-48F1-857E-D0537872D56A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800" y="387000"/>
            <a:ext cx="8342640" cy="1157760"/>
          </a:xfrm>
          <a:prstGeom prst="rect">
            <a:avLst/>
          </a:prstGeom>
          <a:solidFill>
            <a:srgbClr val="b9d5b9"/>
          </a:solidFill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VALOR PÚBLICO: CONCEP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03600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 “ 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Valor agregado que produce el sector público”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proveniente de los  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“beneficios percibidos”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 por a) ciudadanos/comunidad y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b) usuarios/consumidores /clientes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“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descontando los costos”</a:t>
            </a:r>
            <a:r>
              <a:rPr b="1" lang="es-ES" sz="3600" spc="-1" strike="noStrike">
                <a:solidFill>
                  <a:srgbClr val="003366"/>
                </a:solidFill>
                <a:latin typeface="Calibri"/>
              </a:rPr>
              <a:t> en los que se incurre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Calibri"/>
              </a:rPr>
              <a:t>a </a:t>
            </a:r>
            <a:r>
              <a:rPr b="1" lang="es-CL" sz="3600" spc="-1" strike="noStrike">
                <a:solidFill>
                  <a:srgbClr val="003366"/>
                </a:solidFill>
                <a:latin typeface="Calibri"/>
              </a:rPr>
              <a:t>“Valor Presente”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6588000" y="44280"/>
            <a:ext cx="2543400" cy="500400"/>
          </a:xfrm>
          <a:prstGeom prst="rect">
            <a:avLst/>
          </a:prstGeom>
          <a:ln w="0">
            <a:noFill/>
          </a:ln>
        </p:spPr>
      </p:pic>
      <p:sp>
        <p:nvSpPr>
          <p:cNvPr id="160" name="6 Marcador de número de diapositiva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19EF-A220-4AF1-A430-316B7B0A742A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7 Marcador de pie de página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www.sistemaspublicos.c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115920" y="158760"/>
            <a:ext cx="183528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3:33:58Z</dcterms:created>
  <dc:creator>Jinostroza</dc:creator>
  <dc:description/>
  <dc:language>en-US</dc:language>
  <cp:lastModifiedBy>Your User Name</cp:lastModifiedBy>
  <dcterms:modified xsi:type="dcterms:W3CDTF">2010-11-11T21:03:12Z</dcterms:modified>
  <cp:revision>12</cp:revision>
  <dc:subject/>
  <dc:title>Creación de Valor en el sector Público, Nuevo Paradigma, Nueva Doctrina</dc:title>
</cp:coreProperties>
</file>