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A01-D41E-40D5-8D32-A51E4A12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45A-2EBC-4408-99A0-A2208640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CB5-B305-45FE-89CB-1EA51380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388-912E-44AB-A3AF-45D86A712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F20-1C6B-49D0-AD1C-0A4DFA61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15B-CDAA-4A32-908A-4BB1347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2A9D-6E0D-4F51-8C11-E191D4A1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949-1ACD-4BE6-BC7C-E75A00B0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6D5-E0F4-4FEB-B12D-D835CEF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E2F-3F30-4320-B316-94A44E22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143-1F6E-411D-ADD8-E4F9002F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88CB-D221-4BC8-9132-967B3B5F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DA52-295B-4C25-AFF1-1CF372FA215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.co/imgres?imgurl=http://multimedia.ilce.edu.mx/sedesol2005/imagenes/mapa_gde.jpg&amp;imgrefurl=http://multimedia.ilce.edu.mx/sedesol2005/default.asp&amp;h=188&amp;w=275&amp;sz=15&amp;tbnid=vSKRCnW0M2EJ:&amp;tbnh=74&amp;tbnw=109&amp;hl=es&amp;start=381&amp;prev=/images%3Fq%3Dmapa%2Bsocial%26start%3D380%26svnum%3D10%26hl%3Des%26lr%3D%26sa%3D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Análisis y participación de involucrados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Comic Sans MS"/>
              </a:rPr>
              <a:t> Contextualización del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bject 25" descr=""/>
          <p:cNvPicPr/>
          <p:nvPr/>
        </p:nvPicPr>
        <p:blipFill>
          <a:blip r:embed="rId1"/>
          <a:stretch/>
        </p:blipFill>
        <p:spPr>
          <a:xfrm>
            <a:off x="2484360" y="3645000"/>
            <a:ext cx="2743200" cy="1722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Logo_Cepal_-ILPES-ESP_1"/>
          <p:cNvPicPr/>
          <p:nvPr/>
        </p:nvPicPr>
        <p:blipFill>
          <a:blip r:embed="rId2"/>
          <a:stretch/>
        </p:blipFill>
        <p:spPr>
          <a:xfrm>
            <a:off x="6804000" y="3860640"/>
            <a:ext cx="8082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LOGO DII bco"/>
          <p:cNvPicPr/>
          <p:nvPr/>
        </p:nvPicPr>
        <p:blipFill>
          <a:blip r:embed="rId3"/>
          <a:stretch/>
        </p:blipFill>
        <p:spPr>
          <a:xfrm>
            <a:off x="0" y="0"/>
            <a:ext cx="2646360" cy="9810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2" descr=""/>
          <p:cNvPicPr/>
          <p:nvPr/>
        </p:nvPicPr>
        <p:blipFill>
          <a:blip r:embed="rId4"/>
          <a:stretch/>
        </p:blipFill>
        <p:spPr>
          <a:xfrm>
            <a:off x="7740720" y="0"/>
            <a:ext cx="1251000" cy="12682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5715000" y="1447920"/>
            <a:ext cx="13716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5715000" y="2895480"/>
            <a:ext cx="1371600" cy="41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5335560" y="27828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3565080" y="1504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7238880" y="2286000"/>
            <a:ext cx="167652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238880" y="3505320"/>
            <a:ext cx="16765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7238880" y="4800600"/>
            <a:ext cx="1676520" cy="1066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Rectangle 9"/>
          <p:cNvSpPr/>
          <p:nvPr/>
        </p:nvSpPr>
        <p:spPr>
          <a:xfrm>
            <a:off x="7238880" y="1447920"/>
            <a:ext cx="167652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5715000" y="3809880"/>
            <a:ext cx="137160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2438280" y="1447920"/>
            <a:ext cx="107496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2448000" y="2898720"/>
            <a:ext cx="10746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2448000" y="3813120"/>
            <a:ext cx="106524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2448000" y="5108400"/>
            <a:ext cx="1074600" cy="4431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3962520" y="1447920"/>
            <a:ext cx="12952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16"/>
          <p:cNvSpPr/>
          <p:nvPr/>
        </p:nvSpPr>
        <p:spPr>
          <a:xfrm>
            <a:off x="3962520" y="289548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3962520" y="3809880"/>
            <a:ext cx="129528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3962520" y="5105520"/>
            <a:ext cx="1295280" cy="4572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5715000" y="5105520"/>
            <a:ext cx="1371600" cy="415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3582360" y="2862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Text Box 21"/>
          <p:cNvSpPr/>
          <p:nvPr/>
        </p:nvSpPr>
        <p:spPr>
          <a:xfrm>
            <a:off x="3582360" y="3773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3582360" y="5029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5335200" y="50292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5335560" y="14875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Rectangle 25"/>
          <p:cNvSpPr/>
          <p:nvPr/>
        </p:nvSpPr>
        <p:spPr>
          <a:xfrm>
            <a:off x="457200" y="1444680"/>
            <a:ext cx="1895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nvolucrad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Rectangle 26"/>
          <p:cNvSpPr/>
          <p:nvPr/>
        </p:nvSpPr>
        <p:spPr>
          <a:xfrm>
            <a:off x="474840" y="2895480"/>
            <a:ext cx="18954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27"/>
          <p:cNvSpPr/>
          <p:nvPr/>
        </p:nvSpPr>
        <p:spPr>
          <a:xfrm>
            <a:off x="474840" y="3809880"/>
            <a:ext cx="1877760" cy="416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 de  Manga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Rectangle 28"/>
          <p:cNvSpPr/>
          <p:nvPr/>
        </p:nvSpPr>
        <p:spPr>
          <a:xfrm>
            <a:off x="474840" y="5105520"/>
            <a:ext cx="1895400" cy="442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 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Rectangle 29"/>
          <p:cNvSpPr/>
          <p:nvPr/>
        </p:nvSpPr>
        <p:spPr>
          <a:xfrm>
            <a:off x="3323520" y="304920"/>
            <a:ext cx="2460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triz de valoració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30"/>
          <p:cNvSpPr/>
          <p:nvPr/>
        </p:nvSpPr>
        <p:spPr>
          <a:xfrm>
            <a:off x="5715000" y="2362320"/>
            <a:ext cx="1371600" cy="41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31"/>
          <p:cNvSpPr/>
          <p:nvPr/>
        </p:nvSpPr>
        <p:spPr>
          <a:xfrm>
            <a:off x="5335560" y="22496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2448000" y="2365200"/>
            <a:ext cx="1074600" cy="44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Rectangle 33"/>
          <p:cNvSpPr/>
          <p:nvPr/>
        </p:nvSpPr>
        <p:spPr>
          <a:xfrm>
            <a:off x="3962520" y="2362320"/>
            <a:ext cx="1295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3582360" y="2328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Rectangle 35"/>
          <p:cNvSpPr/>
          <p:nvPr/>
        </p:nvSpPr>
        <p:spPr>
          <a:xfrm>
            <a:off x="474840" y="2362320"/>
            <a:ext cx="1895400" cy="442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istado de involuc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Ámbito geo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apeles e inter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xpect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otenci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4" descr="mapa_g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819520"/>
            <a:ext cx="38098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1294920" y="1066680"/>
            <a:ext cx="6697800" cy="72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208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133720" y="210672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MOVILE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429000" y="210492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4707000" y="2104920"/>
            <a:ext cx="1312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095880" y="2106720"/>
            <a:ext cx="224316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8208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2133720" y="281772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429000" y="2816280"/>
            <a:ext cx="119844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4707000" y="2816280"/>
            <a:ext cx="131292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6095880" y="2817720"/>
            <a:ext cx="2243160" cy="6937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8208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2133720" y="3527280"/>
            <a:ext cx="119844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429000" y="3525840"/>
            <a:ext cx="119844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4707000" y="3525840"/>
            <a:ext cx="1312920" cy="7221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6095880" y="3527280"/>
            <a:ext cx="2243160" cy="7225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8208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2133720" y="426708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3429000" y="4265640"/>
            <a:ext cx="119844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707000" y="4265640"/>
            <a:ext cx="131292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6095880" y="4267080"/>
            <a:ext cx="2243160" cy="77796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3"/>
          <p:cNvSpPr/>
          <p:nvPr/>
        </p:nvSpPr>
        <p:spPr>
          <a:xfrm>
            <a:off x="4727880" y="228456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4"/>
          <p:cNvSpPr/>
          <p:nvPr/>
        </p:nvSpPr>
        <p:spPr>
          <a:xfrm>
            <a:off x="6666120" y="2305080"/>
            <a:ext cx="1174320" cy="261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5922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VOLUCRADO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905120" y="1371600"/>
            <a:ext cx="119844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PEL (Rol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200400" y="1370160"/>
            <a:ext cx="119844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SULTANTE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(Índice)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478400" y="1370160"/>
            <a:ext cx="1312920" cy="69192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5867280" y="1371600"/>
            <a:ext cx="2725920" cy="6922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22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ercia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1905120" y="3962520"/>
            <a:ext cx="119844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ximizar ven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 base en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yor afluenci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clientes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200400" y="3960720"/>
            <a:ext cx="119844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4478400" y="3960720"/>
            <a:ext cx="1312920" cy="17528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ció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 un Comercio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osteni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5867280" y="3962520"/>
            <a:ext cx="2725920" cy="175248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mpañas de inculquen la “Valorización del Centro para el Comercio Turístic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enda más en un espacio limpio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uniones y talleres para ambientación d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volucrar a la Cámara de Comercio, promotora del desarrollo lo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4499280" y="1549440"/>
            <a:ext cx="1221480" cy="246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OTENCIALIDAD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6435360" y="1557360"/>
            <a:ext cx="1265760" cy="2764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RATEGI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609480" y="2209680"/>
            <a:ext cx="119880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1922400" y="2211480"/>
            <a:ext cx="119880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sfrutar un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gradable y sin contamin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3218040" y="2209680"/>
            <a:ext cx="119844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+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4495680" y="2209680"/>
            <a:ext cx="1312920" cy="160200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fensa de su propio espa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yo a iniciativas que enriquezcan su espacio v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portes a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5884920" y="2211480"/>
            <a:ext cx="2725560" cy="1601640"/>
          </a:xfrm>
          <a:prstGeom prst="rect">
            <a:avLst/>
          </a:prstGeom>
          <a:solidFill>
            <a:srgbClr val="66ffff"/>
          </a:solidFill>
          <a:ln w="18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enerar y desarrollar apropi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r el proyec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55440" indent="-55440" algn="ctr">
              <a:lnSpc>
                <a:spcPct val="100000"/>
              </a:lnSpc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mover y generar el Comité de Residentes para apoyar el proyecto, participar en la cogestión y asegurar la sostenibilida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1295280" y="457200"/>
            <a:ext cx="66978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s-ES_tradnl" sz="3000" spc="-1" strike="noStrike">
                <a:solidFill>
                  <a:srgbClr val="ffe118"/>
                </a:solidFill>
                <a:latin typeface="Lydian"/>
              </a:rPr>
              <a:t>Matriz para estrategias de gestió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asos para análisis y gestión de rel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Mapa de rel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ticip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Object 4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Object 2052" descr=""/>
          <p:cNvPicPr/>
          <p:nvPr/>
        </p:nvPicPr>
        <p:blipFill>
          <a:blip r:embed="rId1"/>
          <a:stretch/>
        </p:blipFill>
        <p:spPr>
          <a:xfrm>
            <a:off x="6629400" y="2590920"/>
            <a:ext cx="2514600" cy="19285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Diseño de estrategias para la participación de la comunidad e intervención de los involucr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Realización de las estrategias participativas.  Desarrollo de Pertenencia y de Pertin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Pasos 2 y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240" y="2666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Análisis de Cas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2" descr="SYMSN493"/>
          <p:cNvPicPr/>
          <p:nvPr/>
        </p:nvPicPr>
        <p:blipFill>
          <a:blip r:embed="rId1"/>
          <a:stretch/>
        </p:blipFill>
        <p:spPr>
          <a:xfrm>
            <a:off x="3886200" y="685800"/>
            <a:ext cx="13716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457200"/>
            <a:ext cx="830592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SO: COMUNIDAD Y SERVICIOS DE SALUD</a:t>
            </a:r>
            <a:r>
              <a:rPr b="0" lang="es-ES_tradnl" sz="14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[1]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a organización de vecinos trató de establecer una sociedad con los hospitales locales para mejorar el cuidado de la salud. Se actualizaron los perfiles epidemiológicos, se definieron las demandas y se aseguró la capacidad para la prestación adecuada de los servicios de salud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 medida que se procuraba la mejor prestación de las atenciones, la demanda aumentaba. El servicio se congestionaba y aumentaban los costos globales. Los hospitales solicitaban más recursos para aumentar su capacidad de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Qué hacer?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1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s opiniones se dividieron: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Unos exigían introducir medidas de racionaliza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sugerían modificar las bases de costeo, de manera que se cobrara proporcionalmente más al usuario por cada atención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es-ES_tradnl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Otros opinaban que la sostenibilidad del sistema dependía de un aumento en el valor de la capitación, o sea pagar más por persona asegurada para poder cubrir los mayores costos de las atencion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¿Que sugeriría usted?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03581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49752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0" y="564840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0" y="566748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" sz="9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[1]</a:t>
            </a:r>
            <a:r>
              <a:rPr b="0" lang="es-ES" sz="900" spc="-1" strike="noStrike">
                <a:solidFill>
                  <a:srgbClr val="ffffff"/>
                </a:solidFill>
                <a:latin typeface="Arial"/>
                <a:ea typeface="Arial"/>
              </a:rPr>
              <a:t> Caso adaptado por Héctor Sanín Angel ©, con base en un caso citado por D.Osborne y T. Gaebler</a:t>
            </a:r>
            <a:r>
              <a:rPr b="0" lang="es-ES_tradnl" sz="9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LA REINVENCIÓN DEL GOBIERNO - La influencia del espíritu empresarial en el sector público</a:t>
            </a:r>
            <a:r>
              <a:rPr b="0" lang="es-ES_tradnl" sz="900" spc="-1" strike="noStrike">
                <a:solidFill>
                  <a:srgbClr val="ffffff"/>
                </a:solidFill>
                <a:latin typeface="Arial"/>
                <a:ea typeface="Arial"/>
              </a:rPr>
              <a:t>. Paidós, 1994.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6" descr="PRFMD005"/>
          <p:cNvPicPr/>
          <p:nvPr/>
        </p:nvPicPr>
        <p:blipFill>
          <a:blip r:embed="rId1"/>
          <a:stretch/>
        </p:blipFill>
        <p:spPr>
          <a:xfrm>
            <a:off x="7467480" y="4413240"/>
            <a:ext cx="129564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SO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MUNIDAD Y SERVICIOS DE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Primera Par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mic Sans MS"/>
              </a:rPr>
              <a:t>Examen de posibles solu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Object 23" descr=""/>
          <p:cNvPicPr/>
          <p:nvPr/>
        </p:nvPicPr>
        <p:blipFill>
          <a:blip r:embed="rId1"/>
          <a:stretch/>
        </p:blipFill>
        <p:spPr>
          <a:xfrm>
            <a:off x="6248520" y="3200400"/>
            <a:ext cx="2404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395280" y="907920"/>
            <a:ext cx="8458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SO: COMUNIDAD Y SERVICIOS DE SALUD (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organización de vecinos comenzó poco a poco a preocuparse no ya por más servicio, sino, en cambio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or la causa primera por la cual su gente iba al hospita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cinco principales causas identificadas eran responsables por el 78% de las atencion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ordeduras de perro.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coholismo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caseros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olencia interpersonal       14%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"/>
              <a:tabLst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identes automovilísticos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%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2" descr="AN00088_"/>
          <p:cNvPicPr/>
          <p:nvPr/>
        </p:nvPicPr>
        <p:blipFill>
          <a:blip r:embed="rId1"/>
          <a:stretch/>
        </p:blipFill>
        <p:spPr>
          <a:xfrm>
            <a:off x="6948360" y="4508640"/>
            <a:ext cx="1897200" cy="19047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3" descr="BD20081_"/>
          <p:cNvPicPr/>
          <p:nvPr/>
        </p:nvPicPr>
        <p:blipFill>
          <a:blip r:embed="rId2"/>
          <a:stretch/>
        </p:blipFill>
        <p:spPr>
          <a:xfrm>
            <a:off x="250920" y="115920"/>
            <a:ext cx="1676160" cy="12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La autoridad municipal estaba preocupada por la congestión del tránsito en el centro histórico de Cartagena de Ind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empus Sans ITC"/>
              </a:rPr>
              <a:t>¿Por dónde empez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7175_"/>
          <p:cNvPicPr/>
          <p:nvPr/>
        </p:nvPicPr>
        <p:blipFill>
          <a:blip r:embed="rId1"/>
          <a:stretch/>
        </p:blipFill>
        <p:spPr>
          <a:xfrm>
            <a:off x="4800600" y="3733920"/>
            <a:ext cx="3745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ffff99"/>
                </a:solidFill>
                <a:latin typeface="Comic Sans MS"/>
              </a:rPr>
              <a:t>PERT  NENCIA</a:t>
            </a:r>
            <a:r>
              <a:rPr b="0" lang="es-ES_tradnl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3261240" y="3200400"/>
            <a:ext cx="47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150720" y="4114800"/>
            <a:ext cx="60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9900"/>
                </a:solidFill>
                <a:latin typeface="Comic Sans MS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99600" y="293760"/>
            <a:ext cx="6887880" cy="15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proyectos desarrollados y ejecutad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 los involucrados aseguran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Tal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on referencia a la situación-problema analizada por el grupo de trabajo, haga el análisis de involucrados y diseñe una estrategia para gestionar las relaciones y para aplicar una estrategia participativa en el ciclo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Object 23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63340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Análisis del entorno, área de influencia y sistema (red) 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sistema de atención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(Red de Servicios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Análisis de cas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"/>
          <p:cNvSpPr/>
          <p:nvPr/>
        </p:nvSpPr>
        <p:spPr>
          <a:xfrm>
            <a:off x="1523880" y="1752480"/>
            <a:ext cx="5562720" cy="487692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4876920"/>
              <a:gd name="textAreaBottom" fmla="*/ 4877280 h 4876920"/>
            </a:gdLst>
            <a:ahLst/>
            <a:rect l="textAreaLeft" t="textAreaTop" r="textAreaRight" b="textAreaBottom"/>
            <a:pathLst>
              <a:path w="3494" h="2820">
                <a:moveTo>
                  <a:pt x="1874" y="2748"/>
                </a:moveTo>
                <a:cubicBezTo>
                  <a:pt x="1874" y="2744"/>
                  <a:pt x="1863" y="2545"/>
                  <a:pt x="1838" y="2520"/>
                </a:cubicBezTo>
                <a:cubicBezTo>
                  <a:pt x="1768" y="2450"/>
                  <a:pt x="1550" y="2448"/>
                  <a:pt x="1550" y="2448"/>
                </a:cubicBezTo>
                <a:cubicBezTo>
                  <a:pt x="1488" y="2407"/>
                  <a:pt x="1476" y="2405"/>
                  <a:pt x="1430" y="2352"/>
                </a:cubicBezTo>
                <a:cubicBezTo>
                  <a:pt x="1421" y="2341"/>
                  <a:pt x="1419" y="2323"/>
                  <a:pt x="1406" y="2316"/>
                </a:cubicBezTo>
                <a:cubicBezTo>
                  <a:pt x="1388" y="2306"/>
                  <a:pt x="1366" y="2305"/>
                  <a:pt x="1346" y="2304"/>
                </a:cubicBezTo>
                <a:cubicBezTo>
                  <a:pt x="1218" y="2297"/>
                  <a:pt x="1090" y="2296"/>
                  <a:pt x="962" y="2292"/>
                </a:cubicBezTo>
                <a:cubicBezTo>
                  <a:pt x="954" y="1991"/>
                  <a:pt x="1083" y="1803"/>
                  <a:pt x="818" y="1776"/>
                </a:cubicBezTo>
                <a:cubicBezTo>
                  <a:pt x="742" y="1768"/>
                  <a:pt x="666" y="1768"/>
                  <a:pt x="590" y="1764"/>
                </a:cubicBezTo>
                <a:cubicBezTo>
                  <a:pt x="572" y="1711"/>
                  <a:pt x="536" y="1673"/>
                  <a:pt x="518" y="1620"/>
                </a:cubicBezTo>
                <a:cubicBezTo>
                  <a:pt x="514" y="1564"/>
                  <a:pt x="514" y="1508"/>
                  <a:pt x="506" y="1452"/>
                </a:cubicBezTo>
                <a:cubicBezTo>
                  <a:pt x="502" y="1423"/>
                  <a:pt x="504" y="1387"/>
                  <a:pt x="482" y="1368"/>
                </a:cubicBezTo>
                <a:cubicBezTo>
                  <a:pt x="457" y="1346"/>
                  <a:pt x="418" y="1352"/>
                  <a:pt x="386" y="1344"/>
                </a:cubicBezTo>
                <a:cubicBezTo>
                  <a:pt x="318" y="1299"/>
                  <a:pt x="350" y="1271"/>
                  <a:pt x="326" y="1200"/>
                </a:cubicBezTo>
                <a:cubicBezTo>
                  <a:pt x="325" y="1195"/>
                  <a:pt x="319" y="1051"/>
                  <a:pt x="290" y="1032"/>
                </a:cubicBezTo>
                <a:cubicBezTo>
                  <a:pt x="256" y="1009"/>
                  <a:pt x="89" y="980"/>
                  <a:pt x="50" y="972"/>
                </a:cubicBezTo>
                <a:cubicBezTo>
                  <a:pt x="38" y="964"/>
                  <a:pt x="16" y="962"/>
                  <a:pt x="14" y="948"/>
                </a:cubicBezTo>
                <a:cubicBezTo>
                  <a:pt x="0" y="840"/>
                  <a:pt x="11" y="748"/>
                  <a:pt x="122" y="720"/>
                </a:cubicBezTo>
                <a:cubicBezTo>
                  <a:pt x="161" y="710"/>
                  <a:pt x="202" y="712"/>
                  <a:pt x="242" y="708"/>
                </a:cubicBezTo>
                <a:cubicBezTo>
                  <a:pt x="346" y="656"/>
                  <a:pt x="238" y="716"/>
                  <a:pt x="326" y="648"/>
                </a:cubicBezTo>
                <a:cubicBezTo>
                  <a:pt x="349" y="630"/>
                  <a:pt x="398" y="600"/>
                  <a:pt x="398" y="600"/>
                </a:cubicBezTo>
                <a:cubicBezTo>
                  <a:pt x="431" y="545"/>
                  <a:pt x="475" y="494"/>
                  <a:pt x="494" y="432"/>
                </a:cubicBezTo>
                <a:cubicBezTo>
                  <a:pt x="516" y="358"/>
                  <a:pt x="506" y="278"/>
                  <a:pt x="602" y="252"/>
                </a:cubicBezTo>
                <a:cubicBezTo>
                  <a:pt x="641" y="242"/>
                  <a:pt x="682" y="244"/>
                  <a:pt x="722" y="240"/>
                </a:cubicBezTo>
                <a:cubicBezTo>
                  <a:pt x="770" y="236"/>
                  <a:pt x="818" y="232"/>
                  <a:pt x="866" y="228"/>
                </a:cubicBezTo>
                <a:cubicBezTo>
                  <a:pt x="910" y="217"/>
                  <a:pt x="954" y="203"/>
                  <a:pt x="998" y="192"/>
                </a:cubicBezTo>
                <a:cubicBezTo>
                  <a:pt x="1079" y="84"/>
                  <a:pt x="1037" y="118"/>
                  <a:pt x="1106" y="72"/>
                </a:cubicBezTo>
                <a:cubicBezTo>
                  <a:pt x="1353" y="79"/>
                  <a:pt x="1806" y="99"/>
                  <a:pt x="2042" y="72"/>
                </a:cubicBezTo>
                <a:cubicBezTo>
                  <a:pt x="2060" y="70"/>
                  <a:pt x="2053" y="37"/>
                  <a:pt x="2066" y="24"/>
                </a:cubicBezTo>
                <a:cubicBezTo>
                  <a:pt x="2079" y="11"/>
                  <a:pt x="2098" y="8"/>
                  <a:pt x="2114" y="0"/>
                </a:cubicBezTo>
                <a:cubicBezTo>
                  <a:pt x="2278" y="4"/>
                  <a:pt x="2442" y="5"/>
                  <a:pt x="2606" y="12"/>
                </a:cubicBezTo>
                <a:cubicBezTo>
                  <a:pt x="2626" y="13"/>
                  <a:pt x="2656" y="6"/>
                  <a:pt x="2666" y="24"/>
                </a:cubicBezTo>
                <a:cubicBezTo>
                  <a:pt x="2685" y="59"/>
                  <a:pt x="2665" y="106"/>
                  <a:pt x="2678" y="144"/>
                </a:cubicBezTo>
                <a:cubicBezTo>
                  <a:pt x="2695" y="196"/>
                  <a:pt x="2781" y="181"/>
                  <a:pt x="2834" y="192"/>
                </a:cubicBezTo>
                <a:cubicBezTo>
                  <a:pt x="2925" y="238"/>
                  <a:pt x="2848" y="206"/>
                  <a:pt x="3002" y="228"/>
                </a:cubicBezTo>
                <a:cubicBezTo>
                  <a:pt x="3071" y="238"/>
                  <a:pt x="3137" y="262"/>
                  <a:pt x="3194" y="300"/>
                </a:cubicBezTo>
                <a:cubicBezTo>
                  <a:pt x="3277" y="425"/>
                  <a:pt x="3206" y="305"/>
                  <a:pt x="3230" y="648"/>
                </a:cubicBezTo>
                <a:cubicBezTo>
                  <a:pt x="3232" y="683"/>
                  <a:pt x="3251" y="690"/>
                  <a:pt x="3266" y="720"/>
                </a:cubicBezTo>
                <a:cubicBezTo>
                  <a:pt x="3287" y="761"/>
                  <a:pt x="3303" y="807"/>
                  <a:pt x="3314" y="852"/>
                </a:cubicBezTo>
                <a:cubicBezTo>
                  <a:pt x="3322" y="1092"/>
                  <a:pt x="3301" y="1335"/>
                  <a:pt x="3338" y="1572"/>
                </a:cubicBezTo>
                <a:cubicBezTo>
                  <a:pt x="3344" y="1607"/>
                  <a:pt x="3402" y="1604"/>
                  <a:pt x="3434" y="1620"/>
                </a:cubicBezTo>
                <a:cubicBezTo>
                  <a:pt x="3466" y="1636"/>
                  <a:pt x="3480" y="1675"/>
                  <a:pt x="3494" y="1704"/>
                </a:cubicBezTo>
                <a:cubicBezTo>
                  <a:pt x="3486" y="1792"/>
                  <a:pt x="3489" y="1882"/>
                  <a:pt x="3470" y="1968"/>
                </a:cubicBezTo>
                <a:cubicBezTo>
                  <a:pt x="3437" y="2121"/>
                  <a:pt x="3210" y="2137"/>
                  <a:pt x="3098" y="2148"/>
                </a:cubicBezTo>
                <a:cubicBezTo>
                  <a:pt x="3050" y="2160"/>
                  <a:pt x="3019" y="2169"/>
                  <a:pt x="2978" y="2196"/>
                </a:cubicBezTo>
                <a:cubicBezTo>
                  <a:pt x="2940" y="2311"/>
                  <a:pt x="2956" y="2427"/>
                  <a:pt x="2930" y="2544"/>
                </a:cubicBezTo>
                <a:cubicBezTo>
                  <a:pt x="2925" y="2568"/>
                  <a:pt x="2928" y="2594"/>
                  <a:pt x="2918" y="2616"/>
                </a:cubicBezTo>
                <a:cubicBezTo>
                  <a:pt x="2905" y="2646"/>
                  <a:pt x="2868" y="2656"/>
                  <a:pt x="2846" y="2676"/>
                </a:cubicBezTo>
                <a:cubicBezTo>
                  <a:pt x="2821" y="2699"/>
                  <a:pt x="2806" y="2737"/>
                  <a:pt x="2774" y="2748"/>
                </a:cubicBezTo>
                <a:cubicBezTo>
                  <a:pt x="2700" y="2773"/>
                  <a:pt x="2635" y="2795"/>
                  <a:pt x="2558" y="2808"/>
                </a:cubicBezTo>
                <a:cubicBezTo>
                  <a:pt x="2404" y="2782"/>
                  <a:pt x="2236" y="2747"/>
                  <a:pt x="2090" y="2820"/>
                </a:cubicBezTo>
                <a:cubicBezTo>
                  <a:pt x="2050" y="2816"/>
                  <a:pt x="2010" y="2814"/>
                  <a:pt x="1970" y="2808"/>
                </a:cubicBezTo>
                <a:cubicBezTo>
                  <a:pt x="1957" y="2806"/>
                  <a:pt x="1942" y="2806"/>
                  <a:pt x="1934" y="2796"/>
                </a:cubicBezTo>
                <a:cubicBezTo>
                  <a:pt x="1883" y="2732"/>
                  <a:pt x="1972" y="2748"/>
                  <a:pt x="1874" y="2748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4" descr="SYMSN718"/>
          <p:cNvPicPr/>
          <p:nvPr/>
        </p:nvPicPr>
        <p:blipFill>
          <a:blip r:embed="rId1"/>
          <a:stretch/>
        </p:blipFill>
        <p:spPr>
          <a:xfrm>
            <a:off x="5257800" y="4876920"/>
            <a:ext cx="852480" cy="828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BLDHM052"/>
          <p:cNvPicPr/>
          <p:nvPr/>
        </p:nvPicPr>
        <p:blipFill>
          <a:blip r:embed="rId2"/>
          <a:stretch/>
        </p:blipFill>
        <p:spPr>
          <a:xfrm flipH="1">
            <a:off x="4723920" y="1828800"/>
            <a:ext cx="1219320" cy="914400"/>
          </a:xfrm>
          <a:prstGeom prst="rect">
            <a:avLst/>
          </a:prstGeom>
          <a:ln w="0">
            <a:noFill/>
          </a:ln>
        </p:spPr>
      </p:pic>
      <p:sp>
        <p:nvSpPr>
          <p:cNvPr id="368" name="Oval 6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7"/>
          <p:cNvSpPr/>
          <p:nvPr/>
        </p:nvSpPr>
        <p:spPr>
          <a:xfrm>
            <a:off x="4648320" y="5257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Oval 8"/>
          <p:cNvSpPr/>
          <p:nvPr/>
        </p:nvSpPr>
        <p:spPr>
          <a:xfrm>
            <a:off x="5105520" y="2819520"/>
            <a:ext cx="457200" cy="4572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Freeform 9"/>
          <p:cNvSpPr/>
          <p:nvPr/>
        </p:nvSpPr>
        <p:spPr>
          <a:xfrm>
            <a:off x="3701880" y="3086280"/>
            <a:ext cx="1403640" cy="1028520"/>
          </a:xfrm>
          <a:custGeom>
            <a:avLst/>
            <a:gdLst>
              <a:gd name="textAreaLeft" fmla="*/ 0 w 1403640"/>
              <a:gd name="textAreaRight" fmla="*/ 1404000 w 140364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84" h="648">
                <a:moveTo>
                  <a:pt x="8" y="648"/>
                </a:moveTo>
                <a:cubicBezTo>
                  <a:pt x="16" y="535"/>
                  <a:pt x="0" y="403"/>
                  <a:pt x="128" y="360"/>
                </a:cubicBezTo>
                <a:cubicBezTo>
                  <a:pt x="188" y="380"/>
                  <a:pt x="160" y="360"/>
                  <a:pt x="188" y="444"/>
                </a:cubicBezTo>
                <a:cubicBezTo>
                  <a:pt x="207" y="502"/>
                  <a:pt x="264" y="545"/>
                  <a:pt x="320" y="564"/>
                </a:cubicBezTo>
                <a:cubicBezTo>
                  <a:pt x="344" y="560"/>
                  <a:pt x="371" y="564"/>
                  <a:pt x="392" y="552"/>
                </a:cubicBezTo>
                <a:cubicBezTo>
                  <a:pt x="403" y="546"/>
                  <a:pt x="403" y="529"/>
                  <a:pt x="404" y="516"/>
                </a:cubicBezTo>
                <a:cubicBezTo>
                  <a:pt x="427" y="176"/>
                  <a:pt x="312" y="227"/>
                  <a:pt x="452" y="180"/>
                </a:cubicBezTo>
                <a:cubicBezTo>
                  <a:pt x="476" y="184"/>
                  <a:pt x="501" y="184"/>
                  <a:pt x="524" y="192"/>
                </a:cubicBezTo>
                <a:cubicBezTo>
                  <a:pt x="571" y="208"/>
                  <a:pt x="588" y="256"/>
                  <a:pt x="620" y="288"/>
                </a:cubicBezTo>
                <a:cubicBezTo>
                  <a:pt x="648" y="316"/>
                  <a:pt x="667" y="315"/>
                  <a:pt x="704" y="324"/>
                </a:cubicBezTo>
                <a:cubicBezTo>
                  <a:pt x="802" y="310"/>
                  <a:pt x="796" y="325"/>
                  <a:pt x="824" y="240"/>
                </a:cubicBezTo>
                <a:cubicBezTo>
                  <a:pt x="828" y="176"/>
                  <a:pt x="829" y="112"/>
                  <a:pt x="836" y="48"/>
                </a:cubicBezTo>
                <a:cubicBezTo>
                  <a:pt x="837" y="35"/>
                  <a:pt x="839" y="21"/>
                  <a:pt x="848" y="12"/>
                </a:cubicBezTo>
                <a:cubicBezTo>
                  <a:pt x="857" y="3"/>
                  <a:pt x="884" y="0"/>
                  <a:pt x="884" y="0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Freeform 10"/>
          <p:cNvSpPr/>
          <p:nvPr/>
        </p:nvSpPr>
        <p:spPr>
          <a:xfrm>
            <a:off x="3772080" y="4381560"/>
            <a:ext cx="914400" cy="957240"/>
          </a:xfrm>
          <a:custGeom>
            <a:avLst/>
            <a:gdLst>
              <a:gd name="textAreaLeft" fmla="*/ 0 w 914400"/>
              <a:gd name="textAreaRight" fmla="*/ 914760 w 9144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576" h="603">
                <a:moveTo>
                  <a:pt x="0" y="0"/>
                </a:moveTo>
                <a:cubicBezTo>
                  <a:pt x="7" y="22"/>
                  <a:pt x="21" y="69"/>
                  <a:pt x="36" y="84"/>
                </a:cubicBezTo>
                <a:cubicBezTo>
                  <a:pt x="56" y="104"/>
                  <a:pt x="84" y="116"/>
                  <a:pt x="108" y="132"/>
                </a:cubicBezTo>
                <a:cubicBezTo>
                  <a:pt x="120" y="140"/>
                  <a:pt x="134" y="146"/>
                  <a:pt x="144" y="156"/>
                </a:cubicBezTo>
                <a:cubicBezTo>
                  <a:pt x="195" y="207"/>
                  <a:pt x="245" y="253"/>
                  <a:pt x="300" y="300"/>
                </a:cubicBezTo>
                <a:cubicBezTo>
                  <a:pt x="348" y="341"/>
                  <a:pt x="400" y="376"/>
                  <a:pt x="432" y="432"/>
                </a:cubicBezTo>
                <a:cubicBezTo>
                  <a:pt x="460" y="481"/>
                  <a:pt x="491" y="520"/>
                  <a:pt x="528" y="564"/>
                </a:cubicBezTo>
                <a:cubicBezTo>
                  <a:pt x="561" y="603"/>
                  <a:pt x="548" y="600"/>
                  <a:pt x="576" y="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5182560" y="3276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 Esperan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2"/>
          <p:cNvSpPr/>
          <p:nvPr/>
        </p:nvSpPr>
        <p:spPr>
          <a:xfrm>
            <a:off x="2896560" y="20574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sponib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1981800" y="320040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mino en mal estad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3886920" y="40384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illanue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5"/>
          <p:cNvSpPr/>
          <p:nvPr/>
        </p:nvSpPr>
        <p:spPr>
          <a:xfrm>
            <a:off x="3033720" y="529596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os Guadua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6"/>
          <p:cNvSpPr/>
          <p:nvPr/>
        </p:nvSpPr>
        <p:spPr>
          <a:xfrm>
            <a:off x="4192200" y="5715000"/>
            <a:ext cx="19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pacidad escol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ura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Optimización de la situación 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 posible aplazar una SOLUCIÓN DURA (estable y de mayor inversión), mediante la Optimización de la Situación Actual, con una alternativa a corto plazo, de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congestionamiento de la vía urb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a racionalización del consulto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. Notas de clases H. Saní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aso Cartage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mic Sans MS"/>
              </a:rPr>
              <a:t>Tres grupos de involcucrados, tres posiciones distint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Comerci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Tur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ript MT Bold"/>
              </a:rPr>
              <a:t>Mor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6670_"/>
          <p:cNvPicPr/>
          <p:nvPr/>
        </p:nvPicPr>
        <p:blipFill>
          <a:blip r:embed="rId1"/>
          <a:stretch/>
        </p:blipFill>
        <p:spPr>
          <a:xfrm>
            <a:off x="5334120" y="2666880"/>
            <a:ext cx="280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aso Cartagena de In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6477120" y="1295280"/>
            <a:ext cx="1828800" cy="1295640"/>
          </a:xfrm>
          <a:prstGeom prst="wedgeEllipseCallout">
            <a:avLst>
              <a:gd name="adj1" fmla="val -162759"/>
              <a:gd name="adj2" fmla="val 1699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28600" y="1447920"/>
            <a:ext cx="2666880" cy="990360"/>
          </a:xfrm>
          <a:prstGeom prst="wedgeEllipseCallout">
            <a:avLst>
              <a:gd name="adj1" fmla="val 82620"/>
              <a:gd name="adj2" fmla="val 29262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o aledañ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legios y 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iudadan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18"/>
          <p:cNvSpPr/>
          <p:nvPr/>
        </p:nvSpPr>
        <p:spPr>
          <a:xfrm rot="737400">
            <a:off x="6019560" y="3505320"/>
            <a:ext cx="1753920" cy="1514520"/>
          </a:xfrm>
          <a:prstGeom prst="leftArrowCallout">
            <a:avLst>
              <a:gd name="adj1" fmla="val 25002"/>
              <a:gd name="adj2" fmla="val 25000"/>
              <a:gd name="adj3" fmla="val 19301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Financiera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sarroll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erritor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Oval 20"/>
          <p:cNvSpPr/>
          <p:nvPr/>
        </p:nvSpPr>
        <p:spPr>
          <a:xfrm>
            <a:off x="1981080" y="37339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Oval 23"/>
          <p:cNvSpPr/>
          <p:nvPr/>
        </p:nvSpPr>
        <p:spPr>
          <a:xfrm>
            <a:off x="2209680" y="533412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cretarí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e 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27"/>
          <p:cNvSpPr/>
          <p:nvPr/>
        </p:nvSpPr>
        <p:spPr>
          <a:xfrm>
            <a:off x="4419720" y="4267080"/>
            <a:ext cx="15228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>
            <a:off x="1371600" y="19051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3"/>
          <p:cNvSpPr/>
          <p:nvPr/>
        </p:nvSpPr>
        <p:spPr>
          <a:xfrm>
            <a:off x="5715000" y="350532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4"/>
          <p:cNvSpPr/>
          <p:nvPr/>
        </p:nvSpPr>
        <p:spPr>
          <a:xfrm>
            <a:off x="4724280" y="129528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5"/>
          <p:cNvSpPr/>
          <p:nvPr/>
        </p:nvSpPr>
        <p:spPr>
          <a:xfrm>
            <a:off x="6629400" y="4724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6"/>
          <p:cNvSpPr/>
          <p:nvPr/>
        </p:nvSpPr>
        <p:spPr>
          <a:xfrm>
            <a:off x="2666880" y="41911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7"/>
          <p:cNvSpPr/>
          <p:nvPr/>
        </p:nvSpPr>
        <p:spPr>
          <a:xfrm>
            <a:off x="5181480" y="45720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8"/>
          <p:cNvSpPr/>
          <p:nvPr/>
        </p:nvSpPr>
        <p:spPr>
          <a:xfrm>
            <a:off x="2743200" y="28954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9"/>
          <p:cNvSpPr/>
          <p:nvPr/>
        </p:nvSpPr>
        <p:spPr>
          <a:xfrm>
            <a:off x="41911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10"/>
          <p:cNvSpPr/>
          <p:nvPr/>
        </p:nvSpPr>
        <p:spPr>
          <a:xfrm>
            <a:off x="6553080" y="144792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4114800" y="37339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2895480" y="1600200"/>
            <a:ext cx="1096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5562720" y="243828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7086600" y="2971800"/>
            <a:ext cx="10666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1523880" y="4800600"/>
            <a:ext cx="10670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1371600" y="3352680"/>
            <a:ext cx="11556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18"/>
          <p:cNvSpPr/>
          <p:nvPr/>
        </p:nvSpPr>
        <p:spPr>
          <a:xfrm>
            <a:off x="3733920" y="4876920"/>
            <a:ext cx="114300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 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2682000" y="60948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isibilizar los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4800600" y="1752480"/>
            <a:ext cx="106668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ámar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merci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3"/>
          <p:cNvSpPr/>
          <p:nvPr/>
        </p:nvSpPr>
        <p:spPr>
          <a:xfrm>
            <a:off x="6553080" y="1523880"/>
            <a:ext cx="106704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nt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inancier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4"/>
          <p:cNvSpPr/>
          <p:nvPr/>
        </p:nvSpPr>
        <p:spPr>
          <a:xfrm>
            <a:off x="4343400" y="5335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Resid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Oval 5"/>
          <p:cNvSpPr/>
          <p:nvPr/>
        </p:nvSpPr>
        <p:spPr>
          <a:xfrm rot="584400">
            <a:off x="5943240" y="495288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762120" y="403848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iudadan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Oval 7"/>
          <p:cNvSpPr/>
          <p:nvPr/>
        </p:nvSpPr>
        <p:spPr>
          <a:xfrm rot="584400">
            <a:off x="4876560" y="533412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lcald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Distrit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Oval 8"/>
          <p:cNvSpPr/>
          <p:nvPr/>
        </p:nvSpPr>
        <p:spPr>
          <a:xfrm>
            <a:off x="762120" y="2666880"/>
            <a:ext cx="115560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cher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3200400" y="762120"/>
            <a:ext cx="10666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Tur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10"/>
          <p:cNvSpPr/>
          <p:nvPr/>
        </p:nvSpPr>
        <p:spPr>
          <a:xfrm rot="584400">
            <a:off x="7695720" y="3733920"/>
            <a:ext cx="106704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ránsit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11"/>
          <p:cNvSpPr/>
          <p:nvPr/>
        </p:nvSpPr>
        <p:spPr>
          <a:xfrm>
            <a:off x="5562720" y="9907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artage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. Mapa y análisis de involuc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2057400" y="1066680"/>
            <a:ext cx="109692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mercia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676520" y="4876920"/>
            <a:ext cx="1066680" cy="9144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Hoteler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15"/>
          <p:cNvSpPr/>
          <p:nvPr/>
        </p:nvSpPr>
        <p:spPr>
          <a:xfrm rot="584400">
            <a:off x="6857640" y="4343400"/>
            <a:ext cx="106668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Secretarí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de Turism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162920" y="2362320"/>
            <a:ext cx="106668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entro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Forma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AEC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1143000" y="1752480"/>
            <a:ext cx="115560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Taxist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18"/>
          <p:cNvSpPr/>
          <p:nvPr/>
        </p:nvSpPr>
        <p:spPr>
          <a:xfrm rot="19922400">
            <a:off x="4641840" y="3962520"/>
            <a:ext cx="4502160" cy="2073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Oval 19"/>
          <p:cNvSpPr/>
          <p:nvPr/>
        </p:nvSpPr>
        <p:spPr>
          <a:xfrm rot="19925400">
            <a:off x="329760" y="748800"/>
            <a:ext cx="5518080" cy="2581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20"/>
          <p:cNvSpPr/>
          <p:nvPr/>
        </p:nvSpPr>
        <p:spPr>
          <a:xfrm rot="2131800">
            <a:off x="5236920" y="1289160"/>
            <a:ext cx="34495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Oval 21"/>
          <p:cNvSpPr/>
          <p:nvPr/>
        </p:nvSpPr>
        <p:spPr>
          <a:xfrm>
            <a:off x="2895480" y="5181480"/>
            <a:ext cx="121932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Univers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Colegi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Oval 22"/>
          <p:cNvSpPr/>
          <p:nvPr/>
        </p:nvSpPr>
        <p:spPr>
          <a:xfrm>
            <a:off x="3657600" y="3124080"/>
            <a:ext cx="1981080" cy="11430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Gerencia de Proyec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Gerencias de Compon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23"/>
          <p:cNvSpPr/>
          <p:nvPr/>
        </p:nvSpPr>
        <p:spPr>
          <a:xfrm rot="19656000">
            <a:off x="3581280" y="2971440"/>
            <a:ext cx="53352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24"/>
          <p:cNvSpPr/>
          <p:nvPr/>
        </p:nvSpPr>
        <p:spPr>
          <a:xfrm rot="2794800">
            <a:off x="5220000" y="2933640"/>
            <a:ext cx="53316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25"/>
          <p:cNvSpPr/>
          <p:nvPr/>
        </p:nvSpPr>
        <p:spPr>
          <a:xfrm rot="18885000">
            <a:off x="5295960" y="4076280"/>
            <a:ext cx="53316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26"/>
          <p:cNvSpPr/>
          <p:nvPr/>
        </p:nvSpPr>
        <p:spPr>
          <a:xfrm rot="2605200">
            <a:off x="3352680" y="4190760"/>
            <a:ext cx="53352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Oval 27"/>
          <p:cNvSpPr/>
          <p:nvPr/>
        </p:nvSpPr>
        <p:spPr>
          <a:xfrm rot="1412400">
            <a:off x="450360" y="4221000"/>
            <a:ext cx="396252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Tipos de Involuc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3800520" y="3765600"/>
            <a:ext cx="879480" cy="752400"/>
          </a:xfrm>
          <a:custGeom>
            <a:avLst/>
            <a:gdLst>
              <a:gd name="textAreaLeft" fmla="*/ 0 w 879480"/>
              <a:gd name="textAreaRight" fmla="*/ 879840 w 87948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554" h="474">
                <a:moveTo>
                  <a:pt x="164" y="0"/>
                </a:moveTo>
                <a:cubicBezTo>
                  <a:pt x="173" y="3"/>
                  <a:pt x="182" y="4"/>
                  <a:pt x="190" y="8"/>
                </a:cubicBezTo>
                <a:cubicBezTo>
                  <a:pt x="201" y="13"/>
                  <a:pt x="211" y="21"/>
                  <a:pt x="223" y="25"/>
                </a:cubicBezTo>
                <a:cubicBezTo>
                  <a:pt x="295" y="47"/>
                  <a:pt x="388" y="45"/>
                  <a:pt x="461" y="51"/>
                </a:cubicBezTo>
                <a:cubicBezTo>
                  <a:pt x="502" y="67"/>
                  <a:pt x="530" y="73"/>
                  <a:pt x="554" y="110"/>
                </a:cubicBezTo>
                <a:cubicBezTo>
                  <a:pt x="547" y="180"/>
                  <a:pt x="554" y="252"/>
                  <a:pt x="503" y="305"/>
                </a:cubicBezTo>
                <a:cubicBezTo>
                  <a:pt x="495" y="349"/>
                  <a:pt x="493" y="371"/>
                  <a:pt x="469" y="406"/>
                </a:cubicBezTo>
                <a:cubicBezTo>
                  <a:pt x="455" y="452"/>
                  <a:pt x="464" y="451"/>
                  <a:pt x="418" y="474"/>
                </a:cubicBezTo>
                <a:cubicBezTo>
                  <a:pt x="382" y="466"/>
                  <a:pt x="352" y="450"/>
                  <a:pt x="317" y="440"/>
                </a:cubicBezTo>
                <a:cubicBezTo>
                  <a:pt x="246" y="393"/>
                  <a:pt x="202" y="389"/>
                  <a:pt x="113" y="381"/>
                </a:cubicBezTo>
                <a:cubicBezTo>
                  <a:pt x="80" y="369"/>
                  <a:pt x="71" y="347"/>
                  <a:pt x="46" y="322"/>
                </a:cubicBezTo>
                <a:cubicBezTo>
                  <a:pt x="37" y="269"/>
                  <a:pt x="0" y="154"/>
                  <a:pt x="71" y="135"/>
                </a:cubicBezTo>
                <a:cubicBezTo>
                  <a:pt x="93" y="129"/>
                  <a:pt x="116" y="130"/>
                  <a:pt x="139" y="127"/>
                </a:cubicBezTo>
                <a:cubicBezTo>
                  <a:pt x="152" y="84"/>
                  <a:pt x="164" y="46"/>
                  <a:pt x="164" y="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Freeform 4"/>
          <p:cNvSpPr/>
          <p:nvPr/>
        </p:nvSpPr>
        <p:spPr>
          <a:xfrm>
            <a:off x="2743200" y="2593800"/>
            <a:ext cx="3189240" cy="2840040"/>
          </a:xfrm>
          <a:custGeom>
            <a:avLst/>
            <a:gdLst>
              <a:gd name="textAreaLeft" fmla="*/ 0 w 3189240"/>
              <a:gd name="textAreaRight" fmla="*/ 3189600 w 3189240"/>
              <a:gd name="textAreaTop" fmla="*/ 0 h 2840040"/>
              <a:gd name="textAreaBottom" fmla="*/ 2840040 h 2840040"/>
            </a:gdLst>
            <a:ahLst/>
            <a:rect l="textAreaLeft" t="textAreaTop" r="textAreaRight" b="textAreaBottom"/>
            <a:pathLst>
              <a:path w="1797" h="1789">
                <a:moveTo>
                  <a:pt x="0" y="856"/>
                </a:moveTo>
                <a:cubicBezTo>
                  <a:pt x="106" y="803"/>
                  <a:pt x="205" y="759"/>
                  <a:pt x="288" y="670"/>
                </a:cubicBezTo>
                <a:cubicBezTo>
                  <a:pt x="318" y="638"/>
                  <a:pt x="356" y="613"/>
                  <a:pt x="381" y="577"/>
                </a:cubicBezTo>
                <a:cubicBezTo>
                  <a:pt x="401" y="549"/>
                  <a:pt x="440" y="492"/>
                  <a:pt x="440" y="492"/>
                </a:cubicBezTo>
                <a:cubicBezTo>
                  <a:pt x="478" y="378"/>
                  <a:pt x="458" y="422"/>
                  <a:pt x="491" y="357"/>
                </a:cubicBezTo>
                <a:cubicBezTo>
                  <a:pt x="496" y="331"/>
                  <a:pt x="506" y="306"/>
                  <a:pt x="508" y="280"/>
                </a:cubicBezTo>
                <a:cubicBezTo>
                  <a:pt x="515" y="172"/>
                  <a:pt x="460" y="37"/>
                  <a:pt x="576" y="1"/>
                </a:cubicBezTo>
                <a:cubicBezTo>
                  <a:pt x="785" y="6"/>
                  <a:pt x="964" y="0"/>
                  <a:pt x="1160" y="52"/>
                </a:cubicBezTo>
                <a:cubicBezTo>
                  <a:pt x="1199" y="110"/>
                  <a:pt x="1149" y="44"/>
                  <a:pt x="1211" y="94"/>
                </a:cubicBezTo>
                <a:cubicBezTo>
                  <a:pt x="1230" y="109"/>
                  <a:pt x="1262" y="145"/>
                  <a:pt x="1262" y="145"/>
                </a:cubicBezTo>
                <a:cubicBezTo>
                  <a:pt x="1272" y="177"/>
                  <a:pt x="1289" y="201"/>
                  <a:pt x="1304" y="230"/>
                </a:cubicBezTo>
                <a:cubicBezTo>
                  <a:pt x="1322" y="266"/>
                  <a:pt x="1329" y="304"/>
                  <a:pt x="1347" y="340"/>
                </a:cubicBezTo>
                <a:cubicBezTo>
                  <a:pt x="1356" y="378"/>
                  <a:pt x="1362" y="398"/>
                  <a:pt x="1364" y="441"/>
                </a:cubicBezTo>
                <a:cubicBezTo>
                  <a:pt x="1372" y="588"/>
                  <a:pt x="1325" y="850"/>
                  <a:pt x="1533" y="890"/>
                </a:cubicBezTo>
                <a:cubicBezTo>
                  <a:pt x="1567" y="913"/>
                  <a:pt x="1595" y="932"/>
                  <a:pt x="1635" y="941"/>
                </a:cubicBezTo>
                <a:cubicBezTo>
                  <a:pt x="1667" y="973"/>
                  <a:pt x="1693" y="992"/>
                  <a:pt x="1736" y="1009"/>
                </a:cubicBezTo>
                <a:cubicBezTo>
                  <a:pt x="1756" y="1064"/>
                  <a:pt x="1730" y="1003"/>
                  <a:pt x="1770" y="1060"/>
                </a:cubicBezTo>
                <a:cubicBezTo>
                  <a:pt x="1786" y="1084"/>
                  <a:pt x="1789" y="1100"/>
                  <a:pt x="1796" y="1127"/>
                </a:cubicBezTo>
                <a:cubicBezTo>
                  <a:pt x="1792" y="1186"/>
                  <a:pt x="1797" y="1315"/>
                  <a:pt x="1719" y="1339"/>
                </a:cubicBezTo>
                <a:cubicBezTo>
                  <a:pt x="1667" y="1375"/>
                  <a:pt x="1611" y="1413"/>
                  <a:pt x="1550" y="1432"/>
                </a:cubicBezTo>
                <a:cubicBezTo>
                  <a:pt x="1523" y="1473"/>
                  <a:pt x="1473" y="1493"/>
                  <a:pt x="1431" y="1517"/>
                </a:cubicBezTo>
                <a:cubicBezTo>
                  <a:pt x="1395" y="1538"/>
                  <a:pt x="1414" y="1531"/>
                  <a:pt x="1380" y="1559"/>
                </a:cubicBezTo>
                <a:cubicBezTo>
                  <a:pt x="1334" y="1597"/>
                  <a:pt x="1376" y="1559"/>
                  <a:pt x="1330" y="1585"/>
                </a:cubicBezTo>
                <a:cubicBezTo>
                  <a:pt x="1249" y="1631"/>
                  <a:pt x="1309" y="1610"/>
                  <a:pt x="1253" y="1627"/>
                </a:cubicBezTo>
                <a:cubicBezTo>
                  <a:pt x="1174" y="1689"/>
                  <a:pt x="1100" y="1725"/>
                  <a:pt x="999" y="1737"/>
                </a:cubicBezTo>
                <a:cubicBezTo>
                  <a:pt x="961" y="1751"/>
                  <a:pt x="931" y="1757"/>
                  <a:pt x="889" y="1763"/>
                </a:cubicBezTo>
                <a:cubicBezTo>
                  <a:pt x="807" y="1789"/>
                  <a:pt x="716" y="1779"/>
                  <a:pt x="635" y="1754"/>
                </a:cubicBezTo>
                <a:cubicBezTo>
                  <a:pt x="610" y="1746"/>
                  <a:pt x="585" y="1734"/>
                  <a:pt x="559" y="1729"/>
                </a:cubicBezTo>
                <a:cubicBezTo>
                  <a:pt x="528" y="1723"/>
                  <a:pt x="466" y="1712"/>
                  <a:pt x="466" y="1712"/>
                </a:cubicBezTo>
                <a:cubicBezTo>
                  <a:pt x="425" y="1691"/>
                  <a:pt x="393" y="1685"/>
                  <a:pt x="347" y="1678"/>
                </a:cubicBezTo>
                <a:cubicBezTo>
                  <a:pt x="293" y="1656"/>
                  <a:pt x="244" y="1621"/>
                  <a:pt x="186" y="1610"/>
                </a:cubicBezTo>
                <a:cubicBezTo>
                  <a:pt x="172" y="1607"/>
                  <a:pt x="158" y="1606"/>
                  <a:pt x="144" y="1602"/>
                </a:cubicBezTo>
                <a:cubicBezTo>
                  <a:pt x="127" y="1597"/>
                  <a:pt x="93" y="1585"/>
                  <a:pt x="93" y="1585"/>
                </a:cubicBezTo>
                <a:cubicBezTo>
                  <a:pt x="66" y="1507"/>
                  <a:pt x="97" y="1431"/>
                  <a:pt x="118" y="1356"/>
                </a:cubicBezTo>
                <a:cubicBezTo>
                  <a:pt x="123" y="1338"/>
                  <a:pt x="138" y="1266"/>
                  <a:pt x="144" y="1238"/>
                </a:cubicBezTo>
                <a:cubicBezTo>
                  <a:pt x="147" y="1227"/>
                  <a:pt x="152" y="1204"/>
                  <a:pt x="152" y="1204"/>
                </a:cubicBezTo>
                <a:cubicBezTo>
                  <a:pt x="155" y="1176"/>
                  <a:pt x="161" y="1147"/>
                  <a:pt x="161" y="1119"/>
                </a:cubicBezTo>
                <a:cubicBezTo>
                  <a:pt x="161" y="1063"/>
                  <a:pt x="162" y="1006"/>
                  <a:pt x="152" y="950"/>
                </a:cubicBezTo>
                <a:cubicBezTo>
                  <a:pt x="144" y="902"/>
                  <a:pt x="34" y="908"/>
                  <a:pt x="0" y="856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1371600" y="1905120"/>
            <a:ext cx="5867280" cy="426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4114800" y="39625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267080" y="411480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4038480" y="4191120"/>
            <a:ext cx="15264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6477120" y="1600200"/>
            <a:ext cx="1447560" cy="990720"/>
          </a:xfrm>
          <a:prstGeom prst="wedgeEllipseCallout">
            <a:avLst>
              <a:gd name="adj1" fmla="val -192435"/>
              <a:gd name="adj2" fmla="val 20688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fectado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r 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838080" y="1447920"/>
            <a:ext cx="1447920" cy="1143000"/>
          </a:xfrm>
          <a:prstGeom prst="wedgeEllipseCallout">
            <a:avLst>
              <a:gd name="adj1" fmla="val 153398"/>
              <a:gd name="adj2" fmla="val 24763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e mueven en el entorno del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roblem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3733920" y="48769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5029200" y="44197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429000" y="388620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4191120" y="3124080"/>
            <a:ext cx="152280" cy="15264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888360" y="480060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16"/>
          <p:cNvSpPr/>
          <p:nvPr/>
        </p:nvSpPr>
        <p:spPr>
          <a:xfrm rot="5360400">
            <a:off x="4267080" y="4495680"/>
            <a:ext cx="228600" cy="3808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924680" y="43434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AutoShape 18"/>
          <p:cNvSpPr/>
          <p:nvPr/>
        </p:nvSpPr>
        <p:spPr>
          <a:xfrm rot="737400">
            <a:off x="6016320" y="3571560"/>
            <a:ext cx="1754280" cy="1371600"/>
          </a:xfrm>
          <a:prstGeom prst="leftArrowCallout">
            <a:avLst>
              <a:gd name="adj1" fmla="val 25002"/>
              <a:gd name="adj2" fmla="val 25000"/>
              <a:gd name="adj3" fmla="val 21317"/>
              <a:gd name="adj4" fmla="val 6667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Oval 19"/>
          <p:cNvSpPr/>
          <p:nvPr/>
        </p:nvSpPr>
        <p:spPr>
          <a:xfrm>
            <a:off x="6477120" y="3581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Oval 20"/>
          <p:cNvSpPr/>
          <p:nvPr/>
        </p:nvSpPr>
        <p:spPr>
          <a:xfrm>
            <a:off x="533520" y="4724280"/>
            <a:ext cx="15228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5638680" y="4267080"/>
            <a:ext cx="152640" cy="152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Oval 22"/>
          <p:cNvSpPr/>
          <p:nvPr/>
        </p:nvSpPr>
        <p:spPr>
          <a:xfrm>
            <a:off x="2362320" y="48769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Oval 23"/>
          <p:cNvSpPr/>
          <p:nvPr/>
        </p:nvSpPr>
        <p:spPr>
          <a:xfrm>
            <a:off x="990720" y="350532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24"/>
          <p:cNvSpPr/>
          <p:nvPr/>
        </p:nvSpPr>
        <p:spPr>
          <a:xfrm rot="20512800">
            <a:off x="914400" y="3809880"/>
            <a:ext cx="1828800" cy="1524240"/>
          </a:xfrm>
          <a:prstGeom prst="rightArrowCallout">
            <a:avLst>
              <a:gd name="adj1" fmla="val 25002"/>
              <a:gd name="adj2" fmla="val 25000"/>
              <a:gd name="adj3" fmla="val 1999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curren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Potencia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A l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olució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25"/>
          <p:cNvSpPr/>
          <p:nvPr/>
        </p:nvSpPr>
        <p:spPr>
          <a:xfrm>
            <a:off x="7315200" y="5257800"/>
            <a:ext cx="15228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26"/>
          <p:cNvSpPr/>
          <p:nvPr/>
        </p:nvSpPr>
        <p:spPr>
          <a:xfrm>
            <a:off x="4419720" y="5105520"/>
            <a:ext cx="152280" cy="152280"/>
          </a:xfrm>
          <a:prstGeom prst="ellips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32200" y="480060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cc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066680" y="14619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24360" y="1461960"/>
            <a:ext cx="17229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1066680" y="19954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066680" y="25290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066680" y="306216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1066680" y="359568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1066680" y="4129200"/>
            <a:ext cx="1981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1990440" y="20574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1992240" y="259092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990440" y="312408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990440" y="365760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1977840" y="4205160"/>
            <a:ext cx="2829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522600" y="14479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3991680" y="144792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522600" y="19810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3522600" y="25146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3522600" y="304812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3522600" y="358128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3522600" y="4114800"/>
            <a:ext cx="19814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4446360" y="20430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4447800" y="25765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4446360" y="31100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4446360" y="36432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4433760" y="4191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7"/>
          <p:cNvSpPr/>
          <p:nvPr/>
        </p:nvSpPr>
        <p:spPr>
          <a:xfrm>
            <a:off x="5961240" y="1447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6197040" y="144792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5961240" y="19810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5961240" y="25146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5961240" y="30481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5961240" y="35812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5961240" y="41148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4"/>
          <p:cNvSpPr/>
          <p:nvPr/>
        </p:nvSpPr>
        <p:spPr>
          <a:xfrm>
            <a:off x="6833520" y="204300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6835320" y="25765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884640" y="311004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7"/>
          <p:cNvSpPr/>
          <p:nvPr/>
        </p:nvSpPr>
        <p:spPr>
          <a:xfrm>
            <a:off x="6884640" y="36432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6872040" y="41911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143160" y="20574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40"/>
          <p:cNvSpPr/>
          <p:nvPr/>
        </p:nvSpPr>
        <p:spPr>
          <a:xfrm>
            <a:off x="3143160" y="25909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1"/>
          <p:cNvSpPr/>
          <p:nvPr/>
        </p:nvSpPr>
        <p:spPr>
          <a:xfrm>
            <a:off x="3143160" y="31240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3143160" y="36576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43"/>
          <p:cNvSpPr/>
          <p:nvPr/>
        </p:nvSpPr>
        <p:spPr>
          <a:xfrm>
            <a:off x="3143160" y="41911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Text Box 44"/>
          <p:cNvSpPr/>
          <p:nvPr/>
        </p:nvSpPr>
        <p:spPr>
          <a:xfrm>
            <a:off x="5581800" y="20574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45"/>
          <p:cNvSpPr/>
          <p:nvPr/>
        </p:nvSpPr>
        <p:spPr>
          <a:xfrm>
            <a:off x="5581800" y="25909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6"/>
          <p:cNvSpPr/>
          <p:nvPr/>
        </p:nvSpPr>
        <p:spPr>
          <a:xfrm>
            <a:off x="5581800" y="31240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7"/>
          <p:cNvSpPr/>
          <p:nvPr/>
        </p:nvSpPr>
        <p:spPr>
          <a:xfrm>
            <a:off x="5581800" y="36576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8"/>
          <p:cNvSpPr/>
          <p:nvPr/>
        </p:nvSpPr>
        <p:spPr>
          <a:xfrm>
            <a:off x="5581800" y="41911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9"/>
          <p:cNvSpPr/>
          <p:nvPr/>
        </p:nvSpPr>
        <p:spPr>
          <a:xfrm>
            <a:off x="3125520" y="1523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5563800" y="152388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2 Valoración de expectativas, fuerzas y resul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19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20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4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Rectangle 25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Rectangle 29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0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Text Box 41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43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Rectangle 44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Rectangle 45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6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47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48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9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50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51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52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53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54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55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56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57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58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59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61"/>
          <p:cNvSpPr/>
          <p:nvPr/>
        </p:nvSpPr>
        <p:spPr>
          <a:xfrm>
            <a:off x="2056320" y="0"/>
            <a:ext cx="51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riz de Valoración de Involuc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2T11:42:57Z</dcterms:created>
  <dc:creator>HECTOR SANIN ANGEL</dc:creator>
  <dc:description/>
  <dc:language>en-US</dc:language>
  <cp:lastModifiedBy>lboitano</cp:lastModifiedBy>
  <dcterms:modified xsi:type="dcterms:W3CDTF">2010-07-19T22:44:38Z</dcterms:modified>
  <cp:revision>213</cp:revision>
  <dc:subject/>
  <dc:title>PREPARACION DE LA EJECUCION</dc:title>
</cp:coreProperties>
</file>