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4D0-6A0D-47EB-9707-BCAD365A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E46-7BC3-4C9A-9A08-AE5B55E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F451-2846-4F27-8123-7B4892EC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498-2636-436C-9B6F-DFAF10B9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EA4-D7D6-4738-B68A-5697D494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06FE-48AF-4F13-9296-52724D2E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5F9-8945-4749-9F3E-310E2996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0AF9-89A4-4231-81C4-1CD67461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93A-423E-48A4-9D08-6261396B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FAB6-E6AB-4098-937E-9B8878E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3FF3-A7A2-4226-9728-C98FC4B7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5C0-BADF-4E1E-B15E-0801001D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28FC-D4F7-461F-A771-94C9BF3030C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co/imgres?imgurl=http://multimedia.ilce.edu.mx/sedesol2005/imagenes/mapa_gde.jpg&amp;imgrefurl=http://multimedia.ilce.edu.mx/sedesol2005/default.asp&amp;h=188&amp;w=275&amp;sz=15&amp;tbnid=vSKRCnW0M2EJ:&amp;tbnh=74&amp;tbnw=109&amp;hl=es&amp;start=381&amp;prev=/images%3Fq%3Dmapa%2Bsocial%26start%3D380%26svnum%3D10%26hl%3Des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Análisis y participación de involucrado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Contextualización del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25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Logo_Cepal_-ILPES-ESP_1"/>
          <p:cNvPicPr/>
          <p:nvPr/>
        </p:nvPicPr>
        <p:blipFill>
          <a:blip r:embed="rId2"/>
          <a:stretch/>
        </p:blipFill>
        <p:spPr>
          <a:xfrm>
            <a:off x="6804000" y="3860640"/>
            <a:ext cx="8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LOGO DII bco"/>
          <p:cNvPicPr/>
          <p:nvPr/>
        </p:nvPicPr>
        <p:blipFill>
          <a:blip r:embed="rId3"/>
          <a:stretch/>
        </p:blipFill>
        <p:spPr>
          <a:xfrm>
            <a:off x="0" y="0"/>
            <a:ext cx="264636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2" descr=""/>
          <p:cNvPicPr/>
          <p:nvPr/>
        </p:nvPicPr>
        <p:blipFill>
          <a:blip r:embed="rId4"/>
          <a:stretch/>
        </p:blipFill>
        <p:spPr>
          <a:xfrm>
            <a:off x="7740720" y="0"/>
            <a:ext cx="12510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715000" y="1447920"/>
            <a:ext cx="13716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715000" y="2895480"/>
            <a:ext cx="1371600" cy="41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560" y="27828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565080" y="150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238880" y="2286000"/>
            <a:ext cx="167652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38880" y="350532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7238880" y="4800600"/>
            <a:ext cx="167652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238880" y="1447920"/>
            <a:ext cx="16765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715000" y="3809880"/>
            <a:ext cx="137160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438280" y="1447920"/>
            <a:ext cx="107496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2448000" y="2898720"/>
            <a:ext cx="10746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2448000" y="3813120"/>
            <a:ext cx="106524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448000" y="5108400"/>
            <a:ext cx="1074600" cy="44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3962520" y="14479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962520" y="289548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3962520" y="3809880"/>
            <a:ext cx="129528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3962520" y="5105520"/>
            <a:ext cx="129528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5715000" y="5105520"/>
            <a:ext cx="1371600" cy="41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3582360" y="286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3582360" y="377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582360" y="50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5335200" y="50292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5335560" y="14875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457200" y="1444680"/>
            <a:ext cx="1895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nvolucr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474840" y="2895480"/>
            <a:ext cx="18954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474840" y="3809880"/>
            <a:ext cx="187776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 de  Manga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474840" y="5105520"/>
            <a:ext cx="1895400" cy="442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 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3323520" y="304920"/>
            <a:ext cx="246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triz de valo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5715000" y="2362320"/>
            <a:ext cx="1371600" cy="41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5335560" y="2249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2448000" y="2365200"/>
            <a:ext cx="10746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3962520" y="236232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3582360" y="232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74840" y="2362320"/>
            <a:ext cx="18954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istado de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Ámbito geo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apeles e inter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mapa_g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819520"/>
            <a:ext cx="38098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294920" y="1066680"/>
            <a:ext cx="66978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208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133720" y="210672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OVIL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4290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707000" y="2104920"/>
            <a:ext cx="1312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95880" y="2106720"/>
            <a:ext cx="224316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8208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133720" y="281772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4290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707000" y="2816280"/>
            <a:ext cx="131292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6095880" y="2817720"/>
            <a:ext cx="224316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8208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2133720" y="3527280"/>
            <a:ext cx="119844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4290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4707000" y="3525840"/>
            <a:ext cx="131292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095880" y="3527280"/>
            <a:ext cx="224316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8208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2133720" y="426708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34290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707000" y="4265640"/>
            <a:ext cx="131292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095880" y="4267080"/>
            <a:ext cx="224316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4727880" y="228456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6666120" y="2305080"/>
            <a:ext cx="1174320" cy="261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5922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905120" y="137160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2004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478400" y="1370160"/>
            <a:ext cx="131292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5867280" y="1371600"/>
            <a:ext cx="2725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22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ercia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1905120" y="3962520"/>
            <a:ext cx="119844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ximizar ven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 base en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yor afluenc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clie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2004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478400" y="3960720"/>
            <a:ext cx="131292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un Comerci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osteni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5867280" y="3962520"/>
            <a:ext cx="272592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mpañas de inculquen la “Valorización del Centro para el Comercio Turístic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enda más en un espacio limpi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uniones y talleres para ambientación d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olucrar a la Cámara de Comercio, promotora del desarrollo lo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499280" y="154944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6435360" y="1557360"/>
            <a:ext cx="1265760" cy="276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09480" y="2209680"/>
            <a:ext cx="119880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922400" y="2211480"/>
            <a:ext cx="119880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frutar un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gradable y sin contamin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18040" y="2209680"/>
            <a:ext cx="119844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4495680" y="2209680"/>
            <a:ext cx="131292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de su propio espa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yo a iniciativas que enriquezcan su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rtes a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5884920" y="2211480"/>
            <a:ext cx="272556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nerar y desarrollar apropi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ver y generar el Comité de Residentes para apoyar el proyecto, participar en la cogestión y asegurar la sostenibilida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295280" y="457200"/>
            <a:ext cx="66978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asos para análisis y gestión de rel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Mapa de re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ticip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Object 4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ject 2052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514600" cy="1928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a la participación de la comunidad e intervención de los involuc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 participativas.  Desarrollo de Pertenencia y de Pertin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s 2 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álisis de Cas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2" descr="SYMSN493"/>
          <p:cNvPicPr/>
          <p:nvPr/>
        </p:nvPicPr>
        <p:blipFill>
          <a:blip r:embed="rId1"/>
          <a:stretch/>
        </p:blipFill>
        <p:spPr>
          <a:xfrm>
            <a:off x="3886200" y="685800"/>
            <a:ext cx="13716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457200"/>
            <a:ext cx="830592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SO: COMUNIDAD Y SERVICIOS DE SALUD</a:t>
            </a:r>
            <a:r>
              <a:rPr b="0" lang="es-ES_tradnl" sz="1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organización de vecinos trató de establecer una sociedad con los hospitales locales para mejorar el cuidado de la salud. Se actualizaron los perfiles epidemiológicos, se definieron las demandas y se aseguró la capacidad para la prestación adecuada de los servicios de salu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se procuraba la mejor prestación de las atenciones, la demanda aumentaba. El servicio se congestionaba y aumentaban los costos globales. Los hospitales solicitaban más recursos para aumentar su capacidad de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é hacer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s opiniones se dividieron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os exigían introducir medidas de racionaliz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sugerían modificar las bases de costeo, de manera que se cobrara proporcionalmente más al usuario por cada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opinaban que la sostenibilidad del sistema dependía de un aumento en el valor de la capitación, o sea pagar más por persona asegurada para poder cubrir los mayores costos de las aten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e sugeriría usted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4975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56484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56674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" sz="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[1]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Caso adaptado por Héctor Sanín Angel ©, con base en un caso citado por D.Osborne y T. Gaebler</a:t>
            </a:r>
            <a:r>
              <a:rPr b="0" lang="es-ES_tradnl" sz="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LA REINVENCIÓN DEL GOBIERNO - La influencia del espíritu empresarial en el sector público</a:t>
            </a:r>
            <a:r>
              <a:rPr b="0" lang="es-ES_tradnl" sz="900" spc="-1" strike="noStrike">
                <a:solidFill>
                  <a:srgbClr val="ffffff"/>
                </a:solidFill>
                <a:latin typeface="Arial"/>
                <a:ea typeface="Arial"/>
              </a:rPr>
              <a:t>. Paidós, 1994.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6" descr="PRFMD005"/>
          <p:cNvPicPr/>
          <p:nvPr/>
        </p:nvPicPr>
        <p:blipFill>
          <a:blip r:embed="rId1"/>
          <a:stretch/>
        </p:blipFill>
        <p:spPr>
          <a:xfrm>
            <a:off x="7467480" y="441324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S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Examen de posibles solu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Object 23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404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395280" y="90792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: COMUNIDAD Y SERVICIOS DE SALUD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de vecinos comenzó poco a poco a preocuparse no ya por más servicio, sino, en cambio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or la causa primera por la cual su gente iba al hosp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inco principales causas identificadas eran responsables por el 78% de las atencion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deduras de perro.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ism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caseros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olencia interpersonal       14%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automovilísticos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2" descr="AN00088_"/>
          <p:cNvPicPr/>
          <p:nvPr/>
        </p:nvPicPr>
        <p:blipFill>
          <a:blip r:embed="rId1"/>
          <a:stretch/>
        </p:blipFill>
        <p:spPr>
          <a:xfrm>
            <a:off x="6948360" y="4508640"/>
            <a:ext cx="1897200" cy="1904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3" descr="BD20081_"/>
          <p:cNvPicPr/>
          <p:nvPr/>
        </p:nvPicPr>
        <p:blipFill>
          <a:blip r:embed="rId2"/>
          <a:stretch/>
        </p:blipFill>
        <p:spPr>
          <a:xfrm>
            <a:off x="250920" y="115920"/>
            <a:ext cx="167616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La autoridad municipal estaba preocupada por la congestión del tránsito en el centro histórico de Cartagena de Ind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¿Por dó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7175_"/>
          <p:cNvPicPr/>
          <p:nvPr/>
        </p:nvPicPr>
        <p:blipFill>
          <a:blip r:embed="rId1"/>
          <a:stretch/>
        </p:blipFill>
        <p:spPr>
          <a:xfrm>
            <a:off x="4800600" y="3733920"/>
            <a:ext cx="3745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99"/>
                </a:solidFill>
                <a:latin typeface="Comic Sans MS"/>
              </a:rPr>
              <a:t>PERT  NENCIA</a:t>
            </a: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261240" y="32004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150720" y="411480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99600" y="293760"/>
            <a:ext cx="68878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proyectos desarrollados y ejecu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los involucrados asegura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a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n referencia a la situación-problema analizada por el grupo de trabajo, haga el análisis de involucrados y diseñe una estrategia para gestionar las relaciones y para aplicar una estrategia participativa en el ciclo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Object 23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633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álisis del entorno, área de influencia y sistema (red)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sistema de atención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(Red de Servicios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Análisis de ca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1523880" y="1752480"/>
            <a:ext cx="5562720" cy="487692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3494" h="2820">
                <a:moveTo>
                  <a:pt x="1874" y="2748"/>
                </a:moveTo>
                <a:cubicBezTo>
                  <a:pt x="1874" y="2744"/>
                  <a:pt x="1863" y="2545"/>
                  <a:pt x="1838" y="2520"/>
                </a:cubicBezTo>
                <a:cubicBezTo>
                  <a:pt x="1768" y="2450"/>
                  <a:pt x="1550" y="2448"/>
                  <a:pt x="1550" y="2448"/>
                </a:cubicBezTo>
                <a:cubicBezTo>
                  <a:pt x="1488" y="2407"/>
                  <a:pt x="1476" y="2405"/>
                  <a:pt x="1430" y="2352"/>
                </a:cubicBezTo>
                <a:cubicBezTo>
                  <a:pt x="1421" y="2341"/>
                  <a:pt x="1419" y="2323"/>
                  <a:pt x="1406" y="2316"/>
                </a:cubicBezTo>
                <a:cubicBezTo>
                  <a:pt x="1388" y="2306"/>
                  <a:pt x="1366" y="2305"/>
                  <a:pt x="1346" y="2304"/>
                </a:cubicBezTo>
                <a:cubicBezTo>
                  <a:pt x="1218" y="2297"/>
                  <a:pt x="1090" y="2296"/>
                  <a:pt x="962" y="2292"/>
                </a:cubicBezTo>
                <a:cubicBezTo>
                  <a:pt x="954" y="1991"/>
                  <a:pt x="1083" y="1803"/>
                  <a:pt x="818" y="1776"/>
                </a:cubicBezTo>
                <a:cubicBezTo>
                  <a:pt x="742" y="1768"/>
                  <a:pt x="666" y="1768"/>
                  <a:pt x="590" y="1764"/>
                </a:cubicBezTo>
                <a:cubicBezTo>
                  <a:pt x="572" y="1711"/>
                  <a:pt x="536" y="1673"/>
                  <a:pt x="518" y="1620"/>
                </a:cubicBezTo>
                <a:cubicBezTo>
                  <a:pt x="514" y="1564"/>
                  <a:pt x="514" y="1508"/>
                  <a:pt x="506" y="1452"/>
                </a:cubicBezTo>
                <a:cubicBezTo>
                  <a:pt x="502" y="1423"/>
                  <a:pt x="504" y="1387"/>
                  <a:pt x="482" y="1368"/>
                </a:cubicBezTo>
                <a:cubicBezTo>
                  <a:pt x="457" y="1346"/>
                  <a:pt x="418" y="1352"/>
                  <a:pt x="386" y="1344"/>
                </a:cubicBezTo>
                <a:cubicBezTo>
                  <a:pt x="318" y="1299"/>
                  <a:pt x="350" y="1271"/>
                  <a:pt x="326" y="1200"/>
                </a:cubicBezTo>
                <a:cubicBezTo>
                  <a:pt x="325" y="1195"/>
                  <a:pt x="319" y="1051"/>
                  <a:pt x="290" y="1032"/>
                </a:cubicBezTo>
                <a:cubicBezTo>
                  <a:pt x="256" y="1009"/>
                  <a:pt x="89" y="980"/>
                  <a:pt x="50" y="972"/>
                </a:cubicBezTo>
                <a:cubicBezTo>
                  <a:pt x="38" y="964"/>
                  <a:pt x="16" y="962"/>
                  <a:pt x="14" y="948"/>
                </a:cubicBezTo>
                <a:cubicBezTo>
                  <a:pt x="0" y="840"/>
                  <a:pt x="11" y="748"/>
                  <a:pt x="122" y="720"/>
                </a:cubicBezTo>
                <a:cubicBezTo>
                  <a:pt x="161" y="710"/>
                  <a:pt x="202" y="712"/>
                  <a:pt x="242" y="708"/>
                </a:cubicBezTo>
                <a:cubicBezTo>
                  <a:pt x="346" y="656"/>
                  <a:pt x="238" y="716"/>
                  <a:pt x="326" y="648"/>
                </a:cubicBezTo>
                <a:cubicBezTo>
                  <a:pt x="349" y="630"/>
                  <a:pt x="398" y="600"/>
                  <a:pt x="398" y="600"/>
                </a:cubicBezTo>
                <a:cubicBezTo>
                  <a:pt x="431" y="545"/>
                  <a:pt x="475" y="494"/>
                  <a:pt x="494" y="432"/>
                </a:cubicBezTo>
                <a:cubicBezTo>
                  <a:pt x="516" y="358"/>
                  <a:pt x="506" y="278"/>
                  <a:pt x="602" y="252"/>
                </a:cubicBezTo>
                <a:cubicBezTo>
                  <a:pt x="641" y="242"/>
                  <a:pt x="682" y="244"/>
                  <a:pt x="722" y="240"/>
                </a:cubicBezTo>
                <a:cubicBezTo>
                  <a:pt x="770" y="236"/>
                  <a:pt x="818" y="232"/>
                  <a:pt x="866" y="228"/>
                </a:cubicBezTo>
                <a:cubicBezTo>
                  <a:pt x="910" y="217"/>
                  <a:pt x="954" y="203"/>
                  <a:pt x="998" y="192"/>
                </a:cubicBezTo>
                <a:cubicBezTo>
                  <a:pt x="1079" y="84"/>
                  <a:pt x="1037" y="118"/>
                  <a:pt x="1106" y="72"/>
                </a:cubicBezTo>
                <a:cubicBezTo>
                  <a:pt x="1353" y="79"/>
                  <a:pt x="1806" y="99"/>
                  <a:pt x="2042" y="72"/>
                </a:cubicBezTo>
                <a:cubicBezTo>
                  <a:pt x="2060" y="70"/>
                  <a:pt x="2053" y="37"/>
                  <a:pt x="2066" y="24"/>
                </a:cubicBezTo>
                <a:cubicBezTo>
                  <a:pt x="2079" y="11"/>
                  <a:pt x="2098" y="8"/>
                  <a:pt x="2114" y="0"/>
                </a:cubicBezTo>
                <a:cubicBezTo>
                  <a:pt x="2278" y="4"/>
                  <a:pt x="2442" y="5"/>
                  <a:pt x="2606" y="12"/>
                </a:cubicBezTo>
                <a:cubicBezTo>
                  <a:pt x="2626" y="13"/>
                  <a:pt x="2656" y="6"/>
                  <a:pt x="2666" y="24"/>
                </a:cubicBezTo>
                <a:cubicBezTo>
                  <a:pt x="2685" y="59"/>
                  <a:pt x="2665" y="106"/>
                  <a:pt x="2678" y="144"/>
                </a:cubicBezTo>
                <a:cubicBezTo>
                  <a:pt x="2695" y="196"/>
                  <a:pt x="2781" y="181"/>
                  <a:pt x="2834" y="192"/>
                </a:cubicBezTo>
                <a:cubicBezTo>
                  <a:pt x="2925" y="238"/>
                  <a:pt x="2848" y="206"/>
                  <a:pt x="3002" y="228"/>
                </a:cubicBezTo>
                <a:cubicBezTo>
                  <a:pt x="3071" y="238"/>
                  <a:pt x="3137" y="262"/>
                  <a:pt x="3194" y="300"/>
                </a:cubicBezTo>
                <a:cubicBezTo>
                  <a:pt x="3277" y="425"/>
                  <a:pt x="3206" y="305"/>
                  <a:pt x="3230" y="648"/>
                </a:cubicBezTo>
                <a:cubicBezTo>
                  <a:pt x="3232" y="683"/>
                  <a:pt x="3251" y="690"/>
                  <a:pt x="3266" y="720"/>
                </a:cubicBezTo>
                <a:cubicBezTo>
                  <a:pt x="3287" y="761"/>
                  <a:pt x="3303" y="807"/>
                  <a:pt x="3314" y="852"/>
                </a:cubicBezTo>
                <a:cubicBezTo>
                  <a:pt x="3322" y="1092"/>
                  <a:pt x="3301" y="1335"/>
                  <a:pt x="3338" y="1572"/>
                </a:cubicBezTo>
                <a:cubicBezTo>
                  <a:pt x="3344" y="1607"/>
                  <a:pt x="3402" y="1604"/>
                  <a:pt x="3434" y="1620"/>
                </a:cubicBezTo>
                <a:cubicBezTo>
                  <a:pt x="3466" y="1636"/>
                  <a:pt x="3480" y="1675"/>
                  <a:pt x="3494" y="1704"/>
                </a:cubicBezTo>
                <a:cubicBezTo>
                  <a:pt x="3486" y="1792"/>
                  <a:pt x="3489" y="1882"/>
                  <a:pt x="3470" y="1968"/>
                </a:cubicBezTo>
                <a:cubicBezTo>
                  <a:pt x="3437" y="2121"/>
                  <a:pt x="3210" y="2137"/>
                  <a:pt x="3098" y="2148"/>
                </a:cubicBezTo>
                <a:cubicBezTo>
                  <a:pt x="3050" y="2160"/>
                  <a:pt x="3019" y="2169"/>
                  <a:pt x="2978" y="2196"/>
                </a:cubicBezTo>
                <a:cubicBezTo>
                  <a:pt x="2940" y="2311"/>
                  <a:pt x="2956" y="2427"/>
                  <a:pt x="2930" y="2544"/>
                </a:cubicBezTo>
                <a:cubicBezTo>
                  <a:pt x="2925" y="2568"/>
                  <a:pt x="2928" y="2594"/>
                  <a:pt x="2918" y="2616"/>
                </a:cubicBezTo>
                <a:cubicBezTo>
                  <a:pt x="2905" y="2646"/>
                  <a:pt x="2868" y="2656"/>
                  <a:pt x="2846" y="2676"/>
                </a:cubicBezTo>
                <a:cubicBezTo>
                  <a:pt x="2821" y="2699"/>
                  <a:pt x="2806" y="2737"/>
                  <a:pt x="2774" y="2748"/>
                </a:cubicBezTo>
                <a:cubicBezTo>
                  <a:pt x="2700" y="2773"/>
                  <a:pt x="2635" y="2795"/>
                  <a:pt x="2558" y="2808"/>
                </a:cubicBezTo>
                <a:cubicBezTo>
                  <a:pt x="2404" y="2782"/>
                  <a:pt x="2236" y="2747"/>
                  <a:pt x="2090" y="2820"/>
                </a:cubicBezTo>
                <a:cubicBezTo>
                  <a:pt x="2050" y="2816"/>
                  <a:pt x="2010" y="2814"/>
                  <a:pt x="1970" y="2808"/>
                </a:cubicBezTo>
                <a:cubicBezTo>
                  <a:pt x="1957" y="2806"/>
                  <a:pt x="1942" y="2806"/>
                  <a:pt x="1934" y="2796"/>
                </a:cubicBezTo>
                <a:cubicBezTo>
                  <a:pt x="1883" y="2732"/>
                  <a:pt x="1972" y="2748"/>
                  <a:pt x="1874" y="2748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4" descr="SYMSN718"/>
          <p:cNvPicPr/>
          <p:nvPr/>
        </p:nvPicPr>
        <p:blipFill>
          <a:blip r:embed="rId1"/>
          <a:stretch/>
        </p:blipFill>
        <p:spPr>
          <a:xfrm>
            <a:off x="5257800" y="4876920"/>
            <a:ext cx="852480" cy="82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BLDHM052"/>
          <p:cNvPicPr/>
          <p:nvPr/>
        </p:nvPicPr>
        <p:blipFill>
          <a:blip r:embed="rId2"/>
          <a:stretch/>
        </p:blipFill>
        <p:spPr>
          <a:xfrm flipH="1">
            <a:off x="4723920" y="18288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Oval 6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648320" y="5257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105520" y="2819520"/>
            <a:ext cx="457200" cy="457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9"/>
          <p:cNvSpPr/>
          <p:nvPr/>
        </p:nvSpPr>
        <p:spPr>
          <a:xfrm>
            <a:off x="3701880" y="3086280"/>
            <a:ext cx="1403640" cy="1028520"/>
          </a:xfrm>
          <a:custGeom>
            <a:avLst/>
            <a:gdLst>
              <a:gd name="textAreaLeft" fmla="*/ 0 w 1403640"/>
              <a:gd name="textAreaRight" fmla="*/ 1404000 w 140364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84" h="648">
                <a:moveTo>
                  <a:pt x="8" y="648"/>
                </a:moveTo>
                <a:cubicBezTo>
                  <a:pt x="16" y="535"/>
                  <a:pt x="0" y="403"/>
                  <a:pt x="128" y="360"/>
                </a:cubicBezTo>
                <a:cubicBezTo>
                  <a:pt x="188" y="380"/>
                  <a:pt x="160" y="360"/>
                  <a:pt x="188" y="444"/>
                </a:cubicBezTo>
                <a:cubicBezTo>
                  <a:pt x="207" y="502"/>
                  <a:pt x="264" y="545"/>
                  <a:pt x="320" y="564"/>
                </a:cubicBezTo>
                <a:cubicBezTo>
                  <a:pt x="344" y="560"/>
                  <a:pt x="371" y="564"/>
                  <a:pt x="392" y="552"/>
                </a:cubicBezTo>
                <a:cubicBezTo>
                  <a:pt x="403" y="546"/>
                  <a:pt x="403" y="529"/>
                  <a:pt x="404" y="516"/>
                </a:cubicBezTo>
                <a:cubicBezTo>
                  <a:pt x="427" y="176"/>
                  <a:pt x="312" y="227"/>
                  <a:pt x="452" y="180"/>
                </a:cubicBezTo>
                <a:cubicBezTo>
                  <a:pt x="476" y="184"/>
                  <a:pt x="501" y="184"/>
                  <a:pt x="524" y="192"/>
                </a:cubicBezTo>
                <a:cubicBezTo>
                  <a:pt x="571" y="208"/>
                  <a:pt x="588" y="256"/>
                  <a:pt x="620" y="288"/>
                </a:cubicBezTo>
                <a:cubicBezTo>
                  <a:pt x="648" y="316"/>
                  <a:pt x="667" y="315"/>
                  <a:pt x="704" y="324"/>
                </a:cubicBezTo>
                <a:cubicBezTo>
                  <a:pt x="802" y="310"/>
                  <a:pt x="796" y="325"/>
                  <a:pt x="824" y="240"/>
                </a:cubicBezTo>
                <a:cubicBezTo>
                  <a:pt x="828" y="176"/>
                  <a:pt x="829" y="112"/>
                  <a:pt x="836" y="48"/>
                </a:cubicBezTo>
                <a:cubicBezTo>
                  <a:pt x="837" y="35"/>
                  <a:pt x="839" y="21"/>
                  <a:pt x="848" y="12"/>
                </a:cubicBezTo>
                <a:cubicBezTo>
                  <a:pt x="857" y="3"/>
                  <a:pt x="884" y="0"/>
                  <a:pt x="88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10"/>
          <p:cNvSpPr/>
          <p:nvPr/>
        </p:nvSpPr>
        <p:spPr>
          <a:xfrm>
            <a:off x="3772080" y="4381560"/>
            <a:ext cx="914400" cy="957240"/>
          </a:xfrm>
          <a:custGeom>
            <a:avLst/>
            <a:gdLst>
              <a:gd name="textAreaLeft" fmla="*/ 0 w 914400"/>
              <a:gd name="textAreaRight" fmla="*/ 914760 w 9144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576" h="603">
                <a:moveTo>
                  <a:pt x="0" y="0"/>
                </a:moveTo>
                <a:cubicBezTo>
                  <a:pt x="7" y="22"/>
                  <a:pt x="21" y="69"/>
                  <a:pt x="36" y="84"/>
                </a:cubicBezTo>
                <a:cubicBezTo>
                  <a:pt x="56" y="104"/>
                  <a:pt x="84" y="116"/>
                  <a:pt x="108" y="132"/>
                </a:cubicBezTo>
                <a:cubicBezTo>
                  <a:pt x="120" y="140"/>
                  <a:pt x="134" y="146"/>
                  <a:pt x="144" y="156"/>
                </a:cubicBezTo>
                <a:cubicBezTo>
                  <a:pt x="195" y="207"/>
                  <a:pt x="245" y="253"/>
                  <a:pt x="300" y="300"/>
                </a:cubicBezTo>
                <a:cubicBezTo>
                  <a:pt x="348" y="341"/>
                  <a:pt x="400" y="376"/>
                  <a:pt x="432" y="432"/>
                </a:cubicBezTo>
                <a:cubicBezTo>
                  <a:pt x="460" y="481"/>
                  <a:pt x="491" y="520"/>
                  <a:pt x="528" y="564"/>
                </a:cubicBezTo>
                <a:cubicBezTo>
                  <a:pt x="561" y="603"/>
                  <a:pt x="548" y="600"/>
                  <a:pt x="576" y="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5182560" y="3276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 Esperan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2896560" y="20574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1981800" y="32004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mino en mal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3886920" y="4038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llanue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033720" y="5295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s Guadu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4192200" y="57150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u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Optimización de la situación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posible aplazar una SOLUCIÓN DURA (estable y de mayor inversión), mediante la Optimización de la Situación Actual, con una alternativa a corto plazo, de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congestionamiento de la ví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racionalización del consulto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. Notas de clases H. Saní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es grupos de involcucrados, tres posiciones distin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Comerc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Tur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Mo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6670_"/>
          <p:cNvPicPr/>
          <p:nvPr/>
        </p:nvPicPr>
        <p:blipFill>
          <a:blip r:embed="rId1"/>
          <a:stretch/>
        </p:blipFill>
        <p:spPr>
          <a:xfrm>
            <a:off x="5334120" y="2666880"/>
            <a:ext cx="280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so Cartagena de In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477120" y="1295280"/>
            <a:ext cx="1828800" cy="1295640"/>
          </a:xfrm>
          <a:prstGeom prst="wedgeEllipseCallout">
            <a:avLst>
              <a:gd name="adj1" fmla="val -162759"/>
              <a:gd name="adj2" fmla="val 16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28600" y="1447920"/>
            <a:ext cx="2666880" cy="990360"/>
          </a:xfrm>
          <a:prstGeom prst="wedgeEllipseCallout">
            <a:avLst>
              <a:gd name="adj1" fmla="val 82620"/>
              <a:gd name="adj2" fmla="val 29262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o aledañ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legios y 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iudadan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8"/>
          <p:cNvSpPr/>
          <p:nvPr/>
        </p:nvSpPr>
        <p:spPr>
          <a:xfrm rot="737400">
            <a:off x="6019560" y="3505320"/>
            <a:ext cx="1753920" cy="1514520"/>
          </a:xfrm>
          <a:prstGeom prst="leftArrowCallout">
            <a:avLst>
              <a:gd name="adj1" fmla="val 25002"/>
              <a:gd name="adj2" fmla="val 25000"/>
              <a:gd name="adj3" fmla="val 19301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inancier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errito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1981080" y="37339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2209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cretarí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 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27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>
            <a:off x="1371600" y="19051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3"/>
          <p:cNvSpPr/>
          <p:nvPr/>
        </p:nvSpPr>
        <p:spPr>
          <a:xfrm>
            <a:off x="5715000" y="35053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4"/>
          <p:cNvSpPr/>
          <p:nvPr/>
        </p:nvSpPr>
        <p:spPr>
          <a:xfrm>
            <a:off x="4724280" y="129528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5"/>
          <p:cNvSpPr/>
          <p:nvPr/>
        </p:nvSpPr>
        <p:spPr>
          <a:xfrm>
            <a:off x="6629400" y="4724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666880" y="41911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7"/>
          <p:cNvSpPr/>
          <p:nvPr/>
        </p:nvSpPr>
        <p:spPr>
          <a:xfrm>
            <a:off x="5181480" y="45720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8"/>
          <p:cNvSpPr/>
          <p:nvPr/>
        </p:nvSpPr>
        <p:spPr>
          <a:xfrm>
            <a:off x="2743200" y="28954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1911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6553080" y="14479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4114800" y="37339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2895480" y="1600200"/>
            <a:ext cx="1096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55627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7086600" y="297180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1523880" y="48006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1371600" y="33526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3733920" y="4876920"/>
            <a:ext cx="11430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 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2682000" y="6094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isibilizar los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4800600" y="1752480"/>
            <a:ext cx="10666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3"/>
          <p:cNvSpPr/>
          <p:nvPr/>
        </p:nvSpPr>
        <p:spPr>
          <a:xfrm>
            <a:off x="6553080" y="1523880"/>
            <a:ext cx="10670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343400" y="5335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5"/>
          <p:cNvSpPr/>
          <p:nvPr/>
        </p:nvSpPr>
        <p:spPr>
          <a:xfrm rot="584400">
            <a:off x="5943240" y="495288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762120" y="403848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7"/>
          <p:cNvSpPr/>
          <p:nvPr/>
        </p:nvSpPr>
        <p:spPr>
          <a:xfrm rot="584400">
            <a:off x="4876560" y="533412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762120" y="2666880"/>
            <a:ext cx="1155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3200400" y="7621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10"/>
          <p:cNvSpPr/>
          <p:nvPr/>
        </p:nvSpPr>
        <p:spPr>
          <a:xfrm rot="584400">
            <a:off x="7695720" y="3733920"/>
            <a:ext cx="10670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5562720" y="9907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y análisis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057400" y="1066680"/>
            <a:ext cx="109692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676520" y="487692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15"/>
          <p:cNvSpPr/>
          <p:nvPr/>
        </p:nvSpPr>
        <p:spPr>
          <a:xfrm rot="584400">
            <a:off x="6857640" y="434340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162920" y="23623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1143000" y="1752480"/>
            <a:ext cx="115560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18"/>
          <p:cNvSpPr/>
          <p:nvPr/>
        </p:nvSpPr>
        <p:spPr>
          <a:xfrm rot="19922400">
            <a:off x="4641840" y="3962520"/>
            <a:ext cx="4502160" cy="2073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19"/>
          <p:cNvSpPr/>
          <p:nvPr/>
        </p:nvSpPr>
        <p:spPr>
          <a:xfrm rot="19925400">
            <a:off x="329760" y="748800"/>
            <a:ext cx="5518080" cy="2581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20"/>
          <p:cNvSpPr/>
          <p:nvPr/>
        </p:nvSpPr>
        <p:spPr>
          <a:xfrm rot="2131800">
            <a:off x="5236920" y="1289160"/>
            <a:ext cx="34495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Oval 21"/>
          <p:cNvSpPr/>
          <p:nvPr/>
        </p:nvSpPr>
        <p:spPr>
          <a:xfrm>
            <a:off x="2895480" y="5181480"/>
            <a:ext cx="121932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3657600" y="3124080"/>
            <a:ext cx="198108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Gerencia de Proyec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Gerencias de Compon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23"/>
          <p:cNvSpPr/>
          <p:nvPr/>
        </p:nvSpPr>
        <p:spPr>
          <a:xfrm rot="19656000">
            <a:off x="3581280" y="2971440"/>
            <a:ext cx="5335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24"/>
          <p:cNvSpPr/>
          <p:nvPr/>
        </p:nvSpPr>
        <p:spPr>
          <a:xfrm rot="2794800">
            <a:off x="5220000" y="2933640"/>
            <a:ext cx="53316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25"/>
          <p:cNvSpPr/>
          <p:nvPr/>
        </p:nvSpPr>
        <p:spPr>
          <a:xfrm rot="18885000">
            <a:off x="5295960" y="4076280"/>
            <a:ext cx="5331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26"/>
          <p:cNvSpPr/>
          <p:nvPr/>
        </p:nvSpPr>
        <p:spPr>
          <a:xfrm rot="2605200">
            <a:off x="3352680" y="4190760"/>
            <a:ext cx="53352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27"/>
          <p:cNvSpPr/>
          <p:nvPr/>
        </p:nvSpPr>
        <p:spPr>
          <a:xfrm rot="1412400">
            <a:off x="450360" y="4221000"/>
            <a:ext cx="396252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pos de Involuc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477120" y="1600200"/>
            <a:ext cx="1447560" cy="990720"/>
          </a:xfrm>
          <a:prstGeom prst="wedgeEllipseCallout">
            <a:avLst>
              <a:gd name="adj1" fmla="val -192435"/>
              <a:gd name="adj2" fmla="val 2068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fect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r 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838080" y="1447920"/>
            <a:ext cx="1447920" cy="1143000"/>
          </a:xfrm>
          <a:prstGeom prst="wedgeEllipseCallout">
            <a:avLst>
              <a:gd name="adj1" fmla="val 153398"/>
              <a:gd name="adj2" fmla="val 24763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 mueven en el entorno 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18"/>
          <p:cNvSpPr/>
          <p:nvPr/>
        </p:nvSpPr>
        <p:spPr>
          <a:xfrm rot="737400">
            <a:off x="6016320" y="3571560"/>
            <a:ext cx="1754280" cy="1371600"/>
          </a:xfrm>
          <a:prstGeom prst="leftArrowCallout">
            <a:avLst>
              <a:gd name="adj1" fmla="val 25002"/>
              <a:gd name="adj2" fmla="val 25000"/>
              <a:gd name="adj3" fmla="val 21317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20"/>
          <p:cNvSpPr/>
          <p:nvPr/>
        </p:nvSpPr>
        <p:spPr>
          <a:xfrm>
            <a:off x="533520" y="4724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23"/>
          <p:cNvSpPr/>
          <p:nvPr/>
        </p:nvSpPr>
        <p:spPr>
          <a:xfrm>
            <a:off x="990720" y="3505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32200" y="480060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66680" y="14619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24360" y="1461960"/>
            <a:ext cx="17229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066680" y="19954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5290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66680" y="30621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66680" y="35956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066680" y="41292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990440" y="20574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992240" y="259092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990440" y="312408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990440" y="36576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977840" y="420516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522600" y="14479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991680" y="144792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522600" y="19810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3522600" y="25146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522600" y="30481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522600" y="35812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3522600" y="41148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4446360" y="20430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447800" y="25765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4446360" y="31100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446360" y="36432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433760" y="4191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5961240" y="1447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6197040" y="144792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5961240" y="19810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5961240" y="25146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5961240" y="30481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5961240" y="35812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5961240" y="41148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6833520" y="204300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6835320" y="25765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884640" y="311004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7"/>
          <p:cNvSpPr/>
          <p:nvPr/>
        </p:nvSpPr>
        <p:spPr>
          <a:xfrm>
            <a:off x="6884640" y="36432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6872040" y="41911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143160" y="20574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143160" y="25909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3143160" y="31240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3143160" y="36576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43"/>
          <p:cNvSpPr/>
          <p:nvPr/>
        </p:nvSpPr>
        <p:spPr>
          <a:xfrm>
            <a:off x="3143160" y="41911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5581800" y="20574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5581800" y="25909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5581800" y="31240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5581800" y="36576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5581800" y="41911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3125520" y="1523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563800" y="152388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2 Valoración de expectativas, fuerzas y resul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0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3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44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45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6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0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51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5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56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7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58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59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1"/>
          <p:cNvSpPr/>
          <p:nvPr/>
        </p:nvSpPr>
        <p:spPr>
          <a:xfrm>
            <a:off x="2056320" y="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de Valoración de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1:42:57Z</dcterms:created>
  <dc:creator>HECTOR SANIN ANGEL</dc:creator>
  <dc:description/>
  <dc:language>en-US</dc:language>
  <cp:lastModifiedBy>lboitano</cp:lastModifiedBy>
  <dcterms:modified xsi:type="dcterms:W3CDTF">2010-07-19T22:44:38Z</dcterms:modified>
  <cp:revision>213</cp:revision>
  <dc:subject/>
  <dc:title>PREPARACION DE LA EJECUCION</dc:title>
</cp:coreProperties>
</file>