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89788" cy="9475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BDEDD-80CC-4F66-BB97-0D6BF856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5E5C8-CD31-47B1-A8C6-592528B4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42BE1-C4BE-4390-9739-EFA26522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86569-1911-40E3-8041-817A5E5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99668-A40C-4513-AF9D-8C9C91BB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EC60B-ED96-4350-A04C-05C0DB57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2AC43-E82F-48F4-B477-9CE4DC13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FD979-1311-4AE3-8376-1AA10B98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A6007-31E3-421B-9EAA-FA7F21EB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34257-3C04-4CD3-9ABC-22A4C352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77451-4CE7-4896-AF2C-B81F573A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DB0F8-AE15-47BE-855F-5EC79B10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División de Planificación, Estudios e Inversión. MIDEP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EXPHORSA"/>
          <p:cNvPicPr/>
          <p:nvPr/>
        </p:nvPicPr>
        <p:blipFill>
          <a:blip r:embed="rId3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0"/>
          <p:cNvSpPr/>
          <p:nvPr/>
        </p:nvSpPr>
        <p:spPr>
          <a:xfrm>
            <a:off x="4952880" y="235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12"/>
          <p:cNvSpPr/>
          <p:nvPr/>
        </p:nvSpPr>
        <p:spPr>
          <a:xfrm>
            <a:off x="665280" y="6553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903C-E385-444A-B5D1-1E7E66DCF4F8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Text Box 14"/>
          <p:cNvSpPr/>
          <p:nvPr/>
        </p:nvSpPr>
        <p:spPr>
          <a:xfrm>
            <a:off x="1600200" y="228600"/>
            <a:ext cx="674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482400"/>
                </a:solidFill>
                <a:latin typeface="Tahoma"/>
              </a:rPr>
              <a:t>Metodología para análisis y solución de proble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" name="Group 15"/>
          <p:cNvGrpSpPr/>
          <p:nvPr/>
        </p:nvGrpSpPr>
        <p:grpSpPr>
          <a:xfrm>
            <a:off x="7772400" y="6019920"/>
            <a:ext cx="1143000" cy="685800"/>
            <a:chOff x="7772400" y="6019920"/>
            <a:chExt cx="1143000" cy="685800"/>
          </a:xfrm>
        </p:grpSpPr>
        <p:grpSp>
          <p:nvGrpSpPr>
            <p:cNvPr id="10" name="Group 16"/>
            <p:cNvGrpSpPr/>
            <p:nvPr/>
          </p:nvGrpSpPr>
          <p:grpSpPr>
            <a:xfrm>
              <a:off x="8126280" y="6606720"/>
              <a:ext cx="456840" cy="99000"/>
              <a:chOff x="8126280" y="6606720"/>
              <a:chExt cx="456840" cy="99000"/>
            </a:xfrm>
          </p:grpSpPr>
          <p:sp>
            <p:nvSpPr>
              <p:cNvPr id="11" name="Freeform 17"/>
              <p:cNvSpPr/>
              <p:nvPr/>
            </p:nvSpPr>
            <p:spPr>
              <a:xfrm>
                <a:off x="8358120" y="6606720"/>
                <a:ext cx="225000" cy="990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977" h="634">
                    <a:moveTo>
                      <a:pt x="84" y="601"/>
                    </a:moveTo>
                    <a:lnTo>
                      <a:pt x="94" y="571"/>
                    </a:lnTo>
                    <a:lnTo>
                      <a:pt x="226" y="626"/>
                    </a:lnTo>
                    <a:lnTo>
                      <a:pt x="116" y="564"/>
                    </a:lnTo>
                    <a:lnTo>
                      <a:pt x="364" y="574"/>
                    </a:lnTo>
                    <a:lnTo>
                      <a:pt x="229" y="531"/>
                    </a:lnTo>
                    <a:lnTo>
                      <a:pt x="445" y="531"/>
                    </a:lnTo>
                    <a:lnTo>
                      <a:pt x="510" y="606"/>
                    </a:lnTo>
                    <a:lnTo>
                      <a:pt x="456" y="531"/>
                    </a:lnTo>
                    <a:lnTo>
                      <a:pt x="667" y="551"/>
                    </a:lnTo>
                    <a:lnTo>
                      <a:pt x="466" y="521"/>
                    </a:lnTo>
                    <a:lnTo>
                      <a:pt x="587" y="504"/>
                    </a:lnTo>
                    <a:lnTo>
                      <a:pt x="752" y="516"/>
                    </a:lnTo>
                    <a:lnTo>
                      <a:pt x="607" y="499"/>
                    </a:lnTo>
                    <a:lnTo>
                      <a:pt x="875" y="470"/>
                    </a:lnTo>
                    <a:lnTo>
                      <a:pt x="715" y="465"/>
                    </a:lnTo>
                    <a:lnTo>
                      <a:pt x="977" y="410"/>
                    </a:lnTo>
                    <a:lnTo>
                      <a:pt x="792" y="435"/>
                    </a:lnTo>
                    <a:lnTo>
                      <a:pt x="967" y="254"/>
                    </a:lnTo>
                    <a:lnTo>
                      <a:pt x="840" y="360"/>
                    </a:lnTo>
                    <a:lnTo>
                      <a:pt x="817" y="229"/>
                    </a:lnTo>
                    <a:lnTo>
                      <a:pt x="820" y="334"/>
                    </a:lnTo>
                    <a:lnTo>
                      <a:pt x="705" y="108"/>
                    </a:lnTo>
                    <a:lnTo>
                      <a:pt x="780" y="284"/>
                    </a:lnTo>
                    <a:lnTo>
                      <a:pt x="745" y="325"/>
                    </a:lnTo>
                    <a:lnTo>
                      <a:pt x="710" y="314"/>
                    </a:lnTo>
                    <a:lnTo>
                      <a:pt x="735" y="224"/>
                    </a:lnTo>
                    <a:lnTo>
                      <a:pt x="700" y="188"/>
                    </a:lnTo>
                    <a:lnTo>
                      <a:pt x="722" y="250"/>
                    </a:lnTo>
                    <a:lnTo>
                      <a:pt x="695" y="305"/>
                    </a:lnTo>
                    <a:lnTo>
                      <a:pt x="660" y="279"/>
                    </a:lnTo>
                    <a:lnTo>
                      <a:pt x="660" y="219"/>
                    </a:lnTo>
                    <a:lnTo>
                      <a:pt x="640" y="120"/>
                    </a:lnTo>
                    <a:lnTo>
                      <a:pt x="645" y="193"/>
                    </a:lnTo>
                    <a:lnTo>
                      <a:pt x="652" y="254"/>
                    </a:lnTo>
                    <a:lnTo>
                      <a:pt x="620" y="280"/>
                    </a:lnTo>
                    <a:lnTo>
                      <a:pt x="590" y="270"/>
                    </a:lnTo>
                    <a:lnTo>
                      <a:pt x="597" y="230"/>
                    </a:lnTo>
                    <a:lnTo>
                      <a:pt x="605" y="188"/>
                    </a:lnTo>
                    <a:lnTo>
                      <a:pt x="647" y="88"/>
                    </a:lnTo>
                    <a:lnTo>
                      <a:pt x="587" y="175"/>
                    </a:lnTo>
                    <a:lnTo>
                      <a:pt x="571" y="230"/>
                    </a:lnTo>
                    <a:lnTo>
                      <a:pt x="561" y="178"/>
                    </a:lnTo>
                    <a:lnTo>
                      <a:pt x="580" y="115"/>
                    </a:lnTo>
                    <a:lnTo>
                      <a:pt x="585" y="63"/>
                    </a:lnTo>
                    <a:lnTo>
                      <a:pt x="566" y="98"/>
                    </a:lnTo>
                    <a:lnTo>
                      <a:pt x="551" y="153"/>
                    </a:lnTo>
                    <a:lnTo>
                      <a:pt x="551" y="199"/>
                    </a:lnTo>
                    <a:lnTo>
                      <a:pt x="540" y="155"/>
                    </a:lnTo>
                    <a:lnTo>
                      <a:pt x="541" y="120"/>
                    </a:lnTo>
                    <a:lnTo>
                      <a:pt x="561" y="80"/>
                    </a:lnTo>
                    <a:lnTo>
                      <a:pt x="536" y="110"/>
                    </a:lnTo>
                    <a:lnTo>
                      <a:pt x="530" y="158"/>
                    </a:lnTo>
                    <a:lnTo>
                      <a:pt x="530" y="190"/>
                    </a:lnTo>
                    <a:lnTo>
                      <a:pt x="510" y="205"/>
                    </a:lnTo>
                    <a:lnTo>
                      <a:pt x="515" y="173"/>
                    </a:lnTo>
                    <a:lnTo>
                      <a:pt x="525" y="128"/>
                    </a:lnTo>
                    <a:lnTo>
                      <a:pt x="520" y="65"/>
                    </a:lnTo>
                    <a:lnTo>
                      <a:pt x="515" y="118"/>
                    </a:lnTo>
                    <a:lnTo>
                      <a:pt x="495" y="168"/>
                    </a:lnTo>
                    <a:lnTo>
                      <a:pt x="471" y="138"/>
                    </a:lnTo>
                    <a:lnTo>
                      <a:pt x="475" y="73"/>
                    </a:lnTo>
                    <a:lnTo>
                      <a:pt x="521" y="0"/>
                    </a:lnTo>
                    <a:lnTo>
                      <a:pt x="471" y="50"/>
                    </a:lnTo>
                    <a:lnTo>
                      <a:pt x="451" y="113"/>
                    </a:lnTo>
                    <a:lnTo>
                      <a:pt x="440" y="168"/>
                    </a:lnTo>
                    <a:lnTo>
                      <a:pt x="436" y="93"/>
                    </a:lnTo>
                    <a:lnTo>
                      <a:pt x="480" y="0"/>
                    </a:lnTo>
                    <a:lnTo>
                      <a:pt x="436" y="60"/>
                    </a:lnTo>
                    <a:lnTo>
                      <a:pt x="386" y="120"/>
                    </a:lnTo>
                    <a:lnTo>
                      <a:pt x="0" y="120"/>
                    </a:lnTo>
                    <a:lnTo>
                      <a:pt x="29" y="531"/>
                    </a:lnTo>
                    <a:lnTo>
                      <a:pt x="0" y="634"/>
                    </a:lnTo>
                    <a:lnTo>
                      <a:pt x="51" y="529"/>
                    </a:lnTo>
                    <a:lnTo>
                      <a:pt x="84" y="601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8"/>
              <p:cNvSpPr/>
              <p:nvPr/>
            </p:nvSpPr>
            <p:spPr>
              <a:xfrm>
                <a:off x="8126280" y="6624720"/>
                <a:ext cx="248760" cy="774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082" h="495">
                    <a:moveTo>
                      <a:pt x="990" y="470"/>
                    </a:moveTo>
                    <a:lnTo>
                      <a:pt x="978" y="447"/>
                    </a:lnTo>
                    <a:lnTo>
                      <a:pt x="833" y="490"/>
                    </a:lnTo>
                    <a:lnTo>
                      <a:pt x="955" y="442"/>
                    </a:lnTo>
                    <a:lnTo>
                      <a:pt x="679" y="449"/>
                    </a:lnTo>
                    <a:lnTo>
                      <a:pt x="830" y="415"/>
                    </a:lnTo>
                    <a:lnTo>
                      <a:pt x="589" y="415"/>
                    </a:lnTo>
                    <a:lnTo>
                      <a:pt x="518" y="474"/>
                    </a:lnTo>
                    <a:lnTo>
                      <a:pt x="578" y="415"/>
                    </a:lnTo>
                    <a:lnTo>
                      <a:pt x="344" y="430"/>
                    </a:lnTo>
                    <a:lnTo>
                      <a:pt x="566" y="407"/>
                    </a:lnTo>
                    <a:lnTo>
                      <a:pt x="432" y="394"/>
                    </a:lnTo>
                    <a:lnTo>
                      <a:pt x="249" y="404"/>
                    </a:lnTo>
                    <a:lnTo>
                      <a:pt x="411" y="390"/>
                    </a:lnTo>
                    <a:lnTo>
                      <a:pt x="112" y="368"/>
                    </a:lnTo>
                    <a:lnTo>
                      <a:pt x="290" y="363"/>
                    </a:lnTo>
                    <a:lnTo>
                      <a:pt x="0" y="320"/>
                    </a:lnTo>
                    <a:lnTo>
                      <a:pt x="205" y="340"/>
                    </a:lnTo>
                    <a:lnTo>
                      <a:pt x="10" y="198"/>
                    </a:lnTo>
                    <a:lnTo>
                      <a:pt x="150" y="282"/>
                    </a:lnTo>
                    <a:lnTo>
                      <a:pt x="177" y="178"/>
                    </a:lnTo>
                    <a:lnTo>
                      <a:pt x="174" y="260"/>
                    </a:lnTo>
                    <a:lnTo>
                      <a:pt x="300" y="83"/>
                    </a:lnTo>
                    <a:lnTo>
                      <a:pt x="217" y="222"/>
                    </a:lnTo>
                    <a:lnTo>
                      <a:pt x="257" y="253"/>
                    </a:lnTo>
                    <a:lnTo>
                      <a:pt x="295" y="245"/>
                    </a:lnTo>
                    <a:lnTo>
                      <a:pt x="267" y="175"/>
                    </a:lnTo>
                    <a:lnTo>
                      <a:pt x="307" y="147"/>
                    </a:lnTo>
                    <a:lnTo>
                      <a:pt x="282" y="195"/>
                    </a:lnTo>
                    <a:lnTo>
                      <a:pt x="312" y="238"/>
                    </a:lnTo>
                    <a:lnTo>
                      <a:pt x="351" y="217"/>
                    </a:lnTo>
                    <a:lnTo>
                      <a:pt x="351" y="170"/>
                    </a:lnTo>
                    <a:lnTo>
                      <a:pt x="374" y="93"/>
                    </a:lnTo>
                    <a:lnTo>
                      <a:pt x="367" y="150"/>
                    </a:lnTo>
                    <a:lnTo>
                      <a:pt x="361" y="198"/>
                    </a:lnTo>
                    <a:lnTo>
                      <a:pt x="396" y="218"/>
                    </a:lnTo>
                    <a:lnTo>
                      <a:pt x="429" y="212"/>
                    </a:lnTo>
                    <a:lnTo>
                      <a:pt x="421" y="180"/>
                    </a:lnTo>
                    <a:lnTo>
                      <a:pt x="412" y="147"/>
                    </a:lnTo>
                    <a:lnTo>
                      <a:pt x="366" y="68"/>
                    </a:lnTo>
                    <a:lnTo>
                      <a:pt x="432" y="137"/>
                    </a:lnTo>
                    <a:lnTo>
                      <a:pt x="449" y="180"/>
                    </a:lnTo>
                    <a:lnTo>
                      <a:pt x="461" y="138"/>
                    </a:lnTo>
                    <a:lnTo>
                      <a:pt x="441" y="90"/>
                    </a:lnTo>
                    <a:lnTo>
                      <a:pt x="434" y="48"/>
                    </a:lnTo>
                    <a:lnTo>
                      <a:pt x="454" y="76"/>
                    </a:lnTo>
                    <a:lnTo>
                      <a:pt x="471" y="120"/>
                    </a:lnTo>
                    <a:lnTo>
                      <a:pt x="471" y="155"/>
                    </a:lnTo>
                    <a:lnTo>
                      <a:pt x="484" y="120"/>
                    </a:lnTo>
                    <a:lnTo>
                      <a:pt x="482" y="93"/>
                    </a:lnTo>
                    <a:lnTo>
                      <a:pt x="461" y="61"/>
                    </a:lnTo>
                    <a:lnTo>
                      <a:pt x="487" y="85"/>
                    </a:lnTo>
                    <a:lnTo>
                      <a:pt x="496" y="123"/>
                    </a:lnTo>
                    <a:lnTo>
                      <a:pt x="496" y="148"/>
                    </a:lnTo>
                    <a:lnTo>
                      <a:pt x="518" y="160"/>
                    </a:lnTo>
                    <a:lnTo>
                      <a:pt x="512" y="135"/>
                    </a:lnTo>
                    <a:lnTo>
                      <a:pt x="501" y="100"/>
                    </a:lnTo>
                    <a:lnTo>
                      <a:pt x="506" y="50"/>
                    </a:lnTo>
                    <a:lnTo>
                      <a:pt x="512" y="92"/>
                    </a:lnTo>
                    <a:lnTo>
                      <a:pt x="534" y="132"/>
                    </a:lnTo>
                    <a:lnTo>
                      <a:pt x="561" y="108"/>
                    </a:lnTo>
                    <a:lnTo>
                      <a:pt x="556" y="56"/>
                    </a:lnTo>
                    <a:lnTo>
                      <a:pt x="504" y="0"/>
                    </a:lnTo>
                    <a:lnTo>
                      <a:pt x="561" y="38"/>
                    </a:lnTo>
                    <a:lnTo>
                      <a:pt x="583" y="88"/>
                    </a:lnTo>
                    <a:lnTo>
                      <a:pt x="596" y="132"/>
                    </a:lnTo>
                    <a:lnTo>
                      <a:pt x="599" y="71"/>
                    </a:lnTo>
                    <a:lnTo>
                      <a:pt x="551" y="0"/>
                    </a:lnTo>
                    <a:lnTo>
                      <a:pt x="599" y="46"/>
                    </a:lnTo>
                    <a:lnTo>
                      <a:pt x="654" y="93"/>
                    </a:lnTo>
                    <a:lnTo>
                      <a:pt x="1082" y="93"/>
                    </a:lnTo>
                    <a:lnTo>
                      <a:pt x="1052" y="415"/>
                    </a:lnTo>
                    <a:lnTo>
                      <a:pt x="1082" y="495"/>
                    </a:lnTo>
                    <a:lnTo>
                      <a:pt x="1027" y="414"/>
                    </a:lnTo>
                    <a:lnTo>
                      <a:pt x="990" y="470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7910640" y="6099840"/>
              <a:ext cx="934560" cy="579600"/>
              <a:chOff x="7910640" y="6099840"/>
              <a:chExt cx="934560" cy="579600"/>
            </a:xfrm>
          </p:grpSpPr>
          <p:sp>
            <p:nvSpPr>
              <p:cNvPr id="14" name="Freeform 20"/>
              <p:cNvSpPr/>
              <p:nvPr/>
            </p:nvSpPr>
            <p:spPr>
              <a:xfrm>
                <a:off x="7910640" y="6099840"/>
                <a:ext cx="934560" cy="579600"/>
              </a:xfrm>
              <a:custGeom>
                <a:avLst/>
                <a:gdLst>
                  <a:gd name="textAreaLeft" fmla="*/ 0 w 934560"/>
                  <a:gd name="textAreaRight" fmla="*/ 934920 w 93456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4063" h="3707">
                    <a:moveTo>
                      <a:pt x="1598" y="2773"/>
                    </a:moveTo>
                    <a:lnTo>
                      <a:pt x="1615" y="2845"/>
                    </a:lnTo>
                    <a:lnTo>
                      <a:pt x="1625" y="2930"/>
                    </a:lnTo>
                    <a:lnTo>
                      <a:pt x="1638" y="3023"/>
                    </a:lnTo>
                    <a:lnTo>
                      <a:pt x="1645" y="3120"/>
                    </a:lnTo>
                    <a:lnTo>
                      <a:pt x="1648" y="3202"/>
                    </a:lnTo>
                    <a:lnTo>
                      <a:pt x="1658" y="3264"/>
                    </a:lnTo>
                    <a:lnTo>
                      <a:pt x="1655" y="3315"/>
                    </a:lnTo>
                    <a:lnTo>
                      <a:pt x="1638" y="3367"/>
                    </a:lnTo>
                    <a:lnTo>
                      <a:pt x="1613" y="3441"/>
                    </a:lnTo>
                    <a:lnTo>
                      <a:pt x="1598" y="3484"/>
                    </a:lnTo>
                    <a:lnTo>
                      <a:pt x="1535" y="3506"/>
                    </a:lnTo>
                    <a:lnTo>
                      <a:pt x="1480" y="3532"/>
                    </a:lnTo>
                    <a:lnTo>
                      <a:pt x="1413" y="3566"/>
                    </a:lnTo>
                    <a:lnTo>
                      <a:pt x="1358" y="3606"/>
                    </a:lnTo>
                    <a:lnTo>
                      <a:pt x="1398" y="3607"/>
                    </a:lnTo>
                    <a:lnTo>
                      <a:pt x="1444" y="3607"/>
                    </a:lnTo>
                    <a:lnTo>
                      <a:pt x="1520" y="3601"/>
                    </a:lnTo>
                    <a:lnTo>
                      <a:pt x="1590" y="3601"/>
                    </a:lnTo>
                    <a:lnTo>
                      <a:pt x="1690" y="3581"/>
                    </a:lnTo>
                    <a:lnTo>
                      <a:pt x="1718" y="3572"/>
                    </a:lnTo>
                    <a:lnTo>
                      <a:pt x="1733" y="3596"/>
                    </a:lnTo>
                    <a:lnTo>
                      <a:pt x="1733" y="3637"/>
                    </a:lnTo>
                    <a:lnTo>
                      <a:pt x="1738" y="3701"/>
                    </a:lnTo>
                    <a:lnTo>
                      <a:pt x="1763" y="3707"/>
                    </a:lnTo>
                    <a:lnTo>
                      <a:pt x="1829" y="3666"/>
                    </a:lnTo>
                    <a:lnTo>
                      <a:pt x="1860" y="3636"/>
                    </a:lnTo>
                    <a:lnTo>
                      <a:pt x="1884" y="3602"/>
                    </a:lnTo>
                    <a:lnTo>
                      <a:pt x="1905" y="3586"/>
                    </a:lnTo>
                    <a:lnTo>
                      <a:pt x="1939" y="3574"/>
                    </a:lnTo>
                    <a:lnTo>
                      <a:pt x="1950" y="3616"/>
                    </a:lnTo>
                    <a:lnTo>
                      <a:pt x="1980" y="3666"/>
                    </a:lnTo>
                    <a:lnTo>
                      <a:pt x="2004" y="3701"/>
                    </a:lnTo>
                    <a:lnTo>
                      <a:pt x="2036" y="3706"/>
                    </a:lnTo>
                    <a:lnTo>
                      <a:pt x="2061" y="3666"/>
                    </a:lnTo>
                    <a:lnTo>
                      <a:pt x="2079" y="3631"/>
                    </a:lnTo>
                    <a:lnTo>
                      <a:pt x="2109" y="3596"/>
                    </a:lnTo>
                    <a:lnTo>
                      <a:pt x="2119" y="3581"/>
                    </a:lnTo>
                    <a:lnTo>
                      <a:pt x="2139" y="3587"/>
                    </a:lnTo>
                    <a:lnTo>
                      <a:pt x="2161" y="3592"/>
                    </a:lnTo>
                    <a:lnTo>
                      <a:pt x="2179" y="3611"/>
                    </a:lnTo>
                    <a:lnTo>
                      <a:pt x="2201" y="3627"/>
                    </a:lnTo>
                    <a:lnTo>
                      <a:pt x="2239" y="3641"/>
                    </a:lnTo>
                    <a:lnTo>
                      <a:pt x="2281" y="3646"/>
                    </a:lnTo>
                    <a:lnTo>
                      <a:pt x="2324" y="3651"/>
                    </a:lnTo>
                    <a:lnTo>
                      <a:pt x="2385" y="3661"/>
                    </a:lnTo>
                    <a:lnTo>
                      <a:pt x="2405" y="3652"/>
                    </a:lnTo>
                    <a:lnTo>
                      <a:pt x="2426" y="3636"/>
                    </a:lnTo>
                    <a:lnTo>
                      <a:pt x="2395" y="3606"/>
                    </a:lnTo>
                    <a:lnTo>
                      <a:pt x="2366" y="3587"/>
                    </a:lnTo>
                    <a:lnTo>
                      <a:pt x="2336" y="3567"/>
                    </a:lnTo>
                    <a:lnTo>
                      <a:pt x="2314" y="3547"/>
                    </a:lnTo>
                    <a:lnTo>
                      <a:pt x="2319" y="3524"/>
                    </a:lnTo>
                    <a:lnTo>
                      <a:pt x="2350" y="3531"/>
                    </a:lnTo>
                    <a:lnTo>
                      <a:pt x="2385" y="3531"/>
                    </a:lnTo>
                    <a:lnTo>
                      <a:pt x="2425" y="3552"/>
                    </a:lnTo>
                    <a:lnTo>
                      <a:pt x="2456" y="3572"/>
                    </a:lnTo>
                    <a:lnTo>
                      <a:pt x="2515" y="3606"/>
                    </a:lnTo>
                    <a:lnTo>
                      <a:pt x="2550" y="3611"/>
                    </a:lnTo>
                    <a:lnTo>
                      <a:pt x="2587" y="3601"/>
                    </a:lnTo>
                    <a:lnTo>
                      <a:pt x="2560" y="3566"/>
                    </a:lnTo>
                    <a:lnTo>
                      <a:pt x="2537" y="3542"/>
                    </a:lnTo>
                    <a:lnTo>
                      <a:pt x="2500" y="3512"/>
                    </a:lnTo>
                    <a:lnTo>
                      <a:pt x="2466" y="3477"/>
                    </a:lnTo>
                    <a:lnTo>
                      <a:pt x="2436" y="3456"/>
                    </a:lnTo>
                    <a:lnTo>
                      <a:pt x="2406" y="3397"/>
                    </a:lnTo>
                    <a:lnTo>
                      <a:pt x="2380" y="3362"/>
                    </a:lnTo>
                    <a:lnTo>
                      <a:pt x="2370" y="3294"/>
                    </a:lnTo>
                    <a:lnTo>
                      <a:pt x="2370" y="3210"/>
                    </a:lnTo>
                    <a:lnTo>
                      <a:pt x="2390" y="3123"/>
                    </a:lnTo>
                    <a:lnTo>
                      <a:pt x="2385" y="3048"/>
                    </a:lnTo>
                    <a:lnTo>
                      <a:pt x="2380" y="2990"/>
                    </a:lnTo>
                    <a:lnTo>
                      <a:pt x="2390" y="2943"/>
                    </a:lnTo>
                    <a:lnTo>
                      <a:pt x="2390" y="2888"/>
                    </a:lnTo>
                    <a:lnTo>
                      <a:pt x="2405" y="2838"/>
                    </a:lnTo>
                    <a:lnTo>
                      <a:pt x="2420" y="2793"/>
                    </a:lnTo>
                    <a:lnTo>
                      <a:pt x="2455" y="2758"/>
                    </a:lnTo>
                    <a:lnTo>
                      <a:pt x="2520" y="2710"/>
                    </a:lnTo>
                    <a:lnTo>
                      <a:pt x="2595" y="2658"/>
                    </a:lnTo>
                    <a:lnTo>
                      <a:pt x="2672" y="2600"/>
                    </a:lnTo>
                    <a:lnTo>
                      <a:pt x="2740" y="2533"/>
                    </a:lnTo>
                    <a:lnTo>
                      <a:pt x="2782" y="2466"/>
                    </a:lnTo>
                    <a:lnTo>
                      <a:pt x="2840" y="2393"/>
                    </a:lnTo>
                    <a:lnTo>
                      <a:pt x="2907" y="2318"/>
                    </a:lnTo>
                    <a:lnTo>
                      <a:pt x="2946" y="2278"/>
                    </a:lnTo>
                    <a:lnTo>
                      <a:pt x="2976" y="2241"/>
                    </a:lnTo>
                    <a:lnTo>
                      <a:pt x="3056" y="2166"/>
                    </a:lnTo>
                    <a:lnTo>
                      <a:pt x="3131" y="2121"/>
                    </a:lnTo>
                    <a:lnTo>
                      <a:pt x="3231" y="2052"/>
                    </a:lnTo>
                    <a:lnTo>
                      <a:pt x="3296" y="2006"/>
                    </a:lnTo>
                    <a:lnTo>
                      <a:pt x="3427" y="1930"/>
                    </a:lnTo>
                    <a:lnTo>
                      <a:pt x="3507" y="1890"/>
                    </a:lnTo>
                    <a:lnTo>
                      <a:pt x="3567" y="1850"/>
                    </a:lnTo>
                    <a:lnTo>
                      <a:pt x="3642" y="1802"/>
                    </a:lnTo>
                    <a:lnTo>
                      <a:pt x="3777" y="1800"/>
                    </a:lnTo>
                    <a:lnTo>
                      <a:pt x="4063" y="1772"/>
                    </a:lnTo>
                    <a:lnTo>
                      <a:pt x="3958" y="1760"/>
                    </a:lnTo>
                    <a:lnTo>
                      <a:pt x="3887" y="1765"/>
                    </a:lnTo>
                    <a:lnTo>
                      <a:pt x="4008" y="1625"/>
                    </a:lnTo>
                    <a:lnTo>
                      <a:pt x="3847" y="1770"/>
                    </a:lnTo>
                    <a:lnTo>
                      <a:pt x="3777" y="1765"/>
                    </a:lnTo>
                    <a:lnTo>
                      <a:pt x="3702" y="1752"/>
                    </a:lnTo>
                    <a:lnTo>
                      <a:pt x="3742" y="1695"/>
                    </a:lnTo>
                    <a:lnTo>
                      <a:pt x="3802" y="1620"/>
                    </a:lnTo>
                    <a:lnTo>
                      <a:pt x="3973" y="1462"/>
                    </a:lnTo>
                    <a:lnTo>
                      <a:pt x="3822" y="1570"/>
                    </a:lnTo>
                    <a:lnTo>
                      <a:pt x="3737" y="1640"/>
                    </a:lnTo>
                    <a:lnTo>
                      <a:pt x="3667" y="1700"/>
                    </a:lnTo>
                    <a:lnTo>
                      <a:pt x="3617" y="1725"/>
                    </a:lnTo>
                    <a:lnTo>
                      <a:pt x="3552" y="1765"/>
                    </a:lnTo>
                    <a:lnTo>
                      <a:pt x="3497" y="1795"/>
                    </a:lnTo>
                    <a:lnTo>
                      <a:pt x="3417" y="1820"/>
                    </a:lnTo>
                    <a:lnTo>
                      <a:pt x="3351" y="1845"/>
                    </a:lnTo>
                    <a:lnTo>
                      <a:pt x="3346" y="1800"/>
                    </a:lnTo>
                    <a:lnTo>
                      <a:pt x="3437" y="1750"/>
                    </a:lnTo>
                    <a:lnTo>
                      <a:pt x="3492" y="1685"/>
                    </a:lnTo>
                    <a:lnTo>
                      <a:pt x="3542" y="1675"/>
                    </a:lnTo>
                    <a:lnTo>
                      <a:pt x="3592" y="1655"/>
                    </a:lnTo>
                    <a:lnTo>
                      <a:pt x="3742" y="1560"/>
                    </a:lnTo>
                    <a:lnTo>
                      <a:pt x="3577" y="1645"/>
                    </a:lnTo>
                    <a:lnTo>
                      <a:pt x="3497" y="1660"/>
                    </a:lnTo>
                    <a:lnTo>
                      <a:pt x="3622" y="1465"/>
                    </a:lnTo>
                    <a:lnTo>
                      <a:pt x="3442" y="1690"/>
                    </a:lnTo>
                    <a:lnTo>
                      <a:pt x="3401" y="1735"/>
                    </a:lnTo>
                    <a:lnTo>
                      <a:pt x="3326" y="1765"/>
                    </a:lnTo>
                    <a:lnTo>
                      <a:pt x="3331" y="1675"/>
                    </a:lnTo>
                    <a:lnTo>
                      <a:pt x="3381" y="1650"/>
                    </a:lnTo>
                    <a:lnTo>
                      <a:pt x="3557" y="1485"/>
                    </a:lnTo>
                    <a:lnTo>
                      <a:pt x="3376" y="1615"/>
                    </a:lnTo>
                    <a:lnTo>
                      <a:pt x="3326" y="1645"/>
                    </a:lnTo>
                    <a:lnTo>
                      <a:pt x="3311" y="1555"/>
                    </a:lnTo>
                    <a:lnTo>
                      <a:pt x="3291" y="1442"/>
                    </a:lnTo>
                    <a:lnTo>
                      <a:pt x="3291" y="1615"/>
                    </a:lnTo>
                    <a:lnTo>
                      <a:pt x="3291" y="1685"/>
                    </a:lnTo>
                    <a:lnTo>
                      <a:pt x="3281" y="1745"/>
                    </a:lnTo>
                    <a:lnTo>
                      <a:pt x="3161" y="1755"/>
                    </a:lnTo>
                    <a:lnTo>
                      <a:pt x="3116" y="1755"/>
                    </a:lnTo>
                    <a:lnTo>
                      <a:pt x="2961" y="1720"/>
                    </a:lnTo>
                    <a:lnTo>
                      <a:pt x="3081" y="1770"/>
                    </a:lnTo>
                    <a:lnTo>
                      <a:pt x="3186" y="1790"/>
                    </a:lnTo>
                    <a:lnTo>
                      <a:pt x="3276" y="1780"/>
                    </a:lnTo>
                    <a:lnTo>
                      <a:pt x="3301" y="1875"/>
                    </a:lnTo>
                    <a:lnTo>
                      <a:pt x="3201" y="1940"/>
                    </a:lnTo>
                    <a:lnTo>
                      <a:pt x="3121" y="1992"/>
                    </a:lnTo>
                    <a:lnTo>
                      <a:pt x="3011" y="2056"/>
                    </a:lnTo>
                    <a:lnTo>
                      <a:pt x="2927" y="2111"/>
                    </a:lnTo>
                    <a:lnTo>
                      <a:pt x="2872" y="2141"/>
                    </a:lnTo>
                    <a:lnTo>
                      <a:pt x="2810" y="2176"/>
                    </a:lnTo>
                    <a:lnTo>
                      <a:pt x="2755" y="2221"/>
                    </a:lnTo>
                    <a:lnTo>
                      <a:pt x="2702" y="2278"/>
                    </a:lnTo>
                    <a:lnTo>
                      <a:pt x="2642" y="2331"/>
                    </a:lnTo>
                    <a:lnTo>
                      <a:pt x="2580" y="2383"/>
                    </a:lnTo>
                    <a:lnTo>
                      <a:pt x="2540" y="2421"/>
                    </a:lnTo>
                    <a:lnTo>
                      <a:pt x="2470" y="2448"/>
                    </a:lnTo>
                    <a:lnTo>
                      <a:pt x="2425" y="2461"/>
                    </a:lnTo>
                    <a:lnTo>
                      <a:pt x="2386" y="2481"/>
                    </a:lnTo>
                    <a:lnTo>
                      <a:pt x="2350" y="2493"/>
                    </a:lnTo>
                    <a:lnTo>
                      <a:pt x="2370" y="2416"/>
                    </a:lnTo>
                    <a:lnTo>
                      <a:pt x="2386" y="2348"/>
                    </a:lnTo>
                    <a:lnTo>
                      <a:pt x="2406" y="2293"/>
                    </a:lnTo>
                    <a:lnTo>
                      <a:pt x="2450" y="2242"/>
                    </a:lnTo>
                    <a:lnTo>
                      <a:pt x="2500" y="2187"/>
                    </a:lnTo>
                    <a:lnTo>
                      <a:pt x="2552" y="2122"/>
                    </a:lnTo>
                    <a:lnTo>
                      <a:pt x="2612" y="2041"/>
                    </a:lnTo>
                    <a:lnTo>
                      <a:pt x="2637" y="2001"/>
                    </a:lnTo>
                    <a:lnTo>
                      <a:pt x="2670" y="1952"/>
                    </a:lnTo>
                    <a:lnTo>
                      <a:pt x="2700" y="1875"/>
                    </a:lnTo>
                    <a:lnTo>
                      <a:pt x="2730" y="1810"/>
                    </a:lnTo>
                    <a:lnTo>
                      <a:pt x="2745" y="1730"/>
                    </a:lnTo>
                    <a:lnTo>
                      <a:pt x="2780" y="1662"/>
                    </a:lnTo>
                    <a:lnTo>
                      <a:pt x="2860" y="1625"/>
                    </a:lnTo>
                    <a:lnTo>
                      <a:pt x="2986" y="1580"/>
                    </a:lnTo>
                    <a:lnTo>
                      <a:pt x="3071" y="1525"/>
                    </a:lnTo>
                    <a:lnTo>
                      <a:pt x="3171" y="1475"/>
                    </a:lnTo>
                    <a:lnTo>
                      <a:pt x="3306" y="1410"/>
                    </a:lnTo>
                    <a:lnTo>
                      <a:pt x="3396" y="1375"/>
                    </a:lnTo>
                    <a:lnTo>
                      <a:pt x="3462" y="1345"/>
                    </a:lnTo>
                    <a:lnTo>
                      <a:pt x="3737" y="1335"/>
                    </a:lnTo>
                    <a:lnTo>
                      <a:pt x="3752" y="1405"/>
                    </a:lnTo>
                    <a:lnTo>
                      <a:pt x="3807" y="1475"/>
                    </a:lnTo>
                    <a:lnTo>
                      <a:pt x="3772" y="1395"/>
                    </a:lnTo>
                    <a:lnTo>
                      <a:pt x="3767" y="1335"/>
                    </a:lnTo>
                    <a:lnTo>
                      <a:pt x="4003" y="1310"/>
                    </a:lnTo>
                    <a:lnTo>
                      <a:pt x="3502" y="1325"/>
                    </a:lnTo>
                    <a:lnTo>
                      <a:pt x="3602" y="1265"/>
                    </a:lnTo>
                    <a:lnTo>
                      <a:pt x="3712" y="1181"/>
                    </a:lnTo>
                    <a:lnTo>
                      <a:pt x="3572" y="1250"/>
                    </a:lnTo>
                    <a:lnTo>
                      <a:pt x="3482" y="1275"/>
                    </a:lnTo>
                    <a:lnTo>
                      <a:pt x="3401" y="1300"/>
                    </a:lnTo>
                    <a:lnTo>
                      <a:pt x="3336" y="1230"/>
                    </a:lnTo>
                    <a:lnTo>
                      <a:pt x="3306" y="1135"/>
                    </a:lnTo>
                    <a:lnTo>
                      <a:pt x="3422" y="1099"/>
                    </a:lnTo>
                    <a:lnTo>
                      <a:pt x="3537" y="1014"/>
                    </a:lnTo>
                    <a:lnTo>
                      <a:pt x="3381" y="1094"/>
                    </a:lnTo>
                    <a:lnTo>
                      <a:pt x="3296" y="1109"/>
                    </a:lnTo>
                    <a:lnTo>
                      <a:pt x="3211" y="901"/>
                    </a:lnTo>
                    <a:lnTo>
                      <a:pt x="3216" y="1004"/>
                    </a:lnTo>
                    <a:lnTo>
                      <a:pt x="3146" y="1019"/>
                    </a:lnTo>
                    <a:lnTo>
                      <a:pt x="3016" y="1004"/>
                    </a:lnTo>
                    <a:lnTo>
                      <a:pt x="3146" y="1034"/>
                    </a:lnTo>
                    <a:lnTo>
                      <a:pt x="3231" y="1029"/>
                    </a:lnTo>
                    <a:lnTo>
                      <a:pt x="3271" y="1145"/>
                    </a:lnTo>
                    <a:lnTo>
                      <a:pt x="3306" y="1235"/>
                    </a:lnTo>
                    <a:lnTo>
                      <a:pt x="3356" y="1325"/>
                    </a:lnTo>
                    <a:lnTo>
                      <a:pt x="3236" y="1380"/>
                    </a:lnTo>
                    <a:lnTo>
                      <a:pt x="3111" y="1440"/>
                    </a:lnTo>
                    <a:lnTo>
                      <a:pt x="2981" y="1505"/>
                    </a:lnTo>
                    <a:lnTo>
                      <a:pt x="2886" y="1555"/>
                    </a:lnTo>
                    <a:lnTo>
                      <a:pt x="2790" y="1580"/>
                    </a:lnTo>
                    <a:lnTo>
                      <a:pt x="2830" y="1435"/>
                    </a:lnTo>
                    <a:lnTo>
                      <a:pt x="2860" y="1300"/>
                    </a:lnTo>
                    <a:lnTo>
                      <a:pt x="2875" y="1200"/>
                    </a:lnTo>
                    <a:lnTo>
                      <a:pt x="2891" y="1084"/>
                    </a:lnTo>
                    <a:lnTo>
                      <a:pt x="2891" y="994"/>
                    </a:lnTo>
                    <a:lnTo>
                      <a:pt x="2921" y="891"/>
                    </a:lnTo>
                    <a:lnTo>
                      <a:pt x="3036" y="799"/>
                    </a:lnTo>
                    <a:lnTo>
                      <a:pt x="3146" y="694"/>
                    </a:lnTo>
                    <a:lnTo>
                      <a:pt x="3251" y="510"/>
                    </a:lnTo>
                    <a:lnTo>
                      <a:pt x="3136" y="669"/>
                    </a:lnTo>
                    <a:lnTo>
                      <a:pt x="3021" y="759"/>
                    </a:lnTo>
                    <a:lnTo>
                      <a:pt x="2916" y="834"/>
                    </a:lnTo>
                    <a:lnTo>
                      <a:pt x="2911" y="754"/>
                    </a:lnTo>
                    <a:lnTo>
                      <a:pt x="2916" y="649"/>
                    </a:lnTo>
                    <a:lnTo>
                      <a:pt x="2941" y="480"/>
                    </a:lnTo>
                    <a:lnTo>
                      <a:pt x="2870" y="721"/>
                    </a:lnTo>
                    <a:lnTo>
                      <a:pt x="2865" y="859"/>
                    </a:lnTo>
                    <a:lnTo>
                      <a:pt x="2835" y="969"/>
                    </a:lnTo>
                    <a:lnTo>
                      <a:pt x="2810" y="1104"/>
                    </a:lnTo>
                    <a:lnTo>
                      <a:pt x="2780" y="1171"/>
                    </a:lnTo>
                    <a:lnTo>
                      <a:pt x="2710" y="1099"/>
                    </a:lnTo>
                    <a:lnTo>
                      <a:pt x="2620" y="979"/>
                    </a:lnTo>
                    <a:lnTo>
                      <a:pt x="2540" y="854"/>
                    </a:lnTo>
                    <a:lnTo>
                      <a:pt x="2615" y="789"/>
                    </a:lnTo>
                    <a:lnTo>
                      <a:pt x="2670" y="721"/>
                    </a:lnTo>
                    <a:lnTo>
                      <a:pt x="2755" y="689"/>
                    </a:lnTo>
                    <a:lnTo>
                      <a:pt x="2891" y="604"/>
                    </a:lnTo>
                    <a:lnTo>
                      <a:pt x="2730" y="669"/>
                    </a:lnTo>
                    <a:lnTo>
                      <a:pt x="2680" y="679"/>
                    </a:lnTo>
                    <a:lnTo>
                      <a:pt x="2730" y="609"/>
                    </a:lnTo>
                    <a:lnTo>
                      <a:pt x="2770" y="440"/>
                    </a:lnTo>
                    <a:lnTo>
                      <a:pt x="2690" y="619"/>
                    </a:lnTo>
                    <a:lnTo>
                      <a:pt x="2650" y="679"/>
                    </a:lnTo>
                    <a:lnTo>
                      <a:pt x="2630" y="719"/>
                    </a:lnTo>
                    <a:lnTo>
                      <a:pt x="2575" y="764"/>
                    </a:lnTo>
                    <a:lnTo>
                      <a:pt x="2520" y="819"/>
                    </a:lnTo>
                    <a:lnTo>
                      <a:pt x="2440" y="681"/>
                    </a:lnTo>
                    <a:lnTo>
                      <a:pt x="2360" y="520"/>
                    </a:lnTo>
                    <a:lnTo>
                      <a:pt x="2380" y="409"/>
                    </a:lnTo>
                    <a:lnTo>
                      <a:pt x="2460" y="379"/>
                    </a:lnTo>
                    <a:lnTo>
                      <a:pt x="2660" y="249"/>
                    </a:lnTo>
                    <a:lnTo>
                      <a:pt x="2455" y="359"/>
                    </a:lnTo>
                    <a:lnTo>
                      <a:pt x="2380" y="379"/>
                    </a:lnTo>
                    <a:lnTo>
                      <a:pt x="2385" y="238"/>
                    </a:lnTo>
                    <a:lnTo>
                      <a:pt x="2380" y="0"/>
                    </a:lnTo>
                    <a:lnTo>
                      <a:pt x="2360" y="259"/>
                    </a:lnTo>
                    <a:lnTo>
                      <a:pt x="2345" y="399"/>
                    </a:lnTo>
                    <a:lnTo>
                      <a:pt x="2324" y="474"/>
                    </a:lnTo>
                    <a:lnTo>
                      <a:pt x="2269" y="374"/>
                    </a:lnTo>
                    <a:lnTo>
                      <a:pt x="2109" y="160"/>
                    </a:lnTo>
                    <a:lnTo>
                      <a:pt x="2254" y="414"/>
                    </a:lnTo>
                    <a:lnTo>
                      <a:pt x="2134" y="389"/>
                    </a:lnTo>
                    <a:lnTo>
                      <a:pt x="2014" y="319"/>
                    </a:lnTo>
                    <a:lnTo>
                      <a:pt x="2159" y="429"/>
                    </a:lnTo>
                    <a:lnTo>
                      <a:pt x="2254" y="444"/>
                    </a:lnTo>
                    <a:lnTo>
                      <a:pt x="2289" y="499"/>
                    </a:lnTo>
                    <a:lnTo>
                      <a:pt x="2329" y="619"/>
                    </a:lnTo>
                    <a:lnTo>
                      <a:pt x="2390" y="754"/>
                    </a:lnTo>
                    <a:lnTo>
                      <a:pt x="2309" y="749"/>
                    </a:lnTo>
                    <a:lnTo>
                      <a:pt x="2199" y="724"/>
                    </a:lnTo>
                    <a:lnTo>
                      <a:pt x="2114" y="549"/>
                    </a:lnTo>
                    <a:lnTo>
                      <a:pt x="2174" y="709"/>
                    </a:lnTo>
                    <a:lnTo>
                      <a:pt x="1999" y="644"/>
                    </a:lnTo>
                    <a:lnTo>
                      <a:pt x="2179" y="749"/>
                    </a:lnTo>
                    <a:lnTo>
                      <a:pt x="2059" y="799"/>
                    </a:lnTo>
                    <a:lnTo>
                      <a:pt x="2204" y="764"/>
                    </a:lnTo>
                    <a:lnTo>
                      <a:pt x="2279" y="769"/>
                    </a:lnTo>
                    <a:lnTo>
                      <a:pt x="2425" y="799"/>
                    </a:lnTo>
                    <a:lnTo>
                      <a:pt x="2460" y="869"/>
                    </a:lnTo>
                    <a:lnTo>
                      <a:pt x="2495" y="924"/>
                    </a:lnTo>
                    <a:lnTo>
                      <a:pt x="2550" y="1004"/>
                    </a:lnTo>
                    <a:lnTo>
                      <a:pt x="2615" y="1109"/>
                    </a:lnTo>
                    <a:lnTo>
                      <a:pt x="2695" y="1225"/>
                    </a:lnTo>
                    <a:lnTo>
                      <a:pt x="2750" y="1311"/>
                    </a:lnTo>
                    <a:lnTo>
                      <a:pt x="2735" y="1395"/>
                    </a:lnTo>
                    <a:lnTo>
                      <a:pt x="2715" y="1475"/>
                    </a:lnTo>
                    <a:lnTo>
                      <a:pt x="2670" y="1560"/>
                    </a:lnTo>
                    <a:lnTo>
                      <a:pt x="2630" y="1690"/>
                    </a:lnTo>
                    <a:lnTo>
                      <a:pt x="2590" y="1802"/>
                    </a:lnTo>
                    <a:lnTo>
                      <a:pt x="2560" y="1865"/>
                    </a:lnTo>
                    <a:lnTo>
                      <a:pt x="2505" y="1930"/>
                    </a:lnTo>
                    <a:lnTo>
                      <a:pt x="2445" y="1980"/>
                    </a:lnTo>
                    <a:lnTo>
                      <a:pt x="2390" y="2032"/>
                    </a:lnTo>
                    <a:lnTo>
                      <a:pt x="2339" y="2077"/>
                    </a:lnTo>
                    <a:lnTo>
                      <a:pt x="2299" y="2106"/>
                    </a:lnTo>
                    <a:lnTo>
                      <a:pt x="2246" y="2157"/>
                    </a:lnTo>
                    <a:lnTo>
                      <a:pt x="2194" y="2212"/>
                    </a:lnTo>
                    <a:lnTo>
                      <a:pt x="2136" y="2271"/>
                    </a:lnTo>
                    <a:lnTo>
                      <a:pt x="2069" y="2323"/>
                    </a:lnTo>
                    <a:lnTo>
                      <a:pt x="2011" y="2376"/>
                    </a:lnTo>
                    <a:lnTo>
                      <a:pt x="1970" y="2418"/>
                    </a:lnTo>
                    <a:lnTo>
                      <a:pt x="1949" y="2453"/>
                    </a:lnTo>
                    <a:lnTo>
                      <a:pt x="1894" y="2438"/>
                    </a:lnTo>
                    <a:lnTo>
                      <a:pt x="1850" y="2423"/>
                    </a:lnTo>
                    <a:lnTo>
                      <a:pt x="1820" y="2396"/>
                    </a:lnTo>
                    <a:lnTo>
                      <a:pt x="1788" y="2353"/>
                    </a:lnTo>
                    <a:lnTo>
                      <a:pt x="1733" y="2321"/>
                    </a:lnTo>
                    <a:lnTo>
                      <a:pt x="1690" y="2298"/>
                    </a:lnTo>
                    <a:lnTo>
                      <a:pt x="1613" y="2257"/>
                    </a:lnTo>
                    <a:lnTo>
                      <a:pt x="1578" y="2232"/>
                    </a:lnTo>
                    <a:lnTo>
                      <a:pt x="1533" y="2197"/>
                    </a:lnTo>
                    <a:lnTo>
                      <a:pt x="1485" y="2172"/>
                    </a:lnTo>
                    <a:lnTo>
                      <a:pt x="1439" y="2142"/>
                    </a:lnTo>
                    <a:lnTo>
                      <a:pt x="1398" y="2092"/>
                    </a:lnTo>
                    <a:lnTo>
                      <a:pt x="1358" y="2016"/>
                    </a:lnTo>
                    <a:lnTo>
                      <a:pt x="1328" y="1962"/>
                    </a:lnTo>
                    <a:lnTo>
                      <a:pt x="1388" y="1885"/>
                    </a:lnTo>
                    <a:lnTo>
                      <a:pt x="1443" y="1815"/>
                    </a:lnTo>
                    <a:lnTo>
                      <a:pt x="1483" y="1740"/>
                    </a:lnTo>
                    <a:lnTo>
                      <a:pt x="1533" y="1670"/>
                    </a:lnTo>
                    <a:lnTo>
                      <a:pt x="1578" y="1575"/>
                    </a:lnTo>
                    <a:lnTo>
                      <a:pt x="1633" y="1465"/>
                    </a:lnTo>
                    <a:lnTo>
                      <a:pt x="1673" y="1355"/>
                    </a:lnTo>
                    <a:lnTo>
                      <a:pt x="1698" y="1231"/>
                    </a:lnTo>
                    <a:lnTo>
                      <a:pt x="1859" y="1211"/>
                    </a:lnTo>
                    <a:lnTo>
                      <a:pt x="1969" y="1165"/>
                    </a:lnTo>
                    <a:lnTo>
                      <a:pt x="2069" y="1130"/>
                    </a:lnTo>
                    <a:lnTo>
                      <a:pt x="2159" y="1064"/>
                    </a:lnTo>
                    <a:lnTo>
                      <a:pt x="2214" y="1089"/>
                    </a:lnTo>
                    <a:lnTo>
                      <a:pt x="2410" y="1069"/>
                    </a:lnTo>
                    <a:lnTo>
                      <a:pt x="2229" y="1074"/>
                    </a:lnTo>
                    <a:lnTo>
                      <a:pt x="2189" y="1049"/>
                    </a:lnTo>
                    <a:lnTo>
                      <a:pt x="2309" y="931"/>
                    </a:lnTo>
                    <a:lnTo>
                      <a:pt x="2154" y="1029"/>
                    </a:lnTo>
                    <a:lnTo>
                      <a:pt x="2059" y="1084"/>
                    </a:lnTo>
                    <a:lnTo>
                      <a:pt x="2014" y="1004"/>
                    </a:lnTo>
                    <a:lnTo>
                      <a:pt x="2114" y="899"/>
                    </a:lnTo>
                    <a:lnTo>
                      <a:pt x="2004" y="984"/>
                    </a:lnTo>
                    <a:lnTo>
                      <a:pt x="1929" y="774"/>
                    </a:lnTo>
                    <a:lnTo>
                      <a:pt x="1984" y="1014"/>
                    </a:lnTo>
                    <a:lnTo>
                      <a:pt x="2029" y="1099"/>
                    </a:lnTo>
                    <a:lnTo>
                      <a:pt x="1869" y="1160"/>
                    </a:lnTo>
                    <a:lnTo>
                      <a:pt x="1718" y="1180"/>
                    </a:lnTo>
                    <a:lnTo>
                      <a:pt x="1733" y="1109"/>
                    </a:lnTo>
                    <a:lnTo>
                      <a:pt x="1768" y="959"/>
                    </a:lnTo>
                    <a:lnTo>
                      <a:pt x="1798" y="841"/>
                    </a:lnTo>
                    <a:lnTo>
                      <a:pt x="1839" y="679"/>
                    </a:lnTo>
                    <a:lnTo>
                      <a:pt x="1854" y="554"/>
                    </a:lnTo>
                    <a:lnTo>
                      <a:pt x="1869" y="459"/>
                    </a:lnTo>
                    <a:lnTo>
                      <a:pt x="1879" y="364"/>
                    </a:lnTo>
                    <a:lnTo>
                      <a:pt x="1909" y="100"/>
                    </a:lnTo>
                    <a:lnTo>
                      <a:pt x="1839" y="379"/>
                    </a:lnTo>
                    <a:lnTo>
                      <a:pt x="1814" y="509"/>
                    </a:lnTo>
                    <a:lnTo>
                      <a:pt x="1723" y="434"/>
                    </a:lnTo>
                    <a:lnTo>
                      <a:pt x="1728" y="339"/>
                    </a:lnTo>
                    <a:lnTo>
                      <a:pt x="1663" y="128"/>
                    </a:lnTo>
                    <a:lnTo>
                      <a:pt x="1698" y="339"/>
                    </a:lnTo>
                    <a:lnTo>
                      <a:pt x="1688" y="409"/>
                    </a:lnTo>
                    <a:lnTo>
                      <a:pt x="1613" y="329"/>
                    </a:lnTo>
                    <a:lnTo>
                      <a:pt x="1313" y="83"/>
                    </a:lnTo>
                    <a:lnTo>
                      <a:pt x="1498" y="274"/>
                    </a:lnTo>
                    <a:lnTo>
                      <a:pt x="1548" y="329"/>
                    </a:lnTo>
                    <a:lnTo>
                      <a:pt x="1623" y="394"/>
                    </a:lnTo>
                    <a:lnTo>
                      <a:pt x="1708" y="474"/>
                    </a:lnTo>
                    <a:lnTo>
                      <a:pt x="1623" y="484"/>
                    </a:lnTo>
                    <a:lnTo>
                      <a:pt x="1503" y="474"/>
                    </a:lnTo>
                    <a:lnTo>
                      <a:pt x="1618" y="504"/>
                    </a:lnTo>
                    <a:lnTo>
                      <a:pt x="1743" y="504"/>
                    </a:lnTo>
                    <a:lnTo>
                      <a:pt x="1809" y="571"/>
                    </a:lnTo>
                    <a:lnTo>
                      <a:pt x="1758" y="709"/>
                    </a:lnTo>
                    <a:lnTo>
                      <a:pt x="1733" y="804"/>
                    </a:lnTo>
                    <a:lnTo>
                      <a:pt x="1633" y="724"/>
                    </a:lnTo>
                    <a:lnTo>
                      <a:pt x="1568" y="649"/>
                    </a:lnTo>
                    <a:lnTo>
                      <a:pt x="1488" y="554"/>
                    </a:lnTo>
                    <a:lnTo>
                      <a:pt x="1483" y="494"/>
                    </a:lnTo>
                    <a:lnTo>
                      <a:pt x="1463" y="249"/>
                    </a:lnTo>
                    <a:lnTo>
                      <a:pt x="1458" y="484"/>
                    </a:lnTo>
                    <a:lnTo>
                      <a:pt x="1448" y="519"/>
                    </a:lnTo>
                    <a:lnTo>
                      <a:pt x="1373" y="474"/>
                    </a:lnTo>
                    <a:lnTo>
                      <a:pt x="1323" y="409"/>
                    </a:lnTo>
                    <a:lnTo>
                      <a:pt x="1227" y="250"/>
                    </a:lnTo>
                    <a:lnTo>
                      <a:pt x="1303" y="424"/>
                    </a:lnTo>
                    <a:lnTo>
                      <a:pt x="1353" y="504"/>
                    </a:lnTo>
                    <a:lnTo>
                      <a:pt x="1438" y="581"/>
                    </a:lnTo>
                    <a:lnTo>
                      <a:pt x="1308" y="669"/>
                    </a:lnTo>
                    <a:lnTo>
                      <a:pt x="987" y="721"/>
                    </a:lnTo>
                    <a:lnTo>
                      <a:pt x="1298" y="711"/>
                    </a:lnTo>
                    <a:lnTo>
                      <a:pt x="1468" y="614"/>
                    </a:lnTo>
                    <a:lnTo>
                      <a:pt x="1563" y="719"/>
                    </a:lnTo>
                    <a:lnTo>
                      <a:pt x="1623" y="774"/>
                    </a:lnTo>
                    <a:lnTo>
                      <a:pt x="1703" y="844"/>
                    </a:lnTo>
                    <a:lnTo>
                      <a:pt x="1678" y="989"/>
                    </a:lnTo>
                    <a:lnTo>
                      <a:pt x="1648" y="1074"/>
                    </a:lnTo>
                    <a:lnTo>
                      <a:pt x="1598" y="1255"/>
                    </a:lnTo>
                    <a:lnTo>
                      <a:pt x="1578" y="1340"/>
                    </a:lnTo>
                    <a:lnTo>
                      <a:pt x="1543" y="1425"/>
                    </a:lnTo>
                    <a:lnTo>
                      <a:pt x="1478" y="1530"/>
                    </a:lnTo>
                    <a:lnTo>
                      <a:pt x="1418" y="1625"/>
                    </a:lnTo>
                    <a:lnTo>
                      <a:pt x="1348" y="1730"/>
                    </a:lnTo>
                    <a:lnTo>
                      <a:pt x="1257" y="1825"/>
                    </a:lnTo>
                    <a:lnTo>
                      <a:pt x="1187" y="1882"/>
                    </a:lnTo>
                    <a:lnTo>
                      <a:pt x="1107" y="1805"/>
                    </a:lnTo>
                    <a:lnTo>
                      <a:pt x="1052" y="1735"/>
                    </a:lnTo>
                    <a:lnTo>
                      <a:pt x="947" y="1585"/>
                    </a:lnTo>
                    <a:lnTo>
                      <a:pt x="872" y="1450"/>
                    </a:lnTo>
                    <a:lnTo>
                      <a:pt x="777" y="1321"/>
                    </a:lnTo>
                    <a:lnTo>
                      <a:pt x="726" y="1230"/>
                    </a:lnTo>
                    <a:lnTo>
                      <a:pt x="686" y="1141"/>
                    </a:lnTo>
                    <a:lnTo>
                      <a:pt x="736" y="1039"/>
                    </a:lnTo>
                    <a:lnTo>
                      <a:pt x="777" y="939"/>
                    </a:lnTo>
                    <a:lnTo>
                      <a:pt x="807" y="774"/>
                    </a:lnTo>
                    <a:lnTo>
                      <a:pt x="1017" y="614"/>
                    </a:lnTo>
                    <a:lnTo>
                      <a:pt x="822" y="739"/>
                    </a:lnTo>
                    <a:lnTo>
                      <a:pt x="837" y="450"/>
                    </a:lnTo>
                    <a:lnTo>
                      <a:pt x="782" y="754"/>
                    </a:lnTo>
                    <a:lnTo>
                      <a:pt x="752" y="869"/>
                    </a:lnTo>
                    <a:lnTo>
                      <a:pt x="636" y="699"/>
                    </a:lnTo>
                    <a:lnTo>
                      <a:pt x="747" y="921"/>
                    </a:lnTo>
                    <a:lnTo>
                      <a:pt x="716" y="1009"/>
                    </a:lnTo>
                    <a:lnTo>
                      <a:pt x="656" y="1094"/>
                    </a:lnTo>
                    <a:lnTo>
                      <a:pt x="601" y="1019"/>
                    </a:lnTo>
                    <a:lnTo>
                      <a:pt x="516" y="921"/>
                    </a:lnTo>
                    <a:lnTo>
                      <a:pt x="421" y="819"/>
                    </a:lnTo>
                    <a:lnTo>
                      <a:pt x="446" y="519"/>
                    </a:lnTo>
                    <a:lnTo>
                      <a:pt x="401" y="799"/>
                    </a:lnTo>
                    <a:lnTo>
                      <a:pt x="206" y="671"/>
                    </a:lnTo>
                    <a:lnTo>
                      <a:pt x="361" y="834"/>
                    </a:lnTo>
                    <a:lnTo>
                      <a:pt x="286" y="854"/>
                    </a:lnTo>
                    <a:lnTo>
                      <a:pt x="100" y="834"/>
                    </a:lnTo>
                    <a:lnTo>
                      <a:pt x="291" y="879"/>
                    </a:lnTo>
                    <a:lnTo>
                      <a:pt x="381" y="864"/>
                    </a:lnTo>
                    <a:lnTo>
                      <a:pt x="446" y="971"/>
                    </a:lnTo>
                    <a:lnTo>
                      <a:pt x="516" y="1079"/>
                    </a:lnTo>
                    <a:lnTo>
                      <a:pt x="566" y="1191"/>
                    </a:lnTo>
                    <a:lnTo>
                      <a:pt x="496" y="1225"/>
                    </a:lnTo>
                    <a:lnTo>
                      <a:pt x="376" y="1240"/>
                    </a:lnTo>
                    <a:lnTo>
                      <a:pt x="221" y="1225"/>
                    </a:lnTo>
                    <a:lnTo>
                      <a:pt x="195" y="1049"/>
                    </a:lnTo>
                    <a:lnTo>
                      <a:pt x="195" y="1230"/>
                    </a:lnTo>
                    <a:lnTo>
                      <a:pt x="35" y="1191"/>
                    </a:lnTo>
                    <a:lnTo>
                      <a:pt x="165" y="1245"/>
                    </a:lnTo>
                    <a:lnTo>
                      <a:pt x="90" y="1335"/>
                    </a:lnTo>
                    <a:lnTo>
                      <a:pt x="190" y="1260"/>
                    </a:lnTo>
                    <a:lnTo>
                      <a:pt x="286" y="1271"/>
                    </a:lnTo>
                    <a:lnTo>
                      <a:pt x="391" y="1280"/>
                    </a:lnTo>
                    <a:lnTo>
                      <a:pt x="496" y="1275"/>
                    </a:lnTo>
                    <a:lnTo>
                      <a:pt x="586" y="1250"/>
                    </a:lnTo>
                    <a:lnTo>
                      <a:pt x="656" y="1350"/>
                    </a:lnTo>
                    <a:lnTo>
                      <a:pt x="757" y="1515"/>
                    </a:lnTo>
                    <a:lnTo>
                      <a:pt x="827" y="1645"/>
                    </a:lnTo>
                    <a:lnTo>
                      <a:pt x="917" y="1780"/>
                    </a:lnTo>
                    <a:lnTo>
                      <a:pt x="767" y="1785"/>
                    </a:lnTo>
                    <a:lnTo>
                      <a:pt x="646" y="1789"/>
                    </a:lnTo>
                    <a:lnTo>
                      <a:pt x="511" y="1774"/>
                    </a:lnTo>
                    <a:lnTo>
                      <a:pt x="386" y="1742"/>
                    </a:lnTo>
                    <a:lnTo>
                      <a:pt x="381" y="1645"/>
                    </a:lnTo>
                    <a:lnTo>
                      <a:pt x="336" y="1442"/>
                    </a:lnTo>
                    <a:lnTo>
                      <a:pt x="346" y="1660"/>
                    </a:lnTo>
                    <a:lnTo>
                      <a:pt x="351" y="1730"/>
                    </a:lnTo>
                    <a:lnTo>
                      <a:pt x="5" y="1732"/>
                    </a:lnTo>
                    <a:lnTo>
                      <a:pt x="346" y="1780"/>
                    </a:lnTo>
                    <a:lnTo>
                      <a:pt x="271" y="1845"/>
                    </a:lnTo>
                    <a:lnTo>
                      <a:pt x="0" y="1985"/>
                    </a:lnTo>
                    <a:lnTo>
                      <a:pt x="291" y="1865"/>
                    </a:lnTo>
                    <a:lnTo>
                      <a:pt x="386" y="1790"/>
                    </a:lnTo>
                    <a:lnTo>
                      <a:pt x="536" y="1820"/>
                    </a:lnTo>
                    <a:lnTo>
                      <a:pt x="686" y="1842"/>
                    </a:lnTo>
                    <a:lnTo>
                      <a:pt x="792" y="1840"/>
                    </a:lnTo>
                    <a:lnTo>
                      <a:pt x="927" y="1840"/>
                    </a:lnTo>
                    <a:lnTo>
                      <a:pt x="982" y="1920"/>
                    </a:lnTo>
                    <a:lnTo>
                      <a:pt x="1077" y="2062"/>
                    </a:lnTo>
                    <a:lnTo>
                      <a:pt x="1167" y="2212"/>
                    </a:lnTo>
                    <a:lnTo>
                      <a:pt x="1192" y="2259"/>
                    </a:lnTo>
                    <a:lnTo>
                      <a:pt x="1232" y="2321"/>
                    </a:lnTo>
                    <a:lnTo>
                      <a:pt x="1298" y="2376"/>
                    </a:lnTo>
                    <a:lnTo>
                      <a:pt x="1328" y="2423"/>
                    </a:lnTo>
                    <a:lnTo>
                      <a:pt x="1373" y="2458"/>
                    </a:lnTo>
                    <a:lnTo>
                      <a:pt x="1419" y="2483"/>
                    </a:lnTo>
                    <a:lnTo>
                      <a:pt x="1463" y="2511"/>
                    </a:lnTo>
                    <a:lnTo>
                      <a:pt x="1523" y="2546"/>
                    </a:lnTo>
                    <a:lnTo>
                      <a:pt x="1558" y="2583"/>
                    </a:lnTo>
                    <a:lnTo>
                      <a:pt x="1580" y="2643"/>
                    </a:lnTo>
                    <a:lnTo>
                      <a:pt x="1593" y="2695"/>
                    </a:lnTo>
                    <a:lnTo>
                      <a:pt x="1598" y="2773"/>
                    </a:lnTo>
                    <a:close/>
                  </a:path>
                </a:pathLst>
              </a:custGeom>
              <a:solidFill>
                <a:srgbClr val="402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21"/>
              <p:cNvSpPr/>
              <p:nvPr/>
            </p:nvSpPr>
            <p:spPr>
              <a:xfrm>
                <a:off x="8239320" y="6645960"/>
                <a:ext cx="49680" cy="151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16" h="98">
                    <a:moveTo>
                      <a:pt x="161" y="0"/>
                    </a:moveTo>
                    <a:lnTo>
                      <a:pt x="186" y="25"/>
                    </a:lnTo>
                    <a:lnTo>
                      <a:pt x="177" y="50"/>
                    </a:lnTo>
                    <a:lnTo>
                      <a:pt x="147" y="63"/>
                    </a:lnTo>
                    <a:lnTo>
                      <a:pt x="96" y="75"/>
                    </a:lnTo>
                    <a:lnTo>
                      <a:pt x="76" y="85"/>
                    </a:lnTo>
                    <a:lnTo>
                      <a:pt x="0" y="98"/>
                    </a:lnTo>
                    <a:lnTo>
                      <a:pt x="92" y="95"/>
                    </a:lnTo>
                    <a:lnTo>
                      <a:pt x="171" y="85"/>
                    </a:lnTo>
                    <a:lnTo>
                      <a:pt x="211" y="50"/>
                    </a:lnTo>
                    <a:lnTo>
                      <a:pt x="216" y="30"/>
                    </a:lnTo>
                    <a:lnTo>
                      <a:pt x="206" y="18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22"/>
              <p:cNvSpPr/>
              <p:nvPr/>
            </p:nvSpPr>
            <p:spPr>
              <a:xfrm>
                <a:off x="8232120" y="6646680"/>
                <a:ext cx="43920" cy="14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92" h="90">
                    <a:moveTo>
                      <a:pt x="187" y="0"/>
                    </a:moveTo>
                    <a:lnTo>
                      <a:pt x="192" y="15"/>
                    </a:lnTo>
                    <a:lnTo>
                      <a:pt x="192" y="30"/>
                    </a:lnTo>
                    <a:lnTo>
                      <a:pt x="177" y="40"/>
                    </a:lnTo>
                    <a:lnTo>
                      <a:pt x="152" y="53"/>
                    </a:lnTo>
                    <a:lnTo>
                      <a:pt x="71" y="70"/>
                    </a:lnTo>
                    <a:lnTo>
                      <a:pt x="45" y="75"/>
                    </a:lnTo>
                    <a:lnTo>
                      <a:pt x="0" y="90"/>
                    </a:lnTo>
                    <a:lnTo>
                      <a:pt x="56" y="58"/>
                    </a:lnTo>
                    <a:lnTo>
                      <a:pt x="86" y="50"/>
                    </a:lnTo>
                    <a:lnTo>
                      <a:pt x="121" y="40"/>
                    </a:lnTo>
                    <a:lnTo>
                      <a:pt x="167" y="28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23"/>
              <p:cNvSpPr/>
              <p:nvPr/>
            </p:nvSpPr>
            <p:spPr>
              <a:xfrm>
                <a:off x="8283240" y="6642000"/>
                <a:ext cx="8640" cy="190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9" h="120">
                    <a:moveTo>
                      <a:pt x="0" y="0"/>
                    </a:moveTo>
                    <a:lnTo>
                      <a:pt x="11" y="18"/>
                    </a:lnTo>
                    <a:lnTo>
                      <a:pt x="19" y="33"/>
                    </a:lnTo>
                    <a:lnTo>
                      <a:pt x="26" y="53"/>
                    </a:lnTo>
                    <a:lnTo>
                      <a:pt x="26" y="78"/>
                    </a:lnTo>
                    <a:lnTo>
                      <a:pt x="5" y="95"/>
                    </a:lnTo>
                    <a:lnTo>
                      <a:pt x="5" y="120"/>
                    </a:lnTo>
                    <a:lnTo>
                      <a:pt x="31" y="88"/>
                    </a:lnTo>
                    <a:lnTo>
                      <a:pt x="39" y="58"/>
                    </a:lnTo>
                    <a:lnTo>
                      <a:pt x="3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4"/>
              <p:cNvSpPr/>
              <p:nvPr/>
            </p:nvSpPr>
            <p:spPr>
              <a:xfrm>
                <a:off x="8284680" y="6629400"/>
                <a:ext cx="11520" cy="28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183">
                    <a:moveTo>
                      <a:pt x="14" y="0"/>
                    </a:moveTo>
                    <a:lnTo>
                      <a:pt x="0" y="33"/>
                    </a:lnTo>
                    <a:lnTo>
                      <a:pt x="4" y="50"/>
                    </a:lnTo>
                    <a:lnTo>
                      <a:pt x="11" y="63"/>
                    </a:lnTo>
                    <a:lnTo>
                      <a:pt x="36" y="80"/>
                    </a:lnTo>
                    <a:lnTo>
                      <a:pt x="39" y="95"/>
                    </a:lnTo>
                    <a:lnTo>
                      <a:pt x="41" y="140"/>
                    </a:lnTo>
                    <a:lnTo>
                      <a:pt x="31" y="163"/>
                    </a:lnTo>
                    <a:lnTo>
                      <a:pt x="21" y="183"/>
                    </a:lnTo>
                    <a:lnTo>
                      <a:pt x="51" y="155"/>
                    </a:lnTo>
                    <a:lnTo>
                      <a:pt x="51" y="105"/>
                    </a:lnTo>
                    <a:lnTo>
                      <a:pt x="51" y="65"/>
                    </a:lnTo>
                    <a:lnTo>
                      <a:pt x="24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5"/>
              <p:cNvSpPr/>
              <p:nvPr/>
            </p:nvSpPr>
            <p:spPr>
              <a:xfrm>
                <a:off x="8289360" y="6620040"/>
                <a:ext cx="12240" cy="367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5" h="235">
                    <a:moveTo>
                      <a:pt x="15" y="0"/>
                    </a:moveTo>
                    <a:lnTo>
                      <a:pt x="5" y="30"/>
                    </a:lnTo>
                    <a:lnTo>
                      <a:pt x="0" y="45"/>
                    </a:lnTo>
                    <a:lnTo>
                      <a:pt x="0" y="63"/>
                    </a:lnTo>
                    <a:lnTo>
                      <a:pt x="3" y="83"/>
                    </a:lnTo>
                    <a:lnTo>
                      <a:pt x="13" y="98"/>
                    </a:lnTo>
                    <a:lnTo>
                      <a:pt x="33" y="105"/>
                    </a:lnTo>
                    <a:lnTo>
                      <a:pt x="40" y="123"/>
                    </a:lnTo>
                    <a:lnTo>
                      <a:pt x="38" y="158"/>
                    </a:lnTo>
                    <a:lnTo>
                      <a:pt x="38" y="188"/>
                    </a:lnTo>
                    <a:lnTo>
                      <a:pt x="38" y="208"/>
                    </a:lnTo>
                    <a:lnTo>
                      <a:pt x="20" y="235"/>
                    </a:lnTo>
                    <a:lnTo>
                      <a:pt x="55" y="210"/>
                    </a:lnTo>
                    <a:lnTo>
                      <a:pt x="50" y="165"/>
                    </a:lnTo>
                    <a:lnTo>
                      <a:pt x="55" y="123"/>
                    </a:lnTo>
                    <a:lnTo>
                      <a:pt x="45" y="103"/>
                    </a:lnTo>
                    <a:lnTo>
                      <a:pt x="25" y="85"/>
                    </a:lnTo>
                    <a:lnTo>
                      <a:pt x="15" y="75"/>
                    </a:lnTo>
                    <a:lnTo>
                      <a:pt x="13" y="4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6"/>
              <p:cNvSpPr/>
              <p:nvPr/>
            </p:nvSpPr>
            <p:spPr>
              <a:xfrm>
                <a:off x="8294040" y="6602760"/>
                <a:ext cx="13320" cy="504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8" h="323">
                    <a:moveTo>
                      <a:pt x="45" y="323"/>
                    </a:moveTo>
                    <a:lnTo>
                      <a:pt x="45" y="278"/>
                    </a:lnTo>
                    <a:lnTo>
                      <a:pt x="45" y="223"/>
                    </a:lnTo>
                    <a:lnTo>
                      <a:pt x="30" y="195"/>
                    </a:lnTo>
                    <a:lnTo>
                      <a:pt x="20" y="173"/>
                    </a:lnTo>
                    <a:lnTo>
                      <a:pt x="18" y="155"/>
                    </a:lnTo>
                    <a:lnTo>
                      <a:pt x="10" y="118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5" y="33"/>
                    </a:lnTo>
                    <a:lnTo>
                      <a:pt x="5" y="0"/>
                    </a:lnTo>
                    <a:lnTo>
                      <a:pt x="15" y="28"/>
                    </a:lnTo>
                    <a:lnTo>
                      <a:pt x="18" y="73"/>
                    </a:lnTo>
                    <a:lnTo>
                      <a:pt x="20" y="100"/>
                    </a:lnTo>
                    <a:lnTo>
                      <a:pt x="30" y="123"/>
                    </a:lnTo>
                    <a:lnTo>
                      <a:pt x="35" y="168"/>
                    </a:lnTo>
                    <a:lnTo>
                      <a:pt x="40" y="190"/>
                    </a:lnTo>
                    <a:lnTo>
                      <a:pt x="55" y="220"/>
                    </a:lnTo>
                    <a:lnTo>
                      <a:pt x="58" y="243"/>
                    </a:lnTo>
                    <a:lnTo>
                      <a:pt x="45" y="3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7"/>
              <p:cNvSpPr/>
              <p:nvPr/>
            </p:nvSpPr>
            <p:spPr>
              <a:xfrm>
                <a:off x="8307360" y="6638400"/>
                <a:ext cx="48240" cy="22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0" h="143">
                    <a:moveTo>
                      <a:pt x="0" y="123"/>
                    </a:moveTo>
                    <a:lnTo>
                      <a:pt x="0" y="85"/>
                    </a:lnTo>
                    <a:lnTo>
                      <a:pt x="7" y="45"/>
                    </a:lnTo>
                    <a:lnTo>
                      <a:pt x="40" y="5"/>
                    </a:lnTo>
                    <a:lnTo>
                      <a:pt x="65" y="0"/>
                    </a:lnTo>
                    <a:lnTo>
                      <a:pt x="87" y="3"/>
                    </a:lnTo>
                    <a:lnTo>
                      <a:pt x="147" y="25"/>
                    </a:lnTo>
                    <a:lnTo>
                      <a:pt x="155" y="45"/>
                    </a:lnTo>
                    <a:lnTo>
                      <a:pt x="167" y="78"/>
                    </a:lnTo>
                    <a:lnTo>
                      <a:pt x="185" y="100"/>
                    </a:lnTo>
                    <a:lnTo>
                      <a:pt x="210" y="115"/>
                    </a:lnTo>
                    <a:lnTo>
                      <a:pt x="162" y="143"/>
                    </a:lnTo>
                    <a:lnTo>
                      <a:pt x="160" y="100"/>
                    </a:lnTo>
                    <a:lnTo>
                      <a:pt x="152" y="55"/>
                    </a:lnTo>
                    <a:lnTo>
                      <a:pt x="135" y="40"/>
                    </a:lnTo>
                    <a:lnTo>
                      <a:pt x="105" y="28"/>
                    </a:lnTo>
                    <a:lnTo>
                      <a:pt x="52" y="20"/>
                    </a:lnTo>
                    <a:lnTo>
                      <a:pt x="27" y="43"/>
                    </a:lnTo>
                    <a:lnTo>
                      <a:pt x="15" y="60"/>
                    </a:lnTo>
                    <a:lnTo>
                      <a:pt x="10" y="8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8"/>
              <p:cNvSpPr/>
              <p:nvPr/>
            </p:nvSpPr>
            <p:spPr>
              <a:xfrm>
                <a:off x="8309520" y="6643440"/>
                <a:ext cx="30960" cy="334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35" h="217">
                    <a:moveTo>
                      <a:pt x="0" y="105"/>
                    </a:moveTo>
                    <a:lnTo>
                      <a:pt x="0" y="80"/>
                    </a:lnTo>
                    <a:lnTo>
                      <a:pt x="5" y="42"/>
                    </a:lnTo>
                    <a:lnTo>
                      <a:pt x="27" y="10"/>
                    </a:lnTo>
                    <a:lnTo>
                      <a:pt x="65" y="0"/>
                    </a:lnTo>
                    <a:lnTo>
                      <a:pt x="102" y="7"/>
                    </a:lnTo>
                    <a:lnTo>
                      <a:pt x="122" y="25"/>
                    </a:lnTo>
                    <a:lnTo>
                      <a:pt x="132" y="50"/>
                    </a:lnTo>
                    <a:lnTo>
                      <a:pt x="132" y="72"/>
                    </a:lnTo>
                    <a:lnTo>
                      <a:pt x="135" y="105"/>
                    </a:lnTo>
                    <a:lnTo>
                      <a:pt x="125" y="127"/>
                    </a:lnTo>
                    <a:lnTo>
                      <a:pt x="102" y="157"/>
                    </a:lnTo>
                    <a:lnTo>
                      <a:pt x="82" y="180"/>
                    </a:lnTo>
                    <a:lnTo>
                      <a:pt x="47" y="197"/>
                    </a:lnTo>
                    <a:lnTo>
                      <a:pt x="27" y="217"/>
                    </a:lnTo>
                    <a:lnTo>
                      <a:pt x="12" y="215"/>
                    </a:lnTo>
                    <a:lnTo>
                      <a:pt x="40" y="182"/>
                    </a:lnTo>
                    <a:lnTo>
                      <a:pt x="77" y="160"/>
                    </a:lnTo>
                    <a:lnTo>
                      <a:pt x="112" y="125"/>
                    </a:lnTo>
                    <a:lnTo>
                      <a:pt x="120" y="82"/>
                    </a:lnTo>
                    <a:lnTo>
                      <a:pt x="122" y="50"/>
                    </a:lnTo>
                    <a:lnTo>
                      <a:pt x="107" y="27"/>
                    </a:lnTo>
                    <a:lnTo>
                      <a:pt x="82" y="15"/>
                    </a:lnTo>
                    <a:lnTo>
                      <a:pt x="57" y="15"/>
                    </a:lnTo>
                    <a:lnTo>
                      <a:pt x="30" y="25"/>
                    </a:lnTo>
                    <a:lnTo>
                      <a:pt x="10" y="5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9"/>
              <p:cNvSpPr/>
              <p:nvPr/>
            </p:nvSpPr>
            <p:spPr>
              <a:xfrm>
                <a:off x="8315640" y="6647400"/>
                <a:ext cx="18360" cy="252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8" h="162">
                    <a:moveTo>
                      <a:pt x="43" y="0"/>
                    </a:moveTo>
                    <a:lnTo>
                      <a:pt x="65" y="15"/>
                    </a:lnTo>
                    <a:lnTo>
                      <a:pt x="78" y="52"/>
                    </a:lnTo>
                    <a:lnTo>
                      <a:pt x="70" y="90"/>
                    </a:lnTo>
                    <a:lnTo>
                      <a:pt x="35" y="120"/>
                    </a:lnTo>
                    <a:lnTo>
                      <a:pt x="20" y="142"/>
                    </a:lnTo>
                    <a:lnTo>
                      <a:pt x="0" y="162"/>
                    </a:lnTo>
                    <a:lnTo>
                      <a:pt x="23" y="112"/>
                    </a:lnTo>
                    <a:lnTo>
                      <a:pt x="48" y="67"/>
                    </a:lnTo>
                    <a:lnTo>
                      <a:pt x="48" y="2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30"/>
              <p:cNvSpPr/>
              <p:nvPr/>
            </p:nvSpPr>
            <p:spPr>
              <a:xfrm>
                <a:off x="8312040" y="6648120"/>
                <a:ext cx="12600" cy="24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5" h="160">
                    <a:moveTo>
                      <a:pt x="30" y="0"/>
                    </a:moveTo>
                    <a:lnTo>
                      <a:pt x="45" y="15"/>
                    </a:lnTo>
                    <a:lnTo>
                      <a:pt x="55" y="47"/>
                    </a:lnTo>
                    <a:lnTo>
                      <a:pt x="42" y="77"/>
                    </a:lnTo>
                    <a:lnTo>
                      <a:pt x="15" y="102"/>
                    </a:lnTo>
                    <a:lnTo>
                      <a:pt x="0" y="160"/>
                    </a:lnTo>
                    <a:lnTo>
                      <a:pt x="0" y="92"/>
                    </a:lnTo>
                    <a:lnTo>
                      <a:pt x="22" y="52"/>
                    </a:lnTo>
                    <a:lnTo>
                      <a:pt x="22" y="4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31"/>
              <p:cNvSpPr/>
              <p:nvPr/>
            </p:nvSpPr>
            <p:spPr>
              <a:xfrm>
                <a:off x="8312040" y="6649920"/>
                <a:ext cx="3600" cy="93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58">
                    <a:moveTo>
                      <a:pt x="10" y="0"/>
                    </a:moveTo>
                    <a:lnTo>
                      <a:pt x="15" y="33"/>
                    </a:lnTo>
                    <a:lnTo>
                      <a:pt x="0" y="5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32"/>
              <p:cNvSpPr/>
              <p:nvPr/>
            </p:nvSpPr>
            <p:spPr>
              <a:xfrm>
                <a:off x="8350920" y="6634080"/>
                <a:ext cx="24840" cy="42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07" h="273">
                    <a:moveTo>
                      <a:pt x="15" y="0"/>
                    </a:moveTo>
                    <a:lnTo>
                      <a:pt x="0" y="58"/>
                    </a:lnTo>
                    <a:lnTo>
                      <a:pt x="15" y="95"/>
                    </a:lnTo>
                    <a:lnTo>
                      <a:pt x="20" y="115"/>
                    </a:lnTo>
                    <a:lnTo>
                      <a:pt x="30" y="148"/>
                    </a:lnTo>
                    <a:lnTo>
                      <a:pt x="45" y="190"/>
                    </a:lnTo>
                    <a:lnTo>
                      <a:pt x="60" y="218"/>
                    </a:lnTo>
                    <a:lnTo>
                      <a:pt x="87" y="258"/>
                    </a:lnTo>
                    <a:lnTo>
                      <a:pt x="107" y="273"/>
                    </a:lnTo>
                    <a:lnTo>
                      <a:pt x="82" y="233"/>
                    </a:lnTo>
                    <a:lnTo>
                      <a:pt x="60" y="185"/>
                    </a:lnTo>
                    <a:lnTo>
                      <a:pt x="37" y="133"/>
                    </a:lnTo>
                    <a:lnTo>
                      <a:pt x="25" y="88"/>
                    </a:lnTo>
                    <a:lnTo>
                      <a:pt x="12" y="6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33"/>
              <p:cNvSpPr/>
              <p:nvPr/>
            </p:nvSpPr>
            <p:spPr>
              <a:xfrm>
                <a:off x="8359560" y="6637320"/>
                <a:ext cx="18360" cy="374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0" h="240">
                    <a:moveTo>
                      <a:pt x="55" y="0"/>
                    </a:moveTo>
                    <a:lnTo>
                      <a:pt x="8" y="27"/>
                    </a:lnTo>
                    <a:lnTo>
                      <a:pt x="0" y="55"/>
                    </a:lnTo>
                    <a:lnTo>
                      <a:pt x="0" y="90"/>
                    </a:lnTo>
                    <a:lnTo>
                      <a:pt x="30" y="140"/>
                    </a:lnTo>
                    <a:lnTo>
                      <a:pt x="54" y="190"/>
                    </a:lnTo>
                    <a:lnTo>
                      <a:pt x="70" y="222"/>
                    </a:lnTo>
                    <a:lnTo>
                      <a:pt x="80" y="240"/>
                    </a:lnTo>
                    <a:lnTo>
                      <a:pt x="74" y="197"/>
                    </a:lnTo>
                    <a:lnTo>
                      <a:pt x="55" y="157"/>
                    </a:lnTo>
                    <a:lnTo>
                      <a:pt x="39" y="125"/>
                    </a:lnTo>
                    <a:lnTo>
                      <a:pt x="25" y="105"/>
                    </a:lnTo>
                    <a:lnTo>
                      <a:pt x="13" y="85"/>
                    </a:lnTo>
                    <a:lnTo>
                      <a:pt x="13" y="62"/>
                    </a:lnTo>
                    <a:lnTo>
                      <a:pt x="25" y="3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4"/>
              <p:cNvSpPr/>
              <p:nvPr/>
            </p:nvSpPr>
            <p:spPr>
              <a:xfrm>
                <a:off x="8366040" y="6637320"/>
                <a:ext cx="17280" cy="37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77" h="238">
                    <a:moveTo>
                      <a:pt x="47" y="0"/>
                    </a:moveTo>
                    <a:lnTo>
                      <a:pt x="16" y="30"/>
                    </a:lnTo>
                    <a:lnTo>
                      <a:pt x="0" y="65"/>
                    </a:lnTo>
                    <a:lnTo>
                      <a:pt x="0" y="80"/>
                    </a:lnTo>
                    <a:lnTo>
                      <a:pt x="12" y="103"/>
                    </a:lnTo>
                    <a:lnTo>
                      <a:pt x="42" y="143"/>
                    </a:lnTo>
                    <a:lnTo>
                      <a:pt x="57" y="170"/>
                    </a:lnTo>
                    <a:lnTo>
                      <a:pt x="62" y="198"/>
                    </a:lnTo>
                    <a:lnTo>
                      <a:pt x="62" y="238"/>
                    </a:lnTo>
                    <a:lnTo>
                      <a:pt x="77" y="185"/>
                    </a:lnTo>
                    <a:lnTo>
                      <a:pt x="67" y="148"/>
                    </a:lnTo>
                    <a:lnTo>
                      <a:pt x="41" y="118"/>
                    </a:lnTo>
                    <a:lnTo>
                      <a:pt x="17" y="93"/>
                    </a:lnTo>
                    <a:lnTo>
                      <a:pt x="17" y="75"/>
                    </a:lnTo>
                    <a:lnTo>
                      <a:pt x="22" y="48"/>
                    </a:lnTo>
                    <a:lnTo>
                      <a:pt x="22" y="3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5"/>
              <p:cNvSpPr/>
              <p:nvPr/>
            </p:nvSpPr>
            <p:spPr>
              <a:xfrm>
                <a:off x="8371080" y="6639480"/>
                <a:ext cx="16560" cy="27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4" h="175">
                    <a:moveTo>
                      <a:pt x="74" y="0"/>
                    </a:moveTo>
                    <a:lnTo>
                      <a:pt x="20" y="10"/>
                    </a:lnTo>
                    <a:lnTo>
                      <a:pt x="10" y="30"/>
                    </a:lnTo>
                    <a:lnTo>
                      <a:pt x="0" y="50"/>
                    </a:lnTo>
                    <a:lnTo>
                      <a:pt x="5" y="75"/>
                    </a:lnTo>
                    <a:lnTo>
                      <a:pt x="30" y="102"/>
                    </a:lnTo>
                    <a:lnTo>
                      <a:pt x="45" y="112"/>
                    </a:lnTo>
                    <a:lnTo>
                      <a:pt x="64" y="137"/>
                    </a:lnTo>
                    <a:lnTo>
                      <a:pt x="65" y="175"/>
                    </a:lnTo>
                    <a:lnTo>
                      <a:pt x="74" y="132"/>
                    </a:lnTo>
                    <a:lnTo>
                      <a:pt x="64" y="105"/>
                    </a:lnTo>
                    <a:lnTo>
                      <a:pt x="35" y="87"/>
                    </a:lnTo>
                    <a:lnTo>
                      <a:pt x="19" y="67"/>
                    </a:lnTo>
                    <a:lnTo>
                      <a:pt x="15" y="47"/>
                    </a:lnTo>
                    <a:lnTo>
                      <a:pt x="25" y="22"/>
                    </a:lnTo>
                    <a:lnTo>
                      <a:pt x="45" y="1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6"/>
              <p:cNvSpPr/>
              <p:nvPr/>
            </p:nvSpPr>
            <p:spPr>
              <a:xfrm>
                <a:off x="8377560" y="6649200"/>
                <a:ext cx="14040" cy="14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61" h="93">
                    <a:moveTo>
                      <a:pt x="0" y="0"/>
                    </a:moveTo>
                    <a:lnTo>
                      <a:pt x="30" y="13"/>
                    </a:lnTo>
                    <a:lnTo>
                      <a:pt x="46" y="38"/>
                    </a:lnTo>
                    <a:lnTo>
                      <a:pt x="51" y="93"/>
                    </a:lnTo>
                    <a:lnTo>
                      <a:pt x="61" y="65"/>
                    </a:lnTo>
                    <a:lnTo>
                      <a:pt x="61" y="38"/>
                    </a:lnTo>
                    <a:lnTo>
                      <a:pt x="51" y="1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7"/>
              <p:cNvSpPr/>
              <p:nvPr/>
            </p:nvSpPr>
            <p:spPr>
              <a:xfrm>
                <a:off x="8378280" y="6644160"/>
                <a:ext cx="17640" cy="165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105">
                    <a:moveTo>
                      <a:pt x="10" y="0"/>
                    </a:moveTo>
                    <a:lnTo>
                      <a:pt x="0" y="20"/>
                    </a:lnTo>
                    <a:lnTo>
                      <a:pt x="25" y="25"/>
                    </a:lnTo>
                    <a:lnTo>
                      <a:pt x="49" y="32"/>
                    </a:lnTo>
                    <a:lnTo>
                      <a:pt x="65" y="55"/>
                    </a:lnTo>
                    <a:lnTo>
                      <a:pt x="65" y="67"/>
                    </a:lnTo>
                    <a:lnTo>
                      <a:pt x="69" y="105"/>
                    </a:lnTo>
                    <a:lnTo>
                      <a:pt x="79" y="57"/>
                    </a:lnTo>
                    <a:lnTo>
                      <a:pt x="69" y="27"/>
                    </a:lnTo>
                    <a:lnTo>
                      <a:pt x="54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8"/>
              <p:cNvSpPr/>
              <p:nvPr/>
            </p:nvSpPr>
            <p:spPr>
              <a:xfrm>
                <a:off x="8340840" y="6605280"/>
                <a:ext cx="14040" cy="41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60" h="267">
                    <a:moveTo>
                      <a:pt x="35" y="267"/>
                    </a:moveTo>
                    <a:lnTo>
                      <a:pt x="5" y="220"/>
                    </a:lnTo>
                    <a:lnTo>
                      <a:pt x="0" y="185"/>
                    </a:lnTo>
                    <a:lnTo>
                      <a:pt x="0" y="147"/>
                    </a:lnTo>
                    <a:lnTo>
                      <a:pt x="8" y="107"/>
                    </a:lnTo>
                    <a:lnTo>
                      <a:pt x="15" y="60"/>
                    </a:lnTo>
                    <a:lnTo>
                      <a:pt x="60" y="0"/>
                    </a:lnTo>
                    <a:lnTo>
                      <a:pt x="23" y="77"/>
                    </a:lnTo>
                    <a:lnTo>
                      <a:pt x="23" y="147"/>
                    </a:lnTo>
                    <a:lnTo>
                      <a:pt x="23" y="192"/>
                    </a:lnTo>
                    <a:lnTo>
                      <a:pt x="23" y="215"/>
                    </a:lnTo>
                    <a:lnTo>
                      <a:pt x="35" y="26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9"/>
              <p:cNvSpPr/>
              <p:nvPr/>
            </p:nvSpPr>
            <p:spPr>
              <a:xfrm>
                <a:off x="8401680" y="6612480"/>
                <a:ext cx="52200" cy="579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7" h="370">
                    <a:moveTo>
                      <a:pt x="227" y="370"/>
                    </a:moveTo>
                    <a:lnTo>
                      <a:pt x="187" y="358"/>
                    </a:lnTo>
                    <a:lnTo>
                      <a:pt x="127" y="355"/>
                    </a:lnTo>
                    <a:lnTo>
                      <a:pt x="97" y="348"/>
                    </a:lnTo>
                    <a:lnTo>
                      <a:pt x="55" y="325"/>
                    </a:lnTo>
                    <a:lnTo>
                      <a:pt x="32" y="318"/>
                    </a:lnTo>
                    <a:lnTo>
                      <a:pt x="6" y="273"/>
                    </a:lnTo>
                    <a:lnTo>
                      <a:pt x="0" y="218"/>
                    </a:lnTo>
                    <a:lnTo>
                      <a:pt x="11" y="175"/>
                    </a:lnTo>
                    <a:lnTo>
                      <a:pt x="26" y="140"/>
                    </a:lnTo>
                    <a:lnTo>
                      <a:pt x="70" y="93"/>
                    </a:lnTo>
                    <a:lnTo>
                      <a:pt x="107" y="0"/>
                    </a:lnTo>
                    <a:lnTo>
                      <a:pt x="90" y="73"/>
                    </a:lnTo>
                    <a:lnTo>
                      <a:pt x="62" y="118"/>
                    </a:lnTo>
                    <a:lnTo>
                      <a:pt x="35" y="155"/>
                    </a:lnTo>
                    <a:lnTo>
                      <a:pt x="21" y="188"/>
                    </a:lnTo>
                    <a:lnTo>
                      <a:pt x="21" y="225"/>
                    </a:lnTo>
                    <a:lnTo>
                      <a:pt x="26" y="275"/>
                    </a:lnTo>
                    <a:lnTo>
                      <a:pt x="60" y="323"/>
                    </a:lnTo>
                    <a:lnTo>
                      <a:pt x="107" y="340"/>
                    </a:lnTo>
                    <a:lnTo>
                      <a:pt x="175" y="353"/>
                    </a:lnTo>
                    <a:lnTo>
                      <a:pt x="227" y="37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40"/>
              <p:cNvSpPr/>
              <p:nvPr/>
            </p:nvSpPr>
            <p:spPr>
              <a:xfrm>
                <a:off x="8408520" y="6631920"/>
                <a:ext cx="47160" cy="37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05" h="240">
                    <a:moveTo>
                      <a:pt x="205" y="240"/>
                    </a:moveTo>
                    <a:lnTo>
                      <a:pt x="180" y="220"/>
                    </a:lnTo>
                    <a:lnTo>
                      <a:pt x="137" y="215"/>
                    </a:lnTo>
                    <a:lnTo>
                      <a:pt x="90" y="210"/>
                    </a:lnTo>
                    <a:lnTo>
                      <a:pt x="57" y="195"/>
                    </a:lnTo>
                    <a:lnTo>
                      <a:pt x="12" y="168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2" y="63"/>
                    </a:lnTo>
                    <a:lnTo>
                      <a:pt x="35" y="20"/>
                    </a:lnTo>
                    <a:lnTo>
                      <a:pt x="85" y="0"/>
                    </a:lnTo>
                    <a:lnTo>
                      <a:pt x="117" y="18"/>
                    </a:lnTo>
                    <a:lnTo>
                      <a:pt x="117" y="40"/>
                    </a:lnTo>
                    <a:lnTo>
                      <a:pt x="137" y="88"/>
                    </a:lnTo>
                    <a:lnTo>
                      <a:pt x="145" y="113"/>
                    </a:lnTo>
                    <a:lnTo>
                      <a:pt x="142" y="130"/>
                    </a:lnTo>
                    <a:lnTo>
                      <a:pt x="132" y="108"/>
                    </a:lnTo>
                    <a:lnTo>
                      <a:pt x="107" y="55"/>
                    </a:lnTo>
                    <a:lnTo>
                      <a:pt x="100" y="33"/>
                    </a:lnTo>
                    <a:lnTo>
                      <a:pt x="90" y="15"/>
                    </a:lnTo>
                    <a:lnTo>
                      <a:pt x="35" y="40"/>
                    </a:lnTo>
                    <a:lnTo>
                      <a:pt x="15" y="65"/>
                    </a:lnTo>
                    <a:lnTo>
                      <a:pt x="15" y="113"/>
                    </a:lnTo>
                    <a:lnTo>
                      <a:pt x="25" y="150"/>
                    </a:lnTo>
                    <a:lnTo>
                      <a:pt x="65" y="180"/>
                    </a:lnTo>
                    <a:lnTo>
                      <a:pt x="122" y="200"/>
                    </a:lnTo>
                    <a:lnTo>
                      <a:pt x="177" y="203"/>
                    </a:lnTo>
                    <a:lnTo>
                      <a:pt x="205" y="2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41"/>
              <p:cNvSpPr/>
              <p:nvPr/>
            </p:nvSpPr>
            <p:spPr>
              <a:xfrm>
                <a:off x="8415000" y="6638400"/>
                <a:ext cx="19080" cy="20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85" h="135">
                    <a:moveTo>
                      <a:pt x="85" y="40"/>
                    </a:moveTo>
                    <a:lnTo>
                      <a:pt x="65" y="3"/>
                    </a:lnTo>
                    <a:lnTo>
                      <a:pt x="45" y="0"/>
                    </a:lnTo>
                    <a:lnTo>
                      <a:pt x="13" y="10"/>
                    </a:lnTo>
                    <a:lnTo>
                      <a:pt x="0" y="40"/>
                    </a:lnTo>
                    <a:lnTo>
                      <a:pt x="3" y="70"/>
                    </a:lnTo>
                    <a:lnTo>
                      <a:pt x="3" y="100"/>
                    </a:lnTo>
                    <a:lnTo>
                      <a:pt x="30" y="120"/>
                    </a:lnTo>
                    <a:lnTo>
                      <a:pt x="60" y="135"/>
                    </a:lnTo>
                    <a:lnTo>
                      <a:pt x="28" y="100"/>
                    </a:lnTo>
                    <a:lnTo>
                      <a:pt x="18" y="78"/>
                    </a:lnTo>
                    <a:lnTo>
                      <a:pt x="18" y="40"/>
                    </a:lnTo>
                    <a:lnTo>
                      <a:pt x="33" y="20"/>
                    </a:lnTo>
                    <a:lnTo>
                      <a:pt x="85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42"/>
              <p:cNvSpPr/>
              <p:nvPr/>
            </p:nvSpPr>
            <p:spPr>
              <a:xfrm>
                <a:off x="8420400" y="6645240"/>
                <a:ext cx="32040" cy="169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38" h="110">
                    <a:moveTo>
                      <a:pt x="75" y="47"/>
                    </a:moveTo>
                    <a:lnTo>
                      <a:pt x="55" y="7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" y="37"/>
                    </a:lnTo>
                    <a:lnTo>
                      <a:pt x="20" y="57"/>
                    </a:lnTo>
                    <a:lnTo>
                      <a:pt x="40" y="85"/>
                    </a:lnTo>
                    <a:lnTo>
                      <a:pt x="53" y="100"/>
                    </a:lnTo>
                    <a:lnTo>
                      <a:pt x="100" y="110"/>
                    </a:lnTo>
                    <a:lnTo>
                      <a:pt x="138" y="110"/>
                    </a:lnTo>
                    <a:lnTo>
                      <a:pt x="95" y="97"/>
                    </a:lnTo>
                    <a:lnTo>
                      <a:pt x="60" y="87"/>
                    </a:lnTo>
                    <a:lnTo>
                      <a:pt x="28" y="47"/>
                    </a:lnTo>
                    <a:lnTo>
                      <a:pt x="25" y="35"/>
                    </a:lnTo>
                    <a:lnTo>
                      <a:pt x="30" y="20"/>
                    </a:lnTo>
                    <a:lnTo>
                      <a:pt x="75" y="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43"/>
              <p:cNvSpPr/>
              <p:nvPr/>
            </p:nvSpPr>
            <p:spPr>
              <a:xfrm>
                <a:off x="8431200" y="6652800"/>
                <a:ext cx="15840" cy="6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0" y="0"/>
                    </a:moveTo>
                    <a:lnTo>
                      <a:pt x="15" y="20"/>
                    </a:lnTo>
                    <a:lnTo>
                      <a:pt x="30" y="32"/>
                    </a:lnTo>
                    <a:lnTo>
                      <a:pt x="70" y="40"/>
                    </a:lnTo>
                    <a:lnTo>
                      <a:pt x="43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4"/>
              <p:cNvSpPr/>
              <p:nvPr/>
            </p:nvSpPr>
            <p:spPr>
              <a:xfrm>
                <a:off x="8440200" y="6604560"/>
                <a:ext cx="9000" cy="45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0" h="288">
                    <a:moveTo>
                      <a:pt x="28" y="288"/>
                    </a:moveTo>
                    <a:lnTo>
                      <a:pt x="0" y="228"/>
                    </a:lnTo>
                    <a:lnTo>
                      <a:pt x="5" y="178"/>
                    </a:lnTo>
                    <a:lnTo>
                      <a:pt x="20" y="135"/>
                    </a:lnTo>
                    <a:lnTo>
                      <a:pt x="25" y="108"/>
                    </a:lnTo>
                    <a:lnTo>
                      <a:pt x="28" y="48"/>
                    </a:lnTo>
                    <a:lnTo>
                      <a:pt x="25" y="0"/>
                    </a:lnTo>
                    <a:lnTo>
                      <a:pt x="40" y="65"/>
                    </a:lnTo>
                    <a:lnTo>
                      <a:pt x="40" y="113"/>
                    </a:lnTo>
                    <a:lnTo>
                      <a:pt x="35" y="145"/>
                    </a:lnTo>
                    <a:lnTo>
                      <a:pt x="18" y="190"/>
                    </a:lnTo>
                    <a:lnTo>
                      <a:pt x="15" y="220"/>
                    </a:lnTo>
                    <a:lnTo>
                      <a:pt x="28" y="2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Freeform 45"/>
              <p:cNvSpPr/>
              <p:nvPr/>
            </p:nvSpPr>
            <p:spPr>
              <a:xfrm>
                <a:off x="8445960" y="6614640"/>
                <a:ext cx="6840" cy="352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2" h="225">
                    <a:moveTo>
                      <a:pt x="27" y="225"/>
                    </a:moveTo>
                    <a:lnTo>
                      <a:pt x="15" y="210"/>
                    </a:lnTo>
                    <a:lnTo>
                      <a:pt x="0" y="170"/>
                    </a:lnTo>
                    <a:lnTo>
                      <a:pt x="0" y="150"/>
                    </a:lnTo>
                    <a:lnTo>
                      <a:pt x="15" y="97"/>
                    </a:lnTo>
                    <a:lnTo>
                      <a:pt x="25" y="65"/>
                    </a:lnTo>
                    <a:lnTo>
                      <a:pt x="25" y="0"/>
                    </a:lnTo>
                    <a:lnTo>
                      <a:pt x="32" y="80"/>
                    </a:lnTo>
                    <a:lnTo>
                      <a:pt x="25" y="117"/>
                    </a:lnTo>
                    <a:lnTo>
                      <a:pt x="20" y="165"/>
                    </a:lnTo>
                    <a:lnTo>
                      <a:pt x="27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Freeform 46"/>
              <p:cNvSpPr/>
              <p:nvPr/>
            </p:nvSpPr>
            <p:spPr>
              <a:xfrm>
                <a:off x="8451720" y="6627960"/>
                <a:ext cx="7560" cy="21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3" h="138">
                    <a:moveTo>
                      <a:pt x="33" y="138"/>
                    </a:moveTo>
                    <a:lnTo>
                      <a:pt x="10" y="133"/>
                    </a:lnTo>
                    <a:lnTo>
                      <a:pt x="0" y="105"/>
                    </a:lnTo>
                    <a:lnTo>
                      <a:pt x="3" y="53"/>
                    </a:lnTo>
                    <a:lnTo>
                      <a:pt x="8" y="35"/>
                    </a:lnTo>
                    <a:lnTo>
                      <a:pt x="13" y="0"/>
                    </a:lnTo>
                    <a:lnTo>
                      <a:pt x="18" y="43"/>
                    </a:lnTo>
                    <a:lnTo>
                      <a:pt x="18" y="78"/>
                    </a:lnTo>
                    <a:lnTo>
                      <a:pt x="23" y="10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Freeform 47"/>
              <p:cNvSpPr/>
              <p:nvPr/>
            </p:nvSpPr>
            <p:spPr>
              <a:xfrm>
                <a:off x="8457480" y="6631200"/>
                <a:ext cx="41760" cy="313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2" h="202">
                    <a:moveTo>
                      <a:pt x="17" y="0"/>
                    </a:moveTo>
                    <a:lnTo>
                      <a:pt x="0" y="10"/>
                    </a:lnTo>
                    <a:lnTo>
                      <a:pt x="0" y="40"/>
                    </a:lnTo>
                    <a:lnTo>
                      <a:pt x="12" y="87"/>
                    </a:lnTo>
                    <a:lnTo>
                      <a:pt x="17" y="115"/>
                    </a:lnTo>
                    <a:lnTo>
                      <a:pt x="27" y="130"/>
                    </a:lnTo>
                    <a:lnTo>
                      <a:pt x="77" y="155"/>
                    </a:lnTo>
                    <a:lnTo>
                      <a:pt x="115" y="182"/>
                    </a:lnTo>
                    <a:lnTo>
                      <a:pt x="151" y="202"/>
                    </a:lnTo>
                    <a:lnTo>
                      <a:pt x="182" y="197"/>
                    </a:lnTo>
                    <a:lnTo>
                      <a:pt x="132" y="180"/>
                    </a:lnTo>
                    <a:lnTo>
                      <a:pt x="110" y="160"/>
                    </a:lnTo>
                    <a:lnTo>
                      <a:pt x="72" y="137"/>
                    </a:lnTo>
                    <a:lnTo>
                      <a:pt x="35" y="120"/>
                    </a:lnTo>
                    <a:lnTo>
                      <a:pt x="20" y="95"/>
                    </a:lnTo>
                    <a:lnTo>
                      <a:pt x="15" y="57"/>
                    </a:lnTo>
                    <a:lnTo>
                      <a:pt x="10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Freeform 48"/>
              <p:cNvSpPr/>
              <p:nvPr/>
            </p:nvSpPr>
            <p:spPr>
              <a:xfrm>
                <a:off x="8462880" y="6634080"/>
                <a:ext cx="33840" cy="255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2" y="0"/>
                    </a:moveTo>
                    <a:lnTo>
                      <a:pt x="0" y="22"/>
                    </a:lnTo>
                    <a:lnTo>
                      <a:pt x="10" y="67"/>
                    </a:lnTo>
                    <a:lnTo>
                      <a:pt x="17" y="82"/>
                    </a:lnTo>
                    <a:lnTo>
                      <a:pt x="45" y="102"/>
                    </a:lnTo>
                    <a:lnTo>
                      <a:pt x="82" y="117"/>
                    </a:lnTo>
                    <a:lnTo>
                      <a:pt x="97" y="137"/>
                    </a:lnTo>
                    <a:lnTo>
                      <a:pt x="137" y="162"/>
                    </a:lnTo>
                    <a:lnTo>
                      <a:pt x="147" y="165"/>
                    </a:lnTo>
                    <a:lnTo>
                      <a:pt x="127" y="140"/>
                    </a:lnTo>
                    <a:lnTo>
                      <a:pt x="92" y="110"/>
                    </a:lnTo>
                    <a:lnTo>
                      <a:pt x="87" y="92"/>
                    </a:lnTo>
                    <a:lnTo>
                      <a:pt x="65" y="75"/>
                    </a:lnTo>
                    <a:lnTo>
                      <a:pt x="35" y="60"/>
                    </a:lnTo>
                    <a:lnTo>
                      <a:pt x="22" y="52"/>
                    </a:lnTo>
                    <a:lnTo>
                      <a:pt x="1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Freeform 49"/>
              <p:cNvSpPr/>
              <p:nvPr/>
            </p:nvSpPr>
            <p:spPr>
              <a:xfrm>
                <a:off x="8287560" y="6559200"/>
                <a:ext cx="21960" cy="80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95" h="514">
                    <a:moveTo>
                      <a:pt x="95" y="514"/>
                    </a:moveTo>
                    <a:lnTo>
                      <a:pt x="85" y="479"/>
                    </a:lnTo>
                    <a:lnTo>
                      <a:pt x="75" y="429"/>
                    </a:lnTo>
                    <a:lnTo>
                      <a:pt x="67" y="376"/>
                    </a:lnTo>
                    <a:lnTo>
                      <a:pt x="62" y="344"/>
                    </a:lnTo>
                    <a:lnTo>
                      <a:pt x="60" y="309"/>
                    </a:lnTo>
                    <a:lnTo>
                      <a:pt x="50" y="289"/>
                    </a:lnTo>
                    <a:lnTo>
                      <a:pt x="30" y="254"/>
                    </a:lnTo>
                    <a:lnTo>
                      <a:pt x="20" y="226"/>
                    </a:lnTo>
                    <a:lnTo>
                      <a:pt x="20" y="169"/>
                    </a:lnTo>
                    <a:lnTo>
                      <a:pt x="20" y="89"/>
                    </a:lnTo>
                    <a:lnTo>
                      <a:pt x="0" y="0"/>
                    </a:lnTo>
                    <a:lnTo>
                      <a:pt x="37" y="79"/>
                    </a:lnTo>
                    <a:lnTo>
                      <a:pt x="30" y="145"/>
                    </a:lnTo>
                    <a:lnTo>
                      <a:pt x="37" y="205"/>
                    </a:lnTo>
                    <a:lnTo>
                      <a:pt x="57" y="261"/>
                    </a:lnTo>
                    <a:lnTo>
                      <a:pt x="82" y="326"/>
                    </a:lnTo>
                    <a:lnTo>
                      <a:pt x="85" y="401"/>
                    </a:lnTo>
                    <a:lnTo>
                      <a:pt x="95" y="51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Freeform 50"/>
              <p:cNvSpPr/>
              <p:nvPr/>
            </p:nvSpPr>
            <p:spPr>
              <a:xfrm>
                <a:off x="8299440" y="6542640"/>
                <a:ext cx="20160" cy="9360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6" h="601">
                    <a:moveTo>
                      <a:pt x="71" y="601"/>
                    </a:moveTo>
                    <a:lnTo>
                      <a:pt x="66" y="531"/>
                    </a:lnTo>
                    <a:lnTo>
                      <a:pt x="61" y="461"/>
                    </a:lnTo>
                    <a:lnTo>
                      <a:pt x="40" y="374"/>
                    </a:lnTo>
                    <a:lnTo>
                      <a:pt x="10" y="311"/>
                    </a:lnTo>
                    <a:lnTo>
                      <a:pt x="16" y="239"/>
                    </a:lnTo>
                    <a:lnTo>
                      <a:pt x="21" y="144"/>
                    </a:lnTo>
                    <a:lnTo>
                      <a:pt x="6" y="91"/>
                    </a:lnTo>
                    <a:lnTo>
                      <a:pt x="0" y="0"/>
                    </a:lnTo>
                    <a:lnTo>
                      <a:pt x="51" y="146"/>
                    </a:lnTo>
                    <a:lnTo>
                      <a:pt x="41" y="226"/>
                    </a:lnTo>
                    <a:lnTo>
                      <a:pt x="36" y="319"/>
                    </a:lnTo>
                    <a:lnTo>
                      <a:pt x="86" y="424"/>
                    </a:lnTo>
                    <a:lnTo>
                      <a:pt x="81" y="481"/>
                    </a:lnTo>
                    <a:lnTo>
                      <a:pt x="71" y="60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Freeform 51"/>
              <p:cNvSpPr/>
              <p:nvPr/>
            </p:nvSpPr>
            <p:spPr>
              <a:xfrm>
                <a:off x="8316000" y="6556320"/>
                <a:ext cx="19080" cy="81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84" h="517">
                    <a:moveTo>
                      <a:pt x="84" y="517"/>
                    </a:moveTo>
                    <a:lnTo>
                      <a:pt x="49" y="510"/>
                    </a:lnTo>
                    <a:lnTo>
                      <a:pt x="25" y="477"/>
                    </a:lnTo>
                    <a:lnTo>
                      <a:pt x="30" y="405"/>
                    </a:lnTo>
                    <a:lnTo>
                      <a:pt x="49" y="310"/>
                    </a:lnTo>
                    <a:lnTo>
                      <a:pt x="5" y="257"/>
                    </a:lnTo>
                    <a:lnTo>
                      <a:pt x="0" y="215"/>
                    </a:lnTo>
                    <a:lnTo>
                      <a:pt x="5" y="140"/>
                    </a:lnTo>
                    <a:lnTo>
                      <a:pt x="10" y="77"/>
                    </a:lnTo>
                    <a:lnTo>
                      <a:pt x="0" y="0"/>
                    </a:lnTo>
                    <a:lnTo>
                      <a:pt x="29" y="132"/>
                    </a:lnTo>
                    <a:lnTo>
                      <a:pt x="25" y="215"/>
                    </a:lnTo>
                    <a:lnTo>
                      <a:pt x="30" y="260"/>
                    </a:lnTo>
                    <a:lnTo>
                      <a:pt x="81" y="322"/>
                    </a:lnTo>
                    <a:lnTo>
                      <a:pt x="59" y="377"/>
                    </a:lnTo>
                    <a:lnTo>
                      <a:pt x="51" y="442"/>
                    </a:lnTo>
                    <a:lnTo>
                      <a:pt x="84" y="51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Freeform 52"/>
              <p:cNvSpPr/>
              <p:nvPr/>
            </p:nvSpPr>
            <p:spPr>
              <a:xfrm>
                <a:off x="8326440" y="6531840"/>
                <a:ext cx="16200" cy="946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73" h="605">
                    <a:moveTo>
                      <a:pt x="30" y="605"/>
                    </a:moveTo>
                    <a:lnTo>
                      <a:pt x="25" y="560"/>
                    </a:lnTo>
                    <a:lnTo>
                      <a:pt x="50" y="510"/>
                    </a:lnTo>
                    <a:lnTo>
                      <a:pt x="60" y="462"/>
                    </a:lnTo>
                    <a:lnTo>
                      <a:pt x="53" y="405"/>
                    </a:lnTo>
                    <a:lnTo>
                      <a:pt x="23" y="302"/>
                    </a:lnTo>
                    <a:lnTo>
                      <a:pt x="20" y="220"/>
                    </a:lnTo>
                    <a:lnTo>
                      <a:pt x="43" y="147"/>
                    </a:lnTo>
                    <a:lnTo>
                      <a:pt x="38" y="65"/>
                    </a:lnTo>
                    <a:lnTo>
                      <a:pt x="0" y="0"/>
                    </a:lnTo>
                    <a:lnTo>
                      <a:pt x="68" y="50"/>
                    </a:lnTo>
                    <a:lnTo>
                      <a:pt x="73" y="127"/>
                    </a:lnTo>
                    <a:lnTo>
                      <a:pt x="60" y="235"/>
                    </a:lnTo>
                    <a:lnTo>
                      <a:pt x="60" y="295"/>
                    </a:lnTo>
                    <a:lnTo>
                      <a:pt x="70" y="365"/>
                    </a:lnTo>
                    <a:lnTo>
                      <a:pt x="70" y="462"/>
                    </a:lnTo>
                    <a:lnTo>
                      <a:pt x="63" y="530"/>
                    </a:lnTo>
                    <a:lnTo>
                      <a:pt x="30" y="6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Freeform 53"/>
              <p:cNvSpPr/>
              <p:nvPr/>
            </p:nvSpPr>
            <p:spPr>
              <a:xfrm>
                <a:off x="8345880" y="6549120"/>
                <a:ext cx="13680" cy="81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8" h="520">
                    <a:moveTo>
                      <a:pt x="33" y="520"/>
                    </a:moveTo>
                    <a:lnTo>
                      <a:pt x="43" y="455"/>
                    </a:lnTo>
                    <a:lnTo>
                      <a:pt x="45" y="370"/>
                    </a:lnTo>
                    <a:lnTo>
                      <a:pt x="28" y="317"/>
                    </a:lnTo>
                    <a:lnTo>
                      <a:pt x="23" y="245"/>
                    </a:lnTo>
                    <a:lnTo>
                      <a:pt x="0" y="170"/>
                    </a:lnTo>
                    <a:lnTo>
                      <a:pt x="20" y="82"/>
                    </a:lnTo>
                    <a:lnTo>
                      <a:pt x="40" y="0"/>
                    </a:lnTo>
                    <a:lnTo>
                      <a:pt x="35" y="115"/>
                    </a:lnTo>
                    <a:lnTo>
                      <a:pt x="33" y="170"/>
                    </a:lnTo>
                    <a:lnTo>
                      <a:pt x="50" y="302"/>
                    </a:lnTo>
                    <a:lnTo>
                      <a:pt x="55" y="357"/>
                    </a:lnTo>
                    <a:lnTo>
                      <a:pt x="58" y="450"/>
                    </a:lnTo>
                    <a:lnTo>
                      <a:pt x="33" y="5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Freeform 54"/>
              <p:cNvSpPr/>
              <p:nvPr/>
            </p:nvSpPr>
            <p:spPr>
              <a:xfrm>
                <a:off x="8358480" y="6580800"/>
                <a:ext cx="15120" cy="5832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65" h="376">
                    <a:moveTo>
                      <a:pt x="0" y="376"/>
                    </a:moveTo>
                    <a:lnTo>
                      <a:pt x="5" y="317"/>
                    </a:lnTo>
                    <a:lnTo>
                      <a:pt x="22" y="242"/>
                    </a:lnTo>
                    <a:lnTo>
                      <a:pt x="30" y="130"/>
                    </a:lnTo>
                    <a:lnTo>
                      <a:pt x="17" y="92"/>
                    </a:lnTo>
                    <a:lnTo>
                      <a:pt x="22" y="0"/>
                    </a:lnTo>
                    <a:lnTo>
                      <a:pt x="60" y="130"/>
                    </a:lnTo>
                    <a:lnTo>
                      <a:pt x="65" y="232"/>
                    </a:lnTo>
                    <a:lnTo>
                      <a:pt x="17" y="327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Freeform 55"/>
              <p:cNvSpPr/>
              <p:nvPr/>
            </p:nvSpPr>
            <p:spPr>
              <a:xfrm>
                <a:off x="8370000" y="6550560"/>
                <a:ext cx="18720" cy="83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2" h="532">
                    <a:moveTo>
                      <a:pt x="0" y="532"/>
                    </a:moveTo>
                    <a:lnTo>
                      <a:pt x="37" y="452"/>
                    </a:lnTo>
                    <a:lnTo>
                      <a:pt x="62" y="367"/>
                    </a:lnTo>
                    <a:lnTo>
                      <a:pt x="35" y="237"/>
                    </a:lnTo>
                    <a:lnTo>
                      <a:pt x="40" y="152"/>
                    </a:lnTo>
                    <a:lnTo>
                      <a:pt x="30" y="60"/>
                    </a:lnTo>
                    <a:lnTo>
                      <a:pt x="40" y="0"/>
                    </a:lnTo>
                    <a:lnTo>
                      <a:pt x="67" y="147"/>
                    </a:lnTo>
                    <a:lnTo>
                      <a:pt x="52" y="262"/>
                    </a:lnTo>
                    <a:lnTo>
                      <a:pt x="72" y="322"/>
                    </a:lnTo>
                    <a:lnTo>
                      <a:pt x="82" y="390"/>
                    </a:lnTo>
                    <a:lnTo>
                      <a:pt x="50" y="465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56"/>
              <p:cNvSpPr/>
              <p:nvPr/>
            </p:nvSpPr>
            <p:spPr>
              <a:xfrm>
                <a:off x="8377200" y="6559560"/>
                <a:ext cx="22680" cy="76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00" h="492">
                    <a:moveTo>
                      <a:pt x="0" y="492"/>
                    </a:moveTo>
                    <a:lnTo>
                      <a:pt x="28" y="440"/>
                    </a:lnTo>
                    <a:lnTo>
                      <a:pt x="48" y="380"/>
                    </a:lnTo>
                    <a:lnTo>
                      <a:pt x="73" y="310"/>
                    </a:lnTo>
                    <a:lnTo>
                      <a:pt x="55" y="247"/>
                    </a:lnTo>
                    <a:lnTo>
                      <a:pt x="55" y="195"/>
                    </a:lnTo>
                    <a:lnTo>
                      <a:pt x="55" y="117"/>
                    </a:lnTo>
                    <a:lnTo>
                      <a:pt x="83" y="0"/>
                    </a:lnTo>
                    <a:lnTo>
                      <a:pt x="80" y="155"/>
                    </a:lnTo>
                    <a:lnTo>
                      <a:pt x="90" y="245"/>
                    </a:lnTo>
                    <a:lnTo>
                      <a:pt x="100" y="307"/>
                    </a:lnTo>
                    <a:lnTo>
                      <a:pt x="90" y="375"/>
                    </a:lnTo>
                    <a:lnTo>
                      <a:pt x="50" y="437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57"/>
              <p:cNvSpPr/>
              <p:nvPr/>
            </p:nvSpPr>
            <p:spPr>
              <a:xfrm>
                <a:off x="8390160" y="6564600"/>
                <a:ext cx="23400" cy="788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104" h="504">
                    <a:moveTo>
                      <a:pt x="18" y="504"/>
                    </a:moveTo>
                    <a:lnTo>
                      <a:pt x="0" y="470"/>
                    </a:lnTo>
                    <a:lnTo>
                      <a:pt x="5" y="430"/>
                    </a:lnTo>
                    <a:lnTo>
                      <a:pt x="15" y="395"/>
                    </a:lnTo>
                    <a:lnTo>
                      <a:pt x="50" y="368"/>
                    </a:lnTo>
                    <a:lnTo>
                      <a:pt x="80" y="295"/>
                    </a:lnTo>
                    <a:lnTo>
                      <a:pt x="78" y="200"/>
                    </a:lnTo>
                    <a:lnTo>
                      <a:pt x="58" y="123"/>
                    </a:lnTo>
                    <a:lnTo>
                      <a:pt x="53" y="60"/>
                    </a:lnTo>
                    <a:lnTo>
                      <a:pt x="73" y="0"/>
                    </a:lnTo>
                    <a:lnTo>
                      <a:pt x="80" y="105"/>
                    </a:lnTo>
                    <a:lnTo>
                      <a:pt x="104" y="228"/>
                    </a:lnTo>
                    <a:lnTo>
                      <a:pt x="99" y="318"/>
                    </a:lnTo>
                    <a:lnTo>
                      <a:pt x="40" y="408"/>
                    </a:lnTo>
                    <a:lnTo>
                      <a:pt x="18" y="448"/>
                    </a:lnTo>
                    <a:lnTo>
                      <a:pt x="18" y="50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58"/>
              <p:cNvSpPr/>
              <p:nvPr/>
            </p:nvSpPr>
            <p:spPr>
              <a:xfrm>
                <a:off x="8401680" y="6591600"/>
                <a:ext cx="20880" cy="41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94" h="265">
                    <a:moveTo>
                      <a:pt x="0" y="265"/>
                    </a:moveTo>
                    <a:lnTo>
                      <a:pt x="35" y="210"/>
                    </a:lnTo>
                    <a:lnTo>
                      <a:pt x="65" y="145"/>
                    </a:lnTo>
                    <a:lnTo>
                      <a:pt x="70" y="75"/>
                    </a:lnTo>
                    <a:lnTo>
                      <a:pt x="65" y="0"/>
                    </a:lnTo>
                    <a:lnTo>
                      <a:pt x="94" y="115"/>
                    </a:lnTo>
                    <a:lnTo>
                      <a:pt x="74" y="173"/>
                    </a:lnTo>
                    <a:lnTo>
                      <a:pt x="50" y="218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59"/>
              <p:cNvSpPr/>
              <p:nvPr/>
            </p:nvSpPr>
            <p:spPr>
              <a:xfrm>
                <a:off x="8413200" y="6575040"/>
                <a:ext cx="21600" cy="543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5" h="347">
                    <a:moveTo>
                      <a:pt x="39" y="347"/>
                    </a:moveTo>
                    <a:lnTo>
                      <a:pt x="69" y="297"/>
                    </a:lnTo>
                    <a:lnTo>
                      <a:pt x="79" y="225"/>
                    </a:lnTo>
                    <a:lnTo>
                      <a:pt x="50" y="165"/>
                    </a:lnTo>
                    <a:lnTo>
                      <a:pt x="25" y="105"/>
                    </a:lnTo>
                    <a:lnTo>
                      <a:pt x="4" y="65"/>
                    </a:lnTo>
                    <a:lnTo>
                      <a:pt x="0" y="0"/>
                    </a:lnTo>
                    <a:lnTo>
                      <a:pt x="35" y="87"/>
                    </a:lnTo>
                    <a:lnTo>
                      <a:pt x="75" y="165"/>
                    </a:lnTo>
                    <a:lnTo>
                      <a:pt x="95" y="220"/>
                    </a:lnTo>
                    <a:lnTo>
                      <a:pt x="94" y="262"/>
                    </a:lnTo>
                    <a:lnTo>
                      <a:pt x="84" y="307"/>
                    </a:lnTo>
                    <a:lnTo>
                      <a:pt x="39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60"/>
              <p:cNvSpPr/>
              <p:nvPr/>
            </p:nvSpPr>
            <p:spPr>
              <a:xfrm>
                <a:off x="8428680" y="6555240"/>
                <a:ext cx="12600" cy="74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56" h="477">
                    <a:moveTo>
                      <a:pt x="0" y="477"/>
                    </a:moveTo>
                    <a:lnTo>
                      <a:pt x="25" y="442"/>
                    </a:lnTo>
                    <a:lnTo>
                      <a:pt x="35" y="402"/>
                    </a:lnTo>
                    <a:lnTo>
                      <a:pt x="40" y="335"/>
                    </a:lnTo>
                    <a:lnTo>
                      <a:pt x="25" y="297"/>
                    </a:lnTo>
                    <a:lnTo>
                      <a:pt x="11" y="237"/>
                    </a:lnTo>
                    <a:lnTo>
                      <a:pt x="15" y="182"/>
                    </a:lnTo>
                    <a:lnTo>
                      <a:pt x="30" y="92"/>
                    </a:lnTo>
                    <a:lnTo>
                      <a:pt x="55" y="0"/>
                    </a:lnTo>
                    <a:lnTo>
                      <a:pt x="36" y="135"/>
                    </a:lnTo>
                    <a:lnTo>
                      <a:pt x="36" y="212"/>
                    </a:lnTo>
                    <a:lnTo>
                      <a:pt x="36" y="262"/>
                    </a:lnTo>
                    <a:lnTo>
                      <a:pt x="46" y="315"/>
                    </a:lnTo>
                    <a:lnTo>
                      <a:pt x="56" y="352"/>
                    </a:lnTo>
                    <a:lnTo>
                      <a:pt x="55" y="402"/>
                    </a:lnTo>
                    <a:lnTo>
                      <a:pt x="36" y="442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61"/>
              <p:cNvSpPr/>
              <p:nvPr/>
            </p:nvSpPr>
            <p:spPr>
              <a:xfrm>
                <a:off x="8443080" y="6539040"/>
                <a:ext cx="13680" cy="61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61" h="397">
                    <a:moveTo>
                      <a:pt x="9" y="397"/>
                    </a:moveTo>
                    <a:lnTo>
                      <a:pt x="0" y="345"/>
                    </a:lnTo>
                    <a:lnTo>
                      <a:pt x="0" y="290"/>
                    </a:lnTo>
                    <a:lnTo>
                      <a:pt x="15" y="227"/>
                    </a:lnTo>
                    <a:lnTo>
                      <a:pt x="25" y="172"/>
                    </a:lnTo>
                    <a:lnTo>
                      <a:pt x="25" y="122"/>
                    </a:lnTo>
                    <a:lnTo>
                      <a:pt x="36" y="52"/>
                    </a:lnTo>
                    <a:lnTo>
                      <a:pt x="61" y="0"/>
                    </a:lnTo>
                    <a:lnTo>
                      <a:pt x="51" y="87"/>
                    </a:lnTo>
                    <a:lnTo>
                      <a:pt x="44" y="177"/>
                    </a:lnTo>
                    <a:lnTo>
                      <a:pt x="41" y="257"/>
                    </a:lnTo>
                    <a:lnTo>
                      <a:pt x="15" y="280"/>
                    </a:lnTo>
                    <a:lnTo>
                      <a:pt x="9" y="39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62"/>
              <p:cNvSpPr/>
              <p:nvPr/>
            </p:nvSpPr>
            <p:spPr>
              <a:xfrm>
                <a:off x="8418600" y="6491160"/>
                <a:ext cx="52920" cy="47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29" h="302">
                    <a:moveTo>
                      <a:pt x="115" y="0"/>
                    </a:moveTo>
                    <a:lnTo>
                      <a:pt x="34" y="22"/>
                    </a:lnTo>
                    <a:lnTo>
                      <a:pt x="0" y="86"/>
                    </a:lnTo>
                    <a:lnTo>
                      <a:pt x="5" y="157"/>
                    </a:lnTo>
                    <a:lnTo>
                      <a:pt x="35" y="231"/>
                    </a:lnTo>
                    <a:lnTo>
                      <a:pt x="74" y="286"/>
                    </a:lnTo>
                    <a:lnTo>
                      <a:pt x="125" y="302"/>
                    </a:lnTo>
                    <a:lnTo>
                      <a:pt x="181" y="292"/>
                    </a:lnTo>
                    <a:lnTo>
                      <a:pt x="229" y="261"/>
                    </a:lnTo>
                    <a:lnTo>
                      <a:pt x="174" y="282"/>
                    </a:lnTo>
                    <a:lnTo>
                      <a:pt x="115" y="281"/>
                    </a:lnTo>
                    <a:lnTo>
                      <a:pt x="69" y="242"/>
                    </a:lnTo>
                    <a:lnTo>
                      <a:pt x="44" y="182"/>
                    </a:lnTo>
                    <a:lnTo>
                      <a:pt x="30" y="121"/>
                    </a:lnTo>
                    <a:lnTo>
                      <a:pt x="44" y="82"/>
                    </a:lnTo>
                    <a:lnTo>
                      <a:pt x="55" y="4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63"/>
              <p:cNvSpPr/>
              <p:nvPr/>
            </p:nvSpPr>
            <p:spPr>
              <a:xfrm>
                <a:off x="8407080" y="6497640"/>
                <a:ext cx="34200" cy="540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50" h="346">
                    <a:moveTo>
                      <a:pt x="39" y="0"/>
                    </a:moveTo>
                    <a:lnTo>
                      <a:pt x="24" y="67"/>
                    </a:lnTo>
                    <a:lnTo>
                      <a:pt x="34" y="161"/>
                    </a:lnTo>
                    <a:lnTo>
                      <a:pt x="89" y="242"/>
                    </a:lnTo>
                    <a:lnTo>
                      <a:pt x="140" y="277"/>
                    </a:lnTo>
                    <a:lnTo>
                      <a:pt x="150" y="346"/>
                    </a:lnTo>
                    <a:lnTo>
                      <a:pt x="109" y="277"/>
                    </a:lnTo>
                    <a:lnTo>
                      <a:pt x="44" y="222"/>
                    </a:lnTo>
                    <a:lnTo>
                      <a:pt x="0" y="162"/>
                    </a:lnTo>
                    <a:lnTo>
                      <a:pt x="0" y="97"/>
                    </a:lnTo>
                    <a:lnTo>
                      <a:pt x="10" y="4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64"/>
              <p:cNvSpPr/>
              <p:nvPr/>
            </p:nvSpPr>
            <p:spPr>
              <a:xfrm>
                <a:off x="8397000" y="6500160"/>
                <a:ext cx="34920" cy="853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154" h="548">
                    <a:moveTo>
                      <a:pt x="50" y="0"/>
                    </a:moveTo>
                    <a:lnTo>
                      <a:pt x="25" y="31"/>
                    </a:lnTo>
                    <a:lnTo>
                      <a:pt x="15" y="87"/>
                    </a:lnTo>
                    <a:lnTo>
                      <a:pt x="15" y="131"/>
                    </a:lnTo>
                    <a:lnTo>
                      <a:pt x="28" y="186"/>
                    </a:lnTo>
                    <a:lnTo>
                      <a:pt x="85" y="247"/>
                    </a:lnTo>
                    <a:lnTo>
                      <a:pt x="149" y="281"/>
                    </a:lnTo>
                    <a:lnTo>
                      <a:pt x="154" y="336"/>
                    </a:lnTo>
                    <a:lnTo>
                      <a:pt x="150" y="396"/>
                    </a:lnTo>
                    <a:lnTo>
                      <a:pt x="139" y="431"/>
                    </a:lnTo>
                    <a:lnTo>
                      <a:pt x="135" y="503"/>
                    </a:lnTo>
                    <a:lnTo>
                      <a:pt x="134" y="548"/>
                    </a:lnTo>
                    <a:lnTo>
                      <a:pt x="109" y="468"/>
                    </a:lnTo>
                    <a:lnTo>
                      <a:pt x="114" y="398"/>
                    </a:lnTo>
                    <a:lnTo>
                      <a:pt x="124" y="348"/>
                    </a:lnTo>
                    <a:lnTo>
                      <a:pt x="104" y="282"/>
                    </a:lnTo>
                    <a:lnTo>
                      <a:pt x="18" y="222"/>
                    </a:lnTo>
                    <a:lnTo>
                      <a:pt x="8" y="166"/>
                    </a:lnTo>
                    <a:lnTo>
                      <a:pt x="0" y="7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65"/>
              <p:cNvSpPr/>
              <p:nvPr/>
            </p:nvSpPr>
            <p:spPr>
              <a:xfrm>
                <a:off x="8377200" y="6500160"/>
                <a:ext cx="38520" cy="65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69" h="421">
                    <a:moveTo>
                      <a:pt x="95" y="0"/>
                    </a:moveTo>
                    <a:lnTo>
                      <a:pt x="43" y="20"/>
                    </a:lnTo>
                    <a:lnTo>
                      <a:pt x="5" y="54"/>
                    </a:lnTo>
                    <a:lnTo>
                      <a:pt x="0" y="105"/>
                    </a:lnTo>
                    <a:lnTo>
                      <a:pt x="18" y="174"/>
                    </a:lnTo>
                    <a:lnTo>
                      <a:pt x="28" y="244"/>
                    </a:lnTo>
                    <a:lnTo>
                      <a:pt x="90" y="290"/>
                    </a:lnTo>
                    <a:lnTo>
                      <a:pt x="110" y="354"/>
                    </a:lnTo>
                    <a:lnTo>
                      <a:pt x="128" y="381"/>
                    </a:lnTo>
                    <a:lnTo>
                      <a:pt x="150" y="421"/>
                    </a:lnTo>
                    <a:lnTo>
                      <a:pt x="169" y="371"/>
                    </a:lnTo>
                    <a:lnTo>
                      <a:pt x="155" y="311"/>
                    </a:lnTo>
                    <a:lnTo>
                      <a:pt x="118" y="275"/>
                    </a:lnTo>
                    <a:lnTo>
                      <a:pt x="55" y="214"/>
                    </a:lnTo>
                    <a:lnTo>
                      <a:pt x="43" y="150"/>
                    </a:lnTo>
                    <a:lnTo>
                      <a:pt x="40" y="74"/>
                    </a:lnTo>
                    <a:lnTo>
                      <a:pt x="60" y="4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Freeform 66"/>
              <p:cNvSpPr/>
              <p:nvPr/>
            </p:nvSpPr>
            <p:spPr>
              <a:xfrm>
                <a:off x="8355240" y="6500160"/>
                <a:ext cx="29880" cy="777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30" h="499">
                    <a:moveTo>
                      <a:pt x="65" y="499"/>
                    </a:moveTo>
                    <a:lnTo>
                      <a:pt x="65" y="394"/>
                    </a:lnTo>
                    <a:lnTo>
                      <a:pt x="73" y="311"/>
                    </a:lnTo>
                    <a:lnTo>
                      <a:pt x="75" y="254"/>
                    </a:lnTo>
                    <a:lnTo>
                      <a:pt x="43" y="179"/>
                    </a:lnTo>
                    <a:lnTo>
                      <a:pt x="50" y="80"/>
                    </a:lnTo>
                    <a:lnTo>
                      <a:pt x="88" y="29"/>
                    </a:lnTo>
                    <a:lnTo>
                      <a:pt x="130" y="3"/>
                    </a:lnTo>
                    <a:lnTo>
                      <a:pt x="90" y="0"/>
                    </a:lnTo>
                    <a:lnTo>
                      <a:pt x="40" y="19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80"/>
                    </a:lnTo>
                    <a:lnTo>
                      <a:pt x="45" y="239"/>
                    </a:lnTo>
                    <a:lnTo>
                      <a:pt x="48" y="329"/>
                    </a:lnTo>
                    <a:lnTo>
                      <a:pt x="48" y="396"/>
                    </a:lnTo>
                    <a:lnTo>
                      <a:pt x="65" y="4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Freeform 67"/>
              <p:cNvSpPr/>
              <p:nvPr/>
            </p:nvSpPr>
            <p:spPr>
              <a:xfrm>
                <a:off x="8380440" y="6543720"/>
                <a:ext cx="11880" cy="20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52" h="135">
                    <a:moveTo>
                      <a:pt x="0" y="0"/>
                    </a:moveTo>
                    <a:lnTo>
                      <a:pt x="15" y="37"/>
                    </a:lnTo>
                    <a:lnTo>
                      <a:pt x="30" y="102"/>
                    </a:lnTo>
                    <a:lnTo>
                      <a:pt x="35" y="135"/>
                    </a:lnTo>
                    <a:lnTo>
                      <a:pt x="52" y="75"/>
                    </a:lnTo>
                    <a:lnTo>
                      <a:pt x="4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Freeform 68"/>
              <p:cNvSpPr/>
              <p:nvPr/>
            </p:nvSpPr>
            <p:spPr>
              <a:xfrm>
                <a:off x="8342640" y="6490080"/>
                <a:ext cx="30600" cy="547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33" h="350">
                    <a:moveTo>
                      <a:pt x="73" y="0"/>
                    </a:moveTo>
                    <a:lnTo>
                      <a:pt x="85" y="35"/>
                    </a:lnTo>
                    <a:lnTo>
                      <a:pt x="100" y="45"/>
                    </a:lnTo>
                    <a:lnTo>
                      <a:pt x="133" y="48"/>
                    </a:lnTo>
                    <a:lnTo>
                      <a:pt x="63" y="74"/>
                    </a:lnTo>
                    <a:lnTo>
                      <a:pt x="30" y="114"/>
                    </a:lnTo>
                    <a:lnTo>
                      <a:pt x="23" y="184"/>
                    </a:lnTo>
                    <a:lnTo>
                      <a:pt x="23" y="265"/>
                    </a:lnTo>
                    <a:lnTo>
                      <a:pt x="48" y="314"/>
                    </a:lnTo>
                    <a:lnTo>
                      <a:pt x="48" y="350"/>
                    </a:lnTo>
                    <a:lnTo>
                      <a:pt x="33" y="305"/>
                    </a:lnTo>
                    <a:lnTo>
                      <a:pt x="0" y="245"/>
                    </a:lnTo>
                    <a:lnTo>
                      <a:pt x="0" y="160"/>
                    </a:lnTo>
                    <a:lnTo>
                      <a:pt x="8" y="104"/>
                    </a:lnTo>
                    <a:lnTo>
                      <a:pt x="43" y="65"/>
                    </a:lnTo>
                    <a:lnTo>
                      <a:pt x="55" y="3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69"/>
              <p:cNvSpPr/>
              <p:nvPr/>
            </p:nvSpPr>
            <p:spPr>
              <a:xfrm>
                <a:off x="8332200" y="6482160"/>
                <a:ext cx="21600" cy="511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93" h="329">
                    <a:moveTo>
                      <a:pt x="48" y="0"/>
                    </a:moveTo>
                    <a:lnTo>
                      <a:pt x="83" y="20"/>
                    </a:lnTo>
                    <a:lnTo>
                      <a:pt x="93" y="35"/>
                    </a:lnTo>
                    <a:lnTo>
                      <a:pt x="88" y="75"/>
                    </a:lnTo>
                    <a:lnTo>
                      <a:pt x="58" y="110"/>
                    </a:lnTo>
                    <a:lnTo>
                      <a:pt x="30" y="139"/>
                    </a:lnTo>
                    <a:lnTo>
                      <a:pt x="28" y="204"/>
                    </a:lnTo>
                    <a:lnTo>
                      <a:pt x="25" y="269"/>
                    </a:lnTo>
                    <a:lnTo>
                      <a:pt x="33" y="329"/>
                    </a:lnTo>
                    <a:lnTo>
                      <a:pt x="13" y="300"/>
                    </a:lnTo>
                    <a:lnTo>
                      <a:pt x="0" y="244"/>
                    </a:lnTo>
                    <a:lnTo>
                      <a:pt x="0" y="194"/>
                    </a:lnTo>
                    <a:lnTo>
                      <a:pt x="0" y="115"/>
                    </a:lnTo>
                    <a:lnTo>
                      <a:pt x="50" y="78"/>
                    </a:lnTo>
                    <a:lnTo>
                      <a:pt x="55" y="3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70"/>
              <p:cNvSpPr/>
              <p:nvPr/>
            </p:nvSpPr>
            <p:spPr>
              <a:xfrm>
                <a:off x="8315640" y="6474960"/>
                <a:ext cx="20880" cy="86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92" h="556">
                    <a:moveTo>
                      <a:pt x="41" y="556"/>
                    </a:moveTo>
                    <a:lnTo>
                      <a:pt x="52" y="498"/>
                    </a:lnTo>
                    <a:lnTo>
                      <a:pt x="41" y="446"/>
                    </a:lnTo>
                    <a:lnTo>
                      <a:pt x="36" y="381"/>
                    </a:lnTo>
                    <a:lnTo>
                      <a:pt x="26" y="327"/>
                    </a:lnTo>
                    <a:lnTo>
                      <a:pt x="40" y="262"/>
                    </a:lnTo>
                    <a:lnTo>
                      <a:pt x="31" y="201"/>
                    </a:lnTo>
                    <a:lnTo>
                      <a:pt x="67" y="125"/>
                    </a:lnTo>
                    <a:lnTo>
                      <a:pt x="82" y="107"/>
                    </a:lnTo>
                    <a:lnTo>
                      <a:pt x="92" y="60"/>
                    </a:lnTo>
                    <a:lnTo>
                      <a:pt x="82" y="35"/>
                    </a:lnTo>
                    <a:lnTo>
                      <a:pt x="40" y="0"/>
                    </a:lnTo>
                    <a:lnTo>
                      <a:pt x="55" y="32"/>
                    </a:lnTo>
                    <a:lnTo>
                      <a:pt x="60" y="80"/>
                    </a:lnTo>
                    <a:lnTo>
                      <a:pt x="10" y="152"/>
                    </a:lnTo>
                    <a:lnTo>
                      <a:pt x="5" y="226"/>
                    </a:lnTo>
                    <a:lnTo>
                      <a:pt x="6" y="256"/>
                    </a:lnTo>
                    <a:lnTo>
                      <a:pt x="0" y="317"/>
                    </a:lnTo>
                    <a:lnTo>
                      <a:pt x="5" y="372"/>
                    </a:lnTo>
                    <a:lnTo>
                      <a:pt x="16" y="431"/>
                    </a:lnTo>
                    <a:lnTo>
                      <a:pt x="31" y="483"/>
                    </a:lnTo>
                    <a:lnTo>
                      <a:pt x="41" y="55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71"/>
              <p:cNvSpPr/>
              <p:nvPr/>
            </p:nvSpPr>
            <p:spPr>
              <a:xfrm>
                <a:off x="8289360" y="6476040"/>
                <a:ext cx="33480" cy="79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46" h="509">
                    <a:moveTo>
                      <a:pt x="146" y="40"/>
                    </a:moveTo>
                    <a:lnTo>
                      <a:pt x="140" y="0"/>
                    </a:lnTo>
                    <a:lnTo>
                      <a:pt x="116" y="10"/>
                    </a:lnTo>
                    <a:lnTo>
                      <a:pt x="61" y="53"/>
                    </a:lnTo>
                    <a:lnTo>
                      <a:pt x="35" y="93"/>
                    </a:lnTo>
                    <a:lnTo>
                      <a:pt x="6" y="138"/>
                    </a:lnTo>
                    <a:lnTo>
                      <a:pt x="5" y="174"/>
                    </a:lnTo>
                    <a:lnTo>
                      <a:pt x="0" y="230"/>
                    </a:lnTo>
                    <a:lnTo>
                      <a:pt x="5" y="304"/>
                    </a:lnTo>
                    <a:lnTo>
                      <a:pt x="35" y="360"/>
                    </a:lnTo>
                    <a:lnTo>
                      <a:pt x="71" y="425"/>
                    </a:lnTo>
                    <a:lnTo>
                      <a:pt x="90" y="481"/>
                    </a:lnTo>
                    <a:lnTo>
                      <a:pt x="96" y="509"/>
                    </a:lnTo>
                    <a:lnTo>
                      <a:pt x="95" y="469"/>
                    </a:lnTo>
                    <a:lnTo>
                      <a:pt x="61" y="349"/>
                    </a:lnTo>
                    <a:lnTo>
                      <a:pt x="30" y="274"/>
                    </a:lnTo>
                    <a:lnTo>
                      <a:pt x="30" y="189"/>
                    </a:lnTo>
                    <a:lnTo>
                      <a:pt x="35" y="120"/>
                    </a:lnTo>
                    <a:lnTo>
                      <a:pt x="70" y="78"/>
                    </a:lnTo>
                    <a:lnTo>
                      <a:pt x="95" y="53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72"/>
              <p:cNvSpPr/>
              <p:nvPr/>
            </p:nvSpPr>
            <p:spPr>
              <a:xfrm>
                <a:off x="8299800" y="6486840"/>
                <a:ext cx="17640" cy="540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9" h="345">
                    <a:moveTo>
                      <a:pt x="79" y="0"/>
                    </a:moveTo>
                    <a:lnTo>
                      <a:pt x="24" y="35"/>
                    </a:lnTo>
                    <a:lnTo>
                      <a:pt x="0" y="95"/>
                    </a:lnTo>
                    <a:lnTo>
                      <a:pt x="4" y="149"/>
                    </a:lnTo>
                    <a:lnTo>
                      <a:pt x="24" y="230"/>
                    </a:lnTo>
                    <a:lnTo>
                      <a:pt x="44" y="295"/>
                    </a:lnTo>
                    <a:lnTo>
                      <a:pt x="60" y="345"/>
                    </a:lnTo>
                    <a:lnTo>
                      <a:pt x="55" y="285"/>
                    </a:lnTo>
                    <a:lnTo>
                      <a:pt x="35" y="214"/>
                    </a:lnTo>
                    <a:lnTo>
                      <a:pt x="35" y="149"/>
                    </a:lnTo>
                    <a:lnTo>
                      <a:pt x="39" y="80"/>
                    </a:lnTo>
                    <a:lnTo>
                      <a:pt x="49" y="6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73"/>
              <p:cNvSpPr/>
              <p:nvPr/>
            </p:nvSpPr>
            <p:spPr>
              <a:xfrm>
                <a:off x="8274600" y="6471000"/>
                <a:ext cx="43560" cy="9180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588">
                    <a:moveTo>
                      <a:pt x="90" y="588"/>
                    </a:moveTo>
                    <a:lnTo>
                      <a:pt x="55" y="503"/>
                    </a:lnTo>
                    <a:lnTo>
                      <a:pt x="55" y="462"/>
                    </a:lnTo>
                    <a:lnTo>
                      <a:pt x="45" y="411"/>
                    </a:lnTo>
                    <a:lnTo>
                      <a:pt x="30" y="347"/>
                    </a:lnTo>
                    <a:lnTo>
                      <a:pt x="15" y="286"/>
                    </a:lnTo>
                    <a:lnTo>
                      <a:pt x="8" y="232"/>
                    </a:lnTo>
                    <a:lnTo>
                      <a:pt x="0" y="162"/>
                    </a:lnTo>
                    <a:lnTo>
                      <a:pt x="28" y="95"/>
                    </a:lnTo>
                    <a:lnTo>
                      <a:pt x="85" y="27"/>
                    </a:lnTo>
                    <a:lnTo>
                      <a:pt x="134" y="5"/>
                    </a:lnTo>
                    <a:lnTo>
                      <a:pt x="190" y="0"/>
                    </a:lnTo>
                    <a:lnTo>
                      <a:pt x="190" y="20"/>
                    </a:lnTo>
                    <a:lnTo>
                      <a:pt x="150" y="30"/>
                    </a:lnTo>
                    <a:lnTo>
                      <a:pt x="84" y="77"/>
                    </a:lnTo>
                    <a:lnTo>
                      <a:pt x="30" y="160"/>
                    </a:lnTo>
                    <a:lnTo>
                      <a:pt x="30" y="236"/>
                    </a:lnTo>
                    <a:lnTo>
                      <a:pt x="40" y="336"/>
                    </a:lnTo>
                    <a:lnTo>
                      <a:pt x="65" y="421"/>
                    </a:lnTo>
                    <a:lnTo>
                      <a:pt x="69" y="493"/>
                    </a:lnTo>
                    <a:lnTo>
                      <a:pt x="90" y="5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74"/>
              <p:cNvSpPr/>
              <p:nvPr/>
            </p:nvSpPr>
            <p:spPr>
              <a:xfrm>
                <a:off x="8271000" y="6463080"/>
                <a:ext cx="42120" cy="356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86" h="230">
                    <a:moveTo>
                      <a:pt x="0" y="230"/>
                    </a:moveTo>
                    <a:lnTo>
                      <a:pt x="2" y="172"/>
                    </a:lnTo>
                    <a:lnTo>
                      <a:pt x="32" y="110"/>
                    </a:lnTo>
                    <a:lnTo>
                      <a:pt x="111" y="35"/>
                    </a:lnTo>
                    <a:lnTo>
                      <a:pt x="186" y="27"/>
                    </a:lnTo>
                    <a:lnTo>
                      <a:pt x="136" y="0"/>
                    </a:lnTo>
                    <a:lnTo>
                      <a:pt x="82" y="22"/>
                    </a:lnTo>
                    <a:lnTo>
                      <a:pt x="25" y="72"/>
                    </a:lnTo>
                    <a:lnTo>
                      <a:pt x="15" y="112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Freeform 75"/>
              <p:cNvSpPr/>
              <p:nvPr/>
            </p:nvSpPr>
            <p:spPr>
              <a:xfrm>
                <a:off x="8258400" y="6445800"/>
                <a:ext cx="25200" cy="478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10" h="305">
                    <a:moveTo>
                      <a:pt x="38" y="305"/>
                    </a:moveTo>
                    <a:lnTo>
                      <a:pt x="48" y="232"/>
                    </a:lnTo>
                    <a:lnTo>
                      <a:pt x="68" y="150"/>
                    </a:lnTo>
                    <a:lnTo>
                      <a:pt x="110" y="87"/>
                    </a:lnTo>
                    <a:lnTo>
                      <a:pt x="105" y="62"/>
                    </a:lnTo>
                    <a:lnTo>
                      <a:pt x="75" y="42"/>
                    </a:lnTo>
                    <a:lnTo>
                      <a:pt x="48" y="20"/>
                    </a:lnTo>
                    <a:lnTo>
                      <a:pt x="0" y="0"/>
                    </a:lnTo>
                    <a:lnTo>
                      <a:pt x="78" y="57"/>
                    </a:lnTo>
                    <a:lnTo>
                      <a:pt x="75" y="105"/>
                    </a:lnTo>
                    <a:lnTo>
                      <a:pt x="38" y="162"/>
                    </a:lnTo>
                    <a:lnTo>
                      <a:pt x="30" y="227"/>
                    </a:lnTo>
                    <a:lnTo>
                      <a:pt x="38" y="3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Freeform 76"/>
              <p:cNvSpPr/>
              <p:nvPr/>
            </p:nvSpPr>
            <p:spPr>
              <a:xfrm>
                <a:off x="8254800" y="6445800"/>
                <a:ext cx="9000" cy="52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0" h="335">
                    <a:moveTo>
                      <a:pt x="3" y="0"/>
                    </a:moveTo>
                    <a:lnTo>
                      <a:pt x="38" y="47"/>
                    </a:lnTo>
                    <a:lnTo>
                      <a:pt x="40" y="97"/>
                    </a:lnTo>
                    <a:lnTo>
                      <a:pt x="30" y="140"/>
                    </a:lnTo>
                    <a:lnTo>
                      <a:pt x="28" y="180"/>
                    </a:lnTo>
                    <a:lnTo>
                      <a:pt x="25" y="245"/>
                    </a:lnTo>
                    <a:lnTo>
                      <a:pt x="35" y="305"/>
                    </a:lnTo>
                    <a:lnTo>
                      <a:pt x="40" y="335"/>
                    </a:lnTo>
                    <a:lnTo>
                      <a:pt x="25" y="307"/>
                    </a:lnTo>
                    <a:lnTo>
                      <a:pt x="0" y="235"/>
                    </a:lnTo>
                    <a:lnTo>
                      <a:pt x="5" y="167"/>
                    </a:lnTo>
                    <a:lnTo>
                      <a:pt x="15" y="90"/>
                    </a:lnTo>
                    <a:lnTo>
                      <a:pt x="15" y="4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Freeform 77"/>
              <p:cNvSpPr/>
              <p:nvPr/>
            </p:nvSpPr>
            <p:spPr>
              <a:xfrm>
                <a:off x="8242560" y="6440040"/>
                <a:ext cx="10080" cy="30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3" h="198">
                    <a:moveTo>
                      <a:pt x="0" y="0"/>
                    </a:moveTo>
                    <a:lnTo>
                      <a:pt x="43" y="65"/>
                    </a:lnTo>
                    <a:lnTo>
                      <a:pt x="38" y="130"/>
                    </a:lnTo>
                    <a:lnTo>
                      <a:pt x="38" y="198"/>
                    </a:lnTo>
                    <a:lnTo>
                      <a:pt x="18" y="148"/>
                    </a:lnTo>
                    <a:lnTo>
                      <a:pt x="18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Freeform 78"/>
              <p:cNvSpPr/>
              <p:nvPr/>
            </p:nvSpPr>
            <p:spPr>
              <a:xfrm>
                <a:off x="8225640" y="6423120"/>
                <a:ext cx="33480" cy="69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5" h="445">
                    <a:moveTo>
                      <a:pt x="145" y="445"/>
                    </a:moveTo>
                    <a:lnTo>
                      <a:pt x="100" y="375"/>
                    </a:lnTo>
                    <a:lnTo>
                      <a:pt x="85" y="307"/>
                    </a:lnTo>
                    <a:lnTo>
                      <a:pt x="72" y="250"/>
                    </a:lnTo>
                    <a:lnTo>
                      <a:pt x="67" y="170"/>
                    </a:lnTo>
                    <a:lnTo>
                      <a:pt x="47" y="122"/>
                    </a:lnTo>
                    <a:lnTo>
                      <a:pt x="17" y="45"/>
                    </a:lnTo>
                    <a:lnTo>
                      <a:pt x="0" y="0"/>
                    </a:lnTo>
                    <a:lnTo>
                      <a:pt x="27" y="122"/>
                    </a:lnTo>
                    <a:lnTo>
                      <a:pt x="35" y="185"/>
                    </a:lnTo>
                    <a:lnTo>
                      <a:pt x="70" y="330"/>
                    </a:lnTo>
                    <a:lnTo>
                      <a:pt x="87" y="407"/>
                    </a:lnTo>
                    <a:lnTo>
                      <a:pt x="145" y="44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Freeform 79"/>
              <p:cNvSpPr/>
              <p:nvPr/>
            </p:nvSpPr>
            <p:spPr>
              <a:xfrm>
                <a:off x="8191080" y="6405840"/>
                <a:ext cx="48240" cy="7668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10" h="490">
                    <a:moveTo>
                      <a:pt x="210" y="490"/>
                    </a:moveTo>
                    <a:lnTo>
                      <a:pt x="157" y="375"/>
                    </a:lnTo>
                    <a:lnTo>
                      <a:pt x="112" y="235"/>
                    </a:lnTo>
                    <a:lnTo>
                      <a:pt x="95" y="117"/>
                    </a:lnTo>
                    <a:lnTo>
                      <a:pt x="62" y="52"/>
                    </a:lnTo>
                    <a:lnTo>
                      <a:pt x="0" y="0"/>
                    </a:lnTo>
                    <a:lnTo>
                      <a:pt x="52" y="110"/>
                    </a:lnTo>
                    <a:lnTo>
                      <a:pt x="85" y="262"/>
                    </a:lnTo>
                    <a:lnTo>
                      <a:pt x="117" y="332"/>
                    </a:lnTo>
                    <a:lnTo>
                      <a:pt x="185" y="452"/>
                    </a:lnTo>
                    <a:lnTo>
                      <a:pt x="210" y="49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Freeform 80"/>
              <p:cNvSpPr/>
              <p:nvPr/>
            </p:nvSpPr>
            <p:spPr>
              <a:xfrm>
                <a:off x="8178840" y="6415560"/>
                <a:ext cx="56520" cy="680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46" h="435">
                    <a:moveTo>
                      <a:pt x="0" y="0"/>
                    </a:moveTo>
                    <a:lnTo>
                      <a:pt x="10" y="130"/>
                    </a:lnTo>
                    <a:lnTo>
                      <a:pt x="80" y="253"/>
                    </a:lnTo>
                    <a:lnTo>
                      <a:pt x="136" y="333"/>
                    </a:lnTo>
                    <a:lnTo>
                      <a:pt x="179" y="375"/>
                    </a:lnTo>
                    <a:lnTo>
                      <a:pt x="246" y="435"/>
                    </a:lnTo>
                    <a:lnTo>
                      <a:pt x="186" y="360"/>
                    </a:lnTo>
                    <a:lnTo>
                      <a:pt x="121" y="278"/>
                    </a:lnTo>
                    <a:lnTo>
                      <a:pt x="95" y="153"/>
                    </a:lnTo>
                    <a:lnTo>
                      <a:pt x="45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Freeform 81"/>
              <p:cNvSpPr/>
              <p:nvPr/>
            </p:nvSpPr>
            <p:spPr>
              <a:xfrm>
                <a:off x="8187120" y="6395040"/>
                <a:ext cx="38520" cy="540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69" h="345">
                    <a:moveTo>
                      <a:pt x="0" y="0"/>
                    </a:moveTo>
                    <a:lnTo>
                      <a:pt x="15" y="41"/>
                    </a:lnTo>
                    <a:lnTo>
                      <a:pt x="71" y="75"/>
                    </a:lnTo>
                    <a:lnTo>
                      <a:pt x="106" y="117"/>
                    </a:lnTo>
                    <a:lnTo>
                      <a:pt x="129" y="152"/>
                    </a:lnTo>
                    <a:lnTo>
                      <a:pt x="144" y="277"/>
                    </a:lnTo>
                    <a:lnTo>
                      <a:pt x="169" y="345"/>
                    </a:lnTo>
                    <a:lnTo>
                      <a:pt x="161" y="277"/>
                    </a:lnTo>
                    <a:lnTo>
                      <a:pt x="151" y="195"/>
                    </a:lnTo>
                    <a:lnTo>
                      <a:pt x="119" y="96"/>
                    </a:lnTo>
                    <a:lnTo>
                      <a:pt x="104" y="76"/>
                    </a:lnTo>
                    <a:lnTo>
                      <a:pt x="121" y="61"/>
                    </a:lnTo>
                    <a:lnTo>
                      <a:pt x="96" y="61"/>
                    </a:lnTo>
                    <a:lnTo>
                      <a:pt x="59" y="55"/>
                    </a:lnTo>
                    <a:lnTo>
                      <a:pt x="3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Freeform 82"/>
              <p:cNvSpPr/>
              <p:nvPr/>
            </p:nvSpPr>
            <p:spPr>
              <a:xfrm>
                <a:off x="8175600" y="6394680"/>
                <a:ext cx="26280" cy="378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5" h="244">
                    <a:moveTo>
                      <a:pt x="0" y="0"/>
                    </a:moveTo>
                    <a:lnTo>
                      <a:pt x="44" y="59"/>
                    </a:lnTo>
                    <a:lnTo>
                      <a:pt x="64" y="134"/>
                    </a:lnTo>
                    <a:lnTo>
                      <a:pt x="99" y="176"/>
                    </a:lnTo>
                    <a:lnTo>
                      <a:pt x="115" y="244"/>
                    </a:lnTo>
                    <a:lnTo>
                      <a:pt x="55" y="184"/>
                    </a:lnTo>
                    <a:lnTo>
                      <a:pt x="44" y="114"/>
                    </a:lnTo>
                    <a:lnTo>
                      <a:pt x="25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Freeform 83"/>
              <p:cNvSpPr/>
              <p:nvPr/>
            </p:nvSpPr>
            <p:spPr>
              <a:xfrm>
                <a:off x="8194320" y="6351480"/>
                <a:ext cx="69480" cy="49680"/>
              </a:xfrm>
              <a:custGeom>
                <a:avLst/>
                <a:gdLst>
                  <a:gd name="textAreaLeft" fmla="*/ 0 w 69480"/>
                  <a:gd name="textAreaRight" fmla="*/ 69480 w 69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302" h="319">
                    <a:moveTo>
                      <a:pt x="26" y="225"/>
                    </a:moveTo>
                    <a:lnTo>
                      <a:pt x="0" y="250"/>
                    </a:lnTo>
                    <a:lnTo>
                      <a:pt x="0" y="275"/>
                    </a:lnTo>
                    <a:lnTo>
                      <a:pt x="20" y="304"/>
                    </a:lnTo>
                    <a:lnTo>
                      <a:pt x="60" y="319"/>
                    </a:lnTo>
                    <a:lnTo>
                      <a:pt x="115" y="299"/>
                    </a:lnTo>
                    <a:lnTo>
                      <a:pt x="155" y="250"/>
                    </a:lnTo>
                    <a:lnTo>
                      <a:pt x="195" y="165"/>
                    </a:lnTo>
                    <a:lnTo>
                      <a:pt x="235" y="95"/>
                    </a:lnTo>
                    <a:lnTo>
                      <a:pt x="302" y="0"/>
                    </a:lnTo>
                    <a:lnTo>
                      <a:pt x="207" y="99"/>
                    </a:lnTo>
                    <a:lnTo>
                      <a:pt x="147" y="225"/>
                    </a:lnTo>
                    <a:lnTo>
                      <a:pt x="80" y="284"/>
                    </a:lnTo>
                    <a:lnTo>
                      <a:pt x="37" y="280"/>
                    </a:lnTo>
                    <a:lnTo>
                      <a:pt x="25" y="260"/>
                    </a:lnTo>
                    <a:lnTo>
                      <a:pt x="26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Freeform 84"/>
              <p:cNvSpPr/>
              <p:nvPr/>
            </p:nvSpPr>
            <p:spPr>
              <a:xfrm>
                <a:off x="8131320" y="637560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85" h="342">
                    <a:moveTo>
                      <a:pt x="185" y="342"/>
                    </a:moveTo>
                    <a:lnTo>
                      <a:pt x="140" y="255"/>
                    </a:lnTo>
                    <a:lnTo>
                      <a:pt x="90" y="185"/>
                    </a:lnTo>
                    <a:lnTo>
                      <a:pt x="75" y="126"/>
                    </a:lnTo>
                    <a:lnTo>
                      <a:pt x="25" y="60"/>
                    </a:lnTo>
                    <a:lnTo>
                      <a:pt x="0" y="0"/>
                    </a:lnTo>
                    <a:lnTo>
                      <a:pt x="30" y="106"/>
                    </a:lnTo>
                    <a:lnTo>
                      <a:pt x="65" y="175"/>
                    </a:lnTo>
                    <a:lnTo>
                      <a:pt x="135" y="255"/>
                    </a:lnTo>
                    <a:lnTo>
                      <a:pt x="185" y="34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5"/>
              <p:cNvSpPr/>
              <p:nvPr/>
            </p:nvSpPr>
            <p:spPr>
              <a:xfrm>
                <a:off x="8125560" y="6361920"/>
                <a:ext cx="50400" cy="4896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21" h="316">
                    <a:moveTo>
                      <a:pt x="221" y="316"/>
                    </a:moveTo>
                    <a:lnTo>
                      <a:pt x="177" y="270"/>
                    </a:lnTo>
                    <a:lnTo>
                      <a:pt x="132" y="199"/>
                    </a:lnTo>
                    <a:lnTo>
                      <a:pt x="92" y="160"/>
                    </a:lnTo>
                    <a:lnTo>
                      <a:pt x="80" y="105"/>
                    </a:lnTo>
                    <a:lnTo>
                      <a:pt x="0" y="0"/>
                    </a:lnTo>
                    <a:lnTo>
                      <a:pt x="75" y="64"/>
                    </a:lnTo>
                    <a:lnTo>
                      <a:pt x="115" y="119"/>
                    </a:lnTo>
                    <a:lnTo>
                      <a:pt x="135" y="180"/>
                    </a:lnTo>
                    <a:lnTo>
                      <a:pt x="191" y="254"/>
                    </a:lnTo>
                    <a:lnTo>
                      <a:pt x="221" y="31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Freeform 86"/>
              <p:cNvSpPr/>
              <p:nvPr/>
            </p:nvSpPr>
            <p:spPr>
              <a:xfrm>
                <a:off x="8432280" y="649080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1" h="254">
                    <a:moveTo>
                      <a:pt x="111" y="0"/>
                    </a:moveTo>
                    <a:lnTo>
                      <a:pt x="54" y="23"/>
                    </a:lnTo>
                    <a:lnTo>
                      <a:pt x="10" y="60"/>
                    </a:lnTo>
                    <a:lnTo>
                      <a:pt x="0" y="134"/>
                    </a:lnTo>
                    <a:lnTo>
                      <a:pt x="9" y="199"/>
                    </a:lnTo>
                    <a:lnTo>
                      <a:pt x="49" y="254"/>
                    </a:lnTo>
                    <a:lnTo>
                      <a:pt x="20" y="184"/>
                    </a:lnTo>
                    <a:lnTo>
                      <a:pt x="30" y="120"/>
                    </a:lnTo>
                    <a:lnTo>
                      <a:pt x="54" y="63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Freeform 87"/>
              <p:cNvSpPr/>
              <p:nvPr/>
            </p:nvSpPr>
            <p:spPr>
              <a:xfrm>
                <a:off x="8442720" y="6486120"/>
                <a:ext cx="36720" cy="324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60" h="209">
                    <a:moveTo>
                      <a:pt x="160" y="0"/>
                    </a:moveTo>
                    <a:lnTo>
                      <a:pt x="75" y="33"/>
                    </a:lnTo>
                    <a:lnTo>
                      <a:pt x="37" y="83"/>
                    </a:lnTo>
                    <a:lnTo>
                      <a:pt x="0" y="160"/>
                    </a:lnTo>
                    <a:lnTo>
                      <a:pt x="0" y="209"/>
                    </a:lnTo>
                    <a:lnTo>
                      <a:pt x="26" y="149"/>
                    </a:lnTo>
                    <a:lnTo>
                      <a:pt x="65" y="73"/>
                    </a:lnTo>
                    <a:lnTo>
                      <a:pt x="95" y="4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Freeform 88"/>
              <p:cNvSpPr/>
              <p:nvPr/>
            </p:nvSpPr>
            <p:spPr>
              <a:xfrm>
                <a:off x="8447040" y="6481440"/>
                <a:ext cx="56520" cy="496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47" h="320">
                    <a:moveTo>
                      <a:pt x="5" y="320"/>
                    </a:moveTo>
                    <a:lnTo>
                      <a:pt x="0" y="259"/>
                    </a:lnTo>
                    <a:lnTo>
                      <a:pt x="25" y="194"/>
                    </a:lnTo>
                    <a:lnTo>
                      <a:pt x="55" y="129"/>
                    </a:lnTo>
                    <a:lnTo>
                      <a:pt x="102" y="85"/>
                    </a:lnTo>
                    <a:lnTo>
                      <a:pt x="172" y="35"/>
                    </a:lnTo>
                    <a:lnTo>
                      <a:pt x="247" y="0"/>
                    </a:lnTo>
                    <a:lnTo>
                      <a:pt x="182" y="65"/>
                    </a:lnTo>
                    <a:lnTo>
                      <a:pt x="102" y="123"/>
                    </a:lnTo>
                    <a:lnTo>
                      <a:pt x="47" y="199"/>
                    </a:lnTo>
                    <a:lnTo>
                      <a:pt x="30" y="250"/>
                    </a:lnTo>
                    <a:lnTo>
                      <a:pt x="5" y="3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Freeform 89"/>
              <p:cNvSpPr/>
              <p:nvPr/>
            </p:nvSpPr>
            <p:spPr>
              <a:xfrm>
                <a:off x="8459640" y="6494760"/>
                <a:ext cx="40320" cy="309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75" h="199">
                    <a:moveTo>
                      <a:pt x="0" y="199"/>
                    </a:moveTo>
                    <a:lnTo>
                      <a:pt x="45" y="95"/>
                    </a:lnTo>
                    <a:lnTo>
                      <a:pt x="100" y="33"/>
                    </a:lnTo>
                    <a:lnTo>
                      <a:pt x="175" y="0"/>
                    </a:lnTo>
                    <a:lnTo>
                      <a:pt x="97" y="65"/>
                    </a:lnTo>
                    <a:lnTo>
                      <a:pt x="52" y="134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Freeform 90"/>
              <p:cNvSpPr/>
              <p:nvPr/>
            </p:nvSpPr>
            <p:spPr>
              <a:xfrm>
                <a:off x="8462520" y="6476400"/>
                <a:ext cx="86400" cy="540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75" h="347">
                    <a:moveTo>
                      <a:pt x="0" y="347"/>
                    </a:moveTo>
                    <a:lnTo>
                      <a:pt x="88" y="282"/>
                    </a:lnTo>
                    <a:lnTo>
                      <a:pt x="143" y="212"/>
                    </a:lnTo>
                    <a:lnTo>
                      <a:pt x="238" y="166"/>
                    </a:lnTo>
                    <a:lnTo>
                      <a:pt x="330" y="87"/>
                    </a:lnTo>
                    <a:lnTo>
                      <a:pt x="375" y="0"/>
                    </a:lnTo>
                    <a:lnTo>
                      <a:pt x="315" y="65"/>
                    </a:lnTo>
                    <a:lnTo>
                      <a:pt x="243" y="125"/>
                    </a:lnTo>
                    <a:lnTo>
                      <a:pt x="208" y="157"/>
                    </a:lnTo>
                    <a:lnTo>
                      <a:pt x="120" y="186"/>
                    </a:lnTo>
                    <a:lnTo>
                      <a:pt x="80" y="25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Freeform 91"/>
              <p:cNvSpPr/>
              <p:nvPr/>
            </p:nvSpPr>
            <p:spPr>
              <a:xfrm>
                <a:off x="8506080" y="6436800"/>
                <a:ext cx="91080" cy="590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96" h="378">
                    <a:moveTo>
                      <a:pt x="0" y="378"/>
                    </a:moveTo>
                    <a:lnTo>
                      <a:pt x="85" y="320"/>
                    </a:lnTo>
                    <a:lnTo>
                      <a:pt x="147" y="233"/>
                    </a:lnTo>
                    <a:lnTo>
                      <a:pt x="246" y="128"/>
                    </a:lnTo>
                    <a:lnTo>
                      <a:pt x="336" y="60"/>
                    </a:lnTo>
                    <a:lnTo>
                      <a:pt x="396" y="0"/>
                    </a:lnTo>
                    <a:lnTo>
                      <a:pt x="267" y="63"/>
                    </a:lnTo>
                    <a:lnTo>
                      <a:pt x="202" y="145"/>
                    </a:lnTo>
                    <a:lnTo>
                      <a:pt x="116" y="230"/>
                    </a:lnTo>
                    <a:lnTo>
                      <a:pt x="92" y="2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Freeform 92"/>
              <p:cNvSpPr/>
              <p:nvPr/>
            </p:nvSpPr>
            <p:spPr>
              <a:xfrm>
                <a:off x="8503920" y="6457680"/>
                <a:ext cx="47160" cy="327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05" h="208">
                    <a:moveTo>
                      <a:pt x="0" y="208"/>
                    </a:moveTo>
                    <a:lnTo>
                      <a:pt x="60" y="135"/>
                    </a:lnTo>
                    <a:lnTo>
                      <a:pt x="130" y="48"/>
                    </a:lnTo>
                    <a:lnTo>
                      <a:pt x="205" y="0"/>
                    </a:lnTo>
                    <a:lnTo>
                      <a:pt x="80" y="53"/>
                    </a:lnTo>
                    <a:lnTo>
                      <a:pt x="48" y="1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Freeform 93"/>
              <p:cNvSpPr/>
              <p:nvPr/>
            </p:nvSpPr>
            <p:spPr>
              <a:xfrm>
                <a:off x="8363520" y="6467040"/>
                <a:ext cx="91080" cy="295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96" h="188">
                    <a:moveTo>
                      <a:pt x="38" y="50"/>
                    </a:moveTo>
                    <a:lnTo>
                      <a:pt x="3" y="93"/>
                    </a:lnTo>
                    <a:lnTo>
                      <a:pt x="0" y="125"/>
                    </a:lnTo>
                    <a:lnTo>
                      <a:pt x="13" y="158"/>
                    </a:lnTo>
                    <a:lnTo>
                      <a:pt x="58" y="175"/>
                    </a:lnTo>
                    <a:lnTo>
                      <a:pt x="150" y="188"/>
                    </a:lnTo>
                    <a:lnTo>
                      <a:pt x="205" y="178"/>
                    </a:lnTo>
                    <a:lnTo>
                      <a:pt x="289" y="155"/>
                    </a:lnTo>
                    <a:lnTo>
                      <a:pt x="344" y="138"/>
                    </a:lnTo>
                    <a:lnTo>
                      <a:pt x="370" y="128"/>
                    </a:lnTo>
                    <a:lnTo>
                      <a:pt x="374" y="83"/>
                    </a:lnTo>
                    <a:lnTo>
                      <a:pt x="396" y="0"/>
                    </a:lnTo>
                    <a:lnTo>
                      <a:pt x="364" y="73"/>
                    </a:lnTo>
                    <a:lnTo>
                      <a:pt x="345" y="113"/>
                    </a:lnTo>
                    <a:lnTo>
                      <a:pt x="270" y="138"/>
                    </a:lnTo>
                    <a:lnTo>
                      <a:pt x="193" y="160"/>
                    </a:lnTo>
                    <a:lnTo>
                      <a:pt x="123" y="170"/>
                    </a:lnTo>
                    <a:lnTo>
                      <a:pt x="70" y="153"/>
                    </a:lnTo>
                    <a:lnTo>
                      <a:pt x="35" y="135"/>
                    </a:lnTo>
                    <a:lnTo>
                      <a:pt x="33" y="118"/>
                    </a:lnTo>
                    <a:lnTo>
                      <a:pt x="33" y="80"/>
                    </a:lnTo>
                    <a:lnTo>
                      <a:pt x="38" y="5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Freeform 94"/>
              <p:cNvSpPr/>
              <p:nvPr/>
            </p:nvSpPr>
            <p:spPr>
              <a:xfrm>
                <a:off x="8375040" y="6463080"/>
                <a:ext cx="17280" cy="26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5" h="170">
                    <a:moveTo>
                      <a:pt x="75" y="0"/>
                    </a:moveTo>
                    <a:lnTo>
                      <a:pt x="28" y="32"/>
                    </a:lnTo>
                    <a:lnTo>
                      <a:pt x="5" y="67"/>
                    </a:lnTo>
                    <a:lnTo>
                      <a:pt x="0" y="95"/>
                    </a:lnTo>
                    <a:lnTo>
                      <a:pt x="0" y="125"/>
                    </a:lnTo>
                    <a:lnTo>
                      <a:pt x="8" y="165"/>
                    </a:lnTo>
                    <a:lnTo>
                      <a:pt x="28" y="170"/>
                    </a:lnTo>
                    <a:lnTo>
                      <a:pt x="13" y="127"/>
                    </a:lnTo>
                    <a:lnTo>
                      <a:pt x="20" y="85"/>
                    </a:lnTo>
                    <a:lnTo>
                      <a:pt x="53" y="4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Freeform 95"/>
              <p:cNvSpPr/>
              <p:nvPr/>
            </p:nvSpPr>
            <p:spPr>
              <a:xfrm>
                <a:off x="8384040" y="6433560"/>
                <a:ext cx="56520" cy="565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45" h="362">
                    <a:moveTo>
                      <a:pt x="5" y="362"/>
                    </a:moveTo>
                    <a:lnTo>
                      <a:pt x="0" y="302"/>
                    </a:lnTo>
                    <a:lnTo>
                      <a:pt x="20" y="245"/>
                    </a:lnTo>
                    <a:lnTo>
                      <a:pt x="60" y="185"/>
                    </a:lnTo>
                    <a:lnTo>
                      <a:pt x="80" y="155"/>
                    </a:lnTo>
                    <a:lnTo>
                      <a:pt x="139" y="105"/>
                    </a:lnTo>
                    <a:lnTo>
                      <a:pt x="184" y="60"/>
                    </a:lnTo>
                    <a:lnTo>
                      <a:pt x="245" y="0"/>
                    </a:lnTo>
                    <a:lnTo>
                      <a:pt x="160" y="105"/>
                    </a:lnTo>
                    <a:lnTo>
                      <a:pt x="100" y="170"/>
                    </a:lnTo>
                    <a:lnTo>
                      <a:pt x="45" y="242"/>
                    </a:lnTo>
                    <a:lnTo>
                      <a:pt x="25" y="297"/>
                    </a:lnTo>
                    <a:lnTo>
                      <a:pt x="5" y="36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8392320" y="6460200"/>
                <a:ext cx="64440" cy="2952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81" h="190">
                    <a:moveTo>
                      <a:pt x="8" y="130"/>
                    </a:moveTo>
                    <a:lnTo>
                      <a:pt x="0" y="175"/>
                    </a:lnTo>
                    <a:lnTo>
                      <a:pt x="20" y="190"/>
                    </a:lnTo>
                    <a:lnTo>
                      <a:pt x="109" y="178"/>
                    </a:lnTo>
                    <a:lnTo>
                      <a:pt x="185" y="150"/>
                    </a:lnTo>
                    <a:lnTo>
                      <a:pt x="215" y="90"/>
                    </a:lnTo>
                    <a:lnTo>
                      <a:pt x="281" y="0"/>
                    </a:lnTo>
                    <a:lnTo>
                      <a:pt x="185" y="98"/>
                    </a:lnTo>
                    <a:lnTo>
                      <a:pt x="130" y="155"/>
                    </a:lnTo>
                    <a:lnTo>
                      <a:pt x="38" y="173"/>
                    </a:lnTo>
                    <a:lnTo>
                      <a:pt x="8" y="1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Freeform 97"/>
              <p:cNvSpPr/>
              <p:nvPr/>
            </p:nvSpPr>
            <p:spPr>
              <a:xfrm>
                <a:off x="8398080" y="6467040"/>
                <a:ext cx="40680" cy="154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79" h="100">
                    <a:moveTo>
                      <a:pt x="5" y="35"/>
                    </a:moveTo>
                    <a:lnTo>
                      <a:pt x="0" y="85"/>
                    </a:lnTo>
                    <a:lnTo>
                      <a:pt x="10" y="100"/>
                    </a:lnTo>
                    <a:lnTo>
                      <a:pt x="54" y="97"/>
                    </a:lnTo>
                    <a:lnTo>
                      <a:pt x="109" y="55"/>
                    </a:lnTo>
                    <a:lnTo>
                      <a:pt x="179" y="0"/>
                    </a:lnTo>
                    <a:lnTo>
                      <a:pt x="95" y="42"/>
                    </a:lnTo>
                    <a:lnTo>
                      <a:pt x="30" y="72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Freeform 98"/>
              <p:cNvSpPr/>
              <p:nvPr/>
            </p:nvSpPr>
            <p:spPr>
              <a:xfrm>
                <a:off x="8404920" y="6432480"/>
                <a:ext cx="60480" cy="392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64" h="252">
                    <a:moveTo>
                      <a:pt x="8" y="252"/>
                    </a:moveTo>
                    <a:lnTo>
                      <a:pt x="0" y="222"/>
                    </a:lnTo>
                    <a:lnTo>
                      <a:pt x="40" y="172"/>
                    </a:lnTo>
                    <a:lnTo>
                      <a:pt x="80" y="130"/>
                    </a:lnTo>
                    <a:lnTo>
                      <a:pt x="179" y="75"/>
                    </a:lnTo>
                    <a:lnTo>
                      <a:pt x="264" y="0"/>
                    </a:lnTo>
                    <a:lnTo>
                      <a:pt x="199" y="80"/>
                    </a:lnTo>
                    <a:lnTo>
                      <a:pt x="94" y="142"/>
                    </a:lnTo>
                    <a:lnTo>
                      <a:pt x="55" y="185"/>
                    </a:lnTo>
                    <a:lnTo>
                      <a:pt x="8" y="25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Freeform 99"/>
              <p:cNvSpPr/>
              <p:nvPr/>
            </p:nvSpPr>
            <p:spPr>
              <a:xfrm>
                <a:off x="8415000" y="6438960"/>
                <a:ext cx="64440" cy="334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80" h="213">
                    <a:moveTo>
                      <a:pt x="0" y="213"/>
                    </a:moveTo>
                    <a:lnTo>
                      <a:pt x="70" y="170"/>
                    </a:lnTo>
                    <a:lnTo>
                      <a:pt x="155" y="120"/>
                    </a:lnTo>
                    <a:lnTo>
                      <a:pt x="220" y="83"/>
                    </a:lnTo>
                    <a:lnTo>
                      <a:pt x="280" y="0"/>
                    </a:lnTo>
                    <a:lnTo>
                      <a:pt x="220" y="58"/>
                    </a:lnTo>
                    <a:lnTo>
                      <a:pt x="180" y="80"/>
                    </a:lnTo>
                    <a:lnTo>
                      <a:pt x="95" y="113"/>
                    </a:lnTo>
                    <a:lnTo>
                      <a:pt x="36" y="15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Freeform 100"/>
              <p:cNvSpPr/>
              <p:nvPr/>
            </p:nvSpPr>
            <p:spPr>
              <a:xfrm>
                <a:off x="8555040" y="6452640"/>
                <a:ext cx="29160" cy="18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9" h="120">
                    <a:moveTo>
                      <a:pt x="0" y="120"/>
                    </a:moveTo>
                    <a:lnTo>
                      <a:pt x="35" y="65"/>
                    </a:lnTo>
                    <a:lnTo>
                      <a:pt x="111" y="10"/>
                    </a:lnTo>
                    <a:lnTo>
                      <a:pt x="129" y="0"/>
                    </a:lnTo>
                    <a:lnTo>
                      <a:pt x="74" y="6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01"/>
              <p:cNvSpPr/>
              <p:nvPr/>
            </p:nvSpPr>
            <p:spPr>
              <a:xfrm>
                <a:off x="8552880" y="6406200"/>
                <a:ext cx="105120" cy="435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57" h="281">
                    <a:moveTo>
                      <a:pt x="0" y="281"/>
                    </a:moveTo>
                    <a:lnTo>
                      <a:pt x="65" y="231"/>
                    </a:lnTo>
                    <a:lnTo>
                      <a:pt x="150" y="179"/>
                    </a:lnTo>
                    <a:lnTo>
                      <a:pt x="287" y="126"/>
                    </a:lnTo>
                    <a:lnTo>
                      <a:pt x="372" y="54"/>
                    </a:lnTo>
                    <a:lnTo>
                      <a:pt x="457" y="0"/>
                    </a:lnTo>
                    <a:lnTo>
                      <a:pt x="340" y="49"/>
                    </a:lnTo>
                    <a:lnTo>
                      <a:pt x="275" y="106"/>
                    </a:lnTo>
                    <a:lnTo>
                      <a:pt x="175" y="151"/>
                    </a:lnTo>
                    <a:lnTo>
                      <a:pt x="112" y="181"/>
                    </a:lnTo>
                    <a:lnTo>
                      <a:pt x="26" y="23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02"/>
              <p:cNvSpPr/>
              <p:nvPr/>
            </p:nvSpPr>
            <p:spPr>
              <a:xfrm>
                <a:off x="8606520" y="6396120"/>
                <a:ext cx="88560" cy="388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387" h="251">
                    <a:moveTo>
                      <a:pt x="0" y="251"/>
                    </a:moveTo>
                    <a:lnTo>
                      <a:pt x="95" y="209"/>
                    </a:lnTo>
                    <a:lnTo>
                      <a:pt x="192" y="139"/>
                    </a:lnTo>
                    <a:lnTo>
                      <a:pt x="322" y="54"/>
                    </a:lnTo>
                    <a:lnTo>
                      <a:pt x="387" y="0"/>
                    </a:lnTo>
                    <a:lnTo>
                      <a:pt x="301" y="49"/>
                    </a:lnTo>
                    <a:lnTo>
                      <a:pt x="202" y="111"/>
                    </a:lnTo>
                    <a:lnTo>
                      <a:pt x="115" y="171"/>
                    </a:lnTo>
                    <a:lnTo>
                      <a:pt x="75" y="204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03"/>
              <p:cNvSpPr/>
              <p:nvPr/>
            </p:nvSpPr>
            <p:spPr>
              <a:xfrm>
                <a:off x="8471520" y="6384240"/>
                <a:ext cx="55080" cy="561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0" h="361">
                    <a:moveTo>
                      <a:pt x="0" y="361"/>
                    </a:moveTo>
                    <a:lnTo>
                      <a:pt x="77" y="291"/>
                    </a:lnTo>
                    <a:lnTo>
                      <a:pt x="152" y="199"/>
                    </a:lnTo>
                    <a:lnTo>
                      <a:pt x="202" y="140"/>
                    </a:lnTo>
                    <a:lnTo>
                      <a:pt x="217" y="69"/>
                    </a:lnTo>
                    <a:lnTo>
                      <a:pt x="240" y="0"/>
                    </a:lnTo>
                    <a:lnTo>
                      <a:pt x="195" y="74"/>
                    </a:lnTo>
                    <a:lnTo>
                      <a:pt x="185" y="130"/>
                    </a:lnTo>
                    <a:lnTo>
                      <a:pt x="112" y="214"/>
                    </a:lnTo>
                    <a:lnTo>
                      <a:pt x="62" y="299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104"/>
              <p:cNvSpPr/>
              <p:nvPr/>
            </p:nvSpPr>
            <p:spPr>
              <a:xfrm>
                <a:off x="8449560" y="6407640"/>
                <a:ext cx="43560" cy="262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90" h="169">
                    <a:moveTo>
                      <a:pt x="0" y="169"/>
                    </a:moveTo>
                    <a:lnTo>
                      <a:pt x="90" y="111"/>
                    </a:lnTo>
                    <a:lnTo>
                      <a:pt x="190" y="0"/>
                    </a:lnTo>
                    <a:lnTo>
                      <a:pt x="92" y="76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105"/>
              <p:cNvSpPr/>
              <p:nvPr/>
            </p:nvSpPr>
            <p:spPr>
              <a:xfrm>
                <a:off x="8501400" y="6346080"/>
                <a:ext cx="46440" cy="468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202" h="300">
                    <a:moveTo>
                      <a:pt x="0" y="300"/>
                    </a:moveTo>
                    <a:lnTo>
                      <a:pt x="80" y="224"/>
                    </a:lnTo>
                    <a:lnTo>
                      <a:pt x="147" y="113"/>
                    </a:lnTo>
                    <a:lnTo>
                      <a:pt x="151" y="50"/>
                    </a:lnTo>
                    <a:lnTo>
                      <a:pt x="166" y="13"/>
                    </a:lnTo>
                    <a:lnTo>
                      <a:pt x="202" y="0"/>
                    </a:lnTo>
                    <a:lnTo>
                      <a:pt x="142" y="23"/>
                    </a:lnTo>
                    <a:lnTo>
                      <a:pt x="132" y="58"/>
                    </a:lnTo>
                    <a:lnTo>
                      <a:pt x="120" y="105"/>
                    </a:lnTo>
                    <a:lnTo>
                      <a:pt x="100" y="175"/>
                    </a:lnTo>
                    <a:lnTo>
                      <a:pt x="62" y="224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106"/>
            <p:cNvSpPr/>
            <p:nvPr/>
          </p:nvSpPr>
          <p:spPr>
            <a:xfrm>
              <a:off x="7772400" y="6019920"/>
              <a:ext cx="1143000" cy="4802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4970" h="3074">
                  <a:moveTo>
                    <a:pt x="922" y="2553"/>
                  </a:moveTo>
                  <a:lnTo>
                    <a:pt x="962" y="2443"/>
                  </a:lnTo>
                  <a:lnTo>
                    <a:pt x="1052" y="2423"/>
                  </a:lnTo>
                  <a:lnTo>
                    <a:pt x="1072" y="2353"/>
                  </a:lnTo>
                  <a:lnTo>
                    <a:pt x="1153" y="2353"/>
                  </a:lnTo>
                  <a:lnTo>
                    <a:pt x="1122" y="2283"/>
                  </a:lnTo>
                  <a:lnTo>
                    <a:pt x="1163" y="2223"/>
                  </a:lnTo>
                  <a:lnTo>
                    <a:pt x="1112" y="2143"/>
                  </a:lnTo>
                  <a:lnTo>
                    <a:pt x="1173" y="2103"/>
                  </a:lnTo>
                  <a:lnTo>
                    <a:pt x="1122" y="2013"/>
                  </a:lnTo>
                  <a:lnTo>
                    <a:pt x="1233" y="1993"/>
                  </a:lnTo>
                  <a:lnTo>
                    <a:pt x="1233" y="1923"/>
                  </a:lnTo>
                  <a:lnTo>
                    <a:pt x="1353" y="1943"/>
                  </a:lnTo>
                  <a:lnTo>
                    <a:pt x="1393" y="1862"/>
                  </a:lnTo>
                  <a:lnTo>
                    <a:pt x="1443" y="1812"/>
                  </a:lnTo>
                  <a:lnTo>
                    <a:pt x="1573" y="1822"/>
                  </a:lnTo>
                  <a:lnTo>
                    <a:pt x="1613" y="1762"/>
                  </a:lnTo>
                  <a:lnTo>
                    <a:pt x="1714" y="1762"/>
                  </a:lnTo>
                  <a:lnTo>
                    <a:pt x="1784" y="1682"/>
                  </a:lnTo>
                  <a:lnTo>
                    <a:pt x="1854" y="1762"/>
                  </a:lnTo>
                  <a:lnTo>
                    <a:pt x="1974" y="1722"/>
                  </a:lnTo>
                  <a:lnTo>
                    <a:pt x="2014" y="1802"/>
                  </a:lnTo>
                  <a:lnTo>
                    <a:pt x="2134" y="1782"/>
                  </a:lnTo>
                  <a:lnTo>
                    <a:pt x="2184" y="1832"/>
                  </a:lnTo>
                  <a:lnTo>
                    <a:pt x="2245" y="1762"/>
                  </a:lnTo>
                  <a:lnTo>
                    <a:pt x="2335" y="1752"/>
                  </a:lnTo>
                  <a:lnTo>
                    <a:pt x="2335" y="1652"/>
                  </a:lnTo>
                  <a:lnTo>
                    <a:pt x="2425" y="1662"/>
                  </a:lnTo>
                  <a:lnTo>
                    <a:pt x="2405" y="1722"/>
                  </a:lnTo>
                  <a:lnTo>
                    <a:pt x="2475" y="1752"/>
                  </a:lnTo>
                  <a:lnTo>
                    <a:pt x="2475" y="1832"/>
                  </a:lnTo>
                  <a:lnTo>
                    <a:pt x="2555" y="1852"/>
                  </a:lnTo>
                  <a:lnTo>
                    <a:pt x="2575" y="1913"/>
                  </a:lnTo>
                  <a:lnTo>
                    <a:pt x="2655" y="1913"/>
                  </a:lnTo>
                  <a:lnTo>
                    <a:pt x="2705" y="1993"/>
                  </a:lnTo>
                  <a:lnTo>
                    <a:pt x="2625" y="2043"/>
                  </a:lnTo>
                  <a:lnTo>
                    <a:pt x="2575" y="2003"/>
                  </a:lnTo>
                  <a:lnTo>
                    <a:pt x="2555" y="2093"/>
                  </a:lnTo>
                  <a:lnTo>
                    <a:pt x="2485" y="2103"/>
                  </a:lnTo>
                  <a:lnTo>
                    <a:pt x="2485" y="2183"/>
                  </a:lnTo>
                  <a:lnTo>
                    <a:pt x="2425" y="2213"/>
                  </a:lnTo>
                  <a:lnTo>
                    <a:pt x="2425" y="2323"/>
                  </a:lnTo>
                  <a:lnTo>
                    <a:pt x="2315" y="2363"/>
                  </a:lnTo>
                  <a:lnTo>
                    <a:pt x="2235" y="2343"/>
                  </a:lnTo>
                  <a:lnTo>
                    <a:pt x="2124" y="2313"/>
                  </a:lnTo>
                  <a:lnTo>
                    <a:pt x="2174" y="2263"/>
                  </a:lnTo>
                  <a:lnTo>
                    <a:pt x="2104" y="2253"/>
                  </a:lnTo>
                  <a:lnTo>
                    <a:pt x="2164" y="2153"/>
                  </a:lnTo>
                  <a:lnTo>
                    <a:pt x="2104" y="2103"/>
                  </a:lnTo>
                  <a:lnTo>
                    <a:pt x="2144" y="2023"/>
                  </a:lnTo>
                  <a:lnTo>
                    <a:pt x="2084" y="1923"/>
                  </a:lnTo>
                  <a:lnTo>
                    <a:pt x="2014" y="1893"/>
                  </a:lnTo>
                  <a:lnTo>
                    <a:pt x="1894" y="1913"/>
                  </a:lnTo>
                  <a:lnTo>
                    <a:pt x="1834" y="1842"/>
                  </a:lnTo>
                  <a:lnTo>
                    <a:pt x="1794" y="1913"/>
                  </a:lnTo>
                  <a:lnTo>
                    <a:pt x="1734" y="2023"/>
                  </a:lnTo>
                  <a:lnTo>
                    <a:pt x="1643" y="2083"/>
                  </a:lnTo>
                  <a:lnTo>
                    <a:pt x="1613" y="2183"/>
                  </a:lnTo>
                  <a:lnTo>
                    <a:pt x="1523" y="2183"/>
                  </a:lnTo>
                  <a:lnTo>
                    <a:pt x="1423" y="2173"/>
                  </a:lnTo>
                  <a:lnTo>
                    <a:pt x="1353" y="2213"/>
                  </a:lnTo>
                  <a:lnTo>
                    <a:pt x="1283" y="2183"/>
                  </a:lnTo>
                  <a:lnTo>
                    <a:pt x="1313" y="2283"/>
                  </a:lnTo>
                  <a:lnTo>
                    <a:pt x="1303" y="2383"/>
                  </a:lnTo>
                  <a:lnTo>
                    <a:pt x="1253" y="2433"/>
                  </a:lnTo>
                  <a:lnTo>
                    <a:pt x="1273" y="2543"/>
                  </a:lnTo>
                  <a:lnTo>
                    <a:pt x="1313" y="2593"/>
                  </a:lnTo>
                  <a:lnTo>
                    <a:pt x="1273" y="2653"/>
                  </a:lnTo>
                  <a:lnTo>
                    <a:pt x="1313" y="2723"/>
                  </a:lnTo>
                  <a:lnTo>
                    <a:pt x="1303" y="2794"/>
                  </a:lnTo>
                  <a:lnTo>
                    <a:pt x="1403" y="2784"/>
                  </a:lnTo>
                  <a:lnTo>
                    <a:pt x="1473" y="2854"/>
                  </a:lnTo>
                  <a:lnTo>
                    <a:pt x="1553" y="2844"/>
                  </a:lnTo>
                  <a:lnTo>
                    <a:pt x="1623" y="2894"/>
                  </a:lnTo>
                  <a:lnTo>
                    <a:pt x="1633" y="2804"/>
                  </a:lnTo>
                  <a:lnTo>
                    <a:pt x="1653" y="2743"/>
                  </a:lnTo>
                  <a:lnTo>
                    <a:pt x="1724" y="2663"/>
                  </a:lnTo>
                  <a:lnTo>
                    <a:pt x="1884" y="2703"/>
                  </a:lnTo>
                  <a:lnTo>
                    <a:pt x="1944" y="2643"/>
                  </a:lnTo>
                  <a:lnTo>
                    <a:pt x="2084" y="2643"/>
                  </a:lnTo>
                  <a:lnTo>
                    <a:pt x="2134" y="2583"/>
                  </a:lnTo>
                  <a:lnTo>
                    <a:pt x="2225" y="2603"/>
                  </a:lnTo>
                  <a:lnTo>
                    <a:pt x="2305" y="2523"/>
                  </a:lnTo>
                  <a:lnTo>
                    <a:pt x="2345" y="2543"/>
                  </a:lnTo>
                  <a:lnTo>
                    <a:pt x="2395" y="2453"/>
                  </a:lnTo>
                  <a:lnTo>
                    <a:pt x="2475" y="2433"/>
                  </a:lnTo>
                  <a:lnTo>
                    <a:pt x="2475" y="2383"/>
                  </a:lnTo>
                  <a:lnTo>
                    <a:pt x="2535" y="2403"/>
                  </a:lnTo>
                  <a:lnTo>
                    <a:pt x="2545" y="2313"/>
                  </a:lnTo>
                  <a:lnTo>
                    <a:pt x="2635" y="2313"/>
                  </a:lnTo>
                  <a:lnTo>
                    <a:pt x="2665" y="2213"/>
                  </a:lnTo>
                  <a:lnTo>
                    <a:pt x="2745" y="2273"/>
                  </a:lnTo>
                  <a:lnTo>
                    <a:pt x="2856" y="2233"/>
                  </a:lnTo>
                  <a:lnTo>
                    <a:pt x="2926" y="2283"/>
                  </a:lnTo>
                  <a:lnTo>
                    <a:pt x="3016" y="2243"/>
                  </a:lnTo>
                  <a:lnTo>
                    <a:pt x="3076" y="2293"/>
                  </a:lnTo>
                  <a:lnTo>
                    <a:pt x="3156" y="2253"/>
                  </a:lnTo>
                  <a:lnTo>
                    <a:pt x="3276" y="2263"/>
                  </a:lnTo>
                  <a:lnTo>
                    <a:pt x="3377" y="2313"/>
                  </a:lnTo>
                  <a:lnTo>
                    <a:pt x="3467" y="2253"/>
                  </a:lnTo>
                  <a:lnTo>
                    <a:pt x="3587" y="2283"/>
                  </a:lnTo>
                  <a:lnTo>
                    <a:pt x="3677" y="2333"/>
                  </a:lnTo>
                  <a:lnTo>
                    <a:pt x="3677" y="2413"/>
                  </a:lnTo>
                  <a:lnTo>
                    <a:pt x="3767" y="2373"/>
                  </a:lnTo>
                  <a:lnTo>
                    <a:pt x="3858" y="2453"/>
                  </a:lnTo>
                  <a:lnTo>
                    <a:pt x="3958" y="2453"/>
                  </a:lnTo>
                  <a:lnTo>
                    <a:pt x="4008" y="2523"/>
                  </a:lnTo>
                  <a:lnTo>
                    <a:pt x="4098" y="2483"/>
                  </a:lnTo>
                  <a:lnTo>
                    <a:pt x="4178" y="2533"/>
                  </a:lnTo>
                  <a:lnTo>
                    <a:pt x="4248" y="2633"/>
                  </a:lnTo>
                  <a:lnTo>
                    <a:pt x="4168" y="2683"/>
                  </a:lnTo>
                  <a:lnTo>
                    <a:pt x="4218" y="2743"/>
                  </a:lnTo>
                  <a:lnTo>
                    <a:pt x="4198" y="2824"/>
                  </a:lnTo>
                  <a:lnTo>
                    <a:pt x="4278" y="2834"/>
                  </a:lnTo>
                  <a:lnTo>
                    <a:pt x="4278" y="2904"/>
                  </a:lnTo>
                  <a:lnTo>
                    <a:pt x="4379" y="2904"/>
                  </a:lnTo>
                  <a:lnTo>
                    <a:pt x="4399" y="2984"/>
                  </a:lnTo>
                  <a:lnTo>
                    <a:pt x="4489" y="3004"/>
                  </a:lnTo>
                  <a:lnTo>
                    <a:pt x="4539" y="3074"/>
                  </a:lnTo>
                  <a:lnTo>
                    <a:pt x="4599" y="3014"/>
                  </a:lnTo>
                  <a:lnTo>
                    <a:pt x="4619" y="2884"/>
                  </a:lnTo>
                  <a:lnTo>
                    <a:pt x="4759" y="2814"/>
                  </a:lnTo>
                  <a:lnTo>
                    <a:pt x="4759" y="2713"/>
                  </a:lnTo>
                  <a:lnTo>
                    <a:pt x="4809" y="2663"/>
                  </a:lnTo>
                  <a:lnTo>
                    <a:pt x="4829" y="2553"/>
                  </a:lnTo>
                  <a:lnTo>
                    <a:pt x="4920" y="2493"/>
                  </a:lnTo>
                  <a:lnTo>
                    <a:pt x="4869" y="2403"/>
                  </a:lnTo>
                  <a:lnTo>
                    <a:pt x="4930" y="2333"/>
                  </a:lnTo>
                  <a:lnTo>
                    <a:pt x="4900" y="2243"/>
                  </a:lnTo>
                  <a:lnTo>
                    <a:pt x="4970" y="2183"/>
                  </a:lnTo>
                  <a:lnTo>
                    <a:pt x="4930" y="2123"/>
                  </a:lnTo>
                  <a:lnTo>
                    <a:pt x="4950" y="2053"/>
                  </a:lnTo>
                  <a:lnTo>
                    <a:pt x="4869" y="2053"/>
                  </a:lnTo>
                  <a:lnTo>
                    <a:pt x="4849" y="1963"/>
                  </a:lnTo>
                  <a:lnTo>
                    <a:pt x="4769" y="1963"/>
                  </a:lnTo>
                  <a:lnTo>
                    <a:pt x="4769" y="1903"/>
                  </a:lnTo>
                  <a:lnTo>
                    <a:pt x="4699" y="1842"/>
                  </a:lnTo>
                  <a:lnTo>
                    <a:pt x="4749" y="1762"/>
                  </a:lnTo>
                  <a:lnTo>
                    <a:pt x="4719" y="1692"/>
                  </a:lnTo>
                  <a:lnTo>
                    <a:pt x="4799" y="1622"/>
                  </a:lnTo>
                  <a:lnTo>
                    <a:pt x="4749" y="1592"/>
                  </a:lnTo>
                  <a:lnTo>
                    <a:pt x="4769" y="1502"/>
                  </a:lnTo>
                  <a:lnTo>
                    <a:pt x="4659" y="1402"/>
                  </a:lnTo>
                  <a:lnTo>
                    <a:pt x="4599" y="1352"/>
                  </a:lnTo>
                  <a:lnTo>
                    <a:pt x="4559" y="1452"/>
                  </a:lnTo>
                  <a:lnTo>
                    <a:pt x="4459" y="1462"/>
                  </a:lnTo>
                  <a:lnTo>
                    <a:pt x="4479" y="1562"/>
                  </a:lnTo>
                  <a:lnTo>
                    <a:pt x="4429" y="1602"/>
                  </a:lnTo>
                  <a:lnTo>
                    <a:pt x="4409" y="1662"/>
                  </a:lnTo>
                  <a:lnTo>
                    <a:pt x="4338" y="1612"/>
                  </a:lnTo>
                  <a:lnTo>
                    <a:pt x="4338" y="1492"/>
                  </a:lnTo>
                  <a:lnTo>
                    <a:pt x="4278" y="1522"/>
                  </a:lnTo>
                  <a:lnTo>
                    <a:pt x="4278" y="1432"/>
                  </a:lnTo>
                  <a:lnTo>
                    <a:pt x="4188" y="1472"/>
                  </a:lnTo>
                  <a:lnTo>
                    <a:pt x="4088" y="1462"/>
                  </a:lnTo>
                  <a:lnTo>
                    <a:pt x="4118" y="1392"/>
                  </a:lnTo>
                  <a:lnTo>
                    <a:pt x="4148" y="1302"/>
                  </a:lnTo>
                  <a:lnTo>
                    <a:pt x="4228" y="1332"/>
                  </a:lnTo>
                  <a:lnTo>
                    <a:pt x="4278" y="1302"/>
                  </a:lnTo>
                  <a:lnTo>
                    <a:pt x="4348" y="1312"/>
                  </a:lnTo>
                  <a:lnTo>
                    <a:pt x="4419" y="1372"/>
                  </a:lnTo>
                  <a:lnTo>
                    <a:pt x="4429" y="1292"/>
                  </a:lnTo>
                  <a:lnTo>
                    <a:pt x="4509" y="1282"/>
                  </a:lnTo>
                  <a:lnTo>
                    <a:pt x="4559" y="1182"/>
                  </a:lnTo>
                  <a:lnTo>
                    <a:pt x="4499" y="1182"/>
                  </a:lnTo>
                  <a:lnTo>
                    <a:pt x="4469" y="1102"/>
                  </a:lnTo>
                  <a:lnTo>
                    <a:pt x="4369" y="1132"/>
                  </a:lnTo>
                  <a:lnTo>
                    <a:pt x="4328" y="1032"/>
                  </a:lnTo>
                  <a:lnTo>
                    <a:pt x="4238" y="1042"/>
                  </a:lnTo>
                  <a:lnTo>
                    <a:pt x="4228" y="951"/>
                  </a:lnTo>
                  <a:lnTo>
                    <a:pt x="4188" y="821"/>
                  </a:lnTo>
                  <a:lnTo>
                    <a:pt x="4068" y="801"/>
                  </a:lnTo>
                  <a:lnTo>
                    <a:pt x="4018" y="731"/>
                  </a:lnTo>
                  <a:lnTo>
                    <a:pt x="3918" y="761"/>
                  </a:lnTo>
                  <a:lnTo>
                    <a:pt x="3807" y="741"/>
                  </a:lnTo>
                  <a:lnTo>
                    <a:pt x="3777" y="801"/>
                  </a:lnTo>
                  <a:lnTo>
                    <a:pt x="3717" y="781"/>
                  </a:lnTo>
                  <a:lnTo>
                    <a:pt x="3647" y="701"/>
                  </a:lnTo>
                  <a:lnTo>
                    <a:pt x="3657" y="621"/>
                  </a:lnTo>
                  <a:lnTo>
                    <a:pt x="3637" y="541"/>
                  </a:lnTo>
                  <a:lnTo>
                    <a:pt x="3557" y="481"/>
                  </a:lnTo>
                  <a:lnTo>
                    <a:pt x="3567" y="361"/>
                  </a:lnTo>
                  <a:lnTo>
                    <a:pt x="3497" y="301"/>
                  </a:lnTo>
                  <a:lnTo>
                    <a:pt x="3487" y="231"/>
                  </a:lnTo>
                  <a:lnTo>
                    <a:pt x="3407" y="281"/>
                  </a:lnTo>
                  <a:lnTo>
                    <a:pt x="3327" y="241"/>
                  </a:lnTo>
                  <a:lnTo>
                    <a:pt x="3256" y="311"/>
                  </a:lnTo>
                  <a:lnTo>
                    <a:pt x="3206" y="271"/>
                  </a:lnTo>
                  <a:lnTo>
                    <a:pt x="3066" y="291"/>
                  </a:lnTo>
                  <a:lnTo>
                    <a:pt x="2976" y="231"/>
                  </a:lnTo>
                  <a:lnTo>
                    <a:pt x="2986" y="171"/>
                  </a:lnTo>
                  <a:lnTo>
                    <a:pt x="2906" y="211"/>
                  </a:lnTo>
                  <a:lnTo>
                    <a:pt x="2856" y="151"/>
                  </a:lnTo>
                  <a:lnTo>
                    <a:pt x="2756" y="161"/>
                  </a:lnTo>
                  <a:lnTo>
                    <a:pt x="2715" y="90"/>
                  </a:lnTo>
                  <a:lnTo>
                    <a:pt x="2595" y="100"/>
                  </a:lnTo>
                  <a:lnTo>
                    <a:pt x="2545" y="20"/>
                  </a:lnTo>
                  <a:lnTo>
                    <a:pt x="2465" y="60"/>
                  </a:lnTo>
                  <a:lnTo>
                    <a:pt x="2375" y="20"/>
                  </a:lnTo>
                  <a:lnTo>
                    <a:pt x="2315" y="60"/>
                  </a:lnTo>
                  <a:lnTo>
                    <a:pt x="2235" y="0"/>
                  </a:lnTo>
                  <a:lnTo>
                    <a:pt x="2225" y="110"/>
                  </a:lnTo>
                  <a:lnTo>
                    <a:pt x="2144" y="130"/>
                  </a:lnTo>
                  <a:lnTo>
                    <a:pt x="2084" y="221"/>
                  </a:lnTo>
                  <a:lnTo>
                    <a:pt x="1984" y="191"/>
                  </a:lnTo>
                  <a:lnTo>
                    <a:pt x="1904" y="241"/>
                  </a:lnTo>
                  <a:lnTo>
                    <a:pt x="1804" y="201"/>
                  </a:lnTo>
                  <a:lnTo>
                    <a:pt x="1694" y="261"/>
                  </a:lnTo>
                  <a:lnTo>
                    <a:pt x="1593" y="201"/>
                  </a:lnTo>
                  <a:lnTo>
                    <a:pt x="1483" y="261"/>
                  </a:lnTo>
                  <a:lnTo>
                    <a:pt x="1353" y="201"/>
                  </a:lnTo>
                  <a:lnTo>
                    <a:pt x="1283" y="291"/>
                  </a:lnTo>
                  <a:lnTo>
                    <a:pt x="1193" y="241"/>
                  </a:lnTo>
                  <a:lnTo>
                    <a:pt x="1102" y="271"/>
                  </a:lnTo>
                  <a:lnTo>
                    <a:pt x="1002" y="241"/>
                  </a:lnTo>
                  <a:lnTo>
                    <a:pt x="1032" y="361"/>
                  </a:lnTo>
                  <a:lnTo>
                    <a:pt x="952" y="411"/>
                  </a:lnTo>
                  <a:lnTo>
                    <a:pt x="982" y="491"/>
                  </a:lnTo>
                  <a:lnTo>
                    <a:pt x="942" y="611"/>
                  </a:lnTo>
                  <a:lnTo>
                    <a:pt x="1012" y="661"/>
                  </a:lnTo>
                  <a:lnTo>
                    <a:pt x="922" y="741"/>
                  </a:lnTo>
                  <a:lnTo>
                    <a:pt x="802" y="791"/>
                  </a:lnTo>
                  <a:lnTo>
                    <a:pt x="712" y="871"/>
                  </a:lnTo>
                  <a:lnTo>
                    <a:pt x="581" y="871"/>
                  </a:lnTo>
                  <a:lnTo>
                    <a:pt x="541" y="941"/>
                  </a:lnTo>
                  <a:lnTo>
                    <a:pt x="481" y="921"/>
                  </a:lnTo>
                  <a:lnTo>
                    <a:pt x="421" y="1012"/>
                  </a:lnTo>
                  <a:lnTo>
                    <a:pt x="341" y="1062"/>
                  </a:lnTo>
                  <a:lnTo>
                    <a:pt x="351" y="1132"/>
                  </a:lnTo>
                  <a:lnTo>
                    <a:pt x="281" y="1162"/>
                  </a:lnTo>
                  <a:lnTo>
                    <a:pt x="291" y="1262"/>
                  </a:lnTo>
                  <a:lnTo>
                    <a:pt x="221" y="1302"/>
                  </a:lnTo>
                  <a:lnTo>
                    <a:pt x="291" y="1372"/>
                  </a:lnTo>
                  <a:lnTo>
                    <a:pt x="281" y="1452"/>
                  </a:lnTo>
                  <a:lnTo>
                    <a:pt x="361" y="1482"/>
                  </a:lnTo>
                  <a:lnTo>
                    <a:pt x="361" y="1562"/>
                  </a:lnTo>
                  <a:lnTo>
                    <a:pt x="441" y="1652"/>
                  </a:lnTo>
                  <a:lnTo>
                    <a:pt x="351" y="1682"/>
                  </a:lnTo>
                  <a:lnTo>
                    <a:pt x="261" y="1652"/>
                  </a:lnTo>
                  <a:lnTo>
                    <a:pt x="261" y="1722"/>
                  </a:lnTo>
                  <a:lnTo>
                    <a:pt x="191" y="1762"/>
                  </a:lnTo>
                  <a:lnTo>
                    <a:pt x="191" y="1852"/>
                  </a:lnTo>
                  <a:lnTo>
                    <a:pt x="121" y="1883"/>
                  </a:lnTo>
                  <a:lnTo>
                    <a:pt x="171" y="1943"/>
                  </a:lnTo>
                  <a:lnTo>
                    <a:pt x="141" y="2003"/>
                  </a:lnTo>
                  <a:lnTo>
                    <a:pt x="181" y="2063"/>
                  </a:lnTo>
                  <a:lnTo>
                    <a:pt x="161" y="2173"/>
                  </a:lnTo>
                  <a:lnTo>
                    <a:pt x="141" y="2293"/>
                  </a:lnTo>
                  <a:lnTo>
                    <a:pt x="91" y="2333"/>
                  </a:lnTo>
                  <a:lnTo>
                    <a:pt x="91" y="2433"/>
                  </a:lnTo>
                  <a:lnTo>
                    <a:pt x="0" y="2483"/>
                  </a:lnTo>
                  <a:lnTo>
                    <a:pt x="101" y="2533"/>
                  </a:lnTo>
                  <a:lnTo>
                    <a:pt x="91" y="2613"/>
                  </a:lnTo>
                  <a:lnTo>
                    <a:pt x="171" y="2633"/>
                  </a:lnTo>
                  <a:lnTo>
                    <a:pt x="201" y="2713"/>
                  </a:lnTo>
                  <a:lnTo>
                    <a:pt x="281" y="2713"/>
                  </a:lnTo>
                  <a:lnTo>
                    <a:pt x="301" y="2794"/>
                  </a:lnTo>
                  <a:lnTo>
                    <a:pt x="441" y="2764"/>
                  </a:lnTo>
                  <a:lnTo>
                    <a:pt x="531" y="2824"/>
                  </a:lnTo>
                  <a:lnTo>
                    <a:pt x="652" y="2764"/>
                  </a:lnTo>
                  <a:lnTo>
                    <a:pt x="742" y="2814"/>
                  </a:lnTo>
                  <a:lnTo>
                    <a:pt x="772" y="2743"/>
                  </a:lnTo>
                  <a:lnTo>
                    <a:pt x="842" y="2723"/>
                  </a:lnTo>
                  <a:lnTo>
                    <a:pt x="842" y="2623"/>
                  </a:lnTo>
                  <a:lnTo>
                    <a:pt x="922" y="255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11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138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0" y="1143000"/>
            <a:ext cx="1295280" cy="5715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dentifi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agnós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 alter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a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2" descr="logoonu"/>
          <p:cNvPicPr/>
          <p:nvPr/>
        </p:nvPicPr>
        <p:blipFill>
          <a:blip r:embed="rId6"/>
          <a:stretch/>
        </p:blipFill>
        <p:spPr>
          <a:xfrm>
            <a:off x="0" y="0"/>
            <a:ext cx="1295280" cy="1155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0" y="2971800"/>
            <a:ext cx="129528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3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4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División de Planificación, Estudios e Inversión. MIDEP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D4B6-DA37-4803-BE3B-F8D723560C5D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"/>
          <p:cNvGrpSpPr/>
          <p:nvPr/>
        </p:nvGrpSpPr>
        <p:grpSpPr>
          <a:xfrm>
            <a:off x="2819520" y="3886200"/>
            <a:ext cx="4114440" cy="1752480"/>
            <a:chOff x="2819520" y="3886200"/>
            <a:chExt cx="4114440" cy="1752480"/>
          </a:xfrm>
        </p:grpSpPr>
        <p:grpSp>
          <p:nvGrpSpPr>
            <p:cNvPr id="186" name="Group 5"/>
            <p:cNvGrpSpPr/>
            <p:nvPr/>
          </p:nvGrpSpPr>
          <p:grpSpPr>
            <a:xfrm>
              <a:off x="4093200" y="5385600"/>
              <a:ext cx="1644480" cy="253080"/>
              <a:chOff x="4093200" y="5385600"/>
              <a:chExt cx="1644480" cy="253080"/>
            </a:xfrm>
          </p:grpSpPr>
          <p:sp>
            <p:nvSpPr>
              <p:cNvPr id="187" name="Freeform 6"/>
              <p:cNvSpPr/>
              <p:nvPr/>
            </p:nvSpPr>
            <p:spPr>
              <a:xfrm>
                <a:off x="4928040" y="5385600"/>
                <a:ext cx="809640" cy="25308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253080"/>
                  <a:gd name="textAreaBottom" fmla="*/ 253440 h 253080"/>
                </a:gdLst>
                <a:ahLst/>
                <a:rect l="textAreaLeft" t="textAreaTop" r="textAreaRight" b="textAreaBottom"/>
                <a:pathLst>
                  <a:path w="977" h="634">
                    <a:moveTo>
                      <a:pt x="84" y="601"/>
                    </a:moveTo>
                    <a:lnTo>
                      <a:pt x="94" y="571"/>
                    </a:lnTo>
                    <a:lnTo>
                      <a:pt x="226" y="626"/>
                    </a:lnTo>
                    <a:lnTo>
                      <a:pt x="116" y="564"/>
                    </a:lnTo>
                    <a:lnTo>
                      <a:pt x="364" y="574"/>
                    </a:lnTo>
                    <a:lnTo>
                      <a:pt x="229" y="531"/>
                    </a:lnTo>
                    <a:lnTo>
                      <a:pt x="445" y="531"/>
                    </a:lnTo>
                    <a:lnTo>
                      <a:pt x="510" y="606"/>
                    </a:lnTo>
                    <a:lnTo>
                      <a:pt x="456" y="531"/>
                    </a:lnTo>
                    <a:lnTo>
                      <a:pt x="667" y="551"/>
                    </a:lnTo>
                    <a:lnTo>
                      <a:pt x="466" y="521"/>
                    </a:lnTo>
                    <a:lnTo>
                      <a:pt x="587" y="504"/>
                    </a:lnTo>
                    <a:lnTo>
                      <a:pt x="752" y="516"/>
                    </a:lnTo>
                    <a:lnTo>
                      <a:pt x="607" y="499"/>
                    </a:lnTo>
                    <a:lnTo>
                      <a:pt x="875" y="470"/>
                    </a:lnTo>
                    <a:lnTo>
                      <a:pt x="715" y="465"/>
                    </a:lnTo>
                    <a:lnTo>
                      <a:pt x="977" y="410"/>
                    </a:lnTo>
                    <a:lnTo>
                      <a:pt x="792" y="435"/>
                    </a:lnTo>
                    <a:lnTo>
                      <a:pt x="967" y="254"/>
                    </a:lnTo>
                    <a:lnTo>
                      <a:pt x="840" y="360"/>
                    </a:lnTo>
                    <a:lnTo>
                      <a:pt x="817" y="229"/>
                    </a:lnTo>
                    <a:lnTo>
                      <a:pt x="820" y="334"/>
                    </a:lnTo>
                    <a:lnTo>
                      <a:pt x="705" y="108"/>
                    </a:lnTo>
                    <a:lnTo>
                      <a:pt x="780" y="284"/>
                    </a:lnTo>
                    <a:lnTo>
                      <a:pt x="745" y="325"/>
                    </a:lnTo>
                    <a:lnTo>
                      <a:pt x="710" y="314"/>
                    </a:lnTo>
                    <a:lnTo>
                      <a:pt x="735" y="224"/>
                    </a:lnTo>
                    <a:lnTo>
                      <a:pt x="700" y="188"/>
                    </a:lnTo>
                    <a:lnTo>
                      <a:pt x="722" y="250"/>
                    </a:lnTo>
                    <a:lnTo>
                      <a:pt x="695" y="305"/>
                    </a:lnTo>
                    <a:lnTo>
                      <a:pt x="660" y="279"/>
                    </a:lnTo>
                    <a:lnTo>
                      <a:pt x="660" y="219"/>
                    </a:lnTo>
                    <a:lnTo>
                      <a:pt x="640" y="120"/>
                    </a:lnTo>
                    <a:lnTo>
                      <a:pt x="645" y="193"/>
                    </a:lnTo>
                    <a:lnTo>
                      <a:pt x="652" y="254"/>
                    </a:lnTo>
                    <a:lnTo>
                      <a:pt x="620" y="280"/>
                    </a:lnTo>
                    <a:lnTo>
                      <a:pt x="590" y="270"/>
                    </a:lnTo>
                    <a:lnTo>
                      <a:pt x="597" y="230"/>
                    </a:lnTo>
                    <a:lnTo>
                      <a:pt x="605" y="188"/>
                    </a:lnTo>
                    <a:lnTo>
                      <a:pt x="647" y="88"/>
                    </a:lnTo>
                    <a:lnTo>
                      <a:pt x="587" y="175"/>
                    </a:lnTo>
                    <a:lnTo>
                      <a:pt x="571" y="230"/>
                    </a:lnTo>
                    <a:lnTo>
                      <a:pt x="561" y="178"/>
                    </a:lnTo>
                    <a:lnTo>
                      <a:pt x="580" y="115"/>
                    </a:lnTo>
                    <a:lnTo>
                      <a:pt x="585" y="63"/>
                    </a:lnTo>
                    <a:lnTo>
                      <a:pt x="566" y="98"/>
                    </a:lnTo>
                    <a:lnTo>
                      <a:pt x="551" y="153"/>
                    </a:lnTo>
                    <a:lnTo>
                      <a:pt x="551" y="199"/>
                    </a:lnTo>
                    <a:lnTo>
                      <a:pt x="540" y="155"/>
                    </a:lnTo>
                    <a:lnTo>
                      <a:pt x="541" y="120"/>
                    </a:lnTo>
                    <a:lnTo>
                      <a:pt x="561" y="80"/>
                    </a:lnTo>
                    <a:lnTo>
                      <a:pt x="536" y="110"/>
                    </a:lnTo>
                    <a:lnTo>
                      <a:pt x="530" y="158"/>
                    </a:lnTo>
                    <a:lnTo>
                      <a:pt x="530" y="190"/>
                    </a:lnTo>
                    <a:lnTo>
                      <a:pt x="510" y="205"/>
                    </a:lnTo>
                    <a:lnTo>
                      <a:pt x="515" y="173"/>
                    </a:lnTo>
                    <a:lnTo>
                      <a:pt x="525" y="128"/>
                    </a:lnTo>
                    <a:lnTo>
                      <a:pt x="520" y="65"/>
                    </a:lnTo>
                    <a:lnTo>
                      <a:pt x="515" y="118"/>
                    </a:lnTo>
                    <a:lnTo>
                      <a:pt x="495" y="168"/>
                    </a:lnTo>
                    <a:lnTo>
                      <a:pt x="471" y="138"/>
                    </a:lnTo>
                    <a:lnTo>
                      <a:pt x="475" y="73"/>
                    </a:lnTo>
                    <a:lnTo>
                      <a:pt x="521" y="0"/>
                    </a:lnTo>
                    <a:lnTo>
                      <a:pt x="471" y="50"/>
                    </a:lnTo>
                    <a:lnTo>
                      <a:pt x="451" y="113"/>
                    </a:lnTo>
                    <a:lnTo>
                      <a:pt x="440" y="168"/>
                    </a:lnTo>
                    <a:lnTo>
                      <a:pt x="436" y="93"/>
                    </a:lnTo>
                    <a:lnTo>
                      <a:pt x="480" y="0"/>
                    </a:lnTo>
                    <a:lnTo>
                      <a:pt x="436" y="60"/>
                    </a:lnTo>
                    <a:lnTo>
                      <a:pt x="386" y="120"/>
                    </a:lnTo>
                    <a:lnTo>
                      <a:pt x="0" y="120"/>
                    </a:lnTo>
                    <a:lnTo>
                      <a:pt x="29" y="531"/>
                    </a:lnTo>
                    <a:lnTo>
                      <a:pt x="0" y="634"/>
                    </a:lnTo>
                    <a:lnTo>
                      <a:pt x="51" y="529"/>
                    </a:lnTo>
                    <a:lnTo>
                      <a:pt x="84" y="601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Freeform 7"/>
              <p:cNvSpPr/>
              <p:nvPr/>
            </p:nvSpPr>
            <p:spPr>
              <a:xfrm>
                <a:off x="4093200" y="5431680"/>
                <a:ext cx="896040" cy="198000"/>
              </a:xfrm>
              <a:custGeom>
                <a:avLst/>
                <a:gdLst>
                  <a:gd name="textAreaLeft" fmla="*/ 0 w 896040"/>
                  <a:gd name="textAreaRight" fmla="*/ 896400 w 89604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1082" h="495">
                    <a:moveTo>
                      <a:pt x="990" y="470"/>
                    </a:moveTo>
                    <a:lnTo>
                      <a:pt x="978" y="447"/>
                    </a:lnTo>
                    <a:lnTo>
                      <a:pt x="833" y="490"/>
                    </a:lnTo>
                    <a:lnTo>
                      <a:pt x="955" y="442"/>
                    </a:lnTo>
                    <a:lnTo>
                      <a:pt x="679" y="449"/>
                    </a:lnTo>
                    <a:lnTo>
                      <a:pt x="830" y="415"/>
                    </a:lnTo>
                    <a:lnTo>
                      <a:pt x="589" y="415"/>
                    </a:lnTo>
                    <a:lnTo>
                      <a:pt x="518" y="474"/>
                    </a:lnTo>
                    <a:lnTo>
                      <a:pt x="578" y="415"/>
                    </a:lnTo>
                    <a:lnTo>
                      <a:pt x="344" y="430"/>
                    </a:lnTo>
                    <a:lnTo>
                      <a:pt x="566" y="407"/>
                    </a:lnTo>
                    <a:lnTo>
                      <a:pt x="432" y="394"/>
                    </a:lnTo>
                    <a:lnTo>
                      <a:pt x="249" y="404"/>
                    </a:lnTo>
                    <a:lnTo>
                      <a:pt x="411" y="390"/>
                    </a:lnTo>
                    <a:lnTo>
                      <a:pt x="112" y="368"/>
                    </a:lnTo>
                    <a:lnTo>
                      <a:pt x="290" y="363"/>
                    </a:lnTo>
                    <a:lnTo>
                      <a:pt x="0" y="320"/>
                    </a:lnTo>
                    <a:lnTo>
                      <a:pt x="205" y="340"/>
                    </a:lnTo>
                    <a:lnTo>
                      <a:pt x="10" y="198"/>
                    </a:lnTo>
                    <a:lnTo>
                      <a:pt x="150" y="282"/>
                    </a:lnTo>
                    <a:lnTo>
                      <a:pt x="177" y="178"/>
                    </a:lnTo>
                    <a:lnTo>
                      <a:pt x="174" y="260"/>
                    </a:lnTo>
                    <a:lnTo>
                      <a:pt x="300" y="83"/>
                    </a:lnTo>
                    <a:lnTo>
                      <a:pt x="217" y="222"/>
                    </a:lnTo>
                    <a:lnTo>
                      <a:pt x="257" y="253"/>
                    </a:lnTo>
                    <a:lnTo>
                      <a:pt x="295" y="245"/>
                    </a:lnTo>
                    <a:lnTo>
                      <a:pt x="267" y="175"/>
                    </a:lnTo>
                    <a:lnTo>
                      <a:pt x="307" y="147"/>
                    </a:lnTo>
                    <a:lnTo>
                      <a:pt x="282" y="195"/>
                    </a:lnTo>
                    <a:lnTo>
                      <a:pt x="312" y="238"/>
                    </a:lnTo>
                    <a:lnTo>
                      <a:pt x="351" y="217"/>
                    </a:lnTo>
                    <a:lnTo>
                      <a:pt x="351" y="170"/>
                    </a:lnTo>
                    <a:lnTo>
                      <a:pt x="374" y="93"/>
                    </a:lnTo>
                    <a:lnTo>
                      <a:pt x="367" y="150"/>
                    </a:lnTo>
                    <a:lnTo>
                      <a:pt x="361" y="198"/>
                    </a:lnTo>
                    <a:lnTo>
                      <a:pt x="396" y="218"/>
                    </a:lnTo>
                    <a:lnTo>
                      <a:pt x="429" y="212"/>
                    </a:lnTo>
                    <a:lnTo>
                      <a:pt x="421" y="180"/>
                    </a:lnTo>
                    <a:lnTo>
                      <a:pt x="412" y="147"/>
                    </a:lnTo>
                    <a:lnTo>
                      <a:pt x="366" y="68"/>
                    </a:lnTo>
                    <a:lnTo>
                      <a:pt x="432" y="137"/>
                    </a:lnTo>
                    <a:lnTo>
                      <a:pt x="449" y="180"/>
                    </a:lnTo>
                    <a:lnTo>
                      <a:pt x="461" y="138"/>
                    </a:lnTo>
                    <a:lnTo>
                      <a:pt x="441" y="90"/>
                    </a:lnTo>
                    <a:lnTo>
                      <a:pt x="434" y="48"/>
                    </a:lnTo>
                    <a:lnTo>
                      <a:pt x="454" y="76"/>
                    </a:lnTo>
                    <a:lnTo>
                      <a:pt x="471" y="120"/>
                    </a:lnTo>
                    <a:lnTo>
                      <a:pt x="471" y="155"/>
                    </a:lnTo>
                    <a:lnTo>
                      <a:pt x="484" y="120"/>
                    </a:lnTo>
                    <a:lnTo>
                      <a:pt x="482" y="93"/>
                    </a:lnTo>
                    <a:lnTo>
                      <a:pt x="461" y="61"/>
                    </a:lnTo>
                    <a:lnTo>
                      <a:pt x="487" y="85"/>
                    </a:lnTo>
                    <a:lnTo>
                      <a:pt x="496" y="123"/>
                    </a:lnTo>
                    <a:lnTo>
                      <a:pt x="496" y="148"/>
                    </a:lnTo>
                    <a:lnTo>
                      <a:pt x="518" y="160"/>
                    </a:lnTo>
                    <a:lnTo>
                      <a:pt x="512" y="135"/>
                    </a:lnTo>
                    <a:lnTo>
                      <a:pt x="501" y="100"/>
                    </a:lnTo>
                    <a:lnTo>
                      <a:pt x="506" y="50"/>
                    </a:lnTo>
                    <a:lnTo>
                      <a:pt x="512" y="92"/>
                    </a:lnTo>
                    <a:lnTo>
                      <a:pt x="534" y="132"/>
                    </a:lnTo>
                    <a:lnTo>
                      <a:pt x="561" y="108"/>
                    </a:lnTo>
                    <a:lnTo>
                      <a:pt x="556" y="56"/>
                    </a:lnTo>
                    <a:lnTo>
                      <a:pt x="504" y="0"/>
                    </a:lnTo>
                    <a:lnTo>
                      <a:pt x="561" y="38"/>
                    </a:lnTo>
                    <a:lnTo>
                      <a:pt x="583" y="88"/>
                    </a:lnTo>
                    <a:lnTo>
                      <a:pt x="596" y="132"/>
                    </a:lnTo>
                    <a:lnTo>
                      <a:pt x="599" y="71"/>
                    </a:lnTo>
                    <a:lnTo>
                      <a:pt x="551" y="0"/>
                    </a:lnTo>
                    <a:lnTo>
                      <a:pt x="599" y="46"/>
                    </a:lnTo>
                    <a:lnTo>
                      <a:pt x="654" y="93"/>
                    </a:lnTo>
                    <a:lnTo>
                      <a:pt x="1082" y="93"/>
                    </a:lnTo>
                    <a:lnTo>
                      <a:pt x="1052" y="415"/>
                    </a:lnTo>
                    <a:lnTo>
                      <a:pt x="1082" y="495"/>
                    </a:lnTo>
                    <a:lnTo>
                      <a:pt x="1027" y="414"/>
                    </a:lnTo>
                    <a:lnTo>
                      <a:pt x="990" y="470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9" name="Group 8"/>
            <p:cNvGrpSpPr/>
            <p:nvPr/>
          </p:nvGrpSpPr>
          <p:grpSpPr>
            <a:xfrm>
              <a:off x="3317760" y="4090680"/>
              <a:ext cx="3363840" cy="1480680"/>
              <a:chOff x="3317760" y="4090680"/>
              <a:chExt cx="3363840" cy="148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3317760" y="4090680"/>
                <a:ext cx="3363840" cy="1480680"/>
              </a:xfrm>
              <a:custGeom>
                <a:avLst/>
                <a:gdLst>
                  <a:gd name="textAreaLeft" fmla="*/ 0 w 3363840"/>
                  <a:gd name="textAreaRight" fmla="*/ 3364200 w 3363840"/>
                  <a:gd name="textAreaTop" fmla="*/ 0 h 1480680"/>
                  <a:gd name="textAreaBottom" fmla="*/ 1481040 h 1480680"/>
                </a:gdLst>
                <a:ahLst/>
                <a:rect l="textAreaLeft" t="textAreaTop" r="textAreaRight" b="textAreaBottom"/>
                <a:pathLst>
                  <a:path w="4063" h="3707">
                    <a:moveTo>
                      <a:pt x="1598" y="2773"/>
                    </a:moveTo>
                    <a:lnTo>
                      <a:pt x="1615" y="2845"/>
                    </a:lnTo>
                    <a:lnTo>
                      <a:pt x="1625" y="2930"/>
                    </a:lnTo>
                    <a:lnTo>
                      <a:pt x="1638" y="3023"/>
                    </a:lnTo>
                    <a:lnTo>
                      <a:pt x="1645" y="3120"/>
                    </a:lnTo>
                    <a:lnTo>
                      <a:pt x="1648" y="3202"/>
                    </a:lnTo>
                    <a:lnTo>
                      <a:pt x="1658" y="3264"/>
                    </a:lnTo>
                    <a:lnTo>
                      <a:pt x="1655" y="3315"/>
                    </a:lnTo>
                    <a:lnTo>
                      <a:pt x="1638" y="3367"/>
                    </a:lnTo>
                    <a:lnTo>
                      <a:pt x="1613" y="3441"/>
                    </a:lnTo>
                    <a:lnTo>
                      <a:pt x="1598" y="3484"/>
                    </a:lnTo>
                    <a:lnTo>
                      <a:pt x="1535" y="3506"/>
                    </a:lnTo>
                    <a:lnTo>
                      <a:pt x="1480" y="3532"/>
                    </a:lnTo>
                    <a:lnTo>
                      <a:pt x="1413" y="3566"/>
                    </a:lnTo>
                    <a:lnTo>
                      <a:pt x="1358" y="3606"/>
                    </a:lnTo>
                    <a:lnTo>
                      <a:pt x="1398" y="3607"/>
                    </a:lnTo>
                    <a:lnTo>
                      <a:pt x="1444" y="3607"/>
                    </a:lnTo>
                    <a:lnTo>
                      <a:pt x="1520" y="3601"/>
                    </a:lnTo>
                    <a:lnTo>
                      <a:pt x="1590" y="3601"/>
                    </a:lnTo>
                    <a:lnTo>
                      <a:pt x="1690" y="3581"/>
                    </a:lnTo>
                    <a:lnTo>
                      <a:pt x="1718" y="3572"/>
                    </a:lnTo>
                    <a:lnTo>
                      <a:pt x="1733" y="3596"/>
                    </a:lnTo>
                    <a:lnTo>
                      <a:pt x="1733" y="3637"/>
                    </a:lnTo>
                    <a:lnTo>
                      <a:pt x="1738" y="3701"/>
                    </a:lnTo>
                    <a:lnTo>
                      <a:pt x="1763" y="3707"/>
                    </a:lnTo>
                    <a:lnTo>
                      <a:pt x="1829" y="3666"/>
                    </a:lnTo>
                    <a:lnTo>
                      <a:pt x="1860" y="3636"/>
                    </a:lnTo>
                    <a:lnTo>
                      <a:pt x="1884" y="3602"/>
                    </a:lnTo>
                    <a:lnTo>
                      <a:pt x="1905" y="3586"/>
                    </a:lnTo>
                    <a:lnTo>
                      <a:pt x="1939" y="3574"/>
                    </a:lnTo>
                    <a:lnTo>
                      <a:pt x="1950" y="3616"/>
                    </a:lnTo>
                    <a:lnTo>
                      <a:pt x="1980" y="3666"/>
                    </a:lnTo>
                    <a:lnTo>
                      <a:pt x="2004" y="3701"/>
                    </a:lnTo>
                    <a:lnTo>
                      <a:pt x="2036" y="3706"/>
                    </a:lnTo>
                    <a:lnTo>
                      <a:pt x="2061" y="3666"/>
                    </a:lnTo>
                    <a:lnTo>
                      <a:pt x="2079" y="3631"/>
                    </a:lnTo>
                    <a:lnTo>
                      <a:pt x="2109" y="3596"/>
                    </a:lnTo>
                    <a:lnTo>
                      <a:pt x="2119" y="3581"/>
                    </a:lnTo>
                    <a:lnTo>
                      <a:pt x="2139" y="3587"/>
                    </a:lnTo>
                    <a:lnTo>
                      <a:pt x="2161" y="3592"/>
                    </a:lnTo>
                    <a:lnTo>
                      <a:pt x="2179" y="3611"/>
                    </a:lnTo>
                    <a:lnTo>
                      <a:pt x="2201" y="3627"/>
                    </a:lnTo>
                    <a:lnTo>
                      <a:pt x="2239" y="3641"/>
                    </a:lnTo>
                    <a:lnTo>
                      <a:pt x="2281" y="3646"/>
                    </a:lnTo>
                    <a:lnTo>
                      <a:pt x="2324" y="3651"/>
                    </a:lnTo>
                    <a:lnTo>
                      <a:pt x="2385" y="3661"/>
                    </a:lnTo>
                    <a:lnTo>
                      <a:pt x="2405" y="3652"/>
                    </a:lnTo>
                    <a:lnTo>
                      <a:pt x="2426" y="3636"/>
                    </a:lnTo>
                    <a:lnTo>
                      <a:pt x="2395" y="3606"/>
                    </a:lnTo>
                    <a:lnTo>
                      <a:pt x="2366" y="3587"/>
                    </a:lnTo>
                    <a:lnTo>
                      <a:pt x="2336" y="3567"/>
                    </a:lnTo>
                    <a:lnTo>
                      <a:pt x="2314" y="3547"/>
                    </a:lnTo>
                    <a:lnTo>
                      <a:pt x="2319" y="3524"/>
                    </a:lnTo>
                    <a:lnTo>
                      <a:pt x="2350" y="3531"/>
                    </a:lnTo>
                    <a:lnTo>
                      <a:pt x="2385" y="3531"/>
                    </a:lnTo>
                    <a:lnTo>
                      <a:pt x="2425" y="3552"/>
                    </a:lnTo>
                    <a:lnTo>
                      <a:pt x="2456" y="3572"/>
                    </a:lnTo>
                    <a:lnTo>
                      <a:pt x="2515" y="3606"/>
                    </a:lnTo>
                    <a:lnTo>
                      <a:pt x="2550" y="3611"/>
                    </a:lnTo>
                    <a:lnTo>
                      <a:pt x="2587" y="3601"/>
                    </a:lnTo>
                    <a:lnTo>
                      <a:pt x="2560" y="3566"/>
                    </a:lnTo>
                    <a:lnTo>
                      <a:pt x="2537" y="3542"/>
                    </a:lnTo>
                    <a:lnTo>
                      <a:pt x="2500" y="3512"/>
                    </a:lnTo>
                    <a:lnTo>
                      <a:pt x="2466" y="3477"/>
                    </a:lnTo>
                    <a:lnTo>
                      <a:pt x="2436" y="3456"/>
                    </a:lnTo>
                    <a:lnTo>
                      <a:pt x="2406" y="3397"/>
                    </a:lnTo>
                    <a:lnTo>
                      <a:pt x="2380" y="3362"/>
                    </a:lnTo>
                    <a:lnTo>
                      <a:pt x="2370" y="3294"/>
                    </a:lnTo>
                    <a:lnTo>
                      <a:pt x="2370" y="3210"/>
                    </a:lnTo>
                    <a:lnTo>
                      <a:pt x="2390" y="3123"/>
                    </a:lnTo>
                    <a:lnTo>
                      <a:pt x="2385" y="3048"/>
                    </a:lnTo>
                    <a:lnTo>
                      <a:pt x="2380" y="2990"/>
                    </a:lnTo>
                    <a:lnTo>
                      <a:pt x="2390" y="2943"/>
                    </a:lnTo>
                    <a:lnTo>
                      <a:pt x="2390" y="2888"/>
                    </a:lnTo>
                    <a:lnTo>
                      <a:pt x="2405" y="2838"/>
                    </a:lnTo>
                    <a:lnTo>
                      <a:pt x="2420" y="2793"/>
                    </a:lnTo>
                    <a:lnTo>
                      <a:pt x="2455" y="2758"/>
                    </a:lnTo>
                    <a:lnTo>
                      <a:pt x="2520" y="2710"/>
                    </a:lnTo>
                    <a:lnTo>
                      <a:pt x="2595" y="2658"/>
                    </a:lnTo>
                    <a:lnTo>
                      <a:pt x="2672" y="2600"/>
                    </a:lnTo>
                    <a:lnTo>
                      <a:pt x="2740" y="2533"/>
                    </a:lnTo>
                    <a:lnTo>
                      <a:pt x="2782" y="2466"/>
                    </a:lnTo>
                    <a:lnTo>
                      <a:pt x="2840" y="2393"/>
                    </a:lnTo>
                    <a:lnTo>
                      <a:pt x="2907" y="2318"/>
                    </a:lnTo>
                    <a:lnTo>
                      <a:pt x="2946" y="2278"/>
                    </a:lnTo>
                    <a:lnTo>
                      <a:pt x="2976" y="2241"/>
                    </a:lnTo>
                    <a:lnTo>
                      <a:pt x="3056" y="2166"/>
                    </a:lnTo>
                    <a:lnTo>
                      <a:pt x="3131" y="2121"/>
                    </a:lnTo>
                    <a:lnTo>
                      <a:pt x="3231" y="2052"/>
                    </a:lnTo>
                    <a:lnTo>
                      <a:pt x="3296" y="2006"/>
                    </a:lnTo>
                    <a:lnTo>
                      <a:pt x="3427" y="1930"/>
                    </a:lnTo>
                    <a:lnTo>
                      <a:pt x="3507" y="1890"/>
                    </a:lnTo>
                    <a:lnTo>
                      <a:pt x="3567" y="1850"/>
                    </a:lnTo>
                    <a:lnTo>
                      <a:pt x="3642" y="1802"/>
                    </a:lnTo>
                    <a:lnTo>
                      <a:pt x="3777" y="1800"/>
                    </a:lnTo>
                    <a:lnTo>
                      <a:pt x="4063" y="1772"/>
                    </a:lnTo>
                    <a:lnTo>
                      <a:pt x="3958" y="1760"/>
                    </a:lnTo>
                    <a:lnTo>
                      <a:pt x="3887" y="1765"/>
                    </a:lnTo>
                    <a:lnTo>
                      <a:pt x="4008" y="1625"/>
                    </a:lnTo>
                    <a:lnTo>
                      <a:pt x="3847" y="1770"/>
                    </a:lnTo>
                    <a:lnTo>
                      <a:pt x="3777" y="1765"/>
                    </a:lnTo>
                    <a:lnTo>
                      <a:pt x="3702" y="1752"/>
                    </a:lnTo>
                    <a:lnTo>
                      <a:pt x="3742" y="1695"/>
                    </a:lnTo>
                    <a:lnTo>
                      <a:pt x="3802" y="1620"/>
                    </a:lnTo>
                    <a:lnTo>
                      <a:pt x="3973" y="1462"/>
                    </a:lnTo>
                    <a:lnTo>
                      <a:pt x="3822" y="1570"/>
                    </a:lnTo>
                    <a:lnTo>
                      <a:pt x="3737" y="1640"/>
                    </a:lnTo>
                    <a:lnTo>
                      <a:pt x="3667" y="1700"/>
                    </a:lnTo>
                    <a:lnTo>
                      <a:pt x="3617" y="1725"/>
                    </a:lnTo>
                    <a:lnTo>
                      <a:pt x="3552" y="1765"/>
                    </a:lnTo>
                    <a:lnTo>
                      <a:pt x="3497" y="1795"/>
                    </a:lnTo>
                    <a:lnTo>
                      <a:pt x="3417" y="1820"/>
                    </a:lnTo>
                    <a:lnTo>
                      <a:pt x="3351" y="1845"/>
                    </a:lnTo>
                    <a:lnTo>
                      <a:pt x="3346" y="1800"/>
                    </a:lnTo>
                    <a:lnTo>
                      <a:pt x="3437" y="1750"/>
                    </a:lnTo>
                    <a:lnTo>
                      <a:pt x="3492" y="1685"/>
                    </a:lnTo>
                    <a:lnTo>
                      <a:pt x="3542" y="1675"/>
                    </a:lnTo>
                    <a:lnTo>
                      <a:pt x="3592" y="1655"/>
                    </a:lnTo>
                    <a:lnTo>
                      <a:pt x="3742" y="1560"/>
                    </a:lnTo>
                    <a:lnTo>
                      <a:pt x="3577" y="1645"/>
                    </a:lnTo>
                    <a:lnTo>
                      <a:pt x="3497" y="1660"/>
                    </a:lnTo>
                    <a:lnTo>
                      <a:pt x="3622" y="1465"/>
                    </a:lnTo>
                    <a:lnTo>
                      <a:pt x="3442" y="1690"/>
                    </a:lnTo>
                    <a:lnTo>
                      <a:pt x="3401" y="1735"/>
                    </a:lnTo>
                    <a:lnTo>
                      <a:pt x="3326" y="1765"/>
                    </a:lnTo>
                    <a:lnTo>
                      <a:pt x="3331" y="1675"/>
                    </a:lnTo>
                    <a:lnTo>
                      <a:pt x="3381" y="1650"/>
                    </a:lnTo>
                    <a:lnTo>
                      <a:pt x="3557" y="1485"/>
                    </a:lnTo>
                    <a:lnTo>
                      <a:pt x="3376" y="1615"/>
                    </a:lnTo>
                    <a:lnTo>
                      <a:pt x="3326" y="1645"/>
                    </a:lnTo>
                    <a:lnTo>
                      <a:pt x="3311" y="1555"/>
                    </a:lnTo>
                    <a:lnTo>
                      <a:pt x="3291" y="1442"/>
                    </a:lnTo>
                    <a:lnTo>
                      <a:pt x="3291" y="1615"/>
                    </a:lnTo>
                    <a:lnTo>
                      <a:pt x="3291" y="1685"/>
                    </a:lnTo>
                    <a:lnTo>
                      <a:pt x="3281" y="1745"/>
                    </a:lnTo>
                    <a:lnTo>
                      <a:pt x="3161" y="1755"/>
                    </a:lnTo>
                    <a:lnTo>
                      <a:pt x="3116" y="1755"/>
                    </a:lnTo>
                    <a:lnTo>
                      <a:pt x="2961" y="1720"/>
                    </a:lnTo>
                    <a:lnTo>
                      <a:pt x="3081" y="1770"/>
                    </a:lnTo>
                    <a:lnTo>
                      <a:pt x="3186" y="1790"/>
                    </a:lnTo>
                    <a:lnTo>
                      <a:pt x="3276" y="1780"/>
                    </a:lnTo>
                    <a:lnTo>
                      <a:pt x="3301" y="1875"/>
                    </a:lnTo>
                    <a:lnTo>
                      <a:pt x="3201" y="1940"/>
                    </a:lnTo>
                    <a:lnTo>
                      <a:pt x="3121" y="1992"/>
                    </a:lnTo>
                    <a:lnTo>
                      <a:pt x="3011" y="2056"/>
                    </a:lnTo>
                    <a:lnTo>
                      <a:pt x="2927" y="2111"/>
                    </a:lnTo>
                    <a:lnTo>
                      <a:pt x="2872" y="2141"/>
                    </a:lnTo>
                    <a:lnTo>
                      <a:pt x="2810" y="2176"/>
                    </a:lnTo>
                    <a:lnTo>
                      <a:pt x="2755" y="2221"/>
                    </a:lnTo>
                    <a:lnTo>
                      <a:pt x="2702" y="2278"/>
                    </a:lnTo>
                    <a:lnTo>
                      <a:pt x="2642" y="2331"/>
                    </a:lnTo>
                    <a:lnTo>
                      <a:pt x="2580" y="2383"/>
                    </a:lnTo>
                    <a:lnTo>
                      <a:pt x="2540" y="2421"/>
                    </a:lnTo>
                    <a:lnTo>
                      <a:pt x="2470" y="2448"/>
                    </a:lnTo>
                    <a:lnTo>
                      <a:pt x="2425" y="2461"/>
                    </a:lnTo>
                    <a:lnTo>
                      <a:pt x="2386" y="2481"/>
                    </a:lnTo>
                    <a:lnTo>
                      <a:pt x="2350" y="2493"/>
                    </a:lnTo>
                    <a:lnTo>
                      <a:pt x="2370" y="2416"/>
                    </a:lnTo>
                    <a:lnTo>
                      <a:pt x="2386" y="2348"/>
                    </a:lnTo>
                    <a:lnTo>
                      <a:pt x="2406" y="2293"/>
                    </a:lnTo>
                    <a:lnTo>
                      <a:pt x="2450" y="2242"/>
                    </a:lnTo>
                    <a:lnTo>
                      <a:pt x="2500" y="2187"/>
                    </a:lnTo>
                    <a:lnTo>
                      <a:pt x="2552" y="2122"/>
                    </a:lnTo>
                    <a:lnTo>
                      <a:pt x="2612" y="2041"/>
                    </a:lnTo>
                    <a:lnTo>
                      <a:pt x="2637" y="2001"/>
                    </a:lnTo>
                    <a:lnTo>
                      <a:pt x="2670" y="1952"/>
                    </a:lnTo>
                    <a:lnTo>
                      <a:pt x="2700" y="1875"/>
                    </a:lnTo>
                    <a:lnTo>
                      <a:pt x="2730" y="1810"/>
                    </a:lnTo>
                    <a:lnTo>
                      <a:pt x="2745" y="1730"/>
                    </a:lnTo>
                    <a:lnTo>
                      <a:pt x="2780" y="1662"/>
                    </a:lnTo>
                    <a:lnTo>
                      <a:pt x="2860" y="1625"/>
                    </a:lnTo>
                    <a:lnTo>
                      <a:pt x="2986" y="1580"/>
                    </a:lnTo>
                    <a:lnTo>
                      <a:pt x="3071" y="1525"/>
                    </a:lnTo>
                    <a:lnTo>
                      <a:pt x="3171" y="1475"/>
                    </a:lnTo>
                    <a:lnTo>
                      <a:pt x="3306" y="1410"/>
                    </a:lnTo>
                    <a:lnTo>
                      <a:pt x="3396" y="1375"/>
                    </a:lnTo>
                    <a:lnTo>
                      <a:pt x="3462" y="1345"/>
                    </a:lnTo>
                    <a:lnTo>
                      <a:pt x="3737" y="1335"/>
                    </a:lnTo>
                    <a:lnTo>
                      <a:pt x="3752" y="1405"/>
                    </a:lnTo>
                    <a:lnTo>
                      <a:pt x="3807" y="1475"/>
                    </a:lnTo>
                    <a:lnTo>
                      <a:pt x="3772" y="1395"/>
                    </a:lnTo>
                    <a:lnTo>
                      <a:pt x="3767" y="1335"/>
                    </a:lnTo>
                    <a:lnTo>
                      <a:pt x="4003" y="1310"/>
                    </a:lnTo>
                    <a:lnTo>
                      <a:pt x="3502" y="1325"/>
                    </a:lnTo>
                    <a:lnTo>
                      <a:pt x="3602" y="1265"/>
                    </a:lnTo>
                    <a:lnTo>
                      <a:pt x="3712" y="1181"/>
                    </a:lnTo>
                    <a:lnTo>
                      <a:pt x="3572" y="1250"/>
                    </a:lnTo>
                    <a:lnTo>
                      <a:pt x="3482" y="1275"/>
                    </a:lnTo>
                    <a:lnTo>
                      <a:pt x="3401" y="1300"/>
                    </a:lnTo>
                    <a:lnTo>
                      <a:pt x="3336" y="1230"/>
                    </a:lnTo>
                    <a:lnTo>
                      <a:pt x="3306" y="1135"/>
                    </a:lnTo>
                    <a:lnTo>
                      <a:pt x="3422" y="1099"/>
                    </a:lnTo>
                    <a:lnTo>
                      <a:pt x="3537" y="1014"/>
                    </a:lnTo>
                    <a:lnTo>
                      <a:pt x="3381" y="1094"/>
                    </a:lnTo>
                    <a:lnTo>
                      <a:pt x="3296" y="1109"/>
                    </a:lnTo>
                    <a:lnTo>
                      <a:pt x="3211" y="901"/>
                    </a:lnTo>
                    <a:lnTo>
                      <a:pt x="3216" y="1004"/>
                    </a:lnTo>
                    <a:lnTo>
                      <a:pt x="3146" y="1019"/>
                    </a:lnTo>
                    <a:lnTo>
                      <a:pt x="3016" y="1004"/>
                    </a:lnTo>
                    <a:lnTo>
                      <a:pt x="3146" y="1034"/>
                    </a:lnTo>
                    <a:lnTo>
                      <a:pt x="3231" y="1029"/>
                    </a:lnTo>
                    <a:lnTo>
                      <a:pt x="3271" y="1145"/>
                    </a:lnTo>
                    <a:lnTo>
                      <a:pt x="3306" y="1235"/>
                    </a:lnTo>
                    <a:lnTo>
                      <a:pt x="3356" y="1325"/>
                    </a:lnTo>
                    <a:lnTo>
                      <a:pt x="3236" y="1380"/>
                    </a:lnTo>
                    <a:lnTo>
                      <a:pt x="3111" y="1440"/>
                    </a:lnTo>
                    <a:lnTo>
                      <a:pt x="2981" y="1505"/>
                    </a:lnTo>
                    <a:lnTo>
                      <a:pt x="2886" y="1555"/>
                    </a:lnTo>
                    <a:lnTo>
                      <a:pt x="2790" y="1580"/>
                    </a:lnTo>
                    <a:lnTo>
                      <a:pt x="2830" y="1435"/>
                    </a:lnTo>
                    <a:lnTo>
                      <a:pt x="2860" y="1300"/>
                    </a:lnTo>
                    <a:lnTo>
                      <a:pt x="2875" y="1200"/>
                    </a:lnTo>
                    <a:lnTo>
                      <a:pt x="2891" y="1084"/>
                    </a:lnTo>
                    <a:lnTo>
                      <a:pt x="2891" y="994"/>
                    </a:lnTo>
                    <a:lnTo>
                      <a:pt x="2921" y="891"/>
                    </a:lnTo>
                    <a:lnTo>
                      <a:pt x="3036" y="799"/>
                    </a:lnTo>
                    <a:lnTo>
                      <a:pt x="3146" y="694"/>
                    </a:lnTo>
                    <a:lnTo>
                      <a:pt x="3251" y="510"/>
                    </a:lnTo>
                    <a:lnTo>
                      <a:pt x="3136" y="669"/>
                    </a:lnTo>
                    <a:lnTo>
                      <a:pt x="3021" y="759"/>
                    </a:lnTo>
                    <a:lnTo>
                      <a:pt x="2916" y="834"/>
                    </a:lnTo>
                    <a:lnTo>
                      <a:pt x="2911" y="754"/>
                    </a:lnTo>
                    <a:lnTo>
                      <a:pt x="2916" y="649"/>
                    </a:lnTo>
                    <a:lnTo>
                      <a:pt x="2941" y="480"/>
                    </a:lnTo>
                    <a:lnTo>
                      <a:pt x="2870" y="721"/>
                    </a:lnTo>
                    <a:lnTo>
                      <a:pt x="2865" y="859"/>
                    </a:lnTo>
                    <a:lnTo>
                      <a:pt x="2835" y="969"/>
                    </a:lnTo>
                    <a:lnTo>
                      <a:pt x="2810" y="1104"/>
                    </a:lnTo>
                    <a:lnTo>
                      <a:pt x="2780" y="1171"/>
                    </a:lnTo>
                    <a:lnTo>
                      <a:pt x="2710" y="1099"/>
                    </a:lnTo>
                    <a:lnTo>
                      <a:pt x="2620" y="979"/>
                    </a:lnTo>
                    <a:lnTo>
                      <a:pt x="2540" y="854"/>
                    </a:lnTo>
                    <a:lnTo>
                      <a:pt x="2615" y="789"/>
                    </a:lnTo>
                    <a:lnTo>
                      <a:pt x="2670" y="721"/>
                    </a:lnTo>
                    <a:lnTo>
                      <a:pt x="2755" y="689"/>
                    </a:lnTo>
                    <a:lnTo>
                      <a:pt x="2891" y="604"/>
                    </a:lnTo>
                    <a:lnTo>
                      <a:pt x="2730" y="669"/>
                    </a:lnTo>
                    <a:lnTo>
                      <a:pt x="2680" y="679"/>
                    </a:lnTo>
                    <a:lnTo>
                      <a:pt x="2730" y="609"/>
                    </a:lnTo>
                    <a:lnTo>
                      <a:pt x="2770" y="440"/>
                    </a:lnTo>
                    <a:lnTo>
                      <a:pt x="2690" y="619"/>
                    </a:lnTo>
                    <a:lnTo>
                      <a:pt x="2650" y="679"/>
                    </a:lnTo>
                    <a:lnTo>
                      <a:pt x="2630" y="719"/>
                    </a:lnTo>
                    <a:lnTo>
                      <a:pt x="2575" y="764"/>
                    </a:lnTo>
                    <a:lnTo>
                      <a:pt x="2520" y="819"/>
                    </a:lnTo>
                    <a:lnTo>
                      <a:pt x="2440" y="681"/>
                    </a:lnTo>
                    <a:lnTo>
                      <a:pt x="2360" y="520"/>
                    </a:lnTo>
                    <a:lnTo>
                      <a:pt x="2380" y="409"/>
                    </a:lnTo>
                    <a:lnTo>
                      <a:pt x="2460" y="379"/>
                    </a:lnTo>
                    <a:lnTo>
                      <a:pt x="2660" y="249"/>
                    </a:lnTo>
                    <a:lnTo>
                      <a:pt x="2455" y="359"/>
                    </a:lnTo>
                    <a:lnTo>
                      <a:pt x="2380" y="379"/>
                    </a:lnTo>
                    <a:lnTo>
                      <a:pt x="2385" y="238"/>
                    </a:lnTo>
                    <a:lnTo>
                      <a:pt x="2380" y="0"/>
                    </a:lnTo>
                    <a:lnTo>
                      <a:pt x="2360" y="259"/>
                    </a:lnTo>
                    <a:lnTo>
                      <a:pt x="2345" y="399"/>
                    </a:lnTo>
                    <a:lnTo>
                      <a:pt x="2324" y="474"/>
                    </a:lnTo>
                    <a:lnTo>
                      <a:pt x="2269" y="374"/>
                    </a:lnTo>
                    <a:lnTo>
                      <a:pt x="2109" y="160"/>
                    </a:lnTo>
                    <a:lnTo>
                      <a:pt x="2254" y="414"/>
                    </a:lnTo>
                    <a:lnTo>
                      <a:pt x="2134" y="389"/>
                    </a:lnTo>
                    <a:lnTo>
                      <a:pt x="2014" y="319"/>
                    </a:lnTo>
                    <a:lnTo>
                      <a:pt x="2159" y="429"/>
                    </a:lnTo>
                    <a:lnTo>
                      <a:pt x="2254" y="444"/>
                    </a:lnTo>
                    <a:lnTo>
                      <a:pt x="2289" y="499"/>
                    </a:lnTo>
                    <a:lnTo>
                      <a:pt x="2329" y="619"/>
                    </a:lnTo>
                    <a:lnTo>
                      <a:pt x="2390" y="754"/>
                    </a:lnTo>
                    <a:lnTo>
                      <a:pt x="2309" y="749"/>
                    </a:lnTo>
                    <a:lnTo>
                      <a:pt x="2199" y="724"/>
                    </a:lnTo>
                    <a:lnTo>
                      <a:pt x="2114" y="549"/>
                    </a:lnTo>
                    <a:lnTo>
                      <a:pt x="2174" y="709"/>
                    </a:lnTo>
                    <a:lnTo>
                      <a:pt x="1999" y="644"/>
                    </a:lnTo>
                    <a:lnTo>
                      <a:pt x="2179" y="749"/>
                    </a:lnTo>
                    <a:lnTo>
                      <a:pt x="2059" y="799"/>
                    </a:lnTo>
                    <a:lnTo>
                      <a:pt x="2204" y="764"/>
                    </a:lnTo>
                    <a:lnTo>
                      <a:pt x="2279" y="769"/>
                    </a:lnTo>
                    <a:lnTo>
                      <a:pt x="2425" y="799"/>
                    </a:lnTo>
                    <a:lnTo>
                      <a:pt x="2460" y="869"/>
                    </a:lnTo>
                    <a:lnTo>
                      <a:pt x="2495" y="924"/>
                    </a:lnTo>
                    <a:lnTo>
                      <a:pt x="2550" y="1004"/>
                    </a:lnTo>
                    <a:lnTo>
                      <a:pt x="2615" y="1109"/>
                    </a:lnTo>
                    <a:lnTo>
                      <a:pt x="2695" y="1225"/>
                    </a:lnTo>
                    <a:lnTo>
                      <a:pt x="2750" y="1311"/>
                    </a:lnTo>
                    <a:lnTo>
                      <a:pt x="2735" y="1395"/>
                    </a:lnTo>
                    <a:lnTo>
                      <a:pt x="2715" y="1475"/>
                    </a:lnTo>
                    <a:lnTo>
                      <a:pt x="2670" y="1560"/>
                    </a:lnTo>
                    <a:lnTo>
                      <a:pt x="2630" y="1690"/>
                    </a:lnTo>
                    <a:lnTo>
                      <a:pt x="2590" y="1802"/>
                    </a:lnTo>
                    <a:lnTo>
                      <a:pt x="2560" y="1865"/>
                    </a:lnTo>
                    <a:lnTo>
                      <a:pt x="2505" y="1930"/>
                    </a:lnTo>
                    <a:lnTo>
                      <a:pt x="2445" y="1980"/>
                    </a:lnTo>
                    <a:lnTo>
                      <a:pt x="2390" y="2032"/>
                    </a:lnTo>
                    <a:lnTo>
                      <a:pt x="2339" y="2077"/>
                    </a:lnTo>
                    <a:lnTo>
                      <a:pt x="2299" y="2106"/>
                    </a:lnTo>
                    <a:lnTo>
                      <a:pt x="2246" y="2157"/>
                    </a:lnTo>
                    <a:lnTo>
                      <a:pt x="2194" y="2212"/>
                    </a:lnTo>
                    <a:lnTo>
                      <a:pt x="2136" y="2271"/>
                    </a:lnTo>
                    <a:lnTo>
                      <a:pt x="2069" y="2323"/>
                    </a:lnTo>
                    <a:lnTo>
                      <a:pt x="2011" y="2376"/>
                    </a:lnTo>
                    <a:lnTo>
                      <a:pt x="1970" y="2418"/>
                    </a:lnTo>
                    <a:lnTo>
                      <a:pt x="1949" y="2453"/>
                    </a:lnTo>
                    <a:lnTo>
                      <a:pt x="1894" y="2438"/>
                    </a:lnTo>
                    <a:lnTo>
                      <a:pt x="1850" y="2423"/>
                    </a:lnTo>
                    <a:lnTo>
                      <a:pt x="1820" y="2396"/>
                    </a:lnTo>
                    <a:lnTo>
                      <a:pt x="1788" y="2353"/>
                    </a:lnTo>
                    <a:lnTo>
                      <a:pt x="1733" y="2321"/>
                    </a:lnTo>
                    <a:lnTo>
                      <a:pt x="1690" y="2298"/>
                    </a:lnTo>
                    <a:lnTo>
                      <a:pt x="1613" y="2257"/>
                    </a:lnTo>
                    <a:lnTo>
                      <a:pt x="1578" y="2232"/>
                    </a:lnTo>
                    <a:lnTo>
                      <a:pt x="1533" y="2197"/>
                    </a:lnTo>
                    <a:lnTo>
                      <a:pt x="1485" y="2172"/>
                    </a:lnTo>
                    <a:lnTo>
                      <a:pt x="1439" y="2142"/>
                    </a:lnTo>
                    <a:lnTo>
                      <a:pt x="1398" y="2092"/>
                    </a:lnTo>
                    <a:lnTo>
                      <a:pt x="1358" y="2016"/>
                    </a:lnTo>
                    <a:lnTo>
                      <a:pt x="1328" y="1962"/>
                    </a:lnTo>
                    <a:lnTo>
                      <a:pt x="1388" y="1885"/>
                    </a:lnTo>
                    <a:lnTo>
                      <a:pt x="1443" y="1815"/>
                    </a:lnTo>
                    <a:lnTo>
                      <a:pt x="1483" y="1740"/>
                    </a:lnTo>
                    <a:lnTo>
                      <a:pt x="1533" y="1670"/>
                    </a:lnTo>
                    <a:lnTo>
                      <a:pt x="1578" y="1575"/>
                    </a:lnTo>
                    <a:lnTo>
                      <a:pt x="1633" y="1465"/>
                    </a:lnTo>
                    <a:lnTo>
                      <a:pt x="1673" y="1355"/>
                    </a:lnTo>
                    <a:lnTo>
                      <a:pt x="1698" y="1231"/>
                    </a:lnTo>
                    <a:lnTo>
                      <a:pt x="1859" y="1211"/>
                    </a:lnTo>
                    <a:lnTo>
                      <a:pt x="1969" y="1165"/>
                    </a:lnTo>
                    <a:lnTo>
                      <a:pt x="2069" y="1130"/>
                    </a:lnTo>
                    <a:lnTo>
                      <a:pt x="2159" y="1064"/>
                    </a:lnTo>
                    <a:lnTo>
                      <a:pt x="2214" y="1089"/>
                    </a:lnTo>
                    <a:lnTo>
                      <a:pt x="2410" y="1069"/>
                    </a:lnTo>
                    <a:lnTo>
                      <a:pt x="2229" y="1074"/>
                    </a:lnTo>
                    <a:lnTo>
                      <a:pt x="2189" y="1049"/>
                    </a:lnTo>
                    <a:lnTo>
                      <a:pt x="2309" y="931"/>
                    </a:lnTo>
                    <a:lnTo>
                      <a:pt x="2154" y="1029"/>
                    </a:lnTo>
                    <a:lnTo>
                      <a:pt x="2059" y="1084"/>
                    </a:lnTo>
                    <a:lnTo>
                      <a:pt x="2014" y="1004"/>
                    </a:lnTo>
                    <a:lnTo>
                      <a:pt x="2114" y="899"/>
                    </a:lnTo>
                    <a:lnTo>
                      <a:pt x="2004" y="984"/>
                    </a:lnTo>
                    <a:lnTo>
                      <a:pt x="1929" y="774"/>
                    </a:lnTo>
                    <a:lnTo>
                      <a:pt x="1984" y="1014"/>
                    </a:lnTo>
                    <a:lnTo>
                      <a:pt x="2029" y="1099"/>
                    </a:lnTo>
                    <a:lnTo>
                      <a:pt x="1869" y="1160"/>
                    </a:lnTo>
                    <a:lnTo>
                      <a:pt x="1718" y="1180"/>
                    </a:lnTo>
                    <a:lnTo>
                      <a:pt x="1733" y="1109"/>
                    </a:lnTo>
                    <a:lnTo>
                      <a:pt x="1768" y="959"/>
                    </a:lnTo>
                    <a:lnTo>
                      <a:pt x="1798" y="841"/>
                    </a:lnTo>
                    <a:lnTo>
                      <a:pt x="1839" y="679"/>
                    </a:lnTo>
                    <a:lnTo>
                      <a:pt x="1854" y="554"/>
                    </a:lnTo>
                    <a:lnTo>
                      <a:pt x="1869" y="459"/>
                    </a:lnTo>
                    <a:lnTo>
                      <a:pt x="1879" y="364"/>
                    </a:lnTo>
                    <a:lnTo>
                      <a:pt x="1909" y="100"/>
                    </a:lnTo>
                    <a:lnTo>
                      <a:pt x="1839" y="379"/>
                    </a:lnTo>
                    <a:lnTo>
                      <a:pt x="1814" y="509"/>
                    </a:lnTo>
                    <a:lnTo>
                      <a:pt x="1723" y="434"/>
                    </a:lnTo>
                    <a:lnTo>
                      <a:pt x="1728" y="339"/>
                    </a:lnTo>
                    <a:lnTo>
                      <a:pt x="1663" y="128"/>
                    </a:lnTo>
                    <a:lnTo>
                      <a:pt x="1698" y="339"/>
                    </a:lnTo>
                    <a:lnTo>
                      <a:pt x="1688" y="409"/>
                    </a:lnTo>
                    <a:lnTo>
                      <a:pt x="1613" y="329"/>
                    </a:lnTo>
                    <a:lnTo>
                      <a:pt x="1313" y="83"/>
                    </a:lnTo>
                    <a:lnTo>
                      <a:pt x="1498" y="274"/>
                    </a:lnTo>
                    <a:lnTo>
                      <a:pt x="1548" y="329"/>
                    </a:lnTo>
                    <a:lnTo>
                      <a:pt x="1623" y="394"/>
                    </a:lnTo>
                    <a:lnTo>
                      <a:pt x="1708" y="474"/>
                    </a:lnTo>
                    <a:lnTo>
                      <a:pt x="1623" y="484"/>
                    </a:lnTo>
                    <a:lnTo>
                      <a:pt x="1503" y="474"/>
                    </a:lnTo>
                    <a:lnTo>
                      <a:pt x="1618" y="504"/>
                    </a:lnTo>
                    <a:lnTo>
                      <a:pt x="1743" y="504"/>
                    </a:lnTo>
                    <a:lnTo>
                      <a:pt x="1809" y="571"/>
                    </a:lnTo>
                    <a:lnTo>
                      <a:pt x="1758" y="709"/>
                    </a:lnTo>
                    <a:lnTo>
                      <a:pt x="1733" y="804"/>
                    </a:lnTo>
                    <a:lnTo>
                      <a:pt x="1633" y="724"/>
                    </a:lnTo>
                    <a:lnTo>
                      <a:pt x="1568" y="649"/>
                    </a:lnTo>
                    <a:lnTo>
                      <a:pt x="1488" y="554"/>
                    </a:lnTo>
                    <a:lnTo>
                      <a:pt x="1483" y="494"/>
                    </a:lnTo>
                    <a:lnTo>
                      <a:pt x="1463" y="249"/>
                    </a:lnTo>
                    <a:lnTo>
                      <a:pt x="1458" y="484"/>
                    </a:lnTo>
                    <a:lnTo>
                      <a:pt x="1448" y="519"/>
                    </a:lnTo>
                    <a:lnTo>
                      <a:pt x="1373" y="474"/>
                    </a:lnTo>
                    <a:lnTo>
                      <a:pt x="1323" y="409"/>
                    </a:lnTo>
                    <a:lnTo>
                      <a:pt x="1227" y="250"/>
                    </a:lnTo>
                    <a:lnTo>
                      <a:pt x="1303" y="424"/>
                    </a:lnTo>
                    <a:lnTo>
                      <a:pt x="1353" y="504"/>
                    </a:lnTo>
                    <a:lnTo>
                      <a:pt x="1438" y="581"/>
                    </a:lnTo>
                    <a:lnTo>
                      <a:pt x="1308" y="669"/>
                    </a:lnTo>
                    <a:lnTo>
                      <a:pt x="987" y="721"/>
                    </a:lnTo>
                    <a:lnTo>
                      <a:pt x="1298" y="711"/>
                    </a:lnTo>
                    <a:lnTo>
                      <a:pt x="1468" y="614"/>
                    </a:lnTo>
                    <a:lnTo>
                      <a:pt x="1563" y="719"/>
                    </a:lnTo>
                    <a:lnTo>
                      <a:pt x="1623" y="774"/>
                    </a:lnTo>
                    <a:lnTo>
                      <a:pt x="1703" y="844"/>
                    </a:lnTo>
                    <a:lnTo>
                      <a:pt x="1678" y="989"/>
                    </a:lnTo>
                    <a:lnTo>
                      <a:pt x="1648" y="1074"/>
                    </a:lnTo>
                    <a:lnTo>
                      <a:pt x="1598" y="1255"/>
                    </a:lnTo>
                    <a:lnTo>
                      <a:pt x="1578" y="1340"/>
                    </a:lnTo>
                    <a:lnTo>
                      <a:pt x="1543" y="1425"/>
                    </a:lnTo>
                    <a:lnTo>
                      <a:pt x="1478" y="1530"/>
                    </a:lnTo>
                    <a:lnTo>
                      <a:pt x="1418" y="1625"/>
                    </a:lnTo>
                    <a:lnTo>
                      <a:pt x="1348" y="1730"/>
                    </a:lnTo>
                    <a:lnTo>
                      <a:pt x="1257" y="1825"/>
                    </a:lnTo>
                    <a:lnTo>
                      <a:pt x="1187" y="1882"/>
                    </a:lnTo>
                    <a:lnTo>
                      <a:pt x="1107" y="1805"/>
                    </a:lnTo>
                    <a:lnTo>
                      <a:pt x="1052" y="1735"/>
                    </a:lnTo>
                    <a:lnTo>
                      <a:pt x="947" y="1585"/>
                    </a:lnTo>
                    <a:lnTo>
                      <a:pt x="872" y="1450"/>
                    </a:lnTo>
                    <a:lnTo>
                      <a:pt x="777" y="1321"/>
                    </a:lnTo>
                    <a:lnTo>
                      <a:pt x="726" y="1230"/>
                    </a:lnTo>
                    <a:lnTo>
                      <a:pt x="686" y="1141"/>
                    </a:lnTo>
                    <a:lnTo>
                      <a:pt x="736" y="1039"/>
                    </a:lnTo>
                    <a:lnTo>
                      <a:pt x="777" y="939"/>
                    </a:lnTo>
                    <a:lnTo>
                      <a:pt x="807" y="774"/>
                    </a:lnTo>
                    <a:lnTo>
                      <a:pt x="1017" y="614"/>
                    </a:lnTo>
                    <a:lnTo>
                      <a:pt x="822" y="739"/>
                    </a:lnTo>
                    <a:lnTo>
                      <a:pt x="837" y="450"/>
                    </a:lnTo>
                    <a:lnTo>
                      <a:pt x="782" y="754"/>
                    </a:lnTo>
                    <a:lnTo>
                      <a:pt x="752" y="869"/>
                    </a:lnTo>
                    <a:lnTo>
                      <a:pt x="636" y="699"/>
                    </a:lnTo>
                    <a:lnTo>
                      <a:pt x="747" y="921"/>
                    </a:lnTo>
                    <a:lnTo>
                      <a:pt x="716" y="1009"/>
                    </a:lnTo>
                    <a:lnTo>
                      <a:pt x="656" y="1094"/>
                    </a:lnTo>
                    <a:lnTo>
                      <a:pt x="601" y="1019"/>
                    </a:lnTo>
                    <a:lnTo>
                      <a:pt x="516" y="921"/>
                    </a:lnTo>
                    <a:lnTo>
                      <a:pt x="421" y="819"/>
                    </a:lnTo>
                    <a:lnTo>
                      <a:pt x="446" y="519"/>
                    </a:lnTo>
                    <a:lnTo>
                      <a:pt x="401" y="799"/>
                    </a:lnTo>
                    <a:lnTo>
                      <a:pt x="206" y="671"/>
                    </a:lnTo>
                    <a:lnTo>
                      <a:pt x="361" y="834"/>
                    </a:lnTo>
                    <a:lnTo>
                      <a:pt x="286" y="854"/>
                    </a:lnTo>
                    <a:lnTo>
                      <a:pt x="100" y="834"/>
                    </a:lnTo>
                    <a:lnTo>
                      <a:pt x="291" y="879"/>
                    </a:lnTo>
                    <a:lnTo>
                      <a:pt x="381" y="864"/>
                    </a:lnTo>
                    <a:lnTo>
                      <a:pt x="446" y="971"/>
                    </a:lnTo>
                    <a:lnTo>
                      <a:pt x="516" y="1079"/>
                    </a:lnTo>
                    <a:lnTo>
                      <a:pt x="566" y="1191"/>
                    </a:lnTo>
                    <a:lnTo>
                      <a:pt x="496" y="1225"/>
                    </a:lnTo>
                    <a:lnTo>
                      <a:pt x="376" y="1240"/>
                    </a:lnTo>
                    <a:lnTo>
                      <a:pt x="221" y="1225"/>
                    </a:lnTo>
                    <a:lnTo>
                      <a:pt x="195" y="1049"/>
                    </a:lnTo>
                    <a:lnTo>
                      <a:pt x="195" y="1230"/>
                    </a:lnTo>
                    <a:lnTo>
                      <a:pt x="35" y="1191"/>
                    </a:lnTo>
                    <a:lnTo>
                      <a:pt x="165" y="1245"/>
                    </a:lnTo>
                    <a:lnTo>
                      <a:pt x="90" y="1335"/>
                    </a:lnTo>
                    <a:lnTo>
                      <a:pt x="190" y="1260"/>
                    </a:lnTo>
                    <a:lnTo>
                      <a:pt x="286" y="1271"/>
                    </a:lnTo>
                    <a:lnTo>
                      <a:pt x="391" y="1280"/>
                    </a:lnTo>
                    <a:lnTo>
                      <a:pt x="496" y="1275"/>
                    </a:lnTo>
                    <a:lnTo>
                      <a:pt x="586" y="1250"/>
                    </a:lnTo>
                    <a:lnTo>
                      <a:pt x="656" y="1350"/>
                    </a:lnTo>
                    <a:lnTo>
                      <a:pt x="757" y="1515"/>
                    </a:lnTo>
                    <a:lnTo>
                      <a:pt x="827" y="1645"/>
                    </a:lnTo>
                    <a:lnTo>
                      <a:pt x="917" y="1780"/>
                    </a:lnTo>
                    <a:lnTo>
                      <a:pt x="767" y="1785"/>
                    </a:lnTo>
                    <a:lnTo>
                      <a:pt x="646" y="1789"/>
                    </a:lnTo>
                    <a:lnTo>
                      <a:pt x="511" y="1774"/>
                    </a:lnTo>
                    <a:lnTo>
                      <a:pt x="386" y="1742"/>
                    </a:lnTo>
                    <a:lnTo>
                      <a:pt x="381" y="1645"/>
                    </a:lnTo>
                    <a:lnTo>
                      <a:pt x="336" y="1442"/>
                    </a:lnTo>
                    <a:lnTo>
                      <a:pt x="346" y="1660"/>
                    </a:lnTo>
                    <a:lnTo>
                      <a:pt x="351" y="1730"/>
                    </a:lnTo>
                    <a:lnTo>
                      <a:pt x="5" y="1732"/>
                    </a:lnTo>
                    <a:lnTo>
                      <a:pt x="346" y="1780"/>
                    </a:lnTo>
                    <a:lnTo>
                      <a:pt x="271" y="1845"/>
                    </a:lnTo>
                    <a:lnTo>
                      <a:pt x="0" y="1985"/>
                    </a:lnTo>
                    <a:lnTo>
                      <a:pt x="291" y="1865"/>
                    </a:lnTo>
                    <a:lnTo>
                      <a:pt x="386" y="1790"/>
                    </a:lnTo>
                    <a:lnTo>
                      <a:pt x="536" y="1820"/>
                    </a:lnTo>
                    <a:lnTo>
                      <a:pt x="686" y="1842"/>
                    </a:lnTo>
                    <a:lnTo>
                      <a:pt x="792" y="1840"/>
                    </a:lnTo>
                    <a:lnTo>
                      <a:pt x="927" y="1840"/>
                    </a:lnTo>
                    <a:lnTo>
                      <a:pt x="982" y="1920"/>
                    </a:lnTo>
                    <a:lnTo>
                      <a:pt x="1077" y="2062"/>
                    </a:lnTo>
                    <a:lnTo>
                      <a:pt x="1167" y="2212"/>
                    </a:lnTo>
                    <a:lnTo>
                      <a:pt x="1192" y="2259"/>
                    </a:lnTo>
                    <a:lnTo>
                      <a:pt x="1232" y="2321"/>
                    </a:lnTo>
                    <a:lnTo>
                      <a:pt x="1298" y="2376"/>
                    </a:lnTo>
                    <a:lnTo>
                      <a:pt x="1328" y="2423"/>
                    </a:lnTo>
                    <a:lnTo>
                      <a:pt x="1373" y="2458"/>
                    </a:lnTo>
                    <a:lnTo>
                      <a:pt x="1419" y="2483"/>
                    </a:lnTo>
                    <a:lnTo>
                      <a:pt x="1463" y="2511"/>
                    </a:lnTo>
                    <a:lnTo>
                      <a:pt x="1523" y="2546"/>
                    </a:lnTo>
                    <a:lnTo>
                      <a:pt x="1558" y="2583"/>
                    </a:lnTo>
                    <a:lnTo>
                      <a:pt x="1580" y="2643"/>
                    </a:lnTo>
                    <a:lnTo>
                      <a:pt x="1593" y="2695"/>
                    </a:lnTo>
                    <a:lnTo>
                      <a:pt x="1598" y="2773"/>
                    </a:lnTo>
                    <a:close/>
                  </a:path>
                </a:pathLst>
              </a:custGeom>
              <a:solidFill>
                <a:srgbClr val="402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500360" y="5485680"/>
                <a:ext cx="178560" cy="3888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16" h="98">
                    <a:moveTo>
                      <a:pt x="161" y="0"/>
                    </a:moveTo>
                    <a:lnTo>
                      <a:pt x="186" y="25"/>
                    </a:lnTo>
                    <a:lnTo>
                      <a:pt x="177" y="50"/>
                    </a:lnTo>
                    <a:lnTo>
                      <a:pt x="147" y="63"/>
                    </a:lnTo>
                    <a:lnTo>
                      <a:pt x="96" y="75"/>
                    </a:lnTo>
                    <a:lnTo>
                      <a:pt x="76" y="85"/>
                    </a:lnTo>
                    <a:lnTo>
                      <a:pt x="0" y="98"/>
                    </a:lnTo>
                    <a:lnTo>
                      <a:pt x="92" y="95"/>
                    </a:lnTo>
                    <a:lnTo>
                      <a:pt x="171" y="85"/>
                    </a:lnTo>
                    <a:lnTo>
                      <a:pt x="211" y="50"/>
                    </a:lnTo>
                    <a:lnTo>
                      <a:pt x="216" y="30"/>
                    </a:lnTo>
                    <a:lnTo>
                      <a:pt x="206" y="18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475520" y="5487480"/>
                <a:ext cx="158760" cy="36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92" h="90">
                    <a:moveTo>
                      <a:pt x="187" y="0"/>
                    </a:moveTo>
                    <a:lnTo>
                      <a:pt x="192" y="15"/>
                    </a:lnTo>
                    <a:lnTo>
                      <a:pt x="192" y="30"/>
                    </a:lnTo>
                    <a:lnTo>
                      <a:pt x="177" y="40"/>
                    </a:lnTo>
                    <a:lnTo>
                      <a:pt x="152" y="53"/>
                    </a:lnTo>
                    <a:lnTo>
                      <a:pt x="71" y="70"/>
                    </a:lnTo>
                    <a:lnTo>
                      <a:pt x="45" y="75"/>
                    </a:lnTo>
                    <a:lnTo>
                      <a:pt x="0" y="90"/>
                    </a:lnTo>
                    <a:lnTo>
                      <a:pt x="56" y="58"/>
                    </a:lnTo>
                    <a:lnTo>
                      <a:pt x="86" y="50"/>
                    </a:lnTo>
                    <a:lnTo>
                      <a:pt x="121" y="40"/>
                    </a:lnTo>
                    <a:lnTo>
                      <a:pt x="167" y="28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4659480" y="5475600"/>
                <a:ext cx="31320" cy="486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9" h="120">
                    <a:moveTo>
                      <a:pt x="0" y="0"/>
                    </a:moveTo>
                    <a:lnTo>
                      <a:pt x="11" y="18"/>
                    </a:lnTo>
                    <a:lnTo>
                      <a:pt x="19" y="33"/>
                    </a:lnTo>
                    <a:lnTo>
                      <a:pt x="26" y="53"/>
                    </a:lnTo>
                    <a:lnTo>
                      <a:pt x="26" y="78"/>
                    </a:lnTo>
                    <a:lnTo>
                      <a:pt x="5" y="95"/>
                    </a:lnTo>
                    <a:lnTo>
                      <a:pt x="5" y="120"/>
                    </a:lnTo>
                    <a:lnTo>
                      <a:pt x="31" y="88"/>
                    </a:lnTo>
                    <a:lnTo>
                      <a:pt x="39" y="58"/>
                    </a:lnTo>
                    <a:lnTo>
                      <a:pt x="3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4664160" y="5443560"/>
                <a:ext cx="41400" cy="730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51" h="183">
                    <a:moveTo>
                      <a:pt x="14" y="0"/>
                    </a:moveTo>
                    <a:lnTo>
                      <a:pt x="0" y="33"/>
                    </a:lnTo>
                    <a:lnTo>
                      <a:pt x="4" y="50"/>
                    </a:lnTo>
                    <a:lnTo>
                      <a:pt x="11" y="63"/>
                    </a:lnTo>
                    <a:lnTo>
                      <a:pt x="36" y="80"/>
                    </a:lnTo>
                    <a:lnTo>
                      <a:pt x="39" y="95"/>
                    </a:lnTo>
                    <a:lnTo>
                      <a:pt x="41" y="140"/>
                    </a:lnTo>
                    <a:lnTo>
                      <a:pt x="31" y="163"/>
                    </a:lnTo>
                    <a:lnTo>
                      <a:pt x="21" y="183"/>
                    </a:lnTo>
                    <a:lnTo>
                      <a:pt x="51" y="155"/>
                    </a:lnTo>
                    <a:lnTo>
                      <a:pt x="51" y="105"/>
                    </a:lnTo>
                    <a:lnTo>
                      <a:pt x="51" y="65"/>
                    </a:lnTo>
                    <a:lnTo>
                      <a:pt x="24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14"/>
              <p:cNvSpPr/>
              <p:nvPr/>
            </p:nvSpPr>
            <p:spPr>
              <a:xfrm>
                <a:off x="4681080" y="5419440"/>
                <a:ext cx="44640" cy="943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5" h="235">
                    <a:moveTo>
                      <a:pt x="15" y="0"/>
                    </a:moveTo>
                    <a:lnTo>
                      <a:pt x="5" y="30"/>
                    </a:lnTo>
                    <a:lnTo>
                      <a:pt x="0" y="45"/>
                    </a:lnTo>
                    <a:lnTo>
                      <a:pt x="0" y="63"/>
                    </a:lnTo>
                    <a:lnTo>
                      <a:pt x="3" y="83"/>
                    </a:lnTo>
                    <a:lnTo>
                      <a:pt x="13" y="98"/>
                    </a:lnTo>
                    <a:lnTo>
                      <a:pt x="33" y="105"/>
                    </a:lnTo>
                    <a:lnTo>
                      <a:pt x="40" y="123"/>
                    </a:lnTo>
                    <a:lnTo>
                      <a:pt x="38" y="158"/>
                    </a:lnTo>
                    <a:lnTo>
                      <a:pt x="38" y="188"/>
                    </a:lnTo>
                    <a:lnTo>
                      <a:pt x="38" y="208"/>
                    </a:lnTo>
                    <a:lnTo>
                      <a:pt x="20" y="235"/>
                    </a:lnTo>
                    <a:lnTo>
                      <a:pt x="55" y="210"/>
                    </a:lnTo>
                    <a:lnTo>
                      <a:pt x="50" y="165"/>
                    </a:lnTo>
                    <a:lnTo>
                      <a:pt x="55" y="123"/>
                    </a:lnTo>
                    <a:lnTo>
                      <a:pt x="45" y="103"/>
                    </a:lnTo>
                    <a:lnTo>
                      <a:pt x="25" y="85"/>
                    </a:lnTo>
                    <a:lnTo>
                      <a:pt x="15" y="75"/>
                    </a:lnTo>
                    <a:lnTo>
                      <a:pt x="13" y="4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15"/>
              <p:cNvSpPr/>
              <p:nvPr/>
            </p:nvSpPr>
            <p:spPr>
              <a:xfrm>
                <a:off x="4697640" y="5375880"/>
                <a:ext cx="47880" cy="129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58" h="323">
                    <a:moveTo>
                      <a:pt x="45" y="323"/>
                    </a:moveTo>
                    <a:lnTo>
                      <a:pt x="45" y="278"/>
                    </a:lnTo>
                    <a:lnTo>
                      <a:pt x="45" y="223"/>
                    </a:lnTo>
                    <a:lnTo>
                      <a:pt x="30" y="195"/>
                    </a:lnTo>
                    <a:lnTo>
                      <a:pt x="20" y="173"/>
                    </a:lnTo>
                    <a:lnTo>
                      <a:pt x="18" y="155"/>
                    </a:lnTo>
                    <a:lnTo>
                      <a:pt x="10" y="118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5" y="33"/>
                    </a:lnTo>
                    <a:lnTo>
                      <a:pt x="5" y="0"/>
                    </a:lnTo>
                    <a:lnTo>
                      <a:pt x="15" y="28"/>
                    </a:lnTo>
                    <a:lnTo>
                      <a:pt x="18" y="73"/>
                    </a:lnTo>
                    <a:lnTo>
                      <a:pt x="20" y="100"/>
                    </a:lnTo>
                    <a:lnTo>
                      <a:pt x="30" y="123"/>
                    </a:lnTo>
                    <a:lnTo>
                      <a:pt x="35" y="168"/>
                    </a:lnTo>
                    <a:lnTo>
                      <a:pt x="40" y="190"/>
                    </a:lnTo>
                    <a:lnTo>
                      <a:pt x="55" y="220"/>
                    </a:lnTo>
                    <a:lnTo>
                      <a:pt x="58" y="243"/>
                    </a:lnTo>
                    <a:lnTo>
                      <a:pt x="45" y="3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16"/>
              <p:cNvSpPr/>
              <p:nvPr/>
            </p:nvSpPr>
            <p:spPr>
              <a:xfrm>
                <a:off x="4745880" y="5465880"/>
                <a:ext cx="173880" cy="57600"/>
              </a:xfrm>
              <a:custGeom>
                <a:avLst/>
                <a:gdLst>
                  <a:gd name="textAreaLeft" fmla="*/ 0 w 173880"/>
                  <a:gd name="textAreaRight" fmla="*/ 173880 w 1738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10" h="143">
                    <a:moveTo>
                      <a:pt x="0" y="123"/>
                    </a:moveTo>
                    <a:lnTo>
                      <a:pt x="0" y="85"/>
                    </a:lnTo>
                    <a:lnTo>
                      <a:pt x="7" y="45"/>
                    </a:lnTo>
                    <a:lnTo>
                      <a:pt x="40" y="5"/>
                    </a:lnTo>
                    <a:lnTo>
                      <a:pt x="65" y="0"/>
                    </a:lnTo>
                    <a:lnTo>
                      <a:pt x="87" y="3"/>
                    </a:lnTo>
                    <a:lnTo>
                      <a:pt x="147" y="25"/>
                    </a:lnTo>
                    <a:lnTo>
                      <a:pt x="155" y="45"/>
                    </a:lnTo>
                    <a:lnTo>
                      <a:pt x="167" y="78"/>
                    </a:lnTo>
                    <a:lnTo>
                      <a:pt x="185" y="100"/>
                    </a:lnTo>
                    <a:lnTo>
                      <a:pt x="210" y="115"/>
                    </a:lnTo>
                    <a:lnTo>
                      <a:pt x="162" y="143"/>
                    </a:lnTo>
                    <a:lnTo>
                      <a:pt x="160" y="100"/>
                    </a:lnTo>
                    <a:lnTo>
                      <a:pt x="152" y="55"/>
                    </a:lnTo>
                    <a:lnTo>
                      <a:pt x="135" y="40"/>
                    </a:lnTo>
                    <a:lnTo>
                      <a:pt x="105" y="28"/>
                    </a:lnTo>
                    <a:lnTo>
                      <a:pt x="52" y="20"/>
                    </a:lnTo>
                    <a:lnTo>
                      <a:pt x="27" y="43"/>
                    </a:lnTo>
                    <a:lnTo>
                      <a:pt x="15" y="60"/>
                    </a:lnTo>
                    <a:lnTo>
                      <a:pt x="10" y="8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17"/>
              <p:cNvSpPr/>
              <p:nvPr/>
            </p:nvSpPr>
            <p:spPr>
              <a:xfrm>
                <a:off x="4754160" y="5479560"/>
                <a:ext cx="111960" cy="86040"/>
              </a:xfrm>
              <a:custGeom>
                <a:avLst/>
                <a:gdLst>
                  <a:gd name="textAreaLeft" fmla="*/ 0 w 111960"/>
                  <a:gd name="textAreaRight" fmla="*/ 111960 w 111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35" h="217">
                    <a:moveTo>
                      <a:pt x="0" y="105"/>
                    </a:moveTo>
                    <a:lnTo>
                      <a:pt x="0" y="80"/>
                    </a:lnTo>
                    <a:lnTo>
                      <a:pt x="5" y="42"/>
                    </a:lnTo>
                    <a:lnTo>
                      <a:pt x="27" y="10"/>
                    </a:lnTo>
                    <a:lnTo>
                      <a:pt x="65" y="0"/>
                    </a:lnTo>
                    <a:lnTo>
                      <a:pt x="102" y="7"/>
                    </a:lnTo>
                    <a:lnTo>
                      <a:pt x="122" y="25"/>
                    </a:lnTo>
                    <a:lnTo>
                      <a:pt x="132" y="50"/>
                    </a:lnTo>
                    <a:lnTo>
                      <a:pt x="132" y="72"/>
                    </a:lnTo>
                    <a:lnTo>
                      <a:pt x="135" y="105"/>
                    </a:lnTo>
                    <a:lnTo>
                      <a:pt x="125" y="127"/>
                    </a:lnTo>
                    <a:lnTo>
                      <a:pt x="102" y="157"/>
                    </a:lnTo>
                    <a:lnTo>
                      <a:pt x="82" y="180"/>
                    </a:lnTo>
                    <a:lnTo>
                      <a:pt x="47" y="197"/>
                    </a:lnTo>
                    <a:lnTo>
                      <a:pt x="27" y="217"/>
                    </a:lnTo>
                    <a:lnTo>
                      <a:pt x="12" y="215"/>
                    </a:lnTo>
                    <a:lnTo>
                      <a:pt x="40" y="182"/>
                    </a:lnTo>
                    <a:lnTo>
                      <a:pt x="77" y="160"/>
                    </a:lnTo>
                    <a:lnTo>
                      <a:pt x="112" y="125"/>
                    </a:lnTo>
                    <a:lnTo>
                      <a:pt x="120" y="82"/>
                    </a:lnTo>
                    <a:lnTo>
                      <a:pt x="122" y="50"/>
                    </a:lnTo>
                    <a:lnTo>
                      <a:pt x="107" y="27"/>
                    </a:lnTo>
                    <a:lnTo>
                      <a:pt x="82" y="15"/>
                    </a:lnTo>
                    <a:lnTo>
                      <a:pt x="57" y="15"/>
                    </a:lnTo>
                    <a:lnTo>
                      <a:pt x="30" y="25"/>
                    </a:lnTo>
                    <a:lnTo>
                      <a:pt x="10" y="5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4775400" y="5489280"/>
                <a:ext cx="65880" cy="644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8" h="162">
                    <a:moveTo>
                      <a:pt x="43" y="0"/>
                    </a:moveTo>
                    <a:lnTo>
                      <a:pt x="65" y="15"/>
                    </a:lnTo>
                    <a:lnTo>
                      <a:pt x="78" y="52"/>
                    </a:lnTo>
                    <a:lnTo>
                      <a:pt x="70" y="90"/>
                    </a:lnTo>
                    <a:lnTo>
                      <a:pt x="35" y="120"/>
                    </a:lnTo>
                    <a:lnTo>
                      <a:pt x="20" y="142"/>
                    </a:lnTo>
                    <a:lnTo>
                      <a:pt x="0" y="162"/>
                    </a:lnTo>
                    <a:lnTo>
                      <a:pt x="23" y="112"/>
                    </a:lnTo>
                    <a:lnTo>
                      <a:pt x="48" y="67"/>
                    </a:lnTo>
                    <a:lnTo>
                      <a:pt x="48" y="2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9"/>
              <p:cNvSpPr/>
              <p:nvPr/>
            </p:nvSpPr>
            <p:spPr>
              <a:xfrm>
                <a:off x="4762440" y="5491440"/>
                <a:ext cx="46080" cy="637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55" h="160">
                    <a:moveTo>
                      <a:pt x="30" y="0"/>
                    </a:moveTo>
                    <a:lnTo>
                      <a:pt x="45" y="15"/>
                    </a:lnTo>
                    <a:lnTo>
                      <a:pt x="55" y="47"/>
                    </a:lnTo>
                    <a:lnTo>
                      <a:pt x="42" y="77"/>
                    </a:lnTo>
                    <a:lnTo>
                      <a:pt x="15" y="102"/>
                    </a:lnTo>
                    <a:lnTo>
                      <a:pt x="0" y="160"/>
                    </a:lnTo>
                    <a:lnTo>
                      <a:pt x="0" y="92"/>
                    </a:lnTo>
                    <a:lnTo>
                      <a:pt x="22" y="52"/>
                    </a:lnTo>
                    <a:lnTo>
                      <a:pt x="22" y="4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20"/>
              <p:cNvSpPr/>
              <p:nvPr/>
            </p:nvSpPr>
            <p:spPr>
              <a:xfrm>
                <a:off x="4762440" y="5495400"/>
                <a:ext cx="12960" cy="23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5" h="58">
                    <a:moveTo>
                      <a:pt x="10" y="0"/>
                    </a:moveTo>
                    <a:lnTo>
                      <a:pt x="15" y="33"/>
                    </a:lnTo>
                    <a:lnTo>
                      <a:pt x="0" y="5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21"/>
              <p:cNvSpPr/>
              <p:nvPr/>
            </p:nvSpPr>
            <p:spPr>
              <a:xfrm>
                <a:off x="4902840" y="5455440"/>
                <a:ext cx="89640" cy="1090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07" h="273">
                    <a:moveTo>
                      <a:pt x="15" y="0"/>
                    </a:moveTo>
                    <a:lnTo>
                      <a:pt x="0" y="58"/>
                    </a:lnTo>
                    <a:lnTo>
                      <a:pt x="15" y="95"/>
                    </a:lnTo>
                    <a:lnTo>
                      <a:pt x="20" y="115"/>
                    </a:lnTo>
                    <a:lnTo>
                      <a:pt x="30" y="148"/>
                    </a:lnTo>
                    <a:lnTo>
                      <a:pt x="45" y="190"/>
                    </a:lnTo>
                    <a:lnTo>
                      <a:pt x="60" y="218"/>
                    </a:lnTo>
                    <a:lnTo>
                      <a:pt x="87" y="258"/>
                    </a:lnTo>
                    <a:lnTo>
                      <a:pt x="107" y="273"/>
                    </a:lnTo>
                    <a:lnTo>
                      <a:pt x="82" y="233"/>
                    </a:lnTo>
                    <a:lnTo>
                      <a:pt x="60" y="185"/>
                    </a:lnTo>
                    <a:lnTo>
                      <a:pt x="37" y="133"/>
                    </a:lnTo>
                    <a:lnTo>
                      <a:pt x="25" y="88"/>
                    </a:lnTo>
                    <a:lnTo>
                      <a:pt x="12" y="6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22"/>
              <p:cNvSpPr/>
              <p:nvPr/>
            </p:nvSpPr>
            <p:spPr>
              <a:xfrm>
                <a:off x="4934160" y="5463720"/>
                <a:ext cx="66240" cy="957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80" h="240">
                    <a:moveTo>
                      <a:pt x="55" y="0"/>
                    </a:moveTo>
                    <a:lnTo>
                      <a:pt x="8" y="27"/>
                    </a:lnTo>
                    <a:lnTo>
                      <a:pt x="0" y="55"/>
                    </a:lnTo>
                    <a:lnTo>
                      <a:pt x="0" y="90"/>
                    </a:lnTo>
                    <a:lnTo>
                      <a:pt x="30" y="140"/>
                    </a:lnTo>
                    <a:lnTo>
                      <a:pt x="54" y="190"/>
                    </a:lnTo>
                    <a:lnTo>
                      <a:pt x="70" y="222"/>
                    </a:lnTo>
                    <a:lnTo>
                      <a:pt x="80" y="240"/>
                    </a:lnTo>
                    <a:lnTo>
                      <a:pt x="74" y="197"/>
                    </a:lnTo>
                    <a:lnTo>
                      <a:pt x="55" y="157"/>
                    </a:lnTo>
                    <a:lnTo>
                      <a:pt x="39" y="125"/>
                    </a:lnTo>
                    <a:lnTo>
                      <a:pt x="25" y="105"/>
                    </a:lnTo>
                    <a:lnTo>
                      <a:pt x="13" y="85"/>
                    </a:lnTo>
                    <a:lnTo>
                      <a:pt x="13" y="62"/>
                    </a:lnTo>
                    <a:lnTo>
                      <a:pt x="25" y="3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23"/>
              <p:cNvSpPr/>
              <p:nvPr/>
            </p:nvSpPr>
            <p:spPr>
              <a:xfrm>
                <a:off x="4957560" y="5463720"/>
                <a:ext cx="63000" cy="957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77" h="238">
                    <a:moveTo>
                      <a:pt x="47" y="0"/>
                    </a:moveTo>
                    <a:lnTo>
                      <a:pt x="16" y="30"/>
                    </a:lnTo>
                    <a:lnTo>
                      <a:pt x="0" y="65"/>
                    </a:lnTo>
                    <a:lnTo>
                      <a:pt x="0" y="80"/>
                    </a:lnTo>
                    <a:lnTo>
                      <a:pt x="12" y="103"/>
                    </a:lnTo>
                    <a:lnTo>
                      <a:pt x="42" y="143"/>
                    </a:lnTo>
                    <a:lnTo>
                      <a:pt x="57" y="170"/>
                    </a:lnTo>
                    <a:lnTo>
                      <a:pt x="62" y="198"/>
                    </a:lnTo>
                    <a:lnTo>
                      <a:pt x="62" y="238"/>
                    </a:lnTo>
                    <a:lnTo>
                      <a:pt x="77" y="185"/>
                    </a:lnTo>
                    <a:lnTo>
                      <a:pt x="67" y="148"/>
                    </a:lnTo>
                    <a:lnTo>
                      <a:pt x="41" y="118"/>
                    </a:lnTo>
                    <a:lnTo>
                      <a:pt x="17" y="93"/>
                    </a:lnTo>
                    <a:lnTo>
                      <a:pt x="17" y="75"/>
                    </a:lnTo>
                    <a:lnTo>
                      <a:pt x="22" y="48"/>
                    </a:lnTo>
                    <a:lnTo>
                      <a:pt x="22" y="3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24"/>
              <p:cNvSpPr/>
              <p:nvPr/>
            </p:nvSpPr>
            <p:spPr>
              <a:xfrm>
                <a:off x="4975560" y="5469120"/>
                <a:ext cx="59400" cy="702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74" h="175">
                    <a:moveTo>
                      <a:pt x="74" y="0"/>
                    </a:moveTo>
                    <a:lnTo>
                      <a:pt x="20" y="10"/>
                    </a:lnTo>
                    <a:lnTo>
                      <a:pt x="10" y="30"/>
                    </a:lnTo>
                    <a:lnTo>
                      <a:pt x="0" y="50"/>
                    </a:lnTo>
                    <a:lnTo>
                      <a:pt x="5" y="75"/>
                    </a:lnTo>
                    <a:lnTo>
                      <a:pt x="30" y="102"/>
                    </a:lnTo>
                    <a:lnTo>
                      <a:pt x="45" y="112"/>
                    </a:lnTo>
                    <a:lnTo>
                      <a:pt x="64" y="137"/>
                    </a:lnTo>
                    <a:lnTo>
                      <a:pt x="65" y="175"/>
                    </a:lnTo>
                    <a:lnTo>
                      <a:pt x="74" y="132"/>
                    </a:lnTo>
                    <a:lnTo>
                      <a:pt x="64" y="105"/>
                    </a:lnTo>
                    <a:lnTo>
                      <a:pt x="35" y="87"/>
                    </a:lnTo>
                    <a:lnTo>
                      <a:pt x="19" y="67"/>
                    </a:lnTo>
                    <a:lnTo>
                      <a:pt x="15" y="47"/>
                    </a:lnTo>
                    <a:lnTo>
                      <a:pt x="25" y="22"/>
                    </a:lnTo>
                    <a:lnTo>
                      <a:pt x="45" y="1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25"/>
              <p:cNvSpPr/>
              <p:nvPr/>
            </p:nvSpPr>
            <p:spPr>
              <a:xfrm>
                <a:off x="4998960" y="5493960"/>
                <a:ext cx="51120" cy="374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61" h="93">
                    <a:moveTo>
                      <a:pt x="0" y="0"/>
                    </a:moveTo>
                    <a:lnTo>
                      <a:pt x="30" y="13"/>
                    </a:lnTo>
                    <a:lnTo>
                      <a:pt x="46" y="38"/>
                    </a:lnTo>
                    <a:lnTo>
                      <a:pt x="51" y="93"/>
                    </a:lnTo>
                    <a:lnTo>
                      <a:pt x="61" y="65"/>
                    </a:lnTo>
                    <a:lnTo>
                      <a:pt x="61" y="38"/>
                    </a:lnTo>
                    <a:lnTo>
                      <a:pt x="51" y="1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Freeform 26"/>
              <p:cNvSpPr/>
              <p:nvPr/>
            </p:nvSpPr>
            <p:spPr>
              <a:xfrm>
                <a:off x="5000760" y="5481000"/>
                <a:ext cx="64440" cy="4212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9" h="105">
                    <a:moveTo>
                      <a:pt x="10" y="0"/>
                    </a:moveTo>
                    <a:lnTo>
                      <a:pt x="0" y="20"/>
                    </a:lnTo>
                    <a:lnTo>
                      <a:pt x="25" y="25"/>
                    </a:lnTo>
                    <a:lnTo>
                      <a:pt x="49" y="32"/>
                    </a:lnTo>
                    <a:lnTo>
                      <a:pt x="65" y="55"/>
                    </a:lnTo>
                    <a:lnTo>
                      <a:pt x="65" y="67"/>
                    </a:lnTo>
                    <a:lnTo>
                      <a:pt x="69" y="105"/>
                    </a:lnTo>
                    <a:lnTo>
                      <a:pt x="79" y="57"/>
                    </a:lnTo>
                    <a:lnTo>
                      <a:pt x="69" y="27"/>
                    </a:lnTo>
                    <a:lnTo>
                      <a:pt x="54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Freeform 27"/>
              <p:cNvSpPr/>
              <p:nvPr/>
            </p:nvSpPr>
            <p:spPr>
              <a:xfrm>
                <a:off x="4866480" y="5381280"/>
                <a:ext cx="51120" cy="1058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60" h="267">
                    <a:moveTo>
                      <a:pt x="35" y="267"/>
                    </a:moveTo>
                    <a:lnTo>
                      <a:pt x="5" y="220"/>
                    </a:lnTo>
                    <a:lnTo>
                      <a:pt x="0" y="185"/>
                    </a:lnTo>
                    <a:lnTo>
                      <a:pt x="0" y="147"/>
                    </a:lnTo>
                    <a:lnTo>
                      <a:pt x="8" y="107"/>
                    </a:lnTo>
                    <a:lnTo>
                      <a:pt x="15" y="60"/>
                    </a:lnTo>
                    <a:lnTo>
                      <a:pt x="60" y="0"/>
                    </a:lnTo>
                    <a:lnTo>
                      <a:pt x="23" y="77"/>
                    </a:lnTo>
                    <a:lnTo>
                      <a:pt x="23" y="147"/>
                    </a:lnTo>
                    <a:lnTo>
                      <a:pt x="23" y="192"/>
                    </a:lnTo>
                    <a:lnTo>
                      <a:pt x="23" y="215"/>
                    </a:lnTo>
                    <a:lnTo>
                      <a:pt x="35" y="26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28"/>
              <p:cNvSpPr/>
              <p:nvPr/>
            </p:nvSpPr>
            <p:spPr>
              <a:xfrm>
                <a:off x="5085360" y="5399640"/>
                <a:ext cx="188280" cy="14832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227" h="370">
                    <a:moveTo>
                      <a:pt x="227" y="370"/>
                    </a:moveTo>
                    <a:lnTo>
                      <a:pt x="187" y="358"/>
                    </a:lnTo>
                    <a:lnTo>
                      <a:pt x="127" y="355"/>
                    </a:lnTo>
                    <a:lnTo>
                      <a:pt x="97" y="348"/>
                    </a:lnTo>
                    <a:lnTo>
                      <a:pt x="55" y="325"/>
                    </a:lnTo>
                    <a:lnTo>
                      <a:pt x="32" y="318"/>
                    </a:lnTo>
                    <a:lnTo>
                      <a:pt x="6" y="273"/>
                    </a:lnTo>
                    <a:lnTo>
                      <a:pt x="0" y="218"/>
                    </a:lnTo>
                    <a:lnTo>
                      <a:pt x="11" y="175"/>
                    </a:lnTo>
                    <a:lnTo>
                      <a:pt x="26" y="140"/>
                    </a:lnTo>
                    <a:lnTo>
                      <a:pt x="70" y="93"/>
                    </a:lnTo>
                    <a:lnTo>
                      <a:pt x="107" y="0"/>
                    </a:lnTo>
                    <a:lnTo>
                      <a:pt x="90" y="73"/>
                    </a:lnTo>
                    <a:lnTo>
                      <a:pt x="62" y="118"/>
                    </a:lnTo>
                    <a:lnTo>
                      <a:pt x="35" y="155"/>
                    </a:lnTo>
                    <a:lnTo>
                      <a:pt x="21" y="188"/>
                    </a:lnTo>
                    <a:lnTo>
                      <a:pt x="21" y="225"/>
                    </a:lnTo>
                    <a:lnTo>
                      <a:pt x="26" y="275"/>
                    </a:lnTo>
                    <a:lnTo>
                      <a:pt x="60" y="323"/>
                    </a:lnTo>
                    <a:lnTo>
                      <a:pt x="107" y="340"/>
                    </a:lnTo>
                    <a:lnTo>
                      <a:pt x="175" y="353"/>
                    </a:lnTo>
                    <a:lnTo>
                      <a:pt x="227" y="37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Freeform 29"/>
              <p:cNvSpPr/>
              <p:nvPr/>
            </p:nvSpPr>
            <p:spPr>
              <a:xfrm>
                <a:off x="5110200" y="5450040"/>
                <a:ext cx="170280" cy="95760"/>
              </a:xfrm>
              <a:custGeom>
                <a:avLst/>
                <a:gdLst>
                  <a:gd name="textAreaLeft" fmla="*/ 0 w 170280"/>
                  <a:gd name="textAreaRight" fmla="*/ 170280 w 1702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205" h="240">
                    <a:moveTo>
                      <a:pt x="205" y="240"/>
                    </a:moveTo>
                    <a:lnTo>
                      <a:pt x="180" y="220"/>
                    </a:lnTo>
                    <a:lnTo>
                      <a:pt x="137" y="215"/>
                    </a:lnTo>
                    <a:lnTo>
                      <a:pt x="90" y="210"/>
                    </a:lnTo>
                    <a:lnTo>
                      <a:pt x="57" y="195"/>
                    </a:lnTo>
                    <a:lnTo>
                      <a:pt x="12" y="168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2" y="63"/>
                    </a:lnTo>
                    <a:lnTo>
                      <a:pt x="35" y="20"/>
                    </a:lnTo>
                    <a:lnTo>
                      <a:pt x="85" y="0"/>
                    </a:lnTo>
                    <a:lnTo>
                      <a:pt x="117" y="18"/>
                    </a:lnTo>
                    <a:lnTo>
                      <a:pt x="117" y="40"/>
                    </a:lnTo>
                    <a:lnTo>
                      <a:pt x="137" y="88"/>
                    </a:lnTo>
                    <a:lnTo>
                      <a:pt x="145" y="113"/>
                    </a:lnTo>
                    <a:lnTo>
                      <a:pt x="142" y="130"/>
                    </a:lnTo>
                    <a:lnTo>
                      <a:pt x="132" y="108"/>
                    </a:lnTo>
                    <a:lnTo>
                      <a:pt x="107" y="55"/>
                    </a:lnTo>
                    <a:lnTo>
                      <a:pt x="100" y="33"/>
                    </a:lnTo>
                    <a:lnTo>
                      <a:pt x="90" y="15"/>
                    </a:lnTo>
                    <a:lnTo>
                      <a:pt x="35" y="40"/>
                    </a:lnTo>
                    <a:lnTo>
                      <a:pt x="15" y="65"/>
                    </a:lnTo>
                    <a:lnTo>
                      <a:pt x="15" y="113"/>
                    </a:lnTo>
                    <a:lnTo>
                      <a:pt x="25" y="150"/>
                    </a:lnTo>
                    <a:lnTo>
                      <a:pt x="65" y="180"/>
                    </a:lnTo>
                    <a:lnTo>
                      <a:pt x="122" y="200"/>
                    </a:lnTo>
                    <a:lnTo>
                      <a:pt x="177" y="203"/>
                    </a:lnTo>
                    <a:lnTo>
                      <a:pt x="205" y="2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Freeform 30"/>
              <p:cNvSpPr/>
              <p:nvPr/>
            </p:nvSpPr>
            <p:spPr>
              <a:xfrm>
                <a:off x="5132880" y="5465880"/>
                <a:ext cx="69840" cy="532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85" h="135">
                    <a:moveTo>
                      <a:pt x="85" y="40"/>
                    </a:moveTo>
                    <a:lnTo>
                      <a:pt x="65" y="3"/>
                    </a:lnTo>
                    <a:lnTo>
                      <a:pt x="45" y="0"/>
                    </a:lnTo>
                    <a:lnTo>
                      <a:pt x="13" y="10"/>
                    </a:lnTo>
                    <a:lnTo>
                      <a:pt x="0" y="40"/>
                    </a:lnTo>
                    <a:lnTo>
                      <a:pt x="3" y="70"/>
                    </a:lnTo>
                    <a:lnTo>
                      <a:pt x="3" y="100"/>
                    </a:lnTo>
                    <a:lnTo>
                      <a:pt x="30" y="120"/>
                    </a:lnTo>
                    <a:lnTo>
                      <a:pt x="60" y="135"/>
                    </a:lnTo>
                    <a:lnTo>
                      <a:pt x="28" y="100"/>
                    </a:lnTo>
                    <a:lnTo>
                      <a:pt x="18" y="78"/>
                    </a:lnTo>
                    <a:lnTo>
                      <a:pt x="18" y="40"/>
                    </a:lnTo>
                    <a:lnTo>
                      <a:pt x="33" y="20"/>
                    </a:lnTo>
                    <a:lnTo>
                      <a:pt x="85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Freeform 31"/>
              <p:cNvSpPr/>
              <p:nvPr/>
            </p:nvSpPr>
            <p:spPr>
              <a:xfrm>
                <a:off x="5153040" y="5483520"/>
                <a:ext cx="115920" cy="43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38" h="110">
                    <a:moveTo>
                      <a:pt x="75" y="47"/>
                    </a:moveTo>
                    <a:lnTo>
                      <a:pt x="55" y="7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" y="37"/>
                    </a:lnTo>
                    <a:lnTo>
                      <a:pt x="20" y="57"/>
                    </a:lnTo>
                    <a:lnTo>
                      <a:pt x="40" y="85"/>
                    </a:lnTo>
                    <a:lnTo>
                      <a:pt x="53" y="100"/>
                    </a:lnTo>
                    <a:lnTo>
                      <a:pt x="100" y="110"/>
                    </a:lnTo>
                    <a:lnTo>
                      <a:pt x="138" y="110"/>
                    </a:lnTo>
                    <a:lnTo>
                      <a:pt x="95" y="97"/>
                    </a:lnTo>
                    <a:lnTo>
                      <a:pt x="60" y="87"/>
                    </a:lnTo>
                    <a:lnTo>
                      <a:pt x="28" y="47"/>
                    </a:lnTo>
                    <a:lnTo>
                      <a:pt x="25" y="35"/>
                    </a:lnTo>
                    <a:lnTo>
                      <a:pt x="30" y="20"/>
                    </a:lnTo>
                    <a:lnTo>
                      <a:pt x="75" y="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Freeform 32"/>
              <p:cNvSpPr/>
              <p:nvPr/>
            </p:nvSpPr>
            <p:spPr>
              <a:xfrm>
                <a:off x="5191200" y="5503320"/>
                <a:ext cx="57600" cy="158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0" y="0"/>
                    </a:moveTo>
                    <a:lnTo>
                      <a:pt x="15" y="20"/>
                    </a:lnTo>
                    <a:lnTo>
                      <a:pt x="30" y="32"/>
                    </a:lnTo>
                    <a:lnTo>
                      <a:pt x="70" y="40"/>
                    </a:lnTo>
                    <a:lnTo>
                      <a:pt x="43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Freeform 33"/>
              <p:cNvSpPr/>
              <p:nvPr/>
            </p:nvSpPr>
            <p:spPr>
              <a:xfrm>
                <a:off x="5224320" y="5379840"/>
                <a:ext cx="32760" cy="1155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40" h="288">
                    <a:moveTo>
                      <a:pt x="28" y="288"/>
                    </a:moveTo>
                    <a:lnTo>
                      <a:pt x="0" y="228"/>
                    </a:lnTo>
                    <a:lnTo>
                      <a:pt x="5" y="178"/>
                    </a:lnTo>
                    <a:lnTo>
                      <a:pt x="20" y="135"/>
                    </a:lnTo>
                    <a:lnTo>
                      <a:pt x="25" y="108"/>
                    </a:lnTo>
                    <a:lnTo>
                      <a:pt x="28" y="48"/>
                    </a:lnTo>
                    <a:lnTo>
                      <a:pt x="25" y="0"/>
                    </a:lnTo>
                    <a:lnTo>
                      <a:pt x="40" y="65"/>
                    </a:lnTo>
                    <a:lnTo>
                      <a:pt x="40" y="113"/>
                    </a:lnTo>
                    <a:lnTo>
                      <a:pt x="35" y="145"/>
                    </a:lnTo>
                    <a:lnTo>
                      <a:pt x="18" y="190"/>
                    </a:lnTo>
                    <a:lnTo>
                      <a:pt x="15" y="220"/>
                    </a:lnTo>
                    <a:lnTo>
                      <a:pt x="28" y="2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Freeform 34"/>
              <p:cNvSpPr/>
              <p:nvPr/>
            </p:nvSpPr>
            <p:spPr>
              <a:xfrm>
                <a:off x="5244120" y="5405400"/>
                <a:ext cx="24480" cy="9000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32" h="225">
                    <a:moveTo>
                      <a:pt x="27" y="225"/>
                    </a:moveTo>
                    <a:lnTo>
                      <a:pt x="15" y="210"/>
                    </a:lnTo>
                    <a:lnTo>
                      <a:pt x="0" y="170"/>
                    </a:lnTo>
                    <a:lnTo>
                      <a:pt x="0" y="150"/>
                    </a:lnTo>
                    <a:lnTo>
                      <a:pt x="15" y="97"/>
                    </a:lnTo>
                    <a:lnTo>
                      <a:pt x="25" y="65"/>
                    </a:lnTo>
                    <a:lnTo>
                      <a:pt x="25" y="0"/>
                    </a:lnTo>
                    <a:lnTo>
                      <a:pt x="32" y="80"/>
                    </a:lnTo>
                    <a:lnTo>
                      <a:pt x="25" y="117"/>
                    </a:lnTo>
                    <a:lnTo>
                      <a:pt x="20" y="165"/>
                    </a:lnTo>
                    <a:lnTo>
                      <a:pt x="27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Freeform 35"/>
              <p:cNvSpPr/>
              <p:nvPr/>
            </p:nvSpPr>
            <p:spPr>
              <a:xfrm>
                <a:off x="5265720" y="5439600"/>
                <a:ext cx="28080" cy="554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138">
                    <a:moveTo>
                      <a:pt x="33" y="138"/>
                    </a:moveTo>
                    <a:lnTo>
                      <a:pt x="10" y="133"/>
                    </a:lnTo>
                    <a:lnTo>
                      <a:pt x="0" y="105"/>
                    </a:lnTo>
                    <a:lnTo>
                      <a:pt x="3" y="53"/>
                    </a:lnTo>
                    <a:lnTo>
                      <a:pt x="8" y="35"/>
                    </a:lnTo>
                    <a:lnTo>
                      <a:pt x="13" y="0"/>
                    </a:lnTo>
                    <a:lnTo>
                      <a:pt x="18" y="43"/>
                    </a:lnTo>
                    <a:lnTo>
                      <a:pt x="18" y="78"/>
                    </a:lnTo>
                    <a:lnTo>
                      <a:pt x="23" y="10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Freeform 36"/>
              <p:cNvSpPr/>
              <p:nvPr/>
            </p:nvSpPr>
            <p:spPr>
              <a:xfrm>
                <a:off x="5285520" y="5447520"/>
                <a:ext cx="150480" cy="80280"/>
              </a:xfrm>
              <a:custGeom>
                <a:avLst/>
                <a:gdLst>
                  <a:gd name="textAreaLeft" fmla="*/ 0 w 150480"/>
                  <a:gd name="textAreaRight" fmla="*/ 150480 w 1504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82" h="202">
                    <a:moveTo>
                      <a:pt x="17" y="0"/>
                    </a:moveTo>
                    <a:lnTo>
                      <a:pt x="0" y="10"/>
                    </a:lnTo>
                    <a:lnTo>
                      <a:pt x="0" y="40"/>
                    </a:lnTo>
                    <a:lnTo>
                      <a:pt x="12" y="87"/>
                    </a:lnTo>
                    <a:lnTo>
                      <a:pt x="17" y="115"/>
                    </a:lnTo>
                    <a:lnTo>
                      <a:pt x="27" y="130"/>
                    </a:lnTo>
                    <a:lnTo>
                      <a:pt x="77" y="155"/>
                    </a:lnTo>
                    <a:lnTo>
                      <a:pt x="115" y="182"/>
                    </a:lnTo>
                    <a:lnTo>
                      <a:pt x="151" y="202"/>
                    </a:lnTo>
                    <a:lnTo>
                      <a:pt x="182" y="197"/>
                    </a:lnTo>
                    <a:lnTo>
                      <a:pt x="132" y="180"/>
                    </a:lnTo>
                    <a:lnTo>
                      <a:pt x="110" y="160"/>
                    </a:lnTo>
                    <a:lnTo>
                      <a:pt x="72" y="137"/>
                    </a:lnTo>
                    <a:lnTo>
                      <a:pt x="35" y="120"/>
                    </a:lnTo>
                    <a:lnTo>
                      <a:pt x="20" y="95"/>
                    </a:lnTo>
                    <a:lnTo>
                      <a:pt x="15" y="57"/>
                    </a:lnTo>
                    <a:lnTo>
                      <a:pt x="10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Freeform 37"/>
              <p:cNvSpPr/>
              <p:nvPr/>
            </p:nvSpPr>
            <p:spPr>
              <a:xfrm>
                <a:off x="5305320" y="5455440"/>
                <a:ext cx="122400" cy="65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2" y="0"/>
                    </a:moveTo>
                    <a:lnTo>
                      <a:pt x="0" y="22"/>
                    </a:lnTo>
                    <a:lnTo>
                      <a:pt x="10" y="67"/>
                    </a:lnTo>
                    <a:lnTo>
                      <a:pt x="17" y="82"/>
                    </a:lnTo>
                    <a:lnTo>
                      <a:pt x="45" y="102"/>
                    </a:lnTo>
                    <a:lnTo>
                      <a:pt x="82" y="117"/>
                    </a:lnTo>
                    <a:lnTo>
                      <a:pt x="97" y="137"/>
                    </a:lnTo>
                    <a:lnTo>
                      <a:pt x="137" y="162"/>
                    </a:lnTo>
                    <a:lnTo>
                      <a:pt x="147" y="165"/>
                    </a:lnTo>
                    <a:lnTo>
                      <a:pt x="127" y="140"/>
                    </a:lnTo>
                    <a:lnTo>
                      <a:pt x="92" y="110"/>
                    </a:lnTo>
                    <a:lnTo>
                      <a:pt x="87" y="92"/>
                    </a:lnTo>
                    <a:lnTo>
                      <a:pt x="65" y="75"/>
                    </a:lnTo>
                    <a:lnTo>
                      <a:pt x="35" y="60"/>
                    </a:lnTo>
                    <a:lnTo>
                      <a:pt x="22" y="52"/>
                    </a:lnTo>
                    <a:lnTo>
                      <a:pt x="1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Freeform 38"/>
              <p:cNvSpPr/>
              <p:nvPr/>
            </p:nvSpPr>
            <p:spPr>
              <a:xfrm>
                <a:off x="4674240" y="5263920"/>
                <a:ext cx="79560" cy="205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95" h="514">
                    <a:moveTo>
                      <a:pt x="95" y="514"/>
                    </a:moveTo>
                    <a:lnTo>
                      <a:pt x="85" y="479"/>
                    </a:lnTo>
                    <a:lnTo>
                      <a:pt x="75" y="429"/>
                    </a:lnTo>
                    <a:lnTo>
                      <a:pt x="67" y="376"/>
                    </a:lnTo>
                    <a:lnTo>
                      <a:pt x="62" y="344"/>
                    </a:lnTo>
                    <a:lnTo>
                      <a:pt x="60" y="309"/>
                    </a:lnTo>
                    <a:lnTo>
                      <a:pt x="50" y="289"/>
                    </a:lnTo>
                    <a:lnTo>
                      <a:pt x="30" y="254"/>
                    </a:lnTo>
                    <a:lnTo>
                      <a:pt x="20" y="226"/>
                    </a:lnTo>
                    <a:lnTo>
                      <a:pt x="20" y="169"/>
                    </a:lnTo>
                    <a:lnTo>
                      <a:pt x="20" y="89"/>
                    </a:lnTo>
                    <a:lnTo>
                      <a:pt x="0" y="0"/>
                    </a:lnTo>
                    <a:lnTo>
                      <a:pt x="37" y="79"/>
                    </a:lnTo>
                    <a:lnTo>
                      <a:pt x="30" y="145"/>
                    </a:lnTo>
                    <a:lnTo>
                      <a:pt x="37" y="205"/>
                    </a:lnTo>
                    <a:lnTo>
                      <a:pt x="57" y="261"/>
                    </a:lnTo>
                    <a:lnTo>
                      <a:pt x="82" y="326"/>
                    </a:lnTo>
                    <a:lnTo>
                      <a:pt x="85" y="401"/>
                    </a:lnTo>
                    <a:lnTo>
                      <a:pt x="95" y="51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Freeform 39"/>
              <p:cNvSpPr/>
              <p:nvPr/>
            </p:nvSpPr>
            <p:spPr>
              <a:xfrm>
                <a:off x="4717440" y="5221440"/>
                <a:ext cx="72720" cy="2394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39400"/>
                  <a:gd name="textAreaBottom" fmla="*/ 239400 h 239400"/>
                </a:gdLst>
                <a:ahLst/>
                <a:rect l="textAreaLeft" t="textAreaTop" r="textAreaRight" b="textAreaBottom"/>
                <a:pathLst>
                  <a:path w="86" h="601">
                    <a:moveTo>
                      <a:pt x="71" y="601"/>
                    </a:moveTo>
                    <a:lnTo>
                      <a:pt x="66" y="531"/>
                    </a:lnTo>
                    <a:lnTo>
                      <a:pt x="61" y="461"/>
                    </a:lnTo>
                    <a:lnTo>
                      <a:pt x="40" y="374"/>
                    </a:lnTo>
                    <a:lnTo>
                      <a:pt x="10" y="311"/>
                    </a:lnTo>
                    <a:lnTo>
                      <a:pt x="16" y="239"/>
                    </a:lnTo>
                    <a:lnTo>
                      <a:pt x="21" y="144"/>
                    </a:lnTo>
                    <a:lnTo>
                      <a:pt x="6" y="91"/>
                    </a:lnTo>
                    <a:lnTo>
                      <a:pt x="0" y="0"/>
                    </a:lnTo>
                    <a:lnTo>
                      <a:pt x="51" y="146"/>
                    </a:lnTo>
                    <a:lnTo>
                      <a:pt x="41" y="226"/>
                    </a:lnTo>
                    <a:lnTo>
                      <a:pt x="36" y="319"/>
                    </a:lnTo>
                    <a:lnTo>
                      <a:pt x="86" y="424"/>
                    </a:lnTo>
                    <a:lnTo>
                      <a:pt x="81" y="481"/>
                    </a:lnTo>
                    <a:lnTo>
                      <a:pt x="71" y="60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Freeform 40"/>
              <p:cNvSpPr/>
              <p:nvPr/>
            </p:nvSpPr>
            <p:spPr>
              <a:xfrm>
                <a:off x="4776840" y="5256720"/>
                <a:ext cx="69840" cy="206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84" h="517">
                    <a:moveTo>
                      <a:pt x="84" y="517"/>
                    </a:moveTo>
                    <a:lnTo>
                      <a:pt x="49" y="510"/>
                    </a:lnTo>
                    <a:lnTo>
                      <a:pt x="25" y="477"/>
                    </a:lnTo>
                    <a:lnTo>
                      <a:pt x="30" y="405"/>
                    </a:lnTo>
                    <a:lnTo>
                      <a:pt x="49" y="310"/>
                    </a:lnTo>
                    <a:lnTo>
                      <a:pt x="5" y="257"/>
                    </a:lnTo>
                    <a:lnTo>
                      <a:pt x="0" y="215"/>
                    </a:lnTo>
                    <a:lnTo>
                      <a:pt x="5" y="140"/>
                    </a:lnTo>
                    <a:lnTo>
                      <a:pt x="10" y="77"/>
                    </a:lnTo>
                    <a:lnTo>
                      <a:pt x="0" y="0"/>
                    </a:lnTo>
                    <a:lnTo>
                      <a:pt x="29" y="132"/>
                    </a:lnTo>
                    <a:lnTo>
                      <a:pt x="25" y="215"/>
                    </a:lnTo>
                    <a:lnTo>
                      <a:pt x="30" y="260"/>
                    </a:lnTo>
                    <a:lnTo>
                      <a:pt x="81" y="322"/>
                    </a:lnTo>
                    <a:lnTo>
                      <a:pt x="59" y="377"/>
                    </a:lnTo>
                    <a:lnTo>
                      <a:pt x="51" y="442"/>
                    </a:lnTo>
                    <a:lnTo>
                      <a:pt x="84" y="51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Freeform 41"/>
              <p:cNvSpPr/>
              <p:nvPr/>
            </p:nvSpPr>
            <p:spPr>
              <a:xfrm>
                <a:off x="4815360" y="5194440"/>
                <a:ext cx="59040" cy="2419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73" h="605">
                    <a:moveTo>
                      <a:pt x="30" y="605"/>
                    </a:moveTo>
                    <a:lnTo>
                      <a:pt x="25" y="560"/>
                    </a:lnTo>
                    <a:lnTo>
                      <a:pt x="50" y="510"/>
                    </a:lnTo>
                    <a:lnTo>
                      <a:pt x="60" y="462"/>
                    </a:lnTo>
                    <a:lnTo>
                      <a:pt x="53" y="405"/>
                    </a:lnTo>
                    <a:lnTo>
                      <a:pt x="23" y="302"/>
                    </a:lnTo>
                    <a:lnTo>
                      <a:pt x="20" y="220"/>
                    </a:lnTo>
                    <a:lnTo>
                      <a:pt x="43" y="147"/>
                    </a:lnTo>
                    <a:lnTo>
                      <a:pt x="38" y="65"/>
                    </a:lnTo>
                    <a:lnTo>
                      <a:pt x="0" y="0"/>
                    </a:lnTo>
                    <a:lnTo>
                      <a:pt x="68" y="50"/>
                    </a:lnTo>
                    <a:lnTo>
                      <a:pt x="73" y="127"/>
                    </a:lnTo>
                    <a:lnTo>
                      <a:pt x="60" y="235"/>
                    </a:lnTo>
                    <a:lnTo>
                      <a:pt x="60" y="295"/>
                    </a:lnTo>
                    <a:lnTo>
                      <a:pt x="70" y="365"/>
                    </a:lnTo>
                    <a:lnTo>
                      <a:pt x="70" y="462"/>
                    </a:lnTo>
                    <a:lnTo>
                      <a:pt x="63" y="530"/>
                    </a:lnTo>
                    <a:lnTo>
                      <a:pt x="30" y="6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Freeform 42"/>
              <p:cNvSpPr/>
              <p:nvPr/>
            </p:nvSpPr>
            <p:spPr>
              <a:xfrm>
                <a:off x="4884840" y="5238360"/>
                <a:ext cx="49320" cy="20844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58" h="520">
                    <a:moveTo>
                      <a:pt x="33" y="520"/>
                    </a:moveTo>
                    <a:lnTo>
                      <a:pt x="43" y="455"/>
                    </a:lnTo>
                    <a:lnTo>
                      <a:pt x="45" y="370"/>
                    </a:lnTo>
                    <a:lnTo>
                      <a:pt x="28" y="317"/>
                    </a:lnTo>
                    <a:lnTo>
                      <a:pt x="23" y="245"/>
                    </a:lnTo>
                    <a:lnTo>
                      <a:pt x="0" y="170"/>
                    </a:lnTo>
                    <a:lnTo>
                      <a:pt x="20" y="82"/>
                    </a:lnTo>
                    <a:lnTo>
                      <a:pt x="40" y="0"/>
                    </a:lnTo>
                    <a:lnTo>
                      <a:pt x="35" y="115"/>
                    </a:lnTo>
                    <a:lnTo>
                      <a:pt x="33" y="170"/>
                    </a:lnTo>
                    <a:lnTo>
                      <a:pt x="50" y="302"/>
                    </a:lnTo>
                    <a:lnTo>
                      <a:pt x="55" y="357"/>
                    </a:lnTo>
                    <a:lnTo>
                      <a:pt x="58" y="450"/>
                    </a:lnTo>
                    <a:lnTo>
                      <a:pt x="33" y="5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Freeform 43"/>
              <p:cNvSpPr/>
              <p:nvPr/>
            </p:nvSpPr>
            <p:spPr>
              <a:xfrm>
                <a:off x="4929480" y="5319000"/>
                <a:ext cx="54720" cy="14904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5" h="376">
                    <a:moveTo>
                      <a:pt x="0" y="376"/>
                    </a:moveTo>
                    <a:lnTo>
                      <a:pt x="5" y="317"/>
                    </a:lnTo>
                    <a:lnTo>
                      <a:pt x="22" y="242"/>
                    </a:lnTo>
                    <a:lnTo>
                      <a:pt x="30" y="130"/>
                    </a:lnTo>
                    <a:lnTo>
                      <a:pt x="17" y="92"/>
                    </a:lnTo>
                    <a:lnTo>
                      <a:pt x="22" y="0"/>
                    </a:lnTo>
                    <a:lnTo>
                      <a:pt x="60" y="130"/>
                    </a:lnTo>
                    <a:lnTo>
                      <a:pt x="65" y="232"/>
                    </a:lnTo>
                    <a:lnTo>
                      <a:pt x="17" y="327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Freeform 44"/>
              <p:cNvSpPr/>
              <p:nvPr/>
            </p:nvSpPr>
            <p:spPr>
              <a:xfrm>
                <a:off x="4970880" y="5242320"/>
                <a:ext cx="67680" cy="2131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82" h="532">
                    <a:moveTo>
                      <a:pt x="0" y="532"/>
                    </a:moveTo>
                    <a:lnTo>
                      <a:pt x="37" y="452"/>
                    </a:lnTo>
                    <a:lnTo>
                      <a:pt x="62" y="367"/>
                    </a:lnTo>
                    <a:lnTo>
                      <a:pt x="35" y="237"/>
                    </a:lnTo>
                    <a:lnTo>
                      <a:pt x="40" y="152"/>
                    </a:lnTo>
                    <a:lnTo>
                      <a:pt x="30" y="60"/>
                    </a:lnTo>
                    <a:lnTo>
                      <a:pt x="40" y="0"/>
                    </a:lnTo>
                    <a:lnTo>
                      <a:pt x="67" y="147"/>
                    </a:lnTo>
                    <a:lnTo>
                      <a:pt x="52" y="262"/>
                    </a:lnTo>
                    <a:lnTo>
                      <a:pt x="72" y="322"/>
                    </a:lnTo>
                    <a:lnTo>
                      <a:pt x="82" y="390"/>
                    </a:lnTo>
                    <a:lnTo>
                      <a:pt x="50" y="465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Freeform 45"/>
              <p:cNvSpPr/>
              <p:nvPr/>
            </p:nvSpPr>
            <p:spPr>
              <a:xfrm>
                <a:off x="4997520" y="5264640"/>
                <a:ext cx="82440" cy="196200"/>
              </a:xfrm>
              <a:custGeom>
                <a:avLst/>
                <a:gdLst>
                  <a:gd name="textAreaLeft" fmla="*/ 0 w 82440"/>
                  <a:gd name="textAreaRight" fmla="*/ 82440 w 8244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100" h="492">
                    <a:moveTo>
                      <a:pt x="0" y="492"/>
                    </a:moveTo>
                    <a:lnTo>
                      <a:pt x="28" y="440"/>
                    </a:lnTo>
                    <a:lnTo>
                      <a:pt x="48" y="380"/>
                    </a:lnTo>
                    <a:lnTo>
                      <a:pt x="73" y="310"/>
                    </a:lnTo>
                    <a:lnTo>
                      <a:pt x="55" y="247"/>
                    </a:lnTo>
                    <a:lnTo>
                      <a:pt x="55" y="195"/>
                    </a:lnTo>
                    <a:lnTo>
                      <a:pt x="55" y="117"/>
                    </a:lnTo>
                    <a:lnTo>
                      <a:pt x="83" y="0"/>
                    </a:lnTo>
                    <a:lnTo>
                      <a:pt x="80" y="155"/>
                    </a:lnTo>
                    <a:lnTo>
                      <a:pt x="90" y="245"/>
                    </a:lnTo>
                    <a:lnTo>
                      <a:pt x="100" y="307"/>
                    </a:lnTo>
                    <a:lnTo>
                      <a:pt x="90" y="375"/>
                    </a:lnTo>
                    <a:lnTo>
                      <a:pt x="50" y="437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Freeform 46"/>
              <p:cNvSpPr/>
              <p:nvPr/>
            </p:nvSpPr>
            <p:spPr>
              <a:xfrm>
                <a:off x="5043600" y="5277240"/>
                <a:ext cx="84240" cy="2012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04" h="504">
                    <a:moveTo>
                      <a:pt x="18" y="504"/>
                    </a:moveTo>
                    <a:lnTo>
                      <a:pt x="0" y="470"/>
                    </a:lnTo>
                    <a:lnTo>
                      <a:pt x="5" y="430"/>
                    </a:lnTo>
                    <a:lnTo>
                      <a:pt x="15" y="395"/>
                    </a:lnTo>
                    <a:lnTo>
                      <a:pt x="50" y="368"/>
                    </a:lnTo>
                    <a:lnTo>
                      <a:pt x="80" y="295"/>
                    </a:lnTo>
                    <a:lnTo>
                      <a:pt x="78" y="200"/>
                    </a:lnTo>
                    <a:lnTo>
                      <a:pt x="58" y="123"/>
                    </a:lnTo>
                    <a:lnTo>
                      <a:pt x="53" y="60"/>
                    </a:lnTo>
                    <a:lnTo>
                      <a:pt x="73" y="0"/>
                    </a:lnTo>
                    <a:lnTo>
                      <a:pt x="80" y="105"/>
                    </a:lnTo>
                    <a:lnTo>
                      <a:pt x="104" y="228"/>
                    </a:lnTo>
                    <a:lnTo>
                      <a:pt x="99" y="318"/>
                    </a:lnTo>
                    <a:lnTo>
                      <a:pt x="40" y="408"/>
                    </a:lnTo>
                    <a:lnTo>
                      <a:pt x="18" y="448"/>
                    </a:lnTo>
                    <a:lnTo>
                      <a:pt x="18" y="50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Freeform 47"/>
              <p:cNvSpPr/>
              <p:nvPr/>
            </p:nvSpPr>
            <p:spPr>
              <a:xfrm>
                <a:off x="5085360" y="5347080"/>
                <a:ext cx="75600" cy="1062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94" h="265">
                    <a:moveTo>
                      <a:pt x="0" y="265"/>
                    </a:moveTo>
                    <a:lnTo>
                      <a:pt x="35" y="210"/>
                    </a:lnTo>
                    <a:lnTo>
                      <a:pt x="65" y="145"/>
                    </a:lnTo>
                    <a:lnTo>
                      <a:pt x="70" y="75"/>
                    </a:lnTo>
                    <a:lnTo>
                      <a:pt x="65" y="0"/>
                    </a:lnTo>
                    <a:lnTo>
                      <a:pt x="94" y="115"/>
                    </a:lnTo>
                    <a:lnTo>
                      <a:pt x="74" y="173"/>
                    </a:lnTo>
                    <a:lnTo>
                      <a:pt x="50" y="218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Freeform 48"/>
              <p:cNvSpPr/>
              <p:nvPr/>
            </p:nvSpPr>
            <p:spPr>
              <a:xfrm>
                <a:off x="5126760" y="5304600"/>
                <a:ext cx="77400" cy="1389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5" h="347">
                    <a:moveTo>
                      <a:pt x="39" y="347"/>
                    </a:moveTo>
                    <a:lnTo>
                      <a:pt x="69" y="297"/>
                    </a:lnTo>
                    <a:lnTo>
                      <a:pt x="79" y="225"/>
                    </a:lnTo>
                    <a:lnTo>
                      <a:pt x="50" y="165"/>
                    </a:lnTo>
                    <a:lnTo>
                      <a:pt x="25" y="105"/>
                    </a:lnTo>
                    <a:lnTo>
                      <a:pt x="4" y="65"/>
                    </a:lnTo>
                    <a:lnTo>
                      <a:pt x="0" y="0"/>
                    </a:lnTo>
                    <a:lnTo>
                      <a:pt x="35" y="87"/>
                    </a:lnTo>
                    <a:lnTo>
                      <a:pt x="75" y="165"/>
                    </a:lnTo>
                    <a:lnTo>
                      <a:pt x="95" y="220"/>
                    </a:lnTo>
                    <a:lnTo>
                      <a:pt x="94" y="262"/>
                    </a:lnTo>
                    <a:lnTo>
                      <a:pt x="84" y="307"/>
                    </a:lnTo>
                    <a:lnTo>
                      <a:pt x="39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Freeform 49"/>
              <p:cNvSpPr/>
              <p:nvPr/>
            </p:nvSpPr>
            <p:spPr>
              <a:xfrm>
                <a:off x="5182920" y="5254200"/>
                <a:ext cx="46080" cy="1904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56" h="477">
                    <a:moveTo>
                      <a:pt x="0" y="477"/>
                    </a:moveTo>
                    <a:lnTo>
                      <a:pt x="25" y="442"/>
                    </a:lnTo>
                    <a:lnTo>
                      <a:pt x="35" y="402"/>
                    </a:lnTo>
                    <a:lnTo>
                      <a:pt x="40" y="335"/>
                    </a:lnTo>
                    <a:lnTo>
                      <a:pt x="25" y="297"/>
                    </a:lnTo>
                    <a:lnTo>
                      <a:pt x="11" y="237"/>
                    </a:lnTo>
                    <a:lnTo>
                      <a:pt x="15" y="182"/>
                    </a:lnTo>
                    <a:lnTo>
                      <a:pt x="30" y="92"/>
                    </a:lnTo>
                    <a:lnTo>
                      <a:pt x="55" y="0"/>
                    </a:lnTo>
                    <a:lnTo>
                      <a:pt x="36" y="135"/>
                    </a:lnTo>
                    <a:lnTo>
                      <a:pt x="36" y="212"/>
                    </a:lnTo>
                    <a:lnTo>
                      <a:pt x="36" y="262"/>
                    </a:lnTo>
                    <a:lnTo>
                      <a:pt x="46" y="315"/>
                    </a:lnTo>
                    <a:lnTo>
                      <a:pt x="56" y="352"/>
                    </a:lnTo>
                    <a:lnTo>
                      <a:pt x="55" y="402"/>
                    </a:lnTo>
                    <a:lnTo>
                      <a:pt x="36" y="442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Freeform 50"/>
              <p:cNvSpPr/>
              <p:nvPr/>
            </p:nvSpPr>
            <p:spPr>
              <a:xfrm>
                <a:off x="5234040" y="5212800"/>
                <a:ext cx="49680" cy="1580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61" h="397">
                    <a:moveTo>
                      <a:pt x="9" y="397"/>
                    </a:moveTo>
                    <a:lnTo>
                      <a:pt x="0" y="345"/>
                    </a:lnTo>
                    <a:lnTo>
                      <a:pt x="0" y="290"/>
                    </a:lnTo>
                    <a:lnTo>
                      <a:pt x="15" y="227"/>
                    </a:lnTo>
                    <a:lnTo>
                      <a:pt x="25" y="172"/>
                    </a:lnTo>
                    <a:lnTo>
                      <a:pt x="25" y="122"/>
                    </a:lnTo>
                    <a:lnTo>
                      <a:pt x="36" y="52"/>
                    </a:lnTo>
                    <a:lnTo>
                      <a:pt x="61" y="0"/>
                    </a:lnTo>
                    <a:lnTo>
                      <a:pt x="51" y="87"/>
                    </a:lnTo>
                    <a:lnTo>
                      <a:pt x="44" y="177"/>
                    </a:lnTo>
                    <a:lnTo>
                      <a:pt x="41" y="257"/>
                    </a:lnTo>
                    <a:lnTo>
                      <a:pt x="15" y="280"/>
                    </a:lnTo>
                    <a:lnTo>
                      <a:pt x="9" y="39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Freeform 51"/>
              <p:cNvSpPr/>
              <p:nvPr/>
            </p:nvSpPr>
            <p:spPr>
              <a:xfrm>
                <a:off x="5146560" y="5090760"/>
                <a:ext cx="190440" cy="12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29" h="302">
                    <a:moveTo>
                      <a:pt x="115" y="0"/>
                    </a:moveTo>
                    <a:lnTo>
                      <a:pt x="34" y="22"/>
                    </a:lnTo>
                    <a:lnTo>
                      <a:pt x="0" y="86"/>
                    </a:lnTo>
                    <a:lnTo>
                      <a:pt x="5" y="157"/>
                    </a:lnTo>
                    <a:lnTo>
                      <a:pt x="35" y="231"/>
                    </a:lnTo>
                    <a:lnTo>
                      <a:pt x="74" y="286"/>
                    </a:lnTo>
                    <a:lnTo>
                      <a:pt x="125" y="302"/>
                    </a:lnTo>
                    <a:lnTo>
                      <a:pt x="181" y="292"/>
                    </a:lnTo>
                    <a:lnTo>
                      <a:pt x="229" y="261"/>
                    </a:lnTo>
                    <a:lnTo>
                      <a:pt x="174" y="282"/>
                    </a:lnTo>
                    <a:lnTo>
                      <a:pt x="115" y="281"/>
                    </a:lnTo>
                    <a:lnTo>
                      <a:pt x="69" y="242"/>
                    </a:lnTo>
                    <a:lnTo>
                      <a:pt x="44" y="182"/>
                    </a:lnTo>
                    <a:lnTo>
                      <a:pt x="30" y="121"/>
                    </a:lnTo>
                    <a:lnTo>
                      <a:pt x="44" y="82"/>
                    </a:lnTo>
                    <a:lnTo>
                      <a:pt x="55" y="4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Freeform 52"/>
              <p:cNvSpPr/>
              <p:nvPr/>
            </p:nvSpPr>
            <p:spPr>
              <a:xfrm>
                <a:off x="5104800" y="5106600"/>
                <a:ext cx="124200" cy="1378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37880"/>
                  <a:gd name="textAreaBottom" fmla="*/ 137880 h 137880"/>
                </a:gdLst>
                <a:ahLst/>
                <a:rect l="textAreaLeft" t="textAreaTop" r="textAreaRight" b="textAreaBottom"/>
                <a:pathLst>
                  <a:path w="150" h="346">
                    <a:moveTo>
                      <a:pt x="39" y="0"/>
                    </a:moveTo>
                    <a:lnTo>
                      <a:pt x="24" y="67"/>
                    </a:lnTo>
                    <a:lnTo>
                      <a:pt x="34" y="161"/>
                    </a:lnTo>
                    <a:lnTo>
                      <a:pt x="89" y="242"/>
                    </a:lnTo>
                    <a:lnTo>
                      <a:pt x="140" y="277"/>
                    </a:lnTo>
                    <a:lnTo>
                      <a:pt x="150" y="346"/>
                    </a:lnTo>
                    <a:lnTo>
                      <a:pt x="109" y="277"/>
                    </a:lnTo>
                    <a:lnTo>
                      <a:pt x="44" y="222"/>
                    </a:lnTo>
                    <a:lnTo>
                      <a:pt x="0" y="162"/>
                    </a:lnTo>
                    <a:lnTo>
                      <a:pt x="0" y="97"/>
                    </a:lnTo>
                    <a:lnTo>
                      <a:pt x="10" y="4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Freeform 53"/>
              <p:cNvSpPr/>
              <p:nvPr/>
            </p:nvSpPr>
            <p:spPr>
              <a:xfrm>
                <a:off x="5068440" y="5112720"/>
                <a:ext cx="126000" cy="2178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154" h="548">
                    <a:moveTo>
                      <a:pt x="50" y="0"/>
                    </a:moveTo>
                    <a:lnTo>
                      <a:pt x="25" y="31"/>
                    </a:lnTo>
                    <a:lnTo>
                      <a:pt x="15" y="87"/>
                    </a:lnTo>
                    <a:lnTo>
                      <a:pt x="15" y="131"/>
                    </a:lnTo>
                    <a:lnTo>
                      <a:pt x="28" y="186"/>
                    </a:lnTo>
                    <a:lnTo>
                      <a:pt x="85" y="247"/>
                    </a:lnTo>
                    <a:lnTo>
                      <a:pt x="149" y="281"/>
                    </a:lnTo>
                    <a:lnTo>
                      <a:pt x="154" y="336"/>
                    </a:lnTo>
                    <a:lnTo>
                      <a:pt x="150" y="396"/>
                    </a:lnTo>
                    <a:lnTo>
                      <a:pt x="139" y="431"/>
                    </a:lnTo>
                    <a:lnTo>
                      <a:pt x="135" y="503"/>
                    </a:lnTo>
                    <a:lnTo>
                      <a:pt x="134" y="548"/>
                    </a:lnTo>
                    <a:lnTo>
                      <a:pt x="109" y="468"/>
                    </a:lnTo>
                    <a:lnTo>
                      <a:pt x="114" y="398"/>
                    </a:lnTo>
                    <a:lnTo>
                      <a:pt x="124" y="348"/>
                    </a:lnTo>
                    <a:lnTo>
                      <a:pt x="104" y="282"/>
                    </a:lnTo>
                    <a:lnTo>
                      <a:pt x="18" y="222"/>
                    </a:lnTo>
                    <a:lnTo>
                      <a:pt x="8" y="166"/>
                    </a:lnTo>
                    <a:lnTo>
                      <a:pt x="0" y="7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Freeform 54"/>
              <p:cNvSpPr/>
              <p:nvPr/>
            </p:nvSpPr>
            <p:spPr>
              <a:xfrm>
                <a:off x="4997520" y="5113440"/>
                <a:ext cx="138960" cy="1674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67400"/>
                  <a:gd name="textAreaBottom" fmla="*/ 167400 h 167400"/>
                </a:gdLst>
                <a:ahLst/>
                <a:rect l="textAreaLeft" t="textAreaTop" r="textAreaRight" b="textAreaBottom"/>
                <a:pathLst>
                  <a:path w="169" h="421">
                    <a:moveTo>
                      <a:pt x="95" y="0"/>
                    </a:moveTo>
                    <a:lnTo>
                      <a:pt x="43" y="20"/>
                    </a:lnTo>
                    <a:lnTo>
                      <a:pt x="5" y="54"/>
                    </a:lnTo>
                    <a:lnTo>
                      <a:pt x="0" y="105"/>
                    </a:lnTo>
                    <a:lnTo>
                      <a:pt x="18" y="174"/>
                    </a:lnTo>
                    <a:lnTo>
                      <a:pt x="28" y="244"/>
                    </a:lnTo>
                    <a:lnTo>
                      <a:pt x="90" y="290"/>
                    </a:lnTo>
                    <a:lnTo>
                      <a:pt x="110" y="354"/>
                    </a:lnTo>
                    <a:lnTo>
                      <a:pt x="128" y="381"/>
                    </a:lnTo>
                    <a:lnTo>
                      <a:pt x="150" y="421"/>
                    </a:lnTo>
                    <a:lnTo>
                      <a:pt x="169" y="371"/>
                    </a:lnTo>
                    <a:lnTo>
                      <a:pt x="155" y="311"/>
                    </a:lnTo>
                    <a:lnTo>
                      <a:pt x="118" y="275"/>
                    </a:lnTo>
                    <a:lnTo>
                      <a:pt x="55" y="214"/>
                    </a:lnTo>
                    <a:lnTo>
                      <a:pt x="43" y="150"/>
                    </a:lnTo>
                    <a:lnTo>
                      <a:pt x="40" y="74"/>
                    </a:lnTo>
                    <a:lnTo>
                      <a:pt x="60" y="4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Freeform 55"/>
              <p:cNvSpPr/>
              <p:nvPr/>
            </p:nvSpPr>
            <p:spPr>
              <a:xfrm>
                <a:off x="4917960" y="5113440"/>
                <a:ext cx="107640" cy="1987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30" h="499">
                    <a:moveTo>
                      <a:pt x="65" y="499"/>
                    </a:moveTo>
                    <a:lnTo>
                      <a:pt x="65" y="394"/>
                    </a:lnTo>
                    <a:lnTo>
                      <a:pt x="73" y="311"/>
                    </a:lnTo>
                    <a:lnTo>
                      <a:pt x="75" y="254"/>
                    </a:lnTo>
                    <a:lnTo>
                      <a:pt x="43" y="179"/>
                    </a:lnTo>
                    <a:lnTo>
                      <a:pt x="50" y="80"/>
                    </a:lnTo>
                    <a:lnTo>
                      <a:pt x="88" y="29"/>
                    </a:lnTo>
                    <a:lnTo>
                      <a:pt x="130" y="3"/>
                    </a:lnTo>
                    <a:lnTo>
                      <a:pt x="90" y="0"/>
                    </a:lnTo>
                    <a:lnTo>
                      <a:pt x="40" y="19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80"/>
                    </a:lnTo>
                    <a:lnTo>
                      <a:pt x="45" y="239"/>
                    </a:lnTo>
                    <a:lnTo>
                      <a:pt x="48" y="329"/>
                    </a:lnTo>
                    <a:lnTo>
                      <a:pt x="48" y="396"/>
                    </a:lnTo>
                    <a:lnTo>
                      <a:pt x="65" y="4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Freeform 56"/>
              <p:cNvSpPr/>
              <p:nvPr/>
            </p:nvSpPr>
            <p:spPr>
              <a:xfrm>
                <a:off x="5009040" y="522468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52" h="135">
                    <a:moveTo>
                      <a:pt x="0" y="0"/>
                    </a:moveTo>
                    <a:lnTo>
                      <a:pt x="15" y="37"/>
                    </a:lnTo>
                    <a:lnTo>
                      <a:pt x="30" y="102"/>
                    </a:lnTo>
                    <a:lnTo>
                      <a:pt x="35" y="135"/>
                    </a:lnTo>
                    <a:lnTo>
                      <a:pt x="52" y="75"/>
                    </a:lnTo>
                    <a:lnTo>
                      <a:pt x="4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Freeform 57"/>
              <p:cNvSpPr/>
              <p:nvPr/>
            </p:nvSpPr>
            <p:spPr>
              <a:xfrm>
                <a:off x="4872960" y="5087160"/>
                <a:ext cx="110880" cy="139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133" h="350">
                    <a:moveTo>
                      <a:pt x="73" y="0"/>
                    </a:moveTo>
                    <a:lnTo>
                      <a:pt x="85" y="35"/>
                    </a:lnTo>
                    <a:lnTo>
                      <a:pt x="100" y="45"/>
                    </a:lnTo>
                    <a:lnTo>
                      <a:pt x="133" y="48"/>
                    </a:lnTo>
                    <a:lnTo>
                      <a:pt x="63" y="74"/>
                    </a:lnTo>
                    <a:lnTo>
                      <a:pt x="30" y="114"/>
                    </a:lnTo>
                    <a:lnTo>
                      <a:pt x="23" y="184"/>
                    </a:lnTo>
                    <a:lnTo>
                      <a:pt x="23" y="265"/>
                    </a:lnTo>
                    <a:lnTo>
                      <a:pt x="48" y="314"/>
                    </a:lnTo>
                    <a:lnTo>
                      <a:pt x="48" y="350"/>
                    </a:lnTo>
                    <a:lnTo>
                      <a:pt x="33" y="305"/>
                    </a:lnTo>
                    <a:lnTo>
                      <a:pt x="0" y="245"/>
                    </a:lnTo>
                    <a:lnTo>
                      <a:pt x="0" y="160"/>
                    </a:lnTo>
                    <a:lnTo>
                      <a:pt x="8" y="104"/>
                    </a:lnTo>
                    <a:lnTo>
                      <a:pt x="43" y="65"/>
                    </a:lnTo>
                    <a:lnTo>
                      <a:pt x="55" y="3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Freeform 58"/>
              <p:cNvSpPr/>
              <p:nvPr/>
            </p:nvSpPr>
            <p:spPr>
              <a:xfrm>
                <a:off x="4835160" y="5067360"/>
                <a:ext cx="77400" cy="1306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93" h="329">
                    <a:moveTo>
                      <a:pt x="48" y="0"/>
                    </a:moveTo>
                    <a:lnTo>
                      <a:pt x="83" y="20"/>
                    </a:lnTo>
                    <a:lnTo>
                      <a:pt x="93" y="35"/>
                    </a:lnTo>
                    <a:lnTo>
                      <a:pt x="88" y="75"/>
                    </a:lnTo>
                    <a:lnTo>
                      <a:pt x="58" y="110"/>
                    </a:lnTo>
                    <a:lnTo>
                      <a:pt x="30" y="139"/>
                    </a:lnTo>
                    <a:lnTo>
                      <a:pt x="28" y="204"/>
                    </a:lnTo>
                    <a:lnTo>
                      <a:pt x="25" y="269"/>
                    </a:lnTo>
                    <a:lnTo>
                      <a:pt x="33" y="329"/>
                    </a:lnTo>
                    <a:lnTo>
                      <a:pt x="13" y="300"/>
                    </a:lnTo>
                    <a:lnTo>
                      <a:pt x="0" y="244"/>
                    </a:lnTo>
                    <a:lnTo>
                      <a:pt x="0" y="194"/>
                    </a:lnTo>
                    <a:lnTo>
                      <a:pt x="0" y="115"/>
                    </a:lnTo>
                    <a:lnTo>
                      <a:pt x="50" y="78"/>
                    </a:lnTo>
                    <a:lnTo>
                      <a:pt x="55" y="3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Freeform 59"/>
              <p:cNvSpPr/>
              <p:nvPr/>
            </p:nvSpPr>
            <p:spPr>
              <a:xfrm>
                <a:off x="4775400" y="5049000"/>
                <a:ext cx="75960" cy="2210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92" h="556">
                    <a:moveTo>
                      <a:pt x="41" y="556"/>
                    </a:moveTo>
                    <a:lnTo>
                      <a:pt x="52" y="498"/>
                    </a:lnTo>
                    <a:lnTo>
                      <a:pt x="41" y="446"/>
                    </a:lnTo>
                    <a:lnTo>
                      <a:pt x="36" y="381"/>
                    </a:lnTo>
                    <a:lnTo>
                      <a:pt x="26" y="327"/>
                    </a:lnTo>
                    <a:lnTo>
                      <a:pt x="40" y="262"/>
                    </a:lnTo>
                    <a:lnTo>
                      <a:pt x="31" y="201"/>
                    </a:lnTo>
                    <a:lnTo>
                      <a:pt x="67" y="125"/>
                    </a:lnTo>
                    <a:lnTo>
                      <a:pt x="82" y="107"/>
                    </a:lnTo>
                    <a:lnTo>
                      <a:pt x="92" y="60"/>
                    </a:lnTo>
                    <a:lnTo>
                      <a:pt x="82" y="35"/>
                    </a:lnTo>
                    <a:lnTo>
                      <a:pt x="40" y="0"/>
                    </a:lnTo>
                    <a:lnTo>
                      <a:pt x="55" y="32"/>
                    </a:lnTo>
                    <a:lnTo>
                      <a:pt x="60" y="80"/>
                    </a:lnTo>
                    <a:lnTo>
                      <a:pt x="10" y="152"/>
                    </a:lnTo>
                    <a:lnTo>
                      <a:pt x="5" y="226"/>
                    </a:lnTo>
                    <a:lnTo>
                      <a:pt x="6" y="256"/>
                    </a:lnTo>
                    <a:lnTo>
                      <a:pt x="0" y="317"/>
                    </a:lnTo>
                    <a:lnTo>
                      <a:pt x="5" y="372"/>
                    </a:lnTo>
                    <a:lnTo>
                      <a:pt x="16" y="431"/>
                    </a:lnTo>
                    <a:lnTo>
                      <a:pt x="31" y="483"/>
                    </a:lnTo>
                    <a:lnTo>
                      <a:pt x="41" y="55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Freeform 60"/>
              <p:cNvSpPr/>
              <p:nvPr/>
            </p:nvSpPr>
            <p:spPr>
              <a:xfrm>
                <a:off x="4681080" y="5051160"/>
                <a:ext cx="120240" cy="2030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6" h="509">
                    <a:moveTo>
                      <a:pt x="146" y="40"/>
                    </a:moveTo>
                    <a:lnTo>
                      <a:pt x="140" y="0"/>
                    </a:lnTo>
                    <a:lnTo>
                      <a:pt x="116" y="10"/>
                    </a:lnTo>
                    <a:lnTo>
                      <a:pt x="61" y="53"/>
                    </a:lnTo>
                    <a:lnTo>
                      <a:pt x="35" y="93"/>
                    </a:lnTo>
                    <a:lnTo>
                      <a:pt x="6" y="138"/>
                    </a:lnTo>
                    <a:lnTo>
                      <a:pt x="5" y="174"/>
                    </a:lnTo>
                    <a:lnTo>
                      <a:pt x="0" y="230"/>
                    </a:lnTo>
                    <a:lnTo>
                      <a:pt x="5" y="304"/>
                    </a:lnTo>
                    <a:lnTo>
                      <a:pt x="35" y="360"/>
                    </a:lnTo>
                    <a:lnTo>
                      <a:pt x="71" y="425"/>
                    </a:lnTo>
                    <a:lnTo>
                      <a:pt x="90" y="481"/>
                    </a:lnTo>
                    <a:lnTo>
                      <a:pt x="96" y="509"/>
                    </a:lnTo>
                    <a:lnTo>
                      <a:pt x="95" y="469"/>
                    </a:lnTo>
                    <a:lnTo>
                      <a:pt x="61" y="349"/>
                    </a:lnTo>
                    <a:lnTo>
                      <a:pt x="30" y="274"/>
                    </a:lnTo>
                    <a:lnTo>
                      <a:pt x="30" y="189"/>
                    </a:lnTo>
                    <a:lnTo>
                      <a:pt x="35" y="120"/>
                    </a:lnTo>
                    <a:lnTo>
                      <a:pt x="70" y="78"/>
                    </a:lnTo>
                    <a:lnTo>
                      <a:pt x="95" y="53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Freeform 61"/>
              <p:cNvSpPr/>
              <p:nvPr/>
            </p:nvSpPr>
            <p:spPr>
              <a:xfrm>
                <a:off x="4719240" y="5079240"/>
                <a:ext cx="64440" cy="137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79" h="345">
                    <a:moveTo>
                      <a:pt x="79" y="0"/>
                    </a:moveTo>
                    <a:lnTo>
                      <a:pt x="24" y="35"/>
                    </a:lnTo>
                    <a:lnTo>
                      <a:pt x="0" y="95"/>
                    </a:lnTo>
                    <a:lnTo>
                      <a:pt x="4" y="149"/>
                    </a:lnTo>
                    <a:lnTo>
                      <a:pt x="24" y="230"/>
                    </a:lnTo>
                    <a:lnTo>
                      <a:pt x="44" y="295"/>
                    </a:lnTo>
                    <a:lnTo>
                      <a:pt x="60" y="345"/>
                    </a:lnTo>
                    <a:lnTo>
                      <a:pt x="55" y="285"/>
                    </a:lnTo>
                    <a:lnTo>
                      <a:pt x="35" y="214"/>
                    </a:lnTo>
                    <a:lnTo>
                      <a:pt x="35" y="149"/>
                    </a:lnTo>
                    <a:lnTo>
                      <a:pt x="39" y="80"/>
                    </a:lnTo>
                    <a:lnTo>
                      <a:pt x="49" y="6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Freeform 62"/>
              <p:cNvSpPr/>
              <p:nvPr/>
            </p:nvSpPr>
            <p:spPr>
              <a:xfrm>
                <a:off x="4627800" y="5038560"/>
                <a:ext cx="157320" cy="23472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90" h="588">
                    <a:moveTo>
                      <a:pt x="90" y="588"/>
                    </a:moveTo>
                    <a:lnTo>
                      <a:pt x="55" y="503"/>
                    </a:lnTo>
                    <a:lnTo>
                      <a:pt x="55" y="462"/>
                    </a:lnTo>
                    <a:lnTo>
                      <a:pt x="45" y="411"/>
                    </a:lnTo>
                    <a:lnTo>
                      <a:pt x="30" y="347"/>
                    </a:lnTo>
                    <a:lnTo>
                      <a:pt x="15" y="286"/>
                    </a:lnTo>
                    <a:lnTo>
                      <a:pt x="8" y="232"/>
                    </a:lnTo>
                    <a:lnTo>
                      <a:pt x="0" y="162"/>
                    </a:lnTo>
                    <a:lnTo>
                      <a:pt x="28" y="95"/>
                    </a:lnTo>
                    <a:lnTo>
                      <a:pt x="85" y="27"/>
                    </a:lnTo>
                    <a:lnTo>
                      <a:pt x="134" y="5"/>
                    </a:lnTo>
                    <a:lnTo>
                      <a:pt x="190" y="0"/>
                    </a:lnTo>
                    <a:lnTo>
                      <a:pt x="190" y="20"/>
                    </a:lnTo>
                    <a:lnTo>
                      <a:pt x="150" y="30"/>
                    </a:lnTo>
                    <a:lnTo>
                      <a:pt x="84" y="77"/>
                    </a:lnTo>
                    <a:lnTo>
                      <a:pt x="30" y="160"/>
                    </a:lnTo>
                    <a:lnTo>
                      <a:pt x="30" y="236"/>
                    </a:lnTo>
                    <a:lnTo>
                      <a:pt x="40" y="336"/>
                    </a:lnTo>
                    <a:lnTo>
                      <a:pt x="65" y="421"/>
                    </a:lnTo>
                    <a:lnTo>
                      <a:pt x="69" y="493"/>
                    </a:lnTo>
                    <a:lnTo>
                      <a:pt x="90" y="5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Freeform 63"/>
              <p:cNvSpPr/>
              <p:nvPr/>
            </p:nvSpPr>
            <p:spPr>
              <a:xfrm>
                <a:off x="4614480" y="5018760"/>
                <a:ext cx="152280" cy="918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86" h="230">
                    <a:moveTo>
                      <a:pt x="0" y="230"/>
                    </a:moveTo>
                    <a:lnTo>
                      <a:pt x="2" y="172"/>
                    </a:lnTo>
                    <a:lnTo>
                      <a:pt x="32" y="110"/>
                    </a:lnTo>
                    <a:lnTo>
                      <a:pt x="111" y="35"/>
                    </a:lnTo>
                    <a:lnTo>
                      <a:pt x="186" y="27"/>
                    </a:lnTo>
                    <a:lnTo>
                      <a:pt x="136" y="0"/>
                    </a:lnTo>
                    <a:lnTo>
                      <a:pt x="82" y="22"/>
                    </a:lnTo>
                    <a:lnTo>
                      <a:pt x="25" y="72"/>
                    </a:lnTo>
                    <a:lnTo>
                      <a:pt x="15" y="112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Freeform 64"/>
              <p:cNvSpPr/>
              <p:nvPr/>
            </p:nvSpPr>
            <p:spPr>
              <a:xfrm>
                <a:off x="4569840" y="4974840"/>
                <a:ext cx="91080" cy="1220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22040"/>
                  <a:gd name="textAreaBottom" fmla="*/ 122040 h 122040"/>
                </a:gdLst>
                <a:ahLst/>
                <a:rect l="textAreaLeft" t="textAreaTop" r="textAreaRight" b="textAreaBottom"/>
                <a:pathLst>
                  <a:path w="110" h="305">
                    <a:moveTo>
                      <a:pt x="38" y="305"/>
                    </a:moveTo>
                    <a:lnTo>
                      <a:pt x="48" y="232"/>
                    </a:lnTo>
                    <a:lnTo>
                      <a:pt x="68" y="150"/>
                    </a:lnTo>
                    <a:lnTo>
                      <a:pt x="110" y="87"/>
                    </a:lnTo>
                    <a:lnTo>
                      <a:pt x="105" y="62"/>
                    </a:lnTo>
                    <a:lnTo>
                      <a:pt x="75" y="42"/>
                    </a:lnTo>
                    <a:lnTo>
                      <a:pt x="48" y="20"/>
                    </a:lnTo>
                    <a:lnTo>
                      <a:pt x="0" y="0"/>
                    </a:lnTo>
                    <a:lnTo>
                      <a:pt x="78" y="57"/>
                    </a:lnTo>
                    <a:lnTo>
                      <a:pt x="75" y="105"/>
                    </a:lnTo>
                    <a:lnTo>
                      <a:pt x="38" y="162"/>
                    </a:lnTo>
                    <a:lnTo>
                      <a:pt x="30" y="227"/>
                    </a:lnTo>
                    <a:lnTo>
                      <a:pt x="38" y="3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Freeform 65"/>
              <p:cNvSpPr/>
              <p:nvPr/>
            </p:nvSpPr>
            <p:spPr>
              <a:xfrm>
                <a:off x="4556880" y="4974840"/>
                <a:ext cx="32760" cy="133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40" h="335">
                    <a:moveTo>
                      <a:pt x="3" y="0"/>
                    </a:moveTo>
                    <a:lnTo>
                      <a:pt x="38" y="47"/>
                    </a:lnTo>
                    <a:lnTo>
                      <a:pt x="40" y="97"/>
                    </a:lnTo>
                    <a:lnTo>
                      <a:pt x="30" y="140"/>
                    </a:lnTo>
                    <a:lnTo>
                      <a:pt x="28" y="180"/>
                    </a:lnTo>
                    <a:lnTo>
                      <a:pt x="25" y="245"/>
                    </a:lnTo>
                    <a:lnTo>
                      <a:pt x="35" y="305"/>
                    </a:lnTo>
                    <a:lnTo>
                      <a:pt x="40" y="335"/>
                    </a:lnTo>
                    <a:lnTo>
                      <a:pt x="25" y="307"/>
                    </a:lnTo>
                    <a:lnTo>
                      <a:pt x="0" y="235"/>
                    </a:lnTo>
                    <a:lnTo>
                      <a:pt x="5" y="167"/>
                    </a:lnTo>
                    <a:lnTo>
                      <a:pt x="15" y="90"/>
                    </a:lnTo>
                    <a:lnTo>
                      <a:pt x="15" y="4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Freeform 66"/>
              <p:cNvSpPr/>
              <p:nvPr/>
            </p:nvSpPr>
            <p:spPr>
              <a:xfrm>
                <a:off x="4512240" y="4959360"/>
                <a:ext cx="36360" cy="78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43" h="198">
                    <a:moveTo>
                      <a:pt x="0" y="0"/>
                    </a:moveTo>
                    <a:lnTo>
                      <a:pt x="43" y="65"/>
                    </a:lnTo>
                    <a:lnTo>
                      <a:pt x="38" y="130"/>
                    </a:lnTo>
                    <a:lnTo>
                      <a:pt x="38" y="198"/>
                    </a:lnTo>
                    <a:lnTo>
                      <a:pt x="18" y="148"/>
                    </a:lnTo>
                    <a:lnTo>
                      <a:pt x="18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Freeform 67"/>
              <p:cNvSpPr/>
              <p:nvPr/>
            </p:nvSpPr>
            <p:spPr>
              <a:xfrm>
                <a:off x="4452480" y="4916160"/>
                <a:ext cx="120600" cy="1782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145" h="445">
                    <a:moveTo>
                      <a:pt x="145" y="445"/>
                    </a:moveTo>
                    <a:lnTo>
                      <a:pt x="100" y="375"/>
                    </a:lnTo>
                    <a:lnTo>
                      <a:pt x="85" y="307"/>
                    </a:lnTo>
                    <a:lnTo>
                      <a:pt x="72" y="250"/>
                    </a:lnTo>
                    <a:lnTo>
                      <a:pt x="67" y="170"/>
                    </a:lnTo>
                    <a:lnTo>
                      <a:pt x="47" y="122"/>
                    </a:lnTo>
                    <a:lnTo>
                      <a:pt x="17" y="45"/>
                    </a:lnTo>
                    <a:lnTo>
                      <a:pt x="0" y="0"/>
                    </a:lnTo>
                    <a:lnTo>
                      <a:pt x="27" y="122"/>
                    </a:lnTo>
                    <a:lnTo>
                      <a:pt x="35" y="185"/>
                    </a:lnTo>
                    <a:lnTo>
                      <a:pt x="70" y="330"/>
                    </a:lnTo>
                    <a:lnTo>
                      <a:pt x="87" y="407"/>
                    </a:lnTo>
                    <a:lnTo>
                      <a:pt x="145" y="44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Freeform 68"/>
              <p:cNvSpPr/>
              <p:nvPr/>
            </p:nvSpPr>
            <p:spPr>
              <a:xfrm>
                <a:off x="4327920" y="4872600"/>
                <a:ext cx="173880" cy="196200"/>
              </a:xfrm>
              <a:custGeom>
                <a:avLst/>
                <a:gdLst>
                  <a:gd name="textAreaLeft" fmla="*/ 0 w 173880"/>
                  <a:gd name="textAreaRight" fmla="*/ 173880 w 17388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210" h="490">
                    <a:moveTo>
                      <a:pt x="210" y="490"/>
                    </a:moveTo>
                    <a:lnTo>
                      <a:pt x="157" y="375"/>
                    </a:lnTo>
                    <a:lnTo>
                      <a:pt x="112" y="235"/>
                    </a:lnTo>
                    <a:lnTo>
                      <a:pt x="95" y="117"/>
                    </a:lnTo>
                    <a:lnTo>
                      <a:pt x="62" y="52"/>
                    </a:lnTo>
                    <a:lnTo>
                      <a:pt x="0" y="0"/>
                    </a:lnTo>
                    <a:lnTo>
                      <a:pt x="52" y="110"/>
                    </a:lnTo>
                    <a:lnTo>
                      <a:pt x="85" y="262"/>
                    </a:lnTo>
                    <a:lnTo>
                      <a:pt x="117" y="332"/>
                    </a:lnTo>
                    <a:lnTo>
                      <a:pt x="185" y="452"/>
                    </a:lnTo>
                    <a:lnTo>
                      <a:pt x="210" y="49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Freeform 69"/>
              <p:cNvSpPr/>
              <p:nvPr/>
            </p:nvSpPr>
            <p:spPr>
              <a:xfrm>
                <a:off x="4283280" y="4897080"/>
                <a:ext cx="203760" cy="17424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46" h="435">
                    <a:moveTo>
                      <a:pt x="0" y="0"/>
                    </a:moveTo>
                    <a:lnTo>
                      <a:pt x="10" y="130"/>
                    </a:lnTo>
                    <a:lnTo>
                      <a:pt x="80" y="253"/>
                    </a:lnTo>
                    <a:lnTo>
                      <a:pt x="136" y="333"/>
                    </a:lnTo>
                    <a:lnTo>
                      <a:pt x="179" y="375"/>
                    </a:lnTo>
                    <a:lnTo>
                      <a:pt x="246" y="435"/>
                    </a:lnTo>
                    <a:lnTo>
                      <a:pt x="186" y="360"/>
                    </a:lnTo>
                    <a:lnTo>
                      <a:pt x="121" y="278"/>
                    </a:lnTo>
                    <a:lnTo>
                      <a:pt x="95" y="153"/>
                    </a:lnTo>
                    <a:lnTo>
                      <a:pt x="45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Freeform 70"/>
              <p:cNvSpPr/>
              <p:nvPr/>
            </p:nvSpPr>
            <p:spPr>
              <a:xfrm>
                <a:off x="4313520" y="4844520"/>
                <a:ext cx="138960" cy="1378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9" h="345">
                    <a:moveTo>
                      <a:pt x="0" y="0"/>
                    </a:moveTo>
                    <a:lnTo>
                      <a:pt x="15" y="41"/>
                    </a:lnTo>
                    <a:lnTo>
                      <a:pt x="71" y="75"/>
                    </a:lnTo>
                    <a:lnTo>
                      <a:pt x="106" y="117"/>
                    </a:lnTo>
                    <a:lnTo>
                      <a:pt x="129" y="152"/>
                    </a:lnTo>
                    <a:lnTo>
                      <a:pt x="144" y="277"/>
                    </a:lnTo>
                    <a:lnTo>
                      <a:pt x="169" y="345"/>
                    </a:lnTo>
                    <a:lnTo>
                      <a:pt x="161" y="277"/>
                    </a:lnTo>
                    <a:lnTo>
                      <a:pt x="151" y="195"/>
                    </a:lnTo>
                    <a:lnTo>
                      <a:pt x="119" y="96"/>
                    </a:lnTo>
                    <a:lnTo>
                      <a:pt x="104" y="76"/>
                    </a:lnTo>
                    <a:lnTo>
                      <a:pt x="121" y="61"/>
                    </a:lnTo>
                    <a:lnTo>
                      <a:pt x="96" y="61"/>
                    </a:lnTo>
                    <a:lnTo>
                      <a:pt x="59" y="55"/>
                    </a:lnTo>
                    <a:lnTo>
                      <a:pt x="3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Freeform 71"/>
              <p:cNvSpPr/>
              <p:nvPr/>
            </p:nvSpPr>
            <p:spPr>
              <a:xfrm>
                <a:off x="4271760" y="4843800"/>
                <a:ext cx="94320" cy="9648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5" h="244">
                    <a:moveTo>
                      <a:pt x="0" y="0"/>
                    </a:moveTo>
                    <a:lnTo>
                      <a:pt x="44" y="59"/>
                    </a:lnTo>
                    <a:lnTo>
                      <a:pt x="64" y="134"/>
                    </a:lnTo>
                    <a:lnTo>
                      <a:pt x="99" y="176"/>
                    </a:lnTo>
                    <a:lnTo>
                      <a:pt x="115" y="244"/>
                    </a:lnTo>
                    <a:lnTo>
                      <a:pt x="55" y="184"/>
                    </a:lnTo>
                    <a:lnTo>
                      <a:pt x="44" y="114"/>
                    </a:lnTo>
                    <a:lnTo>
                      <a:pt x="25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Freeform 72"/>
              <p:cNvSpPr/>
              <p:nvPr/>
            </p:nvSpPr>
            <p:spPr>
              <a:xfrm>
                <a:off x="4339800" y="4733280"/>
                <a:ext cx="249840" cy="12708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02" h="319">
                    <a:moveTo>
                      <a:pt x="26" y="225"/>
                    </a:moveTo>
                    <a:lnTo>
                      <a:pt x="0" y="250"/>
                    </a:lnTo>
                    <a:lnTo>
                      <a:pt x="0" y="275"/>
                    </a:lnTo>
                    <a:lnTo>
                      <a:pt x="20" y="304"/>
                    </a:lnTo>
                    <a:lnTo>
                      <a:pt x="60" y="319"/>
                    </a:lnTo>
                    <a:lnTo>
                      <a:pt x="115" y="299"/>
                    </a:lnTo>
                    <a:lnTo>
                      <a:pt x="155" y="250"/>
                    </a:lnTo>
                    <a:lnTo>
                      <a:pt x="195" y="165"/>
                    </a:lnTo>
                    <a:lnTo>
                      <a:pt x="235" y="95"/>
                    </a:lnTo>
                    <a:lnTo>
                      <a:pt x="302" y="0"/>
                    </a:lnTo>
                    <a:lnTo>
                      <a:pt x="207" y="99"/>
                    </a:lnTo>
                    <a:lnTo>
                      <a:pt x="147" y="225"/>
                    </a:lnTo>
                    <a:lnTo>
                      <a:pt x="80" y="284"/>
                    </a:lnTo>
                    <a:lnTo>
                      <a:pt x="37" y="280"/>
                    </a:lnTo>
                    <a:lnTo>
                      <a:pt x="25" y="260"/>
                    </a:lnTo>
                    <a:lnTo>
                      <a:pt x="26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Freeform 73"/>
              <p:cNvSpPr/>
              <p:nvPr/>
            </p:nvSpPr>
            <p:spPr>
              <a:xfrm>
                <a:off x="4112640" y="4794840"/>
                <a:ext cx="153720" cy="1364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85" h="342">
                    <a:moveTo>
                      <a:pt x="185" y="342"/>
                    </a:moveTo>
                    <a:lnTo>
                      <a:pt x="140" y="255"/>
                    </a:lnTo>
                    <a:lnTo>
                      <a:pt x="90" y="185"/>
                    </a:lnTo>
                    <a:lnTo>
                      <a:pt x="75" y="126"/>
                    </a:lnTo>
                    <a:lnTo>
                      <a:pt x="25" y="60"/>
                    </a:lnTo>
                    <a:lnTo>
                      <a:pt x="0" y="0"/>
                    </a:lnTo>
                    <a:lnTo>
                      <a:pt x="30" y="106"/>
                    </a:lnTo>
                    <a:lnTo>
                      <a:pt x="65" y="175"/>
                    </a:lnTo>
                    <a:lnTo>
                      <a:pt x="135" y="255"/>
                    </a:lnTo>
                    <a:lnTo>
                      <a:pt x="185" y="34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Freeform 74"/>
              <p:cNvSpPr/>
              <p:nvPr/>
            </p:nvSpPr>
            <p:spPr>
              <a:xfrm>
                <a:off x="4091400" y="4759920"/>
                <a:ext cx="182160" cy="125280"/>
              </a:xfrm>
              <a:custGeom>
                <a:avLst/>
                <a:gdLst/>
                <a:ahLst/>
                <a:rect l="l" t="t" r="r" b="b"/>
                <a:pathLst>
                  <a:path w="221" h="316">
                    <a:moveTo>
                      <a:pt x="221" y="316"/>
                    </a:moveTo>
                    <a:lnTo>
                      <a:pt x="177" y="270"/>
                    </a:lnTo>
                    <a:lnTo>
                      <a:pt x="132" y="199"/>
                    </a:lnTo>
                    <a:lnTo>
                      <a:pt x="92" y="160"/>
                    </a:lnTo>
                    <a:lnTo>
                      <a:pt x="80" y="105"/>
                    </a:lnTo>
                    <a:lnTo>
                      <a:pt x="0" y="0"/>
                    </a:lnTo>
                    <a:lnTo>
                      <a:pt x="75" y="64"/>
                    </a:lnTo>
                    <a:lnTo>
                      <a:pt x="115" y="119"/>
                    </a:lnTo>
                    <a:lnTo>
                      <a:pt x="135" y="180"/>
                    </a:lnTo>
                    <a:lnTo>
                      <a:pt x="191" y="254"/>
                    </a:lnTo>
                    <a:lnTo>
                      <a:pt x="221" y="31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Freeform 75"/>
              <p:cNvSpPr/>
              <p:nvPr/>
            </p:nvSpPr>
            <p:spPr>
              <a:xfrm>
                <a:off x="5196240" y="5089680"/>
                <a:ext cx="90720" cy="100440"/>
              </a:xfrm>
              <a:custGeom>
                <a:avLst/>
                <a:gdLst>
                  <a:gd name="textAreaLeft" fmla="*/ 0 w 90720"/>
                  <a:gd name="textAreaRight" fmla="*/ 90720 w 907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1" h="254">
                    <a:moveTo>
                      <a:pt x="111" y="0"/>
                    </a:moveTo>
                    <a:lnTo>
                      <a:pt x="54" y="23"/>
                    </a:lnTo>
                    <a:lnTo>
                      <a:pt x="10" y="60"/>
                    </a:lnTo>
                    <a:lnTo>
                      <a:pt x="0" y="134"/>
                    </a:lnTo>
                    <a:lnTo>
                      <a:pt x="9" y="199"/>
                    </a:lnTo>
                    <a:lnTo>
                      <a:pt x="49" y="254"/>
                    </a:lnTo>
                    <a:lnTo>
                      <a:pt x="20" y="184"/>
                    </a:lnTo>
                    <a:lnTo>
                      <a:pt x="30" y="120"/>
                    </a:lnTo>
                    <a:lnTo>
                      <a:pt x="54" y="63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Freeform 76"/>
              <p:cNvSpPr/>
              <p:nvPr/>
            </p:nvSpPr>
            <p:spPr>
              <a:xfrm>
                <a:off x="5232600" y="5077800"/>
                <a:ext cx="132480" cy="8280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160" h="209">
                    <a:moveTo>
                      <a:pt x="160" y="0"/>
                    </a:moveTo>
                    <a:lnTo>
                      <a:pt x="75" y="33"/>
                    </a:lnTo>
                    <a:lnTo>
                      <a:pt x="37" y="83"/>
                    </a:lnTo>
                    <a:lnTo>
                      <a:pt x="0" y="160"/>
                    </a:lnTo>
                    <a:lnTo>
                      <a:pt x="0" y="209"/>
                    </a:lnTo>
                    <a:lnTo>
                      <a:pt x="26" y="149"/>
                    </a:lnTo>
                    <a:lnTo>
                      <a:pt x="65" y="73"/>
                    </a:lnTo>
                    <a:lnTo>
                      <a:pt x="95" y="4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Freeform 77"/>
              <p:cNvSpPr/>
              <p:nvPr/>
            </p:nvSpPr>
            <p:spPr>
              <a:xfrm>
                <a:off x="5249160" y="5065920"/>
                <a:ext cx="203400" cy="12744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247" h="320">
                    <a:moveTo>
                      <a:pt x="5" y="320"/>
                    </a:moveTo>
                    <a:lnTo>
                      <a:pt x="0" y="259"/>
                    </a:lnTo>
                    <a:lnTo>
                      <a:pt x="25" y="194"/>
                    </a:lnTo>
                    <a:lnTo>
                      <a:pt x="55" y="129"/>
                    </a:lnTo>
                    <a:lnTo>
                      <a:pt x="102" y="85"/>
                    </a:lnTo>
                    <a:lnTo>
                      <a:pt x="172" y="35"/>
                    </a:lnTo>
                    <a:lnTo>
                      <a:pt x="247" y="0"/>
                    </a:lnTo>
                    <a:lnTo>
                      <a:pt x="182" y="65"/>
                    </a:lnTo>
                    <a:lnTo>
                      <a:pt x="102" y="123"/>
                    </a:lnTo>
                    <a:lnTo>
                      <a:pt x="47" y="199"/>
                    </a:lnTo>
                    <a:lnTo>
                      <a:pt x="30" y="250"/>
                    </a:lnTo>
                    <a:lnTo>
                      <a:pt x="5" y="3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Freeform 78"/>
              <p:cNvSpPr/>
              <p:nvPr/>
            </p:nvSpPr>
            <p:spPr>
              <a:xfrm>
                <a:off x="5293800" y="5099400"/>
                <a:ext cx="145440" cy="788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8840"/>
                  <a:gd name="textAreaBottom" fmla="*/ 78840 h 78840"/>
                </a:gdLst>
                <a:ahLst/>
                <a:rect l="textAreaLeft" t="textAreaTop" r="textAreaRight" b="textAreaBottom"/>
                <a:pathLst>
                  <a:path w="175" h="199">
                    <a:moveTo>
                      <a:pt x="0" y="199"/>
                    </a:moveTo>
                    <a:lnTo>
                      <a:pt x="45" y="95"/>
                    </a:lnTo>
                    <a:lnTo>
                      <a:pt x="100" y="33"/>
                    </a:lnTo>
                    <a:lnTo>
                      <a:pt x="175" y="0"/>
                    </a:lnTo>
                    <a:lnTo>
                      <a:pt x="97" y="65"/>
                    </a:lnTo>
                    <a:lnTo>
                      <a:pt x="52" y="134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Freeform 79"/>
              <p:cNvSpPr/>
              <p:nvPr/>
            </p:nvSpPr>
            <p:spPr>
              <a:xfrm>
                <a:off x="5303880" y="5052960"/>
                <a:ext cx="311400" cy="13788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75" h="347">
                    <a:moveTo>
                      <a:pt x="0" y="347"/>
                    </a:moveTo>
                    <a:lnTo>
                      <a:pt x="88" y="282"/>
                    </a:lnTo>
                    <a:lnTo>
                      <a:pt x="143" y="212"/>
                    </a:lnTo>
                    <a:lnTo>
                      <a:pt x="238" y="166"/>
                    </a:lnTo>
                    <a:lnTo>
                      <a:pt x="330" y="87"/>
                    </a:lnTo>
                    <a:lnTo>
                      <a:pt x="375" y="0"/>
                    </a:lnTo>
                    <a:lnTo>
                      <a:pt x="315" y="65"/>
                    </a:lnTo>
                    <a:lnTo>
                      <a:pt x="243" y="125"/>
                    </a:lnTo>
                    <a:lnTo>
                      <a:pt x="208" y="157"/>
                    </a:lnTo>
                    <a:lnTo>
                      <a:pt x="120" y="186"/>
                    </a:lnTo>
                    <a:lnTo>
                      <a:pt x="80" y="25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Freeform 80"/>
              <p:cNvSpPr/>
              <p:nvPr/>
            </p:nvSpPr>
            <p:spPr>
              <a:xfrm>
                <a:off x="5461200" y="4951440"/>
                <a:ext cx="327600" cy="150840"/>
              </a:xfrm>
              <a:custGeom>
                <a:avLst/>
                <a:gdLst>
                  <a:gd name="textAreaLeft" fmla="*/ 0 w 327600"/>
                  <a:gd name="textAreaRight" fmla="*/ 327960 w 3276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396" h="378">
                    <a:moveTo>
                      <a:pt x="0" y="378"/>
                    </a:moveTo>
                    <a:lnTo>
                      <a:pt x="85" y="320"/>
                    </a:lnTo>
                    <a:lnTo>
                      <a:pt x="147" y="233"/>
                    </a:lnTo>
                    <a:lnTo>
                      <a:pt x="246" y="128"/>
                    </a:lnTo>
                    <a:lnTo>
                      <a:pt x="336" y="60"/>
                    </a:lnTo>
                    <a:lnTo>
                      <a:pt x="396" y="0"/>
                    </a:lnTo>
                    <a:lnTo>
                      <a:pt x="267" y="63"/>
                    </a:lnTo>
                    <a:lnTo>
                      <a:pt x="202" y="145"/>
                    </a:lnTo>
                    <a:lnTo>
                      <a:pt x="116" y="230"/>
                    </a:lnTo>
                    <a:lnTo>
                      <a:pt x="92" y="2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Freeform 81"/>
              <p:cNvSpPr/>
              <p:nvPr/>
            </p:nvSpPr>
            <p:spPr>
              <a:xfrm>
                <a:off x="5452560" y="5005080"/>
                <a:ext cx="170640" cy="83520"/>
              </a:xfrm>
              <a:custGeom>
                <a:avLst/>
                <a:gdLst>
                  <a:gd name="textAreaLeft" fmla="*/ 0 w 170640"/>
                  <a:gd name="textAreaRight" fmla="*/ 170640 w 1706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5" h="208">
                    <a:moveTo>
                      <a:pt x="0" y="208"/>
                    </a:moveTo>
                    <a:lnTo>
                      <a:pt x="60" y="135"/>
                    </a:lnTo>
                    <a:lnTo>
                      <a:pt x="130" y="48"/>
                    </a:lnTo>
                    <a:lnTo>
                      <a:pt x="205" y="0"/>
                    </a:lnTo>
                    <a:lnTo>
                      <a:pt x="80" y="53"/>
                    </a:lnTo>
                    <a:lnTo>
                      <a:pt x="48" y="1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Freeform 82"/>
              <p:cNvSpPr/>
              <p:nvPr/>
            </p:nvSpPr>
            <p:spPr>
              <a:xfrm>
                <a:off x="4947480" y="5028840"/>
                <a:ext cx="327960" cy="7560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396" h="188">
                    <a:moveTo>
                      <a:pt x="38" y="50"/>
                    </a:moveTo>
                    <a:lnTo>
                      <a:pt x="3" y="93"/>
                    </a:lnTo>
                    <a:lnTo>
                      <a:pt x="0" y="125"/>
                    </a:lnTo>
                    <a:lnTo>
                      <a:pt x="13" y="158"/>
                    </a:lnTo>
                    <a:lnTo>
                      <a:pt x="58" y="175"/>
                    </a:lnTo>
                    <a:lnTo>
                      <a:pt x="150" y="188"/>
                    </a:lnTo>
                    <a:lnTo>
                      <a:pt x="205" y="178"/>
                    </a:lnTo>
                    <a:lnTo>
                      <a:pt x="289" y="155"/>
                    </a:lnTo>
                    <a:lnTo>
                      <a:pt x="344" y="138"/>
                    </a:lnTo>
                    <a:lnTo>
                      <a:pt x="370" y="128"/>
                    </a:lnTo>
                    <a:lnTo>
                      <a:pt x="374" y="83"/>
                    </a:lnTo>
                    <a:lnTo>
                      <a:pt x="396" y="0"/>
                    </a:lnTo>
                    <a:lnTo>
                      <a:pt x="364" y="73"/>
                    </a:lnTo>
                    <a:lnTo>
                      <a:pt x="345" y="113"/>
                    </a:lnTo>
                    <a:lnTo>
                      <a:pt x="270" y="138"/>
                    </a:lnTo>
                    <a:lnTo>
                      <a:pt x="193" y="160"/>
                    </a:lnTo>
                    <a:lnTo>
                      <a:pt x="123" y="170"/>
                    </a:lnTo>
                    <a:lnTo>
                      <a:pt x="70" y="153"/>
                    </a:lnTo>
                    <a:lnTo>
                      <a:pt x="35" y="135"/>
                    </a:lnTo>
                    <a:lnTo>
                      <a:pt x="33" y="118"/>
                    </a:lnTo>
                    <a:lnTo>
                      <a:pt x="33" y="80"/>
                    </a:lnTo>
                    <a:lnTo>
                      <a:pt x="38" y="5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Freeform 83"/>
              <p:cNvSpPr/>
              <p:nvPr/>
            </p:nvSpPr>
            <p:spPr>
              <a:xfrm>
                <a:off x="4989240" y="5018760"/>
                <a:ext cx="62640" cy="676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75" h="170">
                    <a:moveTo>
                      <a:pt x="75" y="0"/>
                    </a:moveTo>
                    <a:lnTo>
                      <a:pt x="28" y="32"/>
                    </a:lnTo>
                    <a:lnTo>
                      <a:pt x="5" y="67"/>
                    </a:lnTo>
                    <a:lnTo>
                      <a:pt x="0" y="95"/>
                    </a:lnTo>
                    <a:lnTo>
                      <a:pt x="0" y="125"/>
                    </a:lnTo>
                    <a:lnTo>
                      <a:pt x="8" y="165"/>
                    </a:lnTo>
                    <a:lnTo>
                      <a:pt x="28" y="170"/>
                    </a:lnTo>
                    <a:lnTo>
                      <a:pt x="13" y="127"/>
                    </a:lnTo>
                    <a:lnTo>
                      <a:pt x="20" y="85"/>
                    </a:lnTo>
                    <a:lnTo>
                      <a:pt x="53" y="4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Freeform 84"/>
              <p:cNvSpPr/>
              <p:nvPr/>
            </p:nvSpPr>
            <p:spPr>
              <a:xfrm>
                <a:off x="5022360" y="4942800"/>
                <a:ext cx="203400" cy="14436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45" h="362">
                    <a:moveTo>
                      <a:pt x="5" y="362"/>
                    </a:moveTo>
                    <a:lnTo>
                      <a:pt x="0" y="302"/>
                    </a:lnTo>
                    <a:lnTo>
                      <a:pt x="20" y="245"/>
                    </a:lnTo>
                    <a:lnTo>
                      <a:pt x="60" y="185"/>
                    </a:lnTo>
                    <a:lnTo>
                      <a:pt x="80" y="155"/>
                    </a:lnTo>
                    <a:lnTo>
                      <a:pt x="139" y="105"/>
                    </a:lnTo>
                    <a:lnTo>
                      <a:pt x="184" y="60"/>
                    </a:lnTo>
                    <a:lnTo>
                      <a:pt x="245" y="0"/>
                    </a:lnTo>
                    <a:lnTo>
                      <a:pt x="160" y="105"/>
                    </a:lnTo>
                    <a:lnTo>
                      <a:pt x="100" y="170"/>
                    </a:lnTo>
                    <a:lnTo>
                      <a:pt x="45" y="242"/>
                    </a:lnTo>
                    <a:lnTo>
                      <a:pt x="25" y="297"/>
                    </a:lnTo>
                    <a:lnTo>
                      <a:pt x="5" y="36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Freeform 85"/>
              <p:cNvSpPr/>
              <p:nvPr/>
            </p:nvSpPr>
            <p:spPr>
              <a:xfrm>
                <a:off x="5051880" y="5011560"/>
                <a:ext cx="231840" cy="75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281" h="190">
                    <a:moveTo>
                      <a:pt x="8" y="130"/>
                    </a:moveTo>
                    <a:lnTo>
                      <a:pt x="0" y="175"/>
                    </a:lnTo>
                    <a:lnTo>
                      <a:pt x="20" y="190"/>
                    </a:lnTo>
                    <a:lnTo>
                      <a:pt x="109" y="178"/>
                    </a:lnTo>
                    <a:lnTo>
                      <a:pt x="185" y="150"/>
                    </a:lnTo>
                    <a:lnTo>
                      <a:pt x="215" y="90"/>
                    </a:lnTo>
                    <a:lnTo>
                      <a:pt x="281" y="0"/>
                    </a:lnTo>
                    <a:lnTo>
                      <a:pt x="185" y="98"/>
                    </a:lnTo>
                    <a:lnTo>
                      <a:pt x="130" y="155"/>
                    </a:lnTo>
                    <a:lnTo>
                      <a:pt x="38" y="173"/>
                    </a:lnTo>
                    <a:lnTo>
                      <a:pt x="8" y="1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Freeform 86"/>
              <p:cNvSpPr/>
              <p:nvPr/>
            </p:nvSpPr>
            <p:spPr>
              <a:xfrm>
                <a:off x="5071680" y="5028840"/>
                <a:ext cx="147600" cy="396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9" h="100">
                    <a:moveTo>
                      <a:pt x="5" y="35"/>
                    </a:moveTo>
                    <a:lnTo>
                      <a:pt x="0" y="85"/>
                    </a:lnTo>
                    <a:lnTo>
                      <a:pt x="10" y="100"/>
                    </a:lnTo>
                    <a:lnTo>
                      <a:pt x="54" y="97"/>
                    </a:lnTo>
                    <a:lnTo>
                      <a:pt x="109" y="55"/>
                    </a:lnTo>
                    <a:lnTo>
                      <a:pt x="179" y="0"/>
                    </a:lnTo>
                    <a:lnTo>
                      <a:pt x="95" y="42"/>
                    </a:lnTo>
                    <a:lnTo>
                      <a:pt x="30" y="72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Freeform 87"/>
              <p:cNvSpPr/>
              <p:nvPr/>
            </p:nvSpPr>
            <p:spPr>
              <a:xfrm>
                <a:off x="5096520" y="4940280"/>
                <a:ext cx="218520" cy="10044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264" h="252">
                    <a:moveTo>
                      <a:pt x="8" y="252"/>
                    </a:moveTo>
                    <a:lnTo>
                      <a:pt x="0" y="222"/>
                    </a:lnTo>
                    <a:lnTo>
                      <a:pt x="40" y="172"/>
                    </a:lnTo>
                    <a:lnTo>
                      <a:pt x="80" y="130"/>
                    </a:lnTo>
                    <a:lnTo>
                      <a:pt x="179" y="75"/>
                    </a:lnTo>
                    <a:lnTo>
                      <a:pt x="264" y="0"/>
                    </a:lnTo>
                    <a:lnTo>
                      <a:pt x="199" y="80"/>
                    </a:lnTo>
                    <a:lnTo>
                      <a:pt x="94" y="142"/>
                    </a:lnTo>
                    <a:lnTo>
                      <a:pt x="55" y="185"/>
                    </a:lnTo>
                    <a:lnTo>
                      <a:pt x="8" y="25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Freeform 88"/>
              <p:cNvSpPr/>
              <p:nvPr/>
            </p:nvSpPr>
            <p:spPr>
              <a:xfrm>
                <a:off x="5132880" y="4957200"/>
                <a:ext cx="231840" cy="8532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85320"/>
                  <a:gd name="textAreaBottom" fmla="*/ 85320 h 85320"/>
                </a:gdLst>
                <a:ahLst/>
                <a:rect l="textAreaLeft" t="textAreaTop" r="textAreaRight" b="textAreaBottom"/>
                <a:pathLst>
                  <a:path w="280" h="213">
                    <a:moveTo>
                      <a:pt x="0" y="213"/>
                    </a:moveTo>
                    <a:lnTo>
                      <a:pt x="70" y="170"/>
                    </a:lnTo>
                    <a:lnTo>
                      <a:pt x="155" y="120"/>
                    </a:lnTo>
                    <a:lnTo>
                      <a:pt x="220" y="83"/>
                    </a:lnTo>
                    <a:lnTo>
                      <a:pt x="280" y="0"/>
                    </a:lnTo>
                    <a:lnTo>
                      <a:pt x="220" y="58"/>
                    </a:lnTo>
                    <a:lnTo>
                      <a:pt x="180" y="80"/>
                    </a:lnTo>
                    <a:lnTo>
                      <a:pt x="95" y="113"/>
                    </a:lnTo>
                    <a:lnTo>
                      <a:pt x="36" y="15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Freeform 89"/>
              <p:cNvSpPr/>
              <p:nvPr/>
            </p:nvSpPr>
            <p:spPr>
              <a:xfrm>
                <a:off x="5636880" y="4991400"/>
                <a:ext cx="105840" cy="47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9" h="120">
                    <a:moveTo>
                      <a:pt x="0" y="120"/>
                    </a:moveTo>
                    <a:lnTo>
                      <a:pt x="35" y="65"/>
                    </a:lnTo>
                    <a:lnTo>
                      <a:pt x="111" y="10"/>
                    </a:lnTo>
                    <a:lnTo>
                      <a:pt x="129" y="0"/>
                    </a:lnTo>
                    <a:lnTo>
                      <a:pt x="74" y="6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90"/>
              <p:cNvSpPr/>
              <p:nvPr/>
            </p:nvSpPr>
            <p:spPr>
              <a:xfrm>
                <a:off x="5630040" y="4873320"/>
                <a:ext cx="379080" cy="1116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57" h="281">
                    <a:moveTo>
                      <a:pt x="0" y="281"/>
                    </a:moveTo>
                    <a:lnTo>
                      <a:pt x="65" y="231"/>
                    </a:lnTo>
                    <a:lnTo>
                      <a:pt x="150" y="179"/>
                    </a:lnTo>
                    <a:lnTo>
                      <a:pt x="287" y="126"/>
                    </a:lnTo>
                    <a:lnTo>
                      <a:pt x="372" y="54"/>
                    </a:lnTo>
                    <a:lnTo>
                      <a:pt x="457" y="0"/>
                    </a:lnTo>
                    <a:lnTo>
                      <a:pt x="340" y="49"/>
                    </a:lnTo>
                    <a:lnTo>
                      <a:pt x="275" y="106"/>
                    </a:lnTo>
                    <a:lnTo>
                      <a:pt x="175" y="151"/>
                    </a:lnTo>
                    <a:lnTo>
                      <a:pt x="112" y="181"/>
                    </a:lnTo>
                    <a:lnTo>
                      <a:pt x="26" y="23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Freeform 91"/>
              <p:cNvSpPr/>
              <p:nvPr/>
            </p:nvSpPr>
            <p:spPr>
              <a:xfrm>
                <a:off x="5822280" y="4847760"/>
                <a:ext cx="319320" cy="9972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387" h="251">
                    <a:moveTo>
                      <a:pt x="0" y="251"/>
                    </a:moveTo>
                    <a:lnTo>
                      <a:pt x="95" y="209"/>
                    </a:lnTo>
                    <a:lnTo>
                      <a:pt x="192" y="139"/>
                    </a:lnTo>
                    <a:lnTo>
                      <a:pt x="322" y="54"/>
                    </a:lnTo>
                    <a:lnTo>
                      <a:pt x="387" y="0"/>
                    </a:lnTo>
                    <a:lnTo>
                      <a:pt x="301" y="49"/>
                    </a:lnTo>
                    <a:lnTo>
                      <a:pt x="202" y="111"/>
                    </a:lnTo>
                    <a:lnTo>
                      <a:pt x="115" y="171"/>
                    </a:lnTo>
                    <a:lnTo>
                      <a:pt x="75" y="204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Freeform 92"/>
              <p:cNvSpPr/>
              <p:nvPr/>
            </p:nvSpPr>
            <p:spPr>
              <a:xfrm>
                <a:off x="5337000" y="4817160"/>
                <a:ext cx="198360" cy="1436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240" h="361">
                    <a:moveTo>
                      <a:pt x="0" y="361"/>
                    </a:moveTo>
                    <a:lnTo>
                      <a:pt x="77" y="291"/>
                    </a:lnTo>
                    <a:lnTo>
                      <a:pt x="152" y="199"/>
                    </a:lnTo>
                    <a:lnTo>
                      <a:pt x="202" y="140"/>
                    </a:lnTo>
                    <a:lnTo>
                      <a:pt x="217" y="69"/>
                    </a:lnTo>
                    <a:lnTo>
                      <a:pt x="240" y="0"/>
                    </a:lnTo>
                    <a:lnTo>
                      <a:pt x="195" y="74"/>
                    </a:lnTo>
                    <a:lnTo>
                      <a:pt x="185" y="130"/>
                    </a:lnTo>
                    <a:lnTo>
                      <a:pt x="112" y="214"/>
                    </a:lnTo>
                    <a:lnTo>
                      <a:pt x="62" y="299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Freeform 93"/>
              <p:cNvSpPr/>
              <p:nvPr/>
            </p:nvSpPr>
            <p:spPr>
              <a:xfrm>
                <a:off x="5257440" y="4877280"/>
                <a:ext cx="157320" cy="6768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0" h="169">
                    <a:moveTo>
                      <a:pt x="0" y="169"/>
                    </a:moveTo>
                    <a:lnTo>
                      <a:pt x="90" y="111"/>
                    </a:lnTo>
                    <a:lnTo>
                      <a:pt x="190" y="0"/>
                    </a:lnTo>
                    <a:lnTo>
                      <a:pt x="92" y="76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Freeform 94"/>
              <p:cNvSpPr/>
              <p:nvPr/>
            </p:nvSpPr>
            <p:spPr>
              <a:xfrm>
                <a:off x="5444280" y="4719960"/>
                <a:ext cx="167400" cy="119880"/>
              </a:xfrm>
              <a:custGeom>
                <a:avLst/>
                <a:gdLst>
                  <a:gd name="textAreaLeft" fmla="*/ 0 w 167400"/>
                  <a:gd name="textAreaRight" fmla="*/ 167400 w 1674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02" h="300">
                    <a:moveTo>
                      <a:pt x="0" y="300"/>
                    </a:moveTo>
                    <a:lnTo>
                      <a:pt x="80" y="224"/>
                    </a:lnTo>
                    <a:lnTo>
                      <a:pt x="147" y="113"/>
                    </a:lnTo>
                    <a:lnTo>
                      <a:pt x="151" y="50"/>
                    </a:lnTo>
                    <a:lnTo>
                      <a:pt x="166" y="13"/>
                    </a:lnTo>
                    <a:lnTo>
                      <a:pt x="202" y="0"/>
                    </a:lnTo>
                    <a:lnTo>
                      <a:pt x="142" y="23"/>
                    </a:lnTo>
                    <a:lnTo>
                      <a:pt x="132" y="58"/>
                    </a:lnTo>
                    <a:lnTo>
                      <a:pt x="120" y="105"/>
                    </a:lnTo>
                    <a:lnTo>
                      <a:pt x="100" y="175"/>
                    </a:lnTo>
                    <a:lnTo>
                      <a:pt x="62" y="224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6" name="Freeform 95"/>
            <p:cNvSpPr/>
            <p:nvPr/>
          </p:nvSpPr>
          <p:spPr>
            <a:xfrm>
              <a:off x="2819520" y="3886200"/>
              <a:ext cx="4114440" cy="122688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4970" h="3074">
                  <a:moveTo>
                    <a:pt x="922" y="2553"/>
                  </a:moveTo>
                  <a:lnTo>
                    <a:pt x="962" y="2443"/>
                  </a:lnTo>
                  <a:lnTo>
                    <a:pt x="1052" y="2423"/>
                  </a:lnTo>
                  <a:lnTo>
                    <a:pt x="1072" y="2353"/>
                  </a:lnTo>
                  <a:lnTo>
                    <a:pt x="1153" y="2353"/>
                  </a:lnTo>
                  <a:lnTo>
                    <a:pt x="1122" y="2283"/>
                  </a:lnTo>
                  <a:lnTo>
                    <a:pt x="1163" y="2223"/>
                  </a:lnTo>
                  <a:lnTo>
                    <a:pt x="1112" y="2143"/>
                  </a:lnTo>
                  <a:lnTo>
                    <a:pt x="1173" y="2103"/>
                  </a:lnTo>
                  <a:lnTo>
                    <a:pt x="1122" y="2013"/>
                  </a:lnTo>
                  <a:lnTo>
                    <a:pt x="1233" y="1993"/>
                  </a:lnTo>
                  <a:lnTo>
                    <a:pt x="1233" y="1923"/>
                  </a:lnTo>
                  <a:lnTo>
                    <a:pt x="1353" y="1943"/>
                  </a:lnTo>
                  <a:lnTo>
                    <a:pt x="1393" y="1862"/>
                  </a:lnTo>
                  <a:lnTo>
                    <a:pt x="1443" y="1812"/>
                  </a:lnTo>
                  <a:lnTo>
                    <a:pt x="1573" y="1822"/>
                  </a:lnTo>
                  <a:lnTo>
                    <a:pt x="1613" y="1762"/>
                  </a:lnTo>
                  <a:lnTo>
                    <a:pt x="1714" y="1762"/>
                  </a:lnTo>
                  <a:lnTo>
                    <a:pt x="1784" y="1682"/>
                  </a:lnTo>
                  <a:lnTo>
                    <a:pt x="1854" y="1762"/>
                  </a:lnTo>
                  <a:lnTo>
                    <a:pt x="1974" y="1722"/>
                  </a:lnTo>
                  <a:lnTo>
                    <a:pt x="2014" y="1802"/>
                  </a:lnTo>
                  <a:lnTo>
                    <a:pt x="2134" y="1782"/>
                  </a:lnTo>
                  <a:lnTo>
                    <a:pt x="2184" y="1832"/>
                  </a:lnTo>
                  <a:lnTo>
                    <a:pt x="2245" y="1762"/>
                  </a:lnTo>
                  <a:lnTo>
                    <a:pt x="2335" y="1752"/>
                  </a:lnTo>
                  <a:lnTo>
                    <a:pt x="2335" y="1652"/>
                  </a:lnTo>
                  <a:lnTo>
                    <a:pt x="2425" y="1662"/>
                  </a:lnTo>
                  <a:lnTo>
                    <a:pt x="2405" y="1722"/>
                  </a:lnTo>
                  <a:lnTo>
                    <a:pt x="2475" y="1752"/>
                  </a:lnTo>
                  <a:lnTo>
                    <a:pt x="2475" y="1832"/>
                  </a:lnTo>
                  <a:lnTo>
                    <a:pt x="2555" y="1852"/>
                  </a:lnTo>
                  <a:lnTo>
                    <a:pt x="2575" y="1913"/>
                  </a:lnTo>
                  <a:lnTo>
                    <a:pt x="2655" y="1913"/>
                  </a:lnTo>
                  <a:lnTo>
                    <a:pt x="2705" y="1993"/>
                  </a:lnTo>
                  <a:lnTo>
                    <a:pt x="2625" y="2043"/>
                  </a:lnTo>
                  <a:lnTo>
                    <a:pt x="2575" y="2003"/>
                  </a:lnTo>
                  <a:lnTo>
                    <a:pt x="2555" y="2093"/>
                  </a:lnTo>
                  <a:lnTo>
                    <a:pt x="2485" y="2103"/>
                  </a:lnTo>
                  <a:lnTo>
                    <a:pt x="2485" y="2183"/>
                  </a:lnTo>
                  <a:lnTo>
                    <a:pt x="2425" y="2213"/>
                  </a:lnTo>
                  <a:lnTo>
                    <a:pt x="2425" y="2323"/>
                  </a:lnTo>
                  <a:lnTo>
                    <a:pt x="2315" y="2363"/>
                  </a:lnTo>
                  <a:lnTo>
                    <a:pt x="2235" y="2343"/>
                  </a:lnTo>
                  <a:lnTo>
                    <a:pt x="2124" y="2313"/>
                  </a:lnTo>
                  <a:lnTo>
                    <a:pt x="2174" y="2263"/>
                  </a:lnTo>
                  <a:lnTo>
                    <a:pt x="2104" y="2253"/>
                  </a:lnTo>
                  <a:lnTo>
                    <a:pt x="2164" y="2153"/>
                  </a:lnTo>
                  <a:lnTo>
                    <a:pt x="2104" y="2103"/>
                  </a:lnTo>
                  <a:lnTo>
                    <a:pt x="2144" y="2023"/>
                  </a:lnTo>
                  <a:lnTo>
                    <a:pt x="2084" y="1923"/>
                  </a:lnTo>
                  <a:lnTo>
                    <a:pt x="2014" y="1893"/>
                  </a:lnTo>
                  <a:lnTo>
                    <a:pt x="1894" y="1913"/>
                  </a:lnTo>
                  <a:lnTo>
                    <a:pt x="1834" y="1842"/>
                  </a:lnTo>
                  <a:lnTo>
                    <a:pt x="1794" y="1913"/>
                  </a:lnTo>
                  <a:lnTo>
                    <a:pt x="1734" y="2023"/>
                  </a:lnTo>
                  <a:lnTo>
                    <a:pt x="1643" y="2083"/>
                  </a:lnTo>
                  <a:lnTo>
                    <a:pt x="1613" y="2183"/>
                  </a:lnTo>
                  <a:lnTo>
                    <a:pt x="1523" y="2183"/>
                  </a:lnTo>
                  <a:lnTo>
                    <a:pt x="1423" y="2173"/>
                  </a:lnTo>
                  <a:lnTo>
                    <a:pt x="1353" y="2213"/>
                  </a:lnTo>
                  <a:lnTo>
                    <a:pt x="1283" y="2183"/>
                  </a:lnTo>
                  <a:lnTo>
                    <a:pt x="1313" y="2283"/>
                  </a:lnTo>
                  <a:lnTo>
                    <a:pt x="1303" y="2383"/>
                  </a:lnTo>
                  <a:lnTo>
                    <a:pt x="1253" y="2433"/>
                  </a:lnTo>
                  <a:lnTo>
                    <a:pt x="1273" y="2543"/>
                  </a:lnTo>
                  <a:lnTo>
                    <a:pt x="1313" y="2593"/>
                  </a:lnTo>
                  <a:lnTo>
                    <a:pt x="1273" y="2653"/>
                  </a:lnTo>
                  <a:lnTo>
                    <a:pt x="1313" y="2723"/>
                  </a:lnTo>
                  <a:lnTo>
                    <a:pt x="1303" y="2794"/>
                  </a:lnTo>
                  <a:lnTo>
                    <a:pt x="1403" y="2784"/>
                  </a:lnTo>
                  <a:lnTo>
                    <a:pt x="1473" y="2854"/>
                  </a:lnTo>
                  <a:lnTo>
                    <a:pt x="1553" y="2844"/>
                  </a:lnTo>
                  <a:lnTo>
                    <a:pt x="1623" y="2894"/>
                  </a:lnTo>
                  <a:lnTo>
                    <a:pt x="1633" y="2804"/>
                  </a:lnTo>
                  <a:lnTo>
                    <a:pt x="1653" y="2743"/>
                  </a:lnTo>
                  <a:lnTo>
                    <a:pt x="1724" y="2663"/>
                  </a:lnTo>
                  <a:lnTo>
                    <a:pt x="1884" y="2703"/>
                  </a:lnTo>
                  <a:lnTo>
                    <a:pt x="1944" y="2643"/>
                  </a:lnTo>
                  <a:lnTo>
                    <a:pt x="2084" y="2643"/>
                  </a:lnTo>
                  <a:lnTo>
                    <a:pt x="2134" y="2583"/>
                  </a:lnTo>
                  <a:lnTo>
                    <a:pt x="2225" y="2603"/>
                  </a:lnTo>
                  <a:lnTo>
                    <a:pt x="2305" y="2523"/>
                  </a:lnTo>
                  <a:lnTo>
                    <a:pt x="2345" y="2543"/>
                  </a:lnTo>
                  <a:lnTo>
                    <a:pt x="2395" y="2453"/>
                  </a:lnTo>
                  <a:lnTo>
                    <a:pt x="2475" y="2433"/>
                  </a:lnTo>
                  <a:lnTo>
                    <a:pt x="2475" y="2383"/>
                  </a:lnTo>
                  <a:lnTo>
                    <a:pt x="2535" y="2403"/>
                  </a:lnTo>
                  <a:lnTo>
                    <a:pt x="2545" y="2313"/>
                  </a:lnTo>
                  <a:lnTo>
                    <a:pt x="2635" y="2313"/>
                  </a:lnTo>
                  <a:lnTo>
                    <a:pt x="2665" y="2213"/>
                  </a:lnTo>
                  <a:lnTo>
                    <a:pt x="2745" y="2273"/>
                  </a:lnTo>
                  <a:lnTo>
                    <a:pt x="2856" y="2233"/>
                  </a:lnTo>
                  <a:lnTo>
                    <a:pt x="2926" y="2283"/>
                  </a:lnTo>
                  <a:lnTo>
                    <a:pt x="3016" y="2243"/>
                  </a:lnTo>
                  <a:lnTo>
                    <a:pt x="3076" y="2293"/>
                  </a:lnTo>
                  <a:lnTo>
                    <a:pt x="3156" y="2253"/>
                  </a:lnTo>
                  <a:lnTo>
                    <a:pt x="3276" y="2263"/>
                  </a:lnTo>
                  <a:lnTo>
                    <a:pt x="3377" y="2313"/>
                  </a:lnTo>
                  <a:lnTo>
                    <a:pt x="3467" y="2253"/>
                  </a:lnTo>
                  <a:lnTo>
                    <a:pt x="3587" y="2283"/>
                  </a:lnTo>
                  <a:lnTo>
                    <a:pt x="3677" y="2333"/>
                  </a:lnTo>
                  <a:lnTo>
                    <a:pt x="3677" y="2413"/>
                  </a:lnTo>
                  <a:lnTo>
                    <a:pt x="3767" y="2373"/>
                  </a:lnTo>
                  <a:lnTo>
                    <a:pt x="3858" y="2453"/>
                  </a:lnTo>
                  <a:lnTo>
                    <a:pt x="3958" y="2453"/>
                  </a:lnTo>
                  <a:lnTo>
                    <a:pt x="4008" y="2523"/>
                  </a:lnTo>
                  <a:lnTo>
                    <a:pt x="4098" y="2483"/>
                  </a:lnTo>
                  <a:lnTo>
                    <a:pt x="4178" y="2533"/>
                  </a:lnTo>
                  <a:lnTo>
                    <a:pt x="4248" y="2633"/>
                  </a:lnTo>
                  <a:lnTo>
                    <a:pt x="4168" y="2683"/>
                  </a:lnTo>
                  <a:lnTo>
                    <a:pt x="4218" y="2743"/>
                  </a:lnTo>
                  <a:lnTo>
                    <a:pt x="4198" y="2824"/>
                  </a:lnTo>
                  <a:lnTo>
                    <a:pt x="4278" y="2834"/>
                  </a:lnTo>
                  <a:lnTo>
                    <a:pt x="4278" y="2904"/>
                  </a:lnTo>
                  <a:lnTo>
                    <a:pt x="4379" y="2904"/>
                  </a:lnTo>
                  <a:lnTo>
                    <a:pt x="4399" y="2984"/>
                  </a:lnTo>
                  <a:lnTo>
                    <a:pt x="4489" y="3004"/>
                  </a:lnTo>
                  <a:lnTo>
                    <a:pt x="4539" y="3074"/>
                  </a:lnTo>
                  <a:lnTo>
                    <a:pt x="4599" y="3014"/>
                  </a:lnTo>
                  <a:lnTo>
                    <a:pt x="4619" y="2884"/>
                  </a:lnTo>
                  <a:lnTo>
                    <a:pt x="4759" y="2814"/>
                  </a:lnTo>
                  <a:lnTo>
                    <a:pt x="4759" y="2713"/>
                  </a:lnTo>
                  <a:lnTo>
                    <a:pt x="4809" y="2663"/>
                  </a:lnTo>
                  <a:lnTo>
                    <a:pt x="4829" y="2553"/>
                  </a:lnTo>
                  <a:lnTo>
                    <a:pt x="4920" y="2493"/>
                  </a:lnTo>
                  <a:lnTo>
                    <a:pt x="4869" y="2403"/>
                  </a:lnTo>
                  <a:lnTo>
                    <a:pt x="4930" y="2333"/>
                  </a:lnTo>
                  <a:lnTo>
                    <a:pt x="4900" y="2243"/>
                  </a:lnTo>
                  <a:lnTo>
                    <a:pt x="4970" y="2183"/>
                  </a:lnTo>
                  <a:lnTo>
                    <a:pt x="4930" y="2123"/>
                  </a:lnTo>
                  <a:lnTo>
                    <a:pt x="4950" y="2053"/>
                  </a:lnTo>
                  <a:lnTo>
                    <a:pt x="4869" y="2053"/>
                  </a:lnTo>
                  <a:lnTo>
                    <a:pt x="4849" y="1963"/>
                  </a:lnTo>
                  <a:lnTo>
                    <a:pt x="4769" y="1963"/>
                  </a:lnTo>
                  <a:lnTo>
                    <a:pt x="4769" y="1903"/>
                  </a:lnTo>
                  <a:lnTo>
                    <a:pt x="4699" y="1842"/>
                  </a:lnTo>
                  <a:lnTo>
                    <a:pt x="4749" y="1762"/>
                  </a:lnTo>
                  <a:lnTo>
                    <a:pt x="4719" y="1692"/>
                  </a:lnTo>
                  <a:lnTo>
                    <a:pt x="4799" y="1622"/>
                  </a:lnTo>
                  <a:lnTo>
                    <a:pt x="4749" y="1592"/>
                  </a:lnTo>
                  <a:lnTo>
                    <a:pt x="4769" y="1502"/>
                  </a:lnTo>
                  <a:lnTo>
                    <a:pt x="4659" y="1402"/>
                  </a:lnTo>
                  <a:lnTo>
                    <a:pt x="4599" y="1352"/>
                  </a:lnTo>
                  <a:lnTo>
                    <a:pt x="4559" y="1452"/>
                  </a:lnTo>
                  <a:lnTo>
                    <a:pt x="4459" y="1462"/>
                  </a:lnTo>
                  <a:lnTo>
                    <a:pt x="4479" y="1562"/>
                  </a:lnTo>
                  <a:lnTo>
                    <a:pt x="4429" y="1602"/>
                  </a:lnTo>
                  <a:lnTo>
                    <a:pt x="4409" y="1662"/>
                  </a:lnTo>
                  <a:lnTo>
                    <a:pt x="4338" y="1612"/>
                  </a:lnTo>
                  <a:lnTo>
                    <a:pt x="4338" y="1492"/>
                  </a:lnTo>
                  <a:lnTo>
                    <a:pt x="4278" y="1522"/>
                  </a:lnTo>
                  <a:lnTo>
                    <a:pt x="4278" y="1432"/>
                  </a:lnTo>
                  <a:lnTo>
                    <a:pt x="4188" y="1472"/>
                  </a:lnTo>
                  <a:lnTo>
                    <a:pt x="4088" y="1462"/>
                  </a:lnTo>
                  <a:lnTo>
                    <a:pt x="4118" y="1392"/>
                  </a:lnTo>
                  <a:lnTo>
                    <a:pt x="4148" y="1302"/>
                  </a:lnTo>
                  <a:lnTo>
                    <a:pt x="4228" y="1332"/>
                  </a:lnTo>
                  <a:lnTo>
                    <a:pt x="4278" y="1302"/>
                  </a:lnTo>
                  <a:lnTo>
                    <a:pt x="4348" y="1312"/>
                  </a:lnTo>
                  <a:lnTo>
                    <a:pt x="4419" y="1372"/>
                  </a:lnTo>
                  <a:lnTo>
                    <a:pt x="4429" y="1292"/>
                  </a:lnTo>
                  <a:lnTo>
                    <a:pt x="4509" y="1282"/>
                  </a:lnTo>
                  <a:lnTo>
                    <a:pt x="4559" y="1182"/>
                  </a:lnTo>
                  <a:lnTo>
                    <a:pt x="4499" y="1182"/>
                  </a:lnTo>
                  <a:lnTo>
                    <a:pt x="4469" y="1102"/>
                  </a:lnTo>
                  <a:lnTo>
                    <a:pt x="4369" y="1132"/>
                  </a:lnTo>
                  <a:lnTo>
                    <a:pt x="4328" y="1032"/>
                  </a:lnTo>
                  <a:lnTo>
                    <a:pt x="4238" y="1042"/>
                  </a:lnTo>
                  <a:lnTo>
                    <a:pt x="4228" y="951"/>
                  </a:lnTo>
                  <a:lnTo>
                    <a:pt x="4188" y="821"/>
                  </a:lnTo>
                  <a:lnTo>
                    <a:pt x="4068" y="801"/>
                  </a:lnTo>
                  <a:lnTo>
                    <a:pt x="4018" y="731"/>
                  </a:lnTo>
                  <a:lnTo>
                    <a:pt x="3918" y="761"/>
                  </a:lnTo>
                  <a:lnTo>
                    <a:pt x="3807" y="741"/>
                  </a:lnTo>
                  <a:lnTo>
                    <a:pt x="3777" y="801"/>
                  </a:lnTo>
                  <a:lnTo>
                    <a:pt x="3717" y="781"/>
                  </a:lnTo>
                  <a:lnTo>
                    <a:pt x="3647" y="701"/>
                  </a:lnTo>
                  <a:lnTo>
                    <a:pt x="3657" y="621"/>
                  </a:lnTo>
                  <a:lnTo>
                    <a:pt x="3637" y="541"/>
                  </a:lnTo>
                  <a:lnTo>
                    <a:pt x="3557" y="481"/>
                  </a:lnTo>
                  <a:lnTo>
                    <a:pt x="3567" y="361"/>
                  </a:lnTo>
                  <a:lnTo>
                    <a:pt x="3497" y="301"/>
                  </a:lnTo>
                  <a:lnTo>
                    <a:pt x="3487" y="231"/>
                  </a:lnTo>
                  <a:lnTo>
                    <a:pt x="3407" y="281"/>
                  </a:lnTo>
                  <a:lnTo>
                    <a:pt x="3327" y="241"/>
                  </a:lnTo>
                  <a:lnTo>
                    <a:pt x="3256" y="311"/>
                  </a:lnTo>
                  <a:lnTo>
                    <a:pt x="3206" y="271"/>
                  </a:lnTo>
                  <a:lnTo>
                    <a:pt x="3066" y="291"/>
                  </a:lnTo>
                  <a:lnTo>
                    <a:pt x="2976" y="231"/>
                  </a:lnTo>
                  <a:lnTo>
                    <a:pt x="2986" y="171"/>
                  </a:lnTo>
                  <a:lnTo>
                    <a:pt x="2906" y="211"/>
                  </a:lnTo>
                  <a:lnTo>
                    <a:pt x="2856" y="151"/>
                  </a:lnTo>
                  <a:lnTo>
                    <a:pt x="2756" y="161"/>
                  </a:lnTo>
                  <a:lnTo>
                    <a:pt x="2715" y="90"/>
                  </a:lnTo>
                  <a:lnTo>
                    <a:pt x="2595" y="100"/>
                  </a:lnTo>
                  <a:lnTo>
                    <a:pt x="2545" y="20"/>
                  </a:lnTo>
                  <a:lnTo>
                    <a:pt x="2465" y="60"/>
                  </a:lnTo>
                  <a:lnTo>
                    <a:pt x="2375" y="20"/>
                  </a:lnTo>
                  <a:lnTo>
                    <a:pt x="2315" y="60"/>
                  </a:lnTo>
                  <a:lnTo>
                    <a:pt x="2235" y="0"/>
                  </a:lnTo>
                  <a:lnTo>
                    <a:pt x="2225" y="110"/>
                  </a:lnTo>
                  <a:lnTo>
                    <a:pt x="2144" y="130"/>
                  </a:lnTo>
                  <a:lnTo>
                    <a:pt x="2084" y="221"/>
                  </a:lnTo>
                  <a:lnTo>
                    <a:pt x="1984" y="191"/>
                  </a:lnTo>
                  <a:lnTo>
                    <a:pt x="1904" y="241"/>
                  </a:lnTo>
                  <a:lnTo>
                    <a:pt x="1804" y="201"/>
                  </a:lnTo>
                  <a:lnTo>
                    <a:pt x="1694" y="261"/>
                  </a:lnTo>
                  <a:lnTo>
                    <a:pt x="1593" y="201"/>
                  </a:lnTo>
                  <a:lnTo>
                    <a:pt x="1483" y="261"/>
                  </a:lnTo>
                  <a:lnTo>
                    <a:pt x="1353" y="201"/>
                  </a:lnTo>
                  <a:lnTo>
                    <a:pt x="1283" y="291"/>
                  </a:lnTo>
                  <a:lnTo>
                    <a:pt x="1193" y="241"/>
                  </a:lnTo>
                  <a:lnTo>
                    <a:pt x="1102" y="271"/>
                  </a:lnTo>
                  <a:lnTo>
                    <a:pt x="1002" y="241"/>
                  </a:lnTo>
                  <a:lnTo>
                    <a:pt x="1032" y="361"/>
                  </a:lnTo>
                  <a:lnTo>
                    <a:pt x="952" y="411"/>
                  </a:lnTo>
                  <a:lnTo>
                    <a:pt x="982" y="491"/>
                  </a:lnTo>
                  <a:lnTo>
                    <a:pt x="942" y="611"/>
                  </a:lnTo>
                  <a:lnTo>
                    <a:pt x="1012" y="661"/>
                  </a:lnTo>
                  <a:lnTo>
                    <a:pt x="922" y="741"/>
                  </a:lnTo>
                  <a:lnTo>
                    <a:pt x="802" y="791"/>
                  </a:lnTo>
                  <a:lnTo>
                    <a:pt x="712" y="871"/>
                  </a:lnTo>
                  <a:lnTo>
                    <a:pt x="581" y="871"/>
                  </a:lnTo>
                  <a:lnTo>
                    <a:pt x="541" y="941"/>
                  </a:lnTo>
                  <a:lnTo>
                    <a:pt x="481" y="921"/>
                  </a:lnTo>
                  <a:lnTo>
                    <a:pt x="421" y="1012"/>
                  </a:lnTo>
                  <a:lnTo>
                    <a:pt x="341" y="1062"/>
                  </a:lnTo>
                  <a:lnTo>
                    <a:pt x="351" y="1132"/>
                  </a:lnTo>
                  <a:lnTo>
                    <a:pt x="281" y="1162"/>
                  </a:lnTo>
                  <a:lnTo>
                    <a:pt x="291" y="1262"/>
                  </a:lnTo>
                  <a:lnTo>
                    <a:pt x="221" y="1302"/>
                  </a:lnTo>
                  <a:lnTo>
                    <a:pt x="291" y="1372"/>
                  </a:lnTo>
                  <a:lnTo>
                    <a:pt x="281" y="1452"/>
                  </a:lnTo>
                  <a:lnTo>
                    <a:pt x="361" y="1482"/>
                  </a:lnTo>
                  <a:lnTo>
                    <a:pt x="361" y="1562"/>
                  </a:lnTo>
                  <a:lnTo>
                    <a:pt x="441" y="1652"/>
                  </a:lnTo>
                  <a:lnTo>
                    <a:pt x="351" y="1682"/>
                  </a:lnTo>
                  <a:lnTo>
                    <a:pt x="261" y="1652"/>
                  </a:lnTo>
                  <a:lnTo>
                    <a:pt x="261" y="1722"/>
                  </a:lnTo>
                  <a:lnTo>
                    <a:pt x="191" y="1762"/>
                  </a:lnTo>
                  <a:lnTo>
                    <a:pt x="191" y="1852"/>
                  </a:lnTo>
                  <a:lnTo>
                    <a:pt x="121" y="1883"/>
                  </a:lnTo>
                  <a:lnTo>
                    <a:pt x="171" y="1943"/>
                  </a:lnTo>
                  <a:lnTo>
                    <a:pt x="141" y="2003"/>
                  </a:lnTo>
                  <a:lnTo>
                    <a:pt x="181" y="2063"/>
                  </a:lnTo>
                  <a:lnTo>
                    <a:pt x="161" y="2173"/>
                  </a:lnTo>
                  <a:lnTo>
                    <a:pt x="141" y="2293"/>
                  </a:lnTo>
                  <a:lnTo>
                    <a:pt x="91" y="2333"/>
                  </a:lnTo>
                  <a:lnTo>
                    <a:pt x="91" y="2433"/>
                  </a:lnTo>
                  <a:lnTo>
                    <a:pt x="0" y="2483"/>
                  </a:lnTo>
                  <a:lnTo>
                    <a:pt x="101" y="2533"/>
                  </a:lnTo>
                  <a:lnTo>
                    <a:pt x="91" y="2613"/>
                  </a:lnTo>
                  <a:lnTo>
                    <a:pt x="171" y="2633"/>
                  </a:lnTo>
                  <a:lnTo>
                    <a:pt x="201" y="2713"/>
                  </a:lnTo>
                  <a:lnTo>
                    <a:pt x="281" y="2713"/>
                  </a:lnTo>
                  <a:lnTo>
                    <a:pt x="301" y="2794"/>
                  </a:lnTo>
                  <a:lnTo>
                    <a:pt x="441" y="2764"/>
                  </a:lnTo>
                  <a:lnTo>
                    <a:pt x="531" y="2824"/>
                  </a:lnTo>
                  <a:lnTo>
                    <a:pt x="652" y="2764"/>
                  </a:lnTo>
                  <a:lnTo>
                    <a:pt x="742" y="2814"/>
                  </a:lnTo>
                  <a:lnTo>
                    <a:pt x="772" y="2743"/>
                  </a:lnTo>
                  <a:lnTo>
                    <a:pt x="842" y="2723"/>
                  </a:lnTo>
                  <a:lnTo>
                    <a:pt x="842" y="2623"/>
                  </a:lnTo>
                  <a:lnTo>
                    <a:pt x="922" y="255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11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7" name="Rectangle 3"/>
          <p:cNvSpPr/>
          <p:nvPr/>
        </p:nvSpPr>
        <p:spPr>
          <a:xfrm>
            <a:off x="10666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Análisis de problemas e identificación de solucio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1" descr="LOGO DII bco"/>
          <p:cNvPicPr/>
          <p:nvPr/>
        </p:nvPicPr>
        <p:blipFill>
          <a:blip r:embed="rId1"/>
          <a:stretch/>
        </p:blipFill>
        <p:spPr>
          <a:xfrm>
            <a:off x="1371600" y="0"/>
            <a:ext cx="2892600" cy="1082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9" descr=""/>
          <p:cNvPicPr/>
          <p:nvPr/>
        </p:nvPicPr>
        <p:blipFill>
          <a:blip r:embed="rId2"/>
          <a:stretch/>
        </p:blipFill>
        <p:spPr>
          <a:xfrm>
            <a:off x="7467480" y="0"/>
            <a:ext cx="1305000" cy="13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reeform 145"/>
          <p:cNvSpPr/>
          <p:nvPr/>
        </p:nvSpPr>
        <p:spPr>
          <a:xfrm>
            <a:off x="749160" y="3962520"/>
            <a:ext cx="7883640" cy="380880"/>
          </a:xfrm>
          <a:custGeom>
            <a:avLst/>
            <a:gdLst>
              <a:gd name="textAreaLeft" fmla="*/ 0 w 7883640"/>
              <a:gd name="textAreaRight" fmla="*/ 7884000 w 7883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46"/>
          <p:cNvSpPr/>
          <p:nvPr/>
        </p:nvSpPr>
        <p:spPr>
          <a:xfrm>
            <a:off x="3579480" y="4022640"/>
            <a:ext cx="273564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Alta tasa de enfermedad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147"/>
          <p:cNvSpPr/>
          <p:nvPr/>
        </p:nvSpPr>
        <p:spPr>
          <a:xfrm flipV="1">
            <a:off x="2467080" y="47937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48"/>
          <p:cNvSpPr/>
          <p:nvPr/>
        </p:nvSpPr>
        <p:spPr>
          <a:xfrm>
            <a:off x="806400" y="4676760"/>
            <a:ext cx="178452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os hábi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49"/>
          <p:cNvSpPr/>
          <p:nvPr/>
        </p:nvSpPr>
        <p:spPr>
          <a:xfrm>
            <a:off x="2793960" y="4676760"/>
            <a:ext cx="193680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ficiente acceso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50"/>
          <p:cNvSpPr/>
          <p:nvPr/>
        </p:nvSpPr>
        <p:spPr>
          <a:xfrm>
            <a:off x="4946760" y="4676760"/>
            <a:ext cx="193680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dio ambiente Conta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inado e insalub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51"/>
          <p:cNvSpPr/>
          <p:nvPr/>
        </p:nvSpPr>
        <p:spPr>
          <a:xfrm>
            <a:off x="7207200" y="4676760"/>
            <a:ext cx="193680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Fuentes de agu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contaminad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52"/>
          <p:cNvSpPr/>
          <p:nvPr/>
        </p:nvSpPr>
        <p:spPr>
          <a:xfrm>
            <a:off x="838080" y="5356080"/>
            <a:ext cx="16322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Falta de educ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153"/>
          <p:cNvSpPr/>
          <p:nvPr/>
        </p:nvSpPr>
        <p:spPr>
          <a:xfrm>
            <a:off x="4192560" y="5356080"/>
            <a:ext cx="19382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existencia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154"/>
          <p:cNvSpPr/>
          <p:nvPr/>
        </p:nvSpPr>
        <p:spPr>
          <a:xfrm>
            <a:off x="6237360" y="5356080"/>
            <a:ext cx="19382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 manejo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155"/>
          <p:cNvSpPr/>
          <p:nvPr/>
        </p:nvSpPr>
        <p:spPr>
          <a:xfrm>
            <a:off x="1066680" y="5943600"/>
            <a:ext cx="21574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as e inseguras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vías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poblados vecin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156"/>
          <p:cNvSpPr/>
          <p:nvPr/>
        </p:nvSpPr>
        <p:spPr>
          <a:xfrm>
            <a:off x="3332160" y="5943600"/>
            <a:ext cx="20779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No hay atención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157"/>
          <p:cNvSpPr/>
          <p:nvPr/>
        </p:nvSpPr>
        <p:spPr>
          <a:xfrm flipV="1">
            <a:off x="150192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58"/>
          <p:cNvSpPr/>
          <p:nvPr/>
        </p:nvSpPr>
        <p:spPr>
          <a:xfrm flipV="1">
            <a:off x="376236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159"/>
          <p:cNvSpPr/>
          <p:nvPr/>
        </p:nvSpPr>
        <p:spPr>
          <a:xfrm flipV="1">
            <a:off x="591516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60"/>
          <p:cNvSpPr/>
          <p:nvPr/>
        </p:nvSpPr>
        <p:spPr>
          <a:xfrm flipV="1">
            <a:off x="817560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161"/>
          <p:cNvSpPr/>
          <p:nvPr/>
        </p:nvSpPr>
        <p:spPr>
          <a:xfrm flipV="1">
            <a:off x="1501920" y="5095440"/>
            <a:ext cx="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162"/>
          <p:cNvSpPr/>
          <p:nvPr/>
        </p:nvSpPr>
        <p:spPr>
          <a:xfrm flipV="1">
            <a:off x="5160960" y="5095440"/>
            <a:ext cx="43164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63"/>
          <p:cNvSpPr/>
          <p:nvPr/>
        </p:nvSpPr>
        <p:spPr>
          <a:xfrm flipH="1" flipV="1">
            <a:off x="6560640" y="5095440"/>
            <a:ext cx="43020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64"/>
          <p:cNvSpPr/>
          <p:nvPr/>
        </p:nvSpPr>
        <p:spPr>
          <a:xfrm flipV="1">
            <a:off x="2438280" y="5095440"/>
            <a:ext cx="785880" cy="84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65"/>
          <p:cNvSpPr/>
          <p:nvPr/>
        </p:nvSpPr>
        <p:spPr>
          <a:xfrm flipH="1" flipV="1">
            <a:off x="3439800" y="5095440"/>
            <a:ext cx="826920" cy="84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166"/>
          <p:cNvSpPr/>
          <p:nvPr/>
        </p:nvSpPr>
        <p:spPr>
          <a:xfrm>
            <a:off x="6130800" y="1752480"/>
            <a:ext cx="1793880" cy="533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167"/>
          <p:cNvSpPr/>
          <p:nvPr/>
        </p:nvSpPr>
        <p:spPr>
          <a:xfrm>
            <a:off x="3657600" y="1752480"/>
            <a:ext cx="2209680" cy="533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168"/>
          <p:cNvSpPr/>
          <p:nvPr/>
        </p:nvSpPr>
        <p:spPr>
          <a:xfrm>
            <a:off x="784080" y="3249720"/>
            <a:ext cx="180684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a mort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anti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169"/>
          <p:cNvSpPr/>
          <p:nvPr/>
        </p:nvSpPr>
        <p:spPr>
          <a:xfrm>
            <a:off x="2763720" y="3249720"/>
            <a:ext cx="18082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os ga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0"/>
          <p:cNvSpPr/>
          <p:nvPr/>
        </p:nvSpPr>
        <p:spPr>
          <a:xfrm>
            <a:off x="4746600" y="3249720"/>
            <a:ext cx="18064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71"/>
          <p:cNvSpPr/>
          <p:nvPr/>
        </p:nvSpPr>
        <p:spPr>
          <a:xfrm>
            <a:off x="7086600" y="3249720"/>
            <a:ext cx="18082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asistencia 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pitencia escol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72"/>
          <p:cNvSpPr/>
          <p:nvPr/>
        </p:nvSpPr>
        <p:spPr>
          <a:xfrm>
            <a:off x="7207200" y="2535120"/>
            <a:ext cx="18064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a calificación labo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173"/>
          <p:cNvSpPr/>
          <p:nvPr/>
        </p:nvSpPr>
        <p:spPr>
          <a:xfrm>
            <a:off x="5268960" y="2535120"/>
            <a:ext cx="1808280" cy="248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a produ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174"/>
          <p:cNvSpPr/>
          <p:nvPr/>
        </p:nvSpPr>
        <p:spPr>
          <a:xfrm>
            <a:off x="3332160" y="2535120"/>
            <a:ext cx="18064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Gastos de producción al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75"/>
          <p:cNvSpPr/>
          <p:nvPr/>
        </p:nvSpPr>
        <p:spPr>
          <a:xfrm>
            <a:off x="1393920" y="2535120"/>
            <a:ext cx="180792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ostergación de otras necesida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76"/>
          <p:cNvSpPr/>
          <p:nvPr/>
        </p:nvSpPr>
        <p:spPr>
          <a:xfrm>
            <a:off x="6324480" y="1828800"/>
            <a:ext cx="152424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muneraciones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77"/>
          <p:cNvSpPr/>
          <p:nvPr/>
        </p:nvSpPr>
        <p:spPr>
          <a:xfrm>
            <a:off x="3733920" y="1828800"/>
            <a:ext cx="20509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imitación del potencial productivo lo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179"/>
          <p:cNvSpPr/>
          <p:nvPr/>
        </p:nvSpPr>
        <p:spPr>
          <a:xfrm flipV="1">
            <a:off x="150192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80"/>
          <p:cNvSpPr/>
          <p:nvPr/>
        </p:nvSpPr>
        <p:spPr>
          <a:xfrm flipV="1">
            <a:off x="344016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81"/>
          <p:cNvSpPr/>
          <p:nvPr/>
        </p:nvSpPr>
        <p:spPr>
          <a:xfrm flipV="1">
            <a:off x="548496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182"/>
          <p:cNvSpPr/>
          <p:nvPr/>
        </p:nvSpPr>
        <p:spPr>
          <a:xfrm flipV="1">
            <a:off x="752940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83"/>
          <p:cNvSpPr/>
          <p:nvPr/>
        </p:nvSpPr>
        <p:spPr>
          <a:xfrm flipV="1">
            <a:off x="279396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84"/>
          <p:cNvSpPr/>
          <p:nvPr/>
        </p:nvSpPr>
        <p:spPr>
          <a:xfrm flipV="1">
            <a:off x="495288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85"/>
          <p:cNvSpPr/>
          <p:nvPr/>
        </p:nvSpPr>
        <p:spPr>
          <a:xfrm flipV="1">
            <a:off x="602280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186"/>
          <p:cNvSpPr/>
          <p:nvPr/>
        </p:nvSpPr>
        <p:spPr>
          <a:xfrm flipV="1">
            <a:off x="795960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187"/>
          <p:cNvSpPr/>
          <p:nvPr/>
        </p:nvSpPr>
        <p:spPr>
          <a:xfrm flipV="1">
            <a:off x="426708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194"/>
          <p:cNvSpPr/>
          <p:nvPr/>
        </p:nvSpPr>
        <p:spPr>
          <a:xfrm>
            <a:off x="2985840" y="1079640"/>
            <a:ext cx="46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Causas y Ef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95"/>
          <p:cNvSpPr/>
          <p:nvPr/>
        </p:nvSpPr>
        <p:spPr>
          <a:xfrm>
            <a:off x="1066680" y="533520"/>
            <a:ext cx="777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3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Identificación de Cau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96"/>
          <p:cNvSpPr/>
          <p:nvPr/>
        </p:nvSpPr>
        <p:spPr>
          <a:xfrm flipV="1">
            <a:off x="556272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7"/>
          <p:cNvSpPr/>
          <p:nvPr/>
        </p:nvSpPr>
        <p:spPr>
          <a:xfrm flipV="1">
            <a:off x="655308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198"/>
          <p:cNvSpPr/>
          <p:nvPr/>
        </p:nvSpPr>
        <p:spPr>
          <a:xfrm flipV="1">
            <a:off x="746748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4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Definición de los Objetiv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3243240" y="17668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68560" y="2476440"/>
            <a:ext cx="751824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ituación esperada al resolver el problema se expresa por la manifestación contraria al problema identificado</a:t>
            </a: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"Carencia" se transforma en "Suficiencia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fectos se transforman en fi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ausas se transforman en med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e verifica la lógica y pertinencia del árbol de objetivos</a:t>
            </a: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i el "negativo" no es inmediato, hay un problema en el árbol causas-efec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iminar redundancias y detectar vací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4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Definición de los Objetiv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166920" y="1195560"/>
            <a:ext cx="34452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Freeform 8"/>
          <p:cNvSpPr/>
          <p:nvPr/>
        </p:nvSpPr>
        <p:spPr>
          <a:xfrm>
            <a:off x="1058760" y="4002120"/>
            <a:ext cx="7780320" cy="38088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3588120" y="4078440"/>
            <a:ext cx="276624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Baja tasa de enfermedad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0"/>
          <p:cNvSpPr/>
          <p:nvPr/>
        </p:nvSpPr>
        <p:spPr>
          <a:xfrm flipV="1">
            <a:off x="2382840" y="48556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762120" y="4740120"/>
            <a:ext cx="162540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os hábi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2709720" y="4740120"/>
            <a:ext cx="19306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acceso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3"/>
          <p:cNvSpPr/>
          <p:nvPr/>
        </p:nvSpPr>
        <p:spPr>
          <a:xfrm>
            <a:off x="4854600" y="4740120"/>
            <a:ext cx="20368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dio ambient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no contaminado y san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6999120" y="4740120"/>
            <a:ext cx="19162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Fuentes de agua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limp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762120" y="5419800"/>
            <a:ext cx="162540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educa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4103640" y="541980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sistema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6140520" y="541980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manejo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1208160" y="598320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s vías a centr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oblados vecin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276720" y="5983200"/>
            <a:ext cx="20066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atención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20"/>
          <p:cNvSpPr/>
          <p:nvPr/>
        </p:nvSpPr>
        <p:spPr>
          <a:xfrm flipV="1">
            <a:off x="142236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21"/>
          <p:cNvSpPr/>
          <p:nvPr/>
        </p:nvSpPr>
        <p:spPr>
          <a:xfrm flipV="1">
            <a:off x="367524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22"/>
          <p:cNvSpPr/>
          <p:nvPr/>
        </p:nvSpPr>
        <p:spPr>
          <a:xfrm flipV="1">
            <a:off x="581976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Line 23"/>
          <p:cNvSpPr/>
          <p:nvPr/>
        </p:nvSpPr>
        <p:spPr>
          <a:xfrm flipV="1">
            <a:off x="807084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Line 24"/>
          <p:cNvSpPr/>
          <p:nvPr/>
        </p:nvSpPr>
        <p:spPr>
          <a:xfrm flipV="1">
            <a:off x="1422360" y="5157720"/>
            <a:ext cx="0" cy="262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Line 25"/>
          <p:cNvSpPr/>
          <p:nvPr/>
        </p:nvSpPr>
        <p:spPr>
          <a:xfrm flipV="1">
            <a:off x="5068800" y="5157720"/>
            <a:ext cx="428760" cy="262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26"/>
          <p:cNvSpPr/>
          <p:nvPr/>
        </p:nvSpPr>
        <p:spPr>
          <a:xfrm flipH="1" flipV="1">
            <a:off x="6462360" y="5157720"/>
            <a:ext cx="428760" cy="262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27"/>
          <p:cNvSpPr/>
          <p:nvPr/>
        </p:nvSpPr>
        <p:spPr>
          <a:xfrm flipV="1">
            <a:off x="2438280" y="5157360"/>
            <a:ext cx="70020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Line 28"/>
          <p:cNvSpPr/>
          <p:nvPr/>
        </p:nvSpPr>
        <p:spPr>
          <a:xfrm flipH="1" flipV="1">
            <a:off x="3352680" y="5157360"/>
            <a:ext cx="53352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29"/>
          <p:cNvSpPr/>
          <p:nvPr/>
        </p:nvSpPr>
        <p:spPr>
          <a:xfrm>
            <a:off x="6033960" y="1792440"/>
            <a:ext cx="1800360" cy="533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30"/>
          <p:cNvSpPr/>
          <p:nvPr/>
        </p:nvSpPr>
        <p:spPr>
          <a:xfrm>
            <a:off x="3889440" y="1792440"/>
            <a:ext cx="1798560" cy="465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31"/>
          <p:cNvSpPr/>
          <p:nvPr/>
        </p:nvSpPr>
        <p:spPr>
          <a:xfrm>
            <a:off x="762120" y="3311640"/>
            <a:ext cx="149544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a mort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anti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2468520" y="3311640"/>
            <a:ext cx="180036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os ga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4481640" y="3311640"/>
            <a:ext cx="18000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34"/>
          <p:cNvSpPr/>
          <p:nvPr/>
        </p:nvSpPr>
        <p:spPr>
          <a:xfrm>
            <a:off x="6491160" y="3311640"/>
            <a:ext cx="22240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y promoción escol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7105680" y="2597040"/>
            <a:ext cx="180972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calific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36"/>
          <p:cNvSpPr/>
          <p:nvPr/>
        </p:nvSpPr>
        <p:spPr>
          <a:xfrm>
            <a:off x="5175360" y="2597040"/>
            <a:ext cx="18018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rodu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37"/>
          <p:cNvSpPr/>
          <p:nvPr/>
        </p:nvSpPr>
        <p:spPr>
          <a:xfrm>
            <a:off x="3244680" y="2597040"/>
            <a:ext cx="180216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os co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8"/>
          <p:cNvSpPr/>
          <p:nvPr/>
        </p:nvSpPr>
        <p:spPr>
          <a:xfrm>
            <a:off x="1314360" y="2597040"/>
            <a:ext cx="18018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riorización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otras necesida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9"/>
          <p:cNvSpPr/>
          <p:nvPr/>
        </p:nvSpPr>
        <p:spPr>
          <a:xfrm>
            <a:off x="6095880" y="1868400"/>
            <a:ext cx="16765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muneracio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tisfactor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40"/>
          <p:cNvSpPr/>
          <p:nvPr/>
        </p:nvSpPr>
        <p:spPr>
          <a:xfrm>
            <a:off x="4114800" y="1812960"/>
            <a:ext cx="14479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potencial productivo lo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41"/>
          <p:cNvSpPr/>
          <p:nvPr/>
        </p:nvSpPr>
        <p:spPr>
          <a:xfrm flipH="1" flipV="1">
            <a:off x="1422000" y="369396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45"/>
          <p:cNvSpPr/>
          <p:nvPr/>
        </p:nvSpPr>
        <p:spPr>
          <a:xfrm flipV="1">
            <a:off x="270972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46"/>
          <p:cNvSpPr/>
          <p:nvPr/>
        </p:nvSpPr>
        <p:spPr>
          <a:xfrm flipV="1">
            <a:off x="464040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47"/>
          <p:cNvSpPr/>
          <p:nvPr/>
        </p:nvSpPr>
        <p:spPr>
          <a:xfrm flipV="1">
            <a:off x="592596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Line 48"/>
          <p:cNvSpPr/>
          <p:nvPr/>
        </p:nvSpPr>
        <p:spPr>
          <a:xfrm flipV="1">
            <a:off x="785664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50"/>
          <p:cNvSpPr/>
          <p:nvPr/>
        </p:nvSpPr>
        <p:spPr>
          <a:xfrm flipH="1" flipV="1">
            <a:off x="5486040" y="2249280"/>
            <a:ext cx="11160" cy="347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6462720" y="223056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52"/>
          <p:cNvSpPr/>
          <p:nvPr/>
        </p:nvSpPr>
        <p:spPr>
          <a:xfrm flipV="1">
            <a:off x="7321680" y="223056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53"/>
          <p:cNvSpPr/>
          <p:nvPr/>
        </p:nvSpPr>
        <p:spPr>
          <a:xfrm flipH="1" flipV="1">
            <a:off x="3403080" y="369720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54"/>
          <p:cNvSpPr/>
          <p:nvPr/>
        </p:nvSpPr>
        <p:spPr>
          <a:xfrm flipH="1" flipV="1">
            <a:off x="5460480" y="369720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55"/>
          <p:cNvSpPr/>
          <p:nvPr/>
        </p:nvSpPr>
        <p:spPr>
          <a:xfrm flipH="1" flipV="1">
            <a:off x="7517880" y="369720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57"/>
          <p:cNvSpPr/>
          <p:nvPr/>
        </p:nvSpPr>
        <p:spPr>
          <a:xfrm flipH="1" flipV="1">
            <a:off x="4419360" y="2249280"/>
            <a:ext cx="11160" cy="347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5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Formulación de accion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854360" y="5854680"/>
            <a:ext cx="2336760" cy="5079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onstrucción camino a  Lolo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1346040" y="1733400"/>
            <a:ext cx="7442280" cy="400320"/>
          </a:xfrm>
          <a:custGeom>
            <a:avLst/>
            <a:gdLst>
              <a:gd name="textAreaLeft" fmla="*/ 0 w 7442280"/>
              <a:gd name="textAreaRight" fmla="*/ 7442640 w 744228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3505320" y="1774800"/>
            <a:ext cx="3047760" cy="29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993300"/>
                </a:solidFill>
                <a:latin typeface="Tahoma"/>
              </a:rPr>
              <a:t>Baja tasa de enferme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2967120" y="25934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1143000" y="2467080"/>
            <a:ext cx="1828800" cy="452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os hábi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3073320" y="2476440"/>
            <a:ext cx="1828800" cy="452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acceso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5105520" y="2476440"/>
            <a:ext cx="1930320" cy="452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dio ambient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no contaminado y san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7137360" y="2476440"/>
            <a:ext cx="1778040" cy="46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Fuentes de agua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limp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143000" y="3201840"/>
            <a:ext cx="1828800" cy="45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educa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4597560" y="3201840"/>
            <a:ext cx="1828800" cy="45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sistema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6527880" y="3201840"/>
            <a:ext cx="1828800" cy="45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manejo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1854360" y="3935520"/>
            <a:ext cx="1828800" cy="450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s vías a centr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oblados vecin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19"/>
          <p:cNvSpPr/>
          <p:nvPr/>
        </p:nvSpPr>
        <p:spPr>
          <a:xfrm>
            <a:off x="3784680" y="3935520"/>
            <a:ext cx="1828800" cy="450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atención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lud 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20"/>
          <p:cNvSpPr/>
          <p:nvPr/>
        </p:nvSpPr>
        <p:spPr>
          <a:xfrm flipV="1">
            <a:off x="2057400" y="207180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21"/>
          <p:cNvSpPr/>
          <p:nvPr/>
        </p:nvSpPr>
        <p:spPr>
          <a:xfrm flipV="1">
            <a:off x="3987720" y="207648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22"/>
          <p:cNvSpPr/>
          <p:nvPr/>
        </p:nvSpPr>
        <p:spPr>
          <a:xfrm flipV="1">
            <a:off x="6121440" y="207648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23"/>
          <p:cNvSpPr/>
          <p:nvPr/>
        </p:nvSpPr>
        <p:spPr>
          <a:xfrm flipV="1">
            <a:off x="8051760" y="207648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Line 24"/>
          <p:cNvSpPr/>
          <p:nvPr/>
        </p:nvSpPr>
        <p:spPr>
          <a:xfrm flipV="1">
            <a:off x="2057400" y="2918880"/>
            <a:ext cx="0" cy="282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25"/>
          <p:cNvSpPr/>
          <p:nvPr/>
        </p:nvSpPr>
        <p:spPr>
          <a:xfrm flipV="1">
            <a:off x="5511960" y="2918880"/>
            <a:ext cx="406080" cy="282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26"/>
          <p:cNvSpPr/>
          <p:nvPr/>
        </p:nvSpPr>
        <p:spPr>
          <a:xfrm flipH="1" flipV="1">
            <a:off x="6832080" y="2918880"/>
            <a:ext cx="406440" cy="282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27"/>
          <p:cNvSpPr/>
          <p:nvPr/>
        </p:nvSpPr>
        <p:spPr>
          <a:xfrm flipV="1">
            <a:off x="2870280" y="2918880"/>
            <a:ext cx="812880" cy="1016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28"/>
          <p:cNvSpPr/>
          <p:nvPr/>
        </p:nvSpPr>
        <p:spPr>
          <a:xfrm flipH="1" flipV="1">
            <a:off x="3886200" y="2918880"/>
            <a:ext cx="812880" cy="1016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914400" y="4498920"/>
            <a:ext cx="1854360" cy="622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apacitación e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higiene personal 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manejo de alimen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3174840" y="5234040"/>
            <a:ext cx="2133720" cy="565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Mejoramiento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amino a Ananc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31"/>
          <p:cNvSpPr/>
          <p:nvPr/>
        </p:nvSpPr>
        <p:spPr>
          <a:xfrm>
            <a:off x="3683160" y="4670280"/>
            <a:ext cx="2031840" cy="506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un centro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32"/>
          <p:cNvSpPr/>
          <p:nvPr/>
        </p:nvSpPr>
        <p:spPr>
          <a:xfrm flipV="1">
            <a:off x="4597560" y="4385880"/>
            <a:ext cx="0" cy="28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6426360" y="3935520"/>
            <a:ext cx="2438280" cy="5079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reación sistema recolec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y disposición de RS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5816520" y="4670280"/>
            <a:ext cx="2235240" cy="506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onstrucción sistema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35"/>
          <p:cNvSpPr/>
          <p:nvPr/>
        </p:nvSpPr>
        <p:spPr>
          <a:xfrm flipV="1">
            <a:off x="1650960" y="3652920"/>
            <a:ext cx="0" cy="84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36"/>
          <p:cNvSpPr/>
          <p:nvPr/>
        </p:nvSpPr>
        <p:spPr>
          <a:xfrm flipV="1">
            <a:off x="2971800" y="4385880"/>
            <a:ext cx="0" cy="14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37"/>
          <p:cNvSpPr/>
          <p:nvPr/>
        </p:nvSpPr>
        <p:spPr>
          <a:xfrm flipV="1">
            <a:off x="3479760" y="4385880"/>
            <a:ext cx="0" cy="84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38"/>
          <p:cNvSpPr/>
          <p:nvPr/>
        </p:nvSpPr>
        <p:spPr>
          <a:xfrm flipV="1">
            <a:off x="6222960" y="3652920"/>
            <a:ext cx="0" cy="101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39"/>
          <p:cNvSpPr/>
          <p:nvPr/>
        </p:nvSpPr>
        <p:spPr>
          <a:xfrm flipV="1">
            <a:off x="7746840" y="36525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Configuración de alternativa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6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xaminar las acciones propuestas en los siguientes aspec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nalizar su nivel de incidencia en la solución del problema y priorizar las de mayor 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importancia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Verificar interdependencias y agrupar acciones complementari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efinir alternativas con base en las acciones agrupadas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Verificar la factibilidad física, técnica, presupuestaria, institucional y/o cultural de cada alternativa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Definición de los Objetiv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3166920" y="1195560"/>
            <a:ext cx="34452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Freeform 4"/>
          <p:cNvSpPr/>
          <p:nvPr/>
        </p:nvSpPr>
        <p:spPr>
          <a:xfrm>
            <a:off x="1058760" y="4002120"/>
            <a:ext cx="7780320" cy="38088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3570480" y="4078440"/>
            <a:ext cx="297792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Mayor cobertura educaciona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6"/>
          <p:cNvSpPr/>
          <p:nvPr/>
        </p:nvSpPr>
        <p:spPr>
          <a:xfrm flipV="1">
            <a:off x="2382840" y="48556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295280" y="4800600"/>
            <a:ext cx="2362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raestructura adecua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4495680" y="4740120"/>
            <a:ext cx="2395800" cy="365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curso humano suficien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4267080" y="5486400"/>
            <a:ext cx="214488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n incentiv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ara trabajar 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6553080" y="5410080"/>
            <a:ext cx="2394000" cy="371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ontratación de Profeso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14"/>
          <p:cNvSpPr/>
          <p:nvPr/>
        </p:nvSpPr>
        <p:spPr>
          <a:xfrm>
            <a:off x="838080" y="6019920"/>
            <a:ext cx="1930680" cy="417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mentar No.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2895480" y="6172200"/>
            <a:ext cx="19051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las existente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buen est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Line 17"/>
          <p:cNvSpPr/>
          <p:nvPr/>
        </p:nvSpPr>
        <p:spPr>
          <a:xfrm flipV="1">
            <a:off x="2514600" y="434304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18"/>
          <p:cNvSpPr/>
          <p:nvPr/>
        </p:nvSpPr>
        <p:spPr>
          <a:xfrm flipV="1">
            <a:off x="581976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21"/>
          <p:cNvSpPr/>
          <p:nvPr/>
        </p:nvSpPr>
        <p:spPr>
          <a:xfrm flipV="1">
            <a:off x="5334120" y="5105520"/>
            <a:ext cx="7596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22"/>
          <p:cNvSpPr/>
          <p:nvPr/>
        </p:nvSpPr>
        <p:spPr>
          <a:xfrm flipH="1" flipV="1">
            <a:off x="6400800" y="5105160"/>
            <a:ext cx="504720" cy="338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23"/>
          <p:cNvSpPr/>
          <p:nvPr/>
        </p:nvSpPr>
        <p:spPr>
          <a:xfrm flipV="1">
            <a:off x="1752480" y="5181120"/>
            <a:ext cx="70020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24"/>
          <p:cNvSpPr/>
          <p:nvPr/>
        </p:nvSpPr>
        <p:spPr>
          <a:xfrm flipH="1" flipV="1">
            <a:off x="3276720" y="5181480"/>
            <a:ext cx="4572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4433760" y="1752480"/>
            <a:ext cx="1800360" cy="533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26"/>
          <p:cNvSpPr/>
          <p:nvPr/>
        </p:nvSpPr>
        <p:spPr>
          <a:xfrm>
            <a:off x="2289240" y="1752480"/>
            <a:ext cx="1798560" cy="465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29"/>
          <p:cNvSpPr/>
          <p:nvPr/>
        </p:nvSpPr>
        <p:spPr>
          <a:xfrm>
            <a:off x="2881440" y="3271680"/>
            <a:ext cx="1800000" cy="248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jor perfil labor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30"/>
          <p:cNvSpPr/>
          <p:nvPr/>
        </p:nvSpPr>
        <p:spPr>
          <a:xfrm>
            <a:off x="4890960" y="3271680"/>
            <a:ext cx="22240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y promoción escol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31"/>
          <p:cNvSpPr/>
          <p:nvPr/>
        </p:nvSpPr>
        <p:spPr>
          <a:xfrm>
            <a:off x="5505480" y="2557440"/>
            <a:ext cx="180972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calific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32"/>
          <p:cNvSpPr/>
          <p:nvPr/>
        </p:nvSpPr>
        <p:spPr>
          <a:xfrm>
            <a:off x="3575160" y="2557440"/>
            <a:ext cx="18018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rodu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1644480" y="2557440"/>
            <a:ext cx="180216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os co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35"/>
          <p:cNvSpPr/>
          <p:nvPr/>
        </p:nvSpPr>
        <p:spPr>
          <a:xfrm>
            <a:off x="4495680" y="1828800"/>
            <a:ext cx="16765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muneracio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tisfactor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36"/>
          <p:cNvSpPr/>
          <p:nvPr/>
        </p:nvSpPr>
        <p:spPr>
          <a:xfrm>
            <a:off x="2514600" y="1773360"/>
            <a:ext cx="14479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potencial productivo lo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39"/>
          <p:cNvSpPr/>
          <p:nvPr/>
        </p:nvSpPr>
        <p:spPr>
          <a:xfrm flipV="1">
            <a:off x="3040200" y="292212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40"/>
          <p:cNvSpPr/>
          <p:nvPr/>
        </p:nvSpPr>
        <p:spPr>
          <a:xfrm flipV="1">
            <a:off x="4325760" y="292212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41"/>
          <p:cNvSpPr/>
          <p:nvPr/>
        </p:nvSpPr>
        <p:spPr>
          <a:xfrm flipV="1">
            <a:off x="6256440" y="292212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42"/>
          <p:cNvSpPr/>
          <p:nvPr/>
        </p:nvSpPr>
        <p:spPr>
          <a:xfrm flipH="1" flipV="1">
            <a:off x="3885840" y="2209680"/>
            <a:ext cx="11160" cy="347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Line 43"/>
          <p:cNvSpPr/>
          <p:nvPr/>
        </p:nvSpPr>
        <p:spPr>
          <a:xfrm flipV="1">
            <a:off x="4862520" y="219024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Line 44"/>
          <p:cNvSpPr/>
          <p:nvPr/>
        </p:nvSpPr>
        <p:spPr>
          <a:xfrm flipV="1">
            <a:off x="5721480" y="219024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46"/>
          <p:cNvSpPr/>
          <p:nvPr/>
        </p:nvSpPr>
        <p:spPr>
          <a:xfrm flipH="1" flipV="1">
            <a:off x="3809520" y="3657240"/>
            <a:ext cx="2556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47"/>
          <p:cNvSpPr/>
          <p:nvPr/>
        </p:nvSpPr>
        <p:spPr>
          <a:xfrm flipH="1" flipV="1">
            <a:off x="6095520" y="3657240"/>
            <a:ext cx="2556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48"/>
          <p:cNvSpPr/>
          <p:nvPr/>
        </p:nvSpPr>
        <p:spPr>
          <a:xfrm flipH="1" flipV="1">
            <a:off x="2819160" y="2209680"/>
            <a:ext cx="11160" cy="347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reeform 4"/>
          <p:cNvSpPr/>
          <p:nvPr/>
        </p:nvSpPr>
        <p:spPr>
          <a:xfrm>
            <a:off x="762120" y="2133720"/>
            <a:ext cx="7780320" cy="38088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3273840" y="2209680"/>
            <a:ext cx="297792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Mayor cobertura educaciona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Line 6"/>
          <p:cNvSpPr/>
          <p:nvPr/>
        </p:nvSpPr>
        <p:spPr>
          <a:xfrm flipV="1">
            <a:off x="2085840" y="29872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998640" y="2932200"/>
            <a:ext cx="236196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raestructura adecua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4199040" y="2871720"/>
            <a:ext cx="2395440" cy="36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curso humano suficien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3970440" y="3618000"/>
            <a:ext cx="214452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n incentiv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ara trabajar 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6256440" y="3541680"/>
            <a:ext cx="2394000" cy="371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ontratación de Profeso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541440" y="415116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mentar No.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2598840" y="4303800"/>
            <a:ext cx="190476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las existente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buen est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Line 13"/>
          <p:cNvSpPr/>
          <p:nvPr/>
        </p:nvSpPr>
        <p:spPr>
          <a:xfrm flipV="1">
            <a:off x="2217600" y="247500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14"/>
          <p:cNvSpPr/>
          <p:nvPr/>
        </p:nvSpPr>
        <p:spPr>
          <a:xfrm flipV="1">
            <a:off x="5522760" y="25052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Line 15"/>
          <p:cNvSpPr/>
          <p:nvPr/>
        </p:nvSpPr>
        <p:spPr>
          <a:xfrm flipV="1">
            <a:off x="5037120" y="3236400"/>
            <a:ext cx="7632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Line 16"/>
          <p:cNvSpPr/>
          <p:nvPr/>
        </p:nvSpPr>
        <p:spPr>
          <a:xfrm flipH="1" flipV="1">
            <a:off x="6103440" y="3236760"/>
            <a:ext cx="505080" cy="338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17"/>
          <p:cNvSpPr/>
          <p:nvPr/>
        </p:nvSpPr>
        <p:spPr>
          <a:xfrm flipV="1">
            <a:off x="1455840" y="3312720"/>
            <a:ext cx="69984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Line 18"/>
          <p:cNvSpPr/>
          <p:nvPr/>
        </p:nvSpPr>
        <p:spPr>
          <a:xfrm flipH="1" flipV="1">
            <a:off x="2979720" y="3313080"/>
            <a:ext cx="4572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19"/>
          <p:cNvSpPr/>
          <p:nvPr/>
        </p:nvSpPr>
        <p:spPr>
          <a:xfrm flipH="1" flipV="1">
            <a:off x="3513240" y="1788840"/>
            <a:ext cx="2520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Line 20"/>
          <p:cNvSpPr/>
          <p:nvPr/>
        </p:nvSpPr>
        <p:spPr>
          <a:xfrm flipH="1" flipV="1">
            <a:off x="5799240" y="1788840"/>
            <a:ext cx="2520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21"/>
          <p:cNvSpPr/>
          <p:nvPr/>
        </p:nvSpPr>
        <p:spPr>
          <a:xfrm>
            <a:off x="914400" y="4952880"/>
            <a:ext cx="17524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22"/>
          <p:cNvSpPr/>
          <p:nvPr/>
        </p:nvSpPr>
        <p:spPr>
          <a:xfrm>
            <a:off x="914400" y="5562720"/>
            <a:ext cx="17524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23"/>
          <p:cNvSpPr/>
          <p:nvPr/>
        </p:nvSpPr>
        <p:spPr>
          <a:xfrm>
            <a:off x="4952880" y="4648320"/>
            <a:ext cx="167652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viendas para pro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2819520" y="4952880"/>
            <a:ext cx="20574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7086600" y="4114800"/>
            <a:ext cx="20574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reación de nuevos puest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7086600" y="4724280"/>
            <a:ext cx="20574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30"/>
          <p:cNvSpPr/>
          <p:nvPr/>
        </p:nvSpPr>
        <p:spPr>
          <a:xfrm flipV="1">
            <a:off x="609480" y="4647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31"/>
          <p:cNvSpPr/>
          <p:nvPr/>
        </p:nvSpPr>
        <p:spPr>
          <a:xfrm flipH="1">
            <a:off x="60912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32"/>
          <p:cNvSpPr/>
          <p:nvPr/>
        </p:nvSpPr>
        <p:spPr>
          <a:xfrm flipH="1">
            <a:off x="60912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33"/>
          <p:cNvSpPr/>
          <p:nvPr/>
        </p:nvSpPr>
        <p:spPr>
          <a:xfrm flipV="1">
            <a:off x="373392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Line 34"/>
          <p:cNvSpPr/>
          <p:nvPr/>
        </p:nvSpPr>
        <p:spPr>
          <a:xfrm flipH="1" flipV="1">
            <a:off x="5181120" y="42667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Line 35"/>
          <p:cNvSpPr/>
          <p:nvPr/>
        </p:nvSpPr>
        <p:spPr>
          <a:xfrm flipV="1">
            <a:off x="6858000" y="3885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36"/>
          <p:cNvSpPr/>
          <p:nvPr/>
        </p:nvSpPr>
        <p:spPr>
          <a:xfrm flipH="1">
            <a:off x="685764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37"/>
          <p:cNvSpPr/>
          <p:nvPr/>
        </p:nvSpPr>
        <p:spPr>
          <a:xfrm flipH="1">
            <a:off x="685764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482400"/>
                </a:solidFill>
                <a:latin typeface="Times New Roman"/>
              </a:rPr>
              <a:t>Arbol de Medios- (Acciones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7"/>
          <p:cNvSpPr/>
          <p:nvPr/>
        </p:nvSpPr>
        <p:spPr>
          <a:xfrm>
            <a:off x="5715000" y="1676520"/>
            <a:ext cx="2895480" cy="4647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35"/>
          <p:cNvSpPr/>
          <p:nvPr/>
        </p:nvSpPr>
        <p:spPr>
          <a:xfrm>
            <a:off x="380880" y="1981080"/>
            <a:ext cx="2590920" cy="121932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34"/>
          <p:cNvSpPr/>
          <p:nvPr/>
        </p:nvSpPr>
        <p:spPr>
          <a:xfrm>
            <a:off x="380880" y="3276720"/>
            <a:ext cx="2514600" cy="3047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19"/>
          <p:cNvSpPr/>
          <p:nvPr/>
        </p:nvSpPr>
        <p:spPr>
          <a:xfrm>
            <a:off x="685800" y="2133720"/>
            <a:ext cx="18288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20"/>
          <p:cNvSpPr/>
          <p:nvPr/>
        </p:nvSpPr>
        <p:spPr>
          <a:xfrm>
            <a:off x="609480" y="2743200"/>
            <a:ext cx="19051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21"/>
          <p:cNvSpPr/>
          <p:nvPr/>
        </p:nvSpPr>
        <p:spPr>
          <a:xfrm>
            <a:off x="457200" y="3962520"/>
            <a:ext cx="220968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2. 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viendas para pro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533520" y="3352680"/>
            <a:ext cx="213336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1. 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380880" y="5029200"/>
            <a:ext cx="22860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. Creación de nuevos puest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24"/>
          <p:cNvSpPr/>
          <p:nvPr/>
        </p:nvSpPr>
        <p:spPr>
          <a:xfrm>
            <a:off x="457200" y="5715000"/>
            <a:ext cx="22096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482400"/>
                </a:solidFill>
                <a:latin typeface="Times New Roman"/>
              </a:rPr>
              <a:t>Acciones y Alternativ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6" name="Text Box 37"/>
          <p:cNvSpPr/>
          <p:nvPr/>
        </p:nvSpPr>
        <p:spPr>
          <a:xfrm>
            <a:off x="3176640" y="236232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CLUY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38"/>
          <p:cNvSpPr/>
          <p:nvPr/>
        </p:nvSpPr>
        <p:spPr>
          <a:xfrm>
            <a:off x="2860200" y="45720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mplement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45"/>
          <p:cNvSpPr/>
          <p:nvPr/>
        </p:nvSpPr>
        <p:spPr>
          <a:xfrm>
            <a:off x="5875560" y="1828800"/>
            <a:ext cx="2559600" cy="182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.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Llamado para llenar vaca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46"/>
          <p:cNvSpPr/>
          <p:nvPr/>
        </p:nvSpPr>
        <p:spPr>
          <a:xfrm>
            <a:off x="5867280" y="4343400"/>
            <a:ext cx="2667240" cy="160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B. 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3047760" y="51055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49"/>
          <p:cNvSpPr/>
          <p:nvPr/>
        </p:nvSpPr>
        <p:spPr>
          <a:xfrm flipH="1">
            <a:off x="3200040" y="28195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50"/>
          <p:cNvSpPr/>
          <p:nvPr/>
        </p:nvSpPr>
        <p:spPr>
          <a:xfrm flipV="1">
            <a:off x="2666880" y="1980720"/>
            <a:ext cx="3124440" cy="30492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51"/>
          <p:cNvSpPr/>
          <p:nvPr/>
        </p:nvSpPr>
        <p:spPr>
          <a:xfrm>
            <a:off x="2590920" y="2971800"/>
            <a:ext cx="3581280" cy="1371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53"/>
          <p:cNvSpPr/>
          <p:nvPr/>
        </p:nvSpPr>
        <p:spPr>
          <a:xfrm>
            <a:off x="3276720" y="4267080"/>
            <a:ext cx="20574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5715000" y="1676520"/>
            <a:ext cx="2895480" cy="4647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482400"/>
                </a:solidFill>
                <a:latin typeface="Times New Roman"/>
              </a:rPr>
              <a:t>ALTERNATIVAS DE SOLUCIÓ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5884200" y="1828800"/>
            <a:ext cx="2471400" cy="160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.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 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 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 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5867280" y="4343400"/>
            <a:ext cx="2667240" cy="160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B. 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 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 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 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18"/>
          <p:cNvSpPr/>
          <p:nvPr/>
        </p:nvSpPr>
        <p:spPr>
          <a:xfrm>
            <a:off x="2895480" y="2514600"/>
            <a:ext cx="266724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19"/>
          <p:cNvSpPr/>
          <p:nvPr/>
        </p:nvSpPr>
        <p:spPr>
          <a:xfrm>
            <a:off x="2895480" y="510552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533520" y="2286000"/>
            <a:ext cx="22096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CIÓN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533520" y="4876920"/>
            <a:ext cx="22096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CIÓN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Reflexiones Final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6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proceso de análisis es iterativo y retroalimentado: siempre es posible incorporar nuevas alternativas o integrar aquellas complementari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resultado de esta etapa es un buen conocimiento del problema y el planteamiento de alternativas consideradas facti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i aparecen causas (alternativas) fuera del ámbito de acción se comunican a los respons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siguiente paso consistirá en dimensionar y especificar todos los aspectos de cada alternativ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520" y="11430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Características del métod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 uno de variados métodos aplicables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 un procedimien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u eficiencia y efectividad depende de los participa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Genera un consenso de opiniones en el proceso de planificación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Requiere una aplicación realista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Principales pasos del métod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880" y="1809720"/>
            <a:ext cx="6832800" cy="44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dentificar 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xaminar los efectos d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dentificar las posibles causas d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efinir los objetivos para la solu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Formular acciones para solucionar 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onfigurar alternativas viables y pertinentes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1676520" y="38862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1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Identificación del problem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dentificar los principales problemas de la situación analiz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entrar el análisis en un problema (problema principal)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Formular el problema como un estado nega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Priorizar problemas existentes (no aleatorios, ficticios o futur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No confundir el problema con la falta de una solu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es-ES" sz="2200" spc="-1" strike="noStrike">
                <a:solidFill>
                  <a:srgbClr val="ff0000"/>
                </a:solidFill>
                <a:latin typeface="Tahoma"/>
              </a:rPr>
              <a:t>Hace falta una po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es-ES" sz="2200" spc="-1" strike="noStrike">
                <a:solidFill>
                  <a:srgbClr val="008000"/>
                </a:solidFill>
                <a:latin typeface="Tahoma"/>
              </a:rPr>
              <a:t>Hay una alta tasa de enferme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6211800" y="5715000"/>
          <a:ext cx="646200" cy="46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11800" y="5715000"/>
                    <a:ext cx="646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6"/>
          <p:cNvGraphicFramePr/>
          <p:nvPr/>
        </p:nvGraphicFramePr>
        <p:xfrm>
          <a:off x="4419720" y="5105520"/>
          <a:ext cx="37440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5105520"/>
                    <a:ext cx="3744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12"/>
          <p:cNvSpPr/>
          <p:nvPr/>
        </p:nvSpPr>
        <p:spPr>
          <a:xfrm>
            <a:off x="2439360" y="1752480"/>
            <a:ext cx="49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Orientaciones impor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8"/>
          <p:cNvSpPr/>
          <p:nvPr/>
        </p:nvSpPr>
        <p:spPr>
          <a:xfrm>
            <a:off x="2381400" y="176688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Origen de ideas de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184480" y="2438280"/>
            <a:ext cx="6045120" cy="38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mandas o necesidades insatisf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lemas o limitaciones en el proceso del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ursos no utilizados o subuti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ecesidad de complementar otras in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iciativas de empr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acción a presiones políticas o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guimiento de objetivos 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 de sucesos 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eo de crear una capacidad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rigen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puestas de inversión multi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gramas de organizaciones bi o multilat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cuerdos inter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uevos consensos de la comunidad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1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Identificación del problem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2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Exámen de los Efect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un excelente y sencillo instrumento para identificar las repercusiones del probl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efectos se representa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gráficamente hacia arrib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cade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ra su constr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olocan sobre el problem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un primer nivel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os efectos directos o inmediat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los cuales se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ediante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lechas que nacen d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 problema identifica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para cada efecto de primer nivel, si hay otros efectos derivados de él. Colocarlos en un segundo nivel y unirlos con el o los efectos de primer o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inuar así hasta llegar a un nivel que se considere superior a la órbita de compet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09"/>
          <p:cNvSpPr/>
          <p:nvPr/>
        </p:nvSpPr>
        <p:spPr>
          <a:xfrm>
            <a:off x="1320840" y="5305320"/>
            <a:ext cx="7111800" cy="337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lta tasa de enferme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10"/>
          <p:cNvSpPr/>
          <p:nvPr/>
        </p:nvSpPr>
        <p:spPr>
          <a:xfrm>
            <a:off x="812880" y="44164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Alta mort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fant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11"/>
          <p:cNvSpPr/>
          <p:nvPr/>
        </p:nvSpPr>
        <p:spPr>
          <a:xfrm>
            <a:off x="2743200" y="44164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Altos gas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en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12"/>
          <p:cNvSpPr/>
          <p:nvPr/>
        </p:nvSpPr>
        <p:spPr>
          <a:xfrm>
            <a:off x="4673520" y="44164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asist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labor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113"/>
          <p:cNvSpPr/>
          <p:nvPr/>
        </p:nvSpPr>
        <p:spPr>
          <a:xfrm>
            <a:off x="6603840" y="4416480"/>
            <a:ext cx="185436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asistencia 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repitencia escol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114"/>
          <p:cNvSpPr/>
          <p:nvPr/>
        </p:nvSpPr>
        <p:spPr>
          <a:xfrm>
            <a:off x="7112160" y="3530520"/>
            <a:ext cx="172692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Mala calificación labor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115"/>
          <p:cNvSpPr/>
          <p:nvPr/>
        </p:nvSpPr>
        <p:spPr>
          <a:xfrm>
            <a:off x="5283360" y="3530520"/>
            <a:ext cx="172692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Baja productiv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116"/>
          <p:cNvSpPr/>
          <p:nvPr/>
        </p:nvSpPr>
        <p:spPr>
          <a:xfrm>
            <a:off x="3454560" y="3530520"/>
            <a:ext cx="172692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Gastos de producción al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117"/>
          <p:cNvSpPr/>
          <p:nvPr/>
        </p:nvSpPr>
        <p:spPr>
          <a:xfrm>
            <a:off x="1523880" y="3530520"/>
            <a:ext cx="182880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Postergación de otras necesid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118"/>
          <p:cNvSpPr/>
          <p:nvPr/>
        </p:nvSpPr>
        <p:spPr>
          <a:xfrm>
            <a:off x="5994360" y="25750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muneracion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aj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119"/>
          <p:cNvSpPr/>
          <p:nvPr/>
        </p:nvSpPr>
        <p:spPr>
          <a:xfrm>
            <a:off x="4038480" y="2471760"/>
            <a:ext cx="1727280" cy="63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Limitación del potencial productivo 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122"/>
          <p:cNvSpPr/>
          <p:nvPr/>
        </p:nvSpPr>
        <p:spPr>
          <a:xfrm flipV="1">
            <a:off x="172728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123"/>
          <p:cNvSpPr/>
          <p:nvPr/>
        </p:nvSpPr>
        <p:spPr>
          <a:xfrm flipV="1">
            <a:off x="355608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124"/>
          <p:cNvSpPr/>
          <p:nvPr/>
        </p:nvSpPr>
        <p:spPr>
          <a:xfrm flipV="1">
            <a:off x="558792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25"/>
          <p:cNvSpPr/>
          <p:nvPr/>
        </p:nvSpPr>
        <p:spPr>
          <a:xfrm flipV="1">
            <a:off x="751824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126"/>
          <p:cNvSpPr/>
          <p:nvPr/>
        </p:nvSpPr>
        <p:spPr>
          <a:xfrm flipV="1">
            <a:off x="294624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127"/>
          <p:cNvSpPr/>
          <p:nvPr/>
        </p:nvSpPr>
        <p:spPr>
          <a:xfrm flipV="1">
            <a:off x="487692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128"/>
          <p:cNvSpPr/>
          <p:nvPr/>
        </p:nvSpPr>
        <p:spPr>
          <a:xfrm flipV="1">
            <a:off x="609588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29"/>
          <p:cNvSpPr/>
          <p:nvPr/>
        </p:nvSpPr>
        <p:spPr>
          <a:xfrm flipV="1">
            <a:off x="772164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130"/>
          <p:cNvSpPr/>
          <p:nvPr/>
        </p:nvSpPr>
        <p:spPr>
          <a:xfrm flipV="1">
            <a:off x="436896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131"/>
          <p:cNvSpPr/>
          <p:nvPr/>
        </p:nvSpPr>
        <p:spPr>
          <a:xfrm flipV="1">
            <a:off x="548640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132"/>
          <p:cNvSpPr/>
          <p:nvPr/>
        </p:nvSpPr>
        <p:spPr>
          <a:xfrm flipV="1">
            <a:off x="640080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133"/>
          <p:cNvSpPr/>
          <p:nvPr/>
        </p:nvSpPr>
        <p:spPr>
          <a:xfrm flipV="1">
            <a:off x="751824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2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Exámen de los Efect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3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Identificación de Causa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2228760"/>
            <a:ext cx="7543800" cy="38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e identifican las causas posibles del problema y se representan bajo és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 su vez, se buscan causas de las causas, construyendo las raíces encadenadas del árb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 recomendable dar rienda suelta a la creatividad. Una buena definición de las causas aumenta la probabilidad de soluciones exitos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143000" y="5524200"/>
            <a:ext cx="76960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empalme del árbol de efectos con el árbol de causas, genera el:</a:t>
            </a: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rbol de Causas y Efectos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8"/>
          <p:cNvSpPr/>
          <p:nvPr/>
        </p:nvSpPr>
        <p:spPr>
          <a:xfrm>
            <a:off x="1041480" y="2057400"/>
            <a:ext cx="7442280" cy="453960"/>
          </a:xfrm>
          <a:custGeom>
            <a:avLst/>
            <a:gdLst>
              <a:gd name="textAreaLeft" fmla="*/ 0 w 7442280"/>
              <a:gd name="textAreaRight" fmla="*/ 7442640 w 74422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49"/>
          <p:cNvSpPr/>
          <p:nvPr/>
        </p:nvSpPr>
        <p:spPr>
          <a:xfrm>
            <a:off x="2895480" y="2075040"/>
            <a:ext cx="3505320" cy="332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lta tasa de enferme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2662200" y="309672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51"/>
          <p:cNvSpPr/>
          <p:nvPr/>
        </p:nvSpPr>
        <p:spPr>
          <a:xfrm>
            <a:off x="838080" y="295596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alos hábi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2"/>
          <p:cNvSpPr/>
          <p:nvPr/>
        </p:nvSpPr>
        <p:spPr>
          <a:xfrm>
            <a:off x="2971800" y="295596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Deficiente acceso 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53"/>
          <p:cNvSpPr/>
          <p:nvPr/>
        </p:nvSpPr>
        <p:spPr>
          <a:xfrm>
            <a:off x="5003640" y="2895480"/>
            <a:ext cx="1930680" cy="609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edio ambient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contaminado 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salub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7137360" y="295596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Fuentes de agu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contaminad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55"/>
          <p:cNvSpPr/>
          <p:nvPr/>
        </p:nvSpPr>
        <p:spPr>
          <a:xfrm>
            <a:off x="838080" y="377820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Falta de edu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e higie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4292640" y="3778200"/>
            <a:ext cx="218448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existencia de</a:t>
            </a:r>
            <a:r>
              <a:rPr b="1" lang="es-MX" sz="1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de alcantarilla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57"/>
          <p:cNvSpPr/>
          <p:nvPr/>
        </p:nvSpPr>
        <p:spPr>
          <a:xfrm>
            <a:off x="6629400" y="377820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al manejo 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1295280" y="4599000"/>
            <a:ext cx="2082960" cy="658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alas e insegur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vías a cen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poblados vecin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9"/>
          <p:cNvSpPr/>
          <p:nvPr/>
        </p:nvSpPr>
        <p:spPr>
          <a:xfrm>
            <a:off x="3479760" y="4599000"/>
            <a:ext cx="2463840" cy="506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No hay atención 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salud en la loc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60"/>
          <p:cNvSpPr/>
          <p:nvPr/>
        </p:nvSpPr>
        <p:spPr>
          <a:xfrm flipV="1">
            <a:off x="1752480" y="2513160"/>
            <a:ext cx="1800" cy="442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61"/>
          <p:cNvSpPr/>
          <p:nvPr/>
        </p:nvSpPr>
        <p:spPr>
          <a:xfrm flipV="1">
            <a:off x="3886200" y="2513160"/>
            <a:ext cx="1440" cy="442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62"/>
          <p:cNvSpPr/>
          <p:nvPr/>
        </p:nvSpPr>
        <p:spPr>
          <a:xfrm flipH="1" flipV="1">
            <a:off x="5919840" y="2513160"/>
            <a:ext cx="23760" cy="382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63"/>
          <p:cNvSpPr/>
          <p:nvPr/>
        </p:nvSpPr>
        <p:spPr>
          <a:xfrm flipV="1">
            <a:off x="8051760" y="2513160"/>
            <a:ext cx="1800" cy="442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64"/>
          <p:cNvSpPr/>
          <p:nvPr/>
        </p:nvSpPr>
        <p:spPr>
          <a:xfrm flipV="1">
            <a:off x="1752480" y="3460680"/>
            <a:ext cx="1800" cy="317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65"/>
          <p:cNvSpPr/>
          <p:nvPr/>
        </p:nvSpPr>
        <p:spPr>
          <a:xfrm flipV="1">
            <a:off x="5207040" y="3505320"/>
            <a:ext cx="355680" cy="272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66"/>
          <p:cNvSpPr/>
          <p:nvPr/>
        </p:nvSpPr>
        <p:spPr>
          <a:xfrm flipH="1" flipV="1">
            <a:off x="6553080" y="3505320"/>
            <a:ext cx="330480" cy="241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67"/>
          <p:cNvSpPr/>
          <p:nvPr/>
        </p:nvSpPr>
        <p:spPr>
          <a:xfrm flipV="1">
            <a:off x="2565360" y="3460680"/>
            <a:ext cx="812880" cy="1138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68"/>
          <p:cNvSpPr/>
          <p:nvPr/>
        </p:nvSpPr>
        <p:spPr>
          <a:xfrm flipH="1" flipV="1">
            <a:off x="3581280" y="3460680"/>
            <a:ext cx="812880" cy="1138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3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Identificación de Causa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53:36Z</dcterms:created>
  <dc:creator>ilpes</dc:creator>
  <dc:description/>
  <cp:keywords/>
  <dc:language>en-US</dc:language>
  <cp:lastModifiedBy>Leonel Medina Daza</cp:lastModifiedBy>
  <cp:lastPrinted>1999-09-01T21:34:52Z</cp:lastPrinted>
  <dcterms:modified xsi:type="dcterms:W3CDTF">2010-06-21T21:18:41Z</dcterms:modified>
  <cp:revision>71</cp:revision>
  <dc:subject/>
  <dc:title>ARBOL DE CAUSAS Y EFECTOS</dc:title>
</cp:coreProperties>
</file>