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89FF9C-C4F6-4128-BCBB-8D9809F87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A81A7-65D0-4F5B-8690-2740D36A6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A5560A-3342-4EF3-ADAE-AB7683345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29170-4CF2-42AB-A6DD-623599EBE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46940-35E1-4874-AC8A-3568790FD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D5A63-7AEC-4C9B-B399-C3D677439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2AF32-3D62-4312-88BF-C4BEC262B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12B81-4FD9-4D5C-B7BE-404B6DAA0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9B7FA-1CA1-4C11-9BE2-62B0F1DF0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90797-3CD9-4E23-85E6-9929E4D6E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74DBD3-837D-49B8-B5A8-0BF24DC93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2B20A-9C95-452C-BAD2-B8ADA676BB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7" descr="EXPHORSA"/>
          <p:cNvPicPr/>
          <p:nvPr/>
        </p:nvPicPr>
        <p:blipFill>
          <a:blip r:embed="rId4"/>
          <a:stretch/>
        </p:blipFill>
        <p:spPr>
          <a:xfrm>
            <a:off x="1066680" y="1574640"/>
            <a:ext cx="7772400" cy="130320"/>
          </a:xfrm>
          <a:prstGeom prst="rect">
            <a:avLst/>
          </a:prstGeom>
          <a:ln w="0">
            <a:noFill/>
          </a:ln>
        </p:spPr>
      </p:pic>
      <p:sp>
        <p:nvSpPr>
          <p:cNvPr id="5" name="PlaceHolder 4"/>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Rectangle 9"/>
          <p:cNvSpPr/>
          <p:nvPr/>
        </p:nvSpPr>
        <p:spPr>
          <a:xfrm>
            <a:off x="4648320" y="-152280"/>
            <a:ext cx="4572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ahoma"/>
              </a:rPr>
              <a:t>Curso de Preparación y Evaluación de Proyectos</a:t>
            </a:r>
            <a:endParaRPr b="0" lang="en-US" sz="1200" spc="-1" strike="noStrike">
              <a:solidFill>
                <a:srgbClr val="000000"/>
              </a:solidFill>
              <a:latin typeface="Times New Roman"/>
            </a:endParaRPr>
          </a:p>
        </p:txBody>
      </p:sp>
      <p:sp>
        <p:nvSpPr>
          <p:cNvPr id="7" name="Line 10"/>
          <p:cNvSpPr/>
          <p:nvPr/>
        </p:nvSpPr>
        <p:spPr>
          <a:xfrm>
            <a:off x="4952880" y="2286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Line 12"/>
          <p:cNvSpPr/>
          <p:nvPr/>
        </p:nvSpPr>
        <p:spPr>
          <a:xfrm>
            <a:off x="665280" y="65469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Rectangle 1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6CC9-7E1D-404C-BAE9-BD9DB3C0683C}"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6" name="Group 7"/>
          <p:cNvGrpSpPr/>
          <p:nvPr/>
        </p:nvGrpSpPr>
        <p:grpSpPr>
          <a:xfrm>
            <a:off x="0" y="0"/>
            <a:ext cx="6362640" cy="6858000"/>
            <a:chOff x="0" y="0"/>
            <a:chExt cx="6362640" cy="6858000"/>
          </a:xfrm>
        </p:grpSpPr>
        <p:pic>
          <p:nvPicPr>
            <p:cNvPr id="47" name="Picture 8" descr="C:\My Documents\bits\Expbanna.png"/>
            <p:cNvPicPr/>
            <p:nvPr/>
          </p:nvPicPr>
          <p:blipFill>
            <a:blip r:embed="rId3"/>
            <a:stretch/>
          </p:blipFill>
          <p:spPr>
            <a:xfrm>
              <a:off x="0" y="0"/>
              <a:ext cx="685800" cy="6858000"/>
            </a:xfrm>
            <a:prstGeom prst="rect">
              <a:avLst/>
            </a:prstGeom>
            <a:ln w="0">
              <a:noFill/>
            </a:ln>
          </p:spPr>
        </p:pic>
        <p:pic>
          <p:nvPicPr>
            <p:cNvPr id="48"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9" name="Picture 10" descr="P:\!Themes\Expedition\EXPHORSA.GIF"/>
          <p:cNvPicPr/>
          <p:nvPr/>
        </p:nvPicPr>
        <p:blipFill>
          <a:blip r:embed="rId5"/>
          <a:stretch/>
        </p:blipFill>
        <p:spPr>
          <a:xfrm>
            <a:off x="1981080" y="3657600"/>
            <a:ext cx="5715000" cy="95400"/>
          </a:xfrm>
          <a:prstGeom prst="rect">
            <a:avLst/>
          </a:prstGeom>
          <a:ln w="0">
            <a:noFill/>
          </a:ln>
        </p:spPr>
      </p:pic>
      <p:sp>
        <p:nvSpPr>
          <p:cNvPr id="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3"/>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4"/>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5"/>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C30D-D070-4CC7-B454-0C60F435A9D1}" type="slidenum">
              <a:rPr b="0" lang="es-E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2106000" y="5318280"/>
            <a:ext cx="56887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MIDEPLAN, División de Planificación, Estudios e Inversión</a:t>
            </a:r>
            <a:r>
              <a:rPr b="0" lang="es-ES_tradnl" sz="1500" spc="-1" strike="noStrike">
                <a:solidFill>
                  <a:srgbClr val="000000"/>
                </a:solidFill>
                <a:latin typeface="Tahoma"/>
              </a:rPr>
              <a:t> </a:t>
            </a:r>
            <a:endParaRPr b="0" lang="en-US" sz="1500" spc="-1" strike="noStrike">
              <a:solidFill>
                <a:srgbClr val="000000"/>
              </a:solidFill>
              <a:latin typeface="Times New Roman"/>
            </a:endParaRPr>
          </a:p>
        </p:txBody>
      </p:sp>
      <p:sp>
        <p:nvSpPr>
          <p:cNvPr id="92" name="Rectangle 5"/>
          <p:cNvSpPr/>
          <p:nvPr/>
        </p:nvSpPr>
        <p:spPr>
          <a:xfrm>
            <a:off x="1066680" y="1676520"/>
            <a:ext cx="7772400" cy="17524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urso</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reparación y Evaluación de Proyectos</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YEP)</a:t>
            </a:r>
            <a:endParaRPr b="0" lang="en-US" sz="3000" spc="-1" strike="noStrike">
              <a:solidFill>
                <a:srgbClr val="000000"/>
              </a:solidFill>
              <a:latin typeface="Times New Roman"/>
            </a:endParaRPr>
          </a:p>
        </p:txBody>
      </p:sp>
      <p:pic>
        <p:nvPicPr>
          <p:cNvPr id="93" name="Picture 1" descr="LOGO DII bco"/>
          <p:cNvPicPr/>
          <p:nvPr/>
        </p:nvPicPr>
        <p:blipFill>
          <a:blip r:embed="rId1"/>
          <a:stretch/>
        </p:blipFill>
        <p:spPr>
          <a:xfrm>
            <a:off x="1371600" y="228600"/>
            <a:ext cx="2892600" cy="1082520"/>
          </a:xfrm>
          <a:prstGeom prst="rect">
            <a:avLst/>
          </a:prstGeom>
          <a:ln w="0">
            <a:noFill/>
          </a:ln>
        </p:spPr>
      </p:pic>
      <p:pic>
        <p:nvPicPr>
          <p:cNvPr id="94" name="Picture 59" descr=""/>
          <p:cNvPicPr/>
          <p:nvPr/>
        </p:nvPicPr>
        <p:blipFill>
          <a:blip r:embed="rId2"/>
          <a:stretch/>
        </p:blipFill>
        <p:spPr>
          <a:xfrm>
            <a:off x="7238880" y="304920"/>
            <a:ext cx="1305000" cy="1271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685800" y="1739880"/>
            <a:ext cx="8381880" cy="53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anterior proceso es iterativo, y no necesariamente todos los proyectos atraviesan por cada una de la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facilita un proceso de evaluación – decisión orientado a verificar la pertinencia, viabilidad y conveniencia del proyecto antes de asignarle los recursos solicitado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tre otros, por lo menos tres aspectos deben ser verificados:</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es una buena solución al problema planteado;</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 alternativa seleccionada es más conveniente que  las desechadas y que no hay a disposición otra alternativa mejor, y</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demuestra estándares técnicos e indicadores de rentabilidad eficientes respecto a proyectos similares.</a:t>
            </a:r>
            <a:endParaRPr b="0" lang="en-US" sz="2200" spc="-1" strike="noStrike">
              <a:solidFill>
                <a:srgbClr val="000000"/>
              </a:solidFill>
              <a:latin typeface="Times New Roman"/>
            </a:endParaRPr>
          </a:p>
        </p:txBody>
      </p:sp>
      <p:sp>
        <p:nvSpPr>
          <p:cNvPr id="146"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609480" y="2155680"/>
            <a:ext cx="8229600" cy="422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grupo responsable de la preparación del proyecto, si bien deberá ser permeable a las opiniones y sugerencias de los actores  externos, también deberá estar permanentemente atento para que el proyecto, durante su diseño y evaluación, no sufra una metamorfosis que lo desvíe de los objetivos sustantivos nacidos de la definición del problema original.</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mo fruto del proceso de evaluación, podrán introducirse modificaciones al proyecto elaborado, decidir su aplazamiento, integrarse o fusionarse con otro proyecto que pretenda objetivos complementarios, negar su autorización por estimarse inconveniente o injustificable, o podrá aprobarse sin ninguna reformulación. </a:t>
            </a:r>
            <a:endParaRPr b="0" lang="en-US" sz="2200" spc="-1" strike="noStrike">
              <a:solidFill>
                <a:srgbClr val="000000"/>
              </a:solidFill>
              <a:latin typeface="Times New Roman"/>
            </a:endParaRPr>
          </a:p>
        </p:txBody>
      </p:sp>
      <p:sp>
        <p:nvSpPr>
          <p:cNvPr id="148"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990720" y="1803240"/>
            <a:ext cx="7924680" cy="4465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B. Invers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ntempla todas las acciones destinadas a materializar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 la Ejecución se materializa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 Operac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na vez ejecutado, el proyecto entra en operación. En esta etapa el proyecto adquiere su realización objetiva, es decir, que la unidad productiva instalada inicia la generación del producto, bien o servicio, para el cumplimiento del objetivo específico orientado a la solución del problema.</a:t>
            </a:r>
            <a:endParaRPr b="0" lang="en-US" sz="2200" spc="-1" strike="noStrike">
              <a:solidFill>
                <a:srgbClr val="000000"/>
              </a:solidFill>
              <a:latin typeface="Times New Roman"/>
            </a:endParaRPr>
          </a:p>
        </p:txBody>
      </p:sp>
      <p:sp>
        <p:nvSpPr>
          <p:cNvPr id="150"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027"/>
          <p:cNvSpPr/>
          <p:nvPr/>
        </p:nvSpPr>
        <p:spPr>
          <a:xfrm>
            <a:off x="1028880" y="2052720"/>
            <a:ext cx="7657920" cy="217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D. Evaluación de Resultados</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Se evalúa si el proyecto es la acción-respuesta a un problema. Es necesario verificar después de un tiempo razonable de su operación, si efectivamente el problema ha sido solucionado por la intervención del proyecto.</a:t>
            </a:r>
            <a:endParaRPr b="0" lang="en-US" sz="2200" spc="-1" strike="noStrike">
              <a:solidFill>
                <a:srgbClr val="000000"/>
              </a:solidFill>
              <a:latin typeface="Times New Roman"/>
            </a:endParaRPr>
          </a:p>
        </p:txBody>
      </p:sp>
      <p:sp>
        <p:nvSpPr>
          <p:cNvPr id="152" name="Text Box 1028"/>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37"/>
          <p:cNvGrpSpPr/>
          <p:nvPr/>
        </p:nvGrpSpPr>
        <p:grpSpPr>
          <a:xfrm>
            <a:off x="762120" y="1828800"/>
            <a:ext cx="4190400" cy="4647960"/>
            <a:chOff x="762120" y="1828800"/>
            <a:chExt cx="4190400" cy="4647960"/>
          </a:xfrm>
        </p:grpSpPr>
        <p:grpSp>
          <p:nvGrpSpPr>
            <p:cNvPr id="154" name="Group 21"/>
            <p:cNvGrpSpPr/>
            <p:nvPr/>
          </p:nvGrpSpPr>
          <p:grpSpPr>
            <a:xfrm>
              <a:off x="762120" y="1828800"/>
              <a:ext cx="3800520" cy="4524120"/>
              <a:chOff x="762120" y="1828800"/>
              <a:chExt cx="3800520" cy="4524120"/>
            </a:xfrm>
          </p:grpSpPr>
          <p:sp>
            <p:nvSpPr>
              <p:cNvPr id="155" name="AutoShape 5"/>
              <p:cNvSpPr/>
              <p:nvPr/>
            </p:nvSpPr>
            <p:spPr>
              <a:xfrm>
                <a:off x="762120" y="182880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ntificación)</a:t>
                </a:r>
                <a:endParaRPr b="0" lang="en-US" sz="1200" spc="-1" strike="noStrike">
                  <a:solidFill>
                    <a:srgbClr val="000000"/>
                  </a:solidFill>
                  <a:latin typeface="Times New Roman"/>
                </a:endParaRPr>
              </a:p>
            </p:txBody>
          </p:sp>
          <p:grpSp>
            <p:nvGrpSpPr>
              <p:cNvPr id="156" name="Group 20"/>
              <p:cNvGrpSpPr/>
              <p:nvPr/>
            </p:nvGrpSpPr>
            <p:grpSpPr>
              <a:xfrm>
                <a:off x="762120" y="2226600"/>
                <a:ext cx="3800520" cy="4126320"/>
                <a:chOff x="762120" y="2226600"/>
                <a:chExt cx="3800520" cy="4126320"/>
              </a:xfrm>
            </p:grpSpPr>
            <p:sp>
              <p:nvSpPr>
                <p:cNvPr id="157" name="AutoShape 6"/>
                <p:cNvSpPr/>
                <p:nvPr/>
              </p:nvSpPr>
              <p:spPr>
                <a:xfrm>
                  <a:off x="762120" y="247500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 evaluación)</a:t>
                  </a:r>
                  <a:endParaRPr b="0" lang="en-US" sz="1200" spc="-1" strike="noStrike">
                    <a:solidFill>
                      <a:srgbClr val="000000"/>
                    </a:solidFill>
                    <a:latin typeface="Times New Roman"/>
                  </a:endParaRPr>
                </a:p>
              </p:txBody>
            </p:sp>
            <p:sp>
              <p:nvSpPr>
                <p:cNvPr id="158" name="AutoShape 7"/>
                <p:cNvSpPr/>
                <p:nvPr/>
              </p:nvSpPr>
              <p:spPr>
                <a:xfrm>
                  <a:off x="831240" y="317088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 evaluación)</a:t>
                  </a:r>
                  <a:endParaRPr b="0" lang="en-US" sz="1200" spc="-1" strike="noStrike">
                    <a:solidFill>
                      <a:srgbClr val="000000"/>
                    </a:solidFill>
                    <a:latin typeface="Times New Roman"/>
                  </a:endParaRPr>
                </a:p>
              </p:txBody>
            </p:sp>
            <p:sp>
              <p:nvSpPr>
                <p:cNvPr id="159" name="AutoShape 8"/>
                <p:cNvSpPr/>
                <p:nvPr/>
              </p:nvSpPr>
              <p:spPr>
                <a:xfrm>
                  <a:off x="762120" y="381744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detallados / evaluación)</a:t>
                  </a:r>
                  <a:endParaRPr b="0" lang="en-US" sz="1200" spc="-1" strike="noStrike">
                    <a:solidFill>
                      <a:srgbClr val="000000"/>
                    </a:solidFill>
                    <a:latin typeface="Times New Roman"/>
                  </a:endParaRPr>
                </a:p>
              </p:txBody>
            </p:sp>
            <p:sp>
              <p:nvSpPr>
                <p:cNvPr id="160" name="AutoShape 9"/>
                <p:cNvSpPr/>
                <p:nvPr/>
              </p:nvSpPr>
              <p:spPr>
                <a:xfrm>
                  <a:off x="762120" y="4464000"/>
                  <a:ext cx="3731400" cy="5468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rquitectura / ingenierí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gramación actividades)</a:t>
                  </a:r>
                  <a:endParaRPr b="0" lang="en-US" sz="1200" spc="-1" strike="noStrike">
                    <a:solidFill>
                      <a:srgbClr val="000000"/>
                    </a:solidFill>
                    <a:latin typeface="Times New Roman"/>
                  </a:endParaRPr>
                </a:p>
              </p:txBody>
            </p:sp>
            <p:sp>
              <p:nvSpPr>
                <p:cNvPr id="161" name="AutoShape 10"/>
                <p:cNvSpPr/>
                <p:nvPr/>
              </p:nvSpPr>
              <p:spPr>
                <a:xfrm>
                  <a:off x="762120" y="525924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 implementación)</a:t>
                  </a:r>
                  <a:endParaRPr b="0" lang="en-US" sz="1200" spc="-1" strike="noStrike">
                    <a:solidFill>
                      <a:srgbClr val="000000"/>
                    </a:solidFill>
                    <a:latin typeface="Times New Roman"/>
                  </a:endParaRPr>
                </a:p>
              </p:txBody>
            </p:sp>
            <p:sp>
              <p:nvSpPr>
                <p:cNvPr id="162" name="AutoShape 11"/>
                <p:cNvSpPr/>
                <p:nvPr/>
              </p:nvSpPr>
              <p:spPr>
                <a:xfrm>
                  <a:off x="762120" y="595548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beneficios)</a:t>
                  </a:r>
                  <a:endParaRPr b="0" lang="en-US" sz="1200" spc="-1" strike="noStrike">
                    <a:solidFill>
                      <a:srgbClr val="000000"/>
                    </a:solidFill>
                    <a:latin typeface="Times New Roman"/>
                  </a:endParaRPr>
                </a:p>
              </p:txBody>
            </p:sp>
            <p:sp>
              <p:nvSpPr>
                <p:cNvPr id="163" name="AutoShape 12"/>
                <p:cNvSpPr/>
                <p:nvPr/>
              </p:nvSpPr>
              <p:spPr>
                <a:xfrm>
                  <a:off x="2489760" y="5657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13"/>
                <p:cNvSpPr/>
                <p:nvPr/>
              </p:nvSpPr>
              <p:spPr>
                <a:xfrm>
                  <a:off x="2489760" y="222660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4"/>
                <p:cNvSpPr/>
                <p:nvPr/>
              </p:nvSpPr>
              <p:spPr>
                <a:xfrm>
                  <a:off x="2489760" y="3569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15"/>
                <p:cNvSpPr/>
                <p:nvPr/>
              </p:nvSpPr>
              <p:spPr>
                <a:xfrm>
                  <a:off x="2489760" y="421524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16"/>
                <p:cNvSpPr/>
                <p:nvPr/>
              </p:nvSpPr>
              <p:spPr>
                <a:xfrm>
                  <a:off x="2489760" y="50108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17"/>
                <p:cNvSpPr/>
                <p:nvPr/>
              </p:nvSpPr>
              <p:spPr>
                <a:xfrm>
                  <a:off x="2489760" y="287280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9" name="AutoShape 22"/>
            <p:cNvSpPr/>
            <p:nvPr/>
          </p:nvSpPr>
          <p:spPr>
            <a:xfrm>
              <a:off x="4563000" y="1828800"/>
              <a:ext cx="389520" cy="2478960"/>
            </a:xfrm>
            <a:custGeom>
              <a:avLst/>
              <a:gdLst>
                <a:gd name="textAreaLeft" fmla="*/ 0 w 389520"/>
                <a:gd name="textAreaRight" fmla="*/ 273240 w 389520"/>
                <a:gd name="textAreaTop" fmla="*/ 102960 h 2478960"/>
                <a:gd name="textAreaBottom" fmla="*/ 2376000 h 2478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3"/>
            <p:cNvSpPr/>
            <p:nvPr/>
          </p:nvSpPr>
          <p:spPr>
            <a:xfrm>
              <a:off x="4563000" y="4370040"/>
              <a:ext cx="389520" cy="1363320"/>
            </a:xfrm>
            <a:custGeom>
              <a:avLst/>
              <a:gdLst>
                <a:gd name="textAreaLeft" fmla="*/ 0 w 389520"/>
                <a:gd name="textAreaRight" fmla="*/ 273240 w 389520"/>
                <a:gd name="textAreaTop" fmla="*/ 56520 h 1363320"/>
                <a:gd name="textAreaBottom" fmla="*/ 1306800 h 136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24"/>
            <p:cNvSpPr/>
            <p:nvPr/>
          </p:nvSpPr>
          <p:spPr>
            <a:xfrm>
              <a:off x="4660200" y="5795280"/>
              <a:ext cx="292320" cy="681480"/>
            </a:xfrm>
            <a:custGeom>
              <a:avLst/>
              <a:gdLst>
                <a:gd name="textAreaLeft" fmla="*/ 0 w 292320"/>
                <a:gd name="textAreaRight" fmla="*/ 205200 w 292320"/>
                <a:gd name="textAreaTop" fmla="*/ 28080 h 681480"/>
                <a:gd name="textAreaBottom" fmla="*/ 653400 h 681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42"/>
          <p:cNvGrpSpPr/>
          <p:nvPr/>
        </p:nvGrpSpPr>
        <p:grpSpPr>
          <a:xfrm>
            <a:off x="5105520" y="1752480"/>
            <a:ext cx="3924360" cy="4575960"/>
            <a:chOff x="5105520" y="1752480"/>
            <a:chExt cx="3924360" cy="4575960"/>
          </a:xfrm>
        </p:grpSpPr>
        <p:sp>
          <p:nvSpPr>
            <p:cNvPr id="173" name="Text Box 25"/>
            <p:cNvSpPr/>
            <p:nvPr/>
          </p:nvSpPr>
          <p:spPr>
            <a:xfrm>
              <a:off x="5105520" y="1752480"/>
              <a:ext cx="375912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ahoma"/>
                </a:rPr>
                <a:t>Tipo de Evaluación</a:t>
              </a:r>
              <a:endParaRPr b="0" lang="en-US" sz="1800" spc="-1" strike="noStrike">
                <a:solidFill>
                  <a:srgbClr val="000000"/>
                </a:solidFill>
                <a:latin typeface="Times New Roman"/>
              </a:endParaRPr>
            </a:p>
          </p:txBody>
        </p:sp>
        <p:sp>
          <p:nvSpPr>
            <p:cNvPr id="174" name="Text Box 26"/>
            <p:cNvSpPr/>
            <p:nvPr/>
          </p:nvSpPr>
          <p:spPr>
            <a:xfrm>
              <a:off x="5918040" y="2087280"/>
              <a:ext cx="193068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x - ante</a:t>
              </a:r>
              <a:endParaRPr b="0" lang="en-US" sz="1600" spc="-1" strike="noStrike">
                <a:solidFill>
                  <a:srgbClr val="000000"/>
                </a:solidFill>
                <a:latin typeface="Times New Roman"/>
              </a:endParaRPr>
            </a:p>
          </p:txBody>
        </p:sp>
        <p:sp>
          <p:nvSpPr>
            <p:cNvPr id="175" name="Text Box 27"/>
            <p:cNvSpPr/>
            <p:nvPr/>
          </p:nvSpPr>
          <p:spPr>
            <a:xfrm>
              <a:off x="5816520" y="4646520"/>
              <a:ext cx="223524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ísico - financiero</a:t>
              </a:r>
              <a:endParaRPr b="0" lang="en-US" sz="1600" spc="-1" strike="noStrike">
                <a:solidFill>
                  <a:srgbClr val="000000"/>
                </a:solidFill>
                <a:latin typeface="Times New Roman"/>
              </a:endParaRPr>
            </a:p>
          </p:txBody>
        </p:sp>
        <p:sp>
          <p:nvSpPr>
            <p:cNvPr id="176" name="Text Box 28"/>
            <p:cNvSpPr/>
            <p:nvPr/>
          </p:nvSpPr>
          <p:spPr>
            <a:xfrm>
              <a:off x="5918040" y="5254560"/>
              <a:ext cx="213372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de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operación</a:t>
              </a:r>
              <a:endParaRPr b="0" lang="en-US" sz="1600" spc="-1" strike="noStrike">
                <a:solidFill>
                  <a:srgbClr val="000000"/>
                </a:solidFill>
                <a:latin typeface="Times New Roman"/>
              </a:endParaRPr>
            </a:p>
          </p:txBody>
        </p:sp>
        <p:sp>
          <p:nvSpPr>
            <p:cNvPr id="177" name="Text Box 29"/>
            <p:cNvSpPr/>
            <p:nvPr/>
          </p:nvSpPr>
          <p:spPr>
            <a:xfrm>
              <a:off x="5715000" y="6003360"/>
              <a:ext cx="2641680" cy="3250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   ex - post</a:t>
              </a:r>
              <a:endParaRPr b="0" lang="en-US" sz="1600" spc="-1" strike="noStrike">
                <a:solidFill>
                  <a:srgbClr val="000000"/>
                </a:solidFill>
                <a:latin typeface="Times New Roman"/>
              </a:endParaRPr>
            </a:p>
          </p:txBody>
        </p:sp>
        <p:cxnSp>
          <p:nvCxnSpPr>
            <p:cNvPr id="178" name="AutoShape 31"/>
            <p:cNvCxnSpPr>
              <a:stCxn id="177" idx="1"/>
              <a:endCxn id="174" idx="1"/>
            </p:cNvCxnSpPr>
            <p:nvPr/>
          </p:nvCxnSpPr>
          <p:spPr>
            <a:xfrm flipH="1" rot="10800000">
              <a:off x="5714640" y="2372760"/>
              <a:ext cx="203760" cy="3792960"/>
            </a:xfrm>
            <a:prstGeom prst="curvedConnector5">
              <a:avLst>
                <a:gd name="adj1" fmla="val -292566"/>
                <a:gd name="adj2" fmla="val 49995"/>
                <a:gd name="adj3" fmla="val -292566"/>
              </a:avLst>
            </a:prstGeom>
            <a:ln w="25560">
              <a:solidFill>
                <a:srgbClr val="482400"/>
              </a:solidFill>
              <a:miter/>
              <a:tailEnd len="med" type="triangle" w="med"/>
            </a:ln>
          </p:spPr>
        </p:cxnSp>
        <p:cxnSp>
          <p:nvCxnSpPr>
            <p:cNvPr id="179" name="AutoShape 32"/>
            <p:cNvCxnSpPr>
              <a:stCxn id="177" idx="1"/>
              <a:endCxn id="175" idx="1"/>
            </p:cNvCxnSpPr>
            <p:nvPr/>
          </p:nvCxnSpPr>
          <p:spPr>
            <a:xfrm flipH="1" rot="10800000">
              <a:off x="5714640" y="4928400"/>
              <a:ext cx="102240" cy="1236960"/>
            </a:xfrm>
            <a:prstGeom prst="curvedConnector5">
              <a:avLst>
                <a:gd name="adj1" fmla="val -300000"/>
                <a:gd name="adj2" fmla="val 49985"/>
                <a:gd name="adj3" fmla="val -300000"/>
              </a:avLst>
            </a:prstGeom>
            <a:ln w="25560">
              <a:solidFill>
                <a:srgbClr val="482400"/>
              </a:solidFill>
              <a:miter/>
              <a:tailEnd len="med" type="triangle" w="med"/>
            </a:ln>
          </p:spPr>
        </p:cxnSp>
        <p:cxnSp>
          <p:nvCxnSpPr>
            <p:cNvPr id="180" name="AutoShape 33"/>
            <p:cNvCxnSpPr/>
            <p:nvPr/>
          </p:nvCxnSpPr>
          <p:spPr>
            <a:xfrm flipH="1" rot="10800000">
              <a:off x="5713920" y="5647680"/>
              <a:ext cx="407160" cy="525960"/>
            </a:xfrm>
            <a:prstGeom prst="curvedConnector5">
              <a:avLst>
                <a:gd name="adj1" fmla="val -17699"/>
                <a:gd name="adj2" fmla="val 50000"/>
                <a:gd name="adj3" fmla="val -17699"/>
              </a:avLst>
            </a:prstGeom>
            <a:ln w="25560">
              <a:solidFill>
                <a:srgbClr val="482400"/>
              </a:solidFill>
              <a:miter/>
              <a:tailEnd len="med" type="triangle" w="med"/>
            </a:ln>
          </p:spPr>
        </p:cxnSp>
        <p:cxnSp>
          <p:nvCxnSpPr>
            <p:cNvPr id="181" name="AutoShape 34"/>
            <p:cNvCxnSpPr/>
            <p:nvPr/>
          </p:nvCxnSpPr>
          <p:spPr>
            <a:xfrm>
              <a:off x="7848360" y="2360160"/>
              <a:ext cx="508680" cy="3794760"/>
            </a:xfrm>
            <a:prstGeom prst="curvedConnector5">
              <a:avLst>
                <a:gd name="adj1" fmla="val 232436"/>
                <a:gd name="adj2" fmla="val 50000"/>
                <a:gd name="adj3" fmla="val 232436"/>
              </a:avLst>
            </a:prstGeom>
            <a:ln w="25560">
              <a:solidFill>
                <a:srgbClr val="482400"/>
              </a:solidFill>
              <a:miter/>
              <a:tailEnd len="med" type="triangle" w="med"/>
            </a:ln>
          </p:spPr>
        </p:cxnSp>
        <p:cxnSp>
          <p:nvCxnSpPr>
            <p:cNvPr id="182" name="AutoShape 35"/>
            <p:cNvCxnSpPr/>
            <p:nvPr/>
          </p:nvCxnSpPr>
          <p:spPr>
            <a:xfrm>
              <a:off x="7949880" y="4917600"/>
              <a:ext cx="305640" cy="1236960"/>
            </a:xfrm>
            <a:prstGeom prst="curvedConnector5">
              <a:avLst>
                <a:gd name="adj1" fmla="val 200000"/>
                <a:gd name="adj2" fmla="val 49985"/>
                <a:gd name="adj3" fmla="val 200000"/>
              </a:avLst>
            </a:prstGeom>
            <a:ln w="25560">
              <a:solidFill>
                <a:srgbClr val="482400"/>
              </a:solidFill>
              <a:miter/>
              <a:tailEnd len="med" type="triangle" w="med"/>
            </a:ln>
          </p:spPr>
        </p:cxnSp>
        <p:cxnSp>
          <p:nvCxnSpPr>
            <p:cNvPr id="183" name="AutoShape 36"/>
            <p:cNvCxnSpPr/>
            <p:nvPr/>
          </p:nvCxnSpPr>
          <p:spPr>
            <a:xfrm>
              <a:off x="7949880" y="5526000"/>
              <a:ext cx="305640" cy="629280"/>
            </a:xfrm>
            <a:prstGeom prst="curvedConnector5">
              <a:avLst>
                <a:gd name="adj1" fmla="val 130542"/>
                <a:gd name="adj2" fmla="val 49971"/>
                <a:gd name="adj3" fmla="val 130542"/>
              </a:avLst>
            </a:prstGeom>
            <a:ln w="25560">
              <a:solidFill>
                <a:srgbClr val="482400"/>
              </a:solidFill>
              <a:miter/>
              <a:tailEnd len="med" type="triangle" w="med"/>
            </a:ln>
          </p:spPr>
        </p:cxnSp>
      </p:grpSp>
      <p:sp>
        <p:nvSpPr>
          <p:cNvPr id="184"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82400"/>
                </a:solidFill>
                <a:latin typeface="Times New Roman"/>
              </a:rPr>
              <a:t>LA EVALUACIÓN</a:t>
            </a:r>
            <a:br>
              <a:rPr sz="3200"/>
            </a:br>
            <a:r>
              <a:rPr b="0" lang="es-ES_tradnl" sz="3200" spc="-1" strike="noStrike">
                <a:solidFill>
                  <a:srgbClr val="482400"/>
                </a:solidFill>
                <a:latin typeface="Times New Roman"/>
              </a:rPr>
              <a:t>EN EL CICLO DEL PROYECTO</a:t>
            </a:r>
            <a:endParaRPr b="0" lang="en-US" sz="3200" spc="-1" strike="noStrike">
              <a:solidFill>
                <a:srgbClr val="482400"/>
              </a:solidFill>
              <a:latin typeface="Times New Roman"/>
            </a:endParaRPr>
          </a:p>
        </p:txBody>
      </p:sp>
      <p:grpSp>
        <p:nvGrpSpPr>
          <p:cNvPr id="186" name="Group 97"/>
          <p:cNvGrpSpPr/>
          <p:nvPr/>
        </p:nvGrpSpPr>
        <p:grpSpPr>
          <a:xfrm>
            <a:off x="609480" y="1413000"/>
            <a:ext cx="8133840" cy="5171400"/>
            <a:chOff x="609480" y="1413000"/>
            <a:chExt cx="8133840" cy="5171400"/>
          </a:xfrm>
        </p:grpSpPr>
        <p:sp>
          <p:nvSpPr>
            <p:cNvPr id="187" name="AutoShape 3"/>
            <p:cNvSpPr/>
            <p:nvPr/>
          </p:nvSpPr>
          <p:spPr>
            <a:xfrm>
              <a:off x="7197840" y="2973240"/>
              <a:ext cx="428400" cy="292320"/>
            </a:xfrm>
            <a:prstGeom prst="downArrow">
              <a:avLst>
                <a:gd name="adj1" fmla="val 50000"/>
                <a:gd name="adj2" fmla="val 500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4"/>
            <p:cNvSpPr/>
            <p:nvPr/>
          </p:nvSpPr>
          <p:spPr>
            <a:xfrm>
              <a:off x="2134440" y="5943600"/>
              <a:ext cx="24238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69b80"/>
                  </a:solidFill>
                  <a:latin typeface="Times New Roman"/>
                </a:rPr>
                <a:t>GERENCIA DE OPERACIÓN</a:t>
              </a:r>
              <a:endParaRPr b="0" lang="en-US" sz="1400" spc="-1" strike="noStrike">
                <a:solidFill>
                  <a:srgbClr val="000000"/>
                </a:solidFill>
                <a:latin typeface="Times New Roman"/>
              </a:endParaRPr>
            </a:p>
          </p:txBody>
        </p:sp>
        <p:grpSp>
          <p:nvGrpSpPr>
            <p:cNvPr id="189" name="Group 6"/>
            <p:cNvGrpSpPr/>
            <p:nvPr/>
          </p:nvGrpSpPr>
          <p:grpSpPr>
            <a:xfrm>
              <a:off x="609480" y="1766880"/>
              <a:ext cx="1560600" cy="3615840"/>
              <a:chOff x="609480" y="1766880"/>
              <a:chExt cx="1560600" cy="3615840"/>
            </a:xfrm>
          </p:grpSpPr>
          <p:grpSp>
            <p:nvGrpSpPr>
              <p:cNvPr id="190" name="Group 7"/>
              <p:cNvGrpSpPr/>
              <p:nvPr/>
            </p:nvGrpSpPr>
            <p:grpSpPr>
              <a:xfrm>
                <a:off x="767160" y="3184560"/>
                <a:ext cx="1272240" cy="1281600"/>
                <a:chOff x="767160" y="3184560"/>
                <a:chExt cx="1272240" cy="1281600"/>
              </a:xfrm>
            </p:grpSpPr>
            <p:grpSp>
              <p:nvGrpSpPr>
                <p:cNvPr id="191" name="Group 8"/>
                <p:cNvGrpSpPr/>
                <p:nvPr/>
              </p:nvGrpSpPr>
              <p:grpSpPr>
                <a:xfrm>
                  <a:off x="1366920" y="3306960"/>
                  <a:ext cx="672480" cy="1159200"/>
                  <a:chOff x="1366920" y="3306960"/>
                  <a:chExt cx="672480" cy="1159200"/>
                </a:xfrm>
              </p:grpSpPr>
              <p:sp>
                <p:nvSpPr>
                  <p:cNvPr id="192" name="Freeform 9"/>
                  <p:cNvSpPr/>
                  <p:nvPr/>
                </p:nvSpPr>
                <p:spPr>
                  <a:xfrm>
                    <a:off x="1615680" y="3461760"/>
                    <a:ext cx="228960" cy="199080"/>
                  </a:xfrm>
                  <a:custGeom>
                    <a:avLst/>
                    <a:gdLst>
                      <a:gd name="textAreaLeft" fmla="*/ 0 w 228960"/>
                      <a:gd name="textAreaRight" fmla="*/ 229320 w 228960"/>
                      <a:gd name="textAreaTop" fmla="*/ 0 h 199080"/>
                      <a:gd name="textAreaBottom" fmla="*/ 199440 h 199080"/>
                    </a:gdLst>
                    <a:ahLst/>
                    <a:rect l="textAreaLeft" t="textAreaTop" r="textAreaRight" b="textAreaBottom"/>
                    <a:pathLst>
                      <a:path w="463" h="405">
                        <a:moveTo>
                          <a:pt x="160" y="97"/>
                        </a:moveTo>
                        <a:lnTo>
                          <a:pt x="184" y="43"/>
                        </a:lnTo>
                        <a:lnTo>
                          <a:pt x="249" y="7"/>
                        </a:lnTo>
                        <a:lnTo>
                          <a:pt x="294" y="0"/>
                        </a:lnTo>
                        <a:lnTo>
                          <a:pt x="344" y="0"/>
                        </a:lnTo>
                        <a:lnTo>
                          <a:pt x="426" y="30"/>
                        </a:lnTo>
                        <a:lnTo>
                          <a:pt x="463" y="110"/>
                        </a:lnTo>
                        <a:lnTo>
                          <a:pt x="445" y="216"/>
                        </a:lnTo>
                        <a:lnTo>
                          <a:pt x="387" y="307"/>
                        </a:lnTo>
                        <a:lnTo>
                          <a:pt x="326" y="370"/>
                        </a:lnTo>
                        <a:lnTo>
                          <a:pt x="261" y="397"/>
                        </a:lnTo>
                        <a:lnTo>
                          <a:pt x="212" y="405"/>
                        </a:lnTo>
                        <a:lnTo>
                          <a:pt x="160" y="390"/>
                        </a:lnTo>
                        <a:lnTo>
                          <a:pt x="120" y="347"/>
                        </a:lnTo>
                        <a:lnTo>
                          <a:pt x="102" y="292"/>
                        </a:lnTo>
                        <a:lnTo>
                          <a:pt x="105" y="233"/>
                        </a:lnTo>
                        <a:lnTo>
                          <a:pt x="124" y="163"/>
                        </a:lnTo>
                        <a:lnTo>
                          <a:pt x="132" y="151"/>
                        </a:lnTo>
                        <a:lnTo>
                          <a:pt x="13" y="75"/>
                        </a:lnTo>
                        <a:lnTo>
                          <a:pt x="0" y="57"/>
                        </a:lnTo>
                        <a:lnTo>
                          <a:pt x="0" y="34"/>
                        </a:lnTo>
                        <a:lnTo>
                          <a:pt x="28" y="22"/>
                        </a:lnTo>
                        <a:lnTo>
                          <a:pt x="16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0"/>
                  <p:cNvSpPr/>
                  <p:nvPr/>
                </p:nvSpPr>
                <p:spPr>
                  <a:xfrm>
                    <a:off x="1765800" y="3726360"/>
                    <a:ext cx="273600" cy="382320"/>
                  </a:xfrm>
                  <a:custGeom>
                    <a:avLst/>
                    <a:gdLst>
                      <a:gd name="textAreaLeft" fmla="*/ 0 w 273600"/>
                      <a:gd name="textAreaRight" fmla="*/ 273960 w 273600"/>
                      <a:gd name="textAreaTop" fmla="*/ 0 h 382320"/>
                      <a:gd name="textAreaBottom" fmla="*/ 382680 h 382320"/>
                    </a:gdLst>
                    <a:ahLst/>
                    <a:rect l="textAreaLeft" t="textAreaTop" r="textAreaRight" b="textAreaBottom"/>
                    <a:pathLst>
                      <a:path w="551" h="777">
                        <a:moveTo>
                          <a:pt x="67" y="13"/>
                        </a:moveTo>
                        <a:lnTo>
                          <a:pt x="195" y="45"/>
                        </a:lnTo>
                        <a:lnTo>
                          <a:pt x="332" y="126"/>
                        </a:lnTo>
                        <a:lnTo>
                          <a:pt x="412" y="196"/>
                        </a:lnTo>
                        <a:lnTo>
                          <a:pt x="493" y="280"/>
                        </a:lnTo>
                        <a:lnTo>
                          <a:pt x="533" y="340"/>
                        </a:lnTo>
                        <a:lnTo>
                          <a:pt x="551" y="421"/>
                        </a:lnTo>
                        <a:lnTo>
                          <a:pt x="539" y="454"/>
                        </a:lnTo>
                        <a:lnTo>
                          <a:pt x="497" y="496"/>
                        </a:lnTo>
                        <a:lnTo>
                          <a:pt x="393" y="522"/>
                        </a:lnTo>
                        <a:lnTo>
                          <a:pt x="284" y="537"/>
                        </a:lnTo>
                        <a:lnTo>
                          <a:pt x="223" y="542"/>
                        </a:lnTo>
                        <a:lnTo>
                          <a:pt x="241" y="580"/>
                        </a:lnTo>
                        <a:lnTo>
                          <a:pt x="305" y="643"/>
                        </a:lnTo>
                        <a:lnTo>
                          <a:pt x="359" y="680"/>
                        </a:lnTo>
                        <a:lnTo>
                          <a:pt x="420" y="718"/>
                        </a:lnTo>
                        <a:lnTo>
                          <a:pt x="429" y="754"/>
                        </a:lnTo>
                        <a:lnTo>
                          <a:pt x="402" y="777"/>
                        </a:lnTo>
                        <a:lnTo>
                          <a:pt x="356" y="761"/>
                        </a:lnTo>
                        <a:lnTo>
                          <a:pt x="259" y="670"/>
                        </a:lnTo>
                        <a:lnTo>
                          <a:pt x="210" y="620"/>
                        </a:lnTo>
                        <a:lnTo>
                          <a:pt x="177" y="542"/>
                        </a:lnTo>
                        <a:lnTo>
                          <a:pt x="186" y="514"/>
                        </a:lnTo>
                        <a:lnTo>
                          <a:pt x="238" y="504"/>
                        </a:lnTo>
                        <a:lnTo>
                          <a:pt x="329" y="499"/>
                        </a:lnTo>
                        <a:lnTo>
                          <a:pt x="415" y="481"/>
                        </a:lnTo>
                        <a:lnTo>
                          <a:pt x="460" y="458"/>
                        </a:lnTo>
                        <a:lnTo>
                          <a:pt x="493" y="424"/>
                        </a:lnTo>
                        <a:lnTo>
                          <a:pt x="493" y="390"/>
                        </a:lnTo>
                        <a:lnTo>
                          <a:pt x="479" y="333"/>
                        </a:lnTo>
                        <a:lnTo>
                          <a:pt x="442" y="295"/>
                        </a:lnTo>
                        <a:lnTo>
                          <a:pt x="412" y="254"/>
                        </a:lnTo>
                        <a:lnTo>
                          <a:pt x="366" y="225"/>
                        </a:lnTo>
                        <a:lnTo>
                          <a:pt x="305" y="174"/>
                        </a:lnTo>
                        <a:lnTo>
                          <a:pt x="231" y="136"/>
                        </a:lnTo>
                        <a:lnTo>
                          <a:pt x="164" y="119"/>
                        </a:lnTo>
                        <a:lnTo>
                          <a:pt x="83" y="106"/>
                        </a:lnTo>
                        <a:lnTo>
                          <a:pt x="31" y="88"/>
                        </a:lnTo>
                        <a:lnTo>
                          <a:pt x="0" y="58"/>
                        </a:lnTo>
                        <a:lnTo>
                          <a:pt x="0" y="15"/>
                        </a:lnTo>
                        <a:lnTo>
                          <a:pt x="31" y="0"/>
                        </a:lnTo>
                        <a:lnTo>
                          <a:pt x="92" y="13"/>
                        </a:lnTo>
                        <a:lnTo>
                          <a:pt x="100" y="15"/>
                        </a:lnTo>
                        <a:lnTo>
                          <a:pt x="6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
                  <p:cNvSpPr/>
                  <p:nvPr/>
                </p:nvSpPr>
                <p:spPr>
                  <a:xfrm>
                    <a:off x="1366920" y="3306960"/>
                    <a:ext cx="316800" cy="434160"/>
                  </a:xfrm>
                  <a:custGeom>
                    <a:avLst/>
                    <a:gdLst>
                      <a:gd name="textAreaLeft" fmla="*/ 0 w 316800"/>
                      <a:gd name="textAreaRight" fmla="*/ 317160 w 316800"/>
                      <a:gd name="textAreaTop" fmla="*/ 0 h 434160"/>
                      <a:gd name="textAreaBottom" fmla="*/ 434520 h 434160"/>
                    </a:gdLst>
                    <a:ahLst/>
                    <a:rect l="textAreaLeft" t="textAreaTop" r="textAreaRight" b="textAreaBottom"/>
                    <a:pathLst>
                      <a:path w="639" h="881">
                        <a:moveTo>
                          <a:pt x="585" y="757"/>
                        </a:moveTo>
                        <a:lnTo>
                          <a:pt x="633" y="797"/>
                        </a:lnTo>
                        <a:lnTo>
                          <a:pt x="639" y="836"/>
                        </a:lnTo>
                        <a:lnTo>
                          <a:pt x="621" y="873"/>
                        </a:lnTo>
                        <a:lnTo>
                          <a:pt x="569" y="881"/>
                        </a:lnTo>
                        <a:lnTo>
                          <a:pt x="502" y="805"/>
                        </a:lnTo>
                        <a:lnTo>
                          <a:pt x="475" y="741"/>
                        </a:lnTo>
                        <a:lnTo>
                          <a:pt x="423" y="661"/>
                        </a:lnTo>
                        <a:lnTo>
                          <a:pt x="374" y="569"/>
                        </a:lnTo>
                        <a:lnTo>
                          <a:pt x="329" y="494"/>
                        </a:lnTo>
                        <a:lnTo>
                          <a:pt x="265" y="400"/>
                        </a:lnTo>
                        <a:lnTo>
                          <a:pt x="186" y="312"/>
                        </a:lnTo>
                        <a:lnTo>
                          <a:pt x="122" y="235"/>
                        </a:lnTo>
                        <a:lnTo>
                          <a:pt x="91" y="213"/>
                        </a:lnTo>
                        <a:lnTo>
                          <a:pt x="64" y="213"/>
                        </a:lnTo>
                        <a:lnTo>
                          <a:pt x="21" y="197"/>
                        </a:lnTo>
                        <a:lnTo>
                          <a:pt x="10" y="165"/>
                        </a:lnTo>
                        <a:lnTo>
                          <a:pt x="0" y="106"/>
                        </a:lnTo>
                        <a:lnTo>
                          <a:pt x="10" y="51"/>
                        </a:lnTo>
                        <a:lnTo>
                          <a:pt x="30" y="15"/>
                        </a:lnTo>
                        <a:lnTo>
                          <a:pt x="58" y="0"/>
                        </a:lnTo>
                        <a:lnTo>
                          <a:pt x="94" y="20"/>
                        </a:lnTo>
                        <a:lnTo>
                          <a:pt x="112" y="8"/>
                        </a:lnTo>
                        <a:lnTo>
                          <a:pt x="128" y="36"/>
                        </a:lnTo>
                        <a:lnTo>
                          <a:pt x="141" y="106"/>
                        </a:lnTo>
                        <a:lnTo>
                          <a:pt x="131" y="142"/>
                        </a:lnTo>
                        <a:lnTo>
                          <a:pt x="137" y="197"/>
                        </a:lnTo>
                        <a:lnTo>
                          <a:pt x="168" y="235"/>
                        </a:lnTo>
                        <a:lnTo>
                          <a:pt x="240" y="317"/>
                        </a:lnTo>
                        <a:lnTo>
                          <a:pt x="296" y="372"/>
                        </a:lnTo>
                        <a:lnTo>
                          <a:pt x="350" y="441"/>
                        </a:lnTo>
                        <a:lnTo>
                          <a:pt x="384" y="486"/>
                        </a:lnTo>
                        <a:lnTo>
                          <a:pt x="451" y="559"/>
                        </a:lnTo>
                        <a:lnTo>
                          <a:pt x="502" y="646"/>
                        </a:lnTo>
                        <a:lnTo>
                          <a:pt x="551" y="744"/>
                        </a:lnTo>
                        <a:lnTo>
                          <a:pt x="585"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2"/>
                  <p:cNvSpPr/>
                  <p:nvPr/>
                </p:nvSpPr>
                <p:spPr>
                  <a:xfrm>
                    <a:off x="1606320" y="3677760"/>
                    <a:ext cx="195120" cy="395640"/>
                  </a:xfrm>
                  <a:custGeom>
                    <a:avLst/>
                    <a:gdLst>
                      <a:gd name="textAreaLeft" fmla="*/ 0 w 195120"/>
                      <a:gd name="textAreaRight" fmla="*/ 195480 w 195120"/>
                      <a:gd name="textAreaTop" fmla="*/ 0 h 395640"/>
                      <a:gd name="textAreaBottom" fmla="*/ 396000 h 395640"/>
                    </a:gdLst>
                    <a:ahLst/>
                    <a:rect l="textAreaLeft" t="textAreaTop" r="textAreaRight" b="textAreaBottom"/>
                    <a:pathLst>
                      <a:path w="393" h="805">
                        <a:moveTo>
                          <a:pt x="13" y="211"/>
                        </a:moveTo>
                        <a:lnTo>
                          <a:pt x="55" y="106"/>
                        </a:lnTo>
                        <a:lnTo>
                          <a:pt x="91" y="55"/>
                        </a:lnTo>
                        <a:lnTo>
                          <a:pt x="155" y="3"/>
                        </a:lnTo>
                        <a:lnTo>
                          <a:pt x="211" y="0"/>
                        </a:lnTo>
                        <a:lnTo>
                          <a:pt x="268" y="15"/>
                        </a:lnTo>
                        <a:lnTo>
                          <a:pt x="320" y="53"/>
                        </a:lnTo>
                        <a:lnTo>
                          <a:pt x="320" y="123"/>
                        </a:lnTo>
                        <a:lnTo>
                          <a:pt x="296" y="184"/>
                        </a:lnTo>
                        <a:lnTo>
                          <a:pt x="296" y="295"/>
                        </a:lnTo>
                        <a:lnTo>
                          <a:pt x="305" y="464"/>
                        </a:lnTo>
                        <a:lnTo>
                          <a:pt x="350" y="568"/>
                        </a:lnTo>
                        <a:lnTo>
                          <a:pt x="393" y="650"/>
                        </a:lnTo>
                        <a:lnTo>
                          <a:pt x="393" y="714"/>
                        </a:lnTo>
                        <a:lnTo>
                          <a:pt x="347" y="774"/>
                        </a:lnTo>
                        <a:lnTo>
                          <a:pt x="310" y="802"/>
                        </a:lnTo>
                        <a:lnTo>
                          <a:pt x="256" y="805"/>
                        </a:lnTo>
                        <a:lnTo>
                          <a:pt x="192" y="805"/>
                        </a:lnTo>
                        <a:lnTo>
                          <a:pt x="122" y="787"/>
                        </a:lnTo>
                        <a:lnTo>
                          <a:pt x="55" y="681"/>
                        </a:lnTo>
                        <a:lnTo>
                          <a:pt x="18" y="555"/>
                        </a:lnTo>
                        <a:lnTo>
                          <a:pt x="0" y="457"/>
                        </a:lnTo>
                        <a:lnTo>
                          <a:pt x="0" y="340"/>
                        </a:lnTo>
                        <a:lnTo>
                          <a:pt x="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3"/>
                  <p:cNvSpPr/>
                  <p:nvPr/>
                </p:nvSpPr>
                <p:spPr>
                  <a:xfrm>
                    <a:off x="1681200" y="4014360"/>
                    <a:ext cx="163440" cy="415080"/>
                  </a:xfrm>
                  <a:custGeom>
                    <a:avLst/>
                    <a:gdLst>
                      <a:gd name="textAreaLeft" fmla="*/ 0 w 163440"/>
                      <a:gd name="textAreaRight" fmla="*/ 163800 w 163440"/>
                      <a:gd name="textAreaTop" fmla="*/ 0 h 415080"/>
                      <a:gd name="textAreaBottom" fmla="*/ 415440 h 415080"/>
                    </a:gdLst>
                    <a:ahLst/>
                    <a:rect l="textAreaLeft" t="textAreaTop" r="textAreaRight" b="textAreaBottom"/>
                    <a:pathLst>
                      <a:path w="332" h="844">
                        <a:moveTo>
                          <a:pt x="182" y="15"/>
                        </a:moveTo>
                        <a:lnTo>
                          <a:pt x="140" y="0"/>
                        </a:lnTo>
                        <a:lnTo>
                          <a:pt x="101" y="20"/>
                        </a:lnTo>
                        <a:lnTo>
                          <a:pt x="76" y="91"/>
                        </a:lnTo>
                        <a:lnTo>
                          <a:pt x="101" y="205"/>
                        </a:lnTo>
                        <a:lnTo>
                          <a:pt x="140" y="266"/>
                        </a:lnTo>
                        <a:lnTo>
                          <a:pt x="182" y="372"/>
                        </a:lnTo>
                        <a:lnTo>
                          <a:pt x="204" y="425"/>
                        </a:lnTo>
                        <a:lnTo>
                          <a:pt x="204" y="494"/>
                        </a:lnTo>
                        <a:lnTo>
                          <a:pt x="149" y="562"/>
                        </a:lnTo>
                        <a:lnTo>
                          <a:pt x="73" y="635"/>
                        </a:lnTo>
                        <a:lnTo>
                          <a:pt x="27" y="674"/>
                        </a:lnTo>
                        <a:lnTo>
                          <a:pt x="0" y="704"/>
                        </a:lnTo>
                        <a:lnTo>
                          <a:pt x="0" y="737"/>
                        </a:lnTo>
                        <a:lnTo>
                          <a:pt x="30" y="742"/>
                        </a:lnTo>
                        <a:lnTo>
                          <a:pt x="104" y="758"/>
                        </a:lnTo>
                        <a:lnTo>
                          <a:pt x="211" y="803"/>
                        </a:lnTo>
                        <a:lnTo>
                          <a:pt x="241" y="835"/>
                        </a:lnTo>
                        <a:lnTo>
                          <a:pt x="283" y="844"/>
                        </a:lnTo>
                        <a:lnTo>
                          <a:pt x="332" y="805"/>
                        </a:lnTo>
                        <a:lnTo>
                          <a:pt x="302" y="788"/>
                        </a:lnTo>
                        <a:lnTo>
                          <a:pt x="185" y="752"/>
                        </a:lnTo>
                        <a:lnTo>
                          <a:pt x="110" y="735"/>
                        </a:lnTo>
                        <a:lnTo>
                          <a:pt x="54" y="714"/>
                        </a:lnTo>
                        <a:lnTo>
                          <a:pt x="54" y="706"/>
                        </a:lnTo>
                        <a:lnTo>
                          <a:pt x="64" y="689"/>
                        </a:lnTo>
                        <a:lnTo>
                          <a:pt x="101" y="653"/>
                        </a:lnTo>
                        <a:lnTo>
                          <a:pt x="204" y="577"/>
                        </a:lnTo>
                        <a:lnTo>
                          <a:pt x="265" y="514"/>
                        </a:lnTo>
                        <a:lnTo>
                          <a:pt x="278" y="468"/>
                        </a:lnTo>
                        <a:lnTo>
                          <a:pt x="268" y="402"/>
                        </a:lnTo>
                        <a:lnTo>
                          <a:pt x="241" y="349"/>
                        </a:lnTo>
                        <a:lnTo>
                          <a:pt x="204" y="274"/>
                        </a:lnTo>
                        <a:lnTo>
                          <a:pt x="192" y="195"/>
                        </a:lnTo>
                        <a:lnTo>
                          <a:pt x="192" y="118"/>
                        </a:lnTo>
                        <a:lnTo>
                          <a:pt x="192" y="50"/>
                        </a:lnTo>
                        <a:lnTo>
                          <a:pt x="1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14"/>
                  <p:cNvSpPr/>
                  <p:nvPr/>
                </p:nvSpPr>
                <p:spPr>
                  <a:xfrm>
                    <a:off x="1579680" y="4017240"/>
                    <a:ext cx="135360" cy="448920"/>
                  </a:xfrm>
                  <a:custGeom>
                    <a:avLst/>
                    <a:gdLst>
                      <a:gd name="textAreaLeft" fmla="*/ 0 w 135360"/>
                      <a:gd name="textAreaRight" fmla="*/ 135720 w 135360"/>
                      <a:gd name="textAreaTop" fmla="*/ 0 h 448920"/>
                      <a:gd name="textAreaBottom" fmla="*/ 449280 h 448920"/>
                    </a:gdLst>
                    <a:ahLst/>
                    <a:rect l="textAreaLeft" t="textAreaTop" r="textAreaRight" b="textAreaBottom"/>
                    <a:pathLst>
                      <a:path w="271" h="912">
                        <a:moveTo>
                          <a:pt x="138" y="142"/>
                        </a:moveTo>
                        <a:lnTo>
                          <a:pt x="172" y="46"/>
                        </a:lnTo>
                        <a:lnTo>
                          <a:pt x="210" y="0"/>
                        </a:lnTo>
                        <a:lnTo>
                          <a:pt x="238" y="0"/>
                        </a:lnTo>
                        <a:lnTo>
                          <a:pt x="271" y="23"/>
                        </a:lnTo>
                        <a:lnTo>
                          <a:pt x="262" y="104"/>
                        </a:lnTo>
                        <a:lnTo>
                          <a:pt x="234" y="172"/>
                        </a:lnTo>
                        <a:lnTo>
                          <a:pt x="174" y="243"/>
                        </a:lnTo>
                        <a:lnTo>
                          <a:pt x="120" y="358"/>
                        </a:lnTo>
                        <a:lnTo>
                          <a:pt x="90" y="424"/>
                        </a:lnTo>
                        <a:lnTo>
                          <a:pt x="74" y="487"/>
                        </a:lnTo>
                        <a:lnTo>
                          <a:pt x="84" y="553"/>
                        </a:lnTo>
                        <a:lnTo>
                          <a:pt x="108" y="631"/>
                        </a:lnTo>
                        <a:lnTo>
                          <a:pt x="129" y="674"/>
                        </a:lnTo>
                        <a:lnTo>
                          <a:pt x="147" y="735"/>
                        </a:lnTo>
                        <a:lnTo>
                          <a:pt x="144" y="760"/>
                        </a:lnTo>
                        <a:lnTo>
                          <a:pt x="101" y="856"/>
                        </a:lnTo>
                        <a:lnTo>
                          <a:pt x="90" y="910"/>
                        </a:lnTo>
                        <a:lnTo>
                          <a:pt x="53" y="912"/>
                        </a:lnTo>
                        <a:lnTo>
                          <a:pt x="8" y="887"/>
                        </a:lnTo>
                        <a:lnTo>
                          <a:pt x="2" y="864"/>
                        </a:lnTo>
                        <a:lnTo>
                          <a:pt x="21" y="837"/>
                        </a:lnTo>
                        <a:lnTo>
                          <a:pt x="72" y="783"/>
                        </a:lnTo>
                        <a:lnTo>
                          <a:pt x="101" y="753"/>
                        </a:lnTo>
                        <a:lnTo>
                          <a:pt x="108" y="728"/>
                        </a:lnTo>
                        <a:lnTo>
                          <a:pt x="90" y="681"/>
                        </a:lnTo>
                        <a:lnTo>
                          <a:pt x="56" y="624"/>
                        </a:lnTo>
                        <a:lnTo>
                          <a:pt x="26" y="555"/>
                        </a:lnTo>
                        <a:lnTo>
                          <a:pt x="8" y="506"/>
                        </a:lnTo>
                        <a:lnTo>
                          <a:pt x="0" y="449"/>
                        </a:lnTo>
                        <a:lnTo>
                          <a:pt x="26" y="388"/>
                        </a:lnTo>
                        <a:lnTo>
                          <a:pt x="66" y="304"/>
                        </a:lnTo>
                        <a:lnTo>
                          <a:pt x="120" y="211"/>
                        </a:lnTo>
                        <a:lnTo>
                          <a:pt x="138"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Group 15"/>
                <p:cNvGrpSpPr/>
                <p:nvPr/>
              </p:nvGrpSpPr>
              <p:grpSpPr>
                <a:xfrm>
                  <a:off x="767160" y="3184560"/>
                  <a:ext cx="736560" cy="1277280"/>
                  <a:chOff x="767160" y="3184560"/>
                  <a:chExt cx="736560" cy="1277280"/>
                </a:xfrm>
              </p:grpSpPr>
              <p:sp>
                <p:nvSpPr>
                  <p:cNvPr id="199" name="Freeform 16"/>
                  <p:cNvSpPr/>
                  <p:nvPr/>
                </p:nvSpPr>
                <p:spPr>
                  <a:xfrm>
                    <a:off x="1121400" y="3479760"/>
                    <a:ext cx="146880" cy="209520"/>
                  </a:xfrm>
                  <a:custGeom>
                    <a:avLst/>
                    <a:gdLst>
                      <a:gd name="textAreaLeft" fmla="*/ 0 w 146880"/>
                      <a:gd name="textAreaRight" fmla="*/ 147240 w 146880"/>
                      <a:gd name="textAreaTop" fmla="*/ 0 h 209520"/>
                      <a:gd name="textAreaBottom" fmla="*/ 209880 h 209520"/>
                    </a:gdLst>
                    <a:ahLst/>
                    <a:rect l="textAreaLeft" t="textAreaTop" r="textAreaRight" b="textAreaBottom"/>
                    <a:pathLst>
                      <a:path w="296" h="424">
                        <a:moveTo>
                          <a:pt x="3" y="217"/>
                        </a:moveTo>
                        <a:lnTo>
                          <a:pt x="12" y="170"/>
                        </a:lnTo>
                        <a:lnTo>
                          <a:pt x="39" y="128"/>
                        </a:lnTo>
                        <a:lnTo>
                          <a:pt x="76" y="106"/>
                        </a:lnTo>
                        <a:lnTo>
                          <a:pt x="113" y="89"/>
                        </a:lnTo>
                        <a:lnTo>
                          <a:pt x="122" y="0"/>
                        </a:lnTo>
                        <a:lnTo>
                          <a:pt x="156" y="10"/>
                        </a:lnTo>
                        <a:lnTo>
                          <a:pt x="149" y="93"/>
                        </a:lnTo>
                        <a:lnTo>
                          <a:pt x="186" y="99"/>
                        </a:lnTo>
                        <a:lnTo>
                          <a:pt x="241" y="124"/>
                        </a:lnTo>
                        <a:lnTo>
                          <a:pt x="284" y="184"/>
                        </a:lnTo>
                        <a:lnTo>
                          <a:pt x="296" y="247"/>
                        </a:lnTo>
                        <a:lnTo>
                          <a:pt x="287" y="317"/>
                        </a:lnTo>
                        <a:lnTo>
                          <a:pt x="266" y="379"/>
                        </a:lnTo>
                        <a:lnTo>
                          <a:pt x="213" y="412"/>
                        </a:lnTo>
                        <a:lnTo>
                          <a:pt x="159" y="424"/>
                        </a:lnTo>
                        <a:lnTo>
                          <a:pt x="86" y="424"/>
                        </a:lnTo>
                        <a:lnTo>
                          <a:pt x="39" y="384"/>
                        </a:lnTo>
                        <a:lnTo>
                          <a:pt x="3" y="323"/>
                        </a:lnTo>
                        <a:lnTo>
                          <a:pt x="0" y="278"/>
                        </a:lnTo>
                        <a:lnTo>
                          <a:pt x="0" y="247"/>
                        </a:lnTo>
                        <a:lnTo>
                          <a:pt x="3" y="21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17"/>
                  <p:cNvSpPr/>
                  <p:nvPr/>
                </p:nvSpPr>
                <p:spPr>
                  <a:xfrm>
                    <a:off x="1103400" y="3701160"/>
                    <a:ext cx="185760" cy="379440"/>
                  </a:xfrm>
                  <a:custGeom>
                    <a:avLst/>
                    <a:gdLst>
                      <a:gd name="textAreaLeft" fmla="*/ 0 w 185760"/>
                      <a:gd name="textAreaRight" fmla="*/ 186120 w 185760"/>
                      <a:gd name="textAreaTop" fmla="*/ 0 h 379440"/>
                      <a:gd name="textAreaBottom" fmla="*/ 379800 h 379440"/>
                    </a:gdLst>
                    <a:ahLst/>
                    <a:rect l="textAreaLeft" t="textAreaTop" r="textAreaRight" b="textAreaBottom"/>
                    <a:pathLst>
                      <a:path w="374" h="773">
                        <a:moveTo>
                          <a:pt x="139" y="13"/>
                        </a:moveTo>
                        <a:lnTo>
                          <a:pt x="182" y="0"/>
                        </a:lnTo>
                        <a:lnTo>
                          <a:pt x="232" y="7"/>
                        </a:lnTo>
                        <a:lnTo>
                          <a:pt x="292" y="50"/>
                        </a:lnTo>
                        <a:lnTo>
                          <a:pt x="341" y="136"/>
                        </a:lnTo>
                        <a:lnTo>
                          <a:pt x="365" y="220"/>
                        </a:lnTo>
                        <a:lnTo>
                          <a:pt x="374" y="318"/>
                        </a:lnTo>
                        <a:lnTo>
                          <a:pt x="365" y="424"/>
                        </a:lnTo>
                        <a:lnTo>
                          <a:pt x="320" y="561"/>
                        </a:lnTo>
                        <a:lnTo>
                          <a:pt x="304" y="569"/>
                        </a:lnTo>
                        <a:lnTo>
                          <a:pt x="237" y="682"/>
                        </a:lnTo>
                        <a:lnTo>
                          <a:pt x="203" y="748"/>
                        </a:lnTo>
                        <a:lnTo>
                          <a:pt x="149" y="771"/>
                        </a:lnTo>
                        <a:lnTo>
                          <a:pt x="67" y="773"/>
                        </a:lnTo>
                        <a:lnTo>
                          <a:pt x="3" y="748"/>
                        </a:lnTo>
                        <a:lnTo>
                          <a:pt x="0" y="698"/>
                        </a:lnTo>
                        <a:lnTo>
                          <a:pt x="27" y="630"/>
                        </a:lnTo>
                        <a:lnTo>
                          <a:pt x="45" y="589"/>
                        </a:lnTo>
                        <a:lnTo>
                          <a:pt x="73" y="544"/>
                        </a:lnTo>
                        <a:lnTo>
                          <a:pt x="91" y="498"/>
                        </a:lnTo>
                        <a:lnTo>
                          <a:pt x="101" y="424"/>
                        </a:lnTo>
                        <a:lnTo>
                          <a:pt x="82" y="342"/>
                        </a:lnTo>
                        <a:lnTo>
                          <a:pt x="64" y="272"/>
                        </a:lnTo>
                        <a:lnTo>
                          <a:pt x="48" y="220"/>
                        </a:lnTo>
                        <a:lnTo>
                          <a:pt x="48" y="134"/>
                        </a:lnTo>
                        <a:lnTo>
                          <a:pt x="58" y="96"/>
                        </a:lnTo>
                        <a:lnTo>
                          <a:pt x="82" y="45"/>
                        </a:lnTo>
                        <a:lnTo>
                          <a:pt x="137" y="13"/>
                        </a:lnTo>
                        <a:lnTo>
                          <a:pt x="137" y="15"/>
                        </a:lnTo>
                        <a:lnTo>
                          <a:pt x="139" y="1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8"/>
                  <p:cNvSpPr/>
                  <p:nvPr/>
                </p:nvSpPr>
                <p:spPr>
                  <a:xfrm>
                    <a:off x="767160" y="3340800"/>
                    <a:ext cx="374760" cy="454680"/>
                  </a:xfrm>
                  <a:custGeom>
                    <a:avLst/>
                    <a:gdLst>
                      <a:gd name="textAreaLeft" fmla="*/ 0 w 374760"/>
                      <a:gd name="textAreaRight" fmla="*/ 375120 w 374760"/>
                      <a:gd name="textAreaTop" fmla="*/ 0 h 454680"/>
                      <a:gd name="textAreaBottom" fmla="*/ 455040 h 454680"/>
                    </a:gdLst>
                    <a:ahLst/>
                    <a:rect l="textAreaLeft" t="textAreaTop" r="textAreaRight" b="textAreaBottom"/>
                    <a:pathLst>
                      <a:path w="755" h="925">
                        <a:moveTo>
                          <a:pt x="673" y="782"/>
                        </a:moveTo>
                        <a:lnTo>
                          <a:pt x="727" y="813"/>
                        </a:lnTo>
                        <a:lnTo>
                          <a:pt x="755" y="851"/>
                        </a:lnTo>
                        <a:lnTo>
                          <a:pt x="749" y="894"/>
                        </a:lnTo>
                        <a:lnTo>
                          <a:pt x="719" y="925"/>
                        </a:lnTo>
                        <a:lnTo>
                          <a:pt x="685" y="920"/>
                        </a:lnTo>
                        <a:lnTo>
                          <a:pt x="612" y="866"/>
                        </a:lnTo>
                        <a:lnTo>
                          <a:pt x="499" y="757"/>
                        </a:lnTo>
                        <a:lnTo>
                          <a:pt x="398" y="646"/>
                        </a:lnTo>
                        <a:lnTo>
                          <a:pt x="320" y="540"/>
                        </a:lnTo>
                        <a:lnTo>
                          <a:pt x="256" y="439"/>
                        </a:lnTo>
                        <a:lnTo>
                          <a:pt x="210" y="335"/>
                        </a:lnTo>
                        <a:lnTo>
                          <a:pt x="179" y="236"/>
                        </a:lnTo>
                        <a:lnTo>
                          <a:pt x="170" y="191"/>
                        </a:lnTo>
                        <a:lnTo>
                          <a:pt x="91" y="158"/>
                        </a:lnTo>
                        <a:lnTo>
                          <a:pt x="0" y="145"/>
                        </a:lnTo>
                        <a:lnTo>
                          <a:pt x="5" y="128"/>
                        </a:lnTo>
                        <a:lnTo>
                          <a:pt x="91" y="130"/>
                        </a:lnTo>
                        <a:lnTo>
                          <a:pt x="128" y="130"/>
                        </a:lnTo>
                        <a:lnTo>
                          <a:pt x="91" y="100"/>
                        </a:lnTo>
                        <a:lnTo>
                          <a:pt x="51" y="70"/>
                        </a:lnTo>
                        <a:lnTo>
                          <a:pt x="27" y="59"/>
                        </a:lnTo>
                        <a:lnTo>
                          <a:pt x="45" y="39"/>
                        </a:lnTo>
                        <a:lnTo>
                          <a:pt x="79" y="70"/>
                        </a:lnTo>
                        <a:lnTo>
                          <a:pt x="152" y="93"/>
                        </a:lnTo>
                        <a:lnTo>
                          <a:pt x="152" y="52"/>
                        </a:lnTo>
                        <a:lnTo>
                          <a:pt x="133" y="14"/>
                        </a:lnTo>
                        <a:lnTo>
                          <a:pt x="133" y="0"/>
                        </a:lnTo>
                        <a:lnTo>
                          <a:pt x="152" y="0"/>
                        </a:lnTo>
                        <a:lnTo>
                          <a:pt x="182" y="52"/>
                        </a:lnTo>
                        <a:lnTo>
                          <a:pt x="210" y="93"/>
                        </a:lnTo>
                        <a:lnTo>
                          <a:pt x="237" y="52"/>
                        </a:lnTo>
                        <a:lnTo>
                          <a:pt x="243" y="2"/>
                        </a:lnTo>
                        <a:lnTo>
                          <a:pt x="270" y="2"/>
                        </a:lnTo>
                        <a:lnTo>
                          <a:pt x="262" y="93"/>
                        </a:lnTo>
                        <a:lnTo>
                          <a:pt x="210" y="166"/>
                        </a:lnTo>
                        <a:lnTo>
                          <a:pt x="219" y="259"/>
                        </a:lnTo>
                        <a:lnTo>
                          <a:pt x="264" y="363"/>
                        </a:lnTo>
                        <a:lnTo>
                          <a:pt x="334" y="464"/>
                        </a:lnTo>
                        <a:lnTo>
                          <a:pt x="426" y="583"/>
                        </a:lnTo>
                        <a:lnTo>
                          <a:pt x="511" y="674"/>
                        </a:lnTo>
                        <a:lnTo>
                          <a:pt x="609" y="750"/>
                        </a:lnTo>
                        <a:lnTo>
                          <a:pt x="673" y="782"/>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9"/>
                  <p:cNvSpPr/>
                  <p:nvPr/>
                </p:nvSpPr>
                <p:spPr>
                  <a:xfrm>
                    <a:off x="1227240" y="3184560"/>
                    <a:ext cx="276480" cy="590760"/>
                  </a:xfrm>
                  <a:custGeom>
                    <a:avLst/>
                    <a:gdLst>
                      <a:gd name="textAreaLeft" fmla="*/ 0 w 276480"/>
                      <a:gd name="textAreaRight" fmla="*/ 276840 w 276480"/>
                      <a:gd name="textAreaTop" fmla="*/ 0 h 590760"/>
                      <a:gd name="textAreaBottom" fmla="*/ 591120 h 590760"/>
                    </a:gdLst>
                    <a:ahLst/>
                    <a:rect l="textAreaLeft" t="textAreaTop" r="textAreaRight" b="textAreaBottom"/>
                    <a:pathLst>
                      <a:path w="559" h="1198">
                        <a:moveTo>
                          <a:pt x="27" y="1109"/>
                        </a:moveTo>
                        <a:lnTo>
                          <a:pt x="83" y="1037"/>
                        </a:lnTo>
                        <a:lnTo>
                          <a:pt x="171" y="924"/>
                        </a:lnTo>
                        <a:lnTo>
                          <a:pt x="211" y="817"/>
                        </a:lnTo>
                        <a:lnTo>
                          <a:pt x="262" y="642"/>
                        </a:lnTo>
                        <a:lnTo>
                          <a:pt x="308" y="492"/>
                        </a:lnTo>
                        <a:lnTo>
                          <a:pt x="327" y="362"/>
                        </a:lnTo>
                        <a:lnTo>
                          <a:pt x="358" y="213"/>
                        </a:lnTo>
                        <a:lnTo>
                          <a:pt x="348" y="152"/>
                        </a:lnTo>
                        <a:lnTo>
                          <a:pt x="294" y="104"/>
                        </a:lnTo>
                        <a:lnTo>
                          <a:pt x="262" y="52"/>
                        </a:lnTo>
                        <a:lnTo>
                          <a:pt x="284" y="30"/>
                        </a:lnTo>
                        <a:lnTo>
                          <a:pt x="308" y="73"/>
                        </a:lnTo>
                        <a:lnTo>
                          <a:pt x="348" y="96"/>
                        </a:lnTo>
                        <a:lnTo>
                          <a:pt x="348" y="61"/>
                        </a:lnTo>
                        <a:lnTo>
                          <a:pt x="348" y="0"/>
                        </a:lnTo>
                        <a:lnTo>
                          <a:pt x="366" y="0"/>
                        </a:lnTo>
                        <a:lnTo>
                          <a:pt x="382" y="61"/>
                        </a:lnTo>
                        <a:lnTo>
                          <a:pt x="394" y="91"/>
                        </a:lnTo>
                        <a:lnTo>
                          <a:pt x="439" y="45"/>
                        </a:lnTo>
                        <a:lnTo>
                          <a:pt x="458" y="0"/>
                        </a:lnTo>
                        <a:lnTo>
                          <a:pt x="485" y="20"/>
                        </a:lnTo>
                        <a:lnTo>
                          <a:pt x="458" y="68"/>
                        </a:lnTo>
                        <a:lnTo>
                          <a:pt x="431" y="113"/>
                        </a:lnTo>
                        <a:lnTo>
                          <a:pt x="509" y="99"/>
                        </a:lnTo>
                        <a:lnTo>
                          <a:pt x="549" y="75"/>
                        </a:lnTo>
                        <a:lnTo>
                          <a:pt x="559" y="91"/>
                        </a:lnTo>
                        <a:lnTo>
                          <a:pt x="519" y="118"/>
                        </a:lnTo>
                        <a:lnTo>
                          <a:pt x="473" y="134"/>
                        </a:lnTo>
                        <a:lnTo>
                          <a:pt x="428" y="167"/>
                        </a:lnTo>
                        <a:lnTo>
                          <a:pt x="401" y="225"/>
                        </a:lnTo>
                        <a:lnTo>
                          <a:pt x="372" y="326"/>
                        </a:lnTo>
                        <a:lnTo>
                          <a:pt x="345" y="486"/>
                        </a:lnTo>
                        <a:lnTo>
                          <a:pt x="318" y="615"/>
                        </a:lnTo>
                        <a:lnTo>
                          <a:pt x="284" y="737"/>
                        </a:lnTo>
                        <a:lnTo>
                          <a:pt x="244" y="871"/>
                        </a:lnTo>
                        <a:lnTo>
                          <a:pt x="198" y="992"/>
                        </a:lnTo>
                        <a:lnTo>
                          <a:pt x="134" y="1094"/>
                        </a:lnTo>
                        <a:lnTo>
                          <a:pt x="70" y="1167"/>
                        </a:lnTo>
                        <a:lnTo>
                          <a:pt x="24" y="1198"/>
                        </a:lnTo>
                        <a:lnTo>
                          <a:pt x="7" y="1182"/>
                        </a:lnTo>
                        <a:lnTo>
                          <a:pt x="0" y="1152"/>
                        </a:lnTo>
                        <a:lnTo>
                          <a:pt x="27" y="1109"/>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0"/>
                  <p:cNvSpPr/>
                  <p:nvPr/>
                </p:nvSpPr>
                <p:spPr>
                  <a:xfrm>
                    <a:off x="932400" y="4029120"/>
                    <a:ext cx="219960" cy="432720"/>
                  </a:xfrm>
                  <a:custGeom>
                    <a:avLst/>
                    <a:gdLst>
                      <a:gd name="textAreaLeft" fmla="*/ 0 w 219960"/>
                      <a:gd name="textAreaRight" fmla="*/ 220320 w 219960"/>
                      <a:gd name="textAreaTop" fmla="*/ 0 h 432720"/>
                      <a:gd name="textAreaBottom" fmla="*/ 433080 h 432720"/>
                    </a:gdLst>
                    <a:ahLst/>
                    <a:rect l="textAreaLeft" t="textAreaTop" r="textAreaRight" b="textAreaBottom"/>
                    <a:pathLst>
                      <a:path w="445" h="877">
                        <a:moveTo>
                          <a:pt x="280" y="127"/>
                        </a:moveTo>
                        <a:lnTo>
                          <a:pt x="320" y="74"/>
                        </a:lnTo>
                        <a:lnTo>
                          <a:pt x="381" y="0"/>
                        </a:lnTo>
                        <a:lnTo>
                          <a:pt x="439" y="8"/>
                        </a:lnTo>
                        <a:lnTo>
                          <a:pt x="445" y="67"/>
                        </a:lnTo>
                        <a:lnTo>
                          <a:pt x="427" y="99"/>
                        </a:lnTo>
                        <a:lnTo>
                          <a:pt x="390" y="137"/>
                        </a:lnTo>
                        <a:lnTo>
                          <a:pt x="317" y="190"/>
                        </a:lnTo>
                        <a:lnTo>
                          <a:pt x="262" y="243"/>
                        </a:lnTo>
                        <a:lnTo>
                          <a:pt x="235" y="289"/>
                        </a:lnTo>
                        <a:lnTo>
                          <a:pt x="207" y="346"/>
                        </a:lnTo>
                        <a:lnTo>
                          <a:pt x="216" y="423"/>
                        </a:lnTo>
                        <a:lnTo>
                          <a:pt x="265" y="470"/>
                        </a:lnTo>
                        <a:lnTo>
                          <a:pt x="302" y="543"/>
                        </a:lnTo>
                        <a:lnTo>
                          <a:pt x="317" y="622"/>
                        </a:lnTo>
                        <a:lnTo>
                          <a:pt x="326" y="717"/>
                        </a:lnTo>
                        <a:lnTo>
                          <a:pt x="310" y="808"/>
                        </a:lnTo>
                        <a:lnTo>
                          <a:pt x="265" y="831"/>
                        </a:lnTo>
                        <a:lnTo>
                          <a:pt x="216" y="824"/>
                        </a:lnTo>
                        <a:lnTo>
                          <a:pt x="143" y="839"/>
                        </a:lnTo>
                        <a:lnTo>
                          <a:pt x="69" y="877"/>
                        </a:lnTo>
                        <a:lnTo>
                          <a:pt x="34" y="869"/>
                        </a:lnTo>
                        <a:lnTo>
                          <a:pt x="0" y="839"/>
                        </a:lnTo>
                        <a:lnTo>
                          <a:pt x="15" y="824"/>
                        </a:lnTo>
                        <a:lnTo>
                          <a:pt x="55" y="812"/>
                        </a:lnTo>
                        <a:lnTo>
                          <a:pt x="146" y="794"/>
                        </a:lnTo>
                        <a:lnTo>
                          <a:pt x="229" y="794"/>
                        </a:lnTo>
                        <a:lnTo>
                          <a:pt x="256" y="794"/>
                        </a:lnTo>
                        <a:lnTo>
                          <a:pt x="274" y="771"/>
                        </a:lnTo>
                        <a:lnTo>
                          <a:pt x="283" y="726"/>
                        </a:lnTo>
                        <a:lnTo>
                          <a:pt x="272" y="634"/>
                        </a:lnTo>
                        <a:lnTo>
                          <a:pt x="243" y="546"/>
                        </a:lnTo>
                        <a:lnTo>
                          <a:pt x="201" y="498"/>
                        </a:lnTo>
                        <a:lnTo>
                          <a:pt x="162" y="452"/>
                        </a:lnTo>
                        <a:lnTo>
                          <a:pt x="136" y="387"/>
                        </a:lnTo>
                        <a:lnTo>
                          <a:pt x="143" y="319"/>
                        </a:lnTo>
                        <a:lnTo>
                          <a:pt x="173" y="251"/>
                        </a:lnTo>
                        <a:lnTo>
                          <a:pt x="225" y="190"/>
                        </a:lnTo>
                        <a:lnTo>
                          <a:pt x="280"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1"/>
                  <p:cNvSpPr/>
                  <p:nvPr/>
                </p:nvSpPr>
                <p:spPr>
                  <a:xfrm>
                    <a:off x="1146600" y="4039560"/>
                    <a:ext cx="189000" cy="420840"/>
                  </a:xfrm>
                  <a:custGeom>
                    <a:avLst/>
                    <a:gdLst>
                      <a:gd name="textAreaLeft" fmla="*/ 0 w 189000"/>
                      <a:gd name="textAreaRight" fmla="*/ 189360 w 189000"/>
                      <a:gd name="textAreaTop" fmla="*/ 0 h 420840"/>
                      <a:gd name="textAreaBottom" fmla="*/ 421200 h 420840"/>
                    </a:gdLst>
                    <a:ahLst/>
                    <a:rect l="textAreaLeft" t="textAreaTop" r="textAreaRight" b="textAreaBottom"/>
                    <a:pathLst>
                      <a:path w="381" h="855">
                        <a:moveTo>
                          <a:pt x="156" y="137"/>
                        </a:moveTo>
                        <a:lnTo>
                          <a:pt x="70" y="104"/>
                        </a:lnTo>
                        <a:lnTo>
                          <a:pt x="19" y="76"/>
                        </a:lnTo>
                        <a:lnTo>
                          <a:pt x="0" y="36"/>
                        </a:lnTo>
                        <a:lnTo>
                          <a:pt x="28" y="8"/>
                        </a:lnTo>
                        <a:lnTo>
                          <a:pt x="89" y="0"/>
                        </a:lnTo>
                        <a:lnTo>
                          <a:pt x="135" y="13"/>
                        </a:lnTo>
                        <a:lnTo>
                          <a:pt x="226" y="88"/>
                        </a:lnTo>
                        <a:lnTo>
                          <a:pt x="309" y="149"/>
                        </a:lnTo>
                        <a:lnTo>
                          <a:pt x="354" y="218"/>
                        </a:lnTo>
                        <a:lnTo>
                          <a:pt x="367" y="271"/>
                        </a:lnTo>
                        <a:lnTo>
                          <a:pt x="381" y="335"/>
                        </a:lnTo>
                        <a:lnTo>
                          <a:pt x="373" y="408"/>
                        </a:lnTo>
                        <a:lnTo>
                          <a:pt x="309" y="494"/>
                        </a:lnTo>
                        <a:lnTo>
                          <a:pt x="253" y="555"/>
                        </a:lnTo>
                        <a:lnTo>
                          <a:pt x="202" y="628"/>
                        </a:lnTo>
                        <a:lnTo>
                          <a:pt x="162" y="666"/>
                        </a:lnTo>
                        <a:lnTo>
                          <a:pt x="129" y="704"/>
                        </a:lnTo>
                        <a:lnTo>
                          <a:pt x="129" y="727"/>
                        </a:lnTo>
                        <a:lnTo>
                          <a:pt x="162" y="734"/>
                        </a:lnTo>
                        <a:lnTo>
                          <a:pt x="229" y="744"/>
                        </a:lnTo>
                        <a:lnTo>
                          <a:pt x="300" y="767"/>
                        </a:lnTo>
                        <a:lnTo>
                          <a:pt x="357" y="810"/>
                        </a:lnTo>
                        <a:lnTo>
                          <a:pt x="346" y="836"/>
                        </a:lnTo>
                        <a:lnTo>
                          <a:pt x="293" y="855"/>
                        </a:lnTo>
                        <a:lnTo>
                          <a:pt x="253" y="836"/>
                        </a:lnTo>
                        <a:lnTo>
                          <a:pt x="210" y="797"/>
                        </a:lnTo>
                        <a:lnTo>
                          <a:pt x="162" y="775"/>
                        </a:lnTo>
                        <a:lnTo>
                          <a:pt x="119" y="764"/>
                        </a:lnTo>
                        <a:lnTo>
                          <a:pt x="83" y="759"/>
                        </a:lnTo>
                        <a:lnTo>
                          <a:pt x="52" y="752"/>
                        </a:lnTo>
                        <a:lnTo>
                          <a:pt x="43" y="741"/>
                        </a:lnTo>
                        <a:lnTo>
                          <a:pt x="46" y="719"/>
                        </a:lnTo>
                        <a:lnTo>
                          <a:pt x="101" y="673"/>
                        </a:lnTo>
                        <a:lnTo>
                          <a:pt x="193" y="590"/>
                        </a:lnTo>
                        <a:lnTo>
                          <a:pt x="272" y="478"/>
                        </a:lnTo>
                        <a:lnTo>
                          <a:pt x="303" y="423"/>
                        </a:lnTo>
                        <a:lnTo>
                          <a:pt x="320" y="362"/>
                        </a:lnTo>
                        <a:lnTo>
                          <a:pt x="317" y="286"/>
                        </a:lnTo>
                        <a:lnTo>
                          <a:pt x="284" y="226"/>
                        </a:lnTo>
                        <a:lnTo>
                          <a:pt x="236" y="175"/>
                        </a:lnTo>
                        <a:lnTo>
                          <a:pt x="156" y="13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Group 22"/>
                <p:cNvGrpSpPr/>
                <p:nvPr/>
              </p:nvGrpSpPr>
              <p:grpSpPr>
                <a:xfrm>
                  <a:off x="1511640" y="3546360"/>
                  <a:ext cx="433080" cy="556920"/>
                  <a:chOff x="1511640" y="3546360"/>
                  <a:chExt cx="433080" cy="556920"/>
                </a:xfrm>
              </p:grpSpPr>
              <p:sp>
                <p:nvSpPr>
                  <p:cNvPr id="206" name="Freeform 23"/>
                  <p:cNvSpPr/>
                  <p:nvPr/>
                </p:nvSpPr>
                <p:spPr>
                  <a:xfrm>
                    <a:off x="1511640" y="3546360"/>
                    <a:ext cx="433080" cy="556920"/>
                  </a:xfrm>
                  <a:custGeom>
                    <a:avLst/>
                    <a:gdLst>
                      <a:gd name="textAreaLeft" fmla="*/ 0 w 433080"/>
                      <a:gd name="textAreaRight" fmla="*/ 433440 w 433080"/>
                      <a:gd name="textAreaTop" fmla="*/ 0 h 556920"/>
                      <a:gd name="textAreaBottom" fmla="*/ 557280 h 556920"/>
                    </a:gdLst>
                    <a:ahLst/>
                    <a:rect l="textAreaLeft" t="textAreaTop" r="textAreaRight" b="textAreaBottom"/>
                    <a:pathLst>
                      <a:path w="873" h="1130">
                        <a:moveTo>
                          <a:pt x="128" y="0"/>
                        </a:moveTo>
                        <a:lnTo>
                          <a:pt x="76" y="86"/>
                        </a:lnTo>
                        <a:lnTo>
                          <a:pt x="45" y="159"/>
                        </a:lnTo>
                        <a:lnTo>
                          <a:pt x="18" y="237"/>
                        </a:lnTo>
                        <a:lnTo>
                          <a:pt x="0" y="298"/>
                        </a:lnTo>
                        <a:lnTo>
                          <a:pt x="21" y="386"/>
                        </a:lnTo>
                        <a:lnTo>
                          <a:pt x="85" y="440"/>
                        </a:lnTo>
                        <a:lnTo>
                          <a:pt x="138" y="492"/>
                        </a:lnTo>
                        <a:lnTo>
                          <a:pt x="119" y="631"/>
                        </a:lnTo>
                        <a:lnTo>
                          <a:pt x="92" y="821"/>
                        </a:lnTo>
                        <a:lnTo>
                          <a:pt x="113" y="1023"/>
                        </a:lnTo>
                        <a:lnTo>
                          <a:pt x="140" y="1115"/>
                        </a:lnTo>
                        <a:lnTo>
                          <a:pt x="259" y="1084"/>
                        </a:lnTo>
                        <a:lnTo>
                          <a:pt x="342" y="1079"/>
                        </a:lnTo>
                        <a:lnTo>
                          <a:pt x="467" y="1084"/>
                        </a:lnTo>
                        <a:lnTo>
                          <a:pt x="577" y="1118"/>
                        </a:lnTo>
                        <a:lnTo>
                          <a:pt x="641" y="1130"/>
                        </a:lnTo>
                        <a:lnTo>
                          <a:pt x="641" y="1054"/>
                        </a:lnTo>
                        <a:lnTo>
                          <a:pt x="626" y="910"/>
                        </a:lnTo>
                        <a:lnTo>
                          <a:pt x="598" y="769"/>
                        </a:lnTo>
                        <a:lnTo>
                          <a:pt x="577" y="629"/>
                        </a:lnTo>
                        <a:lnTo>
                          <a:pt x="567" y="578"/>
                        </a:lnTo>
                        <a:lnTo>
                          <a:pt x="604" y="556"/>
                        </a:lnTo>
                        <a:lnTo>
                          <a:pt x="705" y="583"/>
                        </a:lnTo>
                        <a:lnTo>
                          <a:pt x="797" y="608"/>
                        </a:lnTo>
                        <a:lnTo>
                          <a:pt x="842" y="647"/>
                        </a:lnTo>
                        <a:lnTo>
                          <a:pt x="845" y="571"/>
                        </a:lnTo>
                        <a:lnTo>
                          <a:pt x="873" y="477"/>
                        </a:lnTo>
                        <a:lnTo>
                          <a:pt x="760" y="411"/>
                        </a:lnTo>
                        <a:lnTo>
                          <a:pt x="668" y="363"/>
                        </a:lnTo>
                        <a:lnTo>
                          <a:pt x="586" y="336"/>
                        </a:lnTo>
                        <a:lnTo>
                          <a:pt x="522" y="318"/>
                        </a:lnTo>
                        <a:lnTo>
                          <a:pt x="460" y="318"/>
                        </a:lnTo>
                        <a:lnTo>
                          <a:pt x="415" y="326"/>
                        </a:lnTo>
                        <a:lnTo>
                          <a:pt x="357" y="318"/>
                        </a:lnTo>
                        <a:lnTo>
                          <a:pt x="305" y="280"/>
                        </a:lnTo>
                        <a:lnTo>
                          <a:pt x="259" y="220"/>
                        </a:lnTo>
                        <a:lnTo>
                          <a:pt x="219" y="166"/>
                        </a:lnTo>
                        <a:lnTo>
                          <a:pt x="176" y="70"/>
                        </a:lnTo>
                        <a:lnTo>
                          <a:pt x="128" y="0"/>
                        </a:ln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Group 24"/>
                  <p:cNvGrpSpPr/>
                  <p:nvPr/>
                </p:nvGrpSpPr>
                <p:grpSpPr>
                  <a:xfrm>
                    <a:off x="1536840" y="3580200"/>
                    <a:ext cx="384840" cy="505800"/>
                    <a:chOff x="1536840" y="3580200"/>
                    <a:chExt cx="384840" cy="505800"/>
                  </a:xfrm>
                </p:grpSpPr>
                <p:sp>
                  <p:nvSpPr>
                    <p:cNvPr id="208" name="Freeform 25"/>
                    <p:cNvSpPr/>
                    <p:nvPr/>
                  </p:nvSpPr>
                  <p:spPr>
                    <a:xfrm>
                      <a:off x="1536840" y="3580200"/>
                      <a:ext cx="71280" cy="167760"/>
                    </a:xfrm>
                    <a:custGeom>
                      <a:avLst/>
                      <a:gdLst>
                        <a:gd name="textAreaLeft" fmla="*/ 0 w 71280"/>
                        <a:gd name="textAreaRight" fmla="*/ 71640 w 71280"/>
                        <a:gd name="textAreaTop" fmla="*/ 0 h 167760"/>
                        <a:gd name="textAreaBottom" fmla="*/ 168120 h 167760"/>
                      </a:gdLst>
                      <a:ahLst/>
                      <a:rect l="textAreaLeft" t="textAreaTop" r="textAreaRight" b="textAreaBottom"/>
                      <a:pathLst>
                        <a:path w="144" h="342">
                          <a:moveTo>
                            <a:pt x="0" y="304"/>
                          </a:moveTo>
                          <a:lnTo>
                            <a:pt x="9" y="228"/>
                          </a:lnTo>
                          <a:lnTo>
                            <a:pt x="42" y="146"/>
                          </a:lnTo>
                          <a:lnTo>
                            <a:pt x="69" y="78"/>
                          </a:lnTo>
                          <a:lnTo>
                            <a:pt x="90" y="25"/>
                          </a:lnTo>
                          <a:lnTo>
                            <a:pt x="117" y="0"/>
                          </a:lnTo>
                          <a:lnTo>
                            <a:pt x="144" y="14"/>
                          </a:lnTo>
                          <a:lnTo>
                            <a:pt x="106" y="93"/>
                          </a:lnTo>
                          <a:lnTo>
                            <a:pt x="61" y="198"/>
                          </a:lnTo>
                          <a:lnTo>
                            <a:pt x="33" y="291"/>
                          </a:lnTo>
                          <a:lnTo>
                            <a:pt x="33" y="342"/>
                          </a:lnTo>
                          <a:lnTo>
                            <a:pt x="0" y="342"/>
                          </a:lnTo>
                          <a:lnTo>
                            <a:pt x="0" y="282"/>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6"/>
                    <p:cNvSpPr/>
                    <p:nvPr/>
                  </p:nvSpPr>
                  <p:spPr>
                    <a:xfrm>
                      <a:off x="1569240" y="3638880"/>
                      <a:ext cx="66600" cy="141480"/>
                    </a:xfrm>
                    <a:custGeom>
                      <a:avLst/>
                      <a:gdLst>
                        <a:gd name="textAreaLeft" fmla="*/ 0 w 66600"/>
                        <a:gd name="textAreaRight" fmla="*/ 66960 w 66600"/>
                        <a:gd name="textAreaTop" fmla="*/ 0 h 141480"/>
                        <a:gd name="textAreaBottom" fmla="*/ 141840 h 141480"/>
                      </a:gdLst>
                      <a:ahLst/>
                      <a:rect l="textAreaLeft" t="textAreaTop" r="textAreaRight" b="textAreaBottom"/>
                      <a:pathLst>
                        <a:path w="134" h="289">
                          <a:moveTo>
                            <a:pt x="0" y="257"/>
                          </a:moveTo>
                          <a:lnTo>
                            <a:pt x="8" y="193"/>
                          </a:lnTo>
                          <a:lnTo>
                            <a:pt x="39" y="125"/>
                          </a:lnTo>
                          <a:lnTo>
                            <a:pt x="64" y="66"/>
                          </a:lnTo>
                          <a:lnTo>
                            <a:pt x="84" y="21"/>
                          </a:lnTo>
                          <a:lnTo>
                            <a:pt x="109" y="0"/>
                          </a:lnTo>
                          <a:lnTo>
                            <a:pt x="134" y="13"/>
                          </a:lnTo>
                          <a:lnTo>
                            <a:pt x="97" y="80"/>
                          </a:lnTo>
                          <a:lnTo>
                            <a:pt x="55" y="167"/>
                          </a:lnTo>
                          <a:lnTo>
                            <a:pt x="30" y="246"/>
                          </a:lnTo>
                          <a:lnTo>
                            <a:pt x="30" y="289"/>
                          </a:lnTo>
                          <a:lnTo>
                            <a:pt x="0" y="289"/>
                          </a:lnTo>
                          <a:lnTo>
                            <a:pt x="0" y="238"/>
                          </a:lnTo>
                          <a:lnTo>
                            <a:pt x="0"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27"/>
                    <p:cNvSpPr/>
                    <p:nvPr/>
                  </p:nvSpPr>
                  <p:spPr>
                    <a:xfrm>
                      <a:off x="1597680" y="3672720"/>
                      <a:ext cx="69480" cy="408960"/>
                    </a:xfrm>
                    <a:custGeom>
                      <a:avLst/>
                      <a:gdLst>
                        <a:gd name="textAreaLeft" fmla="*/ 0 w 69480"/>
                        <a:gd name="textAreaRight" fmla="*/ 69840 w 69480"/>
                        <a:gd name="textAreaTop" fmla="*/ 0 h 408960"/>
                        <a:gd name="textAreaBottom" fmla="*/ 409320 h 408960"/>
                      </a:gdLst>
                      <a:ahLst/>
                      <a:rect l="textAreaLeft" t="textAreaTop" r="textAreaRight" b="textAreaBottom"/>
                      <a:pathLst>
                        <a:path w="141" h="830">
                          <a:moveTo>
                            <a:pt x="28" y="807"/>
                          </a:moveTo>
                          <a:lnTo>
                            <a:pt x="13" y="714"/>
                          </a:lnTo>
                          <a:lnTo>
                            <a:pt x="0" y="587"/>
                          </a:lnTo>
                          <a:lnTo>
                            <a:pt x="4" y="432"/>
                          </a:lnTo>
                          <a:lnTo>
                            <a:pt x="13" y="282"/>
                          </a:lnTo>
                          <a:lnTo>
                            <a:pt x="37" y="166"/>
                          </a:lnTo>
                          <a:lnTo>
                            <a:pt x="67" y="74"/>
                          </a:lnTo>
                          <a:lnTo>
                            <a:pt x="104" y="0"/>
                          </a:lnTo>
                          <a:lnTo>
                            <a:pt x="141" y="47"/>
                          </a:lnTo>
                          <a:lnTo>
                            <a:pt x="104" y="120"/>
                          </a:lnTo>
                          <a:lnTo>
                            <a:pt x="86" y="184"/>
                          </a:lnTo>
                          <a:lnTo>
                            <a:pt x="64" y="298"/>
                          </a:lnTo>
                          <a:lnTo>
                            <a:pt x="50" y="463"/>
                          </a:lnTo>
                          <a:lnTo>
                            <a:pt x="50" y="592"/>
                          </a:lnTo>
                          <a:lnTo>
                            <a:pt x="58" y="693"/>
                          </a:lnTo>
                          <a:lnTo>
                            <a:pt x="74" y="759"/>
                          </a:lnTo>
                          <a:lnTo>
                            <a:pt x="86" y="813"/>
                          </a:lnTo>
                          <a:lnTo>
                            <a:pt x="31" y="830"/>
                          </a:lnTo>
                          <a:lnTo>
                            <a:pt x="28" y="8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28"/>
                    <p:cNvSpPr/>
                    <p:nvPr/>
                  </p:nvSpPr>
                  <p:spPr>
                    <a:xfrm>
                      <a:off x="1659960" y="3709800"/>
                      <a:ext cx="53280" cy="361440"/>
                    </a:xfrm>
                    <a:custGeom>
                      <a:avLst/>
                      <a:gdLst>
                        <a:gd name="textAreaLeft" fmla="*/ 0 w 53280"/>
                        <a:gd name="textAreaRight" fmla="*/ 53640 w 53280"/>
                        <a:gd name="textAreaTop" fmla="*/ 0 h 361440"/>
                        <a:gd name="textAreaBottom" fmla="*/ 361440 h 361440"/>
                      </a:gdLst>
                      <a:ahLst/>
                      <a:rect l="textAreaLeft" t="textAreaTop" r="textAreaRight" b="textAreaBottom"/>
                      <a:pathLst>
                        <a:path w="106" h="737">
                          <a:moveTo>
                            <a:pt x="31" y="730"/>
                          </a:moveTo>
                          <a:lnTo>
                            <a:pt x="9" y="609"/>
                          </a:lnTo>
                          <a:lnTo>
                            <a:pt x="0" y="478"/>
                          </a:lnTo>
                          <a:lnTo>
                            <a:pt x="0" y="351"/>
                          </a:lnTo>
                          <a:lnTo>
                            <a:pt x="9" y="242"/>
                          </a:lnTo>
                          <a:lnTo>
                            <a:pt x="18" y="129"/>
                          </a:lnTo>
                          <a:lnTo>
                            <a:pt x="49" y="41"/>
                          </a:lnTo>
                          <a:lnTo>
                            <a:pt x="68" y="0"/>
                          </a:lnTo>
                          <a:lnTo>
                            <a:pt x="106" y="0"/>
                          </a:lnTo>
                          <a:lnTo>
                            <a:pt x="78" y="121"/>
                          </a:lnTo>
                          <a:lnTo>
                            <a:pt x="68" y="222"/>
                          </a:lnTo>
                          <a:lnTo>
                            <a:pt x="65" y="349"/>
                          </a:lnTo>
                          <a:lnTo>
                            <a:pt x="65" y="478"/>
                          </a:lnTo>
                          <a:lnTo>
                            <a:pt x="68" y="624"/>
                          </a:lnTo>
                          <a:lnTo>
                            <a:pt x="78" y="707"/>
                          </a:lnTo>
                          <a:lnTo>
                            <a:pt x="87" y="737"/>
                          </a:lnTo>
                          <a:lnTo>
                            <a:pt x="31" y="7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9"/>
                    <p:cNvSpPr/>
                    <p:nvPr/>
                  </p:nvSpPr>
                  <p:spPr>
                    <a:xfrm>
                      <a:off x="1724040" y="3704040"/>
                      <a:ext cx="51840" cy="381960"/>
                    </a:xfrm>
                    <a:custGeom>
                      <a:avLst/>
                      <a:gdLst>
                        <a:gd name="textAreaLeft" fmla="*/ 0 w 51840"/>
                        <a:gd name="textAreaRight" fmla="*/ 52200 w 51840"/>
                        <a:gd name="textAreaTop" fmla="*/ 0 h 381960"/>
                        <a:gd name="textAreaBottom" fmla="*/ 382320 h 381960"/>
                      </a:gdLst>
                      <a:ahLst/>
                      <a:rect l="textAreaLeft" t="textAreaTop" r="textAreaRight" b="textAreaBottom"/>
                      <a:pathLst>
                        <a:path w="106" h="778">
                          <a:moveTo>
                            <a:pt x="37" y="742"/>
                          </a:moveTo>
                          <a:lnTo>
                            <a:pt x="11" y="606"/>
                          </a:lnTo>
                          <a:lnTo>
                            <a:pt x="2" y="475"/>
                          </a:lnTo>
                          <a:lnTo>
                            <a:pt x="0" y="341"/>
                          </a:lnTo>
                          <a:lnTo>
                            <a:pt x="0" y="188"/>
                          </a:lnTo>
                          <a:lnTo>
                            <a:pt x="18" y="81"/>
                          </a:lnTo>
                          <a:lnTo>
                            <a:pt x="27" y="5"/>
                          </a:lnTo>
                          <a:lnTo>
                            <a:pt x="74" y="0"/>
                          </a:lnTo>
                          <a:lnTo>
                            <a:pt x="65" y="74"/>
                          </a:lnTo>
                          <a:lnTo>
                            <a:pt x="46" y="197"/>
                          </a:lnTo>
                          <a:lnTo>
                            <a:pt x="49" y="316"/>
                          </a:lnTo>
                          <a:lnTo>
                            <a:pt x="65" y="475"/>
                          </a:lnTo>
                          <a:lnTo>
                            <a:pt x="77" y="611"/>
                          </a:lnTo>
                          <a:lnTo>
                            <a:pt x="93" y="687"/>
                          </a:lnTo>
                          <a:lnTo>
                            <a:pt x="106" y="778"/>
                          </a:lnTo>
                          <a:lnTo>
                            <a:pt x="3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30"/>
                    <p:cNvSpPr/>
                    <p:nvPr/>
                  </p:nvSpPr>
                  <p:spPr>
                    <a:xfrm>
                      <a:off x="1776240" y="3712680"/>
                      <a:ext cx="35640" cy="122400"/>
                    </a:xfrm>
                    <a:custGeom>
                      <a:avLst/>
                      <a:gdLst>
                        <a:gd name="textAreaLeft" fmla="*/ 0 w 35640"/>
                        <a:gd name="textAreaRight" fmla="*/ 36000 w 35640"/>
                        <a:gd name="textAreaTop" fmla="*/ 0 h 122400"/>
                        <a:gd name="textAreaBottom" fmla="*/ 122760 h 122400"/>
                      </a:gdLst>
                      <a:ahLst/>
                      <a:rect l="textAreaLeft" t="textAreaTop" r="textAreaRight" b="textAreaBottom"/>
                      <a:pathLst>
                        <a:path w="71" h="247">
                          <a:moveTo>
                            <a:pt x="19" y="0"/>
                          </a:moveTo>
                          <a:lnTo>
                            <a:pt x="0" y="71"/>
                          </a:lnTo>
                          <a:lnTo>
                            <a:pt x="0" y="141"/>
                          </a:lnTo>
                          <a:lnTo>
                            <a:pt x="9" y="222"/>
                          </a:lnTo>
                          <a:lnTo>
                            <a:pt x="19" y="247"/>
                          </a:lnTo>
                          <a:lnTo>
                            <a:pt x="66" y="199"/>
                          </a:lnTo>
                          <a:lnTo>
                            <a:pt x="47" y="123"/>
                          </a:lnTo>
                          <a:lnTo>
                            <a:pt x="53" y="46"/>
                          </a:lnTo>
                          <a:lnTo>
                            <a:pt x="71" y="1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31"/>
                    <p:cNvSpPr/>
                    <p:nvPr/>
                  </p:nvSpPr>
                  <p:spPr>
                    <a:xfrm>
                      <a:off x="1834200" y="3732120"/>
                      <a:ext cx="35640" cy="94320"/>
                    </a:xfrm>
                    <a:custGeom>
                      <a:avLst/>
                      <a:gdLst>
                        <a:gd name="textAreaLeft" fmla="*/ 0 w 35640"/>
                        <a:gd name="textAreaRight" fmla="*/ 36000 w 35640"/>
                        <a:gd name="textAreaTop" fmla="*/ 0 h 94320"/>
                        <a:gd name="textAreaBottom" fmla="*/ 94680 h 94320"/>
                      </a:gdLst>
                      <a:ahLst/>
                      <a:rect l="textAreaLeft" t="textAreaTop" r="textAreaRight" b="textAreaBottom"/>
                      <a:pathLst>
                        <a:path w="73" h="191">
                          <a:moveTo>
                            <a:pt x="19" y="0"/>
                          </a:moveTo>
                          <a:lnTo>
                            <a:pt x="0" y="64"/>
                          </a:lnTo>
                          <a:lnTo>
                            <a:pt x="0" y="130"/>
                          </a:lnTo>
                          <a:lnTo>
                            <a:pt x="19" y="178"/>
                          </a:lnTo>
                          <a:lnTo>
                            <a:pt x="73" y="191"/>
                          </a:lnTo>
                          <a:lnTo>
                            <a:pt x="53" y="146"/>
                          </a:lnTo>
                          <a:lnTo>
                            <a:pt x="56" y="76"/>
                          </a:lnTo>
                          <a:lnTo>
                            <a:pt x="73" y="25"/>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32"/>
                    <p:cNvSpPr/>
                    <p:nvPr/>
                  </p:nvSpPr>
                  <p:spPr>
                    <a:xfrm>
                      <a:off x="1893600" y="3762720"/>
                      <a:ext cx="28080" cy="82440"/>
                    </a:xfrm>
                    <a:custGeom>
                      <a:avLst/>
                      <a:gdLst>
                        <a:gd name="textAreaLeft" fmla="*/ 0 w 28080"/>
                        <a:gd name="textAreaRight" fmla="*/ 28440 w 28080"/>
                        <a:gd name="textAreaTop" fmla="*/ 0 h 82440"/>
                        <a:gd name="textAreaBottom" fmla="*/ 82440 h 82440"/>
                      </a:gdLst>
                      <a:ahLst/>
                      <a:rect l="textAreaLeft" t="textAreaTop" r="textAreaRight" b="textAreaBottom"/>
                      <a:pathLst>
                        <a:path w="56" h="166">
                          <a:moveTo>
                            <a:pt x="12" y="0"/>
                          </a:moveTo>
                          <a:lnTo>
                            <a:pt x="0" y="35"/>
                          </a:lnTo>
                          <a:lnTo>
                            <a:pt x="0" y="99"/>
                          </a:lnTo>
                          <a:lnTo>
                            <a:pt x="8" y="151"/>
                          </a:lnTo>
                          <a:lnTo>
                            <a:pt x="56" y="166"/>
                          </a:lnTo>
                          <a:lnTo>
                            <a:pt x="36" y="115"/>
                          </a:lnTo>
                          <a:lnTo>
                            <a:pt x="36" y="61"/>
                          </a:lnTo>
                          <a:lnTo>
                            <a:pt x="48" y="1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aphicFrame>
            <p:nvGraphicFramePr>
              <p:cNvPr id="216" name="Object 33"/>
              <p:cNvGraphicFramePr/>
              <p:nvPr/>
            </p:nvGraphicFramePr>
            <p:xfrm>
              <a:off x="1164600" y="2474280"/>
              <a:ext cx="463320" cy="645480"/>
            </p:xfrm>
            <a:graphic>
              <a:graphicData uri="http://schemas.openxmlformats.org/presentationml/2006/ole">
                <p:oleObj r:id="rId1" spid="">
                  <p:embed/>
                  <p:pic>
                    <p:nvPicPr>
                      <p:cNvPr id="217" name="Object 33" descr=""/>
                      <p:cNvPicPr/>
                      <p:nvPr/>
                    </p:nvPicPr>
                    <p:blipFill>
                      <a:blip r:embed="rId2"/>
                      <a:stretch/>
                    </p:blipFill>
                    <p:spPr>
                      <a:xfrm>
                        <a:off x="1164600" y="2474280"/>
                        <a:ext cx="463320" cy="645480"/>
                      </a:xfrm>
                      <a:prstGeom prst="rect">
                        <a:avLst/>
                      </a:prstGeom>
                      <a:ln w="0">
                        <a:noFill/>
                      </a:ln>
                    </p:spPr>
                  </p:pic>
                </p:oleObj>
              </a:graphicData>
            </a:graphic>
          </p:graphicFrame>
          <p:sp>
            <p:nvSpPr>
              <p:cNvPr id="218" name="Oval 34"/>
              <p:cNvSpPr/>
              <p:nvPr/>
            </p:nvSpPr>
            <p:spPr>
              <a:xfrm>
                <a:off x="609480" y="2345400"/>
                <a:ext cx="1560600" cy="2328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35"/>
              <p:cNvSpPr/>
              <p:nvPr/>
            </p:nvSpPr>
            <p:spPr>
              <a:xfrm>
                <a:off x="1338840" y="1766880"/>
                <a:ext cx="572040" cy="425160"/>
              </a:xfrm>
              <a:custGeom>
                <a:avLst/>
                <a:gdLst>
                  <a:gd name="textAreaLeft" fmla="*/ 329400 w 572040"/>
                  <a:gd name="textAreaRight" fmla="*/ 482760 w 572040"/>
                  <a:gd name="textAreaTop" fmla="*/ 57600 h 425160"/>
                  <a:gd name="textAreaBottom" fmla="*/ 181440 h 425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AutoShape 36"/>
              <p:cNvSpPr/>
              <p:nvPr/>
            </p:nvSpPr>
            <p:spPr>
              <a:xfrm flipH="1" flipV="1" rot="5400000">
                <a:off x="1197000" y="4884480"/>
                <a:ext cx="567360" cy="428760"/>
              </a:xfrm>
              <a:custGeom>
                <a:avLst/>
                <a:gdLst>
                  <a:gd name="textAreaLeft" fmla="*/ 326880 w 567360"/>
                  <a:gd name="textAreaRight" fmla="*/ 479160 w 567360"/>
                  <a:gd name="textAreaTop" fmla="*/ 57600 h 428760"/>
                  <a:gd name="textAreaBottom" fmla="*/ 182880 h 428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Rectangle 37"/>
            <p:cNvSpPr/>
            <p:nvPr/>
          </p:nvSpPr>
          <p:spPr>
            <a:xfrm>
              <a:off x="2982960" y="4603680"/>
              <a:ext cx="1652400" cy="110988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3.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DE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E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INDICADO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DE GESTIÓN</a:t>
              </a:r>
              <a:endParaRPr b="0" lang="en-US" sz="1600" spc="-1" strike="noStrike">
                <a:solidFill>
                  <a:srgbClr val="000000"/>
                </a:solidFill>
                <a:latin typeface="Times New Roman"/>
              </a:endParaRPr>
            </a:p>
          </p:txBody>
        </p:sp>
        <p:pic>
          <p:nvPicPr>
            <p:cNvPr id="222" name="Picture 38" descr="SYMOT469"/>
            <p:cNvPicPr/>
            <p:nvPr/>
          </p:nvPicPr>
          <p:blipFill>
            <a:blip r:embed="rId3"/>
            <a:stretch/>
          </p:blipFill>
          <p:spPr>
            <a:xfrm>
              <a:off x="1839960" y="4957920"/>
              <a:ext cx="668160" cy="669600"/>
            </a:xfrm>
            <a:prstGeom prst="rect">
              <a:avLst/>
            </a:prstGeom>
            <a:ln w="0">
              <a:noFill/>
            </a:ln>
          </p:spPr>
        </p:pic>
        <p:sp>
          <p:nvSpPr>
            <p:cNvPr id="223" name="AutoShape 39"/>
            <p:cNvSpPr/>
            <p:nvPr/>
          </p:nvSpPr>
          <p:spPr>
            <a:xfrm>
              <a:off x="4983120" y="4957920"/>
              <a:ext cx="246240" cy="35064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40"/>
            <p:cNvSpPr/>
            <p:nvPr/>
          </p:nvSpPr>
          <p:spPr>
            <a:xfrm>
              <a:off x="2625840" y="5170320"/>
              <a:ext cx="244440" cy="35100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1"/>
            <p:cNvSpPr/>
            <p:nvPr/>
          </p:nvSpPr>
          <p:spPr>
            <a:xfrm>
              <a:off x="5919840" y="3327480"/>
              <a:ext cx="28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GERENCIA</a:t>
              </a:r>
              <a:r>
                <a:rPr b="1" lang="es-ES_tradnl" sz="1800" spc="-1" strike="noStrike">
                  <a:solidFill>
                    <a:srgbClr val="000000"/>
                  </a:solidFill>
                  <a:latin typeface="Comic Sans MS"/>
                </a:rPr>
                <a:t> DE PROYECTO</a:t>
              </a:r>
              <a:endParaRPr b="0" lang="en-US" sz="1800" spc="-1" strike="noStrike">
                <a:solidFill>
                  <a:srgbClr val="000000"/>
                </a:solidFill>
                <a:latin typeface="Times New Roman"/>
              </a:endParaRPr>
            </a:p>
          </p:txBody>
        </p:sp>
        <p:sp>
          <p:nvSpPr>
            <p:cNvPr id="226" name="Rectangle 42"/>
            <p:cNvSpPr/>
            <p:nvPr/>
          </p:nvSpPr>
          <p:spPr>
            <a:xfrm>
              <a:off x="2074320" y="2901960"/>
              <a:ext cx="2710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82400"/>
                  </a:solidFill>
                  <a:latin typeface="Times New Roman"/>
                </a:rPr>
                <a:t>GERENCIA DE FORMULACIÓN</a:t>
              </a:r>
              <a:endParaRPr b="0" lang="en-US" sz="1400" spc="-1" strike="noStrike">
                <a:solidFill>
                  <a:srgbClr val="000000"/>
                </a:solidFill>
                <a:latin typeface="Times New Roman"/>
              </a:endParaRPr>
            </a:p>
          </p:txBody>
        </p:sp>
        <p:sp>
          <p:nvSpPr>
            <p:cNvPr id="227" name="Rectangle 43"/>
            <p:cNvSpPr/>
            <p:nvPr/>
          </p:nvSpPr>
          <p:spPr>
            <a:xfrm>
              <a:off x="3625920" y="1697040"/>
              <a:ext cx="2020680" cy="99216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1.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X-A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EA)</a:t>
              </a:r>
              <a:endParaRPr b="0" lang="en-US" sz="2000" spc="-1" strike="noStrike">
                <a:solidFill>
                  <a:srgbClr val="000000"/>
                </a:solidFill>
                <a:latin typeface="Times New Roman"/>
              </a:endParaRPr>
            </a:p>
          </p:txBody>
        </p:sp>
        <p:grpSp>
          <p:nvGrpSpPr>
            <p:cNvPr id="228" name="Group 44"/>
            <p:cNvGrpSpPr/>
            <p:nvPr/>
          </p:nvGrpSpPr>
          <p:grpSpPr>
            <a:xfrm>
              <a:off x="2125800" y="1413000"/>
              <a:ext cx="1452240" cy="1251720"/>
              <a:chOff x="2125800" y="1413000"/>
              <a:chExt cx="1452240" cy="1251720"/>
            </a:xfrm>
          </p:grpSpPr>
          <p:grpSp>
            <p:nvGrpSpPr>
              <p:cNvPr id="229" name="Group 45"/>
              <p:cNvGrpSpPr/>
              <p:nvPr/>
            </p:nvGrpSpPr>
            <p:grpSpPr>
              <a:xfrm>
                <a:off x="2125800" y="1413000"/>
                <a:ext cx="1283400" cy="1251720"/>
                <a:chOff x="2125800" y="1413000"/>
                <a:chExt cx="1283400" cy="1251720"/>
              </a:xfrm>
            </p:grpSpPr>
            <p:grpSp>
              <p:nvGrpSpPr>
                <p:cNvPr id="230" name="Group 46"/>
                <p:cNvGrpSpPr/>
                <p:nvPr/>
              </p:nvGrpSpPr>
              <p:grpSpPr>
                <a:xfrm>
                  <a:off x="2125800" y="1649160"/>
                  <a:ext cx="537120" cy="1015560"/>
                  <a:chOff x="2125800" y="1649160"/>
                  <a:chExt cx="537120" cy="1015560"/>
                </a:xfrm>
              </p:grpSpPr>
              <p:sp>
                <p:nvSpPr>
                  <p:cNvPr id="231" name="Freeform 47"/>
                  <p:cNvSpPr/>
                  <p:nvPr/>
                </p:nvSpPr>
                <p:spPr>
                  <a:xfrm>
                    <a:off x="2125800" y="1987200"/>
                    <a:ext cx="537120" cy="677520"/>
                  </a:xfrm>
                  <a:custGeom>
                    <a:avLst/>
                    <a:gdLst>
                      <a:gd name="textAreaLeft" fmla="*/ 0 w 537120"/>
                      <a:gd name="textAreaRight" fmla="*/ 537480 w 537120"/>
                      <a:gd name="textAreaTop" fmla="*/ 0 h 677520"/>
                      <a:gd name="textAreaBottom" fmla="*/ 677880 h 677520"/>
                    </a:gdLst>
                    <a:ahLst/>
                    <a:rect l="textAreaLeft" t="textAreaTop" r="textAreaRight" b="textAreaBottom"/>
                    <a:pathLst>
                      <a:path w="1082" h="1377">
                        <a:moveTo>
                          <a:pt x="622" y="471"/>
                        </a:moveTo>
                        <a:lnTo>
                          <a:pt x="608" y="0"/>
                        </a:lnTo>
                        <a:lnTo>
                          <a:pt x="544" y="10"/>
                        </a:lnTo>
                        <a:lnTo>
                          <a:pt x="421" y="42"/>
                        </a:lnTo>
                        <a:lnTo>
                          <a:pt x="347" y="80"/>
                        </a:lnTo>
                        <a:lnTo>
                          <a:pt x="323" y="136"/>
                        </a:lnTo>
                        <a:lnTo>
                          <a:pt x="366" y="259"/>
                        </a:lnTo>
                        <a:lnTo>
                          <a:pt x="369" y="294"/>
                        </a:lnTo>
                        <a:lnTo>
                          <a:pt x="285" y="336"/>
                        </a:lnTo>
                        <a:lnTo>
                          <a:pt x="211" y="390"/>
                        </a:lnTo>
                        <a:lnTo>
                          <a:pt x="155" y="449"/>
                        </a:lnTo>
                        <a:lnTo>
                          <a:pt x="81" y="526"/>
                        </a:lnTo>
                        <a:lnTo>
                          <a:pt x="32" y="611"/>
                        </a:lnTo>
                        <a:lnTo>
                          <a:pt x="7" y="713"/>
                        </a:lnTo>
                        <a:lnTo>
                          <a:pt x="0" y="797"/>
                        </a:lnTo>
                        <a:lnTo>
                          <a:pt x="0" y="917"/>
                        </a:lnTo>
                        <a:lnTo>
                          <a:pt x="28" y="1040"/>
                        </a:lnTo>
                        <a:lnTo>
                          <a:pt x="74" y="1106"/>
                        </a:lnTo>
                        <a:lnTo>
                          <a:pt x="158" y="1190"/>
                        </a:lnTo>
                        <a:lnTo>
                          <a:pt x="263" y="1274"/>
                        </a:lnTo>
                        <a:lnTo>
                          <a:pt x="386" y="1334"/>
                        </a:lnTo>
                        <a:lnTo>
                          <a:pt x="538" y="1370"/>
                        </a:lnTo>
                        <a:lnTo>
                          <a:pt x="682" y="1377"/>
                        </a:lnTo>
                        <a:lnTo>
                          <a:pt x="766" y="1366"/>
                        </a:lnTo>
                        <a:lnTo>
                          <a:pt x="839" y="1324"/>
                        </a:lnTo>
                        <a:lnTo>
                          <a:pt x="924" y="1254"/>
                        </a:lnTo>
                        <a:lnTo>
                          <a:pt x="970" y="1180"/>
                        </a:lnTo>
                        <a:lnTo>
                          <a:pt x="1040" y="1085"/>
                        </a:lnTo>
                        <a:lnTo>
                          <a:pt x="1065" y="997"/>
                        </a:lnTo>
                        <a:lnTo>
                          <a:pt x="1082" y="892"/>
                        </a:lnTo>
                        <a:lnTo>
                          <a:pt x="1072" y="786"/>
                        </a:lnTo>
                        <a:lnTo>
                          <a:pt x="1043" y="685"/>
                        </a:lnTo>
                        <a:lnTo>
                          <a:pt x="991" y="579"/>
                        </a:lnTo>
                        <a:lnTo>
                          <a:pt x="913" y="481"/>
                        </a:lnTo>
                        <a:lnTo>
                          <a:pt x="851" y="417"/>
                        </a:lnTo>
                        <a:lnTo>
                          <a:pt x="780" y="385"/>
                        </a:lnTo>
                        <a:lnTo>
                          <a:pt x="686" y="347"/>
                        </a:lnTo>
                        <a:lnTo>
                          <a:pt x="618" y="333"/>
                        </a:lnTo>
                        <a:lnTo>
                          <a:pt x="618" y="375"/>
                        </a:lnTo>
                        <a:lnTo>
                          <a:pt x="692" y="397"/>
                        </a:lnTo>
                        <a:lnTo>
                          <a:pt x="755" y="410"/>
                        </a:lnTo>
                        <a:lnTo>
                          <a:pt x="812" y="442"/>
                        </a:lnTo>
                        <a:lnTo>
                          <a:pt x="875" y="505"/>
                        </a:lnTo>
                        <a:lnTo>
                          <a:pt x="924" y="575"/>
                        </a:lnTo>
                        <a:lnTo>
                          <a:pt x="956" y="621"/>
                        </a:lnTo>
                        <a:lnTo>
                          <a:pt x="991" y="685"/>
                        </a:lnTo>
                        <a:lnTo>
                          <a:pt x="1019" y="776"/>
                        </a:lnTo>
                        <a:lnTo>
                          <a:pt x="1033" y="860"/>
                        </a:lnTo>
                        <a:lnTo>
                          <a:pt x="1033" y="934"/>
                        </a:lnTo>
                        <a:lnTo>
                          <a:pt x="1012" y="1011"/>
                        </a:lnTo>
                        <a:lnTo>
                          <a:pt x="987" y="1085"/>
                        </a:lnTo>
                        <a:lnTo>
                          <a:pt x="938" y="1155"/>
                        </a:lnTo>
                        <a:lnTo>
                          <a:pt x="893" y="1211"/>
                        </a:lnTo>
                        <a:lnTo>
                          <a:pt x="844" y="1260"/>
                        </a:lnTo>
                        <a:lnTo>
                          <a:pt x="780" y="1292"/>
                        </a:lnTo>
                        <a:lnTo>
                          <a:pt x="728" y="1324"/>
                        </a:lnTo>
                        <a:lnTo>
                          <a:pt x="674" y="1334"/>
                        </a:lnTo>
                        <a:lnTo>
                          <a:pt x="587" y="1328"/>
                        </a:lnTo>
                        <a:lnTo>
                          <a:pt x="482" y="1313"/>
                        </a:lnTo>
                        <a:lnTo>
                          <a:pt x="379" y="1274"/>
                        </a:lnTo>
                        <a:lnTo>
                          <a:pt x="295" y="1232"/>
                        </a:lnTo>
                        <a:lnTo>
                          <a:pt x="218" y="1180"/>
                        </a:lnTo>
                        <a:lnTo>
                          <a:pt x="155" y="1124"/>
                        </a:lnTo>
                        <a:lnTo>
                          <a:pt x="113" y="1070"/>
                        </a:lnTo>
                        <a:lnTo>
                          <a:pt x="71" y="1008"/>
                        </a:lnTo>
                        <a:lnTo>
                          <a:pt x="52" y="927"/>
                        </a:lnTo>
                        <a:lnTo>
                          <a:pt x="49" y="818"/>
                        </a:lnTo>
                        <a:lnTo>
                          <a:pt x="52" y="727"/>
                        </a:lnTo>
                        <a:lnTo>
                          <a:pt x="74" y="649"/>
                        </a:lnTo>
                        <a:lnTo>
                          <a:pt x="101" y="569"/>
                        </a:lnTo>
                        <a:lnTo>
                          <a:pt x="158" y="501"/>
                        </a:lnTo>
                        <a:lnTo>
                          <a:pt x="221" y="442"/>
                        </a:lnTo>
                        <a:lnTo>
                          <a:pt x="285" y="400"/>
                        </a:lnTo>
                        <a:lnTo>
                          <a:pt x="355" y="365"/>
                        </a:lnTo>
                        <a:lnTo>
                          <a:pt x="408" y="336"/>
                        </a:lnTo>
                        <a:lnTo>
                          <a:pt x="450" y="326"/>
                        </a:lnTo>
                        <a:lnTo>
                          <a:pt x="450" y="312"/>
                        </a:lnTo>
                        <a:lnTo>
                          <a:pt x="397" y="154"/>
                        </a:lnTo>
                        <a:lnTo>
                          <a:pt x="397" y="126"/>
                        </a:lnTo>
                        <a:lnTo>
                          <a:pt x="433" y="104"/>
                        </a:lnTo>
                        <a:lnTo>
                          <a:pt x="482" y="73"/>
                        </a:lnTo>
                        <a:lnTo>
                          <a:pt x="544" y="59"/>
                        </a:lnTo>
                        <a:lnTo>
                          <a:pt x="569" y="59"/>
                        </a:lnTo>
                        <a:lnTo>
                          <a:pt x="576" y="165"/>
                        </a:lnTo>
                        <a:lnTo>
                          <a:pt x="559" y="312"/>
                        </a:lnTo>
                        <a:lnTo>
                          <a:pt x="538" y="410"/>
                        </a:lnTo>
                        <a:lnTo>
                          <a:pt x="576" y="449"/>
                        </a:lnTo>
                        <a:lnTo>
                          <a:pt x="622" y="471"/>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48"/>
                  <p:cNvSpPr/>
                  <p:nvPr/>
                </p:nvSpPr>
                <p:spPr>
                  <a:xfrm>
                    <a:off x="2292120" y="1821600"/>
                    <a:ext cx="84600" cy="201960"/>
                  </a:xfrm>
                  <a:custGeom>
                    <a:avLst/>
                    <a:gdLst>
                      <a:gd name="textAreaLeft" fmla="*/ 0 w 84600"/>
                      <a:gd name="textAreaRight" fmla="*/ 84960 w 84600"/>
                      <a:gd name="textAreaTop" fmla="*/ 0 h 201960"/>
                      <a:gd name="textAreaBottom" fmla="*/ 202320 h 201960"/>
                    </a:gdLst>
                    <a:ahLst/>
                    <a:rect l="textAreaLeft" t="textAreaTop" r="textAreaRight" b="textAreaBottom"/>
                    <a:pathLst>
                      <a:path w="172" h="411">
                        <a:moveTo>
                          <a:pt x="158" y="348"/>
                        </a:moveTo>
                        <a:lnTo>
                          <a:pt x="158" y="288"/>
                        </a:lnTo>
                        <a:lnTo>
                          <a:pt x="141" y="193"/>
                        </a:lnTo>
                        <a:lnTo>
                          <a:pt x="106" y="137"/>
                        </a:lnTo>
                        <a:lnTo>
                          <a:pt x="57" y="31"/>
                        </a:lnTo>
                        <a:lnTo>
                          <a:pt x="35" y="0"/>
                        </a:lnTo>
                        <a:lnTo>
                          <a:pt x="0" y="21"/>
                        </a:lnTo>
                        <a:lnTo>
                          <a:pt x="0" y="46"/>
                        </a:lnTo>
                        <a:lnTo>
                          <a:pt x="25" y="88"/>
                        </a:lnTo>
                        <a:lnTo>
                          <a:pt x="63" y="172"/>
                        </a:lnTo>
                        <a:lnTo>
                          <a:pt x="94" y="235"/>
                        </a:lnTo>
                        <a:lnTo>
                          <a:pt x="99" y="295"/>
                        </a:lnTo>
                        <a:lnTo>
                          <a:pt x="109" y="390"/>
                        </a:lnTo>
                        <a:lnTo>
                          <a:pt x="141" y="411"/>
                        </a:lnTo>
                        <a:lnTo>
                          <a:pt x="172" y="383"/>
                        </a:lnTo>
                        <a:lnTo>
                          <a:pt x="158" y="34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49"/>
                  <p:cNvSpPr/>
                  <p:nvPr/>
                </p:nvSpPr>
                <p:spPr>
                  <a:xfrm>
                    <a:off x="2366640" y="1824840"/>
                    <a:ext cx="92160" cy="47160"/>
                  </a:xfrm>
                  <a:custGeom>
                    <a:avLst/>
                    <a:gdLst>
                      <a:gd name="textAreaLeft" fmla="*/ 0 w 92160"/>
                      <a:gd name="textAreaRight" fmla="*/ 92520 w 92160"/>
                      <a:gd name="textAreaTop" fmla="*/ 0 h 47160"/>
                      <a:gd name="textAreaBottom" fmla="*/ 47520 h 47160"/>
                    </a:gdLst>
                    <a:ahLst/>
                    <a:rect l="textAreaLeft" t="textAreaTop" r="textAreaRight" b="textAreaBottom"/>
                    <a:pathLst>
                      <a:path w="186" h="94">
                        <a:moveTo>
                          <a:pt x="186" y="87"/>
                        </a:moveTo>
                        <a:lnTo>
                          <a:pt x="175" y="62"/>
                        </a:lnTo>
                        <a:lnTo>
                          <a:pt x="116" y="24"/>
                        </a:lnTo>
                        <a:lnTo>
                          <a:pt x="52" y="0"/>
                        </a:lnTo>
                        <a:lnTo>
                          <a:pt x="17" y="0"/>
                        </a:lnTo>
                        <a:lnTo>
                          <a:pt x="0" y="20"/>
                        </a:lnTo>
                        <a:lnTo>
                          <a:pt x="10" y="52"/>
                        </a:lnTo>
                        <a:lnTo>
                          <a:pt x="70" y="73"/>
                        </a:lnTo>
                        <a:lnTo>
                          <a:pt x="155" y="94"/>
                        </a:lnTo>
                        <a:lnTo>
                          <a:pt x="186" y="87"/>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Freeform 50"/>
                  <p:cNvSpPr/>
                  <p:nvPr/>
                </p:nvSpPr>
                <p:spPr>
                  <a:xfrm>
                    <a:off x="2344320" y="1685880"/>
                    <a:ext cx="65160" cy="83880"/>
                  </a:xfrm>
                  <a:custGeom>
                    <a:avLst/>
                    <a:gdLst>
                      <a:gd name="textAreaLeft" fmla="*/ 0 w 65160"/>
                      <a:gd name="textAreaRight" fmla="*/ 65520 w 65160"/>
                      <a:gd name="textAreaTop" fmla="*/ 0 h 83880"/>
                      <a:gd name="textAreaBottom" fmla="*/ 84240 h 83880"/>
                    </a:gdLst>
                    <a:ahLst/>
                    <a:rect l="textAreaLeft" t="textAreaTop" r="textAreaRight" b="textAreaBottom"/>
                    <a:pathLst>
                      <a:path w="132" h="172">
                        <a:moveTo>
                          <a:pt x="126" y="0"/>
                        </a:moveTo>
                        <a:lnTo>
                          <a:pt x="132" y="24"/>
                        </a:lnTo>
                        <a:lnTo>
                          <a:pt x="94" y="108"/>
                        </a:lnTo>
                        <a:lnTo>
                          <a:pt x="63" y="150"/>
                        </a:lnTo>
                        <a:lnTo>
                          <a:pt x="39" y="172"/>
                        </a:lnTo>
                        <a:lnTo>
                          <a:pt x="11" y="172"/>
                        </a:lnTo>
                        <a:lnTo>
                          <a:pt x="0" y="150"/>
                        </a:lnTo>
                        <a:lnTo>
                          <a:pt x="7" y="119"/>
                        </a:lnTo>
                        <a:lnTo>
                          <a:pt x="81" y="45"/>
                        </a:lnTo>
                        <a:lnTo>
                          <a:pt x="126" y="0"/>
                        </a:lnTo>
                        <a:close/>
                      </a:path>
                    </a:pathLst>
                  </a:custGeom>
                  <a:solidFill>
                    <a:srgbClr val="000000"/>
                  </a:solidFill>
                  <a:ln w="9360">
                    <a:solidFill>
                      <a:srgbClr val="dfd6c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 name="Freeform 51"/>
                  <p:cNvSpPr/>
                  <p:nvPr/>
                </p:nvSpPr>
                <p:spPr>
                  <a:xfrm>
                    <a:off x="2277360" y="1649160"/>
                    <a:ext cx="33840" cy="94320"/>
                  </a:xfrm>
                  <a:custGeom>
                    <a:avLst/>
                    <a:gdLst>
                      <a:gd name="textAreaLeft" fmla="*/ 0 w 33840"/>
                      <a:gd name="textAreaRight" fmla="*/ 34200 w 33840"/>
                      <a:gd name="textAreaTop" fmla="*/ 0 h 94320"/>
                      <a:gd name="textAreaBottom" fmla="*/ 94680 h 94320"/>
                    </a:gdLst>
                    <a:ahLst/>
                    <a:rect l="textAreaLeft" t="textAreaTop" r="textAreaRight" b="textAreaBottom"/>
                    <a:pathLst>
                      <a:path w="70" h="192">
                        <a:moveTo>
                          <a:pt x="11" y="0"/>
                        </a:moveTo>
                        <a:lnTo>
                          <a:pt x="42" y="56"/>
                        </a:lnTo>
                        <a:lnTo>
                          <a:pt x="60" y="119"/>
                        </a:lnTo>
                        <a:lnTo>
                          <a:pt x="70" y="167"/>
                        </a:lnTo>
                        <a:lnTo>
                          <a:pt x="53" y="192"/>
                        </a:lnTo>
                        <a:lnTo>
                          <a:pt x="28" y="192"/>
                        </a:lnTo>
                        <a:lnTo>
                          <a:pt x="18" y="171"/>
                        </a:lnTo>
                        <a:lnTo>
                          <a:pt x="0" y="129"/>
                        </a:lnTo>
                        <a:lnTo>
                          <a:pt x="0" y="62"/>
                        </a:lnTo>
                        <a:lnTo>
                          <a:pt x="11" y="0"/>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52"/>
                  <p:cNvSpPr/>
                  <p:nvPr/>
                </p:nvSpPr>
                <p:spPr>
                  <a:xfrm>
                    <a:off x="2155320" y="1725840"/>
                    <a:ext cx="93600" cy="47160"/>
                  </a:xfrm>
                  <a:custGeom>
                    <a:avLst/>
                    <a:gdLst>
                      <a:gd name="textAreaLeft" fmla="*/ 0 w 93600"/>
                      <a:gd name="textAreaRight" fmla="*/ 93960 w 93600"/>
                      <a:gd name="textAreaTop" fmla="*/ 0 h 47160"/>
                      <a:gd name="textAreaBottom" fmla="*/ 47520 h 47160"/>
                    </a:gdLst>
                    <a:ahLst/>
                    <a:rect l="textAreaLeft" t="textAreaTop" r="textAreaRight" b="textAreaBottom"/>
                    <a:pathLst>
                      <a:path w="190" h="95">
                        <a:moveTo>
                          <a:pt x="0" y="0"/>
                        </a:moveTo>
                        <a:lnTo>
                          <a:pt x="92" y="11"/>
                        </a:lnTo>
                        <a:lnTo>
                          <a:pt x="158" y="28"/>
                        </a:lnTo>
                        <a:lnTo>
                          <a:pt x="190" y="53"/>
                        </a:lnTo>
                        <a:lnTo>
                          <a:pt x="179" y="85"/>
                        </a:lnTo>
                        <a:lnTo>
                          <a:pt x="158" y="95"/>
                        </a:lnTo>
                        <a:lnTo>
                          <a:pt x="105" y="81"/>
                        </a:lnTo>
                        <a:lnTo>
                          <a:pt x="0" y="0"/>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Freeform 53"/>
                  <p:cNvSpPr/>
                  <p:nvPr/>
                </p:nvSpPr>
                <p:spPr>
                  <a:xfrm>
                    <a:off x="2144880" y="1805400"/>
                    <a:ext cx="104040" cy="72000"/>
                  </a:xfrm>
                  <a:custGeom>
                    <a:avLst/>
                    <a:gdLst>
                      <a:gd name="textAreaLeft" fmla="*/ 0 w 104040"/>
                      <a:gd name="textAreaRight" fmla="*/ 104400 w 104040"/>
                      <a:gd name="textAreaTop" fmla="*/ 0 h 72000"/>
                      <a:gd name="textAreaBottom" fmla="*/ 72360 h 72000"/>
                    </a:gdLst>
                    <a:ahLst/>
                    <a:rect l="textAreaLeft" t="textAreaTop" r="textAreaRight" b="textAreaBottom"/>
                    <a:pathLst>
                      <a:path w="210" h="146">
                        <a:moveTo>
                          <a:pt x="11" y="104"/>
                        </a:moveTo>
                        <a:lnTo>
                          <a:pt x="53" y="58"/>
                        </a:lnTo>
                        <a:lnTo>
                          <a:pt x="120" y="17"/>
                        </a:lnTo>
                        <a:lnTo>
                          <a:pt x="179" y="0"/>
                        </a:lnTo>
                        <a:lnTo>
                          <a:pt x="204" y="0"/>
                        </a:lnTo>
                        <a:lnTo>
                          <a:pt x="210" y="31"/>
                        </a:lnTo>
                        <a:lnTo>
                          <a:pt x="193" y="52"/>
                        </a:lnTo>
                        <a:lnTo>
                          <a:pt x="148" y="62"/>
                        </a:lnTo>
                        <a:lnTo>
                          <a:pt x="105" y="62"/>
                        </a:lnTo>
                        <a:lnTo>
                          <a:pt x="56" y="93"/>
                        </a:lnTo>
                        <a:lnTo>
                          <a:pt x="14" y="132"/>
                        </a:lnTo>
                        <a:lnTo>
                          <a:pt x="0" y="146"/>
                        </a:lnTo>
                        <a:lnTo>
                          <a:pt x="11" y="104"/>
                        </a:lnTo>
                        <a:close/>
                      </a:path>
                    </a:pathLst>
                  </a:custGeom>
                  <a:solidFill>
                    <a:srgbClr val="000000"/>
                  </a:solidFill>
                  <a:ln w="9360">
                    <a:solidFill>
                      <a:srgbClr val="dfd6c3"/>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 name="Freeform 54"/>
                  <p:cNvSpPr/>
                  <p:nvPr/>
                </p:nvSpPr>
                <p:spPr>
                  <a:xfrm>
                    <a:off x="2256480" y="1867320"/>
                    <a:ext cx="28080" cy="51840"/>
                  </a:xfrm>
                  <a:custGeom>
                    <a:avLst/>
                    <a:gdLst>
                      <a:gd name="textAreaLeft" fmla="*/ 0 w 28080"/>
                      <a:gd name="textAreaRight" fmla="*/ 28440 w 28080"/>
                      <a:gd name="textAreaTop" fmla="*/ 0 h 51840"/>
                      <a:gd name="textAreaBottom" fmla="*/ 52200 h 51840"/>
                    </a:gdLst>
                    <a:ahLst/>
                    <a:rect l="textAreaLeft" t="textAreaTop" r="textAreaRight" b="textAreaBottom"/>
                    <a:pathLst>
                      <a:path w="56" h="105">
                        <a:moveTo>
                          <a:pt x="26" y="105"/>
                        </a:moveTo>
                        <a:lnTo>
                          <a:pt x="0" y="60"/>
                        </a:lnTo>
                        <a:lnTo>
                          <a:pt x="0" y="18"/>
                        </a:lnTo>
                        <a:lnTo>
                          <a:pt x="31" y="0"/>
                        </a:lnTo>
                        <a:lnTo>
                          <a:pt x="56" y="21"/>
                        </a:lnTo>
                        <a:lnTo>
                          <a:pt x="41" y="63"/>
                        </a:lnTo>
                        <a:lnTo>
                          <a:pt x="26" y="105"/>
                        </a:lnTo>
                        <a:close/>
                      </a:path>
                    </a:pathLst>
                  </a:custGeom>
                  <a:solidFill>
                    <a:srgbClr val="000000"/>
                  </a:solidFill>
                  <a:ln w="9360">
                    <a:solidFill>
                      <a:srgbClr val="dfd6c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9" name="Group 55"/>
                <p:cNvGrpSpPr/>
                <p:nvPr/>
              </p:nvGrpSpPr>
              <p:grpSpPr>
                <a:xfrm>
                  <a:off x="2755080" y="1413000"/>
                  <a:ext cx="654120" cy="1235520"/>
                  <a:chOff x="2755080" y="1413000"/>
                  <a:chExt cx="654120" cy="1235520"/>
                </a:xfrm>
              </p:grpSpPr>
              <p:sp>
                <p:nvSpPr>
                  <p:cNvPr id="240" name="Freeform 56"/>
                  <p:cNvSpPr/>
                  <p:nvPr/>
                </p:nvSpPr>
                <p:spPr>
                  <a:xfrm>
                    <a:off x="2755080" y="1792440"/>
                    <a:ext cx="255960" cy="419040"/>
                  </a:xfrm>
                  <a:custGeom>
                    <a:avLst/>
                    <a:gdLst>
                      <a:gd name="textAreaLeft" fmla="*/ 0 w 255960"/>
                      <a:gd name="textAreaRight" fmla="*/ 256320 w 255960"/>
                      <a:gd name="textAreaTop" fmla="*/ 0 h 419040"/>
                      <a:gd name="textAreaBottom" fmla="*/ 419400 h 419040"/>
                    </a:gdLst>
                    <a:ahLst/>
                    <a:rect l="textAreaLeft" t="textAreaTop" r="textAreaRight" b="textAreaBottom"/>
                    <a:pathLst>
                      <a:path w="516" h="854">
                        <a:moveTo>
                          <a:pt x="274" y="127"/>
                        </a:moveTo>
                        <a:lnTo>
                          <a:pt x="327" y="74"/>
                        </a:lnTo>
                        <a:lnTo>
                          <a:pt x="401" y="22"/>
                        </a:lnTo>
                        <a:lnTo>
                          <a:pt x="453" y="0"/>
                        </a:lnTo>
                        <a:lnTo>
                          <a:pt x="516" y="4"/>
                        </a:lnTo>
                        <a:lnTo>
                          <a:pt x="516" y="53"/>
                        </a:lnTo>
                        <a:lnTo>
                          <a:pt x="485" y="95"/>
                        </a:lnTo>
                        <a:lnTo>
                          <a:pt x="425" y="127"/>
                        </a:lnTo>
                        <a:lnTo>
                          <a:pt x="278" y="194"/>
                        </a:lnTo>
                        <a:lnTo>
                          <a:pt x="136" y="275"/>
                        </a:lnTo>
                        <a:lnTo>
                          <a:pt x="77" y="295"/>
                        </a:lnTo>
                        <a:lnTo>
                          <a:pt x="56" y="327"/>
                        </a:lnTo>
                        <a:lnTo>
                          <a:pt x="77" y="359"/>
                        </a:lnTo>
                        <a:lnTo>
                          <a:pt x="200" y="478"/>
                        </a:lnTo>
                        <a:lnTo>
                          <a:pt x="256" y="517"/>
                        </a:lnTo>
                        <a:lnTo>
                          <a:pt x="340" y="584"/>
                        </a:lnTo>
                        <a:lnTo>
                          <a:pt x="425" y="647"/>
                        </a:lnTo>
                        <a:lnTo>
                          <a:pt x="421" y="679"/>
                        </a:lnTo>
                        <a:lnTo>
                          <a:pt x="358" y="689"/>
                        </a:lnTo>
                        <a:lnTo>
                          <a:pt x="263" y="689"/>
                        </a:lnTo>
                        <a:lnTo>
                          <a:pt x="204" y="721"/>
                        </a:lnTo>
                        <a:lnTo>
                          <a:pt x="182" y="802"/>
                        </a:lnTo>
                        <a:lnTo>
                          <a:pt x="182" y="844"/>
                        </a:lnTo>
                        <a:lnTo>
                          <a:pt x="158" y="854"/>
                        </a:lnTo>
                        <a:lnTo>
                          <a:pt x="119" y="816"/>
                        </a:lnTo>
                        <a:lnTo>
                          <a:pt x="126" y="749"/>
                        </a:lnTo>
                        <a:lnTo>
                          <a:pt x="161" y="699"/>
                        </a:lnTo>
                        <a:lnTo>
                          <a:pt x="232" y="657"/>
                        </a:lnTo>
                        <a:lnTo>
                          <a:pt x="308" y="637"/>
                        </a:lnTo>
                        <a:lnTo>
                          <a:pt x="316" y="615"/>
                        </a:lnTo>
                        <a:lnTo>
                          <a:pt x="278" y="573"/>
                        </a:lnTo>
                        <a:lnTo>
                          <a:pt x="116" y="468"/>
                        </a:lnTo>
                        <a:lnTo>
                          <a:pt x="67" y="426"/>
                        </a:lnTo>
                        <a:lnTo>
                          <a:pt x="20" y="369"/>
                        </a:lnTo>
                        <a:lnTo>
                          <a:pt x="0" y="306"/>
                        </a:lnTo>
                        <a:lnTo>
                          <a:pt x="13" y="268"/>
                        </a:lnTo>
                        <a:lnTo>
                          <a:pt x="94" y="243"/>
                        </a:lnTo>
                        <a:lnTo>
                          <a:pt x="193" y="201"/>
                        </a:lnTo>
                        <a:lnTo>
                          <a:pt x="256" y="158"/>
                        </a:lnTo>
                        <a:lnTo>
                          <a:pt x="274"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57"/>
                  <p:cNvSpPr/>
                  <p:nvPr/>
                </p:nvSpPr>
                <p:spPr>
                  <a:xfrm>
                    <a:off x="2984040" y="1773000"/>
                    <a:ext cx="178200" cy="402840"/>
                  </a:xfrm>
                  <a:custGeom>
                    <a:avLst/>
                    <a:gdLst>
                      <a:gd name="textAreaLeft" fmla="*/ 0 w 178200"/>
                      <a:gd name="textAreaRight" fmla="*/ 178560 w 178200"/>
                      <a:gd name="textAreaTop" fmla="*/ 0 h 402840"/>
                      <a:gd name="textAreaBottom" fmla="*/ 403200 h 402840"/>
                    </a:gdLst>
                    <a:ahLst/>
                    <a:rect l="textAreaLeft" t="textAreaTop" r="textAreaRight" b="textAreaBottom"/>
                    <a:pathLst>
                      <a:path w="360" h="818">
                        <a:moveTo>
                          <a:pt x="77" y="63"/>
                        </a:moveTo>
                        <a:lnTo>
                          <a:pt x="109" y="10"/>
                        </a:lnTo>
                        <a:lnTo>
                          <a:pt x="148" y="0"/>
                        </a:lnTo>
                        <a:lnTo>
                          <a:pt x="201" y="0"/>
                        </a:lnTo>
                        <a:lnTo>
                          <a:pt x="268" y="38"/>
                        </a:lnTo>
                        <a:lnTo>
                          <a:pt x="310" y="123"/>
                        </a:lnTo>
                        <a:lnTo>
                          <a:pt x="341" y="232"/>
                        </a:lnTo>
                        <a:lnTo>
                          <a:pt x="360" y="344"/>
                        </a:lnTo>
                        <a:lnTo>
                          <a:pt x="360" y="495"/>
                        </a:lnTo>
                        <a:lnTo>
                          <a:pt x="321" y="660"/>
                        </a:lnTo>
                        <a:lnTo>
                          <a:pt x="265" y="758"/>
                        </a:lnTo>
                        <a:lnTo>
                          <a:pt x="190" y="807"/>
                        </a:lnTo>
                        <a:lnTo>
                          <a:pt x="120" y="818"/>
                        </a:lnTo>
                        <a:lnTo>
                          <a:pt x="67" y="787"/>
                        </a:lnTo>
                        <a:lnTo>
                          <a:pt x="25" y="748"/>
                        </a:lnTo>
                        <a:lnTo>
                          <a:pt x="13" y="685"/>
                        </a:lnTo>
                        <a:lnTo>
                          <a:pt x="0" y="565"/>
                        </a:lnTo>
                        <a:lnTo>
                          <a:pt x="10" y="417"/>
                        </a:lnTo>
                        <a:lnTo>
                          <a:pt x="42" y="264"/>
                        </a:lnTo>
                        <a:lnTo>
                          <a:pt x="63" y="154"/>
                        </a:lnTo>
                        <a:lnTo>
                          <a:pt x="77" y="6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58"/>
                  <p:cNvSpPr/>
                  <p:nvPr/>
                </p:nvSpPr>
                <p:spPr>
                  <a:xfrm>
                    <a:off x="3033360" y="2122920"/>
                    <a:ext cx="103680" cy="525600"/>
                  </a:xfrm>
                  <a:custGeom>
                    <a:avLst/>
                    <a:gdLst>
                      <a:gd name="textAreaLeft" fmla="*/ 0 w 103680"/>
                      <a:gd name="textAreaRight" fmla="*/ 104040 w 103680"/>
                      <a:gd name="textAreaTop" fmla="*/ 0 h 525600"/>
                      <a:gd name="textAreaBottom" fmla="*/ 525960 h 525600"/>
                    </a:gdLst>
                    <a:ahLst/>
                    <a:rect l="textAreaLeft" t="textAreaTop" r="textAreaRight" b="textAreaBottom"/>
                    <a:pathLst>
                      <a:path w="210" h="1067">
                        <a:moveTo>
                          <a:pt x="101" y="188"/>
                        </a:moveTo>
                        <a:lnTo>
                          <a:pt x="72" y="119"/>
                        </a:lnTo>
                        <a:lnTo>
                          <a:pt x="72" y="42"/>
                        </a:lnTo>
                        <a:lnTo>
                          <a:pt x="111" y="0"/>
                        </a:lnTo>
                        <a:lnTo>
                          <a:pt x="156" y="20"/>
                        </a:lnTo>
                        <a:lnTo>
                          <a:pt x="188" y="94"/>
                        </a:lnTo>
                        <a:lnTo>
                          <a:pt x="206" y="220"/>
                        </a:lnTo>
                        <a:lnTo>
                          <a:pt x="210" y="378"/>
                        </a:lnTo>
                        <a:lnTo>
                          <a:pt x="198" y="516"/>
                        </a:lnTo>
                        <a:lnTo>
                          <a:pt x="178" y="663"/>
                        </a:lnTo>
                        <a:lnTo>
                          <a:pt x="178" y="842"/>
                        </a:lnTo>
                        <a:lnTo>
                          <a:pt x="206" y="915"/>
                        </a:lnTo>
                        <a:lnTo>
                          <a:pt x="195" y="950"/>
                        </a:lnTo>
                        <a:lnTo>
                          <a:pt x="146" y="962"/>
                        </a:lnTo>
                        <a:lnTo>
                          <a:pt x="94" y="1011"/>
                        </a:lnTo>
                        <a:lnTo>
                          <a:pt x="69" y="1053"/>
                        </a:lnTo>
                        <a:lnTo>
                          <a:pt x="10" y="1067"/>
                        </a:lnTo>
                        <a:lnTo>
                          <a:pt x="0" y="1021"/>
                        </a:lnTo>
                        <a:lnTo>
                          <a:pt x="20" y="982"/>
                        </a:lnTo>
                        <a:lnTo>
                          <a:pt x="94" y="950"/>
                        </a:lnTo>
                        <a:lnTo>
                          <a:pt x="146" y="927"/>
                        </a:lnTo>
                        <a:lnTo>
                          <a:pt x="164" y="905"/>
                        </a:lnTo>
                        <a:lnTo>
                          <a:pt x="143" y="846"/>
                        </a:lnTo>
                        <a:lnTo>
                          <a:pt x="126" y="726"/>
                        </a:lnTo>
                        <a:lnTo>
                          <a:pt x="121" y="582"/>
                        </a:lnTo>
                        <a:lnTo>
                          <a:pt x="126" y="487"/>
                        </a:lnTo>
                        <a:lnTo>
                          <a:pt x="132" y="358"/>
                        </a:lnTo>
                        <a:lnTo>
                          <a:pt x="121" y="242"/>
                        </a:lnTo>
                        <a:lnTo>
                          <a:pt x="101" y="18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59"/>
                  <p:cNvSpPr/>
                  <p:nvPr/>
                </p:nvSpPr>
                <p:spPr>
                  <a:xfrm>
                    <a:off x="2887560" y="2124720"/>
                    <a:ext cx="161640" cy="523800"/>
                  </a:xfrm>
                  <a:custGeom>
                    <a:avLst/>
                    <a:gdLst>
                      <a:gd name="textAreaLeft" fmla="*/ 0 w 161640"/>
                      <a:gd name="textAreaRight" fmla="*/ 162000 w 161640"/>
                      <a:gd name="textAreaTop" fmla="*/ 0 h 523800"/>
                      <a:gd name="textAreaBottom" fmla="*/ 524160 h 523800"/>
                    </a:gdLst>
                    <a:ahLst/>
                    <a:rect l="textAreaLeft" t="textAreaTop" r="textAreaRight" b="textAreaBottom"/>
                    <a:pathLst>
                      <a:path w="327" h="1064">
                        <a:moveTo>
                          <a:pt x="201" y="98"/>
                        </a:moveTo>
                        <a:lnTo>
                          <a:pt x="236" y="32"/>
                        </a:lnTo>
                        <a:lnTo>
                          <a:pt x="278" y="0"/>
                        </a:lnTo>
                        <a:lnTo>
                          <a:pt x="327" y="20"/>
                        </a:lnTo>
                        <a:lnTo>
                          <a:pt x="320" y="84"/>
                        </a:lnTo>
                        <a:lnTo>
                          <a:pt x="288" y="129"/>
                        </a:lnTo>
                        <a:lnTo>
                          <a:pt x="226" y="242"/>
                        </a:lnTo>
                        <a:lnTo>
                          <a:pt x="184" y="350"/>
                        </a:lnTo>
                        <a:lnTo>
                          <a:pt x="159" y="466"/>
                        </a:lnTo>
                        <a:lnTo>
                          <a:pt x="162" y="579"/>
                        </a:lnTo>
                        <a:lnTo>
                          <a:pt x="201" y="730"/>
                        </a:lnTo>
                        <a:lnTo>
                          <a:pt x="233" y="874"/>
                        </a:lnTo>
                        <a:lnTo>
                          <a:pt x="278" y="937"/>
                        </a:lnTo>
                        <a:lnTo>
                          <a:pt x="275" y="973"/>
                        </a:lnTo>
                        <a:lnTo>
                          <a:pt x="236" y="990"/>
                        </a:lnTo>
                        <a:lnTo>
                          <a:pt x="148" y="1004"/>
                        </a:lnTo>
                        <a:lnTo>
                          <a:pt x="85" y="1043"/>
                        </a:lnTo>
                        <a:lnTo>
                          <a:pt x="54" y="1064"/>
                        </a:lnTo>
                        <a:lnTo>
                          <a:pt x="0" y="1015"/>
                        </a:lnTo>
                        <a:lnTo>
                          <a:pt x="12" y="983"/>
                        </a:lnTo>
                        <a:lnTo>
                          <a:pt x="64" y="962"/>
                        </a:lnTo>
                        <a:lnTo>
                          <a:pt x="131" y="951"/>
                        </a:lnTo>
                        <a:lnTo>
                          <a:pt x="194" y="951"/>
                        </a:lnTo>
                        <a:lnTo>
                          <a:pt x="204" y="931"/>
                        </a:lnTo>
                        <a:lnTo>
                          <a:pt x="194" y="895"/>
                        </a:lnTo>
                        <a:lnTo>
                          <a:pt x="141" y="759"/>
                        </a:lnTo>
                        <a:lnTo>
                          <a:pt x="106" y="624"/>
                        </a:lnTo>
                        <a:lnTo>
                          <a:pt x="89" y="527"/>
                        </a:lnTo>
                        <a:lnTo>
                          <a:pt x="85" y="436"/>
                        </a:lnTo>
                        <a:lnTo>
                          <a:pt x="99" y="347"/>
                        </a:lnTo>
                        <a:lnTo>
                          <a:pt x="131" y="256"/>
                        </a:lnTo>
                        <a:lnTo>
                          <a:pt x="180" y="136"/>
                        </a:lnTo>
                        <a:lnTo>
                          <a:pt x="201" y="9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60"/>
                  <p:cNvSpPr/>
                  <p:nvPr/>
                </p:nvSpPr>
                <p:spPr>
                  <a:xfrm>
                    <a:off x="2918520" y="1472040"/>
                    <a:ext cx="208080" cy="272880"/>
                  </a:xfrm>
                  <a:custGeom>
                    <a:avLst/>
                    <a:gdLst>
                      <a:gd name="textAreaLeft" fmla="*/ 0 w 208080"/>
                      <a:gd name="textAreaRight" fmla="*/ 208440 w 208080"/>
                      <a:gd name="textAreaTop" fmla="*/ 0 h 272880"/>
                      <a:gd name="textAreaBottom" fmla="*/ 273240 h 272880"/>
                    </a:gdLst>
                    <a:ahLst/>
                    <a:rect l="textAreaLeft" t="textAreaTop" r="textAreaRight" b="textAreaBottom"/>
                    <a:pathLst>
                      <a:path w="421" h="556">
                        <a:moveTo>
                          <a:pt x="154" y="464"/>
                        </a:moveTo>
                        <a:lnTo>
                          <a:pt x="185" y="534"/>
                        </a:lnTo>
                        <a:lnTo>
                          <a:pt x="259" y="556"/>
                        </a:lnTo>
                        <a:lnTo>
                          <a:pt x="323" y="549"/>
                        </a:lnTo>
                        <a:lnTo>
                          <a:pt x="375" y="503"/>
                        </a:lnTo>
                        <a:lnTo>
                          <a:pt x="417" y="411"/>
                        </a:lnTo>
                        <a:lnTo>
                          <a:pt x="421" y="302"/>
                        </a:lnTo>
                        <a:lnTo>
                          <a:pt x="407" y="207"/>
                        </a:lnTo>
                        <a:lnTo>
                          <a:pt x="347" y="101"/>
                        </a:lnTo>
                        <a:lnTo>
                          <a:pt x="304" y="52"/>
                        </a:lnTo>
                        <a:lnTo>
                          <a:pt x="259" y="21"/>
                        </a:lnTo>
                        <a:lnTo>
                          <a:pt x="217" y="0"/>
                        </a:lnTo>
                        <a:lnTo>
                          <a:pt x="143" y="7"/>
                        </a:lnTo>
                        <a:lnTo>
                          <a:pt x="104" y="71"/>
                        </a:lnTo>
                        <a:lnTo>
                          <a:pt x="84" y="137"/>
                        </a:lnTo>
                        <a:lnTo>
                          <a:pt x="84" y="243"/>
                        </a:lnTo>
                        <a:lnTo>
                          <a:pt x="101" y="344"/>
                        </a:lnTo>
                        <a:lnTo>
                          <a:pt x="122" y="401"/>
                        </a:lnTo>
                        <a:lnTo>
                          <a:pt x="6" y="485"/>
                        </a:lnTo>
                        <a:lnTo>
                          <a:pt x="0" y="517"/>
                        </a:lnTo>
                        <a:lnTo>
                          <a:pt x="17" y="534"/>
                        </a:lnTo>
                        <a:lnTo>
                          <a:pt x="143" y="440"/>
                        </a:lnTo>
                        <a:lnTo>
                          <a:pt x="154" y="464"/>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61"/>
                  <p:cNvSpPr/>
                  <p:nvPr/>
                </p:nvSpPr>
                <p:spPr>
                  <a:xfrm>
                    <a:off x="2994480" y="1413000"/>
                    <a:ext cx="414720" cy="457560"/>
                  </a:xfrm>
                  <a:custGeom>
                    <a:avLst/>
                    <a:gdLst>
                      <a:gd name="textAreaLeft" fmla="*/ 0 w 414720"/>
                      <a:gd name="textAreaRight" fmla="*/ 415080 w 414720"/>
                      <a:gd name="textAreaTop" fmla="*/ 0 h 457560"/>
                      <a:gd name="textAreaBottom" fmla="*/ 457920 h 457560"/>
                    </a:gdLst>
                    <a:ahLst/>
                    <a:rect l="textAreaLeft" t="textAreaTop" r="textAreaRight" b="textAreaBottom"/>
                    <a:pathLst>
                      <a:path w="838" h="930">
                        <a:moveTo>
                          <a:pt x="557" y="643"/>
                        </a:moveTo>
                        <a:lnTo>
                          <a:pt x="515" y="685"/>
                        </a:lnTo>
                        <a:lnTo>
                          <a:pt x="427" y="737"/>
                        </a:lnTo>
                        <a:lnTo>
                          <a:pt x="347" y="769"/>
                        </a:lnTo>
                        <a:lnTo>
                          <a:pt x="291" y="801"/>
                        </a:lnTo>
                        <a:lnTo>
                          <a:pt x="237" y="843"/>
                        </a:lnTo>
                        <a:lnTo>
                          <a:pt x="231" y="917"/>
                        </a:lnTo>
                        <a:lnTo>
                          <a:pt x="284" y="930"/>
                        </a:lnTo>
                        <a:lnTo>
                          <a:pt x="417" y="853"/>
                        </a:lnTo>
                        <a:lnTo>
                          <a:pt x="515" y="762"/>
                        </a:lnTo>
                        <a:lnTo>
                          <a:pt x="631" y="646"/>
                        </a:lnTo>
                        <a:lnTo>
                          <a:pt x="725" y="572"/>
                        </a:lnTo>
                        <a:lnTo>
                          <a:pt x="806" y="516"/>
                        </a:lnTo>
                        <a:lnTo>
                          <a:pt x="838" y="488"/>
                        </a:lnTo>
                        <a:lnTo>
                          <a:pt x="827" y="453"/>
                        </a:lnTo>
                        <a:lnTo>
                          <a:pt x="789" y="404"/>
                        </a:lnTo>
                        <a:lnTo>
                          <a:pt x="648" y="327"/>
                        </a:lnTo>
                        <a:lnTo>
                          <a:pt x="515" y="256"/>
                        </a:lnTo>
                        <a:lnTo>
                          <a:pt x="353" y="183"/>
                        </a:lnTo>
                        <a:lnTo>
                          <a:pt x="294" y="141"/>
                        </a:lnTo>
                        <a:lnTo>
                          <a:pt x="231" y="84"/>
                        </a:lnTo>
                        <a:lnTo>
                          <a:pt x="168" y="22"/>
                        </a:lnTo>
                        <a:lnTo>
                          <a:pt x="111" y="0"/>
                        </a:lnTo>
                        <a:lnTo>
                          <a:pt x="0" y="78"/>
                        </a:lnTo>
                        <a:lnTo>
                          <a:pt x="7" y="151"/>
                        </a:lnTo>
                        <a:lnTo>
                          <a:pt x="27" y="179"/>
                        </a:lnTo>
                        <a:lnTo>
                          <a:pt x="84" y="168"/>
                        </a:lnTo>
                        <a:lnTo>
                          <a:pt x="73" y="137"/>
                        </a:lnTo>
                        <a:lnTo>
                          <a:pt x="52" y="126"/>
                        </a:lnTo>
                        <a:lnTo>
                          <a:pt x="42" y="88"/>
                        </a:lnTo>
                        <a:lnTo>
                          <a:pt x="104" y="46"/>
                        </a:lnTo>
                        <a:lnTo>
                          <a:pt x="157" y="88"/>
                        </a:lnTo>
                        <a:lnTo>
                          <a:pt x="157" y="126"/>
                        </a:lnTo>
                        <a:lnTo>
                          <a:pt x="136" y="172"/>
                        </a:lnTo>
                        <a:lnTo>
                          <a:pt x="153" y="204"/>
                        </a:lnTo>
                        <a:lnTo>
                          <a:pt x="259" y="232"/>
                        </a:lnTo>
                        <a:lnTo>
                          <a:pt x="301" y="193"/>
                        </a:lnTo>
                        <a:lnTo>
                          <a:pt x="441" y="278"/>
                        </a:lnTo>
                        <a:lnTo>
                          <a:pt x="557" y="330"/>
                        </a:lnTo>
                        <a:lnTo>
                          <a:pt x="621" y="362"/>
                        </a:lnTo>
                        <a:lnTo>
                          <a:pt x="683" y="394"/>
                        </a:lnTo>
                        <a:lnTo>
                          <a:pt x="732" y="436"/>
                        </a:lnTo>
                        <a:lnTo>
                          <a:pt x="764" y="478"/>
                        </a:lnTo>
                        <a:lnTo>
                          <a:pt x="736" y="509"/>
                        </a:lnTo>
                        <a:lnTo>
                          <a:pt x="669" y="552"/>
                        </a:lnTo>
                        <a:lnTo>
                          <a:pt x="599" y="600"/>
                        </a:lnTo>
                        <a:lnTo>
                          <a:pt x="557" y="64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AutoShape 62"/>
              <p:cNvSpPr/>
              <p:nvPr/>
            </p:nvSpPr>
            <p:spPr>
              <a:xfrm>
                <a:off x="3232800" y="1944720"/>
                <a:ext cx="345240" cy="271440"/>
              </a:xfrm>
              <a:prstGeom prst="rightArrow">
                <a:avLst>
                  <a:gd name="adj1" fmla="val 50000"/>
                  <a:gd name="adj2" fmla="val 63600"/>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63"/>
            <p:cNvGrpSpPr/>
            <p:nvPr/>
          </p:nvGrpSpPr>
          <p:grpSpPr>
            <a:xfrm>
              <a:off x="6197760" y="1697040"/>
              <a:ext cx="1558440" cy="933480"/>
              <a:chOff x="6197760" y="1697040"/>
              <a:chExt cx="1558440" cy="933480"/>
            </a:xfrm>
          </p:grpSpPr>
          <p:pic>
            <p:nvPicPr>
              <p:cNvPr id="248" name="Picture 64" descr="EDUBK007"/>
              <p:cNvPicPr/>
              <p:nvPr/>
            </p:nvPicPr>
            <p:blipFill>
              <a:blip r:embed="rId4"/>
              <a:stretch/>
            </p:blipFill>
            <p:spPr>
              <a:xfrm>
                <a:off x="6871680" y="1697040"/>
                <a:ext cx="884520" cy="933480"/>
              </a:xfrm>
              <a:prstGeom prst="rect">
                <a:avLst/>
              </a:prstGeom>
              <a:ln w="0">
                <a:noFill/>
              </a:ln>
            </p:spPr>
          </p:pic>
          <p:pic>
            <p:nvPicPr>
              <p:cNvPr id="249" name="Picture 65" descr="B_OFI083"/>
              <p:cNvPicPr/>
              <p:nvPr/>
            </p:nvPicPr>
            <p:blipFill>
              <a:blip r:embed="rId5"/>
              <a:stretch/>
            </p:blipFill>
            <p:spPr>
              <a:xfrm>
                <a:off x="6932880" y="1755360"/>
                <a:ext cx="501480" cy="664560"/>
              </a:xfrm>
              <a:prstGeom prst="rect">
                <a:avLst/>
              </a:prstGeom>
              <a:ln w="0">
                <a:noFill/>
              </a:ln>
            </p:spPr>
          </p:pic>
          <p:sp>
            <p:nvSpPr>
              <p:cNvPr id="250" name="AutoShape 66"/>
              <p:cNvSpPr/>
              <p:nvPr/>
            </p:nvSpPr>
            <p:spPr>
              <a:xfrm>
                <a:off x="6197760" y="2046960"/>
                <a:ext cx="295920" cy="223200"/>
              </a:xfrm>
              <a:prstGeom prst="rightArrow">
                <a:avLst>
                  <a:gd name="adj1" fmla="val 50000"/>
                  <a:gd name="adj2" fmla="val 66296"/>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7"/>
            <p:cNvGrpSpPr/>
            <p:nvPr/>
          </p:nvGrpSpPr>
          <p:grpSpPr>
            <a:xfrm>
              <a:off x="5340240" y="4532400"/>
              <a:ext cx="811440" cy="850680"/>
              <a:chOff x="5340240" y="4532400"/>
              <a:chExt cx="811440" cy="850680"/>
            </a:xfrm>
          </p:grpSpPr>
          <p:pic>
            <p:nvPicPr>
              <p:cNvPr id="252" name="Picture 68" descr="SYMSN276"/>
              <p:cNvPicPr/>
              <p:nvPr/>
            </p:nvPicPr>
            <p:blipFill>
              <a:blip r:embed="rId6"/>
              <a:stretch/>
            </p:blipFill>
            <p:spPr>
              <a:xfrm>
                <a:off x="5603040" y="4840920"/>
                <a:ext cx="367200" cy="349920"/>
              </a:xfrm>
              <a:prstGeom prst="rect">
                <a:avLst/>
              </a:prstGeom>
              <a:ln w="0">
                <a:noFill/>
              </a:ln>
            </p:spPr>
          </p:pic>
          <p:sp>
            <p:nvSpPr>
              <p:cNvPr id="253" name="Freeform 6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lnTo>
                      <a:pt x="1630" y="5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7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61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7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7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4280">
                <a:solidFill>
                  <a:srgbClr val="10101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7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14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7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8160">
                <a:solidFill>
                  <a:srgbClr val="31313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4920">
                <a:solidFill>
                  <a:srgbClr val="42424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76"/>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0240">
                <a:solidFill>
                  <a:srgbClr val="52525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77"/>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7000">
                <a:solidFill>
                  <a:srgbClr val="62626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78"/>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376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7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0520">
                <a:solidFill>
                  <a:srgbClr val="83838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8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7640">
                <a:solidFill>
                  <a:srgbClr val="94949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8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4400">
                <a:solidFill>
                  <a:srgbClr val="a4a4a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8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1160">
                <a:solidFill>
                  <a:srgbClr val="b4b4b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8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6480">
                <a:solidFill>
                  <a:srgbClr val="c5c5c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8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240">
                <a:solidFill>
                  <a:srgbClr val="d5d5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8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AutoShape 86"/>
            <p:cNvSpPr/>
            <p:nvPr/>
          </p:nvSpPr>
          <p:spPr>
            <a:xfrm>
              <a:off x="6269040" y="4957920"/>
              <a:ext cx="246240" cy="350640"/>
            </a:xfrm>
            <a:prstGeom prst="leftArrow">
              <a:avLst>
                <a:gd name="adj1" fmla="val 50000"/>
                <a:gd name="adj2" fmla="val 4999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87"/>
            <p:cNvSpPr/>
            <p:nvPr/>
          </p:nvSpPr>
          <p:spPr>
            <a:xfrm>
              <a:off x="6626160" y="5383080"/>
              <a:ext cx="1714680" cy="9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RONOLOGÍ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OS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a:t>
              </a:r>
              <a:endParaRPr b="0" lang="en-US" sz="1600" spc="-1" strike="noStrike">
                <a:solidFill>
                  <a:srgbClr val="000000"/>
                </a:solidFill>
                <a:latin typeface="Times New Roman"/>
              </a:endParaRPr>
            </a:p>
          </p:txBody>
        </p:sp>
        <p:grpSp>
          <p:nvGrpSpPr>
            <p:cNvPr id="272" name="Group 88"/>
            <p:cNvGrpSpPr/>
            <p:nvPr/>
          </p:nvGrpSpPr>
          <p:grpSpPr>
            <a:xfrm>
              <a:off x="2375280" y="3505320"/>
              <a:ext cx="1939320" cy="915480"/>
              <a:chOff x="2375280" y="3505320"/>
              <a:chExt cx="1939320" cy="915480"/>
            </a:xfrm>
          </p:grpSpPr>
          <p:sp>
            <p:nvSpPr>
              <p:cNvPr id="273" name="Rectangle 89"/>
              <p:cNvSpPr/>
              <p:nvPr/>
            </p:nvSpPr>
            <p:spPr>
              <a:xfrm>
                <a:off x="2375280" y="3505320"/>
                <a:ext cx="1939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4.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X-P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EP)</a:t>
                </a:r>
                <a:endParaRPr b="0" lang="en-US" sz="1800" spc="-1" strike="noStrike">
                  <a:solidFill>
                    <a:srgbClr val="000000"/>
                  </a:solidFill>
                  <a:latin typeface="Times New Roman"/>
                </a:endParaRPr>
              </a:p>
            </p:txBody>
          </p:sp>
          <p:sp>
            <p:nvSpPr>
              <p:cNvPr id="274" name="Rectangle 90"/>
              <p:cNvSpPr/>
              <p:nvPr/>
            </p:nvSpPr>
            <p:spPr>
              <a:xfrm>
                <a:off x="2473560" y="3505320"/>
                <a:ext cx="1676160" cy="70128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Rectangle 91"/>
            <p:cNvSpPr/>
            <p:nvPr/>
          </p:nvSpPr>
          <p:spPr>
            <a:xfrm>
              <a:off x="6626160" y="5029200"/>
              <a:ext cx="1714680" cy="23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4</a:t>
              </a:r>
              <a:endParaRPr b="0" lang="en-US" sz="1800" spc="-1" strike="noStrike">
                <a:solidFill>
                  <a:srgbClr val="000000"/>
                </a:solidFill>
                <a:latin typeface="Times New Roman"/>
              </a:endParaRPr>
            </a:p>
          </p:txBody>
        </p:sp>
        <p:sp>
          <p:nvSpPr>
            <p:cNvPr id="276" name="Rectangle 92"/>
            <p:cNvSpPr/>
            <p:nvPr/>
          </p:nvSpPr>
          <p:spPr>
            <a:xfrm>
              <a:off x="6554880" y="3824280"/>
              <a:ext cx="1776240" cy="81612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2.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DE EJEC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DE)</a:t>
              </a:r>
              <a:endParaRPr b="0" lang="en-US" sz="2000" spc="-1" strike="noStrike">
                <a:solidFill>
                  <a:srgbClr val="000000"/>
                </a:solidFill>
                <a:latin typeface="Times New Roman"/>
              </a:endParaRPr>
            </a:p>
          </p:txBody>
        </p:sp>
        <p:sp>
          <p:nvSpPr>
            <p:cNvPr id="277" name="Line 93"/>
            <p:cNvSpPr/>
            <p:nvPr/>
          </p:nvSpPr>
          <p:spPr>
            <a:xfrm>
              <a:off x="5197320" y="4106880"/>
              <a:ext cx="1800" cy="193212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94"/>
            <p:cNvSpPr/>
            <p:nvPr/>
          </p:nvSpPr>
          <p:spPr>
            <a:xfrm>
              <a:off x="5181480" y="3886200"/>
              <a:ext cx="119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pacid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enerada</a:t>
              </a:r>
              <a:endParaRPr b="0" lang="en-US" sz="1800" spc="-1" strike="noStrike">
                <a:solidFill>
                  <a:srgbClr val="000000"/>
                </a:solidFill>
                <a:latin typeface="Times New Roman"/>
              </a:endParaRPr>
            </a:p>
          </p:txBody>
        </p:sp>
        <p:sp>
          <p:nvSpPr>
            <p:cNvPr id="279" name="Text Box 95"/>
            <p:cNvSpPr/>
            <p:nvPr/>
          </p:nvSpPr>
          <p:spPr>
            <a:xfrm>
              <a:off x="5340240" y="5667480"/>
              <a:ext cx="1003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érmino de Proyecto</a:t>
              </a:r>
              <a:endParaRPr b="0" lang="en-US" sz="1800" spc="-1" strike="noStrike">
                <a:solidFill>
                  <a:srgbClr val="000000"/>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2"/>
          <p:cNvGrpSpPr/>
          <p:nvPr/>
        </p:nvGrpSpPr>
        <p:grpSpPr>
          <a:xfrm>
            <a:off x="914400" y="2743200"/>
            <a:ext cx="3048120" cy="3657600"/>
            <a:chOff x="914400" y="2743200"/>
            <a:chExt cx="3048120" cy="3657600"/>
          </a:xfrm>
        </p:grpSpPr>
        <p:sp>
          <p:nvSpPr>
            <p:cNvPr id="281" name="AutoShape 3"/>
            <p:cNvSpPr/>
            <p:nvPr/>
          </p:nvSpPr>
          <p:spPr>
            <a:xfrm>
              <a:off x="914400" y="27432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p:txBody>
        </p:sp>
        <p:sp>
          <p:nvSpPr>
            <p:cNvPr id="282" name="AutoShape 4"/>
            <p:cNvSpPr/>
            <p:nvPr/>
          </p:nvSpPr>
          <p:spPr>
            <a:xfrm>
              <a:off x="914400" y="37339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p:txBody>
        </p:sp>
        <p:sp>
          <p:nvSpPr>
            <p:cNvPr id="283" name="AutoShape 5"/>
            <p:cNvSpPr/>
            <p:nvPr/>
          </p:nvSpPr>
          <p:spPr>
            <a:xfrm>
              <a:off x="969840" y="48006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p:txBody>
        </p:sp>
        <p:sp>
          <p:nvSpPr>
            <p:cNvPr id="284" name="AutoShape 6"/>
            <p:cNvSpPr/>
            <p:nvPr/>
          </p:nvSpPr>
          <p:spPr>
            <a:xfrm>
              <a:off x="914400" y="57913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p:txBody>
        </p:sp>
        <p:sp>
          <p:nvSpPr>
            <p:cNvPr id="285" name="AutoShape 7"/>
            <p:cNvSpPr/>
            <p:nvPr/>
          </p:nvSpPr>
          <p:spPr>
            <a:xfrm>
              <a:off x="2299680" y="33526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8"/>
            <p:cNvSpPr/>
            <p:nvPr/>
          </p:nvSpPr>
          <p:spPr>
            <a:xfrm>
              <a:off x="2299680" y="54100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9"/>
            <p:cNvSpPr/>
            <p:nvPr/>
          </p:nvSpPr>
          <p:spPr>
            <a:xfrm>
              <a:off x="2299680" y="4343400"/>
              <a:ext cx="276840" cy="380880"/>
            </a:xfrm>
            <a:prstGeom prst="downArrow">
              <a:avLst>
                <a:gd name="adj1" fmla="val 11667"/>
                <a:gd name="adj2" fmla="val 6592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 name="Rectangle 11"/>
          <p:cNvSpPr/>
          <p:nvPr/>
        </p:nvSpPr>
        <p:spPr>
          <a:xfrm>
            <a:off x="1066680" y="9144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82400"/>
                </a:solidFill>
                <a:latin typeface="Tahoma"/>
              </a:rPr>
              <a:t>Contenido de Estudios Preinversión</a:t>
            </a:r>
            <a:endParaRPr b="0" lang="en-US" sz="3200" spc="-1" strike="noStrike">
              <a:solidFill>
                <a:srgbClr val="000000"/>
              </a:solidFill>
              <a:latin typeface="Times New Roman"/>
            </a:endParaRPr>
          </a:p>
        </p:txBody>
      </p:sp>
      <p:graphicFrame>
        <p:nvGraphicFramePr>
          <p:cNvPr id="289" name=""/>
          <p:cNvGraphicFramePr/>
          <p:nvPr/>
        </p:nvGraphicFramePr>
        <p:xfrm>
          <a:off x="4038480" y="2238480"/>
          <a:ext cx="4800600" cy="4238640"/>
        </p:xfrm>
        <a:graphic>
          <a:graphicData uri="http://schemas.openxmlformats.org/drawingml/2006/table">
            <a:tbl>
              <a:tblPr/>
              <a:tblGrid>
                <a:gridCol w="2235240"/>
                <a:gridCol w="2565360"/>
              </a:tblGrid>
              <a:tr h="37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squema</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ontenido</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r>
              <a:tr h="750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del problem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finición del problema y presentación del estudi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750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agnóstico de la situación actua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udio de mercado:</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manda, Oferta y Défici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1047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y definición de alternativas de solució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ptimización de la situación base; Tamaño y localización; Ingeniería del proyect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74772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valuación de las alternativa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imación de costos y beneficios, cálculo de indicadore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462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esentación de la alternativa seleccionad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scripción detallada y justificación de la selección de la alternativa</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r>
            </a:tbl>
          </a:graphicData>
        </a:graphic>
      </p:graphicFrame>
      <p:sp>
        <p:nvSpPr>
          <p:cNvPr id="290" name="Text Box 94"/>
          <p:cNvSpPr/>
          <p:nvPr/>
        </p:nvSpPr>
        <p:spPr>
          <a:xfrm>
            <a:off x="1523880" y="380880"/>
            <a:ext cx="6629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82400"/>
                </a:solidFill>
                <a:latin typeface="Tahoma"/>
              </a:rPr>
              <a:t>Ciclo de Vida de los Proyectos</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3"/>
          <p:cNvGraphicFramePr/>
          <p:nvPr/>
        </p:nvGraphicFramePr>
        <p:xfrm>
          <a:off x="685800" y="2209680"/>
          <a:ext cx="8458200" cy="4419720"/>
        </p:xfrm>
        <a:graphic>
          <a:graphicData uri="http://schemas.openxmlformats.org/presentationml/2006/ole">
            <p:oleObj r:id="rId1" spid="">
              <p:embed/>
              <p:pic>
                <p:nvPicPr>
                  <p:cNvPr id="292" name="Object 3" descr=""/>
                  <p:cNvPicPr/>
                  <p:nvPr/>
                </p:nvPicPr>
                <p:blipFill>
                  <a:blip r:embed="rId2"/>
                  <a:stretch/>
                </p:blipFill>
                <p:spPr>
                  <a:xfrm>
                    <a:off x="685800" y="2209680"/>
                    <a:ext cx="8458200" cy="4419720"/>
                  </a:xfrm>
                  <a:prstGeom prst="rect">
                    <a:avLst/>
                  </a:prstGeom>
                  <a:ln w="0">
                    <a:noFill/>
                  </a:ln>
                </p:spPr>
              </p:pic>
            </p:oleObj>
          </a:graphicData>
        </a:graphic>
      </p:graphicFrame>
      <p:sp>
        <p:nvSpPr>
          <p:cNvPr id="293" name="Rectangle 27"/>
          <p:cNvSpPr/>
          <p:nvPr/>
        </p:nvSpPr>
        <p:spPr>
          <a:xfrm>
            <a:off x="1828800" y="2095560"/>
            <a:ext cx="594360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Proceso de </a:t>
            </a:r>
            <a:r>
              <a:rPr b="1" lang="es-ES_tradnl" sz="2400" spc="-1" strike="noStrike">
                <a:solidFill>
                  <a:srgbClr val="482400"/>
                </a:solidFill>
                <a:latin typeface="Tahoma"/>
              </a:rPr>
              <a:t>compra</a:t>
            </a:r>
            <a:r>
              <a:rPr b="1" lang="es-ES" sz="2400" spc="-1" strike="noStrike">
                <a:solidFill>
                  <a:srgbClr val="482400"/>
                </a:solidFill>
                <a:latin typeface="Tahoma"/>
              </a:rPr>
              <a:t> de certidumbre</a:t>
            </a:r>
            <a:endParaRPr b="0" lang="en-US" sz="2400" spc="-1" strike="noStrike">
              <a:solidFill>
                <a:srgbClr val="000000"/>
              </a:solidFill>
              <a:latin typeface="Times New Roman"/>
            </a:endParaRPr>
          </a:p>
        </p:txBody>
      </p:sp>
      <p:sp>
        <p:nvSpPr>
          <p:cNvPr id="294" name="Rectangle 30"/>
          <p:cNvSpPr/>
          <p:nvPr/>
        </p:nvSpPr>
        <p:spPr>
          <a:xfrm>
            <a:off x="1828800" y="1790640"/>
            <a:ext cx="6095880" cy="28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tado de</a:t>
            </a:r>
            <a:r>
              <a:rPr b="1" lang="es-ES" sz="2600" spc="-1" strike="noStrike">
                <a:solidFill>
                  <a:srgbClr val="482400"/>
                </a:solidFill>
                <a:latin typeface="Tahoma"/>
              </a:rPr>
              <a:t> Preinversión</a:t>
            </a:r>
            <a:endParaRPr b="0" lang="en-US" sz="2600" spc="-1" strike="noStrike">
              <a:solidFill>
                <a:srgbClr val="000000"/>
              </a:solidFill>
              <a:latin typeface="Times New Roman"/>
            </a:endParaRPr>
          </a:p>
        </p:txBody>
      </p:sp>
      <p:sp>
        <p:nvSpPr>
          <p:cNvPr id="295" name="Text Box 3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Oval 36"/>
          <p:cNvSpPr/>
          <p:nvPr/>
        </p:nvSpPr>
        <p:spPr>
          <a:xfrm>
            <a:off x="3327480" y="3417840"/>
            <a:ext cx="2641680" cy="1676520"/>
          </a:xfrm>
          <a:prstGeom prst="ellipse">
            <a:avLst/>
          </a:prstGeom>
          <a:solidFill>
            <a:srgbClr val="3366ff"/>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37"/>
          <p:cNvSpPr/>
          <p:nvPr/>
        </p:nvSpPr>
        <p:spPr>
          <a:xfrm>
            <a:off x="2870280" y="2732040"/>
            <a:ext cx="253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entificación</a:t>
            </a:r>
            <a:endParaRPr b="0" lang="en-US" sz="1800" spc="-1" strike="noStrike">
              <a:solidFill>
                <a:srgbClr val="000000"/>
              </a:solidFill>
              <a:latin typeface="Times New Roman"/>
            </a:endParaRPr>
          </a:p>
        </p:txBody>
      </p:sp>
      <p:sp>
        <p:nvSpPr>
          <p:cNvPr id="298" name="Text Box 38"/>
          <p:cNvSpPr/>
          <p:nvPr/>
        </p:nvSpPr>
        <p:spPr>
          <a:xfrm>
            <a:off x="6146640" y="31892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paración</a:t>
            </a:r>
            <a:endParaRPr b="0" lang="en-US" sz="1800" spc="-1" strike="noStrike">
              <a:solidFill>
                <a:srgbClr val="000000"/>
              </a:solidFill>
              <a:latin typeface="Times New Roman"/>
            </a:endParaRPr>
          </a:p>
        </p:txBody>
      </p:sp>
      <p:sp>
        <p:nvSpPr>
          <p:cNvPr id="299" name="Text Box 39"/>
          <p:cNvSpPr/>
          <p:nvPr/>
        </p:nvSpPr>
        <p:spPr>
          <a:xfrm>
            <a:off x="6146640" y="45608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a:t>
            </a:r>
            <a:r>
              <a:rPr b="1" lang="es-CL" sz="1800" spc="-1" strike="noStrike">
                <a:solidFill>
                  <a:srgbClr val="000000"/>
                </a:solidFill>
                <a:latin typeface="Tahoma"/>
              </a:rPr>
              <a:t> ex ante</a:t>
            </a:r>
            <a:endParaRPr b="0" lang="en-US" sz="1800" spc="-1" strike="noStrike">
              <a:solidFill>
                <a:srgbClr val="000000"/>
              </a:solidFill>
              <a:latin typeface="Times New Roman"/>
            </a:endParaRPr>
          </a:p>
        </p:txBody>
      </p:sp>
      <p:sp>
        <p:nvSpPr>
          <p:cNvPr id="300" name="Text Box 40"/>
          <p:cNvSpPr/>
          <p:nvPr/>
        </p:nvSpPr>
        <p:spPr>
          <a:xfrm>
            <a:off x="2692440" y="5551560"/>
            <a:ext cx="406404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egociación 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sentación al directorio</a:t>
            </a:r>
            <a:endParaRPr b="0" lang="en-US" sz="1800" spc="-1" strike="noStrike">
              <a:solidFill>
                <a:srgbClr val="000000"/>
              </a:solidFill>
              <a:latin typeface="Times New Roman"/>
            </a:endParaRPr>
          </a:p>
        </p:txBody>
      </p:sp>
      <p:sp>
        <p:nvSpPr>
          <p:cNvPr id="301" name="Text Box 41"/>
          <p:cNvSpPr/>
          <p:nvPr/>
        </p:nvSpPr>
        <p:spPr>
          <a:xfrm>
            <a:off x="888840" y="4522680"/>
            <a:ext cx="210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cución y supervisión</a:t>
            </a:r>
            <a:endParaRPr b="0" lang="en-US" sz="1800" spc="-1" strike="noStrike">
              <a:solidFill>
                <a:srgbClr val="000000"/>
              </a:solidFill>
              <a:latin typeface="Times New Roman"/>
            </a:endParaRPr>
          </a:p>
        </p:txBody>
      </p:sp>
      <p:sp>
        <p:nvSpPr>
          <p:cNvPr id="302" name="Text Box 42"/>
          <p:cNvSpPr/>
          <p:nvPr/>
        </p:nvSpPr>
        <p:spPr>
          <a:xfrm>
            <a:off x="736560" y="3279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 ex - </a:t>
            </a:r>
            <a:r>
              <a:rPr b="1" lang="es-ES_tradnl" sz="1800" spc="-1" strike="noStrike">
                <a:solidFill>
                  <a:srgbClr val="000000"/>
                </a:solidFill>
                <a:latin typeface="Tahoma"/>
              </a:rPr>
              <a:t>p</a:t>
            </a:r>
            <a:r>
              <a:rPr b="1" lang="es-ES" sz="1800" spc="-1" strike="noStrike">
                <a:solidFill>
                  <a:srgbClr val="000000"/>
                </a:solidFill>
                <a:latin typeface="Tahoma"/>
              </a:rPr>
              <a:t>ost</a:t>
            </a:r>
            <a:endParaRPr b="0" lang="en-US" sz="1800" spc="-1" strike="noStrike">
              <a:solidFill>
                <a:srgbClr val="000000"/>
              </a:solidFill>
              <a:latin typeface="Times New Roman"/>
            </a:endParaRPr>
          </a:p>
        </p:txBody>
      </p:sp>
      <p:sp>
        <p:nvSpPr>
          <p:cNvPr id="303" name="AutoShape 49"/>
          <p:cNvSpPr/>
          <p:nvPr/>
        </p:nvSpPr>
        <p:spPr>
          <a:xfrm flipH="1" rot="16898400">
            <a:off x="6873480" y="3985560"/>
            <a:ext cx="879480" cy="353520"/>
          </a:xfrm>
          <a:custGeom>
            <a:avLst/>
            <a:gdLst>
              <a:gd name="textAreaLeft" fmla="*/ 181440 w 879480"/>
              <a:gd name="textAreaRight" fmla="*/ 620280 w 879480"/>
              <a:gd name="textAreaTop" fmla="*/ 47160 h 353520"/>
              <a:gd name="textAreaBottom" fmla="*/ 306360 h 35352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AutoShape 51"/>
          <p:cNvSpPr/>
          <p:nvPr/>
        </p:nvSpPr>
        <p:spPr>
          <a:xfrm flipH="1" rot="12551400">
            <a:off x="5110200" y="2593440"/>
            <a:ext cx="1708200" cy="757800"/>
          </a:xfrm>
          <a:custGeom>
            <a:avLst/>
            <a:gdLst>
              <a:gd name="textAreaLeft" fmla="*/ 352080 w 1708200"/>
              <a:gd name="textAreaRight" fmla="*/ 1204560 w 1708200"/>
              <a:gd name="textAreaTop" fmla="*/ 101520 h 757800"/>
              <a:gd name="textAreaBottom" fmla="*/ 656280 h 75780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AutoShape 52"/>
          <p:cNvSpPr/>
          <p:nvPr/>
        </p:nvSpPr>
        <p:spPr>
          <a:xfrm flipH="1" rot="19671600">
            <a:off x="5536440" y="5322960"/>
            <a:ext cx="1714680" cy="579240"/>
          </a:xfrm>
          <a:custGeom>
            <a:avLst/>
            <a:gdLst>
              <a:gd name="textAreaLeft" fmla="*/ 353880 w 1714680"/>
              <a:gd name="textAreaRight" fmla="*/ 1209600 w 1714680"/>
              <a:gd name="textAreaTop" fmla="*/ 77400 h 579240"/>
              <a:gd name="textAreaBottom" fmla="*/ 501840 h 57924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54"/>
          <p:cNvSpPr/>
          <p:nvPr/>
        </p:nvSpPr>
        <p:spPr>
          <a:xfrm flipH="1" rot="1677000">
            <a:off x="2260440" y="5322960"/>
            <a:ext cx="1486080" cy="426960"/>
          </a:xfrm>
          <a:custGeom>
            <a:avLst/>
            <a:gdLst>
              <a:gd name="textAreaLeft" fmla="*/ 306720 w 1486080"/>
              <a:gd name="textAreaRight" fmla="*/ 1048680 w 1486080"/>
              <a:gd name="textAreaTop" fmla="*/ 57240 h 426960"/>
              <a:gd name="textAreaBottom" fmla="*/ 369720 h 4269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AutoShape 55"/>
          <p:cNvSpPr/>
          <p:nvPr/>
        </p:nvSpPr>
        <p:spPr>
          <a:xfrm flipH="1" rot="5326200">
            <a:off x="2182320" y="3342240"/>
            <a:ext cx="1066680" cy="302760"/>
          </a:xfrm>
          <a:custGeom>
            <a:avLst/>
            <a:gdLst>
              <a:gd name="textAreaLeft" fmla="*/ 219960 w 1066680"/>
              <a:gd name="textAreaRight" fmla="*/ 752400 w 1066680"/>
              <a:gd name="textAreaTop" fmla="*/ 40320 h 302760"/>
              <a:gd name="textAreaBottom" fmla="*/ 262440 h 3027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1066680" y="1752480"/>
            <a:ext cx="77724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Ciclo completo de un proyecto</a:t>
            </a:r>
            <a:endParaRPr b="0" lang="en-US" sz="2600" spc="-1" strike="noStrike">
              <a:solidFill>
                <a:srgbClr val="482400"/>
              </a:solidFill>
              <a:latin typeface="Times New Roman"/>
            </a:endParaRPr>
          </a:p>
        </p:txBody>
      </p:sp>
      <p:sp>
        <p:nvSpPr>
          <p:cNvPr id="309" name="Text Box 59"/>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
          <p:cNvGraphicFramePr/>
          <p:nvPr/>
        </p:nvGraphicFramePr>
        <p:xfrm>
          <a:off x="1219320" y="2579760"/>
          <a:ext cx="5992560" cy="3519360"/>
        </p:xfrm>
        <a:graphic>
          <a:graphicData uri="http://schemas.openxmlformats.org/drawingml/2006/table">
            <a:tbl>
              <a:tblPr/>
              <a:tblGrid>
                <a:gridCol w="2239920"/>
                <a:gridCol w="1720800"/>
                <a:gridCol w="2031840"/>
              </a:tblGrid>
              <a:tr h="933840">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sfuerzo de </a:t>
                      </a:r>
                      <a:r>
                        <a:rPr b="1" lang="es-ES_tradnl" sz="2000" spc="-1" strike="noStrike">
                          <a:solidFill>
                            <a:srgbClr val="000000"/>
                          </a:solidFill>
                          <a:latin typeface="Tahoma"/>
                        </a:rPr>
                        <a:t>Preparación/</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valuació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traso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r>
              <a:tr h="82116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Alt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4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1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81972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edian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2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94464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Baj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2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r>
            </a:tbl>
          </a:graphicData>
        </a:graphic>
      </p:graphicFrame>
      <p:sp>
        <p:nvSpPr>
          <p:cNvPr id="311" name="Text Box 32"/>
          <p:cNvSpPr/>
          <p:nvPr/>
        </p:nvSpPr>
        <p:spPr>
          <a:xfrm>
            <a:off x="900000" y="6091200"/>
            <a:ext cx="298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uente: Construcción Industry Institute</a:t>
            </a:r>
            <a:endParaRPr b="0" lang="en-US" sz="1200" spc="-1" strike="noStrike">
              <a:solidFill>
                <a:srgbClr val="000000"/>
              </a:solidFill>
              <a:latin typeface="Times New Roman"/>
            </a:endParaRPr>
          </a:p>
        </p:txBody>
      </p:sp>
      <p:grpSp>
        <p:nvGrpSpPr>
          <p:cNvPr id="312" name="Group 41"/>
          <p:cNvGrpSpPr/>
          <p:nvPr/>
        </p:nvGrpSpPr>
        <p:grpSpPr>
          <a:xfrm>
            <a:off x="7294680" y="3351960"/>
            <a:ext cx="1248480" cy="2360880"/>
            <a:chOff x="7294680" y="3351960"/>
            <a:chExt cx="1248480" cy="2360880"/>
          </a:xfrm>
        </p:grpSpPr>
        <p:sp>
          <p:nvSpPr>
            <p:cNvPr id="313" name="Freeform 36"/>
            <p:cNvSpPr/>
            <p:nvPr/>
          </p:nvSpPr>
          <p:spPr>
            <a:xfrm flipV="1" rot="8689200">
              <a:off x="7467840" y="3504600"/>
              <a:ext cx="801360" cy="855000"/>
            </a:xfrm>
            <a:custGeom>
              <a:avLst/>
              <a:gdLst>
                <a:gd name="textAreaLeft" fmla="*/ 0 w 801360"/>
                <a:gd name="textAreaRight" fmla="*/ 801720 w 801360"/>
                <a:gd name="textAreaTop" fmla="*/ -360 h 855000"/>
                <a:gd name="textAreaBottom" fmla="*/ 85500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39"/>
            <p:cNvSpPr/>
            <p:nvPr/>
          </p:nvSpPr>
          <p:spPr>
            <a:xfrm rot="12910800">
              <a:off x="7568280" y="4704840"/>
              <a:ext cx="801720" cy="855000"/>
            </a:xfrm>
            <a:custGeom>
              <a:avLst/>
              <a:gdLst>
                <a:gd name="textAreaLeft" fmla="*/ 0 w 801720"/>
                <a:gd name="textAreaRight" fmla="*/ 802080 w 801720"/>
                <a:gd name="textAreaTop" fmla="*/ 0 h 855000"/>
                <a:gd name="textAreaBottom" fmla="*/ 85536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AutoShape 40"/>
          <p:cNvSpPr/>
          <p:nvPr/>
        </p:nvSpPr>
        <p:spPr>
          <a:xfrm>
            <a:off x="7772400" y="4343400"/>
            <a:ext cx="1219320" cy="457200"/>
          </a:xfrm>
          <a:prstGeom prst="octagon">
            <a:avLst>
              <a:gd name="adj" fmla="val 29287"/>
            </a:avLst>
          </a:prstGeom>
          <a:noFill/>
          <a:ln w="9360">
            <a:solidFill>
              <a:srgbClr val="d69b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9%</a:t>
            </a:r>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1142640" y="1752480"/>
            <a:ext cx="66294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fuerzo de Preparación y Evaluación</a:t>
            </a:r>
            <a:endParaRPr b="0" lang="en-US" sz="2600" spc="-1" strike="noStrike">
              <a:solidFill>
                <a:srgbClr val="482400"/>
              </a:solidFill>
              <a:latin typeface="Times New Roman"/>
            </a:endParaRPr>
          </a:p>
        </p:txBody>
      </p:sp>
      <p:sp>
        <p:nvSpPr>
          <p:cNvPr id="317" name="Text Box 5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2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
        <p:nvSpPr>
          <p:cNvPr id="96" name="Rectangle 1031"/>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97" name="Rectangle 1032"/>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2666880" y="1752480"/>
          <a:ext cx="6248520" cy="4764240"/>
        </p:xfrm>
        <a:graphic>
          <a:graphicData uri="http://schemas.openxmlformats.org/drawingml/2006/table">
            <a:tbl>
              <a:tblPr/>
              <a:tblGrid>
                <a:gridCol w="1954440"/>
                <a:gridCol w="2050920"/>
                <a:gridCol w="2243160"/>
              </a:tblGrid>
              <a:tr h="41724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 de problemas y planteamiento de ideas para la solución de éstos</a:t>
                      </a:r>
                      <a:endParaRPr b="0" lang="en-US" sz="1400" spc="-1" strike="noStrike">
                        <a:solidFill>
                          <a:srgbClr val="000000"/>
                        </a:solidFill>
                        <a:latin typeface="Times New Roman"/>
                      </a:endParaRPr>
                    </a:p>
                  </a:txBody>
                  <a:tcPr anchor="t" marL="76320" marR="7632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evaluación y selección de alternativa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uestos de salud rural, Centros de salud primarios, Hospitales primarios, Equipamiento básico, vehículos</a:t>
                      </a:r>
                      <a:endParaRPr b="0" lang="en-US" sz="1400" spc="-1" strike="noStrike">
                        <a:solidFill>
                          <a:srgbClr val="000000"/>
                        </a:solidFill>
                        <a:latin typeface="Times New Roman"/>
                      </a:endParaRPr>
                    </a:p>
                  </a:txBody>
                  <a:tcPr anchor="t" marL="76320" marR="76320">
                    <a:lnL>
                      <a:noFill/>
                    </a:lnL>
                    <a:lnR w="13680">
                      <a:solidFill>
                        <a:srgbClr val="000000"/>
                      </a:solidFill>
                    </a:lnR>
                    <a:lnT>
                      <a:noFill/>
                    </a:lnT>
                    <a:lnB w="5760">
                      <a:solidFill>
                        <a:srgbClr val="000000"/>
                      </a:solidFill>
                    </a:lnB>
                    <a:solidFill>
                      <a:srgbClr val="ffffcc"/>
                    </a:solidFill>
                  </a:tcPr>
                </a:tc>
              </a:tr>
              <a:tr h="289800">
                <a:tc gridSpan="2">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fundización de los estudios</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w="5760">
                      <a:solidFill>
                        <a:srgbClr val="000000"/>
                      </a:solid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r>
              <a:tr h="368280">
                <a:tc>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 detallado de alternativa</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780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w="5760">
                      <a:solidFill>
                        <a:srgbClr val="000000"/>
                      </a:solidFill>
                    </a:lnR>
                    <a:lnT>
                      <a:noFill/>
                    </a:lnT>
                    <a:lnB w="5760">
                      <a:solidFill>
                        <a:srgbClr val="000000"/>
                      </a:solid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500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 arquitectónico,  Ingeniería de Detalle, Programación de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de las obras o Ejecución de las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los beneficios,  Evaluación Ex – Post</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9" name="AutoShape 286"/>
          <p:cNvSpPr/>
          <p:nvPr/>
        </p:nvSpPr>
        <p:spPr>
          <a:xfrm>
            <a:off x="5562720" y="4830840"/>
            <a:ext cx="228600" cy="857160"/>
          </a:xfrm>
          <a:prstGeom prst="downArrow">
            <a:avLst>
              <a:gd name="adj1" fmla="val 50000"/>
              <a:gd name="adj2" fmla="val 9374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287"/>
          <p:cNvSpPr/>
          <p:nvPr/>
        </p:nvSpPr>
        <p:spPr>
          <a:xfrm>
            <a:off x="7696080" y="3535200"/>
            <a:ext cx="152640" cy="2152800"/>
          </a:xfrm>
          <a:prstGeom prst="downArrow">
            <a:avLst>
              <a:gd name="adj1" fmla="val 50000"/>
              <a:gd name="adj2" fmla="val 352594"/>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288"/>
          <p:cNvSpPr/>
          <p:nvPr/>
        </p:nvSpPr>
        <p:spPr>
          <a:xfrm>
            <a:off x="3581280" y="5611680"/>
            <a:ext cx="228600" cy="152640"/>
          </a:xfrm>
          <a:prstGeom prst="downArrow">
            <a:avLst>
              <a:gd name="adj1" fmla="val 50000"/>
              <a:gd name="adj2" fmla="val 2500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2" name="Group 289"/>
          <p:cNvGrpSpPr/>
          <p:nvPr/>
        </p:nvGrpSpPr>
        <p:grpSpPr>
          <a:xfrm>
            <a:off x="762120" y="1828800"/>
            <a:ext cx="1523880" cy="4571640"/>
            <a:chOff x="762120" y="1828800"/>
            <a:chExt cx="1523880" cy="4571640"/>
          </a:xfrm>
        </p:grpSpPr>
        <p:sp>
          <p:nvSpPr>
            <p:cNvPr id="323" name="AutoShape 290"/>
            <p:cNvSpPr/>
            <p:nvPr/>
          </p:nvSpPr>
          <p:spPr>
            <a:xfrm>
              <a:off x="762120" y="182880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p:txBody>
        </p:sp>
        <p:grpSp>
          <p:nvGrpSpPr>
            <p:cNvPr id="324" name="Group 291"/>
            <p:cNvGrpSpPr/>
            <p:nvPr/>
          </p:nvGrpSpPr>
          <p:grpSpPr>
            <a:xfrm>
              <a:off x="762120" y="2230560"/>
              <a:ext cx="1523880" cy="4169880"/>
              <a:chOff x="762120" y="2230560"/>
              <a:chExt cx="1523880" cy="4169880"/>
            </a:xfrm>
          </p:grpSpPr>
          <p:sp>
            <p:nvSpPr>
              <p:cNvPr id="325" name="AutoShape 292"/>
              <p:cNvSpPr/>
              <p:nvPr/>
            </p:nvSpPr>
            <p:spPr>
              <a:xfrm>
                <a:off x="762120" y="24814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p:txBody>
          </p:sp>
          <p:sp>
            <p:nvSpPr>
              <p:cNvPr id="326" name="AutoShape 293"/>
              <p:cNvSpPr/>
              <p:nvPr/>
            </p:nvSpPr>
            <p:spPr>
              <a:xfrm>
                <a:off x="789840" y="318492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p:txBody>
          </p:sp>
          <p:sp>
            <p:nvSpPr>
              <p:cNvPr id="327" name="AutoShape 294"/>
              <p:cNvSpPr/>
              <p:nvPr/>
            </p:nvSpPr>
            <p:spPr>
              <a:xfrm>
                <a:off x="762120" y="383796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p:txBody>
          </p:sp>
          <p:sp>
            <p:nvSpPr>
              <p:cNvPr id="328" name="AutoShape 295"/>
              <p:cNvSpPr/>
              <p:nvPr/>
            </p:nvSpPr>
            <p:spPr>
              <a:xfrm>
                <a:off x="762120" y="4491360"/>
                <a:ext cx="1496160" cy="5522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p:txBody>
          </p:sp>
          <p:sp>
            <p:nvSpPr>
              <p:cNvPr id="329" name="AutoShape 296"/>
              <p:cNvSpPr/>
              <p:nvPr/>
            </p:nvSpPr>
            <p:spPr>
              <a:xfrm>
                <a:off x="762120" y="52948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p:txBody>
          </p:sp>
          <p:sp>
            <p:nvSpPr>
              <p:cNvPr id="330" name="AutoShape 297"/>
              <p:cNvSpPr/>
              <p:nvPr/>
            </p:nvSpPr>
            <p:spPr>
              <a:xfrm>
                <a:off x="762120" y="59986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p:txBody>
          </p:sp>
          <p:sp>
            <p:nvSpPr>
              <p:cNvPr id="331" name="AutoShape 298"/>
              <p:cNvSpPr/>
              <p:nvPr/>
            </p:nvSpPr>
            <p:spPr>
              <a:xfrm>
                <a:off x="1454760" y="569700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99"/>
              <p:cNvSpPr/>
              <p:nvPr/>
            </p:nvSpPr>
            <p:spPr>
              <a:xfrm>
                <a:off x="1454760" y="22305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AutoShape 300"/>
              <p:cNvSpPr/>
              <p:nvPr/>
            </p:nvSpPr>
            <p:spPr>
              <a:xfrm>
                <a:off x="1454760" y="358704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301"/>
              <p:cNvSpPr/>
              <p:nvPr/>
            </p:nvSpPr>
            <p:spPr>
              <a:xfrm>
                <a:off x="1454760" y="423972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302"/>
              <p:cNvSpPr/>
              <p:nvPr/>
            </p:nvSpPr>
            <p:spPr>
              <a:xfrm>
                <a:off x="1454760" y="50439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303"/>
              <p:cNvSpPr/>
              <p:nvPr/>
            </p:nvSpPr>
            <p:spPr>
              <a:xfrm>
                <a:off x="1454760" y="288324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Rectangle 308"/>
          <p:cNvSpPr/>
          <p:nvPr/>
        </p:nvSpPr>
        <p:spPr>
          <a:xfrm>
            <a:off x="838080" y="1219320"/>
            <a:ext cx="8305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Ejemplo: Ciclo de vida proyectos de salud</a:t>
            </a:r>
            <a:endParaRPr b="0" lang="en-US" sz="2400" spc="-1" strike="noStrike">
              <a:solidFill>
                <a:srgbClr val="000000"/>
              </a:solidFill>
              <a:latin typeface="Times New Roman"/>
            </a:endParaRPr>
          </a:p>
        </p:txBody>
      </p:sp>
      <p:sp>
        <p:nvSpPr>
          <p:cNvPr id="338" name="Text Box 309"/>
          <p:cNvSpPr/>
          <p:nvPr/>
        </p:nvSpPr>
        <p:spPr>
          <a:xfrm>
            <a:off x="1143000" y="6094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066680" y="1981080"/>
            <a:ext cx="7772400" cy="17528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iclo de Vida de los Proyectos</a:t>
            </a:r>
            <a:endParaRPr b="0" lang="en-US" sz="3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100" name="Rectangle 7"/>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
        <p:nvSpPr>
          <p:cNvPr id="101" name="Text Box 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1"/>
          <p:cNvSpPr/>
          <p:nvPr/>
        </p:nvSpPr>
        <p:spPr>
          <a:xfrm>
            <a:off x="914400" y="2219040"/>
            <a:ext cx="457200" cy="242964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V</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p:txBody>
      </p:sp>
      <p:sp>
        <p:nvSpPr>
          <p:cNvPr id="103" name="Text Box 12"/>
          <p:cNvSpPr/>
          <p:nvPr/>
        </p:nvSpPr>
        <p:spPr>
          <a:xfrm>
            <a:off x="711360" y="5029200"/>
            <a:ext cx="132048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NVERSION</a:t>
            </a:r>
            <a:endParaRPr b="0" lang="en-US" sz="1500" spc="-1" strike="noStrike">
              <a:solidFill>
                <a:srgbClr val="000000"/>
              </a:solidFill>
              <a:latin typeface="Times New Roman"/>
            </a:endParaRPr>
          </a:p>
        </p:txBody>
      </p:sp>
      <p:sp>
        <p:nvSpPr>
          <p:cNvPr id="104" name="Text Box 13"/>
          <p:cNvSpPr/>
          <p:nvPr/>
        </p:nvSpPr>
        <p:spPr>
          <a:xfrm>
            <a:off x="711360" y="6019920"/>
            <a:ext cx="149832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PERACION</a:t>
            </a:r>
            <a:endParaRPr b="0" lang="en-US" sz="1500" spc="-1" strike="noStrike">
              <a:solidFill>
                <a:srgbClr val="000000"/>
              </a:solidFill>
              <a:latin typeface="Times New Roman"/>
            </a:endParaRPr>
          </a:p>
        </p:txBody>
      </p:sp>
      <p:sp>
        <p:nvSpPr>
          <p:cNvPr id="105" name="AutoShape 8"/>
          <p:cNvSpPr/>
          <p:nvPr/>
        </p:nvSpPr>
        <p:spPr>
          <a:xfrm>
            <a:off x="2209680" y="4637160"/>
            <a:ext cx="5486400" cy="457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EÑO</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rquitectura/ingeniería, Programación actividades)</a:t>
            </a:r>
            <a:endParaRPr b="0" lang="en-US" sz="1400" spc="-1" strike="noStrike">
              <a:solidFill>
                <a:srgbClr val="000000"/>
              </a:solidFill>
              <a:latin typeface="Times New Roman"/>
            </a:endParaRPr>
          </a:p>
        </p:txBody>
      </p:sp>
      <p:sp>
        <p:nvSpPr>
          <p:cNvPr id="106" name="AutoShape 9"/>
          <p:cNvSpPr/>
          <p:nvPr/>
        </p:nvSpPr>
        <p:spPr>
          <a:xfrm>
            <a:off x="2235240" y="5338800"/>
            <a:ext cx="5486400" cy="4413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JECU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nstrucción / implementación)</a:t>
            </a:r>
            <a:endParaRPr b="0" lang="en-US" sz="1400" spc="-1" strike="noStrike">
              <a:solidFill>
                <a:srgbClr val="000000"/>
              </a:solidFill>
              <a:latin typeface="Times New Roman"/>
            </a:endParaRPr>
          </a:p>
        </p:txBody>
      </p:sp>
      <p:sp>
        <p:nvSpPr>
          <p:cNvPr id="107" name="AutoShape 10"/>
          <p:cNvSpPr/>
          <p:nvPr/>
        </p:nvSpPr>
        <p:spPr>
          <a:xfrm>
            <a:off x="2235240" y="6019920"/>
            <a:ext cx="5486400" cy="4125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PERA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Generación de beneficios)</a:t>
            </a:r>
            <a:endParaRPr b="0" lang="en-US" sz="1400" spc="-1" strike="noStrike">
              <a:solidFill>
                <a:srgbClr val="000000"/>
              </a:solidFill>
              <a:latin typeface="Times New Roman"/>
            </a:endParaRPr>
          </a:p>
        </p:txBody>
      </p:sp>
      <p:sp>
        <p:nvSpPr>
          <p:cNvPr id="108" name="AutoShape 14"/>
          <p:cNvSpPr/>
          <p:nvPr/>
        </p:nvSpPr>
        <p:spPr>
          <a:xfrm>
            <a:off x="4775040" y="5791320"/>
            <a:ext cx="50832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p:cNvSpPr/>
          <p:nvPr/>
        </p:nvSpPr>
        <p:spPr>
          <a:xfrm>
            <a:off x="2235240" y="1943280"/>
            <a:ext cx="5486400" cy="4190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a:t>
            </a:r>
            <a:endParaRPr b="0" lang="en-US" sz="1400" spc="-1" strike="noStrike">
              <a:solidFill>
                <a:srgbClr val="000000"/>
              </a:solidFill>
              <a:latin typeface="Times New Roman"/>
            </a:endParaRPr>
          </a:p>
        </p:txBody>
      </p:sp>
      <p:sp>
        <p:nvSpPr>
          <p:cNvPr id="110" name="AutoShape 5"/>
          <p:cNvSpPr/>
          <p:nvPr/>
        </p:nvSpPr>
        <p:spPr>
          <a:xfrm>
            <a:off x="2235240" y="2633760"/>
            <a:ext cx="5537160" cy="403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eparación / evaluación)</a:t>
            </a:r>
            <a:endParaRPr b="0" lang="en-US" sz="1400" spc="-1" strike="noStrike">
              <a:solidFill>
                <a:srgbClr val="000000"/>
              </a:solidFill>
              <a:latin typeface="Times New Roman"/>
            </a:endParaRPr>
          </a:p>
        </p:txBody>
      </p:sp>
      <p:sp>
        <p:nvSpPr>
          <p:cNvPr id="111" name="AutoShape 6"/>
          <p:cNvSpPr/>
          <p:nvPr/>
        </p:nvSpPr>
        <p:spPr>
          <a:xfrm>
            <a:off x="2336760" y="3271680"/>
            <a:ext cx="5435640" cy="4510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 evaluación)</a:t>
            </a:r>
            <a:endParaRPr b="0" lang="en-US" sz="1400" spc="-1" strike="noStrike">
              <a:solidFill>
                <a:srgbClr val="000000"/>
              </a:solidFill>
              <a:latin typeface="Times New Roman"/>
            </a:endParaRPr>
          </a:p>
        </p:txBody>
      </p:sp>
      <p:sp>
        <p:nvSpPr>
          <p:cNvPr id="112" name="AutoShape 7"/>
          <p:cNvSpPr/>
          <p:nvPr/>
        </p:nvSpPr>
        <p:spPr>
          <a:xfrm>
            <a:off x="2235240" y="3962520"/>
            <a:ext cx="5537160" cy="4348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detallados / evaluación)</a:t>
            </a:r>
            <a:endParaRPr b="0" lang="en-US" sz="1400" spc="-1" strike="noStrike">
              <a:solidFill>
                <a:srgbClr val="000000"/>
              </a:solidFill>
              <a:latin typeface="Times New Roman"/>
            </a:endParaRPr>
          </a:p>
        </p:txBody>
      </p:sp>
      <p:cxnSp>
        <p:nvCxnSpPr>
          <p:cNvPr id="113" name="AutoShape 24"/>
          <p:cNvCxnSpPr>
            <a:endCxn id="105" idx="1"/>
          </p:cNvCxnSpPr>
          <p:nvPr/>
        </p:nvCxnSpPr>
        <p:spPr>
          <a:xfrm rot="5400000">
            <a:off x="1579680" y="4133880"/>
            <a:ext cx="1360800" cy="102600"/>
          </a:xfrm>
          <a:prstGeom prst="curvedConnector5">
            <a:avLst>
              <a:gd name="adj1" fmla="val 793"/>
              <a:gd name="adj2" fmla="val 279577"/>
              <a:gd name="adj3" fmla="val 793"/>
            </a:avLst>
          </a:prstGeom>
          <a:ln w="25560">
            <a:solidFill>
              <a:srgbClr val="482400"/>
            </a:solidFill>
            <a:miter/>
            <a:tailEnd len="med" type="triangle" w="med"/>
          </a:ln>
        </p:spPr>
      </p:cxnSp>
      <p:sp>
        <p:nvSpPr>
          <p:cNvPr id="114" name="AutoShape 25"/>
          <p:cNvSpPr/>
          <p:nvPr/>
        </p:nvSpPr>
        <p:spPr>
          <a:xfrm>
            <a:off x="8255160" y="1752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15" name="AutoShape 26"/>
          <p:cNvSpPr/>
          <p:nvPr/>
        </p:nvSpPr>
        <p:spPr>
          <a:xfrm flipV="1">
            <a:off x="8331120" y="2133720"/>
            <a:ext cx="38124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16" name="AutoShape 47"/>
          <p:cNvSpPr/>
          <p:nvPr/>
        </p:nvSpPr>
        <p:spPr>
          <a:xfrm>
            <a:off x="4749840" y="51055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48"/>
          <p:cNvSpPr/>
          <p:nvPr/>
        </p:nvSpPr>
        <p:spPr>
          <a:xfrm>
            <a:off x="4749840" y="44197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49"/>
          <p:cNvSpPr/>
          <p:nvPr/>
        </p:nvSpPr>
        <p:spPr>
          <a:xfrm>
            <a:off x="4724280" y="37339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50"/>
          <p:cNvSpPr/>
          <p:nvPr/>
        </p:nvSpPr>
        <p:spPr>
          <a:xfrm>
            <a:off x="4724280" y="30481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51"/>
          <p:cNvSpPr/>
          <p:nvPr/>
        </p:nvSpPr>
        <p:spPr>
          <a:xfrm>
            <a:off x="4724280" y="23623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3"/>
          <p:cNvSpPr/>
          <p:nvPr/>
        </p:nvSpPr>
        <p:spPr>
          <a:xfrm>
            <a:off x="7698960" y="209664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58"/>
          <p:cNvSpPr/>
          <p:nvPr/>
        </p:nvSpPr>
        <p:spPr>
          <a:xfrm flipV="1">
            <a:off x="7698600" y="2003400"/>
            <a:ext cx="56340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AutoShape 67"/>
          <p:cNvSpPr/>
          <p:nvPr/>
        </p:nvSpPr>
        <p:spPr>
          <a:xfrm>
            <a:off x="8305920" y="251460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4" name="AutoShape 68"/>
          <p:cNvSpPr/>
          <p:nvPr/>
        </p:nvSpPr>
        <p:spPr>
          <a:xfrm flipV="1">
            <a:off x="8381880" y="289476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5" name="Line 69"/>
          <p:cNvSpPr/>
          <p:nvPr/>
        </p:nvSpPr>
        <p:spPr>
          <a:xfrm>
            <a:off x="7749720" y="279036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70"/>
          <p:cNvSpPr/>
          <p:nvPr/>
        </p:nvSpPr>
        <p:spPr>
          <a:xfrm flipV="1">
            <a:off x="7749720" y="2697120"/>
            <a:ext cx="56304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AutoShape 71"/>
          <p:cNvSpPr/>
          <p:nvPr/>
        </p:nvSpPr>
        <p:spPr>
          <a:xfrm>
            <a:off x="8331120" y="3276720"/>
            <a:ext cx="533520" cy="304560"/>
          </a:xfrm>
          <a:prstGeom prst="hexagon">
            <a:avLst>
              <a:gd name="adj" fmla="val 43794"/>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8" name="AutoShape 72"/>
          <p:cNvSpPr/>
          <p:nvPr/>
        </p:nvSpPr>
        <p:spPr>
          <a:xfrm flipV="1">
            <a:off x="8381880" y="365688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9" name="Line 73"/>
          <p:cNvSpPr/>
          <p:nvPr/>
        </p:nvSpPr>
        <p:spPr>
          <a:xfrm>
            <a:off x="7778160" y="3484080"/>
            <a:ext cx="550440" cy="13356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74"/>
          <p:cNvSpPr/>
          <p:nvPr/>
        </p:nvSpPr>
        <p:spPr>
          <a:xfrm flipV="1">
            <a:off x="7795080" y="337860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1" name="AutoShape 75"/>
          <p:cNvSpPr/>
          <p:nvPr/>
        </p:nvSpPr>
        <p:spPr>
          <a:xfrm>
            <a:off x="8305920" y="4038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32" name="AutoShape 76"/>
          <p:cNvSpPr/>
          <p:nvPr/>
        </p:nvSpPr>
        <p:spPr>
          <a:xfrm flipV="1">
            <a:off x="8356680" y="4419720"/>
            <a:ext cx="38088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33" name="Line 77"/>
          <p:cNvSpPr/>
          <p:nvPr/>
        </p:nvSpPr>
        <p:spPr>
          <a:xfrm>
            <a:off x="7752600" y="4246560"/>
            <a:ext cx="550800" cy="1332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78"/>
          <p:cNvSpPr/>
          <p:nvPr/>
        </p:nvSpPr>
        <p:spPr>
          <a:xfrm flipV="1">
            <a:off x="7769520" y="414036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cxnSp>
        <p:nvCxnSpPr>
          <p:cNvPr id="135" name="AutoShape 81"/>
          <p:cNvCxnSpPr>
            <a:endCxn id="105" idx="1"/>
          </p:cNvCxnSpPr>
          <p:nvPr/>
        </p:nvCxnSpPr>
        <p:spPr>
          <a:xfrm rot="5400000">
            <a:off x="1198440" y="3829680"/>
            <a:ext cx="2046960" cy="26280"/>
          </a:xfrm>
          <a:prstGeom prst="curvedConnector5">
            <a:avLst>
              <a:gd name="adj1" fmla="val -545"/>
              <a:gd name="adj2" fmla="val 1418055"/>
              <a:gd name="adj3" fmla="val -545"/>
            </a:avLst>
          </a:prstGeom>
          <a:ln w="25560">
            <a:solidFill>
              <a:srgbClr val="482400"/>
            </a:solidFill>
            <a:miter/>
            <a:tailEnd len="med" type="triangle" w="med"/>
          </a:ln>
        </p:spPr>
      </p:cxnSp>
      <p:sp>
        <p:nvSpPr>
          <p:cNvPr id="136" name="Text Box 8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9"/>
          <p:cNvSpPr/>
          <p:nvPr/>
        </p:nvSpPr>
        <p:spPr>
          <a:xfrm>
            <a:off x="1066680" y="1814400"/>
            <a:ext cx="7925040" cy="46339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ciclo de vida del proyecto se inicia con la identificación de un problema al cual se le debe buscar una solución.</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os proyectos de inversión atraviesan por cuatro grandes fases:</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Pre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Operac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valuación de Resultados</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Todas estas fases o alguna de ellas, a su turno, pueden ser recorridas por un proyecto, dependiendo de: su naturaleza, complejidad, volumen de inversión comprometido o de las pautas establecidas por los organismos encargados del financiamiento.</a:t>
            </a:r>
            <a:endParaRPr b="0" lang="en-US" sz="2200" spc="-1" strike="noStrike">
              <a:solidFill>
                <a:srgbClr val="000000"/>
              </a:solidFill>
              <a:latin typeface="Times New Roman"/>
            </a:endParaRPr>
          </a:p>
        </p:txBody>
      </p:sp>
      <p:sp>
        <p:nvSpPr>
          <p:cNvPr id="138"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914400" y="2063880"/>
            <a:ext cx="8001000" cy="363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Preinversió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s el proceso de elaboración y evaluación del proyecto que se llevaría a cabo para resolver el problema o atender la necesidad que le dá orige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se desagrega en las siguiente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IDEA</a:t>
            </a:r>
            <a:r>
              <a:rPr b="0" lang="es-ES_tradnl" sz="2200" spc="-1" strike="noStrike">
                <a:solidFill>
                  <a:srgbClr val="000000"/>
                </a:solidFill>
                <a:latin typeface="Tahoma"/>
              </a:rPr>
              <a:t>: se identifica el problema a resolver y se vislumbran las </a:t>
            </a:r>
            <a:r>
              <a:rPr b="0" lang="es-ES_tradnl" sz="2200" spc="-1" strike="noStrike">
                <a:solidFill>
                  <a:srgbClr val="000000"/>
                </a:solidFill>
                <a:latin typeface="Tahoma"/>
              </a:rPr>
              <a:t>	</a:t>
            </a:r>
            <a:r>
              <a:rPr b="0" lang="es-ES_tradnl" sz="2200" spc="-1" strike="noStrike">
                <a:solidFill>
                  <a:srgbClr val="000000"/>
                </a:solidFill>
                <a:latin typeface="Tahoma"/>
              </a:rPr>
              <a:t>posibles alternativas básicas mediante las cuales se </a:t>
            </a:r>
            <a:r>
              <a:rPr b="0" lang="es-ES_tradnl" sz="2200" spc="-1" strike="noStrike">
                <a:solidFill>
                  <a:srgbClr val="000000"/>
                </a:solidFill>
                <a:latin typeface="Tahoma"/>
              </a:rPr>
              <a:t>	</a:t>
            </a:r>
            <a:r>
              <a:rPr b="0" lang="es-ES_tradnl" sz="2200" spc="-1" strike="noStrike">
                <a:solidFill>
                  <a:srgbClr val="000000"/>
                </a:solidFill>
                <a:latin typeface="Tahoma"/>
              </a:rPr>
              <a:t>resolvería.</a:t>
            </a:r>
            <a:endParaRPr b="0" lang="en-US" sz="2200" spc="-1" strike="noStrike">
              <a:solidFill>
                <a:srgbClr val="000000"/>
              </a:solidFill>
              <a:latin typeface="Times New Roman"/>
            </a:endParaRPr>
          </a:p>
        </p:txBody>
      </p:sp>
      <p:sp>
        <p:nvSpPr>
          <p:cNvPr id="140"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990720" y="1828800"/>
            <a:ext cx="7848360" cy="4639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ERFIL</a:t>
            </a:r>
            <a:r>
              <a:rPr b="0" lang="es-ES_tradnl" sz="2200" spc="-1" strike="noStrike">
                <a:solidFill>
                  <a:srgbClr val="000000"/>
                </a:solidFill>
                <a:latin typeface="Tahoma"/>
              </a:rPr>
              <a:t>: se evalúan las diferentes alternativas, partiendo de información técnica y se descartan las que no son viables. Se especifica y describe el proyecto en base a la alternativa seleccionada. Por lo general, la información en que se apoya la elaboración del perfil proviene de fuentes de origen secundario.</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REFACTIBILIDAD</a:t>
            </a:r>
            <a:r>
              <a:rPr b="1" lang="es-ES_tradnl" sz="2200" spc="-1" strike="noStrike">
                <a:solidFill>
                  <a:srgbClr val="000000"/>
                </a:solidFill>
                <a:latin typeface="Tahoma"/>
              </a:rPr>
              <a:t>: </a:t>
            </a:r>
            <a:r>
              <a:rPr b="0" lang="es-ES_tradnl" sz="2200" spc="-1" strike="noStrike">
                <a:solidFill>
                  <a:srgbClr val="000000"/>
                </a:solidFill>
                <a:latin typeface="Tahoma"/>
              </a:rPr>
              <a:t>se realiza una evaluación más profunda de las alternativas encontradas viables y se determina la bondad de cada una de ell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 </a:t>
            </a:r>
            <a:r>
              <a:rPr b="1" lang="es-ES_tradnl" sz="2200" spc="-1" strike="noStrike" u="sng">
                <a:solidFill>
                  <a:srgbClr val="000000"/>
                </a:solidFill>
                <a:uFillTx/>
                <a:latin typeface="Tahoma"/>
              </a:rPr>
              <a:t>FACTIBILIDAD</a:t>
            </a:r>
            <a:r>
              <a:rPr b="1" lang="es-ES_tradnl" sz="2200" spc="-1" strike="noStrike">
                <a:solidFill>
                  <a:srgbClr val="000000"/>
                </a:solidFill>
                <a:latin typeface="Tahoma"/>
              </a:rPr>
              <a:t>: </a:t>
            </a:r>
            <a:r>
              <a:rPr b="0" lang="es-ES_tradnl" sz="2200" spc="-1" strike="noStrike">
                <a:solidFill>
                  <a:srgbClr val="000000"/>
                </a:solidFill>
                <a:latin typeface="Tahoma"/>
              </a:rPr>
              <a:t>se perfecciona la alternativa recomendada, generalmente se hace en base a información recolectada especialmente para este fin.</a:t>
            </a:r>
            <a:endParaRPr b="0" lang="en-US" sz="2200" spc="-1" strike="noStrike">
              <a:solidFill>
                <a:srgbClr val="000000"/>
              </a:solidFill>
              <a:latin typeface="Times New Roman"/>
            </a:endParaRPr>
          </a:p>
        </p:txBody>
      </p:sp>
      <p:sp>
        <p:nvSpPr>
          <p:cNvPr id="142"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914400" y="2379600"/>
            <a:ext cx="7924680" cy="2941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DISEÑO</a:t>
            </a:r>
            <a:r>
              <a:rPr b="0" lang="es-ES_tradnl" sz="2200" spc="-1" strike="noStrike">
                <a:solidFill>
                  <a:srgbClr val="000000"/>
                </a:solidFill>
                <a:latin typeface="Tahoma"/>
              </a:rPr>
              <a:t>: una vez decidida la ejecución del proyecto, en esta etapa se elabora el diseño definitivo. En las etapas anteriores se pueden haber elaborado diseños preliminares, pero los diseños definitivos con las ingenierías de detalles correspondientes, especialmente en el caso de los proyectos más complejos y de mayor monto de inversión, solo se justificará efectuarlos a partir del momento en que se cuente con el dictamen de viabilidad y con la decisión favorable del financiamiento.</a:t>
            </a:r>
            <a:endParaRPr b="0" lang="en-US" sz="2200" spc="-1" strike="noStrike">
              <a:solidFill>
                <a:srgbClr val="000000"/>
              </a:solidFill>
              <a:latin typeface="Times New Roman"/>
            </a:endParaRPr>
          </a:p>
        </p:txBody>
      </p:sp>
      <p:sp>
        <p:nvSpPr>
          <p:cNvPr id="144"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5:42:20Z</dcterms:created>
  <dc:creator>nabody</dc:creator>
  <dc:description/>
  <dc:language>en-US</dc:language>
  <cp:lastModifiedBy>Leonel Medina Daza</cp:lastModifiedBy>
  <dcterms:modified xsi:type="dcterms:W3CDTF">2010-06-21T21:17:34Z</dcterms:modified>
  <cp:revision>74</cp:revision>
  <dc:subject/>
  <dc:title>Slide 1</dc:title>
</cp:coreProperties>
</file>