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1BB-8023-41EF-AE82-11103906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6F37-FEAE-48DD-A424-FDF63B18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D1D-2AAC-4A38-B177-E9273BB4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4C3-6B8B-4337-8C93-F121BDE8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0180-705F-4C87-BDDD-6F14C6C3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7D1A-9CB2-41F9-A071-0E137711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0F78-B75D-485F-8CF4-647D4DAE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43C3-3EE7-4628-9A76-ACEE36C9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9ECB-89A6-4A7B-8173-FAF2AA6B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977F-2F97-4F2D-9E2E-1B2F1DF0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DB6F-4224-47FD-8EB6-4EAD4E2F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289-6DEE-4C16-892B-E47E6313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B761-A5A4-4EF4-9CC7-C6914D23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CD9C-D515-413C-85A9-6221D190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25A6-0F65-419F-A937-EF8E4249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F3CF-EF49-4F06-A975-5DDED1C2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80F5-42C4-4DD9-8B26-D9ACCA66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2DC90-66C6-49A3-BD3F-02A83423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7912B-3D58-4171-8E41-7485857B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CA046-E744-41B7-99F6-D8687338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83E6C-8AD4-4F50-B5E9-49FDB6D3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6DF2A-A484-47D5-A982-67F8C806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578-4F1D-4540-903B-E1C82845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D5E80-42AE-489D-B706-300F0069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BB555-8703-443A-8B76-C3C64476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45CA3-CDCB-46E9-A34B-8892013C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79038-6AE6-4B82-8D89-EEA5C9F3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7DD9-ACAD-4873-85ED-9D475064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5B7B2-DED3-49E5-A4E7-52FB2818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2A38D-10B5-482C-9A9A-D042ED6A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58320-7609-4696-8337-EBE4BD0D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4C35B-0748-4D04-A510-F9DF24CE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0B28F-DCDA-42A8-AB62-7EF80DB7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5FA9-AED3-4D1D-83EE-5C4D3ED8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4CFB6-5FDA-4614-A48E-63AE76CD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2FFB3-AF89-4694-862B-BB369463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B0422-8988-44CF-9847-7F307A28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34A88-180B-4088-9429-FC3B4543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91B99-E4AC-48DC-BE2D-031EB22F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A5751-8151-49C1-9901-599B15BE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F5362-ABC8-4DCB-B7FD-20E83756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CCA82-F393-4D94-8463-D8A55476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DD93F-A2CF-4FF7-9B13-DEE00E51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96390-49C5-4CC9-BC32-8C0EAA71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1B21-77AE-42D7-96A8-57307449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662BB-676B-473A-ACCA-6B021C80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181FE-8470-4AA8-8802-D90ECBD5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AD27C-2586-4A72-86BD-506F041F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36145-0620-466C-A833-E2A34197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5679F-D304-42C6-975B-420E7E50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E5E66-5710-4303-B51F-2724D5BE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67658-069D-4CD9-9E0E-7888FAA1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84033-F698-48CB-AABF-D1EF6E50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2CB7B-8E68-46FF-9742-27CB8BE8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83175-4B06-4212-AE6E-7BB6B162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05E-0A90-45BA-A930-4DD551F8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CA7EB-15C4-44C8-B8B6-515B0F42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5C1F-C590-4757-B0E9-67893C28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45F2-F001-42AC-B26C-2DB2FBE3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826-42D5-4EBD-AB23-52E18738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9C976-D535-4126-876C-78D380E7F3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11D8A-25D0-4413-91F7-3EAB08CA6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ject 2" descr=""/>
          <p:cNvPicPr/>
          <p:nvPr/>
        </p:nvPicPr>
        <p:blipFill>
          <a:blip r:embed="rId2"/>
          <a:stretch/>
        </p:blipFill>
        <p:spPr>
          <a:xfrm>
            <a:off x="1523880" y="228600"/>
            <a:ext cx="6107400" cy="1905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E2356-DCC6-456D-ADD0-C37FF4657C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4CED4-FDD5-4800-8D65-14854EF90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7"/>
          <p:cNvSpPr/>
          <p:nvPr/>
        </p:nvSpPr>
        <p:spPr>
          <a:xfrm>
            <a:off x="457200" y="1495440"/>
            <a:ext cx="822960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REcolorhorizontal.jpg"/>
          <p:cNvPicPr/>
          <p:nvPr/>
        </p:nvPicPr>
        <p:blipFill>
          <a:blip r:embed="rId3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87" name="Straight Connector 9"/>
          <p:cNvSpPr/>
          <p:nvPr/>
        </p:nvSpPr>
        <p:spPr>
          <a:xfrm>
            <a:off x="457200" y="1495440"/>
            <a:ext cx="822960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90094-2854-4D66-B8A9-F0FC47C64A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4FA13-21B6-4F45-96F6-F149A8F7C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130" name="Straight Connector 7"/>
          <p:cNvSpPr/>
          <p:nvPr/>
        </p:nvSpPr>
        <p:spPr>
          <a:xfrm>
            <a:off x="566640" y="1481040"/>
            <a:ext cx="800100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7282F-9E1B-4325-AC16-3952FB1C34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EF5D62-6BB2-4DFC-B3BA-BE3015909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173" name="Straight Connector 7"/>
          <p:cNvSpPr/>
          <p:nvPr/>
        </p:nvSpPr>
        <p:spPr>
          <a:xfrm>
            <a:off x="566640" y="1481040"/>
            <a:ext cx="800100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CREcolorhorizontal.jpg"/>
          <p:cNvPicPr/>
          <p:nvPr/>
        </p:nvPicPr>
        <p:blipFill>
          <a:blip r:embed="rId3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175" name="Straight Connector 9"/>
          <p:cNvSpPr/>
          <p:nvPr/>
        </p:nvSpPr>
        <p:spPr>
          <a:xfrm>
            <a:off x="566640" y="1481040"/>
            <a:ext cx="800100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09A8B-378C-4E01-85AE-4304E6BAD8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F5C89-8AF5-4EBA-B7BC-0C9430388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87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stitucionalidad para el Sistema de Evaluación del Gobier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Eduardo Contreras – Juan Francisco Pache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Noviembre de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1" descr="LOGO DII bco"/>
          <p:cNvPicPr/>
          <p:nvPr/>
        </p:nvPicPr>
        <p:blipFill>
          <a:blip r:embed="rId1"/>
          <a:stretch/>
        </p:blipFill>
        <p:spPr>
          <a:xfrm>
            <a:off x="3125880" y="404640"/>
            <a:ext cx="2892240" cy="1082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9" descr=""/>
          <p:cNvPicPr/>
          <p:nvPr/>
        </p:nvPicPr>
        <p:blipFill>
          <a:blip r:embed="rId2"/>
          <a:stretch/>
        </p:blipFill>
        <p:spPr>
          <a:xfrm>
            <a:off x="6804000" y="163440"/>
            <a:ext cx="1305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Otras experienc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43120" y="1500120"/>
            <a:ext cx="83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New Public Management y Sistemas de Evaluació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Los modelos Neo Zelandés y Australiano, implicaron una fuerte descentralización (hacia unidades ejecutoras; Ministerios, etc) de la toma de decisiones y el manejo de recurs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Basado en la profesionalización de los gerentes públicos y su independencia de los cambios de gobiern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compañado de incentivos (y des incentivos) por desempeño basados en evaluaci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chas evaluaciones son sobre los resultados, impactos, eficiencia, calidad y agregación de valor de las decisiones tomadas, incluyendo las decisiones de inver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Algunas Fuentes: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“Evaluación presupuestaria en tres países, Argentina, Australia y los Estados Unidos de Norteamérica”. Hernán Pablo Llosas. Departamento de Economía, Universidad Nacional de La Plata. 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Web :Government of Western Australia | Department of the Premier and Cabinet y del Department of Treasury and Fin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L "MANAGEMENT DE LA INTERDEPENDENCIA GLOBAL…” Omar Guerrero. 2000. Revista Digital Universitar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NEW ZEALAND'S PUBLIC SECTOR FINANCIAL MANAGEMENT SYSTEM: FINANCIAL RESOURCE EROSION IN GOVERNMENT DEPARTMENTS”. Thesis for the degree of Ph.D. by Susan M. Newberry. University of Canterbury.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05C94-2E51-4661-992E-032B3930B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visión de la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43120" y="1428840"/>
            <a:ext cx="83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os Sistemas Nacionales de Inversión Pública pueden ser analizados desde la Teoría de Siste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o anterior permite identificar, a modo de </a:t>
            </a:r>
            <a:r>
              <a:rPr b="0" i="1" lang="es-CL" sz="2400" spc="-1" strike="noStrike">
                <a:solidFill>
                  <a:srgbClr val="000000"/>
                </a:solidFill>
                <a:latin typeface="Calibri"/>
              </a:rPr>
              <a:t>Check List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, funciones o subsistemas que pudiesen faltar o estar incompletos en nuestro S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Se concluye que lo que tenemos desarrollado en Chile, son los subsistemas de “producción” y “apoyo” los cuales constituirían el sistema. Lo anterior implica que nuestro Sistema no está comple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Algunas Fuentes: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CEPAL, Serie manuales N° 40: ““Los sistemas nacionales de inversión pública en Argentina, Brasil, México, Venezuela, y España como caso de referencia”,”. Edgar Ortegón y Juan Francisco Pacheco.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EPAL, Serie manuales N° 34: “Los Sistemas nacionales de inversión pública en Centroamérica: marco teórico y análisis comparativo multivariado”. Edgar Ortegón y Juan Francisco Pacheco.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a organización sistémica”, en “Teorías organizacionales y administración”,  Dávila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a Eficiencia de la Burocracia” Anthony Giddesns, Ed. Alianza Universitaría,1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Sistemas complejos y gestión pública”, Mario Waissbluth. Documento de Trabajo de la Serie de Gestión. Departamento de Ingeniería Industrial de la Universidad de Chile. Febrero de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BF7B2-3904-475C-9BA2-FF4FEC41A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visión de la literatura: Un complemento al diagnós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F1A6A-2353-4595-8ABE-361A38356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4"/>
          <p:cNvGrpSpPr/>
          <p:nvPr/>
        </p:nvGrpSpPr>
        <p:grpSpPr>
          <a:xfrm>
            <a:off x="3219480" y="1643040"/>
            <a:ext cx="5638680" cy="4343400"/>
            <a:chOff x="3219480" y="1643040"/>
            <a:chExt cx="5638680" cy="4343400"/>
          </a:xfrm>
        </p:grpSpPr>
        <p:sp>
          <p:nvSpPr>
            <p:cNvPr id="261" name="AutoShape 20"/>
            <p:cNvSpPr/>
            <p:nvPr/>
          </p:nvSpPr>
          <p:spPr>
            <a:xfrm>
              <a:off x="3219480" y="1643040"/>
              <a:ext cx="563868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9"/>
            <p:cNvSpPr/>
            <p:nvPr/>
          </p:nvSpPr>
          <p:spPr>
            <a:xfrm>
              <a:off x="5048280" y="1985760"/>
              <a:ext cx="1904400" cy="114300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Produc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ganismos  Públicos  (Inversionista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8"/>
            <p:cNvSpPr/>
            <p:nvPr/>
          </p:nvSpPr>
          <p:spPr>
            <a:xfrm>
              <a:off x="5048280" y="3129120"/>
              <a:ext cx="1904400" cy="12571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Gerenci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 Órgano Re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 el sistema y coordina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7"/>
            <p:cNvSpPr/>
            <p:nvPr/>
          </p:nvSpPr>
          <p:spPr>
            <a:xfrm>
              <a:off x="5048280" y="4386240"/>
              <a:ext cx="1904400" cy="12571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dapt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ticipación ciudada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rategia y prospectiv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ormular y consensuar Visión de largo plazo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6"/>
            <p:cNvSpPr/>
            <p:nvPr/>
          </p:nvSpPr>
          <p:spPr>
            <a:xfrm>
              <a:off x="3371760" y="3129120"/>
              <a:ext cx="1676160" cy="12571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Mantenimien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smos de control, generación de leyes, norm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ción y reclutamiento de capital Humano)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5"/>
            <p:cNvSpPr/>
            <p:nvPr/>
          </p:nvSpPr>
          <p:spPr>
            <a:xfrm>
              <a:off x="6952680" y="3129120"/>
              <a:ext cx="1752480" cy="125712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poy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ero y Técn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21 Rectángulo"/>
          <p:cNvSpPr/>
          <p:nvPr/>
        </p:nvSpPr>
        <p:spPr>
          <a:xfrm>
            <a:off x="214200" y="2459160"/>
            <a:ext cx="300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sub-sistemas que operan actualmente están en color celeste. Sin embargo, los sub-sistemas amarillos no están complet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3 Elipse"/>
          <p:cNvSpPr/>
          <p:nvPr/>
        </p:nvSpPr>
        <p:spPr>
          <a:xfrm>
            <a:off x="6667560" y="5137200"/>
            <a:ext cx="2190600" cy="1219320"/>
          </a:xfrm>
          <a:prstGeom prst="ellipse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4 CuadroTexto"/>
          <p:cNvSpPr/>
          <p:nvPr/>
        </p:nvSpPr>
        <p:spPr>
          <a:xfrm>
            <a:off x="7215120" y="557208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o es hoy el “Sistem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16 Conector recto de flecha"/>
          <p:cNvCxnSpPr/>
          <p:nvPr/>
        </p:nvCxnSpPr>
        <p:spPr>
          <a:xfrm flipV="1">
            <a:off x="7643880" y="4145040"/>
            <a:ext cx="2160" cy="993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incipios del diseñ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Necesidad de UN organismo r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Separación de funciones: Formulación, evaluación, ex ante, financiamiento, ejecución, evaluación ex post 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(además de fuentes revisadas: proyecto de Mario Drag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n términos institucionales: independencia de las instituciones : administradora del sistema de evaluación, asignadora de fondos, ejecutoras, y elaboradores de normas y ley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01ED9-CDF5-4956-91B2-2C9127D7F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incipios del diseñ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Profesionalización e independencia respecto a vaivenes políticos al menos en el rol de Dirección del SNIP y su equipo de analistas de nivel central y regiones. Mediante el sistema de AD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65FD8-5CA4-43AD-8C40-0845117D5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: Alternativa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3E2D7-C172-4BDC-927D-A52312F3C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2"/>
          <p:cNvGrpSpPr/>
          <p:nvPr/>
        </p:nvGrpSpPr>
        <p:grpSpPr>
          <a:xfrm>
            <a:off x="0" y="2400480"/>
            <a:ext cx="8981640" cy="3314520"/>
            <a:chOff x="0" y="2400480"/>
            <a:chExt cx="8981640" cy="3314520"/>
          </a:xfrm>
        </p:grpSpPr>
        <p:sp>
          <p:nvSpPr>
            <p:cNvPr id="280" name="Text Box 3"/>
            <p:cNvSpPr/>
            <p:nvPr/>
          </p:nvSpPr>
          <p:spPr>
            <a:xfrm>
              <a:off x="3228840" y="2400480"/>
              <a:ext cx="2371680" cy="4953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Agencia Nacional de Inversión Públ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Organismo Rec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4"/>
            <p:cNvSpPr/>
            <p:nvPr/>
          </p:nvSpPr>
          <p:spPr>
            <a:xfrm>
              <a:off x="4390920" y="3314880"/>
              <a:ext cx="1162080" cy="5997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recció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n 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o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6"/>
            <p:cNvSpPr/>
            <p:nvPr/>
          </p:nvSpPr>
          <p:spPr>
            <a:xfrm>
              <a:off x="7819920" y="3314880"/>
              <a:ext cx="1161720" cy="24001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RECCIÓN D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PREINVERS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ón en Preinversión para generación de carter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7"/>
            <p:cNvSpPr/>
            <p:nvPr/>
          </p:nvSpPr>
          <p:spPr>
            <a:xfrm>
              <a:off x="222876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 Dirección Análisis Técn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y Económ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8"/>
            <p:cNvSpPr/>
            <p:nvPr/>
          </p:nvSpPr>
          <p:spPr>
            <a:xfrm>
              <a:off x="352404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dirección Normativas: Leyes, Reglamentos e instructiv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9"/>
            <p:cNvSpPr/>
            <p:nvPr/>
          </p:nvSpPr>
          <p:spPr>
            <a:xfrm>
              <a:off x="484812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Dirección de Capacitación  y Supervisión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0"/>
            <p:cNvSpPr/>
            <p:nvPr/>
          </p:nvSpPr>
          <p:spPr>
            <a:xfrm>
              <a:off x="615312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Dirección de Información: Banco Integrado de Proyecto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1"/>
            <p:cNvSpPr/>
            <p:nvPr/>
          </p:nvSpPr>
          <p:spPr>
            <a:xfrm>
              <a:off x="1428480" y="3314880"/>
              <a:ext cx="1162080" cy="8287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2"/>
            <p:cNvSpPr/>
            <p:nvPr/>
          </p:nvSpPr>
          <p:spPr>
            <a:xfrm>
              <a:off x="2790720" y="3314880"/>
              <a:ext cx="1352160" cy="5997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3"/>
            <p:cNvSpPr/>
            <p:nvPr/>
          </p:nvSpPr>
          <p:spPr>
            <a:xfrm>
              <a:off x="0" y="3314880"/>
              <a:ext cx="1162080" cy="8287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14"/>
          <p:cNvSpPr/>
          <p:nvPr/>
        </p:nvSpPr>
        <p:spPr>
          <a:xfrm>
            <a:off x="3929040" y="1622520"/>
            <a:ext cx="954000" cy="306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Presid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6286680" y="221472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6286680" y="2571840"/>
            <a:ext cx="111600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Ministerios (incluye Mideplan, pero Mideplan – SNI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6286680" y="164304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Palrament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8"/>
          <p:cNvGrpSpPr/>
          <p:nvPr/>
        </p:nvGrpSpPr>
        <p:grpSpPr>
          <a:xfrm>
            <a:off x="571320" y="2857320"/>
            <a:ext cx="7668000" cy="428760"/>
            <a:chOff x="571320" y="2857320"/>
            <a:chExt cx="7668000" cy="428760"/>
          </a:xfrm>
        </p:grpSpPr>
        <p:grpSp>
          <p:nvGrpSpPr>
            <p:cNvPr id="295" name="Group 19"/>
            <p:cNvGrpSpPr/>
            <p:nvPr/>
          </p:nvGrpSpPr>
          <p:grpSpPr>
            <a:xfrm>
              <a:off x="571320" y="3047760"/>
              <a:ext cx="7668000" cy="238320"/>
              <a:chOff x="571320" y="3047760"/>
              <a:chExt cx="7668000" cy="238320"/>
            </a:xfrm>
          </p:grpSpPr>
          <p:cxnSp>
            <p:nvCxnSpPr>
              <p:cNvPr id="296" name="AutoShape 20"/>
              <p:cNvCxnSpPr/>
              <p:nvPr/>
            </p:nvCxnSpPr>
            <p:spPr>
              <a:xfrm>
                <a:off x="571680" y="3047760"/>
                <a:ext cx="7668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7" name="AutoShape 21"/>
              <p:cNvCxnSpPr/>
              <p:nvPr/>
            </p:nvCxnSpPr>
            <p:spPr>
              <a:xfrm>
                <a:off x="5713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98" name="AutoShape 22"/>
              <p:cNvCxnSpPr/>
              <p:nvPr/>
            </p:nvCxnSpPr>
            <p:spPr>
              <a:xfrm>
                <a:off x="823860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99" name="AutoShape 23"/>
              <p:cNvCxnSpPr/>
              <p:nvPr/>
            </p:nvCxnSpPr>
            <p:spPr>
              <a:xfrm>
                <a:off x="640044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0" name="AutoShape 24"/>
              <p:cNvCxnSpPr/>
              <p:nvPr/>
            </p:nvCxnSpPr>
            <p:spPr>
              <a:xfrm>
                <a:off x="492408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1" name="AutoShape 25"/>
              <p:cNvCxnSpPr/>
              <p:nvPr/>
            </p:nvCxnSpPr>
            <p:spPr>
              <a:xfrm>
                <a:off x="34477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2" name="AutoShape 26"/>
              <p:cNvCxnSpPr/>
              <p:nvPr/>
            </p:nvCxnSpPr>
            <p:spPr>
              <a:xfrm>
                <a:off x="197136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303" name="AutoShape 27"/>
            <p:cNvCxnSpPr/>
            <p:nvPr/>
          </p:nvCxnSpPr>
          <p:spPr>
            <a:xfrm>
              <a:off x="4363920" y="2857320"/>
              <a:ext cx="1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04" name="AutoShape 28"/>
          <p:cNvCxnSpPr/>
          <p:nvPr/>
        </p:nvCxnSpPr>
        <p:spPr>
          <a:xfrm>
            <a:off x="5452920" y="242892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05" name="AutoShape 29"/>
          <p:cNvCxnSpPr/>
          <p:nvPr/>
        </p:nvCxnSpPr>
        <p:spPr>
          <a:xfrm>
            <a:off x="5452920" y="277668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306" name="Text Box 30"/>
          <p:cNvSpPr/>
          <p:nvPr/>
        </p:nvSpPr>
        <p:spPr>
          <a:xfrm>
            <a:off x="7929720" y="2286000"/>
            <a:ext cx="1011240" cy="231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AutoShape 31"/>
          <p:cNvCxnSpPr/>
          <p:nvPr/>
        </p:nvCxnSpPr>
        <p:spPr>
          <a:xfrm flipH="1">
            <a:off x="8429040" y="2500200"/>
            <a:ext cx="1080" cy="861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08" name="AutoShape 32"/>
          <p:cNvCxnSpPr/>
          <p:nvPr/>
        </p:nvCxnSpPr>
        <p:spPr>
          <a:xfrm>
            <a:off x="5000400" y="3924360"/>
            <a:ext cx="108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AutoShape 33"/>
          <p:cNvCxnSpPr/>
          <p:nvPr/>
        </p:nvCxnSpPr>
        <p:spPr>
          <a:xfrm>
            <a:off x="2928960" y="4142880"/>
            <a:ext cx="38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AutoShape 35"/>
          <p:cNvCxnSpPr/>
          <p:nvPr/>
        </p:nvCxnSpPr>
        <p:spPr>
          <a:xfrm>
            <a:off x="678636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AutoShape 36"/>
          <p:cNvCxnSpPr/>
          <p:nvPr/>
        </p:nvCxnSpPr>
        <p:spPr>
          <a:xfrm>
            <a:off x="2928600" y="414288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AutoShape 37"/>
          <p:cNvCxnSpPr/>
          <p:nvPr/>
        </p:nvCxnSpPr>
        <p:spPr>
          <a:xfrm>
            <a:off x="400032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AutoShape 38"/>
          <p:cNvCxnSpPr/>
          <p:nvPr/>
        </p:nvCxnSpPr>
        <p:spPr>
          <a:xfrm>
            <a:off x="542880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4" name="42 Rectángulo"/>
          <p:cNvSpPr/>
          <p:nvPr/>
        </p:nvSpPr>
        <p:spPr>
          <a:xfrm>
            <a:off x="2714760" y="3309840"/>
            <a:ext cx="1533240" cy="596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rección  de RRHH (</a:t>
            </a:r>
            <a:r>
              <a:rPr b="0" lang="es-CL" sz="1100" spc="-1" strike="noStrike">
                <a:solidFill>
                  <a:srgbClr val="000000"/>
                </a:solidFill>
                <a:latin typeface="Calibri"/>
              </a:rPr>
              <a:t>Selección, incentivos, etc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43 Rectángulo"/>
          <p:cNvSpPr/>
          <p:nvPr/>
        </p:nvSpPr>
        <p:spPr>
          <a:xfrm>
            <a:off x="0" y="3357720"/>
            <a:ext cx="12384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rección 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trategia y Prospec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AutoShape 31"/>
          <p:cNvCxnSpPr>
            <a:endCxn id="291" idx="0"/>
          </p:cNvCxnSpPr>
          <p:nvPr/>
        </p:nvCxnSpPr>
        <p:spPr>
          <a:xfrm flipH="1">
            <a:off x="6844680" y="1906560"/>
            <a:ext cx="14760" cy="308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317" name="Text Box 17"/>
          <p:cNvSpPr/>
          <p:nvPr/>
        </p:nvSpPr>
        <p:spPr>
          <a:xfrm>
            <a:off x="142920" y="164304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SEGP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31"/>
          <p:cNvCxnSpPr/>
          <p:nvPr/>
        </p:nvCxnSpPr>
        <p:spPr>
          <a:xfrm>
            <a:off x="427680" y="1928520"/>
            <a:ext cx="1080" cy="1360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19" name="AutoShape 31"/>
          <p:cNvCxnSpPr/>
          <p:nvPr/>
        </p:nvCxnSpPr>
        <p:spPr>
          <a:xfrm flipH="1">
            <a:off x="580680" y="1643040"/>
            <a:ext cx="3348720" cy="1666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20" name="AutoShape 28"/>
          <p:cNvCxnSpPr/>
          <p:nvPr/>
        </p:nvCxnSpPr>
        <p:spPr>
          <a:xfrm>
            <a:off x="1214280" y="1714680"/>
            <a:ext cx="250128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21" name="AutoShape 32"/>
          <p:cNvCxnSpPr>
            <a:stCxn id="290" idx="2"/>
            <a:endCxn id="280" idx="0"/>
          </p:cNvCxnSpPr>
          <p:nvPr/>
        </p:nvCxnSpPr>
        <p:spPr>
          <a:xfrm>
            <a:off x="4405320" y="1928880"/>
            <a:ext cx="10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32"/>
          <p:cNvCxnSpPr/>
          <p:nvPr/>
        </p:nvCxnSpPr>
        <p:spPr>
          <a:xfrm>
            <a:off x="5152680" y="407628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58 Rectángulo"/>
          <p:cNvSpPr/>
          <p:nvPr/>
        </p:nvSpPr>
        <p:spPr>
          <a:xfrm>
            <a:off x="3643200" y="5514840"/>
            <a:ext cx="45720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pacitación: analistas y profesionales  de Ud.Ejecuto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upervisión: Oficinas Region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59 Rectángulo"/>
          <p:cNvSpPr/>
          <p:nvPr/>
        </p:nvSpPr>
        <p:spPr>
          <a:xfrm>
            <a:off x="1428840" y="3309840"/>
            <a:ext cx="1285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rección de Estudios: Metodologías, precios sociales, ot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49 Rectángulo"/>
          <p:cNvSpPr/>
          <p:nvPr/>
        </p:nvSpPr>
        <p:spPr>
          <a:xfrm>
            <a:off x="2933640" y="1928880"/>
            <a:ext cx="3067200" cy="89532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: Alternativa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3B4DD-D78B-4094-9A7F-358767103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0" y="2286000"/>
            <a:ext cx="8981640" cy="3428640"/>
            <a:chOff x="0" y="2286000"/>
            <a:chExt cx="8981640" cy="3428640"/>
          </a:xfrm>
        </p:grpSpPr>
        <p:sp>
          <p:nvSpPr>
            <p:cNvPr id="329" name="Text Box 3"/>
            <p:cNvSpPr/>
            <p:nvPr/>
          </p:nvSpPr>
          <p:spPr>
            <a:xfrm>
              <a:off x="3214800" y="2286000"/>
              <a:ext cx="2371680" cy="4953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secretaría Nacional de Inversión Públ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Organismo Rec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4390920" y="3314520"/>
              <a:ext cx="1162080" cy="5997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visión 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o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6"/>
            <p:cNvSpPr/>
            <p:nvPr/>
          </p:nvSpPr>
          <p:spPr>
            <a:xfrm>
              <a:off x="7819920" y="3314520"/>
              <a:ext cx="1161720" cy="24001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RECCIÓN D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PREINVERS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ón en Preinversión para generación de carter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7"/>
            <p:cNvSpPr/>
            <p:nvPr/>
          </p:nvSpPr>
          <p:spPr>
            <a:xfrm>
              <a:off x="222876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de Análisis Técn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y Económ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8"/>
            <p:cNvSpPr/>
            <p:nvPr/>
          </p:nvSpPr>
          <p:spPr>
            <a:xfrm>
              <a:off x="352404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de Normativas: Leyes, Reglamentos e instructiv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9"/>
            <p:cNvSpPr/>
            <p:nvPr/>
          </p:nvSpPr>
          <p:spPr>
            <a:xfrm>
              <a:off x="484812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de Capacitación  y Supervisión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615312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 de Información: Banco Integrado de Proyecto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1428480" y="3314520"/>
              <a:ext cx="1162080" cy="8287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2"/>
            <p:cNvSpPr/>
            <p:nvPr/>
          </p:nvSpPr>
          <p:spPr>
            <a:xfrm>
              <a:off x="2790720" y="3314520"/>
              <a:ext cx="1352160" cy="5997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3"/>
            <p:cNvSpPr/>
            <p:nvPr/>
          </p:nvSpPr>
          <p:spPr>
            <a:xfrm>
              <a:off x="0" y="3314520"/>
              <a:ext cx="1162080" cy="8287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14"/>
          <p:cNvSpPr/>
          <p:nvPr/>
        </p:nvSpPr>
        <p:spPr>
          <a:xfrm>
            <a:off x="3929040" y="1500120"/>
            <a:ext cx="954000" cy="306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Presid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6286680" y="221472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6286680" y="2571840"/>
            <a:ext cx="111600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Ministerios (incluye Mideplan, pero Mideplan – SNI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6286680" y="164304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Palrament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8"/>
          <p:cNvGrpSpPr/>
          <p:nvPr/>
        </p:nvGrpSpPr>
        <p:grpSpPr>
          <a:xfrm>
            <a:off x="571320" y="2857320"/>
            <a:ext cx="7668000" cy="428760"/>
            <a:chOff x="571320" y="2857320"/>
            <a:chExt cx="7668000" cy="428760"/>
          </a:xfrm>
        </p:grpSpPr>
        <p:grpSp>
          <p:nvGrpSpPr>
            <p:cNvPr id="344" name="Group 19"/>
            <p:cNvGrpSpPr/>
            <p:nvPr/>
          </p:nvGrpSpPr>
          <p:grpSpPr>
            <a:xfrm>
              <a:off x="571320" y="3047760"/>
              <a:ext cx="7668000" cy="238320"/>
              <a:chOff x="571320" y="3047760"/>
              <a:chExt cx="7668000" cy="238320"/>
            </a:xfrm>
          </p:grpSpPr>
          <p:cxnSp>
            <p:nvCxnSpPr>
              <p:cNvPr id="345" name="AutoShape 20"/>
              <p:cNvCxnSpPr/>
              <p:nvPr/>
            </p:nvCxnSpPr>
            <p:spPr>
              <a:xfrm>
                <a:off x="571680" y="3047760"/>
                <a:ext cx="7668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6" name="AutoShape 21"/>
              <p:cNvCxnSpPr/>
              <p:nvPr/>
            </p:nvCxnSpPr>
            <p:spPr>
              <a:xfrm>
                <a:off x="5713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7" name="AutoShape 22"/>
              <p:cNvCxnSpPr/>
              <p:nvPr/>
            </p:nvCxnSpPr>
            <p:spPr>
              <a:xfrm>
                <a:off x="823860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8" name="AutoShape 23"/>
              <p:cNvCxnSpPr/>
              <p:nvPr/>
            </p:nvCxnSpPr>
            <p:spPr>
              <a:xfrm>
                <a:off x="640044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9" name="AutoShape 24"/>
              <p:cNvCxnSpPr/>
              <p:nvPr/>
            </p:nvCxnSpPr>
            <p:spPr>
              <a:xfrm>
                <a:off x="492408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50" name="AutoShape 25"/>
              <p:cNvCxnSpPr/>
              <p:nvPr/>
            </p:nvCxnSpPr>
            <p:spPr>
              <a:xfrm>
                <a:off x="34477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51" name="AutoShape 26"/>
              <p:cNvCxnSpPr/>
              <p:nvPr/>
            </p:nvCxnSpPr>
            <p:spPr>
              <a:xfrm>
                <a:off x="197136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352" name="AutoShape 27"/>
            <p:cNvCxnSpPr/>
            <p:nvPr/>
          </p:nvCxnSpPr>
          <p:spPr>
            <a:xfrm>
              <a:off x="4363920" y="2857320"/>
              <a:ext cx="1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53" name="AutoShape 28"/>
          <p:cNvCxnSpPr/>
          <p:nvPr/>
        </p:nvCxnSpPr>
        <p:spPr>
          <a:xfrm>
            <a:off x="5452920" y="242892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54" name="AutoShape 29"/>
          <p:cNvCxnSpPr/>
          <p:nvPr/>
        </p:nvCxnSpPr>
        <p:spPr>
          <a:xfrm>
            <a:off x="5452920" y="277668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355" name="Text Box 30"/>
          <p:cNvSpPr/>
          <p:nvPr/>
        </p:nvSpPr>
        <p:spPr>
          <a:xfrm>
            <a:off x="7929720" y="2286000"/>
            <a:ext cx="1011240" cy="231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AutoShape 31"/>
          <p:cNvCxnSpPr/>
          <p:nvPr/>
        </p:nvCxnSpPr>
        <p:spPr>
          <a:xfrm flipH="1">
            <a:off x="8429040" y="2500200"/>
            <a:ext cx="1080" cy="861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57" name="AutoShape 32"/>
          <p:cNvCxnSpPr/>
          <p:nvPr/>
        </p:nvCxnSpPr>
        <p:spPr>
          <a:xfrm>
            <a:off x="5000400" y="3924360"/>
            <a:ext cx="108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AutoShape 33"/>
          <p:cNvCxnSpPr/>
          <p:nvPr/>
        </p:nvCxnSpPr>
        <p:spPr>
          <a:xfrm>
            <a:off x="2928960" y="4142880"/>
            <a:ext cx="38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AutoShape 35"/>
          <p:cNvCxnSpPr/>
          <p:nvPr/>
        </p:nvCxnSpPr>
        <p:spPr>
          <a:xfrm>
            <a:off x="678636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AutoShape 36"/>
          <p:cNvCxnSpPr/>
          <p:nvPr/>
        </p:nvCxnSpPr>
        <p:spPr>
          <a:xfrm>
            <a:off x="2928600" y="414288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AutoShape 37"/>
          <p:cNvCxnSpPr/>
          <p:nvPr/>
        </p:nvCxnSpPr>
        <p:spPr>
          <a:xfrm>
            <a:off x="400032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38"/>
          <p:cNvCxnSpPr/>
          <p:nvPr/>
        </p:nvCxnSpPr>
        <p:spPr>
          <a:xfrm>
            <a:off x="542880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42 Rectángulo"/>
          <p:cNvSpPr/>
          <p:nvPr/>
        </p:nvSpPr>
        <p:spPr>
          <a:xfrm>
            <a:off x="2714760" y="3357720"/>
            <a:ext cx="153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visión de RRHH (</a:t>
            </a:r>
            <a:r>
              <a:rPr b="0" lang="es-CL" sz="1100" spc="-1" strike="noStrike">
                <a:solidFill>
                  <a:srgbClr val="000000"/>
                </a:solidFill>
                <a:latin typeface="Calibri"/>
              </a:rPr>
              <a:t>Selección, incentivos, etc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43 Rectángulo"/>
          <p:cNvSpPr/>
          <p:nvPr/>
        </p:nvSpPr>
        <p:spPr>
          <a:xfrm>
            <a:off x="0" y="3357720"/>
            <a:ext cx="12384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visión. 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trategia y Prospec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AutoShape 31"/>
          <p:cNvCxnSpPr>
            <a:endCxn id="340" idx="0"/>
          </p:cNvCxnSpPr>
          <p:nvPr/>
        </p:nvCxnSpPr>
        <p:spPr>
          <a:xfrm flipH="1">
            <a:off x="6844680" y="1906560"/>
            <a:ext cx="14760" cy="308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66" name="AutoShape 32"/>
          <p:cNvCxnSpPr>
            <a:stCxn id="339" idx="2"/>
            <a:endCxn id="329" idx="0"/>
          </p:cNvCxnSpPr>
          <p:nvPr/>
        </p:nvCxnSpPr>
        <p:spPr>
          <a:xfrm flipH="1">
            <a:off x="4399920" y="1806480"/>
            <a:ext cx="540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AutoShape 32"/>
          <p:cNvCxnSpPr/>
          <p:nvPr/>
        </p:nvCxnSpPr>
        <p:spPr>
          <a:xfrm>
            <a:off x="5152680" y="407628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58 Rectángulo"/>
          <p:cNvSpPr/>
          <p:nvPr/>
        </p:nvSpPr>
        <p:spPr>
          <a:xfrm>
            <a:off x="3643200" y="5514840"/>
            <a:ext cx="45720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pacitación: analistas y profesionales  de Ud.Ejecuto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upervisión: Oficinas Region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59 Rectángulo"/>
          <p:cNvSpPr/>
          <p:nvPr/>
        </p:nvSpPr>
        <p:spPr>
          <a:xfrm>
            <a:off x="1428840" y="3309840"/>
            <a:ext cx="1285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visión de Estudios: Metodologías, precios sociales, ot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55 Rectángulo"/>
          <p:cNvSpPr/>
          <p:nvPr/>
        </p:nvSpPr>
        <p:spPr>
          <a:xfrm>
            <a:off x="3174840" y="2000160"/>
            <a:ext cx="123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1000" spc="-1" strike="noStrike">
                <a:solidFill>
                  <a:srgbClr val="000000"/>
                </a:solidFill>
                <a:latin typeface="Arial"/>
              </a:rPr>
              <a:t>SEGP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Ventajas y Desventajas de las alternativ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D286F-5C4D-46AE-B4D6-E6C9BCC37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552960" y="1928880"/>
            <a:ext cx="8370000" cy="4000320"/>
            <a:chOff x="552960" y="1928880"/>
            <a:chExt cx="8370000" cy="4000320"/>
          </a:xfrm>
        </p:grpSpPr>
        <p:sp>
          <p:nvSpPr>
            <p:cNvPr id="374" name="AutoShape 3"/>
            <p:cNvSpPr/>
            <p:nvPr/>
          </p:nvSpPr>
          <p:spPr>
            <a:xfrm>
              <a:off x="1071720" y="1928880"/>
              <a:ext cx="6095880" cy="40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5"/>
            <p:cNvSpPr/>
            <p:nvPr/>
          </p:nvSpPr>
          <p:spPr>
            <a:xfrm>
              <a:off x="1819440" y="2611440"/>
              <a:ext cx="164880" cy="2927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104" h="1844">
                  <a:moveTo>
                    <a:pt x="34" y="1844"/>
                  </a:moveTo>
                  <a:lnTo>
                    <a:pt x="35" y="81"/>
                  </a:lnTo>
                  <a:lnTo>
                    <a:pt x="70" y="81"/>
                  </a:lnTo>
                  <a:lnTo>
                    <a:pt x="68" y="1844"/>
                  </a:lnTo>
                  <a:lnTo>
                    <a:pt x="34" y="1844"/>
                  </a:lnTo>
                  <a:close/>
                  <a:moveTo>
                    <a:pt x="0" y="97"/>
                  </a:moveTo>
                  <a:lnTo>
                    <a:pt x="52" y="0"/>
                  </a:lnTo>
                  <a:lnTo>
                    <a:pt x="104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8000"/>
            </a:solidFill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"/>
            <p:cNvSpPr/>
            <p:nvPr/>
          </p:nvSpPr>
          <p:spPr>
            <a:xfrm>
              <a:off x="1900440" y="5465880"/>
              <a:ext cx="4470120" cy="155520"/>
            </a:xfrm>
            <a:custGeom>
              <a:avLst/>
              <a:gdLst>
                <a:gd name="textAreaLeft" fmla="*/ 0 w 4470120"/>
                <a:gd name="textAreaRight" fmla="*/ 4470480 w 4470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816" h="98">
                  <a:moveTo>
                    <a:pt x="0" y="31"/>
                  </a:moveTo>
                  <a:lnTo>
                    <a:pt x="2729" y="32"/>
                  </a:lnTo>
                  <a:lnTo>
                    <a:pt x="2729" y="65"/>
                  </a:lnTo>
                  <a:lnTo>
                    <a:pt x="0" y="64"/>
                  </a:lnTo>
                  <a:lnTo>
                    <a:pt x="0" y="31"/>
                  </a:lnTo>
                  <a:close/>
                  <a:moveTo>
                    <a:pt x="2712" y="0"/>
                  </a:moveTo>
                  <a:lnTo>
                    <a:pt x="2816" y="49"/>
                  </a:lnTo>
                  <a:lnTo>
                    <a:pt x="2712" y="98"/>
                  </a:lnTo>
                  <a:lnTo>
                    <a:pt x="2712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7"/>
            <p:cNvSpPr/>
            <p:nvPr/>
          </p:nvSpPr>
          <p:spPr>
            <a:xfrm>
              <a:off x="552960" y="2922480"/>
              <a:ext cx="1155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Respaldo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8"/>
            <p:cNvSpPr/>
            <p:nvPr/>
          </p:nvSpPr>
          <p:spPr>
            <a:xfrm>
              <a:off x="562320" y="3279600"/>
              <a:ext cx="89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Polític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9"/>
            <p:cNvSpPr/>
            <p:nvPr/>
          </p:nvSpPr>
          <p:spPr>
            <a:xfrm>
              <a:off x="4535280" y="5637240"/>
              <a:ext cx="1792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Independenci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6"/>
            <p:cNvSpPr/>
            <p:nvPr/>
          </p:nvSpPr>
          <p:spPr>
            <a:xfrm>
              <a:off x="4772520" y="4714920"/>
              <a:ext cx="4150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Alternativa 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TheSansCorrespondence"/>
                </a:rPr>
                <a:t>Riesgo:  Tecnócratas “Bypaseados”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16"/>
          <p:cNvSpPr/>
          <p:nvPr/>
        </p:nvSpPr>
        <p:spPr>
          <a:xfrm>
            <a:off x="2138040" y="2622600"/>
            <a:ext cx="35380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heSansCorrespondence"/>
              </a:rPr>
              <a:t>Alternativa 2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TheSansCorrespondence"/>
              </a:rPr>
              <a:t>Riesgo: Pérdidas de eficie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TheSansCorrespondence"/>
              </a:rPr>
              <a:t>por presion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66 Flecha derecha"/>
          <p:cNvSpPr/>
          <p:nvPr/>
        </p:nvSpPr>
        <p:spPr>
          <a:xfrm>
            <a:off x="4143240" y="2611440"/>
            <a:ext cx="1928880" cy="311040"/>
          </a:xfrm>
          <a:prstGeom prst="rightArrow">
            <a:avLst>
              <a:gd name="adj1" fmla="val 50000"/>
              <a:gd name="adj2" fmla="val 5001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67 Flecha abajo"/>
          <p:cNvSpPr/>
          <p:nvPr/>
        </p:nvSpPr>
        <p:spPr>
          <a:xfrm rot="10800000">
            <a:off x="6553080" y="3449520"/>
            <a:ext cx="395280" cy="1122480"/>
          </a:xfrm>
          <a:prstGeom prst="down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68 CuadroTexto"/>
          <p:cNvSpPr/>
          <p:nvPr/>
        </p:nvSpPr>
        <p:spPr>
          <a:xfrm>
            <a:off x="6286680" y="1857240"/>
            <a:ext cx="2071440" cy="1557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iderazgo del Director de la Agencia o Subsecre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ós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ras experiencias y revisión de la litera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ue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álisis de la economía política del probl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ABB45-268E-490B-88BA-7A85E72EE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ntroducción: Algunas cifras de Inversión Púb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7F1D8-2D8D-4058-8380-446D92C6D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2428920"/>
          <a:ext cx="6615000" cy="3352680"/>
        </p:xfrm>
        <a:graphic>
          <a:graphicData uri="http://schemas.openxmlformats.org/drawingml/2006/table">
            <a:tbl>
              <a:tblPr/>
              <a:tblGrid>
                <a:gridCol w="438120"/>
                <a:gridCol w="1835280"/>
                <a:gridCol w="3046320"/>
                <a:gridCol w="1295280"/>
              </a:tblGrid>
              <a:tr h="42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cipales agregados macroeconómicos, a precios corri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illones de pesos de cada añ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760">
                <a:tc gridSpan="3" row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8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mación bruta de capital fijo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307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2452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077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051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0622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2391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7 CuadroTexto"/>
          <p:cNvSpPr/>
          <p:nvPr/>
        </p:nvSpPr>
        <p:spPr>
          <a:xfrm>
            <a:off x="6215040" y="3929040"/>
            <a:ext cx="264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versión Públ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 un 15% y un 20% de la inversión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Fortalez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43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) Las metodologías de evaluación socioeconómica. Actualmente 27 metodologías para distintos sector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b) Los programas de capacitación de RRHH. Tanto los desarrollados internamente como los externalizados (históricamente con la P.U.C., Cepal-Ilpes y hoy con la U. de Chi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) El Banco Integrado de Proyectos (BIP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) Precios soci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13D90-746A-47F9-BC27-E18C8AA71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Fortalez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42760" y="1500120"/>
            <a:ext cx="330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articipación de la amplia gama de instituciones públic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unqu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 nivel comunal, las iniciativas 100% financiadas por los municipios no ingresan al S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arte de las iniciativas de inversión ya no se analizan en Mide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8E9F9-DBC4-4494-A737-CC3DC0275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4753080" y="1571760"/>
            <a:ext cx="38196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43120" y="1500120"/>
            <a:ext cx="78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ransformación de ODEPLAN en Ministerio en 1990: debilitó considerablemente la gestión por parte del Departamento de Inversiones, en parte por la nueva estructura de relaciones entre dicho Departamento y sus contrapartes que son las unidades ejecutoras de proyectos, y en parte por la falta de recursos que permitieran mantener el nivel de excelencia de la fun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or lo anterior: Rotación y fuga de profesionales especializados (lo contrario de lo recomendado por la escuela de NPM: Australia, Nueva Zelandia). Pérdida de “peso” de los analistas sectoriales (en términos relativos a sus contrapar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367C7-0DE4-479F-89D2-9577DD36E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3200" y="1428840"/>
            <a:ext cx="44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Otros temas a mejor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ecesidad de mejorar la conformación de carteras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r análisis de coherencia de los proyectos con las estrategias sectoriales e intersectoriales, en los casos en que dichas estrategias existan. Más allá del actual sistema de análisis proyecto a proy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ecesidad de establecer mecanismos formales que posibiliten la complementación de la inversión pública con la priva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D7EB8-5957-4359-9FDC-5AA67A9B6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4438800" y="1609560"/>
            <a:ext cx="4705200" cy="5248440"/>
          </a:xfrm>
          <a:prstGeom prst="rect">
            <a:avLst/>
          </a:prstGeom>
          <a:ln w="0">
            <a:noFill/>
          </a:ln>
        </p:spPr>
      </p:pic>
      <p:sp>
        <p:nvSpPr>
          <p:cNvPr id="242" name="6 Flecha derecha"/>
          <p:cNvSpPr/>
          <p:nvPr/>
        </p:nvSpPr>
        <p:spPr>
          <a:xfrm>
            <a:off x="4214880" y="22860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7 Rectángulo"/>
          <p:cNvSpPr/>
          <p:nvPr/>
        </p:nvSpPr>
        <p:spPr>
          <a:xfrm>
            <a:off x="2882160" y="2570040"/>
            <a:ext cx="273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MERCURIO: 19 DE ENERO DE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43120" y="1500120"/>
            <a:ext cx="78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Otros temas a mejor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ecesidad de incorporar mecanismos más efectivos de participación ciudad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olidación de la desconcentración de las funciones de revisión y recomendación de proyect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ambios tecnológic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ción de criterios de equidad social y territorial (y otros criterios) en la formulación, priorización (post evaluación) y otras etapas del ciclo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ción de la valoración económica de impactos ambientales en las evaluaciones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36B1E-C936-4F36-821F-4A0F606E3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43120" y="1500120"/>
            <a:ext cx="78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Otros temas a mejor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Mejoramiento de sistemas y métodos de selección, capacitación y sistemas de incentivos para los recursos human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mplementación de un sistema de evaluación ex post (a abordar en el proyecto de Agencia de la Calidad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ción de herramientas de análisis de riesgo en la evaluación de proyectos y progra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entralización de la evaluación ex ante de proyectos, estudios y programas (hoy separado entre Mideplan y Dipr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olidación del análisis de concesiones dentro del S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117A4-A17F-4843-B964-22A3E76FB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0:20:56Z</dcterms:created>
  <dc:creator>Claudio Seebach</dc:creator>
  <dc:description/>
  <dc:language>en-US</dc:language>
  <cp:lastModifiedBy>Leonel Medina Daza</cp:lastModifiedBy>
  <cp:lastPrinted>2009-01-09T13:40:27Z</cp:lastPrinted>
  <dcterms:modified xsi:type="dcterms:W3CDTF">2010-06-21T17:01:14Z</dcterms:modified>
  <cp:revision>343</cp:revision>
  <dc:subject/>
  <dc:title>Slide 1</dc:title>
</cp:coreProperties>
</file>