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013-93A7-4AD2-9A26-D428FA34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D60-22D3-4379-AEC2-1DDE13DF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9DE-463B-4AB6-9856-EA6C6E02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9F6-D146-45A6-A64F-E4492AD7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EEA3-D914-4440-9EA2-CB3F7448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BE41-0528-4A0A-8071-51FD09FC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6BB5-B45B-4D34-82B5-744EFBFE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E082-A0AC-4090-BE0F-22393CCA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5224-AEE3-4037-8BBF-E1F903F3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CF56-0609-40D3-98E2-00022C63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304F-5FA5-489F-8FA8-6ECA1F5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EA3-5DA4-49CA-B7C6-D2EF6123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5E78-B890-49E5-A352-527A37E9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5E52-A1C8-4D8B-9D08-98B1FBF0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7F21-37D9-42C1-9DEF-762D932E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A695-18FE-4734-9A9C-DAEA455E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2286-3FCC-4FB2-8841-2B1961F1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4CF01-16CC-42D6-AD5A-E43E94C5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EAE4-5444-4750-8A52-34CE51B7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F288-9469-449A-83F3-EE5E9953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569D-3847-466E-B3A5-919D917E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299A-5E77-478A-A075-AEA85EFB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65D-D7B5-4823-B5FF-264AEE51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A38C2-116E-4E2C-82D4-E9FF0D46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A566-5B52-453D-B965-58F5979E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D5EB-51C8-4A1D-ADFF-AF486520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7981-24B1-4D27-94C1-A0B0765A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434F-CF80-4792-B059-18E22E93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D9D26-5CEF-496E-9332-A24465AF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B53D-0E6A-42A5-82A2-0A6E0F83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10E9-41F2-4BB0-A711-555161C5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ADAF6-5141-412C-B77C-C2527641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AA5B-6429-4658-96C8-21703F89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A7B-1A1F-4472-87A7-2F5F3ADD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DCCA-5A75-4183-BD17-BC91DDC7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725B-63F1-4E78-A1CF-E00C431B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408B7-DB46-4C0D-BB5D-ED27C3FD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CD7B-F0D4-4125-A56B-0389B9D9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0AD84-4AAE-4484-B1D8-1AC13B6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CD1C-9895-47E4-A701-D1E0E709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99321-040B-47A1-8884-A6134DFE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A77F-7344-4D21-965E-A6524D11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29FD7-24BF-49FD-86FD-68A31896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7F67F-7666-4C99-A8F6-9A051B0A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B2B-C408-4072-A76A-67B57491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0DED5-7326-4F36-A859-282AF3DB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BD9B7-44C7-43A7-9A10-E7887F03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4BDEF-3322-4185-9FF5-BFBF7E90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1B5AE-28C4-47A9-8873-8C13389D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A885A-2289-4088-A554-D36E4AA0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A4B47-D106-43B3-953D-FC695A81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4A07A-3B2F-4E3D-A5A4-3EE38663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62753-86E2-4B36-BD06-2DCCC97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23BF6-2C1C-41A7-B38B-80019FA8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E4323-55D4-4C5C-A5DC-B136D0D4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5B6-C3EF-4FBE-BC09-C7A67056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49DA4-6D6E-40E6-AF42-52F4CEF5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8D3-81E0-49BB-961F-FE715FA9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515-CB5D-4033-9C9D-EE46B15E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5E1-7ECC-4EDA-8E43-0A63EAD5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382C5-35C7-4D2E-BE8D-8F6B14207E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7EEC1-BFC6-45B7-8FF3-FCD2EB972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2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610740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9A096-4AC5-4037-8B66-B6B90D07F2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2E555-042D-4838-BF15-38CA2BBBF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7" name="Straight Connector 9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47CEF-651D-4452-A382-C333D3AE42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DFF7E-98EC-453E-B37F-A6A5BBE53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BC34D-7C6F-479D-9B54-5EB3BAEE3C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00C07-9D85-49A8-BE0F-1312EA2F0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9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C503B-6EDF-4E3F-9822-6714F22C30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42BA4-852D-455D-B307-A5B69D126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cionalidad para el Sistema de Evaluación del Gobi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Eduardo Contreras – Juan Francisco Pache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oviembre de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" descr="LOGO DII bco"/>
          <p:cNvPicPr/>
          <p:nvPr/>
        </p:nvPicPr>
        <p:blipFill>
          <a:blip r:embed="rId1"/>
          <a:stretch/>
        </p:blipFill>
        <p:spPr>
          <a:xfrm>
            <a:off x="3125880" y="404640"/>
            <a:ext cx="2892240" cy="1082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9" descr=""/>
          <p:cNvPicPr/>
          <p:nvPr/>
        </p:nvPicPr>
        <p:blipFill>
          <a:blip r:embed="rId2"/>
          <a:stretch/>
        </p:blipFill>
        <p:spPr>
          <a:xfrm>
            <a:off x="6804000" y="163440"/>
            <a:ext cx="1305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tras experi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43120" y="150012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ew Public Management y Sistemas de Evalu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os modelos Neo Zelandés y Australiano, implicaron una fuerte descentralización (hacia unidades ejecutoras; Ministerios, etc) de la toma de decisiones y el manejo de recurs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Basado en la profesionalización de los gerentes públicos y su independencia de los cambios de gobier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compañado de incentivos (y des incentivos) por desempeño basados en evalua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chas evaluaciones son sobre los resultados, impactos, eficiencia, calidad y agregación de valor de las decisiones tomadas, incluyendo las decisione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Evaluación presupuestaria en tres países, Argentina, Australia y los Estados Unidos de Norteamérica”. Hernán Pablo Llosas. Departamento de Economía, Universidad Nacional de La Plata. 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eb :Government of Western Australia | Department of the Premier and Cabinet y del Department of Treasury and Fin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"MANAGEMENT DE LA INTERDEPENDENCIA GLOBAL…” Omar Guerrero. 2000. Revista Digital Universita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EW ZEALAND'S PUBLIC SECTOR FINANCIAL MANAGEMENT SYSTEM: FINANCIAL RESOURCE EROSION IN GOVERNMENT DEPARTMENTS”. Thesis for the degree of Ph.D. by Susan M. Newberry. University of Canterbury.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E1D62-7A97-4AB3-A861-5033C8A8A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43120" y="142884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s Sistemas Nacionales de Inversión Pública pueden ser analizados desde la Teoría de Siste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 anterior permite identificar, a modo de </a:t>
            </a:r>
            <a:r>
              <a:rPr b="0" i="1" lang="es-CL" sz="2400" spc="-1" strike="noStrike">
                <a:solidFill>
                  <a:srgbClr val="000000"/>
                </a:solidFill>
                <a:latin typeface="Calibri"/>
              </a:rPr>
              <a:t>Check List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, funciones o subsistemas que pudiesen faltar o estar incompletos en nuestro S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e concluye que lo que tenemos desarrollado en Chile, son los subsistemas de “producción” y “apoyo” los cuales constituirían el sistema. Lo anterior implica que nuestro Sistema no está comple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CEPAL, Serie manuales N° 40: ““Los sistemas nacionales de inversión pública en Argentina, Brasil, México, Venezuela, y España como caso de referencia”,”. Edgar Ortegón y Juan Francisco Pacheco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EPAL, Serie manuales N° 34: “Los Sistemas nacionales de inversión pública en Centroamérica: marco teórico y análisis comparativo multivariado”. Edgar Ortegón y Juan Francisco Pacheco.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 organización sistémica”, en “Teorías organizacionales y administración”,  Dávila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Eficiencia de la Burocracia” Anthony Giddesns, Ed. Alianza Universitaría,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istemas complejos y gestión pública”, Mario Waissbluth. Documento de Trabajo de la Serie de Gestión. Departamento de Ingeniería Industrial de la Universidad de Chile. Febrero de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A4138-C3B7-4852-9029-B4E1C851D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: Un complemento al diagnós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F751C-9B32-4E87-A3E4-16C1E5B2B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4"/>
          <p:cNvGrpSpPr/>
          <p:nvPr/>
        </p:nvGrpSpPr>
        <p:grpSpPr>
          <a:xfrm>
            <a:off x="3219480" y="1643040"/>
            <a:ext cx="5638680" cy="4343400"/>
            <a:chOff x="3219480" y="1643040"/>
            <a:chExt cx="5638680" cy="4343400"/>
          </a:xfrm>
        </p:grpSpPr>
        <p:sp>
          <p:nvSpPr>
            <p:cNvPr id="261" name="AutoShape 20"/>
            <p:cNvSpPr/>
            <p:nvPr/>
          </p:nvSpPr>
          <p:spPr>
            <a:xfrm>
              <a:off x="3219480" y="1643040"/>
              <a:ext cx="563868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9"/>
            <p:cNvSpPr/>
            <p:nvPr/>
          </p:nvSpPr>
          <p:spPr>
            <a:xfrm>
              <a:off x="5048280" y="1985760"/>
              <a:ext cx="1904400" cy="114300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ganismos  Públicos  (Inversionista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8"/>
            <p:cNvSpPr/>
            <p:nvPr/>
          </p:nvSpPr>
          <p:spPr>
            <a:xfrm>
              <a:off x="5048280" y="312912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Geren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 Órgano Re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 el sistema y coordina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5048280" y="438624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dap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icipación ciudada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ategia y prospecti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mular y consensuar Visión de largo plazo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3371760" y="3129120"/>
              <a:ext cx="167616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Manteni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os de control, generación de leyes, norm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ción y reclutamiento de capital Humano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6952680" y="3129120"/>
              <a:ext cx="1752480" cy="125712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ro y Técn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21 Rectángulo"/>
          <p:cNvSpPr/>
          <p:nvPr/>
        </p:nvSpPr>
        <p:spPr>
          <a:xfrm>
            <a:off x="214200" y="2459160"/>
            <a:ext cx="300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sub-sistemas que operan actualmente están en color celeste. Sin embargo, los sub-sistemas amarillos no están comple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3 Elipse"/>
          <p:cNvSpPr/>
          <p:nvPr/>
        </p:nvSpPr>
        <p:spPr>
          <a:xfrm>
            <a:off x="6667560" y="5137200"/>
            <a:ext cx="2190600" cy="1219320"/>
          </a:xfrm>
          <a:prstGeom prst="ellips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4 CuadroTexto"/>
          <p:cNvSpPr/>
          <p:nvPr/>
        </p:nvSpPr>
        <p:spPr>
          <a:xfrm>
            <a:off x="7215120" y="557208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o es hoy el “Sistem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16 Conector recto de flecha"/>
          <p:cNvCxnSpPr/>
          <p:nvPr/>
        </p:nvCxnSpPr>
        <p:spPr>
          <a:xfrm flipV="1">
            <a:off x="7643880" y="4145040"/>
            <a:ext cx="2160" cy="99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ecesidad de UN organismo r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eparación de funciones: Formulación, evaluación, ex ante, financiamiento, ejecución, evaluación ex post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(además de fuentes revisadas: proyecto de Mario Drag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n términos institucionales: independencia de las instituciones : administradora del sistema de evaluación, asignadora de fondos, ejecutoras, y elaboradores de normas y ley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B8979-6854-4706-BF7B-9095C8DB4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rofesionalización e independencia respecto a vaivenes políticos al menos en el rol de Dirección del SNIP y su equipo de analistas de nivel central y regiones. Mediante el sistema de AD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F676D-0F7E-4300-B92F-A74725270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5658E-D960-42EC-AA26-9D2543BC9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"/>
          <p:cNvGrpSpPr/>
          <p:nvPr/>
        </p:nvGrpSpPr>
        <p:grpSpPr>
          <a:xfrm>
            <a:off x="0" y="2400480"/>
            <a:ext cx="8981640" cy="3314520"/>
            <a:chOff x="0" y="2400480"/>
            <a:chExt cx="8981640" cy="3314520"/>
          </a:xfrm>
        </p:grpSpPr>
        <p:sp>
          <p:nvSpPr>
            <p:cNvPr id="280" name="Text Box 3"/>
            <p:cNvSpPr/>
            <p:nvPr/>
          </p:nvSpPr>
          <p:spPr>
            <a:xfrm>
              <a:off x="3228840" y="2400480"/>
              <a:ext cx="2371680" cy="4953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Agenci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"/>
            <p:cNvSpPr/>
            <p:nvPr/>
          </p:nvSpPr>
          <p:spPr>
            <a:xfrm>
              <a:off x="4390920" y="3314880"/>
              <a:ext cx="1162080" cy="5997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7819920" y="3314880"/>
              <a:ext cx="1161720" cy="24001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222876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 Dirección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352404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9"/>
            <p:cNvSpPr/>
            <p:nvPr/>
          </p:nvSpPr>
          <p:spPr>
            <a:xfrm>
              <a:off x="4848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6153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>
              <a:off x="142848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2"/>
            <p:cNvSpPr/>
            <p:nvPr/>
          </p:nvSpPr>
          <p:spPr>
            <a:xfrm>
              <a:off x="2790720" y="331488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3"/>
            <p:cNvSpPr/>
            <p:nvPr/>
          </p:nvSpPr>
          <p:spPr>
            <a:xfrm>
              <a:off x="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4"/>
          <p:cNvSpPr/>
          <p:nvPr/>
        </p:nvSpPr>
        <p:spPr>
          <a:xfrm>
            <a:off x="3929040" y="16225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295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296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8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9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0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1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03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04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05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06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08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42 Rectángulo"/>
          <p:cNvSpPr/>
          <p:nvPr/>
        </p:nvSpPr>
        <p:spPr>
          <a:xfrm>
            <a:off x="2714760" y="3309840"/>
            <a:ext cx="1533240" cy="59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31"/>
          <p:cNvCxnSpPr>
            <a:endCxn id="291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317" name="Text Box 17"/>
          <p:cNvSpPr/>
          <p:nvPr/>
        </p:nvSpPr>
        <p:spPr>
          <a:xfrm>
            <a:off x="14292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31"/>
          <p:cNvCxnSpPr/>
          <p:nvPr/>
        </p:nvCxnSpPr>
        <p:spPr>
          <a:xfrm>
            <a:off x="427680" y="1928520"/>
            <a:ext cx="1080" cy="1360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19" name="AutoShape 31"/>
          <p:cNvCxnSpPr/>
          <p:nvPr/>
        </p:nvCxnSpPr>
        <p:spPr>
          <a:xfrm flipH="1">
            <a:off x="580680" y="1643040"/>
            <a:ext cx="3348720" cy="1666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20" name="AutoShape 28"/>
          <p:cNvCxnSpPr/>
          <p:nvPr/>
        </p:nvCxnSpPr>
        <p:spPr>
          <a:xfrm>
            <a:off x="1214280" y="1714680"/>
            <a:ext cx="250128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21" name="AutoShape 32"/>
          <p:cNvCxnSpPr>
            <a:stCxn id="290" idx="2"/>
            <a:endCxn id="280" idx="0"/>
          </p:cNvCxnSpPr>
          <p:nvPr/>
        </p:nvCxnSpPr>
        <p:spPr>
          <a:xfrm>
            <a:off x="4405320" y="1928880"/>
            <a:ext cx="10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49 Rectángulo"/>
          <p:cNvSpPr/>
          <p:nvPr/>
        </p:nvSpPr>
        <p:spPr>
          <a:xfrm>
            <a:off x="2933640" y="1928880"/>
            <a:ext cx="3067200" cy="89532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7B8EF-717E-4EC6-BAE8-D8111276E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0" y="2286000"/>
            <a:ext cx="8981640" cy="3428640"/>
            <a:chOff x="0" y="2286000"/>
            <a:chExt cx="8981640" cy="3428640"/>
          </a:xfrm>
        </p:grpSpPr>
        <p:sp>
          <p:nvSpPr>
            <p:cNvPr id="329" name="Text Box 3"/>
            <p:cNvSpPr/>
            <p:nvPr/>
          </p:nvSpPr>
          <p:spPr>
            <a:xfrm>
              <a:off x="3214800" y="2286000"/>
              <a:ext cx="2371680" cy="4953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secretarí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4390920" y="3314520"/>
              <a:ext cx="116208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visió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"/>
            <p:cNvSpPr/>
            <p:nvPr/>
          </p:nvSpPr>
          <p:spPr>
            <a:xfrm>
              <a:off x="7819920" y="3314520"/>
              <a:ext cx="1161720" cy="2400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7"/>
            <p:cNvSpPr/>
            <p:nvPr/>
          </p:nvSpPr>
          <p:spPr>
            <a:xfrm>
              <a:off x="222876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"/>
            <p:cNvSpPr/>
            <p:nvPr/>
          </p:nvSpPr>
          <p:spPr>
            <a:xfrm>
              <a:off x="352404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9"/>
            <p:cNvSpPr/>
            <p:nvPr/>
          </p:nvSpPr>
          <p:spPr>
            <a:xfrm>
              <a:off x="4848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6153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142848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2"/>
            <p:cNvSpPr/>
            <p:nvPr/>
          </p:nvSpPr>
          <p:spPr>
            <a:xfrm>
              <a:off x="2790720" y="331452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3"/>
            <p:cNvSpPr/>
            <p:nvPr/>
          </p:nvSpPr>
          <p:spPr>
            <a:xfrm>
              <a:off x="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14"/>
          <p:cNvSpPr/>
          <p:nvPr/>
        </p:nvSpPr>
        <p:spPr>
          <a:xfrm>
            <a:off x="3929040" y="15001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344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345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6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7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8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9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0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1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52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53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54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355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57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42 Rectángulo"/>
          <p:cNvSpPr/>
          <p:nvPr/>
        </p:nvSpPr>
        <p:spPr>
          <a:xfrm>
            <a:off x="2714760" y="3357720"/>
            <a:ext cx="153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.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31"/>
          <p:cNvCxnSpPr>
            <a:endCxn id="340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66" name="AutoShape 32"/>
          <p:cNvCxnSpPr>
            <a:stCxn id="339" idx="2"/>
            <a:endCxn id="329" idx="0"/>
          </p:cNvCxnSpPr>
          <p:nvPr/>
        </p:nvCxnSpPr>
        <p:spPr>
          <a:xfrm flipH="1">
            <a:off x="4399920" y="1806480"/>
            <a:ext cx="54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55 Rectángulo"/>
          <p:cNvSpPr/>
          <p:nvPr/>
        </p:nvSpPr>
        <p:spPr>
          <a:xfrm>
            <a:off x="3174840" y="2000160"/>
            <a:ext cx="123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10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Ventajas y Desventajas de las altern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D4C62-00DF-4072-9997-F57D2CFA2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552960" y="1928880"/>
            <a:ext cx="8370000" cy="4000320"/>
            <a:chOff x="552960" y="1928880"/>
            <a:chExt cx="8370000" cy="4000320"/>
          </a:xfrm>
        </p:grpSpPr>
        <p:sp>
          <p:nvSpPr>
            <p:cNvPr id="374" name="AutoShape 3"/>
            <p:cNvSpPr/>
            <p:nvPr/>
          </p:nvSpPr>
          <p:spPr>
            <a:xfrm>
              <a:off x="1071720" y="1928880"/>
              <a:ext cx="6095880" cy="40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"/>
            <p:cNvSpPr/>
            <p:nvPr/>
          </p:nvSpPr>
          <p:spPr>
            <a:xfrm>
              <a:off x="1819440" y="2611440"/>
              <a:ext cx="164880" cy="29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104" h="1844">
                  <a:moveTo>
                    <a:pt x="34" y="1844"/>
                  </a:moveTo>
                  <a:lnTo>
                    <a:pt x="35" y="81"/>
                  </a:lnTo>
                  <a:lnTo>
                    <a:pt x="70" y="81"/>
                  </a:lnTo>
                  <a:lnTo>
                    <a:pt x="68" y="1844"/>
                  </a:lnTo>
                  <a:lnTo>
                    <a:pt x="34" y="1844"/>
                  </a:lnTo>
                  <a:close/>
                  <a:moveTo>
                    <a:pt x="0" y="97"/>
                  </a:moveTo>
                  <a:lnTo>
                    <a:pt x="52" y="0"/>
                  </a:lnTo>
                  <a:lnTo>
                    <a:pt x="104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"/>
            <p:cNvSpPr/>
            <p:nvPr/>
          </p:nvSpPr>
          <p:spPr>
            <a:xfrm>
              <a:off x="1900440" y="5465880"/>
              <a:ext cx="4470120" cy="155520"/>
            </a:xfrm>
            <a:custGeom>
              <a:avLst/>
              <a:gdLst>
                <a:gd name="textAreaLeft" fmla="*/ 0 w 4470120"/>
                <a:gd name="textAreaRight" fmla="*/ 4470480 w 447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816" h="98">
                  <a:moveTo>
                    <a:pt x="0" y="31"/>
                  </a:moveTo>
                  <a:lnTo>
                    <a:pt x="2729" y="32"/>
                  </a:lnTo>
                  <a:lnTo>
                    <a:pt x="2729" y="65"/>
                  </a:lnTo>
                  <a:lnTo>
                    <a:pt x="0" y="64"/>
                  </a:lnTo>
                  <a:lnTo>
                    <a:pt x="0" y="31"/>
                  </a:lnTo>
                  <a:close/>
                  <a:moveTo>
                    <a:pt x="2712" y="0"/>
                  </a:moveTo>
                  <a:lnTo>
                    <a:pt x="2816" y="49"/>
                  </a:lnTo>
                  <a:lnTo>
                    <a:pt x="2712" y="98"/>
                  </a:lnTo>
                  <a:lnTo>
                    <a:pt x="271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7"/>
            <p:cNvSpPr/>
            <p:nvPr/>
          </p:nvSpPr>
          <p:spPr>
            <a:xfrm>
              <a:off x="552960" y="2922480"/>
              <a:ext cx="1155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Respaldo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"/>
            <p:cNvSpPr/>
            <p:nvPr/>
          </p:nvSpPr>
          <p:spPr>
            <a:xfrm>
              <a:off x="562320" y="327960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Polític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4535280" y="5637240"/>
              <a:ext cx="1792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Independenc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6"/>
            <p:cNvSpPr/>
            <p:nvPr/>
          </p:nvSpPr>
          <p:spPr>
            <a:xfrm>
              <a:off x="4772520" y="4714920"/>
              <a:ext cx="4150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Alternativa 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TheSansCorrespondence"/>
                </a:rPr>
                <a:t>Riesgo:  Tecnócratas “Bypaseados”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16"/>
          <p:cNvSpPr/>
          <p:nvPr/>
        </p:nvSpPr>
        <p:spPr>
          <a:xfrm>
            <a:off x="2138040" y="2622600"/>
            <a:ext cx="35380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heSansCorrespondence"/>
              </a:rPr>
              <a:t>Alternativa 2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Riesgo: Pérdidas de efici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por presion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66 Flecha derecha"/>
          <p:cNvSpPr/>
          <p:nvPr/>
        </p:nvSpPr>
        <p:spPr>
          <a:xfrm>
            <a:off x="4143240" y="2611440"/>
            <a:ext cx="1928880" cy="311040"/>
          </a:xfrm>
          <a:prstGeom prst="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67 Flecha abajo"/>
          <p:cNvSpPr/>
          <p:nvPr/>
        </p:nvSpPr>
        <p:spPr>
          <a:xfrm rot="10800000">
            <a:off x="6553080" y="3449520"/>
            <a:ext cx="395280" cy="1122480"/>
          </a:xfrm>
          <a:prstGeom prst="down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68 CuadroTexto"/>
          <p:cNvSpPr/>
          <p:nvPr/>
        </p:nvSpPr>
        <p:spPr>
          <a:xfrm>
            <a:off x="6286680" y="1857240"/>
            <a:ext cx="207144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iderazgo del Director de la Agencia o Subsecr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ós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ras experiencias y revisión de la 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álisis de la economía política del probl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DA6D4-9BD4-4226-9F16-1F605A4A7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roducción: Algunas cifras de Inversión Púb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3F198-EED4-4161-8517-0B2F0120C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428920"/>
          <a:ext cx="6615000" cy="3352680"/>
        </p:xfrm>
        <a:graphic>
          <a:graphicData uri="http://schemas.openxmlformats.org/drawingml/2006/table">
            <a:tbl>
              <a:tblPr/>
              <a:tblGrid>
                <a:gridCol w="438120"/>
                <a:gridCol w="1835280"/>
                <a:gridCol w="3046320"/>
                <a:gridCol w="1295280"/>
              </a:tblGrid>
              <a:tr h="42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cipales agregados macroeconómicos, a precios corri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illones de pesos de cada añ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 gridSpan="3"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ción bruta de capital fijo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307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45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077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05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622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39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7 CuadroTexto"/>
          <p:cNvSpPr/>
          <p:nvPr/>
        </p:nvSpPr>
        <p:spPr>
          <a:xfrm>
            <a:off x="6215040" y="3929040"/>
            <a:ext cx="264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versión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un 15% y un 20% de la inversión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43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) Las metodologías de evaluación socioeconómica. Actualmente 27 metodologías para distintos sect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) Los programas de capacitación de RRHH. Tanto los desarrollados internamente como los externalizados (históricamente con la P.U.C., Cepal-Ilpes y hoy con la U. de Chi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) El Banco Integrado de Proyectos (BIP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) Precios soc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F78B1-E25F-47C6-8918-A905BB33E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42760" y="1500120"/>
            <a:ext cx="330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articipación de la amplia gama de instituciones públ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unqu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 nivel comunal, las iniciativas 100% financiadas por los municipios no ingresan al S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rte de las iniciativas de inversión ya no se analizan en Mide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B02A0-F578-4288-914F-386A1249A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753080" y="1571760"/>
            <a:ext cx="3819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nsformación de ODEPLAN en Ministerio en 1990: debilitó considerablemente la gestión por parte del Departamento de Inversiones, en parte por la nueva estructura de relaciones entre dicho Departamento y sus contrapartes que son las unidades ejecutoras de proyectos, y en parte por la falta de recursos que permitieran mantener el nivel de excelencia de la fun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lo anterior: Rotación y fuga de profesionales especializados (lo contrario de lo recomendado por la escuela de NPM: Australia, Nueva Zelandia). Pérdida de “peso” de los analistas sectoriales (en términos relativos a sus contrapar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32D26-A72D-4998-916B-8D2BB8BD9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3200" y="1428840"/>
            <a:ext cx="44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mejorar la conformación de cartera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r análisis de coherencia de los proyectos con las estrategias sectoriales e intersectoriales, en los casos en que dichas estrategias existan. Más allá del actual sistema de análisis proyecto a proy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establecer mecanismos formales que posibiliten la complementación de la inversión pública con la priv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C5C11-FEC1-4CC5-ABC1-8A8242CB1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438800" y="1609560"/>
            <a:ext cx="4705200" cy="5248440"/>
          </a:xfrm>
          <a:prstGeom prst="rect">
            <a:avLst/>
          </a:prstGeom>
          <a:ln w="0">
            <a:noFill/>
          </a:ln>
        </p:spPr>
      </p:pic>
      <p:sp>
        <p:nvSpPr>
          <p:cNvPr id="242" name="6 Flecha derecha"/>
          <p:cNvSpPr/>
          <p:nvPr/>
        </p:nvSpPr>
        <p:spPr>
          <a:xfrm>
            <a:off x="4214880" y="2286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7 Rectángulo"/>
          <p:cNvSpPr/>
          <p:nvPr/>
        </p:nvSpPr>
        <p:spPr>
          <a:xfrm>
            <a:off x="2882160" y="2570040"/>
            <a:ext cx="273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MERCURIO: 19 DE ENERO DE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incorporar mecanismos más efectivos de participación ciudad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 la desconcentración de las funciones de revisión y recomendación de proyec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ambios tecnológic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criterios de equidad social y territorial (y otros criterios) en la formulación, priorización (post evaluación) y otras etapas del ciclo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la valoración económica de impactos ambientales en las evaluacione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9CF70-7043-4EB0-BCE6-2799627E9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Mejoramiento de sistemas y métodos de selección, capacitación y sistemas de incentivos para los recursos human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mplementación de un sistema de evaluación ex post (a abordar en el proyecto de Agencia de la Calidad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herramientas de análisis de riesgo en la evaluación de proyectos y progra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entralización de la evaluación ex ante de proyectos, estudios y programas (hoy separado entre Mideplan y Dipr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l análisis de concesiones dentro del S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5F8F1-4CDC-4C6A-84FC-D7EF03107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0:20:56Z</dcterms:created>
  <dc:creator>Claudio Seebach</dc:creator>
  <dc:description/>
  <dc:language>en-US</dc:language>
  <cp:lastModifiedBy>Leonel Medina Daza</cp:lastModifiedBy>
  <cp:lastPrinted>2009-01-09T13:40:27Z</cp:lastPrinted>
  <dcterms:modified xsi:type="dcterms:W3CDTF">2010-06-21T17:01:14Z</dcterms:modified>
  <cp:revision>343</cp:revision>
  <dc:subject/>
  <dc:title>Slide 1</dc:title>
</cp:coreProperties>
</file>