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890-682B-426C-9C5E-93A28161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DC1-96DF-48F9-8082-D2A49A63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81A-8889-48FF-8D4D-F8AA0A3D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968-8F4A-4901-844E-D48F22A7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21DF-83B7-47ED-A47C-A987053D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1A02-2EFA-4060-9FFB-D72BB5B9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A92E-F411-4EDC-818D-C17667D0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53DD-719B-4E35-AFE5-16A209B4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61B4-7924-448E-B10A-273BA2D6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C24B-68C5-4A7A-A412-C291DBA2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A1EB-5E55-4C7B-A664-0B104819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2A4-E570-4221-955F-2050E6A0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9403-84D8-4389-BE4B-972CD1D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68B9-B0EB-4FBD-AAD9-B00041FB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80A3-8BF7-481B-AF34-8FDC4335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6C96-8EC4-40D2-9F8D-E411FA1A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C9EA-9F2A-4C03-A386-00F1DAF7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AA46-EBCD-418B-BE62-BFB6CE33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A5830-06EB-4F6C-94B1-3F958E7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BEFF5-E27C-4C18-B9C7-9284FB2B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1D7F-C4F9-454E-8EEA-C15EC5B6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7D3A-88A8-4A8D-BEC6-BE9980BE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40F-498A-4C6D-86DF-95953812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80AD9-1EED-475F-ADD9-445C5F5A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A1444-C4EB-40BE-A210-FD75D7F4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E2EB-0F5B-47FC-A815-8170091F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C256-F85E-424D-82F0-2FEF8A54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6C1E-3F00-4876-9D7E-7739E5D0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EDE8C-C09D-4D7E-93EA-555FAE74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7859A-AEBA-4952-A60A-9A8F2247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97114-77C2-43A5-807C-AC877F04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AFF0-7396-4A0A-BBE1-70A4807B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CD28-778C-47CF-8EB2-2EA0BFF6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9529-C489-4C26-A5C9-90636171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EDD90-0183-4815-8B49-AC8FDA7F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346FA-EDAB-405F-AB05-3754C389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6F166-9A01-4EED-B59B-B23FE8AE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50C26-BFAE-4ACF-962B-F8C8B99C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43CD9-395C-4E36-885F-D002F65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DC979-9CDE-4858-B5D7-C98CF3B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7D3B8-2B62-4509-9656-581743F5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9A475-BBF6-4444-86CD-354CDEA7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84C8D-0837-42E9-9076-49FE7F77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B928F-206A-4FA7-9B46-86758A5D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0EC-B442-444E-A34A-5ECE2D3D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29111-7389-4871-9BAA-622F6B62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0E55B-3962-4DE9-B690-A5A0854A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25B6A-C23D-45C2-8BA4-5491593F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FA082-5915-49F4-8061-17781B8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05CD-0B5B-4BD1-8F1C-0002BAD7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8303-7E33-4705-83C8-DB2550C6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297AF-93E5-4F1A-A377-0D1BC084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E2A80-59EB-41BB-87A5-757AC866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0A436-C46D-490E-B725-206B9C6E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03A9C-44F0-442C-BE75-27F52B77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448-DC24-4D7F-B950-2B9C808F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123C-7E2E-4706-BA58-19E74A5E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5BC-FF4A-4C3D-A751-40142021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1F54-542D-46A4-BB4B-98BC6D2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C4F-D978-4F6B-B40A-ADAD90C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CA877-64FC-4879-8EC9-42FC7DB3C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9360F-F2EC-489A-B68C-E1CA062DE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" descr=""/>
          <p:cNvPicPr/>
          <p:nvPr/>
        </p:nvPicPr>
        <p:blipFill>
          <a:blip r:embed="rId2"/>
          <a:stretch/>
        </p:blipFill>
        <p:spPr>
          <a:xfrm>
            <a:off x="1523880" y="228600"/>
            <a:ext cx="6107400" cy="190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DCD51-8ECA-489D-84F0-6B495F15E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F1223-3D30-4F9B-8542-550320963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87" name="Straight Connector 9"/>
          <p:cNvSpPr/>
          <p:nvPr/>
        </p:nvSpPr>
        <p:spPr>
          <a:xfrm>
            <a:off x="457200" y="1495440"/>
            <a:ext cx="822960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A3182-118B-4B31-82ED-18453267D4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2B4BD-87BD-4059-9860-06ECE5378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30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9D468-C9D0-4D77-A7F2-8D96CEC2EC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E85FA1-CD02-4519-9451-9BC2DD911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CREcolorhorizontal.jpg"/>
          <p:cNvPicPr/>
          <p:nvPr/>
        </p:nvPicPr>
        <p:blipFill>
          <a:blip r:embed="rId2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3" name="Straight Connector 7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CREcolorhorizontal.jpg"/>
          <p:cNvPicPr/>
          <p:nvPr/>
        </p:nvPicPr>
        <p:blipFill>
          <a:blip r:embed="rId3"/>
          <a:stretch/>
        </p:blipFill>
        <p:spPr>
          <a:xfrm>
            <a:off x="425520" y="6019920"/>
            <a:ext cx="2165400" cy="67932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9"/>
          <p:cNvSpPr/>
          <p:nvPr/>
        </p:nvSpPr>
        <p:spPr>
          <a:xfrm>
            <a:off x="566640" y="1481040"/>
            <a:ext cx="800100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2E055-990E-428D-B718-E527817818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943E8-ABCD-4DBA-A506-290FF3676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cionalidad para el Sistema de Evaluación del Gobier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Eduardo Contreras – Juan Francisco Pache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Noviembre de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1" descr="LOGO DII bco"/>
          <p:cNvPicPr/>
          <p:nvPr/>
        </p:nvPicPr>
        <p:blipFill>
          <a:blip r:embed="rId1"/>
          <a:stretch/>
        </p:blipFill>
        <p:spPr>
          <a:xfrm>
            <a:off x="3125880" y="404640"/>
            <a:ext cx="2892240" cy="1082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9" descr=""/>
          <p:cNvPicPr/>
          <p:nvPr/>
        </p:nvPicPr>
        <p:blipFill>
          <a:blip r:embed="rId2"/>
          <a:stretch/>
        </p:blipFill>
        <p:spPr>
          <a:xfrm>
            <a:off x="6804000" y="163440"/>
            <a:ext cx="130500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Otras experienc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43120" y="150012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New Public Management y Sistemas de Evalua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os modelos Neo Zelandés y Australiano, implicaron una fuerte descentralización (hacia unidades ejecutoras; Ministerios, etc) de la toma de decisiones y el manejo de recurs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Basado en la profesionalización de los gerentes públicos y su independencia de los cambios de gobiern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compañado de incentivos (y des incentivos) por desempeño basados en evalua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chas evaluaciones son sobre los resultados, impactos, eficiencia, calidad y agregación de valor de las decisiones tomadas, incluyendo las decisiones de invers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Evaluación presupuestaria en tres países, Argentina, Australia y los Estados Unidos de Norteamérica”. Hernán Pablo Llosas. Departamento de Economía, Universidad Nacional de La Plata. 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eb :Government of Western Australia | Department of the Premier and Cabinet y del Department of Treasury and Fin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L "MANAGEMENT DE LA INTERDEPENDENCIA GLOBAL…” Omar Guerrero. 2000. Revista Digital Universitar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NEW ZEALAND'S PUBLIC SECTOR FINANCIAL MANAGEMENT SYSTEM: FINANCIAL RESOURCE EROSION IN GOVERNMENT DEPARTMENTS”. Thesis for the degree of Ph.D. by Susan M. Newberry. University of Canterbury.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9ABC8-92F7-4D76-A3D7-41CD22666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43120" y="1428840"/>
            <a:ext cx="83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s Sistemas Nacionales de Inversión Pública pueden ser analizados desde la Teoría de Siste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o anterior permite identificar, a modo de </a:t>
            </a:r>
            <a:r>
              <a:rPr b="0" i="1" lang="es-CL" sz="2400" spc="-1" strike="noStrike">
                <a:solidFill>
                  <a:srgbClr val="000000"/>
                </a:solidFill>
                <a:latin typeface="Calibri"/>
              </a:rPr>
              <a:t>Check List</a:t>
            </a: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, funciones o subsistemas que pudiesen faltar o estar incompletos en nuestro S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Se concluye que lo que tenemos desarrollado en Chile, son los subsistemas de “producción” y “apoyo” los cuales constituirían el sistema. Lo anterior implica que nuestro Sistema no está complet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Algunas Fuentes: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CEPAL, Serie manuales N° 40: ““Los sistemas nacionales de inversión pública en Argentina, Brasil, México, Venezuela, y España como caso de referencia”,”. Edgar Ortegón y Juan Francisco Pacheco.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EPAL, Serie manuales N° 34: “Los Sistemas nacionales de inversión pública en Centroamérica: marco teórico y análisis comparativo multivariado”. Edgar Ortegón y Juan Francisco Pacheco.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a organización sistémica”, en “Teorías organizacionales y administración”,  Dávila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a Eficiencia de la Burocracia” Anthony Giddesns, Ed. Alianza Universitaría,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Sistemas complejos y gestión pública”, Mario Waissbluth. Documento de Trabajo de la Serie de Gestión. Departamento de Ingeniería Industrial de la Universidad de Chile. Febrero de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E20AE-EA62-466E-9B15-533C22F5D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visión de la literatura: Un complemento al diagnóst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5CC55-E0FC-4854-8B2A-546EA68C2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4"/>
          <p:cNvGrpSpPr/>
          <p:nvPr/>
        </p:nvGrpSpPr>
        <p:grpSpPr>
          <a:xfrm>
            <a:off x="3219480" y="1643040"/>
            <a:ext cx="5638680" cy="4343400"/>
            <a:chOff x="3219480" y="1643040"/>
            <a:chExt cx="5638680" cy="4343400"/>
          </a:xfrm>
        </p:grpSpPr>
        <p:sp>
          <p:nvSpPr>
            <p:cNvPr id="261" name="AutoShape 20"/>
            <p:cNvSpPr/>
            <p:nvPr/>
          </p:nvSpPr>
          <p:spPr>
            <a:xfrm>
              <a:off x="3219480" y="1643040"/>
              <a:ext cx="563868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9"/>
            <p:cNvSpPr/>
            <p:nvPr/>
          </p:nvSpPr>
          <p:spPr>
            <a:xfrm>
              <a:off x="5048280" y="1985760"/>
              <a:ext cx="1904400" cy="114300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ganismos  Públicos  (Inversionistas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8"/>
            <p:cNvSpPr/>
            <p:nvPr/>
          </p:nvSpPr>
          <p:spPr>
            <a:xfrm>
              <a:off x="5048280" y="312912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Gerenci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 Órgano Rec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 el sistema y coordina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7"/>
            <p:cNvSpPr/>
            <p:nvPr/>
          </p:nvSpPr>
          <p:spPr>
            <a:xfrm>
              <a:off x="5048280" y="4386240"/>
              <a:ext cx="190440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dapt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ticipación ciudada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ategia y prospectiv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mular y consensuar Visión de largo plazo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6"/>
            <p:cNvSpPr/>
            <p:nvPr/>
          </p:nvSpPr>
          <p:spPr>
            <a:xfrm>
              <a:off x="3371760" y="3129120"/>
              <a:ext cx="1676160" cy="125712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Manteni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os de control, generación de leyes, norm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ción y reclutamiento de capital Humano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5"/>
            <p:cNvSpPr/>
            <p:nvPr/>
          </p:nvSpPr>
          <p:spPr>
            <a:xfrm>
              <a:off x="6952680" y="3129120"/>
              <a:ext cx="1752480" cy="125712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poy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anciero y Técn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21 Rectángulo"/>
          <p:cNvSpPr/>
          <p:nvPr/>
        </p:nvSpPr>
        <p:spPr>
          <a:xfrm>
            <a:off x="214200" y="2459160"/>
            <a:ext cx="3005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sub-sistemas que operan actualmente están en color celeste. Sin embargo, los sub-sistemas amarillos no están complet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3 Elipse"/>
          <p:cNvSpPr/>
          <p:nvPr/>
        </p:nvSpPr>
        <p:spPr>
          <a:xfrm>
            <a:off x="6667560" y="5137200"/>
            <a:ext cx="2190600" cy="1219320"/>
          </a:xfrm>
          <a:prstGeom prst="ellipse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4 CuadroTexto"/>
          <p:cNvSpPr/>
          <p:nvPr/>
        </p:nvSpPr>
        <p:spPr>
          <a:xfrm>
            <a:off x="7215120" y="557208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to es hoy el “Sistem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16 Conector recto de flecha"/>
          <p:cNvCxnSpPr/>
          <p:nvPr/>
        </p:nvCxnSpPr>
        <p:spPr>
          <a:xfrm flipV="1">
            <a:off x="7643880" y="4145040"/>
            <a:ext cx="2160" cy="993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Necesidad de UN organismo r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Separación de funciones: Formulación, evaluación, ex ante, financiamiento, ejecución, evaluación ex post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(además de fuentes revisadas: proyecto de Mario Drag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En términos institucionales: independencia de las instituciones : administradora del sistema de evaluación, asignadora de fondos, ejecutoras, y elaboradores de normas y ley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8B37A-9FAC-4A69-8828-B9463E536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Principios del diseñ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rofesionalización e independencia respecto a vaivenes políticos al menos en el rol de Dirección del SNIP y su equipo de analistas de nivel central y regiones. Mediante el sistema de AD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1F7AA-7A97-4EFC-8AC9-03862639E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C2B13-386C-4BA6-A838-F63442F2E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"/>
          <p:cNvGrpSpPr/>
          <p:nvPr/>
        </p:nvGrpSpPr>
        <p:grpSpPr>
          <a:xfrm>
            <a:off x="0" y="2400480"/>
            <a:ext cx="8981640" cy="3314520"/>
            <a:chOff x="0" y="2400480"/>
            <a:chExt cx="8981640" cy="3314520"/>
          </a:xfrm>
        </p:grpSpPr>
        <p:sp>
          <p:nvSpPr>
            <p:cNvPr id="280" name="Text Box 3"/>
            <p:cNvSpPr/>
            <p:nvPr/>
          </p:nvSpPr>
          <p:spPr>
            <a:xfrm>
              <a:off x="3228840" y="2400480"/>
              <a:ext cx="2371680" cy="4953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Agenci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"/>
            <p:cNvSpPr/>
            <p:nvPr/>
          </p:nvSpPr>
          <p:spPr>
            <a:xfrm>
              <a:off x="4390920" y="3314880"/>
              <a:ext cx="1162080" cy="599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7819920" y="3314880"/>
              <a:ext cx="1161720" cy="2400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22876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 Dirección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352404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4848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6153120" y="431496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Dirección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>
              <a:off x="142848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12"/>
            <p:cNvSpPr/>
            <p:nvPr/>
          </p:nvSpPr>
          <p:spPr>
            <a:xfrm>
              <a:off x="2790720" y="331488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13"/>
            <p:cNvSpPr/>
            <p:nvPr/>
          </p:nvSpPr>
          <p:spPr>
            <a:xfrm>
              <a:off x="0" y="3314880"/>
              <a:ext cx="1162080" cy="8287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4"/>
          <p:cNvSpPr/>
          <p:nvPr/>
        </p:nvSpPr>
        <p:spPr>
          <a:xfrm>
            <a:off x="3929040" y="16225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295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296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8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99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0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1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2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03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04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305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306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08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9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42 Rectángulo"/>
          <p:cNvSpPr/>
          <p:nvPr/>
        </p:nvSpPr>
        <p:spPr>
          <a:xfrm>
            <a:off x="2714760" y="3309840"/>
            <a:ext cx="1533240" cy="596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31"/>
          <p:cNvCxnSpPr>
            <a:endCxn id="291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317" name="Text Box 17"/>
          <p:cNvSpPr/>
          <p:nvPr/>
        </p:nvSpPr>
        <p:spPr>
          <a:xfrm>
            <a:off x="14292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31"/>
          <p:cNvCxnSpPr/>
          <p:nvPr/>
        </p:nvCxnSpPr>
        <p:spPr>
          <a:xfrm>
            <a:off x="427680" y="1928520"/>
            <a:ext cx="1080" cy="13608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19" name="AutoShape 31"/>
          <p:cNvCxnSpPr/>
          <p:nvPr/>
        </p:nvCxnSpPr>
        <p:spPr>
          <a:xfrm flipH="1">
            <a:off x="580680" y="1643040"/>
            <a:ext cx="3348720" cy="1666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20" name="AutoShape 28"/>
          <p:cNvCxnSpPr/>
          <p:nvPr/>
        </p:nvCxnSpPr>
        <p:spPr>
          <a:xfrm>
            <a:off x="1214280" y="1714680"/>
            <a:ext cx="250128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21" name="AutoShape 32"/>
          <p:cNvCxnSpPr>
            <a:stCxn id="290" idx="2"/>
            <a:endCxn id="280" idx="0"/>
          </p:cNvCxnSpPr>
          <p:nvPr/>
        </p:nvCxnSpPr>
        <p:spPr>
          <a:xfrm>
            <a:off x="4405320" y="1928880"/>
            <a:ext cx="10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recc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49 Rectángulo"/>
          <p:cNvSpPr/>
          <p:nvPr/>
        </p:nvSpPr>
        <p:spPr>
          <a:xfrm>
            <a:off x="2933640" y="1928880"/>
            <a:ext cx="3067200" cy="89532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puesta: Alternativa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8C809-1B57-46F7-A15D-3793A5BB4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"/>
          <p:cNvGrpSpPr/>
          <p:nvPr/>
        </p:nvGrpSpPr>
        <p:grpSpPr>
          <a:xfrm>
            <a:off x="0" y="2286000"/>
            <a:ext cx="8981640" cy="3428640"/>
            <a:chOff x="0" y="2286000"/>
            <a:chExt cx="8981640" cy="3428640"/>
          </a:xfrm>
        </p:grpSpPr>
        <p:sp>
          <p:nvSpPr>
            <p:cNvPr id="329" name="Text Box 3"/>
            <p:cNvSpPr/>
            <p:nvPr/>
          </p:nvSpPr>
          <p:spPr>
            <a:xfrm>
              <a:off x="3214800" y="2286000"/>
              <a:ext cx="2371680" cy="4953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Subsecretaría Nacional de Inversión Públic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Organismo Rect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4"/>
            <p:cNvSpPr/>
            <p:nvPr/>
          </p:nvSpPr>
          <p:spPr>
            <a:xfrm>
              <a:off x="4390920" y="3314520"/>
              <a:ext cx="116208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visión 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"/>
            <p:cNvSpPr/>
            <p:nvPr/>
          </p:nvSpPr>
          <p:spPr>
            <a:xfrm>
              <a:off x="7819920" y="3314520"/>
              <a:ext cx="1161720" cy="24001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IRECCIÓN DE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PREINVERS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Inversión en Preinversión para generación de carte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7"/>
            <p:cNvSpPr/>
            <p:nvPr/>
          </p:nvSpPr>
          <p:spPr>
            <a:xfrm>
              <a:off x="222876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Análisis Técn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y Económic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"/>
            <p:cNvSpPr/>
            <p:nvPr/>
          </p:nvSpPr>
          <p:spPr>
            <a:xfrm>
              <a:off x="352404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Normativas: Leyes, Reglamentos e instructiv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9"/>
            <p:cNvSpPr/>
            <p:nvPr/>
          </p:nvSpPr>
          <p:spPr>
            <a:xfrm>
              <a:off x="4848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de Capacitación  y Supervisión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6153120" y="4314600"/>
              <a:ext cx="1162080" cy="900360"/>
            </a:xfrm>
            <a:prstGeom prst="rect">
              <a:avLst/>
            </a:prstGeom>
            <a:solidFill>
              <a:srgbClr val="f2dcd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Calibri"/>
                </a:rPr>
                <a:t>Departamento  de Información: Banco Integrado de Proyectos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142848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2"/>
            <p:cNvSpPr/>
            <p:nvPr/>
          </p:nvSpPr>
          <p:spPr>
            <a:xfrm>
              <a:off x="2790720" y="3314520"/>
              <a:ext cx="1352160" cy="59976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3"/>
            <p:cNvSpPr/>
            <p:nvPr/>
          </p:nvSpPr>
          <p:spPr>
            <a:xfrm>
              <a:off x="0" y="3314520"/>
              <a:ext cx="1162080" cy="828720"/>
            </a:xfrm>
            <a:prstGeom prst="rect">
              <a:avLst/>
            </a:prstGeom>
            <a:solidFill>
              <a:srgbClr val="d7e4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14"/>
          <p:cNvSpPr/>
          <p:nvPr/>
        </p:nvSpPr>
        <p:spPr>
          <a:xfrm>
            <a:off x="3929040" y="1500120"/>
            <a:ext cx="954000" cy="306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Pres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"/>
          <p:cNvSpPr/>
          <p:nvPr/>
        </p:nvSpPr>
        <p:spPr>
          <a:xfrm>
            <a:off x="6286680" y="221472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MINISTERIO DE HACIEND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6"/>
          <p:cNvSpPr/>
          <p:nvPr/>
        </p:nvSpPr>
        <p:spPr>
          <a:xfrm>
            <a:off x="6286680" y="2571840"/>
            <a:ext cx="111600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900" spc="-1" strike="noStrike">
                <a:solidFill>
                  <a:srgbClr val="000000"/>
                </a:solidFill>
                <a:latin typeface="Arial"/>
              </a:rPr>
              <a:t>Ministerios (incluye Mideplan, pero Mideplan – SNI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"/>
          <p:cNvSpPr/>
          <p:nvPr/>
        </p:nvSpPr>
        <p:spPr>
          <a:xfrm>
            <a:off x="6286680" y="1643040"/>
            <a:ext cx="1116000" cy="26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Palrament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71320" y="2857320"/>
            <a:ext cx="7668000" cy="428760"/>
            <a:chOff x="571320" y="2857320"/>
            <a:chExt cx="7668000" cy="428760"/>
          </a:xfrm>
        </p:grpSpPr>
        <p:grpSp>
          <p:nvGrpSpPr>
            <p:cNvPr id="344" name="Group 19"/>
            <p:cNvGrpSpPr/>
            <p:nvPr/>
          </p:nvGrpSpPr>
          <p:grpSpPr>
            <a:xfrm>
              <a:off x="571320" y="3047760"/>
              <a:ext cx="7668000" cy="238320"/>
              <a:chOff x="571320" y="3047760"/>
              <a:chExt cx="7668000" cy="238320"/>
            </a:xfrm>
          </p:grpSpPr>
          <p:cxnSp>
            <p:nvCxnSpPr>
              <p:cNvPr id="345" name="AutoShape 20"/>
              <p:cNvCxnSpPr/>
              <p:nvPr/>
            </p:nvCxnSpPr>
            <p:spPr>
              <a:xfrm>
                <a:off x="571680" y="3047760"/>
                <a:ext cx="766800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AutoShape 21"/>
              <p:cNvCxnSpPr/>
              <p:nvPr/>
            </p:nvCxnSpPr>
            <p:spPr>
              <a:xfrm>
                <a:off x="5713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7" name="AutoShape 22"/>
              <p:cNvCxnSpPr/>
              <p:nvPr/>
            </p:nvCxnSpPr>
            <p:spPr>
              <a:xfrm>
                <a:off x="823860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8" name="AutoShape 23"/>
              <p:cNvCxnSpPr/>
              <p:nvPr/>
            </p:nvCxnSpPr>
            <p:spPr>
              <a:xfrm>
                <a:off x="640044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9" name="AutoShape 24"/>
              <p:cNvCxnSpPr/>
              <p:nvPr/>
            </p:nvCxnSpPr>
            <p:spPr>
              <a:xfrm>
                <a:off x="492408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0" name="AutoShape 25"/>
              <p:cNvCxnSpPr/>
              <p:nvPr/>
            </p:nvCxnSpPr>
            <p:spPr>
              <a:xfrm>
                <a:off x="3447720" y="304776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51" name="AutoShape 26"/>
              <p:cNvCxnSpPr/>
              <p:nvPr/>
            </p:nvCxnSpPr>
            <p:spPr>
              <a:xfrm>
                <a:off x="1971360" y="3057120"/>
                <a:ext cx="1080" cy="229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cxnSp>
          <p:nvCxnSpPr>
            <p:cNvPr id="352" name="AutoShape 27"/>
            <p:cNvCxnSpPr/>
            <p:nvPr/>
          </p:nvCxnSpPr>
          <p:spPr>
            <a:xfrm>
              <a:off x="4363920" y="2857320"/>
              <a:ext cx="1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353" name="AutoShape 28"/>
          <p:cNvCxnSpPr/>
          <p:nvPr/>
        </p:nvCxnSpPr>
        <p:spPr>
          <a:xfrm>
            <a:off x="5452920" y="242892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54" name="AutoShape 29"/>
          <p:cNvCxnSpPr/>
          <p:nvPr/>
        </p:nvCxnSpPr>
        <p:spPr>
          <a:xfrm>
            <a:off x="5452920" y="2776680"/>
            <a:ext cx="905760" cy="10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sp>
        <p:nvSpPr>
          <p:cNvPr id="355" name="Text Box 30"/>
          <p:cNvSpPr/>
          <p:nvPr/>
        </p:nvSpPr>
        <p:spPr>
          <a:xfrm>
            <a:off x="7929720" y="2286000"/>
            <a:ext cx="1011240" cy="231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1760" rIns="41760" tIns="20880" bIns="2088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600" spc="-1" strike="noStrike">
                <a:solidFill>
                  <a:srgbClr val="000000"/>
                </a:solidFill>
                <a:latin typeface="Arial"/>
              </a:rPr>
              <a:t>CIUDADANÍ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AutoShape 31"/>
          <p:cNvCxnSpPr/>
          <p:nvPr/>
        </p:nvCxnSpPr>
        <p:spPr>
          <a:xfrm flipH="1">
            <a:off x="8429040" y="2500200"/>
            <a:ext cx="1080" cy="861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57" name="AutoShape 32"/>
          <p:cNvCxnSpPr/>
          <p:nvPr/>
        </p:nvCxnSpPr>
        <p:spPr>
          <a:xfrm>
            <a:off x="5000400" y="39243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AutoShape 33"/>
          <p:cNvCxnSpPr/>
          <p:nvPr/>
        </p:nvCxnSpPr>
        <p:spPr>
          <a:xfrm>
            <a:off x="2928960" y="4142880"/>
            <a:ext cx="38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35"/>
          <p:cNvCxnSpPr/>
          <p:nvPr/>
        </p:nvCxnSpPr>
        <p:spPr>
          <a:xfrm>
            <a:off x="678636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36"/>
          <p:cNvCxnSpPr/>
          <p:nvPr/>
        </p:nvCxnSpPr>
        <p:spPr>
          <a:xfrm>
            <a:off x="2928600" y="414288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AutoShape 37"/>
          <p:cNvCxnSpPr/>
          <p:nvPr/>
        </p:nvCxnSpPr>
        <p:spPr>
          <a:xfrm>
            <a:off x="400032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38"/>
          <p:cNvCxnSpPr/>
          <p:nvPr/>
        </p:nvCxnSpPr>
        <p:spPr>
          <a:xfrm>
            <a:off x="5428800" y="4176360"/>
            <a:ext cx="1080" cy="1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42 Rectángulo"/>
          <p:cNvSpPr/>
          <p:nvPr/>
        </p:nvSpPr>
        <p:spPr>
          <a:xfrm>
            <a:off x="2714760" y="3357720"/>
            <a:ext cx="153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RRHH (</a:t>
            </a:r>
            <a:r>
              <a:rPr b="0" lang="es-CL" sz="1100" spc="-1" strike="noStrike">
                <a:solidFill>
                  <a:srgbClr val="000000"/>
                </a:solidFill>
                <a:latin typeface="Calibri"/>
              </a:rPr>
              <a:t>Selección, incentivos, etc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43 Rectángulo"/>
          <p:cNvSpPr/>
          <p:nvPr/>
        </p:nvSpPr>
        <p:spPr>
          <a:xfrm>
            <a:off x="0" y="3357720"/>
            <a:ext cx="123840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. 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Estrategia y Prospecti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AutoShape 31"/>
          <p:cNvCxnSpPr>
            <a:endCxn id="340" idx="0"/>
          </p:cNvCxnSpPr>
          <p:nvPr/>
        </p:nvCxnSpPr>
        <p:spPr>
          <a:xfrm flipH="1">
            <a:off x="6844680" y="1906560"/>
            <a:ext cx="14760" cy="308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</p:cxnSp>
      <p:cxnSp>
        <p:nvCxnSpPr>
          <p:cNvPr id="366" name="AutoShape 32"/>
          <p:cNvCxnSpPr>
            <a:stCxn id="339" idx="2"/>
            <a:endCxn id="329" idx="0"/>
          </p:cNvCxnSpPr>
          <p:nvPr/>
        </p:nvCxnSpPr>
        <p:spPr>
          <a:xfrm flipH="1">
            <a:off x="4399920" y="1806480"/>
            <a:ext cx="540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AutoShape 32"/>
          <p:cNvCxnSpPr/>
          <p:nvPr/>
        </p:nvCxnSpPr>
        <p:spPr>
          <a:xfrm>
            <a:off x="5152680" y="407628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8" name="58 Rectángulo"/>
          <p:cNvSpPr/>
          <p:nvPr/>
        </p:nvSpPr>
        <p:spPr>
          <a:xfrm>
            <a:off x="3643200" y="5514840"/>
            <a:ext cx="4572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pacitación: analistas y profesionales  de Ud.Ejecutor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upervisión: Oficinas Region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59 Rectángulo"/>
          <p:cNvSpPr/>
          <p:nvPr/>
        </p:nvSpPr>
        <p:spPr>
          <a:xfrm>
            <a:off x="1428840" y="3309840"/>
            <a:ext cx="1285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División de Estudios: Metodologías, precios sociales, otr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55 Rectángulo"/>
          <p:cNvSpPr/>
          <p:nvPr/>
        </p:nvSpPr>
        <p:spPr>
          <a:xfrm>
            <a:off x="3174840" y="2000160"/>
            <a:ext cx="123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VE" sz="1000" spc="-1" strike="noStrike">
                <a:solidFill>
                  <a:srgbClr val="000000"/>
                </a:solidFill>
                <a:latin typeface="Arial"/>
              </a:rPr>
              <a:t>SEGP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Ventajas y Desventajas de las alternativ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78757-7EC9-44AD-9A46-0E5175F73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"/>
          <p:cNvGrpSpPr/>
          <p:nvPr/>
        </p:nvGrpSpPr>
        <p:grpSpPr>
          <a:xfrm>
            <a:off x="552960" y="1928880"/>
            <a:ext cx="8370000" cy="4000320"/>
            <a:chOff x="552960" y="1928880"/>
            <a:chExt cx="8370000" cy="4000320"/>
          </a:xfrm>
        </p:grpSpPr>
        <p:sp>
          <p:nvSpPr>
            <p:cNvPr id="374" name="AutoShape 3"/>
            <p:cNvSpPr/>
            <p:nvPr/>
          </p:nvSpPr>
          <p:spPr>
            <a:xfrm>
              <a:off x="1071720" y="1928880"/>
              <a:ext cx="6095880" cy="40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5"/>
            <p:cNvSpPr/>
            <p:nvPr/>
          </p:nvSpPr>
          <p:spPr>
            <a:xfrm>
              <a:off x="1819440" y="2611440"/>
              <a:ext cx="164880" cy="29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104" h="1844">
                  <a:moveTo>
                    <a:pt x="34" y="1844"/>
                  </a:moveTo>
                  <a:lnTo>
                    <a:pt x="35" y="81"/>
                  </a:lnTo>
                  <a:lnTo>
                    <a:pt x="70" y="81"/>
                  </a:lnTo>
                  <a:lnTo>
                    <a:pt x="68" y="1844"/>
                  </a:lnTo>
                  <a:lnTo>
                    <a:pt x="34" y="1844"/>
                  </a:lnTo>
                  <a:close/>
                  <a:moveTo>
                    <a:pt x="0" y="97"/>
                  </a:moveTo>
                  <a:lnTo>
                    <a:pt x="52" y="0"/>
                  </a:lnTo>
                  <a:lnTo>
                    <a:pt x="104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8000"/>
            </a:solidFill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"/>
            <p:cNvSpPr/>
            <p:nvPr/>
          </p:nvSpPr>
          <p:spPr>
            <a:xfrm>
              <a:off x="1900440" y="5465880"/>
              <a:ext cx="4470120" cy="155520"/>
            </a:xfrm>
            <a:custGeom>
              <a:avLst/>
              <a:gdLst>
                <a:gd name="textAreaLeft" fmla="*/ 0 w 4470120"/>
                <a:gd name="textAreaRight" fmla="*/ 4470480 w 4470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816" h="98">
                  <a:moveTo>
                    <a:pt x="0" y="31"/>
                  </a:moveTo>
                  <a:lnTo>
                    <a:pt x="2729" y="32"/>
                  </a:lnTo>
                  <a:lnTo>
                    <a:pt x="2729" y="65"/>
                  </a:lnTo>
                  <a:lnTo>
                    <a:pt x="0" y="64"/>
                  </a:lnTo>
                  <a:lnTo>
                    <a:pt x="0" y="31"/>
                  </a:lnTo>
                  <a:close/>
                  <a:moveTo>
                    <a:pt x="2712" y="0"/>
                  </a:moveTo>
                  <a:lnTo>
                    <a:pt x="2816" y="49"/>
                  </a:lnTo>
                  <a:lnTo>
                    <a:pt x="2712" y="98"/>
                  </a:lnTo>
                  <a:lnTo>
                    <a:pt x="2712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solidFill>
                <a:srgbClr val="0000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7"/>
            <p:cNvSpPr/>
            <p:nvPr/>
          </p:nvSpPr>
          <p:spPr>
            <a:xfrm>
              <a:off x="552960" y="2922480"/>
              <a:ext cx="1155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Respaldo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8"/>
            <p:cNvSpPr/>
            <p:nvPr/>
          </p:nvSpPr>
          <p:spPr>
            <a:xfrm>
              <a:off x="562320" y="3279600"/>
              <a:ext cx="89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Polític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9"/>
            <p:cNvSpPr/>
            <p:nvPr/>
          </p:nvSpPr>
          <p:spPr>
            <a:xfrm>
              <a:off x="4535280" y="5637240"/>
              <a:ext cx="1792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Independenc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6"/>
            <p:cNvSpPr/>
            <p:nvPr/>
          </p:nvSpPr>
          <p:spPr>
            <a:xfrm>
              <a:off x="4772520" y="4714920"/>
              <a:ext cx="41504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TheSansCorrespondence"/>
                </a:rPr>
                <a:t>Alternativa 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900" spc="-1" strike="noStrike">
                  <a:solidFill>
                    <a:srgbClr val="000000"/>
                  </a:solidFill>
                  <a:latin typeface="TheSansCorrespondence"/>
                </a:rPr>
                <a:t>Riesgo:  Tecnócratas “Bypaseados”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16"/>
          <p:cNvSpPr/>
          <p:nvPr/>
        </p:nvSpPr>
        <p:spPr>
          <a:xfrm>
            <a:off x="2138040" y="2622600"/>
            <a:ext cx="3538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TheSansCorrespondence"/>
              </a:rPr>
              <a:t>Alternativa 2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Riesgo: Pérdidas de eficienc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TheSansCorrespondence"/>
              </a:rPr>
              <a:t>por presion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66 Flecha derecha"/>
          <p:cNvSpPr/>
          <p:nvPr/>
        </p:nvSpPr>
        <p:spPr>
          <a:xfrm>
            <a:off x="4143240" y="2611440"/>
            <a:ext cx="1928880" cy="311040"/>
          </a:xfrm>
          <a:prstGeom prst="rightArrow">
            <a:avLst>
              <a:gd name="adj1" fmla="val 50000"/>
              <a:gd name="adj2" fmla="val 50013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67 Flecha abajo"/>
          <p:cNvSpPr/>
          <p:nvPr/>
        </p:nvSpPr>
        <p:spPr>
          <a:xfrm rot="10800000">
            <a:off x="6553080" y="3449520"/>
            <a:ext cx="395280" cy="1122480"/>
          </a:xfrm>
          <a:prstGeom prst="down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68 CuadroTexto"/>
          <p:cNvSpPr/>
          <p:nvPr/>
        </p:nvSpPr>
        <p:spPr>
          <a:xfrm>
            <a:off x="6286680" y="1857240"/>
            <a:ext cx="2071440" cy="1557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Liderazgo del Director de la Agencia o Subsecr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óst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ras experiencias y revisión de la liter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ues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álisis de la economía política del probl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55CB6-7686-456B-9069-3BF89FEA8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ntroducción: Algunas cifras de Inversión Púb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252B6-2517-4296-A9A6-A1EB36655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428920"/>
          <a:ext cx="6615000" cy="3352680"/>
        </p:xfrm>
        <a:graphic>
          <a:graphicData uri="http://schemas.openxmlformats.org/drawingml/2006/table">
            <a:tbl>
              <a:tblPr/>
              <a:tblGrid>
                <a:gridCol w="438120"/>
                <a:gridCol w="1835280"/>
                <a:gridCol w="3046320"/>
                <a:gridCol w="1295280"/>
              </a:tblGrid>
              <a:tr h="423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ipales agregados macroeconómicos, a precios corri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illones de pesos de cada añ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760">
                <a:tc gridSpan="3" row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8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mación bruta de capital fijo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07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2452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077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5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622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39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s-E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7 CuadroTexto"/>
          <p:cNvSpPr/>
          <p:nvPr/>
        </p:nvSpPr>
        <p:spPr>
          <a:xfrm>
            <a:off x="6215040" y="3929040"/>
            <a:ext cx="264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versión Públ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un 15% y un 20% de la inversión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43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) Las metodologías de evaluación socioeconómica. Actualmente 27 metodologías para distintos sect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b) Los programas de capacitación de RRHH. Tanto los desarrollados internamente como los externalizados (históricamente con la P.U.C., Cepal-Ilpes y hoy con la U. de Chi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c) El Banco Integrado de Proyectos (BI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d) Precios soci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DAA60-6E81-4148-AB3B-064AC90CD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Fortalez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42760" y="1500120"/>
            <a:ext cx="330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articipación de la amplia gama de instituciones públ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Aun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 nivel comunal, las iniciativas 100% financiadas por los municipios no ingresan al S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Parte de las iniciativas de inversión ya no se analizan en Mide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7AD27-91DB-4DC2-A9E8-AC0D77CFF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4753080" y="1571760"/>
            <a:ext cx="38196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Transformación de ODEPLAN en Ministerio en 1990: debilitó considerablemente la gestión por parte del Departamento de Inversiones, en parte por la nueva estructura de relaciones entre dicho Departamento y sus contrapartes que son las unidades ejecutoras de proyectos, y en parte por la falta de recursos que permitieran mantener el nivel de excelencia de la fun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lo anterior: Rotación y fuga de profesionales especializados (lo contrario de lo recomendado por la escuela de NPM: Australia, Nueva Zelandia). Pérdida de “peso” de los analistas sectoriales (en términos relativos a sus contrapar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5ACA9-43E7-4B4C-A68C-19EE5CB2C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3200" y="1428840"/>
            <a:ext cx="44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mejorar la conformación de cartera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r análisis de coherencia de los proyectos con las estrategias sectoriales e intersectoriales, en los casos en que dichas estrategias existan. Más allá del actual sistema de análisis proyecto a proyec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establecer mecanismos formales que posibiliten la complementación de la inversión pública con la privad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2C202-B983-49B0-8A89-802487590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4438800" y="1609560"/>
            <a:ext cx="4705200" cy="5248440"/>
          </a:xfrm>
          <a:prstGeom prst="rect">
            <a:avLst/>
          </a:prstGeom>
          <a:ln w="0">
            <a:noFill/>
          </a:ln>
        </p:spPr>
      </p:pic>
      <p:sp>
        <p:nvSpPr>
          <p:cNvPr id="242" name="6 Flecha derecha"/>
          <p:cNvSpPr/>
          <p:nvPr/>
        </p:nvSpPr>
        <p:spPr>
          <a:xfrm>
            <a:off x="4214880" y="2286000"/>
            <a:ext cx="357120" cy="285840"/>
          </a:xfrm>
          <a:prstGeom prst="rightArrow">
            <a:avLst>
              <a:gd name="adj1" fmla="val 50000"/>
              <a:gd name="adj2" fmla="val 49975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7 Rectángulo"/>
          <p:cNvSpPr/>
          <p:nvPr/>
        </p:nvSpPr>
        <p:spPr>
          <a:xfrm>
            <a:off x="2882160" y="2570040"/>
            <a:ext cx="2733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 MERCURIO: 19 DE ENERO DE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Necesidad de incorporar mecanismos más efectivos de participación ciudad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 la desconcentración de las funciones de revisión y recomendación de proyect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ambios tecnológic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criterios de equidad social y territorial (y otros criterios) en la formulación, priorización (post evaluación) y otras etapas del ciclo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la valoración económica de impactos ambientales en las evaluaciones de proyect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A1875-75D3-48BA-AEA0-0A0890416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Diagnóstico: Debilida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43120" y="1500120"/>
            <a:ext cx="78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Otros temas a mejor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Mejoramiento de sistemas y métodos de selección, capacitación y sistemas de incentivos para los recursos human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mplementación de un sistema de evaluación ex post (a abordar en el proyecto de Agencia de la Calidad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ncorporación de herramientas de análisis de riesgo en la evaluación de proyectos y progra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entralización de la evaluación ex ante de proyectos, estudios y programas (hoy separado entre Mideplan y Dipr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Consolidación del análisis de concesiones dentro del S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C79D4-0CFB-48C8-9405-779F25FD7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0:20:56Z</dcterms:created>
  <dc:creator>Claudio Seebach</dc:creator>
  <dc:description/>
  <dc:language>en-US</dc:language>
  <cp:lastModifiedBy>Leonel Medina Daza</cp:lastModifiedBy>
  <cp:lastPrinted>2009-01-09T13:40:27Z</cp:lastPrinted>
  <dcterms:modified xsi:type="dcterms:W3CDTF">2010-06-21T17:01:14Z</dcterms:modified>
  <cp:revision>343</cp:revision>
  <dc:subject/>
  <dc:title>Slide 1</dc:title>
</cp:coreProperties>
</file>