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3749-893A-49C7-9B2B-B51D27D555FC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Calibri"/>
              </a:rPr>
              <a:t>Los proveedores generan información y es necesario conocer la calidad de los proveedores. (saber que provedores está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9BD4-1DF8-49B4-8A96-68B3EDF34892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s también la situación de Costa Rica, que como nos comentaba ayer Luis Falla ha sido relanzado el 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Tal vez la situación no es que desaparezcan o “mueran” formalmente los SNIP, pero entran en un “estado de coma”… inducido. Pero después de un tiempo se retoma y se le realizan profundas modificaci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AE12-8F8B-4E3A-90E6-0A79169229B3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5F7B-B0C4-4423-B782-1A7EC8B5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2475-0336-41D0-A3CB-A253769C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E50-2301-4FEF-A39B-7251FCC4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5C29-7659-426D-B2F4-6CE9D702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383-7C81-4201-A272-F60DC8B5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00C-4043-4411-B611-2737E808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994-BF0A-4254-8D2E-5E87AF13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6CE-3962-4317-8BB8-18CE9F39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C59D-3655-4EAC-9F7B-98936FD6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8EA0-7846-4D8F-9631-E1C0A7BE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C84-DCC5-4DAA-8579-F1311DA9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2D5-19AB-4149-A279-80E62E11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3296-E48A-400A-A808-BAD8D1ACAA4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49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12 Rectángulo"/>
          <p:cNvSpPr/>
          <p:nvPr/>
        </p:nvSpPr>
        <p:spPr>
          <a:xfrm>
            <a:off x="357120" y="2643120"/>
            <a:ext cx="82868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Arial"/>
              </a:rPr>
              <a:t>Los SNIP de América y el Caribe: ¿cuáles son las lecciones aprendida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Juan Francisco Pacheco- Eduardo Contreras - Fernando Cartes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ima, octubre de 200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9" descr=""/>
          <p:cNvPicPr/>
          <p:nvPr/>
        </p:nvPicPr>
        <p:blipFill>
          <a:blip r:embed="rId5"/>
          <a:stretch/>
        </p:blipFill>
        <p:spPr>
          <a:xfrm>
            <a:off x="5076720" y="981000"/>
            <a:ext cx="1150920" cy="1104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" descr="LOGO DII bco"/>
          <p:cNvPicPr/>
          <p:nvPr/>
        </p:nvPicPr>
        <p:blipFill>
          <a:blip r:embed="rId6"/>
          <a:stretch/>
        </p:blipFill>
        <p:spPr>
          <a:xfrm>
            <a:off x="1835280" y="981000"/>
            <a:ext cx="2533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08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12 Rectángulo"/>
          <p:cNvSpPr/>
          <p:nvPr/>
        </p:nvSpPr>
        <p:spPr>
          <a:xfrm>
            <a:off x="71280" y="1071720"/>
            <a:ext cx="878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No existen sistemas formales de seguimiento físico ni financier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7 CuadroTexto"/>
          <p:cNvSpPr/>
          <p:nvPr/>
        </p:nvSpPr>
        <p:spPr>
          <a:xfrm>
            <a:off x="214200" y="414324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general los nuevos diseños de los SNIP incluyen este aspecto y los existentes lo están incorporand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15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12 Rectángulo"/>
          <p:cNvSpPr/>
          <p:nvPr/>
        </p:nvSpPr>
        <p:spPr>
          <a:xfrm>
            <a:off x="71280" y="107172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Avance insuficiente en desarrollo de sistemas de evaluación </a:t>
            </a: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ex po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7 CuadroTexto"/>
          <p:cNvSpPr/>
          <p:nvPr/>
        </p:nvSpPr>
        <p:spPr>
          <a:xfrm>
            <a:off x="214200" y="4071960"/>
            <a:ext cx="821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general no se ha avanzado mucho en este aspecto y en aquellos países en que se realiza evaluación ex - post, no es claro que la información generada sea utilizada para la toma de decisi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22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12 Rectángulo"/>
          <p:cNvSpPr/>
          <p:nvPr/>
        </p:nvSpPr>
        <p:spPr>
          <a:xfrm>
            <a:off x="71280" y="107172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a política tradicional durante crisis: recortar los programas de inversión y posponer proyecto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7 CuadroTexto"/>
          <p:cNvSpPr/>
          <p:nvPr/>
        </p:nvSpPr>
        <p:spPr>
          <a:xfrm>
            <a:off x="214200" y="4143240"/>
            <a:ext cx="821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esta última crisis se observa que algunos países tuvieron un comportamiento pro-inversión pública. Lo que no es claro es si el manejo de las carteras haya sido el óptim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29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12 Rectángulo"/>
          <p:cNvSpPr/>
          <p:nvPr/>
        </p:nvSpPr>
        <p:spPr>
          <a:xfrm>
            <a:off x="71280" y="1071720"/>
            <a:ext cx="87868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Incorporación de Gobierno electrónic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 iniciaba el uso de Internet como plataforma de operación de los Sistem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7 CuadroTexto"/>
          <p:cNvSpPr/>
          <p:nvPr/>
        </p:nvSpPr>
        <p:spPr>
          <a:xfrm>
            <a:off x="71280" y="4143240"/>
            <a:ext cx="9017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este aspecto se observa un avance importante, con bancos de proyectos on-line y en algunos casos con información geo-referenciada de proyectos, así como el uso de TIC a los temas de adquisiciones públic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s necesario profundizar en los resultados objetivos que ha generado este avance y cómo utilizar la información disponible para el mejoramiento de los procesos, sobretodo en la etapa de inversió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36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12 Rectángulo"/>
          <p:cNvSpPr/>
          <p:nvPr/>
        </p:nvSpPr>
        <p:spPr>
          <a:xfrm>
            <a:off x="71280" y="1071720"/>
            <a:ext cx="87868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Transparenc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manda por mayores niveles de acceso por parte de la ciudadanía a la cartera de proyect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7 Rectángulo"/>
          <p:cNvSpPr/>
          <p:nvPr/>
        </p:nvSpPr>
        <p:spPr>
          <a:xfrm>
            <a:off x="214200" y="421488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Se ha avanzado en forma importante en este aspecto, con mayor nivel de información para la ciudadana y mayor disponibilidad de información sobre contratos y adjudicaci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43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12 Rectángulo"/>
          <p:cNvSpPr/>
          <p:nvPr/>
        </p:nvSpPr>
        <p:spPr>
          <a:xfrm>
            <a:off x="71280" y="1071720"/>
            <a:ext cx="87868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Incipiente Articulación público –privad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o había claridad en cómo hacerlo y si era conveniente o no llevarlo a cabo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9 Gráfico" descr=""/>
          <p:cNvPicPr/>
          <p:nvPr/>
        </p:nvPicPr>
        <p:blipFill>
          <a:blip r:embed="rId5"/>
          <a:stretch/>
        </p:blipFill>
        <p:spPr>
          <a:xfrm>
            <a:off x="1779480" y="4108320"/>
            <a:ext cx="5724720" cy="2756160"/>
          </a:xfrm>
          <a:prstGeom prst="rect">
            <a:avLst/>
          </a:prstGeom>
          <a:ln w="0">
            <a:noFill/>
          </a:ln>
        </p:spPr>
      </p:pic>
      <p:sp>
        <p:nvSpPr>
          <p:cNvPr id="149" name="12 Rectángulo"/>
          <p:cNvSpPr/>
          <p:nvPr/>
        </p:nvSpPr>
        <p:spPr>
          <a:xfrm>
            <a:off x="1928880" y="3714840"/>
            <a:ext cx="428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oordinación de  la inversión pública y la privada en muestra de 7 país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5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12 Rectángulo"/>
          <p:cNvSpPr/>
          <p:nvPr/>
        </p:nvSpPr>
        <p:spPr>
          <a:xfrm>
            <a:off x="71280" y="1071720"/>
            <a:ext cx="878688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Deficiente Articulación Intersectorial e interinstitucion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 observaban dificultades expresadas en duplicaciones que implican ineficiencias y tensiones debido a las competencias entre los organismos y la fragmentación de la informació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10 Gráfico" descr=""/>
          <p:cNvPicPr/>
          <p:nvPr/>
        </p:nvPicPr>
        <p:blipFill>
          <a:blip r:embed="rId5"/>
          <a:stretch/>
        </p:blipFill>
        <p:spPr>
          <a:xfrm>
            <a:off x="2419200" y="4280040"/>
            <a:ext cx="544536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58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12 Rectángulo"/>
          <p:cNvSpPr/>
          <p:nvPr/>
        </p:nvSpPr>
        <p:spPr>
          <a:xfrm>
            <a:off x="71280" y="2906640"/>
            <a:ext cx="87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orcentaje de la inversión pública sometida a análisis técnico – económico en muestra de 7 país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7 CuadroTexto"/>
          <p:cNvSpPr/>
          <p:nvPr/>
        </p:nvSpPr>
        <p:spPr>
          <a:xfrm>
            <a:off x="214200" y="18954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ATOS ADICIONALES SNIP HO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1 Gráfico" descr=""/>
          <p:cNvPicPr/>
          <p:nvPr/>
        </p:nvPicPr>
        <p:blipFill>
          <a:blip r:embed="rId5"/>
          <a:stretch/>
        </p:blipFill>
        <p:spPr>
          <a:xfrm>
            <a:off x="2139840" y="3352680"/>
            <a:ext cx="458496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66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12 Rectángulo"/>
          <p:cNvSpPr/>
          <p:nvPr/>
        </p:nvSpPr>
        <p:spPr>
          <a:xfrm>
            <a:off x="142920" y="2906640"/>
            <a:ext cx="87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orcentaje de Ejecución de  la inversión pública en muestra de 7 país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4 Gráfico" descr=""/>
          <p:cNvPicPr/>
          <p:nvPr/>
        </p:nvPicPr>
        <p:blipFill>
          <a:blip r:embed="rId5"/>
          <a:stretch/>
        </p:blipFill>
        <p:spPr>
          <a:xfrm>
            <a:off x="2279520" y="3139920"/>
            <a:ext cx="4584960" cy="2754360"/>
          </a:xfrm>
          <a:prstGeom prst="rect">
            <a:avLst/>
          </a:prstGeom>
          <a:ln w="0">
            <a:noFill/>
          </a:ln>
        </p:spPr>
      </p:pic>
      <p:sp>
        <p:nvSpPr>
          <p:cNvPr id="172" name="10 CuadroTexto"/>
          <p:cNvSpPr/>
          <p:nvPr/>
        </p:nvSpPr>
        <p:spPr>
          <a:xfrm>
            <a:off x="5429160" y="5143680"/>
            <a:ext cx="7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N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7 CuadroTexto"/>
          <p:cNvSpPr/>
          <p:nvPr/>
        </p:nvSpPr>
        <p:spPr>
          <a:xfrm>
            <a:off x="71280" y="18954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ATOS ADICIONALES SNIP HO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57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12 Rectángulo"/>
          <p:cNvSpPr/>
          <p:nvPr/>
        </p:nvSpPr>
        <p:spPr>
          <a:xfrm>
            <a:off x="357120" y="178596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ctuales Sistemas Nacionales de Inversión Pública (SNIP) datan d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ños 70s: un grupo de países inició sus esfuerzos, a través de la creación de sistemas nacionales de proyect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ños 80s: otro grupo a partir de la implementación bancos de proyectos, los cuales fueron concebidos como sistemas de informació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63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12 Rectángulo"/>
          <p:cNvSpPr/>
          <p:nvPr/>
        </p:nvSpPr>
        <p:spPr>
          <a:xfrm>
            <a:off x="71280" y="1285920"/>
            <a:ext cx="878688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ACE UNA DÉCA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podían observar cuatro grupos de países en función del grado de desarrollo de sus  SNIP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n proceso de diseñ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rgentina y Méxic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Recientemente implementado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uatemala, Nicaragua y Per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n funcionamiento, pero aún en desarroll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onduras, Panamá y República Domin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Con experiencia más avanzada y mayor consolidació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lombia, Chile y Costa Ric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69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12 Rectángulo"/>
          <p:cNvSpPr/>
          <p:nvPr/>
        </p:nvSpPr>
        <p:spPr>
          <a:xfrm>
            <a:off x="71280" y="1285920"/>
            <a:ext cx="87868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la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ctualidad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el estado de los SNIP en Latinoamérica es aun heterogéneo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gún las condiciones propias de sus desarrollos podrían establecerse en tres estados principales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Refundació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Consolidación-profundizació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stabilidad-ajus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75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12 Rectángulo"/>
          <p:cNvSpPr/>
          <p:nvPr/>
        </p:nvSpPr>
        <p:spPr>
          <a:xfrm>
            <a:off x="71280" y="1285920"/>
            <a:ext cx="87868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Refundació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racterizado por el abandono parcial en algún momento de los SNI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e abandono estuvo generalmente asociado a una etapa de desperfilamiento de la planificación y enfoques de disminución de la participación del Estad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íses intentando recuperar los SNIP: República Dominicana, Ecuador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8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12 Rectángulo"/>
          <p:cNvSpPr/>
          <p:nvPr/>
        </p:nvSpPr>
        <p:spPr>
          <a:xfrm>
            <a:off x="71280" y="1285920"/>
            <a:ext cx="878688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Consolidació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íses en búsqueda de consolidar sus sistemas. Se caracterizan por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Apoyo polític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structuras que propician la participación ciudadana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Tienen iniciativas de seguimiento físico y financier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Tiene iniciativas de evaluación ex post simp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uenta con una estructura y normativa sólida (particularmente Perú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Tienen programas de capacitación continuos a funcionarios público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l caso de Argentina es especialmente interesante respecto de los demás países, ya que es un país federal y esto incide en el manejo de los recursos destinados a inversió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87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12 Rectángulo"/>
          <p:cNvSpPr/>
          <p:nvPr/>
        </p:nvSpPr>
        <p:spPr>
          <a:xfrm>
            <a:off x="71280" y="1285920"/>
            <a:ext cx="878688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stabilidad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e es el caso de Colombia y Chi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más antiguos y estables sistemas de la región, cuentan con SNIP consolidados y han ido incorporando nuevas tareas a los SN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caso colombiano destaca por incorporar modalidades de descentralización en la asignación de recursos hasta el nivel local, además de tener un sistema de rendición de cuentas, y estar avanzando en temas de Transparenci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caso de Chile  destaca la evaluación ex – post de programas públicos y rendición de cuentas al Congreso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93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12 Rectángulo"/>
          <p:cNvSpPr/>
          <p:nvPr/>
        </p:nvSpPr>
        <p:spPr>
          <a:xfrm>
            <a:off x="71280" y="1071720"/>
            <a:ext cx="8786880" cy="35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Escasa articulación con prioridades nacionales y otros sectores complementarios.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ta de una instancia superior que observe la consistencia de los proyectos de inversión con el plan nacional y la eventual sinergia entre proyectos de distintos sectore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7 CuadroTexto"/>
          <p:cNvSpPr/>
          <p:nvPr/>
        </p:nvSpPr>
        <p:spPr>
          <a:xfrm>
            <a:off x="214200" y="5072040"/>
            <a:ext cx="85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8 CuadroTexto"/>
          <p:cNvSpPr/>
          <p:nvPr/>
        </p:nvSpPr>
        <p:spPr>
          <a:xfrm>
            <a:off x="500040" y="5000760"/>
            <a:ext cx="82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Si bien en general no existe una instancia superior que vele por la articulación con las prioridades nacionales, existen algunos intentos de evaluación de polític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0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12 Rectángulo"/>
          <p:cNvSpPr/>
          <p:nvPr/>
        </p:nvSpPr>
        <p:spPr>
          <a:xfrm>
            <a:off x="71280" y="1071720"/>
            <a:ext cx="878688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reciente dificultad de tener personal capacitad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razón de un problema de remuneraciones y de alta rotación del person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7 CuadroTexto"/>
          <p:cNvSpPr/>
          <p:nvPr/>
        </p:nvSpPr>
        <p:spPr>
          <a:xfrm>
            <a:off x="214200" y="4429080"/>
            <a:ext cx="821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general los SNIP estudiados contemplan programas de capacitación y existe conciencia de su importancia como un proceso continuo para crear y mantener una masa crítica en el sistem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23:27:09Z</dcterms:created>
  <dc:creator>Gina Rosales</dc:creator>
  <dc:description/>
  <dc:language>en-US</dc:language>
  <cp:lastModifiedBy>Leonel Medina Daza</cp:lastModifiedBy>
  <dcterms:modified xsi:type="dcterms:W3CDTF">2010-06-21T17:02:04Z</dcterms:modified>
  <cp:revision>365</cp:revision>
  <dc:subject/>
  <dc:title>Diapositiva 1</dc:title>
</cp:coreProperties>
</file>