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C5BB-4F50-4574-835B-8D5D154C94B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Calibri"/>
              </a:rPr>
              <a:t>Los proveedores generan información y es necesario conocer la calidad de los proveedores. (saber que provedores está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9FBA-8F8F-4C45-B586-387AC758FD80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 también la situación de Costa Rica, que como nos comentaba ayer Luis Falla ha sido relanzado el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al vez la situación no es que desaparezcan o “mueran” formalmente los SNIP, pero entran en un “estado de coma”… inducido. Pero después de un tiempo se retoma y se le realizan profundas modif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9460-168F-4131-8C0F-8D825FB6939A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307-C0B8-4705-8718-955DA8C6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182-C6EC-4A0C-9168-CA11E51A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776-2F4A-4FEE-8537-D4896AC2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4FF-19C2-4028-8348-AFC956EF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60C-F6EC-47A8-8CCF-42F07B60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216-BB26-45FD-BCAC-8ABAE4D6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753-5E9E-4FB0-A839-7448B260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833-E753-45CE-BB13-54F56A3D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72E-0695-4EF8-B146-E75AD851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EA2-A964-43C0-AB9E-41A742B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22D-6DE6-4065-88CA-9F5EA10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319-B8F4-4F74-BE2B-30F348F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4ED5-1700-43F0-9C8C-6107C77E46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4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12 Rectángulo"/>
          <p:cNvSpPr/>
          <p:nvPr/>
        </p:nvSpPr>
        <p:spPr>
          <a:xfrm>
            <a:off x="357120" y="2643120"/>
            <a:ext cx="8286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Los SNIP de América y el Caribe: ¿cuáles son las lecciones aprendida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uan Francisco Pacheco- Eduardo Contreras - Fernando Cartes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ma, octubre de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9" descr=""/>
          <p:cNvPicPr/>
          <p:nvPr/>
        </p:nvPicPr>
        <p:blipFill>
          <a:blip r:embed="rId5"/>
          <a:stretch/>
        </p:blipFill>
        <p:spPr>
          <a:xfrm>
            <a:off x="5076720" y="981000"/>
            <a:ext cx="11509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LOGO DII bco"/>
          <p:cNvPicPr/>
          <p:nvPr/>
        </p:nvPicPr>
        <p:blipFill>
          <a:blip r:embed="rId6"/>
          <a:stretch/>
        </p:blipFill>
        <p:spPr>
          <a:xfrm>
            <a:off x="1835280" y="981000"/>
            <a:ext cx="2533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12 Rectángulo"/>
          <p:cNvSpPr/>
          <p:nvPr/>
        </p:nvSpPr>
        <p:spPr>
          <a:xfrm>
            <a:off x="71280" y="1071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 existen sistemas formales de seguimiento físico ni financier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7 CuadroTexto"/>
          <p:cNvSpPr/>
          <p:nvPr/>
        </p:nvSpPr>
        <p:spPr>
          <a:xfrm>
            <a:off x="214200" y="41432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nuevos diseños de los SNIP incluyen este aspecto y los existentes lo están incorpora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vance insuficiente en desarrollo de sistemas de evaluación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ex po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214200" y="40719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no se ha avanzado mucho en este aspecto y en aquellos países en que se realiza evaluación ex - post, no es claro que la información generada sea utilizada para la toma de decis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a política tradicional durante crisis: recortar los programas de inversión y posponer proyect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214200" y="414324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a última crisis se observa que algunos países tuvieron un comportamiento pro-inversión pública. Lo que no es claro es si el manejo de las carteras haya sido el ópti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12 Rectángulo"/>
          <p:cNvSpPr/>
          <p:nvPr/>
        </p:nvSpPr>
        <p:spPr>
          <a:xfrm>
            <a:off x="71280" y="1071720"/>
            <a:ext cx="8786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orporación de Gobierno electrónic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iniciaba el uso de Internet como plataforma de operación de los Siste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CuadroTexto"/>
          <p:cNvSpPr/>
          <p:nvPr/>
        </p:nvSpPr>
        <p:spPr>
          <a:xfrm>
            <a:off x="71280" y="4143240"/>
            <a:ext cx="901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e aspecto se observa un avance importante, con bancos de proyectos on-line y en algunos casos con información geo-referenciada de proyectos, así como el uso de TIC a los temas de adquisicione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s necesario profundizar en los resultados objetivos que ha generado este avance y cómo utilizar la información disponible para el mejoramiento de los procesos, sobretodo en la etapa de invers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3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Transparen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anda por mayores niveles de acceso por parte de la ciudadanía a la cartera de proyec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214200" y="4214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e ha avanzado en forma importante en este aspecto, con mayor nivel de información para la ciudadana y mayor disponibilidad de información sobre contratos y adjudicac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4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ipiente Articulación público –priv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había claridad en cómo hacerlo y si era conveniente o no llevarlo a cab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9 Gráfico" descr=""/>
          <p:cNvPicPr/>
          <p:nvPr/>
        </p:nvPicPr>
        <p:blipFill>
          <a:blip r:embed="rId5"/>
          <a:stretch/>
        </p:blipFill>
        <p:spPr>
          <a:xfrm>
            <a:off x="1779480" y="4108320"/>
            <a:ext cx="5724720" cy="2756160"/>
          </a:xfrm>
          <a:prstGeom prst="rect">
            <a:avLst/>
          </a:prstGeom>
          <a:ln w="0">
            <a:noFill/>
          </a:ln>
        </p:spPr>
      </p:pic>
      <p:sp>
        <p:nvSpPr>
          <p:cNvPr id="149" name="12 Rectángulo"/>
          <p:cNvSpPr/>
          <p:nvPr/>
        </p:nvSpPr>
        <p:spPr>
          <a:xfrm>
            <a:off x="1928880" y="371484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ordinación de  la inversión pública y la privad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12 Rectángulo"/>
          <p:cNvSpPr/>
          <p:nvPr/>
        </p:nvSpPr>
        <p:spPr>
          <a:xfrm>
            <a:off x="71280" y="1071720"/>
            <a:ext cx="87868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eficiente Articulación Intersectorial e interinstitu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observaban dificultades expresadas en duplicaciones que implican ineficiencias y tensiones debido a las competencias entre los organismos y la fragmentación de la inform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10 Gráfico" descr=""/>
          <p:cNvPicPr/>
          <p:nvPr/>
        </p:nvPicPr>
        <p:blipFill>
          <a:blip r:embed="rId5"/>
          <a:stretch/>
        </p:blipFill>
        <p:spPr>
          <a:xfrm>
            <a:off x="2419200" y="4280040"/>
            <a:ext cx="5445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12 Rectángulo"/>
          <p:cNvSpPr/>
          <p:nvPr/>
        </p:nvSpPr>
        <p:spPr>
          <a:xfrm>
            <a:off x="7128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la inversión pública sometida a análisis técnico – económico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21420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 Gráfico" descr=""/>
          <p:cNvPicPr/>
          <p:nvPr/>
        </p:nvPicPr>
        <p:blipFill>
          <a:blip r:embed="rId5"/>
          <a:stretch/>
        </p:blipFill>
        <p:spPr>
          <a:xfrm>
            <a:off x="2139840" y="335268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12 Rectángulo"/>
          <p:cNvSpPr/>
          <p:nvPr/>
        </p:nvSpPr>
        <p:spPr>
          <a:xfrm>
            <a:off x="14292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Ejecución de  la inversión públic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4 Gráfico" descr=""/>
          <p:cNvPicPr/>
          <p:nvPr/>
        </p:nvPicPr>
        <p:blipFill>
          <a:blip r:embed="rId5"/>
          <a:stretch/>
        </p:blipFill>
        <p:spPr>
          <a:xfrm>
            <a:off x="2279520" y="313992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72" name="10 CuadroTexto"/>
          <p:cNvSpPr/>
          <p:nvPr/>
        </p:nvSpPr>
        <p:spPr>
          <a:xfrm>
            <a:off x="5429160" y="51436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7128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12 Rectángulo"/>
          <p:cNvSpPr/>
          <p:nvPr/>
        </p:nvSpPr>
        <p:spPr>
          <a:xfrm>
            <a:off x="357120" y="17859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es Sistemas Nacionales de Inversión Pública (SNIP) datan 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70s: un grupo de países inició sus esfuerzos, a través de la creación de sistemas nacionales de proyect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80s: otro grupo a partir de la implementación bancos de proyectos, los cuales fueron concebidos como sistemas de inform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12 Rectángulo"/>
          <p:cNvSpPr/>
          <p:nvPr/>
        </p:nvSpPr>
        <p:spPr>
          <a:xfrm>
            <a:off x="71280" y="1285920"/>
            <a:ext cx="87868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ACE UNA DÉ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odían observar cuatro grupos de países en función del grado de desarrollo de sus  SNI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proceso de diseñ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gentina y Méx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cientemente implementad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uatemala, Nicaragua y Per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funcionamiento, pero aún en desarroll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nduras, Panamá y República Domi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 experiencia más avanzada y mayor 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lombia, Chile y Costa R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12 Rectángulo"/>
          <p:cNvSpPr/>
          <p:nvPr/>
        </p:nvSpPr>
        <p:spPr>
          <a:xfrm>
            <a:off x="71280" y="1285920"/>
            <a:ext cx="87868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dad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l estado de los SNIP en Latinoamérica es aun heterogéne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gún las condiciones propias de sus desarrollos podrían establecerse en tres estados principa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-profundizació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-aju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12 Rectángulo"/>
          <p:cNvSpPr/>
          <p:nvPr/>
        </p:nvSpPr>
        <p:spPr>
          <a:xfrm>
            <a:off x="71280" y="1285920"/>
            <a:ext cx="87868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izado por el abandono parcial en algún momento de los SN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abandono estuvo generalmente asociado a una etapa de desperfilamiento de la planificación y enfoques de disminución de la participación del Esta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intentando recuperar los SNIP: República Dominicana, Ecuado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2 Rectángulo"/>
          <p:cNvSpPr/>
          <p:nvPr/>
        </p:nvSpPr>
        <p:spPr>
          <a:xfrm>
            <a:off x="71280" y="1285920"/>
            <a:ext cx="878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en búsqueda de consolidar sus sistemas. Se caracterizan p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polí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que propician la participación ciudada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iniciativas de seguimiento físico y financie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 iniciativas de evaluación ex post simp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enta con una estructura y normativa sólida (particularmente Per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programas de capacitación continuos a funcionarios públic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caso de Argentina es especialmente interesante respecto de los demás países, ya que es un país federal y esto incide en el manejo de los recursos destinados a inversió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12 Rectángulo"/>
          <p:cNvSpPr/>
          <p:nvPr/>
        </p:nvSpPr>
        <p:spPr>
          <a:xfrm>
            <a:off x="71280" y="1285920"/>
            <a:ext cx="87868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es el caso de Colombia y Ch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más antiguos y estables sistemas de la región, cuentan con SNIP consolidados y han ido incorporando nuevas tareas a los SN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so colombiano destaca por incorporar modalidades de descentralización en la asignación de recursos hasta el nivel local, además de tener un sistema de rendición de cuentas, y estar avanzando en temas de Transparenc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caso de Chile  destaca la evaluación ex – post de programas públicos y rendición de cuentas al Congres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12 Rectángulo"/>
          <p:cNvSpPr/>
          <p:nvPr/>
        </p:nvSpPr>
        <p:spPr>
          <a:xfrm>
            <a:off x="71280" y="1071720"/>
            <a:ext cx="878688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scasa articulación con prioridades nacionales y otros sectores complementarios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una instancia superior que observe la consistencia de los proyectos de inversión con el plan nacional y la eventual sinergia entre proyectos de distintos sector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214200" y="507204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00040" y="500076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i bien en general no existe una instancia superior que vele por la articulación con las prioridades nacionales, existen algunos intentos de evaluación de polít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12 Rectángulo"/>
          <p:cNvSpPr/>
          <p:nvPr/>
        </p:nvSpPr>
        <p:spPr>
          <a:xfrm>
            <a:off x="71280" y="1071720"/>
            <a:ext cx="8786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ciente dificultad de tener personal capacit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razón de un problema de remuneraciones y de alta rotación del pers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214200" y="442908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SNIP estudiados contemplan programas de capacitación y existe conciencia de su importancia como un proceso continuo para crear y mantener una masa crítica en el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27:09Z</dcterms:created>
  <dc:creator>Gina Rosales</dc:creator>
  <dc:description/>
  <dc:language>en-US</dc:language>
  <cp:lastModifiedBy>Leonel Medina Daza</cp:lastModifiedBy>
  <dcterms:modified xsi:type="dcterms:W3CDTF">2010-06-21T17:02:04Z</dcterms:modified>
  <cp:revision>365</cp:revision>
  <dc:subject/>
  <dc:title>Diapositiva 1</dc:title>
</cp:coreProperties>
</file>