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B05-B8DB-4C82-8725-8F88D332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25C-0611-48D4-9B31-14283589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560-4082-451A-804B-61B03040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3D5-0A17-4582-B4A1-10FE3822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1065-C918-4475-842E-EA99BE68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65C3-2114-4CE9-9FC9-05C136DB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45A0-F28B-4FE4-A050-6F6AD96F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7185-8DB5-4C2C-8DB3-B755D80A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F0AA-E963-4E95-8DEA-CDC70AB0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E0D1-AC12-409F-B67C-60F0905F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5FCA-56E3-4CB8-8F4D-07CDF2D9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3B3-9AE0-473E-9CA2-7D59BBF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B238-CF8E-4185-82BA-4C371377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F187-BE6F-41B8-918F-6001D4A9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468D-49D3-4E5A-956B-567984CD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98D9-42CB-42FF-88C1-F3443A2C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E094-115C-4C57-8066-554984F2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F61AC-7C19-403C-83E0-7232CBFC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BB5B-CEC9-40F5-8B81-449968FA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8F8B5-0F34-4631-AA8F-E6256B2B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0DB3-BAF3-450F-B4AE-37E12BA6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7713-CA72-4382-A68F-610457AE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9BC-8E2D-46C8-9D23-941FBEF9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0197E-793D-43D9-8491-D1046656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9A39-CFCA-43DC-B97E-02224AAA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E6E38-6672-4EFF-B551-42A733F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2D40-B123-48B0-9928-06964618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A119-8426-4FC8-9FB8-4C95AD35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C703-56C7-41A6-BD61-959A370E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6A5B-342B-4957-97BD-3ADDD19B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B42E6-70D1-49CC-B013-6AD7DF7D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99735-A5D3-444A-AFEC-63DDDCEB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2C9A-4AC0-4E48-AC0E-2E479B7E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EA0-A39E-443A-A32F-685A1471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538A-B799-4CB3-8B9B-4A4BA508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2EA66-3F84-49D0-A67A-48FDB266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3D000-5D7A-4AE2-B91F-05886CFE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1056C-73C8-4F04-A20D-3DD1903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A570A-283C-4876-9EF6-AE03345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5146-FDB8-43FD-9592-CB5A8194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81A5-487B-436B-9013-1D6A8138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298B3-8E04-4257-925D-B1B214F5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A983-01B5-4FB6-AC02-84400975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8B58A-612F-4271-89C6-243E10E9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D28-0CB3-4DF8-9A3B-E7487F2C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6D02F-B101-4344-8C92-4CF840A2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AB269-D2F6-4C6A-9B20-93B2B1A6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5EC4C-95E5-4BD2-A9E3-71801EF4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CA1DD-4097-4932-A6EA-18EEF72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46518-AEC9-4376-AA07-D0062FDE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6673F-EB46-4347-A2B8-EBCC8AC4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28FD0-EA54-4308-9535-7AFC9C5E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EF434-CE1B-40B4-9D77-079D3CE6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0F4E6-1830-4164-A068-A666ACCE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A64B3-4F79-491C-8146-ADAE961C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D69-F477-4B44-9F28-ED01370E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794B6-9343-4F41-9FBC-6D18D43A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733-232C-4469-B92E-FC3B4058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427-BA41-4F72-B389-BCF3148D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BE2-4155-49EA-AB90-608E9AFF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12169-D2F3-4E56-B9EB-90A5D952B0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A803C-9ECA-4774-85E0-76DAD887D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2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610740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253E4-9506-432B-BEAD-F3B10B362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68544-2543-4EFE-ACF7-19B30C4EC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7" name="Straight Connector 9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31B1B-833D-4F32-AE59-B7D6E8B298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7E699-5B56-4A86-844A-16599B6AD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42529-7E56-4C2D-8C7E-6C4D4E6129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BD918-CBB2-4AF1-A207-6CFE00B8C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9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0B095-D0C9-4C78-B365-D721A5B5F8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C1C97-0D83-4F92-9F76-EE3B4C838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cionalidad para el Sistema de Evaluación del Gobi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Eduardo Contreras – Juan Francisco Pache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oviembre de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" descr="LOGO DII bco"/>
          <p:cNvPicPr/>
          <p:nvPr/>
        </p:nvPicPr>
        <p:blipFill>
          <a:blip r:embed="rId1"/>
          <a:stretch/>
        </p:blipFill>
        <p:spPr>
          <a:xfrm>
            <a:off x="3125880" y="404640"/>
            <a:ext cx="2892240" cy="1082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9" descr=""/>
          <p:cNvPicPr/>
          <p:nvPr/>
        </p:nvPicPr>
        <p:blipFill>
          <a:blip r:embed="rId2"/>
          <a:stretch/>
        </p:blipFill>
        <p:spPr>
          <a:xfrm>
            <a:off x="6804000" y="163440"/>
            <a:ext cx="1305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tras experi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43120" y="150012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ew Public Management y Sistemas de Evalu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os modelos Neo Zelandés y Australiano, implicaron una fuerte descentralización (hacia unidades ejecutoras; Ministerios, etc) de la toma de decisiones y el manejo de recurs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Basado en la profesionalización de los gerentes públicos y su independencia de los cambios de gobier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compañado de incentivos (y des incentivos) por desempeño basados en evalua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chas evaluaciones son sobre los resultados, impactos, eficiencia, calidad y agregación de valor de las decisiones tomadas, incluyendo las decisione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Evaluación presupuestaria en tres países, Argentina, Australia y los Estados Unidos de Norteamérica”. Hernán Pablo Llosas. Departamento de Economía, Universidad Nacional de La Plata. 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eb :Government of Western Australia | Department of the Premier and Cabinet y del Department of Treasury and Fin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"MANAGEMENT DE LA INTERDEPENDENCIA GLOBAL…” Omar Guerrero. 2000. Revista Digital Universita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EW ZEALAND'S PUBLIC SECTOR FINANCIAL MANAGEMENT SYSTEM: FINANCIAL RESOURCE EROSION IN GOVERNMENT DEPARTMENTS”. Thesis for the degree of Ph.D. by Susan M. Newberry. University of Canterbury.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C86E3-5D27-4356-95BA-C426852D0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43120" y="142884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s Sistemas Nacionales de Inversión Pública pueden ser analizados desde la Teoría de Siste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 anterior permite identificar, a modo de </a:t>
            </a:r>
            <a:r>
              <a:rPr b="0" i="1" lang="es-CL" sz="2400" spc="-1" strike="noStrike">
                <a:solidFill>
                  <a:srgbClr val="000000"/>
                </a:solidFill>
                <a:latin typeface="Calibri"/>
              </a:rPr>
              <a:t>Check List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, funciones o subsistemas que pudiesen faltar o estar incompletos en nuestro S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e concluye que lo que tenemos desarrollado en Chile, son los subsistemas de “producción” y “apoyo” los cuales constituirían el sistema. Lo anterior implica que nuestro Sistema no está comple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CEPAL, Serie manuales N° 40: ““Los sistemas nacionales de inversión pública en Argentina, Brasil, México, Venezuela, y España como caso de referencia”,”. Edgar Ortegón y Juan Francisco Pacheco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EPAL, Serie manuales N° 34: “Los Sistemas nacionales de inversión pública en Centroamérica: marco teórico y análisis comparativo multivariado”. Edgar Ortegón y Juan Francisco Pacheco.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 organización sistémica”, en “Teorías organizacionales y administración”,  Dávila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Eficiencia de la Burocracia” Anthony Giddesns, Ed. Alianza Universitaría,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istemas complejos y gestión pública”, Mario Waissbluth. Documento de Trabajo de la Serie de Gestión. Departamento de Ingeniería Industrial de la Universidad de Chile. Febrero de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F5CC9-4C9F-4C8C-ACC5-9BF9D172D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: Un complemento al diagnós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A8FCA-7F5A-46EA-82A9-3F31E414B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4"/>
          <p:cNvGrpSpPr/>
          <p:nvPr/>
        </p:nvGrpSpPr>
        <p:grpSpPr>
          <a:xfrm>
            <a:off x="3219480" y="1643040"/>
            <a:ext cx="5638680" cy="4343400"/>
            <a:chOff x="3219480" y="1643040"/>
            <a:chExt cx="5638680" cy="4343400"/>
          </a:xfrm>
        </p:grpSpPr>
        <p:sp>
          <p:nvSpPr>
            <p:cNvPr id="261" name="AutoShape 20"/>
            <p:cNvSpPr/>
            <p:nvPr/>
          </p:nvSpPr>
          <p:spPr>
            <a:xfrm>
              <a:off x="3219480" y="1643040"/>
              <a:ext cx="563868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9"/>
            <p:cNvSpPr/>
            <p:nvPr/>
          </p:nvSpPr>
          <p:spPr>
            <a:xfrm>
              <a:off x="5048280" y="1985760"/>
              <a:ext cx="1904400" cy="114300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ganismos  Públicos  (Inversionista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8"/>
            <p:cNvSpPr/>
            <p:nvPr/>
          </p:nvSpPr>
          <p:spPr>
            <a:xfrm>
              <a:off x="5048280" y="312912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Geren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 Órgano Re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 el sistema y coordina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5048280" y="438624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dap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icipación ciudada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ategia y prospecti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mular y consensuar Visión de largo plazo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3371760" y="3129120"/>
              <a:ext cx="167616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Manteni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os de control, generación de leyes, norm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ción y reclutamiento de capital Humano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6952680" y="3129120"/>
              <a:ext cx="1752480" cy="125712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ro y Técn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21 Rectángulo"/>
          <p:cNvSpPr/>
          <p:nvPr/>
        </p:nvSpPr>
        <p:spPr>
          <a:xfrm>
            <a:off x="214200" y="2459160"/>
            <a:ext cx="300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sub-sistemas que operan actualmente están en color celeste. Sin embargo, los sub-sistemas amarillos no están comple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3 Elipse"/>
          <p:cNvSpPr/>
          <p:nvPr/>
        </p:nvSpPr>
        <p:spPr>
          <a:xfrm>
            <a:off x="6667560" y="5137200"/>
            <a:ext cx="2190600" cy="1219320"/>
          </a:xfrm>
          <a:prstGeom prst="ellips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4 CuadroTexto"/>
          <p:cNvSpPr/>
          <p:nvPr/>
        </p:nvSpPr>
        <p:spPr>
          <a:xfrm>
            <a:off x="7215120" y="557208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o es hoy el “Sistem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16 Conector recto de flecha"/>
          <p:cNvCxnSpPr/>
          <p:nvPr/>
        </p:nvCxnSpPr>
        <p:spPr>
          <a:xfrm flipV="1">
            <a:off x="7643880" y="4145040"/>
            <a:ext cx="2160" cy="99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ecesidad de UN organismo r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eparación de funciones: Formulación, evaluación, ex ante, financiamiento, ejecución, evaluación ex post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(además de fuentes revisadas: proyecto de Mario Drag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n términos institucionales: independencia de las instituciones : administradora del sistema de evaluación, asignadora de fondos, ejecutoras, y elaboradores de normas y ley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1B76E-99D7-43B5-BDDD-B865169E5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rofesionalización e independencia respecto a vaivenes políticos al menos en el rol de Dirección del SNIP y su equipo de analistas de nivel central y regiones. Mediante el sistema de AD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25C01-8057-4AF2-B354-651A2A867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333D4-7D42-462C-B03E-5CCF0CE27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"/>
          <p:cNvGrpSpPr/>
          <p:nvPr/>
        </p:nvGrpSpPr>
        <p:grpSpPr>
          <a:xfrm>
            <a:off x="0" y="2400480"/>
            <a:ext cx="8981640" cy="3314520"/>
            <a:chOff x="0" y="2400480"/>
            <a:chExt cx="8981640" cy="3314520"/>
          </a:xfrm>
        </p:grpSpPr>
        <p:sp>
          <p:nvSpPr>
            <p:cNvPr id="280" name="Text Box 3"/>
            <p:cNvSpPr/>
            <p:nvPr/>
          </p:nvSpPr>
          <p:spPr>
            <a:xfrm>
              <a:off x="3228840" y="2400480"/>
              <a:ext cx="2371680" cy="4953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Agenci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"/>
            <p:cNvSpPr/>
            <p:nvPr/>
          </p:nvSpPr>
          <p:spPr>
            <a:xfrm>
              <a:off x="4390920" y="3314880"/>
              <a:ext cx="1162080" cy="5997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7819920" y="3314880"/>
              <a:ext cx="1161720" cy="24001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222876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 Dirección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352404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9"/>
            <p:cNvSpPr/>
            <p:nvPr/>
          </p:nvSpPr>
          <p:spPr>
            <a:xfrm>
              <a:off x="4848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6153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>
              <a:off x="142848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2"/>
            <p:cNvSpPr/>
            <p:nvPr/>
          </p:nvSpPr>
          <p:spPr>
            <a:xfrm>
              <a:off x="2790720" y="331488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3"/>
            <p:cNvSpPr/>
            <p:nvPr/>
          </p:nvSpPr>
          <p:spPr>
            <a:xfrm>
              <a:off x="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4"/>
          <p:cNvSpPr/>
          <p:nvPr/>
        </p:nvSpPr>
        <p:spPr>
          <a:xfrm>
            <a:off x="3929040" y="16225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295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296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8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9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0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1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03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04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05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06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08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42 Rectángulo"/>
          <p:cNvSpPr/>
          <p:nvPr/>
        </p:nvSpPr>
        <p:spPr>
          <a:xfrm>
            <a:off x="2714760" y="3309840"/>
            <a:ext cx="1533240" cy="59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31"/>
          <p:cNvCxnSpPr>
            <a:endCxn id="291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17" name="Text Box 17"/>
          <p:cNvSpPr/>
          <p:nvPr/>
        </p:nvSpPr>
        <p:spPr>
          <a:xfrm>
            <a:off x="14292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31"/>
          <p:cNvCxnSpPr/>
          <p:nvPr/>
        </p:nvCxnSpPr>
        <p:spPr>
          <a:xfrm>
            <a:off x="427680" y="1928520"/>
            <a:ext cx="1080" cy="1360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19" name="AutoShape 31"/>
          <p:cNvCxnSpPr/>
          <p:nvPr/>
        </p:nvCxnSpPr>
        <p:spPr>
          <a:xfrm flipH="1">
            <a:off x="580680" y="1643040"/>
            <a:ext cx="3348720" cy="1666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20" name="AutoShape 28"/>
          <p:cNvCxnSpPr/>
          <p:nvPr/>
        </p:nvCxnSpPr>
        <p:spPr>
          <a:xfrm>
            <a:off x="1214280" y="1714680"/>
            <a:ext cx="250128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21" name="AutoShape 32"/>
          <p:cNvCxnSpPr>
            <a:stCxn id="290" idx="2"/>
            <a:endCxn id="280" idx="0"/>
          </p:cNvCxnSpPr>
          <p:nvPr/>
        </p:nvCxnSpPr>
        <p:spPr>
          <a:xfrm>
            <a:off x="4405320" y="1928880"/>
            <a:ext cx="10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49 Rectángulo"/>
          <p:cNvSpPr/>
          <p:nvPr/>
        </p:nvSpPr>
        <p:spPr>
          <a:xfrm>
            <a:off x="2933640" y="1928880"/>
            <a:ext cx="3067200" cy="89532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D6EB3-30A8-445F-9050-AEC3BA760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0" y="2286000"/>
            <a:ext cx="8981640" cy="3428640"/>
            <a:chOff x="0" y="2286000"/>
            <a:chExt cx="8981640" cy="3428640"/>
          </a:xfrm>
        </p:grpSpPr>
        <p:sp>
          <p:nvSpPr>
            <p:cNvPr id="329" name="Text Box 3"/>
            <p:cNvSpPr/>
            <p:nvPr/>
          </p:nvSpPr>
          <p:spPr>
            <a:xfrm>
              <a:off x="3214800" y="2286000"/>
              <a:ext cx="2371680" cy="4953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secretarí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4390920" y="3314520"/>
              <a:ext cx="116208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visió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"/>
            <p:cNvSpPr/>
            <p:nvPr/>
          </p:nvSpPr>
          <p:spPr>
            <a:xfrm>
              <a:off x="7819920" y="3314520"/>
              <a:ext cx="1161720" cy="2400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7"/>
            <p:cNvSpPr/>
            <p:nvPr/>
          </p:nvSpPr>
          <p:spPr>
            <a:xfrm>
              <a:off x="222876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"/>
            <p:cNvSpPr/>
            <p:nvPr/>
          </p:nvSpPr>
          <p:spPr>
            <a:xfrm>
              <a:off x="352404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9"/>
            <p:cNvSpPr/>
            <p:nvPr/>
          </p:nvSpPr>
          <p:spPr>
            <a:xfrm>
              <a:off x="4848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6153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142848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2"/>
            <p:cNvSpPr/>
            <p:nvPr/>
          </p:nvSpPr>
          <p:spPr>
            <a:xfrm>
              <a:off x="2790720" y="331452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3"/>
            <p:cNvSpPr/>
            <p:nvPr/>
          </p:nvSpPr>
          <p:spPr>
            <a:xfrm>
              <a:off x="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14"/>
          <p:cNvSpPr/>
          <p:nvPr/>
        </p:nvSpPr>
        <p:spPr>
          <a:xfrm>
            <a:off x="3929040" y="15001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344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345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6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7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8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9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0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1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52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53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54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55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57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42 Rectángulo"/>
          <p:cNvSpPr/>
          <p:nvPr/>
        </p:nvSpPr>
        <p:spPr>
          <a:xfrm>
            <a:off x="2714760" y="3357720"/>
            <a:ext cx="153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.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31"/>
          <p:cNvCxnSpPr>
            <a:endCxn id="340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66" name="AutoShape 32"/>
          <p:cNvCxnSpPr>
            <a:stCxn id="339" idx="2"/>
            <a:endCxn id="329" idx="0"/>
          </p:cNvCxnSpPr>
          <p:nvPr/>
        </p:nvCxnSpPr>
        <p:spPr>
          <a:xfrm flipH="1">
            <a:off x="4399920" y="1806480"/>
            <a:ext cx="54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55 Rectángulo"/>
          <p:cNvSpPr/>
          <p:nvPr/>
        </p:nvSpPr>
        <p:spPr>
          <a:xfrm>
            <a:off x="3174840" y="2000160"/>
            <a:ext cx="123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10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Ventajas y Desventajas de las altern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D1EB7-918A-410D-A675-FC1F9BD89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552960" y="1928880"/>
            <a:ext cx="8370000" cy="4000320"/>
            <a:chOff x="552960" y="1928880"/>
            <a:chExt cx="8370000" cy="4000320"/>
          </a:xfrm>
        </p:grpSpPr>
        <p:sp>
          <p:nvSpPr>
            <p:cNvPr id="374" name="AutoShape 3"/>
            <p:cNvSpPr/>
            <p:nvPr/>
          </p:nvSpPr>
          <p:spPr>
            <a:xfrm>
              <a:off x="1071720" y="1928880"/>
              <a:ext cx="6095880" cy="40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"/>
            <p:cNvSpPr/>
            <p:nvPr/>
          </p:nvSpPr>
          <p:spPr>
            <a:xfrm>
              <a:off x="1819440" y="2611440"/>
              <a:ext cx="164880" cy="29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104" h="1844">
                  <a:moveTo>
                    <a:pt x="34" y="1844"/>
                  </a:moveTo>
                  <a:lnTo>
                    <a:pt x="35" y="81"/>
                  </a:lnTo>
                  <a:lnTo>
                    <a:pt x="70" y="81"/>
                  </a:lnTo>
                  <a:lnTo>
                    <a:pt x="68" y="1844"/>
                  </a:lnTo>
                  <a:lnTo>
                    <a:pt x="34" y="1844"/>
                  </a:lnTo>
                  <a:close/>
                  <a:moveTo>
                    <a:pt x="0" y="97"/>
                  </a:moveTo>
                  <a:lnTo>
                    <a:pt x="52" y="0"/>
                  </a:lnTo>
                  <a:lnTo>
                    <a:pt x="104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"/>
            <p:cNvSpPr/>
            <p:nvPr/>
          </p:nvSpPr>
          <p:spPr>
            <a:xfrm>
              <a:off x="1900440" y="5465880"/>
              <a:ext cx="4470120" cy="155520"/>
            </a:xfrm>
            <a:custGeom>
              <a:avLst/>
              <a:gdLst>
                <a:gd name="textAreaLeft" fmla="*/ 0 w 4470120"/>
                <a:gd name="textAreaRight" fmla="*/ 4470480 w 447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816" h="98">
                  <a:moveTo>
                    <a:pt x="0" y="31"/>
                  </a:moveTo>
                  <a:lnTo>
                    <a:pt x="2729" y="32"/>
                  </a:lnTo>
                  <a:lnTo>
                    <a:pt x="2729" y="65"/>
                  </a:lnTo>
                  <a:lnTo>
                    <a:pt x="0" y="64"/>
                  </a:lnTo>
                  <a:lnTo>
                    <a:pt x="0" y="31"/>
                  </a:lnTo>
                  <a:close/>
                  <a:moveTo>
                    <a:pt x="2712" y="0"/>
                  </a:moveTo>
                  <a:lnTo>
                    <a:pt x="2816" y="49"/>
                  </a:lnTo>
                  <a:lnTo>
                    <a:pt x="2712" y="98"/>
                  </a:lnTo>
                  <a:lnTo>
                    <a:pt x="271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7"/>
            <p:cNvSpPr/>
            <p:nvPr/>
          </p:nvSpPr>
          <p:spPr>
            <a:xfrm>
              <a:off x="552960" y="2922480"/>
              <a:ext cx="1155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Respaldo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"/>
            <p:cNvSpPr/>
            <p:nvPr/>
          </p:nvSpPr>
          <p:spPr>
            <a:xfrm>
              <a:off x="562320" y="327960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Polític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4535280" y="5637240"/>
              <a:ext cx="1792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Independenc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6"/>
            <p:cNvSpPr/>
            <p:nvPr/>
          </p:nvSpPr>
          <p:spPr>
            <a:xfrm>
              <a:off x="4772520" y="4714920"/>
              <a:ext cx="4150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Alternativa 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TheSansCorrespondence"/>
                </a:rPr>
                <a:t>Riesgo:  Tecnócratas “Bypaseados”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16"/>
          <p:cNvSpPr/>
          <p:nvPr/>
        </p:nvSpPr>
        <p:spPr>
          <a:xfrm>
            <a:off x="2138040" y="2622600"/>
            <a:ext cx="35380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heSansCorrespondence"/>
              </a:rPr>
              <a:t>Alternativa 2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Riesgo: Pérdidas de efici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por presion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66 Flecha derecha"/>
          <p:cNvSpPr/>
          <p:nvPr/>
        </p:nvSpPr>
        <p:spPr>
          <a:xfrm>
            <a:off x="4143240" y="2611440"/>
            <a:ext cx="1928880" cy="311040"/>
          </a:xfrm>
          <a:prstGeom prst="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67 Flecha abajo"/>
          <p:cNvSpPr/>
          <p:nvPr/>
        </p:nvSpPr>
        <p:spPr>
          <a:xfrm rot="10800000">
            <a:off x="6553080" y="3449520"/>
            <a:ext cx="395280" cy="1122480"/>
          </a:xfrm>
          <a:prstGeom prst="down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68 CuadroTexto"/>
          <p:cNvSpPr/>
          <p:nvPr/>
        </p:nvSpPr>
        <p:spPr>
          <a:xfrm>
            <a:off x="6286680" y="1857240"/>
            <a:ext cx="207144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iderazgo del Director de la Agencia o Subsecr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ós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ras experiencias y revisión de la 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álisis de la economía política del probl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BEE93-9ADF-4C3B-A3F3-87F928D5A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roducción: Algunas cifras de Inversión Púb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BC47C-2502-4188-99C5-6B2C4AB30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428920"/>
          <a:ext cx="6615000" cy="3352680"/>
        </p:xfrm>
        <a:graphic>
          <a:graphicData uri="http://schemas.openxmlformats.org/drawingml/2006/table">
            <a:tbl>
              <a:tblPr/>
              <a:tblGrid>
                <a:gridCol w="438120"/>
                <a:gridCol w="1835280"/>
                <a:gridCol w="3046320"/>
                <a:gridCol w="1295280"/>
              </a:tblGrid>
              <a:tr h="42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cipales agregados macroeconómicos, a precios corri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illones de pesos de cada añ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 gridSpan="3"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ción bruta de capital fijo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307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45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077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05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622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39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7 CuadroTexto"/>
          <p:cNvSpPr/>
          <p:nvPr/>
        </p:nvSpPr>
        <p:spPr>
          <a:xfrm>
            <a:off x="6215040" y="3929040"/>
            <a:ext cx="264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versión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un 15% y un 20% de la inversión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43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) Las metodologías de evaluación socioeconómica. Actualmente 27 metodologías para distintos sect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) Los programas de capacitación de RRHH. Tanto los desarrollados internamente como los externalizados (históricamente con la P.U.C., Cepal-Ilpes y hoy con la U. de Chi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) El Banco Integrado de Proyectos (BIP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) Precios soc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3A045-FC8B-4268-84C3-A8F121A86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42760" y="1500120"/>
            <a:ext cx="330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articipación de la amplia gama de instituciones públ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unqu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 nivel comunal, las iniciativas 100% financiadas por los municipios no ingresan al S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rte de las iniciativas de inversión ya no se analizan en Mide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18B41-6715-45CC-8F0C-FCA4D51AA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753080" y="1571760"/>
            <a:ext cx="3819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nsformación de ODEPLAN en Ministerio en 1990: debilitó considerablemente la gestión por parte del Departamento de Inversiones, en parte por la nueva estructura de relaciones entre dicho Departamento y sus contrapartes que son las unidades ejecutoras de proyectos, y en parte por la falta de recursos que permitieran mantener el nivel de excelencia de la fun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lo anterior: Rotación y fuga de profesionales especializados (lo contrario de lo recomendado por la escuela de NPM: Australia, Nueva Zelandia). Pérdida de “peso” de los analistas sectoriales (en términos relativos a sus contrapar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5308B-3C95-4BB9-894B-572886B63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3200" y="1428840"/>
            <a:ext cx="44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mejorar la conformación de cartera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r análisis de coherencia de los proyectos con las estrategias sectoriales e intersectoriales, en los casos en que dichas estrategias existan. Más allá del actual sistema de análisis proyecto a proy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establecer mecanismos formales que posibiliten la complementación de la inversión pública con la priv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43381-8599-43F9-A7FC-22FE75E48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438800" y="1609560"/>
            <a:ext cx="4705200" cy="5248440"/>
          </a:xfrm>
          <a:prstGeom prst="rect">
            <a:avLst/>
          </a:prstGeom>
          <a:ln w="0">
            <a:noFill/>
          </a:ln>
        </p:spPr>
      </p:pic>
      <p:sp>
        <p:nvSpPr>
          <p:cNvPr id="242" name="6 Flecha derecha"/>
          <p:cNvSpPr/>
          <p:nvPr/>
        </p:nvSpPr>
        <p:spPr>
          <a:xfrm>
            <a:off x="4214880" y="2286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7 Rectángulo"/>
          <p:cNvSpPr/>
          <p:nvPr/>
        </p:nvSpPr>
        <p:spPr>
          <a:xfrm>
            <a:off x="2882160" y="2570040"/>
            <a:ext cx="273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MERCURIO: 19 DE ENERO DE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incorporar mecanismos más efectivos de participación ciudad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 la desconcentración de las funciones de revisión y recomendación de proyec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ambios tecnológic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criterios de equidad social y territorial (y otros criterios) en la formulación, priorización (post evaluación) y otras etapas del ciclo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la valoración económica de impactos ambientales en las evaluacione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5B9FD-ECE8-4E3A-9A21-EE537B697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Mejoramiento de sistemas y métodos de selección, capacitación y sistemas de incentivos para los recursos human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mplementación de un sistema de evaluación ex post (a abordar en el proyecto de Agencia de la Calidad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herramientas de análisis de riesgo en la evaluación de proyectos y progra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entralización de la evaluación ex ante de proyectos, estudios y programas (hoy separado entre Mideplan y Dipr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l análisis de concesiones dentro del S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6CFDC-D6AE-4BA1-A72F-03713DC47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0:20:56Z</dcterms:created>
  <dc:creator>Claudio Seebach</dc:creator>
  <dc:description/>
  <dc:language>en-US</dc:language>
  <cp:lastModifiedBy>Leonel Medina Daza</cp:lastModifiedBy>
  <cp:lastPrinted>2009-01-09T13:40:27Z</cp:lastPrinted>
  <dcterms:modified xsi:type="dcterms:W3CDTF">2010-06-21T17:01:14Z</dcterms:modified>
  <cp:revision>343</cp:revision>
  <dc:subject/>
  <dc:title>Slide 1</dc:title>
</cp:coreProperties>
</file>