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958-AB3F-4BE2-BFBA-3D40275C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F29-89E3-4FF4-B136-207F343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B5B-132D-40E8-AF4A-05A48FE2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EE9-28DB-49AE-B4FF-24C8CD89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7C6-FC20-4EF2-B368-884A7B72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27A-A27B-43EE-9A2D-5DB30E4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D871-1A56-49A1-BE82-EFCFD31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72B-5719-4DD2-B2DE-AD2EC2A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B7D8-2C8F-430E-923A-993916F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E930-1A66-4DCE-8002-BB4AC6B3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9548-47C8-4959-98CE-A584ED8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7DF-9034-417D-B501-D2E4D88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F933-BB5E-4FCF-94C3-AC70CBE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D40F-8EF1-4537-8FFA-BE45D24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4B6A-CBB1-4696-A271-A2DACCB4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03B8-AE91-49CE-AC32-9EABD8AE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7FB1-A2DC-48BE-96D5-8BEADB1F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7B6-9F65-4CB8-8333-2C780BF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556-D863-4CA7-90DF-E1BFF878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4CF-239E-47CA-8C7A-1C7C03C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CE9-BC8A-46B1-AF2D-7D845DF4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C43-165F-4230-BB53-97F86148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0DB-AEB8-42AA-ADD2-CC94FEB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8EE-27C4-478E-9CBC-2DC8A2B4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6834240"/>
                  <a:gd name="textAreaBottom" fmla="*/ 6834600 h 6834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4240"/>
                  <a:gd name="textAreaBottom" fmla="*/ 984600 h 9842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BFC1-E6C4-4790-9D1E-B2AEA82B35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B7E-52DE-400F-9702-0464580927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Estrategia Nacional de Desarrollo busca dar coherencia a las decisiones públicas y priv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esarroll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es un proceso complejo que busca producir y compatibiliz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es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tentabilidad Ambi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elemento fundamental de una E. de D. es contar con reglas del juego estable ==&gt; Establecer consensos y generar Políticas de Estado que tengan mayor legitimidad soci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" descr="LOGO DII bco"/>
          <p:cNvPicPr/>
          <p:nvPr/>
        </p:nvPicPr>
        <p:blipFill>
          <a:blip r:embed="rId1"/>
          <a:stretch/>
        </p:blipFill>
        <p:spPr>
          <a:xfrm>
            <a:off x="755640" y="0"/>
            <a:ext cx="2376360" cy="5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9" descr=""/>
          <p:cNvPicPr/>
          <p:nvPr/>
        </p:nvPicPr>
        <p:blipFill>
          <a:blip r:embed="rId2"/>
          <a:stretch/>
        </p:blipFill>
        <p:spPr>
          <a:xfrm>
            <a:off x="8028000" y="0"/>
            <a:ext cx="936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.N.I. es posible identificar tres estados sucesivos por los que pasan todos los proy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r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14400" y="1981080"/>
            <a:ext cx="11430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514600" y="1981080"/>
            <a:ext cx="106668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191120" y="1981080"/>
            <a:ext cx="20574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58000" y="1981080"/>
            <a:ext cx="18288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191120" y="3048120"/>
            <a:ext cx="22096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4191120" y="4114800"/>
            <a:ext cx="220968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191120" y="5257800"/>
            <a:ext cx="2286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057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657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7543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1814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181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6858000" y="3886200"/>
            <a:ext cx="190512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n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78487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335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CLO DE VID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40044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8"/>
          <p:cNvSpPr/>
          <p:nvPr/>
        </p:nvSpPr>
        <p:spPr>
          <a:xfrm>
            <a:off x="914400" y="6095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447920" y="6172200"/>
            <a:ext cx="7391160" cy="4572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ON EX -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>
            <a:off x="990720" y="9907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7437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IDEPLAN y a l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r o 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28"/>
          <p:cNvSpPr/>
          <p:nvPr/>
        </p:nvSpPr>
        <p:spPr>
          <a:xfrm>
            <a:off x="1905120" y="1447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29"/>
          <p:cNvSpPr/>
          <p:nvPr/>
        </p:nvSpPr>
        <p:spPr>
          <a:xfrm>
            <a:off x="1905120" y="2438280"/>
            <a:ext cx="2666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030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31"/>
          <p:cNvSpPr/>
          <p:nvPr/>
        </p:nvSpPr>
        <p:spPr>
          <a:xfrm>
            <a:off x="1905120" y="3733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032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3"/>
          <p:cNvSpPr/>
          <p:nvPr/>
        </p:nvSpPr>
        <p:spPr>
          <a:xfrm>
            <a:off x="2057400" y="4876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34"/>
          <p:cNvSpPr/>
          <p:nvPr/>
        </p:nvSpPr>
        <p:spPr>
          <a:xfrm>
            <a:off x="1981080" y="6019920"/>
            <a:ext cx="2743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41"/>
          <p:cNvSpPr/>
          <p:nvPr/>
        </p:nvSpPr>
        <p:spPr>
          <a:xfrm>
            <a:off x="3200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6"/>
          <p:cNvSpPr/>
          <p:nvPr/>
        </p:nvSpPr>
        <p:spPr>
          <a:xfrm>
            <a:off x="457200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7"/>
          <p:cNvSpPr/>
          <p:nvPr/>
        </p:nvSpPr>
        <p:spPr>
          <a:xfrm flipH="1">
            <a:off x="45720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48"/>
          <p:cNvSpPr/>
          <p:nvPr/>
        </p:nvSpPr>
        <p:spPr>
          <a:xfrm>
            <a:off x="3200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049"/>
          <p:cNvSpPr/>
          <p:nvPr/>
        </p:nvSpPr>
        <p:spPr>
          <a:xfrm>
            <a:off x="457200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50"/>
          <p:cNvSpPr/>
          <p:nvPr/>
        </p:nvSpPr>
        <p:spPr>
          <a:xfrm flipH="1">
            <a:off x="457164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51"/>
          <p:cNvSpPr/>
          <p:nvPr/>
        </p:nvSpPr>
        <p:spPr>
          <a:xfrm>
            <a:off x="3200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052"/>
          <p:cNvSpPr/>
          <p:nvPr/>
        </p:nvSpPr>
        <p:spPr>
          <a:xfrm>
            <a:off x="6248520" y="5257800"/>
            <a:ext cx="266688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54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55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61"/>
          <p:cNvSpPr/>
          <p:nvPr/>
        </p:nvSpPr>
        <p:spPr>
          <a:xfrm>
            <a:off x="1143000" y="1066680"/>
            <a:ext cx="77724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62"/>
          <p:cNvSpPr/>
          <p:nvPr/>
        </p:nvSpPr>
        <p:spPr>
          <a:xfrm>
            <a:off x="320040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63"/>
          <p:cNvSpPr/>
          <p:nvPr/>
        </p:nvSpPr>
        <p:spPr>
          <a:xfrm>
            <a:off x="4708440" y="21337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68"/>
          <p:cNvSpPr/>
          <p:nvPr/>
        </p:nvSpPr>
        <p:spPr>
          <a:xfrm>
            <a:off x="4707720" y="29829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69"/>
          <p:cNvSpPr/>
          <p:nvPr/>
        </p:nvSpPr>
        <p:spPr>
          <a:xfrm>
            <a:off x="2653200" y="32115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70"/>
          <p:cNvSpPr/>
          <p:nvPr/>
        </p:nvSpPr>
        <p:spPr>
          <a:xfrm>
            <a:off x="4594320" y="3581280"/>
            <a:ext cx="150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71"/>
          <p:cNvSpPr/>
          <p:nvPr/>
        </p:nvSpPr>
        <p:spPr>
          <a:xfrm>
            <a:off x="4556160" y="351648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licita Asig.Pres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72"/>
          <p:cNvSpPr/>
          <p:nvPr/>
        </p:nvSpPr>
        <p:spPr>
          <a:xfrm>
            <a:off x="4628160" y="427824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ig. Presupues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BSIST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ANALISIS TECNIC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FORMULA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EJECU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EVALUACION EX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28"/>
          <p:cNvSpPr/>
          <p:nvPr/>
        </p:nvSpPr>
        <p:spPr>
          <a:xfrm>
            <a:off x="1295280" y="1600200"/>
            <a:ext cx="76201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Estadísticas Básicas de Inversió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.E.B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orientar el proceso de asignación de recursos hacia aquellas oportunidades de inversión más re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990720" y="129528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ALES 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ción y revisión anual de normas y procedimientos para el ingreso y presentación de proyectos al S.N.I. (manual S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ón y análisis de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 desarrollada por las SERPLACs y Departamento de Inversiones de MID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ño de Metodologí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joramiento y actualización de las metodologías v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cción de metodologías específicas por tipo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29"/>
          <p:cNvSpPr/>
          <p:nvPr/>
        </p:nvSpPr>
        <p:spPr>
          <a:xfrm>
            <a:off x="1066680" y="11430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álculo y actualización de precios sociales, de manera que reflejen el verdadero valor para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DEPLAN calcula, estima y difun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a social de descue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de oportunidad del capit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po de camb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que le significa al país producir una divisa adicion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la mano de ob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sto marginal en que incurre la sociedad por emplear un trabajador más de cierta calificació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combusti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emp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idades realizadas por MIDEPL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el año 2006: Convenio con la U. Católic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Interamericano en Preparación y Evaluación de proyectos (CIA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s Regionales Intensivos (CIAPEP reg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nio con el Instituto Latinoamericano de Planificación Económica y Social (ILP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Regional de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de Administración y Control de Proyec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l año 2007: Cursos Básicos ejecutados directamente por Mide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7: Se licitan cada año Cursos Intermedios en todas las regiones: Convenios con Universidades reg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8: Diploma en Preparación y Evaluación Social de Proyectos. Convenios vía licitación. A la fecha el Departamento de Ingeniería Industrial de la Universidad de Chile se ha adjudicado las tres primeras ver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ones y orientaciones principales de la Estrategia Nacional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fundización y perfeccionamiento de la inserción internacional de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tor privado como motor del crecimiento productivo. El Estado asume un rol subsidiario y mantiene, sólo por excepción, áreas de 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sector privado debe desempeñar su rol en un ambiente competitivo (mercados externos e intern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do debe asumir y perfeccionar su rol regulador; por ejemplo, en mercados no competitivos, en aspectos ambientales y en áreas especiales (Sist. financiero, mercado laboral, entre ot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219320" y="121932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información computarizada de apoyo al S.N.I. , cuyos obje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r una base de datos de proyectos de inversión pública a nivel nacional, regional y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agregados y específicos de la invers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de Evaluación Ex – Post de loas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1066680" y="12193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361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asignar recursos financieros a los proyectos de interés sectorial, regional y de las Empresas del Estado que cuentan con la recomendación favorable de MIDE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es la institución responsable de formular el Presupuesto del Sector Público, la que finalmente se aprueba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de Presupuesto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mente (caso Empresas del es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219320" y="1447920"/>
            <a:ext cx="79246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.N.D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PRES prepara marco 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DERE prepara marco tentativo global para cad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es elaboran y presentan Proyecto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y distribuye en forma definitiva el marco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romulga la 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295280" y="182880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54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ENDARIO DE FORMULACION PRESUPUEST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447920" y="464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31240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6483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50292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5867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48006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61722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004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320040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8"/>
          <p:cNvSpPr/>
          <p:nvPr/>
        </p:nvSpPr>
        <p:spPr>
          <a:xfrm flipV="1">
            <a:off x="4876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44956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1"/>
          <p:cNvSpPr/>
          <p:nvPr/>
        </p:nvSpPr>
        <p:spPr>
          <a:xfrm flipV="1">
            <a:off x="57150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36576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2819520" y="598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MEN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. –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5"/>
          <p:cNvSpPr/>
          <p:nvPr/>
        </p:nvSpPr>
        <p:spPr>
          <a:xfrm>
            <a:off x="2895480" y="4724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1447920" y="4191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/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3260880" y="407988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355760" y="468936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46483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2362320" y="1793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8"/>
          <p:cNvSpPr/>
          <p:nvPr/>
        </p:nvSpPr>
        <p:spPr>
          <a:xfrm>
            <a:off x="4343400" y="5486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SO PRIORIZACION PROYECTOS F.N.D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EJECUCIO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tiene como función regular y supervisar la ejecución del gasto público; sin perjuicio de las atribuciones de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de ejecución financiera se ingresa en el B.I.P. , mientras que la información de avance físico se maneja en forma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143000" y="175248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EVALUACION EX - P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la fecha este sistema no ha sido aplicado en su totalidad, sólo se han evalu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iniciativas de inversión en forma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la eficiencia y eficacia de las iniciativas de inversión, mediante el control de su gestión y la medición de los resultados de corto, mediano y largo plazo que esa iniciativa tiene sobre la pobla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1295280" y="167652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jugar un rol promotor de la innovación y crecimiento productivo de la pequeña y median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promover la equidad (Igualdad de oportunidades y superación de la pob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tralización y desconcentración de la administración del  Estado, como parte de un proceso más global de modernización y democratización de la socie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posi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pobreza y la ind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en los indicador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libri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l comerci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 de capitales ex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143000" y="1371600"/>
            <a:ext cx="8001000" cy="0"/>
          </a:xfrm>
          <a:prstGeom prst="line">
            <a:avLst/>
          </a:prstGeom>
          <a:ln w="1260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desafí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tener el crecimiento acelerado en el mediano plazo: Más y mejor inversión, entre otros asp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gualdad de oportunidades y superación de la pobre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ducción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blemas ambi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éficit de infraestruc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Educación y la Sal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calidad de vida urbana y r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1066680" y="160020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tal para Chile generar más y mejores proyectos (ojalá sobren buenos proyectos para que la Autoridad dec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no se debe sobredimensionar la capacidad de la inversión pública para resolver problemas (representa aproximadamente entre un 16 - 18% de la inversión total del paí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 contexto donde los recursos son escasos es primordial asignarlos en forma eficiente, esto implica necesariamente formular y evaluar bien l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43000" y="1523880"/>
            <a:ext cx="800100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écnico-econó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 los mismos recursos se pueden resolver más necesidades y de mejor manera (“Eficiencia crea recurso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eficiencia pública legitima la acción del Gobierno y prestigia la democr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ineficiencia contribuye a mantener o profundizar la desigualdad de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EFICIENCIA EN UN PROYECTO ALGUIEN LA P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rentables para la socied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ún los lineamientos de la polític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ar por una eficiente asignación de recursos públicos, que son es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 a aumentar el bienestar general de la comunid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066680" y="9144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se basa en la asignación de recursos por proyectos específ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s que previ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n sido evaluados desde un punto de vista socioeconóm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abarca todo el proceso de inversión y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r ideas en proyectos de inversión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erenciar aquellos cuya realización se justifica de aquellos cuya ejecución no es recomendable, desde el punto de vista de bienestar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990720" y="12193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7:10:39Z</dcterms:created>
  <dc:creator>Inversiones</dc:creator>
  <dc:description/>
  <dc:language>en-US</dc:language>
  <cp:lastModifiedBy>Leonel Medina Daza</cp:lastModifiedBy>
  <dcterms:modified xsi:type="dcterms:W3CDTF">2010-06-21T17:03:03Z</dcterms:modified>
  <cp:revision>25</cp:revision>
  <dc:subject/>
  <dc:title>SISTEMA NACIONAL DE INVERSION PUBLICA</dc:title>
</cp:coreProperties>
</file>