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ECDE-90AD-4BB4-AF4D-8CEB23E63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D91A-47A8-4A37-92D7-23659010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321E-8103-43C1-94A1-A39AE1A43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732C-299B-41B1-A78F-F9EEE6B18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A924-8652-43FA-B42A-29A2D93ED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DE48-5489-4671-A2A0-BA2E7D10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54CB5-33BF-4F26-B15B-49773AD5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A94FF-7E03-43AC-BCBA-FA4A3AAA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E8F7-1439-4776-B531-001E3951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E6EF-9EB0-4FE9-B5B2-D363CA1D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12479-F12E-45EF-A678-5273958A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F14B-9F5B-4F10-A056-E896D36C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F224-6538-4AE6-BAE3-57728E53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14035-A0AE-4E05-8ADC-33403A74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4E554-3C8F-4E30-A476-AD21995F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CA11-8291-4445-80ED-0F6FD385F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71061-874D-4113-9468-5A2CB85F7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F3C8B-3C71-4C39-A01D-81F189BC8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E3D33-BABD-4DC5-B06D-3159D99C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27C49-FF93-4C08-A63F-E582F84A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D959C-06FD-444E-B6D0-4DA39731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0EC84-53E5-4AB1-91CF-9D16FA1B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C44D-A921-4FB4-BB44-61C707AA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865B1-D129-496B-BB0A-AC73719F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E934D-9ED0-41D9-84E2-455F9E47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65DC8-5F13-4475-B952-6CED970E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239F5-4C0F-459E-8951-F1A60DAC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8E7F3-DADB-4EB1-AA79-EDAAC278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DCE65-71B6-4928-A68A-14C9EF9F9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5753E-C2B4-499A-B4DC-158D444FE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9E420-6A3B-4BC7-B4BE-84C502D4E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8901E-70C0-45F6-A1AA-81358804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E6FC6-8362-4280-8B87-F1D28284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789B-00AB-488E-BC1D-820DF472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DF095-0080-4743-988B-B5649B69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9B99C-6E03-40B1-AAC3-FB936FE7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ED016-078F-4B8A-BD0A-29BBDFCB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3AFD0-F64D-439F-99F3-74D0A2EC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28BEB-A01C-4B97-88A7-A5EEE3CC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789A9-ED7B-4C9D-AAF9-3CF0BA9F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C24E6-10B5-46E5-9E6B-7887ACC8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DAE19-D1D0-4E51-8614-0FDFD6AEE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38744-FE93-4BBC-A7E6-368206AFD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BCB8E-58E6-41BF-AD5F-509F70DFC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01DD-6D82-4024-92DC-4FBB16BE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59751-9208-4082-9D1F-EE72789A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77E67-6CF3-4243-9D26-33D8F0F3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539BB-7458-4BF0-AA9B-B8911659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F5EC4-34F8-45FD-A771-828D664C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D0540-961D-4171-AA1C-EAB6B3B7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37B93-C301-4BC9-9DF3-619C051B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6FE5C-F45F-4635-8A23-E6CDD273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71998-D7E9-47B7-88C0-2762F30C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56196-3CDE-40D6-A6D3-E523BC52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18211-552B-4A8F-82A1-8510491E4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1E23-D48B-4A8F-8042-AA8C6B3E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71A44-A6A0-4DE4-BBE3-6BC127D7C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087D-EC26-4754-9985-85489A99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D9CB-300E-47EA-B05C-DBB4F65B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884B-EC32-4A3A-96E1-6C36DAB8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1B2B9B-B133-4A09-BD27-D92F800887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53A656-A5EF-478E-8C02-9BFD20ECA4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CREcolorhorizontal.jpg"/>
          <p:cNvPicPr/>
          <p:nvPr/>
        </p:nvPicPr>
        <p:blipFill>
          <a:blip r:embed="rId2"/>
          <a:stretch/>
        </p:blipFill>
        <p:spPr>
          <a:xfrm>
            <a:off x="425520" y="6019920"/>
            <a:ext cx="2165400" cy="67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Object 2" descr=""/>
          <p:cNvPicPr/>
          <p:nvPr/>
        </p:nvPicPr>
        <p:blipFill>
          <a:blip r:embed="rId2"/>
          <a:stretch/>
        </p:blipFill>
        <p:spPr>
          <a:xfrm>
            <a:off x="1523880" y="228600"/>
            <a:ext cx="6107400" cy="1905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205997-54A2-4E48-A51C-387EE0C0B7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94C316-EBE2-468B-9FF5-21B0FE2905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CREcolorhorizontal.jpg"/>
          <p:cNvPicPr/>
          <p:nvPr/>
        </p:nvPicPr>
        <p:blipFill>
          <a:blip r:embed="rId2"/>
          <a:stretch/>
        </p:blipFill>
        <p:spPr>
          <a:xfrm>
            <a:off x="425520" y="6019920"/>
            <a:ext cx="2165400" cy="679320"/>
          </a:xfrm>
          <a:prstGeom prst="rect">
            <a:avLst/>
          </a:prstGeom>
          <a:ln w="0">
            <a:noFill/>
          </a:ln>
        </p:spPr>
      </p:pic>
      <p:sp>
        <p:nvSpPr>
          <p:cNvPr id="85" name="Straight Connector 7"/>
          <p:cNvSpPr/>
          <p:nvPr/>
        </p:nvSpPr>
        <p:spPr>
          <a:xfrm>
            <a:off x="457200" y="1495440"/>
            <a:ext cx="822960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CREcolorhorizontal.jpg"/>
          <p:cNvPicPr/>
          <p:nvPr/>
        </p:nvPicPr>
        <p:blipFill>
          <a:blip r:embed="rId3"/>
          <a:stretch/>
        </p:blipFill>
        <p:spPr>
          <a:xfrm>
            <a:off x="425520" y="6019920"/>
            <a:ext cx="2165400" cy="679320"/>
          </a:xfrm>
          <a:prstGeom prst="rect">
            <a:avLst/>
          </a:prstGeom>
          <a:ln w="0">
            <a:noFill/>
          </a:ln>
        </p:spPr>
      </p:pic>
      <p:sp>
        <p:nvSpPr>
          <p:cNvPr id="87" name="Straight Connector 9"/>
          <p:cNvSpPr/>
          <p:nvPr/>
        </p:nvSpPr>
        <p:spPr>
          <a:xfrm>
            <a:off x="457200" y="1495440"/>
            <a:ext cx="822960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EBD81F-D717-453A-AB3F-64726A1902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C44CB8-E93D-48A8-BB50-9410B5935C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CREcolorhorizontal.jpg"/>
          <p:cNvPicPr/>
          <p:nvPr/>
        </p:nvPicPr>
        <p:blipFill>
          <a:blip r:embed="rId2"/>
          <a:stretch/>
        </p:blipFill>
        <p:spPr>
          <a:xfrm>
            <a:off x="425520" y="6019920"/>
            <a:ext cx="2165400" cy="679320"/>
          </a:xfrm>
          <a:prstGeom prst="rect">
            <a:avLst/>
          </a:prstGeom>
          <a:ln w="0">
            <a:noFill/>
          </a:ln>
        </p:spPr>
      </p:pic>
      <p:sp>
        <p:nvSpPr>
          <p:cNvPr id="130" name="Straight Connector 7"/>
          <p:cNvSpPr/>
          <p:nvPr/>
        </p:nvSpPr>
        <p:spPr>
          <a:xfrm>
            <a:off x="566640" y="1481040"/>
            <a:ext cx="8001000" cy="1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0F415B-28B4-4091-82FE-42F264BF2B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1B0D3E-4521-493B-AABC-808B497A1E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CREcolorhorizontal.jpg"/>
          <p:cNvPicPr/>
          <p:nvPr/>
        </p:nvPicPr>
        <p:blipFill>
          <a:blip r:embed="rId2"/>
          <a:stretch/>
        </p:blipFill>
        <p:spPr>
          <a:xfrm>
            <a:off x="425520" y="6019920"/>
            <a:ext cx="2165400" cy="679320"/>
          </a:xfrm>
          <a:prstGeom prst="rect">
            <a:avLst/>
          </a:prstGeom>
          <a:ln w="0">
            <a:noFill/>
          </a:ln>
        </p:spPr>
      </p:pic>
      <p:sp>
        <p:nvSpPr>
          <p:cNvPr id="173" name="Straight Connector 7"/>
          <p:cNvSpPr/>
          <p:nvPr/>
        </p:nvSpPr>
        <p:spPr>
          <a:xfrm>
            <a:off x="566640" y="1481040"/>
            <a:ext cx="8001000" cy="1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8" descr="CREcolorhorizontal.jpg"/>
          <p:cNvPicPr/>
          <p:nvPr/>
        </p:nvPicPr>
        <p:blipFill>
          <a:blip r:embed="rId3"/>
          <a:stretch/>
        </p:blipFill>
        <p:spPr>
          <a:xfrm>
            <a:off x="425520" y="6019920"/>
            <a:ext cx="2165400" cy="679320"/>
          </a:xfrm>
          <a:prstGeom prst="rect">
            <a:avLst/>
          </a:prstGeom>
          <a:ln w="0">
            <a:noFill/>
          </a:ln>
        </p:spPr>
      </p:pic>
      <p:sp>
        <p:nvSpPr>
          <p:cNvPr id="175" name="Straight Connector 9"/>
          <p:cNvSpPr/>
          <p:nvPr/>
        </p:nvSpPr>
        <p:spPr>
          <a:xfrm>
            <a:off x="566640" y="1481040"/>
            <a:ext cx="8001000" cy="1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CC3520-D3D6-4924-995B-5A06E65727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C51B55-FB52-4524-A6E2-F15265CC9D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87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stitucionalidad para el Sistema de Evaluación del Gobier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Eduardo Contreras – Juan Francisco Pache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Noviembre de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1" descr="LOGO DII bco"/>
          <p:cNvPicPr/>
          <p:nvPr/>
        </p:nvPicPr>
        <p:blipFill>
          <a:blip r:embed="rId1"/>
          <a:stretch/>
        </p:blipFill>
        <p:spPr>
          <a:xfrm>
            <a:off x="3125880" y="404640"/>
            <a:ext cx="2892240" cy="1082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9" descr=""/>
          <p:cNvPicPr/>
          <p:nvPr/>
        </p:nvPicPr>
        <p:blipFill>
          <a:blip r:embed="rId2"/>
          <a:stretch/>
        </p:blipFill>
        <p:spPr>
          <a:xfrm>
            <a:off x="6804000" y="163440"/>
            <a:ext cx="13050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Otras experienci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43120" y="1500120"/>
            <a:ext cx="8300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New Public Management y Sistemas de Evaluació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Los modelos Neo Zelandés y Australiano, implicaron una fuerte descentralización (hacia unidades ejecutoras; Ministerios, etc) de la toma de decisiones y el manejo de recurs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Basado en la profesionalización de los gerentes públicos y su independencia de los cambios de gobiern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Acompañado de incentivos (y des incentivos) por desempeño basados en evaluacion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Dichas evaluaciones son sobre los resultados, impactos, eficiencia, calidad y agregación de valor de las decisiones tomadas, incluyendo las decisiones de invers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Algunas Fuentes: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“Evaluación presupuestaria en tres países, Argentina, Australia y los Estados Unidos de Norteamérica”. Hernán Pablo Llosas. Departamento de Economía, Universidad Nacional de La Plata. 2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Web :Government of Western Australia | Department of the Premier and Cabinet y del Department of Treasury and Fin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“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L "MANAGEMENT DE LA INTERDEPENDENCIA GLOBAL…” Omar Guerrero. 2000. Revista Digital Universitar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NEW ZEALAND'S PUBLIC SECTOR FINANCIAL MANAGEMENT SYSTEM: FINANCIAL RESOURCE EROSION IN GOVERNMENT DEPARTMENTS”. Thesis for the degree of Ph.D. by Susan M. Newberry. University of Canterbury.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843837-6DAB-4E09-8774-5994B44871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Revisión de la liter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43120" y="1428840"/>
            <a:ext cx="8300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Los Sistemas Nacionales de Inversión Pública pueden ser analizados desde la Teoría de Sistem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Lo anterior permite identificar, a modo de </a:t>
            </a:r>
            <a:r>
              <a:rPr b="0" i="1" lang="es-CL" sz="2400" spc="-1" strike="noStrike">
                <a:solidFill>
                  <a:srgbClr val="000000"/>
                </a:solidFill>
                <a:latin typeface="Calibri"/>
              </a:rPr>
              <a:t>Check List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, funciones o subsistemas que pudiesen faltar o estar incompletos en nuestro SN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Se concluye que lo que tenemos desarrollado en Chile, son los subsistemas de “producción” y “apoyo” los cuales constituirían el sistema. Lo anterior implica que nuestro Sistema no está comple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Algunas Fuentes: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 CEPAL, Serie manuales N° 40: ““Los sistemas nacionales de inversión pública en Argentina, Brasil, México, Venezuela, y España como caso de referencia”,”. Edgar Ortegón y Juan Francisco Pacheco.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CEPAL, Serie manuales N° 34: “Los Sistemas nacionales de inversión pública en Centroamérica: marco teórico y análisis comparativo multivariado”. Edgar Ortegón y Juan Francisco Pacheco. 200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La organización sistémica”, en “Teorías organizacionales y administración”,  Dávila 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La Eficiencia de la Burocracia” Anthony Giddesns, Ed. Alianza Universitaría,199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Sistemas complejos y gestión pública”, Mario Waissbluth. Documento de Trabajo de la Serie de Gestión. Departamento de Ingeniería Industrial de la Universidad de Chile. Febrero de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281991-6F14-46B2-8542-F4B63E4AED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Revisión de la literatura: Un complemento al diagnóst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3FA9EC-8201-4828-ABCF-E397B8A87C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14"/>
          <p:cNvGrpSpPr/>
          <p:nvPr/>
        </p:nvGrpSpPr>
        <p:grpSpPr>
          <a:xfrm>
            <a:off x="3219480" y="1643040"/>
            <a:ext cx="5638680" cy="4343400"/>
            <a:chOff x="3219480" y="1643040"/>
            <a:chExt cx="5638680" cy="4343400"/>
          </a:xfrm>
        </p:grpSpPr>
        <p:sp>
          <p:nvSpPr>
            <p:cNvPr id="261" name="AutoShape 20"/>
            <p:cNvSpPr/>
            <p:nvPr/>
          </p:nvSpPr>
          <p:spPr>
            <a:xfrm>
              <a:off x="3219480" y="1643040"/>
              <a:ext cx="5638680" cy="43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9"/>
            <p:cNvSpPr/>
            <p:nvPr/>
          </p:nvSpPr>
          <p:spPr>
            <a:xfrm>
              <a:off x="5048280" y="1985760"/>
              <a:ext cx="1904400" cy="1143000"/>
            </a:xfrm>
            <a:prstGeom prst="rect">
              <a:avLst/>
            </a:prstGeom>
            <a:solidFill>
              <a:srgbClr val="00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Producc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ganismos  Públicos  (Inversionistas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8"/>
            <p:cNvSpPr/>
            <p:nvPr/>
          </p:nvSpPr>
          <p:spPr>
            <a:xfrm>
              <a:off x="5048280" y="3129120"/>
              <a:ext cx="1904400" cy="12571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Gerenci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UN Órgano Rec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ministra el sistema y coordina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7"/>
            <p:cNvSpPr/>
            <p:nvPr/>
          </p:nvSpPr>
          <p:spPr>
            <a:xfrm>
              <a:off x="5048280" y="4386240"/>
              <a:ext cx="1904400" cy="12571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Adaptac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ticipación ciudadan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rategia y prospectiv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Formular y consensuar Visión de largo plazo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6"/>
            <p:cNvSpPr/>
            <p:nvPr/>
          </p:nvSpPr>
          <p:spPr>
            <a:xfrm>
              <a:off x="3371760" y="3129120"/>
              <a:ext cx="1676160" cy="12571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Mantenimien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ganismos de control, generación de leyes, norma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mación y reclutamiento de capital Humano)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5"/>
            <p:cNvSpPr/>
            <p:nvPr/>
          </p:nvSpPr>
          <p:spPr>
            <a:xfrm>
              <a:off x="6952680" y="3129120"/>
              <a:ext cx="1752480" cy="1257120"/>
            </a:xfrm>
            <a:prstGeom prst="rect">
              <a:avLst/>
            </a:prstGeom>
            <a:solidFill>
              <a:srgbClr val="00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Apoy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anciero y Técnic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21 Rectángulo"/>
          <p:cNvSpPr/>
          <p:nvPr/>
        </p:nvSpPr>
        <p:spPr>
          <a:xfrm>
            <a:off x="214200" y="2459160"/>
            <a:ext cx="3005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sub-sistemas que operan actualmente están en color celeste. Sin embargo, los sub-sistemas amarillos no están complet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13 Elipse"/>
          <p:cNvSpPr/>
          <p:nvPr/>
        </p:nvSpPr>
        <p:spPr>
          <a:xfrm>
            <a:off x="6667560" y="5137200"/>
            <a:ext cx="2190600" cy="1219320"/>
          </a:xfrm>
          <a:prstGeom prst="ellipse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14 CuadroTexto"/>
          <p:cNvSpPr/>
          <p:nvPr/>
        </p:nvSpPr>
        <p:spPr>
          <a:xfrm>
            <a:off x="7215120" y="5572080"/>
            <a:ext cx="150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to es hoy el “Sistem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16 Conector recto de flecha"/>
          <p:cNvCxnSpPr/>
          <p:nvPr/>
        </p:nvCxnSpPr>
        <p:spPr>
          <a:xfrm flipV="1">
            <a:off x="7643880" y="4145040"/>
            <a:ext cx="2160" cy="993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ropues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rincipios del diseñ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Necesidad de UN organismo rec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Separación de funciones: Formulación, evaluación, ex ante, financiamiento, ejecución, evaluación ex post 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(además de fuentes revisadas: proyecto de Mario Drago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En términos institucionales: independencia de las instituciones : administradora del sistema de evaluación, asignadora de fondos, ejecutoras, y elaboradores de normas y ley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BBFD01-440D-42A3-A092-1FC4AB3C3A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ropues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rincipios del diseñ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Profesionalización e independencia respecto a vaivenes políticos al menos en el rol de Dirección del SNIP y su equipo de analistas de nivel central y regiones. Mediante el sistema de AD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52421B-C83D-47EC-BECC-80AFD1822F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ropuesta: Alternativa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5E0491-4CC8-40D1-9DC1-A9C0A9BABD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2"/>
          <p:cNvGrpSpPr/>
          <p:nvPr/>
        </p:nvGrpSpPr>
        <p:grpSpPr>
          <a:xfrm>
            <a:off x="0" y="2400480"/>
            <a:ext cx="8981640" cy="3314520"/>
            <a:chOff x="0" y="2400480"/>
            <a:chExt cx="8981640" cy="3314520"/>
          </a:xfrm>
        </p:grpSpPr>
        <p:sp>
          <p:nvSpPr>
            <p:cNvPr id="280" name="Text Box 3"/>
            <p:cNvSpPr/>
            <p:nvPr/>
          </p:nvSpPr>
          <p:spPr>
            <a:xfrm>
              <a:off x="3228840" y="2400480"/>
              <a:ext cx="2371680" cy="49536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Agencia Nacional de Inversión Públic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Organismo Recto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4"/>
            <p:cNvSpPr/>
            <p:nvPr/>
          </p:nvSpPr>
          <p:spPr>
            <a:xfrm>
              <a:off x="4390920" y="3314880"/>
              <a:ext cx="1162080" cy="59976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Direcció</a:t>
              </a: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n d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Inversion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6"/>
            <p:cNvSpPr/>
            <p:nvPr/>
          </p:nvSpPr>
          <p:spPr>
            <a:xfrm>
              <a:off x="7819920" y="3314880"/>
              <a:ext cx="1161720" cy="240012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DIRECCIÓN DE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PREINVERS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Inversión en Preinversión para generación de carter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7"/>
            <p:cNvSpPr/>
            <p:nvPr/>
          </p:nvSpPr>
          <p:spPr>
            <a:xfrm>
              <a:off x="2228760" y="4314960"/>
              <a:ext cx="1162080" cy="900360"/>
            </a:xfrm>
            <a:prstGeom prst="rect">
              <a:avLst/>
            </a:prstGeom>
            <a:solidFill>
              <a:srgbClr val="f2dc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Sub Dirección Análisis Técnic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y Económic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8"/>
            <p:cNvSpPr/>
            <p:nvPr/>
          </p:nvSpPr>
          <p:spPr>
            <a:xfrm>
              <a:off x="3524040" y="4314960"/>
              <a:ext cx="1162080" cy="900360"/>
            </a:xfrm>
            <a:prstGeom prst="rect">
              <a:avLst/>
            </a:prstGeom>
            <a:solidFill>
              <a:srgbClr val="f2dc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Subdirección Normativas: Leyes, Reglamentos e instructiv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9"/>
            <p:cNvSpPr/>
            <p:nvPr/>
          </p:nvSpPr>
          <p:spPr>
            <a:xfrm>
              <a:off x="4848120" y="4314960"/>
              <a:ext cx="1162080" cy="900360"/>
            </a:xfrm>
            <a:prstGeom prst="rect">
              <a:avLst/>
            </a:prstGeom>
            <a:solidFill>
              <a:srgbClr val="f2dc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SubDirección de Capacitación  y Supervisión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10"/>
            <p:cNvSpPr/>
            <p:nvPr/>
          </p:nvSpPr>
          <p:spPr>
            <a:xfrm>
              <a:off x="6153120" y="4314960"/>
              <a:ext cx="1162080" cy="900360"/>
            </a:xfrm>
            <a:prstGeom prst="rect">
              <a:avLst/>
            </a:prstGeom>
            <a:solidFill>
              <a:srgbClr val="f2dc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SubDirección de Información: Banco Integrado de Proyectos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11"/>
            <p:cNvSpPr/>
            <p:nvPr/>
          </p:nvSpPr>
          <p:spPr>
            <a:xfrm>
              <a:off x="1428480" y="3314880"/>
              <a:ext cx="1162080" cy="82872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12"/>
            <p:cNvSpPr/>
            <p:nvPr/>
          </p:nvSpPr>
          <p:spPr>
            <a:xfrm>
              <a:off x="2790720" y="3314880"/>
              <a:ext cx="1352160" cy="599760"/>
            </a:xfrm>
            <a:prstGeom prst="rect">
              <a:avLst/>
            </a:prstGeom>
            <a:solidFill>
              <a:srgbClr val="d7e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13"/>
            <p:cNvSpPr/>
            <p:nvPr/>
          </p:nvSpPr>
          <p:spPr>
            <a:xfrm>
              <a:off x="0" y="3314880"/>
              <a:ext cx="1162080" cy="82872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Text Box 14"/>
          <p:cNvSpPr/>
          <p:nvPr/>
        </p:nvSpPr>
        <p:spPr>
          <a:xfrm>
            <a:off x="3929040" y="1622520"/>
            <a:ext cx="954000" cy="306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900" spc="-1" strike="noStrike">
                <a:solidFill>
                  <a:srgbClr val="000000"/>
                </a:solidFill>
                <a:latin typeface="Arial"/>
              </a:rPr>
              <a:t>Presidenc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5"/>
          <p:cNvSpPr/>
          <p:nvPr/>
        </p:nvSpPr>
        <p:spPr>
          <a:xfrm>
            <a:off x="6286680" y="2214720"/>
            <a:ext cx="111600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600" spc="-1" strike="noStrike">
                <a:solidFill>
                  <a:srgbClr val="000000"/>
                </a:solidFill>
                <a:latin typeface="Arial"/>
              </a:rPr>
              <a:t>MINISTERIO DE HACI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6"/>
          <p:cNvSpPr/>
          <p:nvPr/>
        </p:nvSpPr>
        <p:spPr>
          <a:xfrm>
            <a:off x="6286680" y="2571840"/>
            <a:ext cx="111600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900" spc="-1" strike="noStrike">
                <a:solidFill>
                  <a:srgbClr val="000000"/>
                </a:solidFill>
                <a:latin typeface="Arial"/>
              </a:rPr>
              <a:t>Ministerios (incluye Mideplan, pero Mideplan – SNIP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7"/>
          <p:cNvSpPr/>
          <p:nvPr/>
        </p:nvSpPr>
        <p:spPr>
          <a:xfrm>
            <a:off x="6286680" y="1643040"/>
            <a:ext cx="111600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600" spc="-1" strike="noStrike">
                <a:solidFill>
                  <a:srgbClr val="000000"/>
                </a:solidFill>
                <a:latin typeface="Arial"/>
              </a:rPr>
              <a:t>Palrament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18"/>
          <p:cNvGrpSpPr/>
          <p:nvPr/>
        </p:nvGrpSpPr>
        <p:grpSpPr>
          <a:xfrm>
            <a:off x="571320" y="2857320"/>
            <a:ext cx="7668000" cy="428760"/>
            <a:chOff x="571320" y="2857320"/>
            <a:chExt cx="7668000" cy="428760"/>
          </a:xfrm>
        </p:grpSpPr>
        <p:grpSp>
          <p:nvGrpSpPr>
            <p:cNvPr id="295" name="Group 19"/>
            <p:cNvGrpSpPr/>
            <p:nvPr/>
          </p:nvGrpSpPr>
          <p:grpSpPr>
            <a:xfrm>
              <a:off x="571320" y="3047760"/>
              <a:ext cx="7668000" cy="238320"/>
              <a:chOff x="571320" y="3047760"/>
              <a:chExt cx="7668000" cy="238320"/>
            </a:xfrm>
          </p:grpSpPr>
          <p:cxnSp>
            <p:nvCxnSpPr>
              <p:cNvPr id="296" name="AutoShape 20"/>
              <p:cNvCxnSpPr/>
              <p:nvPr/>
            </p:nvCxnSpPr>
            <p:spPr>
              <a:xfrm>
                <a:off x="571680" y="3047760"/>
                <a:ext cx="76680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97" name="AutoShape 21"/>
              <p:cNvCxnSpPr/>
              <p:nvPr/>
            </p:nvCxnSpPr>
            <p:spPr>
              <a:xfrm>
                <a:off x="571320" y="304776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98" name="AutoShape 22"/>
              <p:cNvCxnSpPr/>
              <p:nvPr/>
            </p:nvCxnSpPr>
            <p:spPr>
              <a:xfrm>
                <a:off x="8238600" y="305712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99" name="AutoShape 23"/>
              <p:cNvCxnSpPr/>
              <p:nvPr/>
            </p:nvCxnSpPr>
            <p:spPr>
              <a:xfrm>
                <a:off x="6400440" y="305712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0" name="AutoShape 24"/>
              <p:cNvCxnSpPr/>
              <p:nvPr/>
            </p:nvCxnSpPr>
            <p:spPr>
              <a:xfrm>
                <a:off x="4924080" y="305712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1" name="AutoShape 25"/>
              <p:cNvCxnSpPr/>
              <p:nvPr/>
            </p:nvCxnSpPr>
            <p:spPr>
              <a:xfrm>
                <a:off x="3447720" y="304776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2" name="AutoShape 26"/>
              <p:cNvCxnSpPr/>
              <p:nvPr/>
            </p:nvCxnSpPr>
            <p:spPr>
              <a:xfrm>
                <a:off x="1971360" y="305712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cxnSp>
          <p:nvCxnSpPr>
            <p:cNvPr id="303" name="AutoShape 27"/>
            <p:cNvCxnSpPr/>
            <p:nvPr/>
          </p:nvCxnSpPr>
          <p:spPr>
            <a:xfrm>
              <a:off x="4363920" y="2857320"/>
              <a:ext cx="108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304" name="AutoShape 28"/>
          <p:cNvCxnSpPr/>
          <p:nvPr/>
        </p:nvCxnSpPr>
        <p:spPr>
          <a:xfrm>
            <a:off x="5452920" y="2428920"/>
            <a:ext cx="905760" cy="10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305" name="AutoShape 29"/>
          <p:cNvCxnSpPr/>
          <p:nvPr/>
        </p:nvCxnSpPr>
        <p:spPr>
          <a:xfrm>
            <a:off x="5452920" y="2776680"/>
            <a:ext cx="905760" cy="10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306" name="Text Box 30"/>
          <p:cNvSpPr/>
          <p:nvPr/>
        </p:nvSpPr>
        <p:spPr>
          <a:xfrm>
            <a:off x="7929720" y="2286000"/>
            <a:ext cx="1011240" cy="231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600" spc="-1" strike="noStrike">
                <a:solidFill>
                  <a:srgbClr val="000000"/>
                </a:solidFill>
                <a:latin typeface="Arial"/>
              </a:rPr>
              <a:t>CIUDADANÍ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AutoShape 31"/>
          <p:cNvCxnSpPr/>
          <p:nvPr/>
        </p:nvCxnSpPr>
        <p:spPr>
          <a:xfrm flipH="1">
            <a:off x="8429040" y="2500200"/>
            <a:ext cx="1080" cy="8611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308" name="AutoShape 32"/>
          <p:cNvCxnSpPr/>
          <p:nvPr/>
        </p:nvCxnSpPr>
        <p:spPr>
          <a:xfrm>
            <a:off x="5000400" y="3924360"/>
            <a:ext cx="1080" cy="21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9" name="AutoShape 33"/>
          <p:cNvCxnSpPr/>
          <p:nvPr/>
        </p:nvCxnSpPr>
        <p:spPr>
          <a:xfrm>
            <a:off x="2928960" y="4142880"/>
            <a:ext cx="38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AutoShape 35"/>
          <p:cNvCxnSpPr/>
          <p:nvPr/>
        </p:nvCxnSpPr>
        <p:spPr>
          <a:xfrm>
            <a:off x="6786360" y="417636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1" name="AutoShape 36"/>
          <p:cNvCxnSpPr/>
          <p:nvPr/>
        </p:nvCxnSpPr>
        <p:spPr>
          <a:xfrm>
            <a:off x="2928600" y="414288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2" name="AutoShape 37"/>
          <p:cNvCxnSpPr/>
          <p:nvPr/>
        </p:nvCxnSpPr>
        <p:spPr>
          <a:xfrm>
            <a:off x="4000320" y="417636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3" name="AutoShape 38"/>
          <p:cNvCxnSpPr/>
          <p:nvPr/>
        </p:nvCxnSpPr>
        <p:spPr>
          <a:xfrm>
            <a:off x="5428800" y="417636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4" name="42 Rectángulo"/>
          <p:cNvSpPr/>
          <p:nvPr/>
        </p:nvSpPr>
        <p:spPr>
          <a:xfrm>
            <a:off x="2714760" y="3309840"/>
            <a:ext cx="1533240" cy="5961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Dirección  de RRHH (</a:t>
            </a:r>
            <a:r>
              <a:rPr b="0" lang="es-CL" sz="1100" spc="-1" strike="noStrike">
                <a:solidFill>
                  <a:srgbClr val="000000"/>
                </a:solidFill>
                <a:latin typeface="Calibri"/>
              </a:rPr>
              <a:t>Selección, incentivos, etc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43 Rectángulo"/>
          <p:cNvSpPr/>
          <p:nvPr/>
        </p:nvSpPr>
        <p:spPr>
          <a:xfrm>
            <a:off x="0" y="3357720"/>
            <a:ext cx="123840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Dirección 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strategia y Prospecti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AutoShape 31"/>
          <p:cNvCxnSpPr>
            <a:endCxn id="291" idx="0"/>
          </p:cNvCxnSpPr>
          <p:nvPr/>
        </p:nvCxnSpPr>
        <p:spPr>
          <a:xfrm flipH="1">
            <a:off x="6844680" y="1906560"/>
            <a:ext cx="14760" cy="3088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317" name="Text Box 17"/>
          <p:cNvSpPr/>
          <p:nvPr/>
        </p:nvSpPr>
        <p:spPr>
          <a:xfrm>
            <a:off x="142920" y="1643040"/>
            <a:ext cx="111600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600" spc="-1" strike="noStrike">
                <a:solidFill>
                  <a:srgbClr val="000000"/>
                </a:solidFill>
                <a:latin typeface="Arial"/>
              </a:rPr>
              <a:t>SEGP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AutoShape 31"/>
          <p:cNvCxnSpPr/>
          <p:nvPr/>
        </p:nvCxnSpPr>
        <p:spPr>
          <a:xfrm>
            <a:off x="427680" y="1928520"/>
            <a:ext cx="1080" cy="13608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319" name="AutoShape 31"/>
          <p:cNvCxnSpPr/>
          <p:nvPr/>
        </p:nvCxnSpPr>
        <p:spPr>
          <a:xfrm flipH="1">
            <a:off x="580680" y="1643040"/>
            <a:ext cx="3348720" cy="1666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320" name="AutoShape 28"/>
          <p:cNvCxnSpPr/>
          <p:nvPr/>
        </p:nvCxnSpPr>
        <p:spPr>
          <a:xfrm>
            <a:off x="1214280" y="1714680"/>
            <a:ext cx="2501280" cy="10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321" name="AutoShape 32"/>
          <p:cNvCxnSpPr>
            <a:stCxn id="290" idx="2"/>
            <a:endCxn id="280" idx="0"/>
          </p:cNvCxnSpPr>
          <p:nvPr/>
        </p:nvCxnSpPr>
        <p:spPr>
          <a:xfrm>
            <a:off x="4405320" y="1928880"/>
            <a:ext cx="1008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32"/>
          <p:cNvCxnSpPr/>
          <p:nvPr/>
        </p:nvCxnSpPr>
        <p:spPr>
          <a:xfrm>
            <a:off x="5152680" y="4076280"/>
            <a:ext cx="108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3" name="58 Rectángulo"/>
          <p:cNvSpPr/>
          <p:nvPr/>
        </p:nvSpPr>
        <p:spPr>
          <a:xfrm>
            <a:off x="3643200" y="5514840"/>
            <a:ext cx="457200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Capacitación: analistas y profesionales  de Ud.Ejecutor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Supervisión: Oficinas Region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59 Rectángulo"/>
          <p:cNvSpPr/>
          <p:nvPr/>
        </p:nvSpPr>
        <p:spPr>
          <a:xfrm>
            <a:off x="1428840" y="3309840"/>
            <a:ext cx="128592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Dirección de Estudios: Metodologías, precios sociales, otr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49 Rectángulo"/>
          <p:cNvSpPr/>
          <p:nvPr/>
        </p:nvSpPr>
        <p:spPr>
          <a:xfrm>
            <a:off x="2933640" y="1928880"/>
            <a:ext cx="3067200" cy="895320"/>
          </a:xfrm>
          <a:prstGeom prst="rect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ropuesta: Alternativa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B4ABE0-D01E-4E9C-AEB9-C743D5B429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2"/>
          <p:cNvGrpSpPr/>
          <p:nvPr/>
        </p:nvGrpSpPr>
        <p:grpSpPr>
          <a:xfrm>
            <a:off x="0" y="2286000"/>
            <a:ext cx="8981640" cy="3428640"/>
            <a:chOff x="0" y="2286000"/>
            <a:chExt cx="8981640" cy="3428640"/>
          </a:xfrm>
        </p:grpSpPr>
        <p:sp>
          <p:nvSpPr>
            <p:cNvPr id="329" name="Text Box 3"/>
            <p:cNvSpPr/>
            <p:nvPr/>
          </p:nvSpPr>
          <p:spPr>
            <a:xfrm>
              <a:off x="3214800" y="2286000"/>
              <a:ext cx="2371680" cy="495360"/>
            </a:xfrm>
            <a:prstGeom prst="rect">
              <a:avLst/>
            </a:prstGeom>
            <a:solidFill>
              <a:srgbClr val="d7e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Subsecretaría Nacional de Inversión Públic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Organismo Recto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4"/>
            <p:cNvSpPr/>
            <p:nvPr/>
          </p:nvSpPr>
          <p:spPr>
            <a:xfrm>
              <a:off x="4390920" y="3314520"/>
              <a:ext cx="1162080" cy="599760"/>
            </a:xfrm>
            <a:prstGeom prst="rect">
              <a:avLst/>
            </a:prstGeom>
            <a:solidFill>
              <a:srgbClr val="d7e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División d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Inversion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6"/>
            <p:cNvSpPr/>
            <p:nvPr/>
          </p:nvSpPr>
          <p:spPr>
            <a:xfrm>
              <a:off x="7819920" y="3314520"/>
              <a:ext cx="1161720" cy="2400120"/>
            </a:xfrm>
            <a:prstGeom prst="rect">
              <a:avLst/>
            </a:prstGeom>
            <a:solidFill>
              <a:srgbClr val="d7e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DIRECCIÓN DE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PREINVERS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Inversión en Preinversión para generación de carter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7"/>
            <p:cNvSpPr/>
            <p:nvPr/>
          </p:nvSpPr>
          <p:spPr>
            <a:xfrm>
              <a:off x="2228760" y="4314600"/>
              <a:ext cx="1162080" cy="900360"/>
            </a:xfrm>
            <a:prstGeom prst="rect">
              <a:avLst/>
            </a:prstGeom>
            <a:solidFill>
              <a:srgbClr val="f2dc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Departamento de Análisis Técnic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y Económic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8"/>
            <p:cNvSpPr/>
            <p:nvPr/>
          </p:nvSpPr>
          <p:spPr>
            <a:xfrm>
              <a:off x="3524040" y="4314600"/>
              <a:ext cx="1162080" cy="900360"/>
            </a:xfrm>
            <a:prstGeom prst="rect">
              <a:avLst/>
            </a:prstGeom>
            <a:solidFill>
              <a:srgbClr val="f2dc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Departamento de Normativas: Leyes, Reglamentos e instructiv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9"/>
            <p:cNvSpPr/>
            <p:nvPr/>
          </p:nvSpPr>
          <p:spPr>
            <a:xfrm>
              <a:off x="4848120" y="4314600"/>
              <a:ext cx="1162080" cy="900360"/>
            </a:xfrm>
            <a:prstGeom prst="rect">
              <a:avLst/>
            </a:prstGeom>
            <a:solidFill>
              <a:srgbClr val="f2dc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Departamento de Capacitación  y Supervisión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10"/>
            <p:cNvSpPr/>
            <p:nvPr/>
          </p:nvSpPr>
          <p:spPr>
            <a:xfrm>
              <a:off x="6153120" y="4314600"/>
              <a:ext cx="1162080" cy="900360"/>
            </a:xfrm>
            <a:prstGeom prst="rect">
              <a:avLst/>
            </a:prstGeom>
            <a:solidFill>
              <a:srgbClr val="f2dc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Departamento  de Información: Banco Integrado de Proyectos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11"/>
            <p:cNvSpPr/>
            <p:nvPr/>
          </p:nvSpPr>
          <p:spPr>
            <a:xfrm>
              <a:off x="1428480" y="3314520"/>
              <a:ext cx="1162080" cy="828720"/>
            </a:xfrm>
            <a:prstGeom prst="rect">
              <a:avLst/>
            </a:prstGeom>
            <a:solidFill>
              <a:srgbClr val="d7e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12"/>
            <p:cNvSpPr/>
            <p:nvPr/>
          </p:nvSpPr>
          <p:spPr>
            <a:xfrm>
              <a:off x="2790720" y="3314520"/>
              <a:ext cx="1352160" cy="599760"/>
            </a:xfrm>
            <a:prstGeom prst="rect">
              <a:avLst/>
            </a:prstGeom>
            <a:solidFill>
              <a:srgbClr val="d7e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13"/>
            <p:cNvSpPr/>
            <p:nvPr/>
          </p:nvSpPr>
          <p:spPr>
            <a:xfrm>
              <a:off x="0" y="3314520"/>
              <a:ext cx="1162080" cy="828720"/>
            </a:xfrm>
            <a:prstGeom prst="rect">
              <a:avLst/>
            </a:prstGeom>
            <a:solidFill>
              <a:srgbClr val="d7e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Text Box 14"/>
          <p:cNvSpPr/>
          <p:nvPr/>
        </p:nvSpPr>
        <p:spPr>
          <a:xfrm>
            <a:off x="3929040" y="1500120"/>
            <a:ext cx="954000" cy="306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900" spc="-1" strike="noStrike">
                <a:solidFill>
                  <a:srgbClr val="000000"/>
                </a:solidFill>
                <a:latin typeface="Arial"/>
              </a:rPr>
              <a:t>Presidenc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5"/>
          <p:cNvSpPr/>
          <p:nvPr/>
        </p:nvSpPr>
        <p:spPr>
          <a:xfrm>
            <a:off x="6286680" y="2214720"/>
            <a:ext cx="111600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600" spc="-1" strike="noStrike">
                <a:solidFill>
                  <a:srgbClr val="000000"/>
                </a:solidFill>
                <a:latin typeface="Arial"/>
              </a:rPr>
              <a:t>MINISTERIO DE HACI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6"/>
          <p:cNvSpPr/>
          <p:nvPr/>
        </p:nvSpPr>
        <p:spPr>
          <a:xfrm>
            <a:off x="6286680" y="2571840"/>
            <a:ext cx="111600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900" spc="-1" strike="noStrike">
                <a:solidFill>
                  <a:srgbClr val="000000"/>
                </a:solidFill>
                <a:latin typeface="Arial"/>
              </a:rPr>
              <a:t>Ministerios (incluye Mideplan, pero Mideplan – SNIP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7"/>
          <p:cNvSpPr/>
          <p:nvPr/>
        </p:nvSpPr>
        <p:spPr>
          <a:xfrm>
            <a:off x="6286680" y="1643040"/>
            <a:ext cx="111600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600" spc="-1" strike="noStrike">
                <a:solidFill>
                  <a:srgbClr val="000000"/>
                </a:solidFill>
                <a:latin typeface="Arial"/>
              </a:rPr>
              <a:t>Palrament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18"/>
          <p:cNvGrpSpPr/>
          <p:nvPr/>
        </p:nvGrpSpPr>
        <p:grpSpPr>
          <a:xfrm>
            <a:off x="571320" y="2857320"/>
            <a:ext cx="7668000" cy="428760"/>
            <a:chOff x="571320" y="2857320"/>
            <a:chExt cx="7668000" cy="428760"/>
          </a:xfrm>
        </p:grpSpPr>
        <p:grpSp>
          <p:nvGrpSpPr>
            <p:cNvPr id="344" name="Group 19"/>
            <p:cNvGrpSpPr/>
            <p:nvPr/>
          </p:nvGrpSpPr>
          <p:grpSpPr>
            <a:xfrm>
              <a:off x="571320" y="3047760"/>
              <a:ext cx="7668000" cy="238320"/>
              <a:chOff x="571320" y="3047760"/>
              <a:chExt cx="7668000" cy="238320"/>
            </a:xfrm>
          </p:grpSpPr>
          <p:cxnSp>
            <p:nvCxnSpPr>
              <p:cNvPr id="345" name="AutoShape 20"/>
              <p:cNvCxnSpPr/>
              <p:nvPr/>
            </p:nvCxnSpPr>
            <p:spPr>
              <a:xfrm>
                <a:off x="571680" y="3047760"/>
                <a:ext cx="76680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46" name="AutoShape 21"/>
              <p:cNvCxnSpPr/>
              <p:nvPr/>
            </p:nvCxnSpPr>
            <p:spPr>
              <a:xfrm>
                <a:off x="571320" y="304776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47" name="AutoShape 22"/>
              <p:cNvCxnSpPr/>
              <p:nvPr/>
            </p:nvCxnSpPr>
            <p:spPr>
              <a:xfrm>
                <a:off x="8238600" y="305712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48" name="AutoShape 23"/>
              <p:cNvCxnSpPr/>
              <p:nvPr/>
            </p:nvCxnSpPr>
            <p:spPr>
              <a:xfrm>
                <a:off x="6400440" y="305712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49" name="AutoShape 24"/>
              <p:cNvCxnSpPr/>
              <p:nvPr/>
            </p:nvCxnSpPr>
            <p:spPr>
              <a:xfrm>
                <a:off x="4924080" y="305712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50" name="AutoShape 25"/>
              <p:cNvCxnSpPr/>
              <p:nvPr/>
            </p:nvCxnSpPr>
            <p:spPr>
              <a:xfrm>
                <a:off x="3447720" y="304776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51" name="AutoShape 26"/>
              <p:cNvCxnSpPr/>
              <p:nvPr/>
            </p:nvCxnSpPr>
            <p:spPr>
              <a:xfrm>
                <a:off x="1971360" y="305712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cxnSp>
          <p:nvCxnSpPr>
            <p:cNvPr id="352" name="AutoShape 27"/>
            <p:cNvCxnSpPr/>
            <p:nvPr/>
          </p:nvCxnSpPr>
          <p:spPr>
            <a:xfrm>
              <a:off x="4363920" y="2857320"/>
              <a:ext cx="108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353" name="AutoShape 28"/>
          <p:cNvCxnSpPr/>
          <p:nvPr/>
        </p:nvCxnSpPr>
        <p:spPr>
          <a:xfrm>
            <a:off x="5452920" y="2428920"/>
            <a:ext cx="905760" cy="10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354" name="AutoShape 29"/>
          <p:cNvCxnSpPr/>
          <p:nvPr/>
        </p:nvCxnSpPr>
        <p:spPr>
          <a:xfrm>
            <a:off x="5452920" y="2776680"/>
            <a:ext cx="905760" cy="10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355" name="Text Box 30"/>
          <p:cNvSpPr/>
          <p:nvPr/>
        </p:nvSpPr>
        <p:spPr>
          <a:xfrm>
            <a:off x="7929720" y="2286000"/>
            <a:ext cx="1011240" cy="231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600" spc="-1" strike="noStrike">
                <a:solidFill>
                  <a:srgbClr val="000000"/>
                </a:solidFill>
                <a:latin typeface="Arial"/>
              </a:rPr>
              <a:t>CIUDADANÍ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6" name="AutoShape 31"/>
          <p:cNvCxnSpPr/>
          <p:nvPr/>
        </p:nvCxnSpPr>
        <p:spPr>
          <a:xfrm flipH="1">
            <a:off x="8429040" y="2500200"/>
            <a:ext cx="1080" cy="8611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357" name="AutoShape 32"/>
          <p:cNvCxnSpPr/>
          <p:nvPr/>
        </p:nvCxnSpPr>
        <p:spPr>
          <a:xfrm>
            <a:off x="5000400" y="3924360"/>
            <a:ext cx="1080" cy="21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AutoShape 33"/>
          <p:cNvCxnSpPr/>
          <p:nvPr/>
        </p:nvCxnSpPr>
        <p:spPr>
          <a:xfrm>
            <a:off x="2928960" y="4142880"/>
            <a:ext cx="38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9" name="AutoShape 35"/>
          <p:cNvCxnSpPr/>
          <p:nvPr/>
        </p:nvCxnSpPr>
        <p:spPr>
          <a:xfrm>
            <a:off x="6786360" y="417636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0" name="AutoShape 36"/>
          <p:cNvCxnSpPr/>
          <p:nvPr/>
        </p:nvCxnSpPr>
        <p:spPr>
          <a:xfrm>
            <a:off x="2928600" y="414288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AutoShape 37"/>
          <p:cNvCxnSpPr/>
          <p:nvPr/>
        </p:nvCxnSpPr>
        <p:spPr>
          <a:xfrm>
            <a:off x="4000320" y="417636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38"/>
          <p:cNvCxnSpPr/>
          <p:nvPr/>
        </p:nvCxnSpPr>
        <p:spPr>
          <a:xfrm>
            <a:off x="5428800" y="417636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42 Rectángulo"/>
          <p:cNvSpPr/>
          <p:nvPr/>
        </p:nvSpPr>
        <p:spPr>
          <a:xfrm>
            <a:off x="2714760" y="3357720"/>
            <a:ext cx="15332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División de RRHH (</a:t>
            </a:r>
            <a:r>
              <a:rPr b="0" lang="es-CL" sz="1100" spc="-1" strike="noStrike">
                <a:solidFill>
                  <a:srgbClr val="000000"/>
                </a:solidFill>
                <a:latin typeface="Calibri"/>
              </a:rPr>
              <a:t>Selección, incentivos, etc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43 Rectángulo"/>
          <p:cNvSpPr/>
          <p:nvPr/>
        </p:nvSpPr>
        <p:spPr>
          <a:xfrm>
            <a:off x="0" y="3357720"/>
            <a:ext cx="123840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División. 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strategia y Prospecti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5" name="AutoShape 31"/>
          <p:cNvCxnSpPr>
            <a:endCxn id="340" idx="0"/>
          </p:cNvCxnSpPr>
          <p:nvPr/>
        </p:nvCxnSpPr>
        <p:spPr>
          <a:xfrm flipH="1">
            <a:off x="6844680" y="1906560"/>
            <a:ext cx="14760" cy="3088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366" name="AutoShape 32"/>
          <p:cNvCxnSpPr>
            <a:stCxn id="339" idx="2"/>
            <a:endCxn id="329" idx="0"/>
          </p:cNvCxnSpPr>
          <p:nvPr/>
        </p:nvCxnSpPr>
        <p:spPr>
          <a:xfrm flipH="1">
            <a:off x="4399920" y="1806480"/>
            <a:ext cx="540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7" name="AutoShape 32"/>
          <p:cNvCxnSpPr/>
          <p:nvPr/>
        </p:nvCxnSpPr>
        <p:spPr>
          <a:xfrm>
            <a:off x="5152680" y="4076280"/>
            <a:ext cx="108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8" name="58 Rectángulo"/>
          <p:cNvSpPr/>
          <p:nvPr/>
        </p:nvSpPr>
        <p:spPr>
          <a:xfrm>
            <a:off x="3643200" y="5514840"/>
            <a:ext cx="457200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Capacitación: analistas y profesionales  de Ud.Ejecutor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Supervisión: Oficinas Region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59 Rectángulo"/>
          <p:cNvSpPr/>
          <p:nvPr/>
        </p:nvSpPr>
        <p:spPr>
          <a:xfrm>
            <a:off x="1428840" y="3309840"/>
            <a:ext cx="128592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División de Estudios: Metodologías, precios sociales, otr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55 Rectángulo"/>
          <p:cNvSpPr/>
          <p:nvPr/>
        </p:nvSpPr>
        <p:spPr>
          <a:xfrm>
            <a:off x="3174840" y="2000160"/>
            <a:ext cx="123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1000" spc="-1" strike="noStrike">
                <a:solidFill>
                  <a:srgbClr val="000000"/>
                </a:solidFill>
                <a:latin typeface="Arial"/>
              </a:rPr>
              <a:t>SEGP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Ventajas y Desventajas de las alternativ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EA2ED3-D7F7-47B5-A91A-A6B92B9F6E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4"/>
          <p:cNvGrpSpPr/>
          <p:nvPr/>
        </p:nvGrpSpPr>
        <p:grpSpPr>
          <a:xfrm>
            <a:off x="552960" y="1928880"/>
            <a:ext cx="8370000" cy="4000320"/>
            <a:chOff x="552960" y="1928880"/>
            <a:chExt cx="8370000" cy="4000320"/>
          </a:xfrm>
        </p:grpSpPr>
        <p:sp>
          <p:nvSpPr>
            <p:cNvPr id="374" name="AutoShape 3"/>
            <p:cNvSpPr/>
            <p:nvPr/>
          </p:nvSpPr>
          <p:spPr>
            <a:xfrm>
              <a:off x="1071720" y="1928880"/>
              <a:ext cx="6095880" cy="40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5"/>
            <p:cNvSpPr/>
            <p:nvPr/>
          </p:nvSpPr>
          <p:spPr>
            <a:xfrm>
              <a:off x="1819440" y="2611440"/>
              <a:ext cx="164880" cy="29275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104" h="1844">
                  <a:moveTo>
                    <a:pt x="34" y="1844"/>
                  </a:moveTo>
                  <a:lnTo>
                    <a:pt x="35" y="81"/>
                  </a:lnTo>
                  <a:lnTo>
                    <a:pt x="70" y="81"/>
                  </a:lnTo>
                  <a:lnTo>
                    <a:pt x="68" y="1844"/>
                  </a:lnTo>
                  <a:lnTo>
                    <a:pt x="34" y="1844"/>
                  </a:lnTo>
                  <a:close/>
                  <a:moveTo>
                    <a:pt x="0" y="97"/>
                  </a:moveTo>
                  <a:lnTo>
                    <a:pt x="52" y="0"/>
                  </a:lnTo>
                  <a:lnTo>
                    <a:pt x="104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08000"/>
            </a:solidFill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6"/>
            <p:cNvSpPr/>
            <p:nvPr/>
          </p:nvSpPr>
          <p:spPr>
            <a:xfrm>
              <a:off x="1900440" y="5465880"/>
              <a:ext cx="4470120" cy="155520"/>
            </a:xfrm>
            <a:custGeom>
              <a:avLst/>
              <a:gdLst>
                <a:gd name="textAreaLeft" fmla="*/ 0 w 4470120"/>
                <a:gd name="textAreaRight" fmla="*/ 4470480 w 44701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816" h="98">
                  <a:moveTo>
                    <a:pt x="0" y="31"/>
                  </a:moveTo>
                  <a:lnTo>
                    <a:pt x="2729" y="32"/>
                  </a:lnTo>
                  <a:lnTo>
                    <a:pt x="2729" y="65"/>
                  </a:lnTo>
                  <a:lnTo>
                    <a:pt x="0" y="64"/>
                  </a:lnTo>
                  <a:lnTo>
                    <a:pt x="0" y="31"/>
                  </a:lnTo>
                  <a:close/>
                  <a:moveTo>
                    <a:pt x="2712" y="0"/>
                  </a:moveTo>
                  <a:lnTo>
                    <a:pt x="2816" y="49"/>
                  </a:lnTo>
                  <a:lnTo>
                    <a:pt x="2712" y="98"/>
                  </a:lnTo>
                  <a:lnTo>
                    <a:pt x="2712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7"/>
            <p:cNvSpPr/>
            <p:nvPr/>
          </p:nvSpPr>
          <p:spPr>
            <a:xfrm>
              <a:off x="552960" y="2922480"/>
              <a:ext cx="1155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TheSansCorrespondence"/>
                </a:rPr>
                <a:t>Respaldo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8"/>
            <p:cNvSpPr/>
            <p:nvPr/>
          </p:nvSpPr>
          <p:spPr>
            <a:xfrm>
              <a:off x="562320" y="3279600"/>
              <a:ext cx="898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TheSansCorrespondence"/>
                </a:rPr>
                <a:t>Polític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9"/>
            <p:cNvSpPr/>
            <p:nvPr/>
          </p:nvSpPr>
          <p:spPr>
            <a:xfrm>
              <a:off x="4535280" y="5637240"/>
              <a:ext cx="1792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TheSansCorrespondence"/>
                </a:rPr>
                <a:t>Independenci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16"/>
            <p:cNvSpPr/>
            <p:nvPr/>
          </p:nvSpPr>
          <p:spPr>
            <a:xfrm>
              <a:off x="4772520" y="4714920"/>
              <a:ext cx="41504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TheSansCorrespondence"/>
                </a:rPr>
                <a:t>Alternativa 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900" spc="-1" strike="noStrike">
                  <a:solidFill>
                    <a:srgbClr val="000000"/>
                  </a:solidFill>
                  <a:latin typeface="TheSansCorrespondence"/>
                </a:rPr>
                <a:t>Riesgo:  Tecnócratas “Bypaseados”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Rectangle 16"/>
          <p:cNvSpPr/>
          <p:nvPr/>
        </p:nvSpPr>
        <p:spPr>
          <a:xfrm>
            <a:off x="2138040" y="2622600"/>
            <a:ext cx="353808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heSansCorrespondence"/>
              </a:rPr>
              <a:t>Alternativa 2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TheSansCorrespondence"/>
              </a:rPr>
              <a:t>Riesgo: Pérdidas de eficienc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TheSansCorrespondence"/>
              </a:rPr>
              <a:t>por presione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66 Flecha derecha"/>
          <p:cNvSpPr/>
          <p:nvPr/>
        </p:nvSpPr>
        <p:spPr>
          <a:xfrm>
            <a:off x="4143240" y="2611440"/>
            <a:ext cx="1928880" cy="311040"/>
          </a:xfrm>
          <a:prstGeom prst="rightArrow">
            <a:avLst>
              <a:gd name="adj1" fmla="val 50000"/>
              <a:gd name="adj2" fmla="val 50013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67 Flecha abajo"/>
          <p:cNvSpPr/>
          <p:nvPr/>
        </p:nvSpPr>
        <p:spPr>
          <a:xfrm rot="10800000">
            <a:off x="6553080" y="3449520"/>
            <a:ext cx="395280" cy="1122480"/>
          </a:xfrm>
          <a:prstGeom prst="downArrow">
            <a:avLst>
              <a:gd name="adj1" fmla="val 50000"/>
              <a:gd name="adj2" fmla="val 50010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68 CuadroTexto"/>
          <p:cNvSpPr/>
          <p:nvPr/>
        </p:nvSpPr>
        <p:spPr>
          <a:xfrm>
            <a:off x="6286680" y="1857240"/>
            <a:ext cx="2071440" cy="15570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Liderazgo del Director de la Agencia o Subsecre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ció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gnóst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ras experiencias y revisión de la literatu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ues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álisis de la economía política del proble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A2EE34-2A61-4CA5-9155-A18F59123C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Introducción: Algunas cifras de Inversión Púb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EB231A-E94B-4285-92B6-530D7AEE74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457200" y="2428920"/>
          <a:ext cx="6615000" cy="3352680"/>
        </p:xfrm>
        <a:graphic>
          <a:graphicData uri="http://schemas.openxmlformats.org/drawingml/2006/table">
            <a:tbl>
              <a:tblPr/>
              <a:tblGrid>
                <a:gridCol w="438120"/>
                <a:gridCol w="1835280"/>
                <a:gridCol w="3046320"/>
                <a:gridCol w="1295280"/>
              </a:tblGrid>
              <a:tr h="42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ncipales agregados macroeconómicos, a precios corrien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5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Millones de pesos de cada añ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5760">
                <a:tc gridSpan="3" row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987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1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rmación bruta de capital fijo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1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3070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0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2452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1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0077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1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8051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0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0622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1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2391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7" name="7 CuadroTexto"/>
          <p:cNvSpPr/>
          <p:nvPr/>
        </p:nvSpPr>
        <p:spPr>
          <a:xfrm>
            <a:off x="6215040" y="3929040"/>
            <a:ext cx="264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versión Públ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tre un 15% y un 20% de la inversión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Diagnóstico: Fortalez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84312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a) Las metodologías de evaluación socioeconómica. Actualmente 27 metodologías para distintos sector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b) Los programas de capacitación de RRHH. Tanto los desarrollados internamente como los externalizados (históricamente con la P.U.C., Cepal-Ilpes y hoy con la U. de Chil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) El Banco Integrado de Proyectos (BIP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d) Precios socia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318F5D-6790-4B7E-9C4F-C63FC69564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Diagnóstico: Fortalez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42760" y="1500120"/>
            <a:ext cx="330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Participación de la amplia gama de instituciones públic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Aunqu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A nivel comunal, las iniciativas 100% financiadas por los municipios no ingresan al S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Parte de las iniciativas de inversión ya no se analizan en Mide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EF3089-8B9B-4123-8997-79009E6C16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4753080" y="1571760"/>
            <a:ext cx="38196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Diagnóstico: Debilida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43120" y="1500120"/>
            <a:ext cx="7843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Transformación de ODEPLAN en Ministerio en 1990: debilitó considerablemente la gestión por parte del Departamento de Inversiones, en parte por la nueva estructura de relaciones entre dicho Departamento y sus contrapartes que son las unidades ejecutoras de proyectos, y en parte por la falta de recursos que permitieran mantener el nivel de excelencia de la fun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Por lo anterior: Rotación y fuga de profesionales especializados (lo contrario de lo recomendado por la escuela de NPM: Australia, Nueva Zelandia). Pérdida de “peso” de los analistas sectoriales (en términos relativos a sus contrapart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850334-5AC6-4A6A-9BFF-C7F0F043AF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Diagnóstico: Debilida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33200" y="1428840"/>
            <a:ext cx="443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Otros temas a mejora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Necesidad de mejorar la conformación de carteras de proyect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Incorporar análisis de coherencia de los proyectos con las estrategias sectoriales e intersectoriales, en los casos en que dichas estrategias existan. Más allá del actual sistema de análisis proyecto a proyec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Necesidad de establecer mecanismos formales que posibiliten la complementación de la inversión pública con la privad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E8F8B7-1CB8-45C1-BF81-C216BDD9A0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4438800" y="1609560"/>
            <a:ext cx="4705200" cy="5248440"/>
          </a:xfrm>
          <a:prstGeom prst="rect">
            <a:avLst/>
          </a:prstGeom>
          <a:ln w="0">
            <a:noFill/>
          </a:ln>
        </p:spPr>
      </p:pic>
      <p:sp>
        <p:nvSpPr>
          <p:cNvPr id="242" name="6 Flecha derecha"/>
          <p:cNvSpPr/>
          <p:nvPr/>
        </p:nvSpPr>
        <p:spPr>
          <a:xfrm>
            <a:off x="4214880" y="2286000"/>
            <a:ext cx="357120" cy="285840"/>
          </a:xfrm>
          <a:prstGeom prst="rightArrow">
            <a:avLst>
              <a:gd name="adj1" fmla="val 50000"/>
              <a:gd name="adj2" fmla="val 49975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7 Rectángulo"/>
          <p:cNvSpPr/>
          <p:nvPr/>
        </p:nvSpPr>
        <p:spPr>
          <a:xfrm>
            <a:off x="2882160" y="2570040"/>
            <a:ext cx="273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MERCURIO: 19 DE ENERO DE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Diagnóstico: Debilida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843120" y="1500120"/>
            <a:ext cx="7843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Otros temas a mejora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Necesidad de incorporar mecanismos más efectivos de participación ciudada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Consolidación de la desconcentración de las funciones de revisión y recomendación de proyect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Cambios tecnológic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Incorporación de criterios de equidad social y territorial (y otros criterios) en la formulación, priorización (post evaluación) y otras etapas del ciclo de proyect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Incorporación de la valoración económica de impactos ambientales en las evaluaciones de proyect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EAD19E-42F2-4CBE-83A7-65BAC40CA2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Diagnóstico: Debilida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843120" y="1500120"/>
            <a:ext cx="7843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Otros temas a mejora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Mejoramiento de sistemas y métodos de selección, capacitación y sistemas de incentivos para los recursos human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Implementación de un sistema de evaluación ex post (a abordar en el proyecto de Agencia de la Calidad?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Incorporación de herramientas de análisis de riesgo en la evaluación de proyectos y program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Centralización de la evaluación ex ante de proyectos, estudios y programas (hoy separado entre Mideplan y Dipr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Consolidación del análisis de concesiones dentro del SN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77192A-E26B-4A0F-BE11-563A81A3DF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0:20:56Z</dcterms:created>
  <dc:creator>Claudio Seebach</dc:creator>
  <dc:description/>
  <dc:language>en-US</dc:language>
  <cp:lastModifiedBy>Leonel Medina Daza</cp:lastModifiedBy>
  <cp:lastPrinted>2009-01-09T13:40:27Z</cp:lastPrinted>
  <dcterms:modified xsi:type="dcterms:W3CDTF">2010-06-21T17:01:14Z</dcterms:modified>
  <cp:revision>343</cp:revision>
  <dc:subject/>
  <dc:title>Slide 1</dc:title>
</cp:coreProperties>
</file>