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7A1-9BDC-4E51-AEF7-0801324B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6BC-386F-4189-A550-755EE2EC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95C-C4D3-4E89-80AC-73C309E5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E94-01B4-4877-B88C-8E1E5703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970E-368C-45C5-AD78-C2CCB328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99B2-37C1-4FF5-B086-B9D2231D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F4E3-A793-42F9-9516-1D2E12F8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A339-F7F3-49CC-AC48-D0527EC0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A050-519F-40A1-8FBC-B94CBA02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2848-A5E2-4F6A-8DEF-34C28EAB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0E09-EA32-4843-BA38-F1AEFD39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654-E62E-4F2C-911B-E0B55813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59BE-0D2C-4BAF-B33C-50EF357E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2BB7-C2C3-491F-A1EA-B3663CB3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F776-C413-47DB-9909-E5B1E179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65D5-EFAB-4B3D-BD6D-6558C376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7680-3564-4A47-AB91-F27A684C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49F-9984-4FBF-905F-A5209597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5DF-AADE-4424-B28B-417666ED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14D-3FDB-45A5-A9C7-2B645711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315E-7F3B-42D9-B5CA-9650891A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D80-2682-4D80-AE73-00A8BB15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F6D-F71B-40A4-BA4A-94F996C5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FEE-67E2-4FC3-B985-02936D62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8320" y="-4680"/>
                <a:ext cx="982800" cy="683424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6834240"/>
                  <a:gd name="textAreaBottom" fmla="*/ 6834600 h 6834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5080" y="1695240"/>
                <a:ext cx="982800" cy="50076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8320" y="1283760"/>
                <a:ext cx="982800" cy="50292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8320" y="147600"/>
                <a:ext cx="982800" cy="30348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5080" y="987840"/>
                <a:ext cx="982800" cy="34848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6880" y="679680"/>
                <a:ext cx="982800" cy="43272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7960" y="372960"/>
                <a:ext cx="995400" cy="374400"/>
              </a:xfrm>
              <a:custGeom>
                <a:avLst/>
                <a:gdLst>
                  <a:gd name="textAreaLeft" fmla="*/ -360 w 995400"/>
                  <a:gd name="textAreaRight" fmla="*/ 995400 w 99540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3560" y="3935160"/>
                <a:ext cx="982440" cy="49932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7160" y="3535200"/>
                <a:ext cx="982800" cy="50076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7160" y="2396160"/>
                <a:ext cx="982800" cy="30456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7160" y="3230640"/>
                <a:ext cx="982800" cy="34740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7160" y="2930040"/>
                <a:ext cx="982800" cy="428040"/>
              </a:xfrm>
              <a:custGeom>
                <a:avLst/>
                <a:gdLst>
                  <a:gd name="textAreaLeft" fmla="*/ 360 w 982800"/>
                  <a:gd name="textAreaRight" fmla="*/ 983520 w 98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6800" y="2617920"/>
                <a:ext cx="995400" cy="375480"/>
              </a:xfrm>
              <a:custGeom>
                <a:avLst/>
                <a:gdLst>
                  <a:gd name="textAreaLeft" fmla="*/ -360 w 995400"/>
                  <a:gd name="textAreaRight" fmla="*/ 995400 w 9954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7640"/>
                <a:ext cx="982440" cy="50040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1480" y="4556160"/>
                <a:ext cx="982440" cy="50292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3560" y="5663520"/>
                <a:ext cx="982440" cy="30348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440" y="6187680"/>
                <a:ext cx="345960" cy="98424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4240"/>
                  <a:gd name="textAreaBottom" fmla="*/ 984600 h 98424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7760"/>
                <a:ext cx="982440" cy="429120"/>
              </a:xfrm>
              <a:custGeom>
                <a:avLst/>
                <a:gdLst>
                  <a:gd name="textAreaLeft" fmla="*/ -360 w 982440"/>
                  <a:gd name="textAreaRight" fmla="*/ 982440 w 98244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8520"/>
                <a:ext cx="995400" cy="375480"/>
              </a:xfrm>
              <a:custGeom>
                <a:avLst/>
                <a:gdLst>
                  <a:gd name="textAreaLeft" fmla="*/ -360 w 995400"/>
                  <a:gd name="textAreaRight" fmla="*/ 995400 w 99540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6CCE-EC24-45CB-B0C1-3EF384644C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388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212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524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600" y="277560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28E6-1358-4643-ABE7-ADB68BA99CD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Estrategia Nacional de Desarrollo busca dar coherencia a las decisiones públicas y priv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Arial"/>
              </a:rPr>
              <a:t>Desarroll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: es un proceso complejo que busca producir y compatibiliz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gres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ustentabilidad Ambi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Un elemento fundamental de una E. de D. es contar con reglas del juego estable ==&gt; Establecer consensos y generar Políticas de Estado que tengan mayor legitimidad soci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1066680" y="1447920"/>
            <a:ext cx="80773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" descr="LOGO DII bco"/>
          <p:cNvPicPr/>
          <p:nvPr/>
        </p:nvPicPr>
        <p:blipFill>
          <a:blip r:embed="rId1"/>
          <a:stretch/>
        </p:blipFill>
        <p:spPr>
          <a:xfrm>
            <a:off x="755640" y="0"/>
            <a:ext cx="2376360" cy="5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9" descr=""/>
          <p:cNvPicPr/>
          <p:nvPr/>
        </p:nvPicPr>
        <p:blipFill>
          <a:blip r:embed="rId2"/>
          <a:stretch/>
        </p:blipFill>
        <p:spPr>
          <a:xfrm>
            <a:off x="8028000" y="0"/>
            <a:ext cx="93672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el S.N.I. es posible identificar tres estados sucesivos por los que pasan todos los proy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r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914400" y="1981080"/>
            <a:ext cx="11430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514600" y="1981080"/>
            <a:ext cx="106668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191120" y="1981080"/>
            <a:ext cx="20574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6858000" y="1981080"/>
            <a:ext cx="1828800" cy="533520"/>
          </a:xfrm>
          <a:prstGeom prst="rect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191120" y="3048120"/>
            <a:ext cx="2209680" cy="53316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4191120" y="4114800"/>
            <a:ext cx="220968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4191120" y="5257800"/>
            <a:ext cx="2286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05740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36576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62485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754380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51814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51814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51814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7"/>
          <p:cNvSpPr/>
          <p:nvPr/>
        </p:nvSpPr>
        <p:spPr>
          <a:xfrm>
            <a:off x="6858000" y="3886200"/>
            <a:ext cx="1905120" cy="6094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conv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9"/>
          <p:cNvSpPr/>
          <p:nvPr/>
        </p:nvSpPr>
        <p:spPr>
          <a:xfrm>
            <a:off x="7848720" y="2514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0"/>
          <p:cNvSpPr/>
          <p:nvPr/>
        </p:nvSpPr>
        <p:spPr>
          <a:xfrm>
            <a:off x="457200" y="2743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1"/>
          <p:cNvSpPr/>
          <p:nvPr/>
        </p:nvSpPr>
        <p:spPr>
          <a:xfrm>
            <a:off x="5335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CLO DE VIDA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7"/>
          <p:cNvSpPr/>
          <p:nvPr/>
        </p:nvSpPr>
        <p:spPr>
          <a:xfrm flipH="1">
            <a:off x="640044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8"/>
          <p:cNvSpPr/>
          <p:nvPr/>
        </p:nvSpPr>
        <p:spPr>
          <a:xfrm>
            <a:off x="914400" y="60958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447920" y="6172200"/>
            <a:ext cx="7391160" cy="4572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ON EX -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2"/>
          <p:cNvSpPr/>
          <p:nvPr/>
        </p:nvSpPr>
        <p:spPr>
          <a:xfrm>
            <a:off x="990720" y="99072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447560"/>
            <a:ext cx="7437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MIDEPLAN y a la DIPRES, les corresponde normar y administrar el S.N.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S.N.I. implementa procedimientos que permiten 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ticip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ón coordinada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s distintas instituciones pú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as que participan en el proceso de invers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ya se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 su calidad de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stor o Pro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mu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u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 Operad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28"/>
          <p:cNvSpPr/>
          <p:nvPr/>
        </p:nvSpPr>
        <p:spPr>
          <a:xfrm>
            <a:off x="1905120" y="1447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029"/>
          <p:cNvSpPr/>
          <p:nvPr/>
        </p:nvSpPr>
        <p:spPr>
          <a:xfrm>
            <a:off x="1905120" y="2438280"/>
            <a:ext cx="2666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030"/>
          <p:cNvSpPr/>
          <p:nvPr/>
        </p:nvSpPr>
        <p:spPr>
          <a:xfrm>
            <a:off x="6019920" y="2209680"/>
            <a:ext cx="274320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E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31"/>
          <p:cNvSpPr/>
          <p:nvPr/>
        </p:nvSpPr>
        <p:spPr>
          <a:xfrm>
            <a:off x="1905120" y="3733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Financ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032"/>
          <p:cNvSpPr/>
          <p:nvPr/>
        </p:nvSpPr>
        <p:spPr>
          <a:xfrm>
            <a:off x="6248520" y="3657600"/>
            <a:ext cx="259056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STE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C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33"/>
          <p:cNvSpPr/>
          <p:nvPr/>
        </p:nvSpPr>
        <p:spPr>
          <a:xfrm>
            <a:off x="2057400" y="4876920"/>
            <a:ext cx="26668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34"/>
          <p:cNvSpPr/>
          <p:nvPr/>
        </p:nvSpPr>
        <p:spPr>
          <a:xfrm>
            <a:off x="1981080" y="6019920"/>
            <a:ext cx="2743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dad Oper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41"/>
          <p:cNvSpPr/>
          <p:nvPr/>
        </p:nvSpPr>
        <p:spPr>
          <a:xfrm>
            <a:off x="320040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046"/>
          <p:cNvSpPr/>
          <p:nvPr/>
        </p:nvSpPr>
        <p:spPr>
          <a:xfrm>
            <a:off x="4572000" y="2590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7"/>
          <p:cNvSpPr/>
          <p:nvPr/>
        </p:nvSpPr>
        <p:spPr>
          <a:xfrm flipH="1">
            <a:off x="4572000" y="281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048"/>
          <p:cNvSpPr/>
          <p:nvPr/>
        </p:nvSpPr>
        <p:spPr>
          <a:xfrm>
            <a:off x="3200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049"/>
          <p:cNvSpPr/>
          <p:nvPr/>
        </p:nvSpPr>
        <p:spPr>
          <a:xfrm>
            <a:off x="4572000" y="3962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50"/>
          <p:cNvSpPr/>
          <p:nvPr/>
        </p:nvSpPr>
        <p:spPr>
          <a:xfrm flipH="1">
            <a:off x="457164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51"/>
          <p:cNvSpPr/>
          <p:nvPr/>
        </p:nvSpPr>
        <p:spPr>
          <a:xfrm>
            <a:off x="320040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1052"/>
          <p:cNvSpPr/>
          <p:nvPr/>
        </p:nvSpPr>
        <p:spPr>
          <a:xfrm>
            <a:off x="6248520" y="5257800"/>
            <a:ext cx="2666880" cy="1143000"/>
          </a:xfrm>
          <a:prstGeom prst="ellipse">
            <a:avLst/>
          </a:prstGeom>
          <a:solidFill>
            <a:srgbClr val="c0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AL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054"/>
          <p:cNvSpPr/>
          <p:nvPr/>
        </p:nvSpPr>
        <p:spPr>
          <a:xfrm>
            <a:off x="8077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55"/>
          <p:cNvSpPr/>
          <p:nvPr/>
        </p:nvSpPr>
        <p:spPr>
          <a:xfrm flipV="1">
            <a:off x="6858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61"/>
          <p:cNvSpPr/>
          <p:nvPr/>
        </p:nvSpPr>
        <p:spPr>
          <a:xfrm>
            <a:off x="1143000" y="1066680"/>
            <a:ext cx="77724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62"/>
          <p:cNvSpPr/>
          <p:nvPr/>
        </p:nvSpPr>
        <p:spPr>
          <a:xfrm>
            <a:off x="320040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63"/>
          <p:cNvSpPr/>
          <p:nvPr/>
        </p:nvSpPr>
        <p:spPr>
          <a:xfrm>
            <a:off x="4708440" y="2133720"/>
            <a:ext cx="18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gresa iniciativa al S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068"/>
          <p:cNvSpPr/>
          <p:nvPr/>
        </p:nvSpPr>
        <p:spPr>
          <a:xfrm>
            <a:off x="4707720" y="298296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forma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69"/>
          <p:cNvSpPr/>
          <p:nvPr/>
        </p:nvSpPr>
        <p:spPr>
          <a:xfrm>
            <a:off x="2653200" y="32115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070"/>
          <p:cNvSpPr/>
          <p:nvPr/>
        </p:nvSpPr>
        <p:spPr>
          <a:xfrm>
            <a:off x="4594320" y="3581280"/>
            <a:ext cx="150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71"/>
          <p:cNvSpPr/>
          <p:nvPr/>
        </p:nvSpPr>
        <p:spPr>
          <a:xfrm>
            <a:off x="4556160" y="3516480"/>
            <a:ext cx="181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licita Asig.Pres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72"/>
          <p:cNvSpPr/>
          <p:nvPr/>
        </p:nvSpPr>
        <p:spPr>
          <a:xfrm>
            <a:off x="4628160" y="427824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sig. Presupuest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SUBSISTEM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ANALISIS TECNICO ECONO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FORMULACION PRESUPUES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EJECUCION PRESUPUES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SISTEMA DE EVALUACION EX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28"/>
          <p:cNvSpPr/>
          <p:nvPr/>
        </p:nvSpPr>
        <p:spPr>
          <a:xfrm>
            <a:off x="1295280" y="1600200"/>
            <a:ext cx="76201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onoce com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Estadísticas Básicas de Inversió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.E.B.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junto de normas, instrucciones y procedimientos que permite homogenizar y coordinar el proceso de identificación, formulación, presentación y evaluación de las iniciativas de inversión que llevan a cabo las distintas instituciones del sector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orientar el proceso de asignación de recursos hacia aquellas oportunidades de inversión más ren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990720" y="129528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NCIPALES ELEMEN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aboración y revisión anual de normas y procedimientos para el ingreso y presentación de proyectos al S.N.I. (manual SE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sión y análisis de iniciativas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 desarrollada por las SERPLACs y Departamento de Inversiones de MIDE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eño de Metodologías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joramiento y actualización de las metodologías v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ección de metodologías específicas por tipo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29"/>
          <p:cNvSpPr/>
          <p:nvPr/>
        </p:nvSpPr>
        <p:spPr>
          <a:xfrm>
            <a:off x="1066680" y="114300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álculo y actualización de precios sociales, de manera que reflejen el verdadero valor para la soc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DEPLAN calcula, estima y difun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sa social de descuen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sto de oportunidad del capita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l tipo de cambi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sto que le significa al país producir una divisa adicional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 la mano de ob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sto marginal en que incurre la sociedad por emplear un trabajador más de cierta calificació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 combusti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yectos de transp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lor social del tiemp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yectos de transporte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1066680" y="144792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establecimiento del S.N.I. requiere de la existencia de equipos profesionales calificados en el campo de formulación y evaluación social de proyectos distribuidos en toda la administración pública, capaces de identificar y preparar proye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ctividades realizadas por MIDEPL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sta el año 2006: Convenio con la U. Católic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Interamericano en Preparación y Evaluación de proyectos (CIAP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s Regionales Intensivos (CIAPEP reg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venio con el Instituto Latinoamericano de Planificación Económica y Social (ILP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Regional de Preparación y Evalu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de Administración y Control de Proyec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990720" y="91440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el año 2007: Cursos Básicos ejecutados directamente por Mide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2007: Se licitan cada año Cursos Intermedios en todas las regiones: Convenios con Universidades region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de 2008: Diploma en Preparación y Evaluación Social de Proyectos. Convenios vía licitación. A la fecha el Departamento de Ingeniería Industrial de la Universidad de Chile se ha adjudicado las tres primeras vers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990720" y="91440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ciones y orientaciones principales de la Estrategia Nacional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fundización y perfeccionamiento de la inserción internacional de Ch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ctor privado como motor del crecimiento productivo. El Estado asume un rol subsidiario y mantiene, sólo por excepción, áreas de produc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sector privado debe desempeñar su rol en un ambiente competitivo (mercados externos e intern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Estado debe asumir y perfeccionar su rol regulador; por ejemplo, en mercados no competitivos, en aspectos ambientales y en áreas especiales (Sist. financiero, mercado laboral, entre ot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219320" y="1219320"/>
            <a:ext cx="792468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ANALISIS TECNICO ECONOM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nco Integrado de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información computarizada de apoyo al S.N.I. , cuyos obje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lecer una base de datos de proyectos de inversión pública a nivel nacional, regional y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ir análisis agregados y específicos de la invers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ir análisis de Evaluación Ex – Post de loas iniciativas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1066680" y="121932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FORMULACIÓ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361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asignar recursos financieros a los proyectos de interés sectorial, regional y de las Empresas del Estado que cuentan con la recomendación favorable de MIDE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a las instituciones contar con los recursos financieros necesarios para ejecutar su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IPRES es la institución responsable de formular el Presupuesto del Sector Público, la que finalmente se aprueba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y de Presupuesto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vidualmente (caso Empresas del est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219320" y="1447920"/>
            <a:ext cx="79246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FORMULACIÓ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43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.N.D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PRES prepara marco presupues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DERE prepara marco tentativo global para cada reg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iones elaboran y presentan Proyecto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y distribuye en forma definitiva el marco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romulga la Ley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1295280" y="1828800"/>
            <a:ext cx="78487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54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ENDARIO DE FORMULACION PRESUPUESTA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1066680" y="36576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1066680" y="3886200"/>
            <a:ext cx="8077320" cy="0"/>
          </a:xfrm>
          <a:prstGeom prst="line">
            <a:avLst/>
          </a:prstGeom>
          <a:ln w="28440">
            <a:solidFill>
              <a:srgbClr val="547e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295280" y="16002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1295280" y="41148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127160" y="324180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6144a"/>
                </a:solidFill>
                <a:latin typeface="Arial"/>
              </a:rPr>
              <a:t>E     F     M     A     M     J     J     A     S     O     N     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4479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1447920" y="4648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4"/>
          <p:cNvSpPr/>
          <p:nvPr/>
        </p:nvSpPr>
        <p:spPr>
          <a:xfrm flipV="1">
            <a:off x="312408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5"/>
          <p:cNvSpPr/>
          <p:nvPr/>
        </p:nvSpPr>
        <p:spPr>
          <a:xfrm flipV="1">
            <a:off x="2438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2438280" y="2743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46483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"/>
          <p:cNvSpPr/>
          <p:nvPr/>
        </p:nvSpPr>
        <p:spPr>
          <a:xfrm flipV="1">
            <a:off x="502920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>
            <a:off x="502920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58672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54864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4800600" y="1828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6172200" y="1219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7391520" y="1219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2004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7"/>
          <p:cNvSpPr/>
          <p:nvPr/>
        </p:nvSpPr>
        <p:spPr>
          <a:xfrm>
            <a:off x="320040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8"/>
          <p:cNvSpPr/>
          <p:nvPr/>
        </p:nvSpPr>
        <p:spPr>
          <a:xfrm flipV="1">
            <a:off x="48769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9"/>
          <p:cNvSpPr/>
          <p:nvPr/>
        </p:nvSpPr>
        <p:spPr>
          <a:xfrm>
            <a:off x="449568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0"/>
          <p:cNvSpPr/>
          <p:nvPr/>
        </p:nvSpPr>
        <p:spPr>
          <a:xfrm>
            <a:off x="4495680" y="533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1"/>
          <p:cNvSpPr/>
          <p:nvPr/>
        </p:nvSpPr>
        <p:spPr>
          <a:xfrm flipV="1">
            <a:off x="5715000" y="4114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2"/>
          <p:cNvSpPr/>
          <p:nvPr/>
        </p:nvSpPr>
        <p:spPr>
          <a:xfrm>
            <a:off x="365760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3"/>
          <p:cNvSpPr/>
          <p:nvPr/>
        </p:nvSpPr>
        <p:spPr>
          <a:xfrm>
            <a:off x="1066680" y="57564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Y FORMUL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.N.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2819520" y="5985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OMEN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C. – ECONO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5"/>
          <p:cNvSpPr/>
          <p:nvPr/>
        </p:nvSpPr>
        <p:spPr>
          <a:xfrm>
            <a:off x="2895480" y="47242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NALISIS TE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CONOMICO PR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36"/>
          <p:cNvSpPr/>
          <p:nvPr/>
        </p:nvSpPr>
        <p:spPr>
          <a:xfrm>
            <a:off x="1447920" y="4191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DEPLAN/SERP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7"/>
          <p:cNvSpPr/>
          <p:nvPr/>
        </p:nvSpPr>
        <p:spPr>
          <a:xfrm>
            <a:off x="3260880" y="4079880"/>
            <a:ext cx="138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DE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RP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355760" y="4689360"/>
            <a:ext cx="146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9"/>
          <p:cNvSpPr/>
          <p:nvPr/>
        </p:nvSpPr>
        <p:spPr>
          <a:xfrm>
            <a:off x="4648320" y="4952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2666880" y="28954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IP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2362320" y="1793880"/>
            <a:ext cx="213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ESUPUESTO EXPLORATORIO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RCO FINANCI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2"/>
          <p:cNvSpPr/>
          <p:nvPr/>
        </p:nvSpPr>
        <p:spPr>
          <a:xfrm>
            <a:off x="3962520" y="12193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 Y PRES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U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3"/>
          <p:cNvSpPr/>
          <p:nvPr/>
        </p:nvSpPr>
        <p:spPr>
          <a:xfrm>
            <a:off x="5181480" y="57456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ENTAC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GRESO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4"/>
          <p:cNvSpPr/>
          <p:nvPr/>
        </p:nvSpPr>
        <p:spPr>
          <a:xfrm>
            <a:off x="7147080" y="650880"/>
            <a:ext cx="153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MULG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DE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7467480" y="2819520"/>
            <a:ext cx="1676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LEM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EY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7375680" y="407988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7604280" y="4003560"/>
            <a:ext cx="131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8"/>
          <p:cNvSpPr/>
          <p:nvPr/>
        </p:nvSpPr>
        <p:spPr>
          <a:xfrm>
            <a:off x="4343400" y="54864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CESO PRIORIZACION PROYECTOS F.N.D.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49"/>
          <p:cNvSpPr/>
          <p:nvPr/>
        </p:nvSpPr>
        <p:spPr>
          <a:xfrm>
            <a:off x="6248520" y="1295280"/>
            <a:ext cx="1295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PROB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PAR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Y. 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ES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PRESENTA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CONGR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EJECUCION PRESUPUEST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 objetivo es regular y supervisar la ejecución del gasto público y su respectivo financi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IPRES tiene como función regular y supervisar la ejecución del gasto público; sin perjuicio de las atribuciones de Contraloría General de la Re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formación de ejecución financiera se ingresa en el B.I.P. , mientras que la información de avance físico se maneja en forma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143000" y="1752480"/>
            <a:ext cx="800100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BSISTEMA DE EVALUACION EX - PO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36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sta la fecha este sistema no ha sido aplicado en su totalidad, sólo se han evalu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gunas iniciativas de inversión en forma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la eficiencia y eficacia de las iniciativas de inversión, mediante el control de su gestión y la medición de los resultados de corto, mediano y largo plazo que esa iniciativa tiene sobre la población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1295280" y="1676520"/>
            <a:ext cx="78487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ATEGIA NACIONAL DE 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05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ado debe jugar un rol promotor de la innovación y crecimiento productivo de la pequeña y median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Estado debe promover la equidad (Igualdad de oportunidades y superación de la pobre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entralización y desconcentración de la administración del  Estado, como parte de un proceso más global de modernización y democratización de la socie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1295280" y="1752480"/>
            <a:ext cx="78487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aspectos posi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ción de la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ción de la pobreza y la indig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vances en los indicador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quilibri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del comercio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lujo de capitales ex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143000" y="1371600"/>
            <a:ext cx="8001000" cy="0"/>
          </a:xfrm>
          <a:prstGeom prst="line">
            <a:avLst/>
          </a:prstGeom>
          <a:ln w="1260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desafí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ntener el crecimiento acelerado en el mediano plazo: Más y mejor inversión, entre otros aspec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gualdad de oportunidades y superación de la pobre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ducción desempl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blemas ambient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éficit de infraestruct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joramiento de la Educación y la Sal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ejoramiento de la calidad de vida urbana y ru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1066680" y="1600200"/>
            <a:ext cx="807732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Sistema Nacional de Inversiones al servicio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tal para Chile generar más y mejores proyectos (ojalá sobren buenos proyectos para que la Autoridad dec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no se debe sobredimensionar la capacidad de la inversión pública para resolver problemas (representa aproximadamente entre un 16 - 18% de la inversión total del paí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 contexto donde los recursos son escasos es primordial asignarlos en forma eficiente, esto implica necesariamente formular y evaluar bien lo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43000" y="1523880"/>
            <a:ext cx="800100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Sistema Nacional de Inversiones al servicio de la Estrategia Nacional de Desarrol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écnico-económ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n los mismos recursos se pueden resolver más necesidades y de mejor manera (“Eficiencia crea recurso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lít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 eficiencia pública legitima la acción del Gobierno y prestigia la democr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t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 ineficiencia contribuye a mantener o profundizar la desigualdad de oport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EFICIENCIA EN UN PROYECTO ALGUIEN LA P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1219320" y="1752480"/>
            <a:ext cx="7924680" cy="0"/>
          </a:xfrm>
          <a:prstGeom prst="line">
            <a:avLst/>
          </a:prstGeom>
          <a:ln w="19080">
            <a:solidFill>
              <a:srgbClr val="5495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lece las bases y condiciones sobre las cuales se desarrolla el proceso de inversión pública en el país, de manera de impulsar aquellas iniciativas de inversión más rentables para la sociedad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gún los lineamientos de la política de Gob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oyar la toma de decisiones sobre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lar por una eficiente asignación de recursos públicos, que son esca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ir a aumentar el bienestar general de la comunida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1066680" y="914400"/>
            <a:ext cx="807732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NACIONAL DE INVERSION PUBL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.N.I. se basa en la asignación de recursos por proyectos específ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los que previam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han sido evaluados desde un punto de vista socioeconóm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.N.I. abarca todo el proceso de inversión y perm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ormar ideas en proyectos de inversión,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erenciar aquellos cuya realización se justifica de aquellos cuya ejecución no es recomendable, desde el punto de vista de bienestar de l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990720" y="1219320"/>
            <a:ext cx="8153280" cy="0"/>
          </a:xfrm>
          <a:prstGeom prst="line">
            <a:avLst/>
          </a:prstGeom>
          <a:ln w="19080">
            <a:solidFill>
              <a:srgbClr val="3ca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8T17:10:39Z</dcterms:created>
  <dc:creator>Inversiones</dc:creator>
  <dc:description/>
  <dc:language>en-US</dc:language>
  <cp:lastModifiedBy>Leonel Medina Daza</cp:lastModifiedBy>
  <dcterms:modified xsi:type="dcterms:W3CDTF">2010-06-21T17:03:03Z</dcterms:modified>
  <cp:revision>25</cp:revision>
  <dc:subject/>
  <dc:title>SISTEMA NACIONAL DE INVERSION PUBLICA</dc:title>
</cp:coreProperties>
</file>