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B9B-4095-4EF6-85F6-DF1E8AE4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445-FF58-4525-82B9-AFE22196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43B-B649-4F4E-9870-8E3B7BBD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B68-6D32-472A-99AE-34A652B7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14B6-7C3F-4DC6-8BA2-767A8F75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0A69-21CF-4DAC-9AD6-476BD0D8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285E-5ADD-4495-AC05-2FA3450D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725F-03FD-465F-B5F8-C1408E9F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9999-26AB-4772-8086-058002FF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ACE6-F269-4DE8-9365-E58830F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E14F-9D72-4218-876B-3CE0E59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EBC-0E27-4D3E-BB41-8826882B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3890-91C5-4156-8E1E-77FCC331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476D-0168-409E-B82D-3B9637A4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D928-D999-48A2-BACC-0C86BFF7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6CF6-361E-42F4-8D99-C3A62EE9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3B51-BCB4-4954-8703-E4EB07D1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C34E-138C-4011-B9F5-A293E1B6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7B34-5ECF-4E48-B9F9-4B9B8451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7D2E-320D-4028-B9CA-3DE64B83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A42C3-6D14-4BC1-A218-A44DF03A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C7CC-BA83-432C-999A-9E6F07F5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FCD-DDB4-456B-A038-898D34FF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9A3C-84B0-4C30-A2C0-AB09E0CE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4542-5836-4C44-B8DA-510666B8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FE31F-FA22-4A82-85D1-D20AA526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D244-702C-47C6-BB91-21D91AC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ED8A-3E40-440F-AEF2-B2819875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4CC4-9B4F-4966-B31A-F0EB11D7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17CC-C0A3-412C-9210-93709D14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DD50-737D-4EE4-88A5-6BD9931B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38C2-8393-4422-8B94-BAB48353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4177-692B-409A-8526-EF41A3CE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491-D92E-40E0-B834-E580B011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B902-01E4-4DC2-AB14-75FE45E2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20A8-5E68-42B9-A44D-4666CE14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4495D-579E-484B-9436-DDA48AB9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2FCB2-0ADD-4078-9C4A-0828600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A909-612C-484B-AF90-468D7BB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97F8-9B72-4E01-97F5-00C3031A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810C9-F739-42F1-B2E4-73EA7824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1DD3-027B-40D7-8FCE-5CB1D91D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5C31-429D-4C67-A240-3CFC88C9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F562B-509F-4CF8-B6CB-03A160E6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798-E6E5-4796-A73D-1A844D07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6370-2AF1-4CB9-B298-EC7ADC84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FF9DE-E183-4FE3-A29C-46FC3BE6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DC11F-D0C4-4F01-8DA5-3592BE5C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DA3E2-D776-4D13-9D4A-A582F6C0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AFEB1-1F09-4373-A328-4A6DF409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6B16A-5250-4024-B9E5-62E0BFC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E3035-3146-4DC4-AA08-B9A6A9E9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E01F-10C7-474C-8E24-3D506A7E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8297E-7586-4A68-98B8-749863F9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8CC29-0005-4991-A9F4-26BDBD16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C71-CBBD-4259-A9BC-1EA7476C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E3BAE-AD53-4BA9-8FE2-6271250F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5F0-B37A-45B1-86C8-AD1A398C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5E4-D6D7-48B3-8F75-D8221A3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7CE-3B17-4715-8BD5-148719E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A7A13-C717-4DB3-8004-39D22B31DD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76295-8AF4-412E-B58C-C053CCA58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610740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4D2E5-534D-475E-A5E5-2913D3AC3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D8975-ECA1-4D86-B90B-077C75125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9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5E178-2ED8-4B92-9179-D876EC94AF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8B71B-7366-4B11-A019-0C1E274B5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9DDDD-6CF5-4532-84A7-230DCC038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8E7FF-02C3-4E27-9E42-39064DBA2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9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EA3D1-DABA-4AEA-9D4E-90D4C5A26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1FBC7-8039-4011-ADAB-FBF05AD8F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cionalidad para el Sistema de Evaluación del Gobi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duardo Contreras – Juan Francisco Pache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oviembre de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" descr="LOGO DII bco"/>
          <p:cNvPicPr/>
          <p:nvPr/>
        </p:nvPicPr>
        <p:blipFill>
          <a:blip r:embed="rId1"/>
          <a:stretch/>
        </p:blipFill>
        <p:spPr>
          <a:xfrm>
            <a:off x="3125880" y="404640"/>
            <a:ext cx="2892240" cy="1082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9" descr=""/>
          <p:cNvPicPr/>
          <p:nvPr/>
        </p:nvPicPr>
        <p:blipFill>
          <a:blip r:embed="rId2"/>
          <a:stretch/>
        </p:blipFill>
        <p:spPr>
          <a:xfrm>
            <a:off x="6804000" y="163440"/>
            <a:ext cx="1305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tras experi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43120" y="150012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ew Public Management y Sistemas de Evalu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os modelos Neo Zelandés y Australiano, implicaron una fuerte descentralización (hacia unidades ejecutoras; Ministerios, etc) de la toma de decisiones y el manejo de recurs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Basado en la profesionalización de los gerentes públicos y su independencia de los cambios de gobie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ompañado de incentivos (y des incentivos) por desempeño basados en evalu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chas evaluaciones son sobre los resultados, impactos, eficiencia, calidad y agregación de valor de las decisiones tomadas, incluyendo las decisione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Evaluación presupuestaria en tres países, Argentina, Australia y los Estados Unidos de Norteamérica”. Hernán Pablo Llosas. Departamento de Economía, Universidad Nacional de La Plata. 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eb :Government of Western Australia | Department of the Premier and Cabinet y del Department of Treasury and Fi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"MANAGEMENT DE LA INTERDEPENDENCIA GLOBAL…” Omar Guerrero. 2000. Revista Digital Universita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EW ZEALAND'S PUBLIC SECTOR FINANCIAL MANAGEMENT SYSTEM: FINANCIAL RESOURCE EROSION IN GOVERNMENT DEPARTMENTS”. Thesis for the degree of Ph.D. by Susan M. Newberry. University of Canterbury.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87D0B-59C0-42AC-96D1-4992EBDF5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43120" y="142884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s Sistemas Nacionales de Inversión Pública pueden ser analizados desde la Teoría de Siste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anterior permite identificar, a modo de </a:t>
            </a:r>
            <a:r>
              <a:rPr b="0" i="1" lang="es-CL" sz="2400" spc="-1" strike="noStrike">
                <a:solidFill>
                  <a:srgbClr val="000000"/>
                </a:solidFill>
                <a:latin typeface="Calibri"/>
              </a:rPr>
              <a:t>Check List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, funciones o subsistemas que pudiesen faltar o estar incompletos en nuestro S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e concluye que lo que tenemos desarrollado en Chile, son los subsistemas de “producción” y “apoyo” los cuales constituirían el sistema. Lo anterior implica que nuestro Sistema no está comple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CEPAL, Serie manuales N° 40: ““Los sistemas nacionales de inversión pública en Argentina, Brasil, México, Venezuela, y España como caso de referencia”,”. Edgar Ortegón y Juan Francisco Pacheco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EPAL, Serie manuales N° 34: “Los Sistemas nacionales de inversión pública en Centroamérica: marco teórico y análisis comparativo multivariado”. Edgar Ortegón y Juan Francisco Pacheco.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 organización sistémica”, en “Teorías organizacionales y administración”,  Dávila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Eficiencia de la Burocracia” Anthony Giddesns, Ed. Alianza Universitaría,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istemas complejos y gestión pública”, Mario Waissbluth. Documento de Trabajo de la Serie de Gestión. Departamento de Ingeniería Industrial de la Universidad de Chile. Febrero de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1EAC3-964A-44F3-ADE1-EB8E2F469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: Un complemento al diagnó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9D0F0-D634-476C-92CC-0DFBA8132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4"/>
          <p:cNvGrpSpPr/>
          <p:nvPr/>
        </p:nvGrpSpPr>
        <p:grpSpPr>
          <a:xfrm>
            <a:off x="3219480" y="1643040"/>
            <a:ext cx="5638680" cy="4343400"/>
            <a:chOff x="3219480" y="1643040"/>
            <a:chExt cx="5638680" cy="4343400"/>
          </a:xfrm>
        </p:grpSpPr>
        <p:sp>
          <p:nvSpPr>
            <p:cNvPr id="261" name="AutoShape 20"/>
            <p:cNvSpPr/>
            <p:nvPr/>
          </p:nvSpPr>
          <p:spPr>
            <a:xfrm>
              <a:off x="3219480" y="1643040"/>
              <a:ext cx="563868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9"/>
            <p:cNvSpPr/>
            <p:nvPr/>
          </p:nvSpPr>
          <p:spPr>
            <a:xfrm>
              <a:off x="5048280" y="1985760"/>
              <a:ext cx="1904400" cy="114300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ganismos  Públicos  (Inversionista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8"/>
            <p:cNvSpPr/>
            <p:nvPr/>
          </p:nvSpPr>
          <p:spPr>
            <a:xfrm>
              <a:off x="5048280" y="312912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Geren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 Órgano Re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 el sistema y coordina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5048280" y="438624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dap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icipación ciudada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ategia y prospec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mular y consensuar Visión de largo plazo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3371760" y="3129120"/>
              <a:ext cx="167616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Manteni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os de control, generación de leyes, norm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ción y reclutamiento de capital Humano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6952680" y="3129120"/>
              <a:ext cx="1752480" cy="125712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 y Técn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21 Rectángulo"/>
          <p:cNvSpPr/>
          <p:nvPr/>
        </p:nvSpPr>
        <p:spPr>
          <a:xfrm>
            <a:off x="214200" y="2459160"/>
            <a:ext cx="300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sub-sistemas que operan actualmente están en color celeste. Sin embargo, los sub-sistemas amarillos no están comple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3 Elipse"/>
          <p:cNvSpPr/>
          <p:nvPr/>
        </p:nvSpPr>
        <p:spPr>
          <a:xfrm>
            <a:off x="6667560" y="5137200"/>
            <a:ext cx="2190600" cy="1219320"/>
          </a:xfrm>
          <a:prstGeom prst="ellips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4 CuadroTexto"/>
          <p:cNvSpPr/>
          <p:nvPr/>
        </p:nvSpPr>
        <p:spPr>
          <a:xfrm>
            <a:off x="7215120" y="557208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o es hoy el “Sist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16 Conector recto de flecha"/>
          <p:cNvCxnSpPr/>
          <p:nvPr/>
        </p:nvCxnSpPr>
        <p:spPr>
          <a:xfrm flipV="1">
            <a:off x="7643880" y="4145040"/>
            <a:ext cx="2160" cy="99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ecesidad de UN organismo r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paración de funciones: Formulación, evaluación, ex ante, financiamiento, ejecución, evaluación ex post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(además de fuentes revisadas: proyecto de Mario Drag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n términos institucionales: independencia de las instituciones : administradora del sistema de evaluación, asignadora de fondos, ejecutoras, y elaboradores de normas y ley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6D571-8A1D-49B7-BE36-4BDE07CC0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rofesionalización e independencia respecto a vaivenes políticos al menos en el rol de Dirección del SNIP y su equipo de analistas de nivel central y regiones. Mediante el sistema de AD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F083F-C859-4A7A-B65A-465FAE383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229F0-8BAC-44AA-A409-7942C7A53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0" y="2400480"/>
            <a:ext cx="8981640" cy="3314520"/>
            <a:chOff x="0" y="2400480"/>
            <a:chExt cx="8981640" cy="3314520"/>
          </a:xfrm>
        </p:grpSpPr>
        <p:sp>
          <p:nvSpPr>
            <p:cNvPr id="280" name="Text Box 3"/>
            <p:cNvSpPr/>
            <p:nvPr/>
          </p:nvSpPr>
          <p:spPr>
            <a:xfrm>
              <a:off x="3228840" y="2400480"/>
              <a:ext cx="2371680" cy="4953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Agenci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"/>
            <p:cNvSpPr/>
            <p:nvPr/>
          </p:nvSpPr>
          <p:spPr>
            <a:xfrm>
              <a:off x="4390920" y="3314880"/>
              <a:ext cx="1162080" cy="599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7819920" y="3314880"/>
              <a:ext cx="1161720" cy="2400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22876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 Dirección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352404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4848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6153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142848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2"/>
            <p:cNvSpPr/>
            <p:nvPr/>
          </p:nvSpPr>
          <p:spPr>
            <a:xfrm>
              <a:off x="2790720" y="331488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3"/>
            <p:cNvSpPr/>
            <p:nvPr/>
          </p:nvSpPr>
          <p:spPr>
            <a:xfrm>
              <a:off x="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3929040" y="16225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295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296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8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9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0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1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03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04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5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06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8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42 Rectángulo"/>
          <p:cNvSpPr/>
          <p:nvPr/>
        </p:nvSpPr>
        <p:spPr>
          <a:xfrm>
            <a:off x="2714760" y="3309840"/>
            <a:ext cx="1533240" cy="59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31"/>
          <p:cNvCxnSpPr>
            <a:endCxn id="291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17" name="Text Box 17"/>
          <p:cNvSpPr/>
          <p:nvPr/>
        </p:nvSpPr>
        <p:spPr>
          <a:xfrm>
            <a:off x="14292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31"/>
          <p:cNvCxnSpPr/>
          <p:nvPr/>
        </p:nvCxnSpPr>
        <p:spPr>
          <a:xfrm>
            <a:off x="427680" y="1928520"/>
            <a:ext cx="1080" cy="1360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19" name="AutoShape 31"/>
          <p:cNvCxnSpPr/>
          <p:nvPr/>
        </p:nvCxnSpPr>
        <p:spPr>
          <a:xfrm flipH="1">
            <a:off x="580680" y="1643040"/>
            <a:ext cx="3348720" cy="1666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20" name="AutoShape 28"/>
          <p:cNvCxnSpPr/>
          <p:nvPr/>
        </p:nvCxnSpPr>
        <p:spPr>
          <a:xfrm>
            <a:off x="1214280" y="1714680"/>
            <a:ext cx="250128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21" name="AutoShape 32"/>
          <p:cNvCxnSpPr>
            <a:stCxn id="290" idx="2"/>
            <a:endCxn id="280" idx="0"/>
          </p:cNvCxnSpPr>
          <p:nvPr/>
        </p:nvCxnSpPr>
        <p:spPr>
          <a:xfrm>
            <a:off x="4405320" y="1928880"/>
            <a:ext cx="10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49 Rectángulo"/>
          <p:cNvSpPr/>
          <p:nvPr/>
        </p:nvSpPr>
        <p:spPr>
          <a:xfrm>
            <a:off x="2933640" y="1928880"/>
            <a:ext cx="3067200" cy="89532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70BB5-E4FE-4242-8A1F-4E6E5701F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0" y="2286000"/>
            <a:ext cx="8981640" cy="3428640"/>
            <a:chOff x="0" y="2286000"/>
            <a:chExt cx="8981640" cy="3428640"/>
          </a:xfrm>
        </p:grpSpPr>
        <p:sp>
          <p:nvSpPr>
            <p:cNvPr id="329" name="Text Box 3"/>
            <p:cNvSpPr/>
            <p:nvPr/>
          </p:nvSpPr>
          <p:spPr>
            <a:xfrm>
              <a:off x="3214800" y="2286000"/>
              <a:ext cx="2371680" cy="4953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secretarí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4390920" y="3314520"/>
              <a:ext cx="116208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visió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7819920" y="3314520"/>
              <a:ext cx="1161720" cy="2400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22876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352404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9"/>
            <p:cNvSpPr/>
            <p:nvPr/>
          </p:nvSpPr>
          <p:spPr>
            <a:xfrm>
              <a:off x="4848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6153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142848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2790720" y="331452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3"/>
            <p:cNvSpPr/>
            <p:nvPr/>
          </p:nvSpPr>
          <p:spPr>
            <a:xfrm>
              <a:off x="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14"/>
          <p:cNvSpPr/>
          <p:nvPr/>
        </p:nvSpPr>
        <p:spPr>
          <a:xfrm>
            <a:off x="3929040" y="15001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344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345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7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8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9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0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1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52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53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54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55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57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42 Rectángulo"/>
          <p:cNvSpPr/>
          <p:nvPr/>
        </p:nvSpPr>
        <p:spPr>
          <a:xfrm>
            <a:off x="2714760" y="3357720"/>
            <a:ext cx="153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.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31"/>
          <p:cNvCxnSpPr>
            <a:endCxn id="340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66" name="AutoShape 32"/>
          <p:cNvCxnSpPr>
            <a:stCxn id="339" idx="2"/>
            <a:endCxn id="329" idx="0"/>
          </p:cNvCxnSpPr>
          <p:nvPr/>
        </p:nvCxnSpPr>
        <p:spPr>
          <a:xfrm flipH="1">
            <a:off x="4399920" y="1806480"/>
            <a:ext cx="54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5 Rectángulo"/>
          <p:cNvSpPr/>
          <p:nvPr/>
        </p:nvSpPr>
        <p:spPr>
          <a:xfrm>
            <a:off x="3174840" y="2000160"/>
            <a:ext cx="123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10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Ventajas y Desventajas de las altern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37B3D-E70D-4D40-B4FF-3B6A3002C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552960" y="1928880"/>
            <a:ext cx="8370000" cy="4000320"/>
            <a:chOff x="552960" y="1928880"/>
            <a:chExt cx="8370000" cy="4000320"/>
          </a:xfrm>
        </p:grpSpPr>
        <p:sp>
          <p:nvSpPr>
            <p:cNvPr id="374" name="AutoShape 3"/>
            <p:cNvSpPr/>
            <p:nvPr/>
          </p:nvSpPr>
          <p:spPr>
            <a:xfrm>
              <a:off x="1071720" y="1928880"/>
              <a:ext cx="6095880" cy="40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"/>
            <p:cNvSpPr/>
            <p:nvPr/>
          </p:nvSpPr>
          <p:spPr>
            <a:xfrm>
              <a:off x="1819440" y="2611440"/>
              <a:ext cx="164880" cy="29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104" h="1844">
                  <a:moveTo>
                    <a:pt x="34" y="1844"/>
                  </a:moveTo>
                  <a:lnTo>
                    <a:pt x="35" y="81"/>
                  </a:lnTo>
                  <a:lnTo>
                    <a:pt x="70" y="81"/>
                  </a:lnTo>
                  <a:lnTo>
                    <a:pt x="68" y="1844"/>
                  </a:lnTo>
                  <a:lnTo>
                    <a:pt x="34" y="1844"/>
                  </a:lnTo>
                  <a:close/>
                  <a:moveTo>
                    <a:pt x="0" y="97"/>
                  </a:moveTo>
                  <a:lnTo>
                    <a:pt x="52" y="0"/>
                  </a:lnTo>
                  <a:lnTo>
                    <a:pt x="104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"/>
            <p:cNvSpPr/>
            <p:nvPr/>
          </p:nvSpPr>
          <p:spPr>
            <a:xfrm>
              <a:off x="1900440" y="5465880"/>
              <a:ext cx="4470120" cy="155520"/>
            </a:xfrm>
            <a:custGeom>
              <a:avLst/>
              <a:gdLst>
                <a:gd name="textAreaLeft" fmla="*/ 0 w 4470120"/>
                <a:gd name="textAreaRight" fmla="*/ 4470480 w 447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816" h="98">
                  <a:moveTo>
                    <a:pt x="0" y="31"/>
                  </a:moveTo>
                  <a:lnTo>
                    <a:pt x="2729" y="32"/>
                  </a:lnTo>
                  <a:lnTo>
                    <a:pt x="2729" y="65"/>
                  </a:lnTo>
                  <a:lnTo>
                    <a:pt x="0" y="64"/>
                  </a:lnTo>
                  <a:lnTo>
                    <a:pt x="0" y="31"/>
                  </a:lnTo>
                  <a:close/>
                  <a:moveTo>
                    <a:pt x="2712" y="0"/>
                  </a:moveTo>
                  <a:lnTo>
                    <a:pt x="2816" y="49"/>
                  </a:lnTo>
                  <a:lnTo>
                    <a:pt x="2712" y="98"/>
                  </a:lnTo>
                  <a:lnTo>
                    <a:pt x="271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7"/>
            <p:cNvSpPr/>
            <p:nvPr/>
          </p:nvSpPr>
          <p:spPr>
            <a:xfrm>
              <a:off x="552960" y="2922480"/>
              <a:ext cx="1155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Respaldo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"/>
            <p:cNvSpPr/>
            <p:nvPr/>
          </p:nvSpPr>
          <p:spPr>
            <a:xfrm>
              <a:off x="562320" y="327960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Polític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4535280" y="5637240"/>
              <a:ext cx="179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Independenc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6"/>
            <p:cNvSpPr/>
            <p:nvPr/>
          </p:nvSpPr>
          <p:spPr>
            <a:xfrm>
              <a:off x="4772520" y="4714920"/>
              <a:ext cx="4150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Alternativa 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TheSansCorrespondence"/>
                </a:rPr>
                <a:t>Riesgo:  Tecnócratas “Bypaseados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16"/>
          <p:cNvSpPr/>
          <p:nvPr/>
        </p:nvSpPr>
        <p:spPr>
          <a:xfrm>
            <a:off x="2138040" y="2622600"/>
            <a:ext cx="3538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heSansCorrespondence"/>
              </a:rPr>
              <a:t>Alternativa 2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Riesgo: Pérdidas de efi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por presion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66 Flecha derecha"/>
          <p:cNvSpPr/>
          <p:nvPr/>
        </p:nvSpPr>
        <p:spPr>
          <a:xfrm>
            <a:off x="4143240" y="2611440"/>
            <a:ext cx="1928880" cy="311040"/>
          </a:xfrm>
          <a:prstGeom prst="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67 Flecha abajo"/>
          <p:cNvSpPr/>
          <p:nvPr/>
        </p:nvSpPr>
        <p:spPr>
          <a:xfrm rot="10800000">
            <a:off x="6553080" y="3449520"/>
            <a:ext cx="395280" cy="112248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68 CuadroTexto"/>
          <p:cNvSpPr/>
          <p:nvPr/>
        </p:nvSpPr>
        <p:spPr>
          <a:xfrm>
            <a:off x="6286680" y="1857240"/>
            <a:ext cx="207144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derazgo del Director de la Agencia o Sub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ós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ras experiencias y revisión de la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álisis de la economía política del 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7EE58-6E0F-464E-91A6-26EBA6B7C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roducción: Algunas cifras de Inversión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BAA5F-74D1-4408-9DD1-AD5812BAE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428920"/>
          <a:ext cx="6615000" cy="3352680"/>
        </p:xfrm>
        <a:graphic>
          <a:graphicData uri="http://schemas.openxmlformats.org/drawingml/2006/table">
            <a:tbl>
              <a:tblPr/>
              <a:tblGrid>
                <a:gridCol w="438120"/>
                <a:gridCol w="1835280"/>
                <a:gridCol w="3046320"/>
                <a:gridCol w="1295280"/>
              </a:tblGrid>
              <a:tr h="42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ipales agregados macroeconómicos, a precios corri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illones de pesos de cada añ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 gridSpan="3"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ción bruta de capital fijo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07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45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07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5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622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39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7 CuadroTexto"/>
          <p:cNvSpPr/>
          <p:nvPr/>
        </p:nvSpPr>
        <p:spPr>
          <a:xfrm>
            <a:off x="6215040" y="3929040"/>
            <a:ext cx="264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rsión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un 15% y un 20% de la inversió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43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) Las metodologías de evaluación socioeconómica. Actualmente 27 metodologías para distintos sect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) Los programas de capacitación de RRHH. Tanto los desarrollados internamente como los externalizados (históricamente con la P.U.C., Cepal-Ilpes y hoy con la U. de Chi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) El Banco Integrado de Proyectos (BI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) Precios so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CA5F9-3975-4EFF-8708-BB1F0ABC1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42760" y="1500120"/>
            <a:ext cx="330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articipación de la amplia gama de instituciones públ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un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 nivel comunal, las iniciativas 100% financiadas por los municipios no ingresan al S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rte de las iniciativas de inversión ya no se analizan en Mide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149BF-AB9E-4ABE-B9F0-AFDBDBADD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753080" y="1571760"/>
            <a:ext cx="3819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nsformación de ODEPLAN en Ministerio en 1990: debilitó considerablemente la gestión por parte del Departamento de Inversiones, en parte por la nueva estructura de relaciones entre dicho Departamento y sus contrapartes que son las unidades ejecutoras de proyectos, y en parte por la falta de recursos que permitieran mantener el nivel de excelencia de la fun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lo anterior: Rotación y fuga de profesionales especializados (lo contrario de lo recomendado por la escuela de NPM: Australia, Nueva Zelandia). Pérdida de “peso” de los analistas sectoriales (en términos relativos a sus contrapar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459F1-9649-4A95-8B8D-B89361D29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3200" y="1428840"/>
            <a:ext cx="44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mejorar la conformación de cartera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r análisis de coherencia de los proyectos con las estrategias sectoriales e intersectoriales, en los casos en que dichas estrategias existan. Más allá del actual sistema de análisis proyecto a proy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establecer mecanismos formales que posibiliten la complementación de la inversión pública con la priv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6BC98-B83B-4C1A-8A3B-64DA4CBB5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438800" y="1609560"/>
            <a:ext cx="4705200" cy="5248440"/>
          </a:xfrm>
          <a:prstGeom prst="rect">
            <a:avLst/>
          </a:prstGeom>
          <a:ln w="0">
            <a:noFill/>
          </a:ln>
        </p:spPr>
      </p:pic>
      <p:sp>
        <p:nvSpPr>
          <p:cNvPr id="242" name="6 Flecha derecha"/>
          <p:cNvSpPr/>
          <p:nvPr/>
        </p:nvSpPr>
        <p:spPr>
          <a:xfrm>
            <a:off x="4214880" y="228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7 Rectángulo"/>
          <p:cNvSpPr/>
          <p:nvPr/>
        </p:nvSpPr>
        <p:spPr>
          <a:xfrm>
            <a:off x="2882160" y="2570040"/>
            <a:ext cx="273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MERCURIO: 19 DE ENERO D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incorporar mecanismos más efectivos de participación ciudad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 la desconcentración de las funciones de revisión y recomendación de proyec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ambios tecnológic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criterios de equidad social y territorial (y otros criterios) en la formulación, priorización (post evaluación) y otras etapas del ciclo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la valoración económica de impactos ambientales en las evaluacione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8B972-CCC2-45C5-8D65-55FAF64FE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ejoramiento de sistemas y métodos de selección, capacitación y sistemas de incentivos para los recursos human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mplementación de un sistema de evaluación ex post (a abordar en el proyecto de Agencia de la Calidad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herramientas de análisis de riesgo en la evaluación de proyectos y progra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entralización de la evaluación ex ante de proyectos, estudios y programas (hoy separado entre Mideplan y Dip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l análisis de concesiones dentro del S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993E0-3C09-414F-A794-C8F0A173D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0:20:56Z</dcterms:created>
  <dc:creator>Claudio Seebach</dc:creator>
  <dc:description/>
  <dc:language>en-US</dc:language>
  <cp:lastModifiedBy>Leonel Medina Daza</cp:lastModifiedBy>
  <cp:lastPrinted>2009-01-09T13:40:27Z</cp:lastPrinted>
  <dcterms:modified xsi:type="dcterms:W3CDTF">2010-06-21T17:01:14Z</dcterms:modified>
  <cp:revision>343</cp:revision>
  <dc:subject/>
  <dc:title>Slide 1</dc:title>
</cp:coreProperties>
</file>