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8"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2858760" y="514440"/>
            <a:ext cx="342756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2EC0-6F33-40BE-9AFD-5A4EB49ED41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252E-AF76-457D-A858-15EB93595C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2859120" y="514440"/>
            <a:ext cx="3427560" cy="2571840"/>
          </a:xfrm>
          <a:prstGeom prst="rect">
            <a:avLst/>
          </a:prstGeom>
          <a:ln w="0">
            <a:noFill/>
          </a:ln>
        </p:spPr>
      </p:sp>
      <p:sp>
        <p:nvSpPr>
          <p:cNvPr id="15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4BB1-745A-40B4-9B3F-D222CF72C95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859120" y="514440"/>
            <a:ext cx="3427560" cy="2571840"/>
          </a:xfrm>
          <a:prstGeom prst="rect">
            <a:avLst/>
          </a:prstGeom>
          <a:ln w="0">
            <a:noFill/>
          </a:ln>
        </p:spPr>
      </p:sp>
      <p:sp>
        <p:nvSpPr>
          <p:cNvPr id="18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EC44-FAE8-4D8F-8B5D-6A70F5DDCA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859120" y="514440"/>
            <a:ext cx="3427560" cy="2571840"/>
          </a:xfrm>
          <a:prstGeom prst="rect">
            <a:avLst/>
          </a:prstGeom>
          <a:ln w="0">
            <a:noFill/>
          </a:ln>
        </p:spPr>
      </p:sp>
      <p:sp>
        <p:nvSpPr>
          <p:cNvPr id="18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6888-95CD-4404-8BE6-17B52CA3FD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859120" y="514440"/>
            <a:ext cx="3427560" cy="2571840"/>
          </a:xfrm>
          <a:prstGeom prst="rect">
            <a:avLst/>
          </a:prstGeom>
          <a:ln w="0">
            <a:noFill/>
          </a:ln>
        </p:spPr>
      </p:sp>
      <p:sp>
        <p:nvSpPr>
          <p:cNvPr id="18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C881-B5D4-4985-89C9-2E332C0417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859120" y="514440"/>
            <a:ext cx="3427560" cy="2571840"/>
          </a:xfrm>
          <a:prstGeom prst="rect">
            <a:avLst/>
          </a:prstGeom>
          <a:ln w="0">
            <a:noFill/>
          </a:ln>
        </p:spPr>
      </p:sp>
      <p:sp>
        <p:nvSpPr>
          <p:cNvPr id="1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A43A-BEBD-4D79-B43A-5362F71C26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859120" y="514440"/>
            <a:ext cx="3427560" cy="2571840"/>
          </a:xfrm>
          <a:prstGeom prst="rect">
            <a:avLst/>
          </a:prstGeom>
          <a:ln w="0">
            <a:noFill/>
          </a:ln>
        </p:spPr>
      </p:sp>
      <p:sp>
        <p:nvSpPr>
          <p:cNvPr id="19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01B5-4C23-4635-A6A6-D6269F6592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859120" y="514440"/>
            <a:ext cx="3427560" cy="2571840"/>
          </a:xfrm>
          <a:prstGeom prst="rect">
            <a:avLst/>
          </a:prstGeom>
          <a:ln w="0">
            <a:noFill/>
          </a:ln>
        </p:spPr>
      </p:sp>
      <p:sp>
        <p:nvSpPr>
          <p:cNvPr id="19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BB46-FA56-4944-9FDD-973324C046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859120" y="514440"/>
            <a:ext cx="3427560" cy="2571840"/>
          </a:xfrm>
          <a:prstGeom prst="rect">
            <a:avLst/>
          </a:prstGeom>
          <a:ln w="0">
            <a:noFill/>
          </a:ln>
        </p:spPr>
      </p:sp>
      <p:sp>
        <p:nvSpPr>
          <p:cNvPr id="19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709B-ADF2-4108-BDBC-A7CEF4EDCD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859120" y="514440"/>
            <a:ext cx="3427560" cy="2571840"/>
          </a:xfrm>
          <a:prstGeom prst="rect">
            <a:avLst/>
          </a:prstGeom>
          <a:ln w="0">
            <a:noFill/>
          </a:ln>
        </p:spPr>
      </p:sp>
      <p:sp>
        <p:nvSpPr>
          <p:cNvPr id="2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F581-39A6-404D-97CB-C2CC6206B7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859120" y="514440"/>
            <a:ext cx="3427560" cy="2571840"/>
          </a:xfrm>
          <a:prstGeom prst="rect">
            <a:avLst/>
          </a:prstGeom>
          <a:ln w="0">
            <a:noFill/>
          </a:ln>
        </p:spPr>
      </p:sp>
      <p:sp>
        <p:nvSpPr>
          <p:cNvPr id="2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1D14-7B30-497D-A1CB-832596A170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859120" y="514440"/>
            <a:ext cx="3427560" cy="2571840"/>
          </a:xfrm>
          <a:prstGeom prst="rect">
            <a:avLst/>
          </a:prstGeom>
          <a:ln w="0">
            <a:noFill/>
          </a:ln>
        </p:spPr>
      </p:sp>
      <p:sp>
        <p:nvSpPr>
          <p:cNvPr id="20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4540-9249-4BC2-9FDC-A61CDE7A03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2859120" y="514440"/>
            <a:ext cx="3427560" cy="2571840"/>
          </a:xfrm>
          <a:prstGeom prst="rect">
            <a:avLst/>
          </a:prstGeom>
          <a:ln w="0">
            <a:noFill/>
          </a:ln>
        </p:spPr>
      </p:sp>
      <p:sp>
        <p:nvSpPr>
          <p:cNvPr id="16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A86F-B7EC-4BD5-83BD-24C27D9441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859120" y="514440"/>
            <a:ext cx="3427560" cy="2571840"/>
          </a:xfrm>
          <a:prstGeom prst="rect">
            <a:avLst/>
          </a:prstGeom>
          <a:ln w="0">
            <a:noFill/>
          </a:ln>
        </p:spPr>
      </p:sp>
      <p:sp>
        <p:nvSpPr>
          <p:cNvPr id="21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9DEE-7C92-4AD7-924A-BF87142AB6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859120" y="514440"/>
            <a:ext cx="342756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4DE2-B4BF-4A5F-BA50-EE3D9283AE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859120" y="514440"/>
            <a:ext cx="3427560" cy="2571840"/>
          </a:xfrm>
          <a:prstGeom prst="rect">
            <a:avLst/>
          </a:prstGeom>
          <a:ln w="0">
            <a:noFill/>
          </a:ln>
        </p:spPr>
      </p:sp>
      <p:sp>
        <p:nvSpPr>
          <p:cNvPr id="21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0DC9-B11E-4F43-AB85-1D44013DEB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859120" y="514440"/>
            <a:ext cx="342756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70D2-ABC8-44A2-84CF-F7307A46E3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859120" y="514440"/>
            <a:ext cx="342756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6A30-E802-4AC9-9290-EE90D9BF8A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859120" y="514440"/>
            <a:ext cx="342756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A753-479A-47CB-B13D-89A9BC11A8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859120" y="514440"/>
            <a:ext cx="342756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494E-13A4-4F08-A053-613E88DB14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2859120" y="514440"/>
            <a:ext cx="3427560" cy="2571840"/>
          </a:xfrm>
          <a:prstGeom prst="rect">
            <a:avLst/>
          </a:prstGeom>
          <a:ln w="0">
            <a:noFill/>
          </a:ln>
        </p:spPr>
      </p:sp>
      <p:sp>
        <p:nvSpPr>
          <p:cNvPr id="16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E8CC-F1A9-41AF-8D6F-68C5060A9F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2859120" y="514440"/>
            <a:ext cx="3427560" cy="2571840"/>
          </a:xfrm>
          <a:prstGeom prst="rect">
            <a:avLst/>
          </a:prstGeom>
          <a:ln w="0">
            <a:noFill/>
          </a:ln>
        </p:spPr>
      </p:sp>
      <p:sp>
        <p:nvSpPr>
          <p:cNvPr id="16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E651-94E7-4E58-9391-4E088DCD74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2859120" y="514440"/>
            <a:ext cx="3427560" cy="2571840"/>
          </a:xfrm>
          <a:prstGeom prst="rect">
            <a:avLst/>
          </a:prstGeom>
          <a:ln w="0">
            <a:noFill/>
          </a:ln>
        </p:spPr>
      </p:sp>
      <p:sp>
        <p:nvSpPr>
          <p:cNvPr id="16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AD4B-22B3-4DB2-B092-AA90A59191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2859120" y="514440"/>
            <a:ext cx="3427560" cy="2571840"/>
          </a:xfrm>
          <a:prstGeom prst="rect">
            <a:avLst/>
          </a:prstGeom>
          <a:ln w="0">
            <a:noFill/>
          </a:ln>
        </p:spPr>
      </p:sp>
      <p:sp>
        <p:nvSpPr>
          <p:cNvPr id="1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E205-686F-4633-9220-10240090C2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859120" y="514440"/>
            <a:ext cx="3427560" cy="2571840"/>
          </a:xfrm>
          <a:prstGeom prst="rect">
            <a:avLst/>
          </a:prstGeom>
          <a:ln w="0">
            <a:noFill/>
          </a:ln>
        </p:spPr>
      </p:sp>
      <p:sp>
        <p:nvSpPr>
          <p:cNvPr id="17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87C1-84C7-408F-A3F3-D6FC81DF31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859120" y="514440"/>
            <a:ext cx="3427560" cy="2571840"/>
          </a:xfrm>
          <a:prstGeom prst="rect">
            <a:avLst/>
          </a:prstGeom>
          <a:ln w="0">
            <a:noFill/>
          </a:ln>
        </p:spPr>
      </p:sp>
      <p:sp>
        <p:nvSpPr>
          <p:cNvPr id="17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19DB3-D218-4C7C-B261-ECC9909DC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C5B19-917D-441D-8C65-A905ABFF4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F93E2-295A-4AD3-A69F-5D1E15757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FBEAB-8138-471E-B0C5-20F8627CD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19030-A0C7-47BE-9600-BBBA237B4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7CD80-8A33-4B1D-AA19-488B913A6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852AA-30EE-46DD-B44F-6C6D4BFCE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BE70F-3B00-4AB1-ADE5-5B624B43B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3C123-C299-44A9-B8D0-6879E6103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765E0-ACE9-4EE3-9740-A6A4F17A5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53D4C-8CA5-4A35-AFE9-1F4A27FCC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31542-4E5D-45E5-9427-A9742A514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5C007-FC92-4414-829B-C0F7F1D89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0A46E-93B3-43F9-AFF1-659EBF8F1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D89AA-78E5-4F30-87DD-98E744217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0A9F4-2B79-4EC8-A1F1-94B10A66E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B19B3-FDE2-44BB-B865-E787F8010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71A16-F5E5-457B-9B3B-2A2F5912E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6AE7B-EA41-4A2D-BC8D-D75A0FAF9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F473B-DDCB-431C-8491-354BCBCBB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656D8-3430-4638-9822-CD8FAE173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0F121-82A2-4146-B9A3-CC695E0F0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5757-AB59-43B4-926D-06AEA50DE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70445-A7C9-4E40-B5B1-9D45B7123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A43B-8D70-4CE7-A955-A0C3DD70FA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7327-B09A-4D29-A7CF-8DD540BB4F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837720"/>
            <a:ext cx="807732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Book Antiqua"/>
              </a:rPr>
              <a:t>ANTICIPOS DE </a:t>
            </a:r>
            <a:br>
              <a:rPr sz="4000"/>
            </a:br>
            <a:r>
              <a:rPr b="1" lang="es-MX" sz="4000" spc="-1" strike="noStrike">
                <a:solidFill>
                  <a:srgbClr val="000000"/>
                </a:solidFill>
                <a:latin typeface="Book Antiqua"/>
              </a:rPr>
              <a:t>SUBVENCION ESTATALES PARA FINES EDUCACIONALES </a:t>
            </a:r>
            <a:br>
              <a:rPr sz="4000"/>
            </a:br>
            <a:r>
              <a:rPr b="1" lang="es-MX" sz="4000" spc="-1" strike="noStrike">
                <a:solidFill>
                  <a:srgbClr val="000000"/>
                </a:solidFill>
                <a:latin typeface="Book Antiqua"/>
              </a:rPr>
              <a:t>LEY 20.159</a:t>
            </a:r>
            <a:endParaRPr b="0" lang="en-US" sz="4000" spc="-1" strike="noStrike">
              <a:solidFill>
                <a:srgbClr val="330033"/>
              </a:solidFill>
              <a:latin typeface="Times New Roman"/>
            </a:endParaRPr>
          </a:p>
        </p:txBody>
      </p:sp>
      <p:sp>
        <p:nvSpPr>
          <p:cNvPr id="105" name=""/>
          <p:cNvSpPr/>
          <p:nvPr/>
        </p:nvSpPr>
        <p:spPr>
          <a:xfrm>
            <a:off x="1143000" y="41148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2400" spc="-1" strike="noStrike">
                <a:solidFill>
                  <a:srgbClr val="000000"/>
                </a:solidFill>
                <a:latin typeface="Arial"/>
              </a:rPr>
              <a:t>Publicada en el D.O. el 25 de enero de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Text Box 519"/>
          <p:cNvSpPr/>
          <p:nvPr/>
        </p:nvSpPr>
        <p:spPr>
          <a:xfrm>
            <a:off x="685800" y="380880"/>
            <a:ext cx="8001000" cy="58874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ertificado de nacimiento</a:t>
            </a:r>
            <a:r>
              <a:rPr b="0" lang="es-ES" sz="2000" spc="-1" strike="noStrike">
                <a:solidFill>
                  <a:srgbClr val="000000"/>
                </a:solidFill>
                <a:latin typeface="Arial"/>
              </a:rPr>
              <a:t> original del personal consignado en la    ficha de solicitud</a:t>
            </a:r>
            <a:endParaRPr b="0" lang="en-US" sz="2000" spc="-1" strike="noStrike">
              <a:solidFill>
                <a:srgbClr val="000000"/>
              </a:solidFill>
              <a:latin typeface="Arial"/>
            </a:endParaRPr>
          </a:p>
          <a:p>
            <a:pPr marL="343080" indent="-343080"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pia del contrato, resolución o decreto</a:t>
            </a:r>
            <a:r>
              <a:rPr b="0" lang="es-ES" sz="2000" spc="-1" strike="noStrike">
                <a:solidFill>
                  <a:srgbClr val="000000"/>
                </a:solidFill>
                <a:latin typeface="Arial"/>
              </a:rPr>
              <a:t>, según corresponda, que acredite la fecha de nombramiento y las horas de contrato de cada una de las personas incluidas en la ficha anterior. Deben incluirse también las modificaciones de la carga horaria, si las hubieren.</a:t>
            </a:r>
            <a:endParaRPr b="0" lang="en-US" sz="2000" spc="-1" strike="noStrike">
              <a:solidFill>
                <a:srgbClr val="000000"/>
              </a:solidFill>
              <a:latin typeface="Arial"/>
            </a:endParaRPr>
          </a:p>
          <a:p>
            <a:pPr marL="343080" indent="-343080"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 Carta de renuncia voluntaria, indicando la disposición de ser ajustado de la dotación docente accediendo al beneficio establecido en el articulo 70 del Estatuto Docente</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 Copia del Acto Administrativo: En que se comunica por escrito al profesional de la educación, la supresión de las horas que sirve a la dotación docente del año 2011, en concordancia con la prelación que establece el Artículo 73 del DFL Nº1, de 1996, del Ministerio de Educación.</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Text Box 519"/>
          <p:cNvSpPr/>
          <p:nvPr/>
        </p:nvSpPr>
        <p:spPr>
          <a:xfrm>
            <a:off x="685800" y="1600200"/>
            <a:ext cx="7848720" cy="41187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000" spc="-1" strike="noStrike">
                <a:solidFill>
                  <a:srgbClr val="000000"/>
                </a:solidFill>
                <a:latin typeface="Arial"/>
              </a:rPr>
              <a:t>Una vez ingresada la solicitud del anticipo de subvención al Ministerio de Educación se desarrollarán los siguientes pas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ificación y chequeo de datos y montos solicitados, labor realizada por profesionales de la División de Planificación y Presupuesto (DIPLAP)</a:t>
            </a: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ción del acto administrativo correspondiente (Resolución) por la División Jurídica del MINEDUC</a:t>
            </a: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ación de la Resolución por la Dirección de Presupuestos del Ministerio de Hacienda (DIPRES)</a:t>
            </a:r>
            <a:endParaRPr b="0" lang="en-US" sz="2000" spc="-1" strike="noStrike">
              <a:solidFill>
                <a:srgbClr val="000000"/>
              </a:solidFill>
              <a:latin typeface="Arial"/>
            </a:endParaRPr>
          </a:p>
        </p:txBody>
      </p:sp>
      <p:sp>
        <p:nvSpPr>
          <p:cNvPr id="131" name="Text Box 520"/>
          <p:cNvSpPr/>
          <p:nvPr/>
        </p:nvSpPr>
        <p:spPr>
          <a:xfrm>
            <a:off x="914400" y="38088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80"/>
                </a:solidFill>
                <a:uFillTx/>
                <a:latin typeface="Arial"/>
              </a:rPr>
              <a:t>Tramitación de la Solicitud de Antic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Text Box 393"/>
          <p:cNvSpPr/>
          <p:nvPr/>
        </p:nvSpPr>
        <p:spPr>
          <a:xfrm>
            <a:off x="1066680" y="2209680"/>
            <a:ext cx="701064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anticipo de subvención se pagará una vez que la correspondiente resolución del Ministerio de Educación se encuentre totalmente tramitada.</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cho pago se efectuará a través de la Coordinación Nacional de Subvenciones.</a:t>
            </a:r>
            <a:endParaRPr b="0" lang="en-US" sz="2400" spc="-1" strike="noStrike">
              <a:solidFill>
                <a:srgbClr val="000000"/>
              </a:solidFill>
              <a:latin typeface="Arial"/>
            </a:endParaRPr>
          </a:p>
        </p:txBody>
      </p:sp>
      <p:sp>
        <p:nvSpPr>
          <p:cNvPr id="133" name="Text Box 394"/>
          <p:cNvSpPr/>
          <p:nvPr/>
        </p:nvSpPr>
        <p:spPr>
          <a:xfrm>
            <a:off x="1066680" y="233280"/>
            <a:ext cx="7620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80"/>
                </a:solidFill>
                <a:uFillTx/>
                <a:latin typeface="Arial"/>
              </a:rPr>
              <a:t>Pago del MINEDUC a los Municipi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80"/>
                </a:solidFill>
                <a:uFillTx/>
                <a:latin typeface="Arial"/>
              </a:rPr>
              <a:t> </a:t>
            </a:r>
            <a:r>
              <a:rPr b="1" lang="en-US" sz="3200" spc="-1" strike="noStrike" u="sng">
                <a:solidFill>
                  <a:srgbClr val="008080"/>
                </a:solidFill>
                <a:uFillTx/>
                <a:latin typeface="Arial"/>
              </a:rPr>
              <a:t>y Corporaciones Municipa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Text Box 6"/>
          <p:cNvSpPr/>
          <p:nvPr/>
        </p:nvSpPr>
        <p:spPr>
          <a:xfrm>
            <a:off x="990720" y="1905120"/>
            <a:ext cx="746748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de recibir los montos correspondientes al anticipo de subvención, las municipalidades o corporaciones municipales, procederán al pago de las indemnizaciones del personal con el que suscribe el término de la relación laboral, de conformidad con lo que dispone la Ley para cada caso.</a:t>
            </a:r>
            <a:endParaRPr b="0" lang="en-US" sz="2400" spc="-1" strike="noStrike">
              <a:solidFill>
                <a:srgbClr val="000000"/>
              </a:solidFill>
              <a:latin typeface="Arial"/>
            </a:endParaRPr>
          </a:p>
        </p:txBody>
      </p:sp>
      <p:sp>
        <p:nvSpPr>
          <p:cNvPr id="135" name="Text Box 7"/>
          <p:cNvSpPr/>
          <p:nvPr/>
        </p:nvSpPr>
        <p:spPr>
          <a:xfrm>
            <a:off x="914400" y="2286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Municipio paga Indemnizaciones a Personal Docente y Asistentes de la Educ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Text Box 6"/>
          <p:cNvSpPr/>
          <p:nvPr/>
        </p:nvSpPr>
        <p:spPr>
          <a:xfrm>
            <a:off x="533520" y="1523880"/>
            <a:ext cx="8458200" cy="45147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Una vez realizado el pago de las indemnizaciones, las municipalidades y corporaciones municipales deberán informar sobre la utilización de los recursos a través de la ficha: </a:t>
            </a:r>
            <a:r>
              <a:rPr b="1" i="1" lang="es-ES" sz="2000" spc="-1" strike="noStrike">
                <a:solidFill>
                  <a:srgbClr val="000000"/>
                </a:solidFill>
                <a:latin typeface="Arial"/>
              </a:rPr>
              <a:t>“Rendición de Cuenta Anticipo de Subvención por Aplicación del Artículo 11 de la Ley Nº 20.159”.</a:t>
            </a:r>
            <a:r>
              <a:rPr b="0" lang="es-ES" sz="2000" spc="-1" strike="noStrike">
                <a:solidFill>
                  <a:srgbClr val="000000"/>
                </a:solidFill>
                <a:latin typeface="Arial"/>
              </a:rPr>
              <a:t> La rendición será presentada en la Secretaría Regional Ministerial (SEREMI) correspondiente, dentro de los 30 días posteriores a la transferencia de los recursos, adjuntando los siguientes documentos:</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Oficio conductor rendición de cuenta Artículo 11 Ley Nº 20.159</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Ficha de rendición de cuenta anticipo de subvención por aplicación del </a:t>
            </a:r>
            <a:r>
              <a:rPr b="0" lang="es-MX" sz="2000" spc="-1" strike="noStrike" u="sng">
                <a:solidFill>
                  <a:srgbClr val="000000"/>
                </a:solidFill>
                <a:uFillTx/>
                <a:latin typeface="Arial"/>
              </a:rPr>
              <a:t>Artículo 11 Ley Nº  20.159</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pia de los antecedentes</a:t>
            </a:r>
            <a:r>
              <a:rPr b="0" lang="es-ES" sz="2000" spc="-1" strike="noStrike">
                <a:solidFill>
                  <a:srgbClr val="000000"/>
                </a:solidFill>
                <a:latin typeface="Arial"/>
              </a:rPr>
              <a:t> que permitan verificar el pago de la indemnización a cada persona</a:t>
            </a:r>
            <a:endParaRPr b="0" lang="en-US" sz="2000" spc="-1" strike="noStrike">
              <a:solidFill>
                <a:srgbClr val="000000"/>
              </a:solidFill>
              <a:latin typeface="Arial"/>
            </a:endParaRPr>
          </a:p>
        </p:txBody>
      </p:sp>
      <p:sp>
        <p:nvSpPr>
          <p:cNvPr id="137" name="Text Box 7"/>
          <p:cNvSpPr/>
          <p:nvPr/>
        </p:nvSpPr>
        <p:spPr>
          <a:xfrm>
            <a:off x="685800" y="525600"/>
            <a:ext cx="624852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80"/>
                </a:solidFill>
                <a:uFillTx/>
                <a:latin typeface="Arial"/>
              </a:rPr>
              <a:t>Rendición de Cuenta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Text Box 6"/>
          <p:cNvSpPr/>
          <p:nvPr/>
        </p:nvSpPr>
        <p:spPr>
          <a:xfrm>
            <a:off x="1066680" y="1828800"/>
            <a:ext cx="7543800" cy="3204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000" spc="-1" strike="noStrike">
                <a:solidFill>
                  <a:srgbClr val="000000"/>
                </a:solidFill>
                <a:latin typeface="Arial"/>
              </a:rPr>
              <a:t>La devolución de los recursos se hará a partir del mes siguiente de su percepción, en cuotas iguales, mensuales y sucesivas, las que se descontarán de la subvención de escolaridad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8080"/>
                </a:solidFill>
                <a:uFillTx/>
                <a:latin typeface="Arial"/>
              </a:rPr>
              <a:t>Monto Máximo a solicitar</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todo, los descuentos no podrán exceder, en conjunto, para una misma municipalidad o corporación municipal, al 3% del monto de la subvención percibida en el mes anterior al anticipo</a:t>
            </a:r>
            <a:endParaRPr b="0" lang="en-US" sz="2000" spc="-1" strike="noStrike">
              <a:solidFill>
                <a:srgbClr val="000000"/>
              </a:solidFill>
              <a:latin typeface="Arial"/>
            </a:endParaRPr>
          </a:p>
        </p:txBody>
      </p:sp>
      <p:sp>
        <p:nvSpPr>
          <p:cNvPr id="139" name="Text Box 7"/>
          <p:cNvSpPr/>
          <p:nvPr/>
        </p:nvSpPr>
        <p:spPr>
          <a:xfrm>
            <a:off x="1143000" y="53352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Devolución de los Recursos Entregados por el MINEDU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775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u="sng">
                <a:solidFill>
                  <a:srgbClr val="008080"/>
                </a:solidFill>
                <a:uFillTx/>
                <a:latin typeface="Times New Roman"/>
              </a:rPr>
              <a:t>Artículo Nº 22 DFL 1 de 1996</a:t>
            </a:r>
            <a:endParaRPr b="0" lang="en-US" sz="4200" spc="-1" strike="noStrike">
              <a:solidFill>
                <a:srgbClr val="330033"/>
              </a:solidFill>
              <a:latin typeface="Times New Roman"/>
            </a:endParaRPr>
          </a:p>
        </p:txBody>
      </p:sp>
      <p:sp>
        <p:nvSpPr>
          <p:cNvPr id="141" name="PlaceHolder 2"/>
          <p:cNvSpPr>
            <a:spLocks noGrp="1"/>
          </p:cNvSpPr>
          <p:nvPr>
            <p:ph/>
          </p:nvPr>
        </p:nvSpPr>
        <p:spPr>
          <a:xfrm>
            <a:off x="609480" y="1599840"/>
            <a:ext cx="8382240" cy="4876920"/>
          </a:xfrm>
          <a:prstGeom prst="rect">
            <a:avLst/>
          </a:prstGeom>
          <a:noFill/>
          <a:ln w="0">
            <a:noFill/>
          </a:ln>
        </p:spPr>
        <p:txBody>
          <a:bodyPr anchor="t">
            <a:normAutofit/>
          </a:bodyPr>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ículo 22</a:t>
            </a:r>
            <a:r>
              <a:rPr b="0" lang="en-US" sz="1800" spc="-1" strike="noStrike">
                <a:solidFill>
                  <a:srgbClr val="000000"/>
                </a:solidFill>
                <a:latin typeface="Arial"/>
              </a:rPr>
              <a:t>.- La Municipalidad o Corporación que fija la dotación docente de cada comuna,   deberá realizar las adecuaciones que procedan por alguna de las siguientes causales: </a:t>
            </a:r>
            <a:br>
              <a:rPr sz="1800"/>
            </a:b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 Variación en el número de alumnos del sector municipal de una comuna</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Modificaciones curriculares</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Cambios en el tipo de educación que se imparte</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Fusión de establecimientos educacionales </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 Reorganización de la entidad de administración educacional.</a:t>
            </a:r>
            <a:r>
              <a:rPr b="0" lang="en-US" sz="1800" spc="-1" strike="noStrike">
                <a:solidFill>
                  <a:srgbClr val="000000"/>
                </a:solidFill>
                <a:latin typeface="Arial"/>
              </a:rPr>
              <a:t> </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alquier variación de la dotación docente de una comuna, regirá a contar del inicio del año escolar siguiente.</a:t>
            </a:r>
            <a:endParaRPr b="0" lang="en-US" sz="1800" spc="-1" strike="noStrike">
              <a:solidFill>
                <a:srgbClr val="000000"/>
              </a:solidFill>
              <a:latin typeface="Arial"/>
            </a:endParaRPr>
          </a:p>
          <a:p>
            <a:pPr marL="17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das estas causales para la fijación o la adecuación de la dotación docente deberán estar fundamentadas en el Plan de Desarrollo Educativo Municipal. En todo caso, las modificaciones a la dotación docente que se efectúen de acuerdo a los números 1 a 4 deberán estar basadas en razones de carácter técnico-pedagóg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599840"/>
            <a:ext cx="8229600" cy="4876920"/>
          </a:xfrm>
          <a:prstGeom prst="rect">
            <a:avLst/>
          </a:prstGeom>
          <a:noFill/>
          <a:ln w="0">
            <a:noFill/>
          </a:ln>
        </p:spPr>
        <p:txBody>
          <a:bodyPr anchor="t">
            <a:normAutofit/>
          </a:bodyPr>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533520" indent="-533520" algn="just">
              <a:lnSpc>
                <a:spcPct val="90000"/>
              </a:lnSpc>
              <a:spcBef>
                <a:spcPts val="451"/>
              </a:spcBef>
              <a:buClr>
                <a:srgbClr val="b2b2b2"/>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Artículo 70.-</a:t>
            </a:r>
            <a:r>
              <a:rPr b="0" lang="es-ES" sz="1800" spc="-1" strike="noStrike">
                <a:solidFill>
                  <a:srgbClr val="000000"/>
                </a:solidFill>
                <a:latin typeface="Arial"/>
              </a:rPr>
              <a:t> Establécese un sistema de Evaluación de los profesionales de la educación que se desempeñen en funciones de docencia de aula, de carácter formativo. </a:t>
            </a:r>
            <a:endParaRPr b="0" lang="en-US" sz="1800" spc="-1" strike="noStrike">
              <a:solidFill>
                <a:srgbClr val="000000"/>
              </a:solidFill>
              <a:latin typeface="Arial"/>
            </a:endParaRPr>
          </a:p>
          <a:p>
            <a:pPr marL="533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51"/>
              </a:spcBef>
              <a:buClr>
                <a:srgbClr val="b2b2b2"/>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sponderá al Ministerio de Educación, a través del Centro de Perfeccionamiento, Experimentación e Investigaciones Pedagógicas (CPEIP), la coordinación técnica para la adecuada aplicación de los procesos de evaluación. </a:t>
            </a:r>
            <a:endParaRPr b="0" lang="en-US" sz="1800" spc="-1" strike="noStrike">
              <a:solidFill>
                <a:srgbClr val="000000"/>
              </a:solidFill>
              <a:latin typeface="Arial"/>
            </a:endParaRPr>
          </a:p>
          <a:p>
            <a:pPr marL="533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99"/>
              </a:spcBef>
              <a:buClr>
                <a:srgbClr val="b2b2b2"/>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valuación del desempeño profesional se realizará tomando en consideración los dominios, criterios e instrumentos establecidos por el Ministerio de Educación, a través del Centro de Perfeccionamiento, Experimentación e Investigaciones Pedagógicas (CPEIP). </a:t>
            </a:r>
            <a:r>
              <a:rPr b="0" lang="es-ES" sz="2000" spc="-1" strike="noStrike">
                <a:solidFill>
                  <a:srgbClr val="000000"/>
                </a:solidFill>
                <a:latin typeface="Arial"/>
              </a:rPr>
              <a:t>Además, existirán Comisiones Comunales de Evaluación Docente con la responsabilidad de aplicar localmente el sistema de evaluación.</a:t>
            </a:r>
            <a:endParaRPr b="0" lang="en-US" sz="2000" spc="-1" strike="noStrike">
              <a:solidFill>
                <a:srgbClr val="000000"/>
              </a:solidFill>
              <a:latin typeface="Arial"/>
            </a:endParaRPr>
          </a:p>
          <a:p>
            <a:pPr marL="533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33160" y="277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Times New Roman"/>
              </a:rPr>
              <a:t>Deberes y Obligaciones Funcionarias de los Profesionales de la Educación.     Artículo 70 DFL 1 / 1996</a:t>
            </a:r>
            <a:endParaRPr b="0" lang="en-US" sz="2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560" y="1599840"/>
            <a:ext cx="8381880" cy="4530600"/>
          </a:xfrm>
          <a:prstGeom prst="rect">
            <a:avLst/>
          </a:prstGeom>
          <a:noFill/>
          <a:ln w="0">
            <a:noFill/>
          </a:ln>
        </p:spPr>
        <p:txBody>
          <a:bodyPr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533520" indent="-533520" algn="just">
              <a:lnSpc>
                <a:spcPct val="80000"/>
              </a:lnSpc>
              <a:spcBef>
                <a:spcPts val="451"/>
              </a:spcBef>
              <a:buClr>
                <a:srgbClr val="b2b2b2"/>
              </a:buClr>
              <a:buSzPct val="9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valuación estará a cargo de evaluadores pares, es decir, profesores de aula que se desempeñen en el mismo nivel escolar, sector de currículo y modalidad del docente evaluado, aunque en distintos establecimientos educacionales que los docentes evaluados. Excepcionalmente, cuando no existan docentes del mismo sector del currículo para desempeñarse como evaluadores pares, podrá ejercer tal función un docente que reúna los otros requisitos anteriores. El reglamento determinará la forma de selección y nombramiento, los requisitos, inhabilidades, incompatibilidades y obligaciones a que estarán sujetos los evaluadores pares en el ejercicio de esa función.</a:t>
            </a:r>
            <a:endParaRPr b="0" lang="en-US" sz="1800" spc="-1" strike="noStrike">
              <a:solidFill>
                <a:srgbClr val="000000"/>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80000"/>
              </a:lnSpc>
              <a:spcBef>
                <a:spcPts val="451"/>
              </a:spcBef>
              <a:buClr>
                <a:srgbClr val="b2b2b2"/>
              </a:buClr>
              <a:buSzPct val="90000"/>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valuación de cada docente se realizará cada cuatro años y su resultado final corresponderá a uno de los siguientes niveles de desempeño: destacado, competente, básico o insatisfactorio.</a:t>
            </a:r>
            <a:endParaRPr b="0" lang="en-US" sz="1800" spc="-1" strike="noStrike">
              <a:solidFill>
                <a:srgbClr val="000000"/>
              </a:solidFill>
              <a:latin typeface="Arial"/>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240" y="1599840"/>
            <a:ext cx="8534520" cy="4724280"/>
          </a:xfrm>
          <a:prstGeom prst="rect">
            <a:avLst/>
          </a:prstGeom>
          <a:noFill/>
          <a:ln w="0">
            <a:noFill/>
          </a:ln>
        </p:spPr>
        <p:txBody>
          <a:bodyPr anchor="t">
            <a:normAutofit/>
          </a:bodyPr>
          <a:p>
            <a:pPr marL="533520" indent="-533520" algn="just">
              <a:spcBef>
                <a:spcPts val="451"/>
              </a:spcBef>
              <a:buClr>
                <a:srgbClr val="b2b2b2"/>
              </a:buClr>
              <a:buSzPct val="90000"/>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resultados finales de la evaluación de cada profesional de la educación se considerarán como antecedente para los concursos públicos estipulados en este Título. Además, tratándose de docentes cuyos niveles de desempeño sean destacado o competente, éstos se considerarán para rendir la prueba de conocimientos disciplinarios y pedagógicos habilitante para acceder a la asignación variable por desempeño individual. Del mismo modo, se considerarán para optar a cupos o becas en actividades de perfeccionamiento o estudios de postgrado, para financiar proyectos individuales de innovación y, en general, en todas las decisiones que se tomen para seleccionar profesio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800" spc="-1" strike="noStrike">
                <a:solidFill>
                  <a:srgbClr val="008080"/>
                </a:solidFill>
                <a:latin typeface="Times New Roman"/>
              </a:rPr>
              <a:t>LEY N ° 20.159 Art. 11</a:t>
            </a:r>
            <a:br>
              <a:rPr sz="3800"/>
            </a:br>
            <a:endParaRPr b="0" lang="en-US" sz="38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 artículo 11º de la Ley Nº 20.159, </a:t>
            </a:r>
            <a:r>
              <a:rPr b="1" lang="en-US" sz="2400" spc="-1" strike="noStrike" u="sng">
                <a:solidFill>
                  <a:srgbClr val="ff0000"/>
                </a:solidFill>
                <a:uFillTx/>
                <a:latin typeface="Arial"/>
              </a:rPr>
              <a:t>faculta al Ministerio de Educación en forma permanente</a:t>
            </a:r>
            <a:r>
              <a:rPr b="1" lang="en-US" sz="2400" spc="-1" strike="noStrike">
                <a:solidFill>
                  <a:srgbClr val="000000"/>
                </a:solidFill>
                <a:latin typeface="Arial"/>
              </a:rPr>
              <a:t> para efectuar anticipos de la subvención de escolaridad a las municipalidades o corporaciones municipales que no cuenten con la disponibilidad financiera inmediata para solventar los gastos por indemnización asociados al </a:t>
            </a:r>
            <a:r>
              <a:rPr b="1" lang="en-US" sz="2400" spc="-1" strike="noStrike" u="sng">
                <a:solidFill>
                  <a:srgbClr val="ff0000"/>
                </a:solidFill>
                <a:uFillTx/>
                <a:latin typeface="Arial"/>
              </a:rPr>
              <a:t>ajuste de dotación docente</a:t>
            </a:r>
            <a:r>
              <a:rPr b="1" lang="en-US" sz="2400" spc="-1" strike="noStrike">
                <a:solidFill>
                  <a:srgbClr val="000000"/>
                </a:solidFill>
                <a:latin typeface="Arial"/>
              </a:rPr>
              <a:t> (Art. 22 y siguientes del DFL Nº 1, de 1996, del Ministerio de Educación) y/o al </a:t>
            </a:r>
            <a:r>
              <a:rPr b="1" lang="en-US" sz="2400" spc="-1" strike="noStrike" u="sng">
                <a:solidFill>
                  <a:srgbClr val="ff0000"/>
                </a:solidFill>
                <a:uFillTx/>
                <a:latin typeface="Arial"/>
              </a:rPr>
              <a:t>término de la relación laboral del personal asistente de la edu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anchor="t">
            <a:normAutofit/>
          </a:bodyPr>
          <a:p>
            <a:pPr marL="533520" indent="-533520" algn="just">
              <a:lnSpc>
                <a:spcPct val="90000"/>
              </a:lnSpc>
              <a:spcBef>
                <a:spcPts val="451"/>
              </a:spcBef>
              <a:buClr>
                <a:srgbClr val="b2b2b2"/>
              </a:buClr>
              <a:buSzPct val="90000"/>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ofesionales de la educación que resulten evaluados con desempeño insatisfactorio, deberán someterse a nueva evaluación al año siguiente conforme a los planes de superación profesional que determine el reglamento. Si en la segunda evaluación el resultado es nuevamente insatisfactorio, el docente dejará la responsabilidad de curso para trabajar durante el año en su plan de superación profesional, debiendo el empleador asumir el gasto que representa el reemplazo del docente en el aula. Dicho docente será sometido al año siguiente a una tercera evaluación. Si el desempeño en un nivel insatisfactorio se mantuviera en la tercera evaluación anual consecutiva, el profesional de la educación dejará de pertenecer a la dotación docente.</a:t>
            </a:r>
            <a:endParaRPr b="0" lang="en-US" sz="18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1523880"/>
            <a:ext cx="8686800" cy="5105520"/>
          </a:xfrm>
          <a:prstGeom prst="rect">
            <a:avLst/>
          </a:prstGeom>
          <a:noFill/>
          <a:ln w="0">
            <a:noFill/>
          </a:ln>
        </p:spPr>
        <p:txBody>
          <a:bodyPr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451"/>
              </a:spcBef>
              <a:buClr>
                <a:srgbClr val="b2b2b2"/>
              </a:buClr>
              <a:buSzPct val="90000"/>
              <a:buFont typeface="Arial"/>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reglamento, que deberá dictarse en el plazo de 120 días contados desde la fecha de publicación de esta ley en el Diario Oficial, establecerá la composición y funciones de las Comisiones Comunales de Evaluación Docente, las que estarán integradas, a lo menos, por el Jefe del Departamento de Administración Municipal de Educación o el Director de la Corporación Municipal respectivo y los evaluadores pares de la comuna correspondiente; fijará los procedimientos, la periodicidad, los plazos y los demás aspectos técnicos del sistema de evaluación docente y los planes de superación profesional a los que deberán someterse los profesionales de la educación con resultados básicos e insatisfactorios; </a:t>
            </a:r>
            <a:r>
              <a:rPr b="0" lang="en-US" sz="1800" spc="-1" strike="noStrike">
                <a:solidFill>
                  <a:srgbClr val="000000"/>
                </a:solidFill>
                <a:latin typeface="Arial"/>
              </a:rPr>
              <a:t>	</a:t>
            </a:r>
            <a:r>
              <a:rPr b="0" lang="en-US" sz="1800" spc="-1" strike="noStrike">
                <a:solidFill>
                  <a:srgbClr val="000000"/>
                </a:solidFill>
                <a:latin typeface="Arial"/>
              </a:rPr>
              <a:t>y las normas objetivas que permitan a los profesionales de la educación, a los municipios respectivos y a los equipos de gestión de los establecimientos educacionales tomar conocimiento pormenorizado de la evaluación.</a:t>
            </a:r>
            <a:endParaRPr b="0" lang="en-US" sz="1800" spc="-1" strike="noStrike">
              <a:solidFill>
                <a:srgbClr val="000000"/>
              </a:solidFill>
              <a:latin typeface="Arial"/>
            </a:endParaRPr>
          </a:p>
          <a:p>
            <a:pPr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3520" y="1599840"/>
            <a:ext cx="8153280" cy="4530600"/>
          </a:xfrm>
          <a:prstGeom prst="rect">
            <a:avLst/>
          </a:prstGeom>
          <a:noFill/>
          <a:ln w="0">
            <a:noFill/>
          </a:ln>
        </p:spPr>
        <p:txBody>
          <a:bodyPr anchor="t">
            <a:normAutofit/>
          </a:bodyPr>
          <a:p>
            <a:pPr marL="38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90000"/>
              </a:lnSpc>
              <a:spcBef>
                <a:spcPts val="499"/>
              </a:spcBef>
              <a:buClr>
                <a:srgbClr val="b2b2b2"/>
              </a:buClr>
              <a:buSzPct val="9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mismo el reglamento establecerá los procedimientos para interponer los recursos contemplados en la ley, que les permitan a los profesionales de la educación ejercer su derecho a recurrir respecto de los resultados de su evaluación.</a:t>
            </a:r>
            <a:endParaRPr b="0" lang="en-US" sz="2000" spc="-1" strike="noStrike">
              <a:solidFill>
                <a:srgbClr val="000000"/>
              </a:solidFill>
              <a:latin typeface="Arial"/>
            </a:endParaRPr>
          </a:p>
          <a:p>
            <a:pPr marL="38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90000"/>
              </a:lnSpc>
              <a:spcBef>
                <a:spcPts val="499"/>
              </a:spcBef>
              <a:buClr>
                <a:srgbClr val="b2b2b2"/>
              </a:buClr>
              <a:buSzPct val="90000"/>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drán eximirse del proceso de evaluación docente establecido en los incisos anteriores, los profesionales de la educación a quienes les falten tres años o menos para cumplir la edad legal para jubilar, siempre que presenten la renuncia anticipada e irrevocable a su cargo, la que se hará efectiva al cumplirse la edad legal de jubilación por el sólo ministerio de la ley. En todo caso, estos profesionales tendrán derecho a la indemnización establecida en el artículo 73 y quedarán sujetos a lo prescrito en el artículo 74.</a:t>
            </a: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8080"/>
                </a:solidFill>
                <a:uFillTx/>
                <a:latin typeface="Times New Roman"/>
              </a:rPr>
              <a:t>Deberes y Obligaciones Funcionarias de los Profesionales de la Educación </a:t>
            </a:r>
            <a:br>
              <a:rPr sz="2400"/>
            </a:br>
            <a:r>
              <a:rPr b="1" lang="es-ES" sz="2400" spc="-1" strike="noStrike" u="sng">
                <a:solidFill>
                  <a:srgbClr val="008080"/>
                </a:solidFill>
                <a:uFillTx/>
                <a:latin typeface="Times New Roman"/>
              </a:rPr>
              <a:t>Artículo N° 73 DFL 1 / 1996</a:t>
            </a:r>
            <a:endParaRPr b="0" lang="en-US" sz="2400" spc="-1" strike="noStrike">
              <a:solidFill>
                <a:srgbClr val="330033"/>
              </a:solidFill>
              <a:latin typeface="Times New Roman"/>
            </a:endParaRPr>
          </a:p>
        </p:txBody>
      </p:sp>
      <p:sp>
        <p:nvSpPr>
          <p:cNvPr id="150" name="PlaceHolder 2"/>
          <p:cNvSpPr>
            <a:spLocks noGrp="1"/>
          </p:cNvSpPr>
          <p:nvPr>
            <p:ph/>
          </p:nvPr>
        </p:nvSpPr>
        <p:spPr>
          <a:xfrm>
            <a:off x="685440" y="1523520"/>
            <a:ext cx="8001000" cy="533412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b2b2b2"/>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tículo 73.-</a:t>
            </a:r>
            <a:r>
              <a:rPr b="0" lang="en-US" sz="2000" spc="-1" strike="noStrike">
                <a:solidFill>
                  <a:srgbClr val="000000"/>
                </a:solidFill>
                <a:latin typeface="Arial"/>
              </a:rPr>
              <a:t> El Alcalde de una Municipalidad o el representante de una Corporación que aplique la causal de término de la relación laboral contemplada en la letra i) del artículo anterior, deberá basarse obligatoriamente en la dotación aprobada en conformidad al artículo 22 de esta ley, fundamentada en el Plan Anual de Desarrollo Educativo Municipal, mediante el cual se haya resuelto la supresión total de un número determinado de horas que puedan afectar a uno o más docent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914400" y="1599840"/>
            <a:ext cx="7772400" cy="4530600"/>
          </a:xfrm>
          <a:prstGeom prst="rect">
            <a:avLst/>
          </a:prstGeom>
          <a:noFill/>
          <a:ln w="0">
            <a:noFill/>
          </a:ln>
        </p:spPr>
        <p:txBody>
          <a:bodyPr anchor="t">
            <a:normAutofit/>
          </a:bodyPr>
          <a:p>
            <a:pPr marL="380880" indent="-380880">
              <a:lnSpc>
                <a:spcPct val="80000"/>
              </a:lnSpc>
              <a:spcBef>
                <a:spcPts val="499"/>
              </a:spcBef>
              <a:buClr>
                <a:srgbClr val="b2b2b2"/>
              </a:buClr>
              <a:buSzPct val="90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determinar al profesional de la educación que, desempeñando horas de una misma asignatura o de igual nivel y especialidad de enseñanza, al que en virtud de lo establecido en el inciso anterior deba ponérsele término a su relación laboral, se deberá proceder en primer lugar con quienes tengan la calidad de contratados y, tengan sesenta o más años si son mujeres o sesenta y cinco o más años si son hombres; en segundo lugar, con los titulares que tengan sesenta o más años si son mujeres o sesenta y</a:t>
            </a:r>
            <a:r>
              <a:rPr b="0" lang="en-US" sz="2000" spc="-1" strike="noStrike">
                <a:solidFill>
                  <a:srgbClr val="000000"/>
                </a:solidFill>
                <a:latin typeface="Arial"/>
              </a:rPr>
              <a:t>	</a:t>
            </a:r>
            <a:r>
              <a:rPr b="0" lang="en-US" sz="2000" spc="-1" strike="noStrike">
                <a:solidFill>
                  <a:srgbClr val="000000"/>
                </a:solidFill>
                <a:latin typeface="Arial"/>
              </a:rPr>
              <a:t>cinco o más años si son hombres; si esto no fuere suficiente, se proseguirá con los profesionales que, con independencia de su calidad de titulares o contratados, tengan salud incompatible para el desempeño de la función; En seguida, se ofrecerá la renuncia voluntaria a quienes se desempeñan en la misma asignatura, nivel o especialidad de enseñanza en que se requiere disminuir horas, si lo anterior no fuere suficiente, con los contratados y luego con los titulares que en igualdad de condiciones tengan una inferior eval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914400" y="1599840"/>
            <a:ext cx="7772400" cy="4530600"/>
          </a:xfrm>
          <a:prstGeom prst="rect">
            <a:avLst/>
          </a:prstGeom>
          <a:noFill/>
          <a:ln w="0">
            <a:noFill/>
          </a:ln>
        </p:spPr>
        <p:txBody>
          <a:bodyPr anchor="t">
            <a:normAutofit/>
          </a:bodyPr>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90000"/>
              </a:lnSpc>
              <a:spcBef>
                <a:spcPts val="499"/>
              </a:spcBef>
              <a:buClr>
                <a:srgbClr val="b2b2b2"/>
              </a:buClr>
              <a:buSzPct val="90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fectos de lo dispuesto en el inciso anterior, se entenderá por salud incompatible haber hecho uso</a:t>
            </a:r>
            <a:endParaRPr b="0" lang="en-US" sz="2000" spc="-1" strike="noStrike">
              <a:solidFill>
                <a:srgbClr val="000000"/>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licencia médica en un lapso continuo o discontinuo superior a seis meses en los dos últimos años, exceptuando las licencias por accidentes del trabajo, enfermedades profesionales o por maternidad.</a:t>
            </a:r>
            <a:endParaRPr b="0" lang="en-US" sz="2000" spc="-1" strike="noStrike">
              <a:solidFill>
                <a:srgbClr val="000000"/>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90000"/>
              </a:lnSpc>
              <a:spcBef>
                <a:spcPts val="499"/>
              </a:spcBef>
              <a:buClr>
                <a:srgbClr val="b2b2b2"/>
              </a:buClr>
              <a:buSzPct val="9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igualdad absoluta de todos los factores señalados en el inciso segundo y si no se ejerciere la opción de la renuncia voluntaria, decidirá el Alcalde o el Gerente de la Corporación respectiva, según corresponda.</a:t>
            </a:r>
            <a:endParaRPr b="0" lang="en-US" sz="2000" spc="-1" strike="noStrike">
              <a:solidFill>
                <a:srgbClr val="000000"/>
              </a:solidFill>
              <a:latin typeface="Arial"/>
            </a:endParaRPr>
          </a:p>
          <a:p>
            <a:pPr marL="533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914400" y="1599840"/>
            <a:ext cx="7772400" cy="4724280"/>
          </a:xfrm>
          <a:prstGeom prst="rect">
            <a:avLst/>
          </a:prstGeom>
          <a:noFill/>
          <a:ln w="0">
            <a:noFill/>
          </a:ln>
        </p:spPr>
        <p:txBody>
          <a:bodyPr anchor="t">
            <a:normAutofit/>
          </a:bodyPr>
          <a:p>
            <a:pPr marL="533520" indent="-533520" algn="just">
              <a:lnSpc>
                <a:spcPct val="80000"/>
              </a:lnSpc>
              <a:spcBef>
                <a:spcPts val="499"/>
              </a:spcBef>
              <a:buClr>
                <a:srgbClr val="b2b2b2"/>
              </a:buClr>
              <a:buSzPct val="90000"/>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ecreto alcaldicio o la resolución de la Corporación deberán ser fundados y notificados a los docentes que dejan la dotación. Los profesionales de la educación, sean contratados o titulares, tendrán derecho a una indemnización de cargo del empleador, equivalente al total de las remuneraciones devengadas en el último mes que correspondan al número de horas suprimidas, por cada año de servicio en la respectiva Municipalidad o Corporación, o fracción superior a seis meses, con un máximo de once o la indemnización a todo evento que hubieren pactado con su empleador conforme al Código del Trabajo, si esta última fuere mayor. Estas indemnizaciones no serán imponibles ni constituirán renta para ningún efecto legal, salvo acuerdo en contrario respecto de las pactadas a todo evento. Si el profesional de la educación proviniere de otra Municipalidad o Corporación sin solución de continuidad, tendrá derecho a que se le considere todo el tiempo servido en esas condiciones.</a:t>
            </a:r>
            <a:endParaRPr b="0" lang="en-US" sz="2000" spc="-1" strike="noStrike">
              <a:solidFill>
                <a:srgbClr val="000000"/>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761760" y="1599840"/>
            <a:ext cx="7924680" cy="4876920"/>
          </a:xfrm>
          <a:prstGeom prst="rect">
            <a:avLst/>
          </a:prstGeom>
          <a:noFill/>
          <a:ln w="0">
            <a:noFill/>
          </a:ln>
        </p:spPr>
        <p:txBody>
          <a:bodyPr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a:spcBef>
                <a:spcPts val="499"/>
              </a:spcBef>
              <a:buClr>
                <a:srgbClr val="b2b2b2"/>
              </a:buClr>
              <a:buSzPct val="90000"/>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entras dichas indemnizaciones, según corresponda, no se hayan pagado, los profesionales de la educación que dejan la dotación mantendrán su derecho a las remuneraciones y demás beneficios,  tanto legales como contractuale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PLAZOS DE SOLICITUDES</a:t>
            </a:r>
            <a:endParaRPr b="0" lang="en-US" sz="2800" spc="-1" strike="noStrike">
              <a:solidFill>
                <a:srgbClr val="330033"/>
              </a:solidFill>
              <a:latin typeface="Times New Roman"/>
            </a:endParaRPr>
          </a:p>
        </p:txBody>
      </p:sp>
      <p:sp>
        <p:nvSpPr>
          <p:cNvPr id="109" name="Rectangle 4"/>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0" name=""/>
          <p:cNvGraphicFramePr/>
          <p:nvPr/>
        </p:nvGraphicFramePr>
        <p:xfrm>
          <a:off x="914400" y="2819520"/>
          <a:ext cx="7696080" cy="1585800"/>
        </p:xfrm>
        <a:graphic>
          <a:graphicData uri="http://schemas.openxmlformats.org/drawingml/2006/table">
            <a:tbl>
              <a:tblPr/>
              <a:tblGrid>
                <a:gridCol w="1665360"/>
                <a:gridCol w="603072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licitu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laz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Entre el 1 de diciembre de 2009 y 31 de enero de 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Entre el 1 de abril y 31 de mayo de 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Entre el 1 de agosto y 30 de septiembre de 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56"/>
          <p:cNvSpPr/>
          <p:nvPr/>
        </p:nvSpPr>
        <p:spPr>
          <a:xfrm>
            <a:off x="-1219320" y="385596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57"/>
          <p:cNvSpPr/>
          <p:nvPr/>
        </p:nvSpPr>
        <p:spPr>
          <a:xfrm>
            <a:off x="838080" y="4648320"/>
            <a:ext cx="7772400" cy="947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Las solicitudes 2 y 3 sólo pueden integrar docentes que hayan presentado su renuncia anticipada de acuerdo al inciso final del nuevo art. 70 del DFL N°1, de1996, del Ministerio de Educación.</a:t>
            </a:r>
            <a:r>
              <a:rPr b="0" lang="es-CL" sz="2000" spc="-1" strike="noStrike">
                <a:solidFill>
                  <a:srgbClr val="000000"/>
                </a:solidFill>
                <a:latin typeface="Arial"/>
              </a:rPr>
              <a:t> </a:t>
            </a:r>
            <a:endParaRPr b="0" lang="en-US" sz="2000" spc="-1" strike="noStrike">
              <a:solidFill>
                <a:srgbClr val="000000"/>
              </a:solidFill>
              <a:latin typeface="Arial"/>
            </a:endParaRPr>
          </a:p>
        </p:txBody>
      </p:sp>
      <p:sp>
        <p:nvSpPr>
          <p:cNvPr id="113" name="Rectangle 61"/>
          <p:cNvSpPr/>
          <p:nvPr/>
        </p:nvSpPr>
        <p:spPr>
          <a:xfrm>
            <a:off x="990720" y="1600200"/>
            <a:ext cx="7696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nte el proceso del año lectivo 2010, por razones de orden administrativo, cada municipio o corporación podrá solicitar un máximo de tres solicitud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09120" y="1676520"/>
            <a:ext cx="8153640" cy="457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olicitud:(Expirada)</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zo: </a:t>
            </a:r>
            <a:r>
              <a:rPr b="0" lang="en-US" sz="1800" spc="-1" strike="noStrike">
                <a:solidFill>
                  <a:srgbClr val="000000"/>
                </a:solidFill>
                <a:latin typeface="Arial"/>
              </a:rPr>
              <a:t>Entre el 1 de diciembre de 2009 y el 31 de enero de 2010</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os: </a:t>
            </a:r>
            <a:r>
              <a:rPr b="0" lang="en-US" sz="1800" spc="-1" strike="noStrike">
                <a:solidFill>
                  <a:srgbClr val="000000"/>
                </a:solidFill>
                <a:latin typeface="Arial"/>
              </a:rPr>
              <a:t>Docentes y Asistentes de la Educació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sitos para docente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sus horas hayan sido ajustadas de acuerdo a lo establecido en los artículos 22 y siguientes del Estatuto Docente, respetando la prelación establecida en el artículo 73 de este mismo cuerpo legal</a:t>
            </a:r>
            <a:endParaRPr b="0" lang="en-US" sz="18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ber participado en el proceso de evaluación, que hayan presentado renuncia anticipada (inciso final Art. 70  Estatuto Docente), y que cumplan la edad legal para jubilar hasta el 30 de abril de 2010</a:t>
            </a:r>
            <a:endParaRPr b="0" lang="en-US" sz="1800" spc="-1" strike="noStrike">
              <a:solidFill>
                <a:srgbClr val="000000"/>
              </a:solidFill>
              <a:latin typeface="Arial"/>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sitos para asistentes de la educació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se haya dispuesto el término de su relación laboral</a:t>
            </a:r>
            <a:endParaRPr b="0" lang="en-US" sz="1800" spc="-1" strike="noStrike">
              <a:solidFill>
                <a:srgbClr val="000000"/>
              </a:solidFill>
              <a:latin typeface="Arial"/>
            </a:endParaRPr>
          </a:p>
        </p:txBody>
      </p:sp>
      <p:sp>
        <p:nvSpPr>
          <p:cNvPr id="115"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16" name="Text Box 6"/>
          <p:cNvSpPr/>
          <p:nvPr/>
        </p:nvSpPr>
        <p:spPr>
          <a:xfrm>
            <a:off x="0" y="380880"/>
            <a:ext cx="868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Plazos y Requisitos para Solicitar Recur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1760" y="1599840"/>
            <a:ext cx="792468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2</a:t>
            </a:r>
            <a:r>
              <a:rPr b="1" lang="es-ES" sz="2000" spc="-1" strike="noStrike">
                <a:solidFill>
                  <a:srgbClr val="000000"/>
                </a:solidFill>
                <a:latin typeface="Arial"/>
              </a:rPr>
              <a:t>° Solicitud: (Expira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lazo:</a:t>
            </a:r>
            <a:r>
              <a:rPr b="0" lang="es-ES" sz="2000" spc="-1" strike="noStrike">
                <a:solidFill>
                  <a:srgbClr val="000000"/>
                </a:solidFill>
                <a:latin typeface="Arial"/>
              </a:rPr>
              <a:t> Entre el 1 de abril y el 31 de mayo de 2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sos:</a:t>
            </a:r>
            <a:r>
              <a:rPr b="0" lang="es-ES" sz="2000" spc="-1" strike="noStrike">
                <a:solidFill>
                  <a:srgbClr val="000000"/>
                </a:solidFill>
                <a:latin typeface="Arial"/>
              </a:rPr>
              <a:t> Docentes y Asistentes de la Educac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Requis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haber participado en el proceso de evaluación, que hayan presentado renuncia anticipada (inciso final Art. 70  Estatuto Docente), y que cumplan la edad legal para jubilar hasta el 31 agosto de 2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quisitos para Asistentes de la Educació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se haya dispuesto el término de su relación laboral</a:t>
            </a:r>
            <a:endParaRPr b="0" lang="en-US" sz="2000" spc="-1" strike="noStrike">
              <a:solidFill>
                <a:srgbClr val="000000"/>
              </a:solidFill>
              <a:latin typeface="Arial"/>
            </a:endParaRPr>
          </a:p>
        </p:txBody>
      </p:sp>
      <p:sp>
        <p:nvSpPr>
          <p:cNvPr id="118" name="Text Box 5"/>
          <p:cNvSpPr/>
          <p:nvPr/>
        </p:nvSpPr>
        <p:spPr>
          <a:xfrm>
            <a:off x="685800" y="239760"/>
            <a:ext cx="8153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Plazos y Requisitos para Solicitar Recurs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400" y="1828800"/>
            <a:ext cx="7772400" cy="4302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olicitud: ( Expirada)</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zo:</a:t>
            </a:r>
            <a:r>
              <a:rPr b="0" lang="en-US" sz="2000" spc="-1" strike="noStrike">
                <a:solidFill>
                  <a:srgbClr val="000000"/>
                </a:solidFill>
                <a:latin typeface="Arial"/>
              </a:rPr>
              <a:t> Entre el 1 de agosto y  30 de septiembre de 2010</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os:</a:t>
            </a:r>
            <a:r>
              <a:rPr b="0" lang="en-US" sz="2000" spc="-1" strike="noStrike">
                <a:solidFill>
                  <a:srgbClr val="000000"/>
                </a:solidFill>
                <a:latin typeface="Arial"/>
              </a:rPr>
              <a:t> Docentes y Asistentes de la Educación</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quisitos:</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aber participado en el proceso de evaluación y que hayan presentado renuncia anticipada (inciso final Art. 70,  Estatuto Docente), y que cumplan la edad legal para jubilar hasta el 31 de diciembre de 2010.</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sitos para Asistentes de la Educació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se haya dispuesto el término de su relación laboral</a:t>
            </a:r>
            <a:endParaRPr b="0" lang="en-US" sz="2000" spc="-1" strike="noStrike">
              <a:solidFill>
                <a:srgbClr val="000000"/>
              </a:solidFill>
              <a:latin typeface="Arial"/>
            </a:endParaRPr>
          </a:p>
        </p:txBody>
      </p:sp>
      <p:sp>
        <p:nvSpPr>
          <p:cNvPr id="120" name="Text Box 6"/>
          <p:cNvSpPr/>
          <p:nvPr/>
        </p:nvSpPr>
        <p:spPr>
          <a:xfrm>
            <a:off x="1600200" y="609480"/>
            <a:ext cx="27432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Text Box 7"/>
          <p:cNvSpPr/>
          <p:nvPr/>
        </p:nvSpPr>
        <p:spPr>
          <a:xfrm>
            <a:off x="1295280" y="304920"/>
            <a:ext cx="73152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Rectangle 8"/>
          <p:cNvSpPr/>
          <p:nvPr/>
        </p:nvSpPr>
        <p:spPr>
          <a:xfrm>
            <a:off x="533520" y="3589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Plazos y Requisitos para Solicitar Recur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Unicode MS"/>
              </a:rPr>
              <a:t>Plazos y Requisitos para Solicitar Recursos</a:t>
            </a:r>
            <a:br>
              <a:rPr sz="2800"/>
            </a:br>
            <a:endParaRPr b="0" lang="en-US" sz="2800" spc="-1" strike="noStrike">
              <a:solidFill>
                <a:srgbClr val="330033"/>
              </a:solidFill>
              <a:latin typeface="Times New Roman"/>
            </a:endParaRPr>
          </a:p>
        </p:txBody>
      </p:sp>
      <p:sp>
        <p:nvSpPr>
          <p:cNvPr id="124" name="PlaceHolder 2"/>
          <p:cNvSpPr>
            <a:spLocks noGrp="1"/>
          </p:cNvSpPr>
          <p:nvPr>
            <p:ph/>
          </p:nvPr>
        </p:nvSpPr>
        <p:spPr>
          <a:xfrm>
            <a:off x="914040" y="1599840"/>
            <a:ext cx="7543800" cy="3352680"/>
          </a:xfrm>
          <a:prstGeom prst="rect">
            <a:avLst/>
          </a:prstGeom>
          <a:noFill/>
          <a:ln w="0">
            <a:noFill/>
          </a:ln>
        </p:spPr>
        <p:txBody>
          <a:bodyPr lIns="90000" rIns="90000" tIns="46800" bIns="46800" anchor="t">
            <a:normAutofit fontScale="79000"/>
          </a:bodyPr>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olicitud año 2011: ( Vigente)</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zo:</a:t>
            </a:r>
            <a:r>
              <a:rPr b="0" lang="en-US" sz="2000" spc="-1" strike="noStrike">
                <a:solidFill>
                  <a:srgbClr val="000000"/>
                </a:solidFill>
                <a:latin typeface="Arial"/>
              </a:rPr>
              <a:t> Entre el 1 de Octubre y  31 de Enero de 2011</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os:</a:t>
            </a:r>
            <a:r>
              <a:rPr b="0" lang="en-US" sz="2000" spc="-1" strike="noStrike">
                <a:solidFill>
                  <a:srgbClr val="000000"/>
                </a:solidFill>
                <a:latin typeface="Arial"/>
              </a:rPr>
              <a:t> Docentes y Asistentes de la Educación</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quisito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aber participado en el proceso de evaluación y que hayan presentado renuncia anticipada (inciso final Art. 70,  Estatuto Docente), y que cumplan la edad legal para jubilar al 30 Abril 2011.</a:t>
            </a:r>
            <a:endParaRPr b="0" lang="en-US" sz="2000" spc="-1" strike="noStrike">
              <a:solidFill>
                <a:srgbClr val="000000"/>
              </a:solidFill>
              <a:latin typeface="Arial"/>
            </a:endParaRPr>
          </a:p>
          <a:p>
            <a:pPr marL="2707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sitos para Asistentes de la Educación:</a:t>
            </a:r>
            <a:endParaRPr b="0" lang="en-US" sz="2000" spc="-1" strike="noStrike">
              <a:solidFill>
                <a:srgbClr val="000000"/>
              </a:solidFill>
              <a:latin typeface="Arial"/>
            </a:endParaRPr>
          </a:p>
          <a:p>
            <a:pPr marL="270720" indent="-2707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se haya dispuesto el término de su relación laboral</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8080"/>
                </a:solidFill>
                <a:uFillTx/>
                <a:latin typeface="Times New Roman"/>
              </a:rPr>
              <a:t>Solicitud de Anticipo de Subvención</a:t>
            </a:r>
            <a:endParaRPr b="0" lang="en-US" sz="3800" spc="-1" strike="noStrike">
              <a:solidFill>
                <a:srgbClr val="330033"/>
              </a:solidFill>
              <a:latin typeface="Times New Roman"/>
            </a:endParaRPr>
          </a:p>
        </p:txBody>
      </p:sp>
      <p:sp>
        <p:nvSpPr>
          <p:cNvPr id="126" name="Text Box 55"/>
          <p:cNvSpPr/>
          <p:nvPr/>
        </p:nvSpPr>
        <p:spPr>
          <a:xfrm>
            <a:off x="914400" y="1584360"/>
            <a:ext cx="7848720" cy="5124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municipalidades y corporaciones municipales deberán presentar sus solicitudes de anticipo de subvención de escolaridad, </a:t>
            </a:r>
            <a:r>
              <a:rPr b="0" lang="es-ES" sz="2000" spc="-1" strike="noStrike" u="sng">
                <a:solidFill>
                  <a:srgbClr val="ff0000"/>
                </a:solidFill>
                <a:uFillTx/>
                <a:latin typeface="Arial"/>
              </a:rPr>
              <a:t>previo acuerdo con el Concejo Municipal</a:t>
            </a:r>
            <a:r>
              <a:rPr b="0" lang="es-ES" sz="2000" spc="-1" strike="noStrike">
                <a:solidFill>
                  <a:srgbClr val="000000"/>
                </a:solidFill>
                <a:latin typeface="Arial"/>
              </a:rPr>
              <a:t>, a la Subsecretaría de Educació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profesionales de la educación que forman parte de una dotación docente del sector municipal y que en virtud de los artículos 22, 70 y 73 del DFL N°1, de 1996, del Ministerio de Educación (Estatuto Docente), dejen de pertenecer a la mencionada dotación </a:t>
            </a:r>
            <a:r>
              <a:rPr b="0" lang="es-ES" sz="2000" spc="-1" strike="noStrike">
                <a:solidFill>
                  <a:srgbClr val="ff0000"/>
                </a:solidFill>
                <a:latin typeface="Arial"/>
              </a:rPr>
              <a:t>deberán ser notificados del decreto alcaldicio o de la resolución de la corporación municipal que fundadamente se dicte al efecto.</a:t>
            </a:r>
            <a:r>
              <a:rPr b="0" lang="es-ES" sz="2000" spc="-1" strike="noStrike">
                <a:solidFill>
                  <a:srgbClr val="000000"/>
                </a:solidFill>
                <a:latin typeface="Arial"/>
              </a:rPr>
              <a:t> Se sugiere a los sostenedores municipales notificar el señalado acto administrativo en el menor plazo posible, aconsejándose su notificación en el mes de diciembre del año que corresponda, con el objeto que el profesional afectado tenga un mayor plazo para buscar una fuente laboral respecto de las horas que le han sido suprim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Text Box 1607"/>
          <p:cNvSpPr/>
          <p:nvPr/>
        </p:nvSpPr>
        <p:spPr>
          <a:xfrm>
            <a:off x="762120" y="1600200"/>
            <a:ext cx="7924680" cy="4972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ficio de solicitud del Alcalde</a:t>
            </a:r>
            <a:r>
              <a:rPr b="0" lang="en-US" sz="2000" spc="-1" strike="noStrike">
                <a:solidFill>
                  <a:srgbClr val="000000"/>
                </a:solidFill>
                <a:latin typeface="Arial"/>
              </a:rPr>
              <a:t>. Es necesario consignar en este documento la fidelidad de los datos y el destino exclusivo de los recursos</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cuerdo Concejo Municipal</a:t>
            </a:r>
            <a:r>
              <a:rPr b="0" lang="en-US" sz="2000" spc="-1" strike="noStrike">
                <a:solidFill>
                  <a:srgbClr val="000000"/>
                </a:solidFill>
                <a:latin typeface="Arial"/>
              </a:rPr>
              <a:t> para obtener el anticipo</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pia sección del PADEM 2010 o 2011</a:t>
            </a:r>
            <a:r>
              <a:rPr b="0" lang="en-US" sz="2000" spc="-1" strike="noStrike">
                <a:solidFill>
                  <a:srgbClr val="000000"/>
                </a:solidFill>
                <a:latin typeface="Arial"/>
              </a:rPr>
              <a:t> en donde se indica necesidad de ajuste de dotación de personal ajustada y fijada para el año 2010 o 2011.</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icha de solicitud de anticipo de subvención de escolaridad Ley 20.159</a:t>
            </a:r>
            <a:r>
              <a:rPr b="0" lang="en-US" sz="2000" spc="-1" strike="noStrike">
                <a:solidFill>
                  <a:srgbClr val="000000"/>
                </a:solidFill>
                <a:latin typeface="Arial"/>
              </a:rPr>
              <a:t>. Esta ficha debe ser enviada impresa y debidamente firmada. En ella se deberán consignar el nombre y datos de una persona designada por la autoridad municipal, con la cual el Ministerio de Educación pueda contactarse ante cualquier dificultad contenida en la solicitud</a:t>
            </a:r>
            <a:endParaRPr b="0" lang="en-US" sz="2000" spc="-1" strike="noStrike">
              <a:solidFill>
                <a:srgbClr val="000000"/>
              </a:solidFill>
              <a:latin typeface="Arial"/>
            </a:endParaRPr>
          </a:p>
        </p:txBody>
      </p:sp>
      <p:sp>
        <p:nvSpPr>
          <p:cNvPr id="128" name="Text Box 1608"/>
          <p:cNvSpPr/>
          <p:nvPr/>
        </p:nvSpPr>
        <p:spPr>
          <a:xfrm>
            <a:off x="762120" y="228600"/>
            <a:ext cx="8001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Arial"/>
              </a:rPr>
              <a:t>Para Realizar esta Solicitud los Sostenedores Municipales deberán enviar los Siguientes Documento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14:44:18Z</dcterms:created>
  <dc:creator>marianela.palma</dc:creator>
  <dc:description/>
  <dc:language>en-US</dc:language>
  <cp:lastModifiedBy>prueba</cp:lastModifiedBy>
  <dcterms:modified xsi:type="dcterms:W3CDTF">2006-12-06T14:15:12Z</dcterms:modified>
  <cp:revision>105</cp:revision>
  <dc:subject/>
  <dc:title> LEY   Nº  20.158</dc:title>
</cp:coreProperties>
</file>