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B777E-CE44-46BE-ACF9-6004022E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CE35E-73BE-448B-B80D-E90B2F6B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006E9-989C-493A-B812-5BFDBDCA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2E0C6-5B8D-45D9-B8C4-0199169F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37A0-94C5-4203-AC3B-55E626CB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C613-472F-4EF5-BAFC-757CBDD7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E021-AE6B-4362-8C14-746AADC8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9D70-4988-49B8-9BDF-7027518D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04AF-4CFA-4C92-8075-C495A89E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10CB-4ADF-470A-B525-F6DBA53A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C826-B622-47EE-B4FA-11781448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DC115-5DAF-4C2A-83F0-C886F595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F37D-E381-458A-8478-D1DFD091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9E25-B615-47ED-A5A5-840598E9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79B3-9337-492B-B509-EBFA6421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7823-38C5-4B75-AE7E-B7F611CD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B911-EE1F-47A2-902E-32698489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E3AB-E71F-4AD9-87FD-768A10DC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0F81A-9C3B-47EF-827C-A76B49EB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61E21-6607-4069-AA51-D58A14B2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2D39-C743-4A2C-B0FC-ECC0CC67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BB9BB-56A5-41CD-851C-25D7F9A2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08A1-6F28-45DA-AE2A-6DDD7AF9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A350C-B45E-4BE3-A885-73A85E4C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D230-B33A-4955-A267-85529B2F9D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4195-1EAF-4553-832A-B1C20A69EA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dfdef6"/>
                </a:solidFill>
                <a:uFillTx/>
                <a:latin typeface="Arial"/>
              </a:rPr>
              <a:t>GESTION DE PERSONAL DE EDUCACION MUNICIPAL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 u="sng">
                <a:solidFill>
                  <a:srgbClr val="dfdef6"/>
                </a:solidFill>
                <a:uFillTx/>
                <a:latin typeface="Arial"/>
              </a:rPr>
              <a:t>ORDEN DE PRELACIÓN PARA SUPRESIÓN DE HORAS</a:t>
            </a:r>
            <a:r>
              <a:rPr b="0" lang="es-CL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- Los contratas o Plazo fijo. (antigüedad, evaluación, licencias médic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- Titulares más nue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- Inferior Evaluación Doc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MISOS (ART. 40 EST. DOC.), TRASLADOS  (ART. 42 EST. DOC.)Y PERMUTAS( ART.44 EST. DOC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mnización de 11 meses. Ley 20.159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CASO PRÁCTICO evaluad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IRECTOR O DIRECTORA SEÑALA QUE UN PROFESOR A CONTRATA ES SIEMPRE MEJOR QUE EL TITU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e acuerdo a lo aprendido cómo debe   resolverse este problema.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esentar el desarrollo del caso por escrit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CAS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FESORA DE RELIGIÓN EVANGÉLICA ES ACUSADA POR UNA APODERADA DE MANTENER UNA RELACIÓN AMOROSA CON SU MARID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APODERADO DENUNCIANTE LE EXIGE AL DIRECTOR QUE DESPIDA A LA PROFESORA O RETIRARÁ A SUS DOS HIJOS DE LA ESCUELA MUNICIP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IDENTIFICACIÓN DEL CONFLICTO LABORAL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95280" y="1484280"/>
            <a:ext cx="7993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I.  Conflicto entre el individuo y su trabajo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II. Conflicto entre los objetivos de la organización y los objetivos individuales de sus miembros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III. Conflictos entre personas de un mismo cargo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IDENTIFICACIÓN DEL CONFLICTO LABORAL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V. Conflictos entre el superior jerárquico y sus subordinados (viceversa)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.  Conflictos entre direcciones de establecimientos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I. Conflictos entre la administración central y un establecimiento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II. Conflictos entre un trabajador y un externo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fdef6"/>
                </a:solidFill>
                <a:latin typeface="Arial"/>
              </a:rPr>
              <a:t>TÉRMINO DE LA RELACIÓN LABORAL DE LOS PROFESIONALES DE LOS DOCENTE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0042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RT. 72: Los profesionales de la educación que forman parte de la dotación docente del sector municipal, dejarán de pertenecer a ella solamente por las siguientes causa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nuncia volun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alta de probidad, conducta inmoral o (</a:t>
            </a: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incumplimiento grave de las obligaciones que impone su función), establecidas fehacientemente en un sumario, de acuerdo l procedimiento establecido en la Ley 18.88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fdef6"/>
                </a:solidFill>
                <a:latin typeface="Arial"/>
              </a:rPr>
              <a:t>TÉRMINO DE LA RELACIÓN LABORAL DE LOS PROFESIONALES DE LOS DOCENTE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érmino del plazo por el cual se efectuó el contra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btención de jubilación, pensión o renta vitalicia de un régimen previsional, en relación a las labores doce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alleci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ercera evaluación insatisfacto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alud Irrecuperable o Incompatible con el desempeño de sus fun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fdef6"/>
                </a:solidFill>
                <a:latin typeface="Arial"/>
              </a:rPr>
              <a:t>TÉRMINO DE LA RELACIÓN LABORAL DE LOS PROFESIONALES DE LOS DOCENTE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érdida sobreviniente de alguno de los requisitos de incorporación a una dotación docente. ( art. 65 D.S 453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r supresión de ho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LEY 20.248 / LEY SEP/1º DE FEBRERO DE 2008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TÍCULO 38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IFICA EL ARTÍCULO 72 DEL ESTATUTO DOC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) Incumplimiento Grave de las Obligaciones que impone su función, tales com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*No concurrencia del docente a sus labores en forma reiter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*Impuntualidades reiteradas del doc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*Incumplimiento de las obligaciones docentes  conforme a los planes y programas de estudio  (artículo 20 Nº 1 D.S. 453 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Incumplimiento Grave de las Obligaciones que impone la labor docent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andono injustificado del aula de cl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egación del trabajo docente en otras person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6:34:55Z</dcterms:created>
  <dc:creator>Corporación de Desarrollo Social de Buin</dc:creator>
  <dc:description/>
  <dc:language>en-US</dc:language>
  <cp:lastModifiedBy>prueba</cp:lastModifiedBy>
  <dcterms:modified xsi:type="dcterms:W3CDTF">2006-12-06T14:12:45Z</dcterms:modified>
  <cp:revision>17</cp:revision>
  <dc:subject/>
  <dc:title>MANTENCION UN COMPROMISO DE GESTION</dc:title>
</cp:coreProperties>
</file>