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90000"/>
            <a:ext cx="297180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5840" y="90000"/>
            <a:ext cx="297180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578592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868600"/>
            <a:ext cx="297180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2AEC-BCDD-42BD-8C18-11F827CB58EA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879C-4E45-4F9F-9A2C-50AEF4C4F239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DD97-0367-4783-8ABB-8E806FB79CCE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9307-EB92-4A1A-B36F-3B08980CA2BE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6B38-AE72-4D0B-8913-9748248D8D55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21AC-03CF-46FD-A100-E006D2A757FA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47F8-E702-46BF-A0BE-A2CEC1EDC48D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EF16-BFB1-45A4-BBAB-118D3FF7DA9B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BBDF-4947-4FFF-B82F-2FE05D5DBCE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E67F-EAED-4C0A-87EB-4050CC75EC2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135B-A49B-493C-8C50-A12AC8E832F2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4C36-33C5-4AB9-A525-AFA11EBA73BE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A1DE-7496-4707-A019-669168CF64D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8B23-EB9E-40F9-844A-CE45A5194975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BB05-CE4D-48D0-B6E8-82B4D2945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BEA2-987F-4CE2-8F34-A685741CB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DC60-C752-45B2-A20E-394EFCD91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C230E-70CE-41A8-818D-520F4B633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7654D-F1B9-42D4-A1D7-418A4AE5CA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404C7-D598-4A92-B3FD-D404097140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D5DB0-B7BC-4A21-B97D-A2474E1697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5F948-5F9B-4F66-BB6C-562E77245A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E9613-9151-4B19-9DE9-576CBFD789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5945-2865-4966-B757-0F9C49B171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76656-1EBF-4F0F-8620-B661E8D89E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544C3-4FC3-46AC-89AB-59DC50CD2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C831-4A0A-4126-AA11-877CE876D0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7D5BF-8C25-4861-8D6E-5FCA4EAF86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6FA26-11A2-45F9-9184-6C358774E0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9DB71-CD06-4150-A7C8-5383D05046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C540A-04CC-42F7-B962-BB7C7BE97E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47DF-20A9-4604-B823-1D4AA067A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7E6E-50F5-4605-A8E3-BFA737DA2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C056-3C23-4C41-8B55-DD045A13C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8B16-4937-46A1-B797-33A1A6093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285FD-B45A-46B3-B2CA-AF427C075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5E82-08BE-45F5-8F2A-AEB8C230E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C68B-A6F6-40C7-B212-ADCDE525B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6160" indent="-29052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Group 5"/>
          <p:cNvGrpSpPr/>
          <p:nvPr/>
        </p:nvGrpSpPr>
        <p:grpSpPr>
          <a:xfrm>
            <a:off x="324000" y="981000"/>
            <a:ext cx="8424360" cy="72720"/>
            <a:chOff x="324000" y="981000"/>
            <a:chExt cx="8424360" cy="72720"/>
          </a:xfrm>
        </p:grpSpPr>
        <p:sp>
          <p:nvSpPr>
            <p:cNvPr id="3" name="Line 6"/>
            <p:cNvSpPr/>
            <p:nvPr/>
          </p:nvSpPr>
          <p:spPr>
            <a:xfrm>
              <a:off x="324000" y="1053720"/>
              <a:ext cx="8424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7"/>
            <p:cNvSpPr/>
            <p:nvPr/>
          </p:nvSpPr>
          <p:spPr>
            <a:xfrm>
              <a:off x="324000" y="981000"/>
              <a:ext cx="842436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162560" y="6381360"/>
            <a:ext cx="19047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AD91-9F18-47B3-86FE-A78D2F0AEDBB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0" y="6491160"/>
            <a:ext cx="121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www.igt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6160" indent="-29052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162560" y="6453360"/>
            <a:ext cx="1904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2956-CA12-42D8-905D-74500B118073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E8B2-6C88-4048-AA4B-0713F26B4DDD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09480" y="2971800"/>
            <a:ext cx="820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Proyecto de Cam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Sesió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-100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MEJORAMIENTO E INNOVACIÓ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340000" y="2708280"/>
          <a:ext cx="5835600" cy="2560680"/>
        </p:xfrm>
        <a:graphic>
          <a:graphicData uri="http://schemas.openxmlformats.org/drawingml/2006/table">
            <a:tbl>
              <a:tblPr/>
              <a:tblGrid>
                <a:gridCol w="2917800"/>
                <a:gridCol w="29178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jorar el producto o serv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ntregar algo totalmente difer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ficiencia, la búsqueda de la excel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ambio radical del proce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xtender, segmentar, profundizar, explor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Encontrar nuevos negocios y merc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odificar el modelo de servic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-escribir las reglas del ju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5" name="3 CuadroTexto"/>
          <p:cNvSpPr/>
          <p:nvPr/>
        </p:nvSpPr>
        <p:spPr>
          <a:xfrm>
            <a:off x="548640" y="2878200"/>
            <a:ext cx="16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6 CuadroTexto"/>
          <p:cNvSpPr/>
          <p:nvPr/>
        </p:nvSpPr>
        <p:spPr>
          <a:xfrm>
            <a:off x="549720" y="3471840"/>
            <a:ext cx="15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7 CuadroTexto"/>
          <p:cNvSpPr/>
          <p:nvPr/>
        </p:nvSpPr>
        <p:spPr>
          <a:xfrm>
            <a:off x="550080" y="411948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8 CuadroTexto"/>
          <p:cNvSpPr/>
          <p:nvPr/>
        </p:nvSpPr>
        <p:spPr>
          <a:xfrm>
            <a:off x="549720" y="469584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9 CuadroTexto"/>
          <p:cNvSpPr/>
          <p:nvPr/>
        </p:nvSpPr>
        <p:spPr>
          <a:xfrm>
            <a:off x="2782800" y="177336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0 CuadroTexto"/>
          <p:cNvSpPr/>
          <p:nvPr/>
        </p:nvSpPr>
        <p:spPr>
          <a:xfrm>
            <a:off x="5728680" y="177336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11 Flecha derecha"/>
          <p:cNvSpPr/>
          <p:nvPr/>
        </p:nvSpPr>
        <p:spPr>
          <a:xfrm>
            <a:off x="6300720" y="2205000"/>
            <a:ext cx="97812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33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n 2" descr=""/>
          <p:cNvPicPr/>
          <p:nvPr/>
        </p:nvPicPr>
        <p:blipFill>
          <a:blip r:embed="rId1"/>
          <a:stretch/>
        </p:blipFill>
        <p:spPr>
          <a:xfrm>
            <a:off x="2878200" y="2287440"/>
            <a:ext cx="1000080" cy="436680"/>
          </a:xfrm>
          <a:prstGeom prst="rect">
            <a:avLst/>
          </a:prstGeom>
          <a:ln w="0">
            <a:noFill/>
          </a:ln>
        </p:spPr>
      </p:pic>
      <p:sp>
        <p:nvSpPr>
          <p:cNvPr id="293" name="8 CuadroTexto"/>
          <p:cNvSpPr/>
          <p:nvPr/>
        </p:nvSpPr>
        <p:spPr>
          <a:xfrm>
            <a:off x="682920" y="527040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strateg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8 CuadroTexto"/>
          <p:cNvSpPr/>
          <p:nvPr/>
        </p:nvSpPr>
        <p:spPr>
          <a:xfrm>
            <a:off x="697320" y="570384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xperienci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1D5E-504F-43CD-A409-8720375E9F02}" type="slidenum">
              <a:rPr b="1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ángulo 2"/>
          <p:cNvSpPr/>
          <p:nvPr/>
        </p:nvSpPr>
        <p:spPr>
          <a:xfrm>
            <a:off x="723960" y="0"/>
            <a:ext cx="6781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Innov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ángulo 3"/>
          <p:cNvSpPr/>
          <p:nvPr/>
        </p:nvSpPr>
        <p:spPr>
          <a:xfrm>
            <a:off x="990720" y="15238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t">
            <a:noAutofit/>
          </a:bodyPr>
          <a:p>
            <a:pPr marL="339840" indent="-339840">
              <a:lnSpc>
                <a:spcPct val="85000"/>
              </a:lnSpc>
              <a:spcBef>
                <a:spcPts val="1100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upo 8"/>
          <p:cNvGrpSpPr/>
          <p:nvPr/>
        </p:nvGrpSpPr>
        <p:grpSpPr>
          <a:xfrm>
            <a:off x="3635280" y="1773360"/>
            <a:ext cx="4213440" cy="2728800"/>
            <a:chOff x="3635280" y="1773360"/>
            <a:chExt cx="4213440" cy="2728800"/>
          </a:xfrm>
        </p:grpSpPr>
        <p:sp>
          <p:nvSpPr>
            <p:cNvPr id="299" name="Línea 9"/>
            <p:cNvSpPr/>
            <p:nvPr/>
          </p:nvSpPr>
          <p:spPr>
            <a:xfrm flipV="1">
              <a:off x="4191120" y="2200320"/>
              <a:ext cx="0" cy="198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ínea 11"/>
            <p:cNvSpPr/>
            <p:nvPr/>
          </p:nvSpPr>
          <p:spPr>
            <a:xfrm>
              <a:off x="4191120" y="418176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Cuadro de texto 13"/>
            <p:cNvSpPr/>
            <p:nvPr/>
          </p:nvSpPr>
          <p:spPr>
            <a:xfrm>
              <a:off x="4191120" y="4105440"/>
              <a:ext cx="5331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Cuadro de texto 17"/>
            <p:cNvSpPr/>
            <p:nvPr/>
          </p:nvSpPr>
          <p:spPr>
            <a:xfrm>
              <a:off x="3635280" y="1773360"/>
              <a:ext cx="15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Abstrac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ínea 18"/>
            <p:cNvSpPr/>
            <p:nvPr/>
          </p:nvSpPr>
          <p:spPr>
            <a:xfrm>
              <a:off x="4114800" y="2428920"/>
              <a:ext cx="15228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Línea 11"/>
          <p:cNvSpPr/>
          <p:nvPr/>
        </p:nvSpPr>
        <p:spPr>
          <a:xfrm flipH="1">
            <a:off x="1332000" y="4159080"/>
            <a:ext cx="284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ínea 9"/>
          <p:cNvSpPr/>
          <p:nvPr/>
        </p:nvSpPr>
        <p:spPr>
          <a:xfrm>
            <a:off x="4211640" y="4148280"/>
            <a:ext cx="0" cy="2047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uadro de texto 17"/>
          <p:cNvSpPr/>
          <p:nvPr/>
        </p:nvSpPr>
        <p:spPr>
          <a:xfrm>
            <a:off x="3564000" y="6269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cr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uadro de texto 17"/>
          <p:cNvSpPr/>
          <p:nvPr/>
        </p:nvSpPr>
        <p:spPr>
          <a:xfrm>
            <a:off x="7467480" y="37051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ín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uadro de texto 17"/>
          <p:cNvSpPr/>
          <p:nvPr/>
        </p:nvSpPr>
        <p:spPr>
          <a:xfrm>
            <a:off x="108000" y="3821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1 Diagrama" descr=""/>
          <p:cNvPicPr/>
          <p:nvPr/>
        </p:nvPicPr>
        <p:blipFill>
          <a:blip r:embed="rId1"/>
          <a:stretch/>
        </p:blipFill>
        <p:spPr>
          <a:xfrm>
            <a:off x="1511280" y="2992320"/>
            <a:ext cx="23479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46 Diagrama" descr=""/>
          <p:cNvPicPr/>
          <p:nvPr/>
        </p:nvPicPr>
        <p:blipFill>
          <a:blip r:embed="rId2"/>
          <a:stretch/>
        </p:blipFill>
        <p:spPr>
          <a:xfrm>
            <a:off x="2766960" y="4664160"/>
            <a:ext cx="2444760" cy="2127240"/>
          </a:xfrm>
          <a:prstGeom prst="rect">
            <a:avLst/>
          </a:prstGeom>
          <a:ln w="0">
            <a:noFill/>
          </a:ln>
        </p:spPr>
      </p:pic>
      <p:pic>
        <p:nvPicPr>
          <p:cNvPr id="311" name="47 Diagrama" descr=""/>
          <p:cNvPicPr/>
          <p:nvPr/>
        </p:nvPicPr>
        <p:blipFill>
          <a:blip r:embed="rId3"/>
          <a:stretch/>
        </p:blipFill>
        <p:spPr>
          <a:xfrm>
            <a:off x="4711680" y="3121200"/>
            <a:ext cx="2341440" cy="2438280"/>
          </a:xfrm>
          <a:prstGeom prst="rect">
            <a:avLst/>
          </a:prstGeom>
          <a:ln w="0">
            <a:noFill/>
          </a:ln>
        </p:spPr>
      </p:pic>
      <p:pic>
        <p:nvPicPr>
          <p:cNvPr id="312" name="48 Diagrama" descr=""/>
          <p:cNvPicPr/>
          <p:nvPr/>
        </p:nvPicPr>
        <p:blipFill>
          <a:blip r:embed="rId4"/>
          <a:stretch/>
        </p:blipFill>
        <p:spPr>
          <a:xfrm>
            <a:off x="2889360" y="1908000"/>
            <a:ext cx="2444760" cy="21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iseño IDE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4" name="Imagen 2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9531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-14004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Mejoramiento continu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16" name="Grupo 53"/>
          <p:cNvGrpSpPr/>
          <p:nvPr/>
        </p:nvGrpSpPr>
        <p:grpSpPr>
          <a:xfrm>
            <a:off x="2050560" y="1685520"/>
            <a:ext cx="5187960" cy="4551840"/>
            <a:chOff x="2050560" y="1685520"/>
            <a:chExt cx="5187960" cy="4551840"/>
          </a:xfrm>
        </p:grpSpPr>
        <p:sp>
          <p:nvSpPr>
            <p:cNvPr id="317" name="Cuadro de texto 12"/>
            <p:cNvSpPr/>
            <p:nvPr/>
          </p:nvSpPr>
          <p:spPr>
            <a:xfrm>
              <a:off x="2828880" y="2183760"/>
              <a:ext cx="4409640" cy="368280"/>
            </a:xfrm>
            <a:prstGeom prst="rect">
              <a:avLst/>
            </a:prstGeom>
            <a:gradFill rotWithShape="0">
              <a:gsLst>
                <a:gs pos="0">
                  <a:srgbClr val="765e2f"/>
                </a:gs>
                <a:gs pos="50000">
                  <a:srgbClr val="ffcc66"/>
                </a:gs>
                <a:gs pos="100000">
                  <a:srgbClr val="765e2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imes New Roman"/>
                </a:rPr>
                <a:t>IDENTIFICAR EL 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Cuadro de texto 13"/>
            <p:cNvSpPr/>
            <p:nvPr/>
          </p:nvSpPr>
          <p:spPr>
            <a:xfrm>
              <a:off x="2828880" y="1828080"/>
              <a:ext cx="1037520" cy="368280"/>
            </a:xfrm>
            <a:prstGeom prst="rect">
              <a:avLst/>
            </a:prstGeom>
            <a:gradFill rotWithShape="0">
              <a:gsLst>
                <a:gs pos="0">
                  <a:srgbClr val="665229"/>
                </a:gs>
                <a:gs pos="50000">
                  <a:srgbClr val="ffcc66"/>
                </a:gs>
                <a:gs pos="100000">
                  <a:srgbClr val="66522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aso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Cuadro de texto 14"/>
            <p:cNvSpPr/>
            <p:nvPr/>
          </p:nvSpPr>
          <p:spPr>
            <a:xfrm>
              <a:off x="2828880" y="3036960"/>
              <a:ext cx="4409640" cy="368280"/>
            </a:xfrm>
            <a:prstGeom prst="rect">
              <a:avLst/>
            </a:prstGeom>
            <a:gradFill rotWithShape="0">
              <a:gsLst>
                <a:gs pos="0">
                  <a:srgbClr val="765e2f"/>
                </a:gs>
                <a:gs pos="50000">
                  <a:srgbClr val="ffcc66"/>
                </a:gs>
                <a:gs pos="100000">
                  <a:srgbClr val="765e2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imes New Roman"/>
                </a:rPr>
                <a:t>ANALIZAR EL 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Cuadro de texto 15"/>
            <p:cNvSpPr/>
            <p:nvPr/>
          </p:nvSpPr>
          <p:spPr>
            <a:xfrm>
              <a:off x="2828880" y="2681640"/>
              <a:ext cx="1037520" cy="368280"/>
            </a:xfrm>
            <a:prstGeom prst="rect">
              <a:avLst/>
            </a:prstGeom>
            <a:gradFill rotWithShape="0">
              <a:gsLst>
                <a:gs pos="0">
                  <a:srgbClr val="665229"/>
                </a:gs>
                <a:gs pos="50000">
                  <a:srgbClr val="ffcc66"/>
                </a:gs>
                <a:gs pos="100000">
                  <a:srgbClr val="66522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aso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Cuadro de texto 16"/>
            <p:cNvSpPr/>
            <p:nvPr/>
          </p:nvSpPr>
          <p:spPr>
            <a:xfrm>
              <a:off x="2828880" y="3890520"/>
              <a:ext cx="4409640" cy="368280"/>
            </a:xfrm>
            <a:prstGeom prst="rect">
              <a:avLst/>
            </a:prstGeom>
            <a:gradFill rotWithShape="0">
              <a:gsLst>
                <a:gs pos="0">
                  <a:srgbClr val="765e2f"/>
                </a:gs>
                <a:gs pos="50000">
                  <a:srgbClr val="ffcc66"/>
                </a:gs>
                <a:gs pos="100000">
                  <a:srgbClr val="765e2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imes New Roman"/>
                </a:rPr>
                <a:t>EVALUAR ALTERNATI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Cuadro de texto 17"/>
            <p:cNvSpPr/>
            <p:nvPr/>
          </p:nvSpPr>
          <p:spPr>
            <a:xfrm>
              <a:off x="2828880" y="3534840"/>
              <a:ext cx="1037520" cy="368280"/>
            </a:xfrm>
            <a:prstGeom prst="rect">
              <a:avLst/>
            </a:prstGeom>
            <a:gradFill rotWithShape="0">
              <a:gsLst>
                <a:gs pos="0">
                  <a:srgbClr val="665229"/>
                </a:gs>
                <a:gs pos="50000">
                  <a:srgbClr val="ffcc66"/>
                </a:gs>
                <a:gs pos="100000">
                  <a:srgbClr val="66522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aso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Cuadro de texto 18"/>
            <p:cNvSpPr/>
            <p:nvPr/>
          </p:nvSpPr>
          <p:spPr>
            <a:xfrm>
              <a:off x="2828880" y="4743720"/>
              <a:ext cx="4409640" cy="368280"/>
            </a:xfrm>
            <a:prstGeom prst="rect">
              <a:avLst/>
            </a:prstGeom>
            <a:gradFill rotWithShape="0">
              <a:gsLst>
                <a:gs pos="0">
                  <a:srgbClr val="765e2f"/>
                </a:gs>
                <a:gs pos="50000">
                  <a:srgbClr val="ffcc66"/>
                </a:gs>
                <a:gs pos="100000">
                  <a:srgbClr val="765e2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imes New Roman"/>
                </a:rPr>
                <a:t>PROBAR SU IMPLANT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Cuadro de texto 19"/>
            <p:cNvSpPr/>
            <p:nvPr/>
          </p:nvSpPr>
          <p:spPr>
            <a:xfrm>
              <a:off x="2828880" y="4388400"/>
              <a:ext cx="1037520" cy="368280"/>
            </a:xfrm>
            <a:prstGeom prst="rect">
              <a:avLst/>
            </a:prstGeom>
            <a:gradFill rotWithShape="0">
              <a:gsLst>
                <a:gs pos="0">
                  <a:srgbClr val="665229"/>
                </a:gs>
                <a:gs pos="50000">
                  <a:srgbClr val="ffcc66"/>
                </a:gs>
                <a:gs pos="100000">
                  <a:srgbClr val="66522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aso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Cuadro de texto 20"/>
            <p:cNvSpPr/>
            <p:nvPr/>
          </p:nvSpPr>
          <p:spPr>
            <a:xfrm>
              <a:off x="2828880" y="5597280"/>
              <a:ext cx="4409640" cy="368280"/>
            </a:xfrm>
            <a:prstGeom prst="rect">
              <a:avLst/>
            </a:prstGeom>
            <a:gradFill rotWithShape="0">
              <a:gsLst>
                <a:gs pos="0">
                  <a:srgbClr val="765e2f"/>
                </a:gs>
                <a:gs pos="50000">
                  <a:srgbClr val="ffcc66"/>
                </a:gs>
                <a:gs pos="100000">
                  <a:srgbClr val="765e2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imes New Roman"/>
                </a:rPr>
                <a:t>ESTANDARIZ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Cuadro de texto 21"/>
            <p:cNvSpPr/>
            <p:nvPr/>
          </p:nvSpPr>
          <p:spPr>
            <a:xfrm>
              <a:off x="2828880" y="5241600"/>
              <a:ext cx="1037520" cy="368280"/>
            </a:xfrm>
            <a:prstGeom prst="rect">
              <a:avLst/>
            </a:prstGeom>
            <a:gradFill rotWithShape="0">
              <a:gsLst>
                <a:gs pos="0">
                  <a:srgbClr val="665229"/>
                </a:gs>
                <a:gs pos="50000">
                  <a:srgbClr val="ffcc66"/>
                </a:gs>
                <a:gs pos="100000">
                  <a:srgbClr val="665229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aso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ínea 28"/>
            <p:cNvSpPr/>
            <p:nvPr/>
          </p:nvSpPr>
          <p:spPr>
            <a:xfrm>
              <a:off x="5250240" y="5952600"/>
              <a:ext cx="0" cy="28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ínea 29"/>
            <p:cNvSpPr/>
            <p:nvPr/>
          </p:nvSpPr>
          <p:spPr>
            <a:xfrm flipH="1">
              <a:off x="2050560" y="6237360"/>
              <a:ext cx="319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ínea 30"/>
            <p:cNvSpPr/>
            <p:nvPr/>
          </p:nvSpPr>
          <p:spPr>
            <a:xfrm flipV="1">
              <a:off x="2050920" y="1685520"/>
              <a:ext cx="0" cy="455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ínea 31"/>
            <p:cNvSpPr/>
            <p:nvPr/>
          </p:nvSpPr>
          <p:spPr>
            <a:xfrm>
              <a:off x="2050920" y="1685880"/>
              <a:ext cx="319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forma 32"/>
            <p:cNvSpPr/>
            <p:nvPr/>
          </p:nvSpPr>
          <p:spPr>
            <a:xfrm>
              <a:off x="4990680" y="1970280"/>
              <a:ext cx="518760" cy="2131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ínea 34"/>
            <p:cNvSpPr/>
            <p:nvPr/>
          </p:nvSpPr>
          <p:spPr>
            <a:xfrm flipH="1">
              <a:off x="2396880" y="49572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ínea 35"/>
            <p:cNvSpPr/>
            <p:nvPr/>
          </p:nvSpPr>
          <p:spPr>
            <a:xfrm flipV="1">
              <a:off x="2396880" y="3179160"/>
              <a:ext cx="0" cy="177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ínea 36"/>
            <p:cNvSpPr/>
            <p:nvPr/>
          </p:nvSpPr>
          <p:spPr>
            <a:xfrm>
              <a:off x="5250240" y="1685880"/>
              <a:ext cx="0" cy="28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forma 38"/>
            <p:cNvSpPr/>
            <p:nvPr/>
          </p:nvSpPr>
          <p:spPr>
            <a:xfrm>
              <a:off x="4990680" y="2823840"/>
              <a:ext cx="518760" cy="2131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ínea 39"/>
            <p:cNvSpPr/>
            <p:nvPr/>
          </p:nvSpPr>
          <p:spPr>
            <a:xfrm>
              <a:off x="5250240" y="2539080"/>
              <a:ext cx="0" cy="28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forma 40"/>
            <p:cNvSpPr/>
            <p:nvPr/>
          </p:nvSpPr>
          <p:spPr>
            <a:xfrm>
              <a:off x="4990680" y="3677040"/>
              <a:ext cx="518760" cy="2131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ínea 41"/>
            <p:cNvSpPr/>
            <p:nvPr/>
          </p:nvSpPr>
          <p:spPr>
            <a:xfrm>
              <a:off x="5250240" y="3392640"/>
              <a:ext cx="0" cy="28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forma 42"/>
            <p:cNvSpPr/>
            <p:nvPr/>
          </p:nvSpPr>
          <p:spPr>
            <a:xfrm>
              <a:off x="4990680" y="4530600"/>
              <a:ext cx="518760" cy="2131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ínea 43"/>
            <p:cNvSpPr/>
            <p:nvPr/>
          </p:nvSpPr>
          <p:spPr>
            <a:xfrm>
              <a:off x="5250240" y="4245840"/>
              <a:ext cx="0" cy="28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forma 44"/>
            <p:cNvSpPr/>
            <p:nvPr/>
          </p:nvSpPr>
          <p:spPr>
            <a:xfrm>
              <a:off x="4990680" y="5383800"/>
              <a:ext cx="518760" cy="2131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ínea 45"/>
            <p:cNvSpPr/>
            <p:nvPr/>
          </p:nvSpPr>
          <p:spPr>
            <a:xfrm>
              <a:off x="5250240" y="5099400"/>
              <a:ext cx="0" cy="28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ínea 47"/>
            <p:cNvSpPr/>
            <p:nvPr/>
          </p:nvSpPr>
          <p:spPr>
            <a:xfrm>
              <a:off x="2396880" y="3179160"/>
              <a:ext cx="3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forma 46"/>
            <p:cNvSpPr/>
            <p:nvPr/>
          </p:nvSpPr>
          <p:spPr>
            <a:xfrm rot="16149600">
              <a:off x="2485800" y="3048840"/>
              <a:ext cx="426600" cy="259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ángulo 2"/>
          <p:cNvSpPr/>
          <p:nvPr/>
        </p:nvSpPr>
        <p:spPr>
          <a:xfrm>
            <a:off x="633240" y="2414520"/>
            <a:ext cx="1476720" cy="76212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6fff6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ángulo 3"/>
          <p:cNvSpPr/>
          <p:nvPr/>
        </p:nvSpPr>
        <p:spPr>
          <a:xfrm>
            <a:off x="1758960" y="4624560"/>
            <a:ext cx="1757520" cy="7617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6fff6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ángulo 4"/>
          <p:cNvSpPr/>
          <p:nvPr/>
        </p:nvSpPr>
        <p:spPr>
          <a:xfrm>
            <a:off x="5486400" y="4624560"/>
            <a:ext cx="1758960" cy="7617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6fff6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ángulo 5"/>
          <p:cNvSpPr/>
          <p:nvPr/>
        </p:nvSpPr>
        <p:spPr>
          <a:xfrm>
            <a:off x="6470640" y="2338560"/>
            <a:ext cx="1758960" cy="7617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6fff6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ángulo 6"/>
          <p:cNvSpPr/>
          <p:nvPr/>
        </p:nvSpPr>
        <p:spPr>
          <a:xfrm>
            <a:off x="3657600" y="1424160"/>
            <a:ext cx="1476360" cy="7617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50000">
                <a:srgbClr val="f6fff6"/>
              </a:gs>
              <a:gs pos="100000">
                <a:srgbClr val="99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ix-Sigm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Cuadro de texto 8"/>
          <p:cNvSpPr/>
          <p:nvPr/>
        </p:nvSpPr>
        <p:spPr>
          <a:xfrm>
            <a:off x="6265800" y="235260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forma 9"/>
          <p:cNvSpPr/>
          <p:nvPr/>
        </p:nvSpPr>
        <p:spPr>
          <a:xfrm rot="20126400">
            <a:off x="2320920" y="1872720"/>
            <a:ext cx="1125720" cy="685800"/>
          </a:xfrm>
          <a:custGeom>
            <a:avLst/>
            <a:gdLst>
              <a:gd name="textAreaLeft" fmla="*/ 140760 w 1125720"/>
              <a:gd name="textAreaRight" fmla="*/ 985320 w 11257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c698e"/>
              </a:gs>
              <a:gs pos="100000">
                <a:srgbClr val="d2d5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forma 10"/>
          <p:cNvSpPr/>
          <p:nvPr/>
        </p:nvSpPr>
        <p:spPr>
          <a:xfrm rot="1368000">
            <a:off x="5204880" y="1874880"/>
            <a:ext cx="1125720" cy="685800"/>
          </a:xfrm>
          <a:custGeom>
            <a:avLst/>
            <a:gdLst>
              <a:gd name="textAreaLeft" fmla="*/ 140760 w 1125720"/>
              <a:gd name="textAreaRight" fmla="*/ 985320 w 11257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c698e"/>
              </a:gs>
              <a:gs pos="100000">
                <a:srgbClr val="d2d5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forma 11"/>
          <p:cNvSpPr/>
          <p:nvPr/>
        </p:nvSpPr>
        <p:spPr>
          <a:xfrm rot="7292400">
            <a:off x="6036480" y="3622320"/>
            <a:ext cx="1219320" cy="631800"/>
          </a:xfrm>
          <a:custGeom>
            <a:avLst/>
            <a:gdLst>
              <a:gd name="textAreaLeft" fmla="*/ 152280 w 1219320"/>
              <a:gd name="textAreaRight" fmla="*/ 1067040 w 1219320"/>
              <a:gd name="textAreaTop" fmla="*/ 158040 h 631800"/>
              <a:gd name="textAreaBottom" fmla="*/ 474120 h 631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c698e"/>
              </a:gs>
              <a:gs pos="100000">
                <a:srgbClr val="d2d5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forma 12"/>
          <p:cNvSpPr/>
          <p:nvPr/>
        </p:nvSpPr>
        <p:spPr>
          <a:xfrm rot="10723800">
            <a:off x="4010040" y="4776120"/>
            <a:ext cx="1123920" cy="685800"/>
          </a:xfrm>
          <a:custGeom>
            <a:avLst/>
            <a:gdLst>
              <a:gd name="textAreaLeft" fmla="*/ 140400 w 1123920"/>
              <a:gd name="textAreaRight" fmla="*/ 983520 w 11239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c698e"/>
              </a:gs>
              <a:gs pos="100000">
                <a:srgbClr val="d2d5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forma 13"/>
          <p:cNvSpPr/>
          <p:nvPr/>
        </p:nvSpPr>
        <p:spPr>
          <a:xfrm rot="14166600">
            <a:off x="1887120" y="3621960"/>
            <a:ext cx="1219320" cy="631800"/>
          </a:xfrm>
          <a:custGeom>
            <a:avLst/>
            <a:gdLst>
              <a:gd name="textAreaLeft" fmla="*/ 152280 w 1219320"/>
              <a:gd name="textAreaRight" fmla="*/ 1067040 w 1219320"/>
              <a:gd name="textAreaTop" fmla="*/ 158040 h 631800"/>
              <a:gd name="textAreaBottom" fmla="*/ 474120 h 631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5c698e"/>
              </a:gs>
              <a:gs pos="100000">
                <a:srgbClr val="d2d5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uadro de texto 14"/>
          <p:cNvSpPr/>
          <p:nvPr/>
        </p:nvSpPr>
        <p:spPr>
          <a:xfrm>
            <a:off x="3665880" y="15001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DIN-Regular"/>
                <a:ea typeface="Arial"/>
              </a:rPr>
              <a:t>De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Cuadro de texto 15"/>
          <p:cNvSpPr/>
          <p:nvPr/>
        </p:nvSpPr>
        <p:spPr>
          <a:xfrm>
            <a:off x="3800520" y="21852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DIN-Regular"/>
                <a:ea typeface="Arial"/>
              </a:rPr>
              <a:t>DEFIN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Cuadro de texto 16"/>
          <p:cNvSpPr/>
          <p:nvPr/>
        </p:nvSpPr>
        <p:spPr>
          <a:xfrm>
            <a:off x="6833160" y="31377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DIN-Regular"/>
                <a:ea typeface="Arial"/>
              </a:rPr>
              <a:t>M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Cuadro de texto 17"/>
          <p:cNvSpPr/>
          <p:nvPr/>
        </p:nvSpPr>
        <p:spPr>
          <a:xfrm>
            <a:off x="6383160" y="2428920"/>
            <a:ext cx="19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DIN-Regular"/>
                <a:ea typeface="Arial"/>
              </a:rPr>
              <a:t>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uadro de texto 18"/>
          <p:cNvSpPr/>
          <p:nvPr/>
        </p:nvSpPr>
        <p:spPr>
          <a:xfrm>
            <a:off x="5475960" y="4662360"/>
            <a:ext cx="17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DIN-Regular"/>
                <a:ea typeface="Arial"/>
              </a:rPr>
              <a:t>Analy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uadro de texto 19"/>
          <p:cNvSpPr/>
          <p:nvPr/>
        </p:nvSpPr>
        <p:spPr>
          <a:xfrm>
            <a:off x="5671080" y="542376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DIN-Regular"/>
                <a:ea typeface="Arial"/>
              </a:rPr>
              <a:t>ANA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Cuadro de texto 20"/>
          <p:cNvSpPr/>
          <p:nvPr/>
        </p:nvSpPr>
        <p:spPr>
          <a:xfrm>
            <a:off x="1647360" y="4662360"/>
            <a:ext cx="190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DIN-Regular"/>
                <a:ea typeface="Arial"/>
              </a:rPr>
              <a:t>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uadro de texto 21"/>
          <p:cNvSpPr/>
          <p:nvPr/>
        </p:nvSpPr>
        <p:spPr>
          <a:xfrm>
            <a:off x="1980720" y="542376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DIN-Regular"/>
                <a:ea typeface="Arial"/>
              </a:rPr>
              <a:t>MEJO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Cuadro de texto 22"/>
          <p:cNvSpPr/>
          <p:nvPr/>
        </p:nvSpPr>
        <p:spPr>
          <a:xfrm>
            <a:off x="494640" y="243036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DIN-Regular"/>
                <a:ea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Cuadro de texto 23"/>
          <p:cNvSpPr/>
          <p:nvPr/>
        </p:nvSpPr>
        <p:spPr>
          <a:xfrm>
            <a:off x="525240" y="313776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DIN-Regular"/>
                <a:ea typeface="Arial"/>
              </a:rPr>
              <a:t>CONTR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6BB0-CC2A-43D4-81D8-12ADF08CA709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diseñ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AutoShape 3"/>
          <p:cNvSpPr/>
          <p:nvPr/>
        </p:nvSpPr>
        <p:spPr>
          <a:xfrm>
            <a:off x="152280" y="1476360"/>
            <a:ext cx="2764080" cy="4924440"/>
          </a:xfrm>
          <a:prstGeom prst="rightArrowCallout">
            <a:avLst>
              <a:gd name="adj1" fmla="val 44544"/>
              <a:gd name="adj2" fmla="val 44540"/>
              <a:gd name="adj3" fmla="val 16667"/>
              <a:gd name="adj4" fmla="val 787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1. DIAGNÓS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a) Levanta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detalle 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Proceso, tal cu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hoy oper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) Definición d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étrica del Proce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Tablero de Monitore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) Medició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dicadores del Tabl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Monitor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situación in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) Identific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Quick Win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4"/>
          <p:cNvSpPr/>
          <p:nvPr/>
        </p:nvSpPr>
        <p:spPr>
          <a:xfrm>
            <a:off x="2971800" y="1447920"/>
            <a:ext cx="3324240" cy="4968720"/>
          </a:xfrm>
          <a:prstGeom prst="rightArrowCallout">
            <a:avLst>
              <a:gd name="adj1" fmla="val 32845"/>
              <a:gd name="adj2" fmla="val 36225"/>
              <a:gd name="adj3" fmla="val 15903"/>
              <a:gd name="adj4" fmla="val 7889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2. DISEÑO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a) Rediseño del 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Procedimiento; Sistema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Roles; Estánda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) Espec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resultados verificables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etas para cada indic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l Tablero de Monitore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cluyendo la definició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ejoras rápida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) Implementar mejoras ráp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) Seguimiento a mejoras rápi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6200640" y="1371600"/>
            <a:ext cx="2791080" cy="5056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ahoma"/>
              </a:rPr>
              <a:t>. IMPLA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) Elaboración de Guí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diseño Focalizad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b) Form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quipo de impla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)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rabajo de impla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)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apacitación en el nue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) Medición periódic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sultados en Tabler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onitore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f)Reporte mensual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vances mediante Tabler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onitor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4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167E-7A67-4594-ABA4-B4A175DDFBB4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324000" y="189000"/>
            <a:ext cx="72658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¿Qué es un proces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Imagen 2" descr=""/>
          <p:cNvPicPr/>
          <p:nvPr/>
        </p:nvPicPr>
        <p:blipFill>
          <a:blip r:embed="rId1"/>
          <a:stretch/>
        </p:blipFill>
        <p:spPr>
          <a:xfrm>
            <a:off x="112680" y="1147680"/>
            <a:ext cx="8918640" cy="545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4082-D98A-4E15-8D8C-3477E823B395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GANIGRAMA 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4024440" y="1079640"/>
            <a:ext cx="1206360" cy="52056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824040" y="2070000"/>
            <a:ext cx="97776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2043000" y="2070000"/>
            <a:ext cx="120672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3414600" y="2070000"/>
            <a:ext cx="97812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4633920" y="2070000"/>
            <a:ext cx="113040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6005520" y="2070000"/>
            <a:ext cx="113040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7300800" y="2070000"/>
            <a:ext cx="105408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61578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9000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1890720" y="42037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402444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30337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50148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6"/>
          <p:cNvSpPr/>
          <p:nvPr/>
        </p:nvSpPr>
        <p:spPr>
          <a:xfrm>
            <a:off x="71485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7"/>
          <p:cNvSpPr/>
          <p:nvPr/>
        </p:nvSpPr>
        <p:spPr>
          <a:xfrm>
            <a:off x="6081840" y="46609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8"/>
          <p:cNvSpPr/>
          <p:nvPr/>
        </p:nvSpPr>
        <p:spPr>
          <a:xfrm>
            <a:off x="3948120" y="46609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9"/>
          <p:cNvSpPr/>
          <p:nvPr/>
        </p:nvSpPr>
        <p:spPr>
          <a:xfrm>
            <a:off x="5014800" y="466092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2881440" y="42037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18907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2"/>
          <p:cNvSpPr/>
          <p:nvPr/>
        </p:nvSpPr>
        <p:spPr>
          <a:xfrm>
            <a:off x="900000" y="420372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3"/>
          <p:cNvSpPr/>
          <p:nvPr/>
        </p:nvSpPr>
        <p:spPr>
          <a:xfrm>
            <a:off x="4013280" y="1144440"/>
            <a:ext cx="130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4"/>
          <p:cNvSpPr/>
          <p:nvPr/>
        </p:nvSpPr>
        <p:spPr>
          <a:xfrm>
            <a:off x="891720" y="2233440"/>
            <a:ext cx="807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icial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5"/>
          <p:cNvSpPr/>
          <p:nvPr/>
        </p:nvSpPr>
        <p:spPr>
          <a:xfrm>
            <a:off x="3347280" y="2233440"/>
            <a:ext cx="114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g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6"/>
          <p:cNvSpPr/>
          <p:nvPr/>
        </p:nvSpPr>
        <p:spPr>
          <a:xfrm>
            <a:off x="4671000" y="2233440"/>
            <a:ext cx="1127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dire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7"/>
          <p:cNvSpPr/>
          <p:nvPr/>
        </p:nvSpPr>
        <p:spPr>
          <a:xfrm>
            <a:off x="6108120" y="2233440"/>
            <a:ext cx="81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fat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8"/>
          <p:cNvSpPr/>
          <p:nvPr/>
        </p:nvSpPr>
        <p:spPr>
          <a:xfrm>
            <a:off x="7335000" y="2081160"/>
            <a:ext cx="947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en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udad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9"/>
          <p:cNvSpPr/>
          <p:nvPr/>
        </p:nvSpPr>
        <p:spPr>
          <a:xfrm>
            <a:off x="533520" y="1447920"/>
            <a:ext cx="0" cy="3682800"/>
          </a:xfrm>
          <a:prstGeom prst="line">
            <a:avLst/>
          </a:prstGeom>
          <a:ln w="507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0"/>
          <p:cNvSpPr/>
          <p:nvPr/>
        </p:nvSpPr>
        <p:spPr>
          <a:xfrm>
            <a:off x="8610480" y="1371600"/>
            <a:ext cx="0" cy="375912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1"/>
          <p:cNvSpPr/>
          <p:nvPr/>
        </p:nvSpPr>
        <p:spPr>
          <a:xfrm>
            <a:off x="1144080" y="5270400"/>
            <a:ext cx="1802880" cy="5454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a información fluy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cia arrib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2"/>
          <p:cNvSpPr/>
          <p:nvPr/>
        </p:nvSpPr>
        <p:spPr>
          <a:xfrm>
            <a:off x="6148080" y="5346720"/>
            <a:ext cx="2508480" cy="5454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as Políticas y decisiones s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splegadas hacia abaj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33"/>
          <p:cNvSpPr/>
          <p:nvPr/>
        </p:nvSpPr>
        <p:spPr>
          <a:xfrm>
            <a:off x="1281240" y="1835280"/>
            <a:ext cx="661644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34"/>
          <p:cNvSpPr/>
          <p:nvPr/>
        </p:nvSpPr>
        <p:spPr>
          <a:xfrm>
            <a:off x="1204920" y="2978280"/>
            <a:ext cx="2197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35"/>
          <p:cNvSpPr/>
          <p:nvPr/>
        </p:nvSpPr>
        <p:spPr>
          <a:xfrm>
            <a:off x="4405320" y="2978280"/>
            <a:ext cx="8254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6"/>
          <p:cNvSpPr/>
          <p:nvPr/>
        </p:nvSpPr>
        <p:spPr>
          <a:xfrm>
            <a:off x="6539040" y="2978280"/>
            <a:ext cx="97776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7"/>
          <p:cNvSpPr/>
          <p:nvPr/>
        </p:nvSpPr>
        <p:spPr>
          <a:xfrm>
            <a:off x="1281240" y="3968640"/>
            <a:ext cx="19684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8"/>
          <p:cNvSpPr/>
          <p:nvPr/>
        </p:nvSpPr>
        <p:spPr>
          <a:xfrm>
            <a:off x="4253040" y="4425840"/>
            <a:ext cx="2197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9"/>
          <p:cNvSpPr/>
          <p:nvPr/>
        </p:nvSpPr>
        <p:spPr>
          <a:xfrm>
            <a:off x="4627440" y="16128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0"/>
          <p:cNvSpPr/>
          <p:nvPr/>
        </p:nvSpPr>
        <p:spPr>
          <a:xfrm>
            <a:off x="12747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41"/>
          <p:cNvSpPr/>
          <p:nvPr/>
        </p:nvSpPr>
        <p:spPr>
          <a:xfrm>
            <a:off x="79041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2"/>
          <p:cNvSpPr/>
          <p:nvPr/>
        </p:nvSpPr>
        <p:spPr>
          <a:xfrm>
            <a:off x="26463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3"/>
          <p:cNvSpPr/>
          <p:nvPr/>
        </p:nvSpPr>
        <p:spPr>
          <a:xfrm>
            <a:off x="386568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44"/>
          <p:cNvSpPr/>
          <p:nvPr/>
        </p:nvSpPr>
        <p:spPr>
          <a:xfrm>
            <a:off x="51609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45"/>
          <p:cNvSpPr/>
          <p:nvPr/>
        </p:nvSpPr>
        <p:spPr>
          <a:xfrm>
            <a:off x="65325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6"/>
          <p:cNvSpPr/>
          <p:nvPr/>
        </p:nvSpPr>
        <p:spPr>
          <a:xfrm>
            <a:off x="119844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7"/>
          <p:cNvSpPr/>
          <p:nvPr/>
        </p:nvSpPr>
        <p:spPr>
          <a:xfrm>
            <a:off x="34084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8"/>
          <p:cNvSpPr/>
          <p:nvPr/>
        </p:nvSpPr>
        <p:spPr>
          <a:xfrm>
            <a:off x="439884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9"/>
          <p:cNvSpPr/>
          <p:nvPr/>
        </p:nvSpPr>
        <p:spPr>
          <a:xfrm>
            <a:off x="52372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50"/>
          <p:cNvSpPr/>
          <p:nvPr/>
        </p:nvSpPr>
        <p:spPr>
          <a:xfrm>
            <a:off x="653256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51"/>
          <p:cNvSpPr/>
          <p:nvPr/>
        </p:nvSpPr>
        <p:spPr>
          <a:xfrm>
            <a:off x="75232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52"/>
          <p:cNvSpPr/>
          <p:nvPr/>
        </p:nvSpPr>
        <p:spPr>
          <a:xfrm>
            <a:off x="127476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3"/>
          <p:cNvSpPr/>
          <p:nvPr/>
        </p:nvSpPr>
        <p:spPr>
          <a:xfrm>
            <a:off x="325584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4"/>
          <p:cNvSpPr/>
          <p:nvPr/>
        </p:nvSpPr>
        <p:spPr>
          <a:xfrm>
            <a:off x="22654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55"/>
          <p:cNvSpPr/>
          <p:nvPr/>
        </p:nvSpPr>
        <p:spPr>
          <a:xfrm>
            <a:off x="424656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56"/>
          <p:cNvSpPr/>
          <p:nvPr/>
        </p:nvSpPr>
        <p:spPr>
          <a:xfrm>
            <a:off x="645624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7"/>
          <p:cNvSpPr/>
          <p:nvPr/>
        </p:nvSpPr>
        <p:spPr>
          <a:xfrm>
            <a:off x="538956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58"/>
          <p:cNvSpPr/>
          <p:nvPr/>
        </p:nvSpPr>
        <p:spPr>
          <a:xfrm>
            <a:off x="1503360" y="2679840"/>
            <a:ext cx="0" cy="291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9"/>
          <p:cNvSpPr/>
          <p:nvPr/>
        </p:nvSpPr>
        <p:spPr>
          <a:xfrm>
            <a:off x="5237280" y="2679840"/>
            <a:ext cx="0" cy="5205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60"/>
          <p:cNvSpPr/>
          <p:nvPr/>
        </p:nvSpPr>
        <p:spPr>
          <a:xfrm>
            <a:off x="6913440" y="2679840"/>
            <a:ext cx="0" cy="291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61"/>
          <p:cNvSpPr/>
          <p:nvPr/>
        </p:nvSpPr>
        <p:spPr>
          <a:xfrm>
            <a:off x="2265480" y="3670200"/>
            <a:ext cx="0" cy="292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62"/>
          <p:cNvSpPr/>
          <p:nvPr/>
        </p:nvSpPr>
        <p:spPr>
          <a:xfrm>
            <a:off x="226548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63"/>
          <p:cNvSpPr/>
          <p:nvPr/>
        </p:nvSpPr>
        <p:spPr>
          <a:xfrm>
            <a:off x="5389560" y="3670200"/>
            <a:ext cx="0" cy="7495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4"/>
          <p:cNvSpPr/>
          <p:nvPr/>
        </p:nvSpPr>
        <p:spPr>
          <a:xfrm>
            <a:off x="2106720" y="2233440"/>
            <a:ext cx="106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5"/>
          <p:cNvSpPr/>
          <p:nvPr/>
        </p:nvSpPr>
        <p:spPr>
          <a:xfrm>
            <a:off x="290520" y="927000"/>
            <a:ext cx="8521560" cy="5168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9E7E-9C93-4AF9-B12B-7B12748E482E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533520" y="-243000"/>
            <a:ext cx="82994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¿Cómo trabajan las organizaciones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4197240" y="1606680"/>
            <a:ext cx="9018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19875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29019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38163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4730760" y="252108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572148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663588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579744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1"/>
          <p:cNvSpPr/>
          <p:nvPr/>
        </p:nvSpPr>
        <p:spPr>
          <a:xfrm>
            <a:off x="17589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2"/>
          <p:cNvSpPr/>
          <p:nvPr/>
        </p:nvSpPr>
        <p:spPr>
          <a:xfrm>
            <a:off x="1606680" y="450216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3"/>
          <p:cNvSpPr/>
          <p:nvPr/>
        </p:nvSpPr>
        <p:spPr>
          <a:xfrm>
            <a:off x="419724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4"/>
          <p:cNvSpPr/>
          <p:nvPr/>
        </p:nvSpPr>
        <p:spPr>
          <a:xfrm>
            <a:off x="3435480" y="35114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5"/>
          <p:cNvSpPr/>
          <p:nvPr/>
        </p:nvSpPr>
        <p:spPr>
          <a:xfrm>
            <a:off x="49593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6"/>
          <p:cNvSpPr/>
          <p:nvPr/>
        </p:nvSpPr>
        <p:spPr>
          <a:xfrm>
            <a:off x="65595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7"/>
          <p:cNvSpPr/>
          <p:nvPr/>
        </p:nvSpPr>
        <p:spPr>
          <a:xfrm>
            <a:off x="6178680" y="48830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8"/>
          <p:cNvSpPr/>
          <p:nvPr/>
        </p:nvSpPr>
        <p:spPr>
          <a:xfrm>
            <a:off x="4197240" y="48830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9"/>
          <p:cNvSpPr/>
          <p:nvPr/>
        </p:nvSpPr>
        <p:spPr>
          <a:xfrm>
            <a:off x="5187960" y="48830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2368440" y="45021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2521080" y="35114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2"/>
          <p:cNvSpPr/>
          <p:nvPr/>
        </p:nvSpPr>
        <p:spPr>
          <a:xfrm>
            <a:off x="844560" y="45021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2368440" y="2286000"/>
            <a:ext cx="463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4"/>
          <p:cNvSpPr/>
          <p:nvPr/>
        </p:nvSpPr>
        <p:spPr>
          <a:xfrm>
            <a:off x="2139840" y="327672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5"/>
          <p:cNvSpPr/>
          <p:nvPr/>
        </p:nvSpPr>
        <p:spPr>
          <a:xfrm>
            <a:off x="465444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6"/>
          <p:cNvSpPr/>
          <p:nvPr/>
        </p:nvSpPr>
        <p:spPr>
          <a:xfrm>
            <a:off x="1225440" y="42670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7"/>
          <p:cNvSpPr/>
          <p:nvPr/>
        </p:nvSpPr>
        <p:spPr>
          <a:xfrm>
            <a:off x="4425840" y="464832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8"/>
          <p:cNvSpPr/>
          <p:nvPr/>
        </p:nvSpPr>
        <p:spPr>
          <a:xfrm>
            <a:off x="4648320" y="2063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9"/>
          <p:cNvSpPr/>
          <p:nvPr/>
        </p:nvSpPr>
        <p:spPr>
          <a:xfrm>
            <a:off x="23623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30"/>
          <p:cNvSpPr/>
          <p:nvPr/>
        </p:nvSpPr>
        <p:spPr>
          <a:xfrm>
            <a:off x="70102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31"/>
          <p:cNvSpPr/>
          <p:nvPr/>
        </p:nvSpPr>
        <p:spPr>
          <a:xfrm>
            <a:off x="32767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32"/>
          <p:cNvSpPr/>
          <p:nvPr/>
        </p:nvSpPr>
        <p:spPr>
          <a:xfrm>
            <a:off x="41911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3"/>
          <p:cNvSpPr/>
          <p:nvPr/>
        </p:nvSpPr>
        <p:spPr>
          <a:xfrm>
            <a:off x="51814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34"/>
          <p:cNvSpPr/>
          <p:nvPr/>
        </p:nvSpPr>
        <p:spPr>
          <a:xfrm>
            <a:off x="60958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5"/>
          <p:cNvSpPr/>
          <p:nvPr/>
        </p:nvSpPr>
        <p:spPr>
          <a:xfrm>
            <a:off x="21337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6"/>
          <p:cNvSpPr/>
          <p:nvPr/>
        </p:nvSpPr>
        <p:spPr>
          <a:xfrm>
            <a:off x="388620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37"/>
          <p:cNvSpPr/>
          <p:nvPr/>
        </p:nvSpPr>
        <p:spPr>
          <a:xfrm>
            <a:off x="46483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8"/>
          <p:cNvSpPr/>
          <p:nvPr/>
        </p:nvSpPr>
        <p:spPr>
          <a:xfrm>
            <a:off x="548640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39"/>
          <p:cNvSpPr/>
          <p:nvPr/>
        </p:nvSpPr>
        <p:spPr>
          <a:xfrm>
            <a:off x="609588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40"/>
          <p:cNvSpPr/>
          <p:nvPr/>
        </p:nvSpPr>
        <p:spPr>
          <a:xfrm>
            <a:off x="69343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41"/>
          <p:cNvSpPr/>
          <p:nvPr/>
        </p:nvSpPr>
        <p:spPr>
          <a:xfrm>
            <a:off x="121932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42"/>
          <p:cNvSpPr/>
          <p:nvPr/>
        </p:nvSpPr>
        <p:spPr>
          <a:xfrm>
            <a:off x="266688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3"/>
          <p:cNvSpPr/>
          <p:nvPr/>
        </p:nvSpPr>
        <p:spPr>
          <a:xfrm>
            <a:off x="289548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4"/>
          <p:cNvSpPr/>
          <p:nvPr/>
        </p:nvSpPr>
        <p:spPr>
          <a:xfrm>
            <a:off x="441972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5"/>
          <p:cNvSpPr/>
          <p:nvPr/>
        </p:nvSpPr>
        <p:spPr>
          <a:xfrm>
            <a:off x="662940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6"/>
          <p:cNvSpPr/>
          <p:nvPr/>
        </p:nvSpPr>
        <p:spPr>
          <a:xfrm>
            <a:off x="556272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7"/>
          <p:cNvSpPr/>
          <p:nvPr/>
        </p:nvSpPr>
        <p:spPr>
          <a:xfrm>
            <a:off x="198108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8"/>
          <p:cNvSpPr/>
          <p:nvPr/>
        </p:nvSpPr>
        <p:spPr>
          <a:xfrm>
            <a:off x="311040" y="1454040"/>
            <a:ext cx="8521920" cy="4711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9"/>
          <p:cNvSpPr/>
          <p:nvPr/>
        </p:nvSpPr>
        <p:spPr>
          <a:xfrm>
            <a:off x="236232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0"/>
          <p:cNvSpPr/>
          <p:nvPr/>
        </p:nvSpPr>
        <p:spPr>
          <a:xfrm>
            <a:off x="2133720" y="3892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51"/>
          <p:cNvSpPr/>
          <p:nvPr/>
        </p:nvSpPr>
        <p:spPr>
          <a:xfrm>
            <a:off x="51814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2"/>
          <p:cNvSpPr/>
          <p:nvPr/>
        </p:nvSpPr>
        <p:spPr>
          <a:xfrm>
            <a:off x="5562720" y="3892680"/>
            <a:ext cx="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53"/>
          <p:cNvSpPr/>
          <p:nvPr/>
        </p:nvSpPr>
        <p:spPr>
          <a:xfrm>
            <a:off x="60958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54"/>
          <p:cNvSpPr/>
          <p:nvPr/>
        </p:nvSpPr>
        <p:spPr>
          <a:xfrm>
            <a:off x="610236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5"/>
          <p:cNvSpPr/>
          <p:nvPr/>
        </p:nvSpPr>
        <p:spPr>
          <a:xfrm>
            <a:off x="6934320" y="32767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6"/>
          <p:cNvSpPr/>
          <p:nvPr/>
        </p:nvSpPr>
        <p:spPr>
          <a:xfrm>
            <a:off x="3587760" y="42735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57"/>
          <p:cNvSpPr/>
          <p:nvPr/>
        </p:nvSpPr>
        <p:spPr>
          <a:xfrm>
            <a:off x="3886200" y="3892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8"/>
          <p:cNvSpPr/>
          <p:nvPr/>
        </p:nvSpPr>
        <p:spPr>
          <a:xfrm>
            <a:off x="3028320" y="5423040"/>
            <a:ext cx="30481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os eventos suceden horizontalmen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59"/>
          <p:cNvSpPr/>
          <p:nvPr/>
        </p:nvSpPr>
        <p:spPr>
          <a:xfrm>
            <a:off x="3606840" y="5867280"/>
            <a:ext cx="19303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60"/>
          <p:cNvSpPr/>
          <p:nvPr/>
        </p:nvSpPr>
        <p:spPr>
          <a:xfrm>
            <a:off x="387360" y="351144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61"/>
          <p:cNvSpPr/>
          <p:nvPr/>
        </p:nvSpPr>
        <p:spPr>
          <a:xfrm>
            <a:off x="442800" y="3629160"/>
            <a:ext cx="114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62"/>
          <p:cNvSpPr/>
          <p:nvPr/>
        </p:nvSpPr>
        <p:spPr>
          <a:xfrm>
            <a:off x="7570800" y="244476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63"/>
          <p:cNvSpPr/>
          <p:nvPr/>
        </p:nvSpPr>
        <p:spPr>
          <a:xfrm>
            <a:off x="7756920" y="2562120"/>
            <a:ext cx="850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64"/>
          <p:cNvSpPr/>
          <p:nvPr/>
        </p:nvSpPr>
        <p:spPr>
          <a:xfrm>
            <a:off x="1625760" y="3811680"/>
            <a:ext cx="5587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65"/>
          <p:cNvSpPr/>
          <p:nvPr/>
        </p:nvSpPr>
        <p:spPr>
          <a:xfrm flipV="1">
            <a:off x="2209680" y="2812680"/>
            <a:ext cx="0" cy="10414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66"/>
          <p:cNvSpPr/>
          <p:nvPr/>
        </p:nvSpPr>
        <p:spPr>
          <a:xfrm>
            <a:off x="2762280" y="2813040"/>
            <a:ext cx="0" cy="16257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7"/>
          <p:cNvSpPr/>
          <p:nvPr/>
        </p:nvSpPr>
        <p:spPr>
          <a:xfrm>
            <a:off x="2752560" y="4398840"/>
            <a:ext cx="15494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68"/>
          <p:cNvSpPr/>
          <p:nvPr/>
        </p:nvSpPr>
        <p:spPr>
          <a:xfrm>
            <a:off x="4287960" y="2803680"/>
            <a:ext cx="0" cy="16254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69"/>
          <p:cNvSpPr/>
          <p:nvPr/>
        </p:nvSpPr>
        <p:spPr>
          <a:xfrm>
            <a:off x="5695920" y="2809800"/>
            <a:ext cx="0" cy="14702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70"/>
          <p:cNvSpPr/>
          <p:nvPr/>
        </p:nvSpPr>
        <p:spPr>
          <a:xfrm>
            <a:off x="5686560" y="4246560"/>
            <a:ext cx="139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71"/>
          <p:cNvSpPr/>
          <p:nvPr/>
        </p:nvSpPr>
        <p:spPr>
          <a:xfrm flipV="1">
            <a:off x="7086600" y="2774520"/>
            <a:ext cx="0" cy="14986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2"/>
          <p:cNvSpPr/>
          <p:nvPr/>
        </p:nvSpPr>
        <p:spPr>
          <a:xfrm>
            <a:off x="7059600" y="2752560"/>
            <a:ext cx="534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73"/>
          <p:cNvSpPr/>
          <p:nvPr/>
        </p:nvSpPr>
        <p:spPr>
          <a:xfrm>
            <a:off x="2200320" y="2838600"/>
            <a:ext cx="609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74"/>
          <p:cNvSpPr/>
          <p:nvPr/>
        </p:nvSpPr>
        <p:spPr>
          <a:xfrm>
            <a:off x="4260960" y="2809800"/>
            <a:ext cx="1447560" cy="97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4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45CC-F6D9-4491-8C74-EC6F82C2F4E7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tributos de un Proces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4187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osto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sto total incurrido en producir y entregar salidas (output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Tiempo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Tiempo total que se necesita para transformar una unidad de entrada (input) a una unidad de salida (output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409640" y="1267920"/>
            <a:ext cx="442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Flexibilidad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La capacidad del proceso de producir y entregar una variedad de producto/servicio deseada. Relacionado con la flexibilidad de sus recurso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alidad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La capacidad del proceso de producir y entregar productos de calidad. Se incluye la exactitud, fiabilidad y mantenimient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A361-6133-43AE-8FFF-62F59F59FCEE}" type="slidenum">
              <a:rPr b="1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Introducció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89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 algn="just">
              <a:spcBef>
                <a:spcPts val="10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100" spc="-1" strike="noStrike">
                <a:solidFill>
                  <a:srgbClr val="000066"/>
                </a:solidFill>
                <a:latin typeface="Arial"/>
              </a:rPr>
              <a:t>Las organizaciones están normalmente organizadas para la cotidianeidad: comprar, producir servicios, llevar la contabilidad.....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39840" indent="-339840" algn="just">
              <a:spcBef>
                <a:spcPts val="10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100" spc="-1" strike="noStrike">
                <a:solidFill>
                  <a:srgbClr val="000066"/>
                </a:solidFill>
                <a:latin typeface="Arial"/>
              </a:rPr>
              <a:t>Pero en este mundo inestable y cambiante... la eficacia se juega, día a día, en proyectos e iniciativas que </a:t>
            </a:r>
            <a:r>
              <a:rPr b="1" i="1" lang="es-ES_tradnl" sz="2100" spc="-1" strike="noStrike">
                <a:solidFill>
                  <a:srgbClr val="000066"/>
                </a:solidFill>
                <a:latin typeface="Arial"/>
              </a:rPr>
              <a:t>cambian</a:t>
            </a:r>
            <a:r>
              <a:rPr b="1" i="1" lang="es-ES_tradnl" sz="2100" spc="-1" strike="noStrike">
                <a:solidFill>
                  <a:srgbClr val="000066"/>
                </a:solidFill>
                <a:latin typeface="Arial"/>
              </a:rPr>
              <a:t> las cosas: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4" name="Grupo 4"/>
          <p:cNvGrpSpPr/>
          <p:nvPr/>
        </p:nvGrpSpPr>
        <p:grpSpPr>
          <a:xfrm>
            <a:off x="1219320" y="4038480"/>
            <a:ext cx="7391160" cy="1077480"/>
            <a:chOff x="1219320" y="4038480"/>
            <a:chExt cx="7391160" cy="1077480"/>
          </a:xfrm>
        </p:grpSpPr>
        <p:sp>
          <p:nvSpPr>
            <p:cNvPr id="95" name="Cuadro de texto 5"/>
            <p:cNvSpPr/>
            <p:nvPr/>
          </p:nvSpPr>
          <p:spPr>
            <a:xfrm>
              <a:off x="1219320" y="4038480"/>
              <a:ext cx="1676160" cy="10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000066"/>
                  </a:solidFill>
                  <a:latin typeface="Times New Roman"/>
                </a:rPr>
                <a:t>Rediseños de procesos operativos y sustantivo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Cuadro de texto 6"/>
            <p:cNvSpPr/>
            <p:nvPr/>
          </p:nvSpPr>
          <p:spPr>
            <a:xfrm>
              <a:off x="3124080" y="4038480"/>
              <a:ext cx="1676520" cy="10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000066"/>
                  </a:solidFill>
                  <a:latin typeface="Times New Roman"/>
                </a:rPr>
                <a:t>Mejoramiento continuo de calidad y productivida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uadro de texto 7"/>
            <p:cNvSpPr/>
            <p:nvPr/>
          </p:nvSpPr>
          <p:spPr>
            <a:xfrm>
              <a:off x="5029200" y="4038480"/>
              <a:ext cx="1676520" cy="10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000066"/>
                  </a:solidFill>
                  <a:latin typeface="Times New Roman"/>
                </a:rPr>
                <a:t>Inversiones en tecnología y capacidad instalada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uadro de texto 8"/>
            <p:cNvSpPr/>
            <p:nvPr/>
          </p:nvSpPr>
          <p:spPr>
            <a:xfrm>
              <a:off x="6934320" y="4038480"/>
              <a:ext cx="1676160" cy="10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000066"/>
                  </a:solidFill>
                  <a:latin typeface="Times New Roman"/>
                </a:rPr>
                <a:t>Nuevos productos, servicios y negocio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4704-68EC-4697-93EA-5289F0A04080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000066"/>
                </a:solidFill>
                <a:latin typeface="Arial"/>
              </a:rPr>
              <a:t>Mapeo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31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66"/>
                </a:solidFill>
                <a:latin typeface="Arial"/>
              </a:rPr>
              <a:t>Es de gran utilidad identificar las fronteras de los procesos a través de un MAPA, por ejemplo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se inicia con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termina con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incluye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excluye (en referencia a procesos adjun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Para entender, mejorar o rediseñar los procesos es importante el poder representarlos a través d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Flujo gra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Diagram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Mapas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Descripcion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E833-1718-4AA6-A87D-45544F35EF12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38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ntender Situación Actu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-2133720" y="74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8"/>
          <p:cNvSpPr/>
          <p:nvPr/>
        </p:nvSpPr>
        <p:spPr>
          <a:xfrm>
            <a:off x="304920" y="7467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3"/>
          <p:cNvGrpSpPr/>
          <p:nvPr/>
        </p:nvGrpSpPr>
        <p:grpSpPr>
          <a:xfrm>
            <a:off x="1413000" y="1352520"/>
            <a:ext cx="6514560" cy="4674960"/>
            <a:chOff x="1413000" y="1352520"/>
            <a:chExt cx="6514560" cy="4674960"/>
          </a:xfrm>
        </p:grpSpPr>
        <p:sp>
          <p:nvSpPr>
            <p:cNvPr id="526" name="Rectangle 14"/>
            <p:cNvSpPr/>
            <p:nvPr/>
          </p:nvSpPr>
          <p:spPr>
            <a:xfrm>
              <a:off x="4638240" y="1625760"/>
              <a:ext cx="1608840" cy="440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5"/>
            <p:cNvSpPr/>
            <p:nvPr/>
          </p:nvSpPr>
          <p:spPr>
            <a:xfrm>
              <a:off x="2926800" y="1625760"/>
              <a:ext cx="1704240" cy="440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6"/>
            <p:cNvSpPr/>
            <p:nvPr/>
          </p:nvSpPr>
          <p:spPr>
            <a:xfrm>
              <a:off x="1413000" y="1625760"/>
              <a:ext cx="1513800" cy="440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7"/>
            <p:cNvSpPr/>
            <p:nvPr/>
          </p:nvSpPr>
          <p:spPr>
            <a:xfrm>
              <a:off x="1483920" y="1352520"/>
              <a:ext cx="15001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18"/>
            <p:cNvSpPr/>
            <p:nvPr/>
          </p:nvSpPr>
          <p:spPr>
            <a:xfrm>
              <a:off x="1626120" y="2000520"/>
              <a:ext cx="896400" cy="343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19"/>
            <p:cNvSpPr/>
            <p:nvPr/>
          </p:nvSpPr>
          <p:spPr>
            <a:xfrm>
              <a:off x="3286440" y="2300760"/>
              <a:ext cx="1049760" cy="326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20"/>
            <p:cNvSpPr/>
            <p:nvPr/>
          </p:nvSpPr>
          <p:spPr>
            <a:xfrm>
              <a:off x="4879800" y="2825640"/>
              <a:ext cx="1065240" cy="329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21"/>
            <p:cNvSpPr/>
            <p:nvPr/>
          </p:nvSpPr>
          <p:spPr>
            <a:xfrm>
              <a:off x="4489200" y="3454920"/>
              <a:ext cx="532800" cy="20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rebuchet MS"/>
                </a:rPr>
                <a:t>N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 Box 22"/>
            <p:cNvSpPr/>
            <p:nvPr/>
          </p:nvSpPr>
          <p:spPr>
            <a:xfrm>
              <a:off x="2145600" y="3628080"/>
              <a:ext cx="532440" cy="20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rebuchet MS"/>
                </a:rPr>
                <a:t>SÍ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23"/>
            <p:cNvSpPr/>
            <p:nvPr/>
          </p:nvSpPr>
          <p:spPr>
            <a:xfrm>
              <a:off x="3506400" y="3336480"/>
              <a:ext cx="425520" cy="1983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24"/>
            <p:cNvSpPr/>
            <p:nvPr/>
          </p:nvSpPr>
          <p:spPr>
            <a:xfrm>
              <a:off x="3126600" y="3786120"/>
              <a:ext cx="1064880" cy="329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25"/>
            <p:cNvSpPr/>
            <p:nvPr/>
          </p:nvSpPr>
          <p:spPr>
            <a:xfrm>
              <a:off x="4939920" y="3786120"/>
              <a:ext cx="1172160" cy="329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26"/>
            <p:cNvSpPr/>
            <p:nvPr/>
          </p:nvSpPr>
          <p:spPr>
            <a:xfrm>
              <a:off x="6953040" y="5471640"/>
              <a:ext cx="319320" cy="2026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9" name="AutoShape 27"/>
            <p:cNvCxnSpPr>
              <a:stCxn id="530" idx="3"/>
              <a:endCxn id="531" idx="0"/>
            </p:cNvCxnSpPr>
            <p:nvPr/>
          </p:nvCxnSpPr>
          <p:spPr>
            <a:xfrm>
              <a:off x="2522520" y="2172240"/>
              <a:ext cx="1290240" cy="12888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0" name="AutoShape 28"/>
            <p:cNvCxnSpPr>
              <a:stCxn id="531" idx="3"/>
              <a:endCxn id="532" idx="0"/>
            </p:cNvCxnSpPr>
            <p:nvPr/>
          </p:nvCxnSpPr>
          <p:spPr>
            <a:xfrm>
              <a:off x="4336200" y="2464560"/>
              <a:ext cx="1077120" cy="3614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AutoShape 29"/>
            <p:cNvCxnSpPr>
              <a:stCxn id="535" idx="3"/>
              <a:endCxn id="537" idx="0"/>
            </p:cNvCxnSpPr>
            <p:nvPr/>
          </p:nvCxnSpPr>
          <p:spPr>
            <a:xfrm>
              <a:off x="3931920" y="3436200"/>
              <a:ext cx="1594800" cy="3506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2" name="AutoShape 30"/>
            <p:cNvCxnSpPr>
              <a:stCxn id="543" idx="2"/>
              <a:endCxn id="538" idx="0"/>
            </p:cNvCxnSpPr>
            <p:nvPr/>
          </p:nvCxnSpPr>
          <p:spPr>
            <a:xfrm flipH="1">
              <a:off x="7112520" y="5106960"/>
              <a:ext cx="24840" cy="36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4" name="AutoShape 31"/>
            <p:cNvCxnSpPr>
              <a:stCxn id="535" idx="1"/>
              <a:endCxn id="536" idx="1"/>
            </p:cNvCxnSpPr>
            <p:nvPr/>
          </p:nvCxnSpPr>
          <p:spPr>
            <a:xfrm flipV="1" rot="10800000">
              <a:off x="3125880" y="3435120"/>
              <a:ext cx="380160" cy="515880"/>
            </a:xfrm>
            <a:prstGeom prst="bentConnector3">
              <a:avLst>
                <a:gd name="adj1" fmla="val 184170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5" name="Rectangle 32"/>
            <p:cNvSpPr/>
            <p:nvPr/>
          </p:nvSpPr>
          <p:spPr>
            <a:xfrm>
              <a:off x="6247440" y="1625760"/>
              <a:ext cx="1680120" cy="4401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6" name="AutoShape 33"/>
            <p:cNvCxnSpPr>
              <a:stCxn id="532" idx="1"/>
              <a:endCxn id="535" idx="0"/>
            </p:cNvCxnSpPr>
            <p:nvPr/>
          </p:nvCxnSpPr>
          <p:spPr>
            <a:xfrm flipV="1" rot="10800000">
              <a:off x="3718440" y="2989800"/>
              <a:ext cx="1161360" cy="3459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7" name="Text Box 34"/>
            <p:cNvSpPr/>
            <p:nvPr/>
          </p:nvSpPr>
          <p:spPr>
            <a:xfrm>
              <a:off x="2993400" y="1352520"/>
              <a:ext cx="15001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35"/>
            <p:cNvSpPr/>
            <p:nvPr/>
          </p:nvSpPr>
          <p:spPr>
            <a:xfrm>
              <a:off x="3126600" y="4398120"/>
              <a:ext cx="1113840" cy="399600"/>
            </a:xfrm>
            <a:prstGeom prst="flowChart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rebuchet MS"/>
                </a:rPr>
                <a:t>Documento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9" name="AutoShape 36"/>
            <p:cNvCxnSpPr>
              <a:stCxn id="537" idx="3"/>
              <a:endCxn id="543" idx="0"/>
            </p:cNvCxnSpPr>
            <p:nvPr/>
          </p:nvCxnSpPr>
          <p:spPr>
            <a:xfrm>
              <a:off x="6112080" y="3951360"/>
              <a:ext cx="1026000" cy="82692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3" name="AutoShape 37"/>
            <p:cNvSpPr/>
            <p:nvPr/>
          </p:nvSpPr>
          <p:spPr>
            <a:xfrm>
              <a:off x="6551280" y="4777920"/>
              <a:ext cx="1171440" cy="3294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38"/>
            <p:cNvSpPr/>
            <p:nvPr/>
          </p:nvSpPr>
          <p:spPr>
            <a:xfrm>
              <a:off x="4698000" y="1352520"/>
              <a:ext cx="149760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9"/>
            <p:cNvSpPr/>
            <p:nvPr/>
          </p:nvSpPr>
          <p:spPr>
            <a:xfrm>
              <a:off x="3630600" y="4115520"/>
              <a:ext cx="1800" cy="28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2" name="AutoShape 40"/>
            <p:cNvCxnSpPr>
              <a:endCxn id="543" idx="1"/>
            </p:cNvCxnSpPr>
            <p:nvPr/>
          </p:nvCxnSpPr>
          <p:spPr>
            <a:xfrm>
              <a:off x="4233600" y="4545000"/>
              <a:ext cx="2318040" cy="398520"/>
            </a:xfrm>
            <a:prstGeom prst="bentConnector3">
              <a:avLst>
                <a:gd name="adj1" fmla="val 50000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3" name="Text Box 41"/>
            <p:cNvSpPr/>
            <p:nvPr/>
          </p:nvSpPr>
          <p:spPr>
            <a:xfrm>
              <a:off x="6315840" y="1352520"/>
              <a:ext cx="1500120" cy="24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42"/>
            <p:cNvSpPr/>
            <p:nvPr/>
          </p:nvSpPr>
          <p:spPr>
            <a:xfrm>
              <a:off x="2087640" y="1777320"/>
              <a:ext cx="0" cy="212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43"/>
            <p:cNvSpPr/>
            <p:nvPr/>
          </p:nvSpPr>
          <p:spPr>
            <a:xfrm>
              <a:off x="1863720" y="1625760"/>
              <a:ext cx="425520" cy="198360"/>
            </a:xfrm>
            <a:prstGeom prst="flowChartConnector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AutoShape 44"/>
          <p:cNvSpPr/>
          <p:nvPr/>
        </p:nvSpPr>
        <p:spPr>
          <a:xfrm>
            <a:off x="0" y="304920"/>
            <a:ext cx="990720" cy="99036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45"/>
          <p:cNvGrpSpPr/>
          <p:nvPr/>
        </p:nvGrpSpPr>
        <p:grpSpPr>
          <a:xfrm>
            <a:off x="58680" y="5545080"/>
            <a:ext cx="4028760" cy="1258920"/>
            <a:chOff x="58680" y="5545080"/>
            <a:chExt cx="4028760" cy="1258920"/>
          </a:xfrm>
        </p:grpSpPr>
        <p:sp>
          <p:nvSpPr>
            <p:cNvPr id="558" name="Rectangle 46"/>
            <p:cNvSpPr/>
            <p:nvPr/>
          </p:nvSpPr>
          <p:spPr>
            <a:xfrm>
              <a:off x="65880" y="5547960"/>
              <a:ext cx="4016160" cy="115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47"/>
            <p:cNvSpPr/>
            <p:nvPr/>
          </p:nvSpPr>
          <p:spPr>
            <a:xfrm>
              <a:off x="65880" y="5663160"/>
              <a:ext cx="4016160" cy="111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48"/>
            <p:cNvSpPr/>
            <p:nvPr/>
          </p:nvSpPr>
          <p:spPr>
            <a:xfrm>
              <a:off x="385920" y="555120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49"/>
            <p:cNvSpPr/>
            <p:nvPr/>
          </p:nvSpPr>
          <p:spPr>
            <a:xfrm>
              <a:off x="1261440" y="5551200"/>
              <a:ext cx="40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50"/>
            <p:cNvSpPr/>
            <p:nvPr/>
          </p:nvSpPr>
          <p:spPr>
            <a:xfrm>
              <a:off x="96840" y="566568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51"/>
            <p:cNvSpPr/>
            <p:nvPr/>
          </p:nvSpPr>
          <p:spPr>
            <a:xfrm>
              <a:off x="97200" y="5900760"/>
              <a:ext cx="49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52"/>
            <p:cNvSpPr/>
            <p:nvPr/>
          </p:nvSpPr>
          <p:spPr>
            <a:xfrm>
              <a:off x="96840" y="6132600"/>
              <a:ext cx="56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emora (n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53"/>
            <p:cNvSpPr/>
            <p:nvPr/>
          </p:nvSpPr>
          <p:spPr>
            <a:xfrm>
              <a:off x="97920" y="6210360"/>
              <a:ext cx="58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rogramad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54"/>
            <p:cNvSpPr/>
            <p:nvPr/>
          </p:nvSpPr>
          <p:spPr>
            <a:xfrm>
              <a:off x="95760" y="6307200"/>
              <a:ext cx="48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55"/>
            <p:cNvSpPr/>
            <p:nvPr/>
          </p:nvSpPr>
          <p:spPr>
            <a:xfrm>
              <a:off x="96480" y="6467400"/>
              <a:ext cx="53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56"/>
            <p:cNvSpPr/>
            <p:nvPr/>
          </p:nvSpPr>
          <p:spPr>
            <a:xfrm>
              <a:off x="97200" y="6620040"/>
              <a:ext cx="44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57"/>
            <p:cNvSpPr/>
            <p:nvPr/>
          </p:nvSpPr>
          <p:spPr>
            <a:xfrm>
              <a:off x="58680" y="5545080"/>
              <a:ext cx="720" cy="123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58"/>
            <p:cNvSpPr/>
            <p:nvPr/>
          </p:nvSpPr>
          <p:spPr>
            <a:xfrm>
              <a:off x="58680" y="5545080"/>
              <a:ext cx="15480" cy="123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9"/>
            <p:cNvSpPr/>
            <p:nvPr/>
          </p:nvSpPr>
          <p:spPr>
            <a:xfrm>
              <a:off x="1062000" y="555120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0"/>
            <p:cNvSpPr/>
            <p:nvPr/>
          </p:nvSpPr>
          <p:spPr>
            <a:xfrm>
              <a:off x="1062000" y="5551200"/>
              <a:ext cx="1440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61"/>
            <p:cNvSpPr/>
            <p:nvPr/>
          </p:nvSpPr>
          <p:spPr>
            <a:xfrm>
              <a:off x="74160" y="554508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62"/>
            <p:cNvSpPr/>
            <p:nvPr/>
          </p:nvSpPr>
          <p:spPr>
            <a:xfrm>
              <a:off x="74160" y="554508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63"/>
            <p:cNvSpPr/>
            <p:nvPr/>
          </p:nvSpPr>
          <p:spPr>
            <a:xfrm>
              <a:off x="74160" y="56599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64"/>
            <p:cNvSpPr/>
            <p:nvPr/>
          </p:nvSpPr>
          <p:spPr>
            <a:xfrm>
              <a:off x="74160" y="5659920"/>
              <a:ext cx="40132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65"/>
            <p:cNvSpPr/>
            <p:nvPr/>
          </p:nvSpPr>
          <p:spPr>
            <a:xfrm>
              <a:off x="74160" y="589500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66"/>
            <p:cNvSpPr/>
            <p:nvPr/>
          </p:nvSpPr>
          <p:spPr>
            <a:xfrm>
              <a:off x="74160" y="589500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67"/>
            <p:cNvSpPr/>
            <p:nvPr/>
          </p:nvSpPr>
          <p:spPr>
            <a:xfrm>
              <a:off x="74160" y="612540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68"/>
            <p:cNvSpPr/>
            <p:nvPr/>
          </p:nvSpPr>
          <p:spPr>
            <a:xfrm>
              <a:off x="74160" y="612540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69"/>
            <p:cNvSpPr/>
            <p:nvPr/>
          </p:nvSpPr>
          <p:spPr>
            <a:xfrm>
              <a:off x="74160" y="63007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70"/>
            <p:cNvSpPr/>
            <p:nvPr/>
          </p:nvSpPr>
          <p:spPr>
            <a:xfrm>
              <a:off x="74160" y="6300720"/>
              <a:ext cx="40132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71"/>
            <p:cNvSpPr/>
            <p:nvPr/>
          </p:nvSpPr>
          <p:spPr>
            <a:xfrm>
              <a:off x="74160" y="64616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72"/>
            <p:cNvSpPr/>
            <p:nvPr/>
          </p:nvSpPr>
          <p:spPr>
            <a:xfrm>
              <a:off x="74160" y="646164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73"/>
            <p:cNvSpPr/>
            <p:nvPr/>
          </p:nvSpPr>
          <p:spPr>
            <a:xfrm>
              <a:off x="74160" y="66139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74"/>
            <p:cNvSpPr/>
            <p:nvPr/>
          </p:nvSpPr>
          <p:spPr>
            <a:xfrm>
              <a:off x="74160" y="661392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75"/>
            <p:cNvSpPr/>
            <p:nvPr/>
          </p:nvSpPr>
          <p:spPr>
            <a:xfrm>
              <a:off x="74160" y="67705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76"/>
            <p:cNvSpPr/>
            <p:nvPr/>
          </p:nvSpPr>
          <p:spPr>
            <a:xfrm>
              <a:off x="74160" y="677052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Oval 77"/>
            <p:cNvSpPr/>
            <p:nvPr/>
          </p:nvSpPr>
          <p:spPr>
            <a:xfrm>
              <a:off x="1412640" y="5712120"/>
              <a:ext cx="290520" cy="10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78"/>
            <p:cNvSpPr/>
            <p:nvPr/>
          </p:nvSpPr>
          <p:spPr>
            <a:xfrm>
              <a:off x="1287360" y="5994000"/>
              <a:ext cx="31788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79"/>
            <p:cNvSpPr/>
            <p:nvPr/>
          </p:nvSpPr>
          <p:spPr>
            <a:xfrm>
              <a:off x="1601640" y="5964840"/>
              <a:ext cx="124560" cy="493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35" h="112">
                  <a:moveTo>
                    <a:pt x="0" y="112"/>
                  </a:moveTo>
                  <a:lnTo>
                    <a:pt x="135" y="55"/>
                  </a:lnTo>
                  <a:lnTo>
                    <a:pt x="0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80"/>
            <p:cNvSpPr/>
            <p:nvPr/>
          </p:nvSpPr>
          <p:spPr>
            <a:xfrm>
              <a:off x="1363680" y="6486480"/>
              <a:ext cx="337320" cy="110160"/>
            </a:xfrm>
            <a:custGeom>
              <a:avLst/>
              <a:gdLst>
                <a:gd name="textAreaLeft" fmla="*/ 0 w 337320"/>
                <a:gd name="textAreaRight" fmla="*/ 337680 w 3373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366" h="249">
                  <a:moveTo>
                    <a:pt x="175" y="249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175" y="2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Oval 81"/>
            <p:cNvSpPr/>
            <p:nvPr/>
          </p:nvSpPr>
          <p:spPr>
            <a:xfrm>
              <a:off x="1381320" y="6634440"/>
              <a:ext cx="290520" cy="10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82"/>
            <p:cNvSpPr/>
            <p:nvPr/>
          </p:nvSpPr>
          <p:spPr>
            <a:xfrm>
              <a:off x="1483560" y="663552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Rectangle 83"/>
            <p:cNvSpPr/>
            <p:nvPr/>
          </p:nvSpPr>
          <p:spPr>
            <a:xfrm>
              <a:off x="1374840" y="6343200"/>
              <a:ext cx="328320" cy="9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84"/>
            <p:cNvSpPr/>
            <p:nvPr/>
          </p:nvSpPr>
          <p:spPr>
            <a:xfrm>
              <a:off x="1388520" y="6158520"/>
              <a:ext cx="325440" cy="968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353" h="219">
                  <a:moveTo>
                    <a:pt x="175" y="0"/>
                  </a:moveTo>
                  <a:lnTo>
                    <a:pt x="213" y="2"/>
                  </a:lnTo>
                  <a:lnTo>
                    <a:pt x="246" y="9"/>
                  </a:lnTo>
                  <a:lnTo>
                    <a:pt x="275" y="19"/>
                  </a:lnTo>
                  <a:lnTo>
                    <a:pt x="301" y="31"/>
                  </a:lnTo>
                  <a:lnTo>
                    <a:pt x="322" y="49"/>
                  </a:lnTo>
                  <a:lnTo>
                    <a:pt x="339" y="66"/>
                  </a:lnTo>
                  <a:lnTo>
                    <a:pt x="349" y="86"/>
                  </a:lnTo>
                  <a:lnTo>
                    <a:pt x="353" y="109"/>
                  </a:lnTo>
                  <a:lnTo>
                    <a:pt x="349" y="131"/>
                  </a:lnTo>
                  <a:lnTo>
                    <a:pt x="339" y="152"/>
                  </a:lnTo>
                  <a:lnTo>
                    <a:pt x="322" y="171"/>
                  </a:lnTo>
                  <a:lnTo>
                    <a:pt x="301" y="188"/>
                  </a:lnTo>
                  <a:lnTo>
                    <a:pt x="275" y="200"/>
                  </a:lnTo>
                  <a:lnTo>
                    <a:pt x="246" y="210"/>
                  </a:lnTo>
                  <a:lnTo>
                    <a:pt x="213" y="217"/>
                  </a:lnTo>
                  <a:lnTo>
                    <a:pt x="175" y="219"/>
                  </a:lnTo>
                  <a:lnTo>
                    <a:pt x="0" y="219"/>
                  </a:lnTo>
                  <a:lnTo>
                    <a:pt x="0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85"/>
            <p:cNvSpPr/>
            <p:nvPr/>
          </p:nvSpPr>
          <p:spPr>
            <a:xfrm>
              <a:off x="2293200" y="555120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86"/>
            <p:cNvSpPr/>
            <p:nvPr/>
          </p:nvSpPr>
          <p:spPr>
            <a:xfrm>
              <a:off x="3106440" y="5551200"/>
              <a:ext cx="58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Desperdici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87"/>
            <p:cNvSpPr/>
            <p:nvPr/>
          </p:nvSpPr>
          <p:spPr>
            <a:xfrm>
              <a:off x="2517120" y="57369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88"/>
            <p:cNvSpPr/>
            <p:nvPr/>
          </p:nvSpPr>
          <p:spPr>
            <a:xfrm>
              <a:off x="3520800" y="59706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89"/>
            <p:cNvSpPr/>
            <p:nvPr/>
          </p:nvSpPr>
          <p:spPr>
            <a:xfrm>
              <a:off x="3520800" y="61722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90"/>
            <p:cNvSpPr/>
            <p:nvPr/>
          </p:nvSpPr>
          <p:spPr>
            <a:xfrm>
              <a:off x="3520800" y="63403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91"/>
            <p:cNvSpPr/>
            <p:nvPr/>
          </p:nvSpPr>
          <p:spPr>
            <a:xfrm>
              <a:off x="3520800" y="64962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92"/>
            <p:cNvSpPr/>
            <p:nvPr/>
          </p:nvSpPr>
          <p:spPr>
            <a:xfrm>
              <a:off x="3520800" y="66513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93"/>
            <p:cNvSpPr/>
            <p:nvPr/>
          </p:nvSpPr>
          <p:spPr>
            <a:xfrm>
              <a:off x="2065680" y="555120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94"/>
            <p:cNvSpPr/>
            <p:nvPr/>
          </p:nvSpPr>
          <p:spPr>
            <a:xfrm>
              <a:off x="2065680" y="5551200"/>
              <a:ext cx="1440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95"/>
            <p:cNvSpPr/>
            <p:nvPr/>
          </p:nvSpPr>
          <p:spPr>
            <a:xfrm>
              <a:off x="3069360" y="555120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96"/>
            <p:cNvSpPr/>
            <p:nvPr/>
          </p:nvSpPr>
          <p:spPr>
            <a:xfrm>
              <a:off x="3069360" y="5551200"/>
              <a:ext cx="1476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97"/>
            <p:cNvSpPr/>
            <p:nvPr/>
          </p:nvSpPr>
          <p:spPr>
            <a:xfrm>
              <a:off x="4071960" y="555120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98"/>
            <p:cNvSpPr/>
            <p:nvPr/>
          </p:nvSpPr>
          <p:spPr>
            <a:xfrm>
              <a:off x="4071960" y="5551200"/>
              <a:ext cx="1548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Line 99"/>
          <p:cNvSpPr/>
          <p:nvPr/>
        </p:nvSpPr>
        <p:spPr>
          <a:xfrm flipV="1">
            <a:off x="5106960" y="4723920"/>
            <a:ext cx="65160" cy="80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00"/>
          <p:cNvSpPr/>
          <p:nvPr/>
        </p:nvSpPr>
        <p:spPr>
          <a:xfrm flipV="1">
            <a:off x="5092560" y="5202000"/>
            <a:ext cx="1540080" cy="32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01"/>
          <p:cNvSpPr/>
          <p:nvPr/>
        </p:nvSpPr>
        <p:spPr>
          <a:xfrm>
            <a:off x="5318280" y="5029200"/>
            <a:ext cx="4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377C-A367-4551-91B7-72F36AD73B68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145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Pregunt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14160" y="1458720"/>
            <a:ext cx="73357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Cliente/usuario?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Producto/servicio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Ejecutor (es)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Qué se hace en cada etapa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Hay medidas de tiempos involucrados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Hay medidas de calidad involucrados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3C39-2F31-42DA-8E24-9AE9011386D5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2"/>
          <p:cNvSpPr/>
          <p:nvPr/>
        </p:nvSpPr>
        <p:spPr>
          <a:xfrm>
            <a:off x="380880" y="404640"/>
            <a:ext cx="84582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Arial"/>
              </a:rPr>
              <a:t>Señales de alarma para mejorar proce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Complejidad, excepciones, casos espe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Anomal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Alto intercambio de información, captura (recaptura) de datos y redundancia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Fallas de coordinación o costos de coord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Inconsistencia hacia el ex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Baja utilización d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Controles cerrados y ca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Personal con alta carga de trabajo y pocos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C7D0-3E41-4C61-88FD-260CC0437CCB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¿Cómo hago para identificar direcciones de cambio a procesos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31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n esto no hay recetas, pero si algunas orientaciones básicas que sirven para conducir el cambio en los proceso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ada una de estas posibilidades debe analizarse en función del proceso que se quiere cambiar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onceptos útil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00"/>
                </a:solidFill>
                <a:latin typeface="Arial"/>
              </a:rPr>
              <a:t>Desperdicio: </a:t>
            </a: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errores en la ejecución; retrabajos; etc.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0000"/>
                </a:solidFill>
                <a:latin typeface="Arial"/>
              </a:rPr>
              <a:t>Actividad que No Agrega Valor: </a:t>
            </a: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representa las actividades que están demás, que impiden el avance ágil del proceso, sólo agrega costos y tiemp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4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8FB1-482B-4E1F-8022-75401DD2F75C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4920" y="131400"/>
            <a:ext cx="79992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irecciones de cambio posib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8040" y="1312560"/>
            <a:ext cx="806616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liminar y/o reducir desperdici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Simplificar, simplificar, simplific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ombinar pasos de proces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rear rutas altern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Trabajar en paralelo, no en lín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isminuir la VARIABILID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aptar la información en el orig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r la coordinación y comunicación entre grupos de trabaj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utomatización y utilización de tecnologí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ejar que los clientes ayuden en el proces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2169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Los procesos no solo generan resultados deseados, también producen desperdici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90600" y="1341000"/>
            <a:ext cx="840888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obreproduc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Tiempos de esper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Escoria o material de desech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érdidas por transpor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érdidas por procesamient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Inventar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perdicio de movimient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roductos defectuos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clam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920" y="-100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MEJORAMIENTO CONTINUO</a:t>
            </a:r>
            <a:br>
              <a:rPr sz="2400"/>
            </a:b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(el precursor de Six Sigma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Tecnología de gestión por la cual se consigue la participación activa de la organización en el mejoramiento continuo y verificado de la calidad y la productivida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miento continuo de calida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4920" y="1775880"/>
            <a:ext cx="853416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Arial"/>
              </a:rPr>
              <a:t>Como dice Michael Hammer </a:t>
            </a: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(“Process Reengineering”)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66"/>
                </a:solidFill>
                <a:latin typeface="Arial"/>
              </a:rPr>
              <a:t> …</a:t>
            </a:r>
            <a:r>
              <a:rPr b="0" lang="es-CL" sz="2800" spc="-1" strike="noStrike">
                <a:solidFill>
                  <a:srgbClr val="000066"/>
                </a:solidFill>
                <a:latin typeface="Arial"/>
              </a:rPr>
              <a:t>..una cosa es mejorar los procesos y otra cosa es reingeniería e incluso creación de proceso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BD70-8A25-48FE-9D1C-5EE21E19090D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Mejoramiento Continuo versus Rediseño de Proces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-189000">
              <a:lnSpc>
                <a:spcPct val="10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La distinción entre mejorar la eficiencia de un proceso y diseñar un nuevo proceso está relacionado a la distinción entre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perdicio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 y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actividades que no agregan valor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10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El desperdicio 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viene de aquellas actividades que están realizadas de manera errónea. Puede ser eliminado a través del mejoramiento continuo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105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Las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actividades que no agregan valor 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son aquellas que disminuyen la eficiencia del proceso. Para eliminarlas es necesario un rediseño de proceso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BBED-56E8-4ACE-A856-F4BC6452BC8D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B54C-76F4-4B49-8282-56907E1EE9C5}" type="slidenum">
              <a:rPr b="1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upo 27"/>
          <p:cNvGrpSpPr/>
          <p:nvPr/>
        </p:nvGrpSpPr>
        <p:grpSpPr>
          <a:xfrm>
            <a:off x="611280" y="1197000"/>
            <a:ext cx="8281800" cy="4968720"/>
            <a:chOff x="611280" y="1197000"/>
            <a:chExt cx="8281800" cy="4968720"/>
          </a:xfrm>
        </p:grpSpPr>
        <p:sp>
          <p:nvSpPr>
            <p:cNvPr id="101" name="Rectángulo 21"/>
            <p:cNvSpPr/>
            <p:nvPr/>
          </p:nvSpPr>
          <p:spPr>
            <a:xfrm>
              <a:off x="611280" y="1197000"/>
              <a:ext cx="8281800" cy="2160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forma 4"/>
            <p:cNvSpPr/>
            <p:nvPr/>
          </p:nvSpPr>
          <p:spPr>
            <a:xfrm>
              <a:off x="4809960" y="3016080"/>
              <a:ext cx="1830600" cy="140040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Estrate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forma 5"/>
            <p:cNvSpPr/>
            <p:nvPr/>
          </p:nvSpPr>
          <p:spPr>
            <a:xfrm>
              <a:off x="6700680" y="3016080"/>
              <a:ext cx="1832040" cy="140040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Estruc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forma 6"/>
            <p:cNvSpPr/>
            <p:nvPr/>
          </p:nvSpPr>
          <p:spPr>
            <a:xfrm>
              <a:off x="6700680" y="4478400"/>
              <a:ext cx="1832040" cy="139860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Sistem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Inform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forma 7"/>
            <p:cNvSpPr/>
            <p:nvPr/>
          </p:nvSpPr>
          <p:spPr>
            <a:xfrm>
              <a:off x="4809960" y="4478400"/>
              <a:ext cx="1830600" cy="139860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Proce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para agre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val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forma 8"/>
            <p:cNvSpPr/>
            <p:nvPr/>
          </p:nvSpPr>
          <p:spPr>
            <a:xfrm>
              <a:off x="2916360" y="3016080"/>
              <a:ext cx="1831680" cy="140040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Norm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Polític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forma 9"/>
            <p:cNvSpPr/>
            <p:nvPr/>
          </p:nvSpPr>
          <p:spPr>
            <a:xfrm>
              <a:off x="2916360" y="4478400"/>
              <a:ext cx="1831680" cy="139860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Product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Servici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forma 10"/>
            <p:cNvSpPr/>
            <p:nvPr/>
          </p:nvSpPr>
          <p:spPr>
            <a:xfrm>
              <a:off x="6700680" y="1557360"/>
              <a:ext cx="1832040" cy="139860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Infraestructu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forma 11"/>
            <p:cNvSpPr/>
            <p:nvPr/>
          </p:nvSpPr>
          <p:spPr>
            <a:xfrm>
              <a:off x="4809960" y="1557360"/>
              <a:ext cx="1830600" cy="139860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Perso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forma 12"/>
            <p:cNvSpPr/>
            <p:nvPr/>
          </p:nvSpPr>
          <p:spPr>
            <a:xfrm>
              <a:off x="2916360" y="1557360"/>
              <a:ext cx="1831680" cy="139860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Cultura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Valores 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Membresí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forma 14"/>
            <p:cNvSpPr/>
            <p:nvPr/>
          </p:nvSpPr>
          <p:spPr>
            <a:xfrm>
              <a:off x="1042920" y="1557360"/>
              <a:ext cx="1832040" cy="139860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Proces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de Toma 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Deci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forma 15"/>
            <p:cNvSpPr/>
            <p:nvPr/>
          </p:nvSpPr>
          <p:spPr>
            <a:xfrm>
              <a:off x="1042920" y="2997360"/>
              <a:ext cx="1832040" cy="139860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Mecanism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Aprendiza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forma 16"/>
            <p:cNvSpPr/>
            <p:nvPr/>
          </p:nvSpPr>
          <p:spPr>
            <a:xfrm>
              <a:off x="1042920" y="4437000"/>
              <a:ext cx="1832040" cy="1440000"/>
            </a:xfrm>
            <a:prstGeom prst="pie">
              <a:avLst/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66"/>
                  </a:solidFill>
                  <a:latin typeface="Arial"/>
                </a:rPr>
                <a:t>Gest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ángulo 19"/>
            <p:cNvSpPr/>
            <p:nvPr/>
          </p:nvSpPr>
          <p:spPr>
            <a:xfrm>
              <a:off x="611280" y="1197000"/>
              <a:ext cx="8281800" cy="49687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Cuadro de texto 20"/>
            <p:cNvSpPr/>
            <p:nvPr/>
          </p:nvSpPr>
          <p:spPr>
            <a:xfrm>
              <a:off x="611280" y="1197000"/>
              <a:ext cx="8281800" cy="360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Entorno  institucional,  jurídico,  de amenazas, de oportunidades, de mercado,  competidores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ángulo 23"/>
            <p:cNvSpPr/>
            <p:nvPr/>
          </p:nvSpPr>
          <p:spPr>
            <a:xfrm>
              <a:off x="611280" y="1484280"/>
              <a:ext cx="360360" cy="4392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ángulo 24"/>
            <p:cNvSpPr/>
            <p:nvPr/>
          </p:nvSpPr>
          <p:spPr>
            <a:xfrm>
              <a:off x="611280" y="5877000"/>
              <a:ext cx="8281800" cy="288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ángulo 25"/>
            <p:cNvSpPr/>
            <p:nvPr/>
          </p:nvSpPr>
          <p:spPr>
            <a:xfrm>
              <a:off x="8604360" y="1484280"/>
              <a:ext cx="288720" cy="4392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ángulo 26"/>
            <p:cNvSpPr/>
            <p:nvPr/>
          </p:nvSpPr>
          <p:spPr>
            <a:xfrm>
              <a:off x="611280" y="1197000"/>
              <a:ext cx="8281800" cy="496872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ángulo 2"/>
          <p:cNvSpPr/>
          <p:nvPr/>
        </p:nvSpPr>
        <p:spPr>
          <a:xfrm>
            <a:off x="971640" y="189000"/>
            <a:ext cx="7854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spacios posibles de cambio en una orga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lan de trabaj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49280" y="1052280"/>
            <a:ext cx="8353440" cy="380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128520" indent="-128520">
              <a:spcBef>
                <a:spcPts val="1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esión 1: 24 Septiemb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087920" indent="-155160">
              <a:spcBef>
                <a:spcPts val="1012"/>
              </a:spcBef>
              <a:buClr>
                <a:srgbClr val="000066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Introducció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087920" indent="-155160">
              <a:spcBef>
                <a:spcPts val="1012"/>
              </a:spcBef>
              <a:buClr>
                <a:srgbClr val="000066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Constitución de equipo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087920" indent="-155160">
              <a:spcBef>
                <a:spcPts val="1012"/>
              </a:spcBef>
              <a:buClr>
                <a:srgbClr val="000066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Plan de trabaj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087920" indent="-155160">
              <a:spcBef>
                <a:spcPts val="1012"/>
              </a:spcBef>
              <a:buClr>
                <a:srgbClr val="000066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Inicio de Fase  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128520" indent="-128520">
              <a:spcBef>
                <a:spcPts val="1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esión 2: 22 Octub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087920" indent="-155160">
              <a:spcBef>
                <a:spcPts val="1012"/>
              </a:spcBef>
              <a:buClr>
                <a:srgbClr val="000066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Cierre Fase I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087920" indent="-155160">
              <a:spcBef>
                <a:spcPts val="1012"/>
              </a:spcBef>
              <a:buClr>
                <a:srgbClr val="000066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Herramientas de diagnóstico, exploración, observación y profundizació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087920" indent="-155160">
              <a:spcBef>
                <a:spcPts val="1012"/>
              </a:spcBef>
              <a:buClr>
                <a:srgbClr val="000066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Inicio Fase II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128520" indent="-128520">
              <a:spcBef>
                <a:spcPts val="1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esión 3: 19  Noviemb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087920" indent="-155160">
              <a:spcBef>
                <a:spcPts val="1012"/>
              </a:spcBef>
              <a:buClr>
                <a:srgbClr val="000066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Cierre Fase II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087920" indent="-155160">
              <a:spcBef>
                <a:spcPts val="1012"/>
              </a:spcBef>
              <a:buClr>
                <a:srgbClr val="000066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Herramientas de diseñ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087920" indent="-155160">
              <a:spcBef>
                <a:spcPts val="1012"/>
              </a:spcBef>
              <a:buClr>
                <a:srgbClr val="000066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Inicio Fase III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39" name="1 Diagrama" descr=""/>
          <p:cNvPicPr/>
          <p:nvPr/>
        </p:nvPicPr>
        <p:blipFill>
          <a:blip r:embed="rId1"/>
          <a:stretch/>
        </p:blipFill>
        <p:spPr>
          <a:xfrm>
            <a:off x="3243240" y="-6480"/>
            <a:ext cx="590076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lan de trabaj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49280" y="1125360"/>
            <a:ext cx="83534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89000" indent="-189000">
              <a:spcBef>
                <a:spcPts val="1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esión 4: 17 Diciemb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1012"/>
              </a:spcBef>
              <a:buClr>
                <a:srgbClr val="000066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Presentación de estados de avance fase III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1012"/>
              </a:spcBef>
              <a:buClr>
                <a:srgbClr val="000066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Retroalimentació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1012"/>
              </a:spcBef>
              <a:buClr>
                <a:srgbClr val="000066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Revisión del proces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1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esión 5: 7 Ener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1012"/>
              </a:spcBef>
              <a:buClr>
                <a:srgbClr val="000066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Exposició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1012"/>
              </a:spcBef>
              <a:buClr>
                <a:srgbClr val="000066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Presentaciones 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1012"/>
              </a:spcBef>
              <a:buClr>
                <a:srgbClr val="000066"/>
              </a:buClr>
              <a:buFont typeface="Arial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Cier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42" name="3 Diagrama" descr=""/>
          <p:cNvPicPr/>
          <p:nvPr/>
        </p:nvPicPr>
        <p:blipFill>
          <a:blip r:embed="rId1"/>
          <a:stretch/>
        </p:blipFill>
        <p:spPr>
          <a:xfrm>
            <a:off x="3170160" y="-6480"/>
            <a:ext cx="597384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IDENTIFICACIÓN DE PROYECT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44" name="3 Diagrama" descr=""/>
          <p:cNvPicPr/>
          <p:nvPr/>
        </p:nvPicPr>
        <p:blipFill>
          <a:blip r:embed="rId1"/>
          <a:stretch/>
        </p:blipFill>
        <p:spPr>
          <a:xfrm>
            <a:off x="3219480" y="5797440"/>
            <a:ext cx="5973840" cy="106704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 txBox="1"/>
          <p:nvPr/>
        </p:nvSpPr>
        <p:spPr>
          <a:xfrm>
            <a:off x="270000" y="1052640"/>
            <a:ext cx="8534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01680" indent="-301680">
              <a:lnSpc>
                <a:spcPct val="10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Arial"/>
              </a:rPr>
              <a:t>Qué desafíos ?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624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Arial"/>
              </a:rPr>
              <a:t>La definición de proyectos de cambio debe ser considerada como un proceso continuo de mejoramiento que permite a la organización avanzar sucesivamente hacia mejores posiciones, que a su vez definen nuevos escenarios de mejoramient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624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Arial"/>
              </a:rPr>
              <a:t>La cartera de proyectos de cambio deben considerar problemas u oportunidades específicos, bajo criterios de urgencia, de valor y relevancia, pertinentes, replicabl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624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Arial"/>
              </a:rPr>
              <a:t>Los proyectos pueden generar impactos en distintos ámbito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2480" indent="-301320">
              <a:lnSpc>
                <a:spcPct val="105000"/>
              </a:lnSpc>
              <a:spcBef>
                <a:spcPts val="56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Satisfacción de usuarios, prestigio, excedentes y satisfacción de comunidad educativa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624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Arial"/>
              </a:rPr>
              <a:t>Los proyectos pueden pertenecer a distinto ámbitos de la organización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2480" indent="-301320">
              <a:lnSpc>
                <a:spcPct val="105000"/>
              </a:lnSpc>
              <a:spcBef>
                <a:spcPts val="56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Procesos, prácticas, sistemas, estructura, normas y reglamentos, mecanismos de aprendizaje, control de gestión, personas, infraestructura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624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IDENTIFICACIÓN DE DESAFÍ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47" name="3 Diagrama" descr=""/>
          <p:cNvPicPr/>
          <p:nvPr/>
        </p:nvPicPr>
        <p:blipFill>
          <a:blip r:embed="rId1"/>
          <a:stretch/>
        </p:blipFill>
        <p:spPr>
          <a:xfrm>
            <a:off x="3219480" y="5797440"/>
            <a:ext cx="5973840" cy="10670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 txBox="1"/>
          <p:nvPr/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4920" indent="-304920">
              <a:spcBef>
                <a:spcPts val="13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La definición de proyectos deberán estar orientada a avanzar en al menos en una de las siguientes línea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46200" indent="-266760">
              <a:spcBef>
                <a:spcPts val="112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66"/>
                </a:solidFill>
                <a:latin typeface="Arial"/>
              </a:rPr>
              <a:t>La corrección de “carencias de desempeño o dolores de cabeza”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46200" indent="-266760">
              <a:spcBef>
                <a:spcPts val="112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66"/>
                </a:solidFill>
                <a:latin typeface="Arial"/>
              </a:rPr>
              <a:t>La “materialización del sueño” de la organización, es decir, estar orientados al logro de la visión organizaciona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7732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aso 1. Identificar el problema u oportunida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80520" y="134136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-189000">
              <a:spcBef>
                <a:spcPts val="10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Identificación de lo que puede mejorarse o cambiar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10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Exhibir la necesidad de la mejora o cambio en términos medibles: colectando información sobre el área del problema y organizando estos datos de manera que se vea clara la naturaleza del problema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10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Enunciar el problema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1001"/>
              </a:spcBef>
              <a:buClr>
                <a:srgbClr val="0000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ser específic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1001"/>
              </a:spcBef>
              <a:buClr>
                <a:srgbClr val="0000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describir el problema no sus síntoma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1001"/>
              </a:spcBef>
              <a:buClr>
                <a:srgbClr val="0000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relacionar la situación presente con lo que dese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1001"/>
              </a:spcBef>
              <a:buClr>
                <a:srgbClr val="0000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liberarse de causas y solucione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51" name="3 Diagrama" descr=""/>
          <p:cNvPicPr/>
          <p:nvPr/>
        </p:nvPicPr>
        <p:blipFill>
          <a:blip r:embed="rId1"/>
          <a:stretch/>
        </p:blipFill>
        <p:spPr>
          <a:xfrm>
            <a:off x="3219480" y="5797440"/>
            <a:ext cx="597384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586728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aso 1. Identificar el problema (Cont.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42560" y="118116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89000" indent="-18900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900" spc="-1" strike="noStrike">
                <a:solidFill>
                  <a:srgbClr val="000066"/>
                </a:solidFill>
                <a:latin typeface="Arial"/>
              </a:rPr>
              <a:t>HACER PREGUNTAS ACERCA DE LOS PROBLEMAS: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76"/>
              </a:spcBef>
              <a:buClr>
                <a:srgbClr val="0000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rial"/>
              </a:rPr>
              <a:t>Qué está siendo afectado?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76"/>
              </a:spcBef>
              <a:buClr>
                <a:srgbClr val="0000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rial"/>
              </a:rPr>
              <a:t>Cuáles son los síntomas?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76"/>
              </a:spcBef>
              <a:buClr>
                <a:srgbClr val="0000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rial"/>
              </a:rPr>
              <a:t>Dónde aparecen los problemas?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76"/>
              </a:spcBef>
              <a:buClr>
                <a:srgbClr val="0000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rial"/>
              </a:rPr>
              <a:t>Cuándo ocurren los problemas?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76"/>
              </a:spcBef>
              <a:buClr>
                <a:srgbClr val="000066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Arial"/>
              </a:rPr>
              <a:t>Cuántos productos o servicios son afectados?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Rectángulo 4"/>
          <p:cNvSpPr/>
          <p:nvPr/>
        </p:nvSpPr>
        <p:spPr>
          <a:xfrm>
            <a:off x="4919760" y="1193760"/>
            <a:ext cx="419076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900" spc="-1" strike="noStrike">
                <a:solidFill>
                  <a:srgbClr val="000066"/>
                </a:solidFill>
                <a:latin typeface="Tahoma"/>
              </a:rPr>
              <a:t>AVERIGUAR SI EL PROBLEMA ESTA OCURRIEND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8600">
              <a:lnSpc>
                <a:spcPct val="85000"/>
              </a:lnSpc>
              <a:buClr>
                <a:srgbClr val="000066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Tahoma"/>
              </a:rPr>
              <a:t>Ha sucedido esto ante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8600">
              <a:lnSpc>
                <a:spcPct val="85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8600">
              <a:lnSpc>
                <a:spcPct val="85000"/>
              </a:lnSpc>
              <a:buClr>
                <a:srgbClr val="000066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Tahoma"/>
              </a:rPr>
              <a:t>Ha sucedido un problema similar ante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8600">
              <a:lnSpc>
                <a:spcPct val="85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8600">
              <a:lnSpc>
                <a:spcPct val="85000"/>
              </a:lnSpc>
              <a:buClr>
                <a:srgbClr val="000066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Tahoma"/>
              </a:rPr>
              <a:t>Es el mismo producto o servicio que tuvo este problema ante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8600">
              <a:lnSpc>
                <a:spcPct val="85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8600">
              <a:lnSpc>
                <a:spcPct val="85000"/>
              </a:lnSpc>
              <a:buClr>
                <a:srgbClr val="000066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Tahoma"/>
              </a:rPr>
              <a:t>Ha tenido un producto o servicio este problema en el pasado?</a:t>
            </a:r>
            <a:r>
              <a:rPr b="0" lang="es-ES_tradnl" sz="17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ángulo 5"/>
          <p:cNvSpPr/>
          <p:nvPr/>
        </p:nvSpPr>
        <p:spPr>
          <a:xfrm>
            <a:off x="638280" y="4305240"/>
            <a:ext cx="84582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5000"/>
              </a:lnSpc>
              <a:spcBef>
                <a:spcPts val="711"/>
              </a:spcBef>
              <a:buClr>
                <a:srgbClr val="99ff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900" spc="-1" strike="noStrike">
                <a:solidFill>
                  <a:srgbClr val="000066"/>
                </a:solidFill>
                <a:latin typeface="Tahoma"/>
              </a:rPr>
              <a:t>DETERMINAR LA EXTENSION DEL PROBLEM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buClr>
                <a:srgbClr val="99ff99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Tahoma"/>
              </a:rPr>
              <a:t>Qué porcentaje de productos o servicios esta afectad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buClr>
                <a:srgbClr val="99ff99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Tahoma"/>
              </a:rPr>
              <a:t>Hay otro producto o servicio que pueda ser afectad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buClr>
                <a:srgbClr val="99ff99"/>
              </a:buClr>
              <a:buFont typeface="Monotype Sorts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66"/>
                </a:solidFill>
                <a:latin typeface="Tahoma"/>
              </a:rPr>
              <a:t>Hay otra parte del producto o servicio que pueda ser afectad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5 Diagrama" descr=""/>
          <p:cNvPicPr/>
          <p:nvPr/>
        </p:nvPicPr>
        <p:blipFill>
          <a:blip r:embed="rId1"/>
          <a:stretch/>
        </p:blipFill>
        <p:spPr>
          <a:xfrm>
            <a:off x="3219480" y="5797440"/>
            <a:ext cx="597384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Fuentes de problemas y oportunidades  (I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-189000">
              <a:lnSpc>
                <a:spcPct val="9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Anomalía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Excepciones y casos especial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Alto intercambio de informació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Fallas y costos de coordinació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Inconsistencias hacia el exterior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Personal con alta carga de trabajo y pocos resultad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Baja utilización de recurso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Controles cerrados y caro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59" name="4 Diagrama" descr=""/>
          <p:cNvPicPr/>
          <p:nvPr/>
        </p:nvPicPr>
        <p:blipFill>
          <a:blip r:embed="rId1"/>
          <a:stretch/>
        </p:blipFill>
        <p:spPr>
          <a:xfrm>
            <a:off x="3219480" y="5797440"/>
            <a:ext cx="59738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Fuentes de problemas y oportunidades (II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-189000">
              <a:lnSpc>
                <a:spcPct val="8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Etapas más crítica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8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Fuente de desperdicio, como tiempo extra o reclamo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8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Retrasos grand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8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Acciones que se producen en volúmenes alto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8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Problemas que deben ser resueltos para cumplir con los planes o metas anual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8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Problemas grandes con usuarios y que tiene gran impacto en beneficios final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8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Arial"/>
              </a:rPr>
              <a:t>Actividades de costos altos en el presupuest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62" name="3 Diagrama" descr=""/>
          <p:cNvPicPr/>
          <p:nvPr/>
        </p:nvPicPr>
        <p:blipFill>
          <a:blip r:embed="rId1"/>
          <a:stretch/>
        </p:blipFill>
        <p:spPr>
          <a:xfrm>
            <a:off x="3219480" y="5797440"/>
            <a:ext cx="59738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6985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aso 2: Definición de desafí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04920" y="1052640"/>
            <a:ext cx="8534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Arial"/>
              </a:rPr>
              <a:t>Descripción general del problema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Arial"/>
              </a:rPr>
              <a:t>Proponer una buena primera definición del desafío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Arial"/>
              </a:rPr>
              <a:t>Ejemplo genéricos: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65" name="3 Diagrama" descr=""/>
          <p:cNvPicPr/>
          <p:nvPr/>
        </p:nvPicPr>
        <p:blipFill>
          <a:blip r:embed="rId1"/>
          <a:stretch/>
        </p:blipFill>
        <p:spPr>
          <a:xfrm>
            <a:off x="3219480" y="5797440"/>
            <a:ext cx="5973840" cy="106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6" name=""/>
          <p:cNvGraphicFramePr/>
          <p:nvPr/>
        </p:nvGraphicFramePr>
        <p:xfrm>
          <a:off x="1116000" y="2637000"/>
          <a:ext cx="7056360" cy="3082680"/>
        </p:xfrm>
        <a:graphic>
          <a:graphicData uri="http://schemas.openxmlformats.org/drawingml/2006/table">
            <a:tbl>
              <a:tblPr/>
              <a:tblGrid>
                <a:gridCol w="3529080"/>
                <a:gridCol w="352728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roblema u oportun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esafí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Áreas de Apoyo no alineadas con el Área de Negoci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¿ cómo integrar las áreas de apoyo y negocio de tal manera que los tiempos y fallas disminuyan en un 20%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eficiente calidad del servicio prestad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¿Cómo mejorar la calidad del servicio prestado y transformarse en sostener líder en la comun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esmotivación de profes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¿Cómo aumentar en un 50% la satisfacción de lo profesores para el próximo año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66"/>
                </a:solidFill>
                <a:latin typeface="Arial"/>
              </a:rPr>
              <a:t>Aspectos a evitar en el planteamiento de desafío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65200" indent="-185760">
              <a:lnSpc>
                <a:spcPct val="9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Arial"/>
              </a:rPr>
              <a:t>Objetivos vagos e impreciso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Arial"/>
              </a:rPr>
              <a:t>Pobres métricas para medir impacto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Arial"/>
              </a:rPr>
              <a:t>No ligado a beneficio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Arial"/>
              </a:rPr>
              <a:t>Alcance demasiado amplio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Arial"/>
              </a:rPr>
              <a:t>No ligados a la Estrategia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Arial"/>
              </a:rPr>
              <a:t>Soluciones indefinida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lnSpc>
                <a:spcPct val="95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Arial"/>
              </a:rPr>
              <a:t>Demasiados objetivo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69" name="3 Diagrama" descr=""/>
          <p:cNvPicPr/>
          <p:nvPr/>
        </p:nvPicPr>
        <p:blipFill>
          <a:blip r:embed="rId1"/>
          <a:stretch/>
        </p:blipFill>
        <p:spPr>
          <a:xfrm>
            <a:off x="3219480" y="5797440"/>
            <a:ext cx="59738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ACC3-F741-47CA-A3A6-8D5D84825786}" type="slidenum">
              <a:rPr b="1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280" y="112536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29400" indent="0">
              <a:spcBef>
                <a:spcPts val="110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_tradnl" sz="2200" spc="-1" strike="noStrike">
                <a:solidFill>
                  <a:srgbClr val="000066"/>
                </a:solidFill>
                <a:latin typeface="Arial"/>
              </a:rPr>
              <a:t>Estos distintos proyectos de cambios tienen tres dimensiones diferentes, que a menudo “no conversan” entre sí, y ... con distintos actores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Cuadro de texto 4"/>
          <p:cNvSpPr/>
          <p:nvPr/>
        </p:nvSpPr>
        <p:spPr>
          <a:xfrm>
            <a:off x="4876920" y="42670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Grado de innov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uadro de texto 5"/>
          <p:cNvSpPr/>
          <p:nvPr/>
        </p:nvSpPr>
        <p:spPr>
          <a:xfrm rot="16200000">
            <a:off x="2355480" y="28256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ctivos Fi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adro de texto 6"/>
          <p:cNvSpPr/>
          <p:nvPr/>
        </p:nvSpPr>
        <p:spPr>
          <a:xfrm>
            <a:off x="2362320" y="601992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upo 7"/>
          <p:cNvGrpSpPr/>
          <p:nvPr/>
        </p:nvGrpSpPr>
        <p:grpSpPr>
          <a:xfrm>
            <a:off x="1918440" y="2514600"/>
            <a:ext cx="6006240" cy="3809880"/>
            <a:chOff x="1918440" y="2514600"/>
            <a:chExt cx="6006240" cy="3809880"/>
          </a:xfrm>
        </p:grpSpPr>
        <p:sp>
          <p:nvSpPr>
            <p:cNvPr id="127" name="Línea 8"/>
            <p:cNvSpPr/>
            <p:nvPr/>
          </p:nvSpPr>
          <p:spPr>
            <a:xfrm flipV="1">
              <a:off x="4191120" y="2666880"/>
              <a:ext cx="0" cy="198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ínea 9"/>
            <p:cNvSpPr/>
            <p:nvPr/>
          </p:nvSpPr>
          <p:spPr>
            <a:xfrm flipH="1">
              <a:off x="2057040" y="4648320"/>
              <a:ext cx="213372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ínea 10"/>
            <p:cNvSpPr/>
            <p:nvPr/>
          </p:nvSpPr>
          <p:spPr>
            <a:xfrm>
              <a:off x="4191120" y="464832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Cuadro de texto 11"/>
            <p:cNvSpPr/>
            <p:nvPr/>
          </p:nvSpPr>
          <p:spPr>
            <a:xfrm rot="19290000">
              <a:off x="1676880" y="495252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Grado de particip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Cuadro de texto 12"/>
            <p:cNvSpPr/>
            <p:nvPr/>
          </p:nvSpPr>
          <p:spPr>
            <a:xfrm>
              <a:off x="4191120" y="457200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Cuadro de texto 13"/>
            <p:cNvSpPr/>
            <p:nvPr/>
          </p:nvSpPr>
          <p:spPr>
            <a:xfrm>
              <a:off x="7162920" y="46483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ínea 14"/>
            <p:cNvSpPr/>
            <p:nvPr/>
          </p:nvSpPr>
          <p:spPr>
            <a:xfrm>
              <a:off x="7467480" y="45720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ínea 15"/>
            <p:cNvSpPr/>
            <p:nvPr/>
          </p:nvSpPr>
          <p:spPr>
            <a:xfrm>
              <a:off x="2209680" y="6095880"/>
              <a:ext cx="1526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Cuadro de texto 16"/>
            <p:cNvSpPr/>
            <p:nvPr/>
          </p:nvSpPr>
          <p:spPr>
            <a:xfrm>
              <a:off x="4343400" y="25146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ínea 17"/>
            <p:cNvSpPr/>
            <p:nvPr/>
          </p:nvSpPr>
          <p:spPr>
            <a:xfrm>
              <a:off x="4114800" y="2895480"/>
              <a:ext cx="15228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ínea 18"/>
            <p:cNvSpPr/>
            <p:nvPr/>
          </p:nvSpPr>
          <p:spPr>
            <a:xfrm flipV="1">
              <a:off x="7467480" y="2895120"/>
              <a:ext cx="0" cy="1752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ínea 19"/>
            <p:cNvSpPr/>
            <p:nvPr/>
          </p:nvSpPr>
          <p:spPr>
            <a:xfrm>
              <a:off x="4191120" y="289548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ínea 20"/>
            <p:cNvSpPr/>
            <p:nvPr/>
          </p:nvSpPr>
          <p:spPr>
            <a:xfrm flipV="1">
              <a:off x="2286000" y="441972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ínea 21"/>
            <p:cNvSpPr/>
            <p:nvPr/>
          </p:nvSpPr>
          <p:spPr>
            <a:xfrm flipV="1">
              <a:off x="5562720" y="441972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ínea 22"/>
            <p:cNvSpPr/>
            <p:nvPr/>
          </p:nvSpPr>
          <p:spPr>
            <a:xfrm flipV="1">
              <a:off x="2286000" y="2971800"/>
              <a:ext cx="1828800" cy="1447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ínea 23"/>
            <p:cNvSpPr/>
            <p:nvPr/>
          </p:nvSpPr>
          <p:spPr>
            <a:xfrm flipV="1">
              <a:off x="5638680" y="4647960"/>
              <a:ext cx="182880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ínea 24"/>
            <p:cNvSpPr/>
            <p:nvPr/>
          </p:nvSpPr>
          <p:spPr>
            <a:xfrm flipV="1">
              <a:off x="5562720" y="2895480"/>
              <a:ext cx="1904760" cy="1524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ínea 25"/>
            <p:cNvSpPr/>
            <p:nvPr/>
          </p:nvSpPr>
          <p:spPr>
            <a:xfrm>
              <a:off x="2286000" y="441972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ínea 26"/>
            <p:cNvSpPr/>
            <p:nvPr/>
          </p:nvSpPr>
          <p:spPr>
            <a:xfrm>
              <a:off x="2286000" y="617220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Las dimensiones del cambi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Accione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304920" y="90756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536760" indent="-176400">
              <a:lnSpc>
                <a:spcPct val="9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Arial"/>
              </a:rPr>
              <a:t>Cada equipo de trabajo tendrá hasta el 12 de octubre para identificar y definir 3 problemas y 3 desafíos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536760" indent="-176400">
              <a:lnSpc>
                <a:spcPct val="9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Para cada problema identificado, se solicita entregar breve descripción, identificar si representa a un «dolor de cabeza» o es parte de algún «sueño», indicar ámbito de la organización, y ponderar de 1 a 5 su grado de urgencia, relevancia, pertinencia y replicabilidad. (1 menor ponderación, 5 mayor ponderación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36760" indent="-176400">
              <a:lnSpc>
                <a:spcPct val="9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Arial"/>
              </a:rPr>
              <a:t>Para los desafíos se solicita entregar una primera redacción lo más precisa y parametrizabl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Arial"/>
              </a:rPr>
              <a:t>Estos desafíos serán analizados por el equipo docente y representantes de la Corporación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79280" indent="-179280">
              <a:lnSpc>
                <a:spcPct val="95000"/>
              </a:lnSpc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Arial"/>
              </a:rPr>
              <a:t>Para la segunda sesión se asignará a cada equipo 1 desafío seleccionado.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72" name="3 Diagrama" descr=""/>
          <p:cNvPicPr/>
          <p:nvPr/>
        </p:nvPicPr>
        <p:blipFill>
          <a:blip r:embed="rId1"/>
          <a:stretch/>
        </p:blipFill>
        <p:spPr>
          <a:xfrm>
            <a:off x="3219480" y="5797440"/>
            <a:ext cx="59738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4507-58AA-4CA8-8FD6-C47D9A594137}" type="slidenum">
              <a:rPr b="1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Tipos clásicos de proyec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Cuadro de texto 5"/>
          <p:cNvSpPr/>
          <p:nvPr/>
        </p:nvSpPr>
        <p:spPr>
          <a:xfrm rot="16200000">
            <a:off x="2355840" y="230472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ctivos Fi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upo 45"/>
          <p:cNvGrpSpPr/>
          <p:nvPr/>
        </p:nvGrpSpPr>
        <p:grpSpPr>
          <a:xfrm>
            <a:off x="1066680" y="1638360"/>
            <a:ext cx="7925040" cy="4209120"/>
            <a:chOff x="1066680" y="1638360"/>
            <a:chExt cx="7925040" cy="4209120"/>
          </a:xfrm>
        </p:grpSpPr>
        <p:sp>
          <p:nvSpPr>
            <p:cNvPr id="151" name="Cuadro de texto 4"/>
            <p:cNvSpPr/>
            <p:nvPr/>
          </p:nvSpPr>
          <p:spPr>
            <a:xfrm>
              <a:off x="4876920" y="369576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Grado de innov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Cuadro de texto 6"/>
            <p:cNvSpPr/>
            <p:nvPr/>
          </p:nvSpPr>
          <p:spPr>
            <a:xfrm>
              <a:off x="2362320" y="54486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ínea 8"/>
            <p:cNvSpPr/>
            <p:nvPr/>
          </p:nvSpPr>
          <p:spPr>
            <a:xfrm flipV="1">
              <a:off x="4191120" y="2095560"/>
              <a:ext cx="0" cy="198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ínea 9"/>
            <p:cNvSpPr/>
            <p:nvPr/>
          </p:nvSpPr>
          <p:spPr>
            <a:xfrm flipH="1">
              <a:off x="2057040" y="4077000"/>
              <a:ext cx="2133720" cy="167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ínea 10"/>
            <p:cNvSpPr/>
            <p:nvPr/>
          </p:nvSpPr>
          <p:spPr>
            <a:xfrm>
              <a:off x="4191120" y="407700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Cuadro de texto 11"/>
            <p:cNvSpPr/>
            <p:nvPr/>
          </p:nvSpPr>
          <p:spPr>
            <a:xfrm rot="19290000">
              <a:off x="1676880" y="43812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Grado de particip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Cuadro de texto 12"/>
            <p:cNvSpPr/>
            <p:nvPr/>
          </p:nvSpPr>
          <p:spPr>
            <a:xfrm>
              <a:off x="4191120" y="40006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Cuadro de texto 13"/>
            <p:cNvSpPr/>
            <p:nvPr/>
          </p:nvSpPr>
          <p:spPr>
            <a:xfrm>
              <a:off x="7162920" y="4077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ínea 14"/>
            <p:cNvSpPr/>
            <p:nvPr/>
          </p:nvSpPr>
          <p:spPr>
            <a:xfrm>
              <a:off x="7467480" y="40006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ínea 15"/>
            <p:cNvSpPr/>
            <p:nvPr/>
          </p:nvSpPr>
          <p:spPr>
            <a:xfrm>
              <a:off x="2209680" y="5524560"/>
              <a:ext cx="1526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Cuadro de texto 16"/>
            <p:cNvSpPr/>
            <p:nvPr/>
          </p:nvSpPr>
          <p:spPr>
            <a:xfrm>
              <a:off x="4343400" y="1943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ínea 17"/>
            <p:cNvSpPr/>
            <p:nvPr/>
          </p:nvSpPr>
          <p:spPr>
            <a:xfrm>
              <a:off x="4114800" y="2324160"/>
              <a:ext cx="15228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ínea 18"/>
            <p:cNvSpPr/>
            <p:nvPr/>
          </p:nvSpPr>
          <p:spPr>
            <a:xfrm flipV="1">
              <a:off x="7467480" y="2323800"/>
              <a:ext cx="0" cy="1752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ínea 19"/>
            <p:cNvSpPr/>
            <p:nvPr/>
          </p:nvSpPr>
          <p:spPr>
            <a:xfrm>
              <a:off x="4191120" y="2324160"/>
              <a:ext cx="3276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ínea 20"/>
            <p:cNvSpPr/>
            <p:nvPr/>
          </p:nvSpPr>
          <p:spPr>
            <a:xfrm flipV="1">
              <a:off x="2286000" y="384840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ínea 21"/>
            <p:cNvSpPr/>
            <p:nvPr/>
          </p:nvSpPr>
          <p:spPr>
            <a:xfrm flipV="1">
              <a:off x="5562720" y="384840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ínea 22"/>
            <p:cNvSpPr/>
            <p:nvPr/>
          </p:nvSpPr>
          <p:spPr>
            <a:xfrm flipV="1">
              <a:off x="2286000" y="2400480"/>
              <a:ext cx="1828800" cy="1447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ínea 23"/>
            <p:cNvSpPr/>
            <p:nvPr/>
          </p:nvSpPr>
          <p:spPr>
            <a:xfrm flipV="1">
              <a:off x="5638680" y="4076640"/>
              <a:ext cx="1828800" cy="1447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ínea 24"/>
            <p:cNvSpPr/>
            <p:nvPr/>
          </p:nvSpPr>
          <p:spPr>
            <a:xfrm flipV="1">
              <a:off x="5562720" y="2324160"/>
              <a:ext cx="1904760" cy="1524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ínea 25"/>
            <p:cNvSpPr/>
            <p:nvPr/>
          </p:nvSpPr>
          <p:spPr>
            <a:xfrm>
              <a:off x="2286000" y="384840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ínea 26"/>
            <p:cNvSpPr/>
            <p:nvPr/>
          </p:nvSpPr>
          <p:spPr>
            <a:xfrm>
              <a:off x="2286000" y="5600880"/>
              <a:ext cx="3276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Elipse 28"/>
            <p:cNvSpPr/>
            <p:nvPr/>
          </p:nvSpPr>
          <p:spPr>
            <a:xfrm>
              <a:off x="2438280" y="5220000"/>
              <a:ext cx="304920" cy="3045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ínea 29"/>
            <p:cNvSpPr/>
            <p:nvPr/>
          </p:nvSpPr>
          <p:spPr>
            <a:xfrm>
              <a:off x="1905120" y="4762800"/>
              <a:ext cx="685800" cy="60948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Cuadro de texto 30"/>
            <p:cNvSpPr/>
            <p:nvPr/>
          </p:nvSpPr>
          <p:spPr>
            <a:xfrm>
              <a:off x="1066680" y="4077000"/>
              <a:ext cx="16765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Times New Roman"/>
                </a:rPr>
                <a:t>Proyecto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Times New Roman"/>
                </a:rPr>
                <a:t>mejor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Times New Roman"/>
                </a:rPr>
                <a:t>continuo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Elipse 32"/>
            <p:cNvSpPr/>
            <p:nvPr/>
          </p:nvSpPr>
          <p:spPr>
            <a:xfrm>
              <a:off x="6858000" y="3924360"/>
              <a:ext cx="609480" cy="53352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ínea 33"/>
            <p:cNvSpPr/>
            <p:nvPr/>
          </p:nvSpPr>
          <p:spPr>
            <a:xfrm>
              <a:off x="6629400" y="3543480"/>
              <a:ext cx="533520" cy="60948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Cuadro de texto 34"/>
            <p:cNvSpPr/>
            <p:nvPr/>
          </p:nvSpPr>
          <p:spPr>
            <a:xfrm>
              <a:off x="5715000" y="3009960"/>
              <a:ext cx="16765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Times New Roman"/>
                </a:rPr>
                <a:t>Proyecto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Times New Roman"/>
                </a:rPr>
                <a:t>re-ingeniería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Elipse 36"/>
            <p:cNvSpPr/>
            <p:nvPr/>
          </p:nvSpPr>
          <p:spPr>
            <a:xfrm>
              <a:off x="4038480" y="2324160"/>
              <a:ext cx="609840" cy="53352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ínea 37"/>
            <p:cNvSpPr/>
            <p:nvPr/>
          </p:nvSpPr>
          <p:spPr>
            <a:xfrm>
              <a:off x="3200400" y="2400480"/>
              <a:ext cx="1143000" cy="15228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Cuadro de texto 38"/>
            <p:cNvSpPr/>
            <p:nvPr/>
          </p:nvSpPr>
          <p:spPr>
            <a:xfrm>
              <a:off x="1547640" y="1943280"/>
              <a:ext cx="18050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Times New Roman"/>
                </a:rPr>
                <a:t>Proyecto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Times New Roman"/>
                </a:rPr>
                <a:t>ampliación de infraestructura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Elipse 40"/>
            <p:cNvSpPr/>
            <p:nvPr/>
          </p:nvSpPr>
          <p:spPr>
            <a:xfrm>
              <a:off x="6858000" y="2248200"/>
              <a:ext cx="609480" cy="5331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ínea 41"/>
            <p:cNvSpPr/>
            <p:nvPr/>
          </p:nvSpPr>
          <p:spPr>
            <a:xfrm flipH="1">
              <a:off x="7162920" y="2019600"/>
              <a:ext cx="30456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Cuadro de texto 42"/>
            <p:cNvSpPr/>
            <p:nvPr/>
          </p:nvSpPr>
          <p:spPr>
            <a:xfrm>
              <a:off x="7315200" y="1638360"/>
              <a:ext cx="16765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Times New Roman"/>
                </a:rPr>
                <a:t>Proyecto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Times New Roman"/>
                </a:rPr>
                <a:t>informática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ínea 44"/>
            <p:cNvSpPr/>
            <p:nvPr/>
          </p:nvSpPr>
          <p:spPr>
            <a:xfrm flipH="1">
              <a:off x="7308720" y="2136960"/>
              <a:ext cx="503280" cy="43344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CEF4-CBA2-405B-8968-AC07F8700459}" type="slidenum">
              <a:rPr b="1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ángulo 2"/>
          <p:cNvSpPr/>
          <p:nvPr/>
        </p:nvSpPr>
        <p:spPr>
          <a:xfrm>
            <a:off x="723960" y="0"/>
            <a:ext cx="6781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66"/>
                </a:solidFill>
                <a:latin typeface="Tahoma"/>
              </a:rPr>
              <a:t>Pero los proyectos suelen ser así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ángulo 3"/>
          <p:cNvSpPr/>
          <p:nvPr/>
        </p:nvSpPr>
        <p:spPr>
          <a:xfrm>
            <a:off x="990720" y="1523880"/>
            <a:ext cx="8001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t">
            <a:noAutofit/>
          </a:bodyPr>
          <a:p>
            <a:pPr marL="339840" indent="-339840">
              <a:lnSpc>
                <a:spcPct val="85000"/>
              </a:lnSpc>
              <a:spcBef>
                <a:spcPts val="1100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uadro de texto 4"/>
          <p:cNvSpPr/>
          <p:nvPr/>
        </p:nvSpPr>
        <p:spPr>
          <a:xfrm rot="16200000">
            <a:off x="2355480" y="24350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ctivos Fi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upo 5"/>
          <p:cNvGrpSpPr/>
          <p:nvPr/>
        </p:nvGrpSpPr>
        <p:grpSpPr>
          <a:xfrm>
            <a:off x="1918440" y="2048040"/>
            <a:ext cx="6234840" cy="3904200"/>
            <a:chOff x="1918440" y="2048040"/>
            <a:chExt cx="6234840" cy="3904200"/>
          </a:xfrm>
        </p:grpSpPr>
        <p:sp>
          <p:nvSpPr>
            <p:cNvPr id="190" name="Cuadro de texto 6"/>
            <p:cNvSpPr/>
            <p:nvPr/>
          </p:nvSpPr>
          <p:spPr>
            <a:xfrm>
              <a:off x="4876920" y="380052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Grado de innov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Cuadro de texto 7"/>
            <p:cNvSpPr/>
            <p:nvPr/>
          </p:nvSpPr>
          <p:spPr>
            <a:xfrm>
              <a:off x="2362320" y="55533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upo 8"/>
            <p:cNvGrpSpPr/>
            <p:nvPr/>
          </p:nvGrpSpPr>
          <p:grpSpPr>
            <a:xfrm>
              <a:off x="1918440" y="2048040"/>
              <a:ext cx="6006240" cy="3809880"/>
              <a:chOff x="1918440" y="2048040"/>
              <a:chExt cx="6006240" cy="3809880"/>
            </a:xfrm>
          </p:grpSpPr>
          <p:sp>
            <p:nvSpPr>
              <p:cNvPr id="193" name="Línea 9"/>
              <p:cNvSpPr/>
              <p:nvPr/>
            </p:nvSpPr>
            <p:spPr>
              <a:xfrm flipV="1">
                <a:off x="4191120" y="2200320"/>
                <a:ext cx="0" cy="198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ínea 10"/>
              <p:cNvSpPr/>
              <p:nvPr/>
            </p:nvSpPr>
            <p:spPr>
              <a:xfrm flipH="1">
                <a:off x="2057040" y="4181760"/>
                <a:ext cx="2133720" cy="1676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ínea 11"/>
              <p:cNvSpPr/>
              <p:nvPr/>
            </p:nvSpPr>
            <p:spPr>
              <a:xfrm>
                <a:off x="4191120" y="4181760"/>
                <a:ext cx="365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Cuadro de texto 12"/>
              <p:cNvSpPr/>
              <p:nvPr/>
            </p:nvSpPr>
            <p:spPr>
              <a:xfrm rot="19290000">
                <a:off x="1676880" y="4485960"/>
                <a:ext cx="32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imes New Roman"/>
                  </a:rPr>
                  <a:t>Grado de participació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Cuadro de texto 13"/>
              <p:cNvSpPr/>
              <p:nvPr/>
            </p:nvSpPr>
            <p:spPr>
              <a:xfrm>
                <a:off x="4191120" y="410544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Cuadro de texto 14"/>
              <p:cNvSpPr/>
              <p:nvPr/>
            </p:nvSpPr>
            <p:spPr>
              <a:xfrm>
                <a:off x="7162920" y="418176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ínea 15"/>
              <p:cNvSpPr/>
              <p:nvPr/>
            </p:nvSpPr>
            <p:spPr>
              <a:xfrm>
                <a:off x="7467480" y="41054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ínea 16"/>
              <p:cNvSpPr/>
              <p:nvPr/>
            </p:nvSpPr>
            <p:spPr>
              <a:xfrm>
                <a:off x="2209680" y="5629320"/>
                <a:ext cx="15264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Cuadro de texto 17"/>
              <p:cNvSpPr/>
              <p:nvPr/>
            </p:nvSpPr>
            <p:spPr>
              <a:xfrm>
                <a:off x="4343400" y="2048040"/>
                <a:ext cx="762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ínea 18"/>
              <p:cNvSpPr/>
              <p:nvPr/>
            </p:nvSpPr>
            <p:spPr>
              <a:xfrm>
                <a:off x="4114800" y="2428920"/>
                <a:ext cx="1522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ínea 19"/>
              <p:cNvSpPr/>
              <p:nvPr/>
            </p:nvSpPr>
            <p:spPr>
              <a:xfrm flipV="1">
                <a:off x="7467480" y="2428560"/>
                <a:ext cx="0" cy="175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ínea 20"/>
              <p:cNvSpPr/>
              <p:nvPr/>
            </p:nvSpPr>
            <p:spPr>
              <a:xfrm>
                <a:off x="4191120" y="2428920"/>
                <a:ext cx="32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ínea 21"/>
              <p:cNvSpPr/>
              <p:nvPr/>
            </p:nvSpPr>
            <p:spPr>
              <a:xfrm flipV="1">
                <a:off x="2286000" y="3953160"/>
                <a:ext cx="0" cy="175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ínea 22"/>
              <p:cNvSpPr/>
              <p:nvPr/>
            </p:nvSpPr>
            <p:spPr>
              <a:xfrm flipV="1">
                <a:off x="5562720" y="3953160"/>
                <a:ext cx="0" cy="1752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ínea 23"/>
              <p:cNvSpPr/>
              <p:nvPr/>
            </p:nvSpPr>
            <p:spPr>
              <a:xfrm flipV="1">
                <a:off x="2286000" y="2505240"/>
                <a:ext cx="1828800" cy="144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ínea 24"/>
              <p:cNvSpPr/>
              <p:nvPr/>
            </p:nvSpPr>
            <p:spPr>
              <a:xfrm flipV="1">
                <a:off x="5638680" y="4181400"/>
                <a:ext cx="1828800" cy="144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ínea 25"/>
              <p:cNvSpPr/>
              <p:nvPr/>
            </p:nvSpPr>
            <p:spPr>
              <a:xfrm flipV="1">
                <a:off x="5562720" y="2428920"/>
                <a:ext cx="1904760" cy="152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ínea 26"/>
              <p:cNvSpPr/>
              <p:nvPr/>
            </p:nvSpPr>
            <p:spPr>
              <a:xfrm>
                <a:off x="2286000" y="3953160"/>
                <a:ext cx="327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ínea 27"/>
              <p:cNvSpPr/>
              <p:nvPr/>
            </p:nvSpPr>
            <p:spPr>
              <a:xfrm>
                <a:off x="2286000" y="5705640"/>
                <a:ext cx="3276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Elipse 28"/>
            <p:cNvSpPr/>
            <p:nvPr/>
          </p:nvSpPr>
          <p:spPr>
            <a:xfrm>
              <a:off x="2743200" y="5400720"/>
              <a:ext cx="228600" cy="228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Elipse 29"/>
            <p:cNvSpPr/>
            <p:nvPr/>
          </p:nvSpPr>
          <p:spPr>
            <a:xfrm>
              <a:off x="6248520" y="2962440"/>
              <a:ext cx="838080" cy="76212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Elipse 30"/>
            <p:cNvSpPr/>
            <p:nvPr/>
          </p:nvSpPr>
          <p:spPr>
            <a:xfrm>
              <a:off x="4876920" y="4334040"/>
              <a:ext cx="228600" cy="83808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Elipse 31"/>
            <p:cNvSpPr/>
            <p:nvPr/>
          </p:nvSpPr>
          <p:spPr>
            <a:xfrm>
              <a:off x="4419720" y="3495960"/>
              <a:ext cx="1600200" cy="228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Elipse 32"/>
            <p:cNvSpPr/>
            <p:nvPr/>
          </p:nvSpPr>
          <p:spPr>
            <a:xfrm>
              <a:off x="4800600" y="2505240"/>
              <a:ext cx="228600" cy="83808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Elipse 33"/>
            <p:cNvSpPr/>
            <p:nvPr/>
          </p:nvSpPr>
          <p:spPr>
            <a:xfrm>
              <a:off x="5791320" y="4257720"/>
              <a:ext cx="533160" cy="8384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Elipse 34"/>
            <p:cNvSpPr/>
            <p:nvPr/>
          </p:nvSpPr>
          <p:spPr>
            <a:xfrm>
              <a:off x="3200400" y="4105440"/>
              <a:ext cx="304920" cy="30492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Elipse 35"/>
            <p:cNvSpPr/>
            <p:nvPr/>
          </p:nvSpPr>
          <p:spPr>
            <a:xfrm>
              <a:off x="3505320" y="5096160"/>
              <a:ext cx="380880" cy="3045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Elipse 36"/>
            <p:cNvSpPr/>
            <p:nvPr/>
          </p:nvSpPr>
          <p:spPr>
            <a:xfrm>
              <a:off x="3962520" y="4334040"/>
              <a:ext cx="533160" cy="60948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Elipse 37"/>
            <p:cNvSpPr/>
            <p:nvPr/>
          </p:nvSpPr>
          <p:spPr>
            <a:xfrm>
              <a:off x="6400800" y="2505240"/>
              <a:ext cx="304920" cy="30492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Cuadro de texto 39"/>
          <p:cNvSpPr/>
          <p:nvPr/>
        </p:nvSpPr>
        <p:spPr>
          <a:xfrm>
            <a:off x="425520" y="2376360"/>
            <a:ext cx="259236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Es nuestra tendencia a “encasillar las cosas” conceptualmente y organizacionalmente lo que nos hace perder efectividad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n 2" descr=""/>
          <p:cNvPicPr/>
          <p:nvPr/>
        </p:nvPicPr>
        <p:blipFill>
          <a:blip r:embed="rId1"/>
          <a:stretch/>
        </p:blipFill>
        <p:spPr>
          <a:xfrm>
            <a:off x="990720" y="3932280"/>
            <a:ext cx="600120" cy="18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2480-930F-40A4-8171-9E0F2CF19613}" type="slidenum">
              <a:rPr b="1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086600" cy="7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Una forma efectiva de integrar estos mun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104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100" spc="-1" strike="noStrike">
                <a:solidFill>
                  <a:srgbClr val="000066"/>
                </a:solidFill>
                <a:latin typeface="Arial"/>
              </a:rPr>
              <a:t>La clave está en administrar el “flujo de la cartera” adecuadamente: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7" name="Grupo 4"/>
          <p:cNvGrpSpPr/>
          <p:nvPr/>
        </p:nvGrpSpPr>
        <p:grpSpPr>
          <a:xfrm>
            <a:off x="990720" y="2514600"/>
            <a:ext cx="7924680" cy="1447920"/>
            <a:chOff x="990720" y="2514600"/>
            <a:chExt cx="7924680" cy="1447920"/>
          </a:xfrm>
        </p:grpSpPr>
        <p:sp>
          <p:nvSpPr>
            <p:cNvPr id="228" name="Línea 5"/>
            <p:cNvSpPr/>
            <p:nvPr/>
          </p:nvSpPr>
          <p:spPr>
            <a:xfrm>
              <a:off x="1066680" y="251460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ínea 6"/>
            <p:cNvSpPr/>
            <p:nvPr/>
          </p:nvSpPr>
          <p:spPr>
            <a:xfrm>
              <a:off x="3352680" y="2590920"/>
              <a:ext cx="175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ínea 7"/>
            <p:cNvSpPr/>
            <p:nvPr/>
          </p:nvSpPr>
          <p:spPr>
            <a:xfrm>
              <a:off x="5257800" y="380988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ínea 8"/>
            <p:cNvSpPr/>
            <p:nvPr/>
          </p:nvSpPr>
          <p:spPr>
            <a:xfrm>
              <a:off x="5257800" y="266688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ínea 9"/>
            <p:cNvSpPr/>
            <p:nvPr/>
          </p:nvSpPr>
          <p:spPr>
            <a:xfrm>
              <a:off x="3352680" y="388620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ínea 10"/>
            <p:cNvSpPr/>
            <p:nvPr/>
          </p:nvSpPr>
          <p:spPr>
            <a:xfrm>
              <a:off x="1066680" y="3962520"/>
              <a:ext cx="2133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ínea 11"/>
            <p:cNvSpPr/>
            <p:nvPr/>
          </p:nvSpPr>
          <p:spPr>
            <a:xfrm>
              <a:off x="7086600" y="274320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ínea 12"/>
            <p:cNvSpPr/>
            <p:nvPr/>
          </p:nvSpPr>
          <p:spPr>
            <a:xfrm>
              <a:off x="7086600" y="3733920"/>
              <a:ext cx="1752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ínea 13"/>
            <p:cNvSpPr/>
            <p:nvPr/>
          </p:nvSpPr>
          <p:spPr>
            <a:xfrm>
              <a:off x="3200400" y="2514600"/>
              <a:ext cx="15228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ínea 14"/>
            <p:cNvSpPr/>
            <p:nvPr/>
          </p:nvSpPr>
          <p:spPr>
            <a:xfrm>
              <a:off x="7010280" y="2666880"/>
              <a:ext cx="7632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ínea 15"/>
            <p:cNvSpPr/>
            <p:nvPr/>
          </p:nvSpPr>
          <p:spPr>
            <a:xfrm>
              <a:off x="5105520" y="2590920"/>
              <a:ext cx="15228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ínea 16"/>
            <p:cNvSpPr/>
            <p:nvPr/>
          </p:nvSpPr>
          <p:spPr>
            <a:xfrm flipV="1">
              <a:off x="3200400" y="3886200"/>
              <a:ext cx="15228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ínea 17"/>
            <p:cNvSpPr/>
            <p:nvPr/>
          </p:nvSpPr>
          <p:spPr>
            <a:xfrm flipV="1">
              <a:off x="5181480" y="3809880"/>
              <a:ext cx="763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ínea 18"/>
            <p:cNvSpPr/>
            <p:nvPr/>
          </p:nvSpPr>
          <p:spPr>
            <a:xfrm flipV="1">
              <a:off x="7010280" y="3733560"/>
              <a:ext cx="763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Cuadro de texto 19"/>
            <p:cNvSpPr/>
            <p:nvPr/>
          </p:nvSpPr>
          <p:spPr>
            <a:xfrm>
              <a:off x="1219320" y="2666880"/>
              <a:ext cx="19810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artera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iniciativas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Cuadro de texto 20"/>
            <p:cNvSpPr/>
            <p:nvPr/>
          </p:nvSpPr>
          <p:spPr>
            <a:xfrm>
              <a:off x="3124080" y="2743200"/>
              <a:ext cx="213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artera de “perfiles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Cuadro de texto 21"/>
            <p:cNvSpPr/>
            <p:nvPr/>
          </p:nvSpPr>
          <p:spPr>
            <a:xfrm>
              <a:off x="5334120" y="2743200"/>
              <a:ext cx="23619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Cartera d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proyectos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Cuadro de texto 22"/>
            <p:cNvSpPr/>
            <p:nvPr/>
          </p:nvSpPr>
          <p:spPr>
            <a:xfrm>
              <a:off x="7162920" y="30481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RESULTAD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Elipse 23"/>
            <p:cNvSpPr/>
            <p:nvPr/>
          </p:nvSpPr>
          <p:spPr>
            <a:xfrm>
              <a:off x="1219320" y="3276720"/>
              <a:ext cx="152280" cy="15228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Elipse 24"/>
            <p:cNvSpPr/>
            <p:nvPr/>
          </p:nvSpPr>
          <p:spPr>
            <a:xfrm>
              <a:off x="1600200" y="3200400"/>
              <a:ext cx="152280" cy="15228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Elipse 25"/>
            <p:cNvSpPr/>
            <p:nvPr/>
          </p:nvSpPr>
          <p:spPr>
            <a:xfrm>
              <a:off x="1219320" y="3581280"/>
              <a:ext cx="152280" cy="1526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Elipse 26"/>
            <p:cNvSpPr/>
            <p:nvPr/>
          </p:nvSpPr>
          <p:spPr>
            <a:xfrm>
              <a:off x="1752480" y="3505320"/>
              <a:ext cx="152640" cy="15228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Elipse 27"/>
            <p:cNvSpPr/>
            <p:nvPr/>
          </p:nvSpPr>
          <p:spPr>
            <a:xfrm>
              <a:off x="2133720" y="3505320"/>
              <a:ext cx="152280" cy="15228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Elipse 28"/>
            <p:cNvSpPr/>
            <p:nvPr/>
          </p:nvSpPr>
          <p:spPr>
            <a:xfrm>
              <a:off x="2362320" y="3124080"/>
              <a:ext cx="152280" cy="1526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Elipse 29"/>
            <p:cNvSpPr/>
            <p:nvPr/>
          </p:nvSpPr>
          <p:spPr>
            <a:xfrm>
              <a:off x="1981080" y="3200400"/>
              <a:ext cx="152640" cy="15228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Elipse 30"/>
            <p:cNvSpPr/>
            <p:nvPr/>
          </p:nvSpPr>
          <p:spPr>
            <a:xfrm>
              <a:off x="2438280" y="3581280"/>
              <a:ext cx="152640" cy="15264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Elipse 31"/>
            <p:cNvSpPr/>
            <p:nvPr/>
          </p:nvSpPr>
          <p:spPr>
            <a:xfrm>
              <a:off x="3429000" y="3352680"/>
              <a:ext cx="304920" cy="30492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Elipse 32"/>
            <p:cNvSpPr/>
            <p:nvPr/>
          </p:nvSpPr>
          <p:spPr>
            <a:xfrm>
              <a:off x="3657600" y="3048120"/>
              <a:ext cx="304920" cy="3045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Elipse 33"/>
            <p:cNvSpPr/>
            <p:nvPr/>
          </p:nvSpPr>
          <p:spPr>
            <a:xfrm>
              <a:off x="3886200" y="3505320"/>
              <a:ext cx="304920" cy="3045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Elipse 34"/>
            <p:cNvSpPr/>
            <p:nvPr/>
          </p:nvSpPr>
          <p:spPr>
            <a:xfrm>
              <a:off x="4191120" y="3048120"/>
              <a:ext cx="304560" cy="30456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Elipse 35"/>
            <p:cNvSpPr/>
            <p:nvPr/>
          </p:nvSpPr>
          <p:spPr>
            <a:xfrm>
              <a:off x="5257800" y="3276720"/>
              <a:ext cx="533520" cy="4572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Elipse 36"/>
            <p:cNvSpPr/>
            <p:nvPr/>
          </p:nvSpPr>
          <p:spPr>
            <a:xfrm>
              <a:off x="6019920" y="3276720"/>
              <a:ext cx="533160" cy="4572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ínea 37"/>
            <p:cNvSpPr/>
            <p:nvPr/>
          </p:nvSpPr>
          <p:spPr>
            <a:xfrm>
              <a:off x="990720" y="2971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ínea 38"/>
            <p:cNvSpPr/>
            <p:nvPr/>
          </p:nvSpPr>
          <p:spPr>
            <a:xfrm>
              <a:off x="990720" y="3200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ínea 39"/>
            <p:cNvSpPr/>
            <p:nvPr/>
          </p:nvSpPr>
          <p:spPr>
            <a:xfrm>
              <a:off x="990720" y="3429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ínea 40"/>
            <p:cNvSpPr/>
            <p:nvPr/>
          </p:nvSpPr>
          <p:spPr>
            <a:xfrm>
              <a:off x="990720" y="3581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ínea 41"/>
            <p:cNvSpPr/>
            <p:nvPr/>
          </p:nvSpPr>
          <p:spPr>
            <a:xfrm>
              <a:off x="990720" y="2743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ínea 42"/>
            <p:cNvSpPr/>
            <p:nvPr/>
          </p:nvSpPr>
          <p:spPr>
            <a:xfrm>
              <a:off x="990720" y="3809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ínea 43"/>
            <p:cNvSpPr/>
            <p:nvPr/>
          </p:nvSpPr>
          <p:spPr>
            <a:xfrm>
              <a:off x="8686800" y="28195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ínea 44"/>
            <p:cNvSpPr/>
            <p:nvPr/>
          </p:nvSpPr>
          <p:spPr>
            <a:xfrm>
              <a:off x="8686800" y="30481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ínea 45"/>
            <p:cNvSpPr/>
            <p:nvPr/>
          </p:nvSpPr>
          <p:spPr>
            <a:xfrm>
              <a:off x="8686800" y="32767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ínea 46"/>
            <p:cNvSpPr/>
            <p:nvPr/>
          </p:nvSpPr>
          <p:spPr>
            <a:xfrm>
              <a:off x="8686800" y="35053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upo 47"/>
          <p:cNvGrpSpPr/>
          <p:nvPr/>
        </p:nvGrpSpPr>
        <p:grpSpPr>
          <a:xfrm>
            <a:off x="990720" y="3809880"/>
            <a:ext cx="6019200" cy="1923120"/>
            <a:chOff x="990720" y="3809880"/>
            <a:chExt cx="6019200" cy="1923120"/>
          </a:xfrm>
        </p:grpSpPr>
        <p:sp>
          <p:nvSpPr>
            <p:cNvPr id="271" name="Línea 48"/>
            <p:cNvSpPr/>
            <p:nvPr/>
          </p:nvSpPr>
          <p:spPr>
            <a:xfrm>
              <a:off x="990720" y="4038480"/>
              <a:ext cx="274320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ínea 49"/>
            <p:cNvSpPr/>
            <p:nvPr/>
          </p:nvSpPr>
          <p:spPr>
            <a:xfrm>
              <a:off x="3276720" y="3962520"/>
              <a:ext cx="45720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ínea 50"/>
            <p:cNvSpPr/>
            <p:nvPr/>
          </p:nvSpPr>
          <p:spPr>
            <a:xfrm flipH="1">
              <a:off x="3733560" y="3809880"/>
              <a:ext cx="152388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ínea 51"/>
            <p:cNvSpPr/>
            <p:nvPr/>
          </p:nvSpPr>
          <p:spPr>
            <a:xfrm flipH="1">
              <a:off x="3733560" y="3809880"/>
              <a:ext cx="3276360" cy="1143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Cuadro de texto 52"/>
            <p:cNvSpPr/>
            <p:nvPr/>
          </p:nvSpPr>
          <p:spPr>
            <a:xfrm>
              <a:off x="2590920" y="5029200"/>
              <a:ext cx="342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66"/>
                  </a:solidFill>
                  <a:latin typeface="Times New Roman"/>
                </a:rPr>
                <a:t>Instancias de decisión y asignación de recurs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ángulo 53"/>
            <p:cNvSpPr/>
            <p:nvPr/>
          </p:nvSpPr>
          <p:spPr>
            <a:xfrm>
              <a:off x="3429000" y="4800600"/>
              <a:ext cx="685800" cy="304920"/>
            </a:xfrm>
            <a:prstGeom prst="rect">
              <a:avLst/>
            </a:prstGeom>
            <a:solidFill>
              <a:srgbClr val="3333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5368-6CAB-4E1A-A0E2-091EB1C709DB}" type="slidenum">
              <a:rPr b="1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Fábrica de proyectos: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Rectángulo 3"/>
          <p:cNvSpPr/>
          <p:nvPr/>
        </p:nvSpPr>
        <p:spPr>
          <a:xfrm>
            <a:off x="1116000" y="1366920"/>
            <a:ext cx="7416720" cy="4438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t">
            <a:noAutofit/>
          </a:bodyPr>
          <a:p>
            <a:pPr marL="339840" indent="-339840" algn="just">
              <a:lnSpc>
                <a:spcPct val="85000"/>
              </a:lnSpc>
              <a:spcBef>
                <a:spcPts val="561"/>
              </a:spcBef>
              <a:buClr>
                <a:srgbClr val="000066"/>
              </a:buClr>
              <a:buSzPct val="75000"/>
              <a:buFont typeface="Monotype Sort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Determinación de las prioridades de desarro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5000"/>
              </a:lnSpc>
              <a:spcBef>
                <a:spcPts val="561"/>
              </a:spcBef>
              <a:buClr>
                <a:srgbClr val="000066"/>
              </a:buClr>
              <a:buSzPct val="75000"/>
              <a:buFont typeface="Monotype Sort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Entrenamiento en gestión de proyectos de innovación, mejoramiento e inver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5000"/>
              </a:lnSpc>
              <a:spcBef>
                <a:spcPts val="561"/>
              </a:spcBef>
              <a:buClr>
                <a:srgbClr val="000066"/>
              </a:buClr>
              <a:buSzPct val="75000"/>
              <a:buFont typeface="Monotype Sort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Administración integral del proceso que cubre desde problemáticas e ideas a proyectos terminados y post-evalu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5000"/>
              </a:lnSpc>
              <a:spcBef>
                <a:spcPts val="561"/>
              </a:spcBef>
              <a:buClr>
                <a:srgbClr val="000066"/>
              </a:buClr>
              <a:buSzPct val="75000"/>
              <a:buFont typeface="Monotype Sort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Montaje y mantención de prácticas y una plataforma de gestión del cono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5000"/>
              </a:lnSpc>
              <a:spcBef>
                <a:spcPts val="561"/>
              </a:spcBef>
              <a:buClr>
                <a:srgbClr val="000066"/>
              </a:buClr>
              <a:buSzPct val="75000"/>
              <a:buFont typeface="Monotype Sort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Canalización y control de las iniciativas participativas de </a:t>
            </a:r>
            <a:r>
              <a:rPr b="1" i="1" lang="es-ES_tradnl" sz="1800" spc="-1" strike="noStrike">
                <a:solidFill>
                  <a:srgbClr val="000066"/>
                </a:solidFill>
                <a:latin typeface="Arial"/>
              </a:rPr>
              <a:t>cambio</a:t>
            </a: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propuestas por los equip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5000"/>
              </a:lnSpc>
              <a:spcBef>
                <a:spcPts val="561"/>
              </a:spcBef>
              <a:buClr>
                <a:srgbClr val="000066"/>
              </a:buClr>
              <a:buSzPct val="75000"/>
              <a:buFont typeface="Monotype Sort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Instancias que toman decisiones, incluyendo una pre-evaluación metodológica de la formulación de los proyec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5000"/>
              </a:lnSpc>
              <a:spcBef>
                <a:spcPts val="561"/>
              </a:spcBef>
              <a:buClr>
                <a:srgbClr val="000066"/>
              </a:buClr>
              <a:buSzPct val="75000"/>
              <a:buFont typeface="Monotype Sort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Auditoría periódica de la cartera de proyectos en ejecución, desde un punto de vista técnico, de gestión, de riesgos y de impacto poten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85000"/>
              </a:lnSpc>
              <a:spcBef>
                <a:spcPts val="561"/>
              </a:spcBef>
              <a:buClr>
                <a:srgbClr val="000066"/>
              </a:buClr>
              <a:buSzPct val="75000"/>
              <a:buFont typeface="Monotype Sorts" charset="2"/>
              <a:buChar char="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Reportes periódicos de control de gestión de todo el proceso de innovación, desarrollo e inversión, con énfasis en la medición de efectividad e impacto de los proye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9417-3C38-4E21-A58E-363A839A0346}" type="slidenum">
              <a:rPr b="1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Los resultad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00000" y="1752120"/>
            <a:ext cx="73440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 algn="just">
              <a:spcBef>
                <a:spcPts val="10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Una “Fábrica de Proyectos” montada, funcionando, con procedimientos, prácticas, sistemas y control de gestión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840" indent="-339840" algn="just">
              <a:spcBef>
                <a:spcPts val="10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La primera generación de proyectos ejecutada y con resultados verificado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560" indent="-282600" algn="just">
              <a:spcBef>
                <a:spcPts val="10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Un conjunto de proyectos menores y adaptativos con mejoras significativas de calidad, productividad ... y clima organizacional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560" indent="-282600" algn="just">
              <a:spcBef>
                <a:spcPts val="10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Proyectos mayores ejecutados en tiempo, en costo y con los resultados técnicos y económicos originalmente previsto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6560" indent="-282600" algn="just">
              <a:spcBef>
                <a:spcPts val="10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Mayor satisfacción laboral y “camiseta”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9:34:48Z</dcterms:created>
  <dc:creator>Patricio Aguilera</dc:creator>
  <dc:description/>
  <dc:language>en-US</dc:language>
  <cp:lastModifiedBy>.</cp:lastModifiedBy>
  <cp:lastPrinted>2002-12-20T00:24:57Z</cp:lastPrinted>
  <dcterms:modified xsi:type="dcterms:W3CDTF">2010-09-24T19:56:57Z</dcterms:modified>
  <cp:revision>1098</cp:revision>
  <dc:subject/>
  <dc:title>Presentación de PowerPoint</dc:title>
</cp:coreProperties>
</file>