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22.wmf" ContentType="image/x-wmf"/>
  <Override PartName="/ppt/media/image4.jpeg" ContentType="image/jpeg"/>
  <Override PartName="/ppt/media/image7.jpeg" ContentType="image/jpeg"/>
  <Override PartName="/ppt/media/image5.jpeg" ContentType="image/jpeg"/>
  <Override PartName="/ppt/media/image3.jpeg" ContentType="image/jpeg"/>
  <Override PartName="/ppt/media/CHIMES.WAV" ContentType="audio/x-wav"/>
  <Override PartName="/ppt/media/image8.jpeg" ContentType="image/jpeg"/>
  <Override PartName="/ppt/media/DRUMROLL.WAV" ContentType="audio/x-wav"/>
  <Override PartName="/ppt/media/image10.jpeg" ContentType="image/jpeg"/>
  <Override PartName="/ppt/media/CASHREG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DRIVEBY.WAV" ContentType="audio/x-wav"/>
  <Override PartName="/ppt/media/image2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WHOOSH.WAV" ContentType="audio/x-wav"/>
  <Override PartName="/ppt/media/GUNSHOT.WAV" ContentType="audio/x-wav"/>
  <Override PartName="/ppt/media/image21.jpeg" ContentType="image/jpeg"/>
  <Override PartName="/ppt/media/image15.jpeg" ContentType="image/jpeg"/>
  <Override PartName="/ppt/media/LASER.WAV" ContentType="audio/x-wav"/>
  <Override PartName="/ppt/media/TYPE.WAV" ContentType="audio/x-wav"/>
  <Override PartName="/ppt/media/image16.jpeg" ContentType="image/jpeg"/>
  <Override PartName="/ppt/media/image17.jpeg" ContentType="image/jpeg"/>
  <Override PartName="/ppt/media/APPLAUSE.WAV" ContentType="audio/x-wav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move the slide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47F4CF-2CAC-41EE-8AFE-9BC2711194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542593-C77F-4B28-B9D8-1AE985BBDC8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E66E374-5776-4297-9A62-75F1672F13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2B6EFC7-D729-429A-AFA8-21E742AEB7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30A6E33-476E-4544-AD14-23F2D75FD1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6FD23F0-C580-4572-87D2-9BCF27C9BD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F84DE7B-55BF-4981-A9DB-124463F295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EFDD593-1875-452E-8F41-01B0DB6DA7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99724DD-1308-4000-B038-59D5ADAB7F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556BC08-5F07-4925-9025-E36E37D68D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E6F7C45-425B-4417-B5D3-2B7B511874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3A138DA-2951-4869-BC35-59C63EC005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98F2265-624C-43A9-A39C-DDE16181FB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F884291-CA1D-49C1-AD0A-42436E7085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BD224B1-F9D5-4862-8ADD-ADF0138A04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E8D9BC8-6472-4103-A35F-4253CE5217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2C71FBF-976C-4D36-B683-B8065FE089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070A851-BAFF-44E9-993A-9A41572C01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78B0EBA-B522-40AB-86D6-838E8E6811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B9F8E80-0E1B-41AF-ACA6-6CB607D29D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D7F27DE-4A07-4548-875A-15E283BDBD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CA5DAB8-3CA6-416D-B900-ADFD126053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35E2571-5B38-4A85-942F-AD89FBFB06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CF78745-336B-47C4-AB0B-BE0F9260AC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8C82275-6AE1-4A5D-A5CE-258D43E7F4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3A06D0B-0DE4-48BD-8749-830EFCF79F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4C1D605-50A9-4B49-9D4B-D4AA942DDB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200" y="4460760"/>
            <a:ext cx="5683320" cy="4222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25CB5E-56D5-4090-99AC-69FBC1A7883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7FD63F5-1679-4043-89AD-16A4477D0F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CD0FBB4-3ADA-4DF1-A9DB-2092F86168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7DF-6ABF-46A6-8447-730E6100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480-8D4A-4E1E-A3DA-ABA3A01D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D77-947B-4851-83C6-32FFE3B6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F51-B19D-4C58-908C-D5CD0BFD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0CF-7C8D-42B7-8183-ED82FE4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EB2-7D81-4A03-8065-1EF240A0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B10-5654-4242-B3DE-16665C3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394-949A-4DC5-9FAD-21286F7C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87640" y="274320"/>
            <a:ext cx="468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C11-0DD1-4EC3-BA93-2D6FAA55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2AB-87B9-4EC4-B707-C79DF87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CFF-D293-4754-947A-94E70EB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834-FE91-4C04-8545-677B440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edit the title text format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Click to edit the outline text format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con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2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Thir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3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our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4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if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ix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ven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9C0E-8107-447B-970B-A1283ACC9E3E}" type="slidenum"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ptiembre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Diploma de Postítulo en </a:t>
            </a:r>
            <a:br>
              <a:rPr sz="2400"/>
            </a:b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Gestión Estratégica Educativa y </a:t>
            </a:r>
            <a:br>
              <a:rPr sz="2400"/>
            </a:b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Proyecto de Gestión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14200" y="1197000"/>
            <a:ext cx="734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391680"/>
            <a:ext cx="3672000" cy="8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 trabajar con los colaborador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4292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habilidades de un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íder Situacional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Diagnosticar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terminar las necesidades de desarroll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Flexibil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utilizar una variedad de estilos de lideraz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Alianza para el desempeño/Acuerdo sobre el estilo de liderazg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lograr acuerdos con los colaboradores acerca del estilo de liderazgo a utiliz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90720" y="404640"/>
            <a:ext cx="716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Diagnostic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ver"/>
          <p:cNvPicPr/>
          <p:nvPr/>
        </p:nvPicPr>
        <p:blipFill>
          <a:blip r:embed="rId1"/>
          <a:stretch/>
        </p:blipFill>
        <p:spPr>
          <a:xfrm>
            <a:off x="5599080" y="380844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Nivel de Desarroll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30b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30bb1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69" name="Picture 10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7"/>
          <p:cNvPicPr/>
          <p:nvPr/>
        </p:nvPicPr>
        <p:blipFill>
          <a:blip r:embed="rId1"/>
          <a:stretch/>
        </p:blipFill>
        <p:spPr>
          <a:xfrm>
            <a:off x="5786280" y="17496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269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1200" y="1887480"/>
            <a:ext cx="62755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fianza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75" name="Picture 6" descr="15"/>
          <p:cNvPicPr/>
          <p:nvPr/>
        </p:nvPicPr>
        <p:blipFill>
          <a:blip r:embed="rId1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76360" y="189000"/>
            <a:ext cx="74167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UnitOT-Regular"/>
              </a:rPr>
              <a:t>Niveles de Madurez de los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UnitOT-Regular"/>
              </a:rPr>
              <a:t>Colaboradores por Tarea / 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1773360"/>
          <a:ext cx="7543800" cy="466704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6040"/>
                <a:gridCol w="188568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rot="19528200">
            <a:off x="3704040" y="472536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43400">
            <a:off x="2865960" y="349992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2992320"/>
            <a:ext cx="7458120" cy="259740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8320" y="279864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1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83" name="Picture 4" descr="2365514672_60a54f915c"/>
          <p:cNvPicPr/>
          <p:nvPr/>
        </p:nvPicPr>
        <p:blipFill>
          <a:blip r:embed="rId1"/>
          <a:stretch/>
        </p:blipFill>
        <p:spPr>
          <a:xfrm>
            <a:off x="7545240" y="3645000"/>
            <a:ext cx="1501920" cy="31017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2364682039_b5bac31669"/>
          <p:cNvPicPr/>
          <p:nvPr/>
        </p:nvPicPr>
        <p:blipFill>
          <a:blip r:embed="rId1"/>
          <a:stretch/>
        </p:blipFill>
        <p:spPr>
          <a:xfrm>
            <a:off x="4788000" y="2421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0560" y="1519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2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4160" y="188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e088a"/>
                </a:solidFill>
                <a:latin typeface="UnitOT-Regular"/>
              </a:rPr>
              <a:t>Entregar a los participantes distinciones y modelos que les permitan comprender  y mejorar la gestión de personas, atendiendo a las complejidades inherentes al contexto educacional públic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Entregar herramientas para el autodiagnóstico de los estilos de liderazgo y para el diagnóstico del nivel de desarrollo de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Discutir respecto a la importancia de ser flexible y adaptable en relación al estilo de liderazgo, en lo que respecta a los niveles de desarrollo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e088a"/>
                </a:solidFill>
                <a:latin typeface="UnitOT-Regular"/>
              </a:rPr>
              <a:t>Entregar las herramientas necesarias para </a:t>
            </a: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diagnosticar y gestionar en forma efectiva los problemas más comunes que surgen en las situaciones de trabajo en equipo, basados en las propiedades que caracterizan a los equipos de alto rendimient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Analizar los distintos modos de enfrentamiento de conflictos, así como cuáles son los más apropiados para el contexto particular en el que se desenvuelven los participant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3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89" name="Picture 4" descr="2365498558_25b23fee5f"/>
          <p:cNvPicPr/>
          <p:nvPr/>
        </p:nvPicPr>
        <p:blipFill>
          <a:blip r:embed="rId1"/>
          <a:stretch/>
        </p:blipFill>
        <p:spPr>
          <a:xfrm>
            <a:off x="6156360" y="3716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Retroalimentación marginal que le ayude a mejorar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2365515172_dfd88da3f7"/>
          <p:cNvPicPr/>
          <p:nvPr/>
        </p:nvPicPr>
        <p:blipFill>
          <a:blip r:embed="rId1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4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8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57080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habilidad para utilizar con naturalidad una variedad de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ilos de liderazgo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96" name="Picture 4" descr="2137737248_e9f3e429d1"/>
          <p:cNvPicPr/>
          <p:nvPr/>
        </p:nvPicPr>
        <p:blipFill>
          <a:blip r:embed="rId1"/>
          <a:stretch/>
        </p:blipFill>
        <p:spPr>
          <a:xfrm>
            <a:off x="5457960" y="3524400"/>
            <a:ext cx="3217680" cy="32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516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IRECCIÓN</a:t>
            </a:r>
            <a:r>
              <a:rPr b="1" lang="es-ES_tradnl" sz="2800" spc="-1" strike="noStrike">
                <a:solidFill>
                  <a:srgbClr val="0e08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99" name="Picture 4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51920"/>
            <a:ext cx="5275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1" lang="es-CL" sz="3000" spc="-1" strike="noStrike">
                <a:solidFill>
                  <a:srgbClr val="ff0000"/>
                </a:solidFill>
                <a:latin typeface="Arial"/>
              </a:rPr>
              <a:t>Direct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1" name="Picture 10" descr="2364683065_f769bc7caf"/>
          <p:cNvPicPr/>
          <p:nvPr/>
        </p:nvPicPr>
        <p:blipFill>
          <a:blip r:embed="rId1"/>
          <a:stretch/>
        </p:blipFill>
        <p:spPr>
          <a:xfrm>
            <a:off x="4997520" y="2774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Le dice al colaborador qué hacer, cuándo y cómo hacerl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Define los papeles del líder y del colaborador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Supervisa de cerca el desempeñ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de </a:t>
            </a: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4" name="Picture 7" descr="2364665429_fefa9e071e"/>
          <p:cNvPicPr/>
          <p:nvPr/>
        </p:nvPicPr>
        <p:blipFill>
          <a:blip r:embed="rId1"/>
          <a:stretch/>
        </p:blipFill>
        <p:spPr>
          <a:xfrm>
            <a:off x="6443640" y="451008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Se compromete más en la comunicación bilateral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Escucha y proporciona apoyo y estímul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Involucra al colaborador en la toma de decisione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Estimula y facilita la autonomía en la solución de problema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84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ilo de 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e088a"/>
                </a:solidFill>
                <a:latin typeface="Arial"/>
              </a:rPr>
              <a:t>Percepción de sus colaboradores respecto al patrón de comportamientos que usted utiliza con ello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8" name="Picture 4" descr="lider_3"/>
          <p:cNvPicPr/>
          <p:nvPr/>
        </p:nvPicPr>
        <p:blipFill>
          <a:blip r:embed="rId1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2771640" y="380880"/>
            <a:ext cx="6164280" cy="600120"/>
            <a:chOff x="2771640" y="380880"/>
            <a:chExt cx="6164280" cy="600120"/>
          </a:xfrm>
        </p:grpSpPr>
        <p:sp>
          <p:nvSpPr>
            <p:cNvPr id="210" name="Rectangle 3"/>
            <p:cNvSpPr/>
            <p:nvPr/>
          </p:nvSpPr>
          <p:spPr>
            <a:xfrm>
              <a:off x="2771640" y="404640"/>
              <a:ext cx="6164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Object 4"/>
            <p:cNvGraphicFramePr/>
            <p:nvPr/>
          </p:nvGraphicFramePr>
          <p:xfrm>
            <a:off x="7552800" y="380880"/>
            <a:ext cx="657000" cy="114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0" y="380880"/>
                      <a:ext cx="65700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Line 15"/>
          <p:cNvSpPr/>
          <p:nvPr/>
        </p:nvSpPr>
        <p:spPr>
          <a:xfrm flipV="1">
            <a:off x="2058840" y="1846440"/>
            <a:ext cx="0" cy="414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2327400" y="6237360"/>
            <a:ext cx="397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 flipV="1">
            <a:off x="1473120" y="1942920"/>
            <a:ext cx="4680" cy="408132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1795320" y="3719520"/>
            <a:ext cx="2698920" cy="2521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1806480" y="1222200"/>
            <a:ext cx="2687760" cy="2459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471920" y="1235160"/>
            <a:ext cx="2751120" cy="24588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2157480" y="6473880"/>
            <a:ext cx="4987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832680" y="629928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7688160" y="614520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2977920" y="649764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774720" y="129384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 rot="16200000">
            <a:off x="-149400" y="386712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COMPORTAMIENTO</a:t>
            </a: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4486320" y="3679920"/>
            <a:ext cx="2736720" cy="25225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1773360" y="1197000"/>
            <a:ext cx="5446440" cy="501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2413080" y="5078520"/>
            <a:ext cx="1887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apoy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4666320" y="5078520"/>
            <a:ext cx="20592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lto en direc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3"/>
          <p:cNvSpPr/>
          <p:nvPr/>
        </p:nvSpPr>
        <p:spPr>
          <a:xfrm>
            <a:off x="4427640" y="1574640"/>
            <a:ext cx="2714400" cy="3603960"/>
          </a:xfrm>
          <a:prstGeom prst="pie">
            <a:avLst/>
          </a:pr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4"/>
          <p:cNvSpPr/>
          <p:nvPr/>
        </p:nvSpPr>
        <p:spPr>
          <a:xfrm>
            <a:off x="1857240" y="1574640"/>
            <a:ext cx="2641680" cy="3603960"/>
          </a:xfrm>
          <a:prstGeom prst="pie">
            <a:avLst/>
          </a:pr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2278080" y="25765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5038560" y="42163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932360" y="2576520"/>
            <a:ext cx="180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Ori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166840" y="4216320"/>
            <a:ext cx="181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Dele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5153400" y="1231920"/>
            <a:ext cx="2005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direc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783440" y="1220760"/>
            <a:ext cx="19404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65280" y="43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EL MODELO INTEGRADO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1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D46A-9471-4D8C-BE60-A29370107C27}" type="slidenum">
              <a:rPr b="0" lang="es-ES" sz="900" spc="-1" strike="noStrike">
                <a:solidFill>
                  <a:srgbClr val="808080"/>
                </a:solidFill>
                <a:latin typeface="UnitOT-Regular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243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TUSIAST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289080" y="2363400"/>
              <a:ext cx="4152600" cy="1590480"/>
            </a:xfrm>
            <a:custGeom>
              <a:avLst/>
              <a:gdLst>
                <a:gd name="textAreaLeft" fmla="*/ 0 w 4152600"/>
                <a:gd name="textAreaRight" fmla="*/ 4152960 w 415260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281160" y="2189880"/>
              <a:ext cx="4155840" cy="1841040"/>
            </a:xfrm>
            <a:custGeom>
              <a:avLst/>
              <a:gdLst>
                <a:gd name="textAreaLeft" fmla="*/ 0 w 4155840"/>
                <a:gd name="textAreaRight" fmla="*/ 4156200 w 415584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e los Colaboradores por Tarea o M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270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504684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282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49"/>
              <p:cNvSpPr/>
              <p:nvPr/>
            </p:nvSpPr>
            <p:spPr>
              <a:xfrm>
                <a:off x="57650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1"/>
              <p:cNvSpPr/>
              <p:nvPr/>
            </p:nvSpPr>
            <p:spPr>
              <a:xfrm>
                <a:off x="730476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0" y="120"/>
                    </a:moveTo>
                    <a:lnTo>
                      <a:pt x="25" y="121"/>
                    </a:lnTo>
                    <a:lnTo>
                      <a:pt x="41" y="124"/>
                    </a:lnTo>
                    <a:lnTo>
                      <a:pt x="52" y="125"/>
                    </a:lnTo>
                    <a:lnTo>
                      <a:pt x="63" y="128"/>
                    </a:lnTo>
                    <a:lnTo>
                      <a:pt x="71" y="131"/>
                    </a:lnTo>
                    <a:lnTo>
                      <a:pt x="82" y="135"/>
                    </a:lnTo>
                    <a:lnTo>
                      <a:pt x="92" y="140"/>
                    </a:lnTo>
                    <a:lnTo>
                      <a:pt x="103" y="146"/>
                    </a:lnTo>
                    <a:lnTo>
                      <a:pt x="122" y="154"/>
                    </a:lnTo>
                    <a:lnTo>
                      <a:pt x="141" y="166"/>
                    </a:lnTo>
                    <a:lnTo>
                      <a:pt x="159" y="177"/>
                    </a:lnTo>
                    <a:lnTo>
                      <a:pt x="180" y="191"/>
                    </a:lnTo>
                    <a:lnTo>
                      <a:pt x="197" y="202"/>
                    </a:lnTo>
                    <a:lnTo>
                      <a:pt x="231" y="230"/>
                    </a:lnTo>
                    <a:lnTo>
                      <a:pt x="265" y="264"/>
                    </a:lnTo>
                    <a:lnTo>
                      <a:pt x="295" y="298"/>
                    </a:lnTo>
                    <a:lnTo>
                      <a:pt x="333" y="350"/>
                    </a:lnTo>
                    <a:lnTo>
                      <a:pt x="361" y="397"/>
                    </a:lnTo>
                    <a:lnTo>
                      <a:pt x="391" y="446"/>
                    </a:lnTo>
                    <a:lnTo>
                      <a:pt x="409" y="493"/>
                    </a:lnTo>
                    <a:lnTo>
                      <a:pt x="425" y="538"/>
                    </a:lnTo>
                    <a:lnTo>
                      <a:pt x="447" y="590"/>
                    </a:lnTo>
                    <a:lnTo>
                      <a:pt x="463" y="640"/>
                    </a:lnTo>
                    <a:lnTo>
                      <a:pt x="483" y="718"/>
                    </a:lnTo>
                    <a:lnTo>
                      <a:pt x="500" y="790"/>
                    </a:lnTo>
                    <a:lnTo>
                      <a:pt x="511" y="860"/>
                    </a:lnTo>
                    <a:lnTo>
                      <a:pt x="524" y="946"/>
                    </a:lnTo>
                    <a:lnTo>
                      <a:pt x="532" y="1004"/>
                    </a:lnTo>
                    <a:lnTo>
                      <a:pt x="542" y="1072"/>
                    </a:lnTo>
                    <a:lnTo>
                      <a:pt x="551" y="1117"/>
                    </a:lnTo>
                    <a:lnTo>
                      <a:pt x="556" y="1158"/>
                    </a:lnTo>
                    <a:lnTo>
                      <a:pt x="567" y="1210"/>
                    </a:lnTo>
                    <a:lnTo>
                      <a:pt x="581" y="1262"/>
                    </a:lnTo>
                    <a:lnTo>
                      <a:pt x="591" y="1304"/>
                    </a:lnTo>
                    <a:lnTo>
                      <a:pt x="604" y="1354"/>
                    </a:lnTo>
                    <a:lnTo>
                      <a:pt x="618" y="1402"/>
                    </a:lnTo>
                    <a:lnTo>
                      <a:pt x="630" y="1443"/>
                    </a:lnTo>
                    <a:lnTo>
                      <a:pt x="648" y="1480"/>
                    </a:lnTo>
                    <a:lnTo>
                      <a:pt x="661" y="1510"/>
                    </a:lnTo>
                    <a:lnTo>
                      <a:pt x="675" y="1541"/>
                    </a:lnTo>
                    <a:lnTo>
                      <a:pt x="696" y="1574"/>
                    </a:lnTo>
                    <a:lnTo>
                      <a:pt x="718" y="1612"/>
                    </a:lnTo>
                    <a:lnTo>
                      <a:pt x="743" y="1647"/>
                    </a:lnTo>
                    <a:lnTo>
                      <a:pt x="776" y="1691"/>
                    </a:lnTo>
                    <a:lnTo>
                      <a:pt x="809" y="1728"/>
                    </a:lnTo>
                    <a:lnTo>
                      <a:pt x="844" y="1763"/>
                    </a:lnTo>
                    <a:lnTo>
                      <a:pt x="883" y="1793"/>
                    </a:lnTo>
                    <a:lnTo>
                      <a:pt x="912" y="1812"/>
                    </a:lnTo>
                    <a:lnTo>
                      <a:pt x="935" y="1826"/>
                    </a:lnTo>
                    <a:lnTo>
                      <a:pt x="959" y="1838"/>
                    </a:lnTo>
                    <a:lnTo>
                      <a:pt x="988" y="1853"/>
                    </a:lnTo>
                    <a:lnTo>
                      <a:pt x="1021" y="1868"/>
                    </a:lnTo>
                    <a:lnTo>
                      <a:pt x="1056" y="1882"/>
                    </a:lnTo>
                    <a:lnTo>
                      <a:pt x="1094" y="1898"/>
                    </a:lnTo>
                    <a:lnTo>
                      <a:pt x="1129" y="1908"/>
                    </a:lnTo>
                    <a:lnTo>
                      <a:pt x="1161" y="1918"/>
                    </a:lnTo>
                    <a:lnTo>
                      <a:pt x="1193" y="1927"/>
                    </a:lnTo>
                    <a:lnTo>
                      <a:pt x="1228" y="1936"/>
                    </a:lnTo>
                    <a:lnTo>
                      <a:pt x="1260" y="1944"/>
                    </a:lnTo>
                    <a:lnTo>
                      <a:pt x="1304" y="1951"/>
                    </a:lnTo>
                    <a:lnTo>
                      <a:pt x="1347" y="1958"/>
                    </a:lnTo>
                    <a:lnTo>
                      <a:pt x="1347" y="1829"/>
                    </a:lnTo>
                    <a:lnTo>
                      <a:pt x="1315" y="1819"/>
                    </a:lnTo>
                    <a:lnTo>
                      <a:pt x="1270" y="1811"/>
                    </a:lnTo>
                    <a:lnTo>
                      <a:pt x="1237" y="1804"/>
                    </a:lnTo>
                    <a:lnTo>
                      <a:pt x="1199" y="1793"/>
                    </a:lnTo>
                    <a:lnTo>
                      <a:pt x="1171" y="1785"/>
                    </a:lnTo>
                    <a:lnTo>
                      <a:pt x="1149" y="1775"/>
                    </a:lnTo>
                    <a:lnTo>
                      <a:pt x="1122" y="1767"/>
                    </a:lnTo>
                    <a:lnTo>
                      <a:pt x="1090" y="1758"/>
                    </a:lnTo>
                    <a:lnTo>
                      <a:pt x="1063" y="1747"/>
                    </a:lnTo>
                    <a:lnTo>
                      <a:pt x="1038" y="1736"/>
                    </a:lnTo>
                    <a:lnTo>
                      <a:pt x="1019" y="1724"/>
                    </a:lnTo>
                    <a:lnTo>
                      <a:pt x="992" y="1709"/>
                    </a:lnTo>
                    <a:lnTo>
                      <a:pt x="957" y="1685"/>
                    </a:lnTo>
                    <a:lnTo>
                      <a:pt x="931" y="1669"/>
                    </a:lnTo>
                    <a:lnTo>
                      <a:pt x="907" y="1649"/>
                    </a:lnTo>
                    <a:lnTo>
                      <a:pt x="880" y="1623"/>
                    </a:lnTo>
                    <a:lnTo>
                      <a:pt x="851" y="1587"/>
                    </a:lnTo>
                    <a:lnTo>
                      <a:pt x="826" y="1551"/>
                    </a:lnTo>
                    <a:lnTo>
                      <a:pt x="795" y="1500"/>
                    </a:lnTo>
                    <a:lnTo>
                      <a:pt x="767" y="1450"/>
                    </a:lnTo>
                    <a:lnTo>
                      <a:pt x="745" y="1401"/>
                    </a:lnTo>
                    <a:lnTo>
                      <a:pt x="732" y="1365"/>
                    </a:lnTo>
                    <a:lnTo>
                      <a:pt x="720" y="1322"/>
                    </a:lnTo>
                    <a:lnTo>
                      <a:pt x="710" y="1290"/>
                    </a:lnTo>
                    <a:lnTo>
                      <a:pt x="699" y="1233"/>
                    </a:lnTo>
                    <a:lnTo>
                      <a:pt x="687" y="1176"/>
                    </a:lnTo>
                    <a:lnTo>
                      <a:pt x="678" y="1134"/>
                    </a:lnTo>
                    <a:lnTo>
                      <a:pt x="668" y="1075"/>
                    </a:lnTo>
                    <a:lnTo>
                      <a:pt x="660" y="1016"/>
                    </a:lnTo>
                    <a:lnTo>
                      <a:pt x="650" y="951"/>
                    </a:lnTo>
                    <a:lnTo>
                      <a:pt x="641" y="890"/>
                    </a:lnTo>
                    <a:lnTo>
                      <a:pt x="627" y="809"/>
                    </a:lnTo>
                    <a:lnTo>
                      <a:pt x="619" y="758"/>
                    </a:lnTo>
                    <a:lnTo>
                      <a:pt x="609" y="704"/>
                    </a:lnTo>
                    <a:lnTo>
                      <a:pt x="598" y="657"/>
                    </a:lnTo>
                    <a:lnTo>
                      <a:pt x="584" y="601"/>
                    </a:lnTo>
                    <a:lnTo>
                      <a:pt x="570" y="565"/>
                    </a:lnTo>
                    <a:lnTo>
                      <a:pt x="556" y="525"/>
                    </a:lnTo>
                    <a:lnTo>
                      <a:pt x="532" y="471"/>
                    </a:lnTo>
                    <a:lnTo>
                      <a:pt x="518" y="440"/>
                    </a:lnTo>
                    <a:lnTo>
                      <a:pt x="502" y="397"/>
                    </a:lnTo>
                    <a:lnTo>
                      <a:pt x="468" y="339"/>
                    </a:lnTo>
                    <a:lnTo>
                      <a:pt x="443" y="294"/>
                    </a:lnTo>
                    <a:lnTo>
                      <a:pt x="423" y="266"/>
                    </a:lnTo>
                    <a:lnTo>
                      <a:pt x="397" y="236"/>
                    </a:lnTo>
                    <a:lnTo>
                      <a:pt x="352" y="184"/>
                    </a:lnTo>
                    <a:lnTo>
                      <a:pt x="323" y="151"/>
                    </a:lnTo>
                    <a:lnTo>
                      <a:pt x="295" y="127"/>
                    </a:lnTo>
                    <a:lnTo>
                      <a:pt x="257" y="97"/>
                    </a:lnTo>
                    <a:lnTo>
                      <a:pt x="219" y="74"/>
                    </a:lnTo>
                    <a:lnTo>
                      <a:pt x="169" y="49"/>
                    </a:lnTo>
                    <a:lnTo>
                      <a:pt x="154" y="41"/>
                    </a:lnTo>
                    <a:lnTo>
                      <a:pt x="136" y="33"/>
                    </a:lnTo>
                    <a:lnTo>
                      <a:pt x="124" y="29"/>
                    </a:lnTo>
                    <a:lnTo>
                      <a:pt x="110" y="25"/>
                    </a:lnTo>
                    <a:lnTo>
                      <a:pt x="98" y="19"/>
                    </a:lnTo>
                    <a:lnTo>
                      <a:pt x="87" y="15"/>
                    </a:lnTo>
                    <a:lnTo>
                      <a:pt x="74" y="14"/>
                    </a:lnTo>
                    <a:lnTo>
                      <a:pt x="53" y="8"/>
                    </a:lnTo>
                    <a:lnTo>
                      <a:pt x="36" y="5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1347" y="120"/>
                    </a:moveTo>
                    <a:lnTo>
                      <a:pt x="1320" y="121"/>
                    </a:lnTo>
                    <a:lnTo>
                      <a:pt x="1306" y="124"/>
                    </a:lnTo>
                    <a:lnTo>
                      <a:pt x="1295" y="125"/>
                    </a:lnTo>
                    <a:lnTo>
                      <a:pt x="1284" y="128"/>
                    </a:lnTo>
                    <a:lnTo>
                      <a:pt x="1276" y="131"/>
                    </a:lnTo>
                    <a:lnTo>
                      <a:pt x="1264" y="135"/>
                    </a:lnTo>
                    <a:lnTo>
                      <a:pt x="1255" y="140"/>
                    </a:lnTo>
                    <a:lnTo>
                      <a:pt x="1243" y="146"/>
                    </a:lnTo>
                    <a:lnTo>
                      <a:pt x="1225" y="154"/>
                    </a:lnTo>
                    <a:lnTo>
                      <a:pt x="1206" y="166"/>
                    </a:lnTo>
                    <a:lnTo>
                      <a:pt x="1188" y="177"/>
                    </a:lnTo>
                    <a:lnTo>
                      <a:pt x="1167" y="191"/>
                    </a:lnTo>
                    <a:lnTo>
                      <a:pt x="1150" y="202"/>
                    </a:lnTo>
                    <a:lnTo>
                      <a:pt x="1115" y="230"/>
                    </a:lnTo>
                    <a:lnTo>
                      <a:pt x="1081" y="264"/>
                    </a:lnTo>
                    <a:lnTo>
                      <a:pt x="1052" y="298"/>
                    </a:lnTo>
                    <a:lnTo>
                      <a:pt x="1013" y="350"/>
                    </a:lnTo>
                    <a:lnTo>
                      <a:pt x="988" y="397"/>
                    </a:lnTo>
                    <a:lnTo>
                      <a:pt x="955" y="446"/>
                    </a:lnTo>
                    <a:lnTo>
                      <a:pt x="937" y="493"/>
                    </a:lnTo>
                    <a:lnTo>
                      <a:pt x="922" y="538"/>
                    </a:lnTo>
                    <a:lnTo>
                      <a:pt x="899" y="590"/>
                    </a:lnTo>
                    <a:lnTo>
                      <a:pt x="885" y="640"/>
                    </a:lnTo>
                    <a:lnTo>
                      <a:pt x="863" y="718"/>
                    </a:lnTo>
                    <a:lnTo>
                      <a:pt x="848" y="790"/>
                    </a:lnTo>
                    <a:lnTo>
                      <a:pt x="834" y="860"/>
                    </a:lnTo>
                    <a:lnTo>
                      <a:pt x="822" y="946"/>
                    </a:lnTo>
                    <a:lnTo>
                      <a:pt x="814" y="1004"/>
                    </a:lnTo>
                    <a:lnTo>
                      <a:pt x="804" y="1072"/>
                    </a:lnTo>
                    <a:lnTo>
                      <a:pt x="796" y="1117"/>
                    </a:lnTo>
                    <a:lnTo>
                      <a:pt x="790" y="1158"/>
                    </a:lnTo>
                    <a:lnTo>
                      <a:pt x="781" y="1210"/>
                    </a:lnTo>
                    <a:lnTo>
                      <a:pt x="767" y="1262"/>
                    </a:lnTo>
                    <a:lnTo>
                      <a:pt x="755" y="1304"/>
                    </a:lnTo>
                    <a:lnTo>
                      <a:pt x="743" y="1354"/>
                    </a:lnTo>
                    <a:lnTo>
                      <a:pt x="729" y="1402"/>
                    </a:lnTo>
                    <a:lnTo>
                      <a:pt x="716" y="1443"/>
                    </a:lnTo>
                    <a:lnTo>
                      <a:pt x="699" y="1480"/>
                    </a:lnTo>
                    <a:lnTo>
                      <a:pt x="685" y="1510"/>
                    </a:lnTo>
                    <a:lnTo>
                      <a:pt x="671" y="1541"/>
                    </a:lnTo>
                    <a:lnTo>
                      <a:pt x="650" y="1574"/>
                    </a:lnTo>
                    <a:lnTo>
                      <a:pt x="629" y="1612"/>
                    </a:lnTo>
                    <a:lnTo>
                      <a:pt x="603" y="1647"/>
                    </a:lnTo>
                    <a:lnTo>
                      <a:pt x="572" y="1691"/>
                    </a:lnTo>
                    <a:lnTo>
                      <a:pt x="539" y="1728"/>
                    </a:lnTo>
                    <a:lnTo>
                      <a:pt x="502" y="1763"/>
                    </a:lnTo>
                    <a:lnTo>
                      <a:pt x="463" y="1793"/>
                    </a:lnTo>
                    <a:lnTo>
                      <a:pt x="434" y="1812"/>
                    </a:lnTo>
                    <a:lnTo>
                      <a:pt x="413" y="1826"/>
                    </a:lnTo>
                    <a:lnTo>
                      <a:pt x="387" y="1838"/>
                    </a:lnTo>
                    <a:lnTo>
                      <a:pt x="359" y="1853"/>
                    </a:lnTo>
                    <a:lnTo>
                      <a:pt x="326" y="1868"/>
                    </a:lnTo>
                    <a:lnTo>
                      <a:pt x="291" y="1882"/>
                    </a:lnTo>
                    <a:lnTo>
                      <a:pt x="252" y="1898"/>
                    </a:lnTo>
                    <a:lnTo>
                      <a:pt x="218" y="1908"/>
                    </a:lnTo>
                    <a:lnTo>
                      <a:pt x="186" y="1918"/>
                    </a:lnTo>
                    <a:lnTo>
                      <a:pt x="154" y="1927"/>
                    </a:lnTo>
                    <a:lnTo>
                      <a:pt x="119" y="1936"/>
                    </a:lnTo>
                    <a:lnTo>
                      <a:pt x="87" y="1944"/>
                    </a:lnTo>
                    <a:lnTo>
                      <a:pt x="43" y="1951"/>
                    </a:lnTo>
                    <a:lnTo>
                      <a:pt x="0" y="1958"/>
                    </a:lnTo>
                    <a:lnTo>
                      <a:pt x="0" y="1829"/>
                    </a:lnTo>
                    <a:lnTo>
                      <a:pt x="34" y="1819"/>
                    </a:lnTo>
                    <a:lnTo>
                      <a:pt x="77" y="1811"/>
                    </a:lnTo>
                    <a:lnTo>
                      <a:pt x="109" y="1804"/>
                    </a:lnTo>
                    <a:lnTo>
                      <a:pt x="148" y="1793"/>
                    </a:lnTo>
                    <a:lnTo>
                      <a:pt x="176" y="1785"/>
                    </a:lnTo>
                    <a:lnTo>
                      <a:pt x="200" y="1775"/>
                    </a:lnTo>
                    <a:lnTo>
                      <a:pt x="227" y="1767"/>
                    </a:lnTo>
                    <a:lnTo>
                      <a:pt x="256" y="1758"/>
                    </a:lnTo>
                    <a:lnTo>
                      <a:pt x="283" y="1747"/>
                    </a:lnTo>
                    <a:lnTo>
                      <a:pt x="309" y="1736"/>
                    </a:lnTo>
                    <a:lnTo>
                      <a:pt x="329" y="1724"/>
                    </a:lnTo>
                    <a:lnTo>
                      <a:pt x="355" y="1709"/>
                    </a:lnTo>
                    <a:lnTo>
                      <a:pt x="390" y="1685"/>
                    </a:lnTo>
                    <a:lnTo>
                      <a:pt x="417" y="1669"/>
                    </a:lnTo>
                    <a:lnTo>
                      <a:pt x="441" y="1649"/>
                    </a:lnTo>
                    <a:lnTo>
                      <a:pt x="467" y="1623"/>
                    </a:lnTo>
                    <a:lnTo>
                      <a:pt x="497" y="1587"/>
                    </a:lnTo>
                    <a:lnTo>
                      <a:pt x="522" y="1551"/>
                    </a:lnTo>
                    <a:lnTo>
                      <a:pt x="553" y="1500"/>
                    </a:lnTo>
                    <a:lnTo>
                      <a:pt x="579" y="1450"/>
                    </a:lnTo>
                    <a:lnTo>
                      <a:pt x="601" y="1401"/>
                    </a:lnTo>
                    <a:lnTo>
                      <a:pt x="615" y="1365"/>
                    </a:lnTo>
                    <a:lnTo>
                      <a:pt x="627" y="1322"/>
                    </a:lnTo>
                    <a:lnTo>
                      <a:pt x="635" y="1290"/>
                    </a:lnTo>
                    <a:lnTo>
                      <a:pt x="648" y="1233"/>
                    </a:lnTo>
                    <a:lnTo>
                      <a:pt x="660" y="1176"/>
                    </a:lnTo>
                    <a:lnTo>
                      <a:pt x="669" y="1134"/>
                    </a:lnTo>
                    <a:lnTo>
                      <a:pt x="680" y="1075"/>
                    </a:lnTo>
                    <a:lnTo>
                      <a:pt x="688" y="1016"/>
                    </a:lnTo>
                    <a:lnTo>
                      <a:pt x="697" y="951"/>
                    </a:lnTo>
                    <a:lnTo>
                      <a:pt x="706" y="890"/>
                    </a:lnTo>
                    <a:lnTo>
                      <a:pt x="719" y="809"/>
                    </a:lnTo>
                    <a:lnTo>
                      <a:pt x="727" y="758"/>
                    </a:lnTo>
                    <a:lnTo>
                      <a:pt x="739" y="704"/>
                    </a:lnTo>
                    <a:lnTo>
                      <a:pt x="750" y="657"/>
                    </a:lnTo>
                    <a:lnTo>
                      <a:pt x="762" y="601"/>
                    </a:lnTo>
                    <a:lnTo>
                      <a:pt x="776" y="565"/>
                    </a:lnTo>
                    <a:lnTo>
                      <a:pt x="790" y="525"/>
                    </a:lnTo>
                    <a:lnTo>
                      <a:pt x="814" y="471"/>
                    </a:lnTo>
                    <a:lnTo>
                      <a:pt x="828" y="440"/>
                    </a:lnTo>
                    <a:lnTo>
                      <a:pt x="846" y="397"/>
                    </a:lnTo>
                    <a:lnTo>
                      <a:pt x="878" y="339"/>
                    </a:lnTo>
                    <a:lnTo>
                      <a:pt x="904" y="294"/>
                    </a:lnTo>
                    <a:lnTo>
                      <a:pt x="923" y="266"/>
                    </a:lnTo>
                    <a:lnTo>
                      <a:pt x="950" y="236"/>
                    </a:lnTo>
                    <a:lnTo>
                      <a:pt x="995" y="184"/>
                    </a:lnTo>
                    <a:lnTo>
                      <a:pt x="1024" y="151"/>
                    </a:lnTo>
                    <a:lnTo>
                      <a:pt x="1052" y="127"/>
                    </a:lnTo>
                    <a:lnTo>
                      <a:pt x="1091" y="97"/>
                    </a:lnTo>
                    <a:lnTo>
                      <a:pt x="1127" y="74"/>
                    </a:lnTo>
                    <a:lnTo>
                      <a:pt x="1178" y="49"/>
                    </a:lnTo>
                    <a:lnTo>
                      <a:pt x="1193" y="41"/>
                    </a:lnTo>
                    <a:lnTo>
                      <a:pt x="1211" y="33"/>
                    </a:lnTo>
                    <a:lnTo>
                      <a:pt x="1224" y="29"/>
                    </a:lnTo>
                    <a:lnTo>
                      <a:pt x="1236" y="25"/>
                    </a:lnTo>
                    <a:lnTo>
                      <a:pt x="1250" y="19"/>
                    </a:lnTo>
                    <a:lnTo>
                      <a:pt x="1260" y="15"/>
                    </a:lnTo>
                    <a:lnTo>
                      <a:pt x="1273" y="14"/>
                    </a:lnTo>
                    <a:lnTo>
                      <a:pt x="1294" y="8"/>
                    </a:lnTo>
                    <a:lnTo>
                      <a:pt x="1309" y="5"/>
                    </a:lnTo>
                    <a:lnTo>
                      <a:pt x="1323" y="3"/>
                    </a:lnTo>
                    <a:lnTo>
                      <a:pt x="1347" y="0"/>
                    </a:lnTo>
                    <a:lnTo>
                      <a:pt x="1347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5"/>
              <p:cNvSpPr/>
              <p:nvPr/>
            </p:nvSpPr>
            <p:spPr>
              <a:xfrm>
                <a:off x="5857920" y="234756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i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58"/>
              <p:cNvSpPr/>
              <p:nvPr/>
            </p:nvSpPr>
            <p:spPr>
              <a:xfrm>
                <a:off x="5794200" y="3268440"/>
                <a:ext cx="1025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ff"/>
                  </a:solidFill>
                  <a:latin typeface="Tahoma"/>
                  <a:ea typeface="ＭＳ Ｐゴシック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60"/>
          <p:cNvSpPr/>
          <p:nvPr/>
        </p:nvSpPr>
        <p:spPr>
          <a:xfrm>
            <a:off x="108000" y="6165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Habilidad Diagnós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1"/>
          <p:cNvSpPr/>
          <p:nvPr/>
        </p:nvSpPr>
        <p:spPr>
          <a:xfrm rot="5400000">
            <a:off x="1992240" y="5860800"/>
            <a:ext cx="431640" cy="46368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680"/>
              <a:gd name="textAreaBottom" fmla="*/ 347760 h 463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2"/>
          <p:cNvSpPr/>
          <p:nvPr/>
        </p:nvSpPr>
        <p:spPr>
          <a:xfrm>
            <a:off x="506556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3"/>
          <p:cNvSpPr/>
          <p:nvPr/>
        </p:nvSpPr>
        <p:spPr>
          <a:xfrm>
            <a:off x="5138640" y="61657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Habilidad Flexibi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4"/>
          <p:cNvSpPr/>
          <p:nvPr/>
        </p:nvSpPr>
        <p:spPr>
          <a:xfrm rot="5400000">
            <a:off x="6879960" y="5861160"/>
            <a:ext cx="431640" cy="46332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320"/>
              <a:gd name="textAreaBottom" fmla="*/ 347760 h 463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5"/>
          <p:cNvSpPr/>
          <p:nvPr/>
        </p:nvSpPr>
        <p:spPr>
          <a:xfrm>
            <a:off x="3841920" y="5950080"/>
            <a:ext cx="1954080" cy="415800"/>
          </a:xfrm>
          <a:custGeom>
            <a:avLst/>
            <a:gdLst>
              <a:gd name="textAreaLeft" fmla="*/ 342000 w 1954080"/>
              <a:gd name="textAreaRight" fmla="*/ 1416960 w 1954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66"/>
          <p:cNvCxnSpPr>
            <a:stCxn id="254" idx="2"/>
            <a:endCxn id="288" idx="34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43164"/>
              <a:gd name="adj2" fmla="val 49997"/>
              <a:gd name="adj3" fmla="val 14316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2" name="AutoShape 67"/>
          <p:cNvCxnSpPr>
            <a:stCxn id="253" idx="2"/>
            <a:endCxn id="239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03" name="AutoShape 68"/>
          <p:cNvCxnSpPr>
            <a:stCxn id="252" idx="2"/>
            <a:endCxn id="238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4" name="AutoShape 69"/>
          <p:cNvCxnSpPr>
            <a:stCxn id="251" idx="2"/>
            <a:endCxn id="237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305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1"/>
          <p:cNvSpPr/>
          <p:nvPr/>
        </p:nvSpPr>
        <p:spPr>
          <a:xfrm>
            <a:off x="250920" y="4956120"/>
            <a:ext cx="41860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Competencias: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Compromiso: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2"/>
          <p:cNvSpPr/>
          <p:nvPr/>
        </p:nvSpPr>
        <p:spPr>
          <a:xfrm>
            <a:off x="250920" y="5121360"/>
            <a:ext cx="28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3"/>
          <p:cNvSpPr/>
          <p:nvPr/>
        </p:nvSpPr>
        <p:spPr>
          <a:xfrm>
            <a:off x="250920" y="5435640"/>
            <a:ext cx="288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4"/>
          <p:cNvSpPr/>
          <p:nvPr/>
        </p:nvSpPr>
        <p:spPr>
          <a:xfrm>
            <a:off x="4859280" y="4956120"/>
            <a:ext cx="410544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Dirección: Genera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Apoyo: Genera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IRIGI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Reconoce el entusiasmo del colaborador y las habilidades transferibles del colaborador y su progreso hasta la fech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Identifica los resultados, objetivos y plaz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fine que es un buen trabajo y como se registrara y controlara el desempeñ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irige la planificación de accion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Toma la mayoría de las decisiones relacionadas con que hacer , cuando y con quie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directrices e instrucciones especific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irige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4" dur="5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uzzle1"/>
          <p:cNvSpPr/>
          <p:nvPr/>
        </p:nvSpPr>
        <p:spPr>
          <a:xfrm>
            <a:off x="2844720" y="5373720"/>
            <a:ext cx="2158920" cy="122400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zzle4"/>
          <p:cNvSpPr/>
          <p:nvPr/>
        </p:nvSpPr>
        <p:spPr>
          <a:xfrm>
            <a:off x="5292720" y="5329080"/>
            <a:ext cx="1700280" cy="126864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360" y="1871640"/>
            <a:ext cx="104292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871640"/>
            <a:ext cx="104292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871640"/>
            <a:ext cx="97308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871640"/>
            <a:ext cx="97308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871640"/>
            <a:ext cx="158112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871640"/>
            <a:ext cx="158112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1871640"/>
            <a:ext cx="2448000" cy="289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0200" y="2160720"/>
            <a:ext cx="1225440" cy="338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atr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. 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.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2160720"/>
            <a:ext cx="1225800" cy="3538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2160720"/>
            <a:ext cx="1297080" cy="338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v.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Desvincu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2160720"/>
            <a:ext cx="1297080" cy="3538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1871640"/>
            <a:ext cx="165708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1871640"/>
            <a:ext cx="1657080" cy="252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n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2141640"/>
            <a:ext cx="793440" cy="34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29440" y="2141640"/>
            <a:ext cx="863640" cy="34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15920"/>
            <a:ext cx="5616720" cy="13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130bb1"/>
                </a:solidFill>
                <a:latin typeface="Arial"/>
              </a:rPr>
              <a:t>Organización de alto rendimiento y análisis sociotécnic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3767040" y="2519280"/>
            <a:ext cx="230400" cy="302436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511164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1440" y="5111640"/>
            <a:ext cx="935280" cy="505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04036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504036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429264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4653000"/>
            <a:ext cx="973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30872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ntren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Involucra al colaborador en identificación de problemas y en fijar met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Proporciona apoyo, seguridad y elogi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, brinda al colaborador oportunidad para discuti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Involucra al colaborador en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dirección y adiestramiento  para continuar  desarrollando y perfeccionando l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Explica la razón para tomar un enfoque particul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fine que es un trajo bien hecho y como el desempeño será controlad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Continua haciendo seguimiento y proporcionando retroalimentación frecuente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Toma de decisiones finales luego de </a:t>
            </a: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r las ideas y los sentimientos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37920" y="4392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ilo de liderazgo 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poy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Comparte con  el colaborador tomar la iniciativa en la planificación de acciones y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ayuda en la solución de problemas</a:t>
            </a: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 compartiendo ideas, cuando se la solicita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el 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eleg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24000" y="1542600"/>
            <a:ext cx="84960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Permite al colaborador hacerse car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Estimula al colaborador a evaluar su propio  trabaj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00000" y="53640"/>
            <a:ext cx="546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s de toma de decis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00360" y="1422360"/>
            <a:ext cx="5832000" cy="4959000"/>
            <a:chOff x="2700360" y="1422360"/>
            <a:chExt cx="5832000" cy="4959000"/>
          </a:xfrm>
        </p:grpSpPr>
        <p:sp>
          <p:nvSpPr>
            <p:cNvPr id="320" name="Rectangle 3"/>
            <p:cNvSpPr/>
            <p:nvPr/>
          </p:nvSpPr>
          <p:spPr>
            <a:xfrm>
              <a:off x="2746440" y="2121480"/>
              <a:ext cx="2811600" cy="12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Apoy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ambos decidi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5630400" y="210024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ntre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746440" y="429120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ele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Tú dec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5630400" y="427068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iri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2700360" y="1422360"/>
              <a:ext cx="5832000" cy="495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5538240" y="1422360"/>
              <a:ext cx="1800" cy="495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2700360" y="3731400"/>
              <a:ext cx="583200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 líder tiene tres opc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63720" y="1773000"/>
            <a:ext cx="764064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tilizar el estilo requeri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pervisar excesiv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pervisar insufici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br>
              <a:rPr sz="3000"/>
            </a:b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supervisión excesiva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4880" y="148392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icipación disminuid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autonomía en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5526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supervisión insufic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332000" y="155736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cciones de rechazo o eva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eficiencia en el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0920" y="385776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69040" y="3933720"/>
            <a:ext cx="193968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2235240" cy="1498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932360" y="1628640"/>
            <a:ext cx="2697120" cy="1513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62200" y="3322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VENTANA DE JO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080" y="13017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34000" y="13017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-233640" y="2276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O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432360" y="44722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308772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308772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E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5175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16000" y="1700280"/>
            <a:ext cx="6840360" cy="4248000"/>
            <a:chOff x="1116000" y="1700280"/>
            <a:chExt cx="6840360" cy="4248000"/>
          </a:xfrm>
        </p:grpSpPr>
        <p:sp>
          <p:nvSpPr>
            <p:cNvPr id="95" name=""/>
            <p:cNvSpPr/>
            <p:nvPr/>
          </p:nvSpPr>
          <p:spPr>
            <a:xfrm>
              <a:off x="1116000" y="1700280"/>
              <a:ext cx="6840360" cy="42480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6000" y="3823200"/>
              <a:ext cx="684036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536000" y="1700280"/>
              <a:ext cx="0" cy="424800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3633840" cy="93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UnitOT-Regular"/>
              </a:rPr>
              <a:t>Ejercicio Sillas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Objetiv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Quienes se encuentren sentados a la izquierda de la silla vacía deben pasar a sentarse a la derecha y viceversa (a través de la línea de sillas que se ha definido para estos efectos)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gla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ólo se puede avanzar al puesto vacío ubicado inmediatamente al lado, o saltar a un miembro del grupo que proviene desde el otro lado de la silla vacía. 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Jamás se puede retroceder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da vez que se compruebe que no se puede seguir avanzando se debe comenzar desde el principi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979640" y="198360"/>
            <a:ext cx="614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Arial"/>
              </a:rPr>
              <a:t>Ejercic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ptiembre 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88a"/>
                </a:solidFill>
                <a:latin typeface="UnitOT-Regular"/>
              </a:rPr>
              <a:t>Módulo Liderazgo</a:t>
            </a:r>
            <a:br>
              <a:rPr sz="2800"/>
            </a:br>
            <a:r>
              <a:rPr b="1" lang="en-US" sz="2800" spc="-1" strike="noStrike">
                <a:solidFill>
                  <a:srgbClr val="0e088a"/>
                </a:solidFill>
                <a:latin typeface="UnitOT-Regular"/>
              </a:rPr>
              <a:t>Diploma en Gere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31640" y="417600"/>
            <a:ext cx="4464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OBJETIVOS ESPECÍFIC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DEL MODULO</a:t>
            </a:r>
            <a:endParaRPr b="1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nsibilizar respecto a  la necesidad de ser flexible y adaptable en relación al estilo de liderazgo, a fin de lograr los objetivos en un ambiente de participación, cambio y diversidad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ender las consecuencias del uso inapropiado de los estilos de liderazgo y cómo afectan el logro de los objetivos, sensibilizando respecto al proceso de la delegación y generación de autonomía en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525636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reencias acerca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l Rol del Líder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08" name="Picture 4" descr="IMG_0165"/>
          <p:cNvPicPr/>
          <p:nvPr/>
        </p:nvPicPr>
        <p:blipFill>
          <a:blip r:embed="rId1"/>
          <a:stretch/>
        </p:blipFill>
        <p:spPr>
          <a:xfrm>
            <a:off x="755640" y="3429000"/>
            <a:ext cx="2184480" cy="28591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2771640" y="1773360"/>
            <a:ext cx="5256360" cy="2376360"/>
          </a:xfrm>
          <a:prstGeom prst="cloudCallout">
            <a:avLst>
              <a:gd name="adj1" fmla="val -47555"/>
              <a:gd name="adj2" fmla="val 50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Qué le pediría a un líder i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73080" y="304560"/>
            <a:ext cx="5794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iderazgo eficaz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64920" y="370512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113" name="Group 5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114" name="Oval 6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"/>
              <p:cNvSpPr/>
              <p:nvPr/>
            </p:nvSpPr>
            <p:spPr>
              <a:xfrm>
                <a:off x="49212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8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117" name="Oval 9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"/>
              <p:cNvSpPr/>
              <p:nvPr/>
            </p:nvSpPr>
            <p:spPr>
              <a:xfrm>
                <a:off x="207648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2"/>
          <p:cNvGrpSpPr/>
          <p:nvPr/>
        </p:nvGrpSpPr>
        <p:grpSpPr>
          <a:xfrm>
            <a:off x="5967360" y="1382760"/>
            <a:ext cx="2549520" cy="3974040"/>
            <a:chOff x="5967360" y="1382760"/>
            <a:chExt cx="2549520" cy="3974040"/>
          </a:xfrm>
        </p:grpSpPr>
        <p:sp>
          <p:nvSpPr>
            <p:cNvPr id="121" name="Rectangle 13"/>
            <p:cNvSpPr/>
            <p:nvPr/>
          </p:nvSpPr>
          <p:spPr>
            <a:xfrm>
              <a:off x="7146720" y="1382760"/>
              <a:ext cx="878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6964200" y="5040360"/>
              <a:ext cx="10810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IN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5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124" name="AutoShape 16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7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8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9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0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21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22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3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4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5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6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7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8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9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0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31"/>
            <p:cNvSpPr/>
            <p:nvPr/>
          </p:nvSpPr>
          <p:spPr>
            <a:xfrm>
              <a:off x="6554880" y="2967120"/>
              <a:ext cx="166788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C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32"/>
          <p:cNvSpPr/>
          <p:nvPr/>
        </p:nvSpPr>
        <p:spPr>
          <a:xfrm>
            <a:off x="3795120" y="2525760"/>
            <a:ext cx="1261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3853080" y="6021360"/>
            <a:ext cx="1149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5"/>
          <p:cNvSpPr/>
          <p:nvPr/>
        </p:nvSpPr>
        <p:spPr>
          <a:xfrm rot="16200000">
            <a:off x="2844360" y="3236400"/>
            <a:ext cx="3046680" cy="2471760"/>
          </a:xfrm>
          <a:prstGeom prst="triangle">
            <a:avLst>
              <a:gd name="adj" fmla="val 5062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5567400" y="2790720"/>
            <a:ext cx="0" cy="33022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7"/>
          <p:cNvSpPr/>
          <p:nvPr/>
        </p:nvSpPr>
        <p:spPr>
          <a:xfrm>
            <a:off x="5592600" y="29494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8"/>
          <p:cNvSpPr/>
          <p:nvPr/>
        </p:nvSpPr>
        <p:spPr>
          <a:xfrm>
            <a:off x="5592600" y="5996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5603760" y="32036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0"/>
          <p:cNvSpPr/>
          <p:nvPr/>
        </p:nvSpPr>
        <p:spPr>
          <a:xfrm>
            <a:off x="5613480" y="34574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1"/>
          <p:cNvSpPr/>
          <p:nvPr/>
        </p:nvSpPr>
        <p:spPr>
          <a:xfrm>
            <a:off x="5603760" y="3710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2"/>
          <p:cNvSpPr/>
          <p:nvPr/>
        </p:nvSpPr>
        <p:spPr>
          <a:xfrm>
            <a:off x="5592600" y="39639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5603760" y="42181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4"/>
          <p:cNvSpPr/>
          <p:nvPr/>
        </p:nvSpPr>
        <p:spPr>
          <a:xfrm>
            <a:off x="5603760" y="44719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5"/>
          <p:cNvSpPr/>
          <p:nvPr/>
        </p:nvSpPr>
        <p:spPr>
          <a:xfrm>
            <a:off x="5603760" y="47260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5613480" y="497988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5603760" y="52340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8"/>
          <p:cNvSpPr/>
          <p:nvPr/>
        </p:nvSpPr>
        <p:spPr>
          <a:xfrm>
            <a:off x="5613480" y="54878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9"/>
          <p:cNvSpPr/>
          <p:nvPr/>
        </p:nvSpPr>
        <p:spPr>
          <a:xfrm>
            <a:off x="5613480" y="574200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0"/>
          <p:cNvSpPr/>
          <p:nvPr/>
        </p:nvSpPr>
        <p:spPr>
          <a:xfrm>
            <a:off x="3317400" y="4110120"/>
            <a:ext cx="21157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10-09-27T19:55:07Z</dcterms:modified>
  <cp:revision>291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46805845</vt:r8>
  </property>
  <property fmtid="{D5CDD505-2E9C-101B-9397-08002B2CF9AE}" pid="3" name="_AuthorEmail">
    <vt:lpwstr>cbinimel@dii.uchile.cl</vt:lpwstr>
  </property>
  <property fmtid="{D5CDD505-2E9C-101B-9397-08002B2CF9AE}" pid="4" name="_AuthorEmailDisplayName">
    <vt:lpwstr>Cristian Binimelis S.</vt:lpwstr>
  </property>
  <property fmtid="{D5CDD505-2E9C-101B-9397-08002B2CF9AE}" pid="5" name="_EmailSubject">
    <vt:lpwstr>Estudio de liderazgo directivo</vt:lpwstr>
  </property>
</Properties>
</file>