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3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0.jpeg" ContentType="image/jpeg"/>
  <Override PartName="/ppt/media/image22.wmf" ContentType="image/x-wmf"/>
  <Override PartName="/ppt/media/image4.jpeg" ContentType="image/jpeg"/>
  <Override PartName="/ppt/media/image7.jpeg" ContentType="image/jpeg"/>
  <Override PartName="/ppt/media/image5.jpeg" ContentType="image/jpeg"/>
  <Override PartName="/ppt/media/image3.jpeg" ContentType="image/jpeg"/>
  <Override PartName="/ppt/media/CHIMES.WAV" ContentType="audio/x-wav"/>
  <Override PartName="/ppt/media/image8.jpeg" ContentType="image/jpeg"/>
  <Override PartName="/ppt/media/DRUMROLL.WAV" ContentType="audio/x-wav"/>
  <Override PartName="/ppt/media/image10.jpeg" ContentType="image/jpeg"/>
  <Override PartName="/ppt/media/CASHREG.WAV" ContentType="audio/x-wav"/>
  <Override PartName="/ppt/media/image6.jpeg" ContentType="image/jpeg"/>
  <Override PartName="/ppt/media/image11.jpeg" ContentType="image/jpeg"/>
  <Override PartName="/ppt/media/image9.jpeg" ContentType="image/jpeg"/>
  <Override PartName="/ppt/media/DRIVEBY.WAV" ContentType="audio/x-wav"/>
  <Override PartName="/ppt/media/image2.jpeg" ContentType="image/jpeg"/>
  <Override PartName="/ppt/media/image1.jpeg" ContentType="image/jpeg"/>
  <Override PartName="/ppt/media/image12.jpeg" ContentType="image/jpeg"/>
  <Override PartName="/ppt/media/image13.jpeg" ContentType="image/jpeg"/>
  <Override PartName="/ppt/media/image14.jpeg" ContentType="image/jpeg"/>
  <Override PartName="/ppt/media/WHOOSH.WAV" ContentType="audio/x-wav"/>
  <Override PartName="/ppt/media/GUNSHOT.WAV" ContentType="audio/x-wav"/>
  <Override PartName="/ppt/media/image21.jpeg" ContentType="image/jpeg"/>
  <Override PartName="/ppt/media/image15.jpeg" ContentType="image/jpeg"/>
  <Override PartName="/ppt/media/LASER.WAV" ContentType="audio/x-wav"/>
  <Override PartName="/ppt/media/TYPE.WAV" ContentType="audio/x-wav"/>
  <Override PartName="/ppt/media/image16.jpeg" ContentType="image/jpeg"/>
  <Override PartName="/ppt/media/image17.jpeg" ContentType="image/jpeg"/>
  <Override PartName="/ppt/media/APPLAUSE.WAV" ContentType="audio/x-wav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02800" cy="9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800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022280" y="-360"/>
            <a:ext cx="307836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04560" y="704880"/>
            <a:ext cx="4692600" cy="35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088a"/>
                </a:solidFill>
                <a:latin typeface="UnitOT-Regular"/>
              </a:rPr>
              <a:t>Click to move the slide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916840"/>
            <a:ext cx="3078000" cy="470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8075578-C177-45F0-B2C8-AFE62823C68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4022640" y="8918640"/>
            <a:ext cx="307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FBE1358-D7E8-41A2-83DF-78E4BB10B1F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137629B4-77A7-4EF6-9FA9-1892BB35636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71B4A903-6FF5-49CC-98B5-D3E0E5DDEE3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42B92827-7EF9-4DC2-951D-408EE85206F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8817AFAE-475D-4C1C-8F2F-8DD67F6865A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11E45CB-73C1-41CE-BACC-F910164CE9E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3C24A2D2-FC00-4549-BEA0-00FBC80D940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71984FC2-3293-4CBF-9373-4E9F9D11CCF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1F1317B5-F510-42D8-9BD7-5FF05AF7B91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6B8C27A4-6F78-4B40-9B84-9B0765A8966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62791397-BA2F-4D68-A2C2-D89B0CC8CEA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5DF938A-5361-478E-91A6-06E0728B627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F0EDCBAE-0D99-4EF0-AA74-F824AB503C9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F22C55C-2F70-4925-87BD-B914777CF18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838474E0-7E7F-4F60-BD06-649B284DBDC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F7E9C8A6-BE02-47E8-9BBC-300C8E2F949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160D102B-A61E-48BB-A705-849076AB7E1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D757013E-D605-4040-9207-5F9177A072D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03480" y="704880"/>
            <a:ext cx="4695840" cy="35211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82DFA1D7-2ADA-41C5-A0F4-4098BBB35D1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203480" y="704880"/>
            <a:ext cx="4695840" cy="35211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3CACACA1-1521-4418-B54B-E231E0D1584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8C29537C-700E-45D9-A20F-1B715AE94A9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42306F3-045B-42B9-A080-A0D55D66EFA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F036C08B-A893-4008-AAF2-1554EF3C5AD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634F88C4-7325-4DCC-9F53-5B7D359CCA1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37E24DF-3BD8-4B1C-B22B-93D29035A88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78784DEF-14E9-4E53-B700-153FD8239D0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9200" y="4460760"/>
            <a:ext cx="5683320" cy="4222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4022640" y="8918640"/>
            <a:ext cx="307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47804DA-82ED-4835-B316-2F3EC448FDB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78008D45-DA14-46FC-8EE8-0322781D8AF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528CE921-CB51-4F74-927F-8C155BB4002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7980-94E6-4C18-840F-9E73D4113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9ACF-4FDA-4244-BFF2-907B8F8E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10F1-3C94-404D-B3C6-6C4420571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EB24-FADA-4FA3-897D-CF209AAF6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D7F1-A173-428B-B1C1-EB6F9DCC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90DF-9A61-4964-A4DA-70C0DF19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E525-A4FB-42D9-BACE-52FA1F12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B51B-591C-4899-B134-E7F1DA02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987640" y="274320"/>
            <a:ext cx="468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D165-BA5B-4CB4-85D5-8003B894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B12E-D7EF-4A24-ADF9-49A7AF7B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BEDA-8768-4F8E-8C28-AAB77C41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978F-FBDB-411F-82C7-56567DC4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088a"/>
                </a:solidFill>
                <a:latin typeface="UnitOT-Regular"/>
              </a:rPr>
              <a:t>Click to edit the title text format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088a"/>
                </a:solidFill>
                <a:latin typeface="UnitOT-Regular"/>
              </a:rPr>
              <a:t>Click to edit the outline text format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1" marL="343080" indent="-343080">
              <a:spcBef>
                <a:spcPts val="700"/>
              </a:spcBef>
              <a:buClr>
                <a:srgbClr val="0e088a"/>
              </a:buClr>
              <a:buFont typeface="UnitOT-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088a"/>
                </a:solidFill>
                <a:latin typeface="UnitOT-Regular"/>
              </a:rPr>
              <a:t>Second Outline Level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2" marL="343080" indent="-343080">
              <a:spcBef>
                <a:spcPts val="700"/>
              </a:spcBef>
              <a:buClr>
                <a:srgbClr val="0e088a"/>
              </a:buClr>
              <a:buFont typeface="UnitOT-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088a"/>
                </a:solidFill>
                <a:latin typeface="UnitOT-Regular"/>
              </a:rPr>
              <a:t>Third Outline Level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3" marL="343080" indent="-343080">
              <a:spcBef>
                <a:spcPts val="700"/>
              </a:spcBef>
              <a:buClr>
                <a:srgbClr val="0e088a"/>
              </a:buClr>
              <a:buFont typeface="UnitOT-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088a"/>
                </a:solidFill>
                <a:latin typeface="UnitOT-Regular"/>
              </a:rPr>
              <a:t>Fourth Outline Level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4" marL="343080" indent="-343080">
              <a:spcBef>
                <a:spcPts val="700"/>
              </a:spcBef>
              <a:buClr>
                <a:srgbClr val="0e088a"/>
              </a:buClr>
              <a:buFont typeface="UnitOT-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088a"/>
                </a:solidFill>
                <a:latin typeface="UnitOT-Regular"/>
              </a:rPr>
              <a:t>Fifth Outline Level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UnitOT-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088a"/>
                </a:solidFill>
                <a:latin typeface="UnitOT-Regular"/>
              </a:rPr>
              <a:t>Sixth Outline Level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UnitOT-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088a"/>
                </a:solidFill>
                <a:latin typeface="UnitOT-Regular"/>
              </a:rPr>
              <a:t>Seventh Outline Level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UnitOT-Regular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UnitOT-Regular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UnitOT-Regular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UnitOT-Regular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UnitOT-Regula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AD1B-241D-441B-BDB6-D3E997A2F893}" type="slidenum">
              <a:rPr b="0" lang="en-US" sz="1400" spc="-1" strike="noStrike">
                <a:solidFill>
                  <a:srgbClr val="333399"/>
                </a:solidFill>
                <a:latin typeface="UnitOT-Regula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4067280" y="515772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Septiembre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pie copia"/>
          <p:cNvPicPr/>
          <p:nvPr/>
        </p:nvPicPr>
        <p:blipFill>
          <a:blip r:embed="rId1"/>
          <a:stretch/>
        </p:blipFill>
        <p:spPr>
          <a:xfrm>
            <a:off x="1116000" y="6283440"/>
            <a:ext cx="7201080" cy="458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ROSELY"/>
          <p:cNvPicPr/>
          <p:nvPr/>
        </p:nvPicPr>
        <p:blipFill>
          <a:blip r:embed="rId2"/>
          <a:stretch/>
        </p:blipFill>
        <p:spPr>
          <a:xfrm>
            <a:off x="468360" y="1989000"/>
            <a:ext cx="2125440" cy="2125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30200" y="2246400"/>
            <a:ext cx="8713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088a"/>
                </a:solidFill>
                <a:latin typeface="UnitOT-Regular"/>
              </a:rPr>
              <a:t>Diploma de Postítulo en </a:t>
            </a:r>
            <a:br>
              <a:rPr sz="2400"/>
            </a:br>
            <a:r>
              <a:rPr b="1" lang="en-US" sz="2400" spc="-1" strike="noStrike">
                <a:solidFill>
                  <a:srgbClr val="0e088a"/>
                </a:solidFill>
                <a:latin typeface="UnitOT-Regular"/>
              </a:rPr>
              <a:t>Gestión Estratégica Educativa y </a:t>
            </a:r>
            <a:br>
              <a:rPr sz="2400"/>
            </a:br>
            <a:r>
              <a:rPr b="1" lang="en-US" sz="2400" spc="-1" strike="noStrike">
                <a:solidFill>
                  <a:srgbClr val="0e088a"/>
                </a:solidFill>
                <a:latin typeface="UnitOT-Regular"/>
              </a:rPr>
              <a:t>Proyecto de Gestión del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trabajando"/>
          <p:cNvPicPr/>
          <p:nvPr/>
        </p:nvPicPr>
        <p:blipFill>
          <a:blip r:embed="rId1"/>
          <a:stretch/>
        </p:blipFill>
        <p:spPr>
          <a:xfrm>
            <a:off x="684360" y="407664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114200" y="1197000"/>
            <a:ext cx="7345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Lo importante como líder no es lo que sucede cuando usted está supervisando; es lo que sucede cuando usted no está presente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87640" y="391680"/>
            <a:ext cx="3672000" cy="85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Arial"/>
              </a:rPr>
              <a:t>Liderazgo</a:t>
            </a:r>
            <a:endParaRPr b="1" lang="en-US" sz="3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486080"/>
            <a:ext cx="8686800" cy="20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22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l liderazgo es un proceso de influencia.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22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s trabajar con los colaboradores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22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para alcanzar sus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metas personales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y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22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las metas de la organización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42920" y="151920"/>
            <a:ext cx="4537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habilidades de un </a:t>
            </a:r>
            <a:br>
              <a:rPr sz="2800"/>
            </a:b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Líder Situacional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3640" y="1371600"/>
            <a:ext cx="8569080" cy="493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1. Diagnosticar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determinar las necesidades de desarroll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2. Flexibilidad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utilizar una variedad de estilos de liderazg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3. Alianza para el desempeño/Acuerdo sobre el estilo de liderazg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lograr acuerdos con los colaboradores acerca del estilo de liderazgo a utilizar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5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0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990720" y="404640"/>
            <a:ext cx="7162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Arial"/>
              </a:rPr>
              <a:t>Diagnostica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522360" y="14749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ts val="3798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s la disposición y habilidad para observar una situación y evaluar las necesidades de desarrollo de los colaboradores, con el fin de decidir qué estilo de liderazgo utiliz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7" descr="ver"/>
          <p:cNvPicPr/>
          <p:nvPr/>
        </p:nvPicPr>
        <p:blipFill>
          <a:blip r:embed="rId1"/>
          <a:stretch/>
        </p:blipFill>
        <p:spPr>
          <a:xfrm>
            <a:off x="5599080" y="3808440"/>
            <a:ext cx="2789280" cy="278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0000"/>
                </a:solidFill>
                <a:latin typeface="Arial"/>
              </a:rPr>
              <a:t>Nivel de Desarrollo</a:t>
            </a:r>
            <a:endParaRPr b="1" lang="en-US" sz="3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06728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Competencia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130b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30bb1"/>
                </a:solidFill>
                <a:latin typeface="Arial"/>
              </a:rPr>
              <a:t>Compromiso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169" name="Picture 10" descr="Fotolia_7829651_M"/>
          <p:cNvPicPr/>
          <p:nvPr/>
        </p:nvPicPr>
        <p:blipFill>
          <a:blip r:embed="rId1"/>
          <a:stretch/>
        </p:blipFill>
        <p:spPr>
          <a:xfrm>
            <a:off x="684360" y="1773360"/>
            <a:ext cx="360036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7"/>
          <p:cNvPicPr/>
          <p:nvPr/>
        </p:nvPicPr>
        <p:blipFill>
          <a:blip r:embed="rId1"/>
          <a:stretch/>
        </p:blipFill>
        <p:spPr>
          <a:xfrm>
            <a:off x="5786280" y="1749600"/>
            <a:ext cx="3357720" cy="33573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24080" y="26964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0000"/>
                </a:solidFill>
                <a:latin typeface="Arial"/>
              </a:rPr>
              <a:t>Competencia</a:t>
            </a:r>
            <a:endParaRPr b="1" lang="en-US" sz="3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41200" y="1887480"/>
            <a:ext cx="6275520" cy="29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Conocimientos y habilidades para la tarea o meta.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Conocimientos y habilidades transferibles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333399"/>
                </a:solidFill>
                <a:latin typeface="Arial"/>
              </a:rPr>
              <a:t>Compromiso</a:t>
            </a:r>
            <a:endParaRPr b="1" lang="en-US" sz="3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0" y="2359080"/>
            <a:ext cx="4038480" cy="32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Motivación</a:t>
            </a:r>
            <a:endParaRPr b="0" lang="en-US" sz="32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Confianza</a:t>
            </a:r>
            <a:endParaRPr b="0" lang="en-US" sz="32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175" name="Picture 6" descr="15"/>
          <p:cNvPicPr/>
          <p:nvPr/>
        </p:nvPicPr>
        <p:blipFill>
          <a:blip r:embed="rId1"/>
          <a:stretch/>
        </p:blipFill>
        <p:spPr>
          <a:xfrm>
            <a:off x="324000" y="1916280"/>
            <a:ext cx="39528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76360" y="189000"/>
            <a:ext cx="74167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UnitOT-Regular"/>
              </a:rPr>
              <a:t>Niveles de Madurez de los 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UnitOT-Regular"/>
              </a:rPr>
              <a:t>Colaboradores por Tarea / M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826920" y="1773360"/>
          <a:ext cx="7543800" cy="4667040"/>
        </p:xfrm>
        <a:graphic>
          <a:graphicData uri="http://schemas.openxmlformats.org/drawingml/2006/table">
            <a:tbl>
              <a:tblPr/>
              <a:tblGrid>
                <a:gridCol w="1886040"/>
                <a:gridCol w="1886040"/>
                <a:gridCol w="1886040"/>
                <a:gridCol w="1885680"/>
              </a:tblGrid>
              <a:tr h="93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tOT-Regular"/>
                        </a:rPr>
                        <a:t>APREND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tOT-Regular"/>
                        </a:rPr>
                        <a:t>ENTUSIAS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tOT-Regular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tOT-Regular"/>
                        </a:rPr>
                        <a:t>APREND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tOT-Regular"/>
                        </a:rPr>
                        <a:t>DESILUSION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UnitOT-Regular"/>
                        </a:rPr>
                        <a:t>D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e088a"/>
                          </a:solidFill>
                          <a:latin typeface="UnitOT-Regular"/>
                        </a:rPr>
                        <a:t>COMPET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e088a"/>
                          </a:solidFill>
                          <a:latin typeface="UnitOT-Regular"/>
                        </a:rPr>
                        <a:t>INSEGU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e088a"/>
                          </a:solidFill>
                          <a:latin typeface="UnitOT-Regular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e088a"/>
                          </a:solidFill>
                          <a:latin typeface="UnitOT-Regular"/>
                        </a:rPr>
                        <a:t>COMPET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e088a"/>
                          </a:solidFill>
                          <a:latin typeface="UnitOT-Regular"/>
                        </a:rPr>
                        <a:t>AUTÓNO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e088a"/>
                          </a:solidFill>
                          <a:latin typeface="UnitOT-Regular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72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 rot="19528200">
            <a:off x="3704040" y="4725360"/>
            <a:ext cx="26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ROM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9643400">
            <a:off x="2865960" y="3499920"/>
            <a:ext cx="23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6920" y="2992320"/>
            <a:ext cx="7458120" cy="2597400"/>
          </a:xfrm>
          <a:custGeom>
            <a:avLst/>
            <a:gdLst/>
            <a:ahLst/>
            <a:rect l="l" t="t" r="r" b="b"/>
            <a:pathLst>
              <a:path w="4698" h="1636">
                <a:moveTo>
                  <a:pt x="0" y="124"/>
                </a:moveTo>
                <a:cubicBezTo>
                  <a:pt x="15" y="118"/>
                  <a:pt x="64" y="94"/>
                  <a:pt x="92" y="85"/>
                </a:cubicBezTo>
                <a:cubicBezTo>
                  <a:pt x="120" y="76"/>
                  <a:pt x="127" y="70"/>
                  <a:pt x="170" y="72"/>
                </a:cubicBezTo>
                <a:cubicBezTo>
                  <a:pt x="213" y="74"/>
                  <a:pt x="283" y="70"/>
                  <a:pt x="353" y="98"/>
                </a:cubicBezTo>
                <a:cubicBezTo>
                  <a:pt x="423" y="126"/>
                  <a:pt x="502" y="172"/>
                  <a:pt x="589" y="242"/>
                </a:cubicBezTo>
                <a:cubicBezTo>
                  <a:pt x="676" y="312"/>
                  <a:pt x="805" y="439"/>
                  <a:pt x="877" y="517"/>
                </a:cubicBezTo>
                <a:cubicBezTo>
                  <a:pt x="949" y="595"/>
                  <a:pt x="984" y="665"/>
                  <a:pt x="1021" y="713"/>
                </a:cubicBezTo>
                <a:cubicBezTo>
                  <a:pt x="1058" y="761"/>
                  <a:pt x="1070" y="761"/>
                  <a:pt x="1100" y="805"/>
                </a:cubicBezTo>
                <a:cubicBezTo>
                  <a:pt x="1130" y="849"/>
                  <a:pt x="1160" y="901"/>
                  <a:pt x="1204" y="975"/>
                </a:cubicBezTo>
                <a:cubicBezTo>
                  <a:pt x="1248" y="1049"/>
                  <a:pt x="1300" y="1148"/>
                  <a:pt x="1361" y="1250"/>
                </a:cubicBezTo>
                <a:cubicBezTo>
                  <a:pt x="1422" y="1352"/>
                  <a:pt x="1486" y="1544"/>
                  <a:pt x="1571" y="1590"/>
                </a:cubicBezTo>
                <a:cubicBezTo>
                  <a:pt x="1656" y="1636"/>
                  <a:pt x="1722" y="1606"/>
                  <a:pt x="1872" y="1525"/>
                </a:cubicBezTo>
                <a:cubicBezTo>
                  <a:pt x="2022" y="1444"/>
                  <a:pt x="2376" y="1206"/>
                  <a:pt x="2474" y="1106"/>
                </a:cubicBezTo>
                <a:cubicBezTo>
                  <a:pt x="2572" y="1006"/>
                  <a:pt x="2417" y="929"/>
                  <a:pt x="2461" y="923"/>
                </a:cubicBezTo>
                <a:cubicBezTo>
                  <a:pt x="2505" y="917"/>
                  <a:pt x="2721" y="1087"/>
                  <a:pt x="2736" y="1067"/>
                </a:cubicBezTo>
                <a:cubicBezTo>
                  <a:pt x="2751" y="1047"/>
                  <a:pt x="2533" y="809"/>
                  <a:pt x="2553" y="805"/>
                </a:cubicBezTo>
                <a:cubicBezTo>
                  <a:pt x="2573" y="801"/>
                  <a:pt x="2830" y="1046"/>
                  <a:pt x="2854" y="1040"/>
                </a:cubicBezTo>
                <a:cubicBezTo>
                  <a:pt x="2878" y="1034"/>
                  <a:pt x="2677" y="783"/>
                  <a:pt x="2697" y="766"/>
                </a:cubicBezTo>
                <a:cubicBezTo>
                  <a:pt x="2717" y="749"/>
                  <a:pt x="2959" y="949"/>
                  <a:pt x="2972" y="936"/>
                </a:cubicBezTo>
                <a:cubicBezTo>
                  <a:pt x="2985" y="923"/>
                  <a:pt x="2758" y="707"/>
                  <a:pt x="2775" y="687"/>
                </a:cubicBezTo>
                <a:cubicBezTo>
                  <a:pt x="2792" y="667"/>
                  <a:pt x="3052" y="829"/>
                  <a:pt x="3076" y="818"/>
                </a:cubicBezTo>
                <a:cubicBezTo>
                  <a:pt x="3100" y="807"/>
                  <a:pt x="2904" y="646"/>
                  <a:pt x="2919" y="622"/>
                </a:cubicBezTo>
                <a:cubicBezTo>
                  <a:pt x="2934" y="598"/>
                  <a:pt x="3120" y="689"/>
                  <a:pt x="3168" y="674"/>
                </a:cubicBezTo>
                <a:cubicBezTo>
                  <a:pt x="3216" y="659"/>
                  <a:pt x="3096" y="619"/>
                  <a:pt x="3207" y="530"/>
                </a:cubicBezTo>
                <a:cubicBezTo>
                  <a:pt x="3318" y="441"/>
                  <a:pt x="3611" y="224"/>
                  <a:pt x="3836" y="137"/>
                </a:cubicBezTo>
                <a:cubicBezTo>
                  <a:pt x="4061" y="50"/>
                  <a:pt x="4414" y="12"/>
                  <a:pt x="4556" y="6"/>
                </a:cubicBezTo>
                <a:cubicBezTo>
                  <a:pt x="4698" y="0"/>
                  <a:pt x="4660" y="79"/>
                  <a:pt x="4687" y="9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68320" y="2798640"/>
            <a:ext cx="7461360" cy="3006720"/>
          </a:xfrm>
          <a:custGeom>
            <a:avLst/>
            <a:gdLst/>
            <a:ahLst/>
            <a:rect l="l" t="t" r="r" b="b"/>
            <a:pathLst>
              <a:path w="4700" h="1894">
                <a:moveTo>
                  <a:pt x="0" y="1894"/>
                </a:moveTo>
                <a:cubicBezTo>
                  <a:pt x="144" y="1846"/>
                  <a:pt x="559" y="1754"/>
                  <a:pt x="864" y="1593"/>
                </a:cubicBezTo>
                <a:cubicBezTo>
                  <a:pt x="1169" y="1432"/>
                  <a:pt x="1593" y="1092"/>
                  <a:pt x="1833" y="926"/>
                </a:cubicBezTo>
                <a:cubicBezTo>
                  <a:pt x="2073" y="760"/>
                  <a:pt x="2112" y="711"/>
                  <a:pt x="2304" y="598"/>
                </a:cubicBezTo>
                <a:cubicBezTo>
                  <a:pt x="2496" y="485"/>
                  <a:pt x="2697" y="341"/>
                  <a:pt x="2985" y="245"/>
                </a:cubicBezTo>
                <a:cubicBezTo>
                  <a:pt x="3273" y="149"/>
                  <a:pt x="3746" y="44"/>
                  <a:pt x="4032" y="22"/>
                </a:cubicBezTo>
                <a:cubicBezTo>
                  <a:pt x="4318" y="0"/>
                  <a:pt x="4561" y="95"/>
                  <a:pt x="4700" y="114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35280" y="1519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Las necesidades de un D1</a:t>
            </a:r>
            <a:endParaRPr b="1" lang="en-US" sz="34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183" name="Picture 4" descr="2365514672_60a54f915c"/>
          <p:cNvPicPr/>
          <p:nvPr/>
        </p:nvPicPr>
        <p:blipFill>
          <a:blip r:embed="rId1"/>
          <a:stretch/>
        </p:blipFill>
        <p:spPr>
          <a:xfrm>
            <a:off x="7545240" y="3645000"/>
            <a:ext cx="1501920" cy="310176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Reconocimiento del entusiasmo y de las habilidades transferible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Metas clar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Normas que definan qué es un trabajo bien hech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Información acerca de cómo se registrarán y comunicarán los datos relativos al desempeñ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Conocimiento de las reglas no escritas sobre “cómo funcionan las cosas por aquí”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Información sobre la tarea y la organización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2364682039_b5bac31669"/>
          <p:cNvPicPr/>
          <p:nvPr/>
        </p:nvPicPr>
        <p:blipFill>
          <a:blip r:embed="rId1"/>
          <a:stretch/>
        </p:blipFill>
        <p:spPr>
          <a:xfrm>
            <a:off x="4788000" y="24210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050560" y="151920"/>
            <a:ext cx="6775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Las necesidades de un D2</a:t>
            </a:r>
            <a:endParaRPr b="1" lang="en-US" sz="34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Metas clar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Perspectiva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Retroalimentación frecuente sobre los resultado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Elogio ante el progreso manifiest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Sentir que los errores son comprendido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54160" y="188640"/>
            <a:ext cx="4857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Objetivos de la asignatura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11920" indent="-511920" algn="just">
              <a:lnSpc>
                <a:spcPct val="8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e088a"/>
                </a:solidFill>
                <a:latin typeface="UnitOT-Regular"/>
              </a:rPr>
              <a:t>Entregar a los participantes distinciones y modelos que les permitan comprender  y mejorar la gestión de personas, atendiendo a las complejidades inherentes al contexto educacional públic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511920" indent="0" algn="just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511920" indent="-511920" algn="just">
              <a:lnSpc>
                <a:spcPct val="8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e088a"/>
                </a:solidFill>
                <a:latin typeface="UnitOT-Regular"/>
              </a:rPr>
              <a:t>Entregar herramientas para el autodiagnóstico de los estilos de liderazgo y para el diagnóstico del nivel de desarrollo de los colaboradore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511920" indent="0" algn="just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511920" indent="-511920" algn="just">
              <a:lnSpc>
                <a:spcPct val="8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e088a"/>
                </a:solidFill>
                <a:latin typeface="UnitOT-Regular"/>
              </a:rPr>
              <a:t>Discutir respecto a la importancia de ser flexible y adaptable en relación al estilo de liderazgo, en lo que respecta a los niveles de desarrollo del colaborador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511920" indent="0" algn="just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511920" indent="-511920" algn="just">
              <a:lnSpc>
                <a:spcPct val="8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e088a"/>
                </a:solidFill>
                <a:latin typeface="UnitOT-Regular"/>
              </a:rPr>
              <a:t>Entregar las herramientas necesarias para </a:t>
            </a:r>
            <a:r>
              <a:rPr b="0" lang="es-ES_tradnl" sz="2000" spc="-1" strike="noStrike">
                <a:solidFill>
                  <a:srgbClr val="0e088a"/>
                </a:solidFill>
                <a:latin typeface="UnitOT-Regular"/>
              </a:rPr>
              <a:t>diagnosticar y gestionar en forma efectiva los problemas más comunes que surgen en las situaciones de trabajo en equipo, basados en las propiedades que caracterizan a los equipos de alto rendimient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511920" indent="0" algn="just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511920" indent="-511920" algn="just">
              <a:lnSpc>
                <a:spcPct val="8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e088a"/>
                </a:solidFill>
                <a:latin typeface="UnitOT-Regular"/>
              </a:rPr>
              <a:t>Analizar los distintos modos de enfrentamiento de conflictos, así como cuáles son los más apropiados para el contexto particular en el que se desenvuelven los participante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07640" y="151920"/>
            <a:ext cx="64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Las necesidades de un D3</a:t>
            </a:r>
            <a:endParaRPr b="1" lang="en-US" sz="34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189" name="Picture 4" descr="2365498558_25b23fee5f"/>
          <p:cNvPicPr/>
          <p:nvPr/>
        </p:nvPicPr>
        <p:blipFill>
          <a:blip r:embed="rId1"/>
          <a:stretch/>
        </p:blipFill>
        <p:spPr>
          <a:xfrm>
            <a:off x="6156360" y="3716280"/>
            <a:ext cx="2952720" cy="29527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3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Un consejero o asesor accesible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Oportunidades para expresar las preocupacione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Apoyo y estímulo para desarrollar habilidades para la solución de problem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Retroalimentación marginal que le ayude a mejorar el desempeño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2365515172_dfd88da3f7"/>
          <p:cNvPicPr/>
          <p:nvPr/>
        </p:nvPicPr>
        <p:blipFill>
          <a:blip r:embed="rId1"/>
          <a:stretch/>
        </p:blipFill>
        <p:spPr>
          <a:xfrm>
            <a:off x="4854600" y="26370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07640" y="151920"/>
            <a:ext cx="64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Las necesidades de un D4</a:t>
            </a:r>
            <a:endParaRPr b="1" lang="en-US" sz="34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Diversidad y desafío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 líder que sea un consejero y colega más que un jefe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Reconocimiento de sus contribuciones. 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utonomía y autoridad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fianza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6836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Arial"/>
              </a:rPr>
              <a:t>Flexibilidad</a:t>
            </a:r>
            <a:endParaRPr b="1" lang="en-US" sz="3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570800" cy="273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habilidad para utilizar con naturalidad una variedad de</a:t>
            </a:r>
            <a:endParaRPr b="0" lang="en-US" sz="32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ilos de liderazgo.</a:t>
            </a:r>
            <a:endParaRPr b="0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196" name="Picture 4" descr="2137737248_e9f3e429d1"/>
          <p:cNvPicPr/>
          <p:nvPr/>
        </p:nvPicPr>
        <p:blipFill>
          <a:blip r:embed="rId1"/>
          <a:stretch/>
        </p:blipFill>
        <p:spPr>
          <a:xfrm>
            <a:off x="5457960" y="3524400"/>
            <a:ext cx="3217680" cy="3217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Arial"/>
              </a:rPr>
              <a:t>COMPORTAMIENTO</a:t>
            </a:r>
            <a:endParaRPr b="1" lang="en-US" sz="34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5160" y="1197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DIRECCIÓN</a:t>
            </a:r>
            <a:r>
              <a:rPr b="1" lang="es-ES_tradnl" sz="2800" spc="-1" strike="noStrike">
                <a:solidFill>
                  <a:srgbClr val="0e088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APOYO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199" name="Picture 4" descr="Fotolia_7829651_M"/>
          <p:cNvPicPr/>
          <p:nvPr/>
        </p:nvPicPr>
        <p:blipFill>
          <a:blip r:embed="rId1"/>
          <a:stretch/>
        </p:blipFill>
        <p:spPr>
          <a:xfrm>
            <a:off x="684360" y="1773360"/>
            <a:ext cx="360036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771640" y="151920"/>
            <a:ext cx="5275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Comportamiento </a:t>
            </a:r>
            <a:r>
              <a:rPr b="1" lang="es-CL" sz="3000" spc="-1" strike="noStrike">
                <a:solidFill>
                  <a:srgbClr val="ff0000"/>
                </a:solidFill>
                <a:latin typeface="Arial"/>
              </a:rPr>
              <a:t>Directivo</a:t>
            </a:r>
            <a:endParaRPr b="1" lang="en-US" sz="30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201" name="Picture 10" descr="2364683065_f769bc7caf"/>
          <p:cNvPicPr/>
          <p:nvPr/>
        </p:nvPicPr>
        <p:blipFill>
          <a:blip r:embed="rId1"/>
          <a:stretch/>
        </p:blipFill>
        <p:spPr>
          <a:xfrm>
            <a:off x="4997520" y="2774880"/>
            <a:ext cx="4038480" cy="40388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s el grado en que un líder: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UnitOT-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UnitOT-Regular"/>
              </a:rPr>
              <a:t>Le dice al colaborador qué hacer, cuándo y cómo hacerlo.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UnitOT-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UnitOT-Regular"/>
              </a:rPr>
              <a:t>Define los papeles del líder y del colaborador.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UnitOT-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UnitOT-Regular"/>
              </a:rPr>
              <a:t>Supervisa de cerca el desempeño.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ransition>
    <p:dissolve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8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1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4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7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71280" y="1519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Comportamiento de </a:t>
            </a:r>
            <a:r>
              <a:rPr b="1" lang="es-CL" sz="3000" spc="-1" strike="noStrike">
                <a:solidFill>
                  <a:srgbClr val="333399"/>
                </a:solidFill>
                <a:latin typeface="Arial"/>
              </a:rPr>
              <a:t>Apoyo</a:t>
            </a:r>
            <a:endParaRPr b="1" lang="en-US" sz="30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204" name="Picture 7" descr="2364665429_fefa9e071e"/>
          <p:cNvPicPr/>
          <p:nvPr/>
        </p:nvPicPr>
        <p:blipFill>
          <a:blip r:embed="rId1"/>
          <a:stretch/>
        </p:blipFill>
        <p:spPr>
          <a:xfrm>
            <a:off x="6443640" y="4510080"/>
            <a:ext cx="2592360" cy="23036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14280" y="1197000"/>
            <a:ext cx="8794800" cy="338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542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s el grado en que un líder: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881640" indent="-474480">
              <a:spcBef>
                <a:spcPts val="700"/>
              </a:spcBef>
              <a:buClr>
                <a:srgbClr val="333399"/>
              </a:buClr>
              <a:buFont typeface="UnitOT-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UnitOT-Regular"/>
              </a:rPr>
              <a:t>Se compromete más en la comunicación bilateral.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1" marL="881640" indent="-474480">
              <a:spcBef>
                <a:spcPts val="700"/>
              </a:spcBef>
              <a:buClr>
                <a:srgbClr val="333399"/>
              </a:buClr>
              <a:buFont typeface="UnitOT-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UnitOT-Regular"/>
              </a:rPr>
              <a:t>Escucha y proporciona apoyo y estímulo.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1" marL="881640" indent="-474480">
              <a:spcBef>
                <a:spcPts val="700"/>
              </a:spcBef>
              <a:buClr>
                <a:srgbClr val="333399"/>
              </a:buClr>
              <a:buFont typeface="UnitOT-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UnitOT-Regular"/>
              </a:rPr>
              <a:t>Involucra al colaborador en la toma de decisiones.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1" marL="881640" indent="-474480">
              <a:spcBef>
                <a:spcPts val="700"/>
              </a:spcBef>
              <a:buClr>
                <a:srgbClr val="333399"/>
              </a:buClr>
              <a:buFont typeface="UnitOT-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UnitOT-Regular"/>
              </a:rPr>
              <a:t>Estimula y facilita la autonomía en la solución de problemas.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ransition>
    <p:dissolve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0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3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9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2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8436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Arial"/>
              </a:rPr>
              <a:t>Estilo de liderazgo</a:t>
            </a:r>
            <a:endParaRPr b="1" lang="en-US" sz="3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6920" y="1495440"/>
            <a:ext cx="73663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3498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e088a"/>
                </a:solidFill>
                <a:latin typeface="Arial"/>
              </a:rPr>
              <a:t>Percepción de sus colaboradores respecto al patrón de comportamientos que usted utiliza con ellos.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208" name="Picture 4" descr="lider_3"/>
          <p:cNvPicPr/>
          <p:nvPr/>
        </p:nvPicPr>
        <p:blipFill>
          <a:blip r:embed="rId1"/>
          <a:stretch/>
        </p:blipFill>
        <p:spPr>
          <a:xfrm>
            <a:off x="2629080" y="3922560"/>
            <a:ext cx="4038480" cy="220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2"/>
          <p:cNvGrpSpPr/>
          <p:nvPr/>
        </p:nvGrpSpPr>
        <p:grpSpPr>
          <a:xfrm>
            <a:off x="2771640" y="380880"/>
            <a:ext cx="6164280" cy="600120"/>
            <a:chOff x="2771640" y="380880"/>
            <a:chExt cx="6164280" cy="600120"/>
          </a:xfrm>
        </p:grpSpPr>
        <p:sp>
          <p:nvSpPr>
            <p:cNvPr id="210" name="Rectangle 3"/>
            <p:cNvSpPr/>
            <p:nvPr/>
          </p:nvSpPr>
          <p:spPr>
            <a:xfrm>
              <a:off x="2771640" y="404640"/>
              <a:ext cx="61642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Los 4 Estilos de Liderazg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1" name="Object 4"/>
            <p:cNvGraphicFramePr/>
            <p:nvPr/>
          </p:nvGraphicFramePr>
          <p:xfrm>
            <a:off x="7552800" y="380880"/>
            <a:ext cx="657000" cy="1148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2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52800" y="380880"/>
                      <a:ext cx="657000" cy="11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3" name="Line 15"/>
          <p:cNvSpPr/>
          <p:nvPr/>
        </p:nvSpPr>
        <p:spPr>
          <a:xfrm flipV="1">
            <a:off x="2058840" y="1846440"/>
            <a:ext cx="0" cy="4146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6"/>
          <p:cNvSpPr/>
          <p:nvPr/>
        </p:nvSpPr>
        <p:spPr>
          <a:xfrm>
            <a:off x="2327400" y="6237360"/>
            <a:ext cx="39798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7"/>
          <p:cNvSpPr/>
          <p:nvPr/>
        </p:nvSpPr>
        <p:spPr>
          <a:xfrm flipV="1">
            <a:off x="1473120" y="1942920"/>
            <a:ext cx="4680" cy="4081320"/>
          </a:xfrm>
          <a:prstGeom prst="line">
            <a:avLst/>
          </a:prstGeom>
          <a:ln w="25560">
            <a:solidFill>
              <a:srgbClr val="130b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8"/>
          <p:cNvSpPr/>
          <p:nvPr/>
        </p:nvSpPr>
        <p:spPr>
          <a:xfrm>
            <a:off x="1795320" y="3719520"/>
            <a:ext cx="2698920" cy="25210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9"/>
          <p:cNvSpPr/>
          <p:nvPr/>
        </p:nvSpPr>
        <p:spPr>
          <a:xfrm>
            <a:off x="1806480" y="1222200"/>
            <a:ext cx="2687760" cy="24591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0"/>
          <p:cNvSpPr/>
          <p:nvPr/>
        </p:nvSpPr>
        <p:spPr>
          <a:xfrm>
            <a:off x="4471920" y="1235160"/>
            <a:ext cx="2751120" cy="245880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2157480" y="6473880"/>
            <a:ext cx="49878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2"/>
          <p:cNvSpPr/>
          <p:nvPr/>
        </p:nvSpPr>
        <p:spPr>
          <a:xfrm>
            <a:off x="832680" y="6299280"/>
            <a:ext cx="7286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(Bajo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3"/>
          <p:cNvSpPr/>
          <p:nvPr/>
        </p:nvSpPr>
        <p:spPr>
          <a:xfrm>
            <a:off x="7688160" y="6145200"/>
            <a:ext cx="698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(Alto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4"/>
          <p:cNvSpPr/>
          <p:nvPr/>
        </p:nvSpPr>
        <p:spPr>
          <a:xfrm>
            <a:off x="2977920" y="6497640"/>
            <a:ext cx="2541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ahoma"/>
              </a:rPr>
              <a:t>COMPORTAMIENTO DIREC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5"/>
          <p:cNvSpPr/>
          <p:nvPr/>
        </p:nvSpPr>
        <p:spPr>
          <a:xfrm>
            <a:off x="774720" y="1293840"/>
            <a:ext cx="698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(Alto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9"/>
          <p:cNvSpPr/>
          <p:nvPr/>
        </p:nvSpPr>
        <p:spPr>
          <a:xfrm rot="16200000">
            <a:off x="-149400" y="3867120"/>
            <a:ext cx="2494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130bb1"/>
                </a:solidFill>
                <a:latin typeface="Tahoma"/>
              </a:rPr>
              <a:t>COMPORTAMIENTO</a:t>
            </a: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200" spc="-1" strike="noStrike">
                <a:solidFill>
                  <a:srgbClr val="130bb1"/>
                </a:solidFill>
                <a:latin typeface="Tahoma"/>
              </a:rPr>
              <a:t>DE AP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7"/>
          <p:cNvSpPr/>
          <p:nvPr/>
        </p:nvSpPr>
        <p:spPr>
          <a:xfrm>
            <a:off x="4486320" y="3679920"/>
            <a:ext cx="2736720" cy="25225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8"/>
          <p:cNvSpPr/>
          <p:nvPr/>
        </p:nvSpPr>
        <p:spPr>
          <a:xfrm>
            <a:off x="1773360" y="1197000"/>
            <a:ext cx="5446440" cy="5013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9"/>
          <p:cNvSpPr/>
          <p:nvPr/>
        </p:nvSpPr>
        <p:spPr>
          <a:xfrm>
            <a:off x="2413080" y="5078520"/>
            <a:ext cx="188712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Comport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bajo en apoyo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bajo en dire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2"/>
          <p:cNvSpPr/>
          <p:nvPr/>
        </p:nvSpPr>
        <p:spPr>
          <a:xfrm>
            <a:off x="4666320" y="5078520"/>
            <a:ext cx="205920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Comportami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alto en dirección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bajo en apoy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33"/>
          <p:cNvSpPr/>
          <p:nvPr/>
        </p:nvSpPr>
        <p:spPr>
          <a:xfrm>
            <a:off x="4427640" y="1574640"/>
            <a:ext cx="2714400" cy="3603960"/>
          </a:xfrm>
          <a:prstGeom prst="pie">
            <a:avLst/>
          </a:prstGeom>
          <a:solidFill>
            <a:srgbClr val="cecece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34"/>
          <p:cNvSpPr/>
          <p:nvPr/>
        </p:nvSpPr>
        <p:spPr>
          <a:xfrm>
            <a:off x="1857240" y="1574640"/>
            <a:ext cx="2641680" cy="3603960"/>
          </a:xfrm>
          <a:prstGeom prst="pie">
            <a:avLst/>
          </a:prstGeom>
          <a:solidFill>
            <a:srgbClr val="cecece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5"/>
          <p:cNvSpPr/>
          <p:nvPr/>
        </p:nvSpPr>
        <p:spPr>
          <a:xfrm>
            <a:off x="2278080" y="2576520"/>
            <a:ext cx="1812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ahoma"/>
              </a:rPr>
              <a:t>Apoy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6"/>
          <p:cNvSpPr/>
          <p:nvPr/>
        </p:nvSpPr>
        <p:spPr>
          <a:xfrm>
            <a:off x="5038560" y="4216320"/>
            <a:ext cx="1812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rig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7"/>
          <p:cNvSpPr/>
          <p:nvPr/>
        </p:nvSpPr>
        <p:spPr>
          <a:xfrm>
            <a:off x="4932360" y="2576520"/>
            <a:ext cx="1809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ahoma"/>
              </a:rPr>
              <a:t>Orien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8"/>
          <p:cNvSpPr/>
          <p:nvPr/>
        </p:nvSpPr>
        <p:spPr>
          <a:xfrm>
            <a:off x="2166840" y="4216320"/>
            <a:ext cx="181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ahoma"/>
              </a:rPr>
              <a:t>Dele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1"/>
          <p:cNvSpPr/>
          <p:nvPr/>
        </p:nvSpPr>
        <p:spPr>
          <a:xfrm>
            <a:off x="5153400" y="1231920"/>
            <a:ext cx="200592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Comport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alto en dirección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alto en apoy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0"/>
          <p:cNvSpPr/>
          <p:nvPr/>
        </p:nvSpPr>
        <p:spPr>
          <a:xfrm>
            <a:off x="1783440" y="1220760"/>
            <a:ext cx="194040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Comportami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alto en apoyo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bajo en dire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Oval 2"/>
          <p:cNvSpPr/>
          <p:nvPr/>
        </p:nvSpPr>
        <p:spPr>
          <a:xfrm>
            <a:off x="6378480" y="3211560"/>
            <a:ext cx="209520" cy="112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3"/>
          <p:cNvSpPr/>
          <p:nvPr/>
        </p:nvSpPr>
        <p:spPr>
          <a:xfrm>
            <a:off x="6491160" y="2403360"/>
            <a:ext cx="149400" cy="88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4"/>
          <p:cNvSpPr/>
          <p:nvPr/>
        </p:nvSpPr>
        <p:spPr>
          <a:xfrm>
            <a:off x="7716960" y="2665440"/>
            <a:ext cx="110880" cy="225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465280" y="43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  <a:ea typeface="Arial"/>
              </a:rPr>
              <a:t>EL MODELO INTEGRADO</a:t>
            </a:r>
            <a:endParaRPr b="1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41" name="Marcador de número de diapositiva 3"/>
          <p:cNvSpPr/>
          <p:nvPr/>
        </p:nvSpPr>
        <p:spPr>
          <a:xfrm>
            <a:off x="6438960" y="629280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0F9A-6B93-4C8C-B534-7043F4741A62}" type="slidenum">
              <a:rPr b="0" lang="es-ES" sz="900" spc="-1" strike="noStrike">
                <a:solidFill>
                  <a:srgbClr val="808080"/>
                </a:solidFill>
                <a:latin typeface="UnitOT-Regular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7"/>
          <p:cNvGrpSpPr/>
          <p:nvPr/>
        </p:nvGrpSpPr>
        <p:grpSpPr>
          <a:xfrm>
            <a:off x="250920" y="1612800"/>
            <a:ext cx="4200480" cy="2824200"/>
            <a:chOff x="250920" y="1612800"/>
            <a:chExt cx="4200480" cy="2824200"/>
          </a:xfrm>
        </p:grpSpPr>
        <p:sp>
          <p:nvSpPr>
            <p:cNvPr id="243" name="Rectangle 8"/>
            <p:cNvSpPr/>
            <p:nvPr/>
          </p:nvSpPr>
          <p:spPr>
            <a:xfrm>
              <a:off x="3402000" y="3210840"/>
              <a:ext cx="1049400" cy="12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9"/>
            <p:cNvSpPr/>
            <p:nvPr/>
          </p:nvSpPr>
          <p:spPr>
            <a:xfrm>
              <a:off x="2351160" y="3210840"/>
              <a:ext cx="1050840" cy="12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0"/>
            <p:cNvSpPr/>
            <p:nvPr/>
          </p:nvSpPr>
          <p:spPr>
            <a:xfrm>
              <a:off x="1301760" y="3210840"/>
              <a:ext cx="1049400" cy="12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1"/>
            <p:cNvSpPr/>
            <p:nvPr/>
          </p:nvSpPr>
          <p:spPr>
            <a:xfrm>
              <a:off x="250920" y="3210840"/>
              <a:ext cx="1050840" cy="12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2"/>
            <p:cNvSpPr/>
            <p:nvPr/>
          </p:nvSpPr>
          <p:spPr>
            <a:xfrm>
              <a:off x="3402000" y="2153520"/>
              <a:ext cx="1049400" cy="10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3"/>
            <p:cNvSpPr/>
            <p:nvPr/>
          </p:nvSpPr>
          <p:spPr>
            <a:xfrm>
              <a:off x="2351160" y="2153520"/>
              <a:ext cx="1050840" cy="10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4"/>
            <p:cNvSpPr/>
            <p:nvPr/>
          </p:nvSpPr>
          <p:spPr>
            <a:xfrm>
              <a:off x="1301760" y="2153520"/>
              <a:ext cx="1049400" cy="10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5"/>
            <p:cNvSpPr/>
            <p:nvPr/>
          </p:nvSpPr>
          <p:spPr>
            <a:xfrm>
              <a:off x="250920" y="2153520"/>
              <a:ext cx="1050840" cy="10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6"/>
            <p:cNvSpPr/>
            <p:nvPr/>
          </p:nvSpPr>
          <p:spPr>
            <a:xfrm>
              <a:off x="3402000" y="1612800"/>
              <a:ext cx="1049400" cy="5407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COMPETEN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AUTÓNOM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D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7"/>
            <p:cNvSpPr/>
            <p:nvPr/>
          </p:nvSpPr>
          <p:spPr>
            <a:xfrm>
              <a:off x="2351160" y="1612800"/>
              <a:ext cx="1050840" cy="540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COMPETEN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INSEGUR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800" spc="-1" strike="noStrike">
                  <a:solidFill>
                    <a:srgbClr val="003399"/>
                  </a:solidFill>
                  <a:latin typeface="Arial"/>
                </a:rPr>
                <a:t>D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8"/>
            <p:cNvSpPr/>
            <p:nvPr/>
          </p:nvSpPr>
          <p:spPr>
            <a:xfrm>
              <a:off x="1301760" y="1612800"/>
              <a:ext cx="1049400" cy="5407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APRENDI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DESILUSIONAD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D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9"/>
            <p:cNvSpPr/>
            <p:nvPr/>
          </p:nvSpPr>
          <p:spPr>
            <a:xfrm>
              <a:off x="250920" y="1612800"/>
              <a:ext cx="1050840" cy="54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PRENDIZ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ENTUSIASTA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D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0"/>
            <p:cNvSpPr/>
            <p:nvPr/>
          </p:nvSpPr>
          <p:spPr>
            <a:xfrm>
              <a:off x="250920" y="2153520"/>
              <a:ext cx="42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1"/>
            <p:cNvSpPr/>
            <p:nvPr/>
          </p:nvSpPr>
          <p:spPr>
            <a:xfrm>
              <a:off x="250920" y="3210840"/>
              <a:ext cx="42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2"/>
            <p:cNvSpPr/>
            <p:nvPr/>
          </p:nvSpPr>
          <p:spPr>
            <a:xfrm>
              <a:off x="1301760" y="1612800"/>
              <a:ext cx="0" cy="28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3"/>
            <p:cNvSpPr/>
            <p:nvPr/>
          </p:nvSpPr>
          <p:spPr>
            <a:xfrm>
              <a:off x="2351160" y="1612800"/>
              <a:ext cx="0" cy="28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4"/>
            <p:cNvSpPr/>
            <p:nvPr/>
          </p:nvSpPr>
          <p:spPr>
            <a:xfrm>
              <a:off x="3402000" y="1612800"/>
              <a:ext cx="0" cy="28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5"/>
            <p:cNvSpPr/>
            <p:nvPr/>
          </p:nvSpPr>
          <p:spPr>
            <a:xfrm>
              <a:off x="250920" y="1612800"/>
              <a:ext cx="42004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6"/>
            <p:cNvSpPr/>
            <p:nvPr/>
          </p:nvSpPr>
          <p:spPr>
            <a:xfrm>
              <a:off x="250920" y="1612800"/>
              <a:ext cx="0" cy="28242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7"/>
            <p:cNvSpPr/>
            <p:nvPr/>
          </p:nvSpPr>
          <p:spPr>
            <a:xfrm>
              <a:off x="4451400" y="1612800"/>
              <a:ext cx="0" cy="28242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8"/>
            <p:cNvSpPr/>
            <p:nvPr/>
          </p:nvSpPr>
          <p:spPr>
            <a:xfrm>
              <a:off x="250920" y="4437000"/>
              <a:ext cx="42004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29"/>
            <p:cNvSpPr/>
            <p:nvPr/>
          </p:nvSpPr>
          <p:spPr>
            <a:xfrm rot="19528200">
              <a:off x="1862640" y="3494520"/>
              <a:ext cx="145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3399"/>
                  </a:solidFill>
                  <a:latin typeface="Arial"/>
                  <a:ea typeface="ＭＳ Ｐゴシック"/>
                </a:rPr>
                <a:t>COMPROMIS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30"/>
            <p:cNvSpPr/>
            <p:nvPr/>
          </p:nvSpPr>
          <p:spPr>
            <a:xfrm rot="19643400">
              <a:off x="1263960" y="2710440"/>
              <a:ext cx="145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3399"/>
                  </a:solidFill>
                  <a:latin typeface="Arial"/>
                  <a:ea typeface="ＭＳ Ｐゴシック"/>
                </a:rPr>
                <a:t>COMPETENCIA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31"/>
            <p:cNvSpPr/>
            <p:nvPr/>
          </p:nvSpPr>
          <p:spPr>
            <a:xfrm>
              <a:off x="289080" y="2363400"/>
              <a:ext cx="4152600" cy="1590480"/>
            </a:xfrm>
            <a:custGeom>
              <a:avLst/>
              <a:gdLst>
                <a:gd name="textAreaLeft" fmla="*/ 0 w 4152600"/>
                <a:gd name="textAreaRight" fmla="*/ 4152960 w 4152600"/>
                <a:gd name="textAreaTop" fmla="*/ 0 h 1590480"/>
                <a:gd name="textAreaBottom" fmla="*/ 1590840 h 1590480"/>
              </a:gdLst>
              <a:ahLst/>
              <a:rect l="textAreaLeft" t="textAreaTop" r="textAreaRight" b="textAreaBottom"/>
              <a:pathLst>
                <a:path w="4698" h="1636">
                  <a:moveTo>
                    <a:pt x="0" y="124"/>
                  </a:moveTo>
                  <a:cubicBezTo>
                    <a:pt x="15" y="118"/>
                    <a:pt x="64" y="94"/>
                    <a:pt x="92" y="85"/>
                  </a:cubicBezTo>
                  <a:cubicBezTo>
                    <a:pt x="120" y="76"/>
                    <a:pt x="127" y="70"/>
                    <a:pt x="170" y="72"/>
                  </a:cubicBezTo>
                  <a:cubicBezTo>
                    <a:pt x="213" y="74"/>
                    <a:pt x="283" y="70"/>
                    <a:pt x="353" y="98"/>
                  </a:cubicBezTo>
                  <a:cubicBezTo>
                    <a:pt x="423" y="126"/>
                    <a:pt x="502" y="172"/>
                    <a:pt x="589" y="242"/>
                  </a:cubicBezTo>
                  <a:cubicBezTo>
                    <a:pt x="676" y="312"/>
                    <a:pt x="805" y="439"/>
                    <a:pt x="877" y="517"/>
                  </a:cubicBezTo>
                  <a:cubicBezTo>
                    <a:pt x="949" y="595"/>
                    <a:pt x="984" y="665"/>
                    <a:pt x="1021" y="713"/>
                  </a:cubicBezTo>
                  <a:cubicBezTo>
                    <a:pt x="1058" y="761"/>
                    <a:pt x="1070" y="761"/>
                    <a:pt x="1100" y="805"/>
                  </a:cubicBezTo>
                  <a:cubicBezTo>
                    <a:pt x="1130" y="849"/>
                    <a:pt x="1160" y="901"/>
                    <a:pt x="1204" y="975"/>
                  </a:cubicBezTo>
                  <a:cubicBezTo>
                    <a:pt x="1248" y="1049"/>
                    <a:pt x="1300" y="1148"/>
                    <a:pt x="1361" y="1250"/>
                  </a:cubicBezTo>
                  <a:cubicBezTo>
                    <a:pt x="1422" y="1352"/>
                    <a:pt x="1486" y="1544"/>
                    <a:pt x="1571" y="1590"/>
                  </a:cubicBezTo>
                  <a:cubicBezTo>
                    <a:pt x="1656" y="1636"/>
                    <a:pt x="1722" y="1606"/>
                    <a:pt x="1872" y="1525"/>
                  </a:cubicBezTo>
                  <a:cubicBezTo>
                    <a:pt x="2022" y="1444"/>
                    <a:pt x="2376" y="1206"/>
                    <a:pt x="2474" y="1106"/>
                  </a:cubicBezTo>
                  <a:cubicBezTo>
                    <a:pt x="2572" y="1006"/>
                    <a:pt x="2417" y="929"/>
                    <a:pt x="2461" y="923"/>
                  </a:cubicBezTo>
                  <a:cubicBezTo>
                    <a:pt x="2505" y="917"/>
                    <a:pt x="2721" y="1087"/>
                    <a:pt x="2736" y="1067"/>
                  </a:cubicBezTo>
                  <a:cubicBezTo>
                    <a:pt x="2751" y="1047"/>
                    <a:pt x="2533" y="809"/>
                    <a:pt x="2553" y="805"/>
                  </a:cubicBezTo>
                  <a:cubicBezTo>
                    <a:pt x="2573" y="801"/>
                    <a:pt x="2830" y="1046"/>
                    <a:pt x="2854" y="1040"/>
                  </a:cubicBezTo>
                  <a:cubicBezTo>
                    <a:pt x="2878" y="1034"/>
                    <a:pt x="2677" y="783"/>
                    <a:pt x="2697" y="766"/>
                  </a:cubicBezTo>
                  <a:cubicBezTo>
                    <a:pt x="2717" y="749"/>
                    <a:pt x="2959" y="949"/>
                    <a:pt x="2972" y="936"/>
                  </a:cubicBezTo>
                  <a:cubicBezTo>
                    <a:pt x="2985" y="923"/>
                    <a:pt x="2758" y="707"/>
                    <a:pt x="2775" y="687"/>
                  </a:cubicBezTo>
                  <a:cubicBezTo>
                    <a:pt x="2792" y="667"/>
                    <a:pt x="3052" y="829"/>
                    <a:pt x="3076" y="818"/>
                  </a:cubicBezTo>
                  <a:cubicBezTo>
                    <a:pt x="3100" y="807"/>
                    <a:pt x="2904" y="646"/>
                    <a:pt x="2919" y="622"/>
                  </a:cubicBezTo>
                  <a:cubicBezTo>
                    <a:pt x="2934" y="598"/>
                    <a:pt x="3120" y="689"/>
                    <a:pt x="3168" y="674"/>
                  </a:cubicBezTo>
                  <a:cubicBezTo>
                    <a:pt x="3216" y="659"/>
                    <a:pt x="3096" y="619"/>
                    <a:pt x="3207" y="530"/>
                  </a:cubicBezTo>
                  <a:cubicBezTo>
                    <a:pt x="3318" y="441"/>
                    <a:pt x="3611" y="224"/>
                    <a:pt x="3836" y="137"/>
                  </a:cubicBezTo>
                  <a:cubicBezTo>
                    <a:pt x="4061" y="50"/>
                    <a:pt x="4414" y="12"/>
                    <a:pt x="4556" y="6"/>
                  </a:cubicBezTo>
                  <a:cubicBezTo>
                    <a:pt x="4698" y="0"/>
                    <a:pt x="4660" y="79"/>
                    <a:pt x="4687" y="98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32"/>
            <p:cNvSpPr/>
            <p:nvPr/>
          </p:nvSpPr>
          <p:spPr>
            <a:xfrm>
              <a:off x="281160" y="2189880"/>
              <a:ext cx="4155840" cy="1841040"/>
            </a:xfrm>
            <a:custGeom>
              <a:avLst/>
              <a:gdLst>
                <a:gd name="textAreaLeft" fmla="*/ 0 w 4155840"/>
                <a:gd name="textAreaRight" fmla="*/ 4156200 w 4155840"/>
                <a:gd name="textAreaTop" fmla="*/ 0 h 1841040"/>
                <a:gd name="textAreaBottom" fmla="*/ 1841400 h 1841040"/>
              </a:gdLst>
              <a:ahLst/>
              <a:rect l="textAreaLeft" t="textAreaTop" r="textAreaRight" b="textAreaBottom"/>
              <a:pathLst>
                <a:path w="4700" h="1894">
                  <a:moveTo>
                    <a:pt x="0" y="1894"/>
                  </a:moveTo>
                  <a:cubicBezTo>
                    <a:pt x="144" y="1846"/>
                    <a:pt x="559" y="1754"/>
                    <a:pt x="864" y="1593"/>
                  </a:cubicBezTo>
                  <a:cubicBezTo>
                    <a:pt x="1169" y="1432"/>
                    <a:pt x="1593" y="1092"/>
                    <a:pt x="1833" y="926"/>
                  </a:cubicBezTo>
                  <a:cubicBezTo>
                    <a:pt x="2073" y="760"/>
                    <a:pt x="2112" y="711"/>
                    <a:pt x="2304" y="598"/>
                  </a:cubicBezTo>
                  <a:cubicBezTo>
                    <a:pt x="2496" y="485"/>
                    <a:pt x="2697" y="341"/>
                    <a:pt x="2985" y="245"/>
                  </a:cubicBezTo>
                  <a:cubicBezTo>
                    <a:pt x="3273" y="149"/>
                    <a:pt x="3746" y="44"/>
                    <a:pt x="4032" y="22"/>
                  </a:cubicBezTo>
                  <a:cubicBezTo>
                    <a:pt x="4318" y="0"/>
                    <a:pt x="4561" y="95"/>
                    <a:pt x="4700" y="114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Rectangle 33"/>
          <p:cNvSpPr/>
          <p:nvPr/>
        </p:nvSpPr>
        <p:spPr>
          <a:xfrm>
            <a:off x="314280" y="1052640"/>
            <a:ext cx="4186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Niveles de Madurez </a:t>
            </a:r>
            <a:br>
              <a:rPr sz="1600"/>
            </a:b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de los Colaboradores por Tarea o Me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34"/>
          <p:cNvGrpSpPr/>
          <p:nvPr/>
        </p:nvGrpSpPr>
        <p:grpSpPr>
          <a:xfrm>
            <a:off x="5013000" y="1573200"/>
            <a:ext cx="4116960" cy="3223800"/>
            <a:chOff x="5013000" y="1573200"/>
            <a:chExt cx="4116960" cy="3223800"/>
          </a:xfrm>
        </p:grpSpPr>
        <p:sp>
          <p:nvSpPr>
            <p:cNvPr id="270" name="Line 35"/>
            <p:cNvSpPr/>
            <p:nvPr/>
          </p:nvSpPr>
          <p:spPr>
            <a:xfrm flipV="1">
              <a:off x="5734080" y="1944360"/>
              <a:ext cx="0" cy="2327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36"/>
            <p:cNvSpPr/>
            <p:nvPr/>
          </p:nvSpPr>
          <p:spPr>
            <a:xfrm>
              <a:off x="5886360" y="4410000"/>
              <a:ext cx="22449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37"/>
            <p:cNvSpPr/>
            <p:nvPr/>
          </p:nvSpPr>
          <p:spPr>
            <a:xfrm flipV="1">
              <a:off x="5403960" y="1998000"/>
              <a:ext cx="1440" cy="2292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38"/>
            <p:cNvSpPr/>
            <p:nvPr/>
          </p:nvSpPr>
          <p:spPr>
            <a:xfrm>
              <a:off x="5584680" y="2966760"/>
              <a:ext cx="1524240" cy="141588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39"/>
            <p:cNvSpPr/>
            <p:nvPr/>
          </p:nvSpPr>
          <p:spPr>
            <a:xfrm>
              <a:off x="5591160" y="1611000"/>
              <a:ext cx="1517760" cy="138096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0"/>
            <p:cNvSpPr/>
            <p:nvPr/>
          </p:nvSpPr>
          <p:spPr>
            <a:xfrm>
              <a:off x="7095960" y="1601640"/>
              <a:ext cx="1551240" cy="13791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41"/>
            <p:cNvSpPr/>
            <p:nvPr/>
          </p:nvSpPr>
          <p:spPr>
            <a:xfrm>
              <a:off x="5789520" y="4543200"/>
              <a:ext cx="28148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2"/>
            <p:cNvSpPr/>
            <p:nvPr/>
          </p:nvSpPr>
          <p:spPr>
            <a:xfrm>
              <a:off x="5046840" y="4443120"/>
              <a:ext cx="58536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100" spc="-1" strike="noStrike">
                  <a:solidFill>
                    <a:srgbClr val="130bb1"/>
                  </a:solidFill>
                  <a:latin typeface="Tahoma"/>
                  <a:ea typeface="ＭＳ Ｐゴシック"/>
                </a:rPr>
                <a:t>(Bajo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43"/>
            <p:cNvSpPr/>
            <p:nvPr/>
          </p:nvSpPr>
          <p:spPr>
            <a:xfrm>
              <a:off x="8567640" y="4381200"/>
              <a:ext cx="5623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100" spc="-1" strike="noStrike">
                  <a:solidFill>
                    <a:srgbClr val="130bb1"/>
                  </a:solidFill>
                  <a:latin typeface="Tahoma"/>
                  <a:ea typeface="ＭＳ Ｐゴシック"/>
                </a:rPr>
                <a:t>(Alto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44"/>
            <p:cNvSpPr/>
            <p:nvPr/>
          </p:nvSpPr>
          <p:spPr>
            <a:xfrm>
              <a:off x="6270480" y="4555800"/>
              <a:ext cx="2133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0000"/>
                  </a:solidFill>
                  <a:latin typeface="Tahoma"/>
                  <a:ea typeface="ＭＳ Ｐゴシック"/>
                </a:rPr>
                <a:t>COMPORTAMIENTO DIRECTI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45"/>
            <p:cNvSpPr/>
            <p:nvPr/>
          </p:nvSpPr>
          <p:spPr>
            <a:xfrm>
              <a:off x="5013000" y="1631880"/>
              <a:ext cx="5623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100" spc="-1" strike="noStrike">
                  <a:solidFill>
                    <a:srgbClr val="130bb1"/>
                  </a:solidFill>
                  <a:latin typeface="Tahoma"/>
                  <a:ea typeface="ＭＳ Ｐゴシック"/>
                </a:rPr>
                <a:t>(Alto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46"/>
            <p:cNvGrpSpPr/>
            <p:nvPr/>
          </p:nvGrpSpPr>
          <p:grpSpPr>
            <a:xfrm>
              <a:off x="5573880" y="1573200"/>
              <a:ext cx="3073320" cy="2828520"/>
              <a:chOff x="5573880" y="1573200"/>
              <a:chExt cx="3073320" cy="2828520"/>
            </a:xfrm>
          </p:grpSpPr>
          <p:sp>
            <p:nvSpPr>
              <p:cNvPr id="282" name="Rectangle 47"/>
              <p:cNvSpPr/>
              <p:nvPr/>
            </p:nvSpPr>
            <p:spPr>
              <a:xfrm>
                <a:off x="7104240" y="2985840"/>
                <a:ext cx="1542960" cy="1415880"/>
              </a:xfrm>
              <a:prstGeom prst="rect">
                <a:avLst/>
              </a:prstGeom>
              <a:solidFill>
                <a:srgbClr val="ff33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48"/>
              <p:cNvSpPr/>
              <p:nvPr/>
            </p:nvSpPr>
            <p:spPr>
              <a:xfrm>
                <a:off x="5573880" y="1573200"/>
                <a:ext cx="3071520" cy="281448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49"/>
              <p:cNvSpPr/>
              <p:nvPr/>
            </p:nvSpPr>
            <p:spPr>
              <a:xfrm>
                <a:off x="5765040" y="3814560"/>
                <a:ext cx="123480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4520" rIns="74520" tIns="36360" bIns="3636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Comportamient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bajo en apoyo 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bajo en direcció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50"/>
              <p:cNvSpPr/>
              <p:nvPr/>
            </p:nvSpPr>
            <p:spPr>
              <a:xfrm>
                <a:off x="5581800" y="1585800"/>
                <a:ext cx="130320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520" rIns="7452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333399"/>
                    </a:solidFill>
                    <a:latin typeface="Tahoma"/>
                    <a:ea typeface="ＭＳ Ｐゴシック"/>
                  </a:rPr>
                  <a:t>Comportamiento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333399"/>
                    </a:solidFill>
                    <a:latin typeface="Tahoma"/>
                    <a:ea typeface="ＭＳ Ｐゴシック"/>
                  </a:rPr>
                  <a:t>alto en apoyo 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333399"/>
                    </a:solidFill>
                    <a:latin typeface="Tahoma"/>
                    <a:ea typeface="ＭＳ Ｐゴシック"/>
                  </a:rPr>
                  <a:t>bajo en direcció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51"/>
              <p:cNvSpPr/>
              <p:nvPr/>
            </p:nvSpPr>
            <p:spPr>
              <a:xfrm>
                <a:off x="7304760" y="1591920"/>
                <a:ext cx="130968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4520" rIns="74520" tIns="36360" bIns="3636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Comportamient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alto en dirección 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alto en apoy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52"/>
              <p:cNvSpPr/>
              <p:nvPr/>
            </p:nvSpPr>
            <p:spPr>
              <a:xfrm>
                <a:off x="7200000" y="3812760"/>
                <a:ext cx="134316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4520" rIns="7452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Comportamiento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alto en dirección 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bajo en apoy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53"/>
              <p:cNvSpPr/>
              <p:nvPr/>
            </p:nvSpPr>
            <p:spPr>
              <a:xfrm>
                <a:off x="7070760" y="1785600"/>
                <a:ext cx="1531800" cy="2022120"/>
              </a:xfrm>
              <a:custGeom>
                <a:avLst/>
                <a:gdLst>
                  <a:gd name="textAreaLeft" fmla="*/ 0 w 1531800"/>
                  <a:gd name="textAreaRight" fmla="*/ 1532160 w 1531800"/>
                  <a:gd name="textAreaTop" fmla="*/ 0 h 2022120"/>
                  <a:gd name="textAreaBottom" fmla="*/ 2022480 h 2022120"/>
                </a:gdLst>
                <a:ahLst/>
                <a:rect l="textAreaLeft" t="textAreaTop" r="textAreaRight" b="textAreaBottom"/>
                <a:pathLst>
                  <a:path w="1348" h="1959">
                    <a:moveTo>
                      <a:pt x="0" y="120"/>
                    </a:moveTo>
                    <a:lnTo>
                      <a:pt x="25" y="121"/>
                    </a:lnTo>
                    <a:lnTo>
                      <a:pt x="41" y="124"/>
                    </a:lnTo>
                    <a:lnTo>
                      <a:pt x="52" y="125"/>
                    </a:lnTo>
                    <a:lnTo>
                      <a:pt x="63" y="128"/>
                    </a:lnTo>
                    <a:lnTo>
                      <a:pt x="71" y="131"/>
                    </a:lnTo>
                    <a:lnTo>
                      <a:pt x="82" y="135"/>
                    </a:lnTo>
                    <a:lnTo>
                      <a:pt x="92" y="140"/>
                    </a:lnTo>
                    <a:lnTo>
                      <a:pt x="103" y="146"/>
                    </a:lnTo>
                    <a:lnTo>
                      <a:pt x="122" y="154"/>
                    </a:lnTo>
                    <a:lnTo>
                      <a:pt x="141" y="166"/>
                    </a:lnTo>
                    <a:lnTo>
                      <a:pt x="159" y="177"/>
                    </a:lnTo>
                    <a:lnTo>
                      <a:pt x="180" y="191"/>
                    </a:lnTo>
                    <a:lnTo>
                      <a:pt x="197" y="202"/>
                    </a:lnTo>
                    <a:lnTo>
                      <a:pt x="231" y="230"/>
                    </a:lnTo>
                    <a:lnTo>
                      <a:pt x="265" y="264"/>
                    </a:lnTo>
                    <a:lnTo>
                      <a:pt x="295" y="298"/>
                    </a:lnTo>
                    <a:lnTo>
                      <a:pt x="333" y="350"/>
                    </a:lnTo>
                    <a:lnTo>
                      <a:pt x="361" y="397"/>
                    </a:lnTo>
                    <a:lnTo>
                      <a:pt x="391" y="446"/>
                    </a:lnTo>
                    <a:lnTo>
                      <a:pt x="409" y="493"/>
                    </a:lnTo>
                    <a:lnTo>
                      <a:pt x="425" y="538"/>
                    </a:lnTo>
                    <a:lnTo>
                      <a:pt x="447" y="590"/>
                    </a:lnTo>
                    <a:lnTo>
                      <a:pt x="463" y="640"/>
                    </a:lnTo>
                    <a:lnTo>
                      <a:pt x="483" y="718"/>
                    </a:lnTo>
                    <a:lnTo>
                      <a:pt x="500" y="790"/>
                    </a:lnTo>
                    <a:lnTo>
                      <a:pt x="511" y="860"/>
                    </a:lnTo>
                    <a:lnTo>
                      <a:pt x="524" y="946"/>
                    </a:lnTo>
                    <a:lnTo>
                      <a:pt x="532" y="1004"/>
                    </a:lnTo>
                    <a:lnTo>
                      <a:pt x="542" y="1072"/>
                    </a:lnTo>
                    <a:lnTo>
                      <a:pt x="551" y="1117"/>
                    </a:lnTo>
                    <a:lnTo>
                      <a:pt x="556" y="1158"/>
                    </a:lnTo>
                    <a:lnTo>
                      <a:pt x="567" y="1210"/>
                    </a:lnTo>
                    <a:lnTo>
                      <a:pt x="581" y="1262"/>
                    </a:lnTo>
                    <a:lnTo>
                      <a:pt x="591" y="1304"/>
                    </a:lnTo>
                    <a:lnTo>
                      <a:pt x="604" y="1354"/>
                    </a:lnTo>
                    <a:lnTo>
                      <a:pt x="618" y="1402"/>
                    </a:lnTo>
                    <a:lnTo>
                      <a:pt x="630" y="1443"/>
                    </a:lnTo>
                    <a:lnTo>
                      <a:pt x="648" y="1480"/>
                    </a:lnTo>
                    <a:lnTo>
                      <a:pt x="661" y="1510"/>
                    </a:lnTo>
                    <a:lnTo>
                      <a:pt x="675" y="1541"/>
                    </a:lnTo>
                    <a:lnTo>
                      <a:pt x="696" y="1574"/>
                    </a:lnTo>
                    <a:lnTo>
                      <a:pt x="718" y="1612"/>
                    </a:lnTo>
                    <a:lnTo>
                      <a:pt x="743" y="1647"/>
                    </a:lnTo>
                    <a:lnTo>
                      <a:pt x="776" y="1691"/>
                    </a:lnTo>
                    <a:lnTo>
                      <a:pt x="809" y="1728"/>
                    </a:lnTo>
                    <a:lnTo>
                      <a:pt x="844" y="1763"/>
                    </a:lnTo>
                    <a:lnTo>
                      <a:pt x="883" y="1793"/>
                    </a:lnTo>
                    <a:lnTo>
                      <a:pt x="912" y="1812"/>
                    </a:lnTo>
                    <a:lnTo>
                      <a:pt x="935" y="1826"/>
                    </a:lnTo>
                    <a:lnTo>
                      <a:pt x="959" y="1838"/>
                    </a:lnTo>
                    <a:lnTo>
                      <a:pt x="988" y="1853"/>
                    </a:lnTo>
                    <a:lnTo>
                      <a:pt x="1021" y="1868"/>
                    </a:lnTo>
                    <a:lnTo>
                      <a:pt x="1056" y="1882"/>
                    </a:lnTo>
                    <a:lnTo>
                      <a:pt x="1094" y="1898"/>
                    </a:lnTo>
                    <a:lnTo>
                      <a:pt x="1129" y="1908"/>
                    </a:lnTo>
                    <a:lnTo>
                      <a:pt x="1161" y="1918"/>
                    </a:lnTo>
                    <a:lnTo>
                      <a:pt x="1193" y="1927"/>
                    </a:lnTo>
                    <a:lnTo>
                      <a:pt x="1228" y="1936"/>
                    </a:lnTo>
                    <a:lnTo>
                      <a:pt x="1260" y="1944"/>
                    </a:lnTo>
                    <a:lnTo>
                      <a:pt x="1304" y="1951"/>
                    </a:lnTo>
                    <a:lnTo>
                      <a:pt x="1347" y="1958"/>
                    </a:lnTo>
                    <a:lnTo>
                      <a:pt x="1347" y="1829"/>
                    </a:lnTo>
                    <a:lnTo>
                      <a:pt x="1315" y="1819"/>
                    </a:lnTo>
                    <a:lnTo>
                      <a:pt x="1270" y="1811"/>
                    </a:lnTo>
                    <a:lnTo>
                      <a:pt x="1237" y="1804"/>
                    </a:lnTo>
                    <a:lnTo>
                      <a:pt x="1199" y="1793"/>
                    </a:lnTo>
                    <a:lnTo>
                      <a:pt x="1171" y="1785"/>
                    </a:lnTo>
                    <a:lnTo>
                      <a:pt x="1149" y="1775"/>
                    </a:lnTo>
                    <a:lnTo>
                      <a:pt x="1122" y="1767"/>
                    </a:lnTo>
                    <a:lnTo>
                      <a:pt x="1090" y="1758"/>
                    </a:lnTo>
                    <a:lnTo>
                      <a:pt x="1063" y="1747"/>
                    </a:lnTo>
                    <a:lnTo>
                      <a:pt x="1038" y="1736"/>
                    </a:lnTo>
                    <a:lnTo>
                      <a:pt x="1019" y="1724"/>
                    </a:lnTo>
                    <a:lnTo>
                      <a:pt x="992" y="1709"/>
                    </a:lnTo>
                    <a:lnTo>
                      <a:pt x="957" y="1685"/>
                    </a:lnTo>
                    <a:lnTo>
                      <a:pt x="931" y="1669"/>
                    </a:lnTo>
                    <a:lnTo>
                      <a:pt x="907" y="1649"/>
                    </a:lnTo>
                    <a:lnTo>
                      <a:pt x="880" y="1623"/>
                    </a:lnTo>
                    <a:lnTo>
                      <a:pt x="851" y="1587"/>
                    </a:lnTo>
                    <a:lnTo>
                      <a:pt x="826" y="1551"/>
                    </a:lnTo>
                    <a:lnTo>
                      <a:pt x="795" y="1500"/>
                    </a:lnTo>
                    <a:lnTo>
                      <a:pt x="767" y="1450"/>
                    </a:lnTo>
                    <a:lnTo>
                      <a:pt x="745" y="1401"/>
                    </a:lnTo>
                    <a:lnTo>
                      <a:pt x="732" y="1365"/>
                    </a:lnTo>
                    <a:lnTo>
                      <a:pt x="720" y="1322"/>
                    </a:lnTo>
                    <a:lnTo>
                      <a:pt x="710" y="1290"/>
                    </a:lnTo>
                    <a:lnTo>
                      <a:pt x="699" y="1233"/>
                    </a:lnTo>
                    <a:lnTo>
                      <a:pt x="687" y="1176"/>
                    </a:lnTo>
                    <a:lnTo>
                      <a:pt x="678" y="1134"/>
                    </a:lnTo>
                    <a:lnTo>
                      <a:pt x="668" y="1075"/>
                    </a:lnTo>
                    <a:lnTo>
                      <a:pt x="660" y="1016"/>
                    </a:lnTo>
                    <a:lnTo>
                      <a:pt x="650" y="951"/>
                    </a:lnTo>
                    <a:lnTo>
                      <a:pt x="641" y="890"/>
                    </a:lnTo>
                    <a:lnTo>
                      <a:pt x="627" y="809"/>
                    </a:lnTo>
                    <a:lnTo>
                      <a:pt x="619" y="758"/>
                    </a:lnTo>
                    <a:lnTo>
                      <a:pt x="609" y="704"/>
                    </a:lnTo>
                    <a:lnTo>
                      <a:pt x="598" y="657"/>
                    </a:lnTo>
                    <a:lnTo>
                      <a:pt x="584" y="601"/>
                    </a:lnTo>
                    <a:lnTo>
                      <a:pt x="570" y="565"/>
                    </a:lnTo>
                    <a:lnTo>
                      <a:pt x="556" y="525"/>
                    </a:lnTo>
                    <a:lnTo>
                      <a:pt x="532" y="471"/>
                    </a:lnTo>
                    <a:lnTo>
                      <a:pt x="518" y="440"/>
                    </a:lnTo>
                    <a:lnTo>
                      <a:pt x="502" y="397"/>
                    </a:lnTo>
                    <a:lnTo>
                      <a:pt x="468" y="339"/>
                    </a:lnTo>
                    <a:lnTo>
                      <a:pt x="443" y="294"/>
                    </a:lnTo>
                    <a:lnTo>
                      <a:pt x="423" y="266"/>
                    </a:lnTo>
                    <a:lnTo>
                      <a:pt x="397" y="236"/>
                    </a:lnTo>
                    <a:lnTo>
                      <a:pt x="352" y="184"/>
                    </a:lnTo>
                    <a:lnTo>
                      <a:pt x="323" y="151"/>
                    </a:lnTo>
                    <a:lnTo>
                      <a:pt x="295" y="127"/>
                    </a:lnTo>
                    <a:lnTo>
                      <a:pt x="257" y="97"/>
                    </a:lnTo>
                    <a:lnTo>
                      <a:pt x="219" y="74"/>
                    </a:lnTo>
                    <a:lnTo>
                      <a:pt x="169" y="49"/>
                    </a:lnTo>
                    <a:lnTo>
                      <a:pt x="154" y="41"/>
                    </a:lnTo>
                    <a:lnTo>
                      <a:pt x="136" y="33"/>
                    </a:lnTo>
                    <a:lnTo>
                      <a:pt x="124" y="29"/>
                    </a:lnTo>
                    <a:lnTo>
                      <a:pt x="110" y="25"/>
                    </a:lnTo>
                    <a:lnTo>
                      <a:pt x="98" y="19"/>
                    </a:lnTo>
                    <a:lnTo>
                      <a:pt x="87" y="15"/>
                    </a:lnTo>
                    <a:lnTo>
                      <a:pt x="74" y="14"/>
                    </a:lnTo>
                    <a:lnTo>
                      <a:pt x="53" y="8"/>
                    </a:lnTo>
                    <a:lnTo>
                      <a:pt x="36" y="5"/>
                    </a:lnTo>
                    <a:lnTo>
                      <a:pt x="22" y="3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54"/>
              <p:cNvSpPr/>
              <p:nvPr/>
            </p:nvSpPr>
            <p:spPr>
              <a:xfrm>
                <a:off x="5621400" y="1785600"/>
                <a:ext cx="1488960" cy="2022120"/>
              </a:xfrm>
              <a:custGeom>
                <a:avLst/>
                <a:gdLst>
                  <a:gd name="textAreaLeft" fmla="*/ 0 w 1488960"/>
                  <a:gd name="textAreaRight" fmla="*/ 1489320 w 1488960"/>
                  <a:gd name="textAreaTop" fmla="*/ 0 h 2022120"/>
                  <a:gd name="textAreaBottom" fmla="*/ 2022480 h 2022120"/>
                </a:gdLst>
                <a:ahLst/>
                <a:rect l="textAreaLeft" t="textAreaTop" r="textAreaRight" b="textAreaBottom"/>
                <a:pathLst>
                  <a:path w="1348" h="1959">
                    <a:moveTo>
                      <a:pt x="1347" y="120"/>
                    </a:moveTo>
                    <a:lnTo>
                      <a:pt x="1320" y="121"/>
                    </a:lnTo>
                    <a:lnTo>
                      <a:pt x="1306" y="124"/>
                    </a:lnTo>
                    <a:lnTo>
                      <a:pt x="1295" y="125"/>
                    </a:lnTo>
                    <a:lnTo>
                      <a:pt x="1284" y="128"/>
                    </a:lnTo>
                    <a:lnTo>
                      <a:pt x="1276" y="131"/>
                    </a:lnTo>
                    <a:lnTo>
                      <a:pt x="1264" y="135"/>
                    </a:lnTo>
                    <a:lnTo>
                      <a:pt x="1255" y="140"/>
                    </a:lnTo>
                    <a:lnTo>
                      <a:pt x="1243" y="146"/>
                    </a:lnTo>
                    <a:lnTo>
                      <a:pt x="1225" y="154"/>
                    </a:lnTo>
                    <a:lnTo>
                      <a:pt x="1206" y="166"/>
                    </a:lnTo>
                    <a:lnTo>
                      <a:pt x="1188" y="177"/>
                    </a:lnTo>
                    <a:lnTo>
                      <a:pt x="1167" y="191"/>
                    </a:lnTo>
                    <a:lnTo>
                      <a:pt x="1150" y="202"/>
                    </a:lnTo>
                    <a:lnTo>
                      <a:pt x="1115" y="230"/>
                    </a:lnTo>
                    <a:lnTo>
                      <a:pt x="1081" y="264"/>
                    </a:lnTo>
                    <a:lnTo>
                      <a:pt x="1052" y="298"/>
                    </a:lnTo>
                    <a:lnTo>
                      <a:pt x="1013" y="350"/>
                    </a:lnTo>
                    <a:lnTo>
                      <a:pt x="988" y="397"/>
                    </a:lnTo>
                    <a:lnTo>
                      <a:pt x="955" y="446"/>
                    </a:lnTo>
                    <a:lnTo>
                      <a:pt x="937" y="493"/>
                    </a:lnTo>
                    <a:lnTo>
                      <a:pt x="922" y="538"/>
                    </a:lnTo>
                    <a:lnTo>
                      <a:pt x="899" y="590"/>
                    </a:lnTo>
                    <a:lnTo>
                      <a:pt x="885" y="640"/>
                    </a:lnTo>
                    <a:lnTo>
                      <a:pt x="863" y="718"/>
                    </a:lnTo>
                    <a:lnTo>
                      <a:pt x="848" y="790"/>
                    </a:lnTo>
                    <a:lnTo>
                      <a:pt x="834" y="860"/>
                    </a:lnTo>
                    <a:lnTo>
                      <a:pt x="822" y="946"/>
                    </a:lnTo>
                    <a:lnTo>
                      <a:pt x="814" y="1004"/>
                    </a:lnTo>
                    <a:lnTo>
                      <a:pt x="804" y="1072"/>
                    </a:lnTo>
                    <a:lnTo>
                      <a:pt x="796" y="1117"/>
                    </a:lnTo>
                    <a:lnTo>
                      <a:pt x="790" y="1158"/>
                    </a:lnTo>
                    <a:lnTo>
                      <a:pt x="781" y="1210"/>
                    </a:lnTo>
                    <a:lnTo>
                      <a:pt x="767" y="1262"/>
                    </a:lnTo>
                    <a:lnTo>
                      <a:pt x="755" y="1304"/>
                    </a:lnTo>
                    <a:lnTo>
                      <a:pt x="743" y="1354"/>
                    </a:lnTo>
                    <a:lnTo>
                      <a:pt x="729" y="1402"/>
                    </a:lnTo>
                    <a:lnTo>
                      <a:pt x="716" y="1443"/>
                    </a:lnTo>
                    <a:lnTo>
                      <a:pt x="699" y="1480"/>
                    </a:lnTo>
                    <a:lnTo>
                      <a:pt x="685" y="1510"/>
                    </a:lnTo>
                    <a:lnTo>
                      <a:pt x="671" y="1541"/>
                    </a:lnTo>
                    <a:lnTo>
                      <a:pt x="650" y="1574"/>
                    </a:lnTo>
                    <a:lnTo>
                      <a:pt x="629" y="1612"/>
                    </a:lnTo>
                    <a:lnTo>
                      <a:pt x="603" y="1647"/>
                    </a:lnTo>
                    <a:lnTo>
                      <a:pt x="572" y="1691"/>
                    </a:lnTo>
                    <a:lnTo>
                      <a:pt x="539" y="1728"/>
                    </a:lnTo>
                    <a:lnTo>
                      <a:pt x="502" y="1763"/>
                    </a:lnTo>
                    <a:lnTo>
                      <a:pt x="463" y="1793"/>
                    </a:lnTo>
                    <a:lnTo>
                      <a:pt x="434" y="1812"/>
                    </a:lnTo>
                    <a:lnTo>
                      <a:pt x="413" y="1826"/>
                    </a:lnTo>
                    <a:lnTo>
                      <a:pt x="387" y="1838"/>
                    </a:lnTo>
                    <a:lnTo>
                      <a:pt x="359" y="1853"/>
                    </a:lnTo>
                    <a:lnTo>
                      <a:pt x="326" y="1868"/>
                    </a:lnTo>
                    <a:lnTo>
                      <a:pt x="291" y="1882"/>
                    </a:lnTo>
                    <a:lnTo>
                      <a:pt x="252" y="1898"/>
                    </a:lnTo>
                    <a:lnTo>
                      <a:pt x="218" y="1908"/>
                    </a:lnTo>
                    <a:lnTo>
                      <a:pt x="186" y="1918"/>
                    </a:lnTo>
                    <a:lnTo>
                      <a:pt x="154" y="1927"/>
                    </a:lnTo>
                    <a:lnTo>
                      <a:pt x="119" y="1936"/>
                    </a:lnTo>
                    <a:lnTo>
                      <a:pt x="87" y="1944"/>
                    </a:lnTo>
                    <a:lnTo>
                      <a:pt x="43" y="1951"/>
                    </a:lnTo>
                    <a:lnTo>
                      <a:pt x="0" y="1958"/>
                    </a:lnTo>
                    <a:lnTo>
                      <a:pt x="0" y="1829"/>
                    </a:lnTo>
                    <a:lnTo>
                      <a:pt x="34" y="1819"/>
                    </a:lnTo>
                    <a:lnTo>
                      <a:pt x="77" y="1811"/>
                    </a:lnTo>
                    <a:lnTo>
                      <a:pt x="109" y="1804"/>
                    </a:lnTo>
                    <a:lnTo>
                      <a:pt x="148" y="1793"/>
                    </a:lnTo>
                    <a:lnTo>
                      <a:pt x="176" y="1785"/>
                    </a:lnTo>
                    <a:lnTo>
                      <a:pt x="200" y="1775"/>
                    </a:lnTo>
                    <a:lnTo>
                      <a:pt x="227" y="1767"/>
                    </a:lnTo>
                    <a:lnTo>
                      <a:pt x="256" y="1758"/>
                    </a:lnTo>
                    <a:lnTo>
                      <a:pt x="283" y="1747"/>
                    </a:lnTo>
                    <a:lnTo>
                      <a:pt x="309" y="1736"/>
                    </a:lnTo>
                    <a:lnTo>
                      <a:pt x="329" y="1724"/>
                    </a:lnTo>
                    <a:lnTo>
                      <a:pt x="355" y="1709"/>
                    </a:lnTo>
                    <a:lnTo>
                      <a:pt x="390" y="1685"/>
                    </a:lnTo>
                    <a:lnTo>
                      <a:pt x="417" y="1669"/>
                    </a:lnTo>
                    <a:lnTo>
                      <a:pt x="441" y="1649"/>
                    </a:lnTo>
                    <a:lnTo>
                      <a:pt x="467" y="1623"/>
                    </a:lnTo>
                    <a:lnTo>
                      <a:pt x="497" y="1587"/>
                    </a:lnTo>
                    <a:lnTo>
                      <a:pt x="522" y="1551"/>
                    </a:lnTo>
                    <a:lnTo>
                      <a:pt x="553" y="1500"/>
                    </a:lnTo>
                    <a:lnTo>
                      <a:pt x="579" y="1450"/>
                    </a:lnTo>
                    <a:lnTo>
                      <a:pt x="601" y="1401"/>
                    </a:lnTo>
                    <a:lnTo>
                      <a:pt x="615" y="1365"/>
                    </a:lnTo>
                    <a:lnTo>
                      <a:pt x="627" y="1322"/>
                    </a:lnTo>
                    <a:lnTo>
                      <a:pt x="635" y="1290"/>
                    </a:lnTo>
                    <a:lnTo>
                      <a:pt x="648" y="1233"/>
                    </a:lnTo>
                    <a:lnTo>
                      <a:pt x="660" y="1176"/>
                    </a:lnTo>
                    <a:lnTo>
                      <a:pt x="669" y="1134"/>
                    </a:lnTo>
                    <a:lnTo>
                      <a:pt x="680" y="1075"/>
                    </a:lnTo>
                    <a:lnTo>
                      <a:pt x="688" y="1016"/>
                    </a:lnTo>
                    <a:lnTo>
                      <a:pt x="697" y="951"/>
                    </a:lnTo>
                    <a:lnTo>
                      <a:pt x="706" y="890"/>
                    </a:lnTo>
                    <a:lnTo>
                      <a:pt x="719" y="809"/>
                    </a:lnTo>
                    <a:lnTo>
                      <a:pt x="727" y="758"/>
                    </a:lnTo>
                    <a:lnTo>
                      <a:pt x="739" y="704"/>
                    </a:lnTo>
                    <a:lnTo>
                      <a:pt x="750" y="657"/>
                    </a:lnTo>
                    <a:lnTo>
                      <a:pt x="762" y="601"/>
                    </a:lnTo>
                    <a:lnTo>
                      <a:pt x="776" y="565"/>
                    </a:lnTo>
                    <a:lnTo>
                      <a:pt x="790" y="525"/>
                    </a:lnTo>
                    <a:lnTo>
                      <a:pt x="814" y="471"/>
                    </a:lnTo>
                    <a:lnTo>
                      <a:pt x="828" y="440"/>
                    </a:lnTo>
                    <a:lnTo>
                      <a:pt x="846" y="397"/>
                    </a:lnTo>
                    <a:lnTo>
                      <a:pt x="878" y="339"/>
                    </a:lnTo>
                    <a:lnTo>
                      <a:pt x="904" y="294"/>
                    </a:lnTo>
                    <a:lnTo>
                      <a:pt x="923" y="266"/>
                    </a:lnTo>
                    <a:lnTo>
                      <a:pt x="950" y="236"/>
                    </a:lnTo>
                    <a:lnTo>
                      <a:pt x="995" y="184"/>
                    </a:lnTo>
                    <a:lnTo>
                      <a:pt x="1024" y="151"/>
                    </a:lnTo>
                    <a:lnTo>
                      <a:pt x="1052" y="127"/>
                    </a:lnTo>
                    <a:lnTo>
                      <a:pt x="1091" y="97"/>
                    </a:lnTo>
                    <a:lnTo>
                      <a:pt x="1127" y="74"/>
                    </a:lnTo>
                    <a:lnTo>
                      <a:pt x="1178" y="49"/>
                    </a:lnTo>
                    <a:lnTo>
                      <a:pt x="1193" y="41"/>
                    </a:lnTo>
                    <a:lnTo>
                      <a:pt x="1211" y="33"/>
                    </a:lnTo>
                    <a:lnTo>
                      <a:pt x="1224" y="29"/>
                    </a:lnTo>
                    <a:lnTo>
                      <a:pt x="1236" y="25"/>
                    </a:lnTo>
                    <a:lnTo>
                      <a:pt x="1250" y="19"/>
                    </a:lnTo>
                    <a:lnTo>
                      <a:pt x="1260" y="15"/>
                    </a:lnTo>
                    <a:lnTo>
                      <a:pt x="1273" y="14"/>
                    </a:lnTo>
                    <a:lnTo>
                      <a:pt x="1294" y="8"/>
                    </a:lnTo>
                    <a:lnTo>
                      <a:pt x="1309" y="5"/>
                    </a:lnTo>
                    <a:lnTo>
                      <a:pt x="1323" y="3"/>
                    </a:lnTo>
                    <a:lnTo>
                      <a:pt x="1347" y="0"/>
                    </a:lnTo>
                    <a:lnTo>
                      <a:pt x="1347" y="120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55"/>
              <p:cNvSpPr/>
              <p:nvPr/>
            </p:nvSpPr>
            <p:spPr>
              <a:xfrm>
                <a:off x="5857920" y="2347560"/>
                <a:ext cx="10224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333399"/>
                    </a:solidFill>
                    <a:latin typeface="Tahoma"/>
                    <a:ea typeface="ＭＳ Ｐゴシック"/>
                  </a:rPr>
                  <a:t>Apoya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56"/>
              <p:cNvSpPr/>
              <p:nvPr/>
            </p:nvSpPr>
            <p:spPr>
              <a:xfrm>
                <a:off x="7415280" y="3268440"/>
                <a:ext cx="10224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333399"/>
                    </a:solidFill>
                    <a:latin typeface="Tahoma"/>
                    <a:ea typeface="ＭＳ Ｐゴシック"/>
                  </a:rPr>
                  <a:t>Dirigi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57"/>
              <p:cNvSpPr/>
              <p:nvPr/>
            </p:nvSpPr>
            <p:spPr>
              <a:xfrm>
                <a:off x="7307280" y="2347560"/>
                <a:ext cx="1177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333399"/>
                    </a:solidFill>
                    <a:latin typeface="Tahoma"/>
                    <a:ea typeface="ＭＳ Ｐゴシック"/>
                  </a:rPr>
                  <a:t>Orienta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58"/>
              <p:cNvSpPr/>
              <p:nvPr/>
            </p:nvSpPr>
            <p:spPr>
              <a:xfrm>
                <a:off x="5794200" y="3268440"/>
                <a:ext cx="10256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333399"/>
                    </a:solidFill>
                    <a:latin typeface="Tahoma"/>
                    <a:ea typeface="ＭＳ Ｐゴシック"/>
                  </a:rPr>
                  <a:t>Delega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Rectangle 59"/>
            <p:cNvSpPr/>
            <p:nvPr/>
          </p:nvSpPr>
          <p:spPr>
            <a:xfrm rot="16200000">
              <a:off x="4189320" y="2666880"/>
              <a:ext cx="20955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ff"/>
                  </a:solidFill>
                  <a:latin typeface="Tahoma"/>
                  <a:ea typeface="ＭＳ Ｐゴシック"/>
                </a:rPr>
                <a:t>COMPORTAMIENTO DE APOY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Rectangle 60"/>
          <p:cNvSpPr/>
          <p:nvPr/>
        </p:nvSpPr>
        <p:spPr>
          <a:xfrm>
            <a:off x="108000" y="6165720"/>
            <a:ext cx="4186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Habilidad Diagnóstic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61"/>
          <p:cNvSpPr/>
          <p:nvPr/>
        </p:nvSpPr>
        <p:spPr>
          <a:xfrm rot="5400000">
            <a:off x="1992240" y="5860800"/>
            <a:ext cx="431640" cy="463680"/>
          </a:xfrm>
          <a:custGeom>
            <a:avLst/>
            <a:gdLst>
              <a:gd name="textAreaLeft" fmla="*/ 67320 w 431640"/>
              <a:gd name="textAreaRight" fmla="*/ 378000 w 431640"/>
              <a:gd name="textAreaTop" fmla="*/ 115920 h 463680"/>
              <a:gd name="textAreaBottom" fmla="*/ 347760 h 463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2"/>
          <p:cNvSpPr/>
          <p:nvPr/>
        </p:nvSpPr>
        <p:spPr>
          <a:xfrm>
            <a:off x="5065560" y="1052640"/>
            <a:ext cx="4186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Arial"/>
              </a:rPr>
              <a:t>Los cuatro</a:t>
            </a:r>
            <a:br>
              <a:rPr sz="1600"/>
            </a:br>
            <a:r>
              <a:rPr b="1" lang="es-MX" sz="1600" spc="-1" strike="noStrike">
                <a:solidFill>
                  <a:srgbClr val="003399"/>
                </a:solidFill>
                <a:latin typeface="Arial"/>
              </a:rPr>
              <a:t>Estilos de Lideraz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63"/>
          <p:cNvSpPr/>
          <p:nvPr/>
        </p:nvSpPr>
        <p:spPr>
          <a:xfrm>
            <a:off x="5138640" y="6165720"/>
            <a:ext cx="4186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Habilidad Flexibilida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64"/>
          <p:cNvSpPr/>
          <p:nvPr/>
        </p:nvSpPr>
        <p:spPr>
          <a:xfrm rot="5400000">
            <a:off x="6879960" y="5861160"/>
            <a:ext cx="431640" cy="463320"/>
          </a:xfrm>
          <a:custGeom>
            <a:avLst/>
            <a:gdLst>
              <a:gd name="textAreaLeft" fmla="*/ 67320 w 431640"/>
              <a:gd name="textAreaRight" fmla="*/ 378000 w 431640"/>
              <a:gd name="textAreaTop" fmla="*/ 115920 h 463320"/>
              <a:gd name="textAreaBottom" fmla="*/ 347760 h 463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65"/>
          <p:cNvSpPr/>
          <p:nvPr/>
        </p:nvSpPr>
        <p:spPr>
          <a:xfrm>
            <a:off x="3841920" y="5950080"/>
            <a:ext cx="1954080" cy="415800"/>
          </a:xfrm>
          <a:custGeom>
            <a:avLst/>
            <a:gdLst>
              <a:gd name="textAreaLeft" fmla="*/ 342000 w 1954080"/>
              <a:gd name="textAreaRight" fmla="*/ 1416960 w 1954080"/>
              <a:gd name="textAreaTop" fmla="*/ 55440 h 415800"/>
              <a:gd name="textAreaBottom" fmla="*/ 360360 h 41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AutoShape 66"/>
          <p:cNvCxnSpPr>
            <a:stCxn id="254" idx="2"/>
            <a:endCxn id="288" idx="34"/>
          </p:cNvCxnSpPr>
          <p:nvPr/>
        </p:nvCxnSpPr>
        <p:spPr>
          <a:xfrm flipH="1" rot="16200000">
            <a:off x="3832920" y="-902880"/>
            <a:ext cx="1456560" cy="7570080"/>
          </a:xfrm>
          <a:prstGeom prst="curvedConnector5">
            <a:avLst>
              <a:gd name="adj1" fmla="val 143164"/>
              <a:gd name="adj2" fmla="val 49997"/>
              <a:gd name="adj3" fmla="val 143164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02" name="AutoShape 67"/>
          <p:cNvCxnSpPr>
            <a:stCxn id="253" idx="2"/>
            <a:endCxn id="239" idx="3"/>
          </p:cNvCxnSpPr>
          <p:nvPr/>
        </p:nvCxnSpPr>
        <p:spPr>
          <a:xfrm flipH="1" rot="16200000">
            <a:off x="4428360" y="-447120"/>
            <a:ext cx="704160" cy="5906160"/>
          </a:xfrm>
          <a:prstGeom prst="curvedConnector5">
            <a:avLst>
              <a:gd name="adj1" fmla="val 137237"/>
              <a:gd name="adj2" fmla="val 49996"/>
              <a:gd name="adj3" fmla="val 137237"/>
            </a:avLst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303" name="AutoShape 68"/>
          <p:cNvCxnSpPr>
            <a:stCxn id="252" idx="2"/>
            <a:endCxn id="238" idx="3"/>
          </p:cNvCxnSpPr>
          <p:nvPr/>
        </p:nvCxnSpPr>
        <p:spPr>
          <a:xfrm flipH="1" rot="16200000">
            <a:off x="4531320" y="498240"/>
            <a:ext cx="326160" cy="3637800"/>
          </a:xfrm>
          <a:prstGeom prst="curvedConnector5">
            <a:avLst>
              <a:gd name="adj1" fmla="val 174143"/>
              <a:gd name="adj2" fmla="val 50000"/>
              <a:gd name="adj3" fmla="val 174143"/>
            </a:avLst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04" name="AutoShape 69"/>
          <p:cNvCxnSpPr>
            <a:stCxn id="251" idx="2"/>
            <a:endCxn id="237" idx="2"/>
          </p:cNvCxnSpPr>
          <p:nvPr/>
        </p:nvCxnSpPr>
        <p:spPr>
          <a:xfrm flipH="1" rot="16200000">
            <a:off x="4595760" y="1485720"/>
            <a:ext cx="1115280" cy="2451600"/>
          </a:xfrm>
          <a:prstGeom prst="curvedConnector2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</p:cxnSp>
      <p:sp>
        <p:nvSpPr>
          <p:cNvPr id="305" name="Rectangle 70"/>
          <p:cNvSpPr/>
          <p:nvPr/>
        </p:nvSpPr>
        <p:spPr>
          <a:xfrm>
            <a:off x="2690640" y="6237360"/>
            <a:ext cx="4186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Adecu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71"/>
          <p:cNvSpPr/>
          <p:nvPr/>
        </p:nvSpPr>
        <p:spPr>
          <a:xfrm>
            <a:off x="250920" y="4956120"/>
            <a:ext cx="418608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s-MX" sz="1400" spc="-1" strike="noStrike">
                <a:solidFill>
                  <a:srgbClr val="ff0000"/>
                </a:solidFill>
                <a:latin typeface="Arial Narrow"/>
              </a:rPr>
              <a:t>Competencias: Conocimientos y Habil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0000"/>
                </a:solidFill>
                <a:latin typeface="Arial Narrow"/>
              </a:rPr>
              <a:t>       </a:t>
            </a:r>
            <a:r>
              <a:rPr b="1" lang="es-MX" sz="1400" spc="-1" strike="noStrike">
                <a:solidFill>
                  <a:srgbClr val="333399"/>
                </a:solidFill>
                <a:latin typeface="Arial Narrow"/>
              </a:rPr>
              <a:t>Compromiso: Motivación y Auto-confia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72"/>
          <p:cNvSpPr/>
          <p:nvPr/>
        </p:nvSpPr>
        <p:spPr>
          <a:xfrm>
            <a:off x="250920" y="5121360"/>
            <a:ext cx="288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73"/>
          <p:cNvSpPr/>
          <p:nvPr/>
        </p:nvSpPr>
        <p:spPr>
          <a:xfrm>
            <a:off x="250920" y="5435640"/>
            <a:ext cx="28872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4"/>
          <p:cNvSpPr/>
          <p:nvPr/>
        </p:nvSpPr>
        <p:spPr>
          <a:xfrm>
            <a:off x="4859280" y="4956120"/>
            <a:ext cx="410544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1400" spc="-1" strike="noStrike">
                <a:solidFill>
                  <a:srgbClr val="ff0000"/>
                </a:solidFill>
                <a:latin typeface="Arial Narrow"/>
              </a:rPr>
              <a:t>Dirección: Genera conocimientos y habil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 Narrow"/>
              </a:rPr>
              <a:t>Apoyo: Genera motivación y auto-confia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93560" y="260280"/>
            <a:ext cx="91188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uando un líder utiliza el</a:t>
            </a:r>
            <a:br>
              <a:rPr sz="2800"/>
            </a:b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estilo de liderazgo </a:t>
            </a: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DIRIGIR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5892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66cc"/>
                </a:solidFill>
                <a:latin typeface="UnitOT-Regular"/>
              </a:rPr>
              <a:t>Reconoce el entusiasmo del colaborador y las habilidades transferibles del colaborador y su progreso hasta la fecha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UnitOT-Regular"/>
              </a:rPr>
              <a:t>Identifica los resultados, objetivos y plazos deseado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UnitOT-Regular"/>
              </a:rPr>
              <a:t>Define que es un buen trabajo y como se registrara y controlara el desempeñ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UnitOT-Regular"/>
              </a:rPr>
              <a:t>Desarrolla un plan para que el colaborador aprenda nuevas habilidade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UnitOT-Regular"/>
              </a:rPr>
              <a:t>Dirige la planificación de accione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UnitOT-Regular"/>
              </a:rPr>
              <a:t>Toma la mayoría de las decisiones relacionadas con que hacer , cuando y con quien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UnitOT-Regular"/>
              </a:rPr>
              <a:t>Proporciona directrices e instrucciones especifica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UnitOT-Regular"/>
              </a:rPr>
              <a:t>Dirige la solución de problema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ransition>
    <p:dissolve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6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9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2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5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8" dur="5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1" dur="50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4" dur="500"/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7" dur="500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uzzle1"/>
          <p:cNvSpPr/>
          <p:nvPr/>
        </p:nvSpPr>
        <p:spPr>
          <a:xfrm>
            <a:off x="2844720" y="5373720"/>
            <a:ext cx="2158920" cy="1224000"/>
          </a:xfrm>
          <a:prstGeom prst="pi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Téc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uzzle4"/>
          <p:cNvSpPr/>
          <p:nvPr/>
        </p:nvSpPr>
        <p:spPr>
          <a:xfrm>
            <a:off x="5292720" y="5329080"/>
            <a:ext cx="1700280" cy="1268640"/>
          </a:xfrm>
          <a:prstGeom prst="pi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So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0360" y="1871640"/>
            <a:ext cx="1042920" cy="3672000"/>
          </a:xfrm>
          <a:prstGeom prst="rect">
            <a:avLst/>
          </a:pr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Geográf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Tecnológ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Polí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Leg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0360" y="1871640"/>
            <a:ext cx="1042920" cy="61128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ntor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19280" y="1871640"/>
            <a:ext cx="973080" cy="3672000"/>
          </a:xfrm>
          <a:prstGeom prst="rect">
            <a:avLst/>
          </a:pr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Vi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Mi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Objetiv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Val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1871640"/>
            <a:ext cx="973080" cy="61128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strate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35640" y="1871640"/>
            <a:ext cx="1581120" cy="3672000"/>
          </a:xfrm>
          <a:prstGeom prst="rect">
            <a:avLst/>
          </a:pr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Trabajo en equi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Comunic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Confli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Rel. Interperso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Cli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Lideraz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35640" y="1871640"/>
            <a:ext cx="1581120" cy="61128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Procesos sicológic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y sicoso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71640" y="1871640"/>
            <a:ext cx="2448000" cy="28908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0200" y="2160720"/>
            <a:ext cx="1225440" cy="3382920"/>
          </a:xfrm>
          <a:prstGeom prst="rect">
            <a:avLst/>
          </a:pr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Pl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Piramid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Matri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st. Pue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st. Ta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Proc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71640" y="2160720"/>
            <a:ext cx="1225800" cy="35388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struc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24360" y="2160720"/>
            <a:ext cx="1297080" cy="3382920"/>
          </a:xfrm>
          <a:prstGeom prst="rect">
            <a:avLst/>
          </a:pr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RR.HH</a:t>
            </a: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Sele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Capacit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Ev. Desempeñ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Incenti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Remuner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Desvincul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24360" y="2160720"/>
            <a:ext cx="1297080" cy="35388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Siste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36000" y="1871640"/>
            <a:ext cx="1657080" cy="3672000"/>
          </a:xfrm>
          <a:prstGeom prst="rect">
            <a:avLst/>
          </a:pr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Organi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Grup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236000" y="1871640"/>
            <a:ext cx="1657080" cy="2523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Rend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36000" y="2141640"/>
            <a:ext cx="793440" cy="34128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RR.H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29440" y="2141640"/>
            <a:ext cx="863640" cy="34128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fect. Or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115920"/>
            <a:ext cx="5616720" cy="137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800" spc="-1" strike="noStrike">
                <a:solidFill>
                  <a:srgbClr val="130bb1"/>
                </a:solidFill>
                <a:latin typeface="Arial"/>
              </a:rPr>
              <a:t>Organización de alto rendimiento y análisis sociotécnico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73" name=""/>
          <p:cNvSpPr/>
          <p:nvPr/>
        </p:nvSpPr>
        <p:spPr>
          <a:xfrm>
            <a:off x="3767040" y="2519280"/>
            <a:ext cx="230400" cy="3024360"/>
          </a:xfrm>
          <a:prstGeom prst="rect">
            <a:avLst/>
          </a:prstGeom>
          <a:solidFill>
            <a:srgbClr val="3333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5111640"/>
            <a:ext cx="934920" cy="50508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41440" y="5111640"/>
            <a:ext cx="935280" cy="505080"/>
          </a:xfrm>
          <a:custGeom>
            <a:avLst/>
            <a:gdLst>
              <a:gd name="textAreaLeft" fmla="*/ 146160 w 935280"/>
              <a:gd name="textAreaRight" fmla="*/ 818640 w 93528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05440" y="5040360"/>
            <a:ext cx="934920" cy="50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32720" y="5040360"/>
            <a:ext cx="934920" cy="50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68360" y="5084640"/>
            <a:ext cx="1582920" cy="108108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24000" y="4292640"/>
            <a:ext cx="0" cy="360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19280" y="4653000"/>
            <a:ext cx="973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Polít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730872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uando un líder utiliza el </a:t>
            </a:r>
            <a:br>
              <a:rPr sz="2800"/>
            </a:b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stilo de liderazgo </a:t>
            </a: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Entrenar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79280" y="1295280"/>
            <a:ext cx="8785440" cy="52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36400" indent="-2696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66cc"/>
                </a:solidFill>
                <a:latin typeface="UnitOT-Regular"/>
              </a:rPr>
              <a:t>Involucra al colaborador en identificación de problemas y en fijar meta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-2696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66cc"/>
                </a:solidFill>
                <a:latin typeface="UnitOT-Regular"/>
              </a:rPr>
              <a:t>Proporciona apoyo, seguridad y elogi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-2696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66cc"/>
                </a:solidFill>
                <a:latin typeface="UnitOT-Regular"/>
              </a:rPr>
              <a:t>Escucha, brinda al colaborador oportunidad para discutir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-2696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66cc"/>
                </a:solidFill>
                <a:latin typeface="UnitOT-Regular"/>
              </a:rPr>
              <a:t>Involucra al colaborador en la solución de problema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-2696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UnitOT-Regular"/>
              </a:rPr>
              <a:t>Proporciona dirección y adiestramiento  para continuar  desarrollando y perfeccionando las habilidade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-2696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UnitOT-Regular"/>
              </a:rPr>
              <a:t>Explica la razón para tomar un enfoque particular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-2696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UnitOT-Regular"/>
              </a:rPr>
              <a:t>Define que es un trajo bien hecho y como el desempeño será controlad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-2696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UnitOT-Regular"/>
              </a:rPr>
              <a:t>Continua haciendo seguimiento y proporcionando retroalimentación frecuentemente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536400" indent="-2696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UnitOT-Regular"/>
              </a:rPr>
              <a:t>Toma de decisiones finales luego de </a:t>
            </a:r>
            <a:r>
              <a:rPr b="0" lang="es-CL" sz="2000" spc="-1" strike="noStrike">
                <a:solidFill>
                  <a:srgbClr val="3366cc"/>
                </a:solidFill>
                <a:latin typeface="UnitOT-Regular"/>
              </a:rPr>
              <a:t>escuchar las ideas y los sentimientos del colaborador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37920" y="43920"/>
            <a:ext cx="9118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uando un líder utiliza el </a:t>
            </a:r>
            <a:br>
              <a:rPr sz="2800"/>
            </a:b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stilo de liderazgo  </a:t>
            </a: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poyar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713800" cy="483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449280" indent="-182520" algn="just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66cc"/>
                </a:solidFill>
                <a:latin typeface="UnitOT-Regular"/>
              </a:rPr>
              <a:t>Comparte con  el colaborador tomar la iniciativa en la planificación de acciones y solución de problema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-182520" algn="just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66cc"/>
                </a:solidFill>
                <a:latin typeface="UnitOT-Regular"/>
              </a:rPr>
              <a:t>Sirve como elemento de reflexión, estimulando al colaborador a discutir sus preocupaciones e idea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-182520" algn="just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66cc"/>
                </a:solidFill>
                <a:latin typeface="UnitOT-Regular"/>
              </a:rPr>
              <a:t>Escucha y estimula al colaborador a resolver problemas y tomar decisiones autónomamente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-182520" algn="just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66cc"/>
                </a:solidFill>
                <a:latin typeface="UnitOT-Regular"/>
              </a:rPr>
              <a:t>Proporciona seguridad, apoyo, estímulo y elogio al colaborador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-182520" algn="just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UnitOT-Regular"/>
              </a:rPr>
              <a:t>Explica maneras para hacer la meta o tarea mas interesante y desafiante, cuando la motivación es baja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-182520" algn="just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UnitOT-Regular"/>
              </a:rPr>
              <a:t>Proporciona ayuda en la solución de problemas</a:t>
            </a:r>
            <a:r>
              <a:rPr b="0" lang="es-CL" sz="2000" spc="-1" strike="noStrike">
                <a:solidFill>
                  <a:srgbClr val="3366cc"/>
                </a:solidFill>
                <a:latin typeface="UnitOT-Regular"/>
              </a:rPr>
              <a:t> compartiendo ideas, cuando se la solicitan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763280" y="115560"/>
            <a:ext cx="7389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uando un líder utiliza</a:t>
            </a:r>
            <a:br>
              <a:rPr sz="2800"/>
            </a:b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el estilo de liderazgo </a:t>
            </a: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Delegar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24000" y="1542600"/>
            <a:ext cx="8496000" cy="483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UnitOT-Regular"/>
              </a:rPr>
              <a:t>Permite al colaborador hacerse carg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UnitOT-Regular"/>
              </a:rPr>
              <a:t>Define con el colaborador los problemas y los resultados deseado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UnitOT-Regular"/>
              </a:rPr>
              <a:t>Estimula al colaborador a evaluar su propio  trabaj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UnitOT-Regular"/>
              </a:rPr>
              <a:t>Proporciona oportunidades para que el colaborador comparta y celebre éxitos y prepare a otro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UnitOT-Regular"/>
              </a:rPr>
              <a:t>Reconoce, valora y premia las contribuciones del colaborador a la organización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UnitOT-Regular"/>
              </a:rPr>
              <a:t>Desafía al colaborador a alcanzar niveles de desempeño aun mas alto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700000" y="53640"/>
            <a:ext cx="546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stilos de toma de decisiones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700360" y="1422360"/>
            <a:ext cx="5832000" cy="4959000"/>
            <a:chOff x="2700360" y="1422360"/>
            <a:chExt cx="5832000" cy="4959000"/>
          </a:xfrm>
        </p:grpSpPr>
        <p:sp>
          <p:nvSpPr>
            <p:cNvPr id="320" name="Rectangle 3"/>
            <p:cNvSpPr/>
            <p:nvPr/>
          </p:nvSpPr>
          <p:spPr>
            <a:xfrm>
              <a:off x="2746440" y="2121480"/>
              <a:ext cx="2811600" cy="12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El líder en el estilo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000000"/>
                  </a:solidFill>
                  <a:latin typeface="Arial"/>
                </a:rPr>
                <a:t>Apoy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2000" spc="-1" strike="noStrike">
                  <a:solidFill>
                    <a:srgbClr val="000000"/>
                  </a:solidFill>
                  <a:latin typeface="Arial"/>
                </a:rPr>
                <a:t>Hablemos, ambos decidim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4"/>
            <p:cNvSpPr/>
            <p:nvPr/>
          </p:nvSpPr>
          <p:spPr>
            <a:xfrm>
              <a:off x="5630400" y="2100240"/>
              <a:ext cx="2811600" cy="9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El líder en el estilo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000000"/>
                  </a:solidFill>
                  <a:latin typeface="Arial"/>
                </a:rPr>
                <a:t>Entre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2000" spc="-1" strike="noStrike">
                  <a:solidFill>
                    <a:srgbClr val="000000"/>
                  </a:solidFill>
                  <a:latin typeface="Arial"/>
                </a:rPr>
                <a:t>Hablemos, yo deci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5"/>
            <p:cNvSpPr/>
            <p:nvPr/>
          </p:nvSpPr>
          <p:spPr>
            <a:xfrm>
              <a:off x="2746440" y="4291200"/>
              <a:ext cx="2811600" cy="9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El líder en el estilo 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000000"/>
                  </a:solidFill>
                  <a:latin typeface="Arial"/>
                </a:rPr>
                <a:t>Deleg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2000" spc="-1" strike="noStrike">
                  <a:solidFill>
                    <a:srgbClr val="000000"/>
                  </a:solidFill>
                  <a:latin typeface="Arial"/>
                </a:rPr>
                <a:t>Tú dec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6"/>
            <p:cNvSpPr/>
            <p:nvPr/>
          </p:nvSpPr>
          <p:spPr>
            <a:xfrm>
              <a:off x="5630400" y="4270680"/>
              <a:ext cx="2811600" cy="9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El líder en el estilo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000000"/>
                  </a:solidFill>
                  <a:latin typeface="Arial"/>
                </a:rPr>
                <a:t>Dirig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s-CL" sz="2000" spc="-1" strike="noStrike">
                  <a:solidFill>
                    <a:srgbClr val="000000"/>
                  </a:solidFill>
                  <a:latin typeface="Arial"/>
                </a:rPr>
                <a:t>Yo deci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7"/>
            <p:cNvSpPr/>
            <p:nvPr/>
          </p:nvSpPr>
          <p:spPr>
            <a:xfrm>
              <a:off x="2700360" y="1422360"/>
              <a:ext cx="5832000" cy="495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8"/>
            <p:cNvSpPr/>
            <p:nvPr/>
          </p:nvSpPr>
          <p:spPr>
            <a:xfrm>
              <a:off x="5538240" y="1422360"/>
              <a:ext cx="1800" cy="4959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9"/>
            <p:cNvSpPr/>
            <p:nvPr/>
          </p:nvSpPr>
          <p:spPr>
            <a:xfrm>
              <a:off x="2700360" y="3731400"/>
              <a:ext cx="583200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Un líder tiene tres opciones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63720" y="1773000"/>
            <a:ext cx="764064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Utilizar el estilo requerid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upervisar excesivamente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upervisar insuficientemente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71280" y="15192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Consecuencias de la </a:t>
            </a:r>
            <a:br>
              <a:rPr sz="3000"/>
            </a:b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supervisión excesiva</a:t>
            </a:r>
            <a:endParaRPr b="1" lang="en-US" sz="30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4880" y="1483920"/>
            <a:ext cx="6985080" cy="418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ticipación disminuida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rustración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sentimiento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enor iniciativa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enor autonomía en el desempeño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155268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Consecuencias de l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supervisión insufici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332000" y="1557360"/>
            <a:ext cx="71294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enor éx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rus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sent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enor inici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acciones de rechazo o eva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enor eficiencia en el desemp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050920" y="3857760"/>
            <a:ext cx="1443240" cy="1442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369040" y="3933720"/>
            <a:ext cx="1939680" cy="1511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619280" y="1773360"/>
            <a:ext cx="2235240" cy="1498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4932360" y="1628640"/>
            <a:ext cx="2697120" cy="1513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762200" y="332280"/>
            <a:ext cx="60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VENTANA DE JOH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49080" y="1301760"/>
            <a:ext cx="25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NOCIDO POR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34000" y="1301760"/>
            <a:ext cx="307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SCONOCIDO POR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6200000">
            <a:off x="-233640" y="227664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NOCI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R O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-432360" y="4472280"/>
            <a:ext cx="210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SCONOC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R O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3087720"/>
            <a:ext cx="25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VENTA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BIE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3280" y="3087720"/>
            <a:ext cx="32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VENTA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IE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19280" y="517536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VENTA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ER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16360" y="5175360"/>
            <a:ext cx="32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VENTA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SCONOC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116000" y="1700280"/>
            <a:ext cx="6840360" cy="4248000"/>
            <a:chOff x="1116000" y="1700280"/>
            <a:chExt cx="6840360" cy="4248000"/>
          </a:xfrm>
        </p:grpSpPr>
        <p:sp>
          <p:nvSpPr>
            <p:cNvPr id="95" name=""/>
            <p:cNvSpPr/>
            <p:nvPr/>
          </p:nvSpPr>
          <p:spPr>
            <a:xfrm>
              <a:off x="1116000" y="1700280"/>
              <a:ext cx="6840360" cy="424800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116000" y="3823200"/>
              <a:ext cx="6840360" cy="0"/>
            </a:xfrm>
            <a:prstGeom prst="line">
              <a:avLst/>
            </a:prstGeom>
            <a:ln w="2844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4536000" y="1700280"/>
              <a:ext cx="0" cy="4248000"/>
            </a:xfrm>
            <a:prstGeom prst="line">
              <a:avLst/>
            </a:prstGeom>
            <a:ln w="2844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animClr clrSpc="rgb">
                                      <p:cBhvr>
                                        <p:cTn id="1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1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3633840" cy="93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UnitOT-Regular"/>
              </a:rPr>
              <a:t>Ejercicio Sillas</a:t>
            </a:r>
            <a:endParaRPr b="1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97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Objetivo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 algn="just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Quienes se encuentren sentados a la izquierda de la silla vacía deben pasar a sentarse a la derecha y viceversa (a través de la línea de sillas que se ha definido para estos efectos).</a:t>
            </a:r>
            <a:endParaRPr b="0" lang="en-US" sz="18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 algn="just">
              <a:lnSpc>
                <a:spcPct val="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Reglas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 algn="just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Sólo se puede avanzar al puesto vacío ubicado inmediatamente al lado, o saltar a un miembro del grupo que proviene desde el otro lado de la silla vacía. </a:t>
            </a:r>
            <a:endParaRPr b="0" lang="en-US" sz="18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 algn="just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Jamás se puede retroceder.</a:t>
            </a:r>
            <a:endParaRPr b="0" lang="en-US" sz="18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 algn="just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Cada vez que se compruebe que no se puede seguir avanzando se debe comenzar desde el principio.</a:t>
            </a:r>
            <a:endParaRPr b="0" lang="en-US" sz="1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1979640" y="198360"/>
            <a:ext cx="614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Arial"/>
              </a:rPr>
              <a:t>Ejercici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4067280" y="515772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Septiembre 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pie copia"/>
          <p:cNvPicPr/>
          <p:nvPr/>
        </p:nvPicPr>
        <p:blipFill>
          <a:blip r:embed="rId1"/>
          <a:stretch/>
        </p:blipFill>
        <p:spPr>
          <a:xfrm>
            <a:off x="1116000" y="6283440"/>
            <a:ext cx="7201080" cy="458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ROSELY"/>
          <p:cNvPicPr/>
          <p:nvPr/>
        </p:nvPicPr>
        <p:blipFill>
          <a:blip r:embed="rId2"/>
          <a:stretch/>
        </p:blipFill>
        <p:spPr>
          <a:xfrm>
            <a:off x="468360" y="1989000"/>
            <a:ext cx="2125440" cy="2125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330200" y="2246400"/>
            <a:ext cx="8713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088a"/>
                </a:solidFill>
                <a:latin typeface="UnitOT-Regular"/>
              </a:rPr>
              <a:t>Módulo Liderazgo</a:t>
            </a:r>
            <a:br>
              <a:rPr sz="2800"/>
            </a:br>
            <a:r>
              <a:rPr b="1" lang="en-US" sz="2800" spc="-1" strike="noStrike">
                <a:solidFill>
                  <a:srgbClr val="0e088a"/>
                </a:solidFill>
                <a:latin typeface="UnitOT-Regular"/>
              </a:rPr>
              <a:t>Diploma en Gerencia Pú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31640" y="417600"/>
            <a:ext cx="4464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UnitOT-Regular"/>
              </a:rPr>
              <a:t>OBJETIVOS ESPECÍFICOS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UnitOT-Regular"/>
              </a:rPr>
              <a:t>DEL MODULO</a:t>
            </a:r>
            <a:endParaRPr b="1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nsibilizar respecto a  la necesidad de ser flexible y adaptable en relación al estilo de liderazgo, a fin de lograr los objetivos en un ambiente de participación, cambio y diversidad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render las consecuencias del uso inapropiado de los estilos de liderazgo y cómo afectan el logro de los objetivos, sensibilizando respecto al proceso de la delegación y generación de autonomía en los colaboradore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71280" y="404640"/>
            <a:ext cx="5256360" cy="93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reencias acerca </a:t>
            </a:r>
            <a:br>
              <a:rPr sz="2800"/>
            </a:b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el Rol del Líder 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108" name="Picture 4" descr="IMG_0165"/>
          <p:cNvPicPr/>
          <p:nvPr/>
        </p:nvPicPr>
        <p:blipFill>
          <a:blip r:embed="rId1"/>
          <a:stretch/>
        </p:blipFill>
        <p:spPr>
          <a:xfrm>
            <a:off x="755640" y="3429000"/>
            <a:ext cx="2184480" cy="285912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6"/>
          <p:cNvSpPr/>
          <p:nvPr/>
        </p:nvSpPr>
        <p:spPr>
          <a:xfrm>
            <a:off x="2771640" y="1773360"/>
            <a:ext cx="5256360" cy="2376360"/>
          </a:xfrm>
          <a:prstGeom prst="cloudCallout">
            <a:avLst>
              <a:gd name="adj1" fmla="val -47555"/>
              <a:gd name="adj2" fmla="val 501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¿Qué le pediría a un líder ide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73080" y="304560"/>
            <a:ext cx="5794560" cy="74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Liderazgo eficaz</a:t>
            </a:r>
            <a:endParaRPr b="1" lang="en-US" sz="34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664920" y="3705120"/>
            <a:ext cx="1540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FLUYE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441360" y="4205160"/>
            <a:ext cx="2011320" cy="427320"/>
            <a:chOff x="441360" y="4205160"/>
            <a:chExt cx="2011320" cy="427320"/>
          </a:xfrm>
        </p:grpSpPr>
        <p:grpSp>
          <p:nvGrpSpPr>
            <p:cNvPr id="113" name="Group 5"/>
            <p:cNvGrpSpPr/>
            <p:nvPr/>
          </p:nvGrpSpPr>
          <p:grpSpPr>
            <a:xfrm>
              <a:off x="441360" y="4205160"/>
              <a:ext cx="426960" cy="427320"/>
              <a:chOff x="441360" y="4205160"/>
              <a:chExt cx="426960" cy="427320"/>
            </a:xfrm>
          </p:grpSpPr>
          <p:sp>
            <p:nvSpPr>
              <p:cNvPr id="114" name="Oval 6"/>
              <p:cNvSpPr/>
              <p:nvPr/>
            </p:nvSpPr>
            <p:spPr>
              <a:xfrm>
                <a:off x="441360" y="4205160"/>
                <a:ext cx="426960" cy="427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7"/>
              <p:cNvSpPr/>
              <p:nvPr/>
            </p:nvSpPr>
            <p:spPr>
              <a:xfrm>
                <a:off x="492120" y="4268880"/>
                <a:ext cx="2984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6600" rIns="66600" tIns="33480" bIns="33480" anchor="t">
                <a:spAutoFit/>
              </a:bodyPr>
              <a:p>
                <a:pPr algn="ctr"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1" lang="es-CL" sz="1800" spc="-1" strike="noStrike">
                    <a:solidFill>
                      <a:srgbClr val="003399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8"/>
            <p:cNvGrpSpPr/>
            <p:nvPr/>
          </p:nvGrpSpPr>
          <p:grpSpPr>
            <a:xfrm>
              <a:off x="2025720" y="4205160"/>
              <a:ext cx="426960" cy="427320"/>
              <a:chOff x="2025720" y="4205160"/>
              <a:chExt cx="426960" cy="427320"/>
            </a:xfrm>
          </p:grpSpPr>
          <p:sp>
            <p:nvSpPr>
              <p:cNvPr id="117" name="Oval 9"/>
              <p:cNvSpPr/>
              <p:nvPr/>
            </p:nvSpPr>
            <p:spPr>
              <a:xfrm>
                <a:off x="2025720" y="4205160"/>
                <a:ext cx="426960" cy="427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0"/>
              <p:cNvSpPr/>
              <p:nvPr/>
            </p:nvSpPr>
            <p:spPr>
              <a:xfrm>
                <a:off x="2076480" y="4268880"/>
                <a:ext cx="2984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6600" rIns="66600" tIns="33480" bIns="33480" anchor="t">
                <a:spAutoFit/>
              </a:bodyPr>
              <a:p>
                <a:pPr algn="ctr"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1" lang="es-CL" sz="1800" spc="-1" strike="noStrike">
                    <a:solidFill>
                      <a:srgbClr val="003399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Line 11"/>
            <p:cNvSpPr/>
            <p:nvPr/>
          </p:nvSpPr>
          <p:spPr>
            <a:xfrm>
              <a:off x="971640" y="4419720"/>
              <a:ext cx="95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12"/>
          <p:cNvGrpSpPr/>
          <p:nvPr/>
        </p:nvGrpSpPr>
        <p:grpSpPr>
          <a:xfrm>
            <a:off x="5967360" y="1382760"/>
            <a:ext cx="2549520" cy="3974040"/>
            <a:chOff x="5967360" y="1382760"/>
            <a:chExt cx="2549520" cy="3974040"/>
          </a:xfrm>
        </p:grpSpPr>
        <p:sp>
          <p:nvSpPr>
            <p:cNvPr id="121" name="Rectangle 13"/>
            <p:cNvSpPr/>
            <p:nvPr/>
          </p:nvSpPr>
          <p:spPr>
            <a:xfrm>
              <a:off x="7146720" y="1382760"/>
              <a:ext cx="87840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EFICA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6964200" y="5040360"/>
              <a:ext cx="108108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INEFICA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15"/>
            <p:cNvGrpSpPr/>
            <p:nvPr/>
          </p:nvGrpSpPr>
          <p:grpSpPr>
            <a:xfrm>
              <a:off x="5967360" y="1671480"/>
              <a:ext cx="2549520" cy="3302280"/>
              <a:chOff x="5967360" y="1671480"/>
              <a:chExt cx="2549520" cy="3302280"/>
            </a:xfrm>
          </p:grpSpPr>
          <p:sp>
            <p:nvSpPr>
              <p:cNvPr id="124" name="AutoShape 16"/>
              <p:cNvSpPr/>
              <p:nvPr/>
            </p:nvSpPr>
            <p:spPr>
              <a:xfrm rot="16200000">
                <a:off x="5540400" y="2201400"/>
                <a:ext cx="3095640" cy="2241720"/>
              </a:xfrm>
              <a:prstGeom prst="triangle">
                <a:avLst>
                  <a:gd name="adj" fmla="val 50625"/>
                </a:avLst>
              </a:prstGeom>
              <a:solidFill>
                <a:srgbClr val="bbe0e3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17"/>
              <p:cNvSpPr/>
              <p:nvPr/>
            </p:nvSpPr>
            <p:spPr>
              <a:xfrm>
                <a:off x="8217000" y="1671480"/>
                <a:ext cx="0" cy="330228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18"/>
              <p:cNvSpPr/>
              <p:nvPr/>
            </p:nvSpPr>
            <p:spPr>
              <a:xfrm>
                <a:off x="8242200" y="183024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19"/>
              <p:cNvSpPr/>
              <p:nvPr/>
            </p:nvSpPr>
            <p:spPr>
              <a:xfrm>
                <a:off x="8242200" y="487692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20"/>
              <p:cNvSpPr/>
              <p:nvPr/>
            </p:nvSpPr>
            <p:spPr>
              <a:xfrm>
                <a:off x="8253360" y="208440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21"/>
              <p:cNvSpPr/>
              <p:nvPr/>
            </p:nvSpPr>
            <p:spPr>
              <a:xfrm>
                <a:off x="8263080" y="233856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22"/>
              <p:cNvSpPr/>
              <p:nvPr/>
            </p:nvSpPr>
            <p:spPr>
              <a:xfrm>
                <a:off x="8253360" y="259092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23"/>
              <p:cNvSpPr/>
              <p:nvPr/>
            </p:nvSpPr>
            <p:spPr>
              <a:xfrm>
                <a:off x="8242200" y="284472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24"/>
              <p:cNvSpPr/>
              <p:nvPr/>
            </p:nvSpPr>
            <p:spPr>
              <a:xfrm>
                <a:off x="8253360" y="309888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25"/>
              <p:cNvSpPr/>
              <p:nvPr/>
            </p:nvSpPr>
            <p:spPr>
              <a:xfrm>
                <a:off x="8253360" y="335268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26"/>
              <p:cNvSpPr/>
              <p:nvPr/>
            </p:nvSpPr>
            <p:spPr>
              <a:xfrm>
                <a:off x="8253360" y="360684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27"/>
              <p:cNvSpPr/>
              <p:nvPr/>
            </p:nvSpPr>
            <p:spPr>
              <a:xfrm>
                <a:off x="8263080" y="386064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28"/>
              <p:cNvSpPr/>
              <p:nvPr/>
            </p:nvSpPr>
            <p:spPr>
              <a:xfrm>
                <a:off x="8253360" y="411480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29"/>
              <p:cNvSpPr/>
              <p:nvPr/>
            </p:nvSpPr>
            <p:spPr>
              <a:xfrm>
                <a:off x="8263080" y="436896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30"/>
              <p:cNvSpPr/>
              <p:nvPr/>
            </p:nvSpPr>
            <p:spPr>
              <a:xfrm>
                <a:off x="8263080" y="462276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Rectangle 31"/>
            <p:cNvSpPr/>
            <p:nvPr/>
          </p:nvSpPr>
          <p:spPr>
            <a:xfrm>
              <a:off x="6554880" y="2967120"/>
              <a:ext cx="1667880" cy="10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r"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ACTITUD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OMPROMI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SENTIMIEN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Rectangle 32"/>
          <p:cNvSpPr/>
          <p:nvPr/>
        </p:nvSpPr>
        <p:spPr>
          <a:xfrm>
            <a:off x="3795120" y="2525760"/>
            <a:ext cx="12610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N ÉX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3"/>
          <p:cNvSpPr/>
          <p:nvPr/>
        </p:nvSpPr>
        <p:spPr>
          <a:xfrm>
            <a:off x="3853080" y="6021360"/>
            <a:ext cx="114984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IN ÉX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35"/>
          <p:cNvSpPr/>
          <p:nvPr/>
        </p:nvSpPr>
        <p:spPr>
          <a:xfrm rot="16200000">
            <a:off x="2844360" y="3236400"/>
            <a:ext cx="3046680" cy="2471760"/>
          </a:xfrm>
          <a:prstGeom prst="triangle">
            <a:avLst>
              <a:gd name="adj" fmla="val 50625"/>
            </a:avLst>
          </a:prstGeom>
          <a:solidFill>
            <a:srgbClr val="bbe0e3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6"/>
          <p:cNvSpPr/>
          <p:nvPr/>
        </p:nvSpPr>
        <p:spPr>
          <a:xfrm>
            <a:off x="5567400" y="2790720"/>
            <a:ext cx="0" cy="330228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7"/>
          <p:cNvSpPr/>
          <p:nvPr/>
        </p:nvSpPr>
        <p:spPr>
          <a:xfrm>
            <a:off x="5592600" y="294948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8"/>
          <p:cNvSpPr/>
          <p:nvPr/>
        </p:nvSpPr>
        <p:spPr>
          <a:xfrm>
            <a:off x="5592600" y="599616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9"/>
          <p:cNvSpPr/>
          <p:nvPr/>
        </p:nvSpPr>
        <p:spPr>
          <a:xfrm>
            <a:off x="5603760" y="320364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0"/>
          <p:cNvSpPr/>
          <p:nvPr/>
        </p:nvSpPr>
        <p:spPr>
          <a:xfrm>
            <a:off x="5613480" y="3457440"/>
            <a:ext cx="25380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1"/>
          <p:cNvSpPr/>
          <p:nvPr/>
        </p:nvSpPr>
        <p:spPr>
          <a:xfrm>
            <a:off x="5603760" y="371016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42"/>
          <p:cNvSpPr/>
          <p:nvPr/>
        </p:nvSpPr>
        <p:spPr>
          <a:xfrm>
            <a:off x="5592600" y="396396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3"/>
          <p:cNvSpPr/>
          <p:nvPr/>
        </p:nvSpPr>
        <p:spPr>
          <a:xfrm>
            <a:off x="5603760" y="421812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44"/>
          <p:cNvSpPr/>
          <p:nvPr/>
        </p:nvSpPr>
        <p:spPr>
          <a:xfrm>
            <a:off x="5603760" y="447192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45"/>
          <p:cNvSpPr/>
          <p:nvPr/>
        </p:nvSpPr>
        <p:spPr>
          <a:xfrm>
            <a:off x="5603760" y="472608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6"/>
          <p:cNvSpPr/>
          <p:nvPr/>
        </p:nvSpPr>
        <p:spPr>
          <a:xfrm>
            <a:off x="5613480" y="4979880"/>
            <a:ext cx="25380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7"/>
          <p:cNvSpPr/>
          <p:nvPr/>
        </p:nvSpPr>
        <p:spPr>
          <a:xfrm>
            <a:off x="5603760" y="523404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8"/>
          <p:cNvSpPr/>
          <p:nvPr/>
        </p:nvSpPr>
        <p:spPr>
          <a:xfrm>
            <a:off x="5613480" y="5487840"/>
            <a:ext cx="25380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49"/>
          <p:cNvSpPr/>
          <p:nvPr/>
        </p:nvSpPr>
        <p:spPr>
          <a:xfrm>
            <a:off x="5613480" y="5742000"/>
            <a:ext cx="25380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0"/>
          <p:cNvSpPr/>
          <p:nvPr/>
        </p:nvSpPr>
        <p:spPr>
          <a:xfrm>
            <a:off x="3317400" y="4110120"/>
            <a:ext cx="2115720" cy="9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MPORT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DESEMPE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20:51:25Z</dcterms:created>
  <dc:creator>usuario</dc:creator>
  <dc:description/>
  <dc:language>en-US</dc:language>
  <cp:lastModifiedBy>usuario</cp:lastModifiedBy>
  <dcterms:modified xsi:type="dcterms:W3CDTF">2010-09-27T19:55:07Z</dcterms:modified>
  <cp:revision>291</cp:revision>
  <dc:subject/>
  <dc:title>Título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46805845</vt:r8>
  </property>
  <property fmtid="{D5CDD505-2E9C-101B-9397-08002B2CF9AE}" pid="3" name="_AuthorEmail">
    <vt:lpwstr>cbinimel@dii.uchile.cl</vt:lpwstr>
  </property>
  <property fmtid="{D5CDD505-2E9C-101B-9397-08002B2CF9AE}" pid="4" name="_AuthorEmailDisplayName">
    <vt:lpwstr>Cristian Binimelis S.</vt:lpwstr>
  </property>
  <property fmtid="{D5CDD505-2E9C-101B-9397-08002B2CF9AE}" pid="5" name="_EmailSubject">
    <vt:lpwstr>Estudio de liderazgo directivo</vt:lpwstr>
  </property>
</Properties>
</file>