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4.jpeg" ContentType="image/jpeg"/>
  <Override PartName="/ppt/media/image7.jpeg" ContentType="image/jpeg"/>
  <Override PartName="/ppt/media/image5.jpeg" ContentType="image/jpeg"/>
  <Override PartName="/ppt/media/image3.jpeg" ContentType="image/jpeg"/>
  <Override PartName="/ppt/media/CHIMES.WAV" ContentType="audio/x-wav"/>
  <Override PartName="/ppt/media/image8.jpeg" ContentType="image/jpeg"/>
  <Override PartName="/ppt/media/DRUMROLL.WAV" ContentType="audio/x-wav"/>
  <Override PartName="/ppt/media/image10.jpeg" ContentType="image/jpeg"/>
  <Override PartName="/ppt/media/CASHREG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DRIVEBY.WAV" ContentType="audio/x-wav"/>
  <Override PartName="/ppt/media/image2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media/image17.jpeg" ContentType="image/jpeg"/>
  <Override PartName="/ppt/media/APPLAUSE.WAV" ContentType="audio/x-wav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3DD2F5-F237-432B-9F0D-496D6FB03D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101B19-923A-4B84-877A-AB96BE326E8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59221CD-1D51-4062-A852-A7EA9A6C59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7E21E8B-20B3-4245-8279-5CD5FE540C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CB1FB8-6769-466E-A168-570DCA2083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BFF46E9-89EA-41FB-B8DB-C93CCE4C22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BFC077A-0724-4BD7-83F0-5AF2236663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7F291A6-D08E-4C9A-B2DC-62191FE3DC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97AB93F-34F6-4C6F-BE98-F0B51B6B4F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2082517-A3C2-4EB4-9152-993061CB1A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0D1447B-53CD-4FFF-9E9E-E498C17F00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12BEA28-2C7C-4AEB-8765-2F3262C9EE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047F7CB-BD18-4C80-BA8E-15BB0BB772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1EA8BFD-E425-4BC9-9112-5A129F4F08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F3AEA3D-BBB0-4441-BD6A-72A458B779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F2E6C17-0AE6-479F-8546-58861D5497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C4BAA80-1EC1-435B-A703-D00A9013A6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277E971-0EEE-4AE0-BBDE-A42D5DAEC2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3D3D695-A99C-4106-920D-23919817EB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F7D2DE6-940B-4D25-8DD2-1A5907E18F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0EBBC97-AE22-4028-8CDE-48B4CECB80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38AB867-4E2D-4DD2-B02F-AB33890CA1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F68BC55-7AB9-4622-8873-A0336027F5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E98CEDA-41C7-4F18-B780-924001B576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A8E8A0E-5477-442F-9F07-1A4027F765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3DD490B-10DE-4D4C-8866-E98A3A676C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6ABFF96-EE07-4A1E-A99A-7B9FC04998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34E57A-2FBB-4FB9-8680-5B566A1858F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BE31950-C144-429E-B414-FA395B90E5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40B7E4B-5B30-438E-ABA2-0DFDE9B74D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8C5-EE73-4B45-8573-F90D074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2D0-B619-4BBF-9043-1AD64840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D19-D389-4FC0-98D4-DBF13167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C0B-5E40-4BB7-AC77-EF3A2017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847-92B9-4072-8900-3E74A512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21D-E4E7-4DF6-9456-A7CC013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CD3-7675-427E-A4DC-ADC477B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716-7D41-4A19-AD35-2466442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E6C-C5BB-4EAB-B913-55C84C63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743-27E6-4836-892C-D390903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273-27A8-495D-AA5E-406B08A0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268-033B-47E9-9594-0DCDC57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493-11AA-4B22-A318-8A5F9190F59C}" type="slidenum"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ptiembr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Diploma de Postítulo en </a:t>
            </a:r>
            <a:br>
              <a:rPr sz="2400"/>
            </a:b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Gestión Estratégica Educativa y </a:t>
            </a:r>
            <a:br>
              <a:rPr sz="2400"/>
            </a:b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Proyecto de Gest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habilidades de un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Diagnostic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69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269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75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76360" y="189000"/>
            <a:ext cx="7416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UnitOT-Regular"/>
              </a:rPr>
              <a:t>Niveles de Madurez de los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UnitOT-Regular"/>
              </a:rPr>
              <a:t>Colaboradores por Tarea / 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773360"/>
          <a:ext cx="7543800" cy="466704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6040"/>
                <a:gridCol w="18856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rot="19528200">
            <a:off x="3704040" y="47253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43400">
            <a:off x="2865960" y="349992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2992320"/>
            <a:ext cx="7458120" cy="259740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8320" y="279864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83" name="Picture 4" descr="2365514672_60a54f915c"/>
          <p:cNvPicPr/>
          <p:nvPr/>
        </p:nvPicPr>
        <p:blipFill>
          <a:blip r:embed="rId1"/>
          <a:stretch/>
        </p:blipFill>
        <p:spPr>
          <a:xfrm>
            <a:off x="7545240" y="3645000"/>
            <a:ext cx="1501920" cy="3101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088a"/>
                </a:solidFill>
                <a:latin typeface="UnitOT-Regular"/>
              </a:rPr>
              <a:t>Entregar a los participantes distinciones y modelos que les permitan comprender  y mejorar la gestión de personas, atendiendo a las complejidades inherentes al contexto educacional públic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Entregar herramientas para el autodiagnóstico de los estilos de liderazgo y para el diagnóstico del nivel de desarrollo de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Discutir respecto a la importancia de ser flexible y adaptable en relación al estilo de liderazgo, en lo que respecta a los niveles de desarroll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088a"/>
                </a:solidFill>
                <a:latin typeface="UnitOT-Regular"/>
              </a:rPr>
              <a:t>Entregar las herramientas necesarias para </a:t>
            </a: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diagnosticar y gestionar en forma efectiva los problemas más comunes que surgen en las situaciones de trabajo en equipo, basados en las propiedades que caracterizan a los equipos de alto rendimient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Analizar los distintos modos de enfrentamiento de conflictos, así como cuáles son los más apropiados para el contexto particular en el que se desenvuelven los particip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89" name="Picture 4" descr="2365498558_25b23fee5f"/>
          <p:cNvPicPr/>
          <p:nvPr/>
        </p:nvPicPr>
        <p:blipFill>
          <a:blip r:embed="rId1"/>
          <a:stretch/>
        </p:blipFill>
        <p:spPr>
          <a:xfrm>
            <a:off x="6156360" y="3716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Retroalimentación marginal que le ayude a mejorar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96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99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1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Le dice al colaborador qué hacer, cuándo y cómo hacerl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Define los papeles del líder y del colaborador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Supervisa de cerca el desempeñ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4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Se compromete más en la comunicación bilateral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Escucha y proporciona apoyo y estímul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Involucra al colaborador en la toma de decisione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Estimula y facilita la autonomía en la solución de problema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8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10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3"/>
          <p:cNvSpPr/>
          <p:nvPr/>
        </p:nvSpPr>
        <p:spPr>
          <a:xfrm>
            <a:off x="4427640" y="1574640"/>
            <a:ext cx="2714400" cy="3603960"/>
          </a:xfrm>
          <a:prstGeom prst="pie">
            <a:avLst/>
          </a:pr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4"/>
          <p:cNvSpPr/>
          <p:nvPr/>
        </p:nvSpPr>
        <p:spPr>
          <a:xfrm>
            <a:off x="1857240" y="1574640"/>
            <a:ext cx="2641680" cy="3603960"/>
          </a:xfrm>
          <a:prstGeom prst="pie">
            <a:avLst/>
          </a:pr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D96-3E7F-4570-8969-2D9429FDC2D8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4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7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28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6"/>
          <p:cNvCxnSpPr>
            <a:stCxn id="254" idx="2"/>
            <a:endCxn id="288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AutoShape 67"/>
          <p:cNvCxnSpPr>
            <a:stCxn id="253" idx="2"/>
            <a:endCxn id="239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03" name="AutoShape 68"/>
          <p:cNvCxnSpPr>
            <a:stCxn id="252" idx="2"/>
            <a:endCxn id="238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4" name="AutoShape 69"/>
          <p:cNvCxnSpPr>
            <a:stCxn id="251" idx="2"/>
            <a:endCxn id="237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0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Reconoce el entusiasmo del colaborador y las habilidades transferibles del colaborador y su progreso hasta la fech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uzzle1"/>
          <p:cNvSpPr/>
          <p:nvPr/>
        </p:nvSpPr>
        <p:spPr>
          <a:xfrm>
            <a:off x="2844720" y="5373720"/>
            <a:ext cx="2158920" cy="122400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4"/>
          <p:cNvSpPr/>
          <p:nvPr/>
        </p:nvSpPr>
        <p:spPr>
          <a:xfrm>
            <a:off x="5292720" y="5329080"/>
            <a:ext cx="1700280" cy="126864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360" y="1871640"/>
            <a:ext cx="104292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871640"/>
            <a:ext cx="104292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871640"/>
            <a:ext cx="97308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71640"/>
            <a:ext cx="97308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871640"/>
            <a:ext cx="158112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871640"/>
            <a:ext cx="158112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1871640"/>
            <a:ext cx="2448000" cy="289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0200" y="2160720"/>
            <a:ext cx="1225440" cy="338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2160720"/>
            <a:ext cx="1225800" cy="35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2160720"/>
            <a:ext cx="1297080" cy="338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v.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Desvinc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2160720"/>
            <a:ext cx="1297080" cy="35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1871640"/>
            <a:ext cx="165708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1871640"/>
            <a:ext cx="1657080" cy="25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n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2141640"/>
            <a:ext cx="793440" cy="34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29440" y="2141640"/>
            <a:ext cx="863640" cy="34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15920"/>
            <a:ext cx="561672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130bb1"/>
                </a:solidFill>
                <a:latin typeface="Arial"/>
              </a:rPr>
              <a:t>Organización de alto rendimiento y análisis sociotécnic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3767040" y="2519280"/>
            <a:ext cx="230400" cy="302436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11164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1440" y="511164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04036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504036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29264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4653000"/>
            <a:ext cx="973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, brinda al colaborador oportunidad para discuti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Toma de decisiones finales luego de </a:t>
            </a: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r las ideas y los sentimientos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ayuda en la solución de problemas</a:t>
            </a: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00000" y="53640"/>
            <a:ext cx="546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00360" y="1422360"/>
            <a:ext cx="5832000" cy="4959000"/>
            <a:chOff x="2700360" y="1422360"/>
            <a:chExt cx="5832000" cy="4959000"/>
          </a:xfrm>
        </p:grpSpPr>
        <p:sp>
          <p:nvSpPr>
            <p:cNvPr id="320" name="Rectangle 3"/>
            <p:cNvSpPr/>
            <p:nvPr/>
          </p:nvSpPr>
          <p:spPr>
            <a:xfrm>
              <a:off x="2746440" y="2121480"/>
              <a:ext cx="281160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5630400" y="210024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746440" y="429120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5630400" y="427068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2700360" y="1422360"/>
              <a:ext cx="583200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5538240" y="142236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2700360" y="3731400"/>
              <a:ext cx="583200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4880" y="148392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5526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95" name="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363384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UnitOT-Regular"/>
              </a:rPr>
              <a:t>Ejercicio Sillas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Objetiv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Quienes se encuentren sentados a la izquierda de la silla vacía deben pasar a sentarse a la derecha y viceversa (a través de la línea de sillas que se ha definido para estos efectos)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gla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ólo se puede avanzar al puesto vacío ubicado inmediatamente al lado, o saltar a un miembro del grupo que proviene desde el otro lado de la silla vacía. 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Jamás se puede retrocede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da vez que se compruebe que no se puede seguir avanzando se debe comenzar desde el principi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79640" y="198360"/>
            <a:ext cx="614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Arial"/>
              </a:rPr>
              <a:t>Ejercic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ptiembre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88a"/>
                </a:solidFill>
                <a:latin typeface="UnitOT-Regular"/>
              </a:rPr>
              <a:t>Módulo Liderazgo</a:t>
            </a:r>
            <a:br>
              <a:rPr sz="2800"/>
            </a:br>
            <a:r>
              <a:rPr b="1" lang="en-US" sz="2800" spc="-1" strike="noStrike">
                <a:solidFill>
                  <a:srgbClr val="0e088a"/>
                </a:solidFill>
                <a:latin typeface="UnitOT-Regular"/>
              </a:rPr>
              <a:t>Diploma en Gere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08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113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114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117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121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124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10-09-27T19:55:07Z</dcterms:modified>
  <cp:revision>29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6805845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is S.</vt:lpwstr>
  </property>
  <property fmtid="{D5CDD505-2E9C-101B-9397-08002B2CF9AE}" pid="5" name="_EmailSubject">
    <vt:lpwstr>Estudio de liderazgo directivo</vt:lpwstr>
  </property>
</Properties>
</file>