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3B6C-655D-488B-8B0C-5D2DBBF4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DE51-1B95-4C45-87DB-4B3DEDAB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9B0D-186D-4C38-B827-0E96A87D9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2A13-24E3-4764-B6D3-2580EAF8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3040-DD63-4E1E-91AC-04E81A4ED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DA0D-5596-4A6A-BA34-5042DCE2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B12D-A005-40B6-A207-AD25EA66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CEF8-F50B-4968-96F2-5118C004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1519-354A-4C0E-8AE3-E243FD3D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0B02-1CAB-42A0-A0EB-CFDE3385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3433-BBD7-4B09-9A60-B06480BF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A589-39C4-4586-9F17-9535394E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6089-A828-49AA-B2C5-B9738ED2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EBF6-581E-4903-AE56-E2A167E5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A32B-ED2B-47E0-B68D-30EED501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63FE-F62A-4930-ACB5-614871AE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5A6C-147C-42F7-B0F8-D14A26A29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33C36B-6E96-4130-ADF6-4C4122E10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F59FBB-73EA-40D6-AE34-A46E073D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BBC2F0-54B1-4BAA-8D02-AE92BC78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DF1448-783B-4DD6-91D8-A714D365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2B1D43-9C66-4C80-9D02-8278A3AE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8D6A-FE74-44EA-A292-BDB9D2B3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C39C45-8490-42AA-B0A9-42674425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39469C-92B0-4D67-B174-B7FA3036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FBF6F8-BD81-4CC8-99E5-1DB4A11E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A70852-DE2D-416C-912F-CEF32C3D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E63708-8DC0-4766-B79A-615E91CA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3B0C41-DF47-4CB4-B9AA-A7EC99C4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80B5B2-6C5F-4B11-ADA1-532AC42A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E4664-7772-476A-85EC-16C1DB95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C4D9A-443A-4CF8-8DC3-215C9626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C943E-1A93-4C62-8DF3-1369D170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3761-F851-4C17-BA44-132AA1D1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F4F8E-99F9-49F5-A7BD-C1FA73D9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270EB-C5EE-4EEF-91BD-B35C801D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D8797-A7A6-415D-84F5-D9A8EE60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55B02-7FBB-44E5-A7C3-F16F82C2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8ED4C-08B9-49C3-8501-2B6500CA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5F6E4-8F81-46F8-AD92-783B768C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ABCA2-3623-405B-BD3E-1994AEDF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15DC0-FF16-42B7-B5C5-CED16DD0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F3304-8E78-4BB6-99CC-4C5E4C2E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546DB0-2A95-42C4-BAE9-5D8A01AA6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45D5-1B5A-4360-8705-82884F0F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E11799-BD37-48E5-9551-FE09331F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B737FD-BFA7-4AD8-9262-3D4A6100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49AD1E-E629-4E6C-ADD5-5CC04087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D06C4A-3A75-4653-B028-A50B9C90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B0E455-BFB9-4A6E-975A-42D293AF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615DE4-C311-4876-AF83-B330C4C3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4F77F9-7AF3-4B23-A1CC-52483087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30F9C9-2E60-4017-BBCB-CC95656D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814264-8DC2-40C7-BB95-0A8A97EB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33F976-2FA7-43D9-A6DE-3F3D0331F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5CFE-73FD-47FA-8FA6-26BF64CF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57F082-6079-45C0-A113-34C73F09A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6A15EF-C464-499E-A053-72CBFB97A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6FA64B-D19C-4A28-BA4E-210EE56D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F28CEB-5040-4594-B470-5851493F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0252EA-474B-4635-9223-FDB3DDCD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66342F-4425-4252-B141-1E9798F3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B0AA1F-37E5-4535-8814-7F8C8D5B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D5D427-27AA-42D1-9C5B-21DAA8C1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44F271-3952-4813-B119-E7CBE30E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A682C8-E17D-4434-9722-E1BA2DF7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BDF9-D10C-4ADB-8600-3F77029F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EA96F5-715D-43AF-B8D6-3692A98B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D517F1-AF3D-4C92-9A33-E7AEB043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591649-4F25-4CF7-AD87-3CB002815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CDD108-EFC4-45F9-B3F5-990CECAC8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910079-086F-4AA3-8917-78A250B2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19F7B7-D5C1-4CAB-97E3-2C87BC2F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FAD52F-BC7E-431E-8A6B-C4A7472B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A0431D-1315-487D-94C2-EDD1138B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EFC153-625F-45CF-BC39-22662DCF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35560A-CC2E-4E05-8EC2-9C87D5D8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22D2-4239-4F65-938F-E31D885A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3EB112-520E-4516-A954-D2ED0E62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D32C30-B75E-4AA9-AD4F-B499EC74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BFC18B-5741-4BB7-BDCD-21344420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234CBF-7C83-4D12-9ACC-BAE36A04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84AFF5-2354-4A98-9A95-3294A5DC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84F3-F1C2-4308-B030-AA220075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9C82-BAAD-4010-9D67-54BBF57EED5B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FE18-371F-460F-B8A6-49FE66AC75A6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c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8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8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4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c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4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c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2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2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c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29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3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31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32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B88C-867C-4E44-BAD5-801666B8641F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D50A-BEA0-4F91-B575-8D83F11AF6E6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402F-C593-4B1C-A3B1-A1E2170B9899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A7B4-0713-443D-8381-80671319BDBA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c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8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8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4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c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4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c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c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2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3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31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32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6BEB-426B-4DF8-8056-84976E8ED70F}" type="datetime">
              <a:rPr b="0" lang="es-ES" sz="1200" spc="-1" strike="noStrike">
                <a:solidFill>
                  <a:srgbClr val="fff39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E008-D2DB-48CE-A936-10B170CFA45B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C063-157E-4635-803E-DC24848BCB7F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4EDE-BD5D-4242-8978-9DBC2ECBA879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16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17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26D4-6329-4C1A-8EDF-B04F2BF49AF9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282B-D56C-442A-A4FA-6A533C18E648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20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23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57C6-E055-4FD7-81EF-E966C50309AD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3059-219F-42F9-A9B4-CD30E360AA6F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INTRODUCCIÓN A LA GESTIÓN PÚBL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ódulo: Instituciones  públicas innovadoras y de excelencia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ario Waissbluth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(mwaissbluth@dii.uchile.cl)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atías Reeves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(mreeves@dii.uchile.cl)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4 Imagen" descr=""/>
          <p:cNvPicPr/>
          <p:nvPr/>
        </p:nvPicPr>
        <p:blipFill>
          <a:blip r:embed="rId1"/>
          <a:stretch/>
        </p:blipFill>
        <p:spPr>
          <a:xfrm>
            <a:off x="5996160" y="333360"/>
            <a:ext cx="275256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CÍRCULO VIRTUOSO DE SUSTENTABIL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960200"/>
            <a:ext cx="72104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Concentrars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0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En lo que eres </a:t>
            </a:r>
            <a:r>
              <a:rPr b="0" lang="es-CL" sz="4000" spc="-1" strike="noStrike">
                <a:solidFill>
                  <a:srgbClr val="b32c16"/>
                </a:solidFill>
                <a:latin typeface="Century Schoolbook"/>
              </a:rPr>
              <a:t>excelent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0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En hacerlo con </a:t>
            </a:r>
            <a:r>
              <a:rPr b="0" lang="es-CL" sz="4000" spc="-1" strike="noStrike">
                <a:solidFill>
                  <a:srgbClr val="b32c16"/>
                </a:solidFill>
                <a:latin typeface="Century Schoolbook"/>
              </a:rPr>
              <a:t>pasió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0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En ser </a:t>
            </a:r>
            <a:r>
              <a:rPr b="0" lang="es-CL" sz="4000" spc="-1" strike="noStrike">
                <a:solidFill>
                  <a:srgbClr val="b32c16"/>
                </a:solidFill>
                <a:latin typeface="Century Schoolbook"/>
              </a:rPr>
              <a:t>persistent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0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0C1B-8576-4763-94D2-EF20CBEE3F92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CÍRCULO VIRTUOSO DE SUSTENTABIL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960200"/>
            <a:ext cx="72104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Construir </a:t>
            </a:r>
            <a:r>
              <a:rPr b="1" lang="es-CL" sz="2800" spc="-1" strike="noStrike">
                <a:solidFill>
                  <a:srgbClr val="b32c16"/>
                </a:solidFill>
                <a:latin typeface="Century Schoolbook"/>
              </a:rPr>
              <a:t>marca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 sob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Factores emociona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Resultados tangib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Century Schoolbook"/>
              </a:rPr>
              <a:t>Crear esto permite desencadenar un círculo virtuoso en donde más gente interesada te apoyará con recurs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22B6-72AF-4A98-83F9-787DC586C41A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INTRODUCCIÓN A LA GESTIÓN PÚBL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ódulo: Instituciones  públicas innovadoras y de excelencia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ario Waissbluth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(mwaissbluth@dii.uchile.cl)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atías Reeves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(mreeves@dii.uchile.cl)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6" name="4 Imagen" descr=""/>
          <p:cNvPicPr/>
          <p:nvPr/>
        </p:nvPicPr>
        <p:blipFill>
          <a:blip r:embed="rId1"/>
          <a:stretch/>
        </p:blipFill>
        <p:spPr>
          <a:xfrm>
            <a:off x="5996160" y="333360"/>
            <a:ext cx="275256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GEND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alibrar el éxito sin métricas de negoci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r capaz de lograr resultados en una estructura de poder difus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aber subir la gente correcta al carro dentro de las restricciones de los sectores socia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nstruir un motor de recursos sustentable en un ambiente sin fines de lucr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rear un círculo virtuoso de sustentabilidad construyendo la mar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A83C-46C7-4B25-AB2A-27AFE410C6A0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94920" y="549360"/>
            <a:ext cx="7993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100" spc="-1" strike="noStrike">
                <a:solidFill>
                  <a:srgbClr val="000000"/>
                </a:solidFill>
                <a:latin typeface="Century Schoolbook"/>
              </a:rPr>
              <a:t>La excelencia no es función de las circunstancias, sino un tema de elección y disciplina.</a:t>
            </a:r>
            <a:endParaRPr b="0" lang="en-US" sz="6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991F-563C-492F-B2A8-85FFA2110915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94920" y="549360"/>
            <a:ext cx="7993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100" spc="-1" strike="noStrike">
                <a:solidFill>
                  <a:srgbClr val="000000"/>
                </a:solidFill>
                <a:latin typeface="Century Schoolbook"/>
              </a:rPr>
              <a:t>Personas con pasión por lo que hacen, liderazgo, rigor y obsesión por la calidad hacen la gran diferencia.</a:t>
            </a:r>
            <a:endParaRPr b="0" lang="en-US" sz="6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65E3-EBCE-459E-9A10-D70830EC1BC1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INSTITUCIONES EXCELENTES DESTACAN POR SU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94920" y="2204640"/>
            <a:ext cx="6480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600" spc="-1" strike="noStrike">
                <a:solidFill>
                  <a:srgbClr val="000000"/>
                </a:solidFill>
                <a:latin typeface="Century Schoolbook"/>
              </a:rPr>
              <a:t>Disciplina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77FB-B2CD-49BE-9C15-268BD1296732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68" name="2 Marcador de contenido"/>
          <p:cNvSpPr/>
          <p:nvPr/>
        </p:nvSpPr>
        <p:spPr>
          <a:xfrm>
            <a:off x="1959120" y="3429000"/>
            <a:ext cx="78292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600" spc="-1" strike="noStrike">
                <a:solidFill>
                  <a:srgbClr val="000000"/>
                </a:solidFill>
                <a:latin typeface="Century Schoolbook"/>
              </a:rPr>
              <a:t>Rigurosidad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2 Marcador de contenido"/>
          <p:cNvSpPr/>
          <p:nvPr/>
        </p:nvSpPr>
        <p:spPr>
          <a:xfrm>
            <a:off x="4230720" y="4724280"/>
            <a:ext cx="57373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600" spc="-1" strike="noStrike">
                <a:solidFill>
                  <a:srgbClr val="000000"/>
                </a:solidFill>
                <a:latin typeface="Century Schoolbook"/>
              </a:rPr>
              <a:t>Pasión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CALIBRAR EL ÉXIT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960200"/>
            <a:ext cx="72104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onocer inputs y outpu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Medir impacto y monitorear rigurosamente los avanc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Century Schoolbook"/>
              </a:rPr>
              <a:t>Todo siempre con </a:t>
            </a:r>
            <a:r>
              <a:rPr b="1" i="1" lang="es-CL" sz="3200" spc="-1" strike="noStrike">
                <a:solidFill>
                  <a:srgbClr val="b32c16"/>
                </a:solidFill>
                <a:latin typeface="Century Schoolbook"/>
              </a:rPr>
              <a:t>humildad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D1EA-0F09-40C2-89D8-D4080DA89D42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LIDERAZGO PARA LOGRAR RESULTAD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960560"/>
            <a:ext cx="721044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ideres son fuertes tomadores de decision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n ambición por el cumplimiento de la misión de la organización. Poseen una suma de </a:t>
            </a: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humildad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personal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y </a:t>
            </a: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voluntad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profesional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Hacer que las cosas pasen, sin importar lo difíciles que puedan s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Century Schoolbook"/>
              </a:rPr>
              <a:t>El liderazgo es real sólo cuando la gente te sigue aún cuando tenga la libertad de no hacerlo</a:t>
            </a:r>
            <a:r>
              <a:rPr b="0" i="1" lang="es-C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B00B-9A0F-426C-B897-49AC3A8BF306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RABAJAR CON LA GENTE CORREC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960560"/>
            <a:ext cx="721044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Mecanismos de evaluación tempra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oco en obtener y retener a la gente correc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Obsesivamente productiv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Auto motivad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Auto motivad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Century Schoolbook"/>
              </a:rPr>
              <a:t>Más que lamentarse por no poder hacer algo con los malos profesionales hay que concentrarse en </a:t>
            </a:r>
            <a:r>
              <a:rPr b="1" i="1" lang="es-CL" sz="2100" spc="-1" strike="noStrike">
                <a:solidFill>
                  <a:srgbClr val="b32c16"/>
                </a:solidFill>
                <a:latin typeface="Century Schoolbook"/>
              </a:rPr>
              <a:t>potenciar</a:t>
            </a:r>
            <a:r>
              <a:rPr b="1" i="1" lang="es-CL" sz="2100" spc="-1" strike="noStrike">
                <a:solidFill>
                  <a:srgbClr val="000000"/>
                </a:solidFill>
                <a:latin typeface="Century Schoolbook"/>
              </a:rPr>
              <a:t> a los </a:t>
            </a:r>
            <a:r>
              <a:rPr b="1" i="1" lang="es-CL" sz="2100" spc="-1" strike="noStrike">
                <a:solidFill>
                  <a:srgbClr val="b32c16"/>
                </a:solidFill>
                <a:latin typeface="Century Schoolbook"/>
              </a:rPr>
              <a:t>mejores</a:t>
            </a:r>
            <a:r>
              <a:rPr b="1" i="1" lang="es-CL" sz="21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95B1-2FF2-46D6-BB86-4D5DE9EE7082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GESTIONAR RECURSOS Y SER AUTO SUSTENTABL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960200"/>
            <a:ext cx="72104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800" spc="-1" strike="noStrike">
                <a:solidFill>
                  <a:srgbClr val="000000"/>
                </a:solidFill>
                <a:latin typeface="Century Schoolbook"/>
              </a:rPr>
              <a:t>¿Cómo podemos diseñar un motor de recursos sustentable para alcanzar un desempeño superior?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A6F4-C628-442C-B2F7-50F5EE5772AF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0T00:59:54Z</dcterms:created>
  <dc:creator>Matías</dc:creator>
  <dc:description/>
  <dc:language>en-US</dc:language>
  <cp:lastModifiedBy>WinuE</cp:lastModifiedBy>
  <dcterms:modified xsi:type="dcterms:W3CDTF">2010-10-07T07:44:25Z</dcterms:modified>
  <cp:revision>21</cp:revision>
  <dc:subject/>
  <dc:title>Introducción a la Gestión Pública</dc:title>
</cp:coreProperties>
</file>