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1EC-D29A-467A-822D-E3B3BD73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353-AF5D-499B-808A-E4CBBE5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85D-FEBD-42B9-9104-9B4466C1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AD3-B7CA-41F0-A454-DD603166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5A1-8953-4E9D-A62E-95A2CA25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3A99-3BC3-4EE3-B975-67E78AAF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CDC-866E-4FD0-9960-A207B55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BDCD-4D6D-4BFE-8A17-70C1E99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FDD5-1184-4695-B33D-8CBABFE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6FF4-7403-4214-835A-DE089D2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0A8-8E1D-4A74-99F3-94CE790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55C-06CF-4A22-9A63-2CC70177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B6B5-B602-4F5E-80C8-454FBB4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A329-C9A5-4AA6-9B13-7A48D02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7CF-AD2A-4ADE-BA85-AE292D7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009-CA76-4F59-AFD0-1B672BB2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DC1B-6D08-47B2-8689-FDF3DE00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149A5-0E72-49C2-B742-D6FFBFB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79286-C5BE-4FFC-ADF1-A6E89B2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D0050-5AAC-451C-BEA5-72E0C0E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5C40C-0979-4E82-8540-9FFABAA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47C58-A6A6-43A3-963C-A2BC173D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505-036A-4B43-A4DA-F618A65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01A1C-BD86-4CAA-AB0C-CFE0FC6E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7C585-8BEA-4BF0-BEFE-86DDA43E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FA432-EF8F-4134-90ED-D05C9D9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E4BCF-1836-46BB-AB73-9BBA4410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07CCE-2E47-45B6-8A5A-EE58B9E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1A3A3-5977-4B54-AF9F-B50A266B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B537F-7CB4-4808-B4D5-6B8B08DC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FE73-02CA-4CCB-B7F5-7221FB05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95799-3BE2-4742-A572-E9F51F9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7C48-56C2-43A7-8F4B-45BD117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09B-878C-421E-A604-75BBB5F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1964-3182-483E-899B-B384CE50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84D4-41D4-49AE-A6C4-FABD3DA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7369-0334-4408-89D6-19E464E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3C24-946F-475A-8FA8-AC4428D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B0DD-85AE-4777-B1B5-B39429E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4520-06C7-4322-8E0B-7479FC5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8852-C404-449A-8D9E-FBCD2C4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DDDF-3C48-46F2-BB23-DFF250A3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F2CD-3C33-46A6-B411-B01232CB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69C04-C55F-4819-9255-D30F544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8D1-642F-4BAD-8B6D-A1C04BC4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C071E-471A-405B-BA37-C9CB2FCA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CBD76-0A0B-4E46-ACC7-553FB9F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96170-4BF2-4026-92C2-4F78A80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B334F-C379-4625-AE6B-179624A4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9A6F8-765F-4EA2-BE38-F5A6305F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3E474-CC3B-4291-AF57-36ED1A1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7E0F3-605C-430F-95EB-76DD5BC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0F690-86F6-480E-A69E-13EA3FB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9AFAB-36DC-4441-8ADB-407931F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6F739-9D26-45C0-8B79-1DC1B8E5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CCF-A669-4237-8729-9F47726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AC78B-A50E-48E3-B44A-9E51805D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A1DCE-FC7F-4FEF-A9A6-16F51A3E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B8861-E375-494C-BB85-EEAF13E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3C5D5-9200-475C-8F07-2F1C0533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0D4A0-CC1A-4F9B-8954-E60E9F0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F08D7-3A9D-4D60-837D-094282E2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5A570-4051-4D72-9731-A358131E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800F2-5293-45C9-9D91-6DD1665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C0238-DE1D-429F-B8EC-A53E45B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FFEFF-8E62-4117-A777-5179BAE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CF3-12B7-4A1D-A33C-9C9C2C4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54919-5843-413E-9E92-003E855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F760F-692B-4383-A930-FB5D2462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7272C-171F-4DED-950B-D50A4D16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84CC2-4F6D-4852-92CE-DB655CA9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797D1-645C-456B-B286-1EBBE260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6BD1B-BFB9-49B2-8D5F-DA13DF12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FE4F0-237D-4647-80AE-1BEBBC5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4259E-C7D9-40D8-A4EA-FF591340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0DC51-A85C-4342-90CA-884B2F2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FDBC1-DA86-4633-AE31-E3F0A1F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6E3-0C62-4214-B475-F54D855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309B9-2F3D-424E-B944-E27A111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1BF2B-1BF0-4C6E-82CA-1EF64D8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19158-962D-415F-AE1B-1B4FD0F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6CBA2-AEB1-4A98-831B-A2154720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046C7-5D2F-45F8-8C50-7473EB08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7EB-53D5-40EE-9B2F-5E31B86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857-3AD1-4A41-B169-F96824784E6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A27-B0FB-4411-A078-60E05B42144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F0FD-4212-46A5-AD06-B86ACC1D883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E75-CD8D-43B1-89DF-EE8D4604170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1D3-718F-4057-A85B-3BFD7EC6DF1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CDCA-F58F-46F8-8FA2-299EBC47EA4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202-4FEB-4FFB-B4BB-52D36C025F7A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1CA-2B62-472F-9644-BEFA64B45A6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FB5-0F69-427D-A06F-380F654BC19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A04-805D-4D7E-8F84-ABCB644E9ED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8E5-EB35-411A-A9DC-68DDE76D784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6658-387D-4EAA-A411-C70A2FB5B4A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177-2834-4CB0-A4C7-4EC16C7BFDE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ED6-C514-494E-8CE2-A8A2E1AB857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Concentrars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lo que eres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excel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hacerlo con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asió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ser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ersist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A86-80CA-4F97-A1C4-62349A32353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marca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 sob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Factores emocion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sultados tangib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entury Schoolbook"/>
              </a:rPr>
              <a:t>Crear esto permite desencadenar un círculo virtuoso en donde más gente interesada te apoyará con recur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42B-7B85-4B8B-973E-2A906BE1ACE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librar el éxito sin métricas de nego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r capaz de lograr resultados en una estructura de poder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aber subir la gente correcta al carro dentro de las restricciones de los sectores 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struir un motor de recursos sustentable en un ambiente sin fines de luc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rear un círculo virtuoso de sustentabilidad construyendo la mar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016-52AE-480C-A2E3-718F9D601F2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La excelencia no es función de las circunstancias, sino un tema de elección y disciplin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6613-6973-4E5F-B2DD-F112D396179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Personas con pasión por lo que hacen, liderazgo, rigor y obsesión por la calidad hacen la gran diferenci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ED55-B240-4B4A-A98C-A10D78CA781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TITUCIONES EXCELENTES DESTACAN POR SU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2204640"/>
            <a:ext cx="648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Disciplina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4C2-FDDB-4AB5-BBC2-9F5B52F1DB2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8" name="2 Marcador de contenido"/>
          <p:cNvSpPr/>
          <p:nvPr/>
        </p:nvSpPr>
        <p:spPr>
          <a:xfrm>
            <a:off x="1959120" y="3429000"/>
            <a:ext cx="7829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Rigurosidad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2 Marcador de contenido"/>
          <p:cNvSpPr/>
          <p:nvPr/>
        </p:nvSpPr>
        <p:spPr>
          <a:xfrm>
            <a:off x="4230720" y="4724280"/>
            <a:ext cx="5737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Pasió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ALIBRAR EL ÉXI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onocer inputs 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dir impacto y monitorear rigurosamente los av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entury Schoolbook"/>
              </a:rPr>
              <a:t>Todo siempre con </a:t>
            </a:r>
            <a:r>
              <a:rPr b="1" i="1" lang="es-CL" sz="32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003-AB5E-4991-AB28-78E3460CBAC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IDERAZGO PARA LOGRAR RESULT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960560"/>
            <a:ext cx="72104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ideres son fuertes tomadores de decis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 ambición por el cumplimiento de la misión de la organización. Poseen una suma de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volunt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rofesi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Hacer que las cosas pasen, sin importar lo difíciles que puedan s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Schoolbook"/>
              </a:rPr>
              <a:t>El liderazgo es real sólo cuando la gente te sigue aún cuando tenga la libertad de no hacerlo</a:t>
            </a:r>
            <a:r>
              <a:rPr b="0" i="1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63A9-0C1C-45CE-A7C4-31A2E0A42E2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RABAJAR CON LA GENTE CORREC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960560"/>
            <a:ext cx="7210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canismos de evaluación tempr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oco en obtener y retener a la gente correc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Obsesivamente productiv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Más que lamentarse por no poder hacer algo con los malos profesionales hay que concentrarse en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potenciar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 a los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mejores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6E9-5D77-434D-AFAD-F9E0DE83D76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GESTIONAR RECURSOS Y SER AUTO SUSTENTAB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000000"/>
                </a:solidFill>
                <a:latin typeface="Century Schoolbook"/>
              </a:rPr>
              <a:t>¿Cómo podemos diseñar un motor de recursos sustentable para alcanzar un desempeño superior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CB09-3363-4729-8815-DBD9EBC6AFF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WinuE</cp:lastModifiedBy>
  <dcterms:modified xsi:type="dcterms:W3CDTF">2010-10-07T07:44:25Z</dcterms:modified>
  <cp:revision>21</cp:revision>
  <dc:subject/>
  <dc:title>Introducción a la Gestión Pública</dc:title>
</cp:coreProperties>
</file>