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A2B-1862-4484-952E-B39A0722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0C1-6D72-4EBD-9CDE-92AFE976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192-13D8-4A6A-8D2E-BB04386E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6A3-B3C8-4FB5-A1BE-12CEBDCA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152C-EB47-4C18-9F65-C520BC63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6427-94CB-48D6-8347-C5646DA2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A1EA-83E7-4E67-BABC-FCB85799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F7CA-3796-465F-8A05-4961AA90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748F-2A2D-4651-8E0B-F95853FD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1336-F53D-4F27-AAA7-2299E846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0FA3-1DD5-4111-B32A-4E0BB33D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C49-FB71-43AA-ADD5-AEBE7FA8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7103-8B03-426F-8A1B-FC1B6A8B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198B-E2BE-458D-BC92-0ECCE32D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1EE4-1E7A-4364-B4CA-0662F7EA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E7D5-7A3D-4028-BC92-237BE76C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1E82-82B9-4B77-AE33-059A527D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0C6AD-BBD4-4335-872C-B7E4CD62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5DE2E-3BF1-41F7-A704-0CF8194B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99761-E5B0-4E6E-9B2C-B45B0240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0D63F-C36F-4721-9BBA-E23968CA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76D5F-6000-4937-8154-4862CE3C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DF6-287C-4D0F-A5A6-CF7E9D70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2585F-0C53-4008-8C1C-3758FB84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40E84-D483-481C-975F-3E8B7757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4BC6C-9356-4251-8BAA-68508589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7351A-A829-4A71-B2A4-2B0C1BD4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5B2F7-DA5A-4E80-BD15-35071D8E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2BDEC-B493-40FA-902E-BF0E2391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5C70E-59C7-4E13-8432-3044D5E9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78339-D6AD-4832-83D9-3A803A26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AD46E-4D2B-4C8F-88DF-253A6940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95944-4DE4-41D1-AC64-0340C328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3CF8-9C3A-4F38-9A82-44B685F3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F9B0E-5E03-4F00-A120-C3C041F9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AF612-FE29-493B-8810-0F27EB1E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6CC66-13FA-4A56-9422-BCE9BFE5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16899-FEE6-4D0C-9EC7-FC7C9C2E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6103E-7904-42AF-BFFC-1B10CD00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84E19-81A5-42A2-ADB4-7BA3A015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16210-5F9A-4432-BF3D-4C2BE65E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7F9D3-A1D7-4699-ADAB-ABD4A45E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96627-FCE7-4035-A8DD-05F6A92C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FA741-8076-40B8-85E6-EE8545AC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1CB-C7B0-4928-B71E-ADD31F48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8D761-1CC0-4FBD-BAAD-24D3A7B9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B1B1F2-B059-45EC-B2B2-3E1173B0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C17AE-EE87-40F5-80DE-A540BD6F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75EC3-6604-409B-B785-7D80DBFA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AC5EA-8D58-4C6A-A0FF-70418D09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CE254-1CF5-49F6-809E-B7FFA5BD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595F47-4783-4C38-9DA7-8B4F47FF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2C12F-12E2-4474-BD15-38205A63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F2115-FB5F-47A3-ABA8-785AEACA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9A386-F1F2-4A74-8292-130ABB6B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B45-B758-4CA8-80B8-E7B60A3B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13213-2358-4EE4-8948-546683CA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51A4C-F322-4819-AD8E-96641DA5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E647A-4E20-4A7A-92BA-007840F3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7D1AB-F330-46FA-BEC6-753C4BEF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BE7E1-477B-4A2E-B9A4-AF25CCB7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DC47E-5B91-4E8A-AC66-8031F40C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986B4-B476-499B-8AAE-970F9D6C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5EC021-F692-4C0E-8A88-77220224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CCA57-AA32-408F-87D4-D7515F5A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A6542-87B4-4DFA-9B94-B894ABDB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A71-7A8B-4F30-B323-4F727C37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7BB55-810B-4C55-B864-BB6842B8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3CCFA-89DB-4AFF-91C7-BBB854BF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F9FD0E-A8FF-4156-8291-2BCEF9EF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903E57-8966-4474-9356-4F00EED5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4C55B6-EEB0-4B12-B2EA-DC19AA7E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DC6560-36C9-4EB0-92A6-9E07590C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17C5BC-639B-4F15-98B7-7E9B97DB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C7EAA1-52CE-4490-A033-D65326F2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285AF7-D690-4463-A0A4-871FF542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20BC70-98E4-4B68-9D8A-1D643D26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A83-3BE0-44FF-B2EB-6762D8DD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FB9556-8DA8-4466-9BB1-3F7AD019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7CD254-4C62-4E20-BC7B-3D12BFAE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97117F-8557-4F52-8342-63A5EAFD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81FAF1-36D4-412C-975E-F3137BBF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1A7F9-4616-464E-9AD9-B18A0BE1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757-3FE8-4D70-A09F-395E9790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8CF3-F81B-4CA1-8EDD-77A985BBF208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2F6C-793B-4C05-9346-8040A1BC9C3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928F-0D35-47BA-9F2D-79C511439D11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F8F0-3245-4F77-9A99-6B79916B3BF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461F-77F1-448F-B85B-DEFEC018BD94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0700-2946-440E-955B-D7359CE3212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6045-D7C5-4FB4-B769-45B914291DE9}" type="datetime"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AC0F-5EB3-47D5-87F9-835655F8BF6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2032-F014-4AED-A522-E4A2627B1120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3226-7322-4EB0-A330-CE3F74A22BA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FDDB-9F25-4EFB-865C-BFFAA834F6D0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E188-9FD7-45D3-8D69-2E36F86C260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260B-2A0C-4554-BBE1-4463524F0EE7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68AA-D44F-4BDF-A386-C884810B4C7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INTRODUCCIÓN A LA GESTIÓN PÚBL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ódulo: Instituciones  públicas innovadoras y de excelenci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rio Waissbluth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waissbluth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tías Reev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reeves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4 Imagen" descr=""/>
          <p:cNvPicPr/>
          <p:nvPr/>
        </p:nvPicPr>
        <p:blipFill>
          <a:blip r:embed="rId1"/>
          <a:stretch/>
        </p:blipFill>
        <p:spPr>
          <a:xfrm>
            <a:off x="5996160" y="333360"/>
            <a:ext cx="2752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ÍRCULO VIRTUOSO DE SUSTENTABI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960200"/>
            <a:ext cx="721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Concentrars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n lo que eres </a:t>
            </a:r>
            <a:r>
              <a:rPr b="0" lang="es-CL" sz="4000" spc="-1" strike="noStrike">
                <a:solidFill>
                  <a:srgbClr val="b32c16"/>
                </a:solidFill>
                <a:latin typeface="Century Schoolbook"/>
              </a:rPr>
              <a:t>excelen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n hacerlo con </a:t>
            </a:r>
            <a:r>
              <a:rPr b="0" lang="es-CL" sz="4000" spc="-1" strike="noStrike">
                <a:solidFill>
                  <a:srgbClr val="b32c16"/>
                </a:solidFill>
                <a:latin typeface="Century Schoolbook"/>
              </a:rPr>
              <a:t>pasió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n ser </a:t>
            </a:r>
            <a:r>
              <a:rPr b="0" lang="es-CL" sz="4000" spc="-1" strike="noStrike">
                <a:solidFill>
                  <a:srgbClr val="b32c16"/>
                </a:solidFill>
                <a:latin typeface="Century Schoolbook"/>
              </a:rPr>
              <a:t>persistent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88AC-224C-45EC-AE0A-C9DAEAA2231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ÍRCULO VIRTUOSO DE SUSTENTABI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960200"/>
            <a:ext cx="721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Construir 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marca</a:t>
            </a: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 sob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Factores emociona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Resultados tangib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Century Schoolbook"/>
              </a:rPr>
              <a:t>Crear esto permite desencadenar un círculo virtuoso en donde más gente interesada te apoyará con recurs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4866-1594-4325-880F-B4673166235F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INTRODUCCIÓN A LA GESTIÓN PÚBL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ódulo: Instituciones  públicas innovadoras y de excelenci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rio Waissbluth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waissbluth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tías Reev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reeves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4 Imagen" descr=""/>
          <p:cNvPicPr/>
          <p:nvPr/>
        </p:nvPicPr>
        <p:blipFill>
          <a:blip r:embed="rId1"/>
          <a:stretch/>
        </p:blipFill>
        <p:spPr>
          <a:xfrm>
            <a:off x="5996160" y="333360"/>
            <a:ext cx="2752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GEN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alibrar el éxito sin métricas de negoc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r capaz de lograr resultados en una estructura de poder difu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aber subir la gente correcta al carro dentro de las restricciones de los sectores soci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struir un motor de recursos sustentable en un ambiente sin fines de lucr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rear un círculo virtuoso de sustentabilidad construyendo la mar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11DA-9EEE-4B06-AC6D-C04B19AB6A6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94920" y="549360"/>
            <a:ext cx="79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100" spc="-1" strike="noStrike">
                <a:solidFill>
                  <a:srgbClr val="000000"/>
                </a:solidFill>
                <a:latin typeface="Century Schoolbook"/>
              </a:rPr>
              <a:t>La excelencia no es función de las circunstancias, sino un tema de elección y disciplina.</a:t>
            </a:r>
            <a:endParaRPr b="0" lang="en-US" sz="6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BDCE-9870-4A9D-94D8-5DF6675166B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94920" y="549360"/>
            <a:ext cx="79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100" spc="-1" strike="noStrike">
                <a:solidFill>
                  <a:srgbClr val="000000"/>
                </a:solidFill>
                <a:latin typeface="Century Schoolbook"/>
              </a:rPr>
              <a:t>Personas con pasión por lo que hacen, liderazgo, rigor y obsesión por la calidad hacen la gran diferencia.</a:t>
            </a:r>
            <a:endParaRPr b="0" lang="en-US" sz="6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FCFC-2DC6-4CFC-8B1E-C7F7ED784A9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INSTITUCIONES EXCELENTES DESTACAN POR SU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94920" y="2204640"/>
            <a:ext cx="6480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00000"/>
                </a:solidFill>
                <a:latin typeface="Century Schoolbook"/>
              </a:rPr>
              <a:t>Disciplina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0553-B459-47EC-A9D3-1484918778A8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68" name="2 Marcador de contenido"/>
          <p:cNvSpPr/>
          <p:nvPr/>
        </p:nvSpPr>
        <p:spPr>
          <a:xfrm>
            <a:off x="1959120" y="3429000"/>
            <a:ext cx="78292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00000"/>
                </a:solidFill>
                <a:latin typeface="Century Schoolbook"/>
              </a:rPr>
              <a:t>Rigurosidad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2 Marcador de contenido"/>
          <p:cNvSpPr/>
          <p:nvPr/>
        </p:nvSpPr>
        <p:spPr>
          <a:xfrm>
            <a:off x="4230720" y="4724280"/>
            <a:ext cx="5737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600" spc="-1" strike="noStrike">
                <a:solidFill>
                  <a:srgbClr val="000000"/>
                </a:solidFill>
                <a:latin typeface="Century Schoolbook"/>
              </a:rPr>
              <a:t>Pasión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CALIBRAR EL ÉXI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960200"/>
            <a:ext cx="721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onocer inputs y outpu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edir impacto y monitorear rigurosamente los avan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Century Schoolbook"/>
              </a:rPr>
              <a:t>Todo siempre con </a:t>
            </a:r>
            <a:r>
              <a:rPr b="1" i="1" lang="es-CL" sz="3200" spc="-1" strike="noStrike">
                <a:solidFill>
                  <a:srgbClr val="b32c16"/>
                </a:solidFill>
                <a:latin typeface="Century Schoolbook"/>
              </a:rPr>
              <a:t>humilda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59DA-6A37-4B1A-9993-9FC32C822E7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LIDERAZGO PARA LOGRAR RESULTAD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960560"/>
            <a:ext cx="721044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ideres son fuertes tomadores de decisio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 ambición por el cumplimiento de la misión de la organización. Poseen una suma de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humildad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personal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y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voluntad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profesional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Hacer que las cosas pasen, sin importar lo difíciles que puedan s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Century Schoolbook"/>
              </a:rPr>
              <a:t>El liderazgo es real sólo cuando la gente te sigue aún cuando tenga la libertad de no hacerlo</a:t>
            </a:r>
            <a:r>
              <a:rPr b="0" i="1" lang="es-C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D506-BA07-4F74-A000-64A9D78AB44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RABAJAR CON LA GENTE CORREC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960560"/>
            <a:ext cx="721044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ecanismos de evaluación tempra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oco en obtener y retener a la gente correc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Obsesivamente productiv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uto motiva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uto motiva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Century Schoolbook"/>
              </a:rPr>
              <a:t>Más que lamentarse por no poder hacer algo con los malos profesionales hay que concentrarse en </a:t>
            </a:r>
            <a:r>
              <a:rPr b="1" i="1" lang="es-CL" sz="2100" spc="-1" strike="noStrike">
                <a:solidFill>
                  <a:srgbClr val="b32c16"/>
                </a:solidFill>
                <a:latin typeface="Century Schoolbook"/>
              </a:rPr>
              <a:t>potenciar</a:t>
            </a:r>
            <a:r>
              <a:rPr b="1" i="1" lang="es-CL" sz="2100" spc="-1" strike="noStrike">
                <a:solidFill>
                  <a:srgbClr val="000000"/>
                </a:solidFill>
                <a:latin typeface="Century Schoolbook"/>
              </a:rPr>
              <a:t> a los </a:t>
            </a:r>
            <a:r>
              <a:rPr b="1" i="1" lang="es-CL" sz="2100" spc="-1" strike="noStrike">
                <a:solidFill>
                  <a:srgbClr val="b32c16"/>
                </a:solidFill>
                <a:latin typeface="Century Schoolbook"/>
              </a:rPr>
              <a:t>mejores</a:t>
            </a:r>
            <a:r>
              <a:rPr b="1" i="1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1E81-60EF-46F5-9BF1-D12B6CEEE2CE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GESTIONAR RECURSOS Y SER AUTO SUSTENTAB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960200"/>
            <a:ext cx="7210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800" spc="-1" strike="noStrike">
                <a:solidFill>
                  <a:srgbClr val="000000"/>
                </a:solidFill>
                <a:latin typeface="Century Schoolbook"/>
              </a:rPr>
              <a:t>¿Cómo podemos diseñar un motor de recursos sustentable para alcanzar un desempeño superior?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9146-8CAC-4CB6-A593-699B3D4ECFBE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00:59:54Z</dcterms:created>
  <dc:creator>Matías</dc:creator>
  <dc:description/>
  <dc:language>en-US</dc:language>
  <cp:lastModifiedBy>WinuE</cp:lastModifiedBy>
  <dcterms:modified xsi:type="dcterms:W3CDTF">2010-10-07T07:44:25Z</dcterms:modified>
  <cp:revision>21</cp:revision>
  <dc:subject/>
  <dc:title>Introducción a la Gestión Pública</dc:title>
</cp:coreProperties>
</file>