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56F-164B-463D-B738-8C1B7EEC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B57-3ADC-4A5B-BC50-5E506FC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359-D87F-4850-823A-25F20509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125-B21C-4126-9991-B0E370FF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7443-6B2F-4B48-A4E6-0877F3C6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90AC-40B3-41E9-A58E-332C422E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AA9C-8109-4599-BEFF-3F91C53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33BD-6159-450B-810F-73E4ED19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8BF7-DF31-49F4-982C-1F7C5EF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FAC7-6AC3-40BD-86FF-08F74311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4AFC-F110-4A08-A45F-7A4B881F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5C7-86B7-4798-B8BA-DD795326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19EA-8880-4B75-B6CF-2E8732F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28EF-BAA4-44AE-9600-81D67FB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1EA2-07CC-4FF7-A787-A648A85B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15C-3A21-4F23-8EE0-5564E858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151-7CC8-4B54-930F-BFE5C5D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4CFA3-7942-40CB-B4FA-C80F8E98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F8123-B56F-414B-95D0-7744AB8F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011B3-4AD2-43F4-B717-6208F63F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259D8-7594-4BFB-8D81-02E66C8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19B81-637B-4172-AC72-E6B9075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579-9983-4D37-AB49-3977B2B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5BC5F-8340-45B2-89FB-983EAD2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2EDC7-28DF-4325-8D0D-12161953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8B4C0-03FF-4934-AD9A-1D61578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B9DC9-32AA-4258-9460-E5EAC50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FB0C5-1D72-4FC5-BD67-FF7B87A4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742D9-A618-4011-927F-10A78D29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55E6D-46B0-47EE-939B-3F47D9F7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0FF2-B119-46A4-AA6B-5863EF53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9A86-BD73-4F1D-AA5F-3C1B733F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9804C-3555-4171-8635-B3674C3F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7A5-FA2F-49C5-B92F-7B8DE250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50D5-B15A-4A71-A783-FD25B23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239C-73DA-4F6B-9CF2-2146A28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0F83-71E2-4B9E-AB89-CDE8A1D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06CA-9AA1-494A-87DE-D4F13EC2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9DD5-7DE8-42C5-866C-C45290D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E82F-B044-4B52-B913-47CAF77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05A5-8B6C-4C3F-BE8C-9F8A9DE6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1391-08B7-4644-9177-454C9E3E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8DEC-011A-405F-8EA2-F8B2A357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9B2BD-551D-442A-B84C-6AA10B68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904-284B-4D9B-AA51-3A49D8DA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0D489-DE72-474A-90D4-9DEC779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429AE-43B0-450B-A4B9-B2A1B7E7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83E0E-C915-4B0C-A363-D558F84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ABA7B-098D-40F7-AB52-5F27DB1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05E9A-3252-4630-B6DA-72448103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9C485-FC0A-48F0-9081-39DA239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C98AE-A502-4EF2-BF8C-D360375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A96C6-0017-452E-89B8-C60D3D63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A132C-70A2-4B5D-BE32-0C76B935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18A91-DC5B-4605-BC77-87825232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FF2-BBBF-4903-9B53-85078AB6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AA094-3976-4C4A-AB4C-ECC723CE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02176-02C1-4AE4-B253-D8E0C144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A9004-CA03-417B-9730-D6BB0052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07B40-2CB2-46DF-8295-DD16A5DB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8E085-E5D3-4640-BB92-37F05DB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E4D4D-8545-42CE-9B9D-CAAE5185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44C98-BAD3-400D-9C6C-94F0862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F4717-0E82-4305-A6B7-13C24870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F29D8-09A0-498F-8A85-F01EF92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51BAF-F675-4C65-A7A9-8700121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D40-749F-4BB9-B743-AFB68C8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CA2D0-9F76-4C4E-BC17-81161B3C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5E08C-6C36-45BD-97A3-226CB821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C0B65-0DCA-4DB4-A431-C1AA8384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E7D0F-FB47-4955-A507-66DD1D5C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64D95-A247-499E-B4B8-5CC20A8B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537FE-284E-4DEC-A9E3-FAC923E9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71018-B9EB-4920-8D01-24B9A73F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3F188-A5D6-48FA-BDD4-65E2CAF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75535-7D45-4B19-83F3-2BBAA237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30105-002C-419A-A2A1-FA6EE14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D45-A3A2-4BD1-955F-090BF40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7FDF4-2B7E-46E2-8F0F-7C72E2B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AA0F6-D7FD-49DC-AAA5-1128D4E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E2279-BECE-40C2-A1CE-ED4642C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42B09-0E3C-420F-9662-E60A2057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B14ED-1378-491B-AEC3-C65F87B1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631-6AA9-4233-A2F1-00E32E5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AA5-3259-4FC2-A46F-A3220A36D8E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A51-7B83-400E-9208-EBAB8BABDBF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049-879E-447D-90FF-07124F76AC7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F20-DAE5-4D56-8722-2902142712E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FF13-6555-488C-BDAB-48F99DB1D8D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587-1E8C-429C-9D07-75D101B89AB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57F-C44C-46BC-A9D0-4A19A37973A0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FB0-A255-4D0A-BDAB-0390C910F48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6816-9AAC-4931-9842-B443DDCEC8D9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659A-4F44-48C0-B528-9008362E008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06F8-9DD8-4A85-9B5C-870DD5447EA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3E47-1EB3-4AE3-BFDD-E20AAC417DB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0107-8F17-4560-AC05-87ABBDACA0C8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4DC6-1DA1-492B-AD42-604A0E2E01C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, tal como sus partes, son dinámic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volucionan en el tiempo y tienen una histor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ada parte del sistema ignora el funcionamiento general de es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l pasar a un nuevo estado, es muy difícil volver al anteri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pueden agruparse y cada una puede estar en distintos grup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versidad razonable y capacidad de sobreponers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militud y escalabilidad para adaptarse a los cambios y así sobrevivi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C10F-FEFC-4437-866B-C72A5ED215B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d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separar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algo en sus elementos constituyent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No existen curas mágicas para problemas puntuales si no se considera el sistema como un to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16E-EC8C-484E-BF50-0841D5CEE97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Sínte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qu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junta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os o más partes para producir un nuevo resultado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9C89-3798-4EAE-B980-5D4C2302BFF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ebe ser un </a:t>
            </a: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insumo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para l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íntes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0B32-3EF0-44FF-88F4-BBCE56E0C45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directivo deb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Juntar cosas diversas en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vis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herent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prender a rescat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informació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levante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unificad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solve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conflict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seña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sistema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integrad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Vincul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ón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a las redes del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entorno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omar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decision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difícil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con poca inform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2D7-0AFB-493C-84BF-915817951A3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15" name="5 Marcador de contenido" descr="cerebro.gif"/>
          <p:cNvPicPr/>
          <p:nvPr/>
        </p:nvPicPr>
        <p:blipFill>
          <a:blip r:embed="rId2"/>
          <a:stretch/>
        </p:blipFill>
        <p:spPr>
          <a:xfrm>
            <a:off x="468360" y="1608120"/>
            <a:ext cx="7632720" cy="4268880"/>
          </a:xfrm>
          <a:prstGeom prst="rect">
            <a:avLst/>
          </a:prstGeom>
          <a:ln w="0">
            <a:noFill/>
          </a:ln>
        </p:spPr>
      </p:pic>
      <p:sp>
        <p:nvSpPr>
          <p:cNvPr id="41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C05-C14E-442D-81E3-83C8C9574F3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PIEDADES EMERG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Cuando numeroso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lementos</a:t>
            </a: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l sistema están en un ciert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stado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e interactúan de una ciert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forma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 se crean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círculos viciosos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virtuosos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norme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magnitu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¿Quien lo hubiera dicho?”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2FD8-5850-46EA-B454-6A6192C2690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23" name="6 Marcador de contenido" descr="Real_Madrid.jpg"/>
          <p:cNvPicPr/>
          <p:nvPr/>
        </p:nvPicPr>
        <p:blipFill>
          <a:blip r:embed="rId2"/>
          <a:stretch/>
        </p:blipFill>
        <p:spPr>
          <a:xfrm>
            <a:off x="534960" y="1968480"/>
            <a:ext cx="5000760" cy="3332160"/>
          </a:xfrm>
          <a:prstGeom prst="rect">
            <a:avLst/>
          </a:prstGeom>
          <a:ln w="0">
            <a:noFill/>
          </a:ln>
        </p:spPr>
      </p:pic>
      <p:sp>
        <p:nvSpPr>
          <p:cNvPr id="424" name="7 CuadroTexto"/>
          <p:cNvSpPr/>
          <p:nvPr/>
        </p:nvSpPr>
        <p:spPr>
          <a:xfrm>
            <a:off x="6084720" y="2276640"/>
            <a:ext cx="20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¿Por qué el Madrid no logra ganar la Champions si tiene constantemente el mejor plantel del mundo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E525-4741-4579-8A0F-A98D791F05D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da organización debe hacer de la mejor manera posible los siguientes punt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odo de producir valor agrega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rocedimiento de toma de decisi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ecanismos de aprendizaje y contro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a forma de generar membresía entre los actores de la organiza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os mecanismos de resolución de conflicto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9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F16-5AA1-40F1-82DF-26B1622C42E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Si hacemos afirmacione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precis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van a ser poc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ignificativ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y si hacemos afirmaciones significativas, van a ser poco precisa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D5C-2564-4412-8C5B-9C4584BACDB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istemas complicados y sistemas complej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nálisis vs Sínt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piedades emerg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cesos básicos de una organ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ógica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bordando la complej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su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tologías frecu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5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63D-E4C2-478D-A243-A2B01070C4C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rigir una organización compleja, como una escuela, requiere utilizar u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njunto reducido de indicadores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ntitativos y cualitativos relevantes, olvidarse de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uantificaciones excesivas y absurd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y aprender a navegar en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onfusas aguas organizacional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políticas y gerenciales aceptando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 contradiccion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fronteras conceptuales y organizacionales difusas, y la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sabiduría poco precisa pero muy significativa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 colectivos de informantes calificad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2A67-B145-46D1-BCF1-5B87BECC497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Por donde empezar cuando todo se ve tan difícil y pareciera imposible lograr alg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4 Imagen" descr="terremoto chile.jpg"/>
          <p:cNvPicPr/>
          <p:nvPr/>
        </p:nvPicPr>
        <p:blipFill>
          <a:blip r:embed="rId2"/>
          <a:stretch/>
        </p:blipFill>
        <p:spPr>
          <a:xfrm>
            <a:off x="2333520" y="2716200"/>
            <a:ext cx="5478480" cy="3521160"/>
          </a:xfrm>
          <a:prstGeom prst="rect">
            <a:avLst/>
          </a:prstGeom>
          <a:ln w="0">
            <a:noFill/>
          </a:ln>
        </p:spPr>
      </p:pic>
      <p:sp>
        <p:nvSpPr>
          <p:cNvPr id="44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957-7039-4A62-B5D5-52357B6E95C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tender y ordenar el despelo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5 CuadroTexto"/>
          <p:cNvSpPr/>
          <p:nvPr/>
        </p:nvSpPr>
        <p:spPr>
          <a:xfrm>
            <a:off x="4716360" y="2924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32c16"/>
                </a:solidFill>
                <a:latin typeface="Century Schoolbook"/>
              </a:rPr>
              <a:t>Desesperanz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6 CuadroTexto"/>
          <p:cNvSpPr/>
          <p:nvPr/>
        </p:nvSpPr>
        <p:spPr>
          <a:xfrm>
            <a:off x="5803920" y="3852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32c16"/>
                </a:solidFill>
                <a:latin typeface="Century Schoolbook"/>
              </a:rPr>
              <a:t>Todo es un desorde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7 CuadroTexto"/>
          <p:cNvSpPr/>
          <p:nvPr/>
        </p:nvSpPr>
        <p:spPr>
          <a:xfrm>
            <a:off x="4211640" y="5148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Las cosas 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están clar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234000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Impotenc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539640" y="3573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Resignació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250920" y="551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Es lo que ha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12 CuadroTexto"/>
          <p:cNvSpPr/>
          <p:nvPr/>
        </p:nvSpPr>
        <p:spPr>
          <a:xfrm>
            <a:off x="611280" y="2349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Qué despelot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1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6443-6C88-4B23-BCC2-45D82509BCC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entury Schoolbook"/>
              </a:rPr>
              <a:t>Diagnóstico (ordenado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todos los componentes del sistema (sin hacer juicios de valor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las obstrucciones y dificultades existen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Entender interacciones entre las variables críticas del sistema y su entorn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C54-2001-4945-92CE-5416884A8D0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905800" cy="3743280"/>
          </a:xfrm>
          <a:prstGeom prst="rect">
            <a:avLst/>
          </a:prstGeom>
          <a:ln w="0">
            <a:noFill/>
          </a:ln>
        </p:spPr>
      </p:pic>
      <p:sp>
        <p:nvSpPr>
          <p:cNvPr id="46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6D2-EE90-4D5B-A9DA-9DF4320D17B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rcic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Diagnóstico (ordenado) de su escue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Schoolbook"/>
              </a:rPr>
              <a:t>Recuerde: Ciencia, Arte y Ofici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89DA-5CC2-456B-A1D6-818CEB7A5C1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6F59-58FF-4330-8F62-5C920C5C155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tendencia generalizada de organizaciones y sistemas, particularmente públicos, a generar en su interior “</a:t>
            </a:r>
            <a:r>
              <a:rPr b="0" lang="es-CL" sz="2400" spc="-1" strike="noStrike">
                <a:solidFill>
                  <a:srgbClr val="b32c16"/>
                </a:solidFill>
                <a:latin typeface="Century Schoolbook"/>
              </a:rPr>
              <a:t>islas autónom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” con agendas propias, con las consecuentes falencias derivadas de la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ausencia de coordin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propósitos superiores comu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(Propiedad emergente de sistemas complej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CD0-C430-41E7-813A-2FE71CBF60A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Forma y periodicidad de las cúpulas de los organismos públic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Burocracias profesionales y la recurrente comparación entre “carga administrativa” y “gestión”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sarrollo de agendas propia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D4F1-C659-466C-A11F-10ED7D89ED2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Paliativos para combatir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Profesionalización de designacion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Ajuste de las tareas de la organización como último recurso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omar conciencia que existe insularidad en la organiz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Interés del líder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Establecimiento de prácticas de coordin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Metas estratégicas concordada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ecnologías que faciliten el uso de la inform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TOLOGÍAS FRECU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1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1B8-CE3F-4456-8B47-D3CFF8BAF67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2"/>
          <a:stretch/>
        </p:blipFill>
        <p:spPr>
          <a:xfrm>
            <a:off x="216000" y="1657440"/>
            <a:ext cx="7956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0" name="5 Rectángulo redondeado"/>
          <p:cNvSpPr/>
          <p:nvPr/>
        </p:nvSpPr>
        <p:spPr>
          <a:xfrm>
            <a:off x="3276720" y="2637000"/>
            <a:ext cx="2193840" cy="1511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10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67F3-71EB-4B33-A286-EF6BD1B31DE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¡VAMOS QUE SE PUEDE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8538-1AFD-4FE3-AA39-B6CF4D7261E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hay que desalentarse, porque sí se pued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8" name="7 Imagen" descr="luis_tisne.jpg"/>
          <p:cNvPicPr/>
          <p:nvPr/>
        </p:nvPicPr>
        <p:blipFill>
          <a:blip r:embed="rId2"/>
          <a:stretch/>
        </p:blipFill>
        <p:spPr>
          <a:xfrm>
            <a:off x="1476360" y="2133720"/>
            <a:ext cx="56880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1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5" name="6 Rectángulo redondeado"/>
          <p:cNvSpPr/>
          <p:nvPr/>
        </p:nvSpPr>
        <p:spPr>
          <a:xfrm>
            <a:off x="5076720" y="1484280"/>
            <a:ext cx="3024360" cy="2521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7 Rectángulo redondeado"/>
          <p:cNvSpPr/>
          <p:nvPr/>
        </p:nvSpPr>
        <p:spPr>
          <a:xfrm>
            <a:off x="755640" y="2421000"/>
            <a:ext cx="2914560" cy="3024000"/>
          </a:xfrm>
          <a:custGeom>
            <a:avLst/>
            <a:gdLst>
              <a:gd name="textAreaLeft" fmla="*/ 142200 w 2914560"/>
              <a:gd name="textAreaRight" fmla="*/ 2772360 w 2914560"/>
              <a:gd name="textAreaTop" fmla="*/ 142200 h 3024000"/>
              <a:gd name="textAreaBottom" fmla="*/ 2881800 h 3024000"/>
            </a:gdLst>
            <a:ahLst/>
            <a:rect l="textAreaLeft" t="textAreaTop" r="textAreaRight" b="textAreaBottom"/>
            <a:pathLst>
              <a:path w="21600" h="22411">
                <a:moveTo>
                  <a:pt x="3600" y="0"/>
                </a:moveTo>
                <a:arcTo wR="3600" hR="3600" stAng="16200000" swAng="-5400000"/>
                <a:lnTo>
                  <a:pt x="0" y="18811"/>
                </a:lnTo>
                <a:arcTo wR="3600" hR="3600" stAng="10800000" swAng="-5400000"/>
                <a:lnTo>
                  <a:pt x="18000" y="22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icad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9BF-522F-4819-9AE6-633EECEDA3C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1" name="8 Rectángulo redondeado"/>
          <p:cNvSpPr/>
          <p:nvPr/>
        </p:nvSpPr>
        <p:spPr>
          <a:xfrm>
            <a:off x="395280" y="2276640"/>
            <a:ext cx="3130560" cy="30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13 Rectángulo redondeado"/>
          <p:cNvSpPr/>
          <p:nvPr/>
        </p:nvSpPr>
        <p:spPr>
          <a:xfrm>
            <a:off x="4427640" y="1844640"/>
            <a:ext cx="3529080" cy="266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D830-7E20-46E5-AFD0-F7AB91BBDA9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7" name="9 Rectángulo redondeado"/>
          <p:cNvSpPr/>
          <p:nvPr/>
        </p:nvSpPr>
        <p:spPr>
          <a:xfrm>
            <a:off x="395280" y="2349360"/>
            <a:ext cx="3240000" cy="23749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10 CuadroTexto"/>
          <p:cNvSpPr/>
          <p:nvPr/>
        </p:nvSpPr>
        <p:spPr>
          <a:xfrm>
            <a:off x="3924360" y="4724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6 Imagen" descr="profesores_clases.JPG"/>
          <p:cNvPicPr/>
          <p:nvPr/>
        </p:nvPicPr>
        <p:blipFill>
          <a:blip r:embed="rId3"/>
          <a:stretch/>
        </p:blipFill>
        <p:spPr>
          <a:xfrm>
            <a:off x="4211640" y="1628640"/>
            <a:ext cx="3246480" cy="2162160"/>
          </a:xfrm>
          <a:prstGeom prst="rect">
            <a:avLst/>
          </a:prstGeom>
          <a:ln w="0">
            <a:noFill/>
          </a:ln>
        </p:spPr>
      </p:pic>
      <p:sp>
        <p:nvSpPr>
          <p:cNvPr id="380" name="7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9D5-6AB3-45F7-88A3-F6692325AE6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s necesario tener un pensamiento sistémico para controlar la tendencia a auto organizarse de las partes de un sistem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83C1-F47B-41CA-9A87-0D7E90F2B48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Schoolbook"/>
              </a:rPr>
              <a:t>¿Podemos encontrar las características de un sistema complejo en una escuela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85A-7BD1-4487-BEBD-02E4FA8BDEB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oseen muchas partes y es muy difícil predecir su comportamien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interactúan de manera dinámica, sobre todo con intercambio de inform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son múltiples entre las part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Una pequeña modificación de una de las partes puede causar grandes cambios en todo el sist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nque parezcan de corto alcance, las interacciones pueden afectar muchas cos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tienen retroaliment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 complejos interactúan con un entorn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7DDD-5E09-42AE-AD58-4596B52B225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Matías</cp:lastModifiedBy>
  <dcterms:modified xsi:type="dcterms:W3CDTF">2010-09-12T22:15:48Z</dcterms:modified>
  <cp:revision>39</cp:revision>
  <dc:subject/>
  <dc:title>Introducción a la Gestión Pública</dc:title>
</cp:coreProperties>
</file>