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0E6-7D01-474F-AB94-685574A8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DF6-2041-41DD-812C-1960948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75B-4374-4EF9-ADAE-62047640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0A4-62B7-4423-991E-A5F2CE4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CCB5-0EC2-401F-8721-885FA56A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F74-B30D-432E-8DCD-CC0261E9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DFDC-D53C-492D-90D1-FA00ACA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55D-572D-4CE5-B6A8-56540B32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2A9-1AC3-4715-8856-9A46520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489-2E76-4A09-A411-571D417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76A1-8E9E-4EBB-A5E4-310E5F5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6DF-E65B-48FD-B949-C5072E35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C106-EC43-4CF8-80C6-3C45D76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D26-89CC-4B4D-9613-64027E3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072E-21F1-424B-95A1-22BC443A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43B9-249B-4163-B9B2-D9898E09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E26A-5CE3-4A87-9470-70920297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0F90A-BCE5-441D-89A1-6E025D2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56468-AB8C-4D22-889A-FACE1D1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E2429-92A5-4ACF-A013-09338CEF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73777-CA5D-4D63-BED4-FE86BB48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FBF5A-4DDC-4C5E-A540-200AE1DF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511-B015-40F8-870C-79A7695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22730-DA5A-40F0-A347-107F1993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B99A2-51C9-454B-BBD6-C62AB6C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40ED1-DE74-4906-BFEC-153E688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1B7F0-33E4-4BB8-B119-93DECC4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2E3A7-6128-4F0E-BF7C-EFAF585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53E29-49BA-46E7-9704-12763562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A0508-652E-4B37-8C5C-7E46A4AC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D7FC-D351-4694-B0DB-D381F6F0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BB57-5BA9-423D-94AD-049C7B9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8A1B-9AB6-4151-9C47-855407C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3DC-2742-4660-A0B3-4CEA6F7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A339-0298-474E-8AC2-F1FE25D0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D788-C0BD-4D6B-AAC4-C9D7406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6242-342B-4175-90D2-CFC3D82E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2396-1710-40FB-9034-776B04F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A422-BA67-4BD1-8A36-C2476AF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1FC9-AE19-4788-9CA3-B667BCF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7E1C-0BD4-406E-A90B-3C1C53D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D14B-94B2-4AFE-B13E-A6BB3E25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17EC-3547-4AA5-AAEA-EEE37F86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F58F9-298D-4157-9AD2-5B538BFA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A90-BE67-4D28-AA46-2C4E483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23AA7-78C5-428C-A4DD-D58C3272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27C47-DFEA-47F4-9D78-A427A6B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2B119-AFD0-4469-A188-916E977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6AF01-1A46-4749-A759-FC54916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2DD1E-23E3-405B-834F-27D321C6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D0661-BB29-4CB3-8E95-A2AACBF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BFBE2-31C9-4B82-B4B0-9DF6801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B7099-F16C-4194-AABE-097BD56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E0E31-FFF0-4802-8B7F-B56E444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C8002-2E49-4F83-81E5-5EFFBE8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22C-5E53-4FBE-A178-84B3C41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11522-FC73-49E8-A981-B960A1A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48264-A973-4687-9457-B0F20F12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3F516-EC5C-4D67-9830-7E4F4F59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10760-4493-4212-8A3C-23F9D32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DFC6B-F62C-4789-B12B-BB61C29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D0306-BF45-4BCF-A4AD-FB12E2E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58651-7E6C-4D9B-923D-E60D397B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7FD67-EC43-44DF-821F-5813295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1962C-8080-4244-A747-88B37CB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474CA-077D-438C-9555-A5E5D23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A32-1306-4E61-8EB4-D7E2E96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5E7A7-4433-49E6-B7A5-C61C7005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30894-EA79-4C38-A8A6-60F1CD1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9E51C-FCF8-463A-B41E-54059D91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062CB-E990-4D05-8414-ABAD1155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2DF68-9CF4-4DA9-A741-C0829DA1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0D62B-361B-4588-9723-4AB7E4A0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C8FB9-4AE0-4831-BAA1-9022861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C85DA-5363-4D24-8E07-FFA3152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055F6-A2B4-41ED-8678-2B1BD32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5CA07-47C9-4919-BFFA-1E1804D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5C4-370D-4060-973C-E269821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61957-9C27-485C-89EC-A7EACC2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8CA3A-5601-4939-87AC-1563C2EB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EDB31-21F1-45CD-B246-50F8D14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CA812-4CDB-4D16-8E00-234CB065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B059F-52DA-4E0F-9FF6-147956DB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9FA-9B23-4D28-B1C2-4320FC7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8B30-53AC-41D6-AF25-14364004905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FE7-D265-4329-83F1-89C8BE9DDA0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3C8-BC6C-45C7-BD7E-DB0BA7FFB29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4F6-C18B-49CC-9DAE-044C38FBA2A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3DF-EEB8-4C8F-B33E-54B758E9F59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CB4-1AC6-4DB6-B7B3-36C3159A326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9CF-4994-46B4-90DD-BE3D5F3DD1C7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2AB-C7D2-4226-9D64-53943C8EF85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181-92E8-402F-9719-70FDB6A98B9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92B4-DCCA-4651-849E-E7EF2CD372E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7862-B98B-4D8E-BA74-56D0DD91AA2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3E8-EFBF-4149-AE9A-8D11EFF35BE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DCD-3388-49C7-98FF-1E161DCF5572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6180-E201-4E9E-BF2A-742303AE484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, tal como sus partes, son dinámic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volucionan en el tiempo y tienen una histor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ada parte del sistema ignora el funcionamiento general de es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l pasar a un nuevo estado, es muy difícil volver al anteri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pueden agruparse y cada una puede estar en distintos grup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versidad razonable y capacidad de sobreponer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militud y escalabilidad para adaptarse a los cambios y así sobrevivi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E0E-B1F3-4782-8325-279CEF8C4C1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d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separar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algo en sus elementos constituyent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No existen curas mágicas para problemas puntuales si no se considera el sistema como un to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2EC3-42AA-4CD7-BC7A-9DE5AE58A9F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Sínte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qu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junta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os o más partes para producir un nuevo resultado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45D-97A9-4EE0-887F-92622B52CD9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ebe ser un </a:t>
            </a: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insumo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para l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íntes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8F0-1920-471B-9B2A-67D7379BDFE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directivo deb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Juntar cosas diversas en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vis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herent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prender a rescat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informació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levante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unifica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solve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conflict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seña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sistema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integrad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Vincul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ón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a las redes del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entorno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omar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decision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difícil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con poca inform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43F-D560-4768-8718-9B4006A2FFE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15" name="5 Marcador de contenido" descr="cerebro.gif"/>
          <p:cNvPicPr/>
          <p:nvPr/>
        </p:nvPicPr>
        <p:blipFill>
          <a:blip r:embed="rId2"/>
          <a:stretch/>
        </p:blipFill>
        <p:spPr>
          <a:xfrm>
            <a:off x="468360" y="1608120"/>
            <a:ext cx="7632720" cy="4268880"/>
          </a:xfrm>
          <a:prstGeom prst="rect">
            <a:avLst/>
          </a:prstGeom>
          <a:ln w="0">
            <a:noFill/>
          </a:ln>
        </p:spPr>
      </p:pic>
      <p:sp>
        <p:nvSpPr>
          <p:cNvPr id="41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D63-D03F-4D3F-B9A9-02C6EB0CA6C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PIEDADES EMERG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Cuando numeroso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lementos</a:t>
            </a: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l sistema están en un ciert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stado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e interactúan de una ciert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forma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 se crean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círculos viciosos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virtuosos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norme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magnitu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¿Quien lo hubiera dicho?”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830-65C4-469F-A460-D8A960298D2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23" name="6 Marcador de contenido" descr="Real_Madrid.jpg"/>
          <p:cNvPicPr/>
          <p:nvPr/>
        </p:nvPicPr>
        <p:blipFill>
          <a:blip r:embed="rId2"/>
          <a:stretch/>
        </p:blipFill>
        <p:spPr>
          <a:xfrm>
            <a:off x="534960" y="196848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424" name="7 CuadroTexto"/>
          <p:cNvSpPr/>
          <p:nvPr/>
        </p:nvSpPr>
        <p:spPr>
          <a:xfrm>
            <a:off x="6084720" y="2276640"/>
            <a:ext cx="20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¿Por qué el Madrid no logra ganar la Champions si tiene constantemente el mejor plantel del mundo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A47B-F430-4C7B-878E-DAEBDFF3910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da organización debe hacer de la mejor manera posible los siguientes pun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odo de producir valor agrega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rocedimiento de toma de decisi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ecanismos de aprendizaje y contro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a forma de generar membresía entre los actores de la organiza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os mecanismos de resolución de conflic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9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7D0D-AEB4-491C-A93D-F3C0DA7A16A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Si hacemos afirmacione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precis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van a ser poc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ignificativ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y si hacemos afirmaciones significativas, van a ser poco precis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ACC-3B3D-4E18-8CD4-C7166DCEEAB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istemas complicados y sistemas complej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nálisis vs Sínt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piedades emerg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cesos básicos de una organ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ógica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bordando la complej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su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tologías frecu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5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C263-619F-46CA-85D0-5AD1FCB1531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rigir una organización compleja, como una escuela, requiere utilizar u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njunto reducido de indicadores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ntitativos y cualitativos relevantes, olvidarse de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uantificaciones excesivas y absurd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y aprender a navegar en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onfusas aguas organizacional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políticas y gerenciales aceptando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 contradiccion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fronteras conceptuales y organizacionales difusas, y la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sabiduría poco precisa pero muy significativa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 colectivos de informantes calific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158-2E93-4B21-81F6-6DF4CFAE6BE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Por donde empezar cuando todo se ve tan difícil y pareciera imposible lograr alg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4 Imagen" descr="terremoto chile.jpg"/>
          <p:cNvPicPr/>
          <p:nvPr/>
        </p:nvPicPr>
        <p:blipFill>
          <a:blip r:embed="rId2"/>
          <a:stretch/>
        </p:blipFill>
        <p:spPr>
          <a:xfrm>
            <a:off x="2333520" y="2716200"/>
            <a:ext cx="5478480" cy="3521160"/>
          </a:xfrm>
          <a:prstGeom prst="rect">
            <a:avLst/>
          </a:prstGeom>
          <a:ln w="0">
            <a:noFill/>
          </a:ln>
        </p:spPr>
      </p:pic>
      <p:sp>
        <p:nvSpPr>
          <p:cNvPr id="44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B00B-D628-4A05-8CA1-99E4215E9D1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tender y ordenar el despelo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5 CuadroTexto"/>
          <p:cNvSpPr/>
          <p:nvPr/>
        </p:nvSpPr>
        <p:spPr>
          <a:xfrm>
            <a:off x="4716360" y="292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32c16"/>
                </a:solidFill>
                <a:latin typeface="Century Schoolbook"/>
              </a:rPr>
              <a:t>Desesperanz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6 CuadroTexto"/>
          <p:cNvSpPr/>
          <p:nvPr/>
        </p:nvSpPr>
        <p:spPr>
          <a:xfrm>
            <a:off x="5803920" y="3852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32c16"/>
                </a:solidFill>
                <a:latin typeface="Century Schoolbook"/>
              </a:rPr>
              <a:t>Todo es un desorde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7 CuadroTexto"/>
          <p:cNvSpPr/>
          <p:nvPr/>
        </p:nvSpPr>
        <p:spPr>
          <a:xfrm>
            <a:off x="4211640" y="5148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Las cosas 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están clar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2340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Impotenc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539640" y="3573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Resignació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250920" y="551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Es lo que ha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12 CuadroTexto"/>
          <p:cNvSpPr/>
          <p:nvPr/>
        </p:nvSpPr>
        <p:spPr>
          <a:xfrm>
            <a:off x="611280" y="23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Qué despelot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1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986-7126-4540-88BC-EC1C7AB3003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entury Schoolbook"/>
              </a:rPr>
              <a:t>Diagnóstico (ordenado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todos los componentes del sistema (sin hacer juicios de valor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las obstrucciones y dificultades existen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Entender interacciones entre las variables críticas del sistema y su entor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B8F-8AA0-4F2C-AB67-D957F2E2DB9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05800" cy="3743280"/>
          </a:xfrm>
          <a:prstGeom prst="rect">
            <a:avLst/>
          </a:prstGeom>
          <a:ln w="0">
            <a:noFill/>
          </a:ln>
        </p:spPr>
      </p:pic>
      <p:sp>
        <p:nvSpPr>
          <p:cNvPr id="4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C00-AA65-4763-B3D4-99C51DB5C94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rci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Diagnóstico (ordenado) de su escue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Schoolbook"/>
              </a:rPr>
              <a:t>Recuerde: Ciencia, Arte y Ofici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BA1A-A9C9-477E-9506-CEA3783A6AB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3D5-5C45-4CD9-BD6D-B378FE00536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tendencia generalizada de organizaciones y sistemas, particularmente públicos, a generar en su interior “</a:t>
            </a:r>
            <a:r>
              <a:rPr b="0" lang="es-CL" sz="2400" spc="-1" strike="noStrike">
                <a:solidFill>
                  <a:srgbClr val="b32c16"/>
                </a:solidFill>
                <a:latin typeface="Century Schoolbook"/>
              </a:rPr>
              <a:t>islas autónom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” con agendas propias, con las consecuentes falencias derivadas de la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ausencia de coordin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propósitos superiores comu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(Propiedad emergente de sistemas complej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E60-F118-4305-A21B-71E2DC5A76B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Forma y periodicidad de las cúpulas de los organismos públic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Burocracias profesionales y la recurrente comparación entre “carga administrativa” y “gestión”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sarrollo de agendas propia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CB8F-1BE1-4A0C-A4E3-9A0A4E7C43E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Paliativos para combatir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Profesionalización de designacion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Ajuste de las tareas de la organización como último recurso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omar conciencia que existe insularidad en la organiz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Interés del líder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Establecimiento de prácticas de coordin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Metas estratégicas concordada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ecnologías que faciliten el uso de la inform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TOLOGÍAS FRECU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1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8E8-C637-466D-86A5-E7786385510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2"/>
          <a:stretch/>
        </p:blipFill>
        <p:spPr>
          <a:xfrm>
            <a:off x="216000" y="1657440"/>
            <a:ext cx="7956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0" name="5 Rectángulo redondeado"/>
          <p:cNvSpPr/>
          <p:nvPr/>
        </p:nvSpPr>
        <p:spPr>
          <a:xfrm>
            <a:off x="3276720" y="2637000"/>
            <a:ext cx="2193840" cy="1511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10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C181-0147-4C28-9037-BF8F7E27326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¡VAMOS QUE SE PUED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236-4362-4FC7-A70C-8AE15A1121D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hay que desalentarse, porque sí se pued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7 Imagen" descr="luis_tisne.jpg"/>
          <p:cNvPicPr/>
          <p:nvPr/>
        </p:nvPicPr>
        <p:blipFill>
          <a:blip r:embed="rId2"/>
          <a:stretch/>
        </p:blipFill>
        <p:spPr>
          <a:xfrm>
            <a:off x="1476360" y="2133720"/>
            <a:ext cx="5688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5" name="6 Rectángulo redondeado"/>
          <p:cNvSpPr/>
          <p:nvPr/>
        </p:nvSpPr>
        <p:spPr>
          <a:xfrm>
            <a:off x="5076720" y="1484280"/>
            <a:ext cx="3024360" cy="2521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7 Rectángulo redondeado"/>
          <p:cNvSpPr/>
          <p:nvPr/>
        </p:nvSpPr>
        <p:spPr>
          <a:xfrm>
            <a:off x="755640" y="2421000"/>
            <a:ext cx="2914560" cy="3024000"/>
          </a:xfrm>
          <a:custGeom>
            <a:avLst/>
            <a:gdLst>
              <a:gd name="textAreaLeft" fmla="*/ 142200 w 2914560"/>
              <a:gd name="textAreaRight" fmla="*/ 2772360 w 2914560"/>
              <a:gd name="textAreaTop" fmla="*/ 142200 h 3024000"/>
              <a:gd name="textAreaBottom" fmla="*/ 2881800 h 3024000"/>
            </a:gdLst>
            <a:ahLst/>
            <a:rect l="textAreaLeft" t="textAreaTop" r="textAreaRight" b="textAreaBottom"/>
            <a:pathLst>
              <a:path w="21600" h="22411">
                <a:moveTo>
                  <a:pt x="3600" y="0"/>
                </a:moveTo>
                <a:arcTo wR="3600" hR="3600" stAng="16200000" swAng="-5400000"/>
                <a:lnTo>
                  <a:pt x="0" y="18811"/>
                </a:lnTo>
                <a:arcTo wR="3600" hR="3600" stAng="10800000" swAng="-5400000"/>
                <a:lnTo>
                  <a:pt x="18000" y="22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icad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E37B-0840-42C0-BF6E-3E062CC7894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 redondeado"/>
          <p:cNvSpPr/>
          <p:nvPr/>
        </p:nvSpPr>
        <p:spPr>
          <a:xfrm>
            <a:off x="395280" y="2276640"/>
            <a:ext cx="3130560" cy="30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13 Rectángulo redondeado"/>
          <p:cNvSpPr/>
          <p:nvPr/>
        </p:nvSpPr>
        <p:spPr>
          <a:xfrm>
            <a:off x="4427640" y="1844640"/>
            <a:ext cx="352908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C87-B91A-48D4-BB21-90694C14835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7" name="9 Rectángulo redondeado"/>
          <p:cNvSpPr/>
          <p:nvPr/>
        </p:nvSpPr>
        <p:spPr>
          <a:xfrm>
            <a:off x="395280" y="2349360"/>
            <a:ext cx="3240000" cy="2374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10 CuadroTexto"/>
          <p:cNvSpPr/>
          <p:nvPr/>
        </p:nvSpPr>
        <p:spPr>
          <a:xfrm>
            <a:off x="3924360" y="4724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6 Imagen" descr="profesores_clases.JPG"/>
          <p:cNvPicPr/>
          <p:nvPr/>
        </p:nvPicPr>
        <p:blipFill>
          <a:blip r:embed="rId3"/>
          <a:stretch/>
        </p:blipFill>
        <p:spPr>
          <a:xfrm>
            <a:off x="4211640" y="1628640"/>
            <a:ext cx="3246480" cy="2162160"/>
          </a:xfrm>
          <a:prstGeom prst="rect">
            <a:avLst/>
          </a:prstGeom>
          <a:ln w="0">
            <a:noFill/>
          </a:ln>
        </p:spPr>
      </p:pic>
      <p:sp>
        <p:nvSpPr>
          <p:cNvPr id="380" name="7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B31F-8E83-4E64-A6CF-E5A6C573110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s necesario tener un pensamiento sistémico para controlar la tendencia a auto organizarse de las partes de un siste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9BF-78FA-4F2C-B698-E9B99D5456F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Schoolbook"/>
              </a:rPr>
              <a:t>¿Podemos encontrar las características de un sistema complejo en una escuela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5DA2-958C-4547-8938-9F15B3C8481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oseen muchas partes y es muy difícil predecir su comportamien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interactúan de manera dinámica, sobre todo con intercambio de inform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son múltiples entre las part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Una pequeña modificación de una de las partes puede causar grandes cambios en todo el sist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nque parezcan de corto alcance, las interacciones pueden afectar muchas cos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tienen retroaliment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 complejos interactúan con un entorn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AD6-2160-4CCB-B0E6-3CCD8842577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Matías</cp:lastModifiedBy>
  <dcterms:modified xsi:type="dcterms:W3CDTF">2010-09-12T22:15:48Z</dcterms:modified>
  <cp:revision>39</cp:revision>
  <dc:subject/>
  <dc:title>Introducción a la Gestión Pública</dc:title>
</cp:coreProperties>
</file>