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E6B-39E4-41A6-86C4-7D3D090D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D7A-4606-4C30-81AC-DB985DE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963-9E7C-43B9-ACD5-BA3A06DE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D39-4A49-4871-8170-E1F6EBA6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D22-4A7E-4656-A337-5518A5C9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2593-A9D9-4236-8BAE-6FF2368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E66-EF90-416B-B7B5-94A5B6E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8E76-2E60-47B1-A461-629ECBD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D8B7-2B0F-47F4-9FD1-9890FD2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D51-5934-4092-8497-764BD14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E6EC-8AC4-4BF0-9E93-185C1B0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4E3-A480-47BB-A852-F037ED1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5A4A-A1BC-4022-9D4A-670279B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BF4F-B4E0-4978-B1DF-A8D1DAC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965-8165-4CD3-ABB0-5AF93F3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AC9-ABDF-4CD5-8197-FAB91A01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CDE3-DD15-41C1-B984-783EB980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13484-6F3D-4382-830B-2894417D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8C74A-278F-4601-879D-D73A345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D72B2-CA76-4403-ADDE-E84B97F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AC3E1-3B66-4175-85BB-209155DC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7BC92-6C6B-42C9-B78D-67D1F97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FAC-EE57-48AA-96BB-35BC76D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BE6FA-38DB-4F73-BB68-8432DC25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9FE08-A6B2-4066-954B-8A885A8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23D84-7DD3-40BB-93D2-104CB59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DD5F1-F1FD-45B2-94B3-1C9286F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77159-79D6-4422-8377-66079A6F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26672-BDEC-48A2-B215-BEF5DF0D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0A439-AD36-48F8-815C-23F3A9C0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ED5F-8ECD-408A-BC53-C2338C1C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C5EF-8A2D-445E-A91C-EB79D46D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C66E-10EA-49FB-96E4-590762D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40B-F5E9-4A34-927A-34326D88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2A50-861A-41AB-BF1F-88DEC733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7591-5C22-4A62-9A1D-B843B2B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DCCA-C027-447C-8115-42E6DAE6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4831-6EA4-4DB8-943E-C86EEE15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5F0F-3449-43C7-9404-593335B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41CD-7D98-4739-B168-AA400031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0BD7-BE34-4913-98A6-51612FF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2D6C-A68A-42BD-8DEE-C83F415E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4B9B-6242-470F-AF50-CD31A27B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DB304-553D-40BA-B608-B44C8D83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787-F30D-4387-94C2-A6479DF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72D7F-9607-4746-8CF5-EEF701C6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C3E6B-7C4D-460F-B401-56E6F64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2F286-6ED7-49F6-AA24-C656468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35F3C-FA6A-4883-8159-CD5D11D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AB663-14B4-408C-AA7F-FA8AD2DB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EAF6E-A5DC-43D7-94CC-DF208E2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168E7-769F-47FB-92D4-D6FA264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5B919-AB19-4E2F-8007-B4A83829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AC2E7-A308-4C01-B5E2-B82B2499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45740-D475-4A15-B069-764F871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98C-3EEA-4097-9B6D-1E687A4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7C717-C297-488C-87AF-D8AD47E3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34978-04AD-4E65-9205-BBDD538A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8AB89-3ACD-42CC-B4F9-2F25919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F5F65-80D0-4C13-982E-ABA0619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B504D-0078-47B8-8F2D-A006FAE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81703-5936-475C-BC8B-8A6AC15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600E8-8F9B-4557-AA90-BA56E9EA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52A43-3738-41BD-A50F-F4457A1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7026C-1F97-4F01-A974-C55B96D5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E124D-47E3-4A72-8EBC-A2B9C84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204-9D1C-44F0-A2FB-E5C52FF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A6536-2CE9-4B4F-B8D9-0E11E75C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FE073-8FE0-49F6-A438-4D7563D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9E4A1-F411-4C1E-A2F4-30336378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EE840-AA08-430A-B069-D24B5B62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096FA-6B55-4299-9948-DA44C33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EC98E-5636-4FC0-9F98-698D84E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045FB-BEAE-4CF5-A2C0-39C7756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38599-91E1-49E8-96A2-4FCBE78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93812-9AAD-4058-91E5-0E86DA4F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9544C-810D-47C4-8F40-DDBE63B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D4C-3FF2-4F4C-9EB9-DC9ADFA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1DA1F-A561-4696-9100-59532FE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BBF08-5035-4502-AE1B-4E272C4E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68401-96F8-45FA-AFF1-C21A8EF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A783C-064A-4624-BC1F-0E1CC382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C0FD9-F798-4B4B-9551-AD8989E1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42D-A74E-48DC-8ABF-8FAF5DC8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264B-6EAB-4490-977D-0BA4CD1083FD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1D3-6E3F-45F5-AF5D-F8A6874B76F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F61-BDB2-48CA-9355-01DC6CC6281B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C44-7A2F-43B2-80E4-426990198E4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E5EE-1AD2-4129-B4D1-55465834537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446-1CB4-4FB9-93EE-56872258984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5484-65B7-4D87-9C27-0FC0615537EC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4EE7-D0F8-45FE-AE3E-11DB4ED389B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016-3A8D-4CDE-99BD-2F834FD8B819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8B97-3D0B-4233-9CDB-DC5603D7E5C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5D35-4CC6-429D-8973-09323DA33DD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8D03-71BB-4DEA-A012-70D744CDE6E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4E9-2D67-416D-B717-FBA9FDD5E52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143-B61B-4AF0-8230-1F12D719799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, tal como sus partes, son dinámic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volucionan en el tiempo y tienen una histor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ada parte del sistema ignora el funcionamiento general de es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l pasar a un nuevo estado, es muy difícil volver al anteri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pueden agruparse y cada una puede estar en distintos grup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versidad razonable y capacidad de sobreponers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militud y escalabilidad para adaptarse a los cambios y así sobrevivi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93F5-6CEC-461F-80FC-8A7B84F7BE5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d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separar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algo en sus elementos constituyent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No existen curas mágicas para problemas puntuales si no se considera el sistema como un to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24E8-DB7A-4463-93B4-93882041CC3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Sínte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qu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junta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os o más partes para producir un nuevo resultado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06AE-6D38-4D4D-A96D-39639D88DB4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ebe ser un </a:t>
            </a: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insumo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para l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íntes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9564-4781-4F5B-86A8-9A5216E8B71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directivo deb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Juntar cosas diversas en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vis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herent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prender a rescat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informació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levante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unificad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solve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conflict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seña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sistema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integrad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Vincul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ón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a las redes del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entorno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omar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decision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difícil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con poca inform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74D-921B-454E-8869-E80BE05DB62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15" name="5 Marcador de contenido" descr="cerebro.gif"/>
          <p:cNvPicPr/>
          <p:nvPr/>
        </p:nvPicPr>
        <p:blipFill>
          <a:blip r:embed="rId2"/>
          <a:stretch/>
        </p:blipFill>
        <p:spPr>
          <a:xfrm>
            <a:off x="468360" y="1608120"/>
            <a:ext cx="7632720" cy="4268880"/>
          </a:xfrm>
          <a:prstGeom prst="rect">
            <a:avLst/>
          </a:prstGeom>
          <a:ln w="0">
            <a:noFill/>
          </a:ln>
        </p:spPr>
      </p:pic>
      <p:sp>
        <p:nvSpPr>
          <p:cNvPr id="41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9687-E725-4503-841B-61F941C2F0C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PIEDADES EMERG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Cuando numeroso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lementos</a:t>
            </a: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l sistema están en un ciert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stado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e interactúan de una ciert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forma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 se crean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círculos viciosos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virtuosos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norme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magnitu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¿Quien lo hubiera dicho?”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BBDE-3E86-4717-9584-FAF33B7DE9F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23" name="6 Marcador de contenido" descr="Real_Madrid.jpg"/>
          <p:cNvPicPr/>
          <p:nvPr/>
        </p:nvPicPr>
        <p:blipFill>
          <a:blip r:embed="rId2"/>
          <a:stretch/>
        </p:blipFill>
        <p:spPr>
          <a:xfrm>
            <a:off x="534960" y="1968480"/>
            <a:ext cx="5000760" cy="3332160"/>
          </a:xfrm>
          <a:prstGeom prst="rect">
            <a:avLst/>
          </a:prstGeom>
          <a:ln w="0">
            <a:noFill/>
          </a:ln>
        </p:spPr>
      </p:pic>
      <p:sp>
        <p:nvSpPr>
          <p:cNvPr id="424" name="7 CuadroTexto"/>
          <p:cNvSpPr/>
          <p:nvPr/>
        </p:nvSpPr>
        <p:spPr>
          <a:xfrm>
            <a:off x="6084720" y="2276640"/>
            <a:ext cx="20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¿Por qué el Madrid no logra ganar la Champions si tiene constantemente el mejor plantel del mundo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419-15FF-410E-B7D0-D57897E6DA0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da organización debe hacer de la mejor manera posible los siguientes punt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odo de producir valor agrega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rocedimiento de toma de decisi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ecanismos de aprendizaje y contro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a forma de generar membresía entre los actores de la organiza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os mecanismos de resolución de conflicto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9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D755-2006-4069-AAD3-65F99D29605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Si hacemos afirmacione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precis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van a ser poc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ignificativ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y si hacemos afirmaciones significativas, van a ser poco precisa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397F-7D64-4A9D-9B0C-71527065674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istemas complicados y sistemas complej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nálisis vs Sínt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piedades emerg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cesos básicos de una organ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ógica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bordando la complej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su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tologías frecu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5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CBA5-1B70-4698-BE53-B5DC73ECC64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rigir una organización compleja, como una escuela, requiere utilizar u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njunto reducido de indicadores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ntitativos y cualitativos relevantes, olvidarse de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uantificaciones excesivas y absurd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y aprender a navegar en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onfusas aguas organizacional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políticas y gerenciales aceptando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 contradiccion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fronteras conceptuales y organizacionales difusas, y la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sabiduría poco precisa pero muy significativa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 colectivos de informantes calificad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F82A-DF59-4436-B5F7-A31C9DCFCED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Por donde empezar cuando todo se ve tan difícil y pareciera imposible lograr alg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4 Imagen" descr="terremoto chile.jpg"/>
          <p:cNvPicPr/>
          <p:nvPr/>
        </p:nvPicPr>
        <p:blipFill>
          <a:blip r:embed="rId2"/>
          <a:stretch/>
        </p:blipFill>
        <p:spPr>
          <a:xfrm>
            <a:off x="2333520" y="2716200"/>
            <a:ext cx="5478480" cy="3521160"/>
          </a:xfrm>
          <a:prstGeom prst="rect">
            <a:avLst/>
          </a:prstGeom>
          <a:ln w="0">
            <a:noFill/>
          </a:ln>
        </p:spPr>
      </p:pic>
      <p:sp>
        <p:nvSpPr>
          <p:cNvPr id="44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B6F2-AEEE-4043-8600-21AFB528D21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tender y ordenar el despelo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5 CuadroTexto"/>
          <p:cNvSpPr/>
          <p:nvPr/>
        </p:nvSpPr>
        <p:spPr>
          <a:xfrm>
            <a:off x="4716360" y="2924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32c16"/>
                </a:solidFill>
                <a:latin typeface="Century Schoolbook"/>
              </a:rPr>
              <a:t>Desesperanz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6 CuadroTexto"/>
          <p:cNvSpPr/>
          <p:nvPr/>
        </p:nvSpPr>
        <p:spPr>
          <a:xfrm>
            <a:off x="5803920" y="3852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32c16"/>
                </a:solidFill>
                <a:latin typeface="Century Schoolbook"/>
              </a:rPr>
              <a:t>Todo es un desorde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7 CuadroTexto"/>
          <p:cNvSpPr/>
          <p:nvPr/>
        </p:nvSpPr>
        <p:spPr>
          <a:xfrm>
            <a:off x="4211640" y="5148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Las cosas 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están clar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234000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Impotenc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539640" y="3573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Resignació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250920" y="551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Es lo que ha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12 CuadroTexto"/>
          <p:cNvSpPr/>
          <p:nvPr/>
        </p:nvSpPr>
        <p:spPr>
          <a:xfrm>
            <a:off x="611280" y="2349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Qué despelot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1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6C80-D38C-424A-A3E1-0706B382879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entury Schoolbook"/>
              </a:rPr>
              <a:t>Diagnóstico (ordenado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todos los componentes del sistema (sin hacer juicios de valor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las obstrucciones y dificultades existen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Entender interacciones entre las variables críticas del sistema y su entorn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3B7-F459-4469-9E92-50469C28135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905800" cy="3743280"/>
          </a:xfrm>
          <a:prstGeom prst="rect">
            <a:avLst/>
          </a:prstGeom>
          <a:ln w="0">
            <a:noFill/>
          </a:ln>
        </p:spPr>
      </p:pic>
      <p:sp>
        <p:nvSpPr>
          <p:cNvPr id="46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C18-FE49-485E-AEFF-1D15781E2C6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rcic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Diagnóstico (ordenado) de su escue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Schoolbook"/>
              </a:rPr>
              <a:t>Recuerde: Ciencia, Arte y Ofici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3C5A-74DD-4936-AFF3-5B775281D06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00D5-1D01-4F4A-A6F2-90872F0C7CA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tendencia generalizada de organizaciones y sistemas, particularmente públicos, a generar en su interior “</a:t>
            </a:r>
            <a:r>
              <a:rPr b="0" lang="es-CL" sz="2400" spc="-1" strike="noStrike">
                <a:solidFill>
                  <a:srgbClr val="b32c16"/>
                </a:solidFill>
                <a:latin typeface="Century Schoolbook"/>
              </a:rPr>
              <a:t>islas autónom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” con agendas propias, con las consecuentes falencias derivadas de la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ausencia de coordin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propósitos superiores comu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(Propiedad emergente de sistemas complej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1B04-1ECA-4504-9C7F-FA98D8B8244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Forma y periodicidad de las cúpulas de los organismos públic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Burocracias profesionales y la recurrente comparación entre “carga administrativa” y “gestión”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sarrollo de agendas propia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C49D-9365-4AC7-A02F-CE4E8C3EEA4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Paliativos para combatir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Profesionalización de designacion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Ajuste de las tareas de la organización como último recurso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omar conciencia que existe insularidad en la organiz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Interés del líder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Establecimiento de prácticas de coordin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Metas estratégicas concordada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ecnologías que faciliten el uso de la inform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TOLOGÍAS FRECU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1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5618-079E-4CA2-A3BE-7437EA1F50F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2"/>
          <a:stretch/>
        </p:blipFill>
        <p:spPr>
          <a:xfrm>
            <a:off x="216000" y="1657440"/>
            <a:ext cx="7956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0" name="5 Rectángulo redondeado"/>
          <p:cNvSpPr/>
          <p:nvPr/>
        </p:nvSpPr>
        <p:spPr>
          <a:xfrm>
            <a:off x="3276720" y="2637000"/>
            <a:ext cx="2193840" cy="1511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10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CB53-B9B9-447F-84BC-F91BAB88F6B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¡VAMOS QUE SE PUEDE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9AD5-1D9E-4089-9181-0CEFCAD97DB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hay que desalentarse, porque sí se pued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8" name="7 Imagen" descr="luis_tisne.jpg"/>
          <p:cNvPicPr/>
          <p:nvPr/>
        </p:nvPicPr>
        <p:blipFill>
          <a:blip r:embed="rId2"/>
          <a:stretch/>
        </p:blipFill>
        <p:spPr>
          <a:xfrm>
            <a:off x="1476360" y="2133720"/>
            <a:ext cx="56880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1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5" name="6 Rectángulo redondeado"/>
          <p:cNvSpPr/>
          <p:nvPr/>
        </p:nvSpPr>
        <p:spPr>
          <a:xfrm>
            <a:off x="5076720" y="1484280"/>
            <a:ext cx="3024360" cy="2521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7 Rectángulo redondeado"/>
          <p:cNvSpPr/>
          <p:nvPr/>
        </p:nvSpPr>
        <p:spPr>
          <a:xfrm>
            <a:off x="755640" y="2421000"/>
            <a:ext cx="2914560" cy="3024000"/>
          </a:xfrm>
          <a:custGeom>
            <a:avLst/>
            <a:gdLst>
              <a:gd name="textAreaLeft" fmla="*/ 142200 w 2914560"/>
              <a:gd name="textAreaRight" fmla="*/ 2772360 w 2914560"/>
              <a:gd name="textAreaTop" fmla="*/ 142200 h 3024000"/>
              <a:gd name="textAreaBottom" fmla="*/ 2881800 h 3024000"/>
            </a:gdLst>
            <a:ahLst/>
            <a:rect l="textAreaLeft" t="textAreaTop" r="textAreaRight" b="textAreaBottom"/>
            <a:pathLst>
              <a:path w="21600" h="22411">
                <a:moveTo>
                  <a:pt x="3600" y="0"/>
                </a:moveTo>
                <a:arcTo wR="3600" hR="3600" stAng="16200000" swAng="-5400000"/>
                <a:lnTo>
                  <a:pt x="0" y="18811"/>
                </a:lnTo>
                <a:arcTo wR="3600" hR="3600" stAng="10800000" swAng="-5400000"/>
                <a:lnTo>
                  <a:pt x="18000" y="22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icad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B9D-54F1-4DE7-869A-C679D151E9D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1" name="8 Rectángulo redondeado"/>
          <p:cNvSpPr/>
          <p:nvPr/>
        </p:nvSpPr>
        <p:spPr>
          <a:xfrm>
            <a:off x="395280" y="2276640"/>
            <a:ext cx="3130560" cy="30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13 Rectángulo redondeado"/>
          <p:cNvSpPr/>
          <p:nvPr/>
        </p:nvSpPr>
        <p:spPr>
          <a:xfrm>
            <a:off x="4427640" y="1844640"/>
            <a:ext cx="3529080" cy="266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C8A-596A-420F-B4D1-3F91CB0E4F9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7" name="9 Rectángulo redondeado"/>
          <p:cNvSpPr/>
          <p:nvPr/>
        </p:nvSpPr>
        <p:spPr>
          <a:xfrm>
            <a:off x="395280" y="2349360"/>
            <a:ext cx="3240000" cy="23749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10 CuadroTexto"/>
          <p:cNvSpPr/>
          <p:nvPr/>
        </p:nvSpPr>
        <p:spPr>
          <a:xfrm>
            <a:off x="3924360" y="4724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6 Imagen" descr="profesores_clases.JPG"/>
          <p:cNvPicPr/>
          <p:nvPr/>
        </p:nvPicPr>
        <p:blipFill>
          <a:blip r:embed="rId3"/>
          <a:stretch/>
        </p:blipFill>
        <p:spPr>
          <a:xfrm>
            <a:off x="4211640" y="1628640"/>
            <a:ext cx="3246480" cy="2162160"/>
          </a:xfrm>
          <a:prstGeom prst="rect">
            <a:avLst/>
          </a:prstGeom>
          <a:ln w="0">
            <a:noFill/>
          </a:ln>
        </p:spPr>
      </p:pic>
      <p:sp>
        <p:nvSpPr>
          <p:cNvPr id="380" name="7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8CF-7952-41BF-9854-4AA3D7E285A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s necesario tener un pensamiento sistémico para controlar la tendencia a auto organizarse de las partes de un sistem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8056-23D4-409E-94F5-B07FB944A6D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Schoolbook"/>
              </a:rPr>
              <a:t>¿Podemos encontrar las características de un sistema complejo en una escuela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1B0-005A-4DE9-B7C3-D0ACA77DB88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oseen muchas partes y es muy difícil predecir su comportamien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interactúan de manera dinámica, sobre todo con intercambio de inform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son múltiples entre las part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Una pequeña modificación de una de las partes puede causar grandes cambios en todo el sist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nque parezcan de corto alcance, las interacciones pueden afectar muchas cos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tienen retroaliment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 complejos interactúan con un entorn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9C04-A481-4145-9977-1FDCAAE8FF5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Matías</cp:lastModifiedBy>
  <dcterms:modified xsi:type="dcterms:W3CDTF">2010-09-12T22:15:48Z</dcterms:modified>
  <cp:revision>39</cp:revision>
  <dc:subject/>
  <dc:title>Introducción a la Gestión Pública</dc:title>
</cp:coreProperties>
</file>