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907588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A77E2-1787-4BCE-A223-DC82C1A667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4760" y="1929960"/>
            <a:ext cx="841212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34760" y="2547360"/>
            <a:ext cx="841212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7BFAF-9D38-4A1D-A99D-339ABE8048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4760" y="1929960"/>
            <a:ext cx="41050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5400" y="1929960"/>
            <a:ext cx="41050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760" y="2547360"/>
            <a:ext cx="41050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5400" y="2547360"/>
            <a:ext cx="41050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A1C6B-11C0-4F81-817F-05E85EF270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34760" y="1929960"/>
            <a:ext cx="27082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78760" y="1929960"/>
            <a:ext cx="27082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22760" y="1929960"/>
            <a:ext cx="27082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34760" y="2547360"/>
            <a:ext cx="27082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78760" y="2547360"/>
            <a:ext cx="27082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22760" y="2547360"/>
            <a:ext cx="27082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CF3AF-01FD-43EC-A9BF-4A4A4782C0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34760" y="192996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68048-43AF-4049-BCB5-346395B776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4760" y="192996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EE944-9102-445C-961F-C77D666D66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4760" y="1929960"/>
            <a:ext cx="410508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5400" y="1929960"/>
            <a:ext cx="410508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F985D-51DB-4025-B4BF-773AC09A98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0CE70-82E3-4881-A3FE-CDAA33EBA3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34760" y="622440"/>
            <a:ext cx="844236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9CA17-7302-4164-A261-AB53DAA2CD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4760" y="1929960"/>
            <a:ext cx="41050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5400" y="1929960"/>
            <a:ext cx="410508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34760" y="2547360"/>
            <a:ext cx="41050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E5115-F1B3-414F-8814-456E09B4B8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4760" y="1929960"/>
            <a:ext cx="410508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5400" y="1929960"/>
            <a:ext cx="41050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5400" y="2547360"/>
            <a:ext cx="41050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A9952-2E8F-4369-8D9C-4F729AAEC1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4760" y="1929960"/>
            <a:ext cx="41050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5400" y="1929960"/>
            <a:ext cx="41050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34760" y="2547360"/>
            <a:ext cx="841212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1B654-CDF8-4B7D-A95A-E0E40E234D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9272520" y="6716520"/>
            <a:ext cx="263520" cy="12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9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1141-1B6C-43DD-A894-DADE921427DE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691920" y="6367320"/>
            <a:ext cx="6105240" cy="1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734760" y="192996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marL="236520" indent="-236520">
              <a:buClr>
                <a:srgbClr val="4d4d4d"/>
              </a:buClr>
              <a:buFont typeface="Tahoma"/>
              <a:buChar char="•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1" marL="270360" indent="-269280">
              <a:buClr>
                <a:srgbClr val="4d4d4d"/>
              </a:buClr>
              <a:buFont typeface="Tahoma"/>
              <a:buChar char="•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2" marL="576000" indent="-304200">
              <a:buClr>
                <a:srgbClr val="4d4d4d"/>
              </a:buClr>
              <a:buFont typeface="Tahoma"/>
              <a:buChar char="–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3" marL="855360" indent="-277920">
              <a:buClr>
                <a:srgbClr val="4d4d4d"/>
              </a:buClr>
              <a:buFont typeface="Tahoma"/>
              <a:buChar char="-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4" marL="1810440" indent="3240">
              <a:buClr>
                <a:srgbClr val="4d4d4d"/>
              </a:buClr>
              <a:buFont typeface="Tahoma"/>
              <a:buChar char="»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5" marL="1810440" indent="3240">
              <a:buClr>
                <a:srgbClr val="4d4d4d"/>
              </a:buClr>
              <a:buFont typeface="Tahoma"/>
              <a:buChar char="»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6" marL="1810440" indent="3240">
              <a:buClr>
                <a:srgbClr val="4d4d4d"/>
              </a:buClr>
              <a:buFont typeface="Tahoma"/>
              <a:buChar char="»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Line 279"/>
          <p:cNvSpPr/>
          <p:nvPr/>
        </p:nvSpPr>
        <p:spPr>
          <a:xfrm>
            <a:off x="9293400" y="-6480"/>
            <a:ext cx="0" cy="7074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Line 350"/>
          <p:cNvSpPr/>
          <p:nvPr/>
        </p:nvSpPr>
        <p:spPr>
          <a:xfrm>
            <a:off x="9169560" y="6734160"/>
            <a:ext cx="0" cy="123840"/>
          </a:xfrm>
          <a:prstGeom prst="line">
            <a:avLst/>
          </a:prstGeom>
          <a:ln w="9360">
            <a:solidFill>
              <a:srgbClr val="ff0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387"/>
          <p:cNvSpPr/>
          <p:nvPr/>
        </p:nvSpPr>
        <p:spPr>
          <a:xfrm>
            <a:off x="0" y="0"/>
            <a:ext cx="9906120" cy="438120"/>
          </a:xfrm>
          <a:prstGeom prst="rect">
            <a:avLst/>
          </a:prstGeom>
          <a:solidFill>
            <a:srgbClr val="df22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iwlyubnb0159c"/>
          <p:cNvPicPr/>
          <p:nvPr/>
        </p:nvPicPr>
        <p:blipFill>
          <a:blip r:embed="rId1"/>
          <a:stretch/>
        </p:blipFill>
        <p:spPr>
          <a:xfrm>
            <a:off x="808200" y="420840"/>
            <a:ext cx="8118360" cy="6116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620440" y="2633400"/>
            <a:ext cx="4465800" cy="134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d4d4d"/>
                </a:solidFill>
                <a:latin typeface="Tahoma"/>
              </a:rPr>
              <a:t>Sesión : Análisis de Porter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 rot="16200000">
            <a:off x="-701280" y="5118120"/>
            <a:ext cx="245448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Tahoma"/>
              </a:rPr>
              <a:t>Vivien Villagran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indent="0" algn="ctr"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Tahoma"/>
              </a:rPr>
              <a:t>dihila@gmail.com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6" name="3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95C6-8357-4EFF-A504-74C94A091E59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5 Rectángulo"/>
          <p:cNvSpPr/>
          <p:nvPr/>
        </p:nvSpPr>
        <p:spPr>
          <a:xfrm>
            <a:off x="0" y="6492960"/>
            <a:ext cx="9906120" cy="365040"/>
          </a:xfrm>
          <a:prstGeom prst="rect">
            <a:avLst/>
          </a:prstGeom>
          <a:solidFill>
            <a:srgbClr val="df2203"/>
          </a:solidFill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0000"/>
                </a:solidFill>
                <a:latin typeface="Tahoma"/>
              </a:rPr>
              <a:t>LIMITACIONES DEL MODELO 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34760" y="192996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8000"/>
          </a:bodyPr>
          <a:p>
            <a:pPr marL="103680" indent="-10368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3680" indent="-10368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Se puede subestimar y/o sobrestimar alguna de las fuerzas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3680" indent="-10368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3680" indent="-10368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El modelo fue diseñado para analizar estrategias de negocio individuales. No analiza sinergias e interdependencias en un portfolio de negocios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3680" indent="-10368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3680" indent="-10368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No considera la posibilidad de que una industria pueda ser atractiva debido a que están allí ciertas compañía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3680" indent="-10368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3680" indent="-10368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No se hace cargo de cambios radicales del entorno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3680" indent="-10368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3680" indent="-10368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No analiza la creación de mercados nuevo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3680" indent="-10368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3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049D-5A0B-46E3-8695-6EF67CEA2AAF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" name="Picture 8" descr="biz_lady"/>
          <p:cNvPicPr/>
          <p:nvPr/>
        </p:nvPicPr>
        <p:blipFill>
          <a:blip r:embed="rId1"/>
          <a:stretch/>
        </p:blipFill>
        <p:spPr>
          <a:xfrm>
            <a:off x="5130720" y="1657440"/>
            <a:ext cx="2300400" cy="4800600"/>
          </a:xfrm>
          <a:prstGeom prst="rect">
            <a:avLst/>
          </a:prstGeom>
          <a:ln w="0">
            <a:noFill/>
          </a:ln>
        </p:spPr>
      </p:pic>
      <p:sp>
        <p:nvSpPr>
          <p:cNvPr id="83" name="4 Llamada ovalada"/>
          <p:cNvSpPr/>
          <p:nvPr/>
        </p:nvSpPr>
        <p:spPr>
          <a:xfrm>
            <a:off x="1135080" y="1106640"/>
            <a:ext cx="3554280" cy="3638520"/>
          </a:xfrm>
          <a:prstGeom prst="wedgeEllipseCallout">
            <a:avLst>
              <a:gd name="adj1" fmla="val 69199"/>
              <a:gd name="adj2" fmla="val 41606"/>
            </a:avLst>
          </a:prstGeom>
          <a:solidFill>
            <a:srgbClr val="c00000"/>
          </a:solidFill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Ahora es importante que relacionemos el análisis de Porter con la definición de la estrategi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4d4d4d"/>
                </a:solidFill>
                <a:latin typeface="Tahoma"/>
              </a:rPr>
              <a:t>¿Qué significa estrategia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34760" y="192996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marL="99360" indent="-993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99360" indent="-993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La Real Academia de la lengua tiene la siguiente definición: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99360" indent="-993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2000" spc="-1" strike="noStrike">
                <a:solidFill>
                  <a:srgbClr val="4d4d4d"/>
                </a:solidFill>
                <a:latin typeface="Tahoma"/>
              </a:rPr>
              <a:t>Estrategia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99360" indent="-993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(Del lat. </a:t>
            </a:r>
            <a:r>
              <a:rPr b="0" i="1" lang="es-MX" sz="2000" spc="-1" strike="noStrike">
                <a:solidFill>
                  <a:srgbClr val="4d4d4d"/>
                </a:solidFill>
                <a:latin typeface="Tahoma"/>
              </a:rPr>
              <a:t>Stratega)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99360" indent="-993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2000" spc="-1" strike="noStrike">
                <a:solidFill>
                  <a:srgbClr val="4d4d4d"/>
                </a:solidFill>
                <a:latin typeface="Tahoma"/>
              </a:rPr>
              <a:t>1. f. Arte de dirigir las operaciones militares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99360" indent="-993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2000" spc="-1" strike="noStrike">
                <a:solidFill>
                  <a:srgbClr val="4d4d4d"/>
                </a:solidFill>
                <a:latin typeface="Tahoma"/>
              </a:rPr>
              <a:t>2. f. Arte, traza para dirigir un asunto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99360" indent="-993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2000" spc="-1" strike="noStrike">
                <a:solidFill>
                  <a:srgbClr val="4d4d4d"/>
                </a:solidFill>
                <a:latin typeface="Tahoma"/>
              </a:rPr>
              <a:t>3. f. </a:t>
            </a:r>
            <a:r>
              <a:rPr b="1" i="1" lang="es-MX" sz="2000" spc="-1" strike="noStrike">
                <a:solidFill>
                  <a:srgbClr val="4d4d4d"/>
                </a:solidFill>
                <a:latin typeface="Tahoma"/>
              </a:rPr>
              <a:t>Mat. En un proceso regulable, conjunto de las reglas que aseguran </a:t>
            </a: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(?) una decisión óptima en cada momento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99360" indent="-993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99360" indent="-993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R</a:t>
            </a:r>
            <a:r>
              <a:rPr b="0" i="1" lang="es-MX" sz="2000" spc="-1" strike="noStrike">
                <a:solidFill>
                  <a:srgbClr val="4d4d4d"/>
                </a:solidFill>
                <a:latin typeface="Tahoma"/>
              </a:rPr>
              <a:t>eal Academia Española © Todos los derechos reservado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99360" indent="-993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99360" indent="-993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¿Cuándo la estrategia se vuelve un elemento de cambio?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99360" indent="-993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99360" indent="-993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“</a:t>
            </a: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PIENSO……….LUEGO EMPRENDO, CAMBIO, MEJORO”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6" name="3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0AAA-A4BA-4B4E-A235-FB7B7BE78F82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4d4d4d"/>
                </a:solidFill>
                <a:latin typeface="Tahoma"/>
              </a:rPr>
              <a:t>DIRIGIR ES UN ARTE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34760" y="192996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4000"/>
          </a:bodyPr>
          <a:p>
            <a:pPr marL="116640" indent="-1166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16640" indent="-1166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Tahoma"/>
              </a:rPr>
              <a:t>• </a:t>
            </a:r>
            <a:r>
              <a:rPr b="0" i="1" lang="es-MX" sz="1600" spc="-1" strike="noStrike">
                <a:solidFill>
                  <a:srgbClr val="4d4d4d"/>
                </a:solidFill>
                <a:latin typeface="Tahoma"/>
              </a:rPr>
              <a:t>“</a:t>
            </a:r>
            <a:r>
              <a:rPr b="0" i="1" lang="es-MX" sz="1600" spc="-1" strike="noStrike">
                <a:solidFill>
                  <a:srgbClr val="4d4d4d"/>
                </a:solidFill>
                <a:latin typeface="Tahoma"/>
              </a:rPr>
              <a:t>Si conoces al Enemigo, y te conoces a ti mismo, no debes temer el resultado de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16640" indent="-1166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i="1" lang="es-MX" sz="1600" spc="-1" strike="noStrike">
                <a:solidFill>
                  <a:srgbClr val="4d4d4d"/>
                </a:solidFill>
                <a:latin typeface="Tahoma"/>
              </a:rPr>
              <a:t>cien batallas.”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16640" indent="-1166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16640" indent="-1166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i="1" lang="es-MX" sz="1600" spc="-1" strike="noStrike">
                <a:solidFill>
                  <a:srgbClr val="4d4d4d"/>
                </a:solidFill>
                <a:latin typeface="Tahoma"/>
              </a:rPr>
              <a:t>CONOCE TU ENTORNO Y A TI MISMO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16640" indent="-1166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16640" indent="-1166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i="1" lang="es-MX" sz="1600" spc="-1" strike="noStrike">
                <a:solidFill>
                  <a:srgbClr val="4d4d4d"/>
                </a:solidFill>
                <a:latin typeface="Tahoma"/>
              </a:rPr>
              <a:t>“</a:t>
            </a:r>
            <a:r>
              <a:rPr b="0" i="1" lang="es-MX" sz="1600" spc="-1" strike="noStrike">
                <a:solidFill>
                  <a:srgbClr val="4d4d4d"/>
                </a:solidFill>
                <a:latin typeface="Tahoma"/>
              </a:rPr>
              <a:t>Cuando se usa el Método de la Estrategia no se cuenta con la probabilidad de que el enemigo no venga, si no con nuestra prontitud para recibirlo.”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16640" indent="-1166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16640" indent="-1166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1600" spc="-1" strike="noStrike">
                <a:solidFill>
                  <a:srgbClr val="4d4d4d"/>
                </a:solidFill>
                <a:latin typeface="Tahoma"/>
              </a:rPr>
              <a:t>ANTICIPATE Y PREPARATE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16640" indent="-1166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16640" indent="-1166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i="1" lang="es-MX" sz="1600" spc="-1" strike="noStrike">
                <a:solidFill>
                  <a:srgbClr val="4d4d4d"/>
                </a:solidFill>
                <a:latin typeface="Tahoma"/>
              </a:rPr>
              <a:t>“</a:t>
            </a:r>
            <a:r>
              <a:rPr b="0" i="1" lang="es-MX" sz="1600" spc="-1" strike="noStrike">
                <a:solidFill>
                  <a:srgbClr val="4d4d4d"/>
                </a:solidFill>
                <a:latin typeface="Tahoma"/>
              </a:rPr>
              <a:t>Evita el combate que no puedas ganar.”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16640" indent="-1166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16640" indent="-1166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16640" indent="-1166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i="1" lang="es-MX" sz="1600" spc="-1" strike="noStrike">
                <a:solidFill>
                  <a:srgbClr val="4d4d4d"/>
                </a:solidFill>
                <a:latin typeface="Tahoma"/>
              </a:rPr>
              <a:t>RECONOCE TUS LIMITACIONES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9" name="3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C9E2-FEBD-4DD1-BEE7-E49BC667ED7D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ffffff"/>
                </a:solidFill>
                <a:latin typeface="Tahoma"/>
              </a:rPr>
              <a:t>DIRIGIR ES UN ARTE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77640" y="721800"/>
            <a:ext cx="437652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s-MX" sz="2000" spc="-1" strike="noStrike">
                <a:solidFill>
                  <a:srgbClr val="4d4d4d"/>
                </a:solidFill>
                <a:latin typeface="Tahoma"/>
              </a:rPr>
              <a:t>Sun – Tzu estratega chino (real o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imaginario), para algunos el padre de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la estrategia,escribió hace 25 siglos atrás: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i="1" lang="es-MX" sz="2000" spc="-1" strike="noStrike">
                <a:solidFill>
                  <a:srgbClr val="4d4d4d"/>
                </a:solidFill>
                <a:latin typeface="Tahoma"/>
              </a:rPr>
              <a:t>“</a:t>
            </a:r>
            <a:r>
              <a:rPr b="0" i="1" lang="es-MX" sz="2000" spc="-1" strike="noStrike">
                <a:solidFill>
                  <a:srgbClr val="4d4d4d"/>
                </a:solidFill>
                <a:latin typeface="Tahoma"/>
              </a:rPr>
              <a:t>El arte de la Estrategia es de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i="1" lang="es-MX" sz="2000" spc="-1" strike="noStrike">
                <a:solidFill>
                  <a:srgbClr val="4d4d4d"/>
                </a:solidFill>
                <a:latin typeface="Tahoma"/>
              </a:rPr>
              <a:t>importancia vital para el Estado (La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i="1" lang="es-MX" sz="2000" spc="-1" strike="noStrike">
                <a:solidFill>
                  <a:srgbClr val="4d4d4d"/>
                </a:solidFill>
                <a:latin typeface="Tahoma"/>
              </a:rPr>
              <a:t>Empresa)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i="1" lang="es-MX" sz="2000" spc="-1" strike="noStrike">
                <a:solidFill>
                  <a:srgbClr val="4d4d4d"/>
                </a:solidFill>
                <a:latin typeface="Tahoma"/>
              </a:rPr>
              <a:t>Es el terreno de la vida y la muerte, el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i="1" lang="es-MX" sz="2000" spc="-1" strike="noStrike">
                <a:solidFill>
                  <a:srgbClr val="4d4d4d"/>
                </a:solidFill>
                <a:latin typeface="Tahoma"/>
              </a:rPr>
              <a:t>camino a la seguridad o la ruina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i="1" lang="es-MX" sz="2000" spc="-1" strike="noStrike">
                <a:solidFill>
                  <a:srgbClr val="4d4d4d"/>
                </a:solidFill>
                <a:latin typeface="Tahoma"/>
              </a:rPr>
              <a:t>Su estudio no puede ser dejado de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i="1" lang="es-MX" sz="2000" spc="-1" strike="noStrike">
                <a:solidFill>
                  <a:srgbClr val="4d4d4d"/>
                </a:solidFill>
                <a:latin typeface="Tahoma"/>
              </a:rPr>
              <a:t>lado por ningún motivo.”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440" y="1534680"/>
            <a:ext cx="43783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buNone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1" lang="es-MX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032440" y="2174760"/>
            <a:ext cx="43783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4" name="3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1283-BB2D-4436-B4D5-71AB14652D68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5500800" y="1265400"/>
            <a:ext cx="3619440" cy="4505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e817d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3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A412-961B-4668-99BD-7986432E8671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4600" y="6080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4d4d4d"/>
                </a:solidFill>
                <a:latin typeface="Tahoma"/>
              </a:rPr>
              <a:t>DIRIGIR ES UN ARTE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1028880"/>
            <a:ext cx="3619440" cy="3367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e817d"/>
            </a:outerShdw>
          </a:effectLst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6396120" y="1003320"/>
            <a:ext cx="3190680" cy="2963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e817d"/>
            </a:outerShdw>
          </a:effectLst>
        </p:spPr>
      </p:pic>
      <p:pic>
        <p:nvPicPr>
          <p:cNvPr id="100" name="Picture 4" descr=""/>
          <p:cNvPicPr/>
          <p:nvPr/>
        </p:nvPicPr>
        <p:blipFill>
          <a:blip r:embed="rId3"/>
          <a:stretch/>
        </p:blipFill>
        <p:spPr>
          <a:xfrm>
            <a:off x="4002120" y="3857760"/>
            <a:ext cx="2286000" cy="2705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e817d"/>
            </a:outerShdw>
          </a:effectLst>
        </p:spPr>
      </p:pic>
      <p:sp>
        <p:nvSpPr>
          <p:cNvPr id="101" name="4 Elipse"/>
          <p:cNvSpPr/>
          <p:nvPr/>
        </p:nvSpPr>
        <p:spPr>
          <a:xfrm>
            <a:off x="3584520" y="1828800"/>
            <a:ext cx="2830680" cy="1960200"/>
          </a:xfrm>
          <a:prstGeom prst="ellipse">
            <a:avLst/>
          </a:prstGeom>
          <a:solidFill>
            <a:srgbClr val="d2d7d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Tahoma"/>
              </a:rPr>
              <a:t>EN TODO ORDEN DE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Tahoma"/>
              </a:rPr>
              <a:t>COSAS LA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Tahoma"/>
              </a:rPr>
              <a:t>DEFINICION DE LA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Tahoma"/>
              </a:rPr>
              <a:t>ESTRATEGIA ES LA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Tahoma"/>
              </a:rPr>
              <a:t>DIFERENCIA ENTRE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Tahoma"/>
              </a:rPr>
              <a:t>EL ÉXITO O EL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Tahoma"/>
              </a:rPr>
              <a:t>FRACASO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4d4d4d"/>
                </a:solidFill>
                <a:latin typeface="Tahoma"/>
              </a:rPr>
              <a:t>La Estrategia como un proceso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76080" y="111888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2000"/>
          </a:bodyPr>
          <a:p>
            <a:pPr marL="109440" indent="-1094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9440" indent="-1094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i="1" lang="es-MX" sz="2000" spc="-1" strike="noStrike">
                <a:solidFill>
                  <a:srgbClr val="4d4d4d"/>
                </a:solidFill>
                <a:latin typeface="Tahoma"/>
              </a:rPr>
              <a:t>En 1997 solo el 17% de las empresas chilenas poseía una estrategia explicita para desarrollar sus negocios, el año 2007 se estima que un 60% de las empresas chilena posee una estrategia explicita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9440" indent="-1094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9440" indent="-1094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¿Cuál es el problema de lo anterior?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9440" indent="-1094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9440" indent="-1094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El 60% de las empresas chilenas desaparece antes de cumplir sei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9440" indent="-1094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años (proceso darwiniano); esta cifra es similar en otros países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9440" indent="-1094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9440" indent="-1094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i="1" lang="es-MX" sz="2000" spc="-1" strike="noStrike">
                <a:solidFill>
                  <a:srgbClr val="4d4d4d"/>
                </a:solidFill>
                <a:latin typeface="Tahoma"/>
              </a:rPr>
              <a:t>SOLO SOBREVIVEN AQUELLAS EMPRESAS QUE PLANIFICAN SU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9440" indent="-1094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i="1" lang="es-MX" sz="2000" spc="-1" strike="noStrike">
                <a:solidFill>
                  <a:srgbClr val="4d4d4d"/>
                </a:solidFill>
                <a:latin typeface="Tahoma"/>
              </a:rPr>
              <a:t>DESARROLLO…..O SEA, QUE DEFINEN SU ESTRATEGIA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9440" indent="-1094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i="1" lang="es-MX" sz="2000" spc="-1" strike="noStrike">
                <a:solidFill>
                  <a:srgbClr val="4d4d4d"/>
                </a:solidFill>
                <a:latin typeface="Tahoma"/>
              </a:rPr>
              <a:t>EMPRESARIAL Y LO CONSIDERAN COMO UN PROCESO MAS DE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09440" indent="-1094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i="1" lang="es-MX" sz="2000" spc="-1" strike="noStrike">
                <a:solidFill>
                  <a:srgbClr val="4d4d4d"/>
                </a:solidFill>
                <a:latin typeface="Tahoma"/>
              </a:rPr>
              <a:t>SU OPERACIÓN COTIDIANA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4" name="3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E719-E88C-418E-A6C9-00270EABD9BA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4d4d4d"/>
                </a:solidFill>
                <a:latin typeface="Tahoma"/>
              </a:rPr>
              <a:t>La Estrategia como proceso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34760" y="192996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marL="133560" indent="-1335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Según </a:t>
            </a:r>
            <a:r>
              <a:rPr b="1" lang="es-MX" sz="2000" spc="-1" strike="noStrike">
                <a:solidFill>
                  <a:srgbClr val="4d4d4d"/>
                </a:solidFill>
                <a:latin typeface="Tahoma"/>
              </a:rPr>
              <a:t>Henry Mintzberg, hay cinco maneras de entender el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33560" indent="-13356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2000" spc="-1" strike="noStrike">
                <a:solidFill>
                  <a:srgbClr val="4d4d4d"/>
                </a:solidFill>
                <a:latin typeface="Tahoma"/>
              </a:rPr>
              <a:t>concepto de </a:t>
            </a: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estrategia, que en inglés comienzan con la letra “P”: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33560" indent="-133560">
              <a:buClr>
                <a:srgbClr val="4d4d4d"/>
              </a:buClr>
              <a:buFont typeface="Wingdings" charset="2"/>
              <a:buChar char="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33560" indent="-133560">
              <a:buClr>
                <a:srgbClr val="4d4d4d"/>
              </a:buClr>
              <a:buFont typeface="Wingdings" charset="2"/>
              <a:buChar char="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2000" spc="-1" strike="noStrike">
                <a:solidFill>
                  <a:srgbClr val="4d4d4d"/>
                </a:solidFill>
                <a:latin typeface="Tahoma"/>
              </a:rPr>
              <a:t>Plan (Plan): Curso de acción conscientemente determinado. Guía o conjunto de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325440" indent="-172080">
              <a:buClr>
                <a:srgbClr val="4d4d4d"/>
              </a:buClr>
              <a:buFont typeface="Wingdings" charset="2"/>
              <a:buChar char="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guías para enfrentar una situación, elaboradas con antelación a las acciones las cuales serán aplicadas y desarrolladas de manera consciente y con un propósito determinado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33560" indent="-133560">
              <a:buClr>
                <a:srgbClr val="4d4d4d"/>
              </a:buClr>
              <a:buFont typeface="Wingdings" charset="2"/>
              <a:buChar char="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2000" spc="-1" strike="noStrike">
                <a:solidFill>
                  <a:srgbClr val="4d4d4d"/>
                </a:solidFill>
                <a:latin typeface="Tahoma"/>
              </a:rPr>
              <a:t>Ploy (Estratagema o maniobra): Forma específica propuesta para superar a un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325440" indent="-172080">
              <a:buClr>
                <a:srgbClr val="4d4d4d"/>
              </a:buClr>
              <a:buFont typeface="Wingdings" charset="2"/>
              <a:buChar char="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oponente o competidor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133560" indent="-133560">
              <a:buClr>
                <a:srgbClr val="4d4d4d"/>
              </a:buClr>
              <a:buFont typeface="Wingdings" charset="2"/>
              <a:buChar char="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2000" spc="-1" strike="noStrike">
                <a:solidFill>
                  <a:srgbClr val="4d4d4d"/>
                </a:solidFill>
                <a:latin typeface="Tahoma"/>
              </a:rPr>
              <a:t>Pattern (Patrón): Regularidades de comportamiento que ocurren en la práctica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325440" indent="-172080">
              <a:buClr>
                <a:srgbClr val="4d4d4d"/>
              </a:buClr>
              <a:buFont typeface="Wingdings" charset="2"/>
              <a:buChar char="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Tahoma"/>
              </a:rPr>
              <a:t>sin estar preconcebidas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1CB6-9B51-4A8E-8249-5CFF730490A9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4d4d4d"/>
                </a:solidFill>
                <a:latin typeface="Tahoma"/>
              </a:rPr>
              <a:t>La Estrategia como proceso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34760" y="192996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4000"/>
          </a:bodyPr>
          <a:p>
            <a:pPr marL="150840" indent="-1508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1600" spc="-1" strike="noStrike">
                <a:solidFill>
                  <a:srgbClr val="4d4d4d"/>
                </a:solidFill>
                <a:latin typeface="Tahoma"/>
              </a:rPr>
              <a:t>Position (Posición): Forma de ubicar a la empresa en el entorno. Representa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50840" indent="-1508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Tahoma"/>
              </a:rPr>
              <a:t>una condición mediadora o calce (match) entre la empresa y su entorno.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50840" indent="-1508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50840" indent="-1508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1600" spc="-1" strike="noStrike">
                <a:solidFill>
                  <a:srgbClr val="4d4d4d"/>
                </a:solidFill>
                <a:latin typeface="Tahoma"/>
              </a:rPr>
              <a:t>Perspective (Perspectiva): Forma particular, inherente a la organización, de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50840" indent="-1508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Tahoma"/>
              </a:rPr>
              <a:t>percibir el mundo. La estrategia es a la organización lo que la personalidad es al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50840" indent="-1508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Tahoma"/>
              </a:rPr>
              <a:t>individuo.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50840" indent="-1508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50840" indent="-1508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50840" indent="-1508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16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4d4d4d"/>
                </a:solidFill>
                <a:latin typeface="Tahoma"/>
              </a:rPr>
              <a:t>Una estrategia bien formulada permite canalizar los esfuerzos y asignar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50840" indent="-1508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16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es-MX" sz="1600" spc="-1" strike="noStrike">
                <a:solidFill>
                  <a:srgbClr val="4d4d4d"/>
                </a:solidFill>
                <a:latin typeface="Tahoma"/>
              </a:rPr>
              <a:t>eficientemente los recursos (siempre escasos) de una organización llevándola a adoptar un posición singular y viable, basada en sus capacidades internas (fortalezas y debilidades), anticipando los cambios en el entorno, los posibles movimientos del mercado y las acciones de sus competidores (oportunidades y amenazas).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B1F7-A6F0-4EF3-82EE-617A6596FE04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3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B000-4B39-487F-B343-6905B0B8EFED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4 Diagrama" descr=""/>
          <p:cNvPicPr/>
          <p:nvPr/>
        </p:nvPicPr>
        <p:blipFill>
          <a:blip r:embed="rId1"/>
          <a:stretch/>
        </p:blipFill>
        <p:spPr>
          <a:xfrm>
            <a:off x="1646280" y="1189080"/>
            <a:ext cx="661356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uadroTexto"/>
          <p:cNvSpPr/>
          <p:nvPr/>
        </p:nvSpPr>
        <p:spPr>
          <a:xfrm>
            <a:off x="486720" y="0"/>
            <a:ext cx="461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MODELO DE LAS CINCO FUERZAS DE PORTE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34760" y="721800"/>
            <a:ext cx="8412120" cy="23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4d4d4d"/>
              </a:buClr>
              <a:buFont typeface="Wingdings" charset="2"/>
              <a:buChar char="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Tahoma"/>
              </a:rPr>
              <a:t>El modelo de las 5 fuerzas de Porter es una útil herramienta que permite develar y/o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Tahoma"/>
              </a:rPr>
              <a:t>construir la estrategia de un modelo de negocio determinado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buClr>
                <a:srgbClr val="4d4d4d"/>
              </a:buClr>
              <a:buFont typeface="Wingdings" charset="2"/>
              <a:buChar char="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Tahoma"/>
              </a:rPr>
              <a:t>Se usa para hacer el análisis del “atractivo” de una estructura de industria determinada.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buClr>
                <a:srgbClr val="4d4d4d"/>
              </a:buClr>
              <a:buFont typeface="Wingdings" charset="2"/>
              <a:buChar char="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Tahoma"/>
              </a:rPr>
              <a:t>Se basa en la identificación de 5 fuerzas competitivas fundamentales sobre las que se estructura la posibilidad de competir de manera eficiente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grpSp>
        <p:nvGrpSpPr>
          <p:cNvPr id="50" name="9 Rectángulo redondeado"/>
          <p:cNvGrpSpPr/>
          <p:nvPr/>
        </p:nvGrpSpPr>
        <p:grpSpPr>
          <a:xfrm>
            <a:off x="901800" y="2962440"/>
            <a:ext cx="2206440" cy="841320"/>
            <a:chOff x="901800" y="2962440"/>
            <a:chExt cx="2206440" cy="841320"/>
          </a:xfrm>
        </p:grpSpPr>
        <p:pic>
          <p:nvPicPr>
            <p:cNvPr id="51" name="9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01800" y="2962440"/>
              <a:ext cx="22064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020600" y="3071880"/>
              <a:ext cx="19846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ahoma"/>
                </a:rPr>
                <a:t>Ingreso de Competidores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" name="10 Rectángulo redondeado"/>
          <p:cNvGrpSpPr/>
          <p:nvPr/>
        </p:nvGrpSpPr>
        <p:grpSpPr>
          <a:xfrm>
            <a:off x="3193920" y="3633840"/>
            <a:ext cx="2432160" cy="1163520"/>
            <a:chOff x="3193920" y="3633840"/>
            <a:chExt cx="2432160" cy="1163520"/>
          </a:xfrm>
        </p:grpSpPr>
        <p:pic>
          <p:nvPicPr>
            <p:cNvPr id="54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3193920" y="3633840"/>
              <a:ext cx="243216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402000" y="3741840"/>
              <a:ext cx="195120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ahoma"/>
                </a:rPr>
                <a:t>Poder de Negociación de Proveedores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" name="11 Rectángulo redondeado"/>
          <p:cNvGrpSpPr/>
          <p:nvPr/>
        </p:nvGrpSpPr>
        <p:grpSpPr>
          <a:xfrm>
            <a:off x="987480" y="5084640"/>
            <a:ext cx="2425680" cy="1163880"/>
            <a:chOff x="987480" y="5084640"/>
            <a:chExt cx="2425680" cy="1163880"/>
          </a:xfrm>
        </p:grpSpPr>
        <p:pic>
          <p:nvPicPr>
            <p:cNvPr id="57" name="11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987480" y="5084640"/>
              <a:ext cx="2425680" cy="116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1195560" y="5192640"/>
              <a:ext cx="194940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ahoma"/>
                </a:rPr>
                <a:t>Rivalidad entre los jugadores existentes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" name="12 Rectángulo redondeado"/>
          <p:cNvGrpSpPr/>
          <p:nvPr/>
        </p:nvGrpSpPr>
        <p:grpSpPr>
          <a:xfrm>
            <a:off x="5619600" y="5029200"/>
            <a:ext cx="2433960" cy="1329480"/>
            <a:chOff x="5619600" y="5029200"/>
            <a:chExt cx="2433960" cy="1329480"/>
          </a:xfrm>
        </p:grpSpPr>
        <p:pic>
          <p:nvPicPr>
            <p:cNvPr id="60" name="12 Rectángulo redondeado" descr=""/>
            <p:cNvPicPr/>
            <p:nvPr/>
          </p:nvPicPr>
          <p:blipFill>
            <a:blip r:embed="rId4"/>
            <a:stretch/>
          </p:blipFill>
          <p:spPr>
            <a:xfrm>
              <a:off x="5619600" y="5029200"/>
              <a:ext cx="243396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830920" y="5138640"/>
              <a:ext cx="1950840" cy="12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ahoma"/>
                </a:rPr>
                <a:t>Poder de Negociación de Compradores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2" name="13 Rectángulo redondeado"/>
          <p:cNvGrpSpPr/>
          <p:nvPr/>
        </p:nvGrpSpPr>
        <p:grpSpPr>
          <a:xfrm>
            <a:off x="5546880" y="3054240"/>
            <a:ext cx="2165040" cy="841320"/>
            <a:chOff x="5546880" y="3054240"/>
            <a:chExt cx="2165040" cy="841320"/>
          </a:xfrm>
        </p:grpSpPr>
        <p:pic>
          <p:nvPicPr>
            <p:cNvPr id="63" name="13 Rectángulo redondeado" descr=""/>
            <p:cNvPicPr/>
            <p:nvPr/>
          </p:nvPicPr>
          <p:blipFill>
            <a:blip r:embed="rId5"/>
            <a:stretch/>
          </p:blipFill>
          <p:spPr>
            <a:xfrm>
              <a:off x="5546880" y="3054240"/>
              <a:ext cx="21650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641920" y="3165480"/>
              <a:ext cx="19843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ahoma"/>
                </a:rPr>
                <a:t>Amenaza de Sustitutos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4d4d4d"/>
                </a:solidFill>
                <a:latin typeface="Tahoma"/>
              </a:rPr>
              <a:t>LA ESTRATEGIA SIEMPRE DEBE TENER</a:t>
            </a:r>
            <a:br>
              <a:rPr sz="2100"/>
            </a:br>
            <a:r>
              <a:rPr b="1" lang="es-MX" sz="2100" spc="-1" strike="noStrike">
                <a:solidFill>
                  <a:srgbClr val="4d4d4d"/>
                </a:solidFill>
                <a:latin typeface="Tahoma"/>
              </a:rPr>
              <a:t>ALGUNOS “INGREDIENTES”</a:t>
            </a:r>
            <a:br>
              <a:rPr sz="2100"/>
            </a:b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34760" y="192996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marL="157680" indent="-15768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2400" spc="-1" strike="noStrike">
                <a:solidFill>
                  <a:srgbClr val="4d4d4d"/>
                </a:solidFill>
                <a:latin typeface="Tahoma"/>
              </a:rPr>
              <a:t>• </a:t>
            </a:r>
            <a:r>
              <a:rPr b="0" lang="es-MX" sz="2400" spc="-1" strike="noStrike">
                <a:solidFill>
                  <a:srgbClr val="4d4d4d"/>
                </a:solidFill>
                <a:latin typeface="Tahoma"/>
              </a:rPr>
              <a:t>Un conocimiento claro de la situación presente;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157680" indent="-15768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157680" indent="-15768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2400" spc="-1" strike="noStrike">
                <a:solidFill>
                  <a:srgbClr val="4d4d4d"/>
                </a:solidFill>
                <a:latin typeface="Tahoma"/>
              </a:rPr>
              <a:t>• </a:t>
            </a:r>
            <a:r>
              <a:rPr b="0" lang="es-MX" sz="2400" spc="-1" strike="noStrike">
                <a:solidFill>
                  <a:srgbClr val="4d4d4d"/>
                </a:solidFill>
                <a:latin typeface="Tahoma"/>
              </a:rPr>
              <a:t>Objetivos claros y medibles;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157680" indent="-15768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157680" indent="-15768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2400" spc="-1" strike="noStrike">
                <a:solidFill>
                  <a:srgbClr val="4d4d4d"/>
                </a:solidFill>
                <a:latin typeface="Tahoma"/>
              </a:rPr>
              <a:t>• </a:t>
            </a:r>
            <a:r>
              <a:rPr b="0" lang="es-MX" sz="2400" spc="-1" strike="noStrike">
                <a:solidFill>
                  <a:srgbClr val="4d4d4d"/>
                </a:solidFill>
                <a:latin typeface="Tahoma"/>
              </a:rPr>
              <a:t>Políticas que guían la acción y el uso de los recursos;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157680" indent="-15768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157680" indent="-15768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2400" spc="-1" strike="noStrike">
                <a:solidFill>
                  <a:srgbClr val="4d4d4d"/>
                </a:solidFill>
                <a:latin typeface="Tahoma"/>
              </a:rPr>
              <a:t>• </a:t>
            </a:r>
            <a:r>
              <a:rPr b="0" lang="es-MX" sz="2400" spc="-1" strike="noStrike">
                <a:solidFill>
                  <a:srgbClr val="4d4d4d"/>
                </a:solidFill>
                <a:latin typeface="Tahoma"/>
              </a:rPr>
              <a:t>Secuencias específicas o programas de acción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CD3E-2228-43B2-843E-8C9B85FA5999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3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1459-2301-4CDF-9518-7F25152A69FB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98520" y="652320"/>
          <a:ext cx="9113760" cy="6045480"/>
        </p:xfrm>
        <a:graphic>
          <a:graphicData uri="http://schemas.openxmlformats.org/drawingml/2006/table">
            <a:tbl>
              <a:tblPr/>
              <a:tblGrid>
                <a:gridCol w="4521240"/>
                <a:gridCol w="4592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rmin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70718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finició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70718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Misió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ebe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Propósito genérico acorde con los valores y experiencias de los stakeholders de la organizació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ebebe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Visió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Ambición de la organización (posición, cobertura geográfica y alcance sectorial) en el largo plaz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Met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ebe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Afirmación genérica de la misión factible de ser cuantificad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ebebe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Objetivo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Enunciado más preciso de la met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Competencia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ebe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Recursos, procesos o habilidades que proporcionan ventaja competitiv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ebebe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Estrategias: Planes, proyectos, programas (nivel operacional y/o táctico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Líneas de acción a corto, mediano y largo plaz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Arquitectura Estratégic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ebe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Combinación de recursos y procesos y competencias para desarrollar la estrategi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ebebe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Contro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Medición de los avances en el logro de metas y objetivos. Corrección de desviaciones. Uso de indicador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1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D538-DB47-4DEB-84E6-36F33BC54AE6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3240" y="1419120"/>
          <a:ext cx="8541000" cy="4668840"/>
        </p:xfrm>
        <a:graphic>
          <a:graphicData uri="http://schemas.openxmlformats.org/drawingml/2006/table">
            <a:tbl>
              <a:tblPr/>
              <a:tblGrid>
                <a:gridCol w="2767320"/>
                <a:gridCol w="5773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herenci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70718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delo que da coherencia, unidad e integridad a las decisiones de la organizació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707186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Rumb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ebe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Medio para establecer el propósito organizacional en términos de su objetivo a largo plazo, programas de acción y prioridades en la asignación de recurso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ebebe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Rubr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Definición del dominio competitivo de la empres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“</a:t>
                      </a: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Defensa y ataque”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ebe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Reacción ante las amenazas y oportunidades externas y debilidades y fortalezas internas, a fin de lograr una ventaja competitiva. Análisis FOD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ebebe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Niveles de acció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Formulación de las distintas tareas a desarrollar en los niveles funcionales (operaciones y proyectos) y corporativo (planificación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Recompensa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07186"/>
                      </a:solidFill>
                    </a:lnL>
                    <a:lnR>
                      <a:noFill/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ebe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Definición de la contribución económica y no económica que la organización pretende dar a sus relacionados (stakeholders). Intercambio soci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7186"/>
                      </a:solidFill>
                    </a:lnR>
                    <a:lnT w="5760">
                      <a:solidFill>
                        <a:srgbClr val="707186"/>
                      </a:solidFill>
                    </a:lnT>
                    <a:lnB w="5760">
                      <a:solidFill>
                        <a:srgbClr val="707186"/>
                      </a:solidFill>
                    </a:lnB>
                    <a:solidFill>
                      <a:srgbClr val="ebebed"/>
                    </a:solidFill>
                  </a:tcPr>
                </a:tc>
              </a:tr>
            </a:tbl>
          </a:graphicData>
        </a:graphic>
      </p:graphicFrame>
      <p:sp>
        <p:nvSpPr>
          <p:cNvPr id="120" name="3 CuadroTexto"/>
          <p:cNvSpPr/>
          <p:nvPr/>
        </p:nvSpPr>
        <p:spPr>
          <a:xfrm>
            <a:off x="319320" y="0"/>
            <a:ext cx="697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Dimensiones del concepto de estrategia según Hax y Majluj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1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106B-25E2-4BF3-835C-796A2B28177E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8" descr="biz_lady"/>
          <p:cNvPicPr/>
          <p:nvPr/>
        </p:nvPicPr>
        <p:blipFill>
          <a:blip r:embed="rId1"/>
          <a:stretch/>
        </p:blipFill>
        <p:spPr>
          <a:xfrm>
            <a:off x="5130720" y="1657440"/>
            <a:ext cx="2300400" cy="4800600"/>
          </a:xfrm>
          <a:prstGeom prst="rect">
            <a:avLst/>
          </a:prstGeom>
          <a:ln w="0">
            <a:noFill/>
          </a:ln>
        </p:spPr>
      </p:pic>
      <p:sp>
        <p:nvSpPr>
          <p:cNvPr id="123" name="4 Llamada ovalada"/>
          <p:cNvSpPr/>
          <p:nvPr/>
        </p:nvSpPr>
        <p:spPr>
          <a:xfrm>
            <a:off x="1135080" y="1106640"/>
            <a:ext cx="3554280" cy="3638520"/>
          </a:xfrm>
          <a:prstGeom prst="wedgeEllipseCallout">
            <a:avLst>
              <a:gd name="adj1" fmla="val 69199"/>
              <a:gd name="adj2" fmla="val 41606"/>
            </a:avLst>
          </a:prstGeom>
          <a:solidFill>
            <a:srgbClr val="c00000"/>
          </a:solidFill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Luego entraremos en el proceso de definición de indicadores y planificación de la estrategi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4d4d4d"/>
                </a:solidFill>
                <a:latin typeface="Tahoma"/>
              </a:rPr>
              <a:t>Esquema de las cinco fuerzas de Porter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6" name="3 Marcador de número de diapositiva"/>
          <p:cNvSpPr/>
          <p:nvPr/>
        </p:nvSpPr>
        <p:spPr>
          <a:xfrm>
            <a:off x="9272520" y="6716880"/>
            <a:ext cx="2635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61E8-8DEE-42EA-A4E5-31F36DBF784C}" type="slidenum">
              <a:rPr b="1" lang="en-GB" sz="9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" name="Picture 2" descr="http://www.monografias.com/trabajos28/comunicaciones-mercadeo/Image128.gif"/>
          <p:cNvPicPr/>
          <p:nvPr/>
        </p:nvPicPr>
        <p:blipFill>
          <a:blip r:embed="rId1"/>
          <a:stretch/>
        </p:blipFill>
        <p:spPr>
          <a:xfrm>
            <a:off x="738360" y="1619280"/>
            <a:ext cx="763884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704520" y="86796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marL="160920" indent="-16092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60920" indent="-160920">
              <a:buClr>
                <a:srgbClr val="ff0000"/>
              </a:buClr>
              <a:buFont typeface="Wingdings" charset="2"/>
              <a:buChar char="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ahoma"/>
              </a:rPr>
              <a:t>Ingreso de Competidores</a:t>
            </a:r>
            <a:r>
              <a:rPr b="1" lang="es-MX" sz="1600" spc="-1" strike="noStrike">
                <a:solidFill>
                  <a:srgbClr val="4d4d4d"/>
                </a:solidFill>
                <a:latin typeface="Tahoma"/>
              </a:rPr>
              <a:t>: Que tan fácil o difícil es que entren nuevos competidores a la industria dispuestos a competir pese a las barreras de entrada existentes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60920" indent="-16092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60920" indent="-160920">
              <a:buClr>
                <a:srgbClr val="ff0000"/>
              </a:buClr>
              <a:buFont typeface="Wingdings" charset="2"/>
              <a:buChar char="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ahoma"/>
              </a:rPr>
              <a:t>Amenaza de sustitutos</a:t>
            </a:r>
            <a:r>
              <a:rPr b="1" lang="es-MX" sz="1600" spc="-1" strike="noStrike">
                <a:solidFill>
                  <a:srgbClr val="4d4d4d"/>
                </a:solidFill>
                <a:latin typeface="Tahoma"/>
              </a:rPr>
              <a:t>: Que tan fácil es sustituir un producto o servicio sobretodo cuando este es mas barato.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60920" indent="-16092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60920" indent="-160920">
              <a:buClr>
                <a:srgbClr val="ff0000"/>
              </a:buClr>
              <a:buFont typeface="Wingdings" charset="2"/>
              <a:buChar char="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ahoma"/>
              </a:rPr>
              <a:t>Poder de negociación de los compradores</a:t>
            </a:r>
            <a:r>
              <a:rPr b="1" lang="es-MX" sz="1600" spc="-1" strike="noStrike">
                <a:solidFill>
                  <a:srgbClr val="4d4d4d"/>
                </a:solidFill>
                <a:latin typeface="Tahoma"/>
              </a:rPr>
              <a:t>: Que tan fuerte es el poder de los compradores?...se pueden asociar entre ellos para pedir grandes volúmenes?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60920" indent="-16092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60920" indent="-160920">
              <a:buClr>
                <a:srgbClr val="ff0000"/>
              </a:buClr>
              <a:buFont typeface="Wingdings" charset="2"/>
              <a:buChar char="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ahoma"/>
              </a:rPr>
              <a:t>Poder de negociación de los proveedores</a:t>
            </a:r>
            <a:r>
              <a:rPr b="1" lang="es-MX" sz="1600" spc="-1" strike="noStrike">
                <a:solidFill>
                  <a:srgbClr val="4d4d4d"/>
                </a:solidFill>
                <a:latin typeface="Tahoma"/>
              </a:rPr>
              <a:t>: Que tan fuerte es la posición de los proveedores. Existen muchos proveedores, pocos, proveedores únicos?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60920" indent="-16092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60920" indent="-160920">
              <a:buClr>
                <a:srgbClr val="ff0000"/>
              </a:buClr>
              <a:buFont typeface="Wingdings" charset="2"/>
              <a:buChar char="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ahoma"/>
              </a:rPr>
              <a:t>Rivalidad entre los jugadores existentes</a:t>
            </a:r>
            <a:r>
              <a:rPr b="1" lang="es-MX" sz="1600" spc="-1" strike="noStrike">
                <a:solidFill>
                  <a:srgbClr val="4d4d4d"/>
                </a:solidFill>
                <a:latin typeface="Tahoma"/>
              </a:rPr>
              <a:t>: Existe una competencia interna fuerte entre los jugadores, hay un jugador dominante?...son todos de igual fuerza o tamaño?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60920" indent="-16092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60920" indent="-16092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ff0000"/>
                </a:solidFill>
                <a:latin typeface="Tahoma"/>
              </a:rPr>
              <a:t>Amenaza de nuevos competidores</a:t>
            </a:r>
            <a:br>
              <a:rPr sz="2100"/>
            </a:b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41080" y="164268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  <a:ea typeface="Verdana"/>
              </a:rPr>
              <a:t>Economías de escala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  <a:ea typeface="Verdana"/>
              </a:rPr>
              <a:t>Requisitos de capital/inversión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  <a:ea typeface="Verdana"/>
              </a:rPr>
              <a:t>Los costos en que incurre el cliente para cambiar de proveedor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  <a:ea typeface="Verdana"/>
              </a:rPr>
              <a:t>Accesos a los canales de distribución de la industria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  <a:ea typeface="Verdana"/>
              </a:rPr>
              <a:t>Acceso a la tecnología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  <a:ea typeface="Verdana"/>
              </a:rPr>
              <a:t>Lealtad a la marca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  <a:ea typeface="Verdana"/>
              </a:rPr>
              <a:t>La probable reacción de los jugadores existentes en la industria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  <a:ea typeface="Verdana"/>
              </a:rPr>
              <a:t>Regulaciones de gobierno….los nuevos jugadores pueden conseguir subsidios?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0000"/>
                </a:solidFill>
                <a:latin typeface="Tahoma"/>
              </a:rPr>
              <a:t>Amenaza de sustitutos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34760" y="192996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marL="185040" indent="-1850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85040" indent="-1850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1" marL="211680" indent="-210600">
              <a:buClr>
                <a:srgbClr val="4d4d4d"/>
              </a:buClr>
              <a:buFont typeface="Tahoma"/>
              <a:buChar char="•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Tahoma"/>
              </a:rPr>
              <a:t>Calidad ¿Es un sustituto mejor que el bien o servicio actual?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1" marL="211680" indent="-21060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1" marL="211680" indent="-210600">
              <a:buClr>
                <a:srgbClr val="4d4d4d"/>
              </a:buClr>
              <a:buFont typeface="Tahoma"/>
              <a:buChar char="•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Tahoma"/>
              </a:rPr>
              <a:t>Buena voluntad de los compradores de sustituir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1" marL="211680" indent="-21060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1" marL="211680" indent="-210600">
              <a:buClr>
                <a:srgbClr val="4d4d4d"/>
              </a:buClr>
              <a:buFont typeface="Tahoma"/>
              <a:buChar char="•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Tahoma"/>
              </a:rPr>
              <a:t>El precio y desempeño relativo de los sustituto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1" marL="211680" indent="-21060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lvl="1" marL="211680" indent="-210600">
              <a:buClr>
                <a:srgbClr val="4d4d4d"/>
              </a:buClr>
              <a:buFont typeface="Tahoma"/>
              <a:buChar char="•"/>
              <a:tabLst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Tahoma"/>
              </a:rPr>
              <a:t>Los costos de cambiar al uso de sustitutos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  <a:p>
            <a:pPr marL="185040" indent="-185040"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0000"/>
                </a:solidFill>
                <a:latin typeface="Tahoma"/>
              </a:rPr>
              <a:t>Amenazas en el Poder de Negociación de Proveedores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34760" y="192996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0"/>
          </a:bodyPr>
          <a:p>
            <a:pPr marL="81720" indent="-81720"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81720" indent="-8172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Concentración de proveedores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81720" indent="-8172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81720" indent="-8172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Poder de la marca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81720" indent="-8172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81720" indent="-8172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Rentabilidad de los proveedores… están obligados a subir los precios?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81720" indent="-8172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81720" indent="-8172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Amenaza de los proveedores de integrarse hacia adelante en la industria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81720" indent="-8172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81720" indent="-8172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La industria no significa un grupo importante de clientes para los proveedores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81720" indent="-8172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81720" indent="-8172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Nivel actual de calidad y servicio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81720" indent="-8172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81720" indent="-8172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Costos de sustituir clientes ¿es fácil que los proveedores encuentren nuevos clientes?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81720" indent="-8172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0000"/>
                </a:solidFill>
                <a:latin typeface="Tahoma"/>
              </a:rPr>
              <a:t>Poder de negociación de los compradores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34760" y="192996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3000"/>
          </a:bodyPr>
          <a:p>
            <a:pPr marL="90000" indent="-90000"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Concentración de compradores ¿hay algunos pocos compradores dominantes y muchos vendedores en la industria?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Diferenciación ¿están los productos estandarizados?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Rentabilidad de los compradores ¿están los compradores forzados a ser exigentes?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Nivel actual de calidad y servicio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Amenaza de integración horizontal hacia atrás y hacia adelante de la industria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Costos de sustituir clientes ¿es fácil que los compradores cambien a su proveedor?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34760" y="622440"/>
            <a:ext cx="8442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0000"/>
                </a:solidFill>
                <a:latin typeface="Tahoma"/>
              </a:rPr>
              <a:t>Amenazas en la Intensidad de la Rivalidad</a:t>
            </a:r>
            <a:endParaRPr b="0" lang="en-US" sz="2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45840" y="1088640"/>
            <a:ext cx="84121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3000"/>
          </a:bodyPr>
          <a:p>
            <a:pPr marL="90000" indent="-90000"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La estructura de la competencia. Es mas intensa si hay muchos competidores de igual tamaño.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Estructura de costos de la industria. Industrias con altos costos fijos animan a los competidores a producir a plena capacidad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Grado de diferenciación del producto. Donde hay commoditieshay mayor rivalidad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Costos de sustituir clientes. Se reduce la rivalidad cuando los compradores tienen altos costos de cambios de proveedor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Objetivos estratégicos. Si los competidores persiguen estrategias agresivas de crecimiento, la rivalidad es mas intensa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Tahoma"/>
              </a:rPr>
              <a:t>Barreras de salida. Cuando las barreras para dejar una industria son altas la rivalidad aumenta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90000" indent="-90000">
              <a:buClr>
                <a:srgbClr val="ffffff"/>
              </a:buClr>
              <a:buFont typeface="Wingdings 2" charset="2"/>
              <a:buChar char="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0T21:56:37Z</dcterms:created>
  <dc:creator>Emilio de Giacomo</dc:creator>
  <dc:description/>
  <dc:language>en-US</dc:language>
  <cp:lastModifiedBy>Javier</cp:lastModifiedBy>
  <cp:lastPrinted>2001-10-24T15:16:31Z</cp:lastPrinted>
  <dcterms:modified xsi:type="dcterms:W3CDTF">2010-11-12T17:40:24Z</dcterms:modified>
  <cp:revision>302</cp:revision>
  <dc:subject/>
  <dc:title>Diapositiva 1</dc:title>
</cp:coreProperties>
</file>