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8936-7585-47A2-AE33-609D70EC9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3E42-C26C-434E-8B47-6045DD1D9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6256-C7D6-42B1-B425-B4CF42629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8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2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8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2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F501-0D3F-4D2A-9BEA-8CFC9AA8E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7EF8-CC18-4F95-8520-6CEA5D430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D4A2-22D7-41A1-903B-C03125CE8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B068-610F-4D78-B3E2-F5D17D486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46AD-6084-4883-A29D-150E46AAD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4760" y="622440"/>
            <a:ext cx="844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4F8C-C4AA-4FBE-AC2A-FC7F9C6DB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27FC-08B2-4EF2-B55C-7C5A32921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6F24-9F2A-444E-8400-355F2A880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3048-ECF0-49EB-AEB2-EDE4D1A33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272520" y="6716520"/>
            <a:ext cx="2635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46B7-D181-4134-A0FA-D107664EE784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91920" y="6367320"/>
            <a:ext cx="610524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-23652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70360" indent="-2692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576000" indent="-30420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3" marL="855360" indent="-27792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4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5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6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Line 279"/>
          <p:cNvSpPr/>
          <p:nvPr/>
        </p:nvSpPr>
        <p:spPr>
          <a:xfrm>
            <a:off x="92934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350"/>
          <p:cNvSpPr/>
          <p:nvPr/>
        </p:nvSpPr>
        <p:spPr>
          <a:xfrm>
            <a:off x="916956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387"/>
          <p:cNvSpPr/>
          <p:nvPr/>
        </p:nvSpPr>
        <p:spPr>
          <a:xfrm>
            <a:off x="0" y="0"/>
            <a:ext cx="9906120" cy="438120"/>
          </a:xfrm>
          <a:prstGeom prst="rect">
            <a:avLst/>
          </a:prstGeom>
          <a:solidFill>
            <a:srgbClr val="df2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iwlyubnb0159c"/>
          <p:cNvPicPr/>
          <p:nvPr/>
        </p:nvPicPr>
        <p:blipFill>
          <a:blip r:embed="rId1"/>
          <a:stretch/>
        </p:blipFill>
        <p:spPr>
          <a:xfrm>
            <a:off x="808200" y="420840"/>
            <a:ext cx="8118360" cy="6116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0440" y="2633400"/>
            <a:ext cx="4465800" cy="134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Sesión : Análisis de Porter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 rot="16200000">
            <a:off x="-701280" y="5118120"/>
            <a:ext cx="24544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Vivien Villagran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dihila@gmail.com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F705-6BD2-40D9-B5BC-1A5DCD9E1A1B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0" y="6492960"/>
            <a:ext cx="9906120" cy="365040"/>
          </a:xfrm>
          <a:prstGeom prst="rect">
            <a:avLst/>
          </a:prstGeom>
          <a:solidFill>
            <a:srgbClr val="df2203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LIMITACIONES DEL MODELO 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 puede subestimar y/o sobrestimar alguna de las fuerz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modelo fue diseñado para analizar estrategias de negocio individuales. No analiza sinergias e interdependencias en un portfolio de negocio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considera la posibilidad de que una industria pueda ser atractiva debido a que están allí ciertas compañía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se hace cargo de cambios radicales del entorn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analiza la creación de mercados nue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DBE-05D9-4822-BF87-0D69341A34F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Ahora es importante que relacionemos el análisis de Porter con la defini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¿Qué significa estrategi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Real Academia de la lengua tiene la siguiente definición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Estrategi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Del lat. 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tratega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1. f. Arte de dirigir las operaciones militar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2. f. Arte, traza para dirigir un asu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3. f. </a:t>
            </a: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Mat. En un proceso regulable, conjunto de las reglas que aseguran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?) una decisión óptima en cada mome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R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al Academia Española © Todos los derechos reservad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ndo la estrategia se vuelve un elemento de cambio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PIENSO……….LUEGO EMPRENDO, CAMBIO, MEJORO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BA9-FDF7-445D-9CE5-5DBF7908451F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Si conoces al Enemigo, y te conoces a ti mismo, no debes temer el resultado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ien batallas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CONOCE TU ENTORNO Y A TI MISM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uando se usa el Método de la Estrategia no se cuenta con la probabilidad de que el enemigo no venga, si no con nuestra prontitud para recibirlo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ANTICIPATE Y PREPARA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Evita el combate que no puedas ganar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RECONOCE TUS LIMITACION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4519-48FD-47B2-B4AE-1F9136D8F36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7640" y="721800"/>
            <a:ext cx="437652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Sun – Tzu estratega chino (real 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imaginario), para algunos el padre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estrategia,escribió hace 25 siglos atrás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l arte de la Estrategia e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importancia vital para el Estado (L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)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s el terreno de la vida y la muerte,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camino a la seguridad o la rui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estudio no puede ser dejad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lado por ningún motivo.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440" y="153468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1" lang="es-MX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32440" y="2174760"/>
            <a:ext cx="43783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E70C-1658-43E9-9B12-F87240A67573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500800" y="1265400"/>
            <a:ext cx="361944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B657-42A4-4EDE-B438-6565312AF4EF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6080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028880"/>
            <a:ext cx="3619440" cy="336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396120" y="1003320"/>
            <a:ext cx="3190680" cy="296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002120" y="3857760"/>
            <a:ext cx="22860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sp>
        <p:nvSpPr>
          <p:cNvPr id="101" name="4 Elipse"/>
          <p:cNvSpPr/>
          <p:nvPr/>
        </p:nvSpPr>
        <p:spPr>
          <a:xfrm>
            <a:off x="3584520" y="1828800"/>
            <a:ext cx="2830680" cy="1960200"/>
          </a:xfrm>
          <a:prstGeom prst="ellipse">
            <a:avLst/>
          </a:prstGeom>
          <a:solidFill>
            <a:srgbClr val="d2d7d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N TODO ORDEN D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COSA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EFINICION DE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STRATEGIA E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IFERENCIA ENTR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L ÉXITO O EL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FRACASO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un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6080" y="111888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En 1997 solo el 17% de las empresas chilenas poseía una estrategia explicita para desarrollar sus negocios, el año 2007 se estima que un 60% de las empresas chilena posee una estrategia explicit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l es el problema de lo anterior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60% de las empresas chilenas desaparece antes de cumplir sei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años (proceso darwiniano); esta cifra es similar en otros país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OLO SOBREVIVEN AQUELLAS EMPRESAS QUE PLANIFICAN SU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DESARROLLO…..O SEA, QUE DEFINEN SU ESTRATEGI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RIAL Y LO CONSIDERAN COMO UN PROCESO MA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OPERACIÓN COTIDIA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5073-41D2-42F2-A648-8B318F01E0DF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gún </a:t>
            </a: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Henry Mintzberg, hay cinco maneras de entender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concepto de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strategia, que en inglés comienzan con la letra “P”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an (Plan): Curso de acción conscientemente determinado. Guía o conjunt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guías para enfrentar una situación, elaboradas con antelación a las acciones las cuales serán aplicadas y desarrolladas de manera consciente y con un propósito determinad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oy (Estratagema o maniobra): Forma específica propuesta para superar a u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oponente o competidor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attern (Patrón): Regularidades de comportamiento que ocurren en la práctic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in estar preconcebid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E010-F7DB-4423-BC0D-00E1FC86E90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4000"/>
          </a:bodyPr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osition (Posición): Forma de ubicar a la empresa en el entorno. Representa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una condición mediadora o calce (match) entre la empresa y su entorn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erspective (Perspectiva): Forma particular, inherente a la organización,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percibir el mundo. La estrategia es a la organización lo que la personalidad es a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individu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Una estrategia bien formulada permite canalizar los esfuerzos y asigna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eficientemente los recursos (siempre escasos) de una organización llevándola a adoptar un posición singular y viable, basada en sus capacidades internas (fortalezas y debilidades), anticipando los cambios en el entorno, los posibles movimientos del mercado y las acciones de sus competidores (oportunidades y amenazas)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02E6-6E72-4F26-B139-0111614FC90F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5DB4-3D4C-44C9-8D7F-8BE7CBF4C2FD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4 Diagrama" descr=""/>
          <p:cNvPicPr/>
          <p:nvPr/>
        </p:nvPicPr>
        <p:blipFill>
          <a:blip r:embed="rId1"/>
          <a:stretch/>
        </p:blipFill>
        <p:spPr>
          <a:xfrm>
            <a:off x="1646280" y="1189080"/>
            <a:ext cx="66135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uadroTexto"/>
          <p:cNvSpPr/>
          <p:nvPr/>
        </p:nvSpPr>
        <p:spPr>
          <a:xfrm>
            <a:off x="486720" y="0"/>
            <a:ext cx="46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MODELO DE LAS CINCO FUERZAS DE PORTE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4760" y="721800"/>
            <a:ext cx="841212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modelo de las 5 fuerzas de Porter es una útil herramienta que permite develar y/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onstruir la estrategia de un modelo de negocio determinad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usa para hacer el análisis del “atractivo” de una estructura de industria determinada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basa en la identificación de 5 fuerzas competitivas fundamentales sobre las que se estructura la posibilidad de competir de manera efic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50" name="9 Rectángulo redondeado"/>
          <p:cNvGrpSpPr/>
          <p:nvPr/>
        </p:nvGrpSpPr>
        <p:grpSpPr>
          <a:xfrm>
            <a:off x="901800" y="2962440"/>
            <a:ext cx="2206440" cy="841320"/>
            <a:chOff x="901800" y="2962440"/>
            <a:chExt cx="2206440" cy="841320"/>
          </a:xfrm>
        </p:grpSpPr>
        <p:pic>
          <p:nvPicPr>
            <p:cNvPr id="51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01800" y="2962440"/>
              <a:ext cx="220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20600" y="3071880"/>
              <a:ext cx="1984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Ingreso de Competi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" name="10 Rectángulo redondeado"/>
          <p:cNvGrpSpPr/>
          <p:nvPr/>
        </p:nvGrpSpPr>
        <p:grpSpPr>
          <a:xfrm>
            <a:off x="3193920" y="3633840"/>
            <a:ext cx="2432160" cy="1163520"/>
            <a:chOff x="3193920" y="3633840"/>
            <a:chExt cx="2432160" cy="1163520"/>
          </a:xfrm>
        </p:grpSpPr>
        <p:pic>
          <p:nvPicPr>
            <p:cNvPr id="5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193920" y="3633840"/>
              <a:ext cx="24321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402000" y="3741840"/>
              <a:ext cx="1951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Provee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" name="11 Rectángulo redondeado"/>
          <p:cNvGrpSpPr/>
          <p:nvPr/>
        </p:nvGrpSpPr>
        <p:grpSpPr>
          <a:xfrm>
            <a:off x="987480" y="5084640"/>
            <a:ext cx="2425680" cy="1163880"/>
            <a:chOff x="987480" y="5084640"/>
            <a:chExt cx="2425680" cy="1163880"/>
          </a:xfrm>
        </p:grpSpPr>
        <p:pic>
          <p:nvPicPr>
            <p:cNvPr id="57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987480" y="5084640"/>
              <a:ext cx="242568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95560" y="5192640"/>
              <a:ext cx="19494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Rivalidad entre los jugadores existent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12 Rectángulo redondeado"/>
          <p:cNvGrpSpPr/>
          <p:nvPr/>
        </p:nvGrpSpPr>
        <p:grpSpPr>
          <a:xfrm>
            <a:off x="5619600" y="5029200"/>
            <a:ext cx="2433960" cy="1329480"/>
            <a:chOff x="5619600" y="5029200"/>
            <a:chExt cx="2433960" cy="1329480"/>
          </a:xfrm>
        </p:grpSpPr>
        <p:pic>
          <p:nvPicPr>
            <p:cNvPr id="60" name="12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619600" y="5029200"/>
              <a:ext cx="24339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830920" y="5138640"/>
              <a:ext cx="19508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Compra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13 Rectángulo redondeado"/>
          <p:cNvGrpSpPr/>
          <p:nvPr/>
        </p:nvGrpSpPr>
        <p:grpSpPr>
          <a:xfrm>
            <a:off x="5546880" y="3054240"/>
            <a:ext cx="2165040" cy="841320"/>
            <a:chOff x="5546880" y="3054240"/>
            <a:chExt cx="2165040" cy="841320"/>
          </a:xfrm>
        </p:grpSpPr>
        <p:pic>
          <p:nvPicPr>
            <p:cNvPr id="63" name="13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5546880" y="3054240"/>
              <a:ext cx="216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641920" y="3165480"/>
              <a:ext cx="19843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menaza de Sustituto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LA ESTRATEGIA SIEMPRE DEBE TENER</a:t>
            </a:r>
            <a:br>
              <a:rPr sz="2100"/>
            </a:b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ALGUNOS “INGREDIENTES”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Un conocimiento claro de la situación presente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Objetivos claros y medible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Políticas que guían la acción y el uso de los recurs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Secuencias específicas o programas de acción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38D2-F28E-4AF4-AE5C-0B687D5FEE3E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ED1-DC10-437B-A58A-E4CA21B2C232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8520" y="652320"/>
          <a:ext cx="9113760" cy="6045480"/>
        </p:xfrm>
        <a:graphic>
          <a:graphicData uri="http://schemas.openxmlformats.org/drawingml/2006/table">
            <a:tbl>
              <a:tblPr/>
              <a:tblGrid>
                <a:gridCol w="4521240"/>
                <a:gridCol w="459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rmi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Propósito genérico acorde con los valores y experiencias de los stakeholder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V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mbición de la organización (posición, cobertura geográfica y alcance sectorial) en el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firmación genérica de la misión factible de ser cuantifica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Objetiv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nunciado más preciso de la 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petenc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ursos, procesos o habilidades que proporcionan ventaja competitiv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strategias: Planes, proyectos, programas (nivel operacional y/o táctico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Líneas de acción a corto, mediano y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rquitectura Estratégic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binación de recursos y procesos y competencias para desarrollar la estrateg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ntro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ción de los avances en el logro de metas y objetivos. Corrección de desviaciones. Uso de indicador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B4B4-86A1-4B2C-894F-88BC65515D2C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3240" y="1419120"/>
          <a:ext cx="8541000" cy="4668840"/>
        </p:xfrm>
        <a:graphic>
          <a:graphicData uri="http://schemas.openxmlformats.org/drawingml/2006/table">
            <a:tbl>
              <a:tblPr/>
              <a:tblGrid>
                <a:gridCol w="2767320"/>
                <a:gridCol w="5773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herenc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lo que da coherencia, unidad e integridad a las decisione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mb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o para establecer el propósito organizacional en términos de su objetivo a largo plazo, programas de acción y prioridades en la asignación de recurs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b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l dominio competitivo de la empres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“</a:t>
                      </a: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ensa y ataque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acción ante las amenazas y oportunidades externas y debilidades y fortalezas internas, a fin de lograr una ventaja competitiva. Análisis FO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Niveles de ac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Formulación de las distintas tareas a desarrollar en los niveles funcionales (operaciones y proyectos) y corporativo (planificació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ompe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 la contribución económica y no económica que la organización pretende dar a sus relacionados (stakeholders). Intercambio soci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</a:tbl>
          </a:graphicData>
        </a:graphic>
      </p:graphicFrame>
      <p:sp>
        <p:nvSpPr>
          <p:cNvPr id="120" name="3 CuadroTexto"/>
          <p:cNvSpPr/>
          <p:nvPr/>
        </p:nvSpPr>
        <p:spPr>
          <a:xfrm>
            <a:off x="319320" y="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Dimensiones del concepto de estrategia según Hax y Majluj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861B-5194-4C54-8382-95426A913AB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12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Luego entraremos en el proceso de definición de indicadores y planifica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Esquema de las cinco fuerzas de Porter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DA16-8EAB-442E-B96A-A8A28383AEE3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http://www.monografias.com/trabajos28/comunicaciones-mercadeo/Image128.gif"/>
          <p:cNvPicPr/>
          <p:nvPr/>
        </p:nvPicPr>
        <p:blipFill>
          <a:blip r:embed="rId1"/>
          <a:stretch/>
        </p:blipFill>
        <p:spPr>
          <a:xfrm>
            <a:off x="738360" y="1619280"/>
            <a:ext cx="76388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04520" y="867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Ingreso de Competi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o difícil es que entren nuevos competidores a la industria dispuestos a competir pese a las barreras de entrada existent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es sustituir un producto o servicio sobretodo cuando este es mas barat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el poder de los compradores?...se pueden asociar entre ellos para pedir grandes volúmene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provee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la posición de los proveedores. Existen muchos proveedores, pocos, proveedores único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Rivalidad entre los jugadores existent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Existe una competencia interna fuerte entre los jugadores, hay un jugador dominante?...son todos de igual fuerza o tamaño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Tahoma"/>
              </a:rPr>
              <a:t>Amenaza de nuevos competidores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1080" y="164268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Economías de escal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quisitos de capital/inversió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os costos en que incurre el cliente para cambiar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s a los canales de distribución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 a la tecnologí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ealtad a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a probable reacción de los jugadores existentes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gulaciones de gobierno….los nuevos jugadores pueden conseguir subsid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alidad ¿Es un sustituto mejor que el bien o servicio actual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Buena voluntad de los compradores de sustitui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precio y desempeño relativo de los sustitut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Los costos de cambiar al uso de sustituto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el Poder de Negociación de Provee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marL="81720" indent="-8172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Poder de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proveedores… están obligados a subir los prec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los proveedores de integrarse hacia adelante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industria no significa un grupo importante de clientes para los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proveedores encuentren nuevos cli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compradores ¿hay algunos pocos compradores dominantes y muchos vendedores en la industria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Diferenciación ¿están los productos estandarizad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compradores ¿están los compradores forzados a ser exig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integración horizontal hacia atrás y hacia adelante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compradores cambien a su proveedor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la Intensidad de la Rivalidad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5840" y="108864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estructura de la competencia. Es mas intensa si hay muchos competidores de igual tamaño.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Estructura de costos de la industria. Industrias con altos costos fijos animan a los competidores a producir a plena capac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Grado de diferenciación del producto. Donde hay commoditieshay mayor rival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. Se reduce la rivalidad cuando los compradores tienen altos costos de cambios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Objetivos estratégicos. Si los competidores persiguen estrategias agresivas de crecimiento, la rivalidad es mas intens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Barreras de salida. Cuando las barreras para dejar una industria son altas la rivalidad aument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Javier</cp:lastModifiedBy>
  <cp:lastPrinted>2001-10-24T15:16:31Z</cp:lastPrinted>
  <dcterms:modified xsi:type="dcterms:W3CDTF">2010-11-12T17:40:24Z</dcterms:modified>
  <cp:revision>302</cp:revision>
  <dc:subject/>
  <dc:title>Diapositiva 1</dc:title>
</cp:coreProperties>
</file>